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E94F-3BB3-4904-AB36-1080DFD5A72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ое расположение прямой и окру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данова И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ОУ «Верх-Жилинская О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0239-A953-4D30-B8A3-92802D9ABFC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8a44d"/>
                </a:solidFill>
                <a:latin typeface="Calibri"/>
              </a:rPr>
              <a:t>С</a:t>
            </a: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войство касательной:</a:t>
            </a:r>
            <a:br>
              <a:rPr sz="2000"/>
            </a:br>
            <a:br>
              <a:rPr sz="2000"/>
            </a:br>
            <a:r>
              <a:rPr b="0" i="1" lang="ru-RU" sz="1200" spc="-1" strike="noStrike">
                <a:solidFill>
                  <a:srgbClr val="215968"/>
                </a:solidFill>
                <a:latin typeface="Calibri"/>
              </a:rPr>
              <a:t>Касательная к окружности перпендикулярна к радиусу, проведенному в точку кас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асательная к окружности с центр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точка кас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F6A6-7B89-4F7E-87C6-70C98D2F41C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Признак касательной:</a:t>
            </a:r>
            <a:br>
              <a:rPr sz="2000"/>
            </a:br>
            <a:br>
              <a:rPr sz="1800"/>
            </a:b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Если прямая проходит через конец радиуса, лежащий на окружности, и перпендикулярна радиусу, то она является к</a:t>
            </a:r>
            <a:r>
              <a:rPr b="0" i="1" lang="ru-RU" sz="1200" spc="-1" strike="noStrike">
                <a:solidFill>
                  <a:srgbClr val="215968"/>
                </a:solidFill>
                <a:latin typeface="Calibri"/>
              </a:rPr>
              <a:t>асате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кружность с центром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диуса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– прямая, которая проходит через точку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m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– кас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571F-729B-4697-8D75-F4C9AAD3131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5968"/>
                </a:solidFill>
                <a:latin typeface="Calibri"/>
              </a:rPr>
              <a:t>Свойство касательных, </a:t>
            </a:r>
            <a:br>
              <a:rPr sz="1800"/>
            </a:br>
            <a:r>
              <a:rPr b="0" i="1" lang="ru-RU" sz="1800" spc="-1" strike="noStrike">
                <a:solidFill>
                  <a:srgbClr val="215968"/>
                </a:solidFill>
                <a:latin typeface="Calibri"/>
              </a:rPr>
              <a:t>проходящих через одну точк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▼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 свойству касатель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О,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СО–прямоуго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О=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СО–по гипотенузе и катет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А – общ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В=ОС – радиу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=АС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2BA0-24A4-4F51-A14A-CB32B3F0541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заимное расположение прямой и окру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4F5F-8046-445B-9FE1-BC4546CC45D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Д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с центром в точк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диуса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, которая не проходит через центр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тояние от центра окружности до прямой обозначим букво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5C4F-3106-4BD8-8277-A531EDF4E6E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озможны три случ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&lt;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асстояние от центра окружности до прямой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ньш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адиуса окружности, то прямая и окружность имеют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ве общие точк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23C8-BC86-44A1-892B-CCD1240919A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озможны три случ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асстояние от центра окружности до прямой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вн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адиусу окружности, то прямая и окружность имеют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олько одну общую точку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0C80-1939-4A01-A27F-86E18BB64DD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озможны три случая</a:t>
            </a:r>
            <a:r>
              <a:rPr b="0" lang="ru-RU" sz="1200" spc="-1" strike="noStrike">
                <a:solidFill>
                  <a:srgbClr val="88a44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&gt;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асстояние от центра окружности до прямой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ольш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диуса окружности, то прямая и окружность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имеют общих точек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B9E8-0989-466C-847D-EF29A9907F4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Касательная к окруж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ение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ямая, имеющая с окружностью только одну общую точку, называется касательной к окружности, а их общая точка называется точкой касания прямой и окру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6E3B-E19C-417A-B688-D334B9929E4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ыясните взаимное расположение прямой и окружности, ес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1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1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6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2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,2 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7 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5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секу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секу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х точек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секу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- кас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024B-DC22-4A01-AF53-4420080B424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Решите № 63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BC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д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= 6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с центр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уса 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ущие из прямы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B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B760-BC7F-4A33-8EAC-F86CC679291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1B95-BF55-47F6-8663-C7D28026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43F2-37D8-4012-8F9F-A3EA5C71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B46E82-05C7-49E8-BC83-EDD4E89D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7A32A6-131C-48F0-B09B-771E0DD2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F1D82F-AB7A-4857-8DD2-59CC0EA9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E286FF-A92B-4A73-A350-A68427A8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509EDC-FEFB-4EAE-B298-D2BB5D73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270A1C-0E9E-4205-A09E-7203BDDA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3C00E0-E14A-4E8A-87D0-AB4A3FDD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D20BFF-2661-4B01-81E7-00574408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D00C4B-6B13-4BF3-BF31-54578387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36236A-6FDE-4926-A3AF-7A8DEACD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2CAD-13EE-4C12-8164-25715D31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34B09F-590B-4346-8D5E-A19FAC92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878555-E78C-43EC-B045-D95826B1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1CF9CA-CEAF-4193-A724-A2629C38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543522-42F6-47CC-9ACF-F4FCC27D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6A7120-8A49-4783-8342-08F7D0CE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0E60DD-45BF-4C69-BBB5-A769FE6D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BA7CC6-9A76-4411-B296-55A2ADBD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BE3B2D-2B33-4FA2-AFB8-357F814E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BB061D-B6B8-4F0C-A224-EB6A27A4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16B581-CCE6-4E2A-A83A-D6D6C4EC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0B58-0AC8-4B66-B071-2F715ADD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45AAAA-FB91-4106-BC87-980C7428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629DF-9A98-4ED2-B9CA-34C382EC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36567-4923-45E9-84C1-F797C4AC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F3CDC-C9D5-4A24-BD40-1685C02F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843F7-C4A1-4CA2-93EC-5F95C714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03A35-8B76-4080-B153-5DAC143D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56DFC-BA25-41C3-AE16-31C6F351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D3C42-318C-475E-9F95-83DFE423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21043-B67C-4E6A-906A-33B0991C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9E51F-FE33-400E-AAD6-CE6DBD9D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EB9C-0FF6-4A52-B417-DE3AF6FA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D81B8-AB83-453E-8788-EB1FF80D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3BEBA-C971-4436-B7E3-5D1B3206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78FA8-561D-4083-BC06-FC6F30A5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7DE22E-37A7-44FF-B646-BD4EC94F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1790DC-A5A7-43DC-83F3-8974EE5D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7D8EC5-5677-441B-93D4-FFAED9CC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982A10-0092-4339-9DC6-D797D9EA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A1333D-00B6-4F6A-BD3C-D5BB0671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07FB93-4FBD-4152-8F07-71896AD1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914AA4-E44F-4B0D-BB61-6951A93B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B7C4-47E4-4F71-87D2-3E75AE8D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A6F548-1643-4EBC-81C3-6CC1B708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8E98EB-2EE5-4657-A34F-A87AE16A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FE0A71-5C3C-4292-9DC7-B8F3B292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36DE42-D794-4197-A99C-17C93522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C8E0AE-48EC-4C54-AB39-0C1B8C02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F84B-7308-4916-9BF2-11745FB0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AAE2-4834-4751-B517-03AD7250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4502-A546-4AA4-805F-54786426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E3FB-16A0-4E47-AF4B-9D72A495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E7E0-9CE7-4FF3-BDFA-55B6C8A8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8096-B7AE-4D45-8257-D46CBD25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2093-DA0C-40C9-8CFA-F589503A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67BA-CD9F-4073-8B88-46232FBE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ACD1-4627-4284-8A36-A3A59810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C158-CBEE-455D-9C65-5E49EB7E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2F26-9E8F-4FF5-BD67-BE1F28AE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F59E4-F405-4265-9D8F-2D5AAB7A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63E6B-C5AE-4DBB-B154-CA42ED77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FF279-A399-4284-8CB4-89FE1F41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9B757-BCB0-4DB2-9D57-306991EE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720B8-60C7-4C04-A860-E1F4C000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0018-BA92-4381-A615-69B5A1D7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8D06D-7480-44F0-B09E-AA576D11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32D2B-756F-4D04-8012-48A1759A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41BC8-80F6-41FB-B61B-1B0DB654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79C9B-1370-4547-8FA8-E73279F7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E0CA2-3E6C-4D33-BA9F-CF201D31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1C42F-3EDF-4B9F-BD20-D8D3C1E0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6F56A-6101-4216-9A80-2C2D9E14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C16D7-63EA-40BD-AC31-AC7B0B10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F27E9-B8EC-4CCA-B8FA-AACA77C8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EFE75-B14E-4D45-A9E5-72BA2C50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CDF7-6837-434E-8734-1257EB09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F50A1-3408-4DBA-9435-4C72F3BC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AAC9C-4268-46B1-932B-51E0B865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5775D-C775-4102-B732-07E856C5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22529-579B-4D3F-AB30-81FB8BE9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5AEC2-B05C-4DC3-AB5A-799D8167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31FF1-B6D7-477E-AFD0-BC026E79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712A5-A13B-42D1-A241-BD08917D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F838F-A5F0-4491-AD9D-5976DA63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0A56B-6D11-4D2A-9CEC-6601CCA8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C7AC6-7C01-4228-8343-BC9DC2EC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8F29-C612-4B86-A47E-71AEDA3D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B353A-5DDB-4547-8500-3FEF7CE2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FB01F-0799-4862-90CD-38DB0C04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B86A1-AD99-426C-A818-5245177E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EB29B-62FF-481D-95D4-E40B3456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4EC0E-15CA-4E49-8E70-382B42DE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C945B-BBA1-47F2-844E-3DBA8B44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A2256-87FA-4D35-8F59-76AED787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1D2EF-ED9F-416A-A2E3-E4E09EE0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55C17-6436-4FB4-A96B-202AA750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380CD-2531-4FD4-92E6-77391E92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6E52-35D3-4A02-AC1C-146FAD30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EC854-AE74-4DF7-BB9A-79829052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3ED5C-4DB8-429C-9124-82C15DE2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AB927-1290-46AF-A381-3B9A55F3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41766-C046-4B06-8722-272CB862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4F17E-AEE3-440F-8EF7-E8923CA9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0A67A-A708-49B3-9DAF-F47D1484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06D14-8A22-44E2-B397-809F0D40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507FF-848A-4F84-9BF5-A84ABC14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7760B-2BF5-43EC-8AED-05604AED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2555C-5840-45D0-A5E4-9E412C6B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2C80-CFA4-490C-9575-DD8B9B08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0DD67-8E32-4841-9D57-ACCE1613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73CCE-6661-48B4-8556-C03CC762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38E4A-85B8-46B4-A1BD-680B86DB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DAE70-CE35-46EC-B9D1-9F331655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AC6E5-E1D2-485E-9303-02ECCBA1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122CC-8D84-49FE-BF3E-E0FBABCB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B0AC8-C66F-407A-882C-A8D31283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B5314-A348-4FDC-ADEF-821D0595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B6734-2688-44BA-929E-69B8B54E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58C93-75EA-44D2-BD76-8BC04BF1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0FA4-C154-4E71-8A2D-10C986AF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BE056-AED5-4228-A0FC-EA1B067E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88A97-4F3C-499A-92DA-EEBC89AD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34AB9-1FFB-45A4-A8CA-09A7A28A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86538-C0A7-4A5D-9102-42AFB38F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53E77-2511-4EF4-BF29-883EDF01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7E66C-8FDA-458D-B271-B3714E17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635AF-5DC8-4345-86AE-89806B43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8D34E-397B-4705-B1E4-9EFEEAD9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EBBF1-90A4-4F87-928D-BE9FDC4A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FF167-5D12-4975-9339-995E0C8D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E34B-49C3-47C9-8889-3DB5F52E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7E5B6-D407-4852-A547-0B9B399C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B1CF3-535D-482F-B567-CADE316F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179E6-9E01-4600-93AA-C03618D1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89A3B-885D-4C64-B28D-4B9DEA90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0E17B-94B4-4FF2-B462-C50E153E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D72B0-315F-4E69-A909-863328EAF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0DE4B-8DA2-488B-A582-FFED9805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BE4D14-1781-4FC5-B43F-AAADBA7F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161219-2EB9-49D2-AFC6-8C28CE82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5681DB-FA98-46B3-884E-FB4C1891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8CB3-50D3-4582-8167-76CDF6EEF97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FE32-52C3-4A67-96F3-986FE218D70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098F-0AE5-43E4-930B-8BC29082846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16DB-4F0A-41C2-9BB0-42CFAB3888E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382C-6EA6-4398-9B62-D65E35D3FA5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CCE3-4631-4227-841B-F8BCFAA32BD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59EA-4FB6-4FFF-AC8C-A09F641595A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70A9-0F4F-4431-AD98-001A23CDD6B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8B4F-347B-492F-B980-4EF84E6717D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7B1B-DB6D-47B0-8C09-A9E48CAB9FC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5BD9-5842-4B6C-9F73-D5236ED91FE6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9553-ABDD-4218-BCD8-C9BF1918F29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700360" y="4652640"/>
            <a:ext cx="5975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ЛАДАНОВА И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КОУ «ВЕРХ-ЖИЛИНСКАЯ ООШ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Взаимное расположение прямой и окружности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8064360" cy="26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b9899"/>
                </a:solidFill>
                <a:latin typeface="Georgia"/>
              </a:rPr>
              <a:t>С</a:t>
            </a:r>
            <a:r>
              <a:rPr b="1" lang="ru-RU" sz="4400" spc="-1" strike="noStrike">
                <a:solidFill>
                  <a:srgbClr val="435e40"/>
                </a:solidFill>
                <a:latin typeface="Georgia"/>
              </a:rPr>
              <a:t>войство касательной:</a:t>
            </a:r>
            <a:br>
              <a:rPr sz="4400"/>
            </a:br>
            <a:br>
              <a:rPr sz="4400"/>
            </a:br>
            <a:r>
              <a:rPr b="0" i="1" lang="ru-RU" sz="2800" spc="-1" strike="noStrike">
                <a:solidFill>
                  <a:srgbClr val="435e40"/>
                </a:solidFill>
                <a:latin typeface="Georgia"/>
              </a:rPr>
              <a:t>Касательная к окружности перпендикулярна к радиусу, проведенному в точку касания.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8960" y="2997000"/>
            <a:ext cx="3754440" cy="30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касательная к окружности с центром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– точка каса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O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диу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Object 14"/>
              <p:cNvSpPr txBox="1"/>
              <p:nvPr/>
            </p:nvSpPr>
            <p:spPr>
              <a:xfrm>
                <a:off x="1351080" y="5373720"/>
                <a:ext cx="28429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O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1" name="Oval 4"/>
          <p:cNvSpPr/>
          <p:nvPr/>
        </p:nvSpPr>
        <p:spPr>
          <a:xfrm>
            <a:off x="5364000" y="342900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5"/>
          <p:cNvSpPr/>
          <p:nvPr/>
        </p:nvSpPr>
        <p:spPr>
          <a:xfrm>
            <a:off x="4932360" y="342900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6"/>
          <p:cNvSpPr/>
          <p:nvPr/>
        </p:nvSpPr>
        <p:spPr>
          <a:xfrm>
            <a:off x="6641640" y="4888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8"/>
          <p:cNvSpPr/>
          <p:nvPr/>
        </p:nvSpPr>
        <p:spPr>
          <a:xfrm>
            <a:off x="6877080" y="342900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9"/>
          <p:cNvSpPr/>
          <p:nvPr/>
        </p:nvSpPr>
        <p:spPr>
          <a:xfrm>
            <a:off x="6732720" y="3429000"/>
            <a:ext cx="144360" cy="144360"/>
          </a:xfrm>
          <a:prstGeom prst="rect">
            <a:avLst/>
          </a:prstGeom>
          <a:solidFill>
            <a:srgbClr val="646b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0"/>
          <p:cNvSpPr/>
          <p:nvPr/>
        </p:nvSpPr>
        <p:spPr>
          <a:xfrm>
            <a:off x="6640560" y="292572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1"/>
          <p:cNvSpPr/>
          <p:nvPr/>
        </p:nvSpPr>
        <p:spPr>
          <a:xfrm>
            <a:off x="4984920" y="335772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308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35e40"/>
                </a:solidFill>
                <a:latin typeface="Georgia"/>
              </a:rPr>
              <a:t>Признак касательной:</a:t>
            </a:r>
            <a:br>
              <a:rPr sz="4300"/>
            </a:br>
            <a:br>
              <a:rPr sz="4000"/>
            </a:br>
            <a:r>
              <a:rPr b="0" lang="ru-RU" sz="2900" spc="-1" strike="noStrike">
                <a:solidFill>
                  <a:srgbClr val="435e40"/>
                </a:solidFill>
                <a:latin typeface="Georgia"/>
              </a:rPr>
              <a:t>Если прямая проходит через конец радиуса, лежащий на окружности, и перпендикулярна радиусу, то она является к</a:t>
            </a:r>
            <a:r>
              <a:rPr b="0" i="1" lang="ru-RU" sz="2900" spc="-1" strike="noStrike">
                <a:solidFill>
                  <a:srgbClr val="435e40"/>
                </a:solidFill>
                <a:latin typeface="Georgia"/>
              </a:rPr>
              <a:t>асательной.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50920" y="3357720"/>
            <a:ext cx="475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кружность с центром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диуса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O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прямая, которая проходит через точку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m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– касательна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11"/>
              <p:cNvSpPr txBox="1"/>
              <p:nvPr/>
            </p:nvSpPr>
            <p:spPr>
              <a:xfrm>
                <a:off x="1476360" y="4869000"/>
                <a:ext cx="18939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O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2" name="Oval 4"/>
          <p:cNvSpPr/>
          <p:nvPr/>
        </p:nvSpPr>
        <p:spPr>
          <a:xfrm>
            <a:off x="5364000" y="342900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5"/>
          <p:cNvSpPr/>
          <p:nvPr/>
        </p:nvSpPr>
        <p:spPr>
          <a:xfrm>
            <a:off x="4932360" y="342900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6"/>
          <p:cNvSpPr/>
          <p:nvPr/>
        </p:nvSpPr>
        <p:spPr>
          <a:xfrm>
            <a:off x="6641640" y="4888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7"/>
          <p:cNvSpPr/>
          <p:nvPr/>
        </p:nvSpPr>
        <p:spPr>
          <a:xfrm>
            <a:off x="6877080" y="342900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8"/>
          <p:cNvSpPr/>
          <p:nvPr/>
        </p:nvSpPr>
        <p:spPr>
          <a:xfrm>
            <a:off x="6732720" y="3429000"/>
            <a:ext cx="144360" cy="144360"/>
          </a:xfrm>
          <a:prstGeom prst="rect">
            <a:avLst/>
          </a:prstGeom>
          <a:solidFill>
            <a:srgbClr val="646b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9"/>
          <p:cNvSpPr/>
          <p:nvPr/>
        </p:nvSpPr>
        <p:spPr>
          <a:xfrm>
            <a:off x="6640560" y="292572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0"/>
          <p:cNvSpPr/>
          <p:nvPr/>
        </p:nvSpPr>
        <p:spPr>
          <a:xfrm>
            <a:off x="4984920" y="335772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5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35e40"/>
                </a:solidFill>
                <a:latin typeface="Georgia"/>
              </a:rPr>
              <a:t>Свойство касательных, </a:t>
            </a:r>
            <a:br>
              <a:rPr sz="3600"/>
            </a:br>
            <a:r>
              <a:rPr b="0" i="1" lang="ru-RU" sz="3600" spc="-1" strike="noStrike">
                <a:solidFill>
                  <a:srgbClr val="435e40"/>
                </a:solidFill>
                <a:latin typeface="Georgia"/>
              </a:rPr>
              <a:t>проходящих через одну точку: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Object 21"/>
              <p:cNvSpPr txBox="1"/>
              <p:nvPr/>
            </p:nvSpPr>
            <p:spPr>
              <a:xfrm>
                <a:off x="5292720" y="2133720"/>
                <a:ext cx="2287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787640" y="1700280"/>
            <a:ext cx="41050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▼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По свойству касательной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ВО,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СО–прямоугольны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ВО=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СО–по гипотенузе и катету: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ОА – общая,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ОВ=ОС – радиусы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В=АС и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▲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3" name="Oval 6"/>
          <p:cNvSpPr/>
          <p:nvPr/>
        </p:nvSpPr>
        <p:spPr>
          <a:xfrm>
            <a:off x="539640" y="4292640"/>
            <a:ext cx="1511280" cy="1441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7"/>
          <p:cNvSpPr/>
          <p:nvPr/>
        </p:nvSpPr>
        <p:spPr>
          <a:xfrm>
            <a:off x="1258920" y="501336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8"/>
          <p:cNvSpPr/>
          <p:nvPr/>
        </p:nvSpPr>
        <p:spPr>
          <a:xfrm flipH="1" flipV="1">
            <a:off x="610920" y="4076640"/>
            <a:ext cx="331308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9"/>
          <p:cNvSpPr/>
          <p:nvPr/>
        </p:nvSpPr>
        <p:spPr>
          <a:xfrm flipH="1">
            <a:off x="684360" y="5013360"/>
            <a:ext cx="324000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"/>
          <p:cNvSpPr/>
          <p:nvPr/>
        </p:nvSpPr>
        <p:spPr>
          <a:xfrm flipV="1">
            <a:off x="1258920" y="4292640"/>
            <a:ext cx="217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1"/>
          <p:cNvSpPr/>
          <p:nvPr/>
        </p:nvSpPr>
        <p:spPr>
          <a:xfrm>
            <a:off x="1258920" y="5013360"/>
            <a:ext cx="217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3"/>
          <p:cNvSpPr/>
          <p:nvPr/>
        </p:nvSpPr>
        <p:spPr>
          <a:xfrm>
            <a:off x="834480" y="4672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4"/>
          <p:cNvSpPr/>
          <p:nvPr/>
        </p:nvSpPr>
        <p:spPr>
          <a:xfrm>
            <a:off x="1276920" y="3808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5"/>
          <p:cNvSpPr/>
          <p:nvPr/>
        </p:nvSpPr>
        <p:spPr>
          <a:xfrm>
            <a:off x="1203840" y="575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6"/>
          <p:cNvSpPr/>
          <p:nvPr/>
        </p:nvSpPr>
        <p:spPr>
          <a:xfrm>
            <a:off x="3651840" y="452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7"/>
          <p:cNvSpPr/>
          <p:nvPr/>
        </p:nvSpPr>
        <p:spPr>
          <a:xfrm>
            <a:off x="1403280" y="4365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8"/>
          <p:cNvSpPr/>
          <p:nvPr/>
        </p:nvSpPr>
        <p:spPr>
          <a:xfrm>
            <a:off x="1404720" y="537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9"/>
          <p:cNvSpPr/>
          <p:nvPr/>
        </p:nvSpPr>
        <p:spPr>
          <a:xfrm>
            <a:off x="2771640" y="4724280"/>
            <a:ext cx="287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0"/>
          <p:cNvSpPr/>
          <p:nvPr/>
        </p:nvSpPr>
        <p:spPr>
          <a:xfrm>
            <a:off x="179280" y="1557360"/>
            <a:ext cx="4680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резки касательных к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кружности, проведенны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 одной точки, равны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ставляют равные угл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 прямой, проходящей чере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ту точку и центр окружнос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Object 23"/>
              <p:cNvSpPr txBox="1"/>
              <p:nvPr/>
            </p:nvSpPr>
            <p:spPr>
              <a:xfrm>
                <a:off x="5508720" y="4653000"/>
                <a:ext cx="5376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Object 25"/>
              <p:cNvSpPr txBox="1"/>
              <p:nvPr/>
            </p:nvSpPr>
            <p:spPr>
              <a:xfrm>
                <a:off x="6300720" y="5157720"/>
                <a:ext cx="1656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55280" y="620640"/>
            <a:ext cx="755820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Georgia"/>
              </a:rPr>
              <a:t>Взаимное расположение прямой и окружности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Oval 5"/>
          <p:cNvSpPr/>
          <p:nvPr/>
        </p:nvSpPr>
        <p:spPr>
          <a:xfrm>
            <a:off x="3635280" y="3500280"/>
            <a:ext cx="2737080" cy="2665440"/>
          </a:xfrm>
          <a:prstGeom prst="ellipse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4842000" y="420840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8"/>
          <p:cNvSpPr/>
          <p:nvPr/>
        </p:nvSpPr>
        <p:spPr>
          <a:xfrm>
            <a:off x="5003640" y="479736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0"/>
          <p:cNvSpPr/>
          <p:nvPr/>
        </p:nvSpPr>
        <p:spPr>
          <a:xfrm flipH="1">
            <a:off x="4500360" y="3573360"/>
            <a:ext cx="934920" cy="251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1"/>
          <p:cNvSpPr/>
          <p:nvPr/>
        </p:nvSpPr>
        <p:spPr>
          <a:xfrm flipH="1">
            <a:off x="3634920" y="3500280"/>
            <a:ext cx="136836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4932360" y="4797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3"/>
          <p:cNvSpPr/>
          <p:nvPr/>
        </p:nvSpPr>
        <p:spPr>
          <a:xfrm>
            <a:off x="3329640" y="424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4"/>
          <p:cNvSpPr/>
          <p:nvPr/>
        </p:nvSpPr>
        <p:spPr>
          <a:xfrm>
            <a:off x="4914000" y="301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5"/>
          <p:cNvSpPr/>
          <p:nvPr/>
        </p:nvSpPr>
        <p:spPr>
          <a:xfrm>
            <a:off x="5418720" y="308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6"/>
          <p:cNvSpPr/>
          <p:nvPr/>
        </p:nvSpPr>
        <p:spPr>
          <a:xfrm>
            <a:off x="4358160" y="602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7"/>
          <p:cNvSpPr/>
          <p:nvPr/>
        </p:nvSpPr>
        <p:spPr>
          <a:xfrm>
            <a:off x="6372360" y="458136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8"/>
          <p:cNvSpPr/>
          <p:nvPr/>
        </p:nvSpPr>
        <p:spPr>
          <a:xfrm>
            <a:off x="521280" y="3879720"/>
            <a:ext cx="223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диу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мет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Дано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79280" y="1557360"/>
            <a:ext cx="4392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кружность с центром в точке </a:t>
            </a: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О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радиуса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, которая не проходит через центр </a:t>
            </a: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Расстояние от центра окружности до прямой обозначим буквой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Oval 11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3"/>
          <p:cNvSpPr/>
          <p:nvPr/>
        </p:nvSpPr>
        <p:spPr>
          <a:xfrm flipV="1">
            <a:off x="6804000" y="3068640"/>
            <a:ext cx="1008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4"/>
          <p:cNvSpPr/>
          <p:nvPr/>
        </p:nvSpPr>
        <p:spPr>
          <a:xfrm>
            <a:off x="4932360" y="30686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5"/>
          <p:cNvSpPr/>
          <p:nvPr/>
        </p:nvSpPr>
        <p:spPr>
          <a:xfrm flipV="1">
            <a:off x="6804000" y="306864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7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8"/>
          <p:cNvSpPr/>
          <p:nvPr/>
        </p:nvSpPr>
        <p:spPr>
          <a:xfrm>
            <a:off x="7290000" y="33750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9"/>
          <p:cNvSpPr/>
          <p:nvPr/>
        </p:nvSpPr>
        <p:spPr>
          <a:xfrm>
            <a:off x="6426720" y="337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20"/>
          <p:cNvSpPr/>
          <p:nvPr/>
        </p:nvSpPr>
        <p:spPr>
          <a:xfrm>
            <a:off x="6804000" y="3068640"/>
            <a:ext cx="73080" cy="144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озможны три случая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680" y="1484280"/>
            <a:ext cx="40384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1)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&lt;r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ли расстояние от центра окружности до прямой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меньше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радиуса окружности, то прямая и окружность имеют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ве общие точки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Oval 5"/>
          <p:cNvSpPr/>
          <p:nvPr/>
        </p:nvSpPr>
        <p:spPr>
          <a:xfrm>
            <a:off x="5400720" y="2084400"/>
            <a:ext cx="2952720" cy="288288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6"/>
          <p:cNvSpPr/>
          <p:nvPr/>
        </p:nvSpPr>
        <p:spPr>
          <a:xfrm flipV="1">
            <a:off x="6804000" y="3068640"/>
            <a:ext cx="1008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7"/>
          <p:cNvSpPr/>
          <p:nvPr/>
        </p:nvSpPr>
        <p:spPr>
          <a:xfrm>
            <a:off x="4932360" y="30686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8"/>
          <p:cNvSpPr/>
          <p:nvPr/>
        </p:nvSpPr>
        <p:spPr>
          <a:xfrm flipV="1">
            <a:off x="6804000" y="306864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1"/>
          <p:cNvSpPr/>
          <p:nvPr/>
        </p:nvSpPr>
        <p:spPr>
          <a:xfrm>
            <a:off x="6156360" y="3068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&lt;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2"/>
          <p:cNvSpPr/>
          <p:nvPr/>
        </p:nvSpPr>
        <p:spPr>
          <a:xfrm>
            <a:off x="6804000" y="3068640"/>
            <a:ext cx="73080" cy="144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3"/>
          <p:cNvSpPr/>
          <p:nvPr/>
        </p:nvSpPr>
        <p:spPr>
          <a:xfrm>
            <a:off x="5867280" y="3068640"/>
            <a:ext cx="93672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4"/>
          <p:cNvSpPr/>
          <p:nvPr/>
        </p:nvSpPr>
        <p:spPr>
          <a:xfrm>
            <a:off x="5508720" y="263700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5"/>
          <p:cNvSpPr/>
          <p:nvPr/>
        </p:nvSpPr>
        <p:spPr>
          <a:xfrm>
            <a:off x="7648560" y="256536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6"/>
          <p:cNvSpPr/>
          <p:nvPr/>
        </p:nvSpPr>
        <p:spPr>
          <a:xfrm>
            <a:off x="179280" y="558324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ая АВ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куще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 отношению к окружност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50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50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озможны три случая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ли расстояние от центра окружности до прямой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авно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радиусу окружности, то прямая и окружность имеют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только одну общую точку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Oval 4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6"/>
          <p:cNvSpPr/>
          <p:nvPr/>
        </p:nvSpPr>
        <p:spPr>
          <a:xfrm>
            <a:off x="4932360" y="270828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6084720" y="3375000"/>
            <a:ext cx="6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17"/>
          <p:cNvSpPr/>
          <p:nvPr/>
        </p:nvSpPr>
        <p:spPr>
          <a:xfrm>
            <a:off x="6877080" y="270828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8"/>
          <p:cNvSpPr/>
          <p:nvPr/>
        </p:nvSpPr>
        <p:spPr>
          <a:xfrm>
            <a:off x="6732720" y="2708280"/>
            <a:ext cx="144360" cy="144360"/>
          </a:xfrm>
          <a:prstGeom prst="rect">
            <a:avLst/>
          </a:prstGeom>
          <a:solidFill>
            <a:srgbClr val="d1634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9"/>
          <p:cNvSpPr/>
          <p:nvPr/>
        </p:nvSpPr>
        <p:spPr>
          <a:xfrm>
            <a:off x="6640560" y="2276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1000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озможны три случая</a:t>
            </a: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&gt;r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ли расстояние от центра окружности до прямой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больше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радиуса окружности, то прямая и окружность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не имеют общих точек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Oval 4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5"/>
          <p:cNvSpPr/>
          <p:nvPr/>
        </p:nvSpPr>
        <p:spPr>
          <a:xfrm>
            <a:off x="4932360" y="22766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6156360" y="3068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&gt;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8"/>
          <p:cNvSpPr/>
          <p:nvPr/>
        </p:nvSpPr>
        <p:spPr>
          <a:xfrm>
            <a:off x="6877080" y="2276640"/>
            <a:ext cx="0" cy="18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9"/>
          <p:cNvSpPr/>
          <p:nvPr/>
        </p:nvSpPr>
        <p:spPr>
          <a:xfrm>
            <a:off x="6732720" y="2276640"/>
            <a:ext cx="144360" cy="144360"/>
          </a:xfrm>
          <a:prstGeom prst="rect">
            <a:avLst/>
          </a:prstGeom>
          <a:solidFill>
            <a:srgbClr val="d1634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2"/>
          <p:cNvSpPr/>
          <p:nvPr/>
        </p:nvSpPr>
        <p:spPr>
          <a:xfrm flipH="1">
            <a:off x="5579640" y="4149720"/>
            <a:ext cx="129708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3"/>
          <p:cNvSpPr/>
          <p:nvPr/>
        </p:nvSpPr>
        <p:spPr>
          <a:xfrm>
            <a:off x="5921640" y="40957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1000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35e40"/>
                </a:solidFill>
                <a:latin typeface="Georgia"/>
              </a:rPr>
              <a:t>Касательная к окружности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949320" y="1981080"/>
            <a:ext cx="347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Определение: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П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рямая, имеющая с окружностью только одну общую точку, называется касательной к окружности, а их общая точка называется точкой касания прямой и окружности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8" name="Oval 4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5"/>
          <p:cNvSpPr/>
          <p:nvPr/>
        </p:nvSpPr>
        <p:spPr>
          <a:xfrm>
            <a:off x="4932360" y="270828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"/>
          <p:cNvSpPr/>
          <p:nvPr/>
        </p:nvSpPr>
        <p:spPr>
          <a:xfrm>
            <a:off x="6084720" y="3375000"/>
            <a:ext cx="6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8"/>
          <p:cNvSpPr/>
          <p:nvPr/>
        </p:nvSpPr>
        <p:spPr>
          <a:xfrm>
            <a:off x="6877080" y="270828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9"/>
          <p:cNvSpPr/>
          <p:nvPr/>
        </p:nvSpPr>
        <p:spPr>
          <a:xfrm>
            <a:off x="6732720" y="2708280"/>
            <a:ext cx="144360" cy="144360"/>
          </a:xfrm>
          <a:prstGeom prst="rect">
            <a:avLst/>
          </a:prstGeom>
          <a:solidFill>
            <a:srgbClr val="d1634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0"/>
          <p:cNvSpPr/>
          <p:nvPr/>
        </p:nvSpPr>
        <p:spPr>
          <a:xfrm>
            <a:off x="6640560" y="220500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1"/>
          <p:cNvSpPr/>
          <p:nvPr/>
        </p:nvSpPr>
        <p:spPr>
          <a:xfrm>
            <a:off x="4984920" y="263700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7640" y="96840"/>
            <a:ext cx="8785080" cy="117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ыясните взаимное расположение прямой и окружности, если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948960" y="2924280"/>
            <a:ext cx="375444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15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11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6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5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2 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3,2 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4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7 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7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0,5 д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4 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4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0 м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858920" y="2923920"/>
            <a:ext cx="375444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– секущ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– секущ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бщих точек нет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– секущ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- касательн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Line 6"/>
          <p:cNvSpPr/>
          <p:nvPr/>
        </p:nvSpPr>
        <p:spPr>
          <a:xfrm>
            <a:off x="4716360" y="2708280"/>
            <a:ext cx="0" cy="34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35e40"/>
                </a:solidFill>
                <a:latin typeface="Georgia"/>
              </a:rPr>
              <a:t>Решите № 633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Дано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ABC-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квадрат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B = 6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кружность с центром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радиуса 5 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Найти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екущие из прямых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A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AB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BC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 АС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4" name="Line 6"/>
          <p:cNvSpPr/>
          <p:nvPr/>
        </p:nvSpPr>
        <p:spPr>
          <a:xfrm>
            <a:off x="1187280" y="4653000"/>
            <a:ext cx="338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6083280" y="3068640"/>
            <a:ext cx="230508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8"/>
          <p:cNvSpPr/>
          <p:nvPr/>
        </p:nvSpPr>
        <p:spPr>
          <a:xfrm>
            <a:off x="4932360" y="1989000"/>
            <a:ext cx="2232000" cy="22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13"/>
          <p:cNvSpPr/>
          <p:nvPr/>
        </p:nvSpPr>
        <p:spPr>
          <a:xfrm flipH="1">
            <a:off x="6083280" y="3068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14"/>
          <p:cNvSpPr/>
          <p:nvPr/>
        </p:nvSpPr>
        <p:spPr>
          <a:xfrm flipV="1">
            <a:off x="6083280" y="3068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6"/>
          <p:cNvSpPr/>
          <p:nvPr/>
        </p:nvSpPr>
        <p:spPr>
          <a:xfrm>
            <a:off x="5796000" y="2708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7"/>
          <p:cNvSpPr/>
          <p:nvPr/>
        </p:nvSpPr>
        <p:spPr>
          <a:xfrm>
            <a:off x="8172360" y="26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8101080" y="5464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9"/>
          <p:cNvSpPr/>
          <p:nvPr/>
        </p:nvSpPr>
        <p:spPr>
          <a:xfrm>
            <a:off x="586728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20"/>
          <p:cNvSpPr/>
          <p:nvPr/>
        </p:nvSpPr>
        <p:spPr>
          <a:xfrm>
            <a:off x="4211640" y="1413000"/>
            <a:ext cx="3673440" cy="34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22"/>
          <p:cNvSpPr/>
          <p:nvPr/>
        </p:nvSpPr>
        <p:spPr>
          <a:xfrm flipV="1">
            <a:off x="6084720" y="306828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3"/>
          <p:cNvSpPr/>
          <p:nvPr/>
        </p:nvSpPr>
        <p:spPr>
          <a:xfrm flipH="1">
            <a:off x="6084360" y="3068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24"/>
          <p:cNvSpPr/>
          <p:nvPr/>
        </p:nvSpPr>
        <p:spPr>
          <a:xfrm>
            <a:off x="5730840" y="2655720"/>
            <a:ext cx="7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8:08:31Z</dcterms:created>
  <dc:creator>Ладанова И.В</dc:creator>
  <dc:description/>
  <dc:language>en-US</dc:language>
  <cp:lastModifiedBy>LEGION</cp:lastModifiedBy>
  <dcterms:modified xsi:type="dcterms:W3CDTF">2015-01-26T12:35:08Z</dcterms:modified>
  <cp:revision>19</cp:revision>
  <dc:subject/>
  <dc:title>Взаимное расположение прямой и окружности</dc:title>
</cp:coreProperties>
</file>