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applause.wav" ContentType="audio/x-wav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F209-66D7-4132-B6B4-2053D73C22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50E6-B285-4C4A-B950-A05828469DF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2843-DA51-4990-913E-6BEED8E2383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6CE9-8DF0-47A5-A522-E5166FD36A7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Упростите  выра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81C8-A4F8-41B9-98DD-62BA73931C0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амостоятельная 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EBD7-D5E9-4833-9A0B-ECA8B038C3D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5F2F-4410-4972-8A11-2EC01978E59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1200"/>
            </a:b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Г.В.Лейбниц</a:t>
            </a:r>
            <a:r>
              <a:rPr b="1" i="1" lang="ru-RU" sz="1000" spc="-1" strike="noStrike">
                <a:solidFill>
                  <a:srgbClr val="800080"/>
                </a:solidFill>
                <a:latin typeface="Monotype Corsiv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FF86-71F8-44BB-8961-1A5DF1386A0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12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1100" spc="-1" strike="noStrike">
                <a:solidFill>
                  <a:srgbClr val="1f497d"/>
                </a:solidFill>
                <a:latin typeface="Monotype Corsiva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B31A-AABF-400A-B6C0-1BE35E4707F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№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3A1D-E59B-4FF4-AC0F-0CB7682CB51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8330-5E67-4775-9E57-599ACC1ADE0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4FF3-78AF-47FD-9842-47256779E9E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br>
              <a:rPr sz="1600"/>
            </a:br>
            <a:r>
              <a:rPr b="1" i="1" lang="ru-RU" sz="16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80"/>
                </a:solidFill>
                <a:uFillTx/>
                <a:latin typeface="Monotype Corsiva"/>
              </a:rPr>
              <a:t>Возьмите  на  замет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1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1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4933-1282-41A7-B84C-8B24811A0C8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D141-C21B-4BE7-89EA-1BFC7FB07CD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2C6A-1236-4CC2-B50B-293BC2A47B9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318-0113-42FE-B0B3-540FB228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CDC-4579-4690-A67B-3421E313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C5C-3532-4B95-866B-CD8005B6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03B-9511-444A-BEBA-42DAD3D0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944B-2D3F-4801-AE51-9373B680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1E86-EE93-4C42-9B31-3E4BA3F7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71A5-78A5-4638-A6F0-75FDCD7C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6CA2-BA02-481C-9A4D-5BDE1AB3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2EB8-D847-4865-A5F6-8725609F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1D9A-6B60-41DE-ACB0-A5415845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B839-466C-4CA8-807C-3528AC2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16A-CD0E-4084-9597-5D62876E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D9B6-724D-4566-A710-C311C24D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351E-D10D-4BDA-8C2D-AEDD1144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6E51-BBDB-4074-AE54-AC2B2604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8B47-7724-4A40-9C40-DA501188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FF9D-B870-49B4-85B2-33012903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666-2B92-4E8D-A898-C2931CAD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D17-ADAE-4064-85BC-6DD5C95A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371-3D85-4B4B-B027-010427C2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FF3-00E2-4BAA-95AD-51B2D318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5A2-02F8-4241-A5D9-E00FBDC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390-5B1B-4ED4-9D86-0F21428C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2B0-B219-431B-8E4A-BBAA3872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4A4E-5D5F-472D-A9A6-5F8E24613D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8367-0A07-4BED-944E-25D20C687D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02800"/>
            <a:ext cx="777240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666600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95640" y="5157360"/>
            <a:ext cx="48960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MYNET040"/>
          <p:cNvPicPr/>
          <p:nvPr/>
        </p:nvPicPr>
        <p:blipFill>
          <a:blip r:embed="rId1"/>
          <a:stretch/>
        </p:blipFill>
        <p:spPr>
          <a:xfrm>
            <a:off x="324000" y="3521160"/>
            <a:ext cx="3771720" cy="3336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1446120" y="2401920"/>
                <a:ext cx="5413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1692360" y="4862520"/>
                <a:ext cx="684216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Text Box 4"/>
          <p:cNvSpPr/>
          <p:nvPr/>
        </p:nvSpPr>
        <p:spPr>
          <a:xfrm>
            <a:off x="938520" y="31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635280" y="249228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5724360" y="256536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869080" y="285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6060a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780000" y="5157720"/>
            <a:ext cx="57600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009800" y="5589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3471840" y="239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8"/>
              <p:cNvSpPr txBox="1"/>
              <p:nvPr/>
            </p:nvSpPr>
            <p:spPr>
              <a:xfrm>
                <a:off x="3564000" y="2492280"/>
                <a:ext cx="7351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31"/>
          <p:cNvSpPr/>
          <p:nvPr/>
        </p:nvSpPr>
        <p:spPr>
          <a:xfrm>
            <a:off x="4984920" y="390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35"/>
          <p:cNvSpPr/>
          <p:nvPr/>
        </p:nvSpPr>
        <p:spPr>
          <a:xfrm>
            <a:off x="5076720" y="515772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9"/>
              <p:cNvSpPr txBox="1"/>
              <p:nvPr/>
            </p:nvSpPr>
            <p:spPr>
              <a:xfrm>
                <a:off x="3708360" y="5084640"/>
                <a:ext cx="720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0"/>
              <p:cNvSpPr txBox="1"/>
              <p:nvPr/>
            </p:nvSpPr>
            <p:spPr>
              <a:xfrm>
                <a:off x="5076720" y="5157720"/>
                <a:ext cx="7257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7" name="Picture 41" descr="AG00373_"/>
          <p:cNvPicPr/>
          <p:nvPr/>
        </p:nvPicPr>
        <p:blipFill>
          <a:blip r:embed="rId1"/>
          <a:stretch/>
        </p:blipFill>
        <p:spPr>
          <a:xfrm>
            <a:off x="7164360" y="2781360"/>
            <a:ext cx="1440000" cy="1384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2"/>
          <p:cNvSpPr/>
          <p:nvPr/>
        </p:nvSpPr>
        <p:spPr>
          <a:xfrm>
            <a:off x="0" y="47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625aa"/>
                </a:solidFill>
                <a:uFillTx/>
                <a:latin typeface="Monotype Corsiva"/>
              </a:rPr>
              <a:t>Лаборатория    </a:t>
            </a:r>
            <a:r>
              <a:rPr b="1" i="1" lang="ru-RU" sz="4400" spc="-1" strike="noStrike" u="sng">
                <a:solidFill>
                  <a:srgbClr val="bb0319"/>
                </a:solidFill>
                <a:uFillTx/>
                <a:latin typeface="Monotype Corsiva"/>
              </a:rPr>
              <a:t>«Исследование  степени»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336600"/>
            <a:ext cx="777240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4" descr="CRCTR122"/>
          <p:cNvPicPr/>
          <p:nvPr/>
        </p:nvPicPr>
        <p:blipFill>
          <a:blip r:embed="rId1"/>
          <a:stretch/>
        </p:blipFill>
        <p:spPr>
          <a:xfrm>
            <a:off x="7575480" y="260280"/>
            <a:ext cx="156852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1187280" y="1197000"/>
                <a:ext cx="216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1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6"/>
          <p:cNvSpPr/>
          <p:nvPr/>
        </p:nvSpPr>
        <p:spPr>
          <a:xfrm>
            <a:off x="362160" y="1557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1042920" y="2421000"/>
                <a:ext cx="221148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900000" y="4653000"/>
                <a:ext cx="3565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AutoShape 14"/>
          <p:cNvSpPr/>
          <p:nvPr/>
        </p:nvSpPr>
        <p:spPr>
          <a:xfrm rot="10800000">
            <a:off x="3347640" y="980280"/>
            <a:ext cx="4226040" cy="1871640"/>
          </a:xfrm>
          <a:prstGeom prst="cloudCallout">
            <a:avLst>
              <a:gd name="adj1" fmla="val -48837"/>
              <a:gd name="adj2" fmla="val 37106"/>
            </a:avLst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26420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3708360" y="1268280"/>
                <a:ext cx="825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18"/>
          <p:cNvSpPr/>
          <p:nvPr/>
        </p:nvSpPr>
        <p:spPr>
          <a:xfrm>
            <a:off x="290880" y="3213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19"/>
          <p:cNvSpPr/>
          <p:nvPr/>
        </p:nvSpPr>
        <p:spPr>
          <a:xfrm rot="10476600">
            <a:off x="3058560" y="2276280"/>
            <a:ext cx="3824280" cy="1800000"/>
          </a:xfrm>
          <a:prstGeom prst="cloudCallout">
            <a:avLst>
              <a:gd name="adj1" fmla="val -74828"/>
              <a:gd name="adj2" fmla="val 86305"/>
            </a:avLst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0"/>
              <p:cNvSpPr txBox="1"/>
              <p:nvPr/>
            </p:nvSpPr>
            <p:spPr>
              <a:xfrm>
                <a:off x="3492360" y="3068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2" name="Text Box 21"/>
          <p:cNvSpPr/>
          <p:nvPr/>
        </p:nvSpPr>
        <p:spPr>
          <a:xfrm>
            <a:off x="290880" y="49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22"/>
          <p:cNvSpPr/>
          <p:nvPr/>
        </p:nvSpPr>
        <p:spPr>
          <a:xfrm rot="14628000">
            <a:off x="4424040" y="3190320"/>
            <a:ext cx="3240360" cy="3440160"/>
          </a:xfrm>
          <a:prstGeom prst="cloudCallout">
            <a:avLst>
              <a:gd name="adj1" fmla="val 72888"/>
              <a:gd name="adj2" fmla="val 97032"/>
            </a:avLst>
          </a:prstGeom>
          <a:solidFill>
            <a:srgbClr val="a3f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3"/>
              <p:cNvSpPr txBox="1"/>
              <p:nvPr/>
            </p:nvSpPr>
            <p:spPr>
              <a:xfrm>
                <a:off x="4572000" y="4581360"/>
                <a:ext cx="216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AutoShape 24"/>
          <p:cNvSpPr/>
          <p:nvPr/>
        </p:nvSpPr>
        <p:spPr>
          <a:xfrm rot="10800000">
            <a:off x="4932000" y="2636280"/>
            <a:ext cx="4211640" cy="1871640"/>
          </a:xfrm>
          <a:prstGeom prst="cloudCallout">
            <a:avLst>
              <a:gd name="adj1" fmla="val -18453"/>
              <a:gd name="adj2" fmla="val 128708"/>
            </a:avLst>
          </a:prstGeom>
          <a:solidFill>
            <a:srgbClr val="fdc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518800" y="3141720"/>
            <a:ext cx="321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b0319"/>
                </a:solidFill>
                <a:latin typeface="Monotype Corsiva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9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666600"/>
                </a:solidFill>
                <a:latin typeface="Monotype Corsiva"/>
              </a:rPr>
              <a:t>Упростите  выражени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250920" y="1459080"/>
                <a:ext cx="66261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Picture 15" descr="CBIZ038"/>
          <p:cNvPicPr/>
          <p:nvPr/>
        </p:nvPicPr>
        <p:blipFill>
          <a:blip r:embed="rId1"/>
          <a:stretch/>
        </p:blipFill>
        <p:spPr>
          <a:xfrm>
            <a:off x="826920" y="2938320"/>
            <a:ext cx="4672080" cy="3919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6"/>
          <p:cNvSpPr/>
          <p:nvPr/>
        </p:nvSpPr>
        <p:spPr>
          <a:xfrm>
            <a:off x="1763640" y="371628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625aa"/>
                </a:solidFill>
                <a:latin typeface="Monotype Corsiv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WordArt 17"/>
          <p:cNvSpPr txBox="1"/>
          <p:nvPr/>
        </p:nvSpPr>
        <p:spPr>
          <a:xfrm>
            <a:off x="5292720" y="2276640"/>
            <a:ext cx="3672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Отлично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Самостоятельная  работ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1  Вычислит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2 Упростите  выражени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79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8"/>
              <p:cNvSpPr txBox="1"/>
              <p:nvPr/>
            </p:nvSpPr>
            <p:spPr>
              <a:xfrm>
                <a:off x="971640" y="2276640"/>
                <a:ext cx="230508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0,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0"/>
              <p:cNvSpPr txBox="1"/>
              <p:nvPr/>
            </p:nvSpPr>
            <p:spPr>
              <a:xfrm>
                <a:off x="5292720" y="2421000"/>
                <a:ext cx="26640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,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,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8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4"/>
              <p:cNvSpPr txBox="1"/>
              <p:nvPr/>
            </p:nvSpPr>
            <p:spPr>
              <a:xfrm>
                <a:off x="0" y="4521240"/>
                <a:ext cx="453564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Rectangle 88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87"/>
              <p:cNvSpPr txBox="1"/>
              <p:nvPr/>
            </p:nvSpPr>
            <p:spPr>
              <a:xfrm>
                <a:off x="4788000" y="4579920"/>
                <a:ext cx="435600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0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Домашнее  задание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173400" cy="5040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402120" y="2421000"/>
            <a:ext cx="35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28 (а, в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11280" y="3357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30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280360" cy="26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3600"/>
            </a:br>
            <a:r>
              <a:rPr b="1" i="1" lang="ru-RU" sz="3600" spc="-1" strike="noStrike">
                <a:solidFill>
                  <a:srgbClr val="cc9900"/>
                </a:solidFill>
                <a:latin typeface="Monotype Corsiva"/>
              </a:rPr>
              <a:t>Г.В.Лейбниц</a:t>
            </a: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784692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44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3200" spc="-1" strike="noStrike">
                <a:solidFill>
                  <a:srgbClr val="9999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9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1403280" y="4005360"/>
            <a:ext cx="2138400" cy="1849320"/>
          </a:xfrm>
          <a:prstGeom prst="ellipse">
            <a:avLst/>
          </a:prstGeom>
          <a:solidFill>
            <a:srgbClr val="fffff3"/>
          </a:solidFill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80606"/>
                </a:solidFill>
                <a:latin typeface="Monotype Corsiva"/>
              </a:rPr>
              <a:t>6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3132000" y="4005360"/>
            <a:ext cx="2232000" cy="576000"/>
          </a:xfrm>
          <a:prstGeom prst="line">
            <a:avLst/>
          </a:prstGeom>
          <a:ln w="414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64000" y="3573360"/>
            <a:ext cx="1800360" cy="62568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940360" y="3645000"/>
            <a:ext cx="7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2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7093080" y="4365720"/>
            <a:ext cx="180000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796000" y="551664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34800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3203640" y="4653000"/>
            <a:ext cx="3816360" cy="2887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9480" y="443700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8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203640" y="5300640"/>
            <a:ext cx="2592360" cy="504720"/>
          </a:xfrm>
          <a:prstGeom prst="line">
            <a:avLst/>
          </a:prstGeom>
          <a:ln w="4140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405480" y="558972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771640" y="5516640"/>
            <a:ext cx="576360" cy="720720"/>
          </a:xfrm>
          <a:prstGeom prst="line">
            <a:avLst/>
          </a:prstGeom>
          <a:ln w="4140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441240" y="5950080"/>
            <a:ext cx="17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096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17928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23"/>
          <p:cNvSpPr/>
          <p:nvPr/>
        </p:nvSpPr>
        <p:spPr>
          <a:xfrm flipH="1">
            <a:off x="684000" y="5229360"/>
            <a:ext cx="1223640" cy="72072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73960" y="59500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( - 2 )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692360" y="1557360"/>
                <a:ext cx="1081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1692360" y="2637000"/>
                <a:ext cx="12207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619280" y="4005360"/>
                <a:ext cx="1600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1835280" y="4437000"/>
                <a:ext cx="14605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1763640" y="5445000"/>
                <a:ext cx="23050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 Box 13"/>
          <p:cNvSpPr/>
          <p:nvPr/>
        </p:nvSpPr>
        <p:spPr>
          <a:xfrm>
            <a:off x="1082880" y="198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2916360" y="1773360"/>
                <a:ext cx="934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4" name="Text Box 16"/>
          <p:cNvSpPr/>
          <p:nvPr/>
        </p:nvSpPr>
        <p:spPr>
          <a:xfrm>
            <a:off x="1116000" y="292428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3059280" y="2781360"/>
                <a:ext cx="17269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18"/>
          <p:cNvSpPr/>
          <p:nvPr/>
        </p:nvSpPr>
        <p:spPr>
          <a:xfrm>
            <a:off x="1082880" y="40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2688480" y="414972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е  имеет  смыс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082880" y="5013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3419640" y="4724280"/>
                <a:ext cx="11523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Text Box 22"/>
          <p:cNvSpPr/>
          <p:nvPr/>
        </p:nvSpPr>
        <p:spPr>
          <a:xfrm>
            <a:off x="1082880" y="5877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3"/>
              <p:cNvSpPr txBox="1"/>
              <p:nvPr/>
            </p:nvSpPr>
            <p:spPr>
              <a:xfrm>
                <a:off x="4140360" y="5516640"/>
                <a:ext cx="2160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195640" y="1916280"/>
                <a:ext cx="1152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340000" y="2637000"/>
                <a:ext cx="15112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2195640" y="3429000"/>
                <a:ext cx="11808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2195640" y="4724280"/>
                <a:ext cx="1512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2268360" y="5589720"/>
                <a:ext cx="23767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3"/>
          <p:cNvSpPr/>
          <p:nvPr/>
        </p:nvSpPr>
        <p:spPr>
          <a:xfrm>
            <a:off x="1659240" y="2060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3348000" y="1628640"/>
                <a:ext cx="630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5"/>
          <p:cNvSpPr/>
          <p:nvPr/>
        </p:nvSpPr>
        <p:spPr>
          <a:xfrm>
            <a:off x="165924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3924360" y="2492280"/>
                <a:ext cx="6811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1692360" y="386064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9"/>
              <p:cNvSpPr txBox="1"/>
              <p:nvPr/>
            </p:nvSpPr>
            <p:spPr>
              <a:xfrm>
                <a:off x="3708360" y="3429000"/>
                <a:ext cx="1246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Text Box 20"/>
          <p:cNvSpPr/>
          <p:nvPr/>
        </p:nvSpPr>
        <p:spPr>
          <a:xfrm>
            <a:off x="1659240" y="486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851280" y="4437000"/>
                <a:ext cx="25210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" name="Text Box 22"/>
          <p:cNvSpPr/>
          <p:nvPr/>
        </p:nvSpPr>
        <p:spPr>
          <a:xfrm>
            <a:off x="1659240" y="58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3"/>
              <p:cNvSpPr txBox="1"/>
              <p:nvPr/>
            </p:nvSpPr>
            <p:spPr>
              <a:xfrm>
                <a:off x="4643280" y="5516640"/>
                <a:ext cx="3888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9" name="Picture 24" descr="CRCTR142"/>
          <p:cNvPicPr/>
          <p:nvPr/>
        </p:nvPicPr>
        <p:blipFill>
          <a:blip r:embed="rId1"/>
          <a:stretch/>
        </p:blipFill>
        <p:spPr>
          <a:xfrm>
            <a:off x="6464160" y="1628640"/>
            <a:ext cx="2679840" cy="3240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br>
              <a:rPr sz="4000"/>
            </a:br>
            <a:r>
              <a:rPr b="1" i="1" lang="ru-RU" sz="40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9900"/>
                </a:solidFill>
                <a:uFillTx/>
                <a:latin typeface="Monotype Corsiva"/>
              </a:rPr>
              <a:t>Возьмите  на  заметк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3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3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5" name="Picture 4" descr="CBIZ098"/>
          <p:cNvPicPr/>
          <p:nvPr/>
        </p:nvPicPr>
        <p:blipFill>
          <a:blip r:embed="rId1"/>
          <a:stretch/>
        </p:blipFill>
        <p:spPr>
          <a:xfrm>
            <a:off x="0" y="2997360"/>
            <a:ext cx="2165400" cy="363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3564000" y="2205000"/>
                <a:ext cx="1954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3635280" y="3645000"/>
                <a:ext cx="28418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 Box 6"/>
          <p:cNvSpPr/>
          <p:nvPr/>
        </p:nvSpPr>
        <p:spPr>
          <a:xfrm>
            <a:off x="3026160" y="256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5508720" y="2276640"/>
            <a:ext cx="1214280" cy="1214280"/>
          </a:xfrm>
          <a:prstGeom prst="diamond">
            <a:avLst/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3026160" y="40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5867280" y="2276640"/>
                <a:ext cx="4320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AutoShape 18"/>
          <p:cNvSpPr/>
          <p:nvPr/>
        </p:nvSpPr>
        <p:spPr>
          <a:xfrm>
            <a:off x="6443640" y="3716280"/>
            <a:ext cx="1214640" cy="1214640"/>
          </a:xfrm>
          <a:prstGeom prst="diamond">
            <a:avLst/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588000" y="40053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12,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026160" y="5445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3635280" y="4954680"/>
                <a:ext cx="3313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AutoShape 23"/>
          <p:cNvSpPr/>
          <p:nvPr/>
        </p:nvSpPr>
        <p:spPr>
          <a:xfrm>
            <a:off x="6948360" y="5157720"/>
            <a:ext cx="1214640" cy="1214640"/>
          </a:xfrm>
          <a:prstGeom prst="diamond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738144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7640" y="98064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0" name="Picture 4" descr="PROGR038"/>
          <p:cNvPicPr/>
          <p:nvPr/>
        </p:nvPicPr>
        <p:blipFill>
          <a:blip r:embed="rId1"/>
          <a:stretch/>
        </p:blipFill>
        <p:spPr>
          <a:xfrm>
            <a:off x="179280" y="561960"/>
            <a:ext cx="3327480" cy="3324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4952880" y="2079720"/>
                <a:ext cx="32022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5029200" y="4040280"/>
                <a:ext cx="20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8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417852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400560" y="361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178520" y="4365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4968720" y="5477040"/>
                <a:ext cx="2519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Text Box 15"/>
          <p:cNvSpPr/>
          <p:nvPr/>
        </p:nvSpPr>
        <p:spPr>
          <a:xfrm>
            <a:off x="4178520" y="5661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5651640" y="429264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6012000" y="2852640"/>
            <a:ext cx="79200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5796000" y="566100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23:46:37Z</dcterms:created>
  <dc:creator>Марина</dc:creator>
  <dc:description/>
  <dc:language>en-US</dc:language>
  <cp:lastModifiedBy>LEGION</cp:lastModifiedBy>
  <dcterms:modified xsi:type="dcterms:W3CDTF">2015-01-26T12:35:35Z</dcterms:modified>
  <cp:revision>12</cp:revision>
  <dc:subject/>
  <dc:title>Степень с рациональным показателем и ее свойства.</dc:title>
</cp:coreProperties>
</file>