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applause.wav" ContentType="audio/x-wav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2D1E-8509-4A9C-BEDB-C19838C57A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Степень с рациональным показателем и е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Monotype Corsiva"/>
              </a:rPr>
              <a:t>МОУ  СОШ  № 256  г.Фоки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2DFE-BF79-406E-B1C6-6397177FAF5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Заполните  пропуски  так,  чтобы  получилось  верное  раве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B23F-34A5-4095-B43D-9B1E72CA0FB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Сократите  дроб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7A1E-D5AD-438E-932A-F669D4EA610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Упростите  выра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E61E-AD95-4A6F-8AB9-BB05D69C7E4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Самостоятельная 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7084-A8A2-4FE7-9296-E819CAF66C8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Домашнее 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BB4B-E37A-4D5F-904D-85910BA7090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«Люди,  незнакомые  с  алгеброй,  не  могут  представить  себе  тех  удивительных  вещей,  которых  можно  достигнуть…  при  помощи  названной  науки».</a:t>
            </a:r>
            <a:br>
              <a:rPr sz="1200"/>
            </a:br>
            <a:r>
              <a:rPr b="1" i="1" lang="ru-RU" sz="1200" spc="-1" strike="noStrike">
                <a:solidFill>
                  <a:srgbClr val="800080"/>
                </a:solidFill>
                <a:latin typeface="Monotype Corsiva"/>
              </a:rPr>
              <a:t>Г.В.Лейбниц</a:t>
            </a:r>
            <a:r>
              <a:rPr b="1" i="1" lang="ru-RU" sz="1000" spc="-1" strike="noStrike">
                <a:solidFill>
                  <a:srgbClr val="800080"/>
                </a:solidFill>
                <a:latin typeface="Monotype Corsiv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f7720"/>
                </a:solidFill>
                <a:latin typeface="Monotype Corsiva"/>
              </a:rPr>
              <a:t>Алгебра  открывает  перед  нами  двери  в  лабораторный  комплек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b80606"/>
                </a:solidFill>
                <a:latin typeface="Monotype Corsiva"/>
              </a:rPr>
              <a:t>«СТЕПЕНЬ  С  РАЦИОНАЛЬНЫМ  ПОКАЗАТЕЛЕМ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5330-F2BC-4E71-B217-5D60F1D5A4D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Лаборатория  </a:t>
            </a:r>
            <a:r>
              <a:rPr b="1" i="1" lang="ru-RU" sz="1200" spc="-1" strike="noStrike" u="sng">
                <a:solidFill>
                  <a:srgbClr val="b80606"/>
                </a:solidFill>
                <a:uFillTx/>
                <a:latin typeface="Monotype Corsiva"/>
              </a:rPr>
              <a:t>«Основы»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f7720"/>
                </a:solidFill>
                <a:latin typeface="Monotype Corsiva"/>
              </a:rPr>
              <a:t>Дайте  определение  степени  с  дробным  показ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554031"/>
                </a:solidFill>
                <a:latin typeface="Monotype Corsiva"/>
              </a:rPr>
              <a:t>Для  какого  дробного  показателя  определена  степень  с  основанием  равным  нул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Monotype Corsiva"/>
              </a:rPr>
              <a:t>Определяется  ли  степень  с  дробным  показателем  для  отрицательного  основания</a:t>
            </a:r>
            <a:r>
              <a:rPr b="1" i="1" lang="ru-RU" sz="1100" spc="-1" strike="noStrike">
                <a:solidFill>
                  <a:srgbClr val="1f497d"/>
                </a:solidFill>
                <a:latin typeface="Monotype Corsiva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A60C-98DE-4596-9D16-35314DBEF3C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№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1.  Представьте  число  64  в  виде  степени  с  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       основанием  -2; 2; 8.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№ 2.  Куб  какого  числа  равен  64?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№ 3.  Представьте  число  64  в  виде  степени  с    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       рациональным  показ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DEBE-CDA9-47AA-B106-D25C98F98C8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едставьте  степень  с  дробным  показателем  в  виде 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194F-9B92-4AC3-B6AE-30D731ED5F0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едставьте  в  виде  степени  с  дробным  показател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16A0-6DD8-4CAB-8156-A842EABAF14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Monotype Corsiva"/>
              </a:rPr>
              <a:t>Лаборатория  </a:t>
            </a:r>
            <a:br>
              <a:rPr sz="1600"/>
            </a:br>
            <a:r>
              <a:rPr b="1" i="1" lang="ru-RU" sz="1600" spc="-1" strike="noStrike" u="sng">
                <a:solidFill>
                  <a:srgbClr val="b80606"/>
                </a:solidFill>
                <a:uFillTx/>
                <a:latin typeface="Monotype Corsiva"/>
              </a:rPr>
              <a:t>«Действия  над  степеням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800080"/>
                </a:solidFill>
                <a:uFillTx/>
                <a:latin typeface="Monotype Corsiva"/>
              </a:rPr>
              <a:t>Возьмите  на  замет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Расстояние  от  Земли  до  туманности  Андромеды  выражается  числ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95000000000000000000 = 95 </a:t>
            </a:r>
            <a:r>
              <a:rPr b="1" i="1" lang="el-GR" sz="1200" spc="-1" strike="noStrike">
                <a:solidFill>
                  <a:srgbClr val="06060a"/>
                </a:solidFill>
                <a:latin typeface="Monotype Corsiva"/>
              </a:rPr>
              <a:t>·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10 </a:t>
            </a:r>
            <a:r>
              <a:rPr b="1" i="1" lang="ru-RU" sz="1200" spc="-1" strike="noStrike" baseline="30000">
                <a:solidFill>
                  <a:srgbClr val="06060a"/>
                </a:solidFill>
                <a:latin typeface="Monotype Corsiva"/>
              </a:rPr>
              <a:t>18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,  оно  называется  </a:t>
            </a:r>
            <a:r>
              <a:rPr b="1" i="1" lang="ru-RU" sz="1200" spc="-1" strike="noStrike">
                <a:solidFill>
                  <a:srgbClr val="b80606"/>
                </a:solidFill>
                <a:latin typeface="Monotype Corsiva"/>
              </a:rPr>
              <a:t>квинтилл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Масса  Солнца  в  граммах  выражается  числом  1983 </a:t>
            </a:r>
            <a:r>
              <a:rPr b="1" i="1" lang="el-GR" sz="1200" spc="-1" strike="noStrike">
                <a:solidFill>
                  <a:srgbClr val="5544b8"/>
                </a:solidFill>
                <a:latin typeface="Monotype Corsiva"/>
              </a:rPr>
              <a:t>·</a:t>
            </a: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 10 </a:t>
            </a:r>
            <a:r>
              <a:rPr b="1" i="1" lang="ru-RU" sz="1200" spc="-1" strike="noStrike" baseline="30000">
                <a:solidFill>
                  <a:srgbClr val="5544b8"/>
                </a:solidFill>
                <a:latin typeface="Monotype Corsiva"/>
              </a:rPr>
              <a:t>30  </a:t>
            </a: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гр. – </a:t>
            </a:r>
            <a:r>
              <a:rPr b="1" i="1" lang="ru-RU" sz="1200" spc="-1" strike="noStrike">
                <a:solidFill>
                  <a:srgbClr val="b80606"/>
                </a:solidFill>
                <a:latin typeface="Monotype Corsiva"/>
              </a:rPr>
              <a:t>нональ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Monotype Corsi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6800-8FDB-46E3-ADE1-2559DEA5799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Упростите выражения  и  вычислите  их  значения,  применяя  свойства 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8CEF-D09C-4C35-9867-51CB561F681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именяя  свойства  степеней сравните  выра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DD2C-5BD5-446F-B6A5-A2F5745B5CD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0B9-20B0-4054-84AD-A61D45AD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948-A5B6-43AA-B96A-B8D8E3A3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352-C80B-46AD-86FB-7F9B7554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3E6B-2F2B-45BB-AD58-C7FDBDD2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C86B-00B8-47BE-B6B9-0F93C31E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4D82-9133-4183-B8E2-8C270346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0EC8-D60F-4AFC-81CC-55D89F3C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E0C8-8891-488C-8773-5739A477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A732-92AD-4AD7-A771-04C8702E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A7E8-D689-4965-84FA-8854A8BF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076E-E1AF-4855-BE5A-3C0BC3B9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99E-E244-475A-8223-D4025277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C02D-79A0-45C1-9D7B-966C2029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B295-07C0-4253-AF30-A448054E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291F-0C44-4665-9891-DDACC684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C962-3D97-4C0B-87B2-59C439E1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8346-1578-4AC7-BF20-3304347F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D4D-1A4C-45A6-9FF3-09CECA80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9E2-3009-469E-BD5B-9D62DB42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67C-2874-47EC-B8DF-99C095DD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6A6-CAD9-4DBF-A2C3-6986E5C2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410-005A-4D95-B0CB-D574EF27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9E2-98AB-4EA3-BAA3-6D0B29D7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C3C-8C93-4859-AD13-3CCA767B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9E87-884F-4E5B-AF3A-1A1C90921E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B496-319D-44E2-A10A-4DCDF2347C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02800"/>
            <a:ext cx="7772400" cy="20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666600"/>
                </a:solidFill>
                <a:latin typeface="Monotype Corsiva"/>
              </a:rPr>
              <a:t>Степень с рациональным показателем и ее свойства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95640" y="5157360"/>
            <a:ext cx="48960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33"/>
                </a:solidFill>
                <a:latin typeface="Monotype Corsiva"/>
              </a:rPr>
              <a:t>МОУ  СОШ  № 256  г.Фокин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MYNET040"/>
          <p:cNvPicPr/>
          <p:nvPr/>
        </p:nvPicPr>
        <p:blipFill>
          <a:blip r:embed="rId1"/>
          <a:stretch/>
        </p:blipFill>
        <p:spPr>
          <a:xfrm>
            <a:off x="324000" y="3521160"/>
            <a:ext cx="3771720" cy="3336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Заполните  пропуски  так,  чтобы  получилось  верное  равенство: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1446120" y="2401920"/>
                <a:ext cx="5413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3"/>
              <p:cNvSpPr txBox="1"/>
              <p:nvPr/>
            </p:nvSpPr>
            <p:spPr>
              <a:xfrm>
                <a:off x="1692360" y="4862520"/>
                <a:ext cx="684216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f>
                              <m:num/>
                              <m:den/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f>
                              <m:num/>
                              <m:den/>
                            </m:f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Text Box 4"/>
          <p:cNvSpPr/>
          <p:nvPr/>
        </p:nvSpPr>
        <p:spPr>
          <a:xfrm>
            <a:off x="938520" y="3141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535cd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3635280" y="249228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5724360" y="256536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869080" y="2852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6060a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780000" y="5157720"/>
            <a:ext cx="576000" cy="1366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009800" y="5589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535cd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3471840" y="2392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8"/>
              <p:cNvSpPr txBox="1"/>
              <p:nvPr/>
            </p:nvSpPr>
            <p:spPr>
              <a:xfrm>
                <a:off x="3564000" y="2492280"/>
                <a:ext cx="7351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31"/>
          <p:cNvSpPr/>
          <p:nvPr/>
        </p:nvSpPr>
        <p:spPr>
          <a:xfrm>
            <a:off x="4984920" y="390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35"/>
          <p:cNvSpPr/>
          <p:nvPr/>
        </p:nvSpPr>
        <p:spPr>
          <a:xfrm>
            <a:off x="5076720" y="515772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9"/>
              <p:cNvSpPr txBox="1"/>
              <p:nvPr/>
            </p:nvSpPr>
            <p:spPr>
              <a:xfrm>
                <a:off x="3708360" y="5084640"/>
                <a:ext cx="720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0"/>
              <p:cNvSpPr txBox="1"/>
              <p:nvPr/>
            </p:nvSpPr>
            <p:spPr>
              <a:xfrm>
                <a:off x="5076720" y="5157720"/>
                <a:ext cx="7257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7" name="Picture 41" descr="AG00373_"/>
          <p:cNvPicPr/>
          <p:nvPr/>
        </p:nvPicPr>
        <p:blipFill>
          <a:blip r:embed="rId1"/>
          <a:stretch/>
        </p:blipFill>
        <p:spPr>
          <a:xfrm>
            <a:off x="7164360" y="2781360"/>
            <a:ext cx="1440000" cy="13842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2"/>
          <p:cNvSpPr/>
          <p:nvPr/>
        </p:nvSpPr>
        <p:spPr>
          <a:xfrm>
            <a:off x="0" y="476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625aa"/>
                </a:solidFill>
                <a:uFillTx/>
                <a:latin typeface="Monotype Corsiva"/>
              </a:rPr>
              <a:t>Лаборатория    </a:t>
            </a:r>
            <a:r>
              <a:rPr b="1" i="1" lang="ru-RU" sz="4400" spc="-1" strike="noStrike" u="sng">
                <a:solidFill>
                  <a:srgbClr val="bb0319"/>
                </a:solidFill>
                <a:uFillTx/>
                <a:latin typeface="Monotype Corsiva"/>
              </a:rPr>
              <a:t>«Исследование  степени»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336600"/>
            <a:ext cx="777240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06060a"/>
                </a:solidFill>
                <a:latin typeface="Monotype Corsiva"/>
              </a:rPr>
              <a:t>Сократите  дробь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1" name="Picture 4" descr="CRCTR122"/>
          <p:cNvPicPr/>
          <p:nvPr/>
        </p:nvPicPr>
        <p:blipFill>
          <a:blip r:embed="rId1"/>
          <a:stretch/>
        </p:blipFill>
        <p:spPr>
          <a:xfrm>
            <a:off x="7575480" y="260280"/>
            <a:ext cx="1568520" cy="19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1187280" y="1197000"/>
                <a:ext cx="2160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1,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6"/>
          <p:cNvSpPr/>
          <p:nvPr/>
        </p:nvSpPr>
        <p:spPr>
          <a:xfrm>
            <a:off x="362160" y="1557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1042920" y="2421000"/>
                <a:ext cx="221148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3"/>
              <p:cNvSpPr txBox="1"/>
              <p:nvPr/>
            </p:nvSpPr>
            <p:spPr>
              <a:xfrm>
                <a:off x="900000" y="4653000"/>
                <a:ext cx="35658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AutoShape 14"/>
          <p:cNvSpPr/>
          <p:nvPr/>
        </p:nvSpPr>
        <p:spPr>
          <a:xfrm rot="10800000">
            <a:off x="3347640" y="980280"/>
            <a:ext cx="4226040" cy="1871640"/>
          </a:xfrm>
          <a:prstGeom prst="cloudCallout">
            <a:avLst>
              <a:gd name="adj1" fmla="val -48837"/>
              <a:gd name="adj2" fmla="val 37106"/>
            </a:avLst>
          </a:prstGeom>
          <a:solidFill>
            <a:srgbClr val="abf7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26420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7"/>
              <p:cNvSpPr txBox="1"/>
              <p:nvPr/>
            </p:nvSpPr>
            <p:spPr>
              <a:xfrm>
                <a:off x="3708360" y="1268280"/>
                <a:ext cx="825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18"/>
          <p:cNvSpPr/>
          <p:nvPr/>
        </p:nvSpPr>
        <p:spPr>
          <a:xfrm>
            <a:off x="290880" y="3213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AutoShape 19"/>
          <p:cNvSpPr/>
          <p:nvPr/>
        </p:nvSpPr>
        <p:spPr>
          <a:xfrm rot="10476600">
            <a:off x="3058560" y="2276280"/>
            <a:ext cx="3824280" cy="1800000"/>
          </a:xfrm>
          <a:prstGeom prst="cloudCallout">
            <a:avLst>
              <a:gd name="adj1" fmla="val -74828"/>
              <a:gd name="adj2" fmla="val 86305"/>
            </a:avLst>
          </a:prstGeom>
          <a:solidFill>
            <a:srgbClr val="fae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20"/>
              <p:cNvSpPr txBox="1"/>
              <p:nvPr/>
            </p:nvSpPr>
            <p:spPr>
              <a:xfrm>
                <a:off x="3492360" y="3068640"/>
                <a:ext cx="1224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2" name="Text Box 21"/>
          <p:cNvSpPr/>
          <p:nvPr/>
        </p:nvSpPr>
        <p:spPr>
          <a:xfrm>
            <a:off x="290880" y="4941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AutoShape 22"/>
          <p:cNvSpPr/>
          <p:nvPr/>
        </p:nvSpPr>
        <p:spPr>
          <a:xfrm rot="14628000">
            <a:off x="4424040" y="3190320"/>
            <a:ext cx="3240360" cy="3440160"/>
          </a:xfrm>
          <a:prstGeom prst="cloudCallout">
            <a:avLst>
              <a:gd name="adj1" fmla="val 72888"/>
              <a:gd name="adj2" fmla="val 97032"/>
            </a:avLst>
          </a:prstGeom>
          <a:solidFill>
            <a:srgbClr val="a3f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3"/>
              <p:cNvSpPr txBox="1"/>
              <p:nvPr/>
            </p:nvSpPr>
            <p:spPr>
              <a:xfrm>
                <a:off x="4572000" y="4581360"/>
                <a:ext cx="216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AutoShape 24"/>
          <p:cNvSpPr/>
          <p:nvPr/>
        </p:nvSpPr>
        <p:spPr>
          <a:xfrm rot="10800000">
            <a:off x="4932000" y="2636280"/>
            <a:ext cx="4211640" cy="1871640"/>
          </a:xfrm>
          <a:prstGeom prst="cloudCallout">
            <a:avLst>
              <a:gd name="adj1" fmla="val -18453"/>
              <a:gd name="adj2" fmla="val 128708"/>
            </a:avLst>
          </a:prstGeom>
          <a:solidFill>
            <a:srgbClr val="fdc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5518800" y="3141720"/>
            <a:ext cx="321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b0319"/>
                </a:solidFill>
                <a:latin typeface="Monotype Corsiva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99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00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666600"/>
                </a:solidFill>
                <a:latin typeface="Monotype Corsiva"/>
              </a:rPr>
              <a:t>Упростите  выражение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250920" y="1459080"/>
                <a:ext cx="662616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Picture 15" descr="CBIZ038"/>
          <p:cNvPicPr/>
          <p:nvPr/>
        </p:nvPicPr>
        <p:blipFill>
          <a:blip r:embed="rId1"/>
          <a:stretch/>
        </p:blipFill>
        <p:spPr>
          <a:xfrm>
            <a:off x="826920" y="2938320"/>
            <a:ext cx="4672080" cy="3919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6"/>
          <p:cNvSpPr/>
          <p:nvPr/>
        </p:nvSpPr>
        <p:spPr>
          <a:xfrm>
            <a:off x="1763640" y="371628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625aa"/>
                </a:solidFill>
                <a:latin typeface="Monotype Corsiva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WordArt 17"/>
          <p:cNvSpPr txBox="1"/>
          <p:nvPr/>
        </p:nvSpPr>
        <p:spPr>
          <a:xfrm>
            <a:off x="5292720" y="2276640"/>
            <a:ext cx="367200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Отлично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00"/>
                </a:solidFill>
                <a:latin typeface="Monotype Corsiva"/>
              </a:rPr>
              <a:t>Самостоятельная  работ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а р и а н 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а р и а н 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№</a:t>
                      </a:r>
                      <a:r>
                        <a:rPr b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1  Вычислите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№</a:t>
                      </a:r>
                      <a:r>
                        <a:rPr b="1" i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2 Упростите  выражение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79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8"/>
              <p:cNvSpPr txBox="1"/>
              <p:nvPr/>
            </p:nvSpPr>
            <p:spPr>
              <a:xfrm>
                <a:off x="971640" y="2276640"/>
                <a:ext cx="230508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0,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0,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8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80"/>
              <p:cNvSpPr txBox="1"/>
              <p:nvPr/>
            </p:nvSpPr>
            <p:spPr>
              <a:xfrm>
                <a:off x="5292720" y="2421000"/>
                <a:ext cx="26640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0,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0,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,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8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85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84"/>
              <p:cNvSpPr txBox="1"/>
              <p:nvPr/>
            </p:nvSpPr>
            <p:spPr>
              <a:xfrm>
                <a:off x="0" y="4521240"/>
                <a:ext cx="4535640" cy="23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0,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3" name="Rectangle 88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87"/>
              <p:cNvSpPr txBox="1"/>
              <p:nvPr/>
            </p:nvSpPr>
            <p:spPr>
              <a:xfrm>
                <a:off x="4788000" y="4579920"/>
                <a:ext cx="435600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0,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0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00"/>
                </a:solidFill>
                <a:latin typeface="Monotype Corsiva"/>
              </a:rPr>
              <a:t>Домашнее  задание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7" name="Picture 8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173400" cy="5040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9"/>
          <p:cNvSpPr/>
          <p:nvPr/>
        </p:nvSpPr>
        <p:spPr>
          <a:xfrm>
            <a:off x="402120" y="2421000"/>
            <a:ext cx="355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628 (а, в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611280" y="335772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630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9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280360" cy="267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Monotype Corsiva"/>
              </a:rPr>
              <a:t>«Люди,  незнакомые  с  алгеброй,  не  могут  представить  себе  тех  удивительных  вещей,  которых  можно  достигнуть…  при  помощи  названной  науки».</a:t>
            </a:r>
            <a:br>
              <a:rPr sz="3600"/>
            </a:br>
            <a:r>
              <a:rPr b="1" i="1" lang="ru-RU" sz="3600" spc="-1" strike="noStrike">
                <a:solidFill>
                  <a:srgbClr val="cc9900"/>
                </a:solidFill>
                <a:latin typeface="Monotype Corsiva"/>
              </a:rPr>
              <a:t>Г.В.Лейбниц</a:t>
            </a:r>
            <a:r>
              <a:rPr b="1" i="1" lang="ru-RU" sz="2800" spc="-1" strike="noStrike">
                <a:solidFill>
                  <a:srgbClr val="cc9900"/>
                </a:solidFill>
                <a:latin typeface="Monotype Corsiva"/>
              </a:rPr>
              <a:t>  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784692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7720"/>
                </a:solidFill>
                <a:latin typeface="Monotype Corsiva"/>
              </a:rPr>
              <a:t>Алгебра  открывает  перед  нами  двери  в  лабораторный  комплек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80606"/>
                </a:solidFill>
                <a:latin typeface="Monotype Corsiva"/>
              </a:rPr>
              <a:t>«СТЕПЕНЬ  С  РАЦИОНАЛЬНЫМ  ПОКАЗАТЕЛЕМ»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9900"/>
                </a:solidFill>
                <a:uFillTx/>
                <a:latin typeface="Monotype Corsiva"/>
              </a:rPr>
              <a:t>Лаборатория  </a:t>
            </a:r>
            <a:r>
              <a:rPr b="1" i="1" lang="ru-RU" sz="4400" spc="-1" strike="noStrike" u="sng">
                <a:solidFill>
                  <a:srgbClr val="b80606"/>
                </a:solidFill>
                <a:uFillTx/>
                <a:latin typeface="Monotype Corsiva"/>
              </a:rPr>
              <a:t>«Основы»</a:t>
            </a:r>
            <a:r>
              <a:rPr b="1" i="1" lang="ru-RU" sz="4400" spc="-1" strike="noStrike" u="sng">
                <a:solidFill>
                  <a:srgbClr val="999900"/>
                </a:solidFill>
                <a:uFillTx/>
                <a:latin typeface="Monotype Corsiva"/>
              </a:rPr>
              <a:t>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7720"/>
                </a:solidFill>
                <a:latin typeface="Monotype Corsiva"/>
              </a:rPr>
              <a:t>Дайте  определение  степени  с  дробным  показателе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4031"/>
                </a:solidFill>
                <a:latin typeface="Monotype Corsiva"/>
              </a:rPr>
              <a:t>Для  какого  дробного  показателя  определена  степень  с  основанием  равным  нулю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9900"/>
                </a:solidFill>
                <a:latin typeface="Monotype Corsiva"/>
              </a:rPr>
              <a:t>Определяется  ли  степень  с  дробным  показателем  для  отрицательного  основания</a:t>
            </a:r>
            <a:r>
              <a:rPr b="1" i="1" lang="ru-RU" sz="3200" spc="-1" strike="noStrike">
                <a:solidFill>
                  <a:srgbClr val="999900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96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1.  Представьте  число  64  в  виде  степени  с  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          основанием  -2; 2; 8.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2.  Куб  какого  числа  равен  64?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3.  Представьте  число  64  в  виде  степени  с    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          рациональным  показателем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1403280" y="4005360"/>
            <a:ext cx="2138400" cy="1849320"/>
          </a:xfrm>
          <a:prstGeom prst="ellipse">
            <a:avLst/>
          </a:prstGeom>
          <a:solidFill>
            <a:srgbClr val="fffff3"/>
          </a:solidFill>
          <a:ln w="507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80606"/>
                </a:solidFill>
                <a:latin typeface="Monotype Corsiva"/>
              </a:rPr>
              <a:t>64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3132000" y="4005360"/>
            <a:ext cx="2232000" cy="576000"/>
          </a:xfrm>
          <a:prstGeom prst="line">
            <a:avLst/>
          </a:prstGeom>
          <a:ln w="414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364000" y="3573360"/>
            <a:ext cx="1800360" cy="62568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940360" y="3645000"/>
            <a:ext cx="7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2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7093080" y="4365720"/>
            <a:ext cx="180000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796000" y="551664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348000" y="595008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4"/>
          <p:cNvSpPr/>
          <p:nvPr/>
        </p:nvSpPr>
        <p:spPr>
          <a:xfrm flipV="1">
            <a:off x="3203640" y="4653000"/>
            <a:ext cx="3816360" cy="2887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7629480" y="443700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8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3203640" y="5300640"/>
            <a:ext cx="2592360" cy="504720"/>
          </a:xfrm>
          <a:prstGeom prst="line">
            <a:avLst/>
          </a:prstGeom>
          <a:ln w="4140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6405480" y="558972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4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2771640" y="5516640"/>
            <a:ext cx="576360" cy="720720"/>
          </a:xfrm>
          <a:prstGeom prst="line">
            <a:avLst/>
          </a:prstGeom>
          <a:ln w="4140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3441240" y="5950080"/>
            <a:ext cx="17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4096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179280" y="595008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23"/>
          <p:cNvSpPr/>
          <p:nvPr/>
        </p:nvSpPr>
        <p:spPr>
          <a:xfrm flipH="1">
            <a:off x="684000" y="5229360"/>
            <a:ext cx="1223640" cy="72072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73960" y="59500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( - 2 )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едставьте  степень  с  дробным  показателем  в  виде  корня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692360" y="1557360"/>
                <a:ext cx="1081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1692360" y="2637000"/>
                <a:ext cx="12207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1619280" y="4005360"/>
                <a:ext cx="16002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1,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1835280" y="4437000"/>
                <a:ext cx="14605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1763640" y="5445000"/>
                <a:ext cx="23050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 Box 13"/>
          <p:cNvSpPr/>
          <p:nvPr/>
        </p:nvSpPr>
        <p:spPr>
          <a:xfrm>
            <a:off x="1082880" y="1989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5"/>
              <p:cNvSpPr txBox="1"/>
              <p:nvPr/>
            </p:nvSpPr>
            <p:spPr>
              <a:xfrm>
                <a:off x="2916360" y="1773360"/>
                <a:ext cx="934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4" name="Text Box 16"/>
          <p:cNvSpPr/>
          <p:nvPr/>
        </p:nvSpPr>
        <p:spPr>
          <a:xfrm>
            <a:off x="1116000" y="2924280"/>
            <a:ext cx="4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3059280" y="2781360"/>
                <a:ext cx="17269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 Box 18"/>
          <p:cNvSpPr/>
          <p:nvPr/>
        </p:nvSpPr>
        <p:spPr>
          <a:xfrm>
            <a:off x="1082880" y="4076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2688480" y="4149720"/>
            <a:ext cx="39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не  имеет  смысл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1082880" y="5013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1"/>
              <p:cNvSpPr txBox="1"/>
              <p:nvPr/>
            </p:nvSpPr>
            <p:spPr>
              <a:xfrm>
                <a:off x="3419640" y="4724280"/>
                <a:ext cx="11523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0" name="Text Box 22"/>
          <p:cNvSpPr/>
          <p:nvPr/>
        </p:nvSpPr>
        <p:spPr>
          <a:xfrm>
            <a:off x="1082880" y="5877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3"/>
              <p:cNvSpPr txBox="1"/>
              <p:nvPr/>
            </p:nvSpPr>
            <p:spPr>
              <a:xfrm>
                <a:off x="4140360" y="5516640"/>
                <a:ext cx="21603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едставьте  в  виде  степени  с  дробным  показателем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2195640" y="1916280"/>
                <a:ext cx="1152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2340000" y="2637000"/>
                <a:ext cx="15112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9</m:t>
                        </m:r>
                      </m:deg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2195640" y="3429000"/>
                <a:ext cx="11808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2195640" y="4724280"/>
                <a:ext cx="15127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2"/>
              <p:cNvSpPr txBox="1"/>
              <p:nvPr/>
            </p:nvSpPr>
            <p:spPr>
              <a:xfrm>
                <a:off x="2268360" y="5589720"/>
                <a:ext cx="23767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3"/>
          <p:cNvSpPr/>
          <p:nvPr/>
        </p:nvSpPr>
        <p:spPr>
          <a:xfrm>
            <a:off x="1659240" y="2060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4"/>
              <p:cNvSpPr txBox="1"/>
              <p:nvPr/>
            </p:nvSpPr>
            <p:spPr>
              <a:xfrm>
                <a:off x="3348000" y="1628640"/>
                <a:ext cx="6303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Text Box 15"/>
          <p:cNvSpPr/>
          <p:nvPr/>
        </p:nvSpPr>
        <p:spPr>
          <a:xfrm>
            <a:off x="1659240" y="29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6"/>
              <p:cNvSpPr txBox="1"/>
              <p:nvPr/>
            </p:nvSpPr>
            <p:spPr>
              <a:xfrm>
                <a:off x="3924360" y="2492280"/>
                <a:ext cx="6811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Text Box 18"/>
          <p:cNvSpPr/>
          <p:nvPr/>
        </p:nvSpPr>
        <p:spPr>
          <a:xfrm>
            <a:off x="1692360" y="3860640"/>
            <a:ext cx="4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9"/>
              <p:cNvSpPr txBox="1"/>
              <p:nvPr/>
            </p:nvSpPr>
            <p:spPr>
              <a:xfrm>
                <a:off x="3708360" y="3429000"/>
                <a:ext cx="12463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" name="Text Box 20"/>
          <p:cNvSpPr/>
          <p:nvPr/>
        </p:nvSpPr>
        <p:spPr>
          <a:xfrm>
            <a:off x="1659240" y="4869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3851280" y="4437000"/>
                <a:ext cx="25210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1,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7" name="Text Box 22"/>
          <p:cNvSpPr/>
          <p:nvPr/>
        </p:nvSpPr>
        <p:spPr>
          <a:xfrm>
            <a:off x="1659240" y="58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3"/>
              <p:cNvSpPr txBox="1"/>
              <p:nvPr/>
            </p:nvSpPr>
            <p:spPr>
              <a:xfrm>
                <a:off x="4643280" y="5516640"/>
                <a:ext cx="3888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1,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9" name="Picture 24" descr="CRCTR142"/>
          <p:cNvPicPr/>
          <p:nvPr/>
        </p:nvPicPr>
        <p:blipFill>
          <a:blip r:embed="rId1"/>
          <a:stretch/>
        </p:blipFill>
        <p:spPr>
          <a:xfrm>
            <a:off x="6464160" y="1628640"/>
            <a:ext cx="2679840" cy="3240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999900"/>
                </a:solidFill>
                <a:uFillTx/>
                <a:latin typeface="Monotype Corsiva"/>
              </a:rPr>
              <a:t>Лаборатория  </a:t>
            </a:r>
            <a:br>
              <a:rPr sz="4000"/>
            </a:br>
            <a:r>
              <a:rPr b="1" i="1" lang="ru-RU" sz="4000" spc="-1" strike="noStrike" u="sng">
                <a:solidFill>
                  <a:srgbClr val="b80606"/>
                </a:solidFill>
                <a:uFillTx/>
                <a:latin typeface="Monotype Corsiva"/>
              </a:rPr>
              <a:t>«Действия  над  степенями»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9900"/>
                </a:solidFill>
                <a:uFillTx/>
                <a:latin typeface="Monotype Corsiva"/>
              </a:rPr>
              <a:t>Возьмите  на  заметку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Расстояние  от  Земли  до  туманности  Андромеды  выражается  число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95000000000000000000 = 95 </a:t>
            </a:r>
            <a:r>
              <a:rPr b="1" i="1" lang="el-GR" sz="3200" spc="-1" strike="noStrike">
                <a:solidFill>
                  <a:srgbClr val="06060a"/>
                </a:solidFill>
                <a:latin typeface="Monotype Corsiva"/>
              </a:rPr>
              <a:t>·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10 </a:t>
            </a:r>
            <a:r>
              <a:rPr b="1" i="1" lang="ru-RU" sz="3200" spc="-1" strike="noStrike" baseline="30000">
                <a:solidFill>
                  <a:srgbClr val="06060a"/>
                </a:solidFill>
                <a:latin typeface="Monotype Corsiva"/>
              </a:rPr>
              <a:t>18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,  оно  называется  </a:t>
            </a: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квинтилли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Масса  Солнца  в  граммах  выражается  числом  1983 </a:t>
            </a:r>
            <a:r>
              <a:rPr b="1" i="1" lang="el-GR" sz="3200" spc="-1" strike="noStrike">
                <a:solidFill>
                  <a:srgbClr val="5544b8"/>
                </a:solidFill>
                <a:latin typeface="Monotype Corsiva"/>
              </a:rPr>
              <a:t>·</a:t>
            </a: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 10 </a:t>
            </a:r>
            <a:r>
              <a:rPr b="1" i="1" lang="ru-RU" sz="3200" spc="-1" strike="noStrike" baseline="30000">
                <a:solidFill>
                  <a:srgbClr val="5544b8"/>
                </a:solidFill>
                <a:latin typeface="Monotype Corsiva"/>
              </a:rPr>
              <a:t>30  </a:t>
            </a: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гр. – </a:t>
            </a: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нональ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Monotype Corsiv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Упростите выражения  и  вычислите  их  значения,  применяя  свойства  степени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5" name="Picture 4" descr="CBIZ098"/>
          <p:cNvPicPr/>
          <p:nvPr/>
        </p:nvPicPr>
        <p:blipFill>
          <a:blip r:embed="rId1"/>
          <a:stretch/>
        </p:blipFill>
        <p:spPr>
          <a:xfrm>
            <a:off x="0" y="2997360"/>
            <a:ext cx="2165400" cy="363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3564000" y="2205000"/>
                <a:ext cx="1954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4"/>
              <p:cNvSpPr txBox="1"/>
              <p:nvPr/>
            </p:nvSpPr>
            <p:spPr>
              <a:xfrm>
                <a:off x="3635280" y="3645000"/>
                <a:ext cx="28418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Text Box 6"/>
          <p:cNvSpPr/>
          <p:nvPr/>
        </p:nvSpPr>
        <p:spPr>
          <a:xfrm>
            <a:off x="3026160" y="256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5508720" y="2276640"/>
            <a:ext cx="1214280" cy="1214280"/>
          </a:xfrm>
          <a:prstGeom prst="diamond">
            <a:avLst/>
          </a:prstGeom>
          <a:solidFill>
            <a:srgbClr val="abf7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3026160" y="40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6"/>
              <p:cNvSpPr txBox="1"/>
              <p:nvPr/>
            </p:nvSpPr>
            <p:spPr>
              <a:xfrm>
                <a:off x="5867280" y="2276640"/>
                <a:ext cx="4320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AutoShape 18"/>
          <p:cNvSpPr/>
          <p:nvPr/>
        </p:nvSpPr>
        <p:spPr>
          <a:xfrm>
            <a:off x="6443640" y="3716280"/>
            <a:ext cx="1214640" cy="1214640"/>
          </a:xfrm>
          <a:prstGeom prst="diamond">
            <a:avLst/>
          </a:prstGeom>
          <a:solidFill>
            <a:srgbClr val="fae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6588000" y="40053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60a"/>
                </a:solidFill>
                <a:latin typeface="Times New Roman"/>
              </a:rPr>
              <a:t>12,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026160" y="5445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3635280" y="4954680"/>
                <a:ext cx="3313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AutoShape 23"/>
          <p:cNvSpPr/>
          <p:nvPr/>
        </p:nvSpPr>
        <p:spPr>
          <a:xfrm>
            <a:off x="6948360" y="5157720"/>
            <a:ext cx="1214640" cy="1214640"/>
          </a:xfrm>
          <a:prstGeom prst="diamond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7381440" y="54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60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7640" y="98064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именяя  свойства  степеней сравните  выражения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0" name="Picture 4" descr="PROGR038"/>
          <p:cNvPicPr/>
          <p:nvPr/>
        </p:nvPicPr>
        <p:blipFill>
          <a:blip r:embed="rId1"/>
          <a:stretch/>
        </p:blipFill>
        <p:spPr>
          <a:xfrm>
            <a:off x="179280" y="561960"/>
            <a:ext cx="3327480" cy="3324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4952880" y="2079720"/>
                <a:ext cx="320220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и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1"/>
              <p:cNvSpPr txBox="1"/>
              <p:nvPr/>
            </p:nvSpPr>
            <p:spPr>
              <a:xfrm>
                <a:off x="5029200" y="4040280"/>
                <a:ext cx="2058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и  8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Text Box 6"/>
          <p:cNvSpPr/>
          <p:nvPr/>
        </p:nvSpPr>
        <p:spPr>
          <a:xfrm>
            <a:off x="4178520" y="29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400560" y="3616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178520" y="4365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3"/>
              <p:cNvSpPr txBox="1"/>
              <p:nvPr/>
            </p:nvSpPr>
            <p:spPr>
              <a:xfrm>
                <a:off x="4968720" y="5477040"/>
                <a:ext cx="2519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и  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7" name="Text Box 15"/>
          <p:cNvSpPr/>
          <p:nvPr/>
        </p:nvSpPr>
        <p:spPr>
          <a:xfrm>
            <a:off x="4178520" y="5661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5651640" y="4292640"/>
            <a:ext cx="72072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6012000" y="2852640"/>
            <a:ext cx="79200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5796000" y="5661000"/>
            <a:ext cx="72072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23:46:37Z</dcterms:created>
  <dc:creator>Марина</dc:creator>
  <dc:description/>
  <dc:language>en-US</dc:language>
  <cp:lastModifiedBy>LEGION</cp:lastModifiedBy>
  <dcterms:modified xsi:type="dcterms:W3CDTF">2015-01-26T12:35:35Z</dcterms:modified>
  <cp:revision>12</cp:revision>
  <dc:subject/>
  <dc:title>Степень с рациональным показателем и ее свойства.</dc:title>
</cp:coreProperties>
</file>