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7AD7-648C-46C4-BCBC-D5566E387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Организация процесса самообразования в педагогической деятельности учителя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Автор: заместитель директора по методической работе Гаврилова А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8CE5-3D2C-4F22-AC18-7EF11714FF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5 этап – выбор формы самообразования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самообразования можно условно поделить на две группы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6D3F-FE03-4B09-8B19-23A220077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этап – составление плана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лане указы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т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выполнения каждого этап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и мероприятия, проводимые в процессе работы над 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емонстрации результат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тчета п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1DA4-5B86-4F65-A4E5-A88AB592A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7 этап – определение результата самообразов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ы результа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, выступл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дидактических материалов, тестов, нагляд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акета тестового материала в электро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2BBC-2D1D-45CE-B494-408A58F77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8 этап – анализ и оценка деятельности в процессе самообразования, подготовка отче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ми отчетных работ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отчетной докум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и результатов работ перед педагогическ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6B40-2044-4C29-9BA6-DC77A7E7E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и само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Газеты, журнал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Литература (методическая, научно-популярная, публицистическая, художественная и др.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Интерн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Видео, аудио информация на различных носителя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латные кур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Семинары и конферен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астер-клас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ероприятия по обмену опы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Экскурсии, театры, выставки, музеи, концер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рсы повышения квалифик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утешеств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45E5-4AF9-48B0-91C4-EE85806D1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9210-D144-496F-917C-B8AF2F9F6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2ED3-1C91-40CC-98BD-02104598E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амообразование учите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088E-3696-4197-903D-550D7F40E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отребности, мотивы, побуждающие учителя к самообразованию 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2479-FB51-4F64-AD8D-AFAB8DAE94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 этап – выбор направления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-компьютер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5AA0-41B2-4F3B-9BC5-CCEBA396D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этап – выбор темы самообразования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активные методики на уроках 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проектного метода обуч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развития критического мышления через чтение и письм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КТ на уроках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доровьесберегающие технолог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ртфолио учителя и учащих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грированные уро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ды контроля за знаниями учащихся, усовершенствование форм и методов контрол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бота с одаренными детьм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фференцированное 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1F4-00F5-4AE9-B3C9-89603B7AD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 этап – формулировка цели и задач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своей эрудиции, правовой и обще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педагогиче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своих знаний в области педагогическ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цель должна звучать емко, отражать и уточнять тему самообраз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самообразования – это шаги по достижению цели сам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9B59-3B5C-452F-8170-FF8603F1B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4 этап – определение круга источников информации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еты, журнал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тература (методическая, научно-популярная, публицистическая, художественная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сети Интерн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ео, аудио информация на различных нос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е кур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 и конферен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о обмену опыто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, театры, выставки, музеи, конце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колле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98DC-5ABF-4815-A796-CECC77B89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512-8A1E-4463-A3E0-633BCFCC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16D-24AD-428C-B730-F02E9442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A4B-FDC4-428F-8700-2FF43F89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052-706B-4326-86D1-B88341A9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AC9-A3DA-44CC-8E07-66BB7BEF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C02-4F06-4031-9FDC-56B1A9BF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6E3-4A15-4C8E-B8C7-1C5940C5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F8E-DACE-47A9-8816-6632098C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624-8A6C-4CDE-8F28-9002EE42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5AF-05E2-4C08-86BA-17EA1D15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987-6FEB-4114-9778-43067FCE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C69-C1B3-49AF-8E6D-E7CB0D8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1155-910E-4491-A233-E0262B259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рганизация процесса самообразования в педагогической деятельности учителя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заместитель директора по методической работе Гаврил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 этап – выбор формы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ормы самообразования можно условно поделить на две группы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72240" y="542916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этап – составление плана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ане указ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858080" y="5500800"/>
            <a:ext cx="81936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 этап – определение результата само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928800"/>
            <a:ext cx="8472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ы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, высту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дидактических материалов, тестов, нагля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акета тестового материала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001000" y="5643720"/>
            <a:ext cx="89064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 этап – анализ и оценка деятельности в процессе самообразования, подготовка отч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отчетных работ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оп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отче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00960" y="550080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точник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Газеты, журн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Литература (методическая, научно-популярная, публицистическая, художественная и др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нтерн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идео, аудио информация на различных носител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латные 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еминары и конферен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астер-клас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ероприятия по обмену опы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кскурсии, театры, выставки, музеи, концер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утеше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571840" y="4429080"/>
            <a:ext cx="27144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Администратор\Мои документы\Мои рисунки\картинки\CLIPART\image023.gif"/>
          <p:cNvPicPr/>
          <p:nvPr/>
        </p:nvPicPr>
        <p:blipFill>
          <a:blip r:embed="rId1"/>
          <a:stretch/>
        </p:blipFill>
        <p:spPr>
          <a:xfrm>
            <a:off x="8001000" y="214200"/>
            <a:ext cx="719280" cy="714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амообразование уч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требности, мотивы, побуждающие учителя к самообразованию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этап – выбор направления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197000"/>
            <a:ext cx="86104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о-педаг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компьютерные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Администратор\Мои документы\Мои рисунки\картинки\CLIPART\ресурсы\Анимированные рисунки\Люди\Работа, профессии\business_laptop.gif"/>
          <p:cNvPicPr/>
          <p:nvPr/>
        </p:nvPicPr>
        <p:blipFill>
          <a:blip r:embed="rId1"/>
          <a:stretch/>
        </p:blipFill>
        <p:spPr>
          <a:xfrm>
            <a:off x="7858080" y="5357880"/>
            <a:ext cx="857160" cy="7333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этап – выбор темы самообразования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72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активные методики на уроках 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проектного метода обуч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через чтение и письм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КТ на уроках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учителя и учащихс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грированные уро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иды контроля за знаниями учащихся, усовершенствование форм и методов контрол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та с одаренными деть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фференцированное обуч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 этап – формулировка цели и задач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ровня своей эрудиции, правовой и обще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своих знаний в области педагогическ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цель должна звучать емко, отражать и уточнять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самообразования – это шаги по достижению цели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715160" y="5286240"/>
            <a:ext cx="1176480" cy="9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 этап – определение круга источников информ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зеты, журн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ература (методическая, научно-популярная, публицистическая, художественна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сети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ео, аудио информация на различных носит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ные кур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 и 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о обмену опы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, театры, выставки, музеи, конце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и колле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786800" y="5143680"/>
            <a:ext cx="804600" cy="11286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LEGION</cp:lastModifiedBy>
  <dcterms:modified xsi:type="dcterms:W3CDTF">2015-01-26T13:55:29Z</dcterms:modified>
  <cp:revision>16</cp:revision>
  <dc:subject/>
  <dc:title> «Организация процесса самообразования в педагогической деятельности учителя»  </dc:title>
</cp:coreProperties>
</file>