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1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32AB-2DB4-4432-8CE4-06E25AED5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Организация процесса самообразования в педагогической деятельности учителя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Автор: заместитель директора по методической работе Гаврилова А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2E8D-9776-4AD6-A9A1-05834DBA8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5 этап – выбор формы самообразования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самообразования можно условно поделить на две группы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6DCE-F1FC-41E2-9526-A443FCF5C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6 этап – составление плана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лане указы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т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мы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выполнения каждого этап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и мероприятия, проводимые в процессе работы над 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емонстрации результат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тчета п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D254-B898-4DCD-9BBD-A6CADBCDC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7 этап – определение результата самообразов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ы результа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, выступл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дидактических материалов, тестов, нагляд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акета тестового материала в электро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301D-AE0A-4D7B-8F95-DB4BF13A2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8 этап – анализ и оценка деятельности в процессе самообразования, подготовка отче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ми отчетных работ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опы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отчетной докум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и результатов работ перед педагогическ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52F3-AEB9-43C1-B050-8D67BE3D7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чники само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Газеты, журнал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Литература (методическая, научно-популярная, публицистическая, художественная и др.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Интерн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Видео, аудио информация на различных носителя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латные кур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Семинары и конферен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астер-клас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ероприятия по обмену опы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Экскурсии, театры, выставки, музеи, концер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рсы повышения квалифик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утешеств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0EF3-2B40-48B1-A485-E8CD72B1A1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Дистерв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95C3-FBBF-411C-B417-68A91705EE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9EBB-95D5-45F1-A461-811703D8B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амообразование учител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2B21-D0FA-4216-8035-DB60D12CE3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Потребности, мотивы, побуждающие учителя к самообразованию 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C797-8CEC-4780-84DC-838E3459B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 этап – выбор направления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-компьютер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2EF4-7463-4D6D-BE9D-36493867AF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2 этап – выбор темы самообразования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активные методики на уроках 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проектного метода обучени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развития критического мышления через чтение и письм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КТ на уроках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доровьесберегающие технологи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ртфолио учителя и учащих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грированные уро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ды контроля за знаниями учащихся, усовершенствование форм и методов контрол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бота с одаренными детьм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ифференцированное 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0EB9-0F5D-4663-9884-946A96E2B1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3 этап – формулировка цели и задач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своей эрудиции, правовой и обще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педагогиче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своих знаний в области педагогическ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этом цель должна звучать емко, отражать и уточнять тему самообразо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самообразования – это шаги по достижению цели сам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EC67-D158-447F-973F-DCDBBECA4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4 этап – определение круга источников информации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еты, журнал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тература (методическая, научно-популярная, публицистическая, художественная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сети Интерн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ео, аудио информация на различных нос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е кур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ы и конферен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о обмену опыто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, театры, выставки, музеи, конце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колле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5380-6EE8-4F71-89CE-19F5AB5306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4BD-872A-4980-AC8E-DE1F05EA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199-E47C-497A-AADB-64D20B35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E0C-791A-410A-A166-FCFC25B8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CAE-0159-4F39-8848-45E1E4FF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101-4E91-4C1E-AB6D-D69A0744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96A-8B04-456B-8A50-8429A526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F83-A1B7-4CB5-881B-FC0886EF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BA5-D76F-4798-8748-6D9CB0B7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A1E-96EC-4681-87D9-917B1738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A10-EF1C-41D7-A50C-22DB612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AA2-A9A6-4F23-97A8-478271CC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612-531C-4970-8CB6-4FD0139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2581-8686-477E-B1AC-CA485FF92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рганизация процесса самообразования в педагогической деятельности учителя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заместитель директора по методической работе Гаврил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5 этап – выбор формы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формы самообразования можно условно поделить на две группы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572240" y="5429160"/>
            <a:ext cx="981360" cy="838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 этап – составление плана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ане указыв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мый 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выполнения каждого э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и мероприятия, проводимые в процессе работы над те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демонстрации результата проделан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отчета по проделан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858080" y="5500800"/>
            <a:ext cx="81936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7 этап – определение результата само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928800"/>
            <a:ext cx="8472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ы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ы, выступ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дидактических материалов, тестов, нагляд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акета тестового материала в электро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001000" y="5643720"/>
            <a:ext cx="890640" cy="919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 этап – анализ и оценка деятельности в процессе самообразования, подготовка отче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ми отчетных работ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опы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анализ отчетной докумен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и результатов работ перед педагогическим коллект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00960" y="550080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точники само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Газеты, журн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Литература (методическая, научно-популярная, публицистическая, художественная и др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нтерн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идео, аудио информация на различных носителя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латные кур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Семинары и конферен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астер-клас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ероприятия по обмену опы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Экскурсии, театры, выставки, музеи, концер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утешестви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571840" y="4429080"/>
            <a:ext cx="2714400" cy="1928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Администратор\Мои документы\Мои рисунки\картинки\CLIPART\image023.gif"/>
          <p:cNvPicPr/>
          <p:nvPr/>
        </p:nvPicPr>
        <p:blipFill>
          <a:blip r:embed="rId1"/>
          <a:stretch/>
        </p:blipFill>
        <p:spPr>
          <a:xfrm>
            <a:off x="8001000" y="214200"/>
            <a:ext cx="719280" cy="714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амообразование уч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7572240" y="5072040"/>
            <a:ext cx="96516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требности, мотивы, побуждающие учителя к самообразованию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этап – выбор направления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197000"/>
            <a:ext cx="86104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о-педаг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-компьютерные технолог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Администратор\Мои документы\Мои рисунки\картинки\CLIPART\ресурсы\Анимированные рисунки\Люди\Работа, профессии\business_laptop.gif"/>
          <p:cNvPicPr/>
          <p:nvPr/>
        </p:nvPicPr>
        <p:blipFill>
          <a:blip r:embed="rId1"/>
          <a:stretch/>
        </p:blipFill>
        <p:spPr>
          <a:xfrm>
            <a:off x="7858080" y="5357880"/>
            <a:ext cx="857160" cy="7333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 этап – выбор темы самообразования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72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рактивные методики на уроках 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проектного метода обуч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развития критического мышления через чтение и письм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КТ на уроках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ртфолио учителя и учащихс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грированные уро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иды контроля за знаниями учащихся, усовершенствование форм и методов контрол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бота с одаренными деть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фференцированное обуч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 этап – формулировка цели и задач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уровня своей эрудиции, правовой и обще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педагогическ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своих знаний в области педагогической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цель должна звучать емко, отражать и уточнять тему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самообразования – это шаги по достижению цели само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Documents and Settings\Администратор\Мои документы\Мои рисунки\картинки\CLIPART\ресурсы\Анимированные рисунки\Люди\За компьютером\computador05.gif"/>
          <p:cNvPicPr/>
          <p:nvPr/>
        </p:nvPicPr>
        <p:blipFill>
          <a:blip r:embed="rId1"/>
          <a:stretch/>
        </p:blipFill>
        <p:spPr>
          <a:xfrm>
            <a:off x="7715160" y="5286240"/>
            <a:ext cx="1176480" cy="9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72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 этап – определение круга источников информации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119700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зеты, журн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тература (методическая, научно-популярная, публицистическая, художественна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сети Интер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ео, аудио информация на различных носит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ные кур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 и конфере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-клас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приятия по обмену опы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, театры, выставки, музеи, конце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ы повышения квалифик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и колле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786800" y="5143680"/>
            <a:ext cx="804600" cy="11286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LEGION</cp:lastModifiedBy>
  <dcterms:modified xsi:type="dcterms:W3CDTF">2015-01-26T13:55:29Z</dcterms:modified>
  <cp:revision>16</cp:revision>
  <dc:subject/>
  <dc:title> «Организация процесса самообразования в педагогической деятельности учителя»  </dc:title>
</cp:coreProperties>
</file>