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1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CA22-9097-417E-A6E1-30CD2B9243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Организация процесса самообразования в педагогической деятельности учителя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Автор: заместитель директора по методической работе Гаврилова А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A619-F8D3-4118-8C36-BBBE25F62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5 этап – выбор формы самообразования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самообразования можно условно поделить на две группы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A28E-07E0-452A-9485-4351921E2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6 этап – составление плана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лане указы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т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мы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выполнения каждого этап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и мероприятия, проводимые в процессе работы над 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емонстрации результат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тчета п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CF4D-812F-4768-A872-8A42C3E452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7 этап – определение результата самообразов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ы результа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, выступл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дидактических материалов, тестов, нагляд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акета тестового материала в электро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0EA5-DFB8-478D-BA3D-5D7F254018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8 этап – анализ и оценка деятельности в процессе самообразования, подготовка отче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ми отчетных работ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опы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отчетной докум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и результатов работ перед педагогическ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8F72-7083-495C-9E8B-0B2FFE19C6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чники само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Газеты, журнал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Литература (методическая, научно-популярная, публицистическая, художественная и др.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Интерн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Видео, аудио информация на различных носителя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латные кур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Семинары и конферен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астер-клас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ероприятия по обмену опы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Экскурсии, театры, выставки, музеи, концер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рсы повышения квалифик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утешеств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7365-3F20-4BE6-AF58-9EA7D1F590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Дистерв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2BAD-C17A-4EB4-BDFE-DD15C1894E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AB13-8CC4-49A6-8C79-F220CB948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амообразование учител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96ED-19D8-484D-8995-6CB7E2BF9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Потребности, мотивы, побуждающие учителя к самообразованию 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4617-9321-4A3A-BFBA-39C68176C3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 этап – выбор направления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-компьютер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8714-5B74-4C9C-B836-B38DB6656E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2 этап – выбор темы самообразования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активные методики на уроках 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проектного метода обучени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развития критического мышления через чтение и письм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КТ на уроках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доровьесберегающие технологи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ртфолио учителя и учащих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грированные уро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ды контроля за знаниями учащихся, усовершенствование форм и методов контрол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бота с одаренными детьм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ифференцированное 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0736-BAD9-4797-AE85-1ABC41AA8F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3 этап – формулировка цели и задач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своей эрудиции, правовой и обще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педагогиче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своих знаний в области педагогическ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этом цель должна звучать емко, отражать и уточнять тему самообразо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самообразования – это шаги по достижению цели сам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2228-C07B-4D71-87F0-5884613D6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4 этап – определение круга источников информации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еты, журнал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тература (методическая, научно-популярная, публицистическая, художественная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сети Интерн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ео, аудио информация на различных нос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е кур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ы и конферен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о обмену опыто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, театры, выставки, музеи, конце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колле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49A-1060-4F37-AE2C-D15ECEFCA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86E-B74A-4AA6-B3C0-FC962E09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99B-A3FF-4873-B57B-1EB07651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A88-1431-4F1C-8256-31B4F078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D4C-E29E-4E30-A152-F3913773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F47-F27E-41E7-A991-F34D8F00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C87-2B59-449B-B497-002BCDDD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8AF-33E9-4493-B159-C1562A95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CF5-00B6-47FB-826D-76DA5FF8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D37-BA88-4041-AED3-CF4A05D4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1BC-8D73-4012-B417-11689E8F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396-2FDB-4C29-8F46-A74F3CF3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1B1-1888-4ED9-ADA0-49331BB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2B63-207B-403C-9C2F-27EBF0AC1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рганизация процесса самообразования в педагогической деятельности учителя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заместитель директора по методической работе Гаврил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5 этап – выбор формы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формы самообразования можно условно поделить на две группы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572240" y="5429160"/>
            <a:ext cx="981360" cy="838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 этап – составление плана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ане указыв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мый 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выполнения каждого э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и мероприятия, проводимые в процессе работы над те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демонстрации результата проделан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отчета по проделан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858080" y="5500800"/>
            <a:ext cx="81936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7 этап – определение результата само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928800"/>
            <a:ext cx="8472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ы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ы, выступ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дидактических материалов, тестов, нагляд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акета тестового материала в электро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001000" y="5643720"/>
            <a:ext cx="890640" cy="919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 этап – анализ и оценка деятельности в процессе самообразования, подготовка отче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ми отчетных работ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опы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анализ отчетной докумен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и результатов работ перед педагогическим коллект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00960" y="550080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точники само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Газеты, журн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Литература (методическая, научно-популярная, публицистическая, художественная и др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нтерн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идео, аудио информация на различных носителя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латные кур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Семинары и конферен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астер-клас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ероприятия по обмену опы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Экскурсии, театры, выставки, музеи, концер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утешестви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571840" y="4429080"/>
            <a:ext cx="2714400" cy="1928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Администратор\Мои документы\Мои рисунки\картинки\CLIPART\image023.gif"/>
          <p:cNvPicPr/>
          <p:nvPr/>
        </p:nvPicPr>
        <p:blipFill>
          <a:blip r:embed="rId1"/>
          <a:stretch/>
        </p:blipFill>
        <p:spPr>
          <a:xfrm>
            <a:off x="8001000" y="214200"/>
            <a:ext cx="719280" cy="714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амообразование уч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7572240" y="5072040"/>
            <a:ext cx="96516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требности, мотивы, побуждающие учителя к самообразованию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этап – выбор направления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197000"/>
            <a:ext cx="86104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о-педаг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-компьютерные технолог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Администратор\Мои документы\Мои рисунки\картинки\CLIPART\ресурсы\Анимированные рисунки\Люди\Работа, профессии\business_laptop.gif"/>
          <p:cNvPicPr/>
          <p:nvPr/>
        </p:nvPicPr>
        <p:blipFill>
          <a:blip r:embed="rId1"/>
          <a:stretch/>
        </p:blipFill>
        <p:spPr>
          <a:xfrm>
            <a:off x="7858080" y="5357880"/>
            <a:ext cx="857160" cy="7333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 этап – выбор темы самообразования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72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рактивные методики на уроках 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проектного метода обуч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развития критического мышления через чтение и письм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КТ на уроках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ртфолио учителя и учащихс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грированные уро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иды контроля за знаниями учащихся, усовершенствование форм и методов контрол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бота с одаренными деть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фференцированное обуч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 этап – формулировка цели и задач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уровня своей эрудиции, правовой и обще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педагогическ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своих знаний в области педагогической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цель должна звучать емко, отражать и уточнять тему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самообразования – это шаги по достижению цели само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Documents and Settings\Администратор\Мои документы\Мои рисунки\картинки\CLIPART\ресурсы\Анимированные рисунки\Люди\За компьютером\computador05.gif"/>
          <p:cNvPicPr/>
          <p:nvPr/>
        </p:nvPicPr>
        <p:blipFill>
          <a:blip r:embed="rId1"/>
          <a:stretch/>
        </p:blipFill>
        <p:spPr>
          <a:xfrm>
            <a:off x="7715160" y="5286240"/>
            <a:ext cx="1176480" cy="9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72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 этап – определение круга источников информации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119700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зеты, журн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тература (методическая, научно-популярная, публицистическая, художественна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сети Интер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ео, аудио информация на различных носит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ные кур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 и конфере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-клас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приятия по обмену опы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, театры, выставки, музеи, конце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ы повышения квалифик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и колле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786800" y="5143680"/>
            <a:ext cx="804600" cy="11286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LEGION</cp:lastModifiedBy>
  <dcterms:modified xsi:type="dcterms:W3CDTF">2015-01-26T13:55:29Z</dcterms:modified>
  <cp:revision>16</cp:revision>
  <dc:subject/>
  <dc:title> «Организация процесса самообразования в педагогической деятельности учителя»  </dc:title>
</cp:coreProperties>
</file>