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1.png" ContentType="image/png"/>
  <Override PartName="/ppt/media/image12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AFF1-9DC7-45AA-AD2D-990EC46DE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Организация процесса самообразования в педагогической деятельности учителя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alibri"/>
              </a:rPr>
              <a:t>Автор: заместитель директора по методической работе Гаврилова А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278A-C35C-4980-B6E0-38B2C6E5D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5 этап – выбор формы самообразования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самообразования можно условно поделить на две группы: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ая и группо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3000-BF2C-44FF-861A-10396FEF6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6 этап – составление плана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лане указы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ие тем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мы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абот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выполнения каждого этап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 и мероприятия, проводимые в процессе работы над тем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емонстрации результата проделанной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тчета п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3085-7F5A-4DC6-B1F2-4EA9687670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7 этап – определение результата самообразов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ы результат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ы, выступлени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дидактических материалов, тестов, нагляд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акета тестового материала в электро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6D80-408D-49B8-BAAF-08624ACF91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8 этап – анализ и оценка деятельности в процессе самообразования, подготовка отче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ми отчетных работ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опы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отчетной докумен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и результатов работ перед педагогическ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CEB-0C53-425E-9BBD-818C672F1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сточники само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Газеты, журнал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Литература (методическая, научно-популярная, публицистическая, художественная и др.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Интерн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Видео, аудио информация на различных носителя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латные кур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Семинары и конферен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астер-клас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Мероприятия по обмену опыт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Экскурсии, театры, выставки, музеи, концер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Курсы повышения квалифик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Путешествия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149-1977-4754-B22A-BBCE67383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Дистерв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3362-6A58-4E02-9815-2798E8328C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CD1D-45C7-4E86-BB09-14FF4C877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Самообразование учител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B86-CF3E-4324-AA20-66A529330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alibri"/>
              </a:rPr>
              <a:t>Потребности, мотивы, побуждающие учителя к самообразованию 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1B2-3A3D-44E2-ACF4-4CF8DC2AF2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1 этап – выбор направления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о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о-педаг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-компьютер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сбере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е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19D-1A5D-42DD-A5F7-17CF74720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Calibri"/>
              </a:rPr>
              <a:t>2 этап – выбор темы самообразования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рактивные методики на уроках 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проектного метода обучени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 развития критического мышления через чтение и письм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КТ на уроках…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доровьесберегающие технологи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ртфолио учителя и учащихс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тегрированные урок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иды контроля за знаниями учащихся, усовершенствование форм и методов контроля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абота с одаренными детьм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ифференцированное 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7380-3336-4665-AE37-8C79F3700C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3 этап – формулировка цели и задач самообразования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ями самообразования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ровня своей эрудиции, правовой и обще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педагогических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внедрение новых форм, методов и приемов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своих знаний в области педагогическ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этом цель должна звучать емко, отражать и уточнять тему самообраз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самообразования – это шаги по достижению цели само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7DA4-8B63-4C8E-BC5B-0119B71FC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4 этап – определение круга источников информации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видени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еты, журнал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тература (методическая, научно-популярная, публицистическая, художественная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сети Интерн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идео, аудио информация на различных нос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е кур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ы и конферен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 по обмену опыто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и, театры, выставки, музеи, концер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ы повышения квалифик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колле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9E4-8136-4198-96A9-55AAE740A9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9C9-9027-4B5F-8F25-A1D2E0F0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DFE-B619-4A55-894B-F7BA87B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98C3-017F-40CC-9A4C-43CD128F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2D2-E5CD-4FF0-B04C-5D5BB2CC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F21-2023-4C13-A0B3-49F933BE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3F8-EA57-4147-A6CC-382796E1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686-BD5B-44DE-A6EC-5CC233D6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105-6751-4892-BE60-0EAB02B2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D4C-EC2F-4D54-97B4-57280A7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5F4-C45B-4443-B537-AE1C485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0AA-516C-459B-B36A-469B614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06C-CAFA-4039-9679-2F130E6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77D-6CDE-47D3-B7FC-F4F05E12F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34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</a:t>
            </a: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рганизация процесса самообразования в педагогической деятельности учителя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5143320"/>
            <a:ext cx="83581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заместитель директора по методической работе Гаврил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47224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5 этап – выбор формы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ормы самообразования можно условно поделить на две группы: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ая и групп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индивидуальной форме инициатором является сам учитель, однако руководители методических и административных структур могут инициировать и стимулировать этот процесс. Групповая форма в виде деятельности методического объединения, семинаров, практикумов, курсов повышения квалификации обеспечивает обратную связь между результатами индивидуального самообразования и самим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572240" y="5429160"/>
            <a:ext cx="981360" cy="8384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6 этап – составление плана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ании выбранной темы учитель разрабатывает личный план работы над поставленной перед собой пробле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лане указыв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 те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мый результ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пы рабо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оки выполнения каждого эта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и мероприятия, проводимые в процессе работы над тем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демонстрации результата проделанной раб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отчета по проделанной раб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858080" y="5500800"/>
            <a:ext cx="819360" cy="7524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7 этап – определение результата самообразо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928800"/>
            <a:ext cx="84722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деятельность предполагает создание некого продукта. Поэтому в личном плане самообразования учителя обязательно должен быть список результатов, которые должны быть достигнуты за определенный ср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меры результа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качества преподавания предмета (указать показатели, по которым будет определяться эффективность и качеств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нные или изданные методические пособия, статьи, учебники, программы, сценарии, исслед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лады, высту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дидактических материалов, тестов, нагляд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ка пакета тестового материала в электро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8001000" y="5643720"/>
            <a:ext cx="890640" cy="919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8 этап – анализ и оценка деятельности в процессе самообразования, подготовка отчет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ми отчетных работ могут бы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бщение опы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бор и анализ отчетной докумен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и результатов работ перед педагогическим коллекти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кончании работы над темой каждый учитель должен написать отчет с анализом, выводами и рекомендациями для других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7500960" y="5500800"/>
            <a:ext cx="123840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точники само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Газеты, журнал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Литература (методическая, научно-популярная, публицистическая, художественная и др.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Интерн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Видео, аудио информация на различных носителя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латные кур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Семинары и конферен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астер-класс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Мероприятия по обмену опытом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Экскурсии, театры, выставки, музеи, концерт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Путешествия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120" y="1071360"/>
            <a:ext cx="850104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Воспитание, полученное человеком, закончено, достигло своей цели, когда человек настолько созрел, что обладает силой и волей самого себя образовывать в течение дальнейшей жизни и знает способ и средства, как он это может осуществить в качестве индивидуума, воздействующего на мир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Дистерв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571840" y="4429080"/>
            <a:ext cx="27144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реформирования школы, в процессе массового перехода учебных заведений на использование современных технологий обучения и воспитания, способствующих повышению качества образовательного процесса, корректируется работа по совершенствованию профессионального мастерства учи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ршенствование качества обучения в школе напрямую зависит от уровня подготовки педаг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включаться в режим развития, одним из компонентов которого является процесс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C:\Documents and Settings\Администратор\Мои документы\Мои рисунки\картинки\CLIPART\image023.gif"/>
          <p:cNvPicPr/>
          <p:nvPr/>
        </p:nvPicPr>
        <p:blipFill>
          <a:blip r:embed="rId1"/>
          <a:stretch/>
        </p:blipFill>
        <p:spPr>
          <a:xfrm>
            <a:off x="8001000" y="214200"/>
            <a:ext cx="719280" cy="7146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амообразование учит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енаправленная познавательная деятельность, управляемая самой личностью, с целью приобретения систематических знаний в области педаг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амообразование учителя есть необходимое условие профессиональной деятельности педаго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:\Documents and Settings\Чупров Леонид\Мои документы\А. наглядность\Анимации исторические\MAN50.gif"/>
          <p:cNvPicPr/>
          <p:nvPr/>
        </p:nvPicPr>
        <p:blipFill>
          <a:blip r:embed="rId1"/>
          <a:stretch/>
        </p:blipFill>
        <p:spPr>
          <a:xfrm>
            <a:off x="7572240" y="5072040"/>
            <a:ext cx="96516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требности, мотивы, побуждающие учителя к самообразованию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дневная работа с информацией. Готовясь к уроку, выступлению, родительскому собранию, классному часу, общешкольному мероприятию, олимпиаде и др. у учителя возникает необходимость поиска и анализа новой информации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Желание творчества. Учитель – профессия творческая. Творческий человек не сможет из года в год работать по одному и тому же пожелтевшему поурочному плану или сценарию, читать одни и те же доклады. Должно появиться желание большего. Работа должна быть интересной и доставлять удовольстви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Стремительный рост современной науки. Особенно психологии и педагогики. В эпоху автомобилей негоже пользоваться телег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зменения, происходящие в жизни общества. Эти изменения в первую очередь отражаются на учениках, формируют их мировоззрение, и соответственно, очень часто, формируют образ учителя как «несовременного человека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Конкуренция. Не секрет, что многие родители, приводя ребенка в школу, просятся в класс к конкретному учителю, предметнику или классному руководителю. Если учитель на хорошем счету у администрации, методического совета, отдела народного образования, он имеет больше прав в выборе классов, нагрузки и др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Общественное мнение. Учителю не безразлично, считают его «хорошим» или «плохим». Плохим учителем быть обидн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Материальное стимулирование. Категория учителя, мнение аттестационной комиссии, премии, надбавки, а может быть даже звания и правительственные награды – все это зависит от квалификации и мастерства учителя. Без постоянного усвоения новых знаний этого не добиться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• Интерес. Учиться просто интересно. Говорят : «Врачу – исцелися сам!» Как человек, который ежедневно учит, не будет постоянно учиться . Вправе ли он тогда преподавать?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3296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этап – выбор направления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197000"/>
            <a:ext cx="86104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фика педагогической деятельности такова, что для эффективной деятельности учитель должен владеть знанием собственного предмета, методиками его преподавания, психологией и педагогикой, иметь общий высокий уровень культуры, знать приемы риторики, основы мониторинга, обладать большой эрудицие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о-педаг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ическ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-компьютерные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ое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Администратор\Мои документы\Мои рисунки\картинки\CLIPART\ресурсы\Анимированные рисунки\Люди\Работа, профессии\business_laptop.gif"/>
          <p:cNvPicPr/>
          <p:nvPr/>
        </p:nvPicPr>
        <p:blipFill>
          <a:blip r:embed="rId1"/>
          <a:stretch/>
        </p:blipFill>
        <p:spPr>
          <a:xfrm>
            <a:off x="7858080" y="5357880"/>
            <a:ext cx="857160" cy="7333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2 этап – выбор темы самообразования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72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ых вариантов тем огромное количество. Каждый учитель выбирает тему самообразования исходя из своих потребностей и методической 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рактивные методики на уроках 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проектного метода обучени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Технология развития критического мышления через чтение и письм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КТ на уроках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ортфолио учителя и учащихс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тегрированные уроки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иды контроля за знаниями учащихся, усовершенствование форм и методов контроля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абота с одаренными детьми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ифференцированное обучен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Администратор\Мои документы\Мои рисунки\картинки\CLIPART\ресурсы\Анимированные рисунки\Люди\Работа, профессии\image127.gif"/>
          <p:cNvPicPr/>
          <p:nvPr/>
        </p:nvPicPr>
        <p:blipFill>
          <a:blip r:embed="rId1"/>
          <a:stretch/>
        </p:blipFill>
        <p:spPr>
          <a:xfrm>
            <a:off x="7786800" y="5500800"/>
            <a:ext cx="928440" cy="8427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85816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 этап – формулировка цели и задач самообразования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143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ями самообразования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уровня своей эрудиции, правовой и обще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педагогических технолог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и внедрение новых форм, методов и приемов обу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своих знаний в области педагогической псих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этом цель должна звучать емко, отражать и уточнять тему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и самообразования – это шаги по достижению цели само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:\Documents and Settings\Администратор\Мои документы\Мои рисунки\картинки\CLIPART\ресурсы\Анимированные рисунки\Люди\За компьютером\computador05.gif"/>
          <p:cNvPicPr/>
          <p:nvPr/>
        </p:nvPicPr>
        <p:blipFill>
          <a:blip r:embed="rId1"/>
          <a:stretch/>
        </p:blipFill>
        <p:spPr>
          <a:xfrm>
            <a:off x="7715160" y="5286240"/>
            <a:ext cx="1176480" cy="9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472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4 этап – определение круга источников информации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119700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я, что учитель самостоятельно добывает знания, источниками информации могут бы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еви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азеты, журна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тература (методическая, научно-популярная, публицистическая, художественная и д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ы сети Интерн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ео, аудио информация на различных носителя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тные кур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 и конфере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тер-клас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роприятия по обмену опы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курсии, театры, выставки, музеи, концер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ы повышения квалифик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и коллег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786800" y="5143680"/>
            <a:ext cx="804600" cy="11286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5:05:10Z</dcterms:created>
  <dc:creator>Speed_XP</dc:creator>
  <dc:description/>
  <dc:language>en-US</dc:language>
  <cp:lastModifiedBy>LEGION</cp:lastModifiedBy>
  <dcterms:modified xsi:type="dcterms:W3CDTF">2015-01-26T13:55:29Z</dcterms:modified>
  <cp:revision>16</cp:revision>
  <dc:subject/>
  <dc:title> «Организация процесса самообразования в педагогической деятельности учителя»  </dc:title>
</cp:coreProperties>
</file>