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572314"/>
                </a:solidFill>
                <a:latin typeface="Corbel"/>
              </a:rPr>
              <a:t>Мастер-класс по педагогическим технология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хнология </a:t>
            </a: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«Развитие критического мышления»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Разработчики технологии «Развитие критического мышления через чтение и письмо» – американцы Чарльз Темпл, Курт Мередит, Джинни Стилл, Дона Огл, а в России – красноярские ученые и практики А.Бутенко, Е.Ходо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Эта технология тесно связана с понятием личностно - ориентированного обучени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то понимается под критическим мышлением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Американские авторы понимают проявление детской любознательности, выработку собственной точки зрения по определенному вопросу, способность отстоять ее логическими доводами, использование исследовательских метод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В процессе применения технологии развития критического мышле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вырабатываются общеучебные умения: умение работать в группе; умение графически оформить текстовый материал; умение творчески интерпретировать имеющуюся информацию; умение распределить информацию по степени новизны и значимости; умение обобщить полученные зна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появляется возможность объединить отдельные дисциплин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создаются условия для вариативности и дифференциации обуч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вырабатывается собственная технология обуч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CYR"/>
                <a:ea typeface="Arial CYR"/>
              </a:rPr>
              <a:t>В технологии КМ выделяются три стадии: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1) вызов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2) осмысление новой информаци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3) рефлекс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Технология КМ предлагает шесть типов взаимосвязанных уроков, в результате которых раскрывается творческий потенциал учащихс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нятия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 CYR"/>
                <a:ea typeface="Arial CYR"/>
              </a:rPr>
              <a:t>        </a:t>
            </a:r>
            <a:r>
              <a:rPr b="0" i="1" lang="ru-RU" sz="1400" spc="-1" strike="noStrike">
                <a:solidFill>
                  <a:srgbClr val="000000"/>
                </a:solidFill>
                <a:latin typeface="Arial CYR"/>
                <a:ea typeface="Arial CYR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 CYR"/>
                <a:ea typeface="Arial CYR"/>
              </a:rPr>
              <a:t>Кластеры</a:t>
            </a:r>
            <a:r>
              <a:rPr b="0" lang="ru-RU" sz="1400" spc="-1" strike="noStrike">
                <a:solidFill>
                  <a:srgbClr val="000000"/>
                </a:solidFill>
                <a:latin typeface="Arial CYR"/>
                <a:ea typeface="Arial CYR"/>
              </a:rPr>
              <a:t> – это графические систематизаторы, которые показывают несколько различных типов связи между объектами или явлениями. В центре листа пишется слово (тема, проблема). Далее вокруг этого слова записываются слова или предложения, которые приходят на ум в связи с этой темо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Инсерт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 – прием маркировки текста. Учащимся предлагается система маркировки текста, включающая следующие значк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V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» – галочкой отмечается то, что известн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«–» – знаком «минус» помечается то, что противоречит представлениям читающего, вызывает сомн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«+» – знаком «плюс» помечается то, что является для читателя интересным и неожиданны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«?» – вопросительный знак ставится, если у читателя возникло желание узнать о том, что описывается, более подроб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Разделитесь на 2 коман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Вспомните все, что вы уже знаете на тему «Синтаксис». Для этого «соберите» предложение, которое «рассыпалось» на следующие словоформы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1-я команда. </a:t>
            </a:r>
            <a:r>
              <a:rPr b="0" i="1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Опустилась, трудного, ночь, внезапно, тихая, после дня, город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2-я команда. </a:t>
            </a:r>
            <a:r>
              <a:rPr b="0" i="1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Заходящего, от лучей, сосен, казались, солнца, стволы, золотыми</a:t>
            </a: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Структурируйте сведения, оформив их кластер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 CYR"/>
                <a:ea typeface="Arial CYR"/>
              </a:rPr>
              <a:t>Какие трудности встретились вам при выполнении зада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зна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+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ново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–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вызывает сомн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«?»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толстые и тонкие вопросы по ходу чт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рфология и синтаксис – два раздела граммат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рфология изучает формы слов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нтаксис изучает строение словосочетаний и предложен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язи между словами определяем с помощью вопросов, окончаний и предлог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воформы сцеплены попарно – главный закон синтаксиса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вопросов мы извлекаем грамматическое значени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мматическая связь позволяет передать смысловую связь с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но ли без вопросов определить связи между словами в предложе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онки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уровня усвоения А: Что такое синтаксис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ем связь между синтаксисом и пунктуацией?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Толстые: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 уровня усвоения В – С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связаны морфология и синтаксис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осуществляется синтаксическая связь слов? Какие типы синтаксической связи существуют? Почему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нцузская мастерск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ла в 20-х годах ХХ века, но только с 1984 года окончательно признана Министерством образования Фран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последние годы объединение возглавлял Анри Бассис - известный французский педагог, поэт и драматург, общественный деятел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b84700"/>
                </a:solidFill>
                <a:latin typeface="Arial CYR"/>
                <a:ea typeface="Arial CYR"/>
              </a:rPr>
              <a:t>Стадия рефлек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хнология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дагогических мастерских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позволяет решить задачи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чностного саморазвити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тельной мотивации: повышения интереса к процессу обучения и активного восприятия учебного материала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ональной грамотности и креативности: навыков и умений творческого постижения и осмысления нового знани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ультуры речи: навыков аргументированного говорения и письма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ой компетентности: коммуникативных навыков и ответственности за знание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уги Вартека, развивающие фантазию, логическое мышлени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збука словесного искусства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ссоциативное мышление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варь настроений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узыкальная педагогика и д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збука словесного искус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мет изучения литературы — сам человек (внутренний мир человека, поступки, действия, эмоции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уроках и дома больше нужно создавать сами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тература — это вид искусства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 рода в литератур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. А. Фет «Даль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блаком волнисты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ах встаёт вдал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онный или пеший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е видать в пыл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ижу: кто-то скач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 лихом ко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руг мой, друг далёки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спомни обо мне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43 год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. А. Фет «Даль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Облаком волнисты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Прах встаёт вдал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Конный или пеший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е видать в пыл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ижу: кто-то скач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На лихом ко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Друг мой, друг далёкий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спомни обо мне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43 год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у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мн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сность, определё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Жал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д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Г не равен автор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 прочитанно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Тит, иди молотить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Брюхо болит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Тит, иди щи хлебать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А где моя большая ложка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ишите героев этой побасёнки?  Театрально обыграйте  данное произвед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-14227200" y="-11796840"/>
            <a:ext cx="16656120" cy="12492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вод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нцузская мастерская должна не только давать знания, умения и навыки, но и развивать творческую и эмоциональную сторону учащихся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C562E-2BBB-42F2-9ED3-60A3736C28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D5C98-5AC9-453E-83AA-9E92C258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82FE9-20FD-43D7-9B3B-D77DB5ED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A1F25-5B78-4195-84C6-7D8110EA26A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11C3A0-438A-4869-8BB7-2C6FC0B111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38BF76-C98A-4051-A5BC-DE9E8BE4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96E3F-9FF3-4F2A-9C44-FDCDF1FD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80B0F-0ED5-4822-88B9-86126158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5D6D02-80C3-43F6-A822-6A3951B2D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2A95B3-F1B9-4834-9B2C-AF927700D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548FB9-6092-46A0-BAE5-20A284423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BA734-9DCD-4A5B-AA33-1BFBACBD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7E17E7-69FB-4FEC-AD85-154E095D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9C4AA7-B09D-43DF-964B-A7EFFD82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3633EE-1FB1-4754-99C3-4B77621E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5B97F1-96D2-4D5C-A5ED-2824E82C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DBD99B-EF19-45DF-A354-5A554C89A4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6E86-35A2-4A2D-A8C2-C2F4033B01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2D07-0475-4789-8011-E3A71E0C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F5BF-7D3A-4A45-8AF9-92F0574A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EB81-2AA0-4C06-A0F2-F7933FA6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7BD7E-FD3F-4A97-9C27-FA2700A1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5A51D-06C0-47B8-A4D1-093D495A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A92B3-72C3-43E7-9D5D-B06329D31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F4D10-4552-4BD3-831B-3DF8AF86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84D7-E5AC-4DA2-A572-A391F7DF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8037-E110-42B8-BB6C-11EACC831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6A58-C295-4AB3-A756-A9490BF6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B984-93FF-4AC4-9D87-FD7752BA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AC75-7A5E-44C5-9366-A78A967128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4AB40A-11E4-470C-AF85-7B098AFC2E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BF2036-DF84-492B-A473-5ECB96AD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DE8280-1FE7-4938-8A7C-A73DD8D6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BD261A-BDA0-44D5-9063-737C37553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ED36CA-07B4-4A0A-B764-FC2B92351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F29CF0-E26C-4ED4-9655-1545134C8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C5A037-A15D-44AF-8377-B36AEB5FD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145B0C-DCA0-45F4-ADC6-2906C0DF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987EE9-5435-401C-9BAF-D2C35FA7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46DE4D-BAD3-472F-B1FB-68B418B3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12E8DB-BC10-4DDA-9A0B-889687BC3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A82A0A-A729-41B0-AFDE-C41952EA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D86B1A-59B5-4092-B6BB-F28EA36B3B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AEE508-99B5-4B84-B5A8-3BF648EB00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1E528-243D-4835-9E92-F50D2EB22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046210-7AE7-4594-9C3B-2297B7947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0BCBA6-FA0C-446F-BC61-5156C1E5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FFC7D8-67A8-41CF-A6AB-DA0A3CC2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B0B4C5-736D-401F-B820-A3AE9EE7A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E694E1-C8E5-4818-B48D-30E2ECEE1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8C2D74-6959-4538-9BEA-1EADFECF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30512F-B7C7-4A57-BFE6-826641C7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3D0671-63DF-4942-A90B-B7D57B80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3DD17F-92A9-47D9-8832-AFB170C3D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5D2640-2911-428E-98E1-EEECE300F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41539-AC07-4B3C-8349-CB0B48BE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F83E41-F584-41CE-98FA-63B0EBDBF5D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37E8E-7108-4614-8923-5A8FEA4520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C2708-7827-490F-8D84-9DD134DD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65358-069C-460C-A31D-133FD46F1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21663-0597-45CE-BEB7-8A695601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38D25-D3B5-4309-A574-D4A8D2A43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17696-6499-4128-B873-D2E22AF8D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9A9D2-EDF8-4BF9-A2CE-C3F018B38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4C4FE-33A4-46AD-AC27-46417EB97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EA5E5-EF79-493B-9A41-39069C09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D595E-6AF7-46B6-95D7-E72E50E0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FC6D8-25B7-4815-B397-A91518232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04377-4E0A-450D-9A61-886615BF3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8559F-53FA-497B-89F1-8A507C3F36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4FC1D7-0C4F-45FF-B20B-A17534951C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B07E02-E47F-498A-BA12-6E63ED76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803D6E-08EF-450E-899F-81DA31958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BEDEE4-A405-433C-AF9D-CA755ECD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A683F2-3A0C-4A3B-B3D6-4D9F27F2C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8C6562-CE5B-49B0-8C83-9DBC19F37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A349D7-404E-440D-8224-8D582242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0B573-0352-4045-9E5E-666AF4C0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13C4DE-DC26-49D0-858C-A24468B3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B50AAD-E89B-433D-A5E2-388FDE3F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1C629F-DBA9-4FC1-B4CB-6A4FC41D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84EF34-45AA-4005-B3B4-53B5D37A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BCD3E1-AAE0-48D9-B911-8FF3BBA957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BD1AB-F367-45CA-ABC6-F41D1537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165240" y="1036800"/>
            <a:ext cx="1164960" cy="1164960"/>
            <a:chOff x="165240" y="1036800"/>
            <a:chExt cx="1164960" cy="1164960"/>
          </a:xfrm>
        </p:grpSpPr>
        <p:pic>
          <p:nvPicPr>
            <p:cNvPr id="3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496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 rot="2340000">
              <a:off x="352440" y="1212840"/>
              <a:ext cx="79056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FB70E6-65E3-40C4-9C89-8ACE345E879B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reeform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165240" y="1036800"/>
            <a:ext cx="1164960" cy="1164960"/>
            <a:chOff x="165240" y="1036800"/>
            <a:chExt cx="1164960" cy="1164960"/>
          </a:xfrm>
        </p:grpSpPr>
        <p:pic>
          <p:nvPicPr>
            <p:cNvPr id="51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4960" cy="116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 rot="2340000">
              <a:off x="352440" y="1212840"/>
              <a:ext cx="79056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Group 8"/>
          <p:cNvGrpSpPr/>
          <p:nvPr/>
        </p:nvGrpSpPr>
        <p:grpSpPr>
          <a:xfrm>
            <a:off x="914400" y="1407960"/>
            <a:ext cx="227160" cy="220680"/>
            <a:chOff x="914400" y="1407960"/>
            <a:chExt cx="227160" cy="220680"/>
          </a:xfrm>
        </p:grpSpPr>
        <p:pic>
          <p:nvPicPr>
            <p:cNvPr id="56" name="Picture 9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2716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/>
            <p:cNvSpPr/>
            <p:nvPr/>
          </p:nvSpPr>
          <p:spPr>
            <a:xfrm>
              <a:off x="952560" y="1444680"/>
              <a:ext cx="14436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Oval 11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0965CF-2E66-425F-BF33-C7E219753F7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2163600" y="2809800"/>
            <a:ext cx="227160" cy="220680"/>
            <a:chOff x="2163600" y="2809800"/>
            <a:chExt cx="227160" cy="220680"/>
          </a:xfrm>
        </p:grpSpPr>
        <p:pic>
          <p:nvPicPr>
            <p:cNvPr id="103" name="Picture 4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2716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5"/>
            <p:cNvSpPr/>
            <p:nvPr/>
          </p:nvSpPr>
          <p:spPr>
            <a:xfrm>
              <a:off x="2203560" y="2844720"/>
              <a:ext cx="14292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Oval 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w="12600">
            <a:solidFill>
              <a:srgbClr val="307f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D84686B-CEB9-415C-89A7-C9785632BB7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74271F1-41C4-471C-86C9-62DFE04709D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AF7346-6A6B-493F-8F35-923AAAA66B0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FEF8694-FEBF-4049-90EC-3B54640FD27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1"/>
          <p:cNvGrpSpPr/>
          <p:nvPr/>
        </p:nvGrpSpPr>
        <p:grpSpPr>
          <a:xfrm>
            <a:off x="646200" y="969840"/>
            <a:ext cx="4798800" cy="4797720"/>
            <a:chOff x="646200" y="969840"/>
            <a:chExt cx="4798800" cy="4797720"/>
          </a:xfrm>
        </p:grpSpPr>
        <p:pic>
          <p:nvPicPr>
            <p:cNvPr id="273" name="Picture 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798800" cy="479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"/>
            <p:cNvSpPr/>
            <p:nvPr/>
          </p:nvSpPr>
          <p:spPr>
            <a:xfrm>
              <a:off x="762120" y="1066680"/>
              <a:ext cx="4566960" cy="456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AutoShape 4"/>
          <p:cNvSpPr/>
          <p:nvPr/>
        </p:nvSpPr>
        <p:spPr>
          <a:xfrm rot="19440000">
            <a:off x="3967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 flipH="1" rot="2100000">
            <a:off x="5003640" y="94140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218FBEA-BB8B-4BA1-82FD-4A29D7CFF50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Text Box 1"/>
          <p:cNvSpPr/>
          <p:nvPr/>
        </p:nvSpPr>
        <p:spPr>
          <a:xfrm>
            <a:off x="1258920" y="1557360"/>
            <a:ext cx="740736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Мастер-класс по педагогическим технологиям 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2"/>
          <p:cNvSpPr/>
          <p:nvPr/>
        </p:nvSpPr>
        <p:spPr>
          <a:xfrm>
            <a:off x="1414440" y="5388120"/>
            <a:ext cx="740556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Учитель русского языка и литературы – Воронков А. 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000"/>
                <a:tab algn="l" pos="474840"/>
                <a:tab algn="l" pos="923760"/>
                <a:tab algn="l" pos="1373040"/>
                <a:tab algn="l" pos="1822320"/>
                <a:tab algn="l" pos="2271600"/>
                <a:tab algn="l" pos="2720880"/>
                <a:tab algn="l" pos="3170160"/>
                <a:tab algn="l" pos="3619440"/>
                <a:tab algn="l" pos="4068720"/>
                <a:tab algn="l" pos="4518000"/>
                <a:tab algn="l" pos="4967280"/>
                <a:tab algn="l" pos="5416560"/>
                <a:tab algn="l" pos="5865840"/>
                <a:tab algn="l" pos="6315120"/>
                <a:tab algn="l" pos="6764400"/>
                <a:tab algn="l" pos="7213680"/>
                <a:tab algn="l" pos="7662960"/>
                <a:tab algn="l" pos="8112240"/>
                <a:tab algn="l" pos="8561520"/>
                <a:tab algn="l" pos="90108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320e04"/>
                </a:solidFill>
                <a:latin typeface="Corbel"/>
              </a:rPr>
              <a:t>Сохновская СОШ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Технология </a:t>
            </a:r>
            <a:br>
              <a:rPr sz="3600"/>
            </a:b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«Развитие критического мышления»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Разработчики технологии «Развитие критического мышления через чтение и письмо» – американцы Чарльз Темпл, Курт Мередит, Джинни Стилл, Дона Огл, а в России – красноярские ученые и практики А.Бутенко, Е.Ходос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 CYR"/>
                <a:ea typeface="Arial CYR"/>
              </a:rPr>
              <a:t>Эта технология тесно связана с понятием личностно - ориентированного обучения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Что понимается под критическим мышлением? 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CYR"/>
                <a:ea typeface="Arial CYR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CYR"/>
                <a:ea typeface="Arial CYR"/>
              </a:rPr>
              <a:t>Американские авторы понимают проявление детской любознательности, выработку собственной точки зрения по определенному вопросу, способность отстоять ее логическими доводами, использование исследовательских методов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Arial CYR"/>
                <a:ea typeface="Arial CYR"/>
              </a:rPr>
              <a:t>В процессе применения технологии развития критического мышления: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227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вырабатываются общеучебные умения: умение работать в группе; умение графически оформить текстовый материал; умение творчески интерпретировать имеющуюся информацию; умение распределить информацию по степени новизны и значимости; умение обобщить полученные знания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57200" indent="-227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появляется возможность объединить отдельные дисциплины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57200" indent="-227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создаются условия для вариативности и дифференциации обучения;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457200" indent="-2271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вырабатывается собственная технология обучения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572314"/>
                </a:solidFill>
                <a:latin typeface="Arial CYR"/>
                <a:ea typeface="Arial CYR"/>
              </a:rPr>
              <a:t>В технологии КМ выделяются три стадии:  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CYR"/>
                <a:ea typeface="Arial CYR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Arial CYR"/>
                <a:ea typeface="Arial CYR"/>
              </a:rPr>
              <a:t>1) вызов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 CYR"/>
                <a:ea typeface="Arial CYR"/>
              </a:rPr>
              <a:t>2) осмысление новой информации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 CYR"/>
                <a:ea typeface="Arial CYR"/>
              </a:rPr>
              <a:t>3) рефлексия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572314"/>
                </a:solidFill>
                <a:latin typeface="Arial CYR"/>
                <a:ea typeface="Arial CYR"/>
              </a:rPr>
              <a:t>Технология КМ предлагает шесть типов взаимосвязанных уроков, в результате которых раскрывается творческий потенциал учащихся </a:t>
            </a:r>
            <a:endParaRPr b="0" lang="en-US" sz="24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1" name="Picture 2" descr=""/>
          <p:cNvPicPr/>
          <p:nvPr/>
        </p:nvPicPr>
        <p:blipFill>
          <a:blip r:embed="rId2"/>
          <a:stretch/>
        </p:blipFill>
        <p:spPr>
          <a:xfrm>
            <a:off x="1079640" y="1800360"/>
            <a:ext cx="77403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1" descr=""/>
          <p:cNvPicPr/>
          <p:nvPr/>
        </p:nvPicPr>
        <p:blipFill>
          <a:blip r:embed="rId2"/>
          <a:stretch/>
        </p:blipFill>
        <p:spPr>
          <a:xfrm>
            <a:off x="1260360" y="1163520"/>
            <a:ext cx="7559640" cy="36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144360"/>
            <a:ext cx="7498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нятия: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079640" y="1079640"/>
            <a:ext cx="7920000" cy="582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 CYR"/>
                <a:ea typeface="Arial CYR"/>
              </a:rPr>
              <a:t>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 CYR"/>
                <a:ea typeface="Arial CYR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 CYR"/>
                <a:ea typeface="Arial CYR"/>
              </a:rPr>
              <a:t>Кластеры</a:t>
            </a:r>
            <a:r>
              <a:rPr b="0" lang="ru-RU" sz="2000" spc="-1" strike="noStrike">
                <a:solidFill>
                  <a:srgbClr val="000000"/>
                </a:solidFill>
                <a:latin typeface="Arial CYR"/>
                <a:ea typeface="Arial CYR"/>
              </a:rPr>
              <a:t> – это графические систематизаторы, которые показывают несколько различных типов связи между объектами или явлениями. В центре листа пишется слово (тема, проблема). Далее вокруг этого слова записываются слова или предложения, которые приходят на ум в связи с этой темой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Инсерт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 – прием маркировки текста. Учащимся предлагается система маркировки текста, включающая следующие значки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«</a:t>
            </a:r>
            <a:r>
              <a:rPr b="0" i="1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V</a:t>
            </a: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» – галочкой отмечается то, что известно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«–» – знаком «минус» помечается то, что противоречит представлениям читающего, вызывает сомнения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«+» – знаком «плюс» помечается то, что является для читателя интересным и неожиданным;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Arial CYR"/>
              </a:rPr>
              <a:t>«?» – вопросительный знак ставится, если у читателя возникло желание узнать о том, что описывается, более подробно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Задание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Разделитесь на 2 команды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Вспомните все, что вы уже знаете на тему «Синтаксис». Для этого «соберите» предложение, которое «рассыпалось» на следующие словоформы: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1-я команда. </a:t>
            </a:r>
            <a:r>
              <a:rPr b="0" i="1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Опустилась, трудного, ночь, внезапно, тихая, после дня, город</a:t>
            </a: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2-я команда. </a:t>
            </a:r>
            <a:r>
              <a:rPr b="0" i="1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Заходящего, от лучей, сосен, казались, солнца, стволы, золотыми</a:t>
            </a: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Структурируйте сведения, оформив их кластером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 CYR"/>
                <a:ea typeface="Arial CYR"/>
              </a:rPr>
              <a:t>Какие трудности встретились вам при выполнении задания?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1" descr=""/>
          <p:cNvPicPr/>
          <p:nvPr/>
        </p:nvPicPr>
        <p:blipFill>
          <a:blip r:embed="rId2"/>
          <a:stretch/>
        </p:blipFill>
        <p:spPr>
          <a:xfrm>
            <a:off x="1800360" y="720720"/>
            <a:ext cx="6300720" cy="474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8" name=""/>
          <p:cNvGraphicFramePr/>
          <p:nvPr/>
        </p:nvGraphicFramePr>
        <p:xfrm>
          <a:off x="1217520" y="228600"/>
          <a:ext cx="7239240" cy="6432480"/>
        </p:xfrm>
        <a:graphic>
          <a:graphicData uri="http://schemas.openxmlformats.org/drawingml/2006/table">
            <a:tbl>
              <a:tblPr/>
              <a:tblGrid>
                <a:gridCol w="1760760"/>
                <a:gridCol w="1825560"/>
                <a:gridCol w="1827000"/>
                <a:gridCol w="1825920"/>
              </a:tblGrid>
              <a:tr h="843120"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«</a:t>
                      </a:r>
                      <a:r>
                        <a:rPr b="1" i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V</a:t>
                      </a: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 – зна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«+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 – ново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«–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 – вызывает сомн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723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«?»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 – толстые и тонкие вопросы по ходу чт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589360"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Морфология и синтаксис – два раздела грамматики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Морфология изучает формы слов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Синтаксис изучает строение словосочетаний и предложений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Связи между словами определяем с помощью вопросов, окончаний и предлог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Словоформы сцеплены попарно – главный закон синтаксиса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С помощью вопросов мы извлекаем грамматическое значение.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Грамматическая связь позволяет передать смысловую связь сл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Можно ли без вопросов определить связи между словами в предложен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871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spcBef>
                          <a:spcPts val="286"/>
                        </a:spcBef>
                        <a:spcAft>
                          <a:spcPts val="286"/>
                        </a:spcAft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Тонкие: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Вопросы уровня усвоения А: Что такое синтаксис?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В чем связь между синтаксисом и пунктуацией?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Толстые: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 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Вопросы уровня усвоения В – С: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Как связаны морфология и синтаксис?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CYR"/>
                          <a:ea typeface="Arial CYR"/>
                        </a:rPr>
                        <a:t>Как осуществляется синтаксическая связь слов? Какие типы синтаксической связи существуют? Почему?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Французская мастерская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озникла в 20-х годах ХХ века, но только с 1984 года окончательно признана Министерством образования Франц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последние годы объединение возглавлял Анри Бассис - известный французский педагог, поэт и драматург, общественный деятель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9640" y="34560"/>
            <a:ext cx="749772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b84700"/>
                </a:solidFill>
                <a:latin typeface="Arial CYR"/>
                <a:ea typeface="Arial CYR"/>
              </a:rPr>
              <a:t>Стадия рефлексии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2"/>
          <a:stretch/>
        </p:blipFill>
        <p:spPr>
          <a:xfrm>
            <a:off x="1440000" y="1440000"/>
            <a:ext cx="7019640" cy="50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Технология </a:t>
            </a: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педагогических мастерских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позволяет решить задачи: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294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личностного саморазвития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084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образовательной мотивации: повышения интереса к процессу обучения и активного восприятия учебного материала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084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функциональной грамотности и креативности: навыков и умений творческого постижения и осмысления нового знания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084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культуры речи: навыков аргументированного говорения и письма;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0840" indent="0">
              <a:spcBef>
                <a:spcPts val="60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социальной компетентности: коммуникативных навыков и ответственности за знание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ием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398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руги Вартека, развивающие фантазию, логическое мышление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1280" indent="-3398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збука словесного искусства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1280" indent="-3398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Ассоциативное мышление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1280" indent="-3398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ловарь настроений;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1280" indent="-33984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узыкальная педагогика и др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збука словесного искусств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8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дмет изучения литературы — сам человек (внутренний мир человека, поступки, действия, эмоции)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 уроках и дома больше нужно создавать самим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Литература — это вид искусства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 рода в литературе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. А. Фет «Даль»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8080" cy="50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Облаком волнисты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Прах встаёт вдали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Конный или пеший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е видать в пыли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ижу: кто-то скаче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На лихом коне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Друг мой, друг далёкий,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orbel"/>
              </a:rPr>
              <a:t>Вспомни обо мне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843 год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. А. Фет «Даль»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434600" y="1447920"/>
            <a:ext cx="365940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Облаком волнистым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Прах встаёт вдали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Конный или пеший-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Не видать в пыли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Вижу: кто-то скачет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На лихом коне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Друг мой, друг далёкий,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orbel"/>
              </a:rPr>
              <a:t>Вспомни обо мне!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             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1843 год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40000" y="1440000"/>
            <a:ext cx="43196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Гру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трах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омнени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Ясность, определённо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Жалость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адость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ЛГ не равен автору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Анализ прочитанного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Тит, иди молотить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Брюхо болит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Тит, иди щи хлебать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А где моя большая ложка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пишите героев этой побасёнки?  Театрально обыграйте  данное произведени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144000"/>
            <a:ext cx="749808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Вывод: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Французская мастерская должна не только давать знания, умения и навыки, но и развивать творческую и эмоциональную сторону учащихся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6T16:52:33Z</dcterms:created>
  <dc:creator>Алексей</dc:creator>
  <dc:description/>
  <dc:language>en-US</dc:language>
  <cp:lastModifiedBy>LEGION</cp:lastModifiedBy>
  <dcterms:modified xsi:type="dcterms:W3CDTF">2015-01-26T13:56:16Z</dcterms:modified>
  <cp:revision>7</cp:revision>
  <dc:subject/>
  <dc:title>Готовимся к ЕГЭ (часть А) </dc:title>
</cp:coreProperties>
</file>