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ритического мышле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онимается под критическим мышлением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на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+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ов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–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ызывает сом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толстые и тонкие вопросы по ходу чт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 синтаксис – два раздела граммат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зучает формы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таксис изучает строение словосочет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и между словами определяем с помощью вопросов, окончаний и предлог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формы сцеплены попарно – главный закон синтаксис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вопросов мы извлекаем грамматическое знач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мматическая связь позволяет передать смысловую связь с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без вопросов определить связи между словами в предло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нк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А: Что такое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связь между синтаксисом и пунктуацией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лсты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В – С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язаны морфология и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существляется синтаксическая связь слов? Какие типы синтаксической связи существуют? Почем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х мастерск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зволяет решить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ного саморазви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ы речи: навыков аргументированного говорения и письм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й компетентности: коммуникативных навыков и ответственности за знани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и Вартека, развивающие фантазию, логическое мышл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циативное мышл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рь настроени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льная педагогика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ках и дома больше нужно создавать сам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 — это вид искусств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рода в литерату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ность, определё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Г не равен авто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прочита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молоти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Брюхо болит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щи хлеба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А где моя большая лож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шите героев этой побасёнки?  Театрально обыграйте  данное произ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C9AE-8C6F-4E06-B5BD-1A6E30B21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8DDB-9A97-4EFD-8FBB-07E27ECF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2F1C-B008-4D4B-BC44-E5D1422B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2144-6234-4E40-A226-F628A4F6DF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62D77-8C06-4720-9779-B4EC6AC8C1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C2824-83E8-4780-BEDE-7F6C02F5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92848-3375-4325-BC73-61153849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6E3A4-3BE8-4939-953F-19577413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860BB-5E91-42C7-A58D-52908CDA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CAB4A-6E64-4F2F-8252-86F18950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4E7B3-D99E-404B-B090-6B248B37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16AD-0B48-42D8-96B7-E039023F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40919-C3A1-42A1-8723-244ACE0D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E59B2-83A2-43B3-84F1-DF076A6B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392D5-5781-4FC6-BBD9-7BB0CCBC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16B5E-2048-44F4-88B3-383791F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3467E-4B25-4DCF-AC83-A801E6102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341C-47B3-4380-A795-6A9CC22A1D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D511-767E-4791-9DA1-440A179C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58A7-65B6-4C6A-9925-D557D6B6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EFF-8806-473F-A9C7-3CB170DC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D078-13D3-4E20-9EF8-1540F029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BC99-DEC9-4BD7-80BD-3B66A9E2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78F9-A5AA-443E-88D7-669CF106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0568-57BA-4907-A803-FAA42F82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A952-F6A9-4BED-9626-A7C00902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991C-AEDB-4130-B9BC-F0C90F12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877B-D861-4D64-952F-0BDDADD8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987D-52E4-41B6-AA64-7986E997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E494-CA76-4EC9-826F-B4480216DB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0D1E5-D53F-40AB-8D6B-E319EE20E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F06BA-7C8A-4D01-AC11-8050BFED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76515-C999-40E0-976F-925E3EEC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D5C3-D9E3-4F86-9AD5-44AB3EFC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7AB78-A197-445B-A730-373B1971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03044-653C-4F63-903B-5DBB585F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96B82-0298-4470-95BE-FF75FECD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1A9CD-1607-41A5-925F-752B41BD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9D051-793C-4C9E-857C-B0078A7B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BF26F-FC21-4A35-B0E1-0B0243DE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2293E-31A6-4F54-9523-0A3C6DFB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EFC27-89BC-4147-BF24-5C32EEE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99515-6B54-4D7D-9FA5-1568479F4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B93F2-55B2-4F32-B435-B1801FD92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AE58-5436-4709-9040-FD356AA7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9C156-619B-4CCE-ADA6-5FB134C4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BD40F-02E2-415C-B77C-DF949ABE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4139B-CB30-46AC-A235-5FCD595D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B5654-2E62-45CF-8725-8ADF5CC8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DFC97-7332-42FF-BC19-3401AB3D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87C07-0153-41A8-9ADD-B06D0C4F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DE792-4FB7-4579-B221-06165CFC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3E2F8-45BD-41CD-AB3C-C41F0761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9CE7F-F8ED-4C96-A817-540198EE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D6573-C42D-4BDF-86D8-5D87969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065F-CDE5-47B5-B5BC-96F8643A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EA17A-90F2-4B14-B98C-3EEA1DC96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CC1B7-B535-4036-A096-E8A5AC5C0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D6722-6408-4683-9AA7-F4579BCC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EEFF5-CC65-4A72-A161-0FC083CC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E354F-5047-4A82-B329-555FB316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CB5A-47EF-425E-8797-747BBC2B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CE9D-7147-415E-9233-388DB25C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CBB5-F82B-4E32-8ADF-793D8FE0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D0C66-785C-4EE7-8CD6-59F0749D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0F029-5735-4728-87B5-4889C2FF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7987-51C5-461B-83FC-CC2D3362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90AA-A986-4AFB-BC05-A71AECD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86DE-6555-45E1-AC9A-A065D82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F62E-BD5C-4B8C-91F0-0A1A262997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9CCA4-3620-4705-9A57-62C752F15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428CC-11B1-4FFA-BBF3-AE2BEC13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927C6-2607-467C-AC6C-0B462AFD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A9EBA-851B-4453-A1BD-A1FB45A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CB9FC-DA08-4671-AC90-C3C15D8B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57005-8D24-4072-AD11-4083DDE1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DA499-DE5F-4334-9AA8-A5354B62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3F63-5C86-4648-902C-7A94DE82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403E5-7ED3-4DF2-A506-D6CE819B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41D0F-B54C-4763-BB9A-3F2E2DDC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8B385-4633-46F0-9231-F17FA341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7916E-75F4-482B-8D5F-562A081E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E86E2-B934-4BC2-ACE9-AC53736FAC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6062-4D7A-44E7-BE67-77BDE9F0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75877-9AFE-4B57-9238-F73943347FA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27160" cy="220680"/>
            <a:chOff x="914400" y="1407960"/>
            <a:chExt cx="227160" cy="22068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9CB5BE-3B9D-4454-8FD6-3DC48D7AB9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27160" cy="220680"/>
            <a:chOff x="2163600" y="2809800"/>
            <a:chExt cx="227160" cy="2206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2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DF4A87-2B9D-4B18-AC39-7D856291D85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A2B0D7-B6F4-48E2-9375-C6FDDDBEDF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3373DA-4EFD-4C4A-B8D5-08DE944227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DB758E-FA88-432D-9003-54ACF8FB83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798800" cy="4797720"/>
            <a:chOff x="646200" y="969840"/>
            <a:chExt cx="479880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88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66960" cy="45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93EE55-B81F-4914-B46E-07FD9C6AB3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25892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14440" y="5388120"/>
            <a:ext cx="7405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– Воронков А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охновская СОШ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br>
              <a:rPr sz="36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Развитие критического мышления»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то понимается под критическим мышлением?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77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1260360" y="1163520"/>
            <a:ext cx="755964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я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9640" y="1079640"/>
            <a:ext cx="79200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800360" y="720720"/>
            <a:ext cx="63007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7520" y="228600"/>
          <a:ext cx="7239240" cy="6432480"/>
        </p:xfrm>
        <a:graphic>
          <a:graphicData uri="http://schemas.openxmlformats.org/drawingml/2006/table">
            <a:tbl>
              <a:tblPr/>
              <a:tblGrid>
                <a:gridCol w="1760760"/>
                <a:gridCol w="1825560"/>
                <a:gridCol w="1827000"/>
                <a:gridCol w="1825920"/>
              </a:tblGrid>
              <a:tr h="8431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V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зн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но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–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вызывает сом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?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толстые и тонкие вопросы по ходу чт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89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 синтаксис – два раздела грамматик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зучает формы сл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интаксис изучает строение словосочетаний и предложени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вязи между словами определяем с помощью вопросов, окончаний и предлог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ловоформы сцеплены попарно – главный закон синтаксис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 помощью вопросов мы извлекаем грамматическое значени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Грамматическая связь позволяет передать смысловую связь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жно ли без вопросов определить связи между словами в предлож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нкие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А: Что такое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 чем связь между синтаксисом и пунктуацией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лст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В – С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связаны морфология и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осуществляется синтаксическая связь слов? Какие типы синтаксической связи существуют? 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ранцузская мастерска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9640" y="3456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0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едагогических мастерских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позволяет решить задачи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29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чностного саморазвит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льтуры речи: навыков аргументированного говорения и письм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ой компетентности: коммуникативных навыков и ответственности за знани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ги Вартека, развивающие фантазию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бука словесного искусст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социативное мышле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рь настроени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узыкальная педагогика и д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збука словесного искус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ах и дома больше нужно создавать сам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тература — это вид искусства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рода в литератур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80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94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0000" y="1440000"/>
            <a:ext cx="43196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мн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сность, определён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д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Г не равен автор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ализ прочитанного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молоти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Брюхо болит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щи хлеба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А где моя большая лож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шите героев этой побасёнки?  Театрально обыграйте  данное произвед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2:33Z</dcterms:created>
  <dc:creator>Алексей</dc:creator>
  <dc:description/>
  <dc:language>en-US</dc:language>
  <cp:lastModifiedBy>LEGION</cp:lastModifiedBy>
  <dcterms:modified xsi:type="dcterms:W3CDTF">2015-01-26T13:56:16Z</dcterms:modified>
  <cp:revision>7</cp:revision>
  <dc:subject/>
  <dc:title>Готовимся к ЕГЭ (часть А) </dc:title>
</cp:coreProperties>
</file>