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2314"/>
                </a:solidFill>
                <a:latin typeface="Corbel"/>
              </a:rPr>
              <a:t>Мастер-класс по педагогическим технологи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Развитие критического мышления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чики технологии «Развитие критического мышления через чтение и письмо» – американцы Чарльз Темпл, Курт Мередит, Джинни Стилл, Дона Огл, а в России – красноярские ученые и практики А.Бутенко, Е.Ход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Эта технология тесно связана с понятием личностно - ориентированного обу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о понимается под критическим мышлением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Американские авторы понимают проявление детской любознательности, выработку собственной точки зрения по определенному вопросу, способность отстоять ее логическими доводами, использование исследовательских мет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 процессе применения технологии развития критического мыш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ются общеучебные умения: умение работать в группе; умение графически оформить текстовый материал; умение творчески интерпретировать имеющуюся информацию; умение распределить информацию по степени новизны и значимости; умение обобщить полученные зн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появляется возможность объединить отдельные дисципл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ются условия для вариативности и дифференциации обуч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ется собственная технология об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В технологии КМ выделяются три стадии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1) выз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2) осмысление новой информаци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3) рефлек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Технология КМ предлагает шесть типов взаимосвязанных уроков, в результате которых раскрывается творческий потенциал учащих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 CYR"/>
                <a:ea typeface="Arial CYR"/>
              </a:rPr>
              <a:t>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Кластеры</a:t>
            </a:r>
            <a:r>
              <a:rPr b="0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 – это графические систематизаторы, которые показывают несколько различных типов связи между объектами или явлениями. В центре листа пишется слово (тема, проблема). Далее вокруг этого слова записываются слова или предложения, которые приходят на ум в связи с этой те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Инсерт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– прием маркировки текста. Учащимся предлагается система маркировки текста, включающая следующие знач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» – галочкой отмечается то, что извест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–» – знаком «минус» помечается то, что противоречит представлениям читающего, вызывает сом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+» – знаком «плюс» помечается то, что является для читателя интересным и неожидан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?» – вопросительный знак ставится, если у читателя возникло желание узнать о том, что описывается, более подроб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елитесь на 2 коман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спомните все, что вы уже знаете на тему «Синтаксис». Для этого «соберите» предложение, которое «рассыпалось» на следующие словоформ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1-я команда. 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Опустилась, трудного, ночь, внезапно, тихая, после дня, город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2-я команда. 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Заходящего, от лучей, сосен, казались, солнца, стволы, золотыми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ируйте сведения, оформив их класте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Какие трудности встретились вам при выполнении зада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на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+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нов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–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ызывает сом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?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толстые и тонкие вопросы по ходу чт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фология и синтаксис – два раздела граммат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фология изучает формы сл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таксис изучает строение словосочет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зи между словами определяем с помощью вопросов, окончаний и предлог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формы сцеплены попарно – главный закон синтаксис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вопросов мы извлекаем грамматическое знач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мматическая связь позволяет передать смысловую связь с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без вопросов определить связи между словами в предлож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нк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уровня усвоения А: Что такое синтаксис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связь между синтаксисом и пунктуацией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лсты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уровня усвоения В – С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язаны морфология и синтаксис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существляется синтаксическая связь слов? Какие типы синтаксической связи существуют? Почем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цузская мастер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ла в 20-х годах ХХ века, но только с 1984 года окончательно признана Министерством образования Фран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ледние годы объединение возглавлял Анри Бассис - известный французский педагог, поэт и драматург, общественный деяте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84700"/>
                </a:solidFill>
                <a:latin typeface="Arial CYR"/>
                <a:ea typeface="Arial CYR"/>
              </a:rPr>
              <a:t>Стадия рефлек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х мастерски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зволяет решить задач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ного саморазвит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ой мотивации: повышения интереса к процессу обучения и активного восприятия учебного материал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альной грамотности и креативности: навыков и умений творческого постижения и осмысления нового зн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ы речи: навыков аргументированного говорения и письм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й компетентности: коммуникативных навыков и ответственности за знани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и Вартека, развивающие фантазию, логическое мышл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бука словесного искусств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циативное мышл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арь настроений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льная педагогика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бука словесного искус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изучения литературы — сам человек (внутренний мир человека, поступки, действия, эмоци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уроках и дома больше нужно создавать сами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 — это вид искусства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рода в литерату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 А. Фет «Даль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аком волнист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х встаёт вда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ный или пеший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е видать в пы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жу: кто-то ска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лихом к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руг мой, друг далёк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помни обо мне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3 г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 А. Фет «Даль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аком волнист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х встаёт вда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ный или пеший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е видать в пы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жу: кто-то ска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лихом к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руг мой, друг далёк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помни обо мне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3 г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мн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ность, определё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Г не равен автор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прочита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ит, иди молотит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Брюхо болит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ит, иди щи хлебат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А где моя большая лож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шите героев этой побасёнки?  Театрально обыграйте  данное произ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цузская мастерская должна не только давать знания, умения и навыки, но и развивать творческую и эмоциональную сторону уча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B5EF-003D-42B5-B8FB-1A3EE15B4B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3D6C-1DF5-4AC4-8B66-1C0D7931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8DBD-83A4-41A3-80D2-03096574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3F28-E354-4EE3-AB12-2B9188C96A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091D8-D176-4A61-AE72-3B0ECADB69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30230-6AF1-4FC0-83E8-CBDFA878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EB755-7558-4271-B7FF-9556FA91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F1CD5-52BA-40E6-9EAB-67BC1B2A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87707-0E69-489A-8D92-CCD0C229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D171B-A696-4EC0-A5B2-676C8AE8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87925-A266-4206-930F-32843837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40876-EA21-4CE7-8DE2-031581DE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7611C-8AC3-41A8-9793-DC705C6B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403DC-F2C3-450D-AB19-C7A88FD3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64A85-97F9-47A7-9C4F-5C552649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9E77B-B7A8-47F2-84C1-00D6318E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92F79-081C-4544-B6D2-51AD5E474B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803E-650B-4D43-9B3F-0F8BF59392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9F3A-47C4-4B03-8985-F8A599AA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4C00-1A49-4378-ADA6-D625C5A8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ADF2-4CA1-4833-B470-A935B0A0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D841-602D-444E-84D6-4847285E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5372-9852-49BF-AD82-7667F34B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D7C9-C36E-4F88-BA12-051353F1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2F9D-D0DF-47FE-8B9A-F54E745C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9508-6E6F-45F3-9C2B-F531DD6B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73BA-4492-4A15-A9C7-C837B02E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1B7D-9510-4464-8CA5-11467A8E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EBFF-3D62-4096-B84C-FFE957CD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B58C-F30D-48B6-8944-F894FC208A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501EC-5791-42B5-A131-94A4ED33A2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4171D-3DCD-4F35-9839-2F8E1130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53D48-91C5-4FBC-873C-3789456F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6702-2E6F-48D7-B542-B8CDE158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E4B02-299E-4A54-B507-D736BED5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F58BB-7580-4292-8C57-CCED348D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2F7A1-C5F9-4A09-AA70-BC2F8AF3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7971B-F985-472B-925E-9E4E4808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3E58F-E993-4669-839E-45C2411B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95FAC-E2E1-4902-935F-0F0D7555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CEE7E-0CEC-429C-902A-123C366B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E8C0E-C4AF-4485-8660-C8F361A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93EEA-896E-49B4-98EC-403E5618CB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C4A474-3A4A-4E41-897C-B81BB0DE84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4C85-7D82-42D0-899F-1C2DBADC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BDDF4-AB77-4669-A660-5E2A16DE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035B6C-442C-4282-990E-071612C3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453EC5-AB9A-4C23-943F-CD07748F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33B848-5A9F-4E24-8EB6-2BB47AEC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8CFC71-D299-4EFE-BE61-8848569C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D6B66-C12C-437C-93A2-15CFCC4D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7EEA10-8B75-446A-A0AD-4BB5C87F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45AB3F-3110-471E-BF9F-CA91A454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68D9E5-CA1D-48F1-80BE-5961DCA4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46795D-DF88-4C8A-B239-F0B1013E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229D-41C2-4113-A40C-A9B2CFEA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6E3BD4-AE1E-4EF6-9578-61704F6FAD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85AC2-7652-4F4A-808F-7AA47FA774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1FF2C-A3F5-4190-BE60-A6A795D4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5922C-FB33-403E-A1AC-3097C0F1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72D5C-7BB5-42D1-B1E5-60145A62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52FB7-5502-4C07-A983-B86A5747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AAA11-43FA-409C-932C-8DCD6A35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987C0-704D-40A0-9028-880FC61B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3FAD1-5476-4965-9F83-8B10D132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BB706-EBBC-4D10-8A62-751D9669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7E08-E4FC-465A-B975-1C2B7DC3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6D353-9405-4B5E-8B5B-A9201392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06180-8B86-4A4D-9137-D741BE83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BC986-D588-46FD-BC3F-84F7CE9199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34069-D699-4314-AE08-2C7DE29F75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5E5FE-8976-45E5-B920-DCCF7A7A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36CA8-D386-47E2-AE17-492E3318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82EC12-35A0-4423-A58F-53E46218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808CD-D20E-487F-9E8E-A20ED2D1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EFD549-DC70-4F71-839C-2D179ACB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28B48-2D6C-4C12-9060-E3796F70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B0CB1-5187-4231-B06E-75EFC25C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29248-1034-4DF6-8FAF-50B5BC54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22A6B-C332-40C7-A1F4-D55DA3D3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DDF0F-40F4-4AFA-9133-A0775C96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E1D52-1291-49E8-B717-E99777A1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8CF8D-775E-44AD-986A-4349356659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B37CF-7F83-412C-AE87-62E9CDC2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52440" y="121284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D3A06-C200-445E-9776-00738F2B597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40000">
              <a:off x="352440" y="121284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14400" y="1407960"/>
            <a:ext cx="227160" cy="220680"/>
            <a:chOff x="914400" y="1407960"/>
            <a:chExt cx="227160" cy="22068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43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600E83-61D7-4E13-8D7C-EE8C6361069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163600" y="2809800"/>
            <a:ext cx="227160" cy="220680"/>
            <a:chOff x="2163600" y="2809800"/>
            <a:chExt cx="227160" cy="22068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2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D2F500-BFEE-4B4A-9F81-D4123BE857E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5485D2-0CB4-40B5-9370-367004D0471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6F0108-E477-4F72-9135-696369C63AD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DB5ECA-26AB-4151-ADA2-7DF27F4885D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"/>
          <p:cNvGrpSpPr/>
          <p:nvPr/>
        </p:nvGrpSpPr>
        <p:grpSpPr>
          <a:xfrm>
            <a:off x="646200" y="969840"/>
            <a:ext cx="4798800" cy="4797720"/>
            <a:chOff x="646200" y="969840"/>
            <a:chExt cx="4798800" cy="479772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880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66960" cy="45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 flipH="1" rot="2100000">
            <a:off x="5003640" y="94140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DCB4DB-5B6F-45AC-BF14-67D67D2F547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258920" y="1557360"/>
            <a:ext cx="74073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стер-класс по педагогическим технологиям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414440" y="5388120"/>
            <a:ext cx="74055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итель русского языка и литературы – Воронков А.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охновская СОШ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ехнология </a:t>
            </a:r>
            <a:br>
              <a:rPr sz="36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«Развитие критического мышления»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чики технологии «Развитие критического мышления через чтение и письмо» – американцы Чарльз Темпл, Курт Мередит, Джинни Стилл, Дона Огл, а в России – красноярские ученые и практики А.Бутенко, Е.Ходо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Эта технология тесно связана с понятием личностно - ориентированного обуч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Что понимается под критическим мышлением?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Американские авторы понимают проявление детской любознательности, выработку собственной точки зрения по определенному вопросу, способность отстоять ее логическими доводами, использование исследовательских метод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 CYR"/>
                <a:ea typeface="Arial CYR"/>
              </a:rPr>
              <a:t>В процессе применения технологии развития критического мышления: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ются общеучебные умения: умение работать в группе; умение графически оформить текстовый материал; умение творчески интерпретировать имеющуюся информацию; умение распределить информацию по степени новизны и значимости; умение обобщить полученные зна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появляется возможность объединить отдельные дисциплины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ются условия для вариативности и дифференциации обуче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ется собственная технология обуч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 CYR"/>
                <a:ea typeface="Arial CYR"/>
              </a:rPr>
              <a:t>В технологии КМ выделяются три стадии: 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1) вызов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2) осмысление новой информации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3) рефлексия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 CYR"/>
                <a:ea typeface="Arial CYR"/>
              </a:rPr>
              <a:t>Технология КМ предлагает шесть типов взаимосвязанных уроков, в результате которых раскрывается творческий потенциал учащихся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1079640" y="1800360"/>
            <a:ext cx="77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1260360" y="1163520"/>
            <a:ext cx="7559640" cy="36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я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79640" y="1079640"/>
            <a:ext cx="792000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Кластеры</a:t>
            </a: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 – это графические систематизаторы, которые показывают несколько различных типов связи между объектами или явлениями. В центре листа пишется слово (тема, проблема). Далее вокруг этого слова записываются слова или предложения, которые приходят на ум в связи с этой тем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Инсерт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 – прием маркировки текста. Учащимся предлагается система маркировки текста, включающая следующие значк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» – галочкой отмечается то, что известно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–» – знаком «минус» помечается то, что противоречит представлениям читающего, вызывает сомне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+» – знаком «плюс» помечается то, что является для читателя интересным и неожиданны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?» – вопросительный знак ставится, если у читателя возникло желание узнать о том, что описывается, более подробн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елитесь на 2 коман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спомните все, что вы уже знаете на тему «Синтаксис». Для этого «соберите» предложение, которое «рассыпалось» на следующие словоформы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1-я команда. </a:t>
            </a:r>
            <a:r>
              <a:rPr b="0" i="1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Опустилась, трудного, ночь, внезапно, тихая, после дня, город</a:t>
            </a: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2-я команда. </a:t>
            </a:r>
            <a:r>
              <a:rPr b="0" i="1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Заходящего, от лучей, сосен, казались, солнца, стволы, золотыми</a:t>
            </a: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ируйте сведения, оформив их кластеро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Какие трудности встретились вам при выполнении задания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" descr=""/>
          <p:cNvPicPr/>
          <p:nvPr/>
        </p:nvPicPr>
        <p:blipFill>
          <a:blip r:embed="rId2"/>
          <a:stretch/>
        </p:blipFill>
        <p:spPr>
          <a:xfrm>
            <a:off x="1800360" y="720720"/>
            <a:ext cx="630072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217520" y="228600"/>
          <a:ext cx="7239240" cy="6432480"/>
        </p:xfrm>
        <a:graphic>
          <a:graphicData uri="http://schemas.openxmlformats.org/drawingml/2006/table">
            <a:tbl>
              <a:tblPr/>
              <a:tblGrid>
                <a:gridCol w="1760760"/>
                <a:gridCol w="1825560"/>
                <a:gridCol w="1827000"/>
                <a:gridCol w="1825920"/>
              </a:tblGrid>
              <a:tr h="843120"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V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зна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+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нов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–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вызывает сом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?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толстые и тонкие вопросы по ходу чт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893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рфология и синтаксис – два раздела грамматик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рфология изучает формы слов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интаксис изучает строение словосочетаний и предложени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вязи между словами определяем с помощью вопросов, окончаний и предлог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ловоформы сцеплены попарно – главный закон синтаксиса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 помощью вопросов мы извлекаем грамматическое значение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Грамматическая связь позволяет передать смысловую связь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жно ли без вопросов определить связи между словами в предложе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Тонкие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опросы уровня усвоения А: Что такое синтаксис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 чем связь между синтаксисом и пунктуацией?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Толст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опросы уровня усвоения В – С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Как связаны морфология и синтаксис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Как осуществляется синтаксическая связь слов? Какие типы синтаксической связи существуют? Почем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ранцузская мастерска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зникла в 20-х годах ХХ века, но только с 1984 года окончательно признана Министерством образования Фран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последние годы объединение возглавлял Анри Бассис - известный французский педагог, поэт и драматург, общественный деятел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9640" y="34560"/>
            <a:ext cx="74977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4700"/>
                </a:solidFill>
                <a:latin typeface="Arial CYR"/>
                <a:ea typeface="Arial CYR"/>
              </a:rPr>
              <a:t>Стадия рефлекси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701964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Технология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едагогических мастерских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позволяет решить задачи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294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ичностного саморазвит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разовательной мотивации: повышения интереса к процессу обучения и активного восприятия учебного материал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ункциональной грамотности и креативности: навыков и умений творческого постижения и осмысления нового знан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ультуры речи: навыков аргументированного говорения и письм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циальной компетентности: коммуникативных навыков и ответственности за знание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уги Вартека, развивающие фантазию, логическое мышлен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збука словесного искусст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ссоциативное мышле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оварь настроени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узыкальная педагогика и др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збука словесного искусств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мет изучения литературы — сам человек (внутренний мир человека, поступки, действия, эмоции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ах и дома больше нужно создавать сами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итература — это вид искусства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рода в литератур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 А. Фет «Даль»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80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блаком волнисты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ах встаёт вдал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нный или пеший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е видать в пыл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ижу: кто-то скач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 лихом ко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руг мой, друг далёкий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спомни обо мне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43 год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 А. Фет «Даль»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94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Облаком волнистым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Прах встаёт вдал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Конный или пеший-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е видать в пыл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ижу: кто-то скаче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а лихом кон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Друг мой, друг далёкий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спомни обо мне!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1843 год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40000" y="1440000"/>
            <a:ext cx="43196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ру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мн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Ясность, определён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ал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дос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ЛГ не равен автору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нализ прочитанного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Тит, иди молотить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Брюхо болит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Тит, иди щи хлебать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А где моя большая ложк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ишите героев этой побасёнки?  Театрально обыграйте  данное произвед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ранцузская мастерская должна не только давать знания, умения и навыки, но и развивать творческую и эмоциональную сторону учащихс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6:52:33Z</dcterms:created>
  <dc:creator>Алексей</dc:creator>
  <dc:description/>
  <dc:language>en-US</dc:language>
  <cp:lastModifiedBy>LEGION</cp:lastModifiedBy>
  <dcterms:modified xsi:type="dcterms:W3CDTF">2015-01-26T13:56:16Z</dcterms:modified>
  <cp:revision>7</cp:revision>
  <dc:subject/>
  <dc:title>Готовимся к ЕГЭ (часть А) </dc:title>
</cp:coreProperties>
</file>