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ритического мышле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онимается под критическим мышлением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на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+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ов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–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ызывает сом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толстые и тонкие вопросы по ходу чт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 синтаксис – два раздела граммат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зучает формы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таксис изучает строение словосочет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и между словами определяем с помощью вопросов, окончаний и предлог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формы сцеплены попарно – главный закон синтаксис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вопросов мы извлекаем грамматическое знач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мматическая связь позволяет передать смысловую связь с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без вопросов определить связи между словами в предло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нк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А: Что такое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связь между синтаксисом и пунктуацией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лсты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В – С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язаны морфология и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существляется синтаксическая связь слов? Какие типы синтаксической связи существуют? Почем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х мастерск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зволяет решить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ного саморазви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ы речи: навыков аргументированного говорения и письм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й компетентности: коммуникативных навыков и ответственности за знани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и Вартека, развивающие фантазию, логическое мышл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циативное мышл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рь настроени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льная педагогика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ках и дома больше нужно создавать сам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 — это вид искусств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рода в литерату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ность, определё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Г не равен авто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прочита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молоти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Брюхо болит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щи хлеба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А где моя большая лож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шите героев этой побасёнки?  Театрально обыграйте  данное произ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D395-08D0-4064-9DE9-F75A3DE73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C3E5-CC8C-4089-B30C-E63BD626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FCB0-3C34-429E-A2F5-B7B39E8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A448-2829-4528-9C87-FF73B044BC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A7F4D-1348-4073-B1E6-CC712AAC6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837FA-738C-4808-8863-531FB765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61D08-6B33-454A-A2C9-A9DC5021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51891-19EF-4DB7-8F52-9062C698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82440-8191-423A-A6BC-EB82FFF9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752B2-3499-417B-A414-8A1D11D4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848E8-09BD-4EC6-9A47-A04733E0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C54F-06DD-4631-977D-3B73E02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64133-D135-4A6B-BEE6-1EE0047D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174F2-2110-40F3-B6B3-9E23D054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36427-C9C0-4708-89A7-986299B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109F1-A0D8-4BB3-8AD5-DF26BCC5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1A197-8D13-47AD-9F4B-F23C0678B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931A-5189-4041-B483-8DCF9B83E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A832-97AD-4571-9367-76A58BC2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1FB1-4D08-4758-8EE0-716901B4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1C08-97EC-424B-BC1E-50CB77D6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8D87-0619-48FD-9D10-D844F09F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1D19-5E56-4197-A98E-42A45A3E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F09-5AF4-40B0-A345-E6556A37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77B0-ADAD-4EE6-88B7-228DD6EE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52EC-6444-4B57-A8B9-9A8CBC56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01F7-6E7B-4DC2-8589-A106E088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3E28-05FC-4474-BF31-D3F3FD50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49E8-03BE-48CB-AAEF-16CFA8BA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CC55-4B7E-42BA-B3F4-7A9645A73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C3BA6-5AA4-446B-B083-AB93D97DB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1ABAC-E2EA-4D31-B4DC-946E184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28BB1-49B1-4A7C-82F6-0EBAEBE0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56A3-53D3-4834-B703-AF88D22C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A9DB1-D5D4-4164-934A-0BC36C1A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DF9FB-C110-4A2D-852D-DACF9624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0563C-70F7-4033-8138-89292F66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815F9-45E7-461B-808B-4C7A43FA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3E864-FF34-494F-9422-40E50531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34725-E9AE-4AD6-BD0D-208F79A0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75F37-24AD-4E9A-890C-E47991C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B8BB6-B9CF-46A9-8B3D-AFF9C2A4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17DFF-1908-4177-A9E5-EAE8DD80D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2827A-B3E3-415C-88CD-5EBF812C9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3C37-A533-4A01-877B-36F97360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CCC13-F4C2-4DB2-86A0-3118ACC5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4017F-9682-4B6E-B2BD-B9C30E31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18874-FEF0-4358-825F-E76C08DB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315551-8D2D-422E-839E-6207DD1F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25082-F3F9-4A57-8E18-F1F0B4A8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802C6-8CC4-4372-9B43-93E67656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92959-58B9-4FCD-AD6C-429A6FAE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53F0E-3AD0-4D5D-9C2B-10716881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C6E9C-0AAE-4C5A-B4AD-AD954C45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63346-DFD8-4AAB-8DA0-04291048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7F69-4B10-42EC-BF09-8DFFB701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62234-51FB-4421-8CC9-511DEF8E8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0AAC-040B-4C0D-B5E8-2D7F7608DD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B7AF-B8BD-4AF7-BDB6-F0B3A15B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B5ED-DA1F-4FAA-9249-D2205784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6B50E-84A7-40BB-8325-4ECB1EF6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017DF-2BF3-44AA-A6FC-DEB7BD42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A822-8E6C-47FF-9646-63CD39C6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CE3C-4E18-4679-B599-FB135DD2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09481-1C92-4BC0-8C52-63A6DFE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278A5-E184-4D40-B5D5-0AF3B25A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9A73-44A4-4CA4-88B1-06CAC44C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2822-E00C-4882-84B7-E8D02FA7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A167-4DC1-4F7E-A0A6-D0D101C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6034-242B-4486-A491-12F9BBF444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67362-79E0-4337-A009-3F6B1E3ED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D7B12-2627-4077-B533-676D6CFB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E8511-9339-4754-92D3-9C5A0CD7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DC1A5-7DFB-45C8-9C23-5A8B7FB8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73F60-1668-4238-B65D-1A414039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7FAA2-3682-4FCE-857D-E6EC0A36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A8D58-22CD-48A8-AD6B-EAF13BCB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B1E1-9701-483E-8BBA-C98F8E29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D1A3B-4182-4A85-9C1C-658FF3FE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B0357-1EFC-47AC-8B4F-12C5F79E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C0372-AEF1-4506-A2A2-4E1E3D47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53ED9-21F6-4958-A9F7-3008C95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DD546-863F-4F97-9113-2B6CA07274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8CF1-56D1-4018-B107-914FA985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EFD57-B655-4C09-BB64-3E77FE66933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27160" cy="220680"/>
            <a:chOff x="914400" y="1407960"/>
            <a:chExt cx="227160" cy="22068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399757-E4C4-4DFC-B32C-6548D5E9CE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27160" cy="220680"/>
            <a:chOff x="2163600" y="2809800"/>
            <a:chExt cx="227160" cy="2206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2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219AB5-9A06-4D61-9CF9-E84BB8C3C6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F1B60C-4270-43A2-BF24-0B316682DA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00A2F5-E956-4897-A820-46A998907B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AF9019-962A-44B2-A69B-71D4C3EB28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798800" cy="4797720"/>
            <a:chOff x="646200" y="969840"/>
            <a:chExt cx="479880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88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66960" cy="45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2F8FB9-9A26-4489-96C8-CF155A3F06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25892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14440" y="5388120"/>
            <a:ext cx="7405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– Воронков А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охновская СОШ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br>
              <a:rPr sz="36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Развитие критического мышления»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то понимается под критическим мышлением?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77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1260360" y="1163520"/>
            <a:ext cx="755964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я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9640" y="1079640"/>
            <a:ext cx="79200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800360" y="720720"/>
            <a:ext cx="63007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7520" y="228600"/>
          <a:ext cx="7239240" cy="6432480"/>
        </p:xfrm>
        <a:graphic>
          <a:graphicData uri="http://schemas.openxmlformats.org/drawingml/2006/table">
            <a:tbl>
              <a:tblPr/>
              <a:tblGrid>
                <a:gridCol w="1760760"/>
                <a:gridCol w="1825560"/>
                <a:gridCol w="1827000"/>
                <a:gridCol w="1825920"/>
              </a:tblGrid>
              <a:tr h="8431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V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зн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но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–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вызывает сом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?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толстые и тонкие вопросы по ходу чт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89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 синтаксис – два раздела грамматик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зучает формы сл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интаксис изучает строение словосочетаний и предложени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вязи между словами определяем с помощью вопросов, окончаний и предлог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ловоформы сцеплены попарно – главный закон синтаксис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 помощью вопросов мы извлекаем грамматическое значени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Грамматическая связь позволяет передать смысловую связь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жно ли без вопросов определить связи между словами в предлож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нкие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А: Что такое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 чем связь между синтаксисом и пунктуацией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лст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В – С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связаны морфология и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осуществляется синтаксическая связь слов? Какие типы синтаксической связи существуют? 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ранцузская мастерска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9640" y="3456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0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едагогических мастерских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позволяет решить задачи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29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чностного саморазвит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льтуры речи: навыков аргументированного говорения и письм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ой компетентности: коммуникативных навыков и ответственности за знани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ги Вартека, развивающие фантазию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бука словесного искусст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социативное мышле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рь настроени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узыкальная педагогика и д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збука словесного искус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ах и дома больше нужно создавать сам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тература — это вид искусства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рода в литератур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80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94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0000" y="1440000"/>
            <a:ext cx="43196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мн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сность, определён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д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Г не равен автор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ализ прочитанного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молоти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Брюхо болит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щи хлеба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А где моя большая лож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шите героев этой побасёнки?  Театрально обыграйте  данное произвед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2:33Z</dcterms:created>
  <dc:creator>Алексей</dc:creator>
  <dc:description/>
  <dc:language>en-US</dc:language>
  <cp:lastModifiedBy>LEGION</cp:lastModifiedBy>
  <dcterms:modified xsi:type="dcterms:W3CDTF">2015-01-26T13:56:16Z</dcterms:modified>
  <cp:revision>7</cp:revision>
  <dc:subject/>
  <dc:title>Готовимся к ЕГЭ (часть А) </dc:title>
</cp:coreProperties>
</file>