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18DB-E525-48B0-9B5E-2572520B2C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1C3F-DD29-425F-A34B-685A30780E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ИНТЕРАК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ДО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Дорогие учителя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Посетите эти сайт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там Вы найдете много интересного и полезного</a:t>
            </a: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http://interaktiveboard.ru/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- сайт с разработками интерактивных уроков и презентаций, функции ИД, как работать с И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2. http://metodisty.ru/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-  умные уроки SMART, разработки ур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3. http://pedsovet.su/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- огромный сайт с презентациям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для тех у кого нет  И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85DF-E0ED-45B8-BA8D-765D3CC31F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Спасибо за внимание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BDAC-C0B9-4E7B-A8FE-B9E60EE67F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2E21-2B4B-4523-A2B1-CBD6761C81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ает использование ИД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1BCC-4890-48DC-93DD-E01DE9C1DD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тряется вос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Ы   ВОСПРИНИМА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10%  из того, что мы ЧИТА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20%  из того, что мы СЛЫ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30%  из того, что мы ВИД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50%  из того, что мы ВИДИМ и СЛЫ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70%  из того, что ОБСУЖДАЕМ с друг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80%  из того, что мы ИСПЫТЫВАЕМ ли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95%  из того, что мы ПРЕПОДАЕМ кому-то е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Уильям Гласс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6427-A794-4971-A8E9-2E5D0C501F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6DD3-D6E8-45CF-AD51-51B96D9886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79DB-BF5B-4761-9742-D1BFBFA12C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 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B281-D25F-448B-AAC3-FB9D0F4D7A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Пр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мультимедийного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Как бы ни был разработан урок, многое зависит от того, как учитель подготовится к н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Учитель должен не только, и не столько (!), уверенно владеть компьютером, знать содержание урока, но вести его в хорошем темпе, непринужденно, постоянно вовлекая в познавательный процесс учеников. Необходимо продумать смену ритма, разнообразить формы учебной деятельности, подумать, как выдержать при необходимости паузу, как обеспечить положительный </a:t>
            </a:r>
            <a:r>
              <a:rPr b="1" i="1" lang="ru-RU" sz="1200" spc="-1" strike="noStrike">
                <a:solidFill>
                  <a:srgbClr val="0066ff"/>
                </a:solidFill>
                <a:latin typeface="Times New Roman"/>
              </a:rPr>
              <a:t>эмоциональный фон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7976-9C6C-43BA-BBF9-D798EA7859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Благодаря  </a:t>
            </a:r>
            <a:r>
              <a:rPr b="1" i="1" lang="ru-RU" sz="1200" spc="-1" strike="noStrike">
                <a:solidFill>
                  <a:srgbClr val="0066ff"/>
                </a:solidFill>
                <a:latin typeface="Times New Roman"/>
              </a:rPr>
              <a:t>мультимедийному сопровождению  занятий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, учитель экономит до 30% учебного времени, нежели при работе у классной доски. Он не должен думать о т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чт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ему не хватит места на доск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какого качества ме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понятно ли все написанн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Экономя время, учитель может увеличить плотность урока, обогатить его нов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                       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содержа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B9FF-DA31-4E7B-9A36-697E318A6A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Основные дово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сторонник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использования 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в учебн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включить каждого ученика в процесс самостоятельной деятельности с учетом его индивидуальных способнос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осуществлять переход от простых знаний к более сложны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оптимизировать взаимодействие учеников и учителя на всех этапах уро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расширить сферу самостоятельной познавательной деятельности учащих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CB22-5E34-47C2-8CAC-903BF499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C449-D4E8-4F36-8CFA-5CA6A609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05AA-5FDD-4B5F-B914-ECCB1EB6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3275-D188-4850-9BAA-27AED2C3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1BB8-5AF6-4E8E-A55C-166ACE62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5729-DA8E-4C0F-BB66-E5B2233A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4263-BD72-48DC-8785-986725D0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9F6D-975B-4D03-999E-F6FB245B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572A-5527-488A-892E-F7326B26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5051-7C3B-41ED-9C08-819D7C45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F7EC-217C-4C8E-89C6-2FF49C52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1E85-95BD-4EAD-B24F-8FC8D408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CF21-611C-43A3-9694-3DD6F14946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49" name="Freeform 3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>
                <a:gd name="textAreaLeft" fmla="*/ 0 w 7721280"/>
                <a:gd name="textAreaRight" fmla="*/ 7721640 w 7721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>
                <a:gd name="textAreaLeft" fmla="*/ 0 w 7696440"/>
                <a:gd name="textAreaRight" fmla="*/ 7696800 w 7696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WordArt 13"/>
          <p:cNvSpPr txBox="1"/>
          <p:nvPr/>
        </p:nvSpPr>
        <p:spPr>
          <a:xfrm>
            <a:off x="500040" y="928800"/>
            <a:ext cx="7848720" cy="457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НТЕРАКТИВНАЯ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ДОСКА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857160" y="571680"/>
            <a:ext cx="785808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Дорогие учител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Посетите эти сай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там Вы найдете много интересного и полезного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http://interaktiveboard.ru/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- сайт с разработками интерактивных уроков и презентаций, функции ИД, как работать с И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2. http://metodisty.ru/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-  умные уроки SMART, разработки уро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3. http://pedsovet.su/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- огромный сайт с презентация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для тех у кого нет  И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70c0"/>
                </a:solidFill>
                <a:latin typeface="Arial"/>
              </a:rPr>
              <a:t>Спасибо за внимание!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C:\Documents and Settings\1\Мои документы\Мои рисунки\0b08a3d46ea0846f232dc75cb7941a49.gif"/>
          <p:cNvPicPr/>
          <p:nvPr/>
        </p:nvPicPr>
        <p:blipFill>
          <a:blip r:embed="rId1"/>
          <a:stretch/>
        </p:blipFill>
        <p:spPr>
          <a:xfrm>
            <a:off x="2286000" y="2428920"/>
            <a:ext cx="4500720" cy="40003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ает использование ИД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1828800" y="1981080"/>
            <a:ext cx="699120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Интенсивность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1828800" y="2895480"/>
            <a:ext cx="6919920" cy="462240"/>
          </a:xfrm>
          <a:prstGeom prst="roundRect">
            <a:avLst>
              <a:gd name="adj" fmla="val 49106"/>
            </a:avLst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овышение интереса и мотив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828800" y="3809880"/>
            <a:ext cx="684684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Индивидуализация обу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1828800" y="4724280"/>
            <a:ext cx="677556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Эффективность подачи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1908000" y="5589720"/>
            <a:ext cx="699156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Неограниченные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стряется воспри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3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ececf5"/>
              </a:gs>
              <a:gs pos="100000">
                <a:srgbClr val="333399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"/>
          <p:cNvSpPr/>
          <p:nvPr/>
        </p:nvSpPr>
        <p:spPr>
          <a:xfrm>
            <a:off x="3809880" y="14479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c1e6e6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"/>
          <p:cNvSpPr/>
          <p:nvPr/>
        </p:nvSpPr>
        <p:spPr>
          <a:xfrm>
            <a:off x="1295280" y="2971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e6f4f5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6"/>
          <p:cNvSpPr/>
          <p:nvPr/>
        </p:nvSpPr>
        <p:spPr>
          <a:xfrm>
            <a:off x="2178000" y="4668840"/>
            <a:ext cx="1282680" cy="127476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7"/>
          <p:cNvSpPr/>
          <p:nvPr/>
        </p:nvSpPr>
        <p:spPr>
          <a:xfrm>
            <a:off x="4952880" y="4038480"/>
            <a:ext cx="1284480" cy="1274760"/>
          </a:xfrm>
          <a:prstGeom prst="ellipse">
            <a:avLst/>
          </a:prstGeom>
          <a:solidFill>
            <a:srgbClr val="ff99ff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8"/>
          <p:cNvSpPr/>
          <p:nvPr/>
        </p:nvSpPr>
        <p:spPr>
          <a:xfrm>
            <a:off x="6781680" y="16765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e6f3c1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554840" y="342900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в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4066920" y="19051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7023960" y="21337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ид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968720" y="450864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и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321640" y="5157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раф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429000" y="34336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2473200" y="1735200"/>
            <a:ext cx="1793880" cy="16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16"/>
          <p:cNvCxnSpPr/>
          <p:nvPr/>
        </p:nvCxnSpPr>
        <p:spPr>
          <a:xfrm flipH="1">
            <a:off x="456840" y="1734840"/>
            <a:ext cx="20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" name="Text Box 17"/>
          <p:cNvSpPr/>
          <p:nvPr/>
        </p:nvSpPr>
        <p:spPr>
          <a:xfrm>
            <a:off x="82080" y="126828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личные каналы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   ВОСПРИНИМ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5075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10%  из того, что мы ЧИТ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20%  из того, что мы СЛЫШ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30%  из того, что мы ВИД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50%  из того, что мы ВИДИМ и СЛЫШ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70%  из того, что ОБСУЖДАЕМ с друг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80%  из того, что мы ИСПЫТЫВАЕМ ли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95%  из того, что мы ПРЕПОДАЕМ кому-то е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Уильям Гласс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чество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2843280" y="3663360"/>
            <a:ext cx="2819160" cy="9172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917280"/>
              <a:gd name="textAreaBottom" fmla="*/ 917640 h 91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нообразие дидактически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5219640" y="3591720"/>
            <a:ext cx="4392720" cy="119160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1191600"/>
              <a:gd name="textAreaBottom" fmla="*/ 1191960 h 119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гно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кция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ия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0" y="3807360"/>
            <a:ext cx="2970360" cy="642600"/>
          </a:xfrm>
          <a:custGeom>
            <a:avLst/>
            <a:gdLst>
              <a:gd name="textAreaLeft" fmla="*/ 0 w 2970360"/>
              <a:gd name="textAreaRight" fmla="*/ 2970720 w 297036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ff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ая траек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0" y="2276640"/>
            <a:ext cx="2771640" cy="720720"/>
          </a:xfrm>
          <a:prstGeom prst="roundRect">
            <a:avLst>
              <a:gd name="adj" fmla="val 50000"/>
            </a:avLst>
          </a:prstGeom>
          <a:solidFill>
            <a:srgbClr val="00ff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сон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5940360" y="2276640"/>
            <a:ext cx="2737080" cy="64764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ьютер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3132000" y="2276640"/>
            <a:ext cx="2305080" cy="718920"/>
          </a:xfrm>
          <a:prstGeom prst="roundRect">
            <a:avLst>
              <a:gd name="adj" fmla="val 50000"/>
            </a:avLst>
          </a:prstGeom>
          <a:solidFill>
            <a:srgbClr val="ccff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можности 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2187720" y="417816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 rot="20601600">
            <a:off x="1012680" y="2130120"/>
            <a:ext cx="6253200" cy="323532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"/>
          <p:cNvSpPr/>
          <p:nvPr/>
        </p:nvSpPr>
        <p:spPr>
          <a:xfrm rot="20601600">
            <a:off x="1490400" y="1463400"/>
            <a:ext cx="6210360" cy="354312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rc 6"/>
          <p:cNvSpPr/>
          <p:nvPr/>
        </p:nvSpPr>
        <p:spPr>
          <a:xfrm rot="20601600">
            <a:off x="4390920" y="2975040"/>
            <a:ext cx="2652840" cy="1320840"/>
          </a:xfrm>
          <a:custGeom>
            <a:avLst/>
            <a:gdLst>
              <a:gd name="textAreaLeft" fmla="*/ 0 w 2652840"/>
              <a:gd name="textAreaRight" fmla="*/ 2653200 w 2652840"/>
              <a:gd name="textAreaTop" fmla="*/ 0 h 1320840"/>
              <a:gd name="textAreaBottom" fmla="*/ 1320840 h 1320840"/>
            </a:gdLst>
            <a:ahLst/>
            <a:rect l="textAreaLeft" t="textAreaTop" r="textAreaRight" b="textAreaBottom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rc 7"/>
          <p:cNvSpPr/>
          <p:nvPr/>
        </p:nvSpPr>
        <p:spPr>
          <a:xfrm rot="20601600">
            <a:off x="4133880" y="1755360"/>
            <a:ext cx="2997000" cy="1746360"/>
          </a:xfrm>
          <a:custGeom>
            <a:avLst/>
            <a:gdLst>
              <a:gd name="textAreaLeft" fmla="*/ 0 w 2997000"/>
              <a:gd name="textAreaRight" fmla="*/ 2997360 w 2997000"/>
              <a:gd name="textAreaTop" fmla="*/ 0 h 1746360"/>
              <a:gd name="textAreaBottom" fmla="*/ 1746720 h 174636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8"/>
          <p:cNvSpPr/>
          <p:nvPr/>
        </p:nvSpPr>
        <p:spPr>
          <a:xfrm flipH="1" rot="20602200">
            <a:off x="1199160" y="3333240"/>
            <a:ext cx="3289320" cy="1665360"/>
          </a:xfrm>
          <a:custGeom>
            <a:avLst/>
            <a:gdLst>
              <a:gd name="textAreaLeft" fmla="*/ -360 w 3289320"/>
              <a:gd name="textAreaRight" fmla="*/ 3289320 w 328932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9"/>
          <p:cNvSpPr/>
          <p:nvPr/>
        </p:nvSpPr>
        <p:spPr>
          <a:xfrm rot="20601600">
            <a:off x="3333240" y="1195200"/>
            <a:ext cx="2891160" cy="1930320"/>
          </a:xfrm>
          <a:custGeom>
            <a:avLst/>
            <a:gdLst>
              <a:gd name="textAreaLeft" fmla="*/ 0 w 2891160"/>
              <a:gd name="textAreaRight" fmla="*/ 2891520 w 2891160"/>
              <a:gd name="textAreaTop" fmla="*/ 0 h 1930320"/>
              <a:gd name="textAreaBottom" fmla="*/ 1930680 h 193032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rc 10"/>
          <p:cNvSpPr/>
          <p:nvPr/>
        </p:nvSpPr>
        <p:spPr>
          <a:xfrm flipH="1" rot="20602200">
            <a:off x="938880" y="1868400"/>
            <a:ext cx="3119400" cy="1936800"/>
          </a:xfrm>
          <a:custGeom>
            <a:avLst/>
            <a:gdLst>
              <a:gd name="textAreaLeft" fmla="*/ -360 w 3119400"/>
              <a:gd name="textAreaRight" fmla="*/ 3119400 w 3119400"/>
              <a:gd name="textAreaTop" fmla="*/ 0 h 1936800"/>
              <a:gd name="textAreaBottom" fmla="*/ 1937160 h 193680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 rot="20601600">
            <a:off x="4506840" y="3224160"/>
            <a:ext cx="1220760" cy="149868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2"/>
          <p:cNvSpPr/>
          <p:nvPr/>
        </p:nvSpPr>
        <p:spPr>
          <a:xfrm rot="20601600">
            <a:off x="4400280" y="2971440"/>
            <a:ext cx="2562120" cy="809640"/>
          </a:xfrm>
          <a:custGeom>
            <a:avLst/>
            <a:gdLst>
              <a:gd name="textAreaLeft" fmla="*/ 0 w 2562120"/>
              <a:gd name="textAreaRight" fmla="*/ 2562480 w 256212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3"/>
          <p:cNvGrpSpPr/>
          <p:nvPr/>
        </p:nvGrpSpPr>
        <p:grpSpPr>
          <a:xfrm>
            <a:off x="3988800" y="2648160"/>
            <a:ext cx="3251880" cy="2231640"/>
            <a:chOff x="3988800" y="2648160"/>
            <a:chExt cx="3251880" cy="2231640"/>
          </a:xfrm>
        </p:grpSpPr>
        <p:sp>
          <p:nvSpPr>
            <p:cNvPr id="106" name="Arc 14"/>
            <p:cNvSpPr/>
            <p:nvPr/>
          </p:nvSpPr>
          <p:spPr>
            <a:xfrm rot="20712600">
              <a:off x="4102200" y="3003120"/>
              <a:ext cx="2949480" cy="1271880"/>
            </a:xfrm>
            <a:custGeom>
              <a:avLst/>
              <a:gdLst>
                <a:gd name="textAreaLeft" fmla="*/ 0 w 2949480"/>
                <a:gd name="textAreaRight" fmla="*/ 2949840 w 2949480"/>
                <a:gd name="textAreaTop" fmla="*/ 0 h 1271880"/>
                <a:gd name="textAreaBottom" fmla="*/ 1272240 h 127188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5"/>
            <p:cNvSpPr/>
            <p:nvPr/>
          </p:nvSpPr>
          <p:spPr>
            <a:xfrm rot="20712600">
              <a:off x="4186440" y="3192120"/>
              <a:ext cx="1377720" cy="153684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6"/>
            <p:cNvSpPr/>
            <p:nvPr/>
          </p:nvSpPr>
          <p:spPr>
            <a:xfrm rot="20712600">
              <a:off x="5562360" y="3360600"/>
              <a:ext cx="1579320" cy="979200"/>
            </a:xfrm>
            <a:custGeom>
              <a:avLst/>
              <a:gdLst>
                <a:gd name="textAreaLeft" fmla="*/ 0 w 1579320"/>
                <a:gd name="textAreaRight" fmla="*/ 1579680 w 157932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7"/>
          <p:cNvGrpSpPr/>
          <p:nvPr/>
        </p:nvGrpSpPr>
        <p:grpSpPr>
          <a:xfrm>
            <a:off x="4467600" y="2409480"/>
            <a:ext cx="3771000" cy="2784600"/>
            <a:chOff x="4467600" y="2409480"/>
            <a:chExt cx="3771000" cy="2784600"/>
          </a:xfrm>
        </p:grpSpPr>
        <p:sp>
          <p:nvSpPr>
            <p:cNvPr id="110" name="Freeform 18"/>
            <p:cNvSpPr/>
            <p:nvPr/>
          </p:nvSpPr>
          <p:spPr>
            <a:xfrm rot="20601600">
              <a:off x="6301080" y="3309840"/>
              <a:ext cx="1799640" cy="1224360"/>
            </a:xfrm>
            <a:custGeom>
              <a:avLst/>
              <a:gdLst>
                <a:gd name="textAreaLeft" fmla="*/ 0 w 1799640"/>
                <a:gd name="textAreaRight" fmla="*/ 1799640 w 1799640"/>
                <a:gd name="textAreaTop" fmla="*/ 0 h 1224360"/>
                <a:gd name="textAreaBottom" fmla="*/ 1224720 h 122436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rc 19"/>
            <p:cNvSpPr/>
            <p:nvPr/>
          </p:nvSpPr>
          <p:spPr>
            <a:xfrm rot="20539200">
              <a:off x="4626000" y="2882520"/>
              <a:ext cx="3360960" cy="1566360"/>
            </a:xfrm>
            <a:custGeom>
              <a:avLst/>
              <a:gdLst>
                <a:gd name="textAreaLeft" fmla="*/ 0 w 3360960"/>
                <a:gd name="textAreaRight" fmla="*/ 3361320 w 3360960"/>
                <a:gd name="textAreaTop" fmla="*/ 0 h 1566360"/>
                <a:gd name="textAreaBottom" fmla="*/ 1566720 h 156636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0"/>
            <p:cNvSpPr/>
            <p:nvPr/>
          </p:nvSpPr>
          <p:spPr>
            <a:xfrm rot="20601600">
              <a:off x="4778280" y="3119760"/>
              <a:ext cx="1540800" cy="1893240"/>
            </a:xfrm>
            <a:custGeom>
              <a:avLst/>
              <a:gdLst>
                <a:gd name="textAreaLeft" fmla="*/ 0 w 1540800"/>
                <a:gd name="textAreaRight" fmla="*/ 1541160 w 1540800"/>
                <a:gd name="textAreaTop" fmla="*/ 0 h 1893240"/>
                <a:gd name="textAreaBottom" fmla="*/ 1893600 h 18932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Oval 21"/>
          <p:cNvSpPr/>
          <p:nvPr/>
        </p:nvSpPr>
        <p:spPr>
          <a:xfrm rot="20601600">
            <a:off x="2979360" y="2617560"/>
            <a:ext cx="2695680" cy="1339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2"/>
          <p:cNvSpPr/>
          <p:nvPr/>
        </p:nvSpPr>
        <p:spPr>
          <a:xfrm rot="20601600">
            <a:off x="3056040" y="2852280"/>
            <a:ext cx="2624040" cy="1098720"/>
          </a:xfrm>
          <a:prstGeom prst="ellipse">
            <a:avLst/>
          </a:prstGeom>
          <a:gradFill rotWithShape="0">
            <a:gsLst>
              <a:gs pos="0">
                <a:srgbClr val="2b2b2b"/>
              </a:gs>
              <a:gs pos="100000">
                <a:srgbClr val="808080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 rot="20557200">
            <a:off x="5651640" y="1844280"/>
            <a:ext cx="18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ажени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 rot="20870400">
            <a:off x="3709800" y="1484280"/>
            <a:ext cx="184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я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лож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 rot="20581200">
            <a:off x="1767600" y="2276640"/>
            <a:ext cx="177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исы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сходящ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охран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 rot="21019800">
            <a:off x="1548360" y="3645000"/>
            <a:ext cx="196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онстрац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зуа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 rot="21018600">
            <a:off x="3565440" y="4005000"/>
            <a:ext cx="14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пу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 rot="20845200">
            <a:off x="5727240" y="3212640"/>
            <a:ext cx="184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зна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пис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23" name="Freeform 3"/>
            <p:cNvSpPr/>
            <p:nvPr/>
          </p:nvSpPr>
          <p:spPr>
            <a:xfrm>
              <a:off x="473400" y="28080"/>
              <a:ext cx="8223480" cy="1440"/>
            </a:xfrm>
            <a:custGeom>
              <a:avLst/>
              <a:gdLst>
                <a:gd name="textAreaLeft" fmla="*/ 0 w 8223480"/>
                <a:gd name="textAreaRight" fmla="*/ 8223840 w 8223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513720" y="6843600"/>
              <a:ext cx="8197200" cy="1800"/>
            </a:xfrm>
            <a:custGeom>
              <a:avLst/>
              <a:gdLst>
                <a:gd name="textAreaLeft" fmla="*/ 0 w 8197200"/>
                <a:gd name="textAreaRight" fmla="*/ 8197200 w 8197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9103320" y="474840"/>
              <a:ext cx="1440" cy="58939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93920"/>
                <a:gd name="textAreaBottom" fmla="*/ 5893920 h 58939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54000" y="474840"/>
              <a:ext cx="27000" cy="5893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893920"/>
                <a:gd name="textAreaBottom" fmla="*/ 5893920 h 58939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7"/>
            <p:cNvSpPr/>
            <p:nvPr/>
          </p:nvSpPr>
          <p:spPr>
            <a:xfrm>
              <a:off x="54000" y="6355080"/>
              <a:ext cx="459720" cy="50256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"/>
            <p:cNvSpPr/>
            <p:nvPr/>
          </p:nvSpPr>
          <p:spPr>
            <a:xfrm flipH="1">
              <a:off x="8683560" y="6340680"/>
              <a:ext cx="460080" cy="502560"/>
            </a:xfrm>
            <a:custGeom>
              <a:avLst/>
              <a:gdLst>
                <a:gd name="textAreaLeft" fmla="*/ 360 w 460080"/>
                <a:gd name="textAreaRight" fmla="*/ 460800 w 46008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"/>
            <p:cNvSpPr/>
            <p:nvPr/>
          </p:nvSpPr>
          <p:spPr>
            <a:xfrm flipH="1" rot="16200000">
              <a:off x="8662680" y="-5760"/>
              <a:ext cx="474840" cy="486720"/>
            </a:xfrm>
            <a:custGeom>
              <a:avLst/>
              <a:gdLst>
                <a:gd name="textAreaLeft" fmla="*/ -360 w 474840"/>
                <a:gd name="textAreaRight" fmla="*/ 474840 w 4748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0"/>
            <p:cNvSpPr/>
            <p:nvPr/>
          </p:nvSpPr>
          <p:spPr>
            <a:xfrm rot="5400000">
              <a:off x="5760" y="-5760"/>
              <a:ext cx="474840" cy="48672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WordArt 11"/>
          <p:cNvSpPr txBox="1"/>
          <p:nvPr/>
        </p:nvSpPr>
        <p:spPr>
          <a:xfrm>
            <a:off x="468360" y="189000"/>
            <a:ext cx="7848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роведение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ультимедийного урока.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324000" y="112320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Как бы ни был разработан урок, многое зависит от того, как учитель подготовится к н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Учитель должен не только, и не столько (!), уверенно владеть компьютером, знать содержание урока, но вести его в хорошем темпе, непринужденно, постоянно вовлекая в познавательный процесс учеников. Необходимо продумать смену ритма, разнообразить формы учебной деятельности, подумать, как выдержать при необходимости паузу, как обеспечить положительный </a:t>
            </a:r>
            <a:r>
              <a:rPr b="1" i="1" lang="ru-RU" sz="2800" spc="-1" strike="noStrike">
                <a:solidFill>
                  <a:srgbClr val="0066ff"/>
                </a:solidFill>
                <a:latin typeface="Times New Roman"/>
              </a:rPr>
              <a:t>эмоциональный фон </a:t>
            </a: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266400" y="279360"/>
            <a:ext cx="8552880" cy="6235920"/>
            <a:chOff x="266400" y="279360"/>
            <a:chExt cx="8552880" cy="6235920"/>
          </a:xfrm>
        </p:grpSpPr>
        <p:sp>
          <p:nvSpPr>
            <p:cNvPr id="135" name="Freeform 3"/>
            <p:cNvSpPr/>
            <p:nvPr/>
          </p:nvSpPr>
          <p:spPr>
            <a:xfrm>
              <a:off x="709560" y="304920"/>
              <a:ext cx="7692120" cy="1440"/>
            </a:xfrm>
            <a:custGeom>
              <a:avLst/>
              <a:gdLst>
                <a:gd name="textAreaLeft" fmla="*/ 0 w 7692120"/>
                <a:gd name="textAreaRight" fmla="*/ 7692480 w 769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"/>
            <p:cNvSpPr/>
            <p:nvPr/>
          </p:nvSpPr>
          <p:spPr>
            <a:xfrm>
              <a:off x="747000" y="6502320"/>
              <a:ext cx="7667640" cy="1800"/>
            </a:xfrm>
            <a:custGeom>
              <a:avLst/>
              <a:gdLst>
                <a:gd name="textAreaLeft" fmla="*/ 0 w 7667640"/>
                <a:gd name="textAreaRight" fmla="*/ 7668000 w 76676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"/>
            <p:cNvSpPr/>
            <p:nvPr/>
          </p:nvSpPr>
          <p:spPr>
            <a:xfrm>
              <a:off x="8781840" y="711360"/>
              <a:ext cx="1080" cy="53593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"/>
            <p:cNvSpPr/>
            <p:nvPr/>
          </p:nvSpPr>
          <p:spPr>
            <a:xfrm>
              <a:off x="317160" y="711360"/>
              <a:ext cx="25200" cy="53593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7"/>
            <p:cNvSpPr/>
            <p:nvPr/>
          </p:nvSpPr>
          <p:spPr>
            <a:xfrm>
              <a:off x="317160" y="6058080"/>
              <a:ext cx="429840" cy="45720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8"/>
            <p:cNvSpPr/>
            <p:nvPr/>
          </p:nvSpPr>
          <p:spPr>
            <a:xfrm flipH="1">
              <a:off x="8388720" y="6045120"/>
              <a:ext cx="430200" cy="45720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 flipH="1" rot="16200000">
              <a:off x="8374680" y="267480"/>
              <a:ext cx="432000" cy="4554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 rot="5400000">
              <a:off x="277920" y="267480"/>
              <a:ext cx="432000" cy="4554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1"/>
          <p:cNvSpPr/>
          <p:nvPr/>
        </p:nvSpPr>
        <p:spPr>
          <a:xfrm>
            <a:off x="395280" y="81360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Благодаря  </a:t>
            </a:r>
            <a:r>
              <a:rPr b="1" i="1" lang="ru-RU" sz="3200" spc="-1" strike="noStrike">
                <a:solidFill>
                  <a:srgbClr val="0066ff"/>
                </a:solidFill>
                <a:latin typeface="Times New Roman"/>
              </a:rPr>
              <a:t>мультимедийному сопровождению  занятий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, учитель экономит до 30% учебного времени, нежели при работе у классной доски. Он не должен думать о т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чт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ему не хватит места на доск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какого качества ме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понятно ли все написанн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Экономя время, учитель может увеличить плотность урока, обогатить его н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                       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содерж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146" name="Freeform 3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>
                <a:gd name="textAreaLeft" fmla="*/ 0 w 7721280"/>
                <a:gd name="textAreaRight" fmla="*/ 7721640 w 7721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>
                <a:gd name="textAreaLeft" fmla="*/ 0 w 7696440"/>
                <a:gd name="textAreaRight" fmla="*/ 7696800 w 7696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9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0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12"/>
          <p:cNvSpPr/>
          <p:nvPr/>
        </p:nvSpPr>
        <p:spPr>
          <a:xfrm>
            <a:off x="324000" y="1897560"/>
            <a:ext cx="810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включить каждого ученика в процесс самостоятельной деятельности с учетом его индивидуальных способ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осуществлять переход от простых знаний к более слож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оптимизировать взаимодействие учеников и учителя на всех этапах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расширить сферу самостоятельной познавательной деятельности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468360" y="333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Основные дово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сторонник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использования  И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в учебном проце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2:24:08Z</dcterms:created>
  <dc:creator>Лена</dc:creator>
  <dc:description/>
  <dc:language>en-US</dc:language>
  <cp:lastModifiedBy>LEGION</cp:lastModifiedBy>
  <dcterms:modified xsi:type="dcterms:W3CDTF">2015-01-26T13:57:03Z</dcterms:modified>
  <cp:revision>51</cp:revision>
  <dc:subject/>
  <dc:title>Современный мультимедийный урок математики. </dc:title>
</cp:coreProperties>
</file>