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4855-FF78-4FA9-A044-A57C8C0F60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5EA6-6AAE-40E7-BDF8-48E28A885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НТЕРА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5EB2-150E-45FC-AAAE-913A562DC7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D623-405D-4621-B4EA-42C983A7A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C6FB-B87F-421C-B77C-845D83B5B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796A-7ECD-4BEF-8F93-0843F07A7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CBB4-9EB8-43CD-992E-6B2C85544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4635-DC7B-4417-B2AC-C80364603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B850-E014-4F1B-BAEC-4EB2023B1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ABB4-8C0D-4F4A-961B-43E043A483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р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мультимедийного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E3B6-3D66-4EB3-9075-DBC5DA567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6AAD-D258-47A7-9FDA-34514BD9B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0A7-82C3-4F8F-A54B-AB21298D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500-054A-45FB-88D9-C8E5C967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BE3-7277-4FD6-BB1A-EF6E3928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F59-8456-4677-9E2F-01EF5BA1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B92-A558-4F16-A4FD-CA9E1E18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2DC-AA9D-4C82-AF00-553F1560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213-FF6E-4475-BD13-2A71F1AB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7D1-F855-4A8E-BBDA-4C3FBEE6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64A-8610-4E2A-A9F4-7F0AF7C5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B77-64B0-4A35-8080-8926D5A3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FF8-BA8C-4103-B672-5FCEADA3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2AD-1BC7-4806-95C0-03F0CCD8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B9FC-3204-4897-930C-8B0F42724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9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500040" y="928800"/>
            <a:ext cx="7848720" cy="45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НТЕРАКТИВНАЯ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С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857160" y="571680"/>
            <a:ext cx="785808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Documents and Settings\1\Мои документы\Мои рисунки\0b08a3d46ea0846f232dc75cb7941a49.gif"/>
          <p:cNvPicPr/>
          <p:nvPr/>
        </p:nvPicPr>
        <p:blipFill>
          <a:blip r:embed="rId1"/>
          <a:stretch/>
        </p:blipFill>
        <p:spPr>
          <a:xfrm>
            <a:off x="2286000" y="2428920"/>
            <a:ext cx="4500720" cy="40003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1828800" y="1981080"/>
            <a:ext cx="699120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Интенсивность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828800" y="2895480"/>
            <a:ext cx="6919920" cy="462240"/>
          </a:xfrm>
          <a:prstGeom prst="roundRect">
            <a:avLst>
              <a:gd name="adj" fmla="val 49106"/>
            </a:avLst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вышение интереса и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828800" y="3809880"/>
            <a:ext cx="68468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ндивидуализация об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828800" y="4724280"/>
            <a:ext cx="6775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Эффективность подачи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908000" y="5589720"/>
            <a:ext cx="6991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Неограниче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cecf5"/>
              </a:gs>
              <a:gs pos="100000">
                <a:srgbClr val="333399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c1e6e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6f4f5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solidFill>
            <a:srgbClr val="ff99ff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e6f3c1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554840" y="342900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066920" y="19051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7023960" y="2133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968720" y="45086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и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21640" y="5157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6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Text Box 17"/>
          <p:cNvSpPr/>
          <p:nvPr/>
        </p:nvSpPr>
        <p:spPr>
          <a:xfrm>
            <a:off x="82080" y="126828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личные каналы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5075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843280" y="3663360"/>
            <a:ext cx="2819160" cy="9172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917280"/>
              <a:gd name="textAreaBottom" fmla="*/ 917640 h 91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ие дидактически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5219640" y="3591720"/>
            <a:ext cx="4392720" cy="119160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1191600"/>
              <a:gd name="textAreaBottom" fmla="*/ 1191960 h 119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ци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я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0" y="3807360"/>
            <a:ext cx="2970360" cy="6426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трае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0" y="2276640"/>
            <a:ext cx="2771640" cy="720720"/>
          </a:xfrm>
          <a:prstGeom prst="roundRect">
            <a:avLst>
              <a:gd name="adj" fmla="val 50000"/>
            </a:avLst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5940360" y="2276640"/>
            <a:ext cx="2737080" cy="64764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132000" y="2276640"/>
            <a:ext cx="2305080" cy="71892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 rot="20601600">
            <a:off x="1012680" y="2130120"/>
            <a:ext cx="6253200" cy="323532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 rot="20601600">
            <a:off x="1490400" y="1463400"/>
            <a:ext cx="6210360" cy="354312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6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7"/>
          <p:cNvSpPr/>
          <p:nvPr/>
        </p:nvSpPr>
        <p:spPr>
          <a:xfrm rot="20601600">
            <a:off x="4133880" y="1755360"/>
            <a:ext cx="2997000" cy="174636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 rot="20602200">
            <a:off x="1199160" y="3333240"/>
            <a:ext cx="3289320" cy="1665360"/>
          </a:xfrm>
          <a:custGeom>
            <a:avLst/>
            <a:gdLst>
              <a:gd name="textAreaLeft" fmla="*/ -360 w 3289320"/>
              <a:gd name="textAreaRight" fmla="*/ 3289320 w 328932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rot="20601600">
            <a:off x="3333240" y="1195200"/>
            <a:ext cx="2891160" cy="1930320"/>
          </a:xfrm>
          <a:custGeom>
            <a:avLst/>
            <a:gdLst>
              <a:gd name="textAreaLeft" fmla="*/ 0 w 2891160"/>
              <a:gd name="textAreaRight" fmla="*/ 2891520 w 289116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10"/>
          <p:cNvSpPr/>
          <p:nvPr/>
        </p:nvSpPr>
        <p:spPr>
          <a:xfrm flipH="1" rot="20602200">
            <a:off x="938880" y="1868400"/>
            <a:ext cx="3119400" cy="1936800"/>
          </a:xfrm>
          <a:custGeom>
            <a:avLst/>
            <a:gdLst>
              <a:gd name="textAreaLeft" fmla="*/ -360 w 3119400"/>
              <a:gd name="textAreaRight" fmla="*/ 3119400 w 311940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3"/>
          <p:cNvGrpSpPr/>
          <p:nvPr/>
        </p:nvGrpSpPr>
        <p:grpSpPr>
          <a:xfrm>
            <a:off x="3988800" y="2648160"/>
            <a:ext cx="3251880" cy="2231640"/>
            <a:chOff x="3988800" y="2648160"/>
            <a:chExt cx="3251880" cy="2231640"/>
          </a:xfrm>
        </p:grpSpPr>
        <p:sp>
          <p:nvSpPr>
            <p:cNvPr id="106" name="Arc 14"/>
            <p:cNvSpPr/>
            <p:nvPr/>
          </p:nvSpPr>
          <p:spPr>
            <a:xfrm rot="20712600">
              <a:off x="4102200" y="30031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7"/>
          <p:cNvGrpSpPr/>
          <p:nvPr/>
        </p:nvGrpSpPr>
        <p:grpSpPr>
          <a:xfrm>
            <a:off x="4467600" y="2409480"/>
            <a:ext cx="3771000" cy="2784600"/>
            <a:chOff x="4467600" y="2409480"/>
            <a:chExt cx="3771000" cy="2784600"/>
          </a:xfrm>
        </p:grpSpPr>
        <p:sp>
          <p:nvSpPr>
            <p:cNvPr id="110" name="Freeform 18"/>
            <p:cNvSpPr/>
            <p:nvPr/>
          </p:nvSpPr>
          <p:spPr>
            <a:xfrm rot="20601600">
              <a:off x="6301080" y="3309840"/>
              <a:ext cx="1799640" cy="1224360"/>
            </a:xfrm>
            <a:custGeom>
              <a:avLst/>
              <a:gdLst>
                <a:gd name="textAreaLeft" fmla="*/ 0 w 1799640"/>
                <a:gd name="textAreaRight" fmla="*/ 1799640 w 1799640"/>
                <a:gd name="textAreaTop" fmla="*/ 0 h 1224360"/>
                <a:gd name="textAreaBottom" fmla="*/ 1224720 h 122436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19"/>
            <p:cNvSpPr/>
            <p:nvPr/>
          </p:nvSpPr>
          <p:spPr>
            <a:xfrm rot="20539200">
              <a:off x="4626000" y="2882520"/>
              <a:ext cx="3360960" cy="1566360"/>
            </a:xfrm>
            <a:custGeom>
              <a:avLst/>
              <a:gdLst>
                <a:gd name="textAreaLeft" fmla="*/ 0 w 3360960"/>
                <a:gd name="textAreaRight" fmla="*/ 3361320 w 336096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 rot="20601600">
              <a:off x="4778280" y="3119760"/>
              <a:ext cx="1540800" cy="1893240"/>
            </a:xfrm>
            <a:custGeom>
              <a:avLst/>
              <a:gdLst>
                <a:gd name="textAreaLeft" fmla="*/ 0 w 1540800"/>
                <a:gd name="textAreaRight" fmla="*/ 1541160 w 1540800"/>
                <a:gd name="textAreaTop" fmla="*/ 0 h 1893240"/>
                <a:gd name="textAreaBottom" fmla="*/ 1893600 h 18932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21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gradFill rotWithShape="0">
            <a:gsLst>
              <a:gs pos="0">
                <a:srgbClr val="2b2b2b"/>
              </a:gs>
              <a:gs pos="100000">
                <a:srgbClr val="80808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 rot="20557200">
            <a:off x="5651640" y="1844280"/>
            <a:ext cx="18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 rot="20870400">
            <a:off x="3709800" y="1484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ло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 rot="20581200">
            <a:off x="1767600" y="2276640"/>
            <a:ext cx="177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ис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ящ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охра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 rot="21019800">
            <a:off x="1548360" y="3645000"/>
            <a:ext cx="196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нстр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зу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 rot="21018600">
            <a:off x="3565440" y="4005000"/>
            <a:ext cx="14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п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 rot="20845200">
            <a:off x="5727240" y="3212640"/>
            <a:ext cx="18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пис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23" name="Freeform 3"/>
            <p:cNvSpPr/>
            <p:nvPr/>
          </p:nvSpPr>
          <p:spPr>
            <a:xfrm>
              <a:off x="473400" y="28080"/>
              <a:ext cx="8223480" cy="1440"/>
            </a:xfrm>
            <a:custGeom>
              <a:avLst/>
              <a:gdLst>
                <a:gd name="textAreaLeft" fmla="*/ 0 w 8223480"/>
                <a:gd name="textAreaRight" fmla="*/ 8223840 w 8223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513720" y="6843600"/>
              <a:ext cx="8197200" cy="1800"/>
            </a:xfrm>
            <a:custGeom>
              <a:avLst/>
              <a:gdLst>
                <a:gd name="textAreaLeft" fmla="*/ 0 w 8197200"/>
                <a:gd name="textAreaRight" fmla="*/ 8197200 w 8197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9103320" y="474840"/>
              <a:ext cx="1440" cy="5893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54000" y="474840"/>
              <a:ext cx="27000" cy="5893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54000" y="6355080"/>
              <a:ext cx="459720" cy="50256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 flipH="1">
              <a:off x="8683560" y="6340680"/>
              <a:ext cx="460080" cy="502560"/>
            </a:xfrm>
            <a:custGeom>
              <a:avLst/>
              <a:gdLst>
                <a:gd name="textAreaLeft" fmla="*/ 360 w 460080"/>
                <a:gd name="textAreaRight" fmla="*/ 460800 w 46008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 flipH="1" rot="16200000">
              <a:off x="8662680" y="-5760"/>
              <a:ext cx="474840" cy="48672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 rot="5400000">
              <a:off x="5760" y="-5760"/>
              <a:ext cx="474840" cy="4867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11"/>
          <p:cNvSpPr txBox="1"/>
          <p:nvPr/>
        </p:nvSpPr>
        <p:spPr>
          <a:xfrm>
            <a:off x="468360" y="189000"/>
            <a:ext cx="784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ведение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ультимедийного урока.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24000" y="11232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266400" y="279360"/>
            <a:ext cx="8552880" cy="6235920"/>
            <a:chOff x="266400" y="279360"/>
            <a:chExt cx="8552880" cy="6235920"/>
          </a:xfrm>
        </p:grpSpPr>
        <p:sp>
          <p:nvSpPr>
            <p:cNvPr id="135" name="Freeform 3"/>
            <p:cNvSpPr/>
            <p:nvPr/>
          </p:nvSpPr>
          <p:spPr>
            <a:xfrm>
              <a:off x="709560" y="304920"/>
              <a:ext cx="7692120" cy="1440"/>
            </a:xfrm>
            <a:custGeom>
              <a:avLst/>
              <a:gdLst>
                <a:gd name="textAreaLeft" fmla="*/ 0 w 7692120"/>
                <a:gd name="textAreaRight" fmla="*/ 7692480 w 769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747000" y="6502320"/>
              <a:ext cx="7667640" cy="1800"/>
            </a:xfrm>
            <a:custGeom>
              <a:avLst/>
              <a:gdLst>
                <a:gd name="textAreaLeft" fmla="*/ 0 w 7667640"/>
                <a:gd name="textAreaRight" fmla="*/ 7668000 w 7667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8781840" y="711360"/>
              <a:ext cx="1080" cy="5359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317160" y="711360"/>
              <a:ext cx="25200" cy="5359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317160" y="6058080"/>
              <a:ext cx="429840" cy="4572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 flipH="1">
              <a:off x="8388720" y="6045120"/>
              <a:ext cx="430200" cy="45720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 flipH="1" rot="16200000">
              <a:off x="8374680" y="267480"/>
              <a:ext cx="432000" cy="4554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 rot="5400000">
              <a:off x="277920" y="267480"/>
              <a:ext cx="432000" cy="4554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1"/>
          <p:cNvSpPr/>
          <p:nvPr/>
        </p:nvSpPr>
        <p:spPr>
          <a:xfrm>
            <a:off x="395280" y="8136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46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2"/>
          <p:cNvSpPr/>
          <p:nvPr/>
        </p:nvSpPr>
        <p:spPr>
          <a:xfrm>
            <a:off x="324000" y="1897560"/>
            <a:ext cx="810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6836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2:24:08Z</dcterms:created>
  <dc:creator>Лена</dc:creator>
  <dc:description/>
  <dc:language>en-US</dc:language>
  <cp:lastModifiedBy>LEGION</cp:lastModifiedBy>
  <dcterms:modified xsi:type="dcterms:W3CDTF">2015-01-26T13:57:03Z</dcterms:modified>
  <cp:revision>51</cp:revision>
  <dc:subject/>
  <dc:title>Современный мультимедийный урок математики. </dc:title>
</cp:coreProperties>
</file>