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A2AD-D3D2-4A88-9C06-8AF6005BD74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Технология развития критического мышления на уроках истории и обществозн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вт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: Семкова Наталья Владимировна – учитель истори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012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862D-BC30-4BC7-AF11-4F32087B71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Стратегия ЗХУ на уроке истории древне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З» зн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Х» хотим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Х» хотим узн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то такие архео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исторические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работают архео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находят археологические памя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существуют виды исторических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5693-40C4-47B9-8996-5C52911AD5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адия Инсерт «Реализация смысла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«Условные значки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уже зн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н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думал ин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» – есть вопро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D30A-F223-4D93-BE20-E098035521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«Инсерт» на уроке истории в 7 класс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ма «Великие географические открыт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их последств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нач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ючевые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умб открыл Америку, но думал, что открыл новый путь в Инд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иста – завое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ония – территория, потерявшая независ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мал, что Колумб открыл всю Америку, а он доплыл только до остров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осле Великих географических открытий упали цены на золото и выросли цены на вс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89A9-50CC-4F3E-9B28-F7F3683039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ем «Фишбоун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«Рыбная кость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A4B3-2EBC-48B8-82C5-40E92F5ED1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шбоун на уроке истории в 6 класс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«Феодальная раздробленность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71F8-534B-4D01-8838-110A34CCA9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нквей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ма одни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ловом (обычно существительно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тем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(два прилагательны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исание действ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в рамках этой темы (три глагола или деепричастия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т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тношение к тем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 чувства, эмоции (фраза из четырех слов)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ок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овторение су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темы одним словом (синоним тем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732C-34AE-4AA6-BD57-C82071A9A3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инквейн на уроке истории 9 клас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оссия в 1900-1917 г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осс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царская, самодержавна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юет, подавляет, свергае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поха мировой войны, революции, гражданской смут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двиг в российском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1A0F-B27D-4A4D-8D9B-33A0A047DF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технологии развития критического мышления на уроках позволяет сформировать  умения и навыки работы с информаци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ходить, осмысливать, использовать нужную информац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нализировать, систематизировать, представлять информацию в виде схем, таблиц, граф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равнивать исторические явления и объекты, при этом самостоятельно выявлять признаки или линии срав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являть проблемы, содержащиеся в тексте, определять возможные пути решения, вести поиск  необходимых сведений, используя  различные источники информ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01A6-0CEC-423E-9EE4-E6D64A0C93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.В. Богатенкова Технология развития критического мышления на уроках истории и краеведения  Н.В.Богатенкова // Пособие для учителей – СПб.: СПбГУПМ, 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менение приемов и методов технологии развития критического мышления учащихся на уроках истории // Школьное историческое образование: творческий опыт и профессиональные размышления. – СПб.: СПбГУПМ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. Загашев, С.И. Заир – Бек, И.В. Муштавинская, «Учим детей мыслить критически», СПб, 2003г., с.1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развития критического мышления на уроке истори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history-helpmy.blogspot.com/2010/04/blog-post_5385.htm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EC42-FC68-4CCA-973D-9D45A4EBA4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зобра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ttp://psychology.careeredublogs.com/files/2010/02/school.jp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ww.grafamania.net/uploads/posts/2008-08/1219611582_7.jp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88.198.21.149/images/photoframes/2010/6/02/17/55/g2IP8mW0czgiqFNweb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375A-99B3-4A09-BFB8-4EF6E6DC4B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Технология критического мыш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развития критического мышления через чтение и письмо разработана в конце XX века в США (Ч. Темпл, Д. Стил, К. Мередит). В ней синтезированы идеи и методы отечественных технологий, коллективных и групповых способов обучения, а также сотрудничества, развивающего обучения; она является общепедагогической, надпредмет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ехнология РКМЧП представляет собой целостную систему, формирующую навыки работы с информацией в процессе чтения и письма. Критическое мышление – это один из видов интеллектуальной деятельности человека, который характеризуется высоким уровнем восприятия, понимания, объективности подхода к окружающему его информационному по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91B1-95A0-4B5E-9D5F-15496600D2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Какие цели и задачи ставит данная технолог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) Формирование нового стиля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)   Развитие таких базовых качеств личности, как критическое мышление, коммуникативность, креативность, моби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) Развитие аналитического, крити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)   Формирование культуры чтения, включающей в себя умение ориентироваться в источниках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)  Стимулирование самостоятельной поисковой творческой деятельности, запуск механизмов самообразования и само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CDD3-3968-4C95-8C49-A2704BE7BA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Развитие критического мышления приводит к следующим результат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сокая мотивация учащихся к образовательному процесс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зрастание мыслительных возможностей учащихся, гибкости мышления, его переключения с одного типа на друг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способности самостоятельно конструировать, строить понятия и оперировать 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способности передавать другим авторскую информацию, подвергать ее коррекции, понимать и принимать точку зрения другого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умения анализировать полученную информ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F9D5-BF58-4A02-885F-2F045F94EC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Основа технологии – трехфазовая структура урока: вызов, осмысление, рефлекс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– я ста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– я ста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– я ста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з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изация имеющихся зн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уждение интереса к получению новой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учеником собственных целей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смыс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нов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еся соотносят старые знания с нов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ышление, рождение нового зн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учеником новых целей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79A6-9E65-40E6-920F-AAAB5E1E27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екоторые стратегии технологии развития критического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BEE6-FDCC-4426-88E1-6DAD1118C9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адия «Вызо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Понятийное колесо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7F45-1E14-457F-AE79-FDBD698874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46c0a"/>
                </a:solidFill>
                <a:latin typeface="Arial"/>
                <a:ea typeface="Arial"/>
              </a:rPr>
              <a:t>Понятийное колесо на уроке обществознания в 8 классе. </a:t>
            </a:r>
            <a:br>
              <a:rPr sz="1200"/>
            </a:br>
            <a:r>
              <a:rPr b="0" lang="ru-RU" sz="1200" spc="-1" strike="noStrike">
                <a:solidFill>
                  <a:srgbClr val="e46c0a"/>
                </a:solidFill>
                <a:latin typeface="Arial"/>
                <a:ea typeface="Arial"/>
              </a:rPr>
              <a:t>Тема «Что такое общество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0D6D-4B1B-4834-93BD-66FACC4E88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адия «Вызов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атегия ЗХУ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7D25-E1DA-4976-8EF9-603B155B71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C55-3473-4F8A-B081-F62CE65B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215-D582-4A9E-B32E-28B91003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A0E9-9090-4987-AD55-88668838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C6D-192E-43D4-BB03-06545623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C6EEA-5130-4A3C-99D9-9350AFF3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6277-C1D3-489B-A428-E9AE276B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92DA-5425-44CD-87AD-1CE87AF5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9E00-F047-405E-AAF9-51F2BFA4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EAAD-6B9C-4130-A4BE-61689B68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6C45-350E-42AD-8CA1-2D52AEA5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F08F-2282-4F1E-B6C1-5CAA9C39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E2B-3F0D-4A67-A93E-9E600975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5481-6CE9-4215-A99A-221C0AEC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2990-A70A-4B2D-99AB-75462C77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93C9-F75E-438B-828C-1899564C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187C-DBF3-4717-896B-FC5F04F2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120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7859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2876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120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41500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639A-60C3-49AA-A8B8-2E8A21C2B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E41-9D31-4750-A3AB-DC7A28CEE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CD17-FEA3-4D2F-A3E6-C61D9243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08FE-A5B0-4272-A419-40C7FDA2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4284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E258-C750-4120-98C0-9194CE55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2E9B-619A-4C6E-8BF4-8A6BFC5DB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5800" y="41500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DC7-8573-4899-8219-B3D987E7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876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5800" y="17859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760" y="41500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0EEA-BD89-4E1C-B4B5-FC7ED3A9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BE76-FF39-42B7-BCC5-F3D588354DA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4488-B27B-4D0B-9146-553C6891CA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BB2E-932D-481E-A9E3-E7F794EF053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9242-5C03-4144-926F-6BB1C2AE72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384200" y="2011320"/>
            <a:ext cx="6448680" cy="1835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: Семкова Наталья Владимировна – учитель истории,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атегория,  МКОУ «СОШ №10» г. Нижняя Салда, Свердловской обла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317520" y="317520"/>
            <a:ext cx="854532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428760" y="1785960"/>
          <a:ext cx="8229600" cy="4022640"/>
        </p:xfrm>
        <a:graphic>
          <a:graphicData uri="http://schemas.openxmlformats.org/drawingml/2006/table">
            <a:tbl>
              <a:tblPr/>
              <a:tblGrid>
                <a:gridCol w="2743200"/>
                <a:gridCol w="3043080"/>
                <a:gridCol w="24433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«З» зна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«Х» хотим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«Х» хотим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28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то такие архео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Что такое исторические источ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к работают архео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к находят археологические памя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акие существуют виды исторических источ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1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360360" y="317520"/>
            <a:ext cx="8229600" cy="1346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500040" y="221472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уже 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но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думал 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 – есть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26960" y="262080"/>
            <a:ext cx="8229600" cy="160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28760" y="1785960"/>
          <a:ext cx="8229600" cy="4054320"/>
        </p:xfrm>
        <a:graphic>
          <a:graphicData uri="http://schemas.openxmlformats.org/drawingml/2006/table">
            <a:tbl>
              <a:tblPr/>
              <a:tblGrid>
                <a:gridCol w="2071440"/>
                <a:gridCol w="615816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нач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лючевые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8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умб открыл Америку, но думал, что открыл новый путь в Инд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нкиста – завое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лония – территория, потерявшая независим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6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умал, что Колумб открыл всю Америку, а он доплыл только до остров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4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после Великих географических открытий упали цены на золото и выросли цены на все това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3"/>
          <p:cNvSpPr/>
          <p:nvPr/>
        </p:nvSpPr>
        <p:spPr>
          <a:xfrm rot="1677000">
            <a:off x="2936520" y="2254320"/>
            <a:ext cx="43164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2858400">
            <a:off x="812520" y="2707920"/>
            <a:ext cx="2421000" cy="2268720"/>
          </a:xfrm>
          <a:prstGeom prst="rtTriangl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5"/>
          <p:cNvSpPr/>
          <p:nvPr/>
        </p:nvSpPr>
        <p:spPr>
          <a:xfrm rot="505200">
            <a:off x="2717640" y="4383000"/>
            <a:ext cx="432000" cy="105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/>
          <p:cNvSpPr/>
          <p:nvPr/>
        </p:nvSpPr>
        <p:spPr>
          <a:xfrm rot="1300800">
            <a:off x="4024080" y="2389320"/>
            <a:ext cx="43164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6"/>
          <p:cNvSpPr/>
          <p:nvPr/>
        </p:nvSpPr>
        <p:spPr>
          <a:xfrm rot="464400">
            <a:off x="3927240" y="4381560"/>
            <a:ext cx="431640" cy="1058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143080" y="3714840"/>
            <a:ext cx="3929040" cy="433440"/>
          </a:xfrm>
          <a:prstGeom prst="rect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 rot="5400000">
            <a:off x="6510960" y="2823120"/>
            <a:ext cx="1809720" cy="2259000"/>
          </a:xfrm>
          <a:prstGeom prst="pie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2"/>
          <p:cNvSpPr/>
          <p:nvPr/>
        </p:nvSpPr>
        <p:spPr>
          <a:xfrm>
            <a:off x="2363400" y="17859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3"/>
          <p:cNvSpPr/>
          <p:nvPr/>
        </p:nvSpPr>
        <p:spPr>
          <a:xfrm>
            <a:off x="4435200" y="178596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4"/>
          <p:cNvSpPr/>
          <p:nvPr/>
        </p:nvSpPr>
        <p:spPr>
          <a:xfrm>
            <a:off x="229284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5"/>
          <p:cNvSpPr/>
          <p:nvPr/>
        </p:nvSpPr>
        <p:spPr>
          <a:xfrm>
            <a:off x="400752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Заголовок 1" descr=""/>
          <p:cNvPicPr/>
          <p:nvPr/>
        </p:nvPicPr>
        <p:blipFill>
          <a:blip r:embed="rId1"/>
          <a:stretch/>
        </p:blipFill>
        <p:spPr>
          <a:xfrm>
            <a:off x="-103320" y="390600"/>
            <a:ext cx="8442360" cy="1346040"/>
          </a:xfrm>
          <a:prstGeom prst="rect">
            <a:avLst/>
          </a:prstGeom>
          <a:ln w="0">
            <a:noFill/>
          </a:ln>
        </p:spPr>
      </p:pic>
      <p:sp>
        <p:nvSpPr>
          <p:cNvPr id="138" name="Freeform 8"/>
          <p:cNvSpPr/>
          <p:nvPr/>
        </p:nvSpPr>
        <p:spPr>
          <a:xfrm>
            <a:off x="571680" y="3143160"/>
            <a:ext cx="2050920" cy="2214720"/>
          </a:xfrm>
          <a:prstGeom prst="pie">
            <a:avLst/>
          </a:prstGeom>
          <a:solidFill>
            <a:srgbClr val="fac0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ины распада Древней Ру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9"/>
          <p:cNvSpPr/>
          <p:nvPr/>
        </p:nvSpPr>
        <p:spPr>
          <a:xfrm>
            <a:off x="2571840" y="4214880"/>
            <a:ext cx="4751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AutoShape 12"/>
          <p:cNvCxnSpPr/>
          <p:nvPr/>
        </p:nvCxnSpPr>
        <p:spPr>
          <a:xfrm flipH="1">
            <a:off x="2928600" y="3357360"/>
            <a:ext cx="714960" cy="867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AutoShape 12"/>
          <p:cNvCxnSpPr/>
          <p:nvPr/>
        </p:nvCxnSpPr>
        <p:spPr>
          <a:xfrm flipH="1">
            <a:off x="4143240" y="3428640"/>
            <a:ext cx="643320" cy="724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AutoShape 12"/>
          <p:cNvCxnSpPr/>
          <p:nvPr/>
        </p:nvCxnSpPr>
        <p:spPr>
          <a:xfrm flipH="1">
            <a:off x="5285880" y="3357360"/>
            <a:ext cx="57240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AutoShape 24"/>
          <p:cNvCxnSpPr/>
          <p:nvPr/>
        </p:nvCxnSpPr>
        <p:spPr>
          <a:xfrm flipH="1" flipV="1">
            <a:off x="2999520" y="4285440"/>
            <a:ext cx="35820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AutoShape 24"/>
          <p:cNvCxnSpPr/>
          <p:nvPr/>
        </p:nvCxnSpPr>
        <p:spPr>
          <a:xfrm flipH="1" flipV="1">
            <a:off x="4071600" y="4214520"/>
            <a:ext cx="35784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AutoShape 24"/>
          <p:cNvCxnSpPr/>
          <p:nvPr/>
        </p:nvCxnSpPr>
        <p:spPr>
          <a:xfrm flipH="1" flipV="1">
            <a:off x="5214960" y="4286160"/>
            <a:ext cx="64332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6" name="Прямоугольник 16"/>
          <p:cNvSpPr/>
          <p:nvPr/>
        </p:nvSpPr>
        <p:spPr>
          <a:xfrm>
            <a:off x="2071800" y="1571760"/>
            <a:ext cx="1857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ждоусобные войны и борьба за киевский прест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7"/>
          <p:cNvSpPr/>
          <p:nvPr/>
        </p:nvSpPr>
        <p:spPr>
          <a:xfrm>
            <a:off x="4143240" y="1643040"/>
            <a:ext cx="1285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иление экономичес-кой мощи отдельных зем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8"/>
          <p:cNvSpPr/>
          <p:nvPr/>
        </p:nvSpPr>
        <p:spPr>
          <a:xfrm>
            <a:off x="5786280" y="1500120"/>
            <a:ext cx="1500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сутствуют тесные торговые связи между княжеств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9"/>
          <p:cNvSpPr/>
          <p:nvPr/>
        </p:nvSpPr>
        <p:spPr>
          <a:xfrm>
            <a:off x="2143080" y="4857840"/>
            <a:ext cx="1785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был определен порядок наследования киевского прест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0"/>
          <p:cNvSpPr/>
          <p:nvPr/>
        </p:nvSpPr>
        <p:spPr>
          <a:xfrm>
            <a:off x="3857760" y="5000760"/>
            <a:ext cx="1643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ия территорий по природным и хозяйственным услов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1"/>
          <p:cNvSpPr/>
          <p:nvPr/>
        </p:nvSpPr>
        <p:spPr>
          <a:xfrm>
            <a:off x="5643720" y="5214960"/>
            <a:ext cx="121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туральное хозяй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"/>
          <p:cNvSpPr/>
          <p:nvPr/>
        </p:nvSpPr>
        <p:spPr>
          <a:xfrm>
            <a:off x="6516720" y="2928960"/>
            <a:ext cx="2198520" cy="2428920"/>
          </a:xfrm>
          <a:prstGeom prst="pie">
            <a:avLst/>
          </a:prstGeom>
          <a:solidFill>
            <a:srgbClr val="fac09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робленность на Руси была неизбеж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189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одни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м (обычно существительно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сание 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ва прилагательных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исание действ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рамках этой темы (три глагола или деепричастия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ношение к те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увства, эмоции (фраза из четырех слов)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о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ение су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мы одним словом (синоним тем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сия в 1900-1917 г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ссия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рская, самодержавна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юет, подавляет, свергает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оха мировой войны, революции, гражданской смуты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виг в российском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технологии развития критического мышления на уроках позволяет сформировать  умения и навыки работы с информаци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ить, осмысливать, использовать нужную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ализировать, систематизировать, представлять информацию в виде схем, таблиц, граф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вать исторические явления и объекты, при этом самостоятельно выявлять признаки или линии сравн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лять проблемы, содержащиеся в тексте, определять возможные пути решения, вести поиск  необходимых сведений, используя  различные источники информ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2876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.В. Богатенкова Технология развития критического мышления на уроках истории и краеведения  Н.В.Богатенкова // Пособие для учителей – СПб.: СПбГУПМ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ение приемов и методов технологии развития критического мышления учащихся на уроках истории // Школьное историческое образование: творческий опыт и профессиональные размышления. – СПб.: СПбГУПМ,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. Загашев, С.И. Заир – Бек, И.В. Муштавинская, «Учим детей мыслить критически», СПб, 2003г., с.1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развития критического мышления на уроке истор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history-helpmy.blogspot.com/2010/04/blog-post_5385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249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1928520" y="1785960"/>
            <a:ext cx="672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psychology.careeredublogs.com/files/2010/02/school.jp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grafamania.net/uploads/posts/2008-08/1219611582_7.jp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88.198.21.149/images/photoframes/2010/6/02/17/55/g2IP8mW0czgiqFNweb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3" descr=""/>
          <p:cNvPicPr/>
          <p:nvPr/>
        </p:nvPicPr>
        <p:blipFill>
          <a:blip r:embed="rId2"/>
          <a:stretch/>
        </p:blipFill>
        <p:spPr>
          <a:xfrm>
            <a:off x="785880" y="1785960"/>
            <a:ext cx="1023840" cy="772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Documents and Settings\User\Рабочий стол\Рамки для слайдов\pvL9GOSOCt3iNiifbbK.jpg"/>
          <p:cNvPicPr/>
          <p:nvPr/>
        </p:nvPicPr>
        <p:blipFill>
          <a:blip r:embed="rId3"/>
          <a:stretch/>
        </p:blipFill>
        <p:spPr>
          <a:xfrm>
            <a:off x="500040" y="4643280"/>
            <a:ext cx="1425600" cy="928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Documents and Settings\User\Рабочий стол\картинки на школьныю тему\Рисунок16.png"/>
          <p:cNvPicPr/>
          <p:nvPr/>
        </p:nvPicPr>
        <p:blipFill>
          <a:blip r:embed="rId4"/>
          <a:stretch/>
        </p:blipFill>
        <p:spPr>
          <a:xfrm>
            <a:off x="571680" y="2857680"/>
            <a:ext cx="1143000" cy="14284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26960" y="42696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 развития критического мышления через чтение и письмо разработана в конце XX века в США (Ч. Темпл, Д. Стил, К. Мередит). В ней синтезированы идеи и методы отечественных технологий, коллективных и групповых способов обучения, а также сотрудничества, развивающего обучения; она является общепедагогической, надпредмет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 РКМЧП представляет собой целостную систему, формирующую навыки работы с информацией в процессе чтения и письма. Критическое мышление – это один из видов интеллектуальной деятельности человека, который характеризуется высоким уровнем восприятия, понимания, объективности подхода к окружающему его информационному по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Формирование нового стиля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 Развитие таких базовых качеств личности, как критическое мышление, коммуникативность, креативность, моби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Развитие аналитического, критическ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  Формирование культуры чтения, включающей в себя умение ориентироваться в источниках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  Стимулирование самостоятельной поисковой творческой деятельности, запуск механизмов самообразования и само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229600" cy="1511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ая мотивация учащихся к образовательному процес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ание мыслительных возможностей учащихся, гибкости мышления, его переключения с одного типа на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пособности самостоятельно конструировать, строить понятия и оперировать и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пособности передавать другим авторскую информацию, подвергать ее коррекции, понимать и принимать точку зрения друго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умения анализировать полученную информ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500040" y="457200"/>
            <a:ext cx="8229600" cy="13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28760" y="1785960"/>
          <a:ext cx="8229600" cy="4145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– я стад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748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зов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уализация имеющихся зна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буждение интереса к получению новой информации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новка учеником собственных целей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ализация смыс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учение новой информац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учащиеся соотносят старые знания с новым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ефлексия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мышление, рождение нового зн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становка учеником новых целей обуч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1500120" y="1494000"/>
            <a:ext cx="6235920" cy="2889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хема 3" descr=""/>
          <p:cNvPicPr/>
          <p:nvPr/>
        </p:nvPicPr>
        <p:blipFill>
          <a:blip r:embed="rId1"/>
          <a:stretch/>
        </p:blipFill>
        <p:spPr>
          <a:xfrm>
            <a:off x="573120" y="1700280"/>
            <a:ext cx="8143920" cy="4792680"/>
          </a:xfrm>
          <a:prstGeom prst="rect">
            <a:avLst/>
          </a:prstGeom>
          <a:ln w="0">
            <a:noFill/>
          </a:ln>
        </p:spPr>
      </p:pic>
      <p:pic>
        <p:nvPicPr>
          <p:cNvPr id="107" name="Заголовок 1" descr=""/>
          <p:cNvPicPr/>
          <p:nvPr/>
        </p:nvPicPr>
        <p:blipFill>
          <a:blip r:embed="rId2"/>
          <a:stretch/>
        </p:blipFill>
        <p:spPr>
          <a:xfrm>
            <a:off x="500040" y="426960"/>
            <a:ext cx="8229600" cy="14320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26960" y="182520"/>
            <a:ext cx="8229600" cy="183528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3" descr=""/>
          <p:cNvPicPr/>
          <p:nvPr/>
        </p:nvPicPr>
        <p:blipFill>
          <a:blip r:embed="rId2"/>
          <a:stretch/>
        </p:blipFill>
        <p:spPr>
          <a:xfrm>
            <a:off x="426960" y="1725480"/>
            <a:ext cx="8229600" cy="46990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26960" y="255600"/>
            <a:ext cx="8229600" cy="151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428760" y="1785960"/>
          <a:ext cx="8229600" cy="3203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13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З» зна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«Х» хотим узна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» узна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89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504d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15:02:59Z</dcterms:created>
  <dc:creator>Comp</dc:creator>
  <dc:description/>
  <dc:language>en-US</dc:language>
  <cp:lastModifiedBy>LEGION</cp:lastModifiedBy>
  <dcterms:modified xsi:type="dcterms:W3CDTF">2015-01-26T13:57:58Z</dcterms:modified>
  <cp:revision>15</cp:revision>
  <dc:subject/>
  <dc:title>Слайд 1</dc:title>
</cp:coreProperties>
</file>