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9110-E9D6-456D-A881-FF3FD1ECCB8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Технология развития критического мышления на уроках истории и обществозн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вто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: Семкова Наталья Владимировна – учитель истории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атегория,  МКОУ «СОШ №10» г. Нижняя Салда, Свердловско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012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ED9D-830A-4833-9CC3-FD3625E2B0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Стратегия ЗХУ на уроке истории древнего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З» зна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Х» хотим узн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Х» хотим узн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то такие архео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такое исторические 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работают архео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находят археологические памят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ие существуют виды исторических источ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AC8C-9419-47DE-9F99-5B3A5AFC42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адия Инсерт «Реализация смысла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(«Условные значки»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» – уже зн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» – нов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» – думал инач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» – есть во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EA6F-CE99-4012-9F9E-1109E836C4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«Инсерт» на уроке истории в 7 класс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ема «Великие географические открыт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их последств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ючевые сл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умб открыл Америку, но думал, что открыл новый путь в Инд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иста – завое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ония – территория, потерявшая независ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мал, что Колумб открыл всю Америку, а он доплыл только до остров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после Великих географических открытий упали цены на золото и выросли цены на все тов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EE25-3179-41E0-84DB-C2C4D349FF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ием «Фишбоун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(«Рыбная кость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61C5-67F8-4974-8C1F-09F7F455A7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шбоун на уроке истории в 6 класс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«Феодальная раздробленность на Ру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A88A-5962-4414-A029-26F9DED8E5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инквей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строк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ема одни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ловом (обычно существительное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строк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писание тем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(два прилагательных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строк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писание действ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в рамках этой темы (три глагола или деепричастия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ст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тношение к тем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, чувства, эмоции (фраза из четырех слов)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5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рок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овторение су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темы одним словом (синоним тем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C009-1107-4D66-82CC-DF1F1B62F3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инквейн на уроке истории 9 клас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оссия в 1900-1917 г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осс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царская, самодержавн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оюет, подавляет, свергае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эпоха мировой войны, революции, гражданской смут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двиг в российском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B652-D09C-475B-84F3-CCD31DDA05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спользование технологии развития критического мышления на уроках позволяет сформировать  умения и навыки работы с информаци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аходить, осмысливать, использовать нужную информац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нализировать, систематизировать, представлять информацию в виде схем, таблиц, граф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равнивать исторические явления и объекты, при этом самостоятельно выявлять признаки или линии сравн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являть проблемы, содержащиеся в тексте, определять возможные пути решения, вести поиск  необходимых сведений, используя  различные источники информ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217C-FB96-46A7-B8B9-E6D3522B45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.В. Богатенкова Технология развития критического мышления на уроках истории и краеведения  Н.В.Богатенкова // Пособие для учителей – СПб.: СПбГУПМ, 20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именение приемов и методов технологии развития критического мышления учащихся на уроках истории // Школьное историческое образование: творческий опыт и профессиональные размышления. – СПб.: СПбГУПМ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. Загашев, С.И. Заир – Бек, И.В. Муштавинская, «Учим детей мыслить критически», СПб, 2003г., с.1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ехнология развития критического мышления на уроке истори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history-helpmy.blogspot.com/2010/04/blog-post_5385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DF80-679E-4DEB-BFE1-BDF818484C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зображ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psychology.careeredublogs.com/files/2010/02/school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ww.grafamania.net/uploads/posts/2008-08/1219611582_7.jp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88.198.21.149/images/photoframes/2010/6/02/17/55/g2IP8mW0czgiqFNweb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56A7-758E-42A4-8AB2-CB7DEDE4DE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Технология критического мыш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ехнология развития критического мышления через чтение и письмо разработана в конце XX века в США (Ч. Темпл, Д. Стил, К. Мередит). В ней синтезированы идеи и методы отечественных технологий, коллективных и групповых способов обучения, а также сотрудничества, развивающего обучения; она является общепедагогической, надпредмет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ехнология РКМЧП представляет собой целостную систему, формирующую навыки работы с информацией в процессе чтения и письма. Критическое мышление – это один из видов интеллектуальной деятельности человека, который характеризуется высоким уровнем восприятия, понимания, объективности подхода к окружающему его информационному по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03B7-C18B-40C7-A7D5-3262DB8213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Какие цели и задачи ставит данная технология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) Формирование нового стиля мыш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)   Развитие таких базовых качеств личности, как критическое мышление, коммуникативность, креативность, моби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) Развитие аналитического, критического мыш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)   Формирование культуры чтения, включающей в себя умение ориентироваться в источниках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5)  Стимулирование самостоятельной поисковой творческой деятельности, запуск механизмов самообразования и само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8642-3312-4FC8-86F7-B5E7E78F49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Развитие критического мышления приводит к следующим результата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сокая мотивация учащихся к образовательному процесс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озрастание мыслительных возможностей учащихся, гибкости мышления, его переключения с одного типа на друг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способности самостоятельно конструировать, строить понятия и оперировать 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способности передавать другим авторскую информацию, подвергать ее коррекции, понимать и принимать точку зрения другого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умения анализировать полученную информа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862C-BB86-44F0-87E5-29E3693DF7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Основа технологии – трехфазовая структура урока: вызов, осмысление, рефлекс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– я ста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– я ста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– я ста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з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изация имеющихся зна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уждение интереса к получению новой информ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ка учеником собственных целей об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ация смыс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нов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 соотносят старые знания с нов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ышление, рождение нового зн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ка учеником новых целей об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A73D-2FC8-4233-BCD9-9FE8420D90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екоторые стратегии технологии развития критического мыш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8E791-F327-4C15-94BF-9A5C7EC617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адия «Вызов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«Понятийное колесо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62CA-09B4-4949-964B-2A9A22A29E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Arial"/>
                <a:ea typeface="Arial"/>
              </a:rPr>
              <a:t>Понятийное колесо на уроке обществознания в 8 классе. </a:t>
            </a:r>
            <a:br>
              <a:rPr sz="1200"/>
            </a:br>
            <a:r>
              <a:rPr b="0" lang="ru-RU" sz="1200" spc="-1" strike="noStrike">
                <a:solidFill>
                  <a:srgbClr val="e46c0a"/>
                </a:solidFill>
                <a:latin typeface="Arial"/>
                <a:ea typeface="Arial"/>
              </a:rPr>
              <a:t>Тема «Что такое общество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7BCD-F10A-4566-AE01-E18C40D03C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адия «Вызов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ратегия ЗХУ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1EAE-716D-46CD-8052-09994E39EA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23D0-B7D3-4D77-9B98-ED405C3E9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8760" y="4150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8AFF-3CD1-4618-A718-B8EEA0C1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580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42E8-8C40-4B6A-B99A-8A7A6577B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120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364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876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120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364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C0FC-35C3-42F6-8F18-BF5D20067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4FB8-D10D-42E2-BC8F-2FDDD64BB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9728-D571-43FF-A228-CD165D9F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31A7-84D7-4D33-952B-BB84E841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8809-F507-49B1-BB88-3503DB90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78E0-9A92-4339-BD54-F140709B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28760" y="4284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294C4-D13A-4DB8-B735-F2A23346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A5C8-8F2F-466B-B4A7-AD696883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10A6-0D58-482D-8DB2-D4D14078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580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4FB3-7CF5-4E4E-8B33-0F47B8E4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253F-C0C0-4023-B8E7-DC3240A6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760" y="4150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51B3-9A08-4431-B8CE-32EC4F1D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580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A04E1-769A-408B-8220-F00099492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120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364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2876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120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364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1BE20-9E77-4CA9-9167-42A39A039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8604-B7A2-4064-8038-8E02A29B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D339-5DFA-49EA-8168-BF5B5AB3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B3A5-41D7-4CA6-9989-47FF272E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8760" y="4284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C6FC-5379-4433-8D13-AE9D6D0D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8297-33E5-418F-9C25-45F3B7C4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580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D215-0C6A-48BD-BC7D-3085B5DA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6BDD-3E55-430F-B47E-C11F3F24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6345-3DE4-4A63-8A19-1FF84D77511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CF9E-2487-49C0-AEB4-B26166CD8E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69FC-124B-4EE9-BD23-95F945FB849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3777-C149-4ED6-ABBA-8D55914792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1384200" y="2011320"/>
            <a:ext cx="6448680" cy="1835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Автор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: Семкова Наталья Владимировна – учитель истории,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атегория,  МКОУ «СОШ №10» г. Нижняя Салда, Свердловской област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2012 год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Заголовок 1" descr=""/>
          <p:cNvPicPr/>
          <p:nvPr/>
        </p:nvPicPr>
        <p:blipFill>
          <a:blip r:embed="rId1"/>
          <a:stretch/>
        </p:blipFill>
        <p:spPr>
          <a:xfrm>
            <a:off x="317520" y="317520"/>
            <a:ext cx="8545320" cy="151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"/>
          <p:cNvGraphicFramePr/>
          <p:nvPr/>
        </p:nvGraphicFramePr>
        <p:xfrm>
          <a:off x="428760" y="1785960"/>
          <a:ext cx="8229600" cy="4022640"/>
        </p:xfrm>
        <a:graphic>
          <a:graphicData uri="http://schemas.openxmlformats.org/drawingml/2006/table">
            <a:tbl>
              <a:tblPr/>
              <a:tblGrid>
                <a:gridCol w="2743200"/>
                <a:gridCol w="3043080"/>
                <a:gridCol w="244332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«З» зна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«Х» хотим узн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«Х» хотим узн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2833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то такие археоло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Что такое исторические источ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ак работают археоло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ак находят археологические памят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акие существуют виды исторических источни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sp>
        <p:nvSpPr>
          <p:cNvPr id="11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360360" y="317520"/>
            <a:ext cx="8229600" cy="13460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500040" y="221472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 – уже зн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 – нов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 – думал инач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 – есть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1"/>
          <a:stretch/>
        </p:blipFill>
        <p:spPr>
          <a:xfrm>
            <a:off x="426960" y="262080"/>
            <a:ext cx="8229600" cy="160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428760" y="1785960"/>
          <a:ext cx="8229600" cy="4054320"/>
        </p:xfrm>
        <a:graphic>
          <a:graphicData uri="http://schemas.openxmlformats.org/drawingml/2006/table">
            <a:tbl>
              <a:tblPr/>
              <a:tblGrid>
                <a:gridCol w="2071440"/>
                <a:gridCol w="6158160"/>
              </a:tblGrid>
              <a:tr h="713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нач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лючевые сл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786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лумб открыл Америку, но думал, что открыл новый путь в Инд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4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нкиста – завое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лония – территория, потерявшая независим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6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умал, что Колумб открыл всю Америку, а он доплыл только до остров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4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чему после Великих географических открытий упали цены на золото и выросли цены на все това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1"/>
          <a:stretch/>
        </p:blipFill>
        <p:spPr>
          <a:xfrm>
            <a:off x="0" y="317520"/>
            <a:ext cx="8229600" cy="151128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13"/>
          <p:cNvSpPr/>
          <p:nvPr/>
        </p:nvSpPr>
        <p:spPr>
          <a:xfrm rot="1677000">
            <a:off x="2936520" y="2254320"/>
            <a:ext cx="431640" cy="1058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 rot="2858400">
            <a:off x="812520" y="2707920"/>
            <a:ext cx="2421000" cy="2268720"/>
          </a:xfrm>
          <a:prstGeom prst="rtTriangle">
            <a:avLst/>
          </a:pr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блем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5"/>
          <p:cNvSpPr/>
          <p:nvPr/>
        </p:nvSpPr>
        <p:spPr>
          <a:xfrm rot="505200">
            <a:off x="2717640" y="4383000"/>
            <a:ext cx="432000" cy="1059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6"/>
          <p:cNvSpPr/>
          <p:nvPr/>
        </p:nvSpPr>
        <p:spPr>
          <a:xfrm rot="1300800">
            <a:off x="4024080" y="2389320"/>
            <a:ext cx="431640" cy="1058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6"/>
          <p:cNvSpPr/>
          <p:nvPr/>
        </p:nvSpPr>
        <p:spPr>
          <a:xfrm rot="464400">
            <a:off x="3927240" y="4381560"/>
            <a:ext cx="431640" cy="1058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2143080" y="3714840"/>
            <a:ext cx="3929040" cy="433440"/>
          </a:xfrm>
          <a:prstGeom prst="rect">
            <a:avLst/>
          </a:pr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 rot="5400000">
            <a:off x="6510960" y="2823120"/>
            <a:ext cx="1809720" cy="2259000"/>
          </a:xfrm>
          <a:prstGeom prst="pie">
            <a:avLst/>
          </a:pr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во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2"/>
          <p:cNvSpPr/>
          <p:nvPr/>
        </p:nvSpPr>
        <p:spPr>
          <a:xfrm>
            <a:off x="2363400" y="178596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чи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3"/>
          <p:cNvSpPr/>
          <p:nvPr/>
        </p:nvSpPr>
        <p:spPr>
          <a:xfrm>
            <a:off x="4435200" y="178596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чи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4"/>
          <p:cNvSpPr/>
          <p:nvPr/>
        </p:nvSpPr>
        <p:spPr>
          <a:xfrm>
            <a:off x="2292840" y="571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к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5"/>
          <p:cNvSpPr/>
          <p:nvPr/>
        </p:nvSpPr>
        <p:spPr>
          <a:xfrm>
            <a:off x="4007520" y="571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к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Заголовок 1" descr=""/>
          <p:cNvPicPr/>
          <p:nvPr/>
        </p:nvPicPr>
        <p:blipFill>
          <a:blip r:embed="rId1"/>
          <a:stretch/>
        </p:blipFill>
        <p:spPr>
          <a:xfrm>
            <a:off x="-103320" y="390600"/>
            <a:ext cx="8442360" cy="1346040"/>
          </a:xfrm>
          <a:prstGeom prst="rect">
            <a:avLst/>
          </a:prstGeom>
          <a:ln w="0">
            <a:noFill/>
          </a:ln>
        </p:spPr>
      </p:pic>
      <p:sp>
        <p:nvSpPr>
          <p:cNvPr id="138" name="Freeform 8"/>
          <p:cNvSpPr/>
          <p:nvPr/>
        </p:nvSpPr>
        <p:spPr>
          <a:xfrm>
            <a:off x="571680" y="3143160"/>
            <a:ext cx="2050920" cy="2214720"/>
          </a:xfrm>
          <a:prstGeom prst="pie">
            <a:avLst/>
          </a:prstGeom>
          <a:solidFill>
            <a:srgbClr val="fac09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чины распада Древней Ру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9"/>
          <p:cNvSpPr/>
          <p:nvPr/>
        </p:nvSpPr>
        <p:spPr>
          <a:xfrm>
            <a:off x="2571840" y="4214880"/>
            <a:ext cx="4751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AutoShape 12"/>
          <p:cNvCxnSpPr/>
          <p:nvPr/>
        </p:nvCxnSpPr>
        <p:spPr>
          <a:xfrm flipH="1">
            <a:off x="2928600" y="3357360"/>
            <a:ext cx="714960" cy="867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AutoShape 12"/>
          <p:cNvCxnSpPr/>
          <p:nvPr/>
        </p:nvCxnSpPr>
        <p:spPr>
          <a:xfrm flipH="1">
            <a:off x="4143240" y="3428640"/>
            <a:ext cx="643320" cy="724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" name="AutoShape 12"/>
          <p:cNvCxnSpPr/>
          <p:nvPr/>
        </p:nvCxnSpPr>
        <p:spPr>
          <a:xfrm flipH="1">
            <a:off x="5285880" y="3357360"/>
            <a:ext cx="572400" cy="795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" name="AutoShape 24"/>
          <p:cNvCxnSpPr/>
          <p:nvPr/>
        </p:nvCxnSpPr>
        <p:spPr>
          <a:xfrm flipH="1" flipV="1">
            <a:off x="2999520" y="4285440"/>
            <a:ext cx="35820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4" name="AutoShape 24"/>
          <p:cNvCxnSpPr/>
          <p:nvPr/>
        </p:nvCxnSpPr>
        <p:spPr>
          <a:xfrm flipH="1" flipV="1">
            <a:off x="4071600" y="4214520"/>
            <a:ext cx="357840" cy="714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5" name="AutoShape 24"/>
          <p:cNvCxnSpPr/>
          <p:nvPr/>
        </p:nvCxnSpPr>
        <p:spPr>
          <a:xfrm flipH="1" flipV="1">
            <a:off x="5214960" y="4286160"/>
            <a:ext cx="64332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6" name="Прямоугольник 16"/>
          <p:cNvSpPr/>
          <p:nvPr/>
        </p:nvSpPr>
        <p:spPr>
          <a:xfrm>
            <a:off x="2071800" y="1571760"/>
            <a:ext cx="1857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ждоусобные войны и борьба за киевский прест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7"/>
          <p:cNvSpPr/>
          <p:nvPr/>
        </p:nvSpPr>
        <p:spPr>
          <a:xfrm>
            <a:off x="4143240" y="1643040"/>
            <a:ext cx="1285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иление экономичес-кой мощи отдельных зем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8"/>
          <p:cNvSpPr/>
          <p:nvPr/>
        </p:nvSpPr>
        <p:spPr>
          <a:xfrm>
            <a:off x="5786280" y="1500120"/>
            <a:ext cx="1500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уют тесные торговые связи между княжеств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9"/>
          <p:cNvSpPr/>
          <p:nvPr/>
        </p:nvSpPr>
        <p:spPr>
          <a:xfrm>
            <a:off x="2143080" y="4857840"/>
            <a:ext cx="1785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был определен порядок наследования киевского престо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20"/>
          <p:cNvSpPr/>
          <p:nvPr/>
        </p:nvSpPr>
        <p:spPr>
          <a:xfrm>
            <a:off x="3857760" y="5000760"/>
            <a:ext cx="1643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личия территорий по природным и хозяйственным услови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1"/>
          <p:cNvSpPr/>
          <p:nvPr/>
        </p:nvSpPr>
        <p:spPr>
          <a:xfrm>
            <a:off x="5643720" y="5214960"/>
            <a:ext cx="1214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туральное хозяй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0"/>
          <p:cNvSpPr/>
          <p:nvPr/>
        </p:nvSpPr>
        <p:spPr>
          <a:xfrm>
            <a:off x="6516720" y="2928960"/>
            <a:ext cx="2198520" cy="2428920"/>
          </a:xfrm>
          <a:prstGeom prst="pie">
            <a:avLst/>
          </a:prstGeom>
          <a:solidFill>
            <a:srgbClr val="fac09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дробленность на Руси была неизбеж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Заголовок 1" descr=""/>
          <p:cNvPicPr/>
          <p:nvPr/>
        </p:nvPicPr>
        <p:blipFill>
          <a:blip r:embed="rId1"/>
          <a:stretch/>
        </p:blipFill>
        <p:spPr>
          <a:xfrm>
            <a:off x="426960" y="426960"/>
            <a:ext cx="8229600" cy="11890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ро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одни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ом (обычно существительное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ро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исание те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два прилагательных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ро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исание действ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рамках этой темы (три глагола или деепричастия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ношение к тем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чувства, эмоции (фраза из четырех слов)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торение су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емы одним словом (синоним тем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Заголовок 1" descr=""/>
          <p:cNvPicPr/>
          <p:nvPr/>
        </p:nvPicPr>
        <p:blipFill>
          <a:blip r:embed="rId1"/>
          <a:stretch/>
        </p:blipFill>
        <p:spPr>
          <a:xfrm>
            <a:off x="426960" y="317520"/>
            <a:ext cx="8229600" cy="15112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сия в 1900-1917 г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ссия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арская, самодержавна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юет, подавляет, свергае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поха мировой войны, революции, гражданской смуты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двиг в российском общест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Заголовок 1" descr=""/>
          <p:cNvPicPr/>
          <p:nvPr/>
        </p:nvPicPr>
        <p:blipFill>
          <a:blip r:embed="rId1"/>
          <a:stretch/>
        </p:blipFill>
        <p:spPr>
          <a:xfrm>
            <a:off x="426960" y="42696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технологии развития критического мышления на уроках позволяет сформировать  умения и навыки работы с информаци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ходить, осмысливать, использовать нужную информац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ировать, систематизировать, представлять информацию в виде схем, таблиц, граф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внивать исторические явления и объекты, при этом самостоятельно выявлять признаки или линии сравне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влять проблемы, содержащиеся в тексте, определять возможные пути решения, вести поиск  необходимых сведений, используя  различные источники информ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Заголовок 1" descr=""/>
          <p:cNvPicPr/>
          <p:nvPr/>
        </p:nvPicPr>
        <p:blipFill>
          <a:blip r:embed="rId1"/>
          <a:stretch/>
        </p:blipFill>
        <p:spPr>
          <a:xfrm>
            <a:off x="426960" y="42696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428760" y="171468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.В. Богатенкова Технология развития критического мышления на уроках истории и краеведения  Н.В.Богатенкова // Пособие для учителей – СПб.: СПбГУПМ,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ение приемов и методов технологии развития критического мышления учащихся на уроках истории // Школьное историческое образование: творческий опыт и профессиональные размышления. – СПб.: СПбГУПМ, 199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. Загашев, С.И. Заир – Бек, И.В. Муштавинская, «Учим детей мыслить критически», СПб, 2003г., с.1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развития критического мышления на уроке истори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history-helpmy.blogspot.com/2010/04/blog-post_5385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Заголовок 1" descr=""/>
          <p:cNvPicPr/>
          <p:nvPr/>
        </p:nvPicPr>
        <p:blipFill>
          <a:blip r:embed="rId1"/>
          <a:stretch/>
        </p:blipFill>
        <p:spPr>
          <a:xfrm>
            <a:off x="426960" y="42696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1928520" y="1785960"/>
            <a:ext cx="6729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psychology.careeredublogs.com/files/2010/02/school.jp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grafamania.net/uploads/posts/2008-08/1219611582_7.jp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88.198.21.149/images/photoframes/2010/6/02/17/55/g2IP8mW0czgiqFNweb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Рисунок 3" descr=""/>
          <p:cNvPicPr/>
          <p:nvPr/>
        </p:nvPicPr>
        <p:blipFill>
          <a:blip r:embed="rId2"/>
          <a:stretch/>
        </p:blipFill>
        <p:spPr>
          <a:xfrm>
            <a:off x="785880" y="1785960"/>
            <a:ext cx="1023840" cy="772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C:\Documents and Settings\User\Рабочий стол\Рамки для слайдов\pvL9GOSOCt3iNiifbbK.jpg"/>
          <p:cNvPicPr/>
          <p:nvPr/>
        </p:nvPicPr>
        <p:blipFill>
          <a:blip r:embed="rId3"/>
          <a:stretch/>
        </p:blipFill>
        <p:spPr>
          <a:xfrm>
            <a:off x="500040" y="4643280"/>
            <a:ext cx="1425600" cy="928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C:\Documents and Settings\User\Рабочий стол\картинки на школьныю тему\Рисунок16.png"/>
          <p:cNvPicPr/>
          <p:nvPr/>
        </p:nvPicPr>
        <p:blipFill>
          <a:blip r:embed="rId4"/>
          <a:stretch/>
        </p:blipFill>
        <p:spPr>
          <a:xfrm>
            <a:off x="571680" y="2857680"/>
            <a:ext cx="1143000" cy="142848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26960" y="42696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ология развития критического мышления через чтение и письмо разработана в конце XX века в США (Ч. Темпл, Д. Стил, К. Мередит). В ней синтезированы идеи и методы отечественных технологий, коллективных и групповых способов обучения, а также сотрудничества, развивающего обучения; она является общепедагогической, надпредмет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ология РКМЧП представляет собой целостную систему, формирующую навыки работы с информацией в процессе чтения и письма. Критическое мышление – это один из видов интеллектуальной деятельности человека, который характеризуется высоким уровнем восприятия, понимания, объективности подхода к окружающему его информационному по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26960" y="317520"/>
            <a:ext cx="8229600" cy="1511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Формирование нового стиля мыш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  Развитие таких базовых качеств личности, как критическое мышление, коммуникативность, креативность, моби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Развитие аналитического, критического 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  Формирование культуры чтения, включающей в себя умение ориентироваться в источниках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 Стимулирование самостоятельной поисковой творческой деятельности, запуск механизмов самообразования и самоорган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26960" y="317520"/>
            <a:ext cx="8229600" cy="1511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ая мотивация учащихся к образовательному процес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растание мыслительных возможностей учащихся, гибкости мышления, его переключения с одного типа на друг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способности самостоятельно конструировать, строить понятия и оперировать и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способности передавать другим авторскую информацию, подвергать ее коррекции, понимать и принимать точку зрения другого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умения анализировать полученную информ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500040" y="457200"/>
            <a:ext cx="8229600" cy="1347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428760" y="1785960"/>
          <a:ext cx="8229600" cy="41450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– я стад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– я стад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– я стад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3748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зов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ктуализация имеющихся знаний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буждение интереса к получению новой информации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становка учеником собственных целей обуче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ализация смысла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лучение новой информаци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чащиеся соотносят старые знания с новым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флексия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змышление, рождение нового знан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становка учеником новых целей обуче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sp>
        <p:nvSpPr>
          <p:cNvPr id="10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1500120" y="1494000"/>
            <a:ext cx="6235920" cy="28890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Схема 3" descr=""/>
          <p:cNvPicPr/>
          <p:nvPr/>
        </p:nvPicPr>
        <p:blipFill>
          <a:blip r:embed="rId1"/>
          <a:stretch/>
        </p:blipFill>
        <p:spPr>
          <a:xfrm>
            <a:off x="573120" y="1700280"/>
            <a:ext cx="8143920" cy="4792680"/>
          </a:xfrm>
          <a:prstGeom prst="rect">
            <a:avLst/>
          </a:prstGeom>
          <a:ln w="0">
            <a:noFill/>
          </a:ln>
        </p:spPr>
      </p:pic>
      <p:pic>
        <p:nvPicPr>
          <p:cNvPr id="107" name="Заголовок 1" descr=""/>
          <p:cNvPicPr/>
          <p:nvPr/>
        </p:nvPicPr>
        <p:blipFill>
          <a:blip r:embed="rId2"/>
          <a:stretch/>
        </p:blipFill>
        <p:spPr>
          <a:xfrm>
            <a:off x="500040" y="426960"/>
            <a:ext cx="8229600" cy="143208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426960" y="182520"/>
            <a:ext cx="8229600" cy="1835280"/>
          </a:xfrm>
          <a:prstGeom prst="rect">
            <a:avLst/>
          </a:prstGeom>
          <a:ln w="0">
            <a:noFill/>
          </a:ln>
        </p:spPr>
      </p:pic>
      <p:pic>
        <p:nvPicPr>
          <p:cNvPr id="110" name="Содержимое 3" descr=""/>
          <p:cNvPicPr/>
          <p:nvPr/>
        </p:nvPicPr>
        <p:blipFill>
          <a:blip r:embed="rId2"/>
          <a:stretch/>
        </p:blipFill>
        <p:spPr>
          <a:xfrm>
            <a:off x="426960" y="1725480"/>
            <a:ext cx="8229600" cy="46990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1"/>
          <a:stretch/>
        </p:blipFill>
        <p:spPr>
          <a:xfrm>
            <a:off x="426960" y="255600"/>
            <a:ext cx="8229600" cy="151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428760" y="1785960"/>
          <a:ext cx="8229600" cy="3203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13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«З» зна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«Х» хотим узн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У» узн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9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1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15:02:59Z</dcterms:created>
  <dc:creator>Comp</dc:creator>
  <dc:description/>
  <dc:language>en-US</dc:language>
  <cp:lastModifiedBy>LEGION</cp:lastModifiedBy>
  <dcterms:modified xsi:type="dcterms:W3CDTF">2015-01-26T13:57:58Z</dcterms:modified>
  <cp:revision>15</cp:revision>
  <dc:subject/>
  <dc:title>Слайд 1</dc:title>
</cp:coreProperties>
</file>