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BA4A-15EE-4398-8593-4CA265D3EF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ВЫПОЛНЕНИЯ ЗАДАНИЙ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ДЛЯ ФОРМИРОВАНИЯ И РАЗВИТИЯ УЧЕБНЫХ УМЕНИЙ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5BD6-573B-4208-9F33-724E265F77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CDFB-62EB-450C-B097-248826DD84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эс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% к общему объему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(актуализация заявленной темы эс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формулировка те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содержащий заключительное суждение (умозаключ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BB53-5525-4096-BA33-DE7AA6EC4B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  Работа с источ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D573-27D5-4717-8451-A257B5BFC3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 Как составить рассказ об исторической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FA09-F579-40EB-9849-CC0081CF49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B89A-C80D-4863-9C7E-DC9EB9A736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ак нужно запоминать определения терминов и закономерност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73B3-ACA0-4FFA-8709-3902BDF9AC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Как составить план текст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741E-8C27-465E-B5CA-1090B4A065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Как составить конспек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3782-6039-495E-9867-A69426398D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Как составить схем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756-A39A-4895-886D-D0E3AF2C47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. Как заполнить таблиц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1BFB-D4D7-47CD-8BEE-A55D71C856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. Как составить аннотац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1A96-475C-4DD4-8B8A-F3B480BB2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Как составить рефер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A907-E963-45D0-967E-28E8727869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Как написать домашнее э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FCD4-06A9-430B-9AC6-D9AFD5B495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92B-05A6-4194-9D7B-3A1B4067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790-20FE-4104-904F-9272127B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1BA-A5B8-4559-AD8A-86FECD41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5A1-B9E5-465E-BD10-A3A96BFE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F9AE-56B1-4342-9D1D-AD502F99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C091-D75A-4D77-908C-35BB8781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ABF3-078A-466D-8E91-2B35B709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BB28-D2AD-4557-ADCC-A60DE493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8241-5F58-4406-8778-2B291690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A2CF-9D94-458F-B9AB-E0E6CA72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6420-6EAC-407A-9F81-42488A4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640-C950-429A-A453-80560A5A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FA9E-4569-4A38-90EC-E7B74031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A222-E382-422C-9CD4-7CFA4948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4F3E-CE64-40FA-B57C-E42050FB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46C0-D6E4-42E1-9C64-E45F141B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839A-58BD-4773-A56B-623C1F1E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73D-075B-4D20-813B-CF66A080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68A-36DC-4AAB-85DF-BDD601EB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DE1-B244-40BF-BC6B-83B3BB04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3FD-E856-450D-94BB-33947C7C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756-D4C9-4ACF-BEF3-DEE371B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BD1-BD33-4133-AAA3-96512EFE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E29-2C3F-476E-9A3F-7FDAD95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68F9-68CA-4DE1-8174-BD9B21D9EF1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C320-59F6-46D4-98CC-F3ACADB57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4538-AA66-4751-B542-27929B9344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854C-6162-4C21-8508-E0B8FD49A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5880" y="1316160"/>
            <a:ext cx="7499160" cy="232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86080" y="3886200"/>
            <a:ext cx="4486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42960" y="1357200"/>
          <a:ext cx="8229600" cy="3840120"/>
        </p:xfrm>
        <a:graphic>
          <a:graphicData uri="http://schemas.openxmlformats.org/drawingml/2006/table">
            <a:tbl>
              <a:tblPr/>
              <a:tblGrid>
                <a:gridCol w="5686560"/>
                <a:gridCol w="254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емент струк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к общему объему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(актуализация заявленной темы эсс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формулировка тез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, содержащий заключительное суждение (умозаключ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07880" y="79200"/>
            <a:ext cx="8467920" cy="168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85920" y="5643360"/>
            <a:ext cx="70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2960" y="1428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Е. Вяземский, О.Ю. Стрелова Методические рекомендации учителю истории. Основы профессионального мастерства. М.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221472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 на уроках истории и обществозн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ytva.taba.ru/NP_konferenciya_2012/Sekciya_3/534786_Formirovanie_universalnyh_uchebnyh_deystviy_na_urokah_istorii_i_obschestvoznaniy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17520" y="79200"/>
            <a:ext cx="8515440" cy="1341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41280" y="23760"/>
            <a:ext cx="8406000" cy="13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1424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17:33Z</dcterms:created>
  <dc:creator>Comp</dc:creator>
  <dc:description/>
  <dc:language>en-US</dc:language>
  <cp:lastModifiedBy>LEGION</cp:lastModifiedBy>
  <dcterms:modified xsi:type="dcterms:W3CDTF">2015-01-26T13:58:38Z</dcterms:modified>
  <cp:revision>12</cp:revision>
  <dc:subject/>
  <dc:title>Слайд 1</dc:title>
</cp:coreProperties>
</file>