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2EBC-B980-454F-9C2D-5C943E4765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ВЫПОЛНЕНИЯ ЗАДАНИЙ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ДЛЯ ФОРМИРОВАНИЯ И РАЗВИТИЯ УЧЕБНЫХ УМЕНИЙ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F1AC-8A8D-4EDA-BE35-A8D24780EF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D962-1160-40B8-9CED-BD6D5CD041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эс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% к общему объему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(актуализация заявленной темы эс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формулировка те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содержащий заключительное суждение (умозаключ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F65A-E750-43EC-AAE8-3FC2ED2551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  Работа с источник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5BE8-A578-42A6-8088-294A1C229E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 Как составить рассказ об исторической 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CD49-0467-4116-A61A-EE2E166E8C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97FC-7970-476B-B00B-021C2391F0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Как нужно запоминать определения терминов и закономерност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C06B-1BA9-4680-9A6F-958642B0D6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Как составить план текст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8A3A-5520-46A2-A0D6-27EB08CC16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Как составить конспек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C6E7-E373-4973-AAF2-45FC98E3D9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. Как составить схем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596A-E3B4-45D4-BA3D-A8B8646B2A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. Как заполнить таблиц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45AC-EBA8-4350-9EC6-ECA07A98B5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. Как составить аннотаци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DC25-93C5-4808-8ED7-8A7508CCA9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Как составить рефера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8BBF-9B1A-4785-9DF7-6DB86C74A9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. Как написать домашнее эсс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21EF-DF20-4C01-B181-21A91963E3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B72-6D73-423E-BF59-06E84937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10B-92D4-4B23-962B-8706766D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EA3-3D56-461E-8AD8-CB84D014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CA5-0ECD-406C-98FC-078B8329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89D3-75E5-45CC-970C-E66F4B3E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369B-8122-46A4-97FF-E895F9FB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11DF-A133-47CF-B2EB-BA900BD2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3F0B-83CC-4408-ADC7-875F015E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69FA-197F-49E3-BF1D-DB2AEA46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2344-F5FE-48A2-96DB-1C177B96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1AD9-4978-4C9D-A7D6-157E9573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12A-8282-40A4-842B-9B13067E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5539-AC32-4424-B37B-D61324A1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3178-9365-4777-B0CB-EB025158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4088-B6AB-437B-B157-3907B2F8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E103-3A68-4086-8286-F4EB55EB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D719-3AD3-4D90-A401-E6A9D9F7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3ED-F107-4BAB-9476-46CBF9B2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11A-C530-4B96-A48B-7FB3D6EC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BE5-9EA8-44BF-AAE2-8FC16CFA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B2A-1373-4609-A086-A8E7F81B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640-D3D2-4463-86E9-E2952F96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1BE-9323-40A2-8307-B26E09FF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FCD1-93BC-413E-90FB-9C5BE522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2249-49CB-429A-A300-95EC9793F2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D076-A103-4A44-BFD0-EB170A7F31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4D8E-49FF-4DF0-ADB1-49DB015BFD3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14C9-E7E7-4D3D-834F-869F852E8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785880" y="1316160"/>
            <a:ext cx="7499160" cy="232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86080" y="3886200"/>
            <a:ext cx="4486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I </a:t>
            </a: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642960" y="1357200"/>
          <a:ext cx="8229600" cy="3840120"/>
        </p:xfrm>
        <a:graphic>
          <a:graphicData uri="http://schemas.openxmlformats.org/drawingml/2006/table">
            <a:tbl>
              <a:tblPr/>
              <a:tblGrid>
                <a:gridCol w="5686560"/>
                <a:gridCol w="254304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емент струк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к общему объему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о (актуализация заявленной темы эсс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з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формулировка тез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вод, содержащий заключительное суждение (умозаключ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07880" y="79200"/>
            <a:ext cx="8467920" cy="168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85920" y="5643360"/>
            <a:ext cx="70149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642960" y="1428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Е. Вяземский, О.Ю. Стрелова Методические рекомендации учителю истории. Основы профессионального мастерства. М. 200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14240" y="2214720"/>
            <a:ext cx="75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ниверсальных учебных действий на уроках истории и обществозн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ytva.taba.ru/NP_konferenciya_2012/Sekciya_3/534786_Formirovanie_universalnyh_uchebnyh_deystviy_na_urokah_istorii_i_obschestvoznaniy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17520" y="79200"/>
            <a:ext cx="8515440" cy="1341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341280" y="23760"/>
            <a:ext cx="8406000" cy="133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1424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3:17:33Z</dcterms:created>
  <dc:creator>Comp</dc:creator>
  <dc:description/>
  <dc:language>en-US</dc:language>
  <cp:lastModifiedBy>LEGION</cp:lastModifiedBy>
  <dcterms:modified xsi:type="dcterms:W3CDTF">2015-01-26T13:58:38Z</dcterms:modified>
  <cp:revision>12</cp:revision>
  <dc:subject/>
  <dc:title>Слайд 1</dc:title>
</cp:coreProperties>
</file>