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6B6-9C26-48AB-9868-6B82A6ECEE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АЛГОРИТМ ВЫПОЛНЕНИЯ ЗАДАНИЙ</a:t>
            </a:r>
            <a:br>
              <a:rPr sz="800"/>
            </a:br>
            <a:r>
              <a:rPr b="0" lang="ru-RU" sz="800" spc="-1" strike="noStrike">
                <a:solidFill>
                  <a:srgbClr val="000000"/>
                </a:solidFill>
                <a:latin typeface="Arial"/>
                <a:ea typeface="Arial"/>
              </a:rPr>
              <a:t> ДЛЯ ФОРМИРОВАНИЯ И РАЗВИТИЯ УЧЕБНЫХ УМЕНИЙ</a:t>
            </a: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012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EB68-305A-44EE-BEEA-B8A8A8CC36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BA0C-C3DB-4BD8-94B9-2480D3CF62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труктура эс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лемент струк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% к общему объему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ало (актуализация заявленной темы эсс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зи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формулировка тез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содержащий заключительное суждение (умозаключ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970A-901E-408A-998A-3904ECAB2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9  Работа с источником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86FC-E0CE-4FE7-9241-4D667A9F8C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10 Как составить рассказ об исторической лич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7EE5-7D37-4C22-9BFA-1064DC40DA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B530-E756-4365-B0F8-ACB881BCD80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Как нужно запоминать определения терминов и закономерност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B0B1-3D91-4695-B451-C374624DD8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2. Как составить план текста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CB98-2B5D-4918-BF35-39FC168006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3. Как составить конспект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B472-9D4C-43D4-817B-7D9990ED7F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4. Как составить схем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770-48AC-4954-8454-186268D710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5. Как заполнить таблицу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27FC-DBA5-46B5-ACAD-3A41D691C3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6. Как составить аннотаци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2845-6CE6-4EB8-B761-36FDCCE35D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7. Как составить рефера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FA3F-81BB-46DA-96B5-78B06EF8DDC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№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8. Как написать домашнее эсс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0FA26-7663-4CF1-9FFD-4C3062BDE90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253-FD0E-40BE-9F51-8B0EC604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153-D7AF-4BB2-92F5-2BCE89174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5572-4E70-446E-9A06-3E49B5CB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7D56-138A-4327-8668-6BE94E56B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377D-B672-494F-8284-081C316F1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3EF2C-63C8-4773-B607-F7D2ECB0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61947-A121-404A-BE1C-E18A546B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1FCF-8D2F-4BDB-ACC1-5B27E545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6DED-0E62-449A-9F90-AED6AD42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0198-142E-4AB8-AEED-017CCB71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8372-4FD8-4F05-8679-55F72319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99E7-EE3F-468B-8C0F-331CC87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7534-D639-4195-BFB0-50E631DE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5B1C-8E04-4E06-A7D8-4CA9CC77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CD7F-1924-4909-B858-0D61DB045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8D46-F943-45BA-9D1B-CFF1C4871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90AD9-BD83-4595-816B-0D134860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EC7F-BCD7-4E95-B415-AAAB91D0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A556-FBB5-41D5-AC90-68364C937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4058-9583-470E-9E6D-2DBEC272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D42-7568-4542-AC93-BF96FDDA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AA7-0945-475D-8D99-EC786E71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8A7C-3EF4-4335-AEF1-1C98785C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FAD1-7582-48D3-BE35-FD4F5D52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8B94-E841-4514-A655-958DA42DEF0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AA6-86F7-4AAF-B1A6-52C7BF879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47E9-716B-4418-9E3D-E81E0E073C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B700-7D78-4851-812C-522E3C8961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785880" y="1316160"/>
            <a:ext cx="7499160" cy="2322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286080" y="3886200"/>
            <a:ext cx="4486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Автор: Семкова Наталья Владимировна – учитель истории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Arial"/>
                <a:ea typeface="Arial"/>
              </a:rPr>
              <a:t>I </a:t>
            </a: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категория,  МКОУ «СОШ №10» г. Нижняя Салда, Свердлов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84807"/>
                </a:solidFill>
                <a:latin typeface="Arial"/>
                <a:ea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50004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 </a:t>
            </a:r>
            <a:r>
              <a:rPr b="0" i="1" lang="ru-RU" sz="3200" spc="-1" strike="noStrike" u="sng">
                <a:solidFill>
                  <a:srgbClr val="ff0000"/>
                </a:solidFill>
                <a:uFillTx/>
                <a:latin typeface="Calibri"/>
              </a:rPr>
              <a:t>При написании эсс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пишите эссе в черновом варианте, придерживаясь оптимальной структуры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анализируйте содержание написа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верьте стиль и грамотность, композиционное построение эссе, логичность и последовательность изложенног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несите необходимые изменения и напишите окончательный вариан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14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642960" y="1357200"/>
          <a:ext cx="8229600" cy="3840120"/>
        </p:xfrm>
        <a:graphic>
          <a:graphicData uri="http://schemas.openxmlformats.org/drawingml/2006/table">
            <a:tbl>
              <a:tblPr/>
              <a:tblGrid>
                <a:gridCol w="5686560"/>
                <a:gridCol w="254304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Элемент структур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к общему объему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чало (актуализация заявленной темы эсс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зи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и аргументированных доказательства (опровержения) тезиса, выражающих ваше личное мнение (вашу позицию) и имеющих в своей основе научный подх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еформулировка тези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699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вод, содержащий заключительное суждение (умозаключение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sp>
        <p:nvSpPr>
          <p:cNvPr id="12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82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Прочитайте документ и определите его характер (официальный документ, газетная хроника, мемуары, письмо, записки очевидца, дневник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пределите основное содержание документа, ключевые слова, выделите главные события, действующих л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Найдите в документе основные акценты автора. Чьи взгляды он представляет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Подчеркните те места в документе, которые непонятны, уточните и смысл в словаре, учебнике, в сети Интерне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1"/>
          <a:stretch/>
        </p:blipFill>
        <p:spPr>
          <a:xfrm>
            <a:off x="407880" y="79200"/>
            <a:ext cx="8467920" cy="168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 Определите время жизни, даты рождения и смерти, годы правления, самые значительные свершения и п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Обратите внимание на внешний обли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 Определите особенности характер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. Определите, чем знаменит в истор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5. Дайте оценку деятельности исторической личности. Обоснуйте сво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6. Используйте дополнительную литературу и интернет-ресурс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1285920" y="5643360"/>
            <a:ext cx="701496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сточник изоб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ttp://krasdo.ucoz.ru/ee383358c499.p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642960" y="142884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.Е. Вяземский, О.Ю. Стрелова Методические рекомендации учителю истории. Основы профессионального мастерства. М. 200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4"/>
          <p:cNvSpPr/>
          <p:nvPr/>
        </p:nvSpPr>
        <p:spPr>
          <a:xfrm>
            <a:off x="714240" y="2214720"/>
            <a:ext cx="7572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ирование универсальных учебных действий на уроках истории и обществозн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ytva.taba.ru/NP_konferenciya_2012/Sekciya_3/534786_Formirovanie_universalnyh_uchebnyh_deystviy_na_urokah_istorii_i_obschestvoznaniya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8229600" cy="14144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определение термина в тетрад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записанн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Изобразите определение в виде рисунка, схемы, слов и сравните с запис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Прочтите изображе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. Повторите два-три раза весь цик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457200" y="85680"/>
            <a:ext cx="8229600" cy="1335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читайте текст про себя, обдумайте прочитанн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Разбейте текст на смысловые части, озаглавьте и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отражают ли заголовки основную мысль каждого фрагмента, связанны ли между собой части плана по смыс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роверьте, можно ли по плану раскрыть основную мысль текс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0004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нимательно прочитайте текст, выделите новые слова, имена, да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записи не забудьте их объясни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простой план, сформулируйте основную мысль каждого пункта пла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делайте краткую последовательную запис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 и дайте им назва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Проведите от названия текста стрелки вниз и подпишите возле каждой из них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. Дополните схему пример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названия оглавлений табл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Прочтите текст учебника и с помощью карандаша, укажите в нем материалы к каждой граф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соответствующие графы таблицы указанные материалы из текста в сокращенном вид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Заголовок 1" descr=""/>
          <p:cNvPicPr/>
          <p:nvPr/>
        </p:nvPicPr>
        <p:blipFill>
          <a:blip r:embed="rId1"/>
          <a:stretch/>
        </p:blipFill>
        <p:spPr>
          <a:xfrm>
            <a:off x="317520" y="79200"/>
            <a:ext cx="8515440" cy="1341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. Прочтите предложенный текст и запишите его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. Укажите карандашом в книге основные разделы, из которых состоит текс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в тетради аннотацию текста по схеме “В тексте рассказывается о…”, затем включите названия разделов тек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1"/>
          <a:stretch/>
        </p:blipFill>
        <p:spPr>
          <a:xfrm>
            <a:off x="457200" y="79200"/>
            <a:ext cx="8229600" cy="1341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. Запишите название реферируемой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. Запишите проблемы-затруднения, о которых идет речь в стать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. Запишите решения проблем, которые предложены автором стат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. Проведите системный анализ этих проблем и запишите ваши реш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. Запишите Ф. И. О. автора, название статьи, название журнала, год, номер страниц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1"/>
          <a:stretch/>
        </p:blipFill>
        <p:spPr>
          <a:xfrm>
            <a:off x="341280" y="23760"/>
            <a:ext cx="8406000" cy="1335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1424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режде чем приступить к написанию эсс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зучите заданный на дом теоретический материа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ясните особенности заявленной темы эс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умайте, в чем может заключаться актуальность заявленной тем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делите ключевой тезис и определите свою позицию по отношению к н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, какие теоретические понятия, научные теории, термины помогут вам раскрыть суть тезиса и собственной пози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оставьте тезисный план, сформулируйте возникшие у вас мысли и иде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8T03:17:33Z</dcterms:created>
  <dc:creator>Comp</dc:creator>
  <dc:description/>
  <dc:language>en-US</dc:language>
  <cp:lastModifiedBy>LEGION</cp:lastModifiedBy>
  <dcterms:modified xsi:type="dcterms:W3CDTF">2015-01-26T13:58:38Z</dcterms:modified>
  <cp:revision>12</cp:revision>
  <dc:subject/>
  <dc:title>Слайд 1</dc:title>
</cp:coreProperties>
</file>