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2.jpeg" ContentType="image/jpeg"/>
  <Override PartName="/ppt/media/image10.gif" ContentType="image/gif"/>
  <Override PartName="/ppt/media/image13.png" ContentType="image/png"/>
  <Override PartName="/ppt/media/ricochet.wav" ContentType="audio/x-wav"/>
  <Override PartName="/ppt/media/image1.jpeg" ContentType="image/jpeg"/>
  <Override PartName="/ppt/media/image21.png" ContentType="image/png"/>
  <Override PartName="/ppt/media/image49.png" ContentType="image/png"/>
  <Override PartName="/ppt/media/image23.jpeg" ContentType="image/jpeg"/>
  <Override PartName="/ppt/media/image8.png" ContentType="image/png"/>
  <Override PartName="/ppt/media/image56.gif" ContentType="image/gif"/>
  <Override PartName="/ppt/media/image16.wmf" ContentType="image/x-wmf"/>
  <Override PartName="/ppt/media/image45.jpeg" ContentType="image/jpeg"/>
  <Override PartName="/ppt/media/image41.gif" ContentType="image/gif"/>
  <Override PartName="/ppt/media/image4.png" ContentType="image/png"/>
  <Override PartName="/ppt/media/image34.png" ContentType="image/png"/>
  <Override PartName="/ppt/media/image27.png" ContentType="image/png"/>
  <Override PartName="/ppt/media/drumroll.wav" ContentType="audio/x-wav"/>
  <Override PartName="/ppt/media/image12.wmf" ContentType="image/x-wmf"/>
  <Override PartName="/ppt/media/image50.png" ContentType="image/png"/>
  <Override PartName="/ppt/media/image5.jpeg" ContentType="image/jpeg"/>
  <Override PartName="/ppt/media/image11.wmf" ContentType="image/x-wmf"/>
  <Override PartName="/ppt/media/image6.jpeg" ContentType="image/jpeg"/>
  <Override PartName="/ppt/media/image18.png" ContentType="image/png"/>
  <Override PartName="/ppt/media/image25.png" ContentType="image/png"/>
  <Override PartName="/ppt/media/image9.wmf" ContentType="image/x-wmf"/>
  <Override PartName="/ppt/media/image22.png" ContentType="image/png"/>
  <Override PartName="/ppt/media/image24.jpeg" ContentType="image/jpeg"/>
  <Override PartName="/ppt/media/projctor.wav" ContentType="audio/x-wav"/>
  <Override PartName="/ppt/media/image57.gif" ContentType="image/gif"/>
  <Override PartName="/ppt/media/image17.wmf" ContentType="image/x-wmf"/>
  <Override PartName="/ppt/media/image14.wmf" ContentType="image/x-wmf"/>
  <Override PartName="/ppt/media/image3.png" ContentType="image/png"/>
  <Override PartName="/ppt/media/clap.wav" ContentType="audio/x-wav"/>
  <Override PartName="/ppt/media/image54.jpeg" ContentType="image/jpeg"/>
  <Override PartName="/ppt/media/image33.png" ContentType="image/png"/>
  <Override PartName="/ppt/media/image26.png" ContentType="image/png"/>
  <Override PartName="/ppt/media/image19.png" ContentType="image/png"/>
  <Override PartName="/ppt/media/image7.png" ContentType="image/png"/>
  <Override PartName="/ppt/media/image53.jpeg" ContentType="image/jpeg"/>
  <Override PartName="/ppt/media/chimes.wav" ContentType="audio/x-wav"/>
  <Override PartName="/ppt/media/image29.png" ContentType="image/png"/>
  <Override PartName="/ppt/media/image28.png" ContentType="image/png"/>
  <Override PartName="/ppt/media/image38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5.png" ContentType="image/png"/>
  <Override PartName="/ppt/media/image42.gif" ContentType="image/gif"/>
  <Override PartName="/ppt/media/image36.png" ContentType="image/png"/>
  <Override PartName="/ppt/media/image39.gif" ContentType="image/gif"/>
  <Override PartName="/ppt/media/image40.gif" ContentType="image/gif"/>
  <Override PartName="/ppt/media/image43.png" ContentType="image/png"/>
  <Override PartName="/ppt/media/image44.jpeg" ContentType="image/jpeg"/>
  <Override PartName="/ppt/media/image58.png" ContentType="image/png"/>
  <Override PartName="/ppt/media/image55.gif" ContentType="image/gif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A5D7-0A76-40AA-AA2E-9C3AB157EB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435D-2781-46D5-9BCE-2D42A7F982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C4F3-822F-4CF3-AE12-58CDEC62E1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B9A9-56C2-4570-9608-94D04ADC0A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9DC4-D4CC-406E-A3CD-2B2BA7590F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D744-A5DC-470C-9434-766F6FAD0B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4051-BAC0-4398-96B9-7E93830AB0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BA8C-DF7D-40B5-A102-3CCBF29D47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7548-E471-4691-96C4-9F9A44C83A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ff99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5A1E-E3E3-4602-87A9-7AC876B07B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8A69-D4E4-4F94-AAC0-8843EE4555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43F6-037D-4DE6-AA80-D916AB94F9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а био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9DD5-7FDD-4579-AE3F-F189DCE1D1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FAED-85C5-49F7-90D6-D8E51DF8CB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1158-B551-4735-8A4A-EC191EA2F4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7AC3-4136-4688-A056-DD140C3D75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80F9-E949-4609-9940-60F9827711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BA4-0E80-4872-80E4-4EFCE300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B1E-3ADC-40A4-AB69-C01051CD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988-1DA8-457B-993F-85331BAF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2029-5076-4385-A705-38887E86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59B-6D46-4E89-992D-AADB5EEC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A20-42AE-49BB-BFBD-25E9E9C5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E3F-7781-4DE4-8F0B-8FAD6E74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92F-B470-4B82-AAFD-F68C576A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D82-B338-4954-B2FF-7F8B232A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78D-3B29-4F3B-848E-7FA6780F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595-877D-4494-9713-476233CA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18E-DFA8-4012-ADD5-B59189D8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E269-02CB-4539-AED7-17771AB9AF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2.jpeg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2.jpeg"/><Relationship Id="rId5" Type="http://schemas.openxmlformats.org/officeDocument/2006/relationships/image" Target="../media/image46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2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2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2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.jpeg"/><Relationship Id="rId4" Type="http://schemas.openxmlformats.org/officeDocument/2006/relationships/image" Target="../media/image2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89640" y="4419720"/>
            <a:ext cx="410364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Заниматься физикой я мог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только взяв медицину в придач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Л.Ф.Гельмголь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немецкий физик, математ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физиолог и врач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1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94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2468520"/>
            <a:ext cx="9131400" cy="2219400"/>
          </a:xfrm>
          <a:prstGeom prst="roundRect">
            <a:avLst>
              <a:gd name="adj" fmla="val 7792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1f7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324468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 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!</a:t>
            </a:r>
            <a:r>
              <a:rPr b="0" lang="uk-UA" sz="3400" spc="-1" strike="noStrike" baseline="-25000">
                <a:solidFill>
                  <a:srgbClr val="ffcc00"/>
                </a:solidFill>
                <a:latin typeface="Monotype Corsiv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500040" y="522360"/>
            <a:ext cx="3297240" cy="2531520"/>
            <a:chOff x="500040" y="522360"/>
            <a:chExt cx="3297240" cy="2531520"/>
          </a:xfrm>
        </p:grpSpPr>
        <p:grpSp>
          <p:nvGrpSpPr>
            <p:cNvPr id="52" name="Group 7"/>
            <p:cNvGrpSpPr/>
            <p:nvPr/>
          </p:nvGrpSpPr>
          <p:grpSpPr>
            <a:xfrm>
              <a:off x="500040" y="522360"/>
              <a:ext cx="3297240" cy="2531520"/>
              <a:chOff x="500040" y="522360"/>
              <a:chExt cx="3297240" cy="2531520"/>
            </a:xfrm>
          </p:grpSpPr>
          <p:pic>
            <p:nvPicPr>
              <p:cNvPr id="53" name="Picture 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00040" y="1510200"/>
                <a:ext cx="876240" cy="154368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54" name="AutoShape 9"/>
              <p:cNvSpPr/>
              <p:nvPr/>
            </p:nvSpPr>
            <p:spPr>
              <a:xfrm>
                <a:off x="1357200" y="522360"/>
                <a:ext cx="2440080" cy="1340640"/>
              </a:xfrm>
              <a:prstGeom prst="wedgeEllipseCallout">
                <a:avLst>
                  <a:gd name="adj1" fmla="val -46615"/>
                  <a:gd name="adj2" fmla="val 5117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Text Box 10"/>
            <p:cNvSpPr/>
            <p:nvPr/>
          </p:nvSpPr>
          <p:spPr>
            <a:xfrm>
              <a:off x="1807920" y="902160"/>
              <a:ext cx="16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у да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1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5970600" y="155520"/>
            <a:ext cx="2560680" cy="24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3"/>
          <a:stretch/>
        </p:blipFill>
        <p:spPr>
          <a:xfrm>
            <a:off x="442800" y="4375080"/>
            <a:ext cx="22971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46464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8659800" y="0"/>
            <a:ext cx="4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43"/>
          <p:cNvGrpSpPr/>
          <p:nvPr/>
        </p:nvGrpSpPr>
        <p:grpSpPr>
          <a:xfrm>
            <a:off x="442800" y="1177920"/>
            <a:ext cx="3524400" cy="1428480"/>
            <a:chOff x="442800" y="1177920"/>
            <a:chExt cx="3524400" cy="1428480"/>
          </a:xfrm>
        </p:grpSpPr>
        <p:pic>
          <p:nvPicPr>
            <p:cNvPr id="226" name="Object 7" descr=""/>
            <p:cNvPicPr/>
            <p:nvPr/>
          </p:nvPicPr>
          <p:blipFill>
            <a:blip r:embed="rId1"/>
            <a:stretch/>
          </p:blipFill>
          <p:spPr>
            <a:xfrm>
              <a:off x="444600" y="1944360"/>
              <a:ext cx="3522600" cy="6620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grpSp>
          <p:nvGrpSpPr>
            <p:cNvPr id="227" name="Group 37"/>
            <p:cNvGrpSpPr/>
            <p:nvPr/>
          </p:nvGrpSpPr>
          <p:grpSpPr>
            <a:xfrm>
              <a:off x="442800" y="1177920"/>
              <a:ext cx="3524040" cy="590400"/>
              <a:chOff x="442800" y="1177920"/>
              <a:chExt cx="3524040" cy="590400"/>
            </a:xfrm>
          </p:grpSpPr>
          <p:pic>
            <p:nvPicPr>
              <p:cNvPr id="228" name="Picture 6" descr="untitled4"/>
              <p:cNvPicPr/>
              <p:nvPr/>
            </p:nvPicPr>
            <p:blipFill>
              <a:blip r:embed="rId2"/>
              <a:stretch/>
            </p:blipFill>
            <p:spPr>
              <a:xfrm>
                <a:off x="2865240" y="1180800"/>
                <a:ext cx="1101600" cy="5875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29" name="Picture 11" descr="untitled2"/>
              <p:cNvPicPr/>
              <p:nvPr/>
            </p:nvPicPr>
            <p:blipFill>
              <a:blip r:embed="rId3"/>
              <a:stretch/>
            </p:blipFill>
            <p:spPr>
              <a:xfrm>
                <a:off x="442800" y="1182600"/>
                <a:ext cx="1101600" cy="5857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30" name="Picture 9" descr="untitled3"/>
              <p:cNvPicPr/>
              <p:nvPr/>
            </p:nvPicPr>
            <p:blipFill>
              <a:blip r:embed="rId4"/>
              <a:stretch/>
            </p:blipFill>
            <p:spPr>
              <a:xfrm>
                <a:off x="1655640" y="1177920"/>
                <a:ext cx="1101600" cy="5871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</p:grpSp>
      <p:sp>
        <p:nvSpPr>
          <p:cNvPr id="231" name="Rectangle 15"/>
          <p:cNvSpPr/>
          <p:nvPr/>
        </p:nvSpPr>
        <p:spPr>
          <a:xfrm>
            <a:off x="547560" y="630360"/>
            <a:ext cx="351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Ф.Б. Риман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6 – 18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060929192040.avi" descr=""/>
          <p:cNvPicPr/>
          <p:nvPr/>
        </p:nvPicPr>
        <p:blipFill>
          <a:blip r:embed="rId5"/>
          <a:stretch/>
        </p:blipFill>
        <p:spPr>
          <a:xfrm>
            <a:off x="5530680" y="582480"/>
            <a:ext cx="3287880" cy="2843280"/>
          </a:xfrm>
          <a:prstGeom prst="rect">
            <a:avLst/>
          </a:prstGeom>
          <a:ln w="0">
            <a:noFill/>
          </a:ln>
        </p:spPr>
      </p:pic>
      <p:pic>
        <p:nvPicPr>
          <p:cNvPr id="233" name="060929192242.avi" descr=""/>
          <p:cNvPicPr/>
          <p:nvPr/>
        </p:nvPicPr>
        <p:blipFill>
          <a:blip r:embed="rId6"/>
          <a:stretch/>
        </p:blipFill>
        <p:spPr>
          <a:xfrm>
            <a:off x="5532480" y="3581280"/>
            <a:ext cx="3289320" cy="28418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8"/>
          <p:cNvSpPr/>
          <p:nvPr/>
        </p:nvSpPr>
        <p:spPr>
          <a:xfrm>
            <a:off x="2089080" y="3014640"/>
            <a:ext cx="3276720" cy="38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сновная част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127240" y="6024600"/>
            <a:ext cx="3251160" cy="67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-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рмоника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2057400" y="42840"/>
            <a:ext cx="5216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6"/>
          <p:cNvGrpSpPr/>
          <p:nvPr/>
        </p:nvGrpSpPr>
        <p:grpSpPr>
          <a:xfrm>
            <a:off x="463680" y="4019400"/>
            <a:ext cx="4635360" cy="2081520"/>
            <a:chOff x="463680" y="4019400"/>
            <a:chExt cx="4635360" cy="2081520"/>
          </a:xfrm>
        </p:grpSpPr>
        <p:grpSp>
          <p:nvGrpSpPr>
            <p:cNvPr id="238" name="Group 45"/>
            <p:cNvGrpSpPr/>
            <p:nvPr/>
          </p:nvGrpSpPr>
          <p:grpSpPr>
            <a:xfrm>
              <a:off x="463680" y="4019400"/>
              <a:ext cx="4635360" cy="2081520"/>
              <a:chOff x="463680" y="4019400"/>
              <a:chExt cx="4635360" cy="2081520"/>
            </a:xfrm>
          </p:grpSpPr>
          <p:pic>
            <p:nvPicPr>
              <p:cNvPr id="239" name="Picture 3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7"/>
              <a:srcRect l="40472" t="21541" r="11614" b="16833"/>
              <a:stretch/>
            </p:blipFill>
            <p:spPr>
              <a:xfrm>
                <a:off x="463680" y="454500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18900000" blurRad="0" rotWithShape="0">
                  <a:srgbClr val="808080"/>
                </a:outerShdw>
              </a:effectLst>
            </p:spPr>
          </p:pic>
          <p:sp>
            <p:nvSpPr>
              <p:cNvPr id="240" name="AutoShape 40"/>
              <p:cNvSpPr/>
              <p:nvPr/>
            </p:nvSpPr>
            <p:spPr>
              <a:xfrm>
                <a:off x="1573200" y="4019400"/>
                <a:ext cx="3525840" cy="1354320"/>
              </a:xfrm>
              <a:prstGeom prst="wedgeEllipseCallout">
                <a:avLst>
                  <a:gd name="adj1" fmla="val -63370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189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41"/>
            <p:cNvSpPr/>
            <p:nvPr/>
          </p:nvSpPr>
          <p:spPr>
            <a:xfrm>
              <a:off x="1806480" y="4338720"/>
              <a:ext cx="315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1860 год... Ну и ну-у-у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1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7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5"/>
          <p:cNvSpPr/>
          <p:nvPr/>
        </p:nvSpPr>
        <p:spPr>
          <a:xfrm>
            <a:off x="401760" y="4341960"/>
            <a:ext cx="4194000" cy="45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 fontScale="76000"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ие спект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ren2.avi" descr=""/>
          <p:cNvPicPr/>
          <p:nvPr/>
        </p:nvPicPr>
        <p:blipFill>
          <a:blip r:embed="rId1"/>
          <a:stretch/>
        </p:blipFill>
        <p:spPr>
          <a:xfrm>
            <a:off x="4729320" y="565200"/>
            <a:ext cx="4051080" cy="3703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4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5"/>
          <p:cNvSpPr/>
          <p:nvPr/>
        </p:nvSpPr>
        <p:spPr>
          <a:xfrm>
            <a:off x="4743360" y="4335480"/>
            <a:ext cx="4014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ая 3-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визуал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VertA_CF_ADM.avi" descr=""/>
          <p:cNvPicPr/>
          <p:nvPr/>
        </p:nvPicPr>
        <p:blipFill>
          <a:blip r:embed="rId2"/>
          <a:stretch/>
        </p:blipFill>
        <p:spPr>
          <a:xfrm>
            <a:off x="393840" y="584280"/>
            <a:ext cx="4235400" cy="365904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85"/>
          <p:cNvGrpSpPr/>
          <p:nvPr/>
        </p:nvGrpSpPr>
        <p:grpSpPr>
          <a:xfrm>
            <a:off x="3009960" y="4923000"/>
            <a:ext cx="3338280" cy="1555560"/>
            <a:chOff x="3009960" y="4923000"/>
            <a:chExt cx="3338280" cy="1555560"/>
          </a:xfrm>
        </p:grpSpPr>
        <p:grpSp>
          <p:nvGrpSpPr>
            <p:cNvPr id="249" name="Group 84"/>
            <p:cNvGrpSpPr/>
            <p:nvPr/>
          </p:nvGrpSpPr>
          <p:grpSpPr>
            <a:xfrm>
              <a:off x="3009960" y="4923000"/>
              <a:ext cx="3338280" cy="1555560"/>
              <a:chOff x="3009960" y="4923000"/>
              <a:chExt cx="3338280" cy="1555560"/>
            </a:xfrm>
          </p:grpSpPr>
          <p:pic>
            <p:nvPicPr>
              <p:cNvPr id="250" name="Picture 8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3009960" y="492300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65581" dir="1948844" blurRad="0" rotWithShape="0">
                  <a:srgbClr val="808080"/>
                </a:outerShdw>
              </a:effectLst>
            </p:spPr>
          </p:pic>
          <p:sp>
            <p:nvSpPr>
              <p:cNvPr id="251" name="AutoShape 81"/>
              <p:cNvSpPr/>
              <p:nvPr/>
            </p:nvSpPr>
            <p:spPr>
              <a:xfrm>
                <a:off x="3973680" y="5386320"/>
                <a:ext cx="2374560" cy="944640"/>
              </a:xfrm>
              <a:prstGeom prst="wedgeEllipseCallout">
                <a:avLst>
                  <a:gd name="adj1" fmla="val -64236"/>
                  <a:gd name="adj2" fmla="val -7168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5581" dir="194884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Text Box 82"/>
            <p:cNvSpPr/>
            <p:nvPr/>
          </p:nvSpPr>
          <p:spPr>
            <a:xfrm>
              <a:off x="4430880" y="558324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ещ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1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simultaneous_dual_portal_vn.avi" descr=""/>
          <p:cNvPicPr/>
          <p:nvPr/>
        </p:nvPicPr>
        <p:blipFill>
          <a:blip r:embed="rId1"/>
          <a:stretch/>
        </p:blipFill>
        <p:spPr>
          <a:xfrm>
            <a:off x="2220840" y="2435400"/>
            <a:ext cx="6694560" cy="44226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233360" y="42840"/>
            <a:ext cx="6867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3" descr="z-one-ultra_keyboard-mid"/>
          <p:cNvPicPr/>
          <p:nvPr/>
        </p:nvPicPr>
        <p:blipFill>
          <a:blip r:embed="rId2"/>
          <a:stretch/>
        </p:blipFill>
        <p:spPr>
          <a:xfrm>
            <a:off x="165240" y="585720"/>
            <a:ext cx="1747800" cy="3729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z-one-ultra-keyboard-up"/>
          <p:cNvPicPr/>
          <p:nvPr/>
        </p:nvPicPr>
        <p:blipFill>
          <a:blip r:embed="rId3"/>
          <a:stretch/>
        </p:blipFill>
        <p:spPr>
          <a:xfrm>
            <a:off x="155520" y="557280"/>
            <a:ext cx="1771560" cy="37623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2"/>
          <p:cNvGrpSpPr/>
          <p:nvPr/>
        </p:nvGrpSpPr>
        <p:grpSpPr>
          <a:xfrm>
            <a:off x="1965240" y="519120"/>
            <a:ext cx="2613240" cy="1353960"/>
            <a:chOff x="1965240" y="519120"/>
            <a:chExt cx="2613240" cy="1353960"/>
          </a:xfrm>
        </p:grpSpPr>
        <p:sp>
          <p:nvSpPr>
            <p:cNvPr id="260" name="AutoShape 25"/>
            <p:cNvSpPr/>
            <p:nvPr/>
          </p:nvSpPr>
          <p:spPr>
            <a:xfrm>
              <a:off x="1965240" y="519120"/>
              <a:ext cx="2613240" cy="1353960"/>
            </a:xfrm>
            <a:prstGeom prst="wedgeEllipseCallout">
              <a:avLst>
                <a:gd name="adj1" fmla="val -68041"/>
                <a:gd name="adj2" fmla="val 521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2104920" y="988920"/>
              <a:ext cx="239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д старатьс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1"/>
          <p:cNvGrpSpPr/>
          <p:nvPr/>
        </p:nvGrpSpPr>
        <p:grpSpPr>
          <a:xfrm>
            <a:off x="4213080" y="633240"/>
            <a:ext cx="4683240" cy="1619280"/>
            <a:chOff x="4213080" y="633240"/>
            <a:chExt cx="4683240" cy="1619280"/>
          </a:xfrm>
        </p:grpSpPr>
        <p:pic>
          <p:nvPicPr>
            <p:cNvPr id="263" name="Picture 18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8020080" y="63324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71040" dir="8279153" blurRad="0" rotWithShape="0">
                <a:srgbClr val="808080"/>
              </a:outerShdw>
            </a:effectLst>
          </p:spPr>
        </p:pic>
        <p:sp>
          <p:nvSpPr>
            <p:cNvPr id="264" name="AutoShape 19"/>
            <p:cNvSpPr/>
            <p:nvPr/>
          </p:nvSpPr>
          <p:spPr>
            <a:xfrm>
              <a:off x="4213080" y="1490400"/>
              <a:ext cx="3694320" cy="762120"/>
            </a:xfrm>
            <a:prstGeom prst="wedgeEllipseCallout">
              <a:avLst>
                <a:gd name="adj1" fmla="val 51245"/>
                <a:gd name="adj2" fmla="val -10562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1040" dir="8279153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4986360" y="1606320"/>
              <a:ext cx="24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Впечатляет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4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9"/>
          <p:cNvSpPr/>
          <p:nvPr/>
        </p:nvSpPr>
        <p:spPr>
          <a:xfrm>
            <a:off x="8643960" y="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3000240" y="0"/>
            <a:ext cx="30798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9" descr="D:\Мои Документы\Eugene\Education\Medical Physics\Entrants\Medison\MEDISON_RU ElastoScan (эластография)_files\P1.GIF"/>
          <p:cNvPicPr/>
          <p:nvPr/>
        </p:nvPicPr>
        <p:blipFill>
          <a:blip r:embed="rId1"/>
          <a:stretch/>
        </p:blipFill>
        <p:spPr>
          <a:xfrm>
            <a:off x="423720" y="636480"/>
            <a:ext cx="2468880" cy="2430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0" descr="D:\Мои Документы\Eugene\Education\Medical Physics\Entrants\Medison\MEDISON_RU ElastoScan (эластография)_files\P2.GIF"/>
          <p:cNvPicPr/>
          <p:nvPr/>
        </p:nvPicPr>
        <p:blipFill>
          <a:blip r:embed="rId2"/>
          <a:stretch/>
        </p:blipFill>
        <p:spPr>
          <a:xfrm>
            <a:off x="3363840" y="677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1"/>
          <p:cNvSpPr/>
          <p:nvPr/>
        </p:nvSpPr>
        <p:spPr>
          <a:xfrm>
            <a:off x="6045120" y="3278160"/>
            <a:ext cx="26766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Monotype Corsiva"/>
              </a:rPr>
              <a:t>Колебания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2"/>
          <p:cNvSpPr/>
          <p:nvPr/>
        </p:nvSpPr>
        <p:spPr>
          <a:xfrm>
            <a:off x="428760" y="3271680"/>
            <a:ext cx="53784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ибрация датчиком или вибрато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83"/>
          <p:cNvGrpSpPr/>
          <p:nvPr/>
        </p:nvGrpSpPr>
        <p:grpSpPr>
          <a:xfrm>
            <a:off x="496800" y="4813200"/>
            <a:ext cx="6238440" cy="1578240"/>
            <a:chOff x="496800" y="4813200"/>
            <a:chExt cx="6238440" cy="1578240"/>
          </a:xfrm>
        </p:grpSpPr>
        <p:grpSp>
          <p:nvGrpSpPr>
            <p:cNvPr id="274" name="Group 82"/>
            <p:cNvGrpSpPr/>
            <p:nvPr/>
          </p:nvGrpSpPr>
          <p:grpSpPr>
            <a:xfrm>
              <a:off x="496800" y="4813200"/>
              <a:ext cx="6238440" cy="1578240"/>
              <a:chOff x="496800" y="4813200"/>
              <a:chExt cx="6238440" cy="1578240"/>
            </a:xfrm>
          </p:grpSpPr>
          <p:pic>
            <p:nvPicPr>
              <p:cNvPr id="275" name="Picture 75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496800" y="4813200"/>
                <a:ext cx="888840" cy="1578240"/>
              </a:xfrm>
              <a:prstGeom prst="rect">
                <a:avLst/>
              </a:prstGeom>
              <a:ln w="0">
                <a:noFill/>
              </a:ln>
              <a:effectLst>
                <a:outerShdw dist="172675" dir="18360589" blurRad="0" rotWithShape="0">
                  <a:srgbClr val="808080"/>
                </a:outerShdw>
              </a:effectLst>
            </p:spPr>
          </p:pic>
          <p:sp>
            <p:nvSpPr>
              <p:cNvPr id="276" name="AutoShape 76"/>
              <p:cNvSpPr/>
              <p:nvPr/>
            </p:nvSpPr>
            <p:spPr>
              <a:xfrm>
                <a:off x="1606320" y="5230800"/>
                <a:ext cx="5128920" cy="1057320"/>
              </a:xfrm>
              <a:prstGeom prst="wedgeEllipseCallout">
                <a:avLst>
                  <a:gd name="adj1" fmla="val -58666"/>
                  <a:gd name="adj2" fmla="val -6561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2675" dir="18360589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77"/>
            <p:cNvSpPr/>
            <p:nvPr/>
          </p:nvSpPr>
          <p:spPr>
            <a:xfrm>
              <a:off x="1917360" y="5546880"/>
              <a:ext cx="449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апридумывали…И работает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8" name="Picture 80" descr="D:\Мои Документы\Eugene\Education\Medical Physics\Entrants\Medison\MEDISON_RU ElastoScan (эластография)_files\P3.GIF"/>
          <p:cNvPicPr/>
          <p:nvPr/>
        </p:nvPicPr>
        <p:blipFill>
          <a:blip r:embed="rId4"/>
          <a:stretch/>
        </p:blipFill>
        <p:spPr>
          <a:xfrm>
            <a:off x="6784920" y="698400"/>
            <a:ext cx="194328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1" descr="D:\Мои Документы\Eugene\Education\Medical Physics\Entrants\Medison\MEDISON_RU ElastoScan (эластография)_files\P4.GIF"/>
          <p:cNvPicPr/>
          <p:nvPr/>
        </p:nvPicPr>
        <p:blipFill>
          <a:blip r:embed="rId5"/>
          <a:stretch/>
        </p:blipFill>
        <p:spPr>
          <a:xfrm>
            <a:off x="6784920" y="3916440"/>
            <a:ext cx="1943280" cy="242892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28"/>
          <p:cNvSpPr/>
          <p:nvPr/>
        </p:nvSpPr>
        <p:spPr>
          <a:xfrm>
            <a:off x="1216080" y="28440"/>
            <a:ext cx="68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33"/>
          <p:cNvSpPr/>
          <p:nvPr/>
        </p:nvSpPr>
        <p:spPr>
          <a:xfrm>
            <a:off x="8669160" y="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35" descr=""/>
          <p:cNvPicPr/>
          <p:nvPr/>
        </p:nvPicPr>
        <p:blipFill>
          <a:blip r:embed="rId1"/>
          <a:stretch/>
        </p:blipFill>
        <p:spPr>
          <a:xfrm>
            <a:off x="6745320" y="2679840"/>
            <a:ext cx="2090880" cy="3716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36" descr="D:\Мои Документы\Eugene\Education\Medical Physics\Entrants\HITACHI\el8500_2_files\SLAID.JPG"/>
          <p:cNvPicPr/>
          <p:nvPr/>
        </p:nvPicPr>
        <p:blipFill>
          <a:blip r:embed="rId2"/>
          <a:stretch/>
        </p:blipFill>
        <p:spPr>
          <a:xfrm>
            <a:off x="363600" y="655560"/>
            <a:ext cx="3076560" cy="242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37" descr="D:\Мои Документы\Eugene\Education\Medical Physics\Entrants\HITACHI\el8500_4_files\SLAID7.JPG"/>
          <p:cNvPicPr/>
          <p:nvPr/>
        </p:nvPicPr>
        <p:blipFill>
          <a:blip r:embed="rId3"/>
          <a:stretch/>
        </p:blipFill>
        <p:spPr>
          <a:xfrm>
            <a:off x="366840" y="3255840"/>
            <a:ext cx="3078000" cy="2554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40"/>
          <p:cNvSpPr/>
          <p:nvPr/>
        </p:nvSpPr>
        <p:spPr>
          <a:xfrm>
            <a:off x="3678120" y="676440"/>
            <a:ext cx="38149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ноэластография и эхоско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1"/>
          <p:cNvSpPr/>
          <p:nvPr/>
        </p:nvSpPr>
        <p:spPr>
          <a:xfrm>
            <a:off x="399960" y="5935680"/>
            <a:ext cx="30322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Рак щитовидной жел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048"/>
          <p:cNvGrpSpPr/>
          <p:nvPr/>
        </p:nvGrpSpPr>
        <p:grpSpPr>
          <a:xfrm>
            <a:off x="3857760" y="1398600"/>
            <a:ext cx="2685960" cy="3306600"/>
            <a:chOff x="3857760" y="1398600"/>
            <a:chExt cx="2685960" cy="3306600"/>
          </a:xfrm>
        </p:grpSpPr>
        <p:grpSp>
          <p:nvGrpSpPr>
            <p:cNvPr id="289" name="Group 1047"/>
            <p:cNvGrpSpPr/>
            <p:nvPr/>
          </p:nvGrpSpPr>
          <p:grpSpPr>
            <a:xfrm>
              <a:off x="3857760" y="1398600"/>
              <a:ext cx="2647800" cy="3306600"/>
              <a:chOff x="3857760" y="1398600"/>
              <a:chExt cx="2647800" cy="3306600"/>
            </a:xfrm>
          </p:grpSpPr>
          <p:pic>
            <p:nvPicPr>
              <p:cNvPr id="290" name="Picture 1043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4"/>
              <a:srcRect l="40472" t="21541" r="11614" b="16833"/>
              <a:stretch/>
            </p:blipFill>
            <p:spPr>
              <a:xfrm>
                <a:off x="3857760" y="3149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0599" dir="13839743" blurRad="0" rotWithShape="0">
                  <a:srgbClr val="808080"/>
                </a:outerShdw>
              </a:effectLst>
            </p:spPr>
          </p:pic>
          <p:sp>
            <p:nvSpPr>
              <p:cNvPr id="291" name="AutoShape 1044"/>
              <p:cNvSpPr/>
              <p:nvPr/>
            </p:nvSpPr>
            <p:spPr>
              <a:xfrm>
                <a:off x="4092840" y="1398600"/>
                <a:ext cx="2412720" cy="1350720"/>
              </a:xfrm>
              <a:prstGeom prst="wedgeEllipseCallout">
                <a:avLst>
                  <a:gd name="adj1" fmla="val -35527"/>
                  <a:gd name="adj2" fmla="val 7479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0599" dir="1383974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45"/>
            <p:cNvSpPr/>
            <p:nvPr/>
          </p:nvSpPr>
          <p:spPr>
            <a:xfrm>
              <a:off x="4168800" y="180504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Уже работает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1050"/>
          <p:cNvGrpSpPr/>
          <p:nvPr/>
        </p:nvGrpSpPr>
        <p:grpSpPr>
          <a:xfrm>
            <a:off x="4489560" y="2036880"/>
            <a:ext cx="4327560" cy="4378320"/>
            <a:chOff x="4489560" y="2036880"/>
            <a:chExt cx="4327560" cy="4378320"/>
          </a:xfrm>
        </p:grpSpPr>
        <p:sp>
          <p:nvSpPr>
            <p:cNvPr id="294" name="Text Box 1031"/>
            <p:cNvSpPr/>
            <p:nvPr/>
          </p:nvSpPr>
          <p:spPr>
            <a:xfrm>
              <a:off x="6740640" y="2036880"/>
              <a:ext cx="207648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a1f28"/>
                  </a:solidFill>
                  <a:latin typeface="Arial Narrow"/>
                </a:rPr>
                <a:t>HITACHI EUB-8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1049" descr="D:\Мои Документы\Eugene\Education\Medical Physics\Entrants\HITACHI\УЗИ HITACHI Medical Systems_files\TITLE.JPG"/>
            <p:cNvPicPr/>
            <p:nvPr/>
          </p:nvPicPr>
          <p:blipFill>
            <a:blip r:embed="rId5"/>
            <a:stretch/>
          </p:blipFill>
          <p:spPr>
            <a:xfrm>
              <a:off x="4489560" y="4863960"/>
              <a:ext cx="2117520" cy="15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D:\Мои Документы\Eugene\Education\Medical Physics\Entrants\Techniscan\TechniScan\TechniScan, Inc.files\g4000_12.jpg"/>
          <p:cNvPicPr/>
          <p:nvPr/>
        </p:nvPicPr>
        <p:blipFill>
          <a:blip r:embed="rId1"/>
          <a:stretch/>
        </p:blipFill>
        <p:spPr>
          <a:xfrm>
            <a:off x="1440" y="701640"/>
            <a:ext cx="5537520" cy="40705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054320" y="781200"/>
            <a:ext cx="4596120" cy="426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ие характеристики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996840" y="93600"/>
            <a:ext cx="7034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2" descr="D:\Мои Документы\Eugene\Education\Medical Physics\Entrants\Techniscan\TechniScan\TechniScan, Inc-Process.files\g4000_02.jpg"/>
          <p:cNvPicPr/>
          <p:nvPr/>
        </p:nvPicPr>
        <p:blipFill>
          <a:blip r:embed="rId2"/>
          <a:stretch/>
        </p:blipFill>
        <p:spPr>
          <a:xfrm>
            <a:off x="5994360" y="3909960"/>
            <a:ext cx="27036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25"/>
          <p:cNvGrpSpPr/>
          <p:nvPr/>
        </p:nvGrpSpPr>
        <p:grpSpPr>
          <a:xfrm>
            <a:off x="6018120" y="2141640"/>
            <a:ext cx="2633760" cy="1390680"/>
            <a:chOff x="6018120" y="2141640"/>
            <a:chExt cx="2633760" cy="1390680"/>
          </a:xfrm>
        </p:grpSpPr>
        <p:pic>
          <p:nvPicPr>
            <p:cNvPr id="303" name="Picture 13" descr="D:\Мои Документы\Eugene\Education\Medical Physics\Entrants\Techniscan\TechniScan\TechniScan, Inc-Process.files\g1000_01.gif"/>
            <p:cNvPicPr/>
            <p:nvPr/>
          </p:nvPicPr>
          <p:blipFill>
            <a:blip r:embed="rId3"/>
            <a:srcRect l="0" t="0" r="66671" b="0"/>
            <a:stretch/>
          </p:blipFill>
          <p:spPr>
            <a:xfrm>
              <a:off x="6018120" y="3125880"/>
              <a:ext cx="2633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4" descr="D:\Мои Документы\Eugene\Education\Medical Physics\Entrants\Techniscan\TechniScan\TechniScan, Inc-images.files\NBCAM2.gif"/>
            <p:cNvPicPr/>
            <p:nvPr/>
          </p:nvPicPr>
          <p:blipFill>
            <a:blip r:embed="rId4"/>
            <a:stretch/>
          </p:blipFill>
          <p:spPr>
            <a:xfrm>
              <a:off x="7061040" y="2141640"/>
              <a:ext cx="530280" cy="87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24"/>
          <p:cNvGrpSpPr/>
          <p:nvPr/>
        </p:nvGrpSpPr>
        <p:grpSpPr>
          <a:xfrm>
            <a:off x="514440" y="4836960"/>
            <a:ext cx="5340240" cy="1555920"/>
            <a:chOff x="514440" y="4836960"/>
            <a:chExt cx="5340240" cy="1555920"/>
          </a:xfrm>
        </p:grpSpPr>
        <p:grpSp>
          <p:nvGrpSpPr>
            <p:cNvPr id="306" name="Group 23"/>
            <p:cNvGrpSpPr/>
            <p:nvPr/>
          </p:nvGrpSpPr>
          <p:grpSpPr>
            <a:xfrm>
              <a:off x="514440" y="4836960"/>
              <a:ext cx="5340240" cy="1555920"/>
              <a:chOff x="514440" y="4836960"/>
              <a:chExt cx="5340240" cy="1555920"/>
            </a:xfrm>
          </p:grpSpPr>
          <p:pic>
            <p:nvPicPr>
              <p:cNvPr id="307" name="Picture 17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6960"/>
                <a:ext cx="998280" cy="1555920"/>
              </a:xfrm>
              <a:prstGeom prst="rect">
                <a:avLst/>
              </a:prstGeom>
              <a:ln w="0">
                <a:noFill/>
              </a:ln>
              <a:effectLst>
                <a:outerShdw dist="171040" dir="13679154" blurRad="0" rotWithShape="0">
                  <a:srgbClr val="808080"/>
                </a:outerShdw>
              </a:effectLst>
            </p:spPr>
          </p:pic>
          <p:sp>
            <p:nvSpPr>
              <p:cNvPr id="308" name="AutoShape 18"/>
              <p:cNvSpPr/>
              <p:nvPr/>
            </p:nvSpPr>
            <p:spPr>
              <a:xfrm>
                <a:off x="1611360" y="4908600"/>
                <a:ext cx="4243320" cy="1220760"/>
              </a:xfrm>
              <a:prstGeom prst="wedgeEllipseCallout">
                <a:avLst>
                  <a:gd name="adj1" fmla="val -56435"/>
                  <a:gd name="adj2" fmla="val -3647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1367915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9"/>
            <p:cNvSpPr/>
            <p:nvPr/>
          </p:nvSpPr>
          <p:spPr>
            <a:xfrm>
              <a:off x="1922400" y="5240160"/>
              <a:ext cx="35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И что получилось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6" descr="D:\Мои Документы\Eugene\Education\Medical Physics\Entrants\Techniscan\TechniScan\TechniScan, Inc.files\g4000_09.jpg"/>
          <p:cNvPicPr/>
          <p:nvPr/>
        </p:nvPicPr>
        <p:blipFill>
          <a:blip r:embed="rId1"/>
          <a:stretch/>
        </p:blipFill>
        <p:spPr>
          <a:xfrm>
            <a:off x="849240" y="692280"/>
            <a:ext cx="1944720" cy="1923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D:\Мои Документы\Eugene\Education\Medical Physics\Entrants\Techniscan\TechniScan\TechniScan, Inc.files\g4000_10.jpg"/>
          <p:cNvPicPr/>
          <p:nvPr/>
        </p:nvPicPr>
        <p:blipFill>
          <a:blip r:embed="rId2"/>
          <a:stretch/>
        </p:blipFill>
        <p:spPr>
          <a:xfrm>
            <a:off x="3679920" y="701640"/>
            <a:ext cx="1776240" cy="1881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D:\Мои Документы\Eugene\Education\Medical Physics\Entrants\Techniscan\TechniScan\TechniScan, Inc.files\g4000_11.jpg"/>
          <p:cNvPicPr/>
          <p:nvPr/>
        </p:nvPicPr>
        <p:blipFill>
          <a:blip r:embed="rId3"/>
          <a:stretch/>
        </p:blipFill>
        <p:spPr>
          <a:xfrm>
            <a:off x="6372360" y="733320"/>
            <a:ext cx="1841400" cy="1873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D:\Мои Документы\Eugene\Education\Medical Physics\Entrants\Techniscan\TechniScan\TechniScan, Inc.files\g4000_13.jpg"/>
          <p:cNvPicPr/>
          <p:nvPr/>
        </p:nvPicPr>
        <p:blipFill>
          <a:blip r:embed="rId4"/>
          <a:stretch/>
        </p:blipFill>
        <p:spPr>
          <a:xfrm>
            <a:off x="3876840" y="3344760"/>
            <a:ext cx="4572000" cy="21481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0"/>
          <p:cNvSpPr/>
          <p:nvPr/>
        </p:nvSpPr>
        <p:spPr>
          <a:xfrm>
            <a:off x="527040" y="2398680"/>
            <a:ext cx="270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3519360" y="2408400"/>
            <a:ext cx="2179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016680" y="2422440"/>
            <a:ext cx="2706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импедансная томограф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3684600" y="5654520"/>
            <a:ext cx="4962600" cy="6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ействительный срез ткани и его гибридная реконструк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1216080" y="28440"/>
            <a:ext cx="68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514440" y="3583080"/>
            <a:ext cx="3035160" cy="2809800"/>
            <a:chOff x="514440" y="3583080"/>
            <a:chExt cx="3035160" cy="2809800"/>
          </a:xfrm>
        </p:grpSpPr>
        <p:grpSp>
          <p:nvGrpSpPr>
            <p:cNvPr id="322" name="Group 31"/>
            <p:cNvGrpSpPr/>
            <p:nvPr/>
          </p:nvGrpSpPr>
          <p:grpSpPr>
            <a:xfrm>
              <a:off x="514440" y="3583080"/>
              <a:ext cx="3035160" cy="2809800"/>
              <a:chOff x="514440" y="3583080"/>
              <a:chExt cx="3035160" cy="2809800"/>
            </a:xfrm>
          </p:grpSpPr>
          <p:pic>
            <p:nvPicPr>
              <p:cNvPr id="323" name="Picture 26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732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8838" dir="19062257" blurRad="0" rotWithShape="0">
                  <a:srgbClr val="808080"/>
                </a:outerShdw>
              </a:effectLst>
            </p:spPr>
          </p:pic>
          <p:sp>
            <p:nvSpPr>
              <p:cNvPr id="324" name="AutoShape 27"/>
              <p:cNvSpPr/>
              <p:nvPr/>
            </p:nvSpPr>
            <p:spPr>
              <a:xfrm>
                <a:off x="855720" y="3583080"/>
                <a:ext cx="2693880" cy="1022400"/>
              </a:xfrm>
              <a:prstGeom prst="wedgeEllipseCallout">
                <a:avLst>
                  <a:gd name="adj1" fmla="val -38037"/>
                  <a:gd name="adj2" fmla="val 6583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8838" dir="19062257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8"/>
            <p:cNvSpPr/>
            <p:nvPr/>
          </p:nvSpPr>
          <p:spPr>
            <a:xfrm>
              <a:off x="1047600" y="3808440"/>
              <a:ext cx="2332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ак близнец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18" descr="D:\Мои Документы\Eugene\Education\Medical Physics\Entrants\Heidelberg\DKFZ Heidelberg - Div_ Medical and Biological Informatics.files\H.gif"/>
          <p:cNvPicPr/>
          <p:nvPr/>
        </p:nvPicPr>
        <p:blipFill>
          <a:blip r:embed="rId1"/>
          <a:stretch/>
        </p:blipFill>
        <p:spPr>
          <a:xfrm>
            <a:off x="316080" y="3457440"/>
            <a:ext cx="1633320" cy="1393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D:\Мои Документы\Eugene\Education\Medical Physics\Entrants\Heidelberg\DKFZ Heidelberg - Div_ Medical and Biological Informatics.files\LA.gif"/>
          <p:cNvPicPr/>
          <p:nvPr/>
        </p:nvPicPr>
        <p:blipFill>
          <a:blip r:embed="rId2"/>
          <a:stretch/>
        </p:blipFill>
        <p:spPr>
          <a:xfrm>
            <a:off x="325440" y="2057400"/>
            <a:ext cx="1633680" cy="13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" descr="D:\Мои Документы\Eugene\Education\Medical Physics\Entrants\Heidelberg\DKFZ Heidelberg - Div_ Medical and Biological Informatics.files\sh.gif"/>
          <p:cNvPicPr/>
          <p:nvPr/>
        </p:nvPicPr>
        <p:blipFill>
          <a:blip r:embed="rId3"/>
          <a:stretch/>
        </p:blipFill>
        <p:spPr>
          <a:xfrm>
            <a:off x="314280" y="4944960"/>
            <a:ext cx="1633680" cy="15098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2"/>
          <p:cNvGrpSpPr/>
          <p:nvPr/>
        </p:nvGrpSpPr>
        <p:grpSpPr>
          <a:xfrm>
            <a:off x="-469800" y="-2516040"/>
            <a:ext cx="6537240" cy="4371840"/>
            <a:chOff x="-469800" y="-2516040"/>
            <a:chExt cx="6537240" cy="4371840"/>
          </a:xfrm>
        </p:grpSpPr>
        <p:pic>
          <p:nvPicPr>
            <p:cNvPr id="332" name="Picture 29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606600" y="277920"/>
              <a:ext cx="888840" cy="1577880"/>
            </a:xfrm>
            <a:prstGeom prst="rect">
              <a:avLst/>
            </a:prstGeom>
            <a:ln w="0">
              <a:noFill/>
            </a:ln>
            <a:effectLst>
              <a:outerShdw dist="181888" dir="10073364" blurRad="0" rotWithShape="0">
                <a:srgbClr val="808080"/>
              </a:outerShdw>
            </a:effectLst>
          </p:spPr>
        </p:pic>
        <p:sp>
          <p:nvSpPr>
            <p:cNvPr id="333" name="Text Box 31"/>
            <p:cNvSpPr/>
            <p:nvPr/>
          </p:nvSpPr>
          <p:spPr>
            <a:xfrm>
              <a:off x="-469800" y="-2516040"/>
              <a:ext cx="65372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AutoShape 30"/>
          <p:cNvSpPr/>
          <p:nvPr/>
        </p:nvSpPr>
        <p:spPr>
          <a:xfrm>
            <a:off x="1562040" y="555480"/>
            <a:ext cx="7197840" cy="995400"/>
          </a:xfrm>
          <a:prstGeom prst="wedgeEllipseCallout">
            <a:avLst>
              <a:gd name="adj1" fmla="val -52291"/>
              <a:gd name="adj2" fmla="val -7025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81888" dir="10073364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cond"/>
              </a:rPr>
              <a:t>Знаете ли вы что такое МЕДИЦИНСКАЯ ФИ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Прямоугольник 12"/>
          <p:cNvSpPr/>
          <p:nvPr/>
        </p:nvSpPr>
        <p:spPr>
          <a:xfrm>
            <a:off x="2286000" y="1611360"/>
            <a:ext cx="558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дицинская физика - это наука о системе, объединяющей состояние человеческого организма и физические знания о материальном мире, целью которой является создание диагностических, профилактических и лечебных средств, основанных на новейших достижениях физики, математики и техники. Кроме физики, она тесно связана с медициной, биофизикой, радиобиологией, патофизиологией, информатикой. Но родилась эта наука на стыке между физикой и медици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64646"/>
                </a:solidFill>
                <a:latin typeface="Times New Roman"/>
              </a:rPr>
              <a:t>Презентацию оформили: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4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робкина Ел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абешко Светла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уководитель- Климова В.В. учитель-физ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у сош №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" descr="D:\ЛеНуСьКа=)\школьное\физ.gif"/>
          <p:cNvPicPr/>
          <p:nvPr/>
        </p:nvPicPr>
        <p:blipFill>
          <a:blip r:embed="rId1"/>
          <a:stretch/>
        </p:blipFill>
        <p:spPr>
          <a:xfrm>
            <a:off x="6324480" y="4356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4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5"/>
          <p:cNvSpPr/>
          <p:nvPr/>
        </p:nvSpPr>
        <p:spPr>
          <a:xfrm>
            <a:off x="77760" y="1417680"/>
            <a:ext cx="6245280" cy="78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marL="290520" indent="-1983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1"/>
          <p:cNvSpPr/>
          <p:nvPr/>
        </p:nvSpPr>
        <p:spPr>
          <a:xfrm>
            <a:off x="-382320" y="71280"/>
            <a:ext cx="959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70"/>
          <p:cNvGrpSpPr/>
          <p:nvPr/>
        </p:nvGrpSpPr>
        <p:grpSpPr>
          <a:xfrm>
            <a:off x="6207120" y="4206960"/>
            <a:ext cx="2647800" cy="2192400"/>
            <a:chOff x="6207120" y="4206960"/>
            <a:chExt cx="2647800" cy="2192400"/>
          </a:xfrm>
        </p:grpSpPr>
        <p:grpSp>
          <p:nvGrpSpPr>
            <p:cNvPr id="64" name="Group 169"/>
            <p:cNvGrpSpPr/>
            <p:nvPr/>
          </p:nvGrpSpPr>
          <p:grpSpPr>
            <a:xfrm>
              <a:off x="6207120" y="4206960"/>
              <a:ext cx="2647800" cy="2192400"/>
              <a:chOff x="6207120" y="4206960"/>
              <a:chExt cx="2647800" cy="2192400"/>
            </a:xfrm>
          </p:grpSpPr>
          <p:pic>
            <p:nvPicPr>
              <p:cNvPr id="65" name="Picture 164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6207120" y="484344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66" name="AutoShape 165"/>
              <p:cNvSpPr/>
              <p:nvPr/>
            </p:nvSpPr>
            <p:spPr>
              <a:xfrm>
                <a:off x="7064280" y="4206960"/>
                <a:ext cx="1790640" cy="992160"/>
              </a:xfrm>
              <a:prstGeom prst="wedgeEllipseCallout">
                <a:avLst>
                  <a:gd name="adj1" fmla="val -59398"/>
                  <a:gd name="adj2" fmla="val 37041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Text Box 166"/>
            <p:cNvSpPr/>
            <p:nvPr/>
          </p:nvSpPr>
          <p:spPr>
            <a:xfrm>
              <a:off x="7297560" y="43498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Picture 79" descr="GE Logiq 9 img7627_2_140"/>
          <p:cNvPicPr/>
          <p:nvPr/>
        </p:nvPicPr>
        <p:blipFill>
          <a:blip r:embed="rId2"/>
          <a:stretch/>
        </p:blipFill>
        <p:spPr>
          <a:xfrm>
            <a:off x="6270480" y="1441440"/>
            <a:ext cx="2640240" cy="26398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3525840" y="3467160"/>
            <a:ext cx="544500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5" descr="d050123-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5440" y="657360"/>
            <a:ext cx="3511440" cy="293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4" descr="d050123-2"/>
          <p:cNvPicPr/>
          <p:nvPr/>
        </p:nvPicPr>
        <p:blipFill>
          <a:blip r:embed="rId2"/>
          <a:stretch/>
        </p:blipFill>
        <p:spPr>
          <a:xfrm>
            <a:off x="290520" y="3959280"/>
            <a:ext cx="3046320" cy="2727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5"/>
          <p:cNvSpPr/>
          <p:nvPr/>
        </p:nvSpPr>
        <p:spPr>
          <a:xfrm>
            <a:off x="1628640" y="90360"/>
            <a:ext cx="5830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7"/>
          <p:cNvSpPr/>
          <p:nvPr/>
        </p:nvSpPr>
        <p:spPr>
          <a:xfrm>
            <a:off x="3780000" y="522360"/>
            <a:ext cx="49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96"/>
          <p:cNvGrpSpPr/>
          <p:nvPr/>
        </p:nvGrpSpPr>
        <p:grpSpPr>
          <a:xfrm>
            <a:off x="3762360" y="1862280"/>
            <a:ext cx="5159520" cy="1555560"/>
            <a:chOff x="3762360" y="1862280"/>
            <a:chExt cx="5159520" cy="1555560"/>
          </a:xfrm>
        </p:grpSpPr>
        <p:grpSp>
          <p:nvGrpSpPr>
            <p:cNvPr id="77" name="Group 94"/>
            <p:cNvGrpSpPr/>
            <p:nvPr/>
          </p:nvGrpSpPr>
          <p:grpSpPr>
            <a:xfrm>
              <a:off x="3762360" y="1862280"/>
              <a:ext cx="5159520" cy="1555560"/>
              <a:chOff x="3762360" y="1862280"/>
              <a:chExt cx="5159520" cy="1555560"/>
            </a:xfrm>
          </p:grpSpPr>
          <p:pic>
            <p:nvPicPr>
              <p:cNvPr id="78" name="Picture 8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8045280" y="1862280"/>
                <a:ext cx="876600" cy="1555560"/>
              </a:xfrm>
              <a:prstGeom prst="rect">
                <a:avLst/>
              </a:prstGeom>
              <a:ln w="0">
                <a:noFill/>
              </a:ln>
              <a:effectLst>
                <a:outerShdw dist="171040" dir="8279153" blurRad="0" rotWithShape="0">
                  <a:srgbClr val="808080"/>
                </a:outerShdw>
              </a:effectLst>
            </p:spPr>
          </p:pic>
          <p:sp>
            <p:nvSpPr>
              <p:cNvPr id="79" name="AutoShape 90"/>
              <p:cNvSpPr/>
              <p:nvPr/>
            </p:nvSpPr>
            <p:spPr>
              <a:xfrm>
                <a:off x="3762360" y="1954080"/>
                <a:ext cx="3832200" cy="1351080"/>
              </a:xfrm>
              <a:prstGeom prst="wedgeEllipseCallout">
                <a:avLst>
                  <a:gd name="adj1" fmla="val 65907"/>
                  <a:gd name="adj2" fmla="val -3119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827915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Text Box 91"/>
            <p:cNvSpPr/>
            <p:nvPr/>
          </p:nvSpPr>
          <p:spPr>
            <a:xfrm>
              <a:off x="4070520" y="2284560"/>
              <a:ext cx="32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конкретне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1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20"/>
          <p:cNvSpPr/>
          <p:nvPr/>
        </p:nvSpPr>
        <p:spPr>
          <a:xfrm>
            <a:off x="88920" y="68400"/>
            <a:ext cx="879012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67"/>
          <p:cNvSpPr/>
          <p:nvPr/>
        </p:nvSpPr>
        <p:spPr>
          <a:xfrm>
            <a:off x="76320" y="1768320"/>
            <a:ext cx="89452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7" descr="Mammograph-1"/>
          <p:cNvPicPr/>
          <p:nvPr/>
        </p:nvPicPr>
        <p:blipFill>
          <a:blip r:embed="rId1"/>
          <a:stretch/>
        </p:blipFill>
        <p:spPr>
          <a:xfrm rot="199800">
            <a:off x="5673240" y="4121280"/>
            <a:ext cx="2422800" cy="23000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82"/>
          <p:cNvGrpSpPr/>
          <p:nvPr/>
        </p:nvGrpSpPr>
        <p:grpSpPr>
          <a:xfrm>
            <a:off x="793800" y="4083120"/>
            <a:ext cx="3722760" cy="2081160"/>
            <a:chOff x="793800" y="4083120"/>
            <a:chExt cx="3722760" cy="2081160"/>
          </a:xfrm>
        </p:grpSpPr>
        <p:grpSp>
          <p:nvGrpSpPr>
            <p:cNvPr id="87" name="Group 181"/>
            <p:cNvGrpSpPr/>
            <p:nvPr/>
          </p:nvGrpSpPr>
          <p:grpSpPr>
            <a:xfrm>
              <a:off x="793800" y="4083120"/>
              <a:ext cx="3722760" cy="2081160"/>
              <a:chOff x="793800" y="4083120"/>
              <a:chExt cx="3722760" cy="2081160"/>
            </a:xfrm>
          </p:grpSpPr>
          <p:pic>
            <p:nvPicPr>
              <p:cNvPr id="88" name="Picture 17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2"/>
              <a:srcRect l="40472" t="21541" r="11614" b="16833"/>
              <a:stretch/>
            </p:blipFill>
            <p:spPr>
              <a:xfrm>
                <a:off x="793800" y="460836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2651" dir="7717211" blurRad="0" rotWithShape="0">
                  <a:srgbClr val="808080"/>
                </a:outerShdw>
              </a:effectLst>
            </p:spPr>
          </p:pic>
          <p:sp>
            <p:nvSpPr>
              <p:cNvPr id="89" name="AutoShape 171"/>
              <p:cNvSpPr/>
              <p:nvPr/>
            </p:nvSpPr>
            <p:spPr>
              <a:xfrm>
                <a:off x="1903320" y="4083120"/>
                <a:ext cx="2613240" cy="1353960"/>
              </a:xfrm>
              <a:prstGeom prst="wedgeEllipseCallout">
                <a:avLst>
                  <a:gd name="adj1" fmla="val -68041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2651" dir="7717211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Text Box 172"/>
            <p:cNvSpPr/>
            <p:nvPr/>
          </p:nvSpPr>
          <p:spPr>
            <a:xfrm>
              <a:off x="2043000" y="4400640"/>
              <a:ext cx="23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га-а-а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33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56"/>
          <p:cNvSpPr/>
          <p:nvPr/>
        </p:nvSpPr>
        <p:spPr>
          <a:xfrm>
            <a:off x="561960" y="76320"/>
            <a:ext cx="8005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“</a:t>
            </a: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53" descr="Body"/>
          <p:cNvPicPr/>
          <p:nvPr/>
        </p:nvPicPr>
        <p:blipFill>
          <a:blip r:embed="rId1"/>
          <a:stretch/>
        </p:blipFill>
        <p:spPr>
          <a:xfrm>
            <a:off x="3716280" y="584280"/>
            <a:ext cx="1459080" cy="3645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295"/>
          <p:cNvGrpSpPr/>
          <p:nvPr/>
        </p:nvGrpSpPr>
        <p:grpSpPr>
          <a:xfrm>
            <a:off x="5394240" y="587520"/>
            <a:ext cx="3330720" cy="4724280"/>
            <a:chOff x="5394240" y="587520"/>
            <a:chExt cx="3330720" cy="4724280"/>
          </a:xfrm>
        </p:grpSpPr>
        <p:sp>
          <p:nvSpPr>
            <p:cNvPr id="96" name="Text Box 249"/>
            <p:cNvSpPr/>
            <p:nvPr/>
          </p:nvSpPr>
          <p:spPr>
            <a:xfrm>
              <a:off x="5407200" y="4956120"/>
              <a:ext cx="3306600" cy="355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ысшая матема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248"/>
            <p:cNvSpPr/>
            <p:nvPr/>
          </p:nvSpPr>
          <p:spPr>
            <a:xfrm>
              <a:off x="5394240" y="4240080"/>
              <a:ext cx="3306960" cy="628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3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и теоретическая 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47"/>
            <p:cNvSpPr/>
            <p:nvPr/>
          </p:nvSpPr>
          <p:spPr>
            <a:xfrm>
              <a:off x="5394240" y="3583080"/>
              <a:ext cx="3308400" cy="571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3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ческие основы медицинской диагност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246"/>
            <p:cNvSpPr/>
            <p:nvPr/>
          </p:nvSpPr>
          <p:spPr>
            <a:xfrm>
              <a:off x="5394240" y="2901960"/>
              <a:ext cx="3306960" cy="563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тоды медико-биологических исследова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45"/>
            <p:cNvSpPr/>
            <p:nvPr/>
          </p:nvSpPr>
          <p:spPr>
            <a:xfrm>
              <a:off x="5396040" y="2379600"/>
              <a:ext cx="3305160" cy="424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38"/>
            <p:cNvSpPr/>
            <p:nvPr/>
          </p:nvSpPr>
          <p:spPr>
            <a:xfrm>
              <a:off x="5396040" y="1741320"/>
              <a:ext cx="3328920" cy="557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заимодействие излучений и радиоб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37"/>
            <p:cNvSpPr/>
            <p:nvPr/>
          </p:nvSpPr>
          <p:spPr>
            <a:xfrm>
              <a:off x="5396040" y="587520"/>
              <a:ext cx="32922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вская том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236"/>
            <p:cNvSpPr/>
            <p:nvPr/>
          </p:nvSpPr>
          <p:spPr>
            <a:xfrm>
              <a:off x="5396040" y="1063800"/>
              <a:ext cx="3306600" cy="579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Компьютерное моделир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88"/>
          <p:cNvGrpSpPr/>
          <p:nvPr/>
        </p:nvGrpSpPr>
        <p:grpSpPr>
          <a:xfrm>
            <a:off x="365040" y="582480"/>
            <a:ext cx="3166920" cy="4383360"/>
            <a:chOff x="365040" y="582480"/>
            <a:chExt cx="3166920" cy="4383360"/>
          </a:xfrm>
        </p:grpSpPr>
        <p:sp>
          <p:nvSpPr>
            <p:cNvPr id="105" name="Text Box 255"/>
            <p:cNvSpPr/>
            <p:nvPr/>
          </p:nvSpPr>
          <p:spPr>
            <a:xfrm>
              <a:off x="379440" y="582480"/>
              <a:ext cx="3139200" cy="4255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ка биомолеку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244"/>
            <p:cNvSpPr/>
            <p:nvPr/>
          </p:nvSpPr>
          <p:spPr>
            <a:xfrm>
              <a:off x="379440" y="4600440"/>
              <a:ext cx="3126600" cy="365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43"/>
            <p:cNvSpPr/>
            <p:nvPr/>
          </p:nvSpPr>
          <p:spPr>
            <a:xfrm>
              <a:off x="392400" y="4079880"/>
              <a:ext cx="3113640" cy="406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Цит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42"/>
            <p:cNvSpPr/>
            <p:nvPr/>
          </p:nvSpPr>
          <p:spPr>
            <a:xfrm>
              <a:off x="378000" y="3544920"/>
              <a:ext cx="3128040" cy="431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1"/>
            <p:cNvSpPr/>
            <p:nvPr/>
          </p:nvSpPr>
          <p:spPr>
            <a:xfrm>
              <a:off x="378000" y="2289240"/>
              <a:ext cx="3139200" cy="417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механика и био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40"/>
            <p:cNvSpPr/>
            <p:nvPr/>
          </p:nvSpPr>
          <p:spPr>
            <a:xfrm>
              <a:off x="365040" y="1832040"/>
              <a:ext cx="3166920" cy="36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хи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39"/>
            <p:cNvSpPr/>
            <p:nvPr/>
          </p:nvSpPr>
          <p:spPr>
            <a:xfrm>
              <a:off x="379440" y="2797200"/>
              <a:ext cx="3137760" cy="63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4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атологическая и клиническая диагнос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35"/>
            <p:cNvSpPr/>
            <p:nvPr/>
          </p:nvSpPr>
          <p:spPr>
            <a:xfrm>
              <a:off x="379440" y="1095480"/>
              <a:ext cx="3147480" cy="63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ие криотехнолог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Picture 279" descr="D:\Мои Документы\Eugene\Education\Medical Physics\Entrants\Heidelberg\DKFZ Heidelberg - Div_ Medical and Biological Informatics.files\triple-small.gif"/>
          <p:cNvPicPr/>
          <p:nvPr/>
        </p:nvPicPr>
        <p:blipFill>
          <a:blip r:embed="rId2"/>
          <a:stretch/>
        </p:blipFill>
        <p:spPr>
          <a:xfrm>
            <a:off x="3800520" y="4230720"/>
            <a:ext cx="131616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296"/>
          <p:cNvGrpSpPr/>
          <p:nvPr/>
        </p:nvGrpSpPr>
        <p:grpSpPr>
          <a:xfrm>
            <a:off x="544680" y="5016600"/>
            <a:ext cx="8167680" cy="1577880"/>
            <a:chOff x="544680" y="5016600"/>
            <a:chExt cx="8167680" cy="1577880"/>
          </a:xfrm>
        </p:grpSpPr>
        <p:grpSp>
          <p:nvGrpSpPr>
            <p:cNvPr id="115" name="Group 293"/>
            <p:cNvGrpSpPr/>
            <p:nvPr/>
          </p:nvGrpSpPr>
          <p:grpSpPr>
            <a:xfrm>
              <a:off x="544680" y="5016600"/>
              <a:ext cx="8167680" cy="1577880"/>
              <a:chOff x="544680" y="5016600"/>
              <a:chExt cx="8167680" cy="1577880"/>
            </a:xfrm>
          </p:grpSpPr>
          <p:pic>
            <p:nvPicPr>
              <p:cNvPr id="116" name="Picture 281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544680" y="5016600"/>
                <a:ext cx="888840" cy="1577880"/>
              </a:xfrm>
              <a:prstGeom prst="rect">
                <a:avLst/>
              </a:prstGeom>
              <a:ln w="0">
                <a:noFill/>
              </a:ln>
              <a:effectLst>
                <a:outerShdw dist="181888" dir="10073364" blurRad="0" rotWithShape="0">
                  <a:srgbClr val="808080"/>
                </a:outerShdw>
              </a:effectLst>
            </p:spPr>
          </p:pic>
          <p:sp>
            <p:nvSpPr>
              <p:cNvPr id="117" name="AutoShape 282"/>
              <p:cNvSpPr/>
              <p:nvPr/>
            </p:nvSpPr>
            <p:spPr>
              <a:xfrm>
                <a:off x="1514520" y="5508720"/>
                <a:ext cx="7197840" cy="995400"/>
              </a:xfrm>
              <a:prstGeom prst="wedgeEllipseCallout">
                <a:avLst>
                  <a:gd name="adj1" fmla="val -52291"/>
                  <a:gd name="adj2" fmla="val -70254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1888" dir="1007336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Text Box 283"/>
            <p:cNvSpPr/>
            <p:nvPr/>
          </p:nvSpPr>
          <p:spPr>
            <a:xfrm>
              <a:off x="1960560" y="5743800"/>
              <a:ext cx="653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Да-а-а... Физика – это стратегическое оружие медицины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0"/>
          <p:cNvSpPr/>
          <p:nvPr/>
        </p:nvSpPr>
        <p:spPr>
          <a:xfrm>
            <a:off x="1554120" y="71280"/>
            <a:ext cx="6203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00"/>
          <p:cNvGrpSpPr/>
          <p:nvPr/>
        </p:nvGrpSpPr>
        <p:grpSpPr>
          <a:xfrm>
            <a:off x="2690640" y="689040"/>
            <a:ext cx="3963960" cy="5422680"/>
            <a:chOff x="2690640" y="689040"/>
            <a:chExt cx="3963960" cy="5422680"/>
          </a:xfrm>
        </p:grpSpPr>
        <p:pic>
          <p:nvPicPr>
            <p:cNvPr id="123" name="Picture 79" descr="Lungs"/>
            <p:cNvPicPr/>
            <p:nvPr/>
          </p:nvPicPr>
          <p:blipFill>
            <a:blip r:embed="rId1"/>
            <a:stretch/>
          </p:blipFill>
          <p:spPr>
            <a:xfrm>
              <a:off x="2690640" y="1854360"/>
              <a:ext cx="156204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8" descr="Skeletn2"/>
            <p:cNvPicPr/>
            <p:nvPr/>
          </p:nvPicPr>
          <p:blipFill>
            <a:blip r:embed="rId2"/>
            <a:stretch/>
          </p:blipFill>
          <p:spPr>
            <a:xfrm>
              <a:off x="3960720" y="1970280"/>
              <a:ext cx="2693880" cy="41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7" descr="Signal1"/>
            <p:cNvPicPr/>
            <p:nvPr/>
          </p:nvPicPr>
          <p:blipFill>
            <a:blip r:embed="rId3"/>
            <a:stretch/>
          </p:blipFill>
          <p:spPr>
            <a:xfrm>
              <a:off x="2901960" y="689040"/>
              <a:ext cx="10904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3" descr="Heart1"/>
            <p:cNvPicPr/>
            <p:nvPr/>
          </p:nvPicPr>
          <p:blipFill>
            <a:blip r:embed="rId4"/>
            <a:stretch/>
          </p:blipFill>
          <p:spPr>
            <a:xfrm>
              <a:off x="5765760" y="2698920"/>
              <a:ext cx="26352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06"/>
          <p:cNvGrpSpPr/>
          <p:nvPr/>
        </p:nvGrpSpPr>
        <p:grpSpPr>
          <a:xfrm>
            <a:off x="396720" y="2862360"/>
            <a:ext cx="7166160" cy="3646440"/>
            <a:chOff x="396720" y="2862360"/>
            <a:chExt cx="7166160" cy="3646440"/>
          </a:xfrm>
        </p:grpSpPr>
        <p:sp>
          <p:nvSpPr>
            <p:cNvPr id="128" name="Text Box 57"/>
            <p:cNvSpPr/>
            <p:nvPr/>
          </p:nvSpPr>
          <p:spPr>
            <a:xfrm>
              <a:off x="396720" y="6140520"/>
              <a:ext cx="3559320" cy="365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пектральный анализ шум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 flipV="1">
              <a:off x="1758960" y="5592600"/>
              <a:ext cx="0" cy="509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94"/>
            <p:cNvGrpSpPr/>
            <p:nvPr/>
          </p:nvGrpSpPr>
          <p:grpSpPr>
            <a:xfrm>
              <a:off x="2444760" y="2862360"/>
              <a:ext cx="3457080" cy="2487240"/>
              <a:chOff x="2444760" y="2862360"/>
              <a:chExt cx="3457080" cy="2487240"/>
            </a:xfrm>
          </p:grpSpPr>
          <p:pic>
            <p:nvPicPr>
              <p:cNvPr id="131" name="Picture 60" descr="EarRec_mike"/>
              <p:cNvPicPr/>
              <p:nvPr/>
            </p:nvPicPr>
            <p:blipFill>
              <a:blip r:embed="rId5"/>
              <a:stretch/>
            </p:blipFill>
            <p:spPr>
              <a:xfrm>
                <a:off x="5127840" y="2862360"/>
                <a:ext cx="774000" cy="87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Freeform 55"/>
              <p:cNvSpPr/>
              <p:nvPr/>
            </p:nvSpPr>
            <p:spPr>
              <a:xfrm>
                <a:off x="2444760" y="3715920"/>
                <a:ext cx="2680560" cy="1633680"/>
              </a:xfrm>
              <a:custGeom>
                <a:avLst/>
                <a:gdLst>
                  <a:gd name="textAreaLeft" fmla="*/ 0 w 2680560"/>
                  <a:gd name="textAreaRight" fmla="*/ 2680920 w 2680560"/>
                  <a:gd name="textAreaTop" fmla="*/ 0 h 1633680"/>
                  <a:gd name="textAreaBottom" fmla="*/ 1634040 h 1633680"/>
                </a:gdLst>
                <a:ahLst/>
                <a:rect l="textAreaLeft" t="textAreaTop" r="textAreaRight" b="textAreaBottom"/>
                <a:pathLst>
                  <a:path w="4252" h="2507">
                    <a:moveTo>
                      <a:pt x="4252" y="0"/>
                    </a:moveTo>
                    <a:cubicBezTo>
                      <a:pt x="4021" y="209"/>
                      <a:pt x="3790" y="419"/>
                      <a:pt x="3572" y="748"/>
                    </a:cubicBezTo>
                    <a:cubicBezTo>
                      <a:pt x="3354" y="1077"/>
                      <a:pt x="3538" y="1679"/>
                      <a:pt x="2943" y="1972"/>
                    </a:cubicBezTo>
                    <a:cubicBezTo>
                      <a:pt x="2348" y="2265"/>
                      <a:pt x="613" y="2396"/>
                      <a:pt x="0" y="25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54"/>
            <p:cNvSpPr/>
            <p:nvPr/>
          </p:nvSpPr>
          <p:spPr>
            <a:xfrm>
              <a:off x="4452840" y="6140520"/>
              <a:ext cx="31100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иагностика состоя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 flipV="1">
              <a:off x="5559480" y="5501880"/>
              <a:ext cx="1440" cy="600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2"/>
            <p:cNvSpPr/>
            <p:nvPr/>
          </p:nvSpPr>
          <p:spPr>
            <a:xfrm>
              <a:off x="4027320" y="6345360"/>
              <a:ext cx="384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93"/>
            <p:cNvGrpSpPr/>
            <p:nvPr/>
          </p:nvGrpSpPr>
          <p:grpSpPr>
            <a:xfrm>
              <a:off x="1055520" y="4319640"/>
              <a:ext cx="1406520" cy="1271520"/>
              <a:chOff x="1055520" y="4319640"/>
              <a:chExt cx="1406520" cy="1271520"/>
            </a:xfrm>
          </p:grpSpPr>
          <p:pic>
            <p:nvPicPr>
              <p:cNvPr id="137" name="Picture 59" descr="Pcoprat1"/>
              <p:cNvPicPr/>
              <p:nvPr/>
            </p:nvPicPr>
            <p:blipFill>
              <a:blip r:embed="rId6"/>
              <a:srcRect l="49564" t="0" r="7759" b="53864"/>
              <a:stretch/>
            </p:blipFill>
            <p:spPr>
              <a:xfrm>
                <a:off x="1055520" y="4319640"/>
                <a:ext cx="1406520" cy="12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Line 58"/>
              <p:cNvSpPr/>
              <p:nvPr/>
            </p:nvSpPr>
            <p:spPr>
              <a:xfrm>
                <a:off x="1055520" y="558000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9" name="Picture 92" descr="D:\Program Files\Microsoft Office\Clipart\Oldoffice\Work\Progres2.wmf"/>
              <p:cNvPicPr/>
              <p:nvPr/>
            </p:nvPicPr>
            <p:blipFill>
              <a:blip r:embed="rId7"/>
              <a:stretch/>
            </p:blipFill>
            <p:spPr>
              <a:xfrm>
                <a:off x="1150560" y="4449960"/>
                <a:ext cx="712800" cy="63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" name="Group 99"/>
          <p:cNvGrpSpPr/>
          <p:nvPr/>
        </p:nvGrpSpPr>
        <p:grpSpPr>
          <a:xfrm>
            <a:off x="328680" y="828720"/>
            <a:ext cx="8164440" cy="3875040"/>
            <a:chOff x="328680" y="828720"/>
            <a:chExt cx="8164440" cy="3875040"/>
          </a:xfrm>
        </p:grpSpPr>
        <p:sp>
          <p:nvSpPr>
            <p:cNvPr id="141" name="Text Box 75"/>
            <p:cNvSpPr/>
            <p:nvPr/>
          </p:nvSpPr>
          <p:spPr>
            <a:xfrm>
              <a:off x="4092840" y="1509840"/>
              <a:ext cx="148896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зона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74"/>
            <p:cNvSpPr/>
            <p:nvPr/>
          </p:nvSpPr>
          <p:spPr>
            <a:xfrm>
              <a:off x="4797720" y="1952640"/>
              <a:ext cx="736560" cy="851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72"/>
            <p:cNvSpPr/>
            <p:nvPr/>
          </p:nvSpPr>
          <p:spPr>
            <a:xfrm>
              <a:off x="6207120" y="1333440"/>
              <a:ext cx="2286000" cy="611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Источник регулярной помех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71"/>
            <p:cNvSpPr/>
            <p:nvPr/>
          </p:nvSpPr>
          <p:spPr>
            <a:xfrm flipH="1">
              <a:off x="5986800" y="1970280"/>
              <a:ext cx="1258560" cy="772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8"/>
            <p:cNvSpPr/>
            <p:nvPr/>
          </p:nvSpPr>
          <p:spPr>
            <a:xfrm>
              <a:off x="328680" y="866880"/>
              <a:ext cx="2141640" cy="76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потоки воздух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67"/>
            <p:cNvSpPr/>
            <p:nvPr/>
          </p:nvSpPr>
          <p:spPr>
            <a:xfrm>
              <a:off x="2484720" y="1241640"/>
              <a:ext cx="627120" cy="93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66"/>
            <p:cNvSpPr/>
            <p:nvPr/>
          </p:nvSpPr>
          <p:spPr>
            <a:xfrm>
              <a:off x="343080" y="2597400"/>
              <a:ext cx="2166840" cy="717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источники зву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5"/>
            <p:cNvSpPr/>
            <p:nvPr/>
          </p:nvSpPr>
          <p:spPr>
            <a:xfrm flipV="1">
              <a:off x="2522520" y="2300040"/>
              <a:ext cx="600120" cy="69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4"/>
            <p:cNvSpPr/>
            <p:nvPr/>
          </p:nvSpPr>
          <p:spPr>
            <a:xfrm>
              <a:off x="3062520" y="4233960"/>
              <a:ext cx="1334880" cy="469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3"/>
            <p:cNvSpPr/>
            <p:nvPr/>
          </p:nvSpPr>
          <p:spPr>
            <a:xfrm flipV="1">
              <a:off x="3500640" y="2930400"/>
              <a:ext cx="0" cy="1252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62"/>
            <p:cNvSpPr/>
            <p:nvPr/>
          </p:nvSpPr>
          <p:spPr>
            <a:xfrm flipV="1">
              <a:off x="4064040" y="3151080"/>
              <a:ext cx="1455840" cy="104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1"/>
            <p:cNvSpPr/>
            <p:nvPr/>
          </p:nvSpPr>
          <p:spPr>
            <a:xfrm>
              <a:off x="5140440" y="828720"/>
              <a:ext cx="1495440" cy="39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50"/>
            <p:cNvSpPr/>
            <p:nvPr/>
          </p:nvSpPr>
          <p:spPr>
            <a:xfrm flipH="1">
              <a:off x="4014720" y="1023840"/>
              <a:ext cx="1076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5"/>
            <p:cNvSpPr/>
            <p:nvPr/>
          </p:nvSpPr>
          <p:spPr>
            <a:xfrm flipH="1">
              <a:off x="5914800" y="1244520"/>
              <a:ext cx="4680" cy="1473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108"/>
          <p:cNvGrpSpPr/>
          <p:nvPr/>
        </p:nvGrpSpPr>
        <p:grpSpPr>
          <a:xfrm>
            <a:off x="6440400" y="3171960"/>
            <a:ext cx="2362320" cy="3317760"/>
            <a:chOff x="6440400" y="3171960"/>
            <a:chExt cx="2362320" cy="3317760"/>
          </a:xfrm>
        </p:grpSpPr>
        <p:pic>
          <p:nvPicPr>
            <p:cNvPr id="156" name="Picture 102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8"/>
            <a:srcRect l="40472" t="21541" r="11614" b="16833"/>
            <a:stretch/>
          </p:blipFill>
          <p:spPr>
            <a:xfrm>
              <a:off x="7761240" y="493380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61899" dir="18900000" blurRad="0" rotWithShape="0">
                <a:srgbClr val="808080"/>
              </a:outerShdw>
            </a:effectLst>
          </p:spPr>
        </p:pic>
        <p:sp>
          <p:nvSpPr>
            <p:cNvPr id="157" name="AutoShape 103"/>
            <p:cNvSpPr/>
            <p:nvPr/>
          </p:nvSpPr>
          <p:spPr>
            <a:xfrm>
              <a:off x="6440400" y="3171960"/>
              <a:ext cx="2362320" cy="1589040"/>
            </a:xfrm>
            <a:prstGeom prst="wedgeEllipseCallout">
              <a:avLst>
                <a:gd name="adj1" fmla="val 20763"/>
                <a:gd name="adj2" fmla="val 6278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61899" dir="189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04"/>
            <p:cNvSpPr/>
            <p:nvPr/>
          </p:nvSpPr>
          <p:spPr>
            <a:xfrm>
              <a:off x="6519960" y="3451320"/>
              <a:ext cx="226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зобрали по косточка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74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6"/>
          <p:cNvSpPr/>
          <p:nvPr/>
        </p:nvSpPr>
        <p:spPr>
          <a:xfrm>
            <a:off x="1425600" y="42840"/>
            <a:ext cx="6027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6"/>
          <p:cNvSpPr/>
          <p:nvPr/>
        </p:nvSpPr>
        <p:spPr>
          <a:xfrm>
            <a:off x="5099040" y="647640"/>
            <a:ext cx="375120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4"/>
          <p:cNvSpPr/>
          <p:nvPr/>
        </p:nvSpPr>
        <p:spPr>
          <a:xfrm>
            <a:off x="5124600" y="6021360"/>
            <a:ext cx="3717720" cy="41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Отражатель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0" descr="ris"/>
          <p:cNvPicPr/>
          <p:nvPr/>
        </p:nvPicPr>
        <p:blipFill>
          <a:blip r:embed="rId1"/>
          <a:srcRect l="0" t="0" r="1858" b="3989"/>
          <a:stretch/>
        </p:blipFill>
        <p:spPr>
          <a:xfrm>
            <a:off x="3029040" y="1876320"/>
            <a:ext cx="3155760" cy="3586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2"/>
          <p:cNvSpPr/>
          <p:nvPr/>
        </p:nvSpPr>
        <p:spPr>
          <a:xfrm>
            <a:off x="344520" y="641520"/>
            <a:ext cx="3181320" cy="44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Эмиссионная 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51000" y="6002280"/>
            <a:ext cx="348444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46"/>
          <p:cNvGrpSpPr/>
          <p:nvPr/>
        </p:nvGrpSpPr>
        <p:grpSpPr>
          <a:xfrm>
            <a:off x="2246400" y="1422360"/>
            <a:ext cx="3444840" cy="1709640"/>
            <a:chOff x="2246400" y="1422360"/>
            <a:chExt cx="3444840" cy="1709640"/>
          </a:xfrm>
        </p:grpSpPr>
        <p:pic>
          <p:nvPicPr>
            <p:cNvPr id="168" name="Picture 127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2"/>
            <a:srcRect l="40472" t="21541" r="11614" b="16833"/>
            <a:stretch/>
          </p:blipFill>
          <p:spPr>
            <a:xfrm>
              <a:off x="2246400" y="1576440"/>
              <a:ext cx="876240" cy="1555560"/>
            </a:xfrm>
            <a:prstGeom prst="rect">
              <a:avLst/>
            </a:prstGeom>
            <a:ln w="0">
              <a:noFill/>
            </a:ln>
            <a:effectLst>
              <a:outerShdw dist="153378" dir="1463966" blurRad="0" rotWithShape="0">
                <a:srgbClr val="808080"/>
              </a:outerShdw>
            </a:effectLst>
          </p:spPr>
        </p:pic>
        <p:sp>
          <p:nvSpPr>
            <p:cNvPr id="169" name="AutoShape 128"/>
            <p:cNvSpPr/>
            <p:nvPr/>
          </p:nvSpPr>
          <p:spPr>
            <a:xfrm>
              <a:off x="3316320" y="1422360"/>
              <a:ext cx="2374920" cy="944640"/>
            </a:xfrm>
            <a:prstGeom prst="wedgeEllipseCallout">
              <a:avLst>
                <a:gd name="adj1" fmla="val -67648"/>
                <a:gd name="adj2" fmla="val -999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378" dir="1463966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9"/>
            <p:cNvSpPr/>
            <p:nvPr/>
          </p:nvSpPr>
          <p:spPr>
            <a:xfrm>
              <a:off x="3530520" y="1571760"/>
              <a:ext cx="201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расиво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52"/>
          <p:cNvGrpSpPr/>
          <p:nvPr/>
        </p:nvGrpSpPr>
        <p:grpSpPr>
          <a:xfrm>
            <a:off x="344520" y="1082520"/>
            <a:ext cx="2585880" cy="1833840"/>
            <a:chOff x="344520" y="1082520"/>
            <a:chExt cx="2585880" cy="1833840"/>
          </a:xfrm>
        </p:grpSpPr>
        <p:pic>
          <p:nvPicPr>
            <p:cNvPr id="172" name="Picture 121" descr="D:\Мои Документы\Eugene\Education\Medical Physics\Teaching childs\htm\Medical.files\eMRI.gif"/>
            <p:cNvPicPr/>
            <p:nvPr/>
          </p:nvPicPr>
          <p:blipFill>
            <a:blip r:embed="rId3"/>
            <a:srcRect l="0" t="2795" r="0" b="9698"/>
            <a:stretch/>
          </p:blipFill>
          <p:spPr>
            <a:xfrm>
              <a:off x="344520" y="1185840"/>
              <a:ext cx="16952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141"/>
            <p:cNvSpPr/>
            <p:nvPr/>
          </p:nvSpPr>
          <p:spPr>
            <a:xfrm>
              <a:off x="1963800" y="108252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Э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48"/>
          <p:cNvGrpSpPr/>
          <p:nvPr/>
        </p:nvGrpSpPr>
        <p:grpSpPr>
          <a:xfrm>
            <a:off x="343080" y="3714840"/>
            <a:ext cx="2600280" cy="2678040"/>
            <a:chOff x="343080" y="3714840"/>
            <a:chExt cx="2600280" cy="2678040"/>
          </a:xfrm>
        </p:grpSpPr>
        <p:pic>
          <p:nvPicPr>
            <p:cNvPr id="175" name="Picture 123" descr="D:\Мои Документы\Eugene\Education\Medical Physics\Teaching childs\htm\Medical.files\brMRI.gif"/>
            <p:cNvPicPr/>
            <p:nvPr/>
          </p:nvPicPr>
          <p:blipFill>
            <a:blip r:embed="rId4"/>
            <a:stretch/>
          </p:blipFill>
          <p:spPr>
            <a:xfrm>
              <a:off x="343080" y="3714840"/>
              <a:ext cx="170028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42"/>
            <p:cNvSpPr/>
            <p:nvPr/>
          </p:nvSpPr>
          <p:spPr>
            <a:xfrm>
              <a:off x="2082960" y="5567400"/>
              <a:ext cx="86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ЯМ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151"/>
          <p:cNvGrpSpPr/>
          <p:nvPr/>
        </p:nvGrpSpPr>
        <p:grpSpPr>
          <a:xfrm>
            <a:off x="6230880" y="4078440"/>
            <a:ext cx="2604960" cy="1955160"/>
            <a:chOff x="6230880" y="4078440"/>
            <a:chExt cx="2604960" cy="1955160"/>
          </a:xfrm>
        </p:grpSpPr>
        <p:pic>
          <p:nvPicPr>
            <p:cNvPr id="178" name="Picture 125" descr="D:\Мои Документы\Eugene\Education\Medical Physics\Teaching childs\htm\Medical.files\ultra.gif"/>
            <p:cNvPicPr/>
            <p:nvPr/>
          </p:nvPicPr>
          <p:blipFill>
            <a:blip r:embed="rId5"/>
            <a:stretch/>
          </p:blipFill>
          <p:spPr>
            <a:xfrm>
              <a:off x="7156080" y="4078440"/>
              <a:ext cx="167976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43"/>
            <p:cNvSpPr/>
            <p:nvPr/>
          </p:nvSpPr>
          <p:spPr>
            <a:xfrm>
              <a:off x="6230880" y="557388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50"/>
          <p:cNvGrpSpPr/>
          <p:nvPr/>
        </p:nvGrpSpPr>
        <p:grpSpPr>
          <a:xfrm>
            <a:off x="6218280" y="2287440"/>
            <a:ext cx="2623680" cy="1839240"/>
            <a:chOff x="6218280" y="2287440"/>
            <a:chExt cx="2623680" cy="1839240"/>
          </a:xfrm>
        </p:grpSpPr>
        <p:pic>
          <p:nvPicPr>
            <p:cNvPr id="181" name="Picture 120" descr="D:\Мои Документы\Eugene\Education\Medical Physics\Teaching childs\htm\Medical.files\braincat.gif"/>
            <p:cNvPicPr/>
            <p:nvPr/>
          </p:nvPicPr>
          <p:blipFill>
            <a:blip r:embed="rId6"/>
            <a:stretch/>
          </p:blipFill>
          <p:spPr>
            <a:xfrm>
              <a:off x="7154280" y="2287440"/>
              <a:ext cx="168768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44"/>
            <p:cNvSpPr/>
            <p:nvPr/>
          </p:nvSpPr>
          <p:spPr>
            <a:xfrm>
              <a:off x="6218280" y="3666960"/>
              <a:ext cx="9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К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49"/>
          <p:cNvGrpSpPr/>
          <p:nvPr/>
        </p:nvGrpSpPr>
        <p:grpSpPr>
          <a:xfrm>
            <a:off x="4967280" y="1068480"/>
            <a:ext cx="3873240" cy="1133280"/>
            <a:chOff x="4967280" y="1068480"/>
            <a:chExt cx="3873240" cy="1133280"/>
          </a:xfrm>
        </p:grpSpPr>
        <p:pic>
          <p:nvPicPr>
            <p:cNvPr id="184" name="Picture 97" descr="XRAY"/>
            <p:cNvPicPr/>
            <p:nvPr/>
          </p:nvPicPr>
          <p:blipFill>
            <a:blip r:embed="rId7"/>
            <a:stretch/>
          </p:blipFill>
          <p:spPr>
            <a:xfrm>
              <a:off x="7159680" y="1192320"/>
              <a:ext cx="16808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45"/>
            <p:cNvSpPr/>
            <p:nvPr/>
          </p:nvSpPr>
          <p:spPr>
            <a:xfrm>
              <a:off x="4967280" y="1068480"/>
              <a:ext cx="217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0"/>
          <p:cNvSpPr/>
          <p:nvPr/>
        </p:nvSpPr>
        <p:spPr>
          <a:xfrm>
            <a:off x="1552680" y="42840"/>
            <a:ext cx="6027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79"/>
          <p:cNvGrpSpPr/>
          <p:nvPr/>
        </p:nvGrpSpPr>
        <p:grpSpPr>
          <a:xfrm>
            <a:off x="533520" y="3284640"/>
            <a:ext cx="3835080" cy="1657080"/>
            <a:chOff x="533520" y="3284640"/>
            <a:chExt cx="3835080" cy="1657080"/>
          </a:xfrm>
        </p:grpSpPr>
        <p:grpSp>
          <p:nvGrpSpPr>
            <p:cNvPr id="190" name="Group 78"/>
            <p:cNvGrpSpPr/>
            <p:nvPr/>
          </p:nvGrpSpPr>
          <p:grpSpPr>
            <a:xfrm>
              <a:off x="533520" y="3284640"/>
              <a:ext cx="3835080" cy="1657080"/>
              <a:chOff x="533520" y="3284640"/>
              <a:chExt cx="3835080" cy="1657080"/>
            </a:xfrm>
          </p:grpSpPr>
          <p:pic>
            <p:nvPicPr>
              <p:cNvPr id="191" name="Picture 5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33520" y="3284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59170" dir="9080890" blurRad="0" rotWithShape="0">
                  <a:srgbClr val="808080"/>
                </a:outerShdw>
              </a:effectLst>
            </p:spPr>
          </p:pic>
          <p:sp>
            <p:nvSpPr>
              <p:cNvPr id="192" name="AutoShape 59"/>
              <p:cNvSpPr/>
              <p:nvPr/>
            </p:nvSpPr>
            <p:spPr>
              <a:xfrm>
                <a:off x="1623960" y="3798720"/>
                <a:ext cx="2744640" cy="1143000"/>
              </a:xfrm>
              <a:prstGeom prst="wedgeEllipseCallout">
                <a:avLst>
                  <a:gd name="adj1" fmla="val -62319"/>
                  <a:gd name="adj2" fmla="val -6791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59170" dir="908089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60"/>
            <p:cNvSpPr/>
            <p:nvPr/>
          </p:nvSpPr>
          <p:spPr>
            <a:xfrm>
              <a:off x="1805040" y="4075200"/>
              <a:ext cx="23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Посмотри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70"/>
          <p:cNvGrpSpPr/>
          <p:nvPr/>
        </p:nvGrpSpPr>
        <p:grpSpPr>
          <a:xfrm>
            <a:off x="289080" y="849240"/>
            <a:ext cx="8575560" cy="2432160"/>
            <a:chOff x="289080" y="849240"/>
            <a:chExt cx="8575560" cy="2432160"/>
          </a:xfrm>
        </p:grpSpPr>
        <p:sp>
          <p:nvSpPr>
            <p:cNvPr id="195" name="Rectangle 10"/>
            <p:cNvSpPr/>
            <p:nvPr/>
          </p:nvSpPr>
          <p:spPr>
            <a:xfrm>
              <a:off x="3220920" y="2774880"/>
              <a:ext cx="3079800" cy="506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оноэлас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3"/>
            <p:cNvSpPr/>
            <p:nvPr/>
          </p:nvSpPr>
          <p:spPr>
            <a:xfrm flipH="1">
              <a:off x="2955600" y="2010960"/>
              <a:ext cx="276120" cy="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3201840" y="849240"/>
              <a:ext cx="3102120" cy="1560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льтразвуков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3220920" y="1868400"/>
              <a:ext cx="134460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 fontScale="74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2-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4"/>
            <p:cNvSpPr/>
            <p:nvPr/>
          </p:nvSpPr>
          <p:spPr>
            <a:xfrm>
              <a:off x="4581360" y="1811160"/>
              <a:ext cx="1719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rmAutofit fontScale="79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   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1"/>
            <p:cNvSpPr/>
            <p:nvPr/>
          </p:nvSpPr>
          <p:spPr>
            <a:xfrm>
              <a:off x="6551640" y="868320"/>
              <a:ext cx="229536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>
              <a:off x="290520" y="1749600"/>
              <a:ext cx="2681280" cy="66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 на гармоника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3"/>
            <p:cNvSpPr/>
            <p:nvPr/>
          </p:nvSpPr>
          <p:spPr>
            <a:xfrm>
              <a:off x="6541920" y="1747800"/>
              <a:ext cx="2322720" cy="652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54"/>
            <p:cNvSpPr/>
            <p:nvPr/>
          </p:nvSpPr>
          <p:spPr>
            <a:xfrm>
              <a:off x="6297120" y="206172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55"/>
            <p:cNvSpPr/>
            <p:nvPr/>
          </p:nvSpPr>
          <p:spPr>
            <a:xfrm>
              <a:off x="6310080" y="126180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3"/>
            <p:cNvSpPr/>
            <p:nvPr/>
          </p:nvSpPr>
          <p:spPr>
            <a:xfrm>
              <a:off x="3913560" y="2419200"/>
              <a:ext cx="1800" cy="32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64"/>
            <p:cNvSpPr/>
            <p:nvPr/>
          </p:nvSpPr>
          <p:spPr>
            <a:xfrm>
              <a:off x="5437440" y="2432160"/>
              <a:ext cx="1800" cy="322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65"/>
            <p:cNvSpPr/>
            <p:nvPr/>
          </p:nvSpPr>
          <p:spPr>
            <a:xfrm>
              <a:off x="289080" y="849240"/>
              <a:ext cx="268128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рансмиссионная и дифракцион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 flipH="1">
              <a:off x="2955600" y="1249560"/>
              <a:ext cx="276120" cy="4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68"/>
            <p:cNvSpPr/>
            <p:nvPr/>
          </p:nvSpPr>
          <p:spPr>
            <a:xfrm flipV="1">
              <a:off x="3206880" y="1747440"/>
              <a:ext cx="310176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69"/>
            <p:cNvSpPr/>
            <p:nvPr/>
          </p:nvSpPr>
          <p:spPr>
            <a:xfrm>
              <a:off x="4584600" y="1752480"/>
              <a:ext cx="0" cy="649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Picture 56" descr="D:\Мои Документы\Eugene\Education\Medical Physics\Реклама кафедры\Med_gazeta\PA prn.JPG"/>
          <p:cNvPicPr/>
          <p:nvPr/>
        </p:nvPicPr>
        <p:blipFill>
          <a:blip r:embed="rId2"/>
          <a:stretch/>
        </p:blipFill>
        <p:spPr>
          <a:xfrm>
            <a:off x="6562800" y="2725560"/>
            <a:ext cx="2143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8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457200" y="4710240"/>
            <a:ext cx="4325760" cy="511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69000"/>
          </a:bodyPr>
          <a:p>
            <a:pPr marL="6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В-сканирование в реальном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Пункция4.avi" descr=""/>
          <p:cNvPicPr/>
          <p:nvPr/>
        </p:nvPicPr>
        <p:blipFill>
          <a:blip r:embed="rId1"/>
          <a:stretch/>
        </p:blipFill>
        <p:spPr>
          <a:xfrm>
            <a:off x="399960" y="1031760"/>
            <a:ext cx="3443400" cy="34434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6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Плод.avi" descr=""/>
          <p:cNvPicPr/>
          <p:nvPr/>
        </p:nvPicPr>
        <p:blipFill>
          <a:blip r:embed="rId2"/>
          <a:stretch/>
        </p:blipFill>
        <p:spPr>
          <a:xfrm>
            <a:off x="5289480" y="1015920"/>
            <a:ext cx="3460680" cy="34606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90"/>
          <p:cNvGrpSpPr/>
          <p:nvPr/>
        </p:nvGrpSpPr>
        <p:grpSpPr>
          <a:xfrm>
            <a:off x="2336760" y="4937040"/>
            <a:ext cx="6113520" cy="1555920"/>
            <a:chOff x="2336760" y="4937040"/>
            <a:chExt cx="6113520" cy="1555920"/>
          </a:xfrm>
        </p:grpSpPr>
        <p:grpSp>
          <p:nvGrpSpPr>
            <p:cNvPr id="218" name="Group 87"/>
            <p:cNvGrpSpPr/>
            <p:nvPr/>
          </p:nvGrpSpPr>
          <p:grpSpPr>
            <a:xfrm>
              <a:off x="2336760" y="4937040"/>
              <a:ext cx="6113520" cy="1555920"/>
              <a:chOff x="2336760" y="4937040"/>
              <a:chExt cx="6113520" cy="1555920"/>
            </a:xfrm>
          </p:grpSpPr>
          <p:sp>
            <p:nvSpPr>
              <p:cNvPr id="219" name="AutoShape 80"/>
              <p:cNvSpPr/>
              <p:nvPr/>
            </p:nvSpPr>
            <p:spPr>
              <a:xfrm>
                <a:off x="2336760" y="5396040"/>
                <a:ext cx="4997520" cy="1071360"/>
              </a:xfrm>
              <a:prstGeom prst="wedgeEllipseCallout">
                <a:avLst>
                  <a:gd name="adj1" fmla="val 55592"/>
                  <a:gd name="adj2" fmla="val -66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3017" dir="19578596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0" name="Picture 7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551" t="21541" r="11614" b="16833"/>
              <a:stretch/>
            </p:blipFill>
            <p:spPr>
              <a:xfrm>
                <a:off x="7539120" y="4937040"/>
                <a:ext cx="911160" cy="1555920"/>
              </a:xfrm>
              <a:prstGeom prst="rect">
                <a:avLst/>
              </a:prstGeom>
              <a:ln w="0">
                <a:noFill/>
              </a:ln>
              <a:effectLst>
                <a:outerShdw dist="183017" dir="19578596" blurRad="0" rotWithShape="0">
                  <a:srgbClr val="808080"/>
                </a:outerShdw>
              </a:effectLst>
            </p:spPr>
          </p:pic>
        </p:grpSp>
        <p:sp>
          <p:nvSpPr>
            <p:cNvPr id="221" name="Text Box 81"/>
            <p:cNvSpPr/>
            <p:nvPr/>
          </p:nvSpPr>
          <p:spPr>
            <a:xfrm>
              <a:off x="2575080" y="5576760"/>
              <a:ext cx="46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то это там копошится 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403200" y="727200"/>
            <a:ext cx="436392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0:31:57Z</dcterms:created>
  <dc:creator>Barannik</dc:creator>
  <dc:description/>
  <dc:language>en-US</dc:language>
  <cp:lastModifiedBy>RomaK</cp:lastModifiedBy>
  <dcterms:modified xsi:type="dcterms:W3CDTF">2014-10-31T12:48:52Z</dcterms:modified>
  <cp:revision>550</cp:revision>
  <dc:subject/>
  <dc:title>Презентация PowerPoint</dc:title>
</cp:coreProperties>
</file>