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7B28-3CE5-4602-A292-D358C650BD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D7F-5F23-4C3A-A4DD-8D02937AF4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́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0E65-6618-487A-B6D9-EFFA78C02D2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ь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998D-7B0E-4895-91FF-3BF16D152AA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инвестиций (по объекту инвестирова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ов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ные креди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зинг (для лизингодател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кулятив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ю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461B-9679-454A-B794-00A21CA0FBC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основным целям инвест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срокам в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рочные (до одного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срочные (1-3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 (свыше 3-5 ле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стр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ш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8C75-DC7B-4B41-B557-8C0D012AE72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я или спекуля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ь между инвестицией и спекуляцией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чение дохода за счёт разницы между ценами покупки и прода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8CC-CE5B-4CE2-9F1D-54813E31C2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е, сбережение, потреб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578-CD18-4BA0-9AB3-0AC1DED107E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36A0-E69E-47C5-9C69-5D3887FA62B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386-774A-4844-A0FF-E51A6A56748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592-4F02-42F3-A6FF-E47BB83E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4A1-341C-4F67-8DCF-4F7E7DD3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47B-C5F4-45E6-9C69-805F7290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164-5FDB-442D-BC62-5FBFA06F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9CFC-B6A3-4696-9D88-96ACC1DB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D2AC-2A3B-454E-9F51-380B218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CD4F-96C7-41A0-B039-0C0A7DB5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FCB-4831-4170-BA30-6CE1BFB4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6A91-DB86-4F20-8F85-B2D9DC8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E276-F8FE-456B-A783-64EDC21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2291-2450-4EEE-8A10-BD046DE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DBC-FAD8-4C2B-A8F3-EEFA83D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2EB0-EE10-4EBB-A369-23AED6C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52EF-065E-48CA-8373-B3F221A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648-6F21-4BEB-A52A-C96363E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4851-2EFF-43FA-A18C-53E00416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0F0-8284-40F4-8556-0826F4D6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8C0-E726-433E-8E83-D7D675CC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A7F-4252-4D83-B38A-1E748E6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906-87E4-48B8-A167-3705E9B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326-97C1-46E6-B504-95D6206E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32B-A207-435B-8C3C-EE25074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CE4-3EFE-49D5-BB0F-D9D6657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A74-EBF9-4319-9DE7-6BB88A5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303E-8D13-4C68-9F68-CFD608C43A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995E-6AD1-4C94-A916-AFA8DBA82F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32360" y="5805360"/>
            <a:ext cx="399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134036m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2616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вести́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 — долгосрочные вложения капитала с целью получения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-37468-investing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аль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инвестиций (по объекту инвестирования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инансов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енные креди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зинг (для лизингодател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екулятив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лю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основным целям инвестиров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срокам вложе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ткосрочные (до одного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несрочные (1-3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лгосрочные (свыше 3-5 лет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аст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осударств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остр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меш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я или спекуляц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ань между инвестицией и спекуляцией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лучение дохода за счёт разницы между ценами покупки и продаж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2038_news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Безымянный56"/>
          <p:cNvPicPr/>
          <p:nvPr/>
        </p:nvPicPr>
        <p:blipFill>
          <a:blip r:embed="rId2"/>
          <a:stretch/>
        </p:blipFill>
        <p:spPr>
          <a:xfrm>
            <a:off x="468360" y="407664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вестирование, сбережение, потребление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451933_source"/>
          <p:cNvPicPr/>
          <p:nvPr/>
        </p:nvPicPr>
        <p:blipFill>
          <a:blip r:embed="rId1"/>
          <a:stretch/>
        </p:blipFill>
        <p:spPr>
          <a:xfrm>
            <a:off x="6012000" y="155736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d5c45645880"/>
          <p:cNvPicPr/>
          <p:nvPr/>
        </p:nvPicPr>
        <p:blipFill>
          <a:blip r:embed="rId2"/>
          <a:stretch/>
        </p:blipFill>
        <p:spPr>
          <a:xfrm>
            <a:off x="6443640" y="393372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ск и прибы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2000" y="1599840"/>
            <a:ext cx="5554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259248492_rosssiya-pomozhet"/>
          <p:cNvPicPr/>
          <p:nvPr/>
        </p:nvPicPr>
        <p:blipFill>
          <a:blip r:embed="rId1"/>
          <a:stretch/>
        </p:blipFill>
        <p:spPr>
          <a:xfrm>
            <a:off x="250920" y="1557360"/>
            <a:ext cx="2813040" cy="3240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59:54Z</dcterms:created>
  <dc:creator>User</dc:creator>
  <dc:description/>
  <dc:language>en-US</dc:language>
  <cp:lastModifiedBy>LEGION</cp:lastModifiedBy>
  <dcterms:modified xsi:type="dcterms:W3CDTF">2014-11-10T09:07:59Z</dcterms:modified>
  <cp:revision>12</cp:revision>
  <dc:subject/>
  <dc:title>Инвестиции</dc:title>
</cp:coreProperties>
</file>