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4738-FF52-43A4-8F95-6B959F3D9A5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3D8B-EF8C-496B-A977-1D6CB21F3FE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вести́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долгосрочные вложения капитала с целью получения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являются неотъемлемой составной частью современной экономики. От кредитов инвестиции отличаются степенью риска для инвестора (кредитора) — кредит и проценты необходимо возвращать в оговоренные сроки независимо от прибыльности проекта, инвестиции возвращаются и приносят доход только в прибыльных проектах. Если проект убыточен — инвестиции могут быть утрач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1C1F-B7D3-408A-A5BF-E4B4D340239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инвести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уют разные классификации инвести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о объекту инвестирования выделяю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альные инвести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прямая покупка реального капитала в различных формах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форме материальных активов (основных фондов, земли), оплата строительства или реконструк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питальный ремонт основных фонд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ожения в нематериальные активы: патенты, лицензии, права пользования, авторские права, товарные знаки, ноу-хау, человеческий капитал (воспитание, образование, наука) и т. д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3DFF-3B0B-473C-ACCA-F8E7E7D12EF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лассификация инвестиций (по объекту инвестирования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инансовые инвести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косвенная покупка капитала через финансовые активы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ные бума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оставленные креди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зинг (для лизингодателя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екулятивные инвести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покупка активов исключительно ради возможного изменения цены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лю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агоценные металлы (в виде обезличенных металлических счетов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ные бумаги (акции, облигации, сертификаты институтов совместного инвестирования и т.п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26AE-EFAC-42AF-BB38-E6D2D393C61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инвести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 основным целям инвестир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ямые инвестиции (вложение денежных средств с целью участия в управлении предприятием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ртфельные инвестиции (инвестиции в ценные бумаги, формируемые в виде портфеля ценных бума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 срокам влож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ткосрочные (до одного года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несрочные (1-3 года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лгосрочные (свыше 3-5 лет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 форме собственности на инвестиционные ресурс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остран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мешан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6CCD-2CD6-4210-A0E3-F8D6567649C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я или спекуля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ь между инвестицией и спекуляцией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учение дохода за счёт разницы между ценами покупки и продаж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размыта. Обычно критерием разграничения указывают фактор времени. Если операция длится более года — это инвестиция, и экономический эффект она даст через значительный срок после вложения. Если до года — это спекуля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0552-182B-4E00-9A43-3CA3C97122A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вестирование, сбережение, потребл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зиции монетарной теории денег, средства можно направить на потребление или сбережение. Простое сбережение изымает средства из оборота и создаёт предпосылки для кризисов. Инвестирование вовлекает сбережения в оборот. Оно может происходить напрямую или косвенно (размещение временно свободных средств на депозит в банк, который уже сам инвестиру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1F9D-4105-4CA4-ABFF-06063C863B8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читается, что для привлечения инвестиций предприятие должн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ть хорошо отработанный и перспективный план деятельности на будущее. Инвесторы хотят знать, что их вклады принесут в дальнейшем прибыл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ть хорошую репутацию в обществе. Инвестируя в теневое предприятие, инвесторы рискуют остаться без прибыли, поэтому выбирают только те предприятия, которые вызывают довер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сти открытую, то есть прозрачную деятельность. Для этого необходимы бухгалтерская отчётность и работа со С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ое зависит от внутренней политики, проводимой в той стране, в которой находится предприятие. Для вкладов инвесторы выбирают наиболее стабильные стра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950B-D563-4C82-83EB-23B7FE9938A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и 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характеризуются, среди прочего, двумя взаимосвязанным параметрами: риском и прибыльностью (доходностью). Как правило, чем выше риск инвестиций, тем выше должна быть их ожидаемая доход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инвестиционного риска показывает вероятность потери инвестиций и дохода от 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общего, интегрального риска складывается из семи видов риска: законодательного, политического, социального, экономического, финансового, криминального, экологическ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средний риск страны принимается за единицу, а реальные показатели регионов могут отклоня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4D8E-128C-45CB-91ED-2B5D7624DCB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4CA4-3434-4E0F-9547-E55DFC70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8EF8-1638-4317-9E85-2D452620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F1A6-F907-4492-B6C6-853541F3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5B8C-7F28-427C-A285-0A75844C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7EB9-BB77-41F5-92AA-32A5A966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0AC5-D7BA-4EBA-BCCD-7ABD0F00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4117-2BEB-4799-9730-559D0455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175F-02A8-4C7D-B175-58A1AF2A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9E0D-CA7C-4D99-81F7-BBE7A5AC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769D-7D3B-4422-8E8D-5754887C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3FB5-2064-4A75-9CA4-34B9493E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3AA7-3C69-42C3-8A68-A8E6101B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8645-46DE-4A79-B23B-2A708F76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D1E7-9688-43F4-8983-B5BA6128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14B3-2C21-42D4-9C04-E6A8F212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7640-FEF3-40F8-8738-A07CB9ED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840C-43C7-4CBD-8236-B7BDF38C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C70D-036E-4A5E-B00F-14958A59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D969-D038-4B9A-88A8-A21F757E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E7E2-FA07-4C34-A323-677A6587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7F26-1694-47FD-9D8D-C94CE726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D12E-E227-427C-A2FC-4E97BCD3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263B-490A-48C3-85DD-44474330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D7F9-B89F-4DC4-8B86-92B57D6F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D74E-F7AF-46B5-A317-9D249C69F7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FE3D-99D3-4CA8-A727-70028886F50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63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нвестиции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932360" y="5805360"/>
            <a:ext cx="39924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4" descr="134036m"/>
          <p:cNvPicPr/>
          <p:nvPr/>
        </p:nvPicPr>
        <p:blipFill>
          <a:blip r:embed="rId1"/>
          <a:stretch/>
        </p:blipFill>
        <p:spPr>
          <a:xfrm>
            <a:off x="324000" y="333360"/>
            <a:ext cx="3673440" cy="26161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вестици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нвести́ци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 — долгосрочные вложения капитала с целью получения доход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нвестиции являются неотъемлемой составной частью современной экономики. От кредитов инвестиции отличаются степенью риска для инвестора (кредитора) — кредит и проценты необходимо возвращать в оговоренные сроки независимо от прибыльности проекта, инвестиции возвращаются и приносят доход только в прибыльных проектах. Если проект убыточен — инвестиции могут быть утрачен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4" descr="0-37468-investing"/>
          <p:cNvPicPr/>
          <p:nvPr/>
        </p:nvPicPr>
        <p:blipFill>
          <a:blip r:embed="rId1"/>
          <a:stretch/>
        </p:blipFill>
        <p:spPr>
          <a:xfrm>
            <a:off x="468360" y="189000"/>
            <a:ext cx="2016000" cy="13446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Классификация инвестиций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уществуют разные классификации инвестиц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о объекту инвестирования выделяют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Реальные инвестици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прямая покупка реального капитала в различных формах)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форме материальных активов (основных фондов, земли), оплата строительства или реконструкци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питальный ремонт основных фонд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ложения в нематериальные активы: патенты, лицензии, права пользования, авторские права, товарные знаки, ноу-хау, человеческий капитал (воспитание, образование, наука) и т. д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Классификация инвестиций (по объекту инвестирования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Финансовые инвестици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косвенная покупка капитала через финансовые активы)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ценные бумаг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доставленные кредиты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изинг (для лизингодателя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пекулятивные инвестици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покупка активов исключительно ради возможного изменения цены)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люты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рагоценные металлы (в виде обезличенных металлических счетов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ценные бумаги (акции, облигации, сертификаты институтов совместного инвестирования и т.п.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Классификация инвестиций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По основным целям инвестирования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ямые инвестиции (вложение денежных средств с целью участия в управлении предприятием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ртфельные инвестиции (инвестиции в ценные бумаги, формируемые в виде портфеля ценных бумаг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По срокам вложения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раткосрочные (до одного года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реднесрочные (1-3 года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олгосрочные (свыше 3-5 лет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По форме собственности на инвестиционные ресурс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частны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осударственны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ностранны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мешанны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вестиция или спекуляция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92000" y="1599840"/>
            <a:ext cx="5194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рань между инвестицией и спекуляцией(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олучение дохода за счёт разницы между ценами покупки и продаж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 размыта. Обычно критерием разграничения указывают фактор времени. Если операция длится более года — это инвестиция, и экономический эффект она даст через значительный срок после вложения. Если до года — это спекуляци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2038_news"/>
          <p:cNvPicPr/>
          <p:nvPr/>
        </p:nvPicPr>
        <p:blipFill>
          <a:blip r:embed="rId1"/>
          <a:stretch/>
        </p:blipFill>
        <p:spPr>
          <a:xfrm>
            <a:off x="468360" y="162864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Безымянный56"/>
          <p:cNvPicPr/>
          <p:nvPr/>
        </p:nvPicPr>
        <p:blipFill>
          <a:blip r:embed="rId2"/>
          <a:stretch/>
        </p:blipFill>
        <p:spPr>
          <a:xfrm>
            <a:off x="468360" y="4076640"/>
            <a:ext cx="2736720" cy="2052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Инвестирование, сбережение, потребление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 позиции монетарной теории денег, средства можно направить на потребление или сбережение. Простое сбережение изымает средства из оборота и создаёт предпосылки для кризисов. Инвестирование вовлекает сбережения в оборот. Оно может происходить напрямую или косвенно (размещение временно свободных средств на депозит в банк, который уже сам инвестирует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4" descr="451933_source"/>
          <p:cNvPicPr/>
          <p:nvPr/>
        </p:nvPicPr>
        <p:blipFill>
          <a:blip r:embed="rId1"/>
          <a:stretch/>
        </p:blipFill>
        <p:spPr>
          <a:xfrm>
            <a:off x="6012000" y="1557360"/>
            <a:ext cx="2925720" cy="2193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1d5c45645880"/>
          <p:cNvPicPr/>
          <p:nvPr/>
        </p:nvPicPr>
        <p:blipFill>
          <a:blip r:embed="rId2"/>
          <a:stretch/>
        </p:blipFill>
        <p:spPr>
          <a:xfrm>
            <a:off x="6443640" y="3933720"/>
            <a:ext cx="2055960" cy="2448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Услов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читается, что для привлечения инвестиций предприятие должно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меть хорошо отработанный и перспективный план деятельности на будущее. Инвесторы хотят знать, что их вклады принесут в дальнейшем прибыль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меть хорошую репутацию в обществе. Инвестируя в теневое предприятие, инвесторы рискуют остаться без прибыли, поэтому выбирают только те предприятия, которые вызывают доверие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ести открытую, то есть прозрачную деятельность. Для этого необходимы бухгалтерская отчётность и работа со СМ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ногое зависит от внутренней политики, проводимой в той стране, в которой находится предприятие. Для вкладов инвесторы выбирают наиболее стабильные страны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иск и прибыл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132000" y="1599840"/>
            <a:ext cx="5554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вестиции характеризуются, среди прочего, двумя взаимосвязанным параметрами: риском и прибыльностью (доходностью). Как правило, чем выше риск инвестиций, тем выше должна быть их ожидаемая доходност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еличина инвестиционного риска показывает вероятность потери инвестиций и дохода от ни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еличина общего, интегрального риска складывается из семи видов риска: законодательного, политического, социального, экономического, финансового, криминального, экологического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 этом средний риск страны принимается за единицу, а реальные показатели регионов могут отклонятьс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Picture 4" descr="1259248492_rosssiya-pomozhet"/>
          <p:cNvPicPr/>
          <p:nvPr/>
        </p:nvPicPr>
        <p:blipFill>
          <a:blip r:embed="rId1"/>
          <a:stretch/>
        </p:blipFill>
        <p:spPr>
          <a:xfrm>
            <a:off x="250920" y="1557360"/>
            <a:ext cx="2813040" cy="32400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9:59:54Z</dcterms:created>
  <dc:creator>User</dc:creator>
  <dc:description/>
  <dc:language>en-US</dc:language>
  <cp:lastModifiedBy>LEGION</cp:lastModifiedBy>
  <dcterms:modified xsi:type="dcterms:W3CDTF">2014-11-10T09:07:59Z</dcterms:modified>
  <cp:revision>12</cp:revision>
  <dc:subject/>
  <dc:title>Инвестиции</dc:title>
</cp:coreProperties>
</file>