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00D5-D1EB-420B-A9CC-48CF3920093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99B3-C5EF-4393-BB53-747D5BA5400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сти́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долгосрочные вложения капитала с целью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являются неотъемлемой составной частью современной экономики. От кредитов инвестиции отличаются степенью риска для инвестора (кредитора) — кредит и проценты необходимо возвращать в оговоренные сроки независимо от прибыльности проекта, инвестиции возвращаются и приносят доход только в прибыльных проектах. Если проект убыточен — инвестиции могут быть утрач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6E4C-5C22-495D-857E-101885C99C5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инвест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ют разные классификации инвести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 объекту инвестирования выделяю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альные инвести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прямая покупка реального капитала в различных формах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форме материальных активов (основных фондов, земли), оплата строительства или реконструк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питальный ремонт основных фонд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ожения в нематериальные активы: патенты, лицензии, права пользования, авторские права, товарные знаки, ноу-хау, человеческий капитал (воспитание, образование, наука) и т. д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8A90-75C9-415B-924F-9C68EC4FEB9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лассификация инвестиций (по объекту инвестирован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нансовые инвести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косвенная покупка капитала через финансовые активы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ные бума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ные креди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зинг (для лизингодателя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екулятивные инвести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покупка активов исключительно ради возможного изменения цены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ю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агоценные металлы (в виде обезличенных металлических счетов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ные бумаги (акции, облигации, сертификаты институтов совместного инвестирования и т.п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61B5-5963-4691-A141-B301C667A7C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инвест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 основным целям инвестир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ямые инвестиции (вложение денежных средств с целью участия в управлении предприятие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тфельные инвестиции (инвестиции в ценные бумаги, формируемые в виде портфеля ценных бума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 срокам влож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ткосрочные (до одного год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есрочные (1-3 год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лгосрочные (свыше 3-5 лет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 форме собственности на инвестиционные ресур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остра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еша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5D10-F63C-4D18-B454-43C06327510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я или спекуля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ь между инвестицией и спекуляцией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чение дохода за счёт разницы между ценами покупки и продаж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размыта. Обычно критерием разграничения указывают фактор времени. Если операция длится более года — это инвестиция, и экономический эффект она даст через значительный срок после вложения. Если до года — это спекуля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0B18-A879-4AE7-A29A-3C99306D711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вестирование, сбережение, потребл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зиции монетарной теории денег, средства можно направить на потребление или сбережение. Простое сбережение изымает средства из оборота и создаёт предпосылки для кризисов. Инвестирование вовлекает сбережения в оборот. Оно может происходить напрямую или косвенно (размещение временно свободных средств на депозит в банк, который уже сам инвестиру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687D-7062-4679-9475-051B0B9FC27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читается, что для привлечения инвестиций предприятие долж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ть хорошо отработанный и перспективный план деятельности на будущее. Инвесторы хотят знать, что их вклады принесут в дальнейшем прибыл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ть хорошую репутацию в обществе. Инвестируя в теневое предприятие, инвесторы рискуют остаться без прибыли, поэтому выбирают только те предприятия, которые вызывают довер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сти открытую, то есть прозрачную деятельность. Для этого необходимы бухгалтерская отчётность и работа со С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е зависит от внутренней политики, проводимой в той стране, в которой находится предприятие. Для вкладов инвесторы выбирают наиболее стабильные стра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7A2D-A6F9-4E16-9376-4DA68637CD5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характеризуются, среди прочего, двумя взаимосвязанным параметрами: риском и прибыльностью (доходностью). Как правило, чем выше риск инвестиций, тем выше должна быть их ожидаемая доход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инвестиционного риска показывает вероятность потери инвестиций и дохода от 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общего, интегрального риска складывается из семи видов риска: законодательного, политического, социального, экономического, финансового, криминального, экологичес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редний риск страны принимается за единицу, а реальные показатели регионов могут откло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2BC7-CEFD-462D-8ED0-36EC8E4C80D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540F-CFA8-4E2D-8402-A680F9C6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2A9-C6DA-4439-BE86-96AEE347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BCED-0023-4FF5-9057-5686EEA7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E51-3304-4E31-B95E-2D1705B5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77F6-1CD7-4753-A44C-54C41A24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1853-D1F2-44F0-BEC7-3C567498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881F-6776-4545-9AA4-7CEA02B1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876D-46BA-4BF5-94DE-19D85C10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C6D7-66FA-4025-940B-BC31BF5E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6E00-E5F9-45E1-825E-E2A571B9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0202-1EE3-4E9A-B5C7-CA183690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EB2-AD65-48F3-BF88-F739D6CD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A7A9-6AE7-4C55-AC8F-FFB1643C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9069-CA5E-41B2-A77A-832A4B85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4DEC-C47A-4743-8448-9AFDB954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74E4-01C4-4AF4-AF05-E299E760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85C9-904F-48A0-BBC5-0F92E61C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057F-EB71-41EE-B48F-17F15EC4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2D0-1B26-4506-B902-921FF20E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163B-2C54-4CFF-9EA5-54BBD9E5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3AE-4DD1-4636-BD4F-B44960CA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DF1-5CD7-46CC-AEFE-59322389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61C-A654-4A5C-84CA-386206D6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19C-55ED-479D-BDA1-79BA1548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BBA9-F001-4997-A091-181CE8F1A6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DE77-FEE7-47F1-9BE4-A3BF0B1C01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63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вестиции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932360" y="5805360"/>
            <a:ext cx="39924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134036m"/>
          <p:cNvPicPr/>
          <p:nvPr/>
        </p:nvPicPr>
        <p:blipFill>
          <a:blip r:embed="rId1"/>
          <a:stretch/>
        </p:blipFill>
        <p:spPr>
          <a:xfrm>
            <a:off x="324000" y="333360"/>
            <a:ext cx="3673440" cy="2616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вестици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нвести́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 — долгосрочные вложения капитала с целью получения дохо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вестиции являются неотъемлемой составной частью современной экономики. От кредитов инвестиции отличаются степенью риска для инвестора (кредитора) — кредит и проценты необходимо возвращать в оговоренные сроки независимо от прибыльности проекта, инвестиции возвращаются и приносят доход только в прибыльных проектах. Если проект убыточен — инвестиции могут быть утраче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0-37468-investing"/>
          <p:cNvPicPr/>
          <p:nvPr/>
        </p:nvPicPr>
        <p:blipFill>
          <a:blip r:embed="rId1"/>
          <a:stretch/>
        </p:blipFill>
        <p:spPr>
          <a:xfrm>
            <a:off x="468360" y="189000"/>
            <a:ext cx="2016000" cy="13446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Классификация инвестиций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уществуют разные классификации инвести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объекту инвестирования выделяют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еальные инвести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прямая покупка реального капитала в различных формах)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форме материальных активов (основных фондов, земли), оплата строительства или реконструкц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питальный ремонт основных фон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ложения в нематериальные активы: патенты, лицензии, права пользования, авторские права, товарные знаки, ноу-хау, человеческий капитал (воспитание, образование, наука) и т. д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Классификация инвестиций (по объекту инвестирования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инансовые инвести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косвенная покупка капитала через финансовые активы)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ные бума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оставленные кредит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изинг (для лизингодателя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пекулятивные инвести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покупка активов исключительно ради возможного изменения цены)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лют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рагоценные металлы (в виде обезличенных металлических счетов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ные бумаги (акции, облигации, сертификаты институтов совместного инвестирования и т.п.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Классификация инвестиций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основным целям инвестирования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ямые инвестиции (вложение денежных средств с целью участия в управлении предприятием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ртфельные инвестиции (инвестиции в ценные бумаги, формируемые в виде портфеля ценных бумаг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срокам вложения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раткосрочные (до одного года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реднесрочные (1-3 года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олгосрочные (свыше 3-5 лет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форме собственности на инвестиционные ресурс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аст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осударстве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ностра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меша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вестиция или спекуляци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92000" y="1599840"/>
            <a:ext cx="5194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ань между инвестицией и спекуляцией(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лучение дохода за счёт разницы между ценами покупки и продаж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 размыта. Обычно критерием разграничения указывают фактор времени. Если операция длится более года — это инвестиция, и экономический эффект она даст через значительный срок после вложения. Если до года — это спекуляц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2038_news"/>
          <p:cNvPicPr/>
          <p:nvPr/>
        </p:nvPicPr>
        <p:blipFill>
          <a:blip r:embed="rId1"/>
          <a:stretch/>
        </p:blipFill>
        <p:spPr>
          <a:xfrm>
            <a:off x="468360" y="162864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Безымянный56"/>
          <p:cNvPicPr/>
          <p:nvPr/>
        </p:nvPicPr>
        <p:blipFill>
          <a:blip r:embed="rId2"/>
          <a:stretch/>
        </p:blipFill>
        <p:spPr>
          <a:xfrm>
            <a:off x="468360" y="407664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Инвестирование, сбережение, потребление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 позиции монетарной теории денег, средства можно направить на потребление или сбережение. Простое сбережение изымает средства из оборота и создаёт предпосылки для кризисов. Инвестирование вовлекает сбережения в оборот. Оно может происходить напрямую или косвенно (размещение временно свободных средств на депозит в банк, который уже сам инвестирует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451933_source"/>
          <p:cNvPicPr/>
          <p:nvPr/>
        </p:nvPicPr>
        <p:blipFill>
          <a:blip r:embed="rId1"/>
          <a:stretch/>
        </p:blipFill>
        <p:spPr>
          <a:xfrm>
            <a:off x="6012000" y="1557360"/>
            <a:ext cx="2925720" cy="2193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1d5c45645880"/>
          <p:cNvPicPr/>
          <p:nvPr/>
        </p:nvPicPr>
        <p:blipFill>
          <a:blip r:embed="rId2"/>
          <a:stretch/>
        </p:blipFill>
        <p:spPr>
          <a:xfrm>
            <a:off x="6443640" y="3933720"/>
            <a:ext cx="2055960" cy="244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Услов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читается, что для привлечения инвестиций предприятие должно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меть хорошо отработанный и перспективный план деятельности на будущее. Инвесторы хотят знать, что их вклады принесут в дальнейшем прибыл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меть хорошую репутацию в обществе. Инвестируя в теневое предприятие, инвесторы рискуют остаться без прибыли, поэтому выбирают только те предприятия, которые вызывают довери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сти открытую, то есть прозрачную деятельность. Для этого необходимы бухгалтерская отчётность и работа со СМ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ногое зависит от внутренней политики, проводимой в той стране, в которой находится предприятие. Для вкладов инвесторы выбирают наиболее стабильные стран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иск и прибыл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132000" y="1599840"/>
            <a:ext cx="5554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вестиции характеризуются, среди прочего, двумя взаимосвязанным параметрами: риском и прибыльностью (доходностью). Как правило, чем выше риск инвестиций, тем выше должна быть их ожидаемая доходнос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личина инвестиционного риска показывает вероятность потери инвестиций и дохода от ни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личина общего, интегрального риска складывается из семи видов риска: законодательного, политического, социального, экономического, финансового, криминального, экологического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 этом средний риск страны принимается за единицу, а реальные показатели регионов могут отклонятьс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4" descr="1259248492_rosssiya-pomozhet"/>
          <p:cNvPicPr/>
          <p:nvPr/>
        </p:nvPicPr>
        <p:blipFill>
          <a:blip r:embed="rId1"/>
          <a:stretch/>
        </p:blipFill>
        <p:spPr>
          <a:xfrm>
            <a:off x="250920" y="1557360"/>
            <a:ext cx="2813040" cy="3240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9:59:54Z</dcterms:created>
  <dc:creator>User</dc:creator>
  <dc:description/>
  <dc:language>en-US</dc:language>
  <cp:lastModifiedBy>LEGION</cp:lastModifiedBy>
  <dcterms:modified xsi:type="dcterms:W3CDTF">2014-11-10T09:07:59Z</dcterms:modified>
  <cp:revision>12</cp:revision>
  <dc:subject/>
  <dc:title>Инвестиции</dc:title>
</cp:coreProperties>
</file>