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68FE-9CCE-4CBE-8B80-292D64C9A1A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9C24-9F33-4EB9-863C-B8F88B96D1B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сти́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долгосрочные вложения капитала с целью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являются неотъемлемой составной частью современной экономики. От кредитов инвестиции отличаются степенью риска для инвестора (кредитора) — кредит и проценты необходимо возвращать в оговоренные сроки независимо от прибыльности проекта, инвестиции возвращаются и приносят доход только в прибыльных проектах. Если проект убыточен — инвестиции могут быть утрач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1BBC-5459-4857-A166-C075A03C9B0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инвест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т разные классификации инвести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 объекту инвестирования выделяю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альн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рямая покупка реального капитала в различных формах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орме материальных активов (основных фондов, земли), оплата строительства или реконструк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питальный ремонт основных фонд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ожения в нематериальные активы: патенты, лицензии, права пользования, авторские права, товарные знаки, ноу-хау, человеческий капитал (воспитание, образование, наука) и т. д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9A5A-6DBD-43DD-AAF3-82371E63716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ассификация инвестиций (по объекту инвестирован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нансов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косвенная покупка капитала через финансовые активы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ные бума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ные креди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зинг (для лизингодателя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кулятивн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окупка активов исключительно ради возможного изменения цены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ю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агоценные металлы (в виде обезличенных металлических счетов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ные бумаги (акции, облигации, сертификаты институтов совместного инвестирования и т.п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9C92-AC66-4CAC-A011-C3A48E5874D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инвест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основным целям инвестир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ямые инвестиции (вложение денежных средств с целью участия в управлении предприятие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тфельные инвестиции (инвестиции в ценные бумаги, формируемые в виде портфеля ценных бума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срокам влож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осрочные (до одного год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есрочные (1-3 год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госрочные (свыше 3-5 лет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форме собственности на инвестиционные 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остра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еша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2DC4-1652-4A99-AE3A-0E7F5DC4012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я или спекуля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ь между инвестицией и спекуляцией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чение дохода за счёт разницы между ценами покупки и продаж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размыта. Обычно критерием разграничения указывают фактор времени. Если операция длится более года — это инвестиция, и экономический эффект она даст через значительный срок после вложения. Если до года — это спекуля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8100-488F-4C31-AEB3-ACD6341C557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вестирование, сбережение, потребл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зиции монетарной теории денег, средства можно направить на потребление или сбережение. Простое сбережение изымает средства из оборота и создаёт предпосылки для кризисов. Инвестирование вовлекает сбережения в оборот. Оно может происходить напрямую или косвенно (размещение временно свободных средств на депозит в банк, который уже сам инвестиру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4526-176D-488B-BB8E-04180521192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читается, что для привлечения инвестиций предприятие долж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ть хорошо отработанный и перспективный план деятельности на будущее. Инвесторы хотят знать, что их вклады принесут в дальнейшем прибыл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ть хорошую репутацию в обществе. Инвестируя в теневое предприятие, инвесторы рискуют остаться без прибыли, поэтому выбирают только те предприятия, которые вызывают довер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сти открытую, то есть прозрачную деятельность. Для этого необходимы бухгалтерская отчётность и работа со С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е зависит от внутренней политики, проводимой в той стране, в которой находится предприятие. Для вкладов инвесторы выбирают наиболее стабильные стра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88D7-D615-4D97-8384-F4BFD712BF9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характеризуются, среди прочего, двумя взаимосвязанным параметрами: риском и прибыльностью (доходностью). Как правило, чем выше риск инвестиций, тем выше должна быть их ожидаемая доход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инвестиционного риска показывает вероятность потери инвестиций и дохода от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общего, интегрального риска складывается из семи видов риска: законодательного, политического, социального, экономического, финансового, криминального, экологичес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редний риск страны принимается за единицу, а реальные показатели регионов могут откло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B013-D2BD-4CDA-A79B-0D67E7BEC93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DC1-B833-4980-9988-2B1CADE5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39A-D29D-4338-9AB6-7A906876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FE0-9CAF-4B67-9FCB-216DB334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C771-BD6F-4A26-9385-EC7BD7AB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FFBB-EB0B-4335-83AB-69615CFF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909D-C8C6-4974-BB55-044763F0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F4B6-07B4-483E-A9B9-76589E2D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F2AC-06C2-478D-A232-767E4EEC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99E5-1791-4EDA-897C-A85ECD4C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3C75-63E7-4306-839D-0D583A88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3DA8-7961-492E-9819-B08D93F9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1D9-B805-4639-BEE9-73164181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2792-0E01-46A5-AC8D-5AA14686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BBFF-989E-4B5C-99D4-8DC0D344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747F-AA34-4C4F-87BE-9104F280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92FB-0D19-464A-AD65-4A2B619E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8401-6D80-4BBF-B9AA-338C47C6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428-6C14-4BEB-9130-52B39E7A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B56-8317-40E9-A963-635DB908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D2B-CC07-47D4-95A8-CB9AD90A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13D-3E92-4537-8F52-DE7C68E5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4A5-D4DC-46B3-9D64-DA47B7DD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091-430C-43FB-8646-4CEF82C0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F00-492B-4C58-97B3-81FCE183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6A68-A8D9-46B6-A6C4-03FC6EFFE6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69A8-0DB4-4A6E-9EC5-E7D1813F927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63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вестиции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932360" y="5805360"/>
            <a:ext cx="39924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134036m"/>
          <p:cNvPicPr/>
          <p:nvPr/>
        </p:nvPicPr>
        <p:blipFill>
          <a:blip r:embed="rId1"/>
          <a:stretch/>
        </p:blipFill>
        <p:spPr>
          <a:xfrm>
            <a:off x="324000" y="333360"/>
            <a:ext cx="3673440" cy="2616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вестици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вести́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 — долгосрочные вложения капитала с целью получения дох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вестиции являются неотъемлемой составной частью современной экономики. От кредитов инвестиции отличаются степенью риска для инвестора (кредитора) — кредит и проценты необходимо возвращать в оговоренные сроки независимо от прибыльности проекта, инвестиции возвращаются и приносят доход только в прибыльных проектах. Если проект убыточен — инвестиции могут быть утраче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0-37468-investing"/>
          <p:cNvPicPr/>
          <p:nvPr/>
        </p:nvPicPr>
        <p:blipFill>
          <a:blip r:embed="rId1"/>
          <a:stretch/>
        </p:blipFill>
        <p:spPr>
          <a:xfrm>
            <a:off x="468360" y="18900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лассификация инвестиций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уществуют разные классификации инвести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объекту инвестирования выделяют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еальн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прямая покупка реального капитала в различных формах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форме материальных активов (основных фондов, земли), оплата строительства или реконструкц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питальный ремонт основных фон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ожения в нематериальные активы: патенты, лицензии, права пользования, авторские права, товарные знаки, ноу-хау, человеческий капитал (воспитание, образование, наука) и т. д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Классификация инвестиций (по объекту инвестирования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инансов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косвенная покупка капитала через финансовые активы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ные бума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оставленные креди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изинг (для лизингодателя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пекулятивн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покупка активов исключительно ради возможного изменения цены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лю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рагоценные металлы (в виде обезличенных металлических счетов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ные бумаги (акции, облигации, сертификаты институтов совместного инвестирования и т.п.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лассификация инвестиций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основным целям инвестирован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ямые инвестиции (вложение денежных средств с целью участия в управлении предприятием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ртфельные инвестиции (инвестиции в ценные бумаги, формируемые в виде портфеля ценных бумаг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срокам вложен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аткосрочные (до одного года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реднесрочные (1-3 года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олгосрочные (свыше 3-5 лет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форме собственности на инвестиционные ресурс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аст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осударстве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ностра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меша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вестиция или спекуляци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92000" y="1599840"/>
            <a:ext cx="5194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ань между инвестицией и спекуляцией(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лучение дохода за счёт разницы между ценами покупки и продаж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размыта. Обычно критерием разграничения указывают фактор времени. Если операция длится более года — это инвестиция, и экономический эффект она даст через значительный срок после вложения. Если до года — это спекуляц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2038_news"/>
          <p:cNvPicPr/>
          <p:nvPr/>
        </p:nvPicPr>
        <p:blipFill>
          <a:blip r:embed="rId1"/>
          <a:stretch/>
        </p:blipFill>
        <p:spPr>
          <a:xfrm>
            <a:off x="468360" y="162864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Безымянный56"/>
          <p:cNvPicPr/>
          <p:nvPr/>
        </p:nvPicPr>
        <p:blipFill>
          <a:blip r:embed="rId2"/>
          <a:stretch/>
        </p:blipFill>
        <p:spPr>
          <a:xfrm>
            <a:off x="468360" y="407664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Инвестирование, сбережение, потребление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позиции монетарной теории денег, средства можно направить на потребление или сбережение. Простое сбережение изымает средства из оборота и создаёт предпосылки для кризисов. Инвестирование вовлекает сбережения в оборот. Оно может происходить напрямую или косвенно (размещение временно свободных средств на депозит в банк, который уже сам инвестирует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451933_source"/>
          <p:cNvPicPr/>
          <p:nvPr/>
        </p:nvPicPr>
        <p:blipFill>
          <a:blip r:embed="rId1"/>
          <a:stretch/>
        </p:blipFill>
        <p:spPr>
          <a:xfrm>
            <a:off x="6012000" y="1557360"/>
            <a:ext cx="2925720" cy="2193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1d5c45645880"/>
          <p:cNvPicPr/>
          <p:nvPr/>
        </p:nvPicPr>
        <p:blipFill>
          <a:blip r:embed="rId2"/>
          <a:stretch/>
        </p:blipFill>
        <p:spPr>
          <a:xfrm>
            <a:off x="6443640" y="3933720"/>
            <a:ext cx="2055960" cy="244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Услов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читается, что для привлечения инвестиций предприятие должно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меть хорошо отработанный и перспективный план деятельности на будущее. Инвесторы хотят знать, что их вклады принесут в дальнейшем прибыл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меть хорошую репутацию в обществе. Инвестируя в теневое предприятие, инвесторы рискуют остаться без прибыли, поэтому выбирают только те предприятия, которые вызывают довер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сти открытую, то есть прозрачную деятельность. Для этого необходимы бухгалтерская отчётность и работа со СМ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ногое зависит от внутренней политики, проводимой в той стране, в которой находится предприятие. Для вкладов инвесторы выбирают наиболее стабильные стран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иск и прибыл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132000" y="1599840"/>
            <a:ext cx="5554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вестиции характеризуются, среди прочего, двумя взаимосвязанным параметрами: риском и прибыльностью (доходностью). Как правило, чем выше риск инвестиций, тем выше должна быть их ожидаемая доходнос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личина инвестиционного риска показывает вероятность потери инвестиций и дохода от ни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личина общего, интегрального риска складывается из семи видов риска: законодательного, политического, социального, экономического, финансового, криминального, экологического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 этом средний риск страны принимается за единицу, а реальные показатели регионов могут отклонять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1259248492_rosssiya-pomozhet"/>
          <p:cNvPicPr/>
          <p:nvPr/>
        </p:nvPicPr>
        <p:blipFill>
          <a:blip r:embed="rId1"/>
          <a:stretch/>
        </p:blipFill>
        <p:spPr>
          <a:xfrm>
            <a:off x="250920" y="1557360"/>
            <a:ext cx="2813040" cy="3240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9:59:54Z</dcterms:created>
  <dc:creator>User</dc:creator>
  <dc:description/>
  <dc:language>en-US</dc:language>
  <cp:lastModifiedBy>LEGION</cp:lastModifiedBy>
  <dcterms:modified xsi:type="dcterms:W3CDTF">2014-11-10T09:07:59Z</dcterms:modified>
  <cp:revision>12</cp:revision>
  <dc:subject/>
  <dc:title>Инвестиции</dc:title>
</cp:coreProperties>
</file>