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28D7-9F54-4B7C-8E31-E3BEB033AF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урок в начальной школе в условиях ФГ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лавская Е.Г.- учитель начальных классов первой квалификационной категории МБОУСОШ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EE10-0C82-4B91-A835-E4602F5087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Calibri"/>
              </a:rPr>
              <a:t>Типология уро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ознакомления учащихся с новым материалом или сообщения  (изучения) новых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закрепления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выработки и закрепления умений и навы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обобщения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проверки знаний, умений и навыков (контрольны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1F7D-A1DC-46EA-81E1-9FA6330AD9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Комбинированный уро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й работы и опрос учащихс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ового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проверка усво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новых знаний в ходе тренировочных упражн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торение ранее изученного в виде бесе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и оценка знаний учащихся; задание на дом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277B-B045-498E-80B6-23E9FC7035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Структура урока в начальных класса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 этап. Организация класса (оргмо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I этап. Актуализация ранее усвоенных знаний и умений (повтор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II этап. Формирование новых знаний и умений (изучение нового материа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V этап. Применение полученных знаний и умений (решение учебных зада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 этап.  Рефлексия. Итог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06A5-360E-44D6-863D-321C049D6E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Формы организаци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ронт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овая (з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еньевая,дифференцированно-группов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AAA7-A072-447F-B751-09E9C34192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Особенности организации коллективной работ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участник занятий попеременно выступает в своеобразной роли то «ученика», то «учител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жайшая цель каждого участника занятий и «ученика» и «учителя» – учить всему тому, что он знает или изучает 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каждого участника занятий имеет отчетливо общественно полезную краску, так как он не только учится, но и постоянно обучает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принцип работы–все по очереди учат каждого и каждый все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отвечает не только за свои знания, но также за знания и успехи товарищей по учебной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совпадение и единство коллективных и личных, индивидуальных интересов: чем лучше и больше я обучаю других, тем больше и лучше знаю 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A5C2-89A8-466F-BDC1-E31F5F6F05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279f"/>
                </a:solidFill>
                <a:latin typeface="Calibri"/>
              </a:rPr>
              <a:t>Требования к современному уро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Точное и творческое выполнение программно-методических требований к уроку; грамотное определение типа урока, его места в разделе, курсе, системе внутрикурсовых связей, видение особенностей каждого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Учет реальных учебных возможностей учащихся уровня их воспитанности, уровня сформированности классного коллектива, учет интересов, склонностей, потребностей и запросов учащихся; целенаправленность в ликвидации пробелов в зн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одумывание и решение в единстве задач образования, воспитания и развития; выделение важнейших, доминирующих задач урока, их конкретизация с учетом особенностей и возможностей коллект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Выбор рациональной структуры и темпа проведения урока, обеспечивающих успешное решение поставленных задач и экономное использование времени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Концентрация внимания учащихся на усвоении важнейших понятий, положений, выделение главного в содержании обучен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Обеспечение практической направленности учебного процесса, создание реальных возможностей применения учащимися полученных знаний, умений и навыков, не допуская формального усвоения теоретических све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811B-3BF8-46A7-B9BD-BCEE143846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c3294"/>
                </a:solidFill>
                <a:latin typeface="Calibri"/>
              </a:rPr>
              <a:t>Требования к современному уро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 Расширение арсенала выбора методов преимущественно за счет методов активного, проблемного обучения, которые способны активизировать познавательную деятельность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 Сочетание общеклассных форм работы на уроке с групповыми и индивидуальными, стремление к организации учебного труда как коллектив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 Формирование у всех учащихся осознанного и активного отношения к своей учебной деятельности, навыков рациональной организации учебного труда на уроке; использование воспитательных и развивающих возм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. Общение с учащимися на основе сочетания высокой требовательности с уважением к личности школьника, опора в работе на классный коллектив, стремление добиваться действенного воспитательного влияния личности самого уч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. Соблюдение благоприятных для работы на уроке гигиенических и эстетически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. Определение содержания и объема домашних заданий, не допуская перегрузк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4. Четкое следование замыслу плана урока и одновременная готовность гибко перестраивать его ход при изменении учебных ситу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8DDB-765F-40F3-B8F1-E32ECF2EA7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Calibri"/>
              </a:rPr>
              <a:t>Подготовка учителя к урок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роектирование (обдумывание)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Определение темы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Определение целей урока (обучающая, развивающая, воспитатель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Отбор содержания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Определение типа и формы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 Выполнение всех заданий, отобранных к ур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 Выбор форм организаци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 Определение методических приемов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 Определение наглядных пособий и средств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. Описание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. Оснащение урока необходимыми средствами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5B8A-5589-4FC8-9E6C-19EAD10876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Дополнительные формы организаци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умы, практические занятия, предметные у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е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2DF4-230A-48C0-BBFC-31A0F880A3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80"/>
                </a:solidFill>
                <a:latin typeface="Calibri"/>
              </a:rPr>
              <a:t>Вспомогательные формы организации урок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ульт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нятия в круж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убы по интер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4CFB-38A8-40DC-9C1E-7CAB0260B0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Классно-урочная система.</a:t>
            </a:r>
            <a:br>
              <a:rPr sz="1400"/>
            </a:br>
            <a:r>
              <a:rPr b="1" lang="ru-RU" sz="1400" spc="-1" strike="noStrike">
                <a:solidFill>
                  <a:srgbClr val="38279f"/>
                </a:solidFill>
                <a:latin typeface="Calibri"/>
              </a:rPr>
              <a:t>Преимущества урока  как  формы организации педагогического процесса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четание фронтальной,  групповой  и  индивидуальной 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учителю систематически и последовательно излагать материал,  управлять развитием познавательных способностей и формировать научное мировоззрение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имулирует другие виды деятельности школьников, в том числе внеклассную и домашню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уроке  ученики овладевают не только системой знаний,  умений и навыков,  но и самими методами познаватель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позволяет эффективно решать воспитательные задачи через содержание и методы педагогической 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6FB5-FD2E-4A18-9A1D-14C9CC0219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3294"/>
                </a:solidFill>
                <a:latin typeface="Calibri"/>
              </a:rPr>
              <a:t>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-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такая форма организации педагогического процесса,  при которой педагог в течение точно  установленного времени руководит коллективной познавательной и иной деятельностью постоянной группы учащихся (класса) с учетом особенностей  каждого  из них, используя виды, средства и методы работы, создающие благоприятные условия для того, чтобы все ученики овладевали  основами изучаемого предмета непосредственно в процессе обучения,  а также для воспитания и развития познавательных способностей и  духовных  сил школьн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7A4C-AB04-4358-990B-452FC0D95A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Специфические признак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ая группа учащихс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  деятельностью  школьников  с учетом особенностей каждого из ни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основами изучаемого непосредственно на уро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E599-8FD9-4208-9503-66C5926D40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Организационные основания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     Работают все и работает кажд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      Интересно мнение каждого и радуют успехи кажд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      Все благодарны каждому за его участие, и каждый благодарен всем за свое продвижение к зна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      Доверие к учителю как к руководителю групповой работы, но каждый имеет право на инициативное предлож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       Все и каждый имеют право высказать мнение относительно проведенного зан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12FE-7C9D-46B7-B64F-7416EE662E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Система организационных правил на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 Доводить педагогические требования до своего логического кон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  Сопровождать педагогическое требование инструкцией, раскрывающей легкий способ исполнения требуем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  Раскрывать положительную программу действий и избегать негативных требований, т.е. требований не делать чего-либ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  Не предъявлять детям непосильных треб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  Переакцентировать внимание детей с общего требования на его дет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59AD-EA10-42F3-B7B8-783283F778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Правила совместного общения на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     НЕ произносить резких, категоричных сужд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     НЕ подчеркивать интеллектуальное превосходство кого-либ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     НЕ пренебрегать мнением друг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     НЕ перебивать выступающего, но и самому быть лаконичным и четким в высказыва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     НЕ допускать фамильярности по отношению к кому-либ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     Отмечать индивидуально-ценностное в работе кажд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     Выражать благодарность в адрес присутствую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A21C-1794-478E-B358-C4FFD86CB7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учи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еленаправленность его деятельности на урок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характер отношений с учащими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ндивидуально-личностный подход к учащим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дифференцированный подход к обучен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умение педагога приводить в соответствие содержание учебного материала, методы обучения и формы 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низации познавательной деятельности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и развитию общеучебных навыков и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бота по развитию познавательного интере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знаний, умений и навыков и вооружению учащихся способами познаватель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фокусированность усилий на формировании понят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звитие общих способностей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бъективность оценки знаний учащихся, соединение использования оценки и отмет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ффективность усилий, развивающих лич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ффективность воспитывающих влия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2B64-0837-4FDA-989E-4AF3C2017D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 учащего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уровень самостоятельности, самодеятельности учащихся на урок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тношение учащихся к учебному труд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тношение учащихся к предмету, к учителю, друг к друг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бъективная направленность деятельности учеников на образование и развитие своей л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наличие у учащихся познавательного интер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оспитательная и развивающая подвижка личности, возникшая в ходе уро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знание учениками фактического материала и уровень его усво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93DB-F15F-4859-9EF1-18BE425A7F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46A9-B76B-4252-ADAC-B5C82BCA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F600-0E31-4968-95D3-60F0BFE5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EC2D-DD1B-4B05-A15D-3007D217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17F4-AF01-4CFD-BF40-57417626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22A8-453C-41F6-A717-8BA020CB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7D29-1DCF-45BB-A47D-3B7649D9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1571-0171-4D18-9794-9821881F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4382-FFFE-4010-A7F2-BBEA6E4F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83F1-8236-4C31-8E48-2A9E4A14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9496-12BD-4401-A9A7-BA5C9572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AE04-77EB-4E51-80E7-390896B3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714B-F252-46F2-91E8-B5C376D2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14DB-D748-44DB-96F2-2D48B590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B73D-B1FD-48AF-82A4-38E05634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C7B4-6C81-463D-AB24-99BB7307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6630-EAB5-4753-8AF6-C817C6E7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1C7E-0D84-4201-9555-28202EB1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37DD-1DB2-4801-977C-B88EC47F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9641-34F5-4DE9-8700-5DCFCB0C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50E-6735-45E7-8E9A-52AA0695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DD7F-DD8C-4744-A6FC-8243C11D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FFD5-FAF9-4A74-82A3-58DCB221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563F-59DD-4240-AA20-96C6A8D9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284D-A0A8-4A66-A575-8AFD80E4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3C7F-F1A9-4719-93B1-5FD160C742D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90ED-C21F-414F-A4B3-5A155118C7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C:\Documents and Settings\Admin\Рабочий стол\для шаблонов\цветы\Безимени-1пп.gif"/>
          <p:cNvPicPr/>
          <p:nvPr/>
        </p:nvPicPr>
        <p:blipFill>
          <a:blip r:embed="rId2"/>
          <a:stretch/>
        </p:blipFill>
        <p:spPr>
          <a:xfrm>
            <a:off x="6380280" y="4500720"/>
            <a:ext cx="2763720" cy="21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Admin\Рабочий стол\для шаблонов\цветы\Безимени-1пп.gif"/>
          <p:cNvPicPr/>
          <p:nvPr/>
        </p:nvPicPr>
        <p:blipFill>
          <a:blip r:embed="rId2"/>
          <a:stretch/>
        </p:blipFill>
        <p:spPr>
          <a:xfrm>
            <a:off x="6380280" y="4500720"/>
            <a:ext cx="2763720" cy="217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\Рабочий стол\для шаблонов\цветы\коричнев.gif"/>
          <p:cNvPicPr/>
          <p:nvPr/>
        </p:nvPicPr>
        <p:blipFill>
          <a:blip r:embed="rId3"/>
          <a:stretch/>
        </p:blipFill>
        <p:spPr>
          <a:xfrm>
            <a:off x="7215120" y="6551640"/>
            <a:ext cx="90972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FEA9-3F48-4878-9F2A-29D97E64639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85D2-44CF-4F93-BBD4-2DDFE4ECB3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2920" y="177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временный урок в начальной школе в условиях ФГ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708000" y="4149720"/>
            <a:ext cx="497844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плавская Е.Г.- учитель начальных классов первой квалификационной категории МБОУСОШ№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C:\Documents and Settings\Admin\Рабочий стол\для шаблонов\цветы\Безимени-1пп.gif"/>
          <p:cNvPicPr/>
          <p:nvPr/>
        </p:nvPicPr>
        <p:blipFill>
          <a:blip r:embed="rId1"/>
          <a:stretch/>
        </p:blipFill>
        <p:spPr>
          <a:xfrm>
            <a:off x="0" y="0"/>
            <a:ext cx="5500800" cy="43340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Типология уро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знакомления учащихся с новым материалом или сообщения  (изучения) новых зна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закрепления зна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выработки и закрепления умений и навык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бобщения зн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проверки знаний, умений и навыков (контрольны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Комбинированный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 домашней работы и опрос учащихся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учение нового материал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ичная проверка усвое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репление новых знаний в ходе тренировочных упражнени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торение ранее изученного в виде бесед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 и оценка знаний учащихся; задание на дом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spcBef>
                <a:spcPts val="700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alibri"/>
              </a:rPr>
              <a:t>Структура урока в начальных класс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 этап. Организация класса (оргмом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I этап. Актуализация ранее усвоенных знаний и умений (повторе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II этап. Формирование новых знаний и умений (изучение нового материал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V этап. Применение полученных знаний и умений (решение учебных задач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V этап.  Рефлексия. Итог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Формы организаци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ронта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упповая (з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еньевая,дифференцированно-группова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00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Особенности организации коллективно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ый участник занятий попеременно выступает в своеобразной роли то «ученика», то «учител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лижайшая цель каждого участника занятий и «ученика» и «учителя» – учить всему тому, что он знает или изучает с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ятельность каждого участника занятий имеет отчетливо общественно полезную краску, так как он не только учится, но и постоянно обучает друг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ой принцип работы–все по очереди учат каждого и каждый все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ый отвечает не только за свои знания, но также за знания и успехи товарищей по учебной рабо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ное совпадение и единство коллективных и личных, индивидуальных интересов: чем лучше и больше я обучаю других, тем больше и лучше знаю с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279f"/>
                </a:solidFill>
                <a:latin typeface="Calibri"/>
              </a:rPr>
              <a:t>Требования к современному уро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Точное и творческое выполнение программно-методических требований к уроку; грамотное определение типа урока, его места в разделе, курсе, системе внутрикурсовых связей, видение особенностей каждого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Учет реальных учебных возможностей учащихся уровня их воспитанности, уровня сформированности классного коллектива, учет интересов, склонностей, потребностей и запросов учащихся; целенаправленность в ликвидации пробелов в знани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 Продумывание и решение в единстве задач образования, воспитания и развития; выделение важнейших, доминирующих задач урока, их конкретизация с учетом особенностей и возможностей коллекти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Выбор рациональной структуры и темпа проведения урока, обеспечивающих успешное решение поставленных задач и экономное использование времени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. Концентрация внимания учащихся на усвоении важнейших понятий, положений, выделение главного в содержании обучения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. Обеспечение практической направленности учебного процесса, создание реальных возможностей применения учащимися полученных знаний, умений и навыков, не допуская формального усвоения теоретических свед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c3294"/>
                </a:solidFill>
                <a:latin typeface="Calibri"/>
              </a:rPr>
              <a:t>Требования к современному уро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. Расширение арсенала выбора методов преимущественно за счет методов активного, проблемного обучения, которые способны активизировать познавательную деятельность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. Сочетание общеклассных форм работы на уроке с групповыми и индивидуальными, стремление к организации учебного труда как коллектив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. Формирование у всех учащихся осознанного и активного отношения к своей учебной деятельности, навыков рациональной организации учебного труда на уроке; использование воспитательных и развивающих возможнос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1. Общение с учащимися на основе сочетания высокой требовательности с уважением к личности школьника, опора в работе на классный коллектив, стремление добиваться действенного воспитательного влияния личности самого учите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2. Соблюдение благоприятных для работы на уроке гигиенических и эстетических услов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3. Определение содержания и объема домашних заданий, не допуская перегрузки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4. Четкое следование замыслу плана урока и одновременная готовность гибко перестраивать его ход при изменении учебных ситуац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Подготовка учителя к урок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Проектирование (обдумывание)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Определение темы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Определение целей урока (обучающая, развивающая, воспитательна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Отбор содержания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Определение типа и формы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  Выполнение всех заданий, отобранных к уро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 Выбор форм организации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8. Определение методических приемов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9. Определение наглядных пособий и средств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0. Описание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. Оснащение урока необходимыми средствами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Дополнительные формы организации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092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кур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кумы, практические занятия, предметные уро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полнительные зан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уль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Вспомогательные формы организации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32000" y="2174760"/>
            <a:ext cx="5184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акультати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нятия в круж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лубы по интерес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Классно-урочная система.</a:t>
            </a:r>
            <a:br>
              <a:rPr sz="2800"/>
            </a:br>
            <a:r>
              <a:rPr b="1" lang="ru-RU" sz="2800" spc="-1" strike="noStrike">
                <a:solidFill>
                  <a:srgbClr val="38279f"/>
                </a:solidFill>
                <a:latin typeface="Calibri"/>
              </a:rPr>
              <a:t>Преимущества урока  как  формы организации педагогического процесс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фронтальной,  групповой  и  индивидуальной  работ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зволяет учителю систематически и последовательно излагать материал,  управлять развитием познавательных способностей и формировать научное мировоззрение учащихс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имулирует другие виды деятельности школьников, в том числе внеклассную и домашню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ке  ученики овладевают не только системой знаний,  умений и навыков,  но и самими методами познавательной деятель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позволяет эффективно решать воспитательные задачи через содержание и методы педагогической деяте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c3294"/>
                </a:solidFill>
                <a:latin typeface="Calibri"/>
              </a:rPr>
              <a:t>У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 такая форма организации педагогического процесса,  при которой педагог в течение точно  установленного времени руководит коллективной познавательной и иной деятельностью постоянной группы учащихся (класса) с учетом особенностей  каждого  из них, используя виды, средства и методы работы, создающие благоприятные условия для того, чтобы все ученики овладевали  основами изучаемого предмета непосредственно в процессе обучения,  а также для воспитания и развития познавательных способностей и  духовных  сил школьник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Специфические признак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ая группа учащихся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ководство  деятельностью  школьников  с учетом особенностей каждого из них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владение основами изучаемого непосредственно на уро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Организационные основания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     Работают все и работает кажды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    Интересно мнение каждого и радуют успехи кажд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     Все благодарны каждому за его участие, и каждый благодарен всем за свое продвижение к знания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    Доверие к учителю как к руководителю групповой работы, но каждый имеет право на инициативное предлож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     Все и каждый имеют право высказать мнение относительно проведенного занят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Система организационных правил на уро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 Доводить педагогические требования до своего логического конц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Сопровождать педагогическое требование инструкцией, раскрывающей легкий способ исполнения требуемог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 Раскрывать положительную программу действий и избегать негативных требований, т.е. требований не делать чего-либ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Не предъявлять детям непосильных требова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Переакцентировать внимание детей с общего требования на его дета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Правила совместного общения на уро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     НЕ произносить резких, категоричных сужде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   НЕ подчеркивать интеллектуальное превосходство кого-либ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    НЕ пренебрегать мнением друг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   НЕ перебивать выступающего, но и самому быть лаконичным и четким в высказывания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   НЕ допускать фамильярности по отношению к кому-либ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     Отмечать индивидуально-ценностное в работе кажд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     Выражать благодарность в адрес присутствующ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уч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еленаправленность его деятельности на уроке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характер отношений с учащими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индивидуально-личностный подход к учащим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ифференцированный подход к обучению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умение педагога приводить в соответствие содержание учебного материала, методы обучения и формы ор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анизации познавательной деятельности уча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и развитию общеучебных навыков и умени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бота по развитию познавательного интерес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знаний, умений и навыков и вооружению учащихся способами познавательной деятельност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фокусированность усилий на формировании поняти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звитие общих способностей уча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бъективность оценки знаний учащихся, соединение использования оценки и отметк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эффективность усилий, развивающих личность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эффективность воспитывающих влия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 уча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6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ровень самостоятельности, самодеятельности учащихся на урок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тношение учащихся к учебному труд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тношение учащихся к предмету, к учителю, друг к друг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ъективная направленность деятельности учеников на образование и развитие своей лич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личие у учащихся познавательного интере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оспитательная и развивающая подвижка личности, возникшая в ходе уро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 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знание учениками фактического материала и уровень его усво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5:36:49Z</dcterms:created>
  <dc:creator>Федотова Виктория Александровна</dc:creator>
  <dc:description/>
  <dc:language>en-US</dc:language>
  <cp:lastModifiedBy>LEGION</cp:lastModifiedBy>
  <dcterms:modified xsi:type="dcterms:W3CDTF">2015-01-26T13:59:18Z</dcterms:modified>
  <cp:revision>15</cp:revision>
  <dc:subject/>
  <dc:title>Слайд 1</dc:title>
</cp:coreProperties>
</file>