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D078-984F-4E35-AC5E-722697A33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297C-AF2C-4D95-8136-D0F883E685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0790-7477-4346-99ED-EB9C06868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0443-D7CA-4A82-AF07-11C3A60DC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C58F-5694-43DA-8C4F-FE6960C72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6F20-82E1-42F8-826E-568979CB72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1C1E-4EA5-4BA3-ACA0-293308962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E0B40-AC52-4E8C-90B3-9D3D498C19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07B6-4D00-436C-AAF5-43298EF577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800E-9117-47AF-96AA-E6B9E901E4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436F-F6B9-41AB-B3F5-77ECBF98E9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F81B-E927-4470-8D88-08EEA1F9F0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1400"/>
            </a:br>
            <a:r>
              <a:rPr b="1" lang="ru-RU" sz="14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805A-4A68-4F09-BFE8-FCA3F9BEC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BD09-B79D-4476-8AC2-39B0AC4FE8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0804-3D5F-4165-AF09-430B90946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D2FB-08BC-4BE4-9B43-2D6333507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A0B8-CD08-404B-AD15-9512D08614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3D45-5F80-4BD7-BF11-F22C4E284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70D1-99F4-4CCC-8B67-14BBFA243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D5A7-A278-4B82-9B28-91604FB41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1CE-ECAB-446E-954E-DC09EB68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8B03-0708-49BC-A650-96A3950B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435-5332-4D0E-85AE-D6256FD3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13E-7A75-4B3B-B076-FFAD4D93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3A2A-76FD-4094-B0B1-9E03424F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7A6E-A173-46FF-AF95-A2900E71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1086-89BA-46EF-9435-11911B69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C823-8DFB-4E2A-BC8B-A1E9C1F4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A27-7583-4C27-85E4-B9EC59C9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9594-77CE-4127-8379-A68D0A47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657B-F5C7-4556-A40A-A20BF925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FFAB-DAEE-4A2E-8CBD-1C6F7CC2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6E2A-B478-4871-876F-D6998F1C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5DD3-CD1F-40C6-AEE8-219F33EB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5603-3A50-4596-960F-BD571946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0220-1067-4347-99BE-438E23D1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9D84-2CF7-4636-B071-3B51F4E1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601-6A27-427C-8F42-DBEDE762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37B-B748-477C-AAEB-C6208F35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D9F-1840-4F73-AD56-7A0C4432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1639-9B8D-4598-8A7D-B98E8DDC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B2CE-63BE-4C4A-82F4-9B274513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CC1B-331B-404B-84BB-B6156B50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605-1C82-4957-97DE-F373BB82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3F7-8E5D-4A51-AE2E-66AE8174AB7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7C7A-34CF-4B89-AC3F-44C6A5DD2F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6A59-AA42-45DD-8C2B-2A3B6534531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E02C-14F0-41F5-95A5-18C38336D9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08000" y="4149720"/>
            <a:ext cx="4978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Documents and Settings\Admin\Рабочий стол\для шаблонов\цветы\Безимени-1пп.gif"/>
          <p:cNvPicPr/>
          <p:nvPr/>
        </p:nvPicPr>
        <p:blipFill>
          <a:blip r:embed="rId1"/>
          <a:stretch/>
        </p:blipFill>
        <p:spPr>
          <a:xfrm>
            <a:off x="0" y="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2174760"/>
            <a:ext cx="5184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2800"/>
            </a:b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LEGION</cp:lastModifiedBy>
  <dcterms:modified xsi:type="dcterms:W3CDTF">2015-01-26T13:59:18Z</dcterms:modified>
  <cp:revision>15</cp:revision>
  <dc:subject/>
  <dc:title>Слайд 1</dc:title>
</cp:coreProperties>
</file>