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8A98-C17B-4DEC-B59C-E3DB7CA590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урок в начальной школе в условиях ФГ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лавская Е.Г.- учитель начальных классов первой квалификационной категории МБОУСОШ№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35CD-7739-476E-B595-7A11B2F0A0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80"/>
                </a:solidFill>
                <a:latin typeface="Calibri"/>
              </a:rPr>
              <a:t>Типология урок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ознакомления учащихся с новым материалом или сообщения  (изучения) новых зна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закрепления зна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выработки и закрепления умений и навы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обобщения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проверки знаний, умений и навыков (контрольные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9234-6F88-4DF1-90C4-EAEBB4DE2D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Calibri"/>
              </a:rPr>
              <a:t>Комбинированный уро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омашней работы и опрос учащихся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нового материал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ая проверка усво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ение новых знаний в ходе тренировочных упражн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торение ранее изученного в виде бесед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и оценка знаний учащихся; задание на дом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E412-E1AF-41B0-9AD9-DBFE315DA5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Calibri"/>
              </a:rPr>
              <a:t>Структура урока в начальных класса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I этап. Организация класса (оргмомен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II этап. Актуализация ранее усвоенных знаний и умений (повтор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III этап. Формирование новых знаний и умений (изучение нового материа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IV этап. Применение полученных знаний и умений (решение учебных задач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V этап.  Рефлексия. Итог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CBB1-F9CE-4B8E-9D09-9B55035CC2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Calibri"/>
              </a:rPr>
              <a:t>Формы организации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ронта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упповая (з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веньевая,дифференцированно-группова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ивидуальная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74CF-E7BB-44A1-B086-86C2240C6A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Calibri"/>
              </a:rPr>
              <a:t>Особенности организации коллективной работ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участник занятий попеременно выступает в своеобразной роли то «ученика», то «учител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ижайшая цель каждого участника занятий и «ученика» и «учителя» – учить всему тому, что он знает или изучает 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каждого участника занятий имеет отчетливо общественно полезную краску, так как он не только учится, но и постоянно обучает друг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принцип работы–все по очереди учат каждого и каждый все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отвечает не только за свои знания, но также за знания и успехи товарищей по учебной рабо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е совпадение и единство коллективных и личных, индивидуальных интересов: чем лучше и больше я обучаю других, тем больше и лучше знаю 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A444-6688-4328-AA6A-6776ED328B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8279f"/>
                </a:solidFill>
                <a:latin typeface="Calibri"/>
              </a:rPr>
              <a:t>Требования к современному уро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Точное и творческое выполнение программно-методических требований к уроку; грамотное определение типа урока, его места в разделе, курсе, системе внутрикурсовых связей, видение особенностей каждого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Учет реальных учебных возможностей учащихся уровня их воспитанности, уровня сформированности классного коллектива, учет интересов, склонностей, потребностей и запросов учащихся; целенаправленность в ликвидации пробелов в зна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Продумывание и решение в единстве задач образования, воспитания и развития; выделение важнейших, доминирующих задач урока, их конкретизация с учетом особенностей и возможностей коллекти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Выбор рациональной структуры и темпа проведения урока, обеспечивающих успешное решение поставленных задач и экономное использование времени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Концентрация внимания учащихся на усвоении важнейших понятий, положений, выделение главного в содержании обучения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. Обеспечение практической направленности учебного процесса, создание реальных возможностей применения учащимися полученных знаний, умений и навыков, не допуская формального усвоения теоретических све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E06D-A945-4F4F-94C9-4BC93BD06E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c3294"/>
                </a:solidFill>
                <a:latin typeface="Calibri"/>
              </a:rPr>
              <a:t>Требования к современному уро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. Расширение арсенала выбора методов преимущественно за счет методов активного, проблемного обучения, которые способны активизировать познавательную деятельность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8. Сочетание общеклассных форм работы на уроке с групповыми и индивидуальными, стремление к организации учебного труда как коллектив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9. Формирование у всех учащихся осознанного и активного отношения к своей учебной деятельности, навыков рациональной организации учебного труда на уроке; использование воспитательных и развивающих возмож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1. Общение с учащимися на основе сочетания высокой требовательности с уважением к личности школьника, опора в работе на классный коллектив, стремление добиваться действенного воспитательного влияния личности самого уч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2. Соблюдение благоприятных для работы на уроке гигиенических и эстетических усло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3. Определение содержания и объема домашних заданий, не допуская перегрузки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4. Четкое следование замыслу плана урока и одновременная готовность гибко перестраивать его ход при изменении учебных ситуа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5AE2-6C6C-40BF-9726-A60DAA69C5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80"/>
                </a:solidFill>
                <a:latin typeface="Calibri"/>
              </a:rPr>
              <a:t>Подготовка учителя к уроку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Проектирование (обдумывание)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Определение темы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Определение целей урока (обучающая, развивающая, воспитательн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Отбор содержания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Определение типа и формы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.  Выполнение всех заданий, отобранных к уро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. Выбор форм организации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8. Определение методических приемов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9. Определение наглядных пособий и средств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0. Описание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1. Оснащение урока необходимыми средствами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4B4D-126D-4DB8-B9C7-EDEDEDE1AF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Calibri"/>
              </a:rPr>
              <a:t>Дополнительные формы организаци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кур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кумы, практические занятия, предметные ур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ые за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8CD1-603B-4642-8962-2A5C18C8E8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80"/>
                </a:solidFill>
                <a:latin typeface="Calibri"/>
              </a:rPr>
              <a:t>Вспомогательные формы организации урока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ульта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нятия в круж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убы по интере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FB62-E90A-4CDC-9E33-F75D3C6FF2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Calibri"/>
              </a:rPr>
              <a:t>Классно-урочная система.</a:t>
            </a:r>
            <a:br>
              <a:rPr sz="1400"/>
            </a:br>
            <a:r>
              <a:rPr b="1" lang="ru-RU" sz="1400" spc="-1" strike="noStrike">
                <a:solidFill>
                  <a:srgbClr val="38279f"/>
                </a:solidFill>
                <a:latin typeface="Calibri"/>
              </a:rPr>
              <a:t>Преимущества урока  как  формы организации педагогического процесса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четание фронтальной,  групповой  и  индивидуальной  рабо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воляет учителю систематически и последовательно излагать материал,  управлять развитием познавательных способностей и формировать научное мировоззрение учащих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имулирует другие виды деятельности школьников, в том числе внеклассную и домашню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уроке  ученики овладевают не только системой знаний,  умений и навыков,  но и самими методами познавательной деятель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позволяет эффективно решать воспитательные задачи через содержание и методы педагогической дея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9A15-3EE4-4F8A-9C01-4868FF994D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c3294"/>
                </a:solidFill>
                <a:latin typeface="Calibri"/>
              </a:rPr>
              <a:t>У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-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такая форма организации педагогического процесса,  при которой педагог в течение точно  установленного времени руководит коллективной познавательной и иной деятельностью постоянной группы учащихся (класса) с учетом особенностей  каждого  из них, используя виды, средства и методы работы, создающие благоприятные условия для того, чтобы все ученики овладевали  основами изучаемого предмета непосредственно в процессе обучения,  а также для воспитания и развития познавательных способностей и  духовных  сил школьни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006A-3B5F-4C2A-8EA9-69C99D0482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Calibri"/>
              </a:rPr>
              <a:t>Специфические признак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ая группа учащихся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ство  деятельностью  школьников  с учетом особенностей каждого из ни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ладение основами изучаемого непосредственно на уро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B200-9CD7-43F3-AE80-2794358708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Calibri"/>
              </a:rPr>
              <a:t>Организационные основания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     Работают все и работает кажд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      Интересно мнение каждого и радуют успехи кажд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      Все благодарны каждому за его участие, и каждый благодарен всем за свое продвижение к знан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      Доверие к учителю как к руководителю групповой работы, но каждый имеет право на инициативное предлож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       Все и каждый имеют право высказать мнение относительно проведенного заня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3A87-9E26-4791-9ECA-0F387C38E1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Calibri"/>
              </a:rPr>
              <a:t>Система организационных правил на уро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 Доводить педагогические требования до своего логического кон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  Сопровождать педагогическое требование инструкцией, раскрывающей легкий способ исполнения требуем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  Раскрывать положительную программу действий и избегать негативных требований, т.е. требований не делать чего-либ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  Не предъявлять детям непосильных требо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  Переакцентировать внимание детей с общего требования на его дета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1143-6E32-4F3D-88AB-1902505C04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Calibri"/>
              </a:rPr>
              <a:t>Правила совместного общения на уро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     НЕ произносить резких, категоричных сужде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     НЕ подчеркивать интеллектуальное превосходство кого-либ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     НЕ пренебрегать мнением друг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     НЕ перебивать выступающего, но и самому быть лаконичным и четким в высказывания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     НЕ допускать фамильярности по отношению к кому-либ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.     Отмечать индивидуально-ценностное в работе кажд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.     Выражать благодарность в адрес присутствующ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A0F8-2D69-4458-A67B-0B9EF75904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80"/>
                </a:solidFill>
                <a:latin typeface="Calibri"/>
              </a:rPr>
              <a:t>Характеристики качественной работы учител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еленаправленность его деятельности на урок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характер отношений с учащими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индивидуально-личностный подход к учащим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дифференцированный подход к обучени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умение педагога приводить в соответствие содержание учебного материала, методы обучения и формы ор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анизации познавательной деятельности учащих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работа учителя по формированию и развитию общеучебных навыков и ум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работа по развитию познавательного интере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работа учителя по формированию знаний, умений и навыков и вооружению учащихся способами познавательной деятель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сфокусированность усилий на формировании понят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развитие общих способностей учащих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объективность оценки знаний учащихся, соединение использования оценки и отмет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эффективность усилий, развивающих лич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эффективность воспитывающих влия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9D1F-9205-4887-88D8-9AA75B1C34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Calibri"/>
              </a:rPr>
              <a:t>Характеристики качественной работы  учащего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уровень самостоятельности, самодеятельности учащихся на урок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отношение учащихся к учебному труд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отношение учащихся к предмету, к учителю, друг к друг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объективная направленность деятельности учеников на образование и развитие своей лич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наличие у учащихся познавательного интере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воспитательная и развивающая подвижка личности, возникшая в ходе уро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 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знание учениками фактического материала и уровень его усво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2C51-D331-497F-AD1B-1110A88F6B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501A-E19E-4E4F-A562-D18A57422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15AD-40AB-4265-9CC7-D4DFF4FD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9AA7-CE78-467D-A795-B97017FA0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3E8F-C2AE-4BFC-BB64-567C0F1C2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91F8-ED8B-487E-A854-8EE592A37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6C95-2CEC-46B8-A742-38537FA5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C8AE-3F2E-452B-ACCF-CF31CC9A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C968-41FA-4616-9026-F66B9E42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1E87-7FE3-4E66-98B6-3AD82FC7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7B5D-F903-4646-A688-FF94725E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74FC-A7B7-4528-B22B-B0F3E076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8419-5DBE-4C12-8AFA-EE4D062E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3C3A0-E674-4E9A-8D7B-02FEF2E5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08D3-43F7-49BC-8554-82DDF049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5523-E8E8-469E-AB57-ECC19A4B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DFB99-931D-43CA-9495-0FD4D63D4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7B1C8-D511-4675-AB43-811E697D1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36B6-70FD-48BB-A175-44CB80CB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A2A3-0B15-4F62-BB41-1C39A484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966C-575C-45E3-909F-406298A3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4427-88E4-45A2-B01C-3A227CA2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8DAF-2E15-4BF2-B660-1FAD5243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B329-80B1-4E58-96F2-CB8A49D2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304F-6FF5-42FD-AA92-FE99DAE9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5AB3-9377-4F9A-A1C5-706B31855E9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D415-9087-4AF8-82E6-F3F51AA0E4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C:\Documents and Settings\Admin\Рабочий стол\для шаблонов\цветы\Безимени-1пп.gif"/>
          <p:cNvPicPr/>
          <p:nvPr/>
        </p:nvPicPr>
        <p:blipFill>
          <a:blip r:embed="rId2"/>
          <a:stretch/>
        </p:blipFill>
        <p:spPr>
          <a:xfrm>
            <a:off x="6380280" y="4500720"/>
            <a:ext cx="2763720" cy="21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Documents and Settings\Admin\Рабочий стол\для шаблонов\цветы\Безимени-1пп.gif"/>
          <p:cNvPicPr/>
          <p:nvPr/>
        </p:nvPicPr>
        <p:blipFill>
          <a:blip r:embed="rId2"/>
          <a:stretch/>
        </p:blipFill>
        <p:spPr>
          <a:xfrm>
            <a:off x="6380280" y="4500720"/>
            <a:ext cx="2763720" cy="217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Documents and Settings\Admin\Рабочий стол\для шаблонов\цветы\коричнев.gif"/>
          <p:cNvPicPr/>
          <p:nvPr/>
        </p:nvPicPr>
        <p:blipFill>
          <a:blip r:embed="rId3"/>
          <a:stretch/>
        </p:blipFill>
        <p:spPr>
          <a:xfrm>
            <a:off x="7215120" y="6551640"/>
            <a:ext cx="90972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C895-4BB0-4DC3-9ADD-4DDEF12C8F4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1DEF-87DB-44DA-AA26-8D6748D498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02920" y="177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временный урок в начальной школе в условиях ФГ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708000" y="4149720"/>
            <a:ext cx="4978440" cy="19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плавская Е.Г.- учитель начальных классов первой квалификационной категории МБОУСОШ№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C:\Documents and Settings\Admin\Рабочий стол\для шаблонов\цветы\Безимени-1пп.gif"/>
          <p:cNvPicPr/>
          <p:nvPr/>
        </p:nvPicPr>
        <p:blipFill>
          <a:blip r:embed="rId1"/>
          <a:stretch/>
        </p:blipFill>
        <p:spPr>
          <a:xfrm>
            <a:off x="0" y="0"/>
            <a:ext cx="5500800" cy="43340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Calibri"/>
              </a:rPr>
              <a:t>Типология уро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14000" indent="-31248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ознакомления учащихся с новым материалом или сообщения  (изучения) новых знан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закрепления знан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выработки и закрепления умений и навык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обобщения зна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проверки знаний, умений и навыков (контрольные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Calibri"/>
              </a:rPr>
              <a:t>Комбинированный ур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ка домашней работы и опрос учащихся;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учение нового материала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вичная проверка усвоени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репление новых знаний в ходе тренировочных упражнений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вторение ранее изученного в виде беседы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ка и оценка знаний учащихся; задание на дом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spcBef>
                <a:spcPts val="700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Calibri"/>
              </a:rPr>
              <a:t>Структура урока в начальных класса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I этап. Организация класса (оргмомен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II этап. Актуализация ранее усвоенных знаний и умений (повторени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III этап. Формирование новых знаний и умений (изучение нового материал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IV этап. Применение полученных знаний и умений (решение учебных задач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V этап.  Рефлексия. Итог ур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Calibri"/>
              </a:rPr>
              <a:t>Формы организации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125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3222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ронталь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601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рупповая (з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веньевая,дифференцированно-групповая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601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дивидуальная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00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Calibri"/>
              </a:rPr>
              <a:t>Особенности организации коллективной рабо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96720" indent="-29952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ждый участник занятий попеременно выступает в своеобразной роли то «ученика», то «учител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29952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лижайшая цель каждого участника занятий и «ученика» и «учителя» – учить всему тому, что он знает или изучает с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29952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ятельность каждого участника занятий имеет отчетливо общественно полезную краску, так как он не только учится, но и постоянно обучает друг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29952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новной принцип работы–все по очереди учат каждого и каждый все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29952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ждый отвечает не только за свои знания, но также за знания и успехи товарищей по учебной рабо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29952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ное совпадение и единство коллективных и личных, индивидуальных интересов: чем лучше и больше я обучаю других, тем больше и лучше знаю с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299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8279f"/>
                </a:solidFill>
                <a:latin typeface="Calibri"/>
              </a:rPr>
              <a:t>Требования к современному уро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620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. Точное и творческое выполнение программно-методических требований к уроку; грамотное определение типа урока, его места в разделе, курсе, системе внутрикурсовых связей, видение особенностей каждого уро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. Учет реальных учебных возможностей учащихся уровня их воспитанности, уровня сформированности классного коллектива, учет интересов, склонностей, потребностей и запросов учащихся; целенаправленность в ликвидации пробелов в знания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. Продумывание и решение в единстве задач образования, воспитания и развития; выделение важнейших, доминирующих задач урока, их конкретизация с учетом особенностей и возможностей коллекти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. Выбор рациональной структуры и темпа проведения урока, обеспечивающих успешное решение поставленных задач и экономное использование времени уро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. Концентрация внимания учащихся на усвоении важнейших понятий, положений, выделение главного в содержании обучения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6. Обеспечение практической направленности учебного процесса, создание реальных возможностей применения учащимися полученных знаний, умений и навыков, не допуская формального усвоения теоретических сведе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c3294"/>
                </a:solidFill>
                <a:latin typeface="Calibri"/>
              </a:rPr>
              <a:t>Требования к современному уро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7. Расширение арсенала выбора методов преимущественно за счет методов активного, проблемного обучения, которые способны активизировать познавательную деятельность учащих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8. Сочетание общеклассных форм работы на уроке с групповыми и индивидуальными, стремление к организации учебного труда как коллективной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9. Формирование у всех учащихся осознанного и активного отношения к своей учебной деятельности, навыков рациональной организации учебного труда на уроке; использование воспитательных и развивающих возможност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1. Общение с учащимися на основе сочетания высокой требовательности с уважением к личности школьника, опора в работе на классный коллектив, стремление добиваться действенного воспитательного влияния личности самого учител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2. Соблюдение благоприятных для работы на уроке гигиенических и эстетических услов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3. Определение содержания и объема домашних заданий, не допуская перегрузки учащих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4. Четкое следование замыслу плана урока и одновременная готовность гибко перестраивать его ход при изменении учебных ситуаци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Calibri"/>
              </a:rPr>
              <a:t>Подготовка учителя к урок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Проектирование (обдумывание)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Определение темы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 Определение целей урока (обучающая, развивающая, воспитательна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 Отбор содержания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 Определение типа и формы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6.  Выполнение всех заданий, отобранных к уро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7. Выбор форм организации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8. Определение методических приемов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9. Определение наглядных пособий и средств обу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0. Описание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1. Оснащение урока необходимыми средствами обу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Calibri"/>
              </a:rPr>
              <a:t>Дополнительные формы организации уро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5092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кскурс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ктикумы, практические занятия, предметные уро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полнительные зан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сульт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Calibri"/>
              </a:rPr>
              <a:t>Вспомогательные формы организации урок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332000" y="2174760"/>
            <a:ext cx="5184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акультатив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нятия в кружк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лубы по интерес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Calibri"/>
              </a:rPr>
              <a:t>Классно-урочная система.</a:t>
            </a:r>
            <a:br>
              <a:rPr sz="2800"/>
            </a:br>
            <a:r>
              <a:rPr b="1" lang="ru-RU" sz="2800" spc="-1" strike="noStrike">
                <a:solidFill>
                  <a:srgbClr val="38279f"/>
                </a:solidFill>
                <a:latin typeface="Calibri"/>
              </a:rPr>
              <a:t>Преимущества урока  как  формы организации педагогического процесс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6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четание фронтальной,  групповой  и  индивидуальной  работ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зволяет учителю систематически и последовательно излагать материал,  управлять развитием познавательных способностей и формировать научное мировоззрение учащихс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тимулирует другие виды деятельности школьников, в том числе внеклассную и домашнюю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уроке  ученики овладевают не только системой знаний,  умений и навыков,  но и самими методами познавательной деятельност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позволяет эффективно решать воспитательные задачи через содержание и методы педагогической деятельнос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c3294"/>
                </a:solidFill>
                <a:latin typeface="Calibri"/>
              </a:rPr>
              <a:t>Ур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-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то такая форма организации педагогического процесса,  при которой педагог в течение точно  установленного времени руководит коллективной познавательной и иной деятельностью постоянной группы учащихся (класса) с учетом особенностей  каждого  из них, используя виды, средства и методы работы, создающие благоприятные условия для того, чтобы все ученики овладевали  основами изучаемого предмета непосредственно в процессе обучения,  а также для воспитания и развития познавательных способностей и  духовных  сил школьнико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Calibri"/>
              </a:rPr>
              <a:t>Специфические признак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322200" algn="just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 algn="just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оянная группа учащихся;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 algn="just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уководство  деятельностью  школьников  с учетом особенностей каждого из них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 algn="just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владение основами изучаемого непосредственно на урок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Calibri"/>
              </a:rPr>
              <a:t>Организационные основания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     Работают все и работает кажды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      Интересно мнение каждого и радуют успехи каждо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      Все благодарны каждому за его участие, и каждый благодарен всем за свое продвижение к знания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      Доверие к учителю как к руководителю групповой работы, но каждый имеет право на инициативное предложени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       Все и каждый имеют право высказать мнение относительно проведенного занят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Calibri"/>
              </a:rPr>
              <a:t>Система организационных правил на урок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 Доводить педагогические требования до своего логического конц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  Сопровождать педагогическое требование инструкцией, раскрывающей легкий способ исполнения требуемог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  Раскрывать положительную программу действий и избегать негативных требований, т.е. требований не делать чего-либ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  Не предъявлять детям непосильных требовани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  Переакцентировать внимание детей с общего требования на его детал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Calibri"/>
              </a:rPr>
              <a:t>Правила совместного общения на урок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48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     НЕ произносить резких, категоричных сужден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48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     НЕ подчеркивать интеллектуальное превосходство кого-либ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48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     НЕ пренебрегать мнением други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48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     НЕ перебивать выступающего, но и самому быть лаконичным и четким в высказывания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48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     НЕ допускать фамильярности по отношению к кому-либ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48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6.     Отмечать индивидуально-ценностное в работе каждог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48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7.     Выражать благодарность в адрес присутствующ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4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Calibri"/>
              </a:rPr>
              <a:t>Характеристики качественной работы учите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29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еленаправленность его деятельности на уроке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характер отношений с учащимис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индивидуально-личностный подход к учащимс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дифференцированный подход к обучению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умение педагога приводить в соответствие содержание учебного материала, методы обучения и формы ор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анизации познавательной деятельности учащихс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абота учителя по формированию и развитию общеучебных навыков и умений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абота по развитию познавательного интереса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абота учителя по формированию знаний, умений и навыков и вооружению учащихся способами познавательной деятельности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сфокусированность усилий на формировании понятий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азвитие общих способностей учащихс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объективность оценки знаний учащихся, соединение использования оценки и отметки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эффективность усилий, развивающих личность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эффективность воспитывающих влияни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Calibri"/>
              </a:rPr>
              <a:t>Характеристики качественной работы  учащего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6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уровень самостоятельности, самодеятельности учащихся на уроке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6160"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тношение учащихся к учебному труду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6160"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тношение учащихся к предмету, к учителю, друг к другу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6160"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бъективная направленность деятельности учеников на образование и развитие своей лич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6160"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аличие у учащихся познавательного интерес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6160"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оспитательная и развивающая подвижка личности, возникшая в ходе уро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6160"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    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знание учениками фактического материала и уровень его усво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6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8T15:36:49Z</dcterms:created>
  <dc:creator>Федотова Виктория Александровна</dc:creator>
  <dc:description/>
  <dc:language>en-US</dc:language>
  <cp:lastModifiedBy>LEGION</cp:lastModifiedBy>
  <dcterms:modified xsi:type="dcterms:W3CDTF">2015-01-26T13:59:18Z</dcterms:modified>
  <cp:revision>15</cp:revision>
  <dc:subject/>
  <dc:title>Слайд 1</dc:title>
</cp:coreProperties>
</file>