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29F26-C9B4-415A-9FDF-081AB28734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9953-66AC-4CE2-BCDB-CFA2BC7DFD2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E389-E7C8-42E4-9644-F32E0DC216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B608-033C-4654-B179-D628513729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21C-30CD-4D46-8A3B-A3490DE1A1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7C2D-51E6-453C-8A85-DE62F8164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774A-9826-4034-81B7-E5E2DFA7E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14A7-5140-4CB1-AEAB-DDB141C323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D18A-D052-44BC-ADA6-761D9E626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0FBB8-767C-4F1E-933C-85541B125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D9D9-98EE-411B-9E6D-E8E063A7AE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F16A-3D23-4642-8EE2-04331C8DCB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1400"/>
            </a:br>
            <a:r>
              <a:rPr b="1" lang="ru-RU" sz="14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5C0C-C838-4B3A-875C-1B7348F864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A97D-B84B-4A0D-BABD-AC5A84A0CE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187A-35EA-41A4-A566-5316A7020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747D-39DD-4118-9A6C-B5B2B754350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4FAB-14AF-4A91-AFCD-FAEBBC7BD8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D1A-0E0B-492C-8A66-8A4F210960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D6E2-E971-49CC-9935-3B0BF434EC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C380C-999D-43B4-8E0F-321DE7D0A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1E1-4242-40A5-89A5-F9B773DFC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E632-3B20-412B-AC91-518CD56D1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0BA-8321-43E6-9E81-C01D4968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F48-416E-445F-9F2B-963CCE27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648D9-C332-4EFC-A1F3-B1FF6860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AD73-63BC-4568-8C5B-BAE793AA6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044E6-76CE-4749-B532-0B3AB3EB3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2786-6551-4246-8358-3A5AD26D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A8F8-2E23-4969-8E76-A749BA504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BEACC-CE32-48E4-B69A-7DC5236F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8C48-1E1B-4C32-A0B6-0D5FCF0F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2441-483B-47DA-A891-C7D1702E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E783-CDC0-4BFC-B9AC-986F15E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ECEB-635F-40A3-AF82-2AEF06A0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2A4E-AB0F-441E-BAFC-568213C1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7DBE-6FA7-4CCB-B7F2-DEE07ED0E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3698C-C0EC-4787-8519-15FA6A144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0B97-E8D2-430E-AE11-55A5E72EB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B5E2-B6EF-4334-9C2A-2863AF7C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7F3-8B40-48E4-A91B-AEFB6DCE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9FC2-F9FB-4D77-AA1E-A1B00B611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4EC3-B90B-4173-9EE3-49640A4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977A-31A4-4FAC-82EE-9D304482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A7DB-715B-4064-9748-F59EF5EFA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E3CE-5A2F-46A9-AEDA-D11C597FCDE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A14B0-E2A6-4229-8F00-6FA1BF89E7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Admin\Рабочий стол\для шаблонов\цветы\Безимени-1пп.gif"/>
          <p:cNvPicPr/>
          <p:nvPr/>
        </p:nvPicPr>
        <p:blipFill>
          <a:blip r:embed="rId2"/>
          <a:stretch/>
        </p:blipFill>
        <p:spPr>
          <a:xfrm>
            <a:off x="6380280" y="4500720"/>
            <a:ext cx="2763720" cy="217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C:\Documents and Settings\Admin\Рабочий стол\для шаблонов\цветы\коричнев.gif"/>
          <p:cNvPicPr/>
          <p:nvPr/>
        </p:nvPicPr>
        <p:blipFill>
          <a:blip r:embed="rId3"/>
          <a:stretch/>
        </p:blipFill>
        <p:spPr>
          <a:xfrm>
            <a:off x="7215120" y="6551640"/>
            <a:ext cx="90972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9EF45-B439-482C-B169-9E3A160F7AF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69B0-F91F-4800-A64E-5301A863E91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2920" y="177300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ременный урок в начальной школе в условиях ФГО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708000" y="4149720"/>
            <a:ext cx="4978440" cy="19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плавская Е.Г.- учитель начальных классов первой квалификационной категории МБОУСОШ№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C:\Documents and Settings\Admin\Рабочий стол\для шаблонов\цветы\Безимени-1пп.gif"/>
          <p:cNvPicPr/>
          <p:nvPr/>
        </p:nvPicPr>
        <p:blipFill>
          <a:blip r:embed="rId1"/>
          <a:stretch/>
        </p:blipFill>
        <p:spPr>
          <a:xfrm>
            <a:off x="0" y="0"/>
            <a:ext cx="5500800" cy="4334040"/>
          </a:xfrm>
          <a:prstGeom prst="rect">
            <a:avLst/>
          </a:prstGeom>
          <a:ln w="0">
            <a:noFill/>
          </a:ln>
        </p:spPr>
      </p:pic>
      <p:sp>
        <p:nvSpPr>
          <p:cNvPr id="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Типология уро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знакомления учащихся с новым материалом или сообщения  (изучения) новых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закрепления зна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выработки и закрепления умений и навыко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обобщения зн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роверки знаний, умений и навыков (контрольные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4000" indent="-312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Комбинированный ур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домашней работы и опрос учащихс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учение нового материала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ичная проверка усвое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крепление новых знаний в ходе тренировочных упражнений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вторение ранее изученного в виде беседы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верка и оценка знаний учащихся; задание на дом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01040" indent="-30276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alibri"/>
              </a:rPr>
              <a:t>Структура урока в начальных класса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 этап. Организация класса (оргмомен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 этап. Актуализация ранее усвоенных знаний и умений (повторение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II этап. Формирование новых знаний и умений (изучение нового материал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IV этап. Применение полученных знаний и умений (решение учебных задач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V этап.  Рефлексия. Итог уро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Формы организации уро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24000" y="1125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ронта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рупповая (з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еньевая,дифференцированно-групповая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Индивидуальная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00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Особенности организации коллективной рабо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участник занятий попеременно выступает в своеобразной роли то «ученика», то «учител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лижайшая цель каждого участника занятий и «ученика» и «учителя» – учить всему тому, что он знает или изучает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еятельность каждого участника занятий имеет отчетливо общественно полезную краску, так как он не только учится, но и постоянно обучает друг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ой принцип работы–все по очереди учат каждого и каждый все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ждый отвечает не только за свои знания, но также за знания и успехи товарищей по учебной работ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ное совпадение и единство коллективных и личных, индивидуальных интересов: чем лучше и больше я обучаю других, тем больше и лучше знаю с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96720" indent="-299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62028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Точное и творческое выполнение программно-методических требований к уроку; грамотное определение типа урока, его места в разделе, курсе, системе внутрикурсовых связей, видение особенностей каждого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Учет реальных учебных возможностей учащихся уровня их воспитанности, уровня сформированности классного коллектива, учет интересов, склонностей, потребностей и запросов учащихся; целенаправленность в ликвидации пробелов в знани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Продумывание и решение в единстве задач образования, воспитания и развития; выделение важнейших, доминирующих задач урока, их конкретизация с учетом особенностей и возможностей коллекти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Выбор рациональной структуры и темпа проведения урока, обеспечивающих успешное решение поставленных задач и экономное использование времени уро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Концентрация внимания учащихся на усвоении важнейших понятий, положений, выделение главного в содержании обучения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Обеспечение практической направленности учебного процесса, создание реальных возможностей применения учащимися полученных знаний, умений и навыков, не допуская формального усвоения теоретических свед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c3294"/>
                </a:solidFill>
                <a:latin typeface="Calibri"/>
              </a:rPr>
              <a:t>Требования к современному урок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Расширение арсенала выбора методов преимущественно за счет методов активного, проблемного обучения, которые способны активизировать познавательную деятельность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 Сочетание общеклассных форм работы на уроке с групповыми и индивидуальными, стремление к организации учебного труда как коллектив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. Формирование у всех учащихся осознанного и активного отношения к своей учебной деятельности, навыков рациональной организации учебного труда на уроке; использование воспитательных и развивающих возможнос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1. Общение с учащимися на основе сочетания высокой требовательности с уважением к личности школьника, опора в работе на классный коллектив, стремление добиваться действенного воспитательного влияния личности самого учител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2. Соблюдение благоприятных для работы на уроке гигиенических и эстетических услов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3. Определение содержания и объема домашних заданий, не допуская перегрузки учащихс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4. Четкое следование замыслу плана урока и одновременная готовность гибко перестраивать его ход при изменении учебных ситуац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Подготовка учителя к уроку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Проектирование (обдумывание)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Определение те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 Определение целей урока (обучающая, развивающая, воспитательная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 Отбор содержания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 Определение типа и формы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  Выполнение всех заданий, отобранных к уро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 Выбор форм организации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8. Определение методических приемов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9. Определение наглядных пособий и средств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0. Описание у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1. Оснащение урока необходимыми средствами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0040" indent="-302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80"/>
                </a:solidFill>
                <a:latin typeface="Calibri"/>
              </a:rPr>
              <a:t>Дополнительные формы организации уро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5092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скурс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актикумы, практические занятия, предметные уро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ые зан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сульта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Вспомогательные формы организации урок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332000" y="2174760"/>
            <a:ext cx="5184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Факультати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нятия в кружк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tabLst>
                <a:tab algn="l" pos="0"/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лубы по интерес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Классно-урочная система.</a:t>
            </a:r>
            <a:br>
              <a:rPr sz="2800"/>
            </a:br>
            <a:r>
              <a:rPr b="1" lang="ru-RU" sz="2800" spc="-1" strike="noStrike">
                <a:solidFill>
                  <a:srgbClr val="38279f"/>
                </a:solidFill>
                <a:latin typeface="Calibri"/>
              </a:rPr>
              <a:t>Преимущества урока  как  формы организации педагогического процесса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четание фронтальной,  групповой  и  индивидуальной  работы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зволяет учителю систематически и последовательно излагать материал,  управлять развитием познавательных способностей и формировать научное мировоззрение учащихся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тимулирует другие виды деятельности школьников, в том числе внеклассную и домашнюю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е  ученики овладевают не только системой знаний,  умений и навыков,  но и самими методами познавательной деятельности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рок позволяет эффективно решать воспитательные задачи через содержание и методы педагогической деятельност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c3294"/>
                </a:solidFill>
                <a:latin typeface="Calibri"/>
              </a:rPr>
              <a:t>Уро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-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то такая форма организации педагогического процесса,  при которой педагог в течение точно  установленного времени руководит коллективной познавательной и иной деятельностью постоянной группы учащихся (класса) с учетом особенностей  каждого  из них, используя виды, средства и методы работы, создающие благоприятные условия для того, чтобы все ученики овладевали  основами изучаемого предмета непосредственно в процессе обучения,  а также для воспитания и развития познавательных способностей и  духовных  сил школьник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пецифические признак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тоянная группа учащихся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уководство  деятельностью  школьников  с учетом особенностей каждого из них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 algn="just">
              <a:spcBef>
                <a:spcPts val="799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владение основами изучаемого непосредственно на уро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2696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26960"/>
                <a:tab algn="l" pos="531720"/>
                <a:tab algn="l" pos="981000"/>
                <a:tab algn="l" pos="1430280"/>
                <a:tab algn="l" pos="1879560"/>
                <a:tab algn="l" pos="2328840"/>
                <a:tab algn="l" pos="2778120"/>
                <a:tab algn="l" pos="3227400"/>
                <a:tab algn="l" pos="3676680"/>
                <a:tab algn="l" pos="4125960"/>
                <a:tab algn="l" pos="4575240"/>
                <a:tab algn="l" pos="5024520"/>
                <a:tab algn="l" pos="5473800"/>
                <a:tab algn="l" pos="5923080"/>
                <a:tab algn="l" pos="6372360"/>
                <a:tab algn="l" pos="6821640"/>
                <a:tab algn="l" pos="7270920"/>
                <a:tab algn="l" pos="7719840"/>
                <a:tab algn="l" pos="8169120"/>
                <a:tab algn="l" pos="8618400"/>
                <a:tab algn="l" pos="906768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Организационные основан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Работают все и работает кажды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 Интересно мнение каждого и радуют успехи кажд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 Все благодарны каждому за его участие, и каждый благодарен всем за свое продвижение к знания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 Доверие к учителю как к руководителю групповой работы, но каждый имеет право на инициативное предложени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  Все и каждый имеют право высказать мнение относительно проведенного занят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Система организационных правил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  Доводить педагогические требования до своего логического конц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Сопровождать педагогическое требование инструкцией, раскрывающей легкий способ исполнения требуемог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 Раскрывать положительную программу действий и избегать негативных требований, т.е. требований не делать чего-либо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Не предъявлять детям непосильных требований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Переакцентировать внимание детей с общего требования на его детал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8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80"/>
                </a:solidFill>
                <a:latin typeface="Calibri"/>
              </a:rPr>
              <a:t>Правила совместного общения на уро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     НЕ произносить резких, категоричных сужден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     НЕ подчеркивать интеллектуальное превосходство кого-либ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.     НЕ пренебрегать мнением други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4.     НЕ перебивать выступающего, но и самому быть лаконичным и четким в высказываниях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5.     НЕ допускать фамильярности по отношению к кому-либ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6.     Отмечать индивидуально-ценностное в работе каждог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7.     Выражать благодарность в адрес присутствующи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4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учите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064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еленаправленность его деятельности на уроке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характер отношений с учащими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индивидуально-личностный подход к учащим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ифференцированный подход к обучению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умение педагога приводить в соответствие содержание учебного материала, методы обучения и формы ор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анизации познавательной деятельности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и развитию общеучебных навыков и умен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по развитию познавательного интере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бота учителя по формированию знаний, умений и навыков и вооружению учащихся способами познавательной деятельност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сфокусированность усилий на формировании понятий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развитие общих способностей учащихся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объективность оценки знаний учащихся, соединение использования оценки и отметки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усилий, развивающих личность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эффективность воспитывающих влияни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0840" indent="-3294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Calibri"/>
              </a:rPr>
              <a:t>Характеристики качественной работы  учащегос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уровень самостоятельности, самодеятельности учащихся на уроке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учебному труд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тношение учащихся к предмету, к учителю, друг к другу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объективная направленность деятельности учеников на образование и развитие своей лично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наличие у учащихся познавательного интерес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  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воспитательная и развивающая подвижка личности, возникшая в ходе уро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•     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знание учениками фактического материала и уровень его усво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7600" indent="-326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15:36:49Z</dcterms:created>
  <dc:creator>Федотова Виктория Александровна</dc:creator>
  <dc:description/>
  <dc:language>en-US</dc:language>
  <cp:lastModifiedBy>LEGION</cp:lastModifiedBy>
  <dcterms:modified xsi:type="dcterms:W3CDTF">2015-01-26T13:59:18Z</dcterms:modified>
  <cp:revision>15</cp:revision>
  <dc:subject/>
  <dc:title>Слайд 1</dc:title>
</cp:coreProperties>
</file>