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23.wmf" ContentType="image/x-wmf"/>
  <Override PartName="/ppt/media/image21.jpeg" ContentType="image/jpeg"/>
  <Override PartName="/ppt/media/image16.png" ContentType="image/png"/>
  <Override PartName="/ppt/media/image20.wmf" ContentType="image/x-wmf"/>
  <Override PartName="/ppt/media/image19.wmf" ContentType="image/x-wmf"/>
  <Override PartName="/ppt/media/image14.jpeg" ContentType="image/jpeg"/>
  <Override PartName="/ppt/media/image18.png" ContentType="image/png"/>
  <Override PartName="/ppt/media/image17.wmf" ContentType="image/x-wmf"/>
  <Override PartName="/ppt/media/image15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png" ContentType="image/png"/>
  <Override PartName="/ppt/media/image1.jpeg" ContentType="image/jpeg"/>
  <Override PartName="/ppt/media/image2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B59BE-D2F4-4529-B0A8-1BB3D780C26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этом разделе я пытался связать ООП с образовательной сред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00"/>
                </a:solidFill>
                <a:latin typeface="Calibri"/>
              </a:rPr>
              <a:t>МОУ «Лицей № 66»</a:t>
            </a:r>
            <a:br>
              <a:rPr sz="1200"/>
            </a:br>
            <a:r>
              <a:rPr b="1" lang="ru-RU" sz="1200" spc="-1" strike="noStrike">
                <a:solidFill>
                  <a:srgbClr val="800000"/>
                </a:solidFill>
                <a:latin typeface="Calibri"/>
              </a:rPr>
              <a:t>2011 -2012 учебный г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1650D-B9C6-4824-9369-83336AE5F4C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87D23-CECE-4B89-8332-44485CF52C4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пробуем проанализировать результаты исследований, проведенные нашими коллегами. Кто проводил исследование? Какие классы называют контрольными? Что мы видим в результате исследований? Какой напрашивается вывод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вместо) Исследование специалистов Психологического института РАО показало, что во всех классах, в которых учителя используют технологии Образовательной системы «Школа 2100» и принцип минимакса, наблюдается достоверный и устойчивый эффект развития школьников, высокая мотивированность учеников и комфортные условия их обучения. Это резко контрастирует с ситуацией в традиционных класса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Результаты обучения по «Школе 2100»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следование специалистов Психологического института РАО  И.М.Улановской и Е.Г.Юдин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alibri"/>
              </a:rPr>
              <a:t>Портрет выпускника ОС «Школа 2100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99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99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9900"/>
                </a:solidFill>
                <a:latin typeface="Calibri"/>
              </a:rPr>
              <a:t>Он умеет использовать свои знания и умения в реальных жизненных ситуация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99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99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9900"/>
                </a:solidFill>
                <a:latin typeface="Calibri"/>
              </a:rPr>
              <a:t>Он умеет формулировать свою точку зрения, аргументировать и отстаивать е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99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99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9900"/>
                </a:solidFill>
                <a:latin typeface="Calibri"/>
              </a:rPr>
              <a:t>Он умеет нести ответственность за себя и своих близки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99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9900"/>
                </a:solidFill>
                <a:latin typeface="Calibri"/>
              </a:rPr>
              <a:t>Он умеет организовывать свои дела, решать различные проблем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99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9900"/>
                </a:solidFill>
                <a:latin typeface="Calibri"/>
              </a:rPr>
              <a:t>Он умеет оценивать свои и чужие поступки, занимать и отстаивать свою позицию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99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9900"/>
                </a:solidFill>
                <a:latin typeface="Calibri"/>
              </a:rPr>
              <a:t>Он умеет общаться с разными людьми, договариваться с ними, делая что-то сообщ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99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9900"/>
                </a:solidFill>
                <a:latin typeface="Calibri"/>
              </a:rPr>
              <a:t>он умеет результативно мыслить, добывать информацию  и работать с не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00"/>
                </a:solidFill>
                <a:latin typeface="Calibri"/>
              </a:rPr>
              <a:t>Он хочет и знает, как добиться успеха в жизни. Он толерантен, доброжелательно настроен к миру, к людя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.А.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 Какие дети нам подходят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  <a:ea typeface="Arial"/>
              </a:rPr>
              <a:t>Массовое развивающее образование: учителя и дети  принимаются такими, какие они е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Желаем успехов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09B7A-D354-4C79-B168-CD40CFAFB52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00"/>
                </a:solidFill>
                <a:latin typeface="Calibri"/>
              </a:rPr>
              <a:t>Образовательная система </a:t>
            </a:r>
            <a:br>
              <a:rPr sz="1200"/>
            </a:br>
            <a:r>
              <a:rPr b="1" lang="ru-RU" sz="1200" spc="-1" strike="noStrike">
                <a:solidFill>
                  <a:srgbClr val="800000"/>
                </a:solidFill>
                <a:latin typeface="Calibri"/>
              </a:rPr>
              <a:t>«Школа 2100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EEE03-5786-4F94-8118-75CF766B4F4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Образовательная система</a:t>
            </a:r>
            <a:br>
              <a:rPr sz="1100"/>
            </a:b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«Школа 2100»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– </a:t>
            </a:r>
            <a:br>
              <a:rPr sz="1100"/>
            </a:b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одна из четырех государственных систем РФ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ебники используются в школах с1992 год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 учебники прошли многолетнюю апробацию во всех регионах России и входят в Федеральный перечень учебной литератур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243FF-76FB-48C5-B8B7-CBFB7A420D3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1E611-79C1-41B0-8ADF-D31430CB343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ротивовес идее приоритета знаний мы всегда рассматривали знания и умения как средство развития личности. И не случайно в решении бюро Президиума РАО от 16 ноября 2005 года в качестве важнейшего достижения Образовательной системы «Школа 2100» было отмечено, что «авторскому коллективу «Школа 2100» удалось создать современную личностно ориентированную образовательную систему для массовой школы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рошлом году произошло событие, значение которого трудно переоценить. Премии Правительства РФ в области образования за 2008 год удостоена группа ученых, разработавших и сумевших практически реализовать и внедрить в практику массовой школы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бразовательную систему нового поколения «Школа 2100»!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икогда в истории России столь высокая награда не присуждалась за создание новой образовательной систе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«Школа 2100»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взгляд со стороны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b03f5"/>
                </a:solidFill>
                <a:latin typeface="Calibri"/>
              </a:rPr>
              <a:t>2005 г.: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Из заключения </a:t>
            </a:r>
            <a:r>
              <a:rPr b="1" lang="ru-RU" sz="1200" spc="-1" strike="noStrike">
                <a:solidFill>
                  <a:srgbClr val="ff3300"/>
                </a:solidFill>
                <a:latin typeface="Calibri"/>
              </a:rPr>
              <a:t>Российской академии образования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(16.11.2005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…авторскому коллективу «Школа 2100» удалось создать</a:t>
            </a:r>
            <a:r>
              <a:rPr b="0" lang="ru-RU" sz="1200" spc="-1" strike="noStrike">
                <a:solidFill>
                  <a:srgbClr val="ff3399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ременную личностно ориентированную</a:t>
            </a: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  </a:t>
            </a:r>
            <a:r>
              <a:rPr b="0" i="1" lang="ru-RU" sz="1200" spc="-1" strike="noStrike">
                <a:solidFill>
                  <a:srgbClr val="2b03f5"/>
                </a:solidFill>
                <a:latin typeface="Calibri"/>
              </a:rPr>
              <a:t>образовательную систему</a:t>
            </a: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</a:t>
            </a:r>
            <a:r>
              <a:rPr b="0" i="1" lang="ru-RU" sz="1200" spc="-1" strike="noStrike">
                <a:solidFill>
                  <a:srgbClr val="2b03f5"/>
                </a:solidFill>
                <a:latin typeface="Calibri"/>
              </a:rPr>
              <a:t>массовой</a:t>
            </a: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колы, которая … реализует идеи </a:t>
            </a:r>
            <a:r>
              <a:rPr b="0" i="1" lang="ru-RU" sz="1200" spc="-1" strike="noStrike">
                <a:solidFill>
                  <a:srgbClr val="2b03f5"/>
                </a:solidFill>
                <a:latin typeface="Calibri"/>
              </a:rPr>
              <a:t>развивающего</a:t>
            </a: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разования от дошкольной подготовки до окончания школы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5208F-8DAC-44CD-8D2A-0A201E3D639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вым научным руководителем Образовательной системы «Школа 2100» был академик  А.А.Леонтьев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йчас научным руководителем Образовательной системы является академик  Д.И.Фельдштейн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ординаторы направлений на своих регулярных заседаниях Совета координаторов вырабатывают общие подходы, которые реализуют в каждом авторском коллективе. Таким образом удается добиться, чтобы на всех этапах образования авторы использовали единые технологии и принципы работы, чтобы учебники и учебные пособия были преемственн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то создал систему «Школа 2100»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диный авторский коллекти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бразовательная система «Школа 2100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D7B0A-B6E8-43FB-AFB6-D6E2BEE9EC0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5427E-006B-459F-961B-7DC5791223E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ебники Образовательной системы «Школа 2100» построены, как и жизнь, в соответствии с принципом минимакса: они включают не только обязательный для усвоения минимум, но и максимум. Обучаясь находить минимум школьники учатся работать с  информацией, а максимум позволяет интересующемуся ученику найти свою зону ближайшего развития и учиться по своей образовательной траектор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одержание учебников в «Школе 2100» ( с 1998 г.) –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инципу минимакса: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800000"/>
                </a:solidFill>
                <a:latin typeface="Calibri"/>
              </a:rPr>
              <a:t>Что ОС «Школа 2100» может дать детям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еспечит увлекательный процесс без стресса и перегрузок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ранит радость детства и здоровь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кроет индивидуальность Вашего ребен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растит его как самостоятельную личност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учит правильно и грамотно говорить, уметь слышать и слушат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учит ставить перед собой цели, планировать свою деятельность для достижения результата, разовьет умение самоконтроля, т.е. НАУЧИТ РЕШАТЬ ЖИЗНЕННЫЕ ПРОБЛЕ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69352-1195-42E1-9773-3F7BDC24996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800000"/>
                </a:solidFill>
                <a:latin typeface="Calibri"/>
              </a:rPr>
              <a:t>Что ОС «Школа 2100» может дать родителям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м не придется тратить много времени на дополнительную работу с ребенко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 Вас появится много общих точек соприкосновения с вашим ребенком, Вам будет интересно общатьс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 удивитесь, как быстро расширяется кругозор вашего ребен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бенок довольно быстро станет самостоятельным, но будет стараться согласовывать с Вами свое мнени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 можете быть спокойны за будущее вашего ребенка и станете гордится его успехам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799E1-C33D-4DAF-8124-0D6106E0264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0DBC6-298A-4919-B084-B34D34C30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71320" y="1600200"/>
            <a:ext cx="8001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71320" y="3964320"/>
            <a:ext cx="8001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51F23-66D1-459A-BE6B-A58CB160C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7132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71320" y="396432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000" y="396432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13F24-7F6F-4792-86C3-1EBC316EB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71320" y="160020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76720" y="160020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82120" y="160020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71320" y="396432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76720" y="396432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82120" y="396432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6C84F-0D3B-47DA-9867-18ADE2EDB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BB305-9534-4776-AB2E-D9996CEC1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7132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22120-C847-4A88-AB6D-6CB4EFC82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7132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E9E38-BD61-4A2C-A54C-BB99051FC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71320" y="1600200"/>
            <a:ext cx="390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390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7CD35-D683-405D-ABC0-264219B2F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E2A67-D2A8-44F4-8775-6FCF78331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71320" y="27432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7267A-BE00-42D1-A8B0-B8AAA8280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7132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390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71320" y="396432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722F0-EAD4-4463-8477-8F63658B3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7132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23CEE-3B5E-4137-873C-DA6A48459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71320" y="1600200"/>
            <a:ext cx="390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1000" y="396432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A17D1-3120-4706-A15C-71C4CE06C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7132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320" y="3964320"/>
            <a:ext cx="8001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30C86-B9A6-47CA-A91D-7A59ED784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71320" y="1600200"/>
            <a:ext cx="8001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320" y="3964320"/>
            <a:ext cx="8001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7A33F-58F0-40E2-B9EB-E10284D63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7132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71320" y="396432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1000" y="396432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41D0D-5A0C-40DF-934A-B1E525E07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71320" y="160020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76720" y="160020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82120" y="160020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71320" y="396432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76720" y="396432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82120" y="396432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9B28F-127B-4E3F-8CD8-5324E2E13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7132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B0C94-9E98-42EB-9E66-D15AA245B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71320" y="1600200"/>
            <a:ext cx="390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390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CB89E-00DD-45D5-88DA-7979A5A65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473E4-5F8E-462A-8D42-CFB7822BB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71320" y="27432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E7C7F-9AB4-4001-B503-3C2B561CE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7132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390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71320" y="396432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4D33E-29DB-4F6B-A1C1-2A43A2EFC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71320" y="1600200"/>
            <a:ext cx="390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000" y="396432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67057-2D02-4E68-9697-4537C1972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7132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71320" y="3964320"/>
            <a:ext cx="8001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F5F8A-13E0-42D9-BD7B-90248A7BF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7132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31BF9-906E-4F1F-BF56-A0F108D4119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E5A8B-8371-4D06-8EEF-B9A4C64AB0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7132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544E9-91F1-4FEF-8B27-3C346B671EA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8CE42-4540-4F9B-A790-9D9E96F6BB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pirao.ru/upload/iblock/5544ddf50ff637bb9c037aed22247f22.jpg" TargetMode="External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png"/><Relationship Id="rId7" Type="http://schemas.openxmlformats.org/officeDocument/2006/relationships/hyperlink" Target="http://www.ruscenter.ru/i/foto/17122003/0047.jpg" TargetMode="External"/><Relationship Id="rId8" Type="http://schemas.openxmlformats.org/officeDocument/2006/relationships/image" Target="../media/image14.jpeg"/><Relationship Id="rId9" Type="http://schemas.openxmlformats.org/officeDocument/2006/relationships/image" Target="../media/image15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47640" y="475920"/>
            <a:ext cx="5400720" cy="1152360"/>
          </a:xfrm>
          <a:prstGeom prst="rect">
            <a:avLst/>
          </a:prstGeom>
          <a:solidFill>
            <a:srgbClr val="f2dcd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Calibri"/>
              </a:rPr>
              <a:t>МОУ «Лицей № 66»</a:t>
            </a:r>
            <a:br>
              <a:rPr sz="4400"/>
            </a:br>
            <a:r>
              <a:rPr b="1" lang="ru-RU" sz="2000" spc="-1" strike="noStrike">
                <a:solidFill>
                  <a:srgbClr val="800000"/>
                </a:solidFill>
                <a:latin typeface="Calibri"/>
              </a:rPr>
              <a:t>2011 -2012 учебный год</a:t>
            </a:r>
            <a:endParaRPr b="0" lang="en-US" sz="2000" spc="-1" strike="noStrike">
              <a:solidFill>
                <a:srgbClr val="ff0000"/>
              </a:solidFill>
              <a:latin typeface="Calibri"/>
            </a:endParaRPr>
          </a:p>
        </p:txBody>
      </p:sp>
      <p:pic>
        <p:nvPicPr>
          <p:cNvPr id="90" name="Picture 3" descr=""/>
          <p:cNvPicPr/>
          <p:nvPr/>
        </p:nvPicPr>
        <p:blipFill>
          <a:blip r:embed="rId1"/>
          <a:stretch/>
        </p:blipFill>
        <p:spPr>
          <a:xfrm>
            <a:off x="1692360" y="1844640"/>
            <a:ext cx="5184720" cy="3529080"/>
          </a:xfrm>
          <a:prstGeom prst="rect">
            <a:avLst/>
          </a:prstGeom>
          <a:ln w="0">
            <a:noFill/>
          </a:ln>
        </p:spPr>
      </p:pic>
      <p:sp>
        <p:nvSpPr>
          <p:cNvPr id="91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808200" y="349200"/>
            <a:ext cx="75420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Результаты обучения по «Школе 2100»</a:t>
            </a:r>
            <a:endParaRPr b="0" lang="en-US" sz="2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323640" y="765000"/>
            <a:ext cx="8458200" cy="6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сследование специалистов Психологического института РАО  И.М.Улановской и Е.Г.Юдино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Rectangle 4"/>
          <p:cNvSpPr/>
          <p:nvPr/>
        </p:nvSpPr>
        <p:spPr>
          <a:xfrm>
            <a:off x="611280" y="1844640"/>
            <a:ext cx="3744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лассы, где реализуются идеи «Школы 2100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вивающа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реда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 Развитие теоретического мышления и превышение своих базовых интеллектуальных возможност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Благоприятные отношения внутри класса, высокая мотивированнос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 Ученики ощущают себя более успешными (каждый в своем), нормальный уровень тревож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Rectangle 5"/>
          <p:cNvSpPr/>
          <p:nvPr/>
        </p:nvSpPr>
        <p:spPr>
          <a:xfrm>
            <a:off x="4643280" y="1916280"/>
            <a:ext cx="3889440" cy="40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нтрольные класс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традиционная программ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«Тренинговая» модель (подтягивание слабых без развития сильных) или «занижающая» (ориентация на низкий уровень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Сложные отношения внутри класса, невысокая мотивирован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 Заниженная самооценка, повышенная тревож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Line 6"/>
          <p:cNvSpPr/>
          <p:nvPr/>
        </p:nvSpPr>
        <p:spPr>
          <a:xfrm flipH="1">
            <a:off x="1908000" y="1413000"/>
            <a:ext cx="895680" cy="338040"/>
          </a:xfrm>
          <a:prstGeom prst="line">
            <a:avLst/>
          </a:prstGeom>
          <a:ln w="76320">
            <a:solidFill>
              <a:srgbClr val="29941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Line 7"/>
          <p:cNvSpPr/>
          <p:nvPr/>
        </p:nvSpPr>
        <p:spPr>
          <a:xfrm>
            <a:off x="6443640" y="1413000"/>
            <a:ext cx="990720" cy="45720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0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7" dur="10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7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7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7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Text Box 2"/>
          <p:cNvSpPr/>
          <p:nvPr/>
        </p:nvSpPr>
        <p:spPr>
          <a:xfrm>
            <a:off x="468360" y="333360"/>
            <a:ext cx="841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Arial"/>
              </a:rPr>
              <a:t>Портрет выпускника ОС «Школа 2100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Text Box 3"/>
          <p:cNvSpPr/>
          <p:nvPr/>
        </p:nvSpPr>
        <p:spPr>
          <a:xfrm>
            <a:off x="611280" y="620640"/>
            <a:ext cx="2512800" cy="49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9900"/>
                </a:solidFill>
                <a:latin typeface="Arial"/>
              </a:rPr>
              <a:t>Он умеет использовать свои знания и умения в реальных жизненных ситуациях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9900"/>
                </a:solidFill>
                <a:latin typeface="Arial"/>
              </a:rPr>
              <a:t>Он умеет формулировать свою точку зрения, аргументировать и отстаивать ее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9900"/>
                </a:solidFill>
                <a:latin typeface="Arial"/>
              </a:rPr>
              <a:t>Он умеет нести ответственность за себя и своих близких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9900"/>
                </a:solidFill>
                <a:latin typeface="Arial"/>
              </a:rPr>
              <a:t>Он умеет организовывать свои дела, решать различные</a:t>
            </a:r>
            <a:r>
              <a:rPr b="1" lang="ru-RU" sz="18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9900"/>
                </a:solidFill>
                <a:latin typeface="Arial"/>
              </a:rPr>
              <a:t>проблемы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4" name="Picture 4" descr=""/>
          <p:cNvPicPr/>
          <p:nvPr/>
        </p:nvPicPr>
        <p:blipFill>
          <a:blip r:embed="rId1"/>
          <a:stretch/>
        </p:blipFill>
        <p:spPr>
          <a:xfrm>
            <a:off x="4211640" y="981000"/>
            <a:ext cx="1873080" cy="3762360"/>
          </a:xfrm>
          <a:prstGeom prst="rect">
            <a:avLst/>
          </a:prstGeom>
          <a:ln w="0">
            <a:noFill/>
          </a:ln>
        </p:spPr>
      </p:pic>
      <p:pic>
        <p:nvPicPr>
          <p:cNvPr id="745" name="Picture 5" descr=""/>
          <p:cNvPicPr/>
          <p:nvPr/>
        </p:nvPicPr>
        <p:blipFill>
          <a:blip r:embed="rId2"/>
          <a:stretch/>
        </p:blipFill>
        <p:spPr>
          <a:xfrm>
            <a:off x="2987640" y="1268280"/>
            <a:ext cx="1355760" cy="3300480"/>
          </a:xfrm>
          <a:prstGeom prst="rect">
            <a:avLst/>
          </a:prstGeom>
          <a:ln w="0">
            <a:noFill/>
          </a:ln>
        </p:spPr>
      </p:pic>
      <p:sp>
        <p:nvSpPr>
          <p:cNvPr id="746" name="Text Box 6"/>
          <p:cNvSpPr/>
          <p:nvPr/>
        </p:nvSpPr>
        <p:spPr>
          <a:xfrm>
            <a:off x="6084720" y="692280"/>
            <a:ext cx="244800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9900"/>
                </a:solidFill>
                <a:latin typeface="Arial"/>
              </a:rPr>
              <a:t>Он умеет оценивать свои и чужие поступки, занимать и отстаивать свою позицию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9900"/>
                </a:solidFill>
                <a:latin typeface="Arial"/>
              </a:rPr>
              <a:t>Он умеет общаться с разными людьми, договариваться с ними, делая что-то сообщ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9900"/>
                </a:solidFill>
                <a:latin typeface="Arial"/>
              </a:rPr>
              <a:t>он умеет результативно мыслить, добывать информацию  и работать с не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Text Box 7"/>
          <p:cNvSpPr/>
          <p:nvPr/>
        </p:nvSpPr>
        <p:spPr>
          <a:xfrm>
            <a:off x="324000" y="5013360"/>
            <a:ext cx="7127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Он хочет и знает, как добиться успеха в жизни. Он толерантен, доброжелательно настроен к миру, к людя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9" name="Группа 36"/>
          <p:cNvGrpSpPr/>
          <p:nvPr/>
        </p:nvGrpSpPr>
        <p:grpSpPr>
          <a:xfrm>
            <a:off x="1116000" y="907920"/>
            <a:ext cx="6637680" cy="3816360"/>
            <a:chOff x="1116000" y="907920"/>
            <a:chExt cx="6637680" cy="3816360"/>
          </a:xfrm>
        </p:grpSpPr>
        <p:grpSp>
          <p:nvGrpSpPr>
            <p:cNvPr id="750" name="Группа 35"/>
            <p:cNvGrpSpPr/>
            <p:nvPr/>
          </p:nvGrpSpPr>
          <p:grpSpPr>
            <a:xfrm>
              <a:off x="1116000" y="907920"/>
              <a:ext cx="6523560" cy="3816360"/>
              <a:chOff x="1116000" y="907920"/>
              <a:chExt cx="6523560" cy="3816360"/>
            </a:xfrm>
          </p:grpSpPr>
          <p:grpSp>
            <p:nvGrpSpPr>
              <p:cNvPr id="751" name="Группа 34"/>
              <p:cNvGrpSpPr/>
              <p:nvPr/>
            </p:nvGrpSpPr>
            <p:grpSpPr>
              <a:xfrm>
                <a:off x="1116000" y="907920"/>
                <a:ext cx="6523560" cy="3816360"/>
                <a:chOff x="1116000" y="907920"/>
                <a:chExt cx="6523560" cy="3816360"/>
              </a:xfrm>
            </p:grpSpPr>
            <p:sp>
              <p:nvSpPr>
                <p:cNvPr id="752" name="Прямоугольник 13"/>
                <p:cNvSpPr/>
                <p:nvPr/>
              </p:nvSpPr>
              <p:spPr>
                <a:xfrm>
                  <a:off x="1116000" y="907920"/>
                  <a:ext cx="6523560" cy="3816360"/>
                </a:xfrm>
                <a:prstGeom prst="rect">
                  <a:avLst/>
                </a:prstGeom>
                <a:solidFill>
                  <a:srgbClr val="ffff66"/>
                </a:solidFill>
                <a:ln w="25560">
                  <a:solidFill>
                    <a:srgbClr val="385d8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53" name="Группа 33"/>
                <p:cNvGrpSpPr/>
                <p:nvPr/>
              </p:nvGrpSpPr>
              <p:grpSpPr>
                <a:xfrm>
                  <a:off x="1340640" y="1008000"/>
                  <a:ext cx="5905440" cy="3047400"/>
                  <a:chOff x="1340640" y="1008000"/>
                  <a:chExt cx="5905440" cy="3047400"/>
                </a:xfrm>
              </p:grpSpPr>
              <p:pic>
                <p:nvPicPr>
                  <p:cNvPr id="754" name="Picture 25" descr=""/>
                  <p:cNvPicPr/>
                  <p:nvPr/>
                </p:nvPicPr>
                <p:blipFill>
                  <a:blip r:embed="rId1"/>
                  <a:stretch/>
                </p:blipFill>
                <p:spPr>
                  <a:xfrm>
                    <a:off x="1340640" y="1794240"/>
                    <a:ext cx="1124640" cy="21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755" name="TextBox 14"/>
                  <p:cNvSpPr/>
                  <p:nvPr/>
                </p:nvSpPr>
                <p:spPr>
                  <a:xfrm>
                    <a:off x="2361240" y="1008000"/>
                    <a:ext cx="487152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28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Какие дети нам подходят?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pic>
                <p:nvPicPr>
                  <p:cNvPr id="756" name="Picture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08760" y="2012400"/>
                    <a:ext cx="2137320" cy="20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</p:grpSp>
          <p:sp>
            <p:nvSpPr>
              <p:cNvPr id="757" name="TextBox 15"/>
              <p:cNvSpPr/>
              <p:nvPr/>
            </p:nvSpPr>
            <p:spPr>
              <a:xfrm>
                <a:off x="1338480" y="3921120"/>
                <a:ext cx="1215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Разные?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8" name="TextBox 16"/>
            <p:cNvSpPr/>
            <p:nvPr/>
          </p:nvSpPr>
          <p:spPr>
            <a:xfrm>
              <a:off x="5838480" y="4021200"/>
              <a:ext cx="1915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Вундеркинды?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9" name="Заголовок 1"/>
          <p:cNvSpPr/>
          <p:nvPr/>
        </p:nvSpPr>
        <p:spPr>
          <a:xfrm>
            <a:off x="142920" y="-907920"/>
            <a:ext cx="9001080" cy="907920"/>
          </a:xfrm>
          <a:prstGeom prst="rect">
            <a:avLst/>
          </a:pr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Прямоугольник 26"/>
          <p:cNvSpPr/>
          <p:nvPr/>
        </p:nvSpPr>
        <p:spPr>
          <a:xfrm>
            <a:off x="9144000" y="1413000"/>
            <a:ext cx="5616720" cy="376200"/>
          </a:xfrm>
          <a:prstGeom prst="rect">
            <a:avLst/>
          </a:prstGeom>
          <a:solidFill>
            <a:srgbClr val="b9cde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TextBox 27"/>
          <p:cNvSpPr/>
          <p:nvPr/>
        </p:nvSpPr>
        <p:spPr>
          <a:xfrm>
            <a:off x="1403280" y="4724280"/>
            <a:ext cx="5329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Массовое развивающее образование: учителя и дети  принимаются такими, какие они е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2" name="Группа 41"/>
          <p:cNvGrpSpPr/>
          <p:nvPr/>
        </p:nvGrpSpPr>
        <p:grpSpPr>
          <a:xfrm>
            <a:off x="2379240" y="1619640"/>
            <a:ext cx="3044880" cy="2845440"/>
            <a:chOff x="2379240" y="1619640"/>
            <a:chExt cx="3044880" cy="2845440"/>
          </a:xfrm>
        </p:grpSpPr>
        <p:grpSp>
          <p:nvGrpSpPr>
            <p:cNvPr id="763" name="Группа 38"/>
            <p:cNvGrpSpPr/>
            <p:nvPr/>
          </p:nvGrpSpPr>
          <p:grpSpPr>
            <a:xfrm>
              <a:off x="2379240" y="1619640"/>
              <a:ext cx="2845800" cy="2845440"/>
              <a:chOff x="2379240" y="1619640"/>
              <a:chExt cx="2845800" cy="2845440"/>
            </a:xfrm>
          </p:grpSpPr>
          <p:sp>
            <p:nvSpPr>
              <p:cNvPr id="764" name="Пирог 20"/>
              <p:cNvSpPr/>
              <p:nvPr/>
            </p:nvSpPr>
            <p:spPr>
              <a:xfrm rot="18911400">
                <a:off x="2771640" y="2060280"/>
                <a:ext cx="2060640" cy="1963800"/>
              </a:xfrm>
              <a:custGeom>
                <a:avLst/>
                <a:gdLst/>
                <a:ahLst/>
                <a:rect l="l" t="t" r="r" b="b"/>
                <a:pathLst>
                  <a:path w="2060841" h="1964223">
                    <a:moveTo>
                      <a:pt x="9590" y="848429"/>
                    </a:moveTo>
                    <a:cubicBezTo>
                      <a:pt x="75542" y="390923"/>
                      <a:pt x="467005" y="39012"/>
                      <a:pt x="950049" y="2991"/>
                    </a:cubicBezTo>
                    <a:lnTo>
                      <a:pt x="1030421" y="982112"/>
                    </a:lnTo>
                    <a:lnTo>
                      <a:pt x="9590" y="848429"/>
                    </a:lnTo>
                    <a:close/>
                  </a:path>
                </a:pathLst>
              </a:custGeom>
              <a:solidFill>
                <a:srgbClr val="99ff66"/>
              </a:solidFill>
              <a:ln w="25560">
                <a:solidFill>
                  <a:srgbClr val="385d8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5" name="TextBox 21"/>
              <p:cNvSpPr/>
              <p:nvPr/>
            </p:nvSpPr>
            <p:spPr>
              <a:xfrm>
                <a:off x="2794680" y="2843280"/>
                <a:ext cx="646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IN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6" name="Группа 40"/>
            <p:cNvGrpSpPr/>
            <p:nvPr/>
          </p:nvGrpSpPr>
          <p:grpSpPr>
            <a:xfrm>
              <a:off x="2720520" y="1723680"/>
              <a:ext cx="2703600" cy="2703240"/>
              <a:chOff x="2720520" y="1723680"/>
              <a:chExt cx="2703600" cy="2703240"/>
            </a:xfrm>
          </p:grpSpPr>
          <p:sp>
            <p:nvSpPr>
              <p:cNvPr id="767" name="Пирог 19"/>
              <p:cNvSpPr/>
              <p:nvPr/>
            </p:nvSpPr>
            <p:spPr>
              <a:xfrm rot="13481400">
                <a:off x="3099600" y="2136240"/>
                <a:ext cx="1945080" cy="1878120"/>
              </a:xfrm>
              <a:custGeom>
                <a:avLst/>
                <a:gdLst>
                  <a:gd name="textAreaLeft" fmla="*/ 284760 w 1945080"/>
                  <a:gd name="textAreaRight" fmla="*/ 1660320 w 1945080"/>
                  <a:gd name="textAreaTop" fmla="*/ 275040 h 1878120"/>
                  <a:gd name="textAreaBottom" fmla="*/ 1603080 h 1878120"/>
                </a:gdLst>
                <a:ahLst/>
                <a:rect l="textAreaLeft" t="textAreaTop" r="textAreaRight" b="textAreaBottom"/>
                <a:pathLst>
                  <a:path w="1944939" h="1878477">
                    <a:moveTo>
                      <a:pt x="1944939" y="939239"/>
                    </a:moveTo>
                    <a:lnTo>
                      <a:pt x="1944939" y="939239"/>
                    </a:lnTo>
                    <a:cubicBezTo>
                      <a:pt x="1944939" y="1457966"/>
                      <a:pt x="1509549" y="1878478"/>
                      <a:pt x="972469" y="1878478"/>
                    </a:cubicBezTo>
                    <a:cubicBezTo>
                      <a:pt x="435388" y="1878478"/>
                      <a:pt x="-1" y="1457966"/>
                      <a:pt x="-1" y="939239"/>
                    </a:cubicBezTo>
                    <a:cubicBezTo>
                      <a:pt x="-1" y="420511"/>
                      <a:pt x="435388" y="0"/>
                      <a:pt x="972469" y="0"/>
                    </a:cubicBezTo>
                    <a:cubicBezTo>
                      <a:pt x="1000107" y="-1"/>
                      <a:pt x="1027733" y="1137"/>
                      <a:pt x="1055271" y="3410"/>
                    </a:cubicBezTo>
                    <a:lnTo>
                      <a:pt x="972470" y="939239"/>
                    </a:lnTo>
                    <a:lnTo>
                      <a:pt x="1944939" y="939239"/>
                    </a:lnTo>
                    <a:close/>
                  </a:path>
                </a:pathLst>
              </a:custGeom>
              <a:solidFill>
                <a:srgbClr val="c6d9f1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8" name="TextBox 22"/>
              <p:cNvSpPr/>
              <p:nvPr/>
            </p:nvSpPr>
            <p:spPr>
              <a:xfrm>
                <a:off x="3947040" y="3058920"/>
                <a:ext cx="730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AX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cxnSp>
        <p:nvCxnSpPr>
          <p:cNvPr id="769" name="Прямая со стрелкой 25"/>
          <p:cNvCxnSpPr/>
          <p:nvPr/>
        </p:nvCxnSpPr>
        <p:spPr>
          <a:xfrm>
            <a:off x="2339640" y="3357720"/>
            <a:ext cx="864360" cy="2160"/>
          </a:xfrm>
          <a:prstGeom prst="straightConnector1">
            <a:avLst/>
          </a:prstGeom>
          <a:ln w="76320">
            <a:solidFill>
              <a:srgbClr val="00cc00"/>
            </a:solidFill>
            <a:miter/>
            <a:tailEnd len="med" type="arrow" w="med"/>
          </a:ln>
        </p:spPr>
      </p:cxnSp>
      <p:cxnSp>
        <p:nvCxnSpPr>
          <p:cNvPr id="770" name="Прямая со стрелкой 28"/>
          <p:cNvCxnSpPr/>
          <p:nvPr/>
        </p:nvCxnSpPr>
        <p:spPr>
          <a:xfrm flipH="1" flipV="1">
            <a:off x="4642920" y="3859920"/>
            <a:ext cx="721440" cy="2520"/>
          </a:xfrm>
          <a:prstGeom prst="straightConnector1">
            <a:avLst/>
          </a:prstGeom>
          <a:ln w="76320">
            <a:solidFill>
              <a:srgbClr val="1f497d"/>
            </a:solidFill>
            <a:miter/>
            <a:tailEnd len="med" type="arrow" w="med"/>
          </a:ln>
        </p:spPr>
      </p:cxnSp>
      <p:sp>
        <p:nvSpPr>
          <p:cNvPr id="771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2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Заголовок 1"/>
          <p:cNvSpPr/>
          <p:nvPr/>
        </p:nvSpPr>
        <p:spPr>
          <a:xfrm>
            <a:off x="2916360" y="549360"/>
            <a:ext cx="4897440" cy="863640"/>
          </a:xfrm>
          <a:prstGeom prst="rect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Желаем успехов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3" name="Picture 3" descr=""/>
          <p:cNvPicPr/>
          <p:nvPr/>
        </p:nvPicPr>
        <p:blipFill>
          <a:blip r:embed="rId1"/>
          <a:stretch/>
        </p:blipFill>
        <p:spPr>
          <a:xfrm>
            <a:off x="2771640" y="1557360"/>
            <a:ext cx="4896000" cy="3743280"/>
          </a:xfrm>
          <a:prstGeom prst="rect">
            <a:avLst/>
          </a:prstGeom>
          <a:ln w="0">
            <a:noFill/>
          </a:ln>
        </p:spPr>
      </p:pic>
      <p:pic>
        <p:nvPicPr>
          <p:cNvPr id="774" name="Picture 1029" descr="sova-2"/>
          <p:cNvPicPr/>
          <p:nvPr/>
        </p:nvPicPr>
        <p:blipFill>
          <a:blip r:embed="rId2"/>
          <a:stretch/>
        </p:blipFill>
        <p:spPr>
          <a:xfrm>
            <a:off x="900000" y="2565360"/>
            <a:ext cx="1528920" cy="1727280"/>
          </a:xfrm>
          <a:prstGeom prst="rect">
            <a:avLst/>
          </a:prstGeom>
          <a:ln w="0">
            <a:noFill/>
          </a:ln>
        </p:spPr>
      </p:pic>
      <p:sp>
        <p:nvSpPr>
          <p:cNvPr id="77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340000" y="333000"/>
            <a:ext cx="6270480" cy="230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Calibri"/>
              </a:rPr>
              <a:t>Образовательная система </a:t>
            </a:r>
            <a:br>
              <a:rPr sz="4400"/>
            </a:br>
            <a:r>
              <a:rPr b="1" lang="ru-RU" sz="4400" spc="-1" strike="noStrike">
                <a:solidFill>
                  <a:srgbClr val="800000"/>
                </a:solidFill>
                <a:latin typeface="Calibri"/>
              </a:rPr>
              <a:t>«Школа 2100»</a:t>
            </a: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pic>
        <p:nvPicPr>
          <p:cNvPr id="93" name="Picture 1028" descr="b1_1"/>
          <p:cNvPicPr/>
          <p:nvPr/>
        </p:nvPicPr>
        <p:blipFill>
          <a:blip r:embed="rId1"/>
          <a:stretch/>
        </p:blipFill>
        <p:spPr>
          <a:xfrm>
            <a:off x="2916360" y="2565360"/>
            <a:ext cx="2520720" cy="32464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029" descr="sova-2"/>
          <p:cNvPicPr/>
          <p:nvPr/>
        </p:nvPicPr>
        <p:blipFill>
          <a:blip r:embed="rId2"/>
          <a:stretch/>
        </p:blipFill>
        <p:spPr>
          <a:xfrm>
            <a:off x="900000" y="1197000"/>
            <a:ext cx="1528920" cy="1727280"/>
          </a:xfrm>
          <a:prstGeom prst="rect">
            <a:avLst/>
          </a:prstGeom>
          <a:ln w="0">
            <a:noFill/>
          </a:ln>
        </p:spPr>
      </p:pic>
      <p:sp>
        <p:nvSpPr>
          <p:cNvPr id="9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55640" y="404280"/>
            <a:ext cx="6016680" cy="223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Образовательная система</a:t>
            </a:r>
            <a:br>
              <a:rPr sz="2800"/>
            </a:b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«Школа 2100»</a:t>
            </a: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 – </a:t>
            </a:r>
            <a:br>
              <a:rPr sz="2800"/>
            </a:b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одна из четырех государственных систем РФ</a:t>
            </a:r>
            <a:endParaRPr b="0" lang="en-US" sz="20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71320" y="2708280"/>
            <a:ext cx="7095960" cy="341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чебники используются в школах с1992 года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се учебники прошли многолетнюю апробацию во всех регионах России и входят в Федеральный перечень учебной литературы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1029" descr="sova-2"/>
          <p:cNvPicPr/>
          <p:nvPr/>
        </p:nvPicPr>
        <p:blipFill>
          <a:blip r:embed="rId1"/>
          <a:stretch/>
        </p:blipFill>
        <p:spPr>
          <a:xfrm>
            <a:off x="250920" y="476280"/>
            <a:ext cx="2209680" cy="1981080"/>
          </a:xfrm>
          <a:prstGeom prst="rect">
            <a:avLst/>
          </a:prstGeom>
          <a:ln w="0">
            <a:noFill/>
          </a:ln>
        </p:spPr>
      </p:pic>
      <p:sp>
        <p:nvSpPr>
          <p:cNvPr id="9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F93DE-E3F7-4222-979C-A056F836231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55280" y="188640"/>
            <a:ext cx="7777080" cy="73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ff0000"/>
                </a:solidFill>
                <a:latin typeface="Calibri"/>
              </a:rPr>
              <a:t>«Школа 2100» </a:t>
            </a:r>
            <a:r>
              <a:rPr b="1" lang="en-US" sz="3700" spc="-1" strike="noStrike">
                <a:solidFill>
                  <a:srgbClr val="ff0000"/>
                </a:solidFill>
                <a:latin typeface="Calibri"/>
              </a:rPr>
              <a:t>–</a:t>
            </a:r>
            <a:r>
              <a:rPr b="1" lang="ru-RU" sz="3700" spc="-1" strike="noStrike">
                <a:solidFill>
                  <a:srgbClr val="ff0000"/>
                </a:solidFill>
                <a:latin typeface="Calibri"/>
              </a:rPr>
              <a:t> взгляд со стороны</a:t>
            </a:r>
            <a:r>
              <a:rPr b="0" lang="ru-RU" sz="30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55280" y="1267920"/>
            <a:ext cx="7056360" cy="27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b03f5"/>
                </a:solidFill>
                <a:latin typeface="Calibri"/>
              </a:rPr>
              <a:t>2005 г.: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Из заключения </a:t>
            </a:r>
            <a:r>
              <a:rPr b="1" lang="ru-RU" sz="2000" spc="-1" strike="noStrike">
                <a:solidFill>
                  <a:srgbClr val="ff3300"/>
                </a:solidFill>
                <a:latin typeface="Calibri"/>
              </a:rPr>
              <a:t>Российской академии образования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(16.11.2005.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«…авторскому коллективу «Школа 2100» удалось создать</a:t>
            </a:r>
            <a:r>
              <a:rPr b="0" lang="ru-RU" sz="2000" spc="-1" strike="noStrike">
                <a:solidFill>
                  <a:srgbClr val="ff3399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овременную личностно ориентированную</a:t>
            </a:r>
            <a:r>
              <a:rPr b="0" lang="ru-RU" sz="2000" spc="-1" strike="noStrike">
                <a:solidFill>
                  <a:srgbClr val="ff3300"/>
                </a:solidFill>
                <a:latin typeface="Calibri"/>
              </a:rPr>
              <a:t>  </a:t>
            </a:r>
            <a:r>
              <a:rPr b="0" i="1" lang="ru-RU" sz="2000" spc="-1" strike="noStrike">
                <a:solidFill>
                  <a:srgbClr val="2b03f5"/>
                </a:solidFill>
                <a:latin typeface="Calibri"/>
              </a:rPr>
              <a:t>образовательную систему</a:t>
            </a:r>
            <a:r>
              <a:rPr b="0" lang="ru-RU" sz="2000" spc="-1" strike="noStrike">
                <a:solidFill>
                  <a:srgbClr val="ff33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ля </a:t>
            </a:r>
            <a:r>
              <a:rPr b="0" i="1" lang="ru-RU" sz="2000" spc="-1" strike="noStrike">
                <a:solidFill>
                  <a:srgbClr val="2b03f5"/>
                </a:solidFill>
                <a:latin typeface="Calibri"/>
              </a:rPr>
              <a:t>массовой</a:t>
            </a:r>
            <a:r>
              <a:rPr b="0" lang="ru-RU" sz="2000" spc="-1" strike="noStrike">
                <a:solidFill>
                  <a:srgbClr val="ff33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школы, которая … реализует идеи </a:t>
            </a:r>
            <a:r>
              <a:rPr b="0" i="1" lang="ru-RU" sz="2000" spc="-1" strike="noStrike">
                <a:solidFill>
                  <a:srgbClr val="2b03f5"/>
                </a:solidFill>
                <a:latin typeface="Calibri"/>
              </a:rPr>
              <a:t>развивающего</a:t>
            </a:r>
            <a:r>
              <a:rPr b="0" lang="ru-RU" sz="2000" spc="-1" strike="noStrike">
                <a:solidFill>
                  <a:srgbClr val="ff33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бразования от дошкольной подготовки до окончания школы»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1476360" y="3500280"/>
            <a:ext cx="6912000" cy="33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b03f5"/>
                </a:solidFill>
                <a:latin typeface="Arial"/>
              </a:rPr>
              <a:t>2008 г.: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Авторский коллектив «Школы 2100»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лауреат </a:t>
            </a: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премии Правительства Р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области образо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За </a:t>
            </a:r>
            <a:r>
              <a:rPr b="0" i="1" lang="ru-RU" sz="2000" spc="-1" strike="noStrike">
                <a:solidFill>
                  <a:srgbClr val="2b03f5"/>
                </a:solidFill>
                <a:latin typeface="Arial"/>
              </a:rPr>
              <a:t>теоретические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работки новой образовательной системы и их </a:t>
            </a:r>
            <a:r>
              <a:rPr b="0" i="1" lang="ru-RU" sz="2000" spc="-1" strike="noStrike">
                <a:solidFill>
                  <a:srgbClr val="c0504d"/>
                </a:solidFill>
                <a:latin typeface="Arial"/>
              </a:rPr>
              <a:t>практическую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реализацию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4" descr="Картинка 16 из 67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0920" y="3716280"/>
            <a:ext cx="1224000" cy="17287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6" descr=""/>
          <p:cNvPicPr/>
          <p:nvPr/>
        </p:nvPicPr>
        <p:blipFill>
          <a:blip r:embed="rId3"/>
          <a:srcRect l="59834" t="50383" r="32521" b="34513"/>
          <a:stretch/>
        </p:blipFill>
        <p:spPr>
          <a:xfrm>
            <a:off x="7642080" y="1197000"/>
            <a:ext cx="1106640" cy="1440000"/>
          </a:xfrm>
          <a:prstGeom prst="rect">
            <a:avLst/>
          </a:prstGeom>
          <a:ln w="0">
            <a:noFill/>
          </a:ln>
        </p:spPr>
      </p:pic>
      <p:sp>
        <p:nvSpPr>
          <p:cNvPr id="10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B3104-B11D-4CFF-B5A4-3EC024393A8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106200"/>
            <a:ext cx="9144000" cy="37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Кто создал систему «Школа 2100»?</a:t>
            </a:r>
            <a:endParaRPr b="0" lang="en-US" sz="28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68360" y="475920"/>
            <a:ext cx="8229600" cy="43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Единый авторский коллекти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684360" y="3733920"/>
            <a:ext cx="266364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еемствен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арш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нов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чаль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школьное образов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5"/>
          <p:cNvSpPr/>
          <p:nvPr/>
        </p:nvSpPr>
        <p:spPr>
          <a:xfrm flipV="1">
            <a:off x="3203640" y="4267080"/>
            <a:ext cx="0" cy="106704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6"/>
          <p:cNvSpPr/>
          <p:nvPr/>
        </p:nvSpPr>
        <p:spPr>
          <a:xfrm flipV="1">
            <a:off x="3203640" y="5334120"/>
            <a:ext cx="0" cy="761760"/>
          </a:xfrm>
          <a:prstGeom prst="line">
            <a:avLst/>
          </a:prstGeom>
          <a:ln w="76320">
            <a:solidFill>
              <a:srgbClr val="2b03f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7"/>
          <p:cNvSpPr/>
          <p:nvPr/>
        </p:nvSpPr>
        <p:spPr>
          <a:xfrm flipV="1">
            <a:off x="3203640" y="6095880"/>
            <a:ext cx="0" cy="457200"/>
          </a:xfrm>
          <a:prstGeom prst="line">
            <a:avLst/>
          </a:prstGeom>
          <a:ln w="7632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8"/>
          <p:cNvSpPr/>
          <p:nvPr/>
        </p:nvSpPr>
        <p:spPr>
          <a:xfrm flipV="1">
            <a:off x="3203640" y="3733920"/>
            <a:ext cx="0" cy="457200"/>
          </a:xfrm>
          <a:prstGeom prst="line">
            <a:avLst/>
          </a:prstGeom>
          <a:ln w="76320">
            <a:solidFill>
              <a:srgbClr val="29941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9"/>
          <p:cNvGrpSpPr/>
          <p:nvPr/>
        </p:nvGrpSpPr>
        <p:grpSpPr>
          <a:xfrm>
            <a:off x="3216240" y="1121040"/>
            <a:ext cx="5735520" cy="4323600"/>
            <a:chOff x="3216240" y="1121040"/>
            <a:chExt cx="5735520" cy="4323600"/>
          </a:xfrm>
        </p:grpSpPr>
        <p:sp>
          <p:nvSpPr>
            <p:cNvPr id="116" name="Oval 10"/>
            <p:cNvSpPr/>
            <p:nvPr/>
          </p:nvSpPr>
          <p:spPr>
            <a:xfrm rot="3916200">
              <a:off x="3922920" y="3011400"/>
              <a:ext cx="1128960" cy="227988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Oval 11"/>
            <p:cNvSpPr/>
            <p:nvPr/>
          </p:nvSpPr>
          <p:spPr>
            <a:xfrm rot="7017000">
              <a:off x="7115040" y="3137400"/>
              <a:ext cx="1128960" cy="227988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Oval 12"/>
            <p:cNvSpPr/>
            <p:nvPr/>
          </p:nvSpPr>
          <p:spPr>
            <a:xfrm rot="1559400">
              <a:off x="6410520" y="1331640"/>
              <a:ext cx="1173600" cy="219312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Oval 13"/>
            <p:cNvSpPr/>
            <p:nvPr/>
          </p:nvSpPr>
          <p:spPr>
            <a:xfrm rot="19919400">
              <a:off x="4584600" y="1267920"/>
              <a:ext cx="1173240" cy="219312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0" name="Picture 14" descr="Buneeva"/>
            <p:cNvPicPr/>
            <p:nvPr/>
          </p:nvPicPr>
          <p:blipFill>
            <a:blip r:embed="rId1"/>
            <a:stretch/>
          </p:blipFill>
          <p:spPr>
            <a:xfrm>
              <a:off x="4586040" y="1643760"/>
              <a:ext cx="870480" cy="1263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" name="Picture 15" descr=" Данилов Дмитрий Даимович "/>
            <p:cNvPicPr/>
            <p:nvPr/>
          </p:nvPicPr>
          <p:blipFill>
            <a:blip r:embed="rId2"/>
            <a:stretch/>
          </p:blipFill>
          <p:spPr>
            <a:xfrm>
              <a:off x="3803400" y="3713040"/>
              <a:ext cx="926280" cy="120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" name="Picture 16" descr=" Вахрушев Александр Александрович "/>
            <p:cNvPicPr/>
            <p:nvPr/>
          </p:nvPicPr>
          <p:blipFill>
            <a:blip r:embed="rId3"/>
            <a:stretch/>
          </p:blipFill>
          <p:spPr>
            <a:xfrm>
              <a:off x="6670800" y="1707480"/>
              <a:ext cx="901800" cy="120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" name="Picture 17" descr=" Горячев Александр Владимирович "/>
            <p:cNvPicPr/>
            <p:nvPr/>
          </p:nvPicPr>
          <p:blipFill>
            <a:blip r:embed="rId4"/>
            <a:stretch/>
          </p:blipFill>
          <p:spPr>
            <a:xfrm>
              <a:off x="7256880" y="3525120"/>
              <a:ext cx="970920" cy="126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Oval 18"/>
            <p:cNvSpPr/>
            <p:nvPr/>
          </p:nvSpPr>
          <p:spPr>
            <a:xfrm>
              <a:off x="5236920" y="2647440"/>
              <a:ext cx="1694880" cy="163044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Oval 19"/>
            <p:cNvSpPr/>
            <p:nvPr/>
          </p:nvSpPr>
          <p:spPr>
            <a:xfrm>
              <a:off x="5563080" y="3399480"/>
              <a:ext cx="1173240" cy="204516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6" name="Picture 20" descr=" Бунеев Рустэм Николаевич "/>
            <p:cNvPicPr/>
            <p:nvPr/>
          </p:nvPicPr>
          <p:blipFill>
            <a:blip r:embed="rId5"/>
            <a:stretch/>
          </p:blipFill>
          <p:spPr>
            <a:xfrm>
              <a:off x="5627880" y="2835360"/>
              <a:ext cx="929160" cy="124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21" descr="Kozlova"/>
            <p:cNvPicPr/>
            <p:nvPr/>
          </p:nvPicPr>
          <p:blipFill>
            <a:blip r:embed="rId6"/>
            <a:stretch/>
          </p:blipFill>
          <p:spPr>
            <a:xfrm>
              <a:off x="5627880" y="4146840"/>
              <a:ext cx="977040" cy="12978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28" name="Picture 22" descr="Картинка 1 из 187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1476360" y="1268280"/>
            <a:ext cx="1800360" cy="142740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23"/>
          <p:cNvSpPr/>
          <p:nvPr/>
        </p:nvSpPr>
        <p:spPr>
          <a:xfrm>
            <a:off x="1258920" y="1700280"/>
            <a:ext cx="431640" cy="151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24" descr="leontiev2[1]"/>
          <p:cNvPicPr/>
          <p:nvPr/>
        </p:nvPicPr>
        <p:blipFill>
          <a:blip r:embed="rId9"/>
          <a:stretch/>
        </p:blipFill>
        <p:spPr>
          <a:xfrm>
            <a:off x="468360" y="1413000"/>
            <a:ext cx="1174680" cy="151128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25"/>
          <p:cNvSpPr/>
          <p:nvPr/>
        </p:nvSpPr>
        <p:spPr>
          <a:xfrm>
            <a:off x="0" y="3068640"/>
            <a:ext cx="1224000" cy="50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26"/>
          <p:cNvSpPr/>
          <p:nvPr/>
        </p:nvSpPr>
        <p:spPr>
          <a:xfrm>
            <a:off x="0" y="3068640"/>
            <a:ext cx="1143000" cy="44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27"/>
          <p:cNvSpPr/>
          <p:nvPr/>
        </p:nvSpPr>
        <p:spPr>
          <a:xfrm>
            <a:off x="0" y="3141720"/>
            <a:ext cx="3805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.А. Леонтьев    Д.И. Фельдштей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28"/>
          <p:cNvSpPr/>
          <p:nvPr/>
        </p:nvSpPr>
        <p:spPr>
          <a:xfrm>
            <a:off x="3852720" y="981000"/>
            <a:ext cx="53992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вет координаторов направл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29"/>
          <p:cNvSpPr/>
          <p:nvPr/>
        </p:nvSpPr>
        <p:spPr>
          <a:xfrm>
            <a:off x="539640" y="981000"/>
            <a:ext cx="3168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учные руководите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30"/>
          <p:cNvSpPr/>
          <p:nvPr/>
        </p:nvSpPr>
        <p:spPr>
          <a:xfrm>
            <a:off x="3495240" y="2565360"/>
            <a:ext cx="150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.В.Бунее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31"/>
          <p:cNvSpPr/>
          <p:nvPr/>
        </p:nvSpPr>
        <p:spPr>
          <a:xfrm>
            <a:off x="4143240" y="3141720"/>
            <a:ext cx="139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.Н.Бунее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32"/>
          <p:cNvSpPr/>
          <p:nvPr/>
        </p:nvSpPr>
        <p:spPr>
          <a:xfrm>
            <a:off x="3565440" y="5300640"/>
            <a:ext cx="15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.Д.Данил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33"/>
          <p:cNvSpPr/>
          <p:nvPr/>
        </p:nvSpPr>
        <p:spPr>
          <a:xfrm>
            <a:off x="5437800" y="5373720"/>
            <a:ext cx="149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.А.Козл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34"/>
          <p:cNvSpPr/>
          <p:nvPr/>
        </p:nvSpPr>
        <p:spPr>
          <a:xfrm>
            <a:off x="5654160" y="1413000"/>
            <a:ext cx="167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.А.Вахруше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35"/>
          <p:cNvSpPr/>
          <p:nvPr/>
        </p:nvSpPr>
        <p:spPr>
          <a:xfrm>
            <a:off x="7454160" y="3213000"/>
            <a:ext cx="148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.В.Горяче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0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-360" y="404640"/>
            <a:ext cx="8991720" cy="64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Образовательная система «Школа 2100»</a:t>
            </a:r>
            <a:endParaRPr b="0" lang="en-US" sz="32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685800" y="1143000"/>
            <a:ext cx="327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Arial"/>
              </a:rPr>
              <a:t>Научная идея, цель (ЗАЧЕМ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971640" y="1916280"/>
            <a:ext cx="3124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9900"/>
                </a:solidFill>
                <a:latin typeface="Arial"/>
              </a:rPr>
              <a:t>Помочь каждому стать личностью, способной решать любые жизненные задачи, оставаясь при этом человеком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5"/>
          <p:cNvSpPr/>
          <p:nvPr/>
        </p:nvSpPr>
        <p:spPr>
          <a:xfrm>
            <a:off x="5181480" y="1143000"/>
            <a:ext cx="342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Комплект учебников (ЧТО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6"/>
          <p:cNvSpPr/>
          <p:nvPr/>
        </p:nvSpPr>
        <p:spPr>
          <a:xfrm>
            <a:off x="2286000" y="386064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Технологии работы (КАК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7"/>
          <p:cNvSpPr/>
          <p:nvPr/>
        </p:nvSpPr>
        <p:spPr>
          <a:xfrm>
            <a:off x="4500720" y="2997360"/>
            <a:ext cx="20667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Arial"/>
              </a:rPr>
              <a:t>Все предметы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Arial"/>
              </a:rPr>
              <a:t>с 1-го по 11-й класс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8"/>
          <p:cNvSpPr/>
          <p:nvPr/>
        </p:nvSpPr>
        <p:spPr>
          <a:xfrm>
            <a:off x="0" y="3645000"/>
            <a:ext cx="2819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9"/>
          <p:cNvSpPr/>
          <p:nvPr/>
        </p:nvSpPr>
        <p:spPr>
          <a:xfrm flipH="1">
            <a:off x="3200400" y="981000"/>
            <a:ext cx="1155600" cy="1620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10"/>
          <p:cNvSpPr/>
          <p:nvPr/>
        </p:nvSpPr>
        <p:spPr>
          <a:xfrm>
            <a:off x="4500720" y="981000"/>
            <a:ext cx="1214280" cy="1620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11"/>
          <p:cNvSpPr/>
          <p:nvPr/>
        </p:nvSpPr>
        <p:spPr>
          <a:xfrm flipH="1">
            <a:off x="4419720" y="1197000"/>
            <a:ext cx="7920" cy="27655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12" descr=""/>
          <p:cNvPicPr/>
          <p:nvPr/>
        </p:nvPicPr>
        <p:blipFill>
          <a:blip r:embed="rId1"/>
          <a:stretch/>
        </p:blipFill>
        <p:spPr>
          <a:xfrm>
            <a:off x="755640" y="3573360"/>
            <a:ext cx="1657440" cy="200664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13"/>
          <p:cNvSpPr/>
          <p:nvPr/>
        </p:nvSpPr>
        <p:spPr>
          <a:xfrm>
            <a:off x="3276720" y="4221000"/>
            <a:ext cx="4105080" cy="24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Times New Roman"/>
              </a:rPr>
              <a:t>Единые технолог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Times New Roman"/>
              </a:rPr>
              <a:t>(проблемный подход</a:t>
            </a:r>
            <a:r>
              <a:rPr b="0" lang="ru-RU" sz="1800" spc="-1" strike="noStrike">
                <a:solidFill>
                  <a:srgbClr val="0000cc"/>
                </a:solidFill>
                <a:latin typeface="Times New Roman"/>
              </a:rPr>
              <a:t>)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Times New Roman"/>
              </a:rPr>
              <a:t>Проблемный диало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Times New Roman"/>
              </a:rPr>
              <a:t>Правильный тип читательск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cc"/>
                </a:solidFill>
                <a:latin typeface="Times New Roman"/>
              </a:rPr>
              <a:t>деятель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Times New Roman"/>
              </a:rPr>
              <a:t>Проект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Times New Roman"/>
              </a:rPr>
              <a:t>Оценивания успех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14" descr="BS02064_"/>
          <p:cNvPicPr/>
          <p:nvPr/>
        </p:nvPicPr>
        <p:blipFill>
          <a:blip r:embed="rId2"/>
          <a:stretch/>
        </p:blipFill>
        <p:spPr>
          <a:xfrm>
            <a:off x="0" y="1600200"/>
            <a:ext cx="1332000" cy="1468440"/>
          </a:xfrm>
          <a:prstGeom prst="rect">
            <a:avLst/>
          </a:prstGeom>
          <a:ln w="0">
            <a:noFill/>
          </a:ln>
        </p:spPr>
      </p:pic>
      <p:grpSp>
        <p:nvGrpSpPr>
          <p:cNvPr id="156" name="Group 15"/>
          <p:cNvGrpSpPr/>
          <p:nvPr/>
        </p:nvGrpSpPr>
        <p:grpSpPr>
          <a:xfrm>
            <a:off x="5943600" y="1981080"/>
            <a:ext cx="1904400" cy="1320480"/>
            <a:chOff x="5943600" y="1981080"/>
            <a:chExt cx="1904400" cy="1320480"/>
          </a:xfrm>
        </p:grpSpPr>
        <p:grpSp>
          <p:nvGrpSpPr>
            <p:cNvPr id="157" name="Group 16"/>
            <p:cNvGrpSpPr/>
            <p:nvPr/>
          </p:nvGrpSpPr>
          <p:grpSpPr>
            <a:xfrm>
              <a:off x="6016320" y="2631600"/>
              <a:ext cx="1831680" cy="669960"/>
              <a:chOff x="6016320" y="2631600"/>
              <a:chExt cx="1831680" cy="669960"/>
            </a:xfrm>
          </p:grpSpPr>
          <p:sp>
            <p:nvSpPr>
              <p:cNvPr id="158" name="Freeform 17"/>
              <p:cNvSpPr/>
              <p:nvPr/>
            </p:nvSpPr>
            <p:spPr>
              <a:xfrm>
                <a:off x="6140880" y="2707560"/>
                <a:ext cx="1298880" cy="570600"/>
              </a:xfrm>
              <a:custGeom>
                <a:avLst/>
                <a:gdLst>
                  <a:gd name="textAreaLeft" fmla="*/ 0 w 1298880"/>
                  <a:gd name="textAreaRight" fmla="*/ 1299240 w 1298880"/>
                  <a:gd name="textAreaTop" fmla="*/ 0 h 570600"/>
                  <a:gd name="textAreaBottom" fmla="*/ 570960 h 570600"/>
                </a:gdLst>
                <a:ahLst/>
                <a:rect l="textAreaLeft" t="textAreaTop" r="textAreaRight" b="textAreaBottom"/>
                <a:pathLst>
                  <a:path w="2566" h="2741">
                    <a:moveTo>
                      <a:pt x="92" y="0"/>
                    </a:moveTo>
                    <a:lnTo>
                      <a:pt x="94" y="307"/>
                    </a:lnTo>
                    <a:lnTo>
                      <a:pt x="10" y="530"/>
                    </a:lnTo>
                    <a:lnTo>
                      <a:pt x="364" y="818"/>
                    </a:lnTo>
                    <a:lnTo>
                      <a:pt x="0" y="1593"/>
                    </a:lnTo>
                    <a:lnTo>
                      <a:pt x="560" y="2741"/>
                    </a:lnTo>
                    <a:lnTo>
                      <a:pt x="1750" y="2587"/>
                    </a:lnTo>
                    <a:lnTo>
                      <a:pt x="2566" y="1882"/>
                    </a:lnTo>
                    <a:lnTo>
                      <a:pt x="1775" y="222"/>
                    </a:lnTo>
                    <a:lnTo>
                      <a:pt x="9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Freeform 18"/>
              <p:cNvSpPr/>
              <p:nvPr/>
            </p:nvSpPr>
            <p:spPr>
              <a:xfrm>
                <a:off x="6096600" y="2901240"/>
                <a:ext cx="294120" cy="203400"/>
              </a:xfrm>
              <a:custGeom>
                <a:avLst/>
                <a:gdLst>
                  <a:gd name="textAreaLeft" fmla="*/ 0 w 294120"/>
                  <a:gd name="textAreaRight" fmla="*/ 294120 w 294120"/>
                  <a:gd name="textAreaTop" fmla="*/ 0 h 203400"/>
                  <a:gd name="textAreaBottom" fmla="*/ 203760 h 203400"/>
                </a:gdLst>
                <a:ahLst/>
                <a:rect l="textAreaLeft" t="textAreaTop" r="textAreaRight" b="textAreaBottom"/>
                <a:pathLst>
                  <a:path w="582" h="978">
                    <a:moveTo>
                      <a:pt x="300" y="0"/>
                    </a:moveTo>
                    <a:lnTo>
                      <a:pt x="0" y="48"/>
                    </a:lnTo>
                    <a:lnTo>
                      <a:pt x="37" y="135"/>
                    </a:lnTo>
                    <a:lnTo>
                      <a:pt x="582" y="978"/>
                    </a:lnTo>
                    <a:lnTo>
                      <a:pt x="339" y="126"/>
                    </a:lnTo>
                    <a:lnTo>
                      <a:pt x="300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Freeform 19"/>
              <p:cNvSpPr/>
              <p:nvPr/>
            </p:nvSpPr>
            <p:spPr>
              <a:xfrm>
                <a:off x="6058440" y="3001320"/>
                <a:ext cx="731520" cy="285840"/>
              </a:xfrm>
              <a:custGeom>
                <a:avLst/>
                <a:gdLst>
                  <a:gd name="textAreaLeft" fmla="*/ 0 w 731520"/>
                  <a:gd name="textAreaRight" fmla="*/ 731880 w 731520"/>
                  <a:gd name="textAreaTop" fmla="*/ 0 h 285840"/>
                  <a:gd name="textAreaBottom" fmla="*/ 286200 h 285840"/>
                </a:gdLst>
                <a:ahLst/>
                <a:rect l="textAreaLeft" t="textAreaTop" r="textAreaRight" b="textAreaBottom"/>
                <a:pathLst>
                  <a:path w="1445" h="1374">
                    <a:moveTo>
                      <a:pt x="247" y="0"/>
                    </a:moveTo>
                    <a:lnTo>
                      <a:pt x="0" y="93"/>
                    </a:lnTo>
                    <a:lnTo>
                      <a:pt x="656" y="1374"/>
                    </a:lnTo>
                    <a:lnTo>
                      <a:pt x="1445" y="1331"/>
                    </a:lnTo>
                    <a:lnTo>
                      <a:pt x="719" y="1182"/>
                    </a:lnTo>
                    <a:lnTo>
                      <a:pt x="204" y="156"/>
                    </a:lnTo>
                    <a:lnTo>
                      <a:pt x="247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Freeform 20"/>
              <p:cNvSpPr/>
              <p:nvPr/>
            </p:nvSpPr>
            <p:spPr>
              <a:xfrm>
                <a:off x="6032880" y="2637720"/>
                <a:ext cx="855720" cy="177840"/>
              </a:xfrm>
              <a:custGeom>
                <a:avLst/>
                <a:gdLst>
                  <a:gd name="textAreaLeft" fmla="*/ 0 w 855720"/>
                  <a:gd name="textAreaRight" fmla="*/ 856080 w 855720"/>
                  <a:gd name="textAreaTop" fmla="*/ 0 h 177840"/>
                  <a:gd name="textAreaBottom" fmla="*/ 178200 h 177840"/>
                </a:gdLst>
                <a:ahLst/>
                <a:rect l="textAreaLeft" t="textAreaTop" r="textAreaRight" b="textAreaBottom"/>
                <a:pathLst>
                  <a:path w="1694" h="855">
                    <a:moveTo>
                      <a:pt x="1463" y="0"/>
                    </a:moveTo>
                    <a:lnTo>
                      <a:pt x="20" y="275"/>
                    </a:lnTo>
                    <a:lnTo>
                      <a:pt x="0" y="335"/>
                    </a:lnTo>
                    <a:lnTo>
                      <a:pt x="1389" y="855"/>
                    </a:lnTo>
                    <a:lnTo>
                      <a:pt x="1694" y="731"/>
                    </a:lnTo>
                    <a:lnTo>
                      <a:pt x="845" y="455"/>
                    </a:lnTo>
                    <a:lnTo>
                      <a:pt x="1509" y="75"/>
                    </a:lnTo>
                    <a:lnTo>
                      <a:pt x="1463" y="0"/>
                    </a:lnTo>
                    <a:close/>
                  </a:path>
                </a:pathLst>
              </a:custGeom>
              <a:solidFill>
                <a:srgbClr val="f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Freeform 21"/>
              <p:cNvSpPr/>
              <p:nvPr/>
            </p:nvSpPr>
            <p:spPr>
              <a:xfrm>
                <a:off x="6052680" y="2789280"/>
                <a:ext cx="913320" cy="169920"/>
              </a:xfrm>
              <a:custGeom>
                <a:avLst/>
                <a:gdLst>
                  <a:gd name="textAreaLeft" fmla="*/ 0 w 913320"/>
                  <a:gd name="textAreaRight" fmla="*/ 913680 w 913320"/>
                  <a:gd name="textAreaTop" fmla="*/ 0 h 169920"/>
                  <a:gd name="textAreaBottom" fmla="*/ 170280 h 169920"/>
                </a:gdLst>
                <a:ahLst/>
                <a:rect l="textAreaLeft" t="textAreaTop" r="textAreaRight" b="textAreaBottom"/>
                <a:pathLst>
                  <a:path w="1806" h="816">
                    <a:moveTo>
                      <a:pt x="241" y="0"/>
                    </a:moveTo>
                    <a:lnTo>
                      <a:pt x="0" y="101"/>
                    </a:lnTo>
                    <a:lnTo>
                      <a:pt x="0" y="172"/>
                    </a:lnTo>
                    <a:lnTo>
                      <a:pt x="1349" y="816"/>
                    </a:lnTo>
                    <a:lnTo>
                      <a:pt x="1779" y="687"/>
                    </a:lnTo>
                    <a:lnTo>
                      <a:pt x="1806" y="570"/>
                    </a:lnTo>
                    <a:lnTo>
                      <a:pt x="1574" y="551"/>
                    </a:lnTo>
                    <a:lnTo>
                      <a:pt x="1344" y="636"/>
                    </a:lnTo>
                    <a:lnTo>
                      <a:pt x="207" y="129"/>
                    </a:lnTo>
                    <a:lnTo>
                      <a:pt x="241" y="0"/>
                    </a:lnTo>
                    <a:close/>
                  </a:path>
                </a:pathLst>
              </a:custGeom>
              <a:solidFill>
                <a:srgbClr val="f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Freeform 22"/>
              <p:cNvSpPr/>
              <p:nvPr/>
            </p:nvSpPr>
            <p:spPr>
              <a:xfrm>
                <a:off x="6213240" y="2869920"/>
                <a:ext cx="689040" cy="224640"/>
              </a:xfrm>
              <a:custGeom>
                <a:avLst/>
                <a:gdLst>
                  <a:gd name="textAreaLeft" fmla="*/ 0 w 689040"/>
                  <a:gd name="textAreaRight" fmla="*/ 689400 w 689040"/>
                  <a:gd name="textAreaTop" fmla="*/ 0 h 224640"/>
                  <a:gd name="textAreaBottom" fmla="*/ 225000 h 224640"/>
                </a:gdLst>
                <a:ahLst/>
                <a:rect l="textAreaLeft" t="textAreaTop" r="textAreaRight" b="textAreaBottom"/>
                <a:pathLst>
                  <a:path w="1360" h="1080">
                    <a:moveTo>
                      <a:pt x="6" y="59"/>
                    </a:moveTo>
                    <a:lnTo>
                      <a:pt x="0" y="180"/>
                    </a:lnTo>
                    <a:lnTo>
                      <a:pt x="10" y="314"/>
                    </a:lnTo>
                    <a:lnTo>
                      <a:pt x="78" y="384"/>
                    </a:lnTo>
                    <a:lnTo>
                      <a:pt x="226" y="419"/>
                    </a:lnTo>
                    <a:lnTo>
                      <a:pt x="805" y="844"/>
                    </a:lnTo>
                    <a:lnTo>
                      <a:pt x="1060" y="1040"/>
                    </a:lnTo>
                    <a:lnTo>
                      <a:pt x="1244" y="1080"/>
                    </a:lnTo>
                    <a:lnTo>
                      <a:pt x="1219" y="835"/>
                    </a:lnTo>
                    <a:lnTo>
                      <a:pt x="1360" y="465"/>
                    </a:lnTo>
                    <a:lnTo>
                      <a:pt x="1075" y="450"/>
                    </a:lnTo>
                    <a:lnTo>
                      <a:pt x="50" y="0"/>
                    </a:lnTo>
                    <a:lnTo>
                      <a:pt x="6" y="59"/>
                    </a:lnTo>
                    <a:close/>
                  </a:path>
                </a:pathLst>
              </a:custGeom>
              <a:solidFill>
                <a:srgbClr val="f7a8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Freeform 23"/>
              <p:cNvSpPr/>
              <p:nvPr/>
            </p:nvSpPr>
            <p:spPr>
              <a:xfrm>
                <a:off x="6632280" y="2678400"/>
                <a:ext cx="833040" cy="81000"/>
              </a:xfrm>
              <a:custGeom>
                <a:avLst/>
                <a:gdLst>
                  <a:gd name="textAreaLeft" fmla="*/ 0 w 833040"/>
                  <a:gd name="textAreaRight" fmla="*/ 833400 w 833040"/>
                  <a:gd name="textAreaTop" fmla="*/ 0 h 81000"/>
                  <a:gd name="textAreaBottom" fmla="*/ 81360 h 81000"/>
                </a:gdLst>
                <a:ahLst/>
                <a:rect l="textAreaLeft" t="textAreaTop" r="textAreaRight" b="textAreaBottom"/>
                <a:pathLst>
                  <a:path w="1646" h="390">
                    <a:moveTo>
                      <a:pt x="0" y="292"/>
                    </a:moveTo>
                    <a:lnTo>
                      <a:pt x="53" y="273"/>
                    </a:lnTo>
                    <a:lnTo>
                      <a:pt x="191" y="238"/>
                    </a:lnTo>
                    <a:lnTo>
                      <a:pt x="281" y="216"/>
                    </a:lnTo>
                    <a:lnTo>
                      <a:pt x="383" y="190"/>
                    </a:lnTo>
                    <a:lnTo>
                      <a:pt x="490" y="165"/>
                    </a:lnTo>
                    <a:lnTo>
                      <a:pt x="602" y="139"/>
                    </a:lnTo>
                    <a:lnTo>
                      <a:pt x="715" y="112"/>
                    </a:lnTo>
                    <a:lnTo>
                      <a:pt x="822" y="87"/>
                    </a:lnTo>
                    <a:lnTo>
                      <a:pt x="924" y="64"/>
                    </a:lnTo>
                    <a:lnTo>
                      <a:pt x="1014" y="43"/>
                    </a:lnTo>
                    <a:lnTo>
                      <a:pt x="1150" y="12"/>
                    </a:lnTo>
                    <a:lnTo>
                      <a:pt x="1202" y="0"/>
                    </a:lnTo>
                    <a:lnTo>
                      <a:pt x="1646" y="75"/>
                    </a:lnTo>
                    <a:lnTo>
                      <a:pt x="158" y="390"/>
                    </a:lnTo>
                    <a:lnTo>
                      <a:pt x="0" y="292"/>
                    </a:lnTo>
                    <a:close/>
                  </a:path>
                </a:pathLst>
              </a:custGeom>
              <a:solidFill>
                <a:srgbClr val="f0ea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Freeform 24"/>
              <p:cNvSpPr/>
              <p:nvPr/>
            </p:nvSpPr>
            <p:spPr>
              <a:xfrm>
                <a:off x="6621480" y="2972520"/>
                <a:ext cx="130680" cy="86400"/>
              </a:xfrm>
              <a:custGeom>
                <a:avLst/>
                <a:gdLst>
                  <a:gd name="textAreaLeft" fmla="*/ 0 w 130680"/>
                  <a:gd name="textAreaRight" fmla="*/ 131040 w 130680"/>
                  <a:gd name="textAreaTop" fmla="*/ 0 h 86400"/>
                  <a:gd name="textAreaBottom" fmla="*/ 86400 h 86400"/>
                </a:gdLst>
                <a:ahLst/>
                <a:rect l="textAreaLeft" t="textAreaTop" r="textAreaRight" b="textAreaBottom"/>
                <a:pathLst>
                  <a:path w="259" h="417">
                    <a:moveTo>
                      <a:pt x="75" y="0"/>
                    </a:moveTo>
                    <a:lnTo>
                      <a:pt x="259" y="21"/>
                    </a:lnTo>
                    <a:lnTo>
                      <a:pt x="135" y="241"/>
                    </a:lnTo>
                    <a:lnTo>
                      <a:pt x="110" y="417"/>
                    </a:lnTo>
                    <a:lnTo>
                      <a:pt x="0" y="350"/>
                    </a:lnTo>
                    <a:lnTo>
                      <a:pt x="25" y="80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f0ea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Freeform 25"/>
              <p:cNvSpPr/>
              <p:nvPr/>
            </p:nvSpPr>
            <p:spPr>
              <a:xfrm>
                <a:off x="6526080" y="3059280"/>
                <a:ext cx="213480" cy="51120"/>
              </a:xfrm>
              <a:custGeom>
                <a:avLst/>
                <a:gdLst>
                  <a:gd name="textAreaLeft" fmla="*/ 0 w 213480"/>
                  <a:gd name="textAreaRight" fmla="*/ 213840 w 213480"/>
                  <a:gd name="textAreaTop" fmla="*/ 0 h 51120"/>
                  <a:gd name="textAreaBottom" fmla="*/ 51480 h 51120"/>
                </a:gdLst>
                <a:ahLst/>
                <a:rect l="textAreaLeft" t="textAreaTop" r="textAreaRight" b="textAreaBottom"/>
                <a:pathLst>
                  <a:path w="423" h="247">
                    <a:moveTo>
                      <a:pt x="0" y="16"/>
                    </a:moveTo>
                    <a:lnTo>
                      <a:pt x="174" y="0"/>
                    </a:lnTo>
                    <a:lnTo>
                      <a:pt x="423" y="201"/>
                    </a:lnTo>
                    <a:lnTo>
                      <a:pt x="44" y="247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f0ea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Freeform 26"/>
              <p:cNvSpPr/>
              <p:nvPr/>
            </p:nvSpPr>
            <p:spPr>
              <a:xfrm>
                <a:off x="6467040" y="3115440"/>
                <a:ext cx="1203480" cy="156240"/>
              </a:xfrm>
              <a:custGeom>
                <a:avLst/>
                <a:gdLst>
                  <a:gd name="textAreaLeft" fmla="*/ 0 w 1203480"/>
                  <a:gd name="textAreaRight" fmla="*/ 1203840 w 1203480"/>
                  <a:gd name="textAreaTop" fmla="*/ 0 h 156240"/>
                  <a:gd name="textAreaBottom" fmla="*/ 156600 h 156240"/>
                </a:gdLst>
                <a:ahLst/>
                <a:rect l="textAreaLeft" t="textAreaTop" r="textAreaRight" b="textAreaBottom"/>
                <a:pathLst>
                  <a:path w="2378" h="751">
                    <a:moveTo>
                      <a:pt x="155" y="301"/>
                    </a:moveTo>
                    <a:lnTo>
                      <a:pt x="129" y="450"/>
                    </a:lnTo>
                    <a:lnTo>
                      <a:pt x="0" y="601"/>
                    </a:lnTo>
                    <a:lnTo>
                      <a:pt x="563" y="751"/>
                    </a:lnTo>
                    <a:lnTo>
                      <a:pt x="1684" y="647"/>
                    </a:lnTo>
                    <a:lnTo>
                      <a:pt x="1763" y="616"/>
                    </a:lnTo>
                    <a:lnTo>
                      <a:pt x="1913" y="647"/>
                    </a:lnTo>
                    <a:lnTo>
                      <a:pt x="2042" y="630"/>
                    </a:lnTo>
                    <a:lnTo>
                      <a:pt x="2187" y="607"/>
                    </a:lnTo>
                    <a:lnTo>
                      <a:pt x="2221" y="580"/>
                    </a:lnTo>
                    <a:lnTo>
                      <a:pt x="2276" y="534"/>
                    </a:lnTo>
                    <a:lnTo>
                      <a:pt x="2326" y="490"/>
                    </a:lnTo>
                    <a:lnTo>
                      <a:pt x="2348" y="471"/>
                    </a:lnTo>
                    <a:lnTo>
                      <a:pt x="2378" y="186"/>
                    </a:lnTo>
                    <a:lnTo>
                      <a:pt x="2218" y="0"/>
                    </a:lnTo>
                    <a:lnTo>
                      <a:pt x="1439" y="140"/>
                    </a:lnTo>
                    <a:lnTo>
                      <a:pt x="155" y="301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Freeform 27"/>
              <p:cNvSpPr/>
              <p:nvPr/>
            </p:nvSpPr>
            <p:spPr>
              <a:xfrm>
                <a:off x="6139080" y="2915640"/>
                <a:ext cx="1549800" cy="360360"/>
              </a:xfrm>
              <a:custGeom>
                <a:avLst/>
                <a:gdLst>
                  <a:gd name="textAreaLeft" fmla="*/ 0 w 1549800"/>
                  <a:gd name="textAreaRight" fmla="*/ 1550160 w 1549800"/>
                  <a:gd name="textAreaTop" fmla="*/ 0 h 360360"/>
                  <a:gd name="textAreaBottom" fmla="*/ 360720 h 360360"/>
                </a:gdLst>
                <a:ahLst/>
                <a:rect l="textAreaLeft" t="textAreaTop" r="textAreaRight" b="textAreaBottom"/>
                <a:pathLst>
                  <a:path w="3063" h="1730">
                    <a:moveTo>
                      <a:pt x="15" y="29"/>
                    </a:moveTo>
                    <a:lnTo>
                      <a:pt x="134" y="0"/>
                    </a:lnTo>
                    <a:lnTo>
                      <a:pt x="205" y="184"/>
                    </a:lnTo>
                    <a:lnTo>
                      <a:pt x="306" y="212"/>
                    </a:lnTo>
                    <a:lnTo>
                      <a:pt x="880" y="630"/>
                    </a:lnTo>
                    <a:lnTo>
                      <a:pt x="669" y="680"/>
                    </a:lnTo>
                    <a:lnTo>
                      <a:pt x="809" y="936"/>
                    </a:lnTo>
                    <a:lnTo>
                      <a:pt x="1284" y="885"/>
                    </a:lnTo>
                    <a:lnTo>
                      <a:pt x="1594" y="980"/>
                    </a:lnTo>
                    <a:lnTo>
                      <a:pt x="2453" y="705"/>
                    </a:lnTo>
                    <a:lnTo>
                      <a:pt x="2883" y="730"/>
                    </a:lnTo>
                    <a:lnTo>
                      <a:pt x="3063" y="970"/>
                    </a:lnTo>
                    <a:lnTo>
                      <a:pt x="3014" y="1427"/>
                    </a:lnTo>
                    <a:lnTo>
                      <a:pt x="2858" y="1555"/>
                    </a:lnTo>
                    <a:lnTo>
                      <a:pt x="2537" y="1614"/>
                    </a:lnTo>
                    <a:lnTo>
                      <a:pt x="2388" y="1581"/>
                    </a:lnTo>
                    <a:lnTo>
                      <a:pt x="2269" y="1620"/>
                    </a:lnTo>
                    <a:lnTo>
                      <a:pt x="1115" y="1730"/>
                    </a:lnTo>
                    <a:lnTo>
                      <a:pt x="561" y="1594"/>
                    </a:lnTo>
                    <a:lnTo>
                      <a:pt x="964" y="1535"/>
                    </a:lnTo>
                    <a:lnTo>
                      <a:pt x="2554" y="1409"/>
                    </a:lnTo>
                    <a:lnTo>
                      <a:pt x="2808" y="1395"/>
                    </a:lnTo>
                    <a:lnTo>
                      <a:pt x="2908" y="1160"/>
                    </a:lnTo>
                    <a:lnTo>
                      <a:pt x="2892" y="1133"/>
                    </a:lnTo>
                    <a:lnTo>
                      <a:pt x="2855" y="1074"/>
                    </a:lnTo>
                    <a:lnTo>
                      <a:pt x="2834" y="1042"/>
                    </a:lnTo>
                    <a:lnTo>
                      <a:pt x="2815" y="1012"/>
                    </a:lnTo>
                    <a:lnTo>
                      <a:pt x="2788" y="980"/>
                    </a:lnTo>
                    <a:lnTo>
                      <a:pt x="2536" y="1006"/>
                    </a:lnTo>
                    <a:lnTo>
                      <a:pt x="2372" y="1029"/>
                    </a:lnTo>
                    <a:lnTo>
                      <a:pt x="2298" y="1040"/>
                    </a:lnTo>
                    <a:lnTo>
                      <a:pt x="784" y="1215"/>
                    </a:lnTo>
                    <a:lnTo>
                      <a:pt x="703" y="1237"/>
                    </a:lnTo>
                    <a:lnTo>
                      <a:pt x="0" y="119"/>
                    </a:lnTo>
                    <a:lnTo>
                      <a:pt x="459" y="710"/>
                    </a:lnTo>
                    <a:lnTo>
                      <a:pt x="15" y="29"/>
                    </a:lnTo>
                    <a:close/>
                  </a:path>
                </a:pathLst>
              </a:custGeom>
              <a:solidFill>
                <a:srgbClr val="7a7a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Freeform 28"/>
              <p:cNvSpPr/>
              <p:nvPr/>
            </p:nvSpPr>
            <p:spPr>
              <a:xfrm>
                <a:off x="7200000" y="3056040"/>
                <a:ext cx="300240" cy="37440"/>
              </a:xfrm>
              <a:custGeom>
                <a:avLst/>
                <a:gdLst>
                  <a:gd name="textAreaLeft" fmla="*/ 0 w 300240"/>
                  <a:gd name="textAreaRight" fmla="*/ 300600 w 300240"/>
                  <a:gd name="textAreaTop" fmla="*/ 0 h 37440"/>
                  <a:gd name="textAreaBottom" fmla="*/ 37800 h 37440"/>
                </a:gdLst>
                <a:ahLst/>
                <a:rect l="textAreaLeft" t="textAreaTop" r="textAreaRight" b="textAreaBottom"/>
                <a:pathLst>
                  <a:path w="593" h="178">
                    <a:moveTo>
                      <a:pt x="0" y="178"/>
                    </a:moveTo>
                    <a:lnTo>
                      <a:pt x="423" y="161"/>
                    </a:lnTo>
                    <a:lnTo>
                      <a:pt x="593" y="142"/>
                    </a:lnTo>
                    <a:lnTo>
                      <a:pt x="519" y="68"/>
                    </a:lnTo>
                    <a:lnTo>
                      <a:pt x="546" y="0"/>
                    </a:lnTo>
                    <a:lnTo>
                      <a:pt x="380" y="29"/>
                    </a:lnTo>
                    <a:lnTo>
                      <a:pt x="155" y="124"/>
                    </a:lnTo>
                    <a:lnTo>
                      <a:pt x="0" y="178"/>
                    </a:lnTo>
                    <a:close/>
                  </a:path>
                </a:pathLst>
              </a:custGeom>
              <a:solidFill>
                <a:srgbClr val="948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Freeform 29"/>
              <p:cNvSpPr/>
              <p:nvPr/>
            </p:nvSpPr>
            <p:spPr>
              <a:xfrm>
                <a:off x="6603480" y="2959920"/>
                <a:ext cx="133200" cy="99000"/>
              </a:xfrm>
              <a:custGeom>
                <a:avLst/>
                <a:gdLst>
                  <a:gd name="textAreaLeft" fmla="*/ 0 w 133200"/>
                  <a:gd name="textAreaRight" fmla="*/ 133560 w 133200"/>
                  <a:gd name="textAreaTop" fmla="*/ 0 h 99000"/>
                  <a:gd name="textAreaBottom" fmla="*/ 99360 h 99000"/>
                </a:gdLst>
                <a:ahLst/>
                <a:rect l="textAreaLeft" t="textAreaTop" r="textAreaRight" b="textAreaBottom"/>
                <a:pathLst>
                  <a:path w="264" h="477">
                    <a:moveTo>
                      <a:pt x="9" y="420"/>
                    </a:moveTo>
                    <a:lnTo>
                      <a:pt x="0" y="266"/>
                    </a:lnTo>
                    <a:lnTo>
                      <a:pt x="59" y="96"/>
                    </a:lnTo>
                    <a:lnTo>
                      <a:pt x="109" y="0"/>
                    </a:lnTo>
                    <a:lnTo>
                      <a:pt x="264" y="81"/>
                    </a:lnTo>
                    <a:lnTo>
                      <a:pt x="214" y="106"/>
                    </a:lnTo>
                    <a:lnTo>
                      <a:pt x="119" y="131"/>
                    </a:lnTo>
                    <a:lnTo>
                      <a:pt x="73" y="245"/>
                    </a:lnTo>
                    <a:lnTo>
                      <a:pt x="73" y="366"/>
                    </a:lnTo>
                    <a:lnTo>
                      <a:pt x="144" y="477"/>
                    </a:lnTo>
                    <a:lnTo>
                      <a:pt x="9" y="420"/>
                    </a:lnTo>
                    <a:close/>
                  </a:path>
                </a:pathLst>
              </a:custGeom>
              <a:solidFill>
                <a:srgbClr val="b8ad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Freeform 30"/>
              <p:cNvSpPr/>
              <p:nvPr/>
            </p:nvSpPr>
            <p:spPr>
              <a:xfrm>
                <a:off x="6627600" y="2674080"/>
                <a:ext cx="700920" cy="102960"/>
              </a:xfrm>
              <a:custGeom>
                <a:avLst/>
                <a:gdLst>
                  <a:gd name="textAreaLeft" fmla="*/ 0 w 700920"/>
                  <a:gd name="textAreaRight" fmla="*/ 701280 w 70092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1385" h="496">
                    <a:moveTo>
                      <a:pt x="0" y="297"/>
                    </a:moveTo>
                    <a:lnTo>
                      <a:pt x="1110" y="0"/>
                    </a:lnTo>
                    <a:lnTo>
                      <a:pt x="1255" y="31"/>
                    </a:lnTo>
                    <a:lnTo>
                      <a:pt x="269" y="309"/>
                    </a:lnTo>
                    <a:lnTo>
                      <a:pt x="1385" y="121"/>
                    </a:lnTo>
                    <a:lnTo>
                      <a:pt x="291" y="496"/>
                    </a:lnTo>
                    <a:lnTo>
                      <a:pt x="0" y="297"/>
                    </a:lnTo>
                    <a:close/>
                  </a:path>
                </a:pathLst>
              </a:custGeom>
              <a:solidFill>
                <a:srgbClr val="b8ad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Freeform 31"/>
              <p:cNvSpPr/>
              <p:nvPr/>
            </p:nvSpPr>
            <p:spPr>
              <a:xfrm>
                <a:off x="6477840" y="3048120"/>
                <a:ext cx="300240" cy="62280"/>
              </a:xfrm>
              <a:custGeom>
                <a:avLst/>
                <a:gdLst>
                  <a:gd name="textAreaLeft" fmla="*/ 0 w 300240"/>
                  <a:gd name="textAreaRight" fmla="*/ 300240 w 300240"/>
                  <a:gd name="textAreaTop" fmla="*/ 0 h 62280"/>
                  <a:gd name="textAreaBottom" fmla="*/ 62640 h 62280"/>
                </a:gdLst>
                <a:ahLst/>
                <a:rect l="textAreaLeft" t="textAreaTop" r="textAreaRight" b="textAreaBottom"/>
                <a:pathLst>
                  <a:path w="595" h="300">
                    <a:moveTo>
                      <a:pt x="0" y="44"/>
                    </a:moveTo>
                    <a:lnTo>
                      <a:pt x="187" y="0"/>
                    </a:lnTo>
                    <a:lnTo>
                      <a:pt x="428" y="131"/>
                    </a:lnTo>
                    <a:lnTo>
                      <a:pt x="595" y="251"/>
                    </a:lnTo>
                    <a:lnTo>
                      <a:pt x="490" y="269"/>
                    </a:lnTo>
                    <a:lnTo>
                      <a:pt x="375" y="193"/>
                    </a:lnTo>
                    <a:lnTo>
                      <a:pt x="291" y="109"/>
                    </a:lnTo>
                    <a:lnTo>
                      <a:pt x="155" y="94"/>
                    </a:lnTo>
                    <a:lnTo>
                      <a:pt x="140" y="300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b8ad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Freeform 32"/>
              <p:cNvSpPr/>
              <p:nvPr/>
            </p:nvSpPr>
            <p:spPr>
              <a:xfrm>
                <a:off x="6946560" y="2815560"/>
                <a:ext cx="228960" cy="251640"/>
              </a:xfrm>
              <a:custGeom>
                <a:avLst/>
                <a:gdLst>
                  <a:gd name="textAreaLeft" fmla="*/ 0 w 228960"/>
                  <a:gd name="textAreaRight" fmla="*/ 229320 w 228960"/>
                  <a:gd name="textAreaTop" fmla="*/ 0 h 251640"/>
                  <a:gd name="textAreaBottom" fmla="*/ 252000 h 251640"/>
                </a:gdLst>
                <a:ahLst/>
                <a:rect l="textAreaLeft" t="textAreaTop" r="textAreaRight" b="textAreaBottom"/>
                <a:pathLst>
                  <a:path w="452" h="1211">
                    <a:moveTo>
                      <a:pt x="71" y="96"/>
                    </a:moveTo>
                    <a:lnTo>
                      <a:pt x="362" y="0"/>
                    </a:lnTo>
                    <a:lnTo>
                      <a:pt x="452" y="110"/>
                    </a:lnTo>
                    <a:lnTo>
                      <a:pt x="322" y="776"/>
                    </a:lnTo>
                    <a:lnTo>
                      <a:pt x="186" y="896"/>
                    </a:lnTo>
                    <a:lnTo>
                      <a:pt x="182" y="1211"/>
                    </a:lnTo>
                    <a:lnTo>
                      <a:pt x="71" y="1086"/>
                    </a:lnTo>
                    <a:lnTo>
                      <a:pt x="49" y="941"/>
                    </a:lnTo>
                    <a:lnTo>
                      <a:pt x="27" y="841"/>
                    </a:lnTo>
                    <a:lnTo>
                      <a:pt x="5" y="794"/>
                    </a:lnTo>
                    <a:lnTo>
                      <a:pt x="0" y="772"/>
                    </a:lnTo>
                    <a:lnTo>
                      <a:pt x="5" y="716"/>
                    </a:lnTo>
                    <a:lnTo>
                      <a:pt x="30" y="549"/>
                    </a:lnTo>
                    <a:lnTo>
                      <a:pt x="61" y="382"/>
                    </a:lnTo>
                    <a:lnTo>
                      <a:pt x="77" y="305"/>
                    </a:lnTo>
                    <a:lnTo>
                      <a:pt x="37" y="121"/>
                    </a:lnTo>
                    <a:lnTo>
                      <a:pt x="71" y="96"/>
                    </a:lnTo>
                    <a:close/>
                  </a:path>
                </a:pathLst>
              </a:custGeom>
              <a:solidFill>
                <a:srgbClr val="ff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Freeform 33"/>
              <p:cNvSpPr/>
              <p:nvPr/>
            </p:nvSpPr>
            <p:spPr>
              <a:xfrm>
                <a:off x="6972120" y="2805120"/>
                <a:ext cx="239760" cy="268560"/>
              </a:xfrm>
              <a:custGeom>
                <a:avLst/>
                <a:gdLst>
                  <a:gd name="textAreaLeft" fmla="*/ 0 w 239760"/>
                  <a:gd name="textAreaRight" fmla="*/ 240120 w 239760"/>
                  <a:gd name="textAreaTop" fmla="*/ 0 h 268560"/>
                  <a:gd name="textAreaBottom" fmla="*/ 268920 h 268560"/>
                </a:gdLst>
                <a:ahLst/>
                <a:rect l="textAreaLeft" t="textAreaTop" r="textAreaRight" b="textAreaBottom"/>
                <a:pathLst>
                  <a:path w="474" h="1290">
                    <a:moveTo>
                      <a:pt x="0" y="109"/>
                    </a:moveTo>
                    <a:lnTo>
                      <a:pt x="369" y="0"/>
                    </a:lnTo>
                    <a:lnTo>
                      <a:pt x="474" y="214"/>
                    </a:lnTo>
                    <a:lnTo>
                      <a:pt x="310" y="689"/>
                    </a:lnTo>
                    <a:lnTo>
                      <a:pt x="434" y="1005"/>
                    </a:lnTo>
                    <a:lnTo>
                      <a:pt x="230" y="959"/>
                    </a:lnTo>
                    <a:lnTo>
                      <a:pt x="140" y="1290"/>
                    </a:lnTo>
                    <a:lnTo>
                      <a:pt x="57" y="1026"/>
                    </a:lnTo>
                    <a:lnTo>
                      <a:pt x="15" y="779"/>
                    </a:lnTo>
                    <a:lnTo>
                      <a:pt x="90" y="509"/>
                    </a:lnTo>
                    <a:lnTo>
                      <a:pt x="34" y="304"/>
                    </a:lnTo>
                    <a:lnTo>
                      <a:pt x="124" y="214"/>
                    </a:lnTo>
                    <a:lnTo>
                      <a:pt x="230" y="244"/>
                    </a:lnTo>
                    <a:lnTo>
                      <a:pt x="190" y="339"/>
                    </a:lnTo>
                    <a:lnTo>
                      <a:pt x="264" y="390"/>
                    </a:lnTo>
                    <a:lnTo>
                      <a:pt x="115" y="689"/>
                    </a:lnTo>
                    <a:lnTo>
                      <a:pt x="190" y="675"/>
                    </a:lnTo>
                    <a:lnTo>
                      <a:pt x="115" y="900"/>
                    </a:lnTo>
                    <a:lnTo>
                      <a:pt x="214" y="785"/>
                    </a:lnTo>
                    <a:lnTo>
                      <a:pt x="260" y="555"/>
                    </a:lnTo>
                    <a:lnTo>
                      <a:pt x="260" y="484"/>
                    </a:lnTo>
                    <a:lnTo>
                      <a:pt x="339" y="314"/>
                    </a:lnTo>
                    <a:lnTo>
                      <a:pt x="285" y="300"/>
                    </a:lnTo>
                    <a:lnTo>
                      <a:pt x="304" y="170"/>
                    </a:lnTo>
                    <a:lnTo>
                      <a:pt x="180" y="149"/>
                    </a:lnTo>
                    <a:lnTo>
                      <a:pt x="199" y="99"/>
                    </a:lnTo>
                    <a:lnTo>
                      <a:pt x="25" y="195"/>
                    </a:lnTo>
                    <a:lnTo>
                      <a:pt x="0" y="109"/>
                    </a:lnTo>
                    <a:close/>
                  </a:path>
                </a:pathLst>
              </a:custGeom>
              <a:solidFill>
                <a:srgbClr val="ff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Freeform 34"/>
              <p:cNvSpPr/>
              <p:nvPr/>
            </p:nvSpPr>
            <p:spPr>
              <a:xfrm>
                <a:off x="6231600" y="2909520"/>
                <a:ext cx="402120" cy="142200"/>
              </a:xfrm>
              <a:custGeom>
                <a:avLst/>
                <a:gdLst>
                  <a:gd name="textAreaLeft" fmla="*/ 0 w 402120"/>
                  <a:gd name="textAreaRight" fmla="*/ 402480 w 402120"/>
                  <a:gd name="textAreaTop" fmla="*/ 0 h 142200"/>
                  <a:gd name="textAreaBottom" fmla="*/ 142560 h 142200"/>
                </a:gdLst>
                <a:ahLst/>
                <a:rect l="textAreaLeft" t="textAreaTop" r="textAreaRight" b="textAreaBottom"/>
                <a:pathLst>
                  <a:path w="794" h="686">
                    <a:moveTo>
                      <a:pt x="0" y="136"/>
                    </a:moveTo>
                    <a:lnTo>
                      <a:pt x="60" y="40"/>
                    </a:lnTo>
                    <a:lnTo>
                      <a:pt x="134" y="0"/>
                    </a:lnTo>
                    <a:lnTo>
                      <a:pt x="144" y="96"/>
                    </a:lnTo>
                    <a:lnTo>
                      <a:pt x="349" y="291"/>
                    </a:lnTo>
                    <a:lnTo>
                      <a:pt x="653" y="466"/>
                    </a:lnTo>
                    <a:lnTo>
                      <a:pt x="794" y="341"/>
                    </a:lnTo>
                    <a:lnTo>
                      <a:pt x="714" y="686"/>
                    </a:lnTo>
                    <a:lnTo>
                      <a:pt x="100" y="230"/>
                    </a:lnTo>
                    <a:lnTo>
                      <a:pt x="20" y="215"/>
                    </a:lnTo>
                    <a:lnTo>
                      <a:pt x="0" y="136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Freeform 35"/>
              <p:cNvSpPr/>
              <p:nvPr/>
            </p:nvSpPr>
            <p:spPr>
              <a:xfrm>
                <a:off x="6222600" y="2872080"/>
                <a:ext cx="456480" cy="107640"/>
              </a:xfrm>
              <a:custGeom>
                <a:avLst/>
                <a:gdLst>
                  <a:gd name="textAreaLeft" fmla="*/ 0 w 456480"/>
                  <a:gd name="textAreaRight" fmla="*/ 456840 w 456480"/>
                  <a:gd name="textAreaTop" fmla="*/ 0 h 107640"/>
                  <a:gd name="textAreaBottom" fmla="*/ 108000 h 107640"/>
                </a:gdLst>
                <a:ahLst/>
                <a:rect l="textAreaLeft" t="textAreaTop" r="textAreaRight" b="textAreaBottom"/>
                <a:pathLst>
                  <a:path w="902" h="521">
                    <a:moveTo>
                      <a:pt x="32" y="40"/>
                    </a:moveTo>
                    <a:lnTo>
                      <a:pt x="0" y="102"/>
                    </a:lnTo>
                    <a:lnTo>
                      <a:pt x="143" y="121"/>
                    </a:lnTo>
                    <a:lnTo>
                      <a:pt x="767" y="446"/>
                    </a:lnTo>
                    <a:lnTo>
                      <a:pt x="812" y="521"/>
                    </a:lnTo>
                    <a:lnTo>
                      <a:pt x="902" y="435"/>
                    </a:lnTo>
                    <a:lnTo>
                      <a:pt x="93" y="0"/>
                    </a:lnTo>
                    <a:lnTo>
                      <a:pt x="32" y="40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Freeform 36"/>
              <p:cNvSpPr/>
              <p:nvPr/>
            </p:nvSpPr>
            <p:spPr>
              <a:xfrm>
                <a:off x="6694560" y="2932560"/>
                <a:ext cx="1143000" cy="187200"/>
              </a:xfrm>
              <a:custGeom>
                <a:avLst/>
                <a:gdLst>
                  <a:gd name="textAreaLeft" fmla="*/ 0 w 1143000"/>
                  <a:gd name="textAreaRight" fmla="*/ 1143360 w 1143000"/>
                  <a:gd name="textAreaTop" fmla="*/ 0 h 187200"/>
                  <a:gd name="textAreaBottom" fmla="*/ 187560 h 187200"/>
                </a:gdLst>
                <a:ahLst/>
                <a:rect l="textAreaLeft" t="textAreaTop" r="textAreaRight" b="textAreaBottom"/>
                <a:pathLst>
                  <a:path w="2259" h="900">
                    <a:moveTo>
                      <a:pt x="11" y="515"/>
                    </a:moveTo>
                    <a:lnTo>
                      <a:pt x="90" y="655"/>
                    </a:lnTo>
                    <a:lnTo>
                      <a:pt x="226" y="709"/>
                    </a:lnTo>
                    <a:lnTo>
                      <a:pt x="231" y="510"/>
                    </a:lnTo>
                    <a:lnTo>
                      <a:pt x="321" y="284"/>
                    </a:lnTo>
                    <a:lnTo>
                      <a:pt x="201" y="345"/>
                    </a:lnTo>
                    <a:lnTo>
                      <a:pt x="155" y="379"/>
                    </a:lnTo>
                    <a:lnTo>
                      <a:pt x="141" y="315"/>
                    </a:lnTo>
                    <a:lnTo>
                      <a:pt x="146" y="184"/>
                    </a:lnTo>
                    <a:lnTo>
                      <a:pt x="511" y="0"/>
                    </a:lnTo>
                    <a:lnTo>
                      <a:pt x="504" y="233"/>
                    </a:lnTo>
                    <a:lnTo>
                      <a:pt x="437" y="283"/>
                    </a:lnTo>
                    <a:lnTo>
                      <a:pt x="390" y="540"/>
                    </a:lnTo>
                    <a:lnTo>
                      <a:pt x="481" y="730"/>
                    </a:lnTo>
                    <a:lnTo>
                      <a:pt x="1885" y="305"/>
                    </a:lnTo>
                    <a:lnTo>
                      <a:pt x="1780" y="100"/>
                    </a:lnTo>
                    <a:lnTo>
                      <a:pt x="2259" y="299"/>
                    </a:lnTo>
                    <a:lnTo>
                      <a:pt x="2179" y="355"/>
                    </a:lnTo>
                    <a:lnTo>
                      <a:pt x="496" y="900"/>
                    </a:lnTo>
                    <a:lnTo>
                      <a:pt x="349" y="864"/>
                    </a:lnTo>
                    <a:lnTo>
                      <a:pt x="46" y="740"/>
                    </a:lnTo>
                    <a:lnTo>
                      <a:pt x="0" y="600"/>
                    </a:lnTo>
                    <a:lnTo>
                      <a:pt x="11" y="515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Freeform 37"/>
              <p:cNvSpPr/>
              <p:nvPr/>
            </p:nvSpPr>
            <p:spPr>
              <a:xfrm>
                <a:off x="7124040" y="2851920"/>
                <a:ext cx="678240" cy="121680"/>
              </a:xfrm>
              <a:custGeom>
                <a:avLst/>
                <a:gdLst/>
                <a:ahLst/>
                <a:rect l="l" t="t" r="r" b="b"/>
                <a:pathLst>
                  <a:path w="1340" h="586">
                    <a:moveTo>
                      <a:pt x="100" y="210"/>
                    </a:moveTo>
                    <a:lnTo>
                      <a:pt x="634" y="0"/>
                    </a:lnTo>
                    <a:lnTo>
                      <a:pt x="1340" y="170"/>
                    </a:lnTo>
                    <a:lnTo>
                      <a:pt x="1208" y="256"/>
                    </a:lnTo>
                    <a:lnTo>
                      <a:pt x="14" y="586"/>
                    </a:lnTo>
                    <a:lnTo>
                      <a:pt x="0" y="436"/>
                    </a:lnTo>
                    <a:lnTo>
                      <a:pt x="100" y="210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Freeform 38"/>
              <p:cNvSpPr/>
              <p:nvPr/>
            </p:nvSpPr>
            <p:spPr>
              <a:xfrm>
                <a:off x="6066360" y="2817000"/>
                <a:ext cx="700920" cy="159840"/>
              </a:xfrm>
              <a:custGeom>
                <a:avLst/>
                <a:gdLst>
                  <a:gd name="textAreaLeft" fmla="*/ 0 w 700920"/>
                  <a:gd name="textAreaRight" fmla="*/ 701280 w 700920"/>
                  <a:gd name="textAreaTop" fmla="*/ 0 h 159840"/>
                  <a:gd name="textAreaBottom" fmla="*/ 160200 h 159840"/>
                </a:gdLst>
                <a:ahLst/>
                <a:rect l="textAreaLeft" t="textAreaTop" r="textAreaRight" b="textAreaBottom"/>
                <a:pathLst>
                  <a:path w="1387" h="770">
                    <a:moveTo>
                      <a:pt x="0" y="45"/>
                    </a:moveTo>
                    <a:lnTo>
                      <a:pt x="24" y="0"/>
                    </a:lnTo>
                    <a:lnTo>
                      <a:pt x="1387" y="659"/>
                    </a:lnTo>
                    <a:lnTo>
                      <a:pt x="1356" y="770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ae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Freeform 39"/>
              <p:cNvSpPr/>
              <p:nvPr/>
            </p:nvSpPr>
            <p:spPr>
              <a:xfrm>
                <a:off x="6184440" y="2713320"/>
                <a:ext cx="1413000" cy="197280"/>
              </a:xfrm>
              <a:custGeom>
                <a:avLst/>
                <a:gdLst>
                  <a:gd name="textAreaLeft" fmla="*/ 0 w 1413000"/>
                  <a:gd name="textAreaRight" fmla="*/ 1413360 w 1413000"/>
                  <a:gd name="textAreaTop" fmla="*/ 0 h 197280"/>
                  <a:gd name="textAreaBottom" fmla="*/ 197640 h 197280"/>
                </a:gdLst>
                <a:ahLst/>
                <a:rect l="textAreaLeft" t="textAreaTop" r="textAreaRight" b="textAreaBottom"/>
                <a:pathLst>
                  <a:path w="2793" h="946">
                    <a:moveTo>
                      <a:pt x="9" y="280"/>
                    </a:moveTo>
                    <a:lnTo>
                      <a:pt x="1219" y="716"/>
                    </a:lnTo>
                    <a:lnTo>
                      <a:pt x="1169" y="946"/>
                    </a:lnTo>
                    <a:lnTo>
                      <a:pt x="1433" y="856"/>
                    </a:lnTo>
                    <a:lnTo>
                      <a:pt x="1584" y="795"/>
                    </a:lnTo>
                    <a:lnTo>
                      <a:pt x="1544" y="590"/>
                    </a:lnTo>
                    <a:lnTo>
                      <a:pt x="1928" y="441"/>
                    </a:lnTo>
                    <a:lnTo>
                      <a:pt x="2003" y="586"/>
                    </a:lnTo>
                    <a:lnTo>
                      <a:pt x="1959" y="835"/>
                    </a:lnTo>
                    <a:lnTo>
                      <a:pt x="2498" y="574"/>
                    </a:lnTo>
                    <a:lnTo>
                      <a:pt x="2648" y="586"/>
                    </a:lnTo>
                    <a:lnTo>
                      <a:pt x="2793" y="310"/>
                    </a:lnTo>
                    <a:lnTo>
                      <a:pt x="2778" y="106"/>
                    </a:lnTo>
                    <a:lnTo>
                      <a:pt x="2588" y="0"/>
                    </a:lnTo>
                    <a:lnTo>
                      <a:pt x="1194" y="435"/>
                    </a:lnTo>
                    <a:lnTo>
                      <a:pt x="1089" y="490"/>
                    </a:lnTo>
                    <a:lnTo>
                      <a:pt x="0" y="115"/>
                    </a:lnTo>
                    <a:lnTo>
                      <a:pt x="9" y="280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Freeform 40"/>
              <p:cNvSpPr/>
              <p:nvPr/>
            </p:nvSpPr>
            <p:spPr>
              <a:xfrm>
                <a:off x="6094800" y="2636280"/>
                <a:ext cx="1510200" cy="263520"/>
              </a:xfrm>
              <a:custGeom>
                <a:avLst/>
                <a:gdLst>
                  <a:gd name="textAreaLeft" fmla="*/ 0 w 1510200"/>
                  <a:gd name="textAreaRight" fmla="*/ 1510560 w 1510200"/>
                  <a:gd name="textAreaTop" fmla="*/ 0 h 263520"/>
                  <a:gd name="textAreaBottom" fmla="*/ 263880 h 263520"/>
                </a:gdLst>
                <a:ahLst/>
                <a:rect l="textAreaLeft" t="textAreaTop" r="textAreaRight" b="textAreaBottom"/>
                <a:pathLst>
                  <a:path w="2984" h="1267">
                    <a:moveTo>
                      <a:pt x="0" y="316"/>
                    </a:moveTo>
                    <a:lnTo>
                      <a:pt x="1490" y="0"/>
                    </a:lnTo>
                    <a:lnTo>
                      <a:pt x="2284" y="170"/>
                    </a:lnTo>
                    <a:lnTo>
                      <a:pt x="991" y="481"/>
                    </a:lnTo>
                    <a:lnTo>
                      <a:pt x="1291" y="586"/>
                    </a:lnTo>
                    <a:lnTo>
                      <a:pt x="2598" y="266"/>
                    </a:lnTo>
                    <a:lnTo>
                      <a:pt x="2731" y="213"/>
                    </a:lnTo>
                    <a:lnTo>
                      <a:pt x="2904" y="306"/>
                    </a:lnTo>
                    <a:lnTo>
                      <a:pt x="2979" y="421"/>
                    </a:lnTo>
                    <a:lnTo>
                      <a:pt x="2984" y="741"/>
                    </a:lnTo>
                    <a:lnTo>
                      <a:pt x="2824" y="957"/>
                    </a:lnTo>
                    <a:lnTo>
                      <a:pt x="2674" y="967"/>
                    </a:lnTo>
                    <a:lnTo>
                      <a:pt x="2649" y="1032"/>
                    </a:lnTo>
                    <a:lnTo>
                      <a:pt x="2514" y="1097"/>
                    </a:lnTo>
                    <a:lnTo>
                      <a:pt x="2349" y="1147"/>
                    </a:lnTo>
                    <a:lnTo>
                      <a:pt x="2119" y="1267"/>
                    </a:lnTo>
                    <a:lnTo>
                      <a:pt x="2135" y="1206"/>
                    </a:lnTo>
                    <a:lnTo>
                      <a:pt x="2209" y="1026"/>
                    </a:lnTo>
                    <a:lnTo>
                      <a:pt x="2759" y="806"/>
                    </a:lnTo>
                    <a:lnTo>
                      <a:pt x="2864" y="676"/>
                    </a:lnTo>
                    <a:lnTo>
                      <a:pt x="2835" y="446"/>
                    </a:lnTo>
                    <a:lnTo>
                      <a:pt x="2759" y="403"/>
                    </a:lnTo>
                    <a:lnTo>
                      <a:pt x="1375" y="787"/>
                    </a:lnTo>
                    <a:lnTo>
                      <a:pt x="0" y="316"/>
                    </a:lnTo>
                    <a:close/>
                  </a:path>
                </a:pathLst>
              </a:custGeom>
              <a:solidFill>
                <a:srgbClr val="ae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Freeform 41"/>
              <p:cNvSpPr/>
              <p:nvPr/>
            </p:nvSpPr>
            <p:spPr>
              <a:xfrm>
                <a:off x="6887160" y="2927880"/>
                <a:ext cx="775440" cy="162360"/>
              </a:xfrm>
              <a:custGeom>
                <a:avLst/>
                <a:gdLst>
                  <a:gd name="textAreaLeft" fmla="*/ 0 w 775440"/>
                  <a:gd name="textAreaRight" fmla="*/ 775800 w 775440"/>
                  <a:gd name="textAreaTop" fmla="*/ 0 h 162360"/>
                  <a:gd name="textAreaBottom" fmla="*/ 162720 h 162360"/>
                </a:gdLst>
                <a:ahLst/>
                <a:rect l="textAreaLeft" t="textAreaTop" r="textAreaRight" b="textAreaBottom"/>
                <a:pathLst>
                  <a:path w="1534" h="781">
                    <a:moveTo>
                      <a:pt x="509" y="236"/>
                    </a:moveTo>
                    <a:lnTo>
                      <a:pt x="1419" y="0"/>
                    </a:lnTo>
                    <a:lnTo>
                      <a:pt x="1408" y="137"/>
                    </a:lnTo>
                    <a:lnTo>
                      <a:pt x="1423" y="251"/>
                    </a:lnTo>
                    <a:lnTo>
                      <a:pt x="1534" y="331"/>
                    </a:lnTo>
                    <a:lnTo>
                      <a:pt x="115" y="781"/>
                    </a:lnTo>
                    <a:lnTo>
                      <a:pt x="40" y="741"/>
                    </a:lnTo>
                    <a:lnTo>
                      <a:pt x="0" y="611"/>
                    </a:lnTo>
                    <a:lnTo>
                      <a:pt x="55" y="345"/>
                    </a:lnTo>
                    <a:lnTo>
                      <a:pt x="109" y="316"/>
                    </a:lnTo>
                    <a:lnTo>
                      <a:pt x="245" y="586"/>
                    </a:lnTo>
                    <a:lnTo>
                      <a:pt x="316" y="648"/>
                    </a:lnTo>
                    <a:lnTo>
                      <a:pt x="325" y="410"/>
                    </a:lnTo>
                    <a:lnTo>
                      <a:pt x="409" y="331"/>
                    </a:lnTo>
                    <a:lnTo>
                      <a:pt x="577" y="387"/>
                    </a:lnTo>
                    <a:lnTo>
                      <a:pt x="509" y="236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Freeform 42"/>
              <p:cNvSpPr/>
              <p:nvPr/>
            </p:nvSpPr>
            <p:spPr>
              <a:xfrm>
                <a:off x="6755400" y="2874960"/>
                <a:ext cx="236160" cy="54720"/>
              </a:xfrm>
              <a:custGeom>
                <a:avLst/>
                <a:gdLst>
                  <a:gd name="textAreaLeft" fmla="*/ 0 w 236160"/>
                  <a:gd name="textAreaRight" fmla="*/ 236520 w 236160"/>
                  <a:gd name="textAreaTop" fmla="*/ 0 h 54720"/>
                  <a:gd name="textAreaBottom" fmla="*/ 55080 h 54720"/>
                </a:gdLst>
                <a:ahLst/>
                <a:rect l="textAreaLeft" t="textAreaTop" r="textAreaRight" b="textAreaBottom"/>
                <a:pathLst>
                  <a:path w="468" h="264">
                    <a:moveTo>
                      <a:pt x="0" y="229"/>
                    </a:moveTo>
                    <a:lnTo>
                      <a:pt x="310" y="199"/>
                    </a:lnTo>
                    <a:lnTo>
                      <a:pt x="294" y="264"/>
                    </a:lnTo>
                    <a:lnTo>
                      <a:pt x="434" y="210"/>
                    </a:lnTo>
                    <a:lnTo>
                      <a:pt x="468" y="0"/>
                    </a:lnTo>
                    <a:lnTo>
                      <a:pt x="0" y="229"/>
                    </a:lnTo>
                    <a:close/>
                  </a:path>
                </a:pathLst>
              </a:custGeom>
              <a:solidFill>
                <a:srgbClr val="ae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Freeform 43"/>
              <p:cNvSpPr/>
              <p:nvPr/>
            </p:nvSpPr>
            <p:spPr>
              <a:xfrm>
                <a:off x="6016320" y="2631600"/>
                <a:ext cx="1552320" cy="225360"/>
              </a:xfrm>
              <a:custGeom>
                <a:avLst/>
                <a:gdLst>
                  <a:gd name="textAreaLeft" fmla="*/ 0 w 1552320"/>
                  <a:gd name="textAreaRight" fmla="*/ 1552680 w 1552320"/>
                  <a:gd name="textAreaTop" fmla="*/ 0 h 225360"/>
                  <a:gd name="textAreaBottom" fmla="*/ 225720 h 225360"/>
                </a:gdLst>
                <a:ahLst/>
                <a:rect l="textAreaLeft" t="textAreaTop" r="textAreaRight" b="textAreaBottom"/>
                <a:pathLst>
                  <a:path w="3069" h="1082">
                    <a:moveTo>
                      <a:pt x="25" y="281"/>
                    </a:moveTo>
                    <a:lnTo>
                      <a:pt x="0" y="384"/>
                    </a:lnTo>
                    <a:lnTo>
                      <a:pt x="272" y="520"/>
                    </a:lnTo>
                    <a:lnTo>
                      <a:pt x="306" y="647"/>
                    </a:lnTo>
                    <a:lnTo>
                      <a:pt x="313" y="757"/>
                    </a:lnTo>
                    <a:lnTo>
                      <a:pt x="279" y="886"/>
                    </a:lnTo>
                    <a:lnTo>
                      <a:pt x="365" y="775"/>
                    </a:lnTo>
                    <a:lnTo>
                      <a:pt x="407" y="647"/>
                    </a:lnTo>
                    <a:lnTo>
                      <a:pt x="399" y="554"/>
                    </a:lnTo>
                    <a:lnTo>
                      <a:pt x="1436" y="920"/>
                    </a:lnTo>
                    <a:lnTo>
                      <a:pt x="2915" y="425"/>
                    </a:lnTo>
                    <a:lnTo>
                      <a:pt x="2958" y="554"/>
                    </a:lnTo>
                    <a:lnTo>
                      <a:pt x="2958" y="698"/>
                    </a:lnTo>
                    <a:lnTo>
                      <a:pt x="2856" y="825"/>
                    </a:lnTo>
                    <a:lnTo>
                      <a:pt x="2371" y="1026"/>
                    </a:lnTo>
                    <a:lnTo>
                      <a:pt x="2345" y="1082"/>
                    </a:lnTo>
                    <a:lnTo>
                      <a:pt x="2908" y="868"/>
                    </a:lnTo>
                    <a:lnTo>
                      <a:pt x="3019" y="791"/>
                    </a:lnTo>
                    <a:lnTo>
                      <a:pt x="3069" y="664"/>
                    </a:lnTo>
                    <a:lnTo>
                      <a:pt x="3053" y="493"/>
                    </a:lnTo>
                    <a:lnTo>
                      <a:pt x="2976" y="400"/>
                    </a:lnTo>
                    <a:lnTo>
                      <a:pt x="2899" y="366"/>
                    </a:lnTo>
                    <a:lnTo>
                      <a:pt x="2695" y="459"/>
                    </a:lnTo>
                    <a:lnTo>
                      <a:pt x="1470" y="748"/>
                    </a:lnTo>
                    <a:lnTo>
                      <a:pt x="282" y="381"/>
                    </a:lnTo>
                    <a:lnTo>
                      <a:pt x="1402" y="809"/>
                    </a:lnTo>
                    <a:lnTo>
                      <a:pt x="1402" y="852"/>
                    </a:lnTo>
                    <a:lnTo>
                      <a:pt x="50" y="357"/>
                    </a:lnTo>
                    <a:lnTo>
                      <a:pt x="93" y="315"/>
                    </a:lnTo>
                    <a:lnTo>
                      <a:pt x="1597" y="43"/>
                    </a:lnTo>
                    <a:lnTo>
                      <a:pt x="2334" y="179"/>
                    </a:lnTo>
                    <a:lnTo>
                      <a:pt x="1556" y="0"/>
                    </a:lnTo>
                    <a:lnTo>
                      <a:pt x="25" y="28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Freeform 44"/>
              <p:cNvSpPr/>
              <p:nvPr/>
            </p:nvSpPr>
            <p:spPr>
              <a:xfrm>
                <a:off x="6020640" y="2782080"/>
                <a:ext cx="959040" cy="199800"/>
              </a:xfrm>
              <a:custGeom>
                <a:avLst/>
                <a:gdLst>
                  <a:gd name="textAreaLeft" fmla="*/ 0 w 959040"/>
                  <a:gd name="textAreaRight" fmla="*/ 959400 w 959040"/>
                  <a:gd name="textAreaTop" fmla="*/ 0 h 199800"/>
                  <a:gd name="textAreaBottom" fmla="*/ 200160 h 199800"/>
                </a:gdLst>
                <a:ahLst/>
                <a:rect l="textAreaLeft" t="textAreaTop" r="textAreaRight" b="textAreaBottom"/>
                <a:pathLst>
                  <a:path w="1894" h="960">
                    <a:moveTo>
                      <a:pt x="321" y="0"/>
                    </a:moveTo>
                    <a:lnTo>
                      <a:pt x="28" y="105"/>
                    </a:lnTo>
                    <a:lnTo>
                      <a:pt x="0" y="211"/>
                    </a:lnTo>
                    <a:lnTo>
                      <a:pt x="1441" y="960"/>
                    </a:lnTo>
                    <a:lnTo>
                      <a:pt x="1840" y="760"/>
                    </a:lnTo>
                    <a:lnTo>
                      <a:pt x="1894" y="626"/>
                    </a:lnTo>
                    <a:lnTo>
                      <a:pt x="1451" y="799"/>
                    </a:lnTo>
                    <a:lnTo>
                      <a:pt x="449" y="338"/>
                    </a:lnTo>
                    <a:lnTo>
                      <a:pt x="1401" y="831"/>
                    </a:lnTo>
                    <a:lnTo>
                      <a:pt x="1423" y="904"/>
                    </a:lnTo>
                    <a:lnTo>
                      <a:pt x="89" y="211"/>
                    </a:lnTo>
                    <a:lnTo>
                      <a:pt x="77" y="149"/>
                    </a:lnTo>
                    <a:lnTo>
                      <a:pt x="316" y="55"/>
                    </a:lnTo>
                    <a:lnTo>
                      <a:pt x="3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Freeform 45"/>
              <p:cNvSpPr/>
              <p:nvPr/>
            </p:nvSpPr>
            <p:spPr>
              <a:xfrm>
                <a:off x="6190560" y="2805120"/>
                <a:ext cx="801000" cy="121680"/>
              </a:xfrm>
              <a:custGeom>
                <a:avLst/>
                <a:gdLst>
                  <a:gd name="textAreaLeft" fmla="*/ 0 w 801000"/>
                  <a:gd name="textAreaRight" fmla="*/ 801360 w 801000"/>
                  <a:gd name="textAreaTop" fmla="*/ 0 h 121680"/>
                  <a:gd name="textAreaBottom" fmla="*/ 122040 h 121680"/>
                </a:gdLst>
                <a:ahLst/>
                <a:rect l="textAreaLeft" t="textAreaTop" r="textAreaRight" b="textAreaBottom"/>
                <a:pathLst>
                  <a:path w="1584" h="584">
                    <a:moveTo>
                      <a:pt x="0" y="83"/>
                    </a:moveTo>
                    <a:lnTo>
                      <a:pt x="1082" y="584"/>
                    </a:lnTo>
                    <a:lnTo>
                      <a:pt x="1584" y="378"/>
                    </a:lnTo>
                    <a:lnTo>
                      <a:pt x="1584" y="335"/>
                    </a:lnTo>
                    <a:lnTo>
                      <a:pt x="1200" y="483"/>
                    </a:lnTo>
                    <a:lnTo>
                      <a:pt x="1255" y="360"/>
                    </a:lnTo>
                    <a:lnTo>
                      <a:pt x="1448" y="282"/>
                    </a:lnTo>
                    <a:lnTo>
                      <a:pt x="1239" y="306"/>
                    </a:lnTo>
                    <a:lnTo>
                      <a:pt x="1227" y="171"/>
                    </a:lnTo>
                    <a:lnTo>
                      <a:pt x="1156" y="22"/>
                    </a:lnTo>
                    <a:lnTo>
                      <a:pt x="1106" y="56"/>
                    </a:lnTo>
                    <a:lnTo>
                      <a:pt x="1167" y="171"/>
                    </a:lnTo>
                    <a:lnTo>
                      <a:pt x="662" y="0"/>
                    </a:lnTo>
                    <a:lnTo>
                      <a:pt x="1167" y="249"/>
                    </a:lnTo>
                    <a:lnTo>
                      <a:pt x="1181" y="325"/>
                    </a:lnTo>
                    <a:lnTo>
                      <a:pt x="1141" y="418"/>
                    </a:lnTo>
                    <a:lnTo>
                      <a:pt x="358" y="111"/>
                    </a:lnTo>
                    <a:lnTo>
                      <a:pt x="1137" y="466"/>
                    </a:lnTo>
                    <a:lnTo>
                      <a:pt x="1082" y="540"/>
                    </a:lnTo>
                    <a:lnTo>
                      <a:pt x="0" y="8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Freeform 46"/>
              <p:cNvSpPr/>
              <p:nvPr/>
            </p:nvSpPr>
            <p:spPr>
              <a:xfrm>
                <a:off x="6858360" y="2758680"/>
                <a:ext cx="561600" cy="304200"/>
              </a:xfrm>
              <a:custGeom>
                <a:avLst/>
                <a:gdLst>
                  <a:gd name="textAreaLeft" fmla="*/ 0 w 561600"/>
                  <a:gd name="textAreaRight" fmla="*/ 561960 w 56160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1109" h="1460">
                    <a:moveTo>
                      <a:pt x="0" y="378"/>
                    </a:moveTo>
                    <a:lnTo>
                      <a:pt x="411" y="256"/>
                    </a:lnTo>
                    <a:lnTo>
                      <a:pt x="1109" y="0"/>
                    </a:lnTo>
                    <a:lnTo>
                      <a:pt x="626" y="245"/>
                    </a:lnTo>
                    <a:lnTo>
                      <a:pt x="709" y="346"/>
                    </a:lnTo>
                    <a:lnTo>
                      <a:pt x="709" y="467"/>
                    </a:lnTo>
                    <a:lnTo>
                      <a:pt x="643" y="672"/>
                    </a:lnTo>
                    <a:lnTo>
                      <a:pt x="554" y="895"/>
                    </a:lnTo>
                    <a:lnTo>
                      <a:pt x="550" y="1016"/>
                    </a:lnTo>
                    <a:lnTo>
                      <a:pt x="632" y="1199"/>
                    </a:lnTo>
                    <a:lnTo>
                      <a:pt x="510" y="1055"/>
                    </a:lnTo>
                    <a:lnTo>
                      <a:pt x="494" y="899"/>
                    </a:lnTo>
                    <a:lnTo>
                      <a:pt x="588" y="639"/>
                    </a:lnTo>
                    <a:lnTo>
                      <a:pt x="660" y="450"/>
                    </a:lnTo>
                    <a:lnTo>
                      <a:pt x="550" y="251"/>
                    </a:lnTo>
                    <a:lnTo>
                      <a:pt x="244" y="368"/>
                    </a:lnTo>
                    <a:lnTo>
                      <a:pt x="272" y="428"/>
                    </a:lnTo>
                    <a:lnTo>
                      <a:pt x="294" y="583"/>
                    </a:lnTo>
                    <a:lnTo>
                      <a:pt x="266" y="760"/>
                    </a:lnTo>
                    <a:lnTo>
                      <a:pt x="222" y="933"/>
                    </a:lnTo>
                    <a:lnTo>
                      <a:pt x="206" y="1110"/>
                    </a:lnTo>
                    <a:lnTo>
                      <a:pt x="256" y="1283"/>
                    </a:lnTo>
                    <a:lnTo>
                      <a:pt x="371" y="1460"/>
                    </a:lnTo>
                    <a:lnTo>
                      <a:pt x="250" y="1387"/>
                    </a:lnTo>
                    <a:lnTo>
                      <a:pt x="167" y="1199"/>
                    </a:lnTo>
                    <a:lnTo>
                      <a:pt x="150" y="989"/>
                    </a:lnTo>
                    <a:lnTo>
                      <a:pt x="212" y="716"/>
                    </a:lnTo>
                    <a:lnTo>
                      <a:pt x="234" y="551"/>
                    </a:lnTo>
                    <a:lnTo>
                      <a:pt x="150" y="390"/>
                    </a:lnTo>
                    <a:lnTo>
                      <a:pt x="0" y="37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Freeform 47"/>
              <p:cNvSpPr/>
              <p:nvPr/>
            </p:nvSpPr>
            <p:spPr>
              <a:xfrm>
                <a:off x="7033320" y="2991240"/>
                <a:ext cx="145440" cy="71640"/>
              </a:xfrm>
              <a:custGeom>
                <a:avLst/>
                <a:gdLst>
                  <a:gd name="textAreaLeft" fmla="*/ 0 w 145440"/>
                  <a:gd name="textAreaRight" fmla="*/ 145800 w 145440"/>
                  <a:gd name="textAreaTop" fmla="*/ 0 h 71640"/>
                  <a:gd name="textAreaBottom" fmla="*/ 72000 h 71640"/>
                </a:gdLst>
                <a:ahLst/>
                <a:rect l="textAreaLeft" t="textAreaTop" r="textAreaRight" b="textAreaBottom"/>
                <a:pathLst>
                  <a:path w="288" h="344">
                    <a:moveTo>
                      <a:pt x="27" y="344"/>
                    </a:moveTo>
                    <a:lnTo>
                      <a:pt x="0" y="161"/>
                    </a:lnTo>
                    <a:lnTo>
                      <a:pt x="73" y="0"/>
                    </a:lnTo>
                    <a:lnTo>
                      <a:pt x="139" y="6"/>
                    </a:lnTo>
                    <a:lnTo>
                      <a:pt x="288" y="83"/>
                    </a:lnTo>
                    <a:lnTo>
                      <a:pt x="111" y="66"/>
                    </a:lnTo>
                    <a:lnTo>
                      <a:pt x="49" y="167"/>
                    </a:lnTo>
                    <a:lnTo>
                      <a:pt x="27" y="3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Freeform 48"/>
              <p:cNvSpPr/>
              <p:nvPr/>
            </p:nvSpPr>
            <p:spPr>
              <a:xfrm>
                <a:off x="7156080" y="2683800"/>
                <a:ext cx="459720" cy="225360"/>
              </a:xfrm>
              <a:custGeom>
                <a:avLst/>
                <a:gdLst>
                  <a:gd name="textAreaLeft" fmla="*/ 0 w 459720"/>
                  <a:gd name="textAreaRight" fmla="*/ 460080 w 459720"/>
                  <a:gd name="textAreaTop" fmla="*/ 0 h 225360"/>
                  <a:gd name="textAreaBottom" fmla="*/ 225720 h 225360"/>
                </a:gdLst>
                <a:ahLst/>
                <a:rect l="textAreaLeft" t="textAreaTop" r="textAreaRight" b="textAreaBottom"/>
                <a:pathLst>
                  <a:path w="908" h="1082">
                    <a:moveTo>
                      <a:pt x="66" y="949"/>
                    </a:moveTo>
                    <a:lnTo>
                      <a:pt x="576" y="716"/>
                    </a:lnTo>
                    <a:lnTo>
                      <a:pt x="695" y="703"/>
                    </a:lnTo>
                    <a:lnTo>
                      <a:pt x="781" y="621"/>
                    </a:lnTo>
                    <a:lnTo>
                      <a:pt x="859" y="428"/>
                    </a:lnTo>
                    <a:lnTo>
                      <a:pt x="825" y="161"/>
                    </a:lnTo>
                    <a:lnTo>
                      <a:pt x="700" y="52"/>
                    </a:lnTo>
                    <a:lnTo>
                      <a:pt x="478" y="124"/>
                    </a:lnTo>
                    <a:lnTo>
                      <a:pt x="661" y="0"/>
                    </a:lnTo>
                    <a:lnTo>
                      <a:pt x="781" y="40"/>
                    </a:lnTo>
                    <a:lnTo>
                      <a:pt x="881" y="151"/>
                    </a:lnTo>
                    <a:lnTo>
                      <a:pt x="908" y="372"/>
                    </a:lnTo>
                    <a:lnTo>
                      <a:pt x="897" y="527"/>
                    </a:lnTo>
                    <a:lnTo>
                      <a:pt x="794" y="723"/>
                    </a:lnTo>
                    <a:lnTo>
                      <a:pt x="726" y="765"/>
                    </a:lnTo>
                    <a:lnTo>
                      <a:pt x="604" y="760"/>
                    </a:lnTo>
                    <a:lnTo>
                      <a:pt x="0" y="1082"/>
                    </a:lnTo>
                    <a:lnTo>
                      <a:pt x="66" y="94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Freeform 49"/>
              <p:cNvSpPr/>
              <p:nvPr/>
            </p:nvSpPr>
            <p:spPr>
              <a:xfrm>
                <a:off x="6201360" y="2867400"/>
                <a:ext cx="1646640" cy="262080"/>
              </a:xfrm>
              <a:custGeom>
                <a:avLst/>
                <a:gdLst>
                  <a:gd name="textAreaLeft" fmla="*/ 0 w 1646640"/>
                  <a:gd name="textAreaRight" fmla="*/ 1647000 w 1646640"/>
                  <a:gd name="textAreaTop" fmla="*/ 0 h 262080"/>
                  <a:gd name="textAreaBottom" fmla="*/ 262440 h 262080"/>
                </a:gdLst>
                <a:ahLst/>
                <a:rect l="textAreaLeft" t="textAreaTop" r="textAreaRight" b="textAreaBottom"/>
                <a:pathLst>
                  <a:path w="3257" h="1259">
                    <a:moveTo>
                      <a:pt x="44" y="0"/>
                    </a:moveTo>
                    <a:lnTo>
                      <a:pt x="0" y="99"/>
                    </a:lnTo>
                    <a:lnTo>
                      <a:pt x="5" y="321"/>
                    </a:lnTo>
                    <a:lnTo>
                      <a:pt x="66" y="448"/>
                    </a:lnTo>
                    <a:lnTo>
                      <a:pt x="166" y="482"/>
                    </a:lnTo>
                    <a:lnTo>
                      <a:pt x="338" y="625"/>
                    </a:lnTo>
                    <a:lnTo>
                      <a:pt x="758" y="915"/>
                    </a:lnTo>
                    <a:lnTo>
                      <a:pt x="853" y="931"/>
                    </a:lnTo>
                    <a:lnTo>
                      <a:pt x="974" y="997"/>
                    </a:lnTo>
                    <a:lnTo>
                      <a:pt x="1014" y="1076"/>
                    </a:lnTo>
                    <a:lnTo>
                      <a:pt x="1334" y="1242"/>
                    </a:lnTo>
                    <a:lnTo>
                      <a:pt x="1468" y="1259"/>
                    </a:lnTo>
                    <a:lnTo>
                      <a:pt x="3257" y="698"/>
                    </a:lnTo>
                    <a:lnTo>
                      <a:pt x="3241" y="577"/>
                    </a:lnTo>
                    <a:lnTo>
                      <a:pt x="2764" y="426"/>
                    </a:lnTo>
                    <a:lnTo>
                      <a:pt x="3207" y="621"/>
                    </a:lnTo>
                    <a:lnTo>
                      <a:pt x="1446" y="1174"/>
                    </a:lnTo>
                    <a:lnTo>
                      <a:pt x="1334" y="1076"/>
                    </a:lnTo>
                    <a:lnTo>
                      <a:pt x="1279" y="931"/>
                    </a:lnTo>
                    <a:lnTo>
                      <a:pt x="1324" y="648"/>
                    </a:lnTo>
                    <a:lnTo>
                      <a:pt x="1245" y="786"/>
                    </a:lnTo>
                    <a:lnTo>
                      <a:pt x="1229" y="931"/>
                    </a:lnTo>
                    <a:lnTo>
                      <a:pt x="1279" y="1114"/>
                    </a:lnTo>
                    <a:lnTo>
                      <a:pt x="1324" y="1174"/>
                    </a:lnTo>
                    <a:lnTo>
                      <a:pt x="1064" y="1048"/>
                    </a:lnTo>
                    <a:lnTo>
                      <a:pt x="1014" y="925"/>
                    </a:lnTo>
                    <a:lnTo>
                      <a:pt x="1002" y="742"/>
                    </a:lnTo>
                    <a:lnTo>
                      <a:pt x="1036" y="615"/>
                    </a:lnTo>
                    <a:lnTo>
                      <a:pt x="974" y="710"/>
                    </a:lnTo>
                    <a:lnTo>
                      <a:pt x="952" y="842"/>
                    </a:lnTo>
                    <a:lnTo>
                      <a:pt x="941" y="921"/>
                    </a:lnTo>
                    <a:lnTo>
                      <a:pt x="847" y="859"/>
                    </a:lnTo>
                    <a:lnTo>
                      <a:pt x="831" y="698"/>
                    </a:lnTo>
                    <a:lnTo>
                      <a:pt x="881" y="510"/>
                    </a:lnTo>
                    <a:lnTo>
                      <a:pt x="820" y="593"/>
                    </a:lnTo>
                    <a:lnTo>
                      <a:pt x="776" y="720"/>
                    </a:lnTo>
                    <a:lnTo>
                      <a:pt x="776" y="853"/>
                    </a:lnTo>
                    <a:lnTo>
                      <a:pt x="183" y="442"/>
                    </a:lnTo>
                    <a:lnTo>
                      <a:pt x="177" y="321"/>
                    </a:lnTo>
                    <a:lnTo>
                      <a:pt x="183" y="221"/>
                    </a:lnTo>
                    <a:lnTo>
                      <a:pt x="132" y="287"/>
                    </a:lnTo>
                    <a:lnTo>
                      <a:pt x="104" y="394"/>
                    </a:lnTo>
                    <a:lnTo>
                      <a:pt x="44" y="282"/>
                    </a:lnTo>
                    <a:lnTo>
                      <a:pt x="44" y="121"/>
                    </a:lnTo>
                    <a:lnTo>
                      <a:pt x="149" y="54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Freeform 50"/>
              <p:cNvSpPr/>
              <p:nvPr/>
            </p:nvSpPr>
            <p:spPr>
              <a:xfrm>
                <a:off x="6875280" y="2980440"/>
                <a:ext cx="151560" cy="94680"/>
              </a:xfrm>
              <a:custGeom>
                <a:avLst/>
                <a:gdLst>
                  <a:gd name="textAreaLeft" fmla="*/ 0 w 151560"/>
                  <a:gd name="textAreaRight" fmla="*/ 151920 w 15156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300" h="454">
                    <a:moveTo>
                      <a:pt x="145" y="0"/>
                    </a:moveTo>
                    <a:lnTo>
                      <a:pt x="78" y="50"/>
                    </a:lnTo>
                    <a:lnTo>
                      <a:pt x="46" y="138"/>
                    </a:lnTo>
                    <a:lnTo>
                      <a:pt x="0" y="350"/>
                    </a:lnTo>
                    <a:lnTo>
                      <a:pt x="46" y="454"/>
                    </a:lnTo>
                    <a:lnTo>
                      <a:pt x="300" y="372"/>
                    </a:lnTo>
                    <a:lnTo>
                      <a:pt x="239" y="310"/>
                    </a:lnTo>
                    <a:lnTo>
                      <a:pt x="78" y="355"/>
                    </a:lnTo>
                    <a:lnTo>
                      <a:pt x="84" y="183"/>
                    </a:lnTo>
                    <a:lnTo>
                      <a:pt x="156" y="122"/>
                    </a:lnTo>
                    <a:lnTo>
                      <a:pt x="14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Freeform 51"/>
              <p:cNvSpPr/>
              <p:nvPr/>
            </p:nvSpPr>
            <p:spPr>
              <a:xfrm>
                <a:off x="7045200" y="3020040"/>
                <a:ext cx="236520" cy="33480"/>
              </a:xfrm>
              <a:custGeom>
                <a:avLst/>
                <a:gdLst>
                  <a:gd name="textAreaLeft" fmla="*/ 0 w 236520"/>
                  <a:gd name="textAreaRight" fmla="*/ 236880 w 23652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470" h="161">
                    <a:moveTo>
                      <a:pt x="10" y="99"/>
                    </a:moveTo>
                    <a:lnTo>
                      <a:pt x="470" y="0"/>
                    </a:lnTo>
                    <a:lnTo>
                      <a:pt x="0" y="161"/>
                    </a:lnTo>
                    <a:lnTo>
                      <a:pt x="10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Freeform 52"/>
              <p:cNvSpPr/>
              <p:nvPr/>
            </p:nvSpPr>
            <p:spPr>
              <a:xfrm>
                <a:off x="6096600" y="2903760"/>
                <a:ext cx="1542960" cy="308520"/>
              </a:xfrm>
              <a:custGeom>
                <a:avLst/>
                <a:gdLst>
                  <a:gd name="textAreaLeft" fmla="*/ 0 w 1542960"/>
                  <a:gd name="textAreaRight" fmla="*/ 1543320 w 1542960"/>
                  <a:gd name="textAreaTop" fmla="*/ 0 h 308520"/>
                  <a:gd name="textAreaBottom" fmla="*/ 308880 h 308520"/>
                </a:gdLst>
                <a:ahLst/>
                <a:rect l="textAreaLeft" t="textAreaTop" r="textAreaRight" b="textAreaBottom"/>
                <a:pathLst>
                  <a:path w="3052" h="1482">
                    <a:moveTo>
                      <a:pt x="243" y="0"/>
                    </a:moveTo>
                    <a:lnTo>
                      <a:pt x="0" y="37"/>
                    </a:lnTo>
                    <a:lnTo>
                      <a:pt x="7" y="126"/>
                    </a:lnTo>
                    <a:lnTo>
                      <a:pt x="770" y="1337"/>
                    </a:lnTo>
                    <a:lnTo>
                      <a:pt x="2809" y="1107"/>
                    </a:lnTo>
                    <a:lnTo>
                      <a:pt x="2903" y="1151"/>
                    </a:lnTo>
                    <a:lnTo>
                      <a:pt x="2957" y="1237"/>
                    </a:lnTo>
                    <a:lnTo>
                      <a:pt x="2892" y="1419"/>
                    </a:lnTo>
                    <a:lnTo>
                      <a:pt x="2554" y="1482"/>
                    </a:lnTo>
                    <a:lnTo>
                      <a:pt x="2906" y="1482"/>
                    </a:lnTo>
                    <a:lnTo>
                      <a:pt x="3052" y="1259"/>
                    </a:lnTo>
                    <a:lnTo>
                      <a:pt x="3044" y="1078"/>
                    </a:lnTo>
                    <a:lnTo>
                      <a:pt x="2980" y="994"/>
                    </a:lnTo>
                    <a:lnTo>
                      <a:pt x="2626" y="1041"/>
                    </a:lnTo>
                    <a:lnTo>
                      <a:pt x="2561" y="1069"/>
                    </a:lnTo>
                    <a:lnTo>
                      <a:pt x="2484" y="1041"/>
                    </a:lnTo>
                    <a:lnTo>
                      <a:pt x="881" y="1230"/>
                    </a:lnTo>
                    <a:lnTo>
                      <a:pt x="384" y="532"/>
                    </a:lnTo>
                    <a:lnTo>
                      <a:pt x="827" y="1236"/>
                    </a:lnTo>
                    <a:lnTo>
                      <a:pt x="787" y="1295"/>
                    </a:lnTo>
                    <a:lnTo>
                      <a:pt x="31" y="70"/>
                    </a:lnTo>
                    <a:lnTo>
                      <a:pt x="224" y="37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Freeform 53"/>
              <p:cNvSpPr/>
              <p:nvPr/>
            </p:nvSpPr>
            <p:spPr>
              <a:xfrm>
                <a:off x="6135840" y="2972520"/>
                <a:ext cx="277560" cy="266400"/>
              </a:xfrm>
              <a:custGeom>
                <a:avLst/>
                <a:gdLst>
                  <a:gd name="textAreaLeft" fmla="*/ 0 w 277560"/>
                  <a:gd name="textAreaRight" fmla="*/ 277920 w 277560"/>
                  <a:gd name="textAreaTop" fmla="*/ 0 h 266400"/>
                  <a:gd name="textAreaBottom" fmla="*/ 266760 h 266400"/>
                </a:gdLst>
                <a:ahLst/>
                <a:rect l="textAreaLeft" t="textAreaTop" r="textAreaRight" b="textAreaBottom"/>
                <a:pathLst>
                  <a:path w="547" h="1281">
                    <a:moveTo>
                      <a:pt x="71" y="0"/>
                    </a:moveTo>
                    <a:lnTo>
                      <a:pt x="82" y="95"/>
                    </a:lnTo>
                    <a:lnTo>
                      <a:pt x="66" y="175"/>
                    </a:lnTo>
                    <a:lnTo>
                      <a:pt x="38" y="228"/>
                    </a:lnTo>
                    <a:lnTo>
                      <a:pt x="0" y="256"/>
                    </a:lnTo>
                    <a:lnTo>
                      <a:pt x="143" y="527"/>
                    </a:lnTo>
                    <a:lnTo>
                      <a:pt x="547" y="1281"/>
                    </a:lnTo>
                    <a:lnTo>
                      <a:pt x="249" y="604"/>
                    </a:lnTo>
                    <a:lnTo>
                      <a:pt x="66" y="256"/>
                    </a:lnTo>
                    <a:lnTo>
                      <a:pt x="243" y="465"/>
                    </a:lnTo>
                    <a:lnTo>
                      <a:pt x="104" y="189"/>
                    </a:lnTo>
                    <a:lnTo>
                      <a:pt x="143" y="89"/>
                    </a:lnTo>
                    <a:lnTo>
                      <a:pt x="7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Freeform 54"/>
              <p:cNvSpPr/>
              <p:nvPr/>
            </p:nvSpPr>
            <p:spPr>
              <a:xfrm>
                <a:off x="6052680" y="2996280"/>
                <a:ext cx="1657080" cy="305280"/>
              </a:xfrm>
              <a:custGeom>
                <a:avLst/>
                <a:gdLst>
                  <a:gd name="textAreaLeft" fmla="*/ 0 w 1657080"/>
                  <a:gd name="textAreaRight" fmla="*/ 1657440 w 1657080"/>
                  <a:gd name="textAreaTop" fmla="*/ 0 h 305280"/>
                  <a:gd name="textAreaBottom" fmla="*/ 305280 h 305280"/>
                </a:gdLst>
                <a:ahLst/>
                <a:rect l="textAreaLeft" t="textAreaTop" r="textAreaRight" b="textAreaBottom"/>
                <a:pathLst>
                  <a:path w="3277" h="1467">
                    <a:moveTo>
                      <a:pt x="256" y="0"/>
                    </a:moveTo>
                    <a:lnTo>
                      <a:pt x="120" y="62"/>
                    </a:lnTo>
                    <a:lnTo>
                      <a:pt x="12" y="85"/>
                    </a:lnTo>
                    <a:lnTo>
                      <a:pt x="0" y="157"/>
                    </a:lnTo>
                    <a:lnTo>
                      <a:pt x="445" y="993"/>
                    </a:lnTo>
                    <a:lnTo>
                      <a:pt x="635" y="1467"/>
                    </a:lnTo>
                    <a:lnTo>
                      <a:pt x="2530" y="1233"/>
                    </a:lnTo>
                    <a:lnTo>
                      <a:pt x="2601" y="1210"/>
                    </a:lnTo>
                    <a:lnTo>
                      <a:pt x="2702" y="1244"/>
                    </a:lnTo>
                    <a:lnTo>
                      <a:pt x="3045" y="1198"/>
                    </a:lnTo>
                    <a:lnTo>
                      <a:pt x="3199" y="1056"/>
                    </a:lnTo>
                    <a:lnTo>
                      <a:pt x="3277" y="706"/>
                    </a:lnTo>
                    <a:lnTo>
                      <a:pt x="3223" y="456"/>
                    </a:lnTo>
                    <a:lnTo>
                      <a:pt x="2982" y="245"/>
                    </a:lnTo>
                    <a:lnTo>
                      <a:pt x="2511" y="363"/>
                    </a:lnTo>
                    <a:lnTo>
                      <a:pt x="2933" y="371"/>
                    </a:lnTo>
                    <a:lnTo>
                      <a:pt x="3115" y="510"/>
                    </a:lnTo>
                    <a:lnTo>
                      <a:pt x="3196" y="631"/>
                    </a:lnTo>
                    <a:lnTo>
                      <a:pt x="3202" y="811"/>
                    </a:lnTo>
                    <a:lnTo>
                      <a:pt x="3134" y="1027"/>
                    </a:lnTo>
                    <a:lnTo>
                      <a:pt x="3047" y="1124"/>
                    </a:lnTo>
                    <a:lnTo>
                      <a:pt x="2769" y="1161"/>
                    </a:lnTo>
                    <a:lnTo>
                      <a:pt x="2645" y="1121"/>
                    </a:lnTo>
                    <a:lnTo>
                      <a:pt x="2477" y="1205"/>
                    </a:lnTo>
                    <a:lnTo>
                      <a:pt x="688" y="1360"/>
                    </a:lnTo>
                    <a:lnTo>
                      <a:pt x="53" y="107"/>
                    </a:lnTo>
                    <a:lnTo>
                      <a:pt x="270" y="41"/>
                    </a:lnTo>
                    <a:lnTo>
                      <a:pt x="2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Freeform 55"/>
              <p:cNvSpPr/>
              <p:nvPr/>
            </p:nvSpPr>
            <p:spPr>
              <a:xfrm>
                <a:off x="6423120" y="3145320"/>
                <a:ext cx="837720" cy="101520"/>
              </a:xfrm>
              <a:custGeom>
                <a:avLst/>
                <a:gdLst>
                  <a:gd name="textAreaLeft" fmla="*/ 0 w 837720"/>
                  <a:gd name="textAreaRight" fmla="*/ 838080 w 83772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656" h="489">
                    <a:moveTo>
                      <a:pt x="0" y="489"/>
                    </a:moveTo>
                    <a:lnTo>
                      <a:pt x="133" y="366"/>
                    </a:lnTo>
                    <a:lnTo>
                      <a:pt x="193" y="256"/>
                    </a:lnTo>
                    <a:lnTo>
                      <a:pt x="177" y="123"/>
                    </a:lnTo>
                    <a:lnTo>
                      <a:pt x="1202" y="0"/>
                    </a:lnTo>
                    <a:lnTo>
                      <a:pt x="288" y="157"/>
                    </a:lnTo>
                    <a:lnTo>
                      <a:pt x="248" y="267"/>
                    </a:lnTo>
                    <a:lnTo>
                      <a:pt x="1030" y="223"/>
                    </a:lnTo>
                    <a:lnTo>
                      <a:pt x="232" y="340"/>
                    </a:lnTo>
                    <a:lnTo>
                      <a:pt x="187" y="384"/>
                    </a:lnTo>
                    <a:lnTo>
                      <a:pt x="143" y="411"/>
                    </a:lnTo>
                    <a:lnTo>
                      <a:pt x="1656" y="328"/>
                    </a:lnTo>
                    <a:lnTo>
                      <a:pt x="0" y="48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Freeform 56"/>
              <p:cNvSpPr/>
              <p:nvPr/>
            </p:nvSpPr>
            <p:spPr>
              <a:xfrm>
                <a:off x="6424200" y="3048120"/>
                <a:ext cx="383760" cy="69120"/>
              </a:xfrm>
              <a:custGeom>
                <a:avLst/>
                <a:gdLst>
                  <a:gd name="textAreaLeft" fmla="*/ 0 w 383760"/>
                  <a:gd name="textAreaRight" fmla="*/ 384120 w 383760"/>
                  <a:gd name="textAreaTop" fmla="*/ 0 h 69120"/>
                  <a:gd name="textAreaBottom" fmla="*/ 69480 h 69120"/>
                </a:gdLst>
                <a:ahLst/>
                <a:rect l="textAreaLeft" t="textAreaTop" r="textAreaRight" b="textAreaBottom"/>
                <a:pathLst>
                  <a:path w="759" h="332">
                    <a:moveTo>
                      <a:pt x="292" y="0"/>
                    </a:moveTo>
                    <a:lnTo>
                      <a:pt x="0" y="15"/>
                    </a:lnTo>
                    <a:lnTo>
                      <a:pt x="221" y="332"/>
                    </a:lnTo>
                    <a:lnTo>
                      <a:pt x="759" y="291"/>
                    </a:lnTo>
                    <a:lnTo>
                      <a:pt x="700" y="251"/>
                    </a:lnTo>
                    <a:lnTo>
                      <a:pt x="261" y="266"/>
                    </a:lnTo>
                    <a:lnTo>
                      <a:pt x="145" y="71"/>
                    </a:lnTo>
                    <a:lnTo>
                      <a:pt x="360" y="19"/>
                    </a:lnTo>
                    <a:lnTo>
                      <a:pt x="29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Freeform 57"/>
              <p:cNvSpPr/>
              <p:nvPr/>
            </p:nvSpPr>
            <p:spPr>
              <a:xfrm>
                <a:off x="7081560" y="3089880"/>
                <a:ext cx="331920" cy="17280"/>
              </a:xfrm>
              <a:custGeom>
                <a:avLst/>
                <a:gdLst>
                  <a:gd name="textAreaLeft" fmla="*/ 0 w 331920"/>
                  <a:gd name="textAreaRight" fmla="*/ 332280 w 33192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657" h="84">
                    <a:moveTo>
                      <a:pt x="0" y="84"/>
                    </a:moveTo>
                    <a:lnTo>
                      <a:pt x="113" y="71"/>
                    </a:lnTo>
                    <a:lnTo>
                      <a:pt x="337" y="42"/>
                    </a:lnTo>
                    <a:lnTo>
                      <a:pt x="558" y="13"/>
                    </a:lnTo>
                    <a:lnTo>
                      <a:pt x="657" y="0"/>
                    </a:lnTo>
                    <a:lnTo>
                      <a:pt x="164" y="17"/>
                    </a:lnTo>
                    <a:lnTo>
                      <a:pt x="0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Freeform 58"/>
              <p:cNvSpPr/>
              <p:nvPr/>
            </p:nvSpPr>
            <p:spPr>
              <a:xfrm>
                <a:off x="6506280" y="2670840"/>
                <a:ext cx="922680" cy="93600"/>
              </a:xfrm>
              <a:custGeom>
                <a:avLst/>
                <a:gdLst>
                  <a:gd name="textAreaLeft" fmla="*/ 0 w 922680"/>
                  <a:gd name="textAreaRight" fmla="*/ 923040 w 922680"/>
                  <a:gd name="textAreaTop" fmla="*/ 0 h 93600"/>
                  <a:gd name="textAreaBottom" fmla="*/ 93960 h 93600"/>
                </a:gdLst>
                <a:ahLst/>
                <a:rect l="textAreaLeft" t="textAreaTop" r="textAreaRight" b="textAreaBottom"/>
                <a:pathLst>
                  <a:path w="1825" h="451">
                    <a:moveTo>
                      <a:pt x="1825" y="97"/>
                    </a:moveTo>
                    <a:lnTo>
                      <a:pt x="1527" y="47"/>
                    </a:lnTo>
                    <a:lnTo>
                      <a:pt x="1472" y="4"/>
                    </a:lnTo>
                    <a:lnTo>
                      <a:pt x="1391" y="0"/>
                    </a:lnTo>
                    <a:lnTo>
                      <a:pt x="0" y="308"/>
                    </a:lnTo>
                    <a:lnTo>
                      <a:pt x="451" y="451"/>
                    </a:lnTo>
                    <a:lnTo>
                      <a:pt x="1628" y="153"/>
                    </a:lnTo>
                    <a:lnTo>
                      <a:pt x="433" y="385"/>
                    </a:lnTo>
                    <a:lnTo>
                      <a:pt x="310" y="305"/>
                    </a:lnTo>
                    <a:lnTo>
                      <a:pt x="1400" y="42"/>
                    </a:lnTo>
                    <a:lnTo>
                      <a:pt x="1476" y="63"/>
                    </a:lnTo>
                    <a:lnTo>
                      <a:pt x="1825" y="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Freeform 59"/>
              <p:cNvSpPr/>
              <p:nvPr/>
            </p:nvSpPr>
            <p:spPr>
              <a:xfrm>
                <a:off x="7189560" y="2863800"/>
                <a:ext cx="477720" cy="79920"/>
              </a:xfrm>
              <a:custGeom>
                <a:avLst/>
                <a:gdLst>
                  <a:gd name="textAreaLeft" fmla="*/ 0 w 477720"/>
                  <a:gd name="textAreaRight" fmla="*/ 478080 w 477720"/>
                  <a:gd name="textAreaTop" fmla="*/ 0 h 79920"/>
                  <a:gd name="textAreaBottom" fmla="*/ 80280 h 79920"/>
                </a:gdLst>
                <a:ahLst/>
                <a:rect l="textAreaLeft" t="textAreaTop" r="textAreaRight" b="textAreaBottom"/>
                <a:pathLst>
                  <a:path w="945" h="382">
                    <a:moveTo>
                      <a:pt x="0" y="382"/>
                    </a:moveTo>
                    <a:lnTo>
                      <a:pt x="272" y="118"/>
                    </a:lnTo>
                    <a:lnTo>
                      <a:pt x="663" y="0"/>
                    </a:lnTo>
                    <a:lnTo>
                      <a:pt x="945" y="118"/>
                    </a:lnTo>
                    <a:lnTo>
                      <a:pt x="0" y="382"/>
                    </a:lnTo>
                    <a:close/>
                  </a:path>
                </a:pathLst>
              </a:custGeom>
              <a:solidFill>
                <a:srgbClr val="f7a8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Freeform 60"/>
              <p:cNvSpPr/>
              <p:nvPr/>
            </p:nvSpPr>
            <p:spPr>
              <a:xfrm>
                <a:off x="6955920" y="2845440"/>
                <a:ext cx="851040" cy="244080"/>
              </a:xfrm>
              <a:custGeom>
                <a:avLst/>
                <a:gdLst>
                  <a:gd name="textAreaLeft" fmla="*/ 0 w 851040"/>
                  <a:gd name="textAreaRight" fmla="*/ 851400 w 851040"/>
                  <a:gd name="textAreaTop" fmla="*/ 0 h 244080"/>
                  <a:gd name="textAreaBottom" fmla="*/ 244080 h 244080"/>
                </a:gdLst>
                <a:ahLst/>
                <a:rect l="textAreaLeft" t="textAreaTop" r="textAreaRight" b="textAreaBottom"/>
                <a:pathLst>
                  <a:path w="1682" h="1174">
                    <a:moveTo>
                      <a:pt x="939" y="0"/>
                    </a:moveTo>
                    <a:lnTo>
                      <a:pt x="1648" y="189"/>
                    </a:lnTo>
                    <a:lnTo>
                      <a:pt x="1682" y="300"/>
                    </a:lnTo>
                    <a:lnTo>
                      <a:pt x="1338" y="417"/>
                    </a:lnTo>
                    <a:lnTo>
                      <a:pt x="1293" y="505"/>
                    </a:lnTo>
                    <a:lnTo>
                      <a:pt x="1316" y="605"/>
                    </a:lnTo>
                    <a:lnTo>
                      <a:pt x="1366" y="678"/>
                    </a:lnTo>
                    <a:lnTo>
                      <a:pt x="1465" y="732"/>
                    </a:lnTo>
                    <a:lnTo>
                      <a:pt x="0" y="1174"/>
                    </a:lnTo>
                    <a:lnTo>
                      <a:pt x="1348" y="716"/>
                    </a:lnTo>
                    <a:lnTo>
                      <a:pt x="1259" y="662"/>
                    </a:lnTo>
                    <a:lnTo>
                      <a:pt x="828" y="755"/>
                    </a:lnTo>
                    <a:lnTo>
                      <a:pt x="1237" y="600"/>
                    </a:lnTo>
                    <a:lnTo>
                      <a:pt x="1243" y="473"/>
                    </a:lnTo>
                    <a:lnTo>
                      <a:pt x="368" y="666"/>
                    </a:lnTo>
                    <a:lnTo>
                      <a:pt x="346" y="573"/>
                    </a:lnTo>
                    <a:lnTo>
                      <a:pt x="1642" y="226"/>
                    </a:lnTo>
                    <a:lnTo>
                      <a:pt x="982" y="68"/>
                    </a:lnTo>
                    <a:lnTo>
                      <a:pt x="474" y="235"/>
                    </a:lnTo>
                    <a:lnTo>
                      <a:pt x="93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Freeform 61"/>
              <p:cNvSpPr/>
              <p:nvPr/>
            </p:nvSpPr>
            <p:spPr>
              <a:xfrm>
                <a:off x="7367040" y="3063600"/>
                <a:ext cx="149760" cy="29160"/>
              </a:xfrm>
              <a:custGeom>
                <a:avLst/>
                <a:gdLst>
                  <a:gd name="textAreaLeft" fmla="*/ 0 w 149760"/>
                  <a:gd name="textAreaRight" fmla="*/ 150120 w 149760"/>
                  <a:gd name="textAreaTop" fmla="*/ 0 h 29160"/>
                  <a:gd name="textAreaBottom" fmla="*/ 29520 h 29160"/>
                </a:gdLst>
                <a:ahLst/>
                <a:rect l="textAreaLeft" t="textAreaTop" r="textAreaRight" b="textAreaBottom"/>
                <a:pathLst>
                  <a:path w="297" h="141">
                    <a:moveTo>
                      <a:pt x="197" y="0"/>
                    </a:moveTo>
                    <a:lnTo>
                      <a:pt x="297" y="121"/>
                    </a:lnTo>
                    <a:lnTo>
                      <a:pt x="0" y="141"/>
                    </a:lnTo>
                    <a:lnTo>
                      <a:pt x="169" y="88"/>
                    </a:lnTo>
                    <a:lnTo>
                      <a:pt x="129" y="13"/>
                    </a:lnTo>
                    <a:lnTo>
                      <a:pt x="19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3" name="Group 62"/>
            <p:cNvGrpSpPr/>
            <p:nvPr/>
          </p:nvGrpSpPr>
          <p:grpSpPr>
            <a:xfrm>
              <a:off x="6016320" y="2306520"/>
              <a:ext cx="1831680" cy="669960"/>
              <a:chOff x="6016320" y="2306520"/>
              <a:chExt cx="1831680" cy="669960"/>
            </a:xfrm>
          </p:grpSpPr>
          <p:sp>
            <p:nvSpPr>
              <p:cNvPr id="204" name="Freeform 63"/>
              <p:cNvSpPr/>
              <p:nvPr/>
            </p:nvSpPr>
            <p:spPr>
              <a:xfrm>
                <a:off x="6140880" y="2382480"/>
                <a:ext cx="1298880" cy="570600"/>
              </a:xfrm>
              <a:custGeom>
                <a:avLst/>
                <a:gdLst>
                  <a:gd name="textAreaLeft" fmla="*/ 0 w 1298880"/>
                  <a:gd name="textAreaRight" fmla="*/ 1299240 w 1298880"/>
                  <a:gd name="textAreaTop" fmla="*/ 0 h 570600"/>
                  <a:gd name="textAreaBottom" fmla="*/ 570960 h 570600"/>
                </a:gdLst>
                <a:ahLst/>
                <a:rect l="textAreaLeft" t="textAreaTop" r="textAreaRight" b="textAreaBottom"/>
                <a:pathLst>
                  <a:path w="2566" h="2741">
                    <a:moveTo>
                      <a:pt x="92" y="0"/>
                    </a:moveTo>
                    <a:lnTo>
                      <a:pt x="94" y="307"/>
                    </a:lnTo>
                    <a:lnTo>
                      <a:pt x="10" y="530"/>
                    </a:lnTo>
                    <a:lnTo>
                      <a:pt x="364" y="818"/>
                    </a:lnTo>
                    <a:lnTo>
                      <a:pt x="0" y="1593"/>
                    </a:lnTo>
                    <a:lnTo>
                      <a:pt x="560" y="2741"/>
                    </a:lnTo>
                    <a:lnTo>
                      <a:pt x="1750" y="2587"/>
                    </a:lnTo>
                    <a:lnTo>
                      <a:pt x="2566" y="1882"/>
                    </a:lnTo>
                    <a:lnTo>
                      <a:pt x="1775" y="222"/>
                    </a:lnTo>
                    <a:lnTo>
                      <a:pt x="9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Freeform 64"/>
              <p:cNvSpPr/>
              <p:nvPr/>
            </p:nvSpPr>
            <p:spPr>
              <a:xfrm>
                <a:off x="6096600" y="2576160"/>
                <a:ext cx="294120" cy="203400"/>
              </a:xfrm>
              <a:custGeom>
                <a:avLst/>
                <a:gdLst>
                  <a:gd name="textAreaLeft" fmla="*/ 0 w 294120"/>
                  <a:gd name="textAreaRight" fmla="*/ 294120 w 294120"/>
                  <a:gd name="textAreaTop" fmla="*/ 0 h 203400"/>
                  <a:gd name="textAreaBottom" fmla="*/ 203760 h 203400"/>
                </a:gdLst>
                <a:ahLst/>
                <a:rect l="textAreaLeft" t="textAreaTop" r="textAreaRight" b="textAreaBottom"/>
                <a:pathLst>
                  <a:path w="582" h="978">
                    <a:moveTo>
                      <a:pt x="300" y="0"/>
                    </a:moveTo>
                    <a:lnTo>
                      <a:pt x="0" y="48"/>
                    </a:lnTo>
                    <a:lnTo>
                      <a:pt x="37" y="135"/>
                    </a:lnTo>
                    <a:lnTo>
                      <a:pt x="582" y="978"/>
                    </a:lnTo>
                    <a:lnTo>
                      <a:pt x="339" y="126"/>
                    </a:lnTo>
                    <a:lnTo>
                      <a:pt x="300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Freeform 65"/>
              <p:cNvSpPr/>
              <p:nvPr/>
            </p:nvSpPr>
            <p:spPr>
              <a:xfrm>
                <a:off x="6058440" y="2676240"/>
                <a:ext cx="731520" cy="285840"/>
              </a:xfrm>
              <a:custGeom>
                <a:avLst/>
                <a:gdLst>
                  <a:gd name="textAreaLeft" fmla="*/ 0 w 731520"/>
                  <a:gd name="textAreaRight" fmla="*/ 731880 w 731520"/>
                  <a:gd name="textAreaTop" fmla="*/ 0 h 285840"/>
                  <a:gd name="textAreaBottom" fmla="*/ 286200 h 285840"/>
                </a:gdLst>
                <a:ahLst/>
                <a:rect l="textAreaLeft" t="textAreaTop" r="textAreaRight" b="textAreaBottom"/>
                <a:pathLst>
                  <a:path w="1445" h="1374">
                    <a:moveTo>
                      <a:pt x="247" y="0"/>
                    </a:moveTo>
                    <a:lnTo>
                      <a:pt x="0" y="93"/>
                    </a:lnTo>
                    <a:lnTo>
                      <a:pt x="656" y="1374"/>
                    </a:lnTo>
                    <a:lnTo>
                      <a:pt x="1445" y="1331"/>
                    </a:lnTo>
                    <a:lnTo>
                      <a:pt x="719" y="1182"/>
                    </a:lnTo>
                    <a:lnTo>
                      <a:pt x="204" y="156"/>
                    </a:lnTo>
                    <a:lnTo>
                      <a:pt x="247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Freeform 66"/>
              <p:cNvSpPr/>
              <p:nvPr/>
            </p:nvSpPr>
            <p:spPr>
              <a:xfrm>
                <a:off x="6032880" y="2312640"/>
                <a:ext cx="855720" cy="177840"/>
              </a:xfrm>
              <a:custGeom>
                <a:avLst/>
                <a:gdLst>
                  <a:gd name="textAreaLeft" fmla="*/ 0 w 855720"/>
                  <a:gd name="textAreaRight" fmla="*/ 856080 w 855720"/>
                  <a:gd name="textAreaTop" fmla="*/ 0 h 177840"/>
                  <a:gd name="textAreaBottom" fmla="*/ 178200 h 177840"/>
                </a:gdLst>
                <a:ahLst/>
                <a:rect l="textAreaLeft" t="textAreaTop" r="textAreaRight" b="textAreaBottom"/>
                <a:pathLst>
                  <a:path w="1694" h="855">
                    <a:moveTo>
                      <a:pt x="1463" y="0"/>
                    </a:moveTo>
                    <a:lnTo>
                      <a:pt x="20" y="275"/>
                    </a:lnTo>
                    <a:lnTo>
                      <a:pt x="0" y="335"/>
                    </a:lnTo>
                    <a:lnTo>
                      <a:pt x="1389" y="855"/>
                    </a:lnTo>
                    <a:lnTo>
                      <a:pt x="1694" y="731"/>
                    </a:lnTo>
                    <a:lnTo>
                      <a:pt x="845" y="455"/>
                    </a:lnTo>
                    <a:lnTo>
                      <a:pt x="1509" y="75"/>
                    </a:lnTo>
                    <a:lnTo>
                      <a:pt x="1463" y="0"/>
                    </a:lnTo>
                    <a:close/>
                  </a:path>
                </a:pathLst>
              </a:custGeom>
              <a:solidFill>
                <a:srgbClr val="f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Freeform 67"/>
              <p:cNvSpPr/>
              <p:nvPr/>
            </p:nvSpPr>
            <p:spPr>
              <a:xfrm>
                <a:off x="6052680" y="2464200"/>
                <a:ext cx="913320" cy="169920"/>
              </a:xfrm>
              <a:custGeom>
                <a:avLst/>
                <a:gdLst>
                  <a:gd name="textAreaLeft" fmla="*/ 0 w 913320"/>
                  <a:gd name="textAreaRight" fmla="*/ 913680 w 913320"/>
                  <a:gd name="textAreaTop" fmla="*/ 0 h 169920"/>
                  <a:gd name="textAreaBottom" fmla="*/ 170280 h 169920"/>
                </a:gdLst>
                <a:ahLst/>
                <a:rect l="textAreaLeft" t="textAreaTop" r="textAreaRight" b="textAreaBottom"/>
                <a:pathLst>
                  <a:path w="1806" h="816">
                    <a:moveTo>
                      <a:pt x="241" y="0"/>
                    </a:moveTo>
                    <a:lnTo>
                      <a:pt x="0" y="101"/>
                    </a:lnTo>
                    <a:lnTo>
                      <a:pt x="0" y="172"/>
                    </a:lnTo>
                    <a:lnTo>
                      <a:pt x="1349" y="816"/>
                    </a:lnTo>
                    <a:lnTo>
                      <a:pt x="1779" y="687"/>
                    </a:lnTo>
                    <a:lnTo>
                      <a:pt x="1806" y="570"/>
                    </a:lnTo>
                    <a:lnTo>
                      <a:pt x="1574" y="551"/>
                    </a:lnTo>
                    <a:lnTo>
                      <a:pt x="1344" y="636"/>
                    </a:lnTo>
                    <a:lnTo>
                      <a:pt x="207" y="129"/>
                    </a:lnTo>
                    <a:lnTo>
                      <a:pt x="241" y="0"/>
                    </a:lnTo>
                    <a:close/>
                  </a:path>
                </a:pathLst>
              </a:custGeom>
              <a:solidFill>
                <a:srgbClr val="f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Freeform 68"/>
              <p:cNvSpPr/>
              <p:nvPr/>
            </p:nvSpPr>
            <p:spPr>
              <a:xfrm>
                <a:off x="6213240" y="2544840"/>
                <a:ext cx="689040" cy="224640"/>
              </a:xfrm>
              <a:custGeom>
                <a:avLst/>
                <a:gdLst>
                  <a:gd name="textAreaLeft" fmla="*/ 0 w 689040"/>
                  <a:gd name="textAreaRight" fmla="*/ 689400 w 689040"/>
                  <a:gd name="textAreaTop" fmla="*/ 0 h 224640"/>
                  <a:gd name="textAreaBottom" fmla="*/ 225000 h 224640"/>
                </a:gdLst>
                <a:ahLst/>
                <a:rect l="textAreaLeft" t="textAreaTop" r="textAreaRight" b="textAreaBottom"/>
                <a:pathLst>
                  <a:path w="1360" h="1080">
                    <a:moveTo>
                      <a:pt x="6" y="59"/>
                    </a:moveTo>
                    <a:lnTo>
                      <a:pt x="0" y="180"/>
                    </a:lnTo>
                    <a:lnTo>
                      <a:pt x="10" y="314"/>
                    </a:lnTo>
                    <a:lnTo>
                      <a:pt x="78" y="384"/>
                    </a:lnTo>
                    <a:lnTo>
                      <a:pt x="226" y="419"/>
                    </a:lnTo>
                    <a:lnTo>
                      <a:pt x="805" y="844"/>
                    </a:lnTo>
                    <a:lnTo>
                      <a:pt x="1060" y="1040"/>
                    </a:lnTo>
                    <a:lnTo>
                      <a:pt x="1244" y="1080"/>
                    </a:lnTo>
                    <a:lnTo>
                      <a:pt x="1219" y="835"/>
                    </a:lnTo>
                    <a:lnTo>
                      <a:pt x="1360" y="465"/>
                    </a:lnTo>
                    <a:lnTo>
                      <a:pt x="1075" y="450"/>
                    </a:lnTo>
                    <a:lnTo>
                      <a:pt x="50" y="0"/>
                    </a:lnTo>
                    <a:lnTo>
                      <a:pt x="6" y="59"/>
                    </a:lnTo>
                    <a:close/>
                  </a:path>
                </a:pathLst>
              </a:custGeom>
              <a:solidFill>
                <a:srgbClr val="f7a8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Freeform 69"/>
              <p:cNvSpPr/>
              <p:nvPr/>
            </p:nvSpPr>
            <p:spPr>
              <a:xfrm>
                <a:off x="6632280" y="2353320"/>
                <a:ext cx="833040" cy="81000"/>
              </a:xfrm>
              <a:custGeom>
                <a:avLst/>
                <a:gdLst>
                  <a:gd name="textAreaLeft" fmla="*/ 0 w 833040"/>
                  <a:gd name="textAreaRight" fmla="*/ 833400 w 833040"/>
                  <a:gd name="textAreaTop" fmla="*/ 0 h 81000"/>
                  <a:gd name="textAreaBottom" fmla="*/ 81360 h 81000"/>
                </a:gdLst>
                <a:ahLst/>
                <a:rect l="textAreaLeft" t="textAreaTop" r="textAreaRight" b="textAreaBottom"/>
                <a:pathLst>
                  <a:path w="1646" h="390">
                    <a:moveTo>
                      <a:pt x="0" y="292"/>
                    </a:moveTo>
                    <a:lnTo>
                      <a:pt x="53" y="273"/>
                    </a:lnTo>
                    <a:lnTo>
                      <a:pt x="191" y="238"/>
                    </a:lnTo>
                    <a:lnTo>
                      <a:pt x="281" y="216"/>
                    </a:lnTo>
                    <a:lnTo>
                      <a:pt x="383" y="190"/>
                    </a:lnTo>
                    <a:lnTo>
                      <a:pt x="490" y="165"/>
                    </a:lnTo>
                    <a:lnTo>
                      <a:pt x="602" y="139"/>
                    </a:lnTo>
                    <a:lnTo>
                      <a:pt x="715" y="112"/>
                    </a:lnTo>
                    <a:lnTo>
                      <a:pt x="822" y="87"/>
                    </a:lnTo>
                    <a:lnTo>
                      <a:pt x="924" y="64"/>
                    </a:lnTo>
                    <a:lnTo>
                      <a:pt x="1014" y="43"/>
                    </a:lnTo>
                    <a:lnTo>
                      <a:pt x="1150" y="12"/>
                    </a:lnTo>
                    <a:lnTo>
                      <a:pt x="1202" y="0"/>
                    </a:lnTo>
                    <a:lnTo>
                      <a:pt x="1646" y="75"/>
                    </a:lnTo>
                    <a:lnTo>
                      <a:pt x="158" y="390"/>
                    </a:lnTo>
                    <a:lnTo>
                      <a:pt x="0" y="292"/>
                    </a:lnTo>
                    <a:close/>
                  </a:path>
                </a:pathLst>
              </a:custGeom>
              <a:solidFill>
                <a:srgbClr val="f0ea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Freeform 70"/>
              <p:cNvSpPr/>
              <p:nvPr/>
            </p:nvSpPr>
            <p:spPr>
              <a:xfrm>
                <a:off x="6621480" y="2647440"/>
                <a:ext cx="130680" cy="86400"/>
              </a:xfrm>
              <a:custGeom>
                <a:avLst/>
                <a:gdLst>
                  <a:gd name="textAreaLeft" fmla="*/ 0 w 130680"/>
                  <a:gd name="textAreaRight" fmla="*/ 131040 w 130680"/>
                  <a:gd name="textAreaTop" fmla="*/ 0 h 86400"/>
                  <a:gd name="textAreaBottom" fmla="*/ 86400 h 86400"/>
                </a:gdLst>
                <a:ahLst/>
                <a:rect l="textAreaLeft" t="textAreaTop" r="textAreaRight" b="textAreaBottom"/>
                <a:pathLst>
                  <a:path w="259" h="417">
                    <a:moveTo>
                      <a:pt x="75" y="0"/>
                    </a:moveTo>
                    <a:lnTo>
                      <a:pt x="259" y="21"/>
                    </a:lnTo>
                    <a:lnTo>
                      <a:pt x="135" y="241"/>
                    </a:lnTo>
                    <a:lnTo>
                      <a:pt x="110" y="417"/>
                    </a:lnTo>
                    <a:lnTo>
                      <a:pt x="0" y="350"/>
                    </a:lnTo>
                    <a:lnTo>
                      <a:pt x="25" y="80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f0ea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Freeform 71"/>
              <p:cNvSpPr/>
              <p:nvPr/>
            </p:nvSpPr>
            <p:spPr>
              <a:xfrm>
                <a:off x="6526080" y="2734200"/>
                <a:ext cx="213480" cy="51120"/>
              </a:xfrm>
              <a:custGeom>
                <a:avLst/>
                <a:gdLst>
                  <a:gd name="textAreaLeft" fmla="*/ 0 w 213480"/>
                  <a:gd name="textAreaRight" fmla="*/ 213840 w 213480"/>
                  <a:gd name="textAreaTop" fmla="*/ 0 h 51120"/>
                  <a:gd name="textAreaBottom" fmla="*/ 51480 h 51120"/>
                </a:gdLst>
                <a:ahLst/>
                <a:rect l="textAreaLeft" t="textAreaTop" r="textAreaRight" b="textAreaBottom"/>
                <a:pathLst>
                  <a:path w="423" h="247">
                    <a:moveTo>
                      <a:pt x="0" y="16"/>
                    </a:moveTo>
                    <a:lnTo>
                      <a:pt x="174" y="0"/>
                    </a:lnTo>
                    <a:lnTo>
                      <a:pt x="423" y="201"/>
                    </a:lnTo>
                    <a:lnTo>
                      <a:pt x="44" y="247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f0ea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Freeform 72"/>
              <p:cNvSpPr/>
              <p:nvPr/>
            </p:nvSpPr>
            <p:spPr>
              <a:xfrm>
                <a:off x="6467040" y="2790360"/>
                <a:ext cx="1203480" cy="156240"/>
              </a:xfrm>
              <a:custGeom>
                <a:avLst/>
                <a:gdLst>
                  <a:gd name="textAreaLeft" fmla="*/ 0 w 1203480"/>
                  <a:gd name="textAreaRight" fmla="*/ 1203840 w 1203480"/>
                  <a:gd name="textAreaTop" fmla="*/ 0 h 156240"/>
                  <a:gd name="textAreaBottom" fmla="*/ 156600 h 156240"/>
                </a:gdLst>
                <a:ahLst/>
                <a:rect l="textAreaLeft" t="textAreaTop" r="textAreaRight" b="textAreaBottom"/>
                <a:pathLst>
                  <a:path w="2378" h="751">
                    <a:moveTo>
                      <a:pt x="155" y="301"/>
                    </a:moveTo>
                    <a:lnTo>
                      <a:pt x="129" y="450"/>
                    </a:lnTo>
                    <a:lnTo>
                      <a:pt x="0" y="601"/>
                    </a:lnTo>
                    <a:lnTo>
                      <a:pt x="563" y="751"/>
                    </a:lnTo>
                    <a:lnTo>
                      <a:pt x="1684" y="647"/>
                    </a:lnTo>
                    <a:lnTo>
                      <a:pt x="1763" y="616"/>
                    </a:lnTo>
                    <a:lnTo>
                      <a:pt x="1913" y="647"/>
                    </a:lnTo>
                    <a:lnTo>
                      <a:pt x="2042" y="630"/>
                    </a:lnTo>
                    <a:lnTo>
                      <a:pt x="2187" y="607"/>
                    </a:lnTo>
                    <a:lnTo>
                      <a:pt x="2221" y="580"/>
                    </a:lnTo>
                    <a:lnTo>
                      <a:pt x="2276" y="534"/>
                    </a:lnTo>
                    <a:lnTo>
                      <a:pt x="2326" y="490"/>
                    </a:lnTo>
                    <a:lnTo>
                      <a:pt x="2348" y="471"/>
                    </a:lnTo>
                    <a:lnTo>
                      <a:pt x="2378" y="186"/>
                    </a:lnTo>
                    <a:lnTo>
                      <a:pt x="2218" y="0"/>
                    </a:lnTo>
                    <a:lnTo>
                      <a:pt x="1439" y="140"/>
                    </a:lnTo>
                    <a:lnTo>
                      <a:pt x="155" y="301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Freeform 73"/>
              <p:cNvSpPr/>
              <p:nvPr/>
            </p:nvSpPr>
            <p:spPr>
              <a:xfrm>
                <a:off x="6139080" y="2590560"/>
                <a:ext cx="1549800" cy="360360"/>
              </a:xfrm>
              <a:custGeom>
                <a:avLst/>
                <a:gdLst>
                  <a:gd name="textAreaLeft" fmla="*/ 0 w 1549800"/>
                  <a:gd name="textAreaRight" fmla="*/ 1550160 w 1549800"/>
                  <a:gd name="textAreaTop" fmla="*/ 0 h 360360"/>
                  <a:gd name="textAreaBottom" fmla="*/ 360720 h 360360"/>
                </a:gdLst>
                <a:ahLst/>
                <a:rect l="textAreaLeft" t="textAreaTop" r="textAreaRight" b="textAreaBottom"/>
                <a:pathLst>
                  <a:path w="3063" h="1730">
                    <a:moveTo>
                      <a:pt x="15" y="29"/>
                    </a:moveTo>
                    <a:lnTo>
                      <a:pt x="134" y="0"/>
                    </a:lnTo>
                    <a:lnTo>
                      <a:pt x="205" y="184"/>
                    </a:lnTo>
                    <a:lnTo>
                      <a:pt x="306" y="212"/>
                    </a:lnTo>
                    <a:lnTo>
                      <a:pt x="880" y="630"/>
                    </a:lnTo>
                    <a:lnTo>
                      <a:pt x="669" y="680"/>
                    </a:lnTo>
                    <a:lnTo>
                      <a:pt x="809" y="936"/>
                    </a:lnTo>
                    <a:lnTo>
                      <a:pt x="1284" y="885"/>
                    </a:lnTo>
                    <a:lnTo>
                      <a:pt x="1594" y="980"/>
                    </a:lnTo>
                    <a:lnTo>
                      <a:pt x="2453" y="705"/>
                    </a:lnTo>
                    <a:lnTo>
                      <a:pt x="2883" y="730"/>
                    </a:lnTo>
                    <a:lnTo>
                      <a:pt x="3063" y="970"/>
                    </a:lnTo>
                    <a:lnTo>
                      <a:pt x="3014" y="1427"/>
                    </a:lnTo>
                    <a:lnTo>
                      <a:pt x="2858" y="1555"/>
                    </a:lnTo>
                    <a:lnTo>
                      <a:pt x="2537" y="1614"/>
                    </a:lnTo>
                    <a:lnTo>
                      <a:pt x="2388" y="1581"/>
                    </a:lnTo>
                    <a:lnTo>
                      <a:pt x="2269" y="1620"/>
                    </a:lnTo>
                    <a:lnTo>
                      <a:pt x="1115" y="1730"/>
                    </a:lnTo>
                    <a:lnTo>
                      <a:pt x="561" y="1594"/>
                    </a:lnTo>
                    <a:lnTo>
                      <a:pt x="964" y="1535"/>
                    </a:lnTo>
                    <a:lnTo>
                      <a:pt x="2554" y="1409"/>
                    </a:lnTo>
                    <a:lnTo>
                      <a:pt x="2808" y="1395"/>
                    </a:lnTo>
                    <a:lnTo>
                      <a:pt x="2908" y="1160"/>
                    </a:lnTo>
                    <a:lnTo>
                      <a:pt x="2892" y="1133"/>
                    </a:lnTo>
                    <a:lnTo>
                      <a:pt x="2855" y="1074"/>
                    </a:lnTo>
                    <a:lnTo>
                      <a:pt x="2834" y="1042"/>
                    </a:lnTo>
                    <a:lnTo>
                      <a:pt x="2815" y="1012"/>
                    </a:lnTo>
                    <a:lnTo>
                      <a:pt x="2788" y="980"/>
                    </a:lnTo>
                    <a:lnTo>
                      <a:pt x="2536" y="1006"/>
                    </a:lnTo>
                    <a:lnTo>
                      <a:pt x="2372" y="1029"/>
                    </a:lnTo>
                    <a:lnTo>
                      <a:pt x="2298" y="1040"/>
                    </a:lnTo>
                    <a:lnTo>
                      <a:pt x="784" y="1215"/>
                    </a:lnTo>
                    <a:lnTo>
                      <a:pt x="703" y="1237"/>
                    </a:lnTo>
                    <a:lnTo>
                      <a:pt x="0" y="119"/>
                    </a:lnTo>
                    <a:lnTo>
                      <a:pt x="459" y="710"/>
                    </a:lnTo>
                    <a:lnTo>
                      <a:pt x="15" y="29"/>
                    </a:lnTo>
                    <a:close/>
                  </a:path>
                </a:pathLst>
              </a:custGeom>
              <a:solidFill>
                <a:srgbClr val="7a7a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Freeform 74"/>
              <p:cNvSpPr/>
              <p:nvPr/>
            </p:nvSpPr>
            <p:spPr>
              <a:xfrm>
                <a:off x="7200000" y="2730960"/>
                <a:ext cx="300240" cy="37440"/>
              </a:xfrm>
              <a:custGeom>
                <a:avLst/>
                <a:gdLst>
                  <a:gd name="textAreaLeft" fmla="*/ 0 w 300240"/>
                  <a:gd name="textAreaRight" fmla="*/ 300600 w 300240"/>
                  <a:gd name="textAreaTop" fmla="*/ 0 h 37440"/>
                  <a:gd name="textAreaBottom" fmla="*/ 37800 h 37440"/>
                </a:gdLst>
                <a:ahLst/>
                <a:rect l="textAreaLeft" t="textAreaTop" r="textAreaRight" b="textAreaBottom"/>
                <a:pathLst>
                  <a:path w="593" h="178">
                    <a:moveTo>
                      <a:pt x="0" y="178"/>
                    </a:moveTo>
                    <a:lnTo>
                      <a:pt x="423" y="161"/>
                    </a:lnTo>
                    <a:lnTo>
                      <a:pt x="593" y="142"/>
                    </a:lnTo>
                    <a:lnTo>
                      <a:pt x="519" y="68"/>
                    </a:lnTo>
                    <a:lnTo>
                      <a:pt x="546" y="0"/>
                    </a:lnTo>
                    <a:lnTo>
                      <a:pt x="380" y="29"/>
                    </a:lnTo>
                    <a:lnTo>
                      <a:pt x="155" y="124"/>
                    </a:lnTo>
                    <a:lnTo>
                      <a:pt x="0" y="178"/>
                    </a:lnTo>
                    <a:close/>
                  </a:path>
                </a:pathLst>
              </a:custGeom>
              <a:solidFill>
                <a:srgbClr val="948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Freeform 75"/>
              <p:cNvSpPr/>
              <p:nvPr/>
            </p:nvSpPr>
            <p:spPr>
              <a:xfrm>
                <a:off x="6603480" y="2634840"/>
                <a:ext cx="133200" cy="99000"/>
              </a:xfrm>
              <a:custGeom>
                <a:avLst/>
                <a:gdLst>
                  <a:gd name="textAreaLeft" fmla="*/ 0 w 133200"/>
                  <a:gd name="textAreaRight" fmla="*/ 133560 w 133200"/>
                  <a:gd name="textAreaTop" fmla="*/ 0 h 99000"/>
                  <a:gd name="textAreaBottom" fmla="*/ 99360 h 99000"/>
                </a:gdLst>
                <a:ahLst/>
                <a:rect l="textAreaLeft" t="textAreaTop" r="textAreaRight" b="textAreaBottom"/>
                <a:pathLst>
                  <a:path w="264" h="477">
                    <a:moveTo>
                      <a:pt x="9" y="420"/>
                    </a:moveTo>
                    <a:lnTo>
                      <a:pt x="0" y="266"/>
                    </a:lnTo>
                    <a:lnTo>
                      <a:pt x="59" y="96"/>
                    </a:lnTo>
                    <a:lnTo>
                      <a:pt x="109" y="0"/>
                    </a:lnTo>
                    <a:lnTo>
                      <a:pt x="264" y="81"/>
                    </a:lnTo>
                    <a:lnTo>
                      <a:pt x="214" y="106"/>
                    </a:lnTo>
                    <a:lnTo>
                      <a:pt x="119" y="131"/>
                    </a:lnTo>
                    <a:lnTo>
                      <a:pt x="73" y="245"/>
                    </a:lnTo>
                    <a:lnTo>
                      <a:pt x="73" y="366"/>
                    </a:lnTo>
                    <a:lnTo>
                      <a:pt x="144" y="477"/>
                    </a:lnTo>
                    <a:lnTo>
                      <a:pt x="9" y="420"/>
                    </a:lnTo>
                    <a:close/>
                  </a:path>
                </a:pathLst>
              </a:custGeom>
              <a:solidFill>
                <a:srgbClr val="b8ad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Freeform 76"/>
              <p:cNvSpPr/>
              <p:nvPr/>
            </p:nvSpPr>
            <p:spPr>
              <a:xfrm>
                <a:off x="6627600" y="2349000"/>
                <a:ext cx="700920" cy="102960"/>
              </a:xfrm>
              <a:custGeom>
                <a:avLst/>
                <a:gdLst>
                  <a:gd name="textAreaLeft" fmla="*/ 0 w 700920"/>
                  <a:gd name="textAreaRight" fmla="*/ 701280 w 70092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1385" h="496">
                    <a:moveTo>
                      <a:pt x="0" y="297"/>
                    </a:moveTo>
                    <a:lnTo>
                      <a:pt x="1110" y="0"/>
                    </a:lnTo>
                    <a:lnTo>
                      <a:pt x="1255" y="31"/>
                    </a:lnTo>
                    <a:lnTo>
                      <a:pt x="269" y="309"/>
                    </a:lnTo>
                    <a:lnTo>
                      <a:pt x="1385" y="121"/>
                    </a:lnTo>
                    <a:lnTo>
                      <a:pt x="291" y="496"/>
                    </a:lnTo>
                    <a:lnTo>
                      <a:pt x="0" y="297"/>
                    </a:lnTo>
                    <a:close/>
                  </a:path>
                </a:pathLst>
              </a:custGeom>
              <a:solidFill>
                <a:srgbClr val="b8ad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Freeform 77"/>
              <p:cNvSpPr/>
              <p:nvPr/>
            </p:nvSpPr>
            <p:spPr>
              <a:xfrm>
                <a:off x="6477840" y="2723040"/>
                <a:ext cx="300240" cy="62280"/>
              </a:xfrm>
              <a:custGeom>
                <a:avLst/>
                <a:gdLst>
                  <a:gd name="textAreaLeft" fmla="*/ 0 w 300240"/>
                  <a:gd name="textAreaRight" fmla="*/ 300240 w 300240"/>
                  <a:gd name="textAreaTop" fmla="*/ 0 h 62280"/>
                  <a:gd name="textAreaBottom" fmla="*/ 62640 h 62280"/>
                </a:gdLst>
                <a:ahLst/>
                <a:rect l="textAreaLeft" t="textAreaTop" r="textAreaRight" b="textAreaBottom"/>
                <a:pathLst>
                  <a:path w="595" h="300">
                    <a:moveTo>
                      <a:pt x="0" y="44"/>
                    </a:moveTo>
                    <a:lnTo>
                      <a:pt x="187" y="0"/>
                    </a:lnTo>
                    <a:lnTo>
                      <a:pt x="428" y="131"/>
                    </a:lnTo>
                    <a:lnTo>
                      <a:pt x="595" y="251"/>
                    </a:lnTo>
                    <a:lnTo>
                      <a:pt x="490" y="269"/>
                    </a:lnTo>
                    <a:lnTo>
                      <a:pt x="375" y="193"/>
                    </a:lnTo>
                    <a:lnTo>
                      <a:pt x="291" y="109"/>
                    </a:lnTo>
                    <a:lnTo>
                      <a:pt x="155" y="94"/>
                    </a:lnTo>
                    <a:lnTo>
                      <a:pt x="140" y="300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b8ad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Freeform 78"/>
              <p:cNvSpPr/>
              <p:nvPr/>
            </p:nvSpPr>
            <p:spPr>
              <a:xfrm>
                <a:off x="6946560" y="2490480"/>
                <a:ext cx="228960" cy="251640"/>
              </a:xfrm>
              <a:custGeom>
                <a:avLst/>
                <a:gdLst>
                  <a:gd name="textAreaLeft" fmla="*/ 0 w 228960"/>
                  <a:gd name="textAreaRight" fmla="*/ 229320 w 228960"/>
                  <a:gd name="textAreaTop" fmla="*/ 0 h 251640"/>
                  <a:gd name="textAreaBottom" fmla="*/ 252000 h 251640"/>
                </a:gdLst>
                <a:ahLst/>
                <a:rect l="textAreaLeft" t="textAreaTop" r="textAreaRight" b="textAreaBottom"/>
                <a:pathLst>
                  <a:path w="452" h="1211">
                    <a:moveTo>
                      <a:pt x="71" y="96"/>
                    </a:moveTo>
                    <a:lnTo>
                      <a:pt x="362" y="0"/>
                    </a:lnTo>
                    <a:lnTo>
                      <a:pt x="452" y="110"/>
                    </a:lnTo>
                    <a:lnTo>
                      <a:pt x="322" y="776"/>
                    </a:lnTo>
                    <a:lnTo>
                      <a:pt x="186" y="896"/>
                    </a:lnTo>
                    <a:lnTo>
                      <a:pt x="182" y="1211"/>
                    </a:lnTo>
                    <a:lnTo>
                      <a:pt x="71" y="1086"/>
                    </a:lnTo>
                    <a:lnTo>
                      <a:pt x="49" y="941"/>
                    </a:lnTo>
                    <a:lnTo>
                      <a:pt x="27" y="841"/>
                    </a:lnTo>
                    <a:lnTo>
                      <a:pt x="5" y="794"/>
                    </a:lnTo>
                    <a:lnTo>
                      <a:pt x="0" y="772"/>
                    </a:lnTo>
                    <a:lnTo>
                      <a:pt x="5" y="716"/>
                    </a:lnTo>
                    <a:lnTo>
                      <a:pt x="30" y="549"/>
                    </a:lnTo>
                    <a:lnTo>
                      <a:pt x="61" y="382"/>
                    </a:lnTo>
                    <a:lnTo>
                      <a:pt x="77" y="305"/>
                    </a:lnTo>
                    <a:lnTo>
                      <a:pt x="37" y="121"/>
                    </a:lnTo>
                    <a:lnTo>
                      <a:pt x="71" y="96"/>
                    </a:lnTo>
                    <a:close/>
                  </a:path>
                </a:pathLst>
              </a:custGeom>
              <a:solidFill>
                <a:srgbClr val="ff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Freeform 79"/>
              <p:cNvSpPr/>
              <p:nvPr/>
            </p:nvSpPr>
            <p:spPr>
              <a:xfrm>
                <a:off x="6972120" y="2480040"/>
                <a:ext cx="239760" cy="268560"/>
              </a:xfrm>
              <a:custGeom>
                <a:avLst/>
                <a:gdLst>
                  <a:gd name="textAreaLeft" fmla="*/ 0 w 239760"/>
                  <a:gd name="textAreaRight" fmla="*/ 240120 w 239760"/>
                  <a:gd name="textAreaTop" fmla="*/ 0 h 268560"/>
                  <a:gd name="textAreaBottom" fmla="*/ 268920 h 268560"/>
                </a:gdLst>
                <a:ahLst/>
                <a:rect l="textAreaLeft" t="textAreaTop" r="textAreaRight" b="textAreaBottom"/>
                <a:pathLst>
                  <a:path w="474" h="1290">
                    <a:moveTo>
                      <a:pt x="0" y="109"/>
                    </a:moveTo>
                    <a:lnTo>
                      <a:pt x="369" y="0"/>
                    </a:lnTo>
                    <a:lnTo>
                      <a:pt x="474" y="214"/>
                    </a:lnTo>
                    <a:lnTo>
                      <a:pt x="310" y="689"/>
                    </a:lnTo>
                    <a:lnTo>
                      <a:pt x="434" y="1005"/>
                    </a:lnTo>
                    <a:lnTo>
                      <a:pt x="230" y="959"/>
                    </a:lnTo>
                    <a:lnTo>
                      <a:pt x="140" y="1290"/>
                    </a:lnTo>
                    <a:lnTo>
                      <a:pt x="57" y="1026"/>
                    </a:lnTo>
                    <a:lnTo>
                      <a:pt x="15" y="779"/>
                    </a:lnTo>
                    <a:lnTo>
                      <a:pt x="90" y="509"/>
                    </a:lnTo>
                    <a:lnTo>
                      <a:pt x="34" y="304"/>
                    </a:lnTo>
                    <a:lnTo>
                      <a:pt x="124" y="214"/>
                    </a:lnTo>
                    <a:lnTo>
                      <a:pt x="230" y="244"/>
                    </a:lnTo>
                    <a:lnTo>
                      <a:pt x="190" y="339"/>
                    </a:lnTo>
                    <a:lnTo>
                      <a:pt x="264" y="390"/>
                    </a:lnTo>
                    <a:lnTo>
                      <a:pt x="115" y="689"/>
                    </a:lnTo>
                    <a:lnTo>
                      <a:pt x="190" y="675"/>
                    </a:lnTo>
                    <a:lnTo>
                      <a:pt x="115" y="900"/>
                    </a:lnTo>
                    <a:lnTo>
                      <a:pt x="214" y="785"/>
                    </a:lnTo>
                    <a:lnTo>
                      <a:pt x="260" y="555"/>
                    </a:lnTo>
                    <a:lnTo>
                      <a:pt x="260" y="484"/>
                    </a:lnTo>
                    <a:lnTo>
                      <a:pt x="339" y="314"/>
                    </a:lnTo>
                    <a:lnTo>
                      <a:pt x="285" y="300"/>
                    </a:lnTo>
                    <a:lnTo>
                      <a:pt x="304" y="170"/>
                    </a:lnTo>
                    <a:lnTo>
                      <a:pt x="180" y="149"/>
                    </a:lnTo>
                    <a:lnTo>
                      <a:pt x="199" y="99"/>
                    </a:lnTo>
                    <a:lnTo>
                      <a:pt x="25" y="195"/>
                    </a:lnTo>
                    <a:lnTo>
                      <a:pt x="0" y="109"/>
                    </a:lnTo>
                    <a:close/>
                  </a:path>
                </a:pathLst>
              </a:custGeom>
              <a:solidFill>
                <a:srgbClr val="ff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Freeform 80"/>
              <p:cNvSpPr/>
              <p:nvPr/>
            </p:nvSpPr>
            <p:spPr>
              <a:xfrm>
                <a:off x="6231600" y="2584440"/>
                <a:ext cx="402120" cy="142200"/>
              </a:xfrm>
              <a:custGeom>
                <a:avLst/>
                <a:gdLst>
                  <a:gd name="textAreaLeft" fmla="*/ 0 w 402120"/>
                  <a:gd name="textAreaRight" fmla="*/ 402480 w 402120"/>
                  <a:gd name="textAreaTop" fmla="*/ 0 h 142200"/>
                  <a:gd name="textAreaBottom" fmla="*/ 142560 h 142200"/>
                </a:gdLst>
                <a:ahLst/>
                <a:rect l="textAreaLeft" t="textAreaTop" r="textAreaRight" b="textAreaBottom"/>
                <a:pathLst>
                  <a:path w="794" h="686">
                    <a:moveTo>
                      <a:pt x="0" y="136"/>
                    </a:moveTo>
                    <a:lnTo>
                      <a:pt x="60" y="40"/>
                    </a:lnTo>
                    <a:lnTo>
                      <a:pt x="134" y="0"/>
                    </a:lnTo>
                    <a:lnTo>
                      <a:pt x="144" y="96"/>
                    </a:lnTo>
                    <a:lnTo>
                      <a:pt x="349" y="291"/>
                    </a:lnTo>
                    <a:lnTo>
                      <a:pt x="653" y="466"/>
                    </a:lnTo>
                    <a:lnTo>
                      <a:pt x="794" y="341"/>
                    </a:lnTo>
                    <a:lnTo>
                      <a:pt x="714" y="686"/>
                    </a:lnTo>
                    <a:lnTo>
                      <a:pt x="100" y="230"/>
                    </a:lnTo>
                    <a:lnTo>
                      <a:pt x="20" y="215"/>
                    </a:lnTo>
                    <a:lnTo>
                      <a:pt x="0" y="136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Freeform 81"/>
              <p:cNvSpPr/>
              <p:nvPr/>
            </p:nvSpPr>
            <p:spPr>
              <a:xfrm>
                <a:off x="6222600" y="2547000"/>
                <a:ext cx="456480" cy="107640"/>
              </a:xfrm>
              <a:custGeom>
                <a:avLst/>
                <a:gdLst>
                  <a:gd name="textAreaLeft" fmla="*/ 0 w 456480"/>
                  <a:gd name="textAreaRight" fmla="*/ 456840 w 456480"/>
                  <a:gd name="textAreaTop" fmla="*/ 0 h 107640"/>
                  <a:gd name="textAreaBottom" fmla="*/ 108000 h 107640"/>
                </a:gdLst>
                <a:ahLst/>
                <a:rect l="textAreaLeft" t="textAreaTop" r="textAreaRight" b="textAreaBottom"/>
                <a:pathLst>
                  <a:path w="902" h="521">
                    <a:moveTo>
                      <a:pt x="32" y="40"/>
                    </a:moveTo>
                    <a:lnTo>
                      <a:pt x="0" y="102"/>
                    </a:lnTo>
                    <a:lnTo>
                      <a:pt x="143" y="121"/>
                    </a:lnTo>
                    <a:lnTo>
                      <a:pt x="767" y="446"/>
                    </a:lnTo>
                    <a:lnTo>
                      <a:pt x="812" y="521"/>
                    </a:lnTo>
                    <a:lnTo>
                      <a:pt x="902" y="435"/>
                    </a:lnTo>
                    <a:lnTo>
                      <a:pt x="93" y="0"/>
                    </a:lnTo>
                    <a:lnTo>
                      <a:pt x="32" y="40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Freeform 82"/>
              <p:cNvSpPr/>
              <p:nvPr/>
            </p:nvSpPr>
            <p:spPr>
              <a:xfrm>
                <a:off x="6694560" y="2607480"/>
                <a:ext cx="1143000" cy="187200"/>
              </a:xfrm>
              <a:custGeom>
                <a:avLst/>
                <a:gdLst>
                  <a:gd name="textAreaLeft" fmla="*/ 0 w 1143000"/>
                  <a:gd name="textAreaRight" fmla="*/ 1143360 w 1143000"/>
                  <a:gd name="textAreaTop" fmla="*/ 0 h 187200"/>
                  <a:gd name="textAreaBottom" fmla="*/ 187560 h 187200"/>
                </a:gdLst>
                <a:ahLst/>
                <a:rect l="textAreaLeft" t="textAreaTop" r="textAreaRight" b="textAreaBottom"/>
                <a:pathLst>
                  <a:path w="2259" h="900">
                    <a:moveTo>
                      <a:pt x="11" y="515"/>
                    </a:moveTo>
                    <a:lnTo>
                      <a:pt x="90" y="655"/>
                    </a:lnTo>
                    <a:lnTo>
                      <a:pt x="226" y="709"/>
                    </a:lnTo>
                    <a:lnTo>
                      <a:pt x="231" y="510"/>
                    </a:lnTo>
                    <a:lnTo>
                      <a:pt x="321" y="284"/>
                    </a:lnTo>
                    <a:lnTo>
                      <a:pt x="201" y="345"/>
                    </a:lnTo>
                    <a:lnTo>
                      <a:pt x="155" y="379"/>
                    </a:lnTo>
                    <a:lnTo>
                      <a:pt x="141" y="315"/>
                    </a:lnTo>
                    <a:lnTo>
                      <a:pt x="146" y="184"/>
                    </a:lnTo>
                    <a:lnTo>
                      <a:pt x="511" y="0"/>
                    </a:lnTo>
                    <a:lnTo>
                      <a:pt x="504" y="233"/>
                    </a:lnTo>
                    <a:lnTo>
                      <a:pt x="437" y="283"/>
                    </a:lnTo>
                    <a:lnTo>
                      <a:pt x="390" y="540"/>
                    </a:lnTo>
                    <a:lnTo>
                      <a:pt x="481" y="730"/>
                    </a:lnTo>
                    <a:lnTo>
                      <a:pt x="1885" y="305"/>
                    </a:lnTo>
                    <a:lnTo>
                      <a:pt x="1780" y="100"/>
                    </a:lnTo>
                    <a:lnTo>
                      <a:pt x="2259" y="299"/>
                    </a:lnTo>
                    <a:lnTo>
                      <a:pt x="2179" y="355"/>
                    </a:lnTo>
                    <a:lnTo>
                      <a:pt x="496" y="900"/>
                    </a:lnTo>
                    <a:lnTo>
                      <a:pt x="349" y="864"/>
                    </a:lnTo>
                    <a:lnTo>
                      <a:pt x="46" y="740"/>
                    </a:lnTo>
                    <a:lnTo>
                      <a:pt x="0" y="600"/>
                    </a:lnTo>
                    <a:lnTo>
                      <a:pt x="11" y="515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Freeform 83"/>
              <p:cNvSpPr/>
              <p:nvPr/>
            </p:nvSpPr>
            <p:spPr>
              <a:xfrm>
                <a:off x="7124040" y="2526840"/>
                <a:ext cx="678240" cy="121680"/>
              </a:xfrm>
              <a:custGeom>
                <a:avLst/>
                <a:gdLst/>
                <a:ahLst/>
                <a:rect l="l" t="t" r="r" b="b"/>
                <a:pathLst>
                  <a:path w="1340" h="586">
                    <a:moveTo>
                      <a:pt x="100" y="210"/>
                    </a:moveTo>
                    <a:lnTo>
                      <a:pt x="634" y="0"/>
                    </a:lnTo>
                    <a:lnTo>
                      <a:pt x="1340" y="170"/>
                    </a:lnTo>
                    <a:lnTo>
                      <a:pt x="1208" y="256"/>
                    </a:lnTo>
                    <a:lnTo>
                      <a:pt x="14" y="586"/>
                    </a:lnTo>
                    <a:lnTo>
                      <a:pt x="0" y="436"/>
                    </a:lnTo>
                    <a:lnTo>
                      <a:pt x="100" y="210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Freeform 84"/>
              <p:cNvSpPr/>
              <p:nvPr/>
            </p:nvSpPr>
            <p:spPr>
              <a:xfrm>
                <a:off x="6066360" y="2491920"/>
                <a:ext cx="700920" cy="159840"/>
              </a:xfrm>
              <a:custGeom>
                <a:avLst/>
                <a:gdLst>
                  <a:gd name="textAreaLeft" fmla="*/ 0 w 700920"/>
                  <a:gd name="textAreaRight" fmla="*/ 701280 w 700920"/>
                  <a:gd name="textAreaTop" fmla="*/ 0 h 159840"/>
                  <a:gd name="textAreaBottom" fmla="*/ 160200 h 159840"/>
                </a:gdLst>
                <a:ahLst/>
                <a:rect l="textAreaLeft" t="textAreaTop" r="textAreaRight" b="textAreaBottom"/>
                <a:pathLst>
                  <a:path w="1387" h="770">
                    <a:moveTo>
                      <a:pt x="0" y="45"/>
                    </a:moveTo>
                    <a:lnTo>
                      <a:pt x="24" y="0"/>
                    </a:lnTo>
                    <a:lnTo>
                      <a:pt x="1387" y="659"/>
                    </a:lnTo>
                    <a:lnTo>
                      <a:pt x="1356" y="770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ae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Freeform 85"/>
              <p:cNvSpPr/>
              <p:nvPr/>
            </p:nvSpPr>
            <p:spPr>
              <a:xfrm>
                <a:off x="6184440" y="2388240"/>
                <a:ext cx="1413000" cy="197280"/>
              </a:xfrm>
              <a:custGeom>
                <a:avLst/>
                <a:gdLst>
                  <a:gd name="textAreaLeft" fmla="*/ 0 w 1413000"/>
                  <a:gd name="textAreaRight" fmla="*/ 1413360 w 1413000"/>
                  <a:gd name="textAreaTop" fmla="*/ 0 h 197280"/>
                  <a:gd name="textAreaBottom" fmla="*/ 197640 h 197280"/>
                </a:gdLst>
                <a:ahLst/>
                <a:rect l="textAreaLeft" t="textAreaTop" r="textAreaRight" b="textAreaBottom"/>
                <a:pathLst>
                  <a:path w="2793" h="946">
                    <a:moveTo>
                      <a:pt x="9" y="280"/>
                    </a:moveTo>
                    <a:lnTo>
                      <a:pt x="1219" y="716"/>
                    </a:lnTo>
                    <a:lnTo>
                      <a:pt x="1169" y="946"/>
                    </a:lnTo>
                    <a:lnTo>
                      <a:pt x="1433" y="856"/>
                    </a:lnTo>
                    <a:lnTo>
                      <a:pt x="1584" y="795"/>
                    </a:lnTo>
                    <a:lnTo>
                      <a:pt x="1544" y="590"/>
                    </a:lnTo>
                    <a:lnTo>
                      <a:pt x="1928" y="441"/>
                    </a:lnTo>
                    <a:lnTo>
                      <a:pt x="2003" y="586"/>
                    </a:lnTo>
                    <a:lnTo>
                      <a:pt x="1959" y="835"/>
                    </a:lnTo>
                    <a:lnTo>
                      <a:pt x="2498" y="574"/>
                    </a:lnTo>
                    <a:lnTo>
                      <a:pt x="2648" y="586"/>
                    </a:lnTo>
                    <a:lnTo>
                      <a:pt x="2793" y="310"/>
                    </a:lnTo>
                    <a:lnTo>
                      <a:pt x="2778" y="106"/>
                    </a:lnTo>
                    <a:lnTo>
                      <a:pt x="2588" y="0"/>
                    </a:lnTo>
                    <a:lnTo>
                      <a:pt x="1194" y="435"/>
                    </a:lnTo>
                    <a:lnTo>
                      <a:pt x="1089" y="490"/>
                    </a:lnTo>
                    <a:lnTo>
                      <a:pt x="0" y="115"/>
                    </a:lnTo>
                    <a:lnTo>
                      <a:pt x="9" y="280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Freeform 86"/>
              <p:cNvSpPr/>
              <p:nvPr/>
            </p:nvSpPr>
            <p:spPr>
              <a:xfrm>
                <a:off x="6094800" y="2311200"/>
                <a:ext cx="1510200" cy="263520"/>
              </a:xfrm>
              <a:custGeom>
                <a:avLst/>
                <a:gdLst>
                  <a:gd name="textAreaLeft" fmla="*/ 0 w 1510200"/>
                  <a:gd name="textAreaRight" fmla="*/ 1510560 w 1510200"/>
                  <a:gd name="textAreaTop" fmla="*/ 0 h 263520"/>
                  <a:gd name="textAreaBottom" fmla="*/ 263880 h 263520"/>
                </a:gdLst>
                <a:ahLst/>
                <a:rect l="textAreaLeft" t="textAreaTop" r="textAreaRight" b="textAreaBottom"/>
                <a:pathLst>
                  <a:path w="2984" h="1267">
                    <a:moveTo>
                      <a:pt x="0" y="316"/>
                    </a:moveTo>
                    <a:lnTo>
                      <a:pt x="1490" y="0"/>
                    </a:lnTo>
                    <a:lnTo>
                      <a:pt x="2284" y="170"/>
                    </a:lnTo>
                    <a:lnTo>
                      <a:pt x="991" y="481"/>
                    </a:lnTo>
                    <a:lnTo>
                      <a:pt x="1291" y="586"/>
                    </a:lnTo>
                    <a:lnTo>
                      <a:pt x="2598" y="266"/>
                    </a:lnTo>
                    <a:lnTo>
                      <a:pt x="2731" y="213"/>
                    </a:lnTo>
                    <a:lnTo>
                      <a:pt x="2904" y="306"/>
                    </a:lnTo>
                    <a:lnTo>
                      <a:pt x="2979" y="421"/>
                    </a:lnTo>
                    <a:lnTo>
                      <a:pt x="2984" y="741"/>
                    </a:lnTo>
                    <a:lnTo>
                      <a:pt x="2824" y="957"/>
                    </a:lnTo>
                    <a:lnTo>
                      <a:pt x="2674" y="967"/>
                    </a:lnTo>
                    <a:lnTo>
                      <a:pt x="2649" y="1032"/>
                    </a:lnTo>
                    <a:lnTo>
                      <a:pt x="2514" y="1097"/>
                    </a:lnTo>
                    <a:lnTo>
                      <a:pt x="2349" y="1147"/>
                    </a:lnTo>
                    <a:lnTo>
                      <a:pt x="2119" y="1267"/>
                    </a:lnTo>
                    <a:lnTo>
                      <a:pt x="2135" y="1206"/>
                    </a:lnTo>
                    <a:lnTo>
                      <a:pt x="2209" y="1026"/>
                    </a:lnTo>
                    <a:lnTo>
                      <a:pt x="2759" y="806"/>
                    </a:lnTo>
                    <a:lnTo>
                      <a:pt x="2864" y="676"/>
                    </a:lnTo>
                    <a:lnTo>
                      <a:pt x="2835" y="446"/>
                    </a:lnTo>
                    <a:lnTo>
                      <a:pt x="2759" y="403"/>
                    </a:lnTo>
                    <a:lnTo>
                      <a:pt x="1375" y="787"/>
                    </a:lnTo>
                    <a:lnTo>
                      <a:pt x="0" y="316"/>
                    </a:lnTo>
                    <a:close/>
                  </a:path>
                </a:pathLst>
              </a:custGeom>
              <a:solidFill>
                <a:srgbClr val="ae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Freeform 87"/>
              <p:cNvSpPr/>
              <p:nvPr/>
            </p:nvSpPr>
            <p:spPr>
              <a:xfrm>
                <a:off x="6887160" y="2602800"/>
                <a:ext cx="775440" cy="162360"/>
              </a:xfrm>
              <a:custGeom>
                <a:avLst/>
                <a:gdLst>
                  <a:gd name="textAreaLeft" fmla="*/ 0 w 775440"/>
                  <a:gd name="textAreaRight" fmla="*/ 775800 w 775440"/>
                  <a:gd name="textAreaTop" fmla="*/ 0 h 162360"/>
                  <a:gd name="textAreaBottom" fmla="*/ 162720 h 162360"/>
                </a:gdLst>
                <a:ahLst/>
                <a:rect l="textAreaLeft" t="textAreaTop" r="textAreaRight" b="textAreaBottom"/>
                <a:pathLst>
                  <a:path w="1534" h="781">
                    <a:moveTo>
                      <a:pt x="509" y="236"/>
                    </a:moveTo>
                    <a:lnTo>
                      <a:pt x="1419" y="0"/>
                    </a:lnTo>
                    <a:lnTo>
                      <a:pt x="1408" y="137"/>
                    </a:lnTo>
                    <a:lnTo>
                      <a:pt x="1423" y="251"/>
                    </a:lnTo>
                    <a:lnTo>
                      <a:pt x="1534" y="331"/>
                    </a:lnTo>
                    <a:lnTo>
                      <a:pt x="115" y="781"/>
                    </a:lnTo>
                    <a:lnTo>
                      <a:pt x="40" y="741"/>
                    </a:lnTo>
                    <a:lnTo>
                      <a:pt x="0" y="611"/>
                    </a:lnTo>
                    <a:lnTo>
                      <a:pt x="55" y="345"/>
                    </a:lnTo>
                    <a:lnTo>
                      <a:pt x="109" y="316"/>
                    </a:lnTo>
                    <a:lnTo>
                      <a:pt x="245" y="586"/>
                    </a:lnTo>
                    <a:lnTo>
                      <a:pt x="316" y="648"/>
                    </a:lnTo>
                    <a:lnTo>
                      <a:pt x="325" y="410"/>
                    </a:lnTo>
                    <a:lnTo>
                      <a:pt x="409" y="331"/>
                    </a:lnTo>
                    <a:lnTo>
                      <a:pt x="577" y="387"/>
                    </a:lnTo>
                    <a:lnTo>
                      <a:pt x="509" y="236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Freeform 88"/>
              <p:cNvSpPr/>
              <p:nvPr/>
            </p:nvSpPr>
            <p:spPr>
              <a:xfrm>
                <a:off x="6755400" y="2549880"/>
                <a:ext cx="236160" cy="54720"/>
              </a:xfrm>
              <a:custGeom>
                <a:avLst/>
                <a:gdLst>
                  <a:gd name="textAreaLeft" fmla="*/ 0 w 236160"/>
                  <a:gd name="textAreaRight" fmla="*/ 236520 w 236160"/>
                  <a:gd name="textAreaTop" fmla="*/ 0 h 54720"/>
                  <a:gd name="textAreaBottom" fmla="*/ 55080 h 54720"/>
                </a:gdLst>
                <a:ahLst/>
                <a:rect l="textAreaLeft" t="textAreaTop" r="textAreaRight" b="textAreaBottom"/>
                <a:pathLst>
                  <a:path w="468" h="264">
                    <a:moveTo>
                      <a:pt x="0" y="229"/>
                    </a:moveTo>
                    <a:lnTo>
                      <a:pt x="310" y="199"/>
                    </a:lnTo>
                    <a:lnTo>
                      <a:pt x="294" y="264"/>
                    </a:lnTo>
                    <a:lnTo>
                      <a:pt x="434" y="210"/>
                    </a:lnTo>
                    <a:lnTo>
                      <a:pt x="468" y="0"/>
                    </a:lnTo>
                    <a:lnTo>
                      <a:pt x="0" y="229"/>
                    </a:lnTo>
                    <a:close/>
                  </a:path>
                </a:pathLst>
              </a:custGeom>
              <a:solidFill>
                <a:srgbClr val="ae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Freeform 89"/>
              <p:cNvSpPr/>
              <p:nvPr/>
            </p:nvSpPr>
            <p:spPr>
              <a:xfrm>
                <a:off x="6016320" y="2306520"/>
                <a:ext cx="1552320" cy="225360"/>
              </a:xfrm>
              <a:custGeom>
                <a:avLst/>
                <a:gdLst>
                  <a:gd name="textAreaLeft" fmla="*/ 0 w 1552320"/>
                  <a:gd name="textAreaRight" fmla="*/ 1552680 w 1552320"/>
                  <a:gd name="textAreaTop" fmla="*/ 0 h 225360"/>
                  <a:gd name="textAreaBottom" fmla="*/ 225720 h 225360"/>
                </a:gdLst>
                <a:ahLst/>
                <a:rect l="textAreaLeft" t="textAreaTop" r="textAreaRight" b="textAreaBottom"/>
                <a:pathLst>
                  <a:path w="3069" h="1082">
                    <a:moveTo>
                      <a:pt x="25" y="281"/>
                    </a:moveTo>
                    <a:lnTo>
                      <a:pt x="0" y="384"/>
                    </a:lnTo>
                    <a:lnTo>
                      <a:pt x="272" y="520"/>
                    </a:lnTo>
                    <a:lnTo>
                      <a:pt x="306" y="647"/>
                    </a:lnTo>
                    <a:lnTo>
                      <a:pt x="313" y="757"/>
                    </a:lnTo>
                    <a:lnTo>
                      <a:pt x="279" y="886"/>
                    </a:lnTo>
                    <a:lnTo>
                      <a:pt x="365" y="775"/>
                    </a:lnTo>
                    <a:lnTo>
                      <a:pt x="407" y="647"/>
                    </a:lnTo>
                    <a:lnTo>
                      <a:pt x="399" y="554"/>
                    </a:lnTo>
                    <a:lnTo>
                      <a:pt x="1436" y="920"/>
                    </a:lnTo>
                    <a:lnTo>
                      <a:pt x="2915" y="425"/>
                    </a:lnTo>
                    <a:lnTo>
                      <a:pt x="2958" y="554"/>
                    </a:lnTo>
                    <a:lnTo>
                      <a:pt x="2958" y="698"/>
                    </a:lnTo>
                    <a:lnTo>
                      <a:pt x="2856" y="825"/>
                    </a:lnTo>
                    <a:lnTo>
                      <a:pt x="2371" y="1026"/>
                    </a:lnTo>
                    <a:lnTo>
                      <a:pt x="2345" y="1082"/>
                    </a:lnTo>
                    <a:lnTo>
                      <a:pt x="2908" y="868"/>
                    </a:lnTo>
                    <a:lnTo>
                      <a:pt x="3019" y="791"/>
                    </a:lnTo>
                    <a:lnTo>
                      <a:pt x="3069" y="664"/>
                    </a:lnTo>
                    <a:lnTo>
                      <a:pt x="3053" y="493"/>
                    </a:lnTo>
                    <a:lnTo>
                      <a:pt x="2976" y="400"/>
                    </a:lnTo>
                    <a:lnTo>
                      <a:pt x="2899" y="366"/>
                    </a:lnTo>
                    <a:lnTo>
                      <a:pt x="2695" y="459"/>
                    </a:lnTo>
                    <a:lnTo>
                      <a:pt x="1470" y="748"/>
                    </a:lnTo>
                    <a:lnTo>
                      <a:pt x="282" y="381"/>
                    </a:lnTo>
                    <a:lnTo>
                      <a:pt x="1402" y="809"/>
                    </a:lnTo>
                    <a:lnTo>
                      <a:pt x="1402" y="852"/>
                    </a:lnTo>
                    <a:lnTo>
                      <a:pt x="50" y="357"/>
                    </a:lnTo>
                    <a:lnTo>
                      <a:pt x="93" y="315"/>
                    </a:lnTo>
                    <a:lnTo>
                      <a:pt x="1597" y="43"/>
                    </a:lnTo>
                    <a:lnTo>
                      <a:pt x="2334" y="179"/>
                    </a:lnTo>
                    <a:lnTo>
                      <a:pt x="1556" y="0"/>
                    </a:lnTo>
                    <a:lnTo>
                      <a:pt x="25" y="28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Freeform 90"/>
              <p:cNvSpPr/>
              <p:nvPr/>
            </p:nvSpPr>
            <p:spPr>
              <a:xfrm>
                <a:off x="6020640" y="2457000"/>
                <a:ext cx="959040" cy="199800"/>
              </a:xfrm>
              <a:custGeom>
                <a:avLst/>
                <a:gdLst>
                  <a:gd name="textAreaLeft" fmla="*/ 0 w 959040"/>
                  <a:gd name="textAreaRight" fmla="*/ 959400 w 959040"/>
                  <a:gd name="textAreaTop" fmla="*/ 0 h 199800"/>
                  <a:gd name="textAreaBottom" fmla="*/ 200160 h 199800"/>
                </a:gdLst>
                <a:ahLst/>
                <a:rect l="textAreaLeft" t="textAreaTop" r="textAreaRight" b="textAreaBottom"/>
                <a:pathLst>
                  <a:path w="1894" h="960">
                    <a:moveTo>
                      <a:pt x="321" y="0"/>
                    </a:moveTo>
                    <a:lnTo>
                      <a:pt x="28" y="105"/>
                    </a:lnTo>
                    <a:lnTo>
                      <a:pt x="0" y="211"/>
                    </a:lnTo>
                    <a:lnTo>
                      <a:pt x="1441" y="960"/>
                    </a:lnTo>
                    <a:lnTo>
                      <a:pt x="1840" y="760"/>
                    </a:lnTo>
                    <a:lnTo>
                      <a:pt x="1894" y="626"/>
                    </a:lnTo>
                    <a:lnTo>
                      <a:pt x="1451" y="799"/>
                    </a:lnTo>
                    <a:lnTo>
                      <a:pt x="449" y="338"/>
                    </a:lnTo>
                    <a:lnTo>
                      <a:pt x="1401" y="831"/>
                    </a:lnTo>
                    <a:lnTo>
                      <a:pt x="1423" y="904"/>
                    </a:lnTo>
                    <a:lnTo>
                      <a:pt x="89" y="211"/>
                    </a:lnTo>
                    <a:lnTo>
                      <a:pt x="77" y="149"/>
                    </a:lnTo>
                    <a:lnTo>
                      <a:pt x="316" y="55"/>
                    </a:lnTo>
                    <a:lnTo>
                      <a:pt x="3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Freeform 91"/>
              <p:cNvSpPr/>
              <p:nvPr/>
            </p:nvSpPr>
            <p:spPr>
              <a:xfrm>
                <a:off x="6190560" y="2480040"/>
                <a:ext cx="801000" cy="121680"/>
              </a:xfrm>
              <a:custGeom>
                <a:avLst/>
                <a:gdLst>
                  <a:gd name="textAreaLeft" fmla="*/ 0 w 801000"/>
                  <a:gd name="textAreaRight" fmla="*/ 801360 w 801000"/>
                  <a:gd name="textAreaTop" fmla="*/ 0 h 121680"/>
                  <a:gd name="textAreaBottom" fmla="*/ 122040 h 121680"/>
                </a:gdLst>
                <a:ahLst/>
                <a:rect l="textAreaLeft" t="textAreaTop" r="textAreaRight" b="textAreaBottom"/>
                <a:pathLst>
                  <a:path w="1584" h="584">
                    <a:moveTo>
                      <a:pt x="0" y="83"/>
                    </a:moveTo>
                    <a:lnTo>
                      <a:pt x="1082" y="584"/>
                    </a:lnTo>
                    <a:lnTo>
                      <a:pt x="1584" y="378"/>
                    </a:lnTo>
                    <a:lnTo>
                      <a:pt x="1584" y="335"/>
                    </a:lnTo>
                    <a:lnTo>
                      <a:pt x="1200" y="483"/>
                    </a:lnTo>
                    <a:lnTo>
                      <a:pt x="1255" y="360"/>
                    </a:lnTo>
                    <a:lnTo>
                      <a:pt x="1448" y="282"/>
                    </a:lnTo>
                    <a:lnTo>
                      <a:pt x="1239" y="306"/>
                    </a:lnTo>
                    <a:lnTo>
                      <a:pt x="1227" y="171"/>
                    </a:lnTo>
                    <a:lnTo>
                      <a:pt x="1156" y="22"/>
                    </a:lnTo>
                    <a:lnTo>
                      <a:pt x="1106" y="56"/>
                    </a:lnTo>
                    <a:lnTo>
                      <a:pt x="1167" y="171"/>
                    </a:lnTo>
                    <a:lnTo>
                      <a:pt x="662" y="0"/>
                    </a:lnTo>
                    <a:lnTo>
                      <a:pt x="1167" y="249"/>
                    </a:lnTo>
                    <a:lnTo>
                      <a:pt x="1181" y="325"/>
                    </a:lnTo>
                    <a:lnTo>
                      <a:pt x="1141" y="418"/>
                    </a:lnTo>
                    <a:lnTo>
                      <a:pt x="358" y="111"/>
                    </a:lnTo>
                    <a:lnTo>
                      <a:pt x="1137" y="466"/>
                    </a:lnTo>
                    <a:lnTo>
                      <a:pt x="1082" y="540"/>
                    </a:lnTo>
                    <a:lnTo>
                      <a:pt x="0" y="8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Freeform 92"/>
              <p:cNvSpPr/>
              <p:nvPr/>
            </p:nvSpPr>
            <p:spPr>
              <a:xfrm>
                <a:off x="6858360" y="2433600"/>
                <a:ext cx="561600" cy="304200"/>
              </a:xfrm>
              <a:custGeom>
                <a:avLst/>
                <a:gdLst>
                  <a:gd name="textAreaLeft" fmla="*/ 0 w 561600"/>
                  <a:gd name="textAreaRight" fmla="*/ 561960 w 56160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1109" h="1460">
                    <a:moveTo>
                      <a:pt x="0" y="378"/>
                    </a:moveTo>
                    <a:lnTo>
                      <a:pt x="411" y="256"/>
                    </a:lnTo>
                    <a:lnTo>
                      <a:pt x="1109" y="0"/>
                    </a:lnTo>
                    <a:lnTo>
                      <a:pt x="626" y="245"/>
                    </a:lnTo>
                    <a:lnTo>
                      <a:pt x="709" y="346"/>
                    </a:lnTo>
                    <a:lnTo>
                      <a:pt x="709" y="467"/>
                    </a:lnTo>
                    <a:lnTo>
                      <a:pt x="643" y="672"/>
                    </a:lnTo>
                    <a:lnTo>
                      <a:pt x="554" y="895"/>
                    </a:lnTo>
                    <a:lnTo>
                      <a:pt x="550" y="1016"/>
                    </a:lnTo>
                    <a:lnTo>
                      <a:pt x="632" y="1199"/>
                    </a:lnTo>
                    <a:lnTo>
                      <a:pt x="510" y="1055"/>
                    </a:lnTo>
                    <a:lnTo>
                      <a:pt x="494" y="899"/>
                    </a:lnTo>
                    <a:lnTo>
                      <a:pt x="588" y="639"/>
                    </a:lnTo>
                    <a:lnTo>
                      <a:pt x="660" y="450"/>
                    </a:lnTo>
                    <a:lnTo>
                      <a:pt x="550" y="251"/>
                    </a:lnTo>
                    <a:lnTo>
                      <a:pt x="244" y="368"/>
                    </a:lnTo>
                    <a:lnTo>
                      <a:pt x="272" y="428"/>
                    </a:lnTo>
                    <a:lnTo>
                      <a:pt x="294" y="583"/>
                    </a:lnTo>
                    <a:lnTo>
                      <a:pt x="266" y="760"/>
                    </a:lnTo>
                    <a:lnTo>
                      <a:pt x="222" y="933"/>
                    </a:lnTo>
                    <a:lnTo>
                      <a:pt x="206" y="1110"/>
                    </a:lnTo>
                    <a:lnTo>
                      <a:pt x="256" y="1283"/>
                    </a:lnTo>
                    <a:lnTo>
                      <a:pt x="371" y="1460"/>
                    </a:lnTo>
                    <a:lnTo>
                      <a:pt x="250" y="1387"/>
                    </a:lnTo>
                    <a:lnTo>
                      <a:pt x="167" y="1199"/>
                    </a:lnTo>
                    <a:lnTo>
                      <a:pt x="150" y="989"/>
                    </a:lnTo>
                    <a:lnTo>
                      <a:pt x="212" y="716"/>
                    </a:lnTo>
                    <a:lnTo>
                      <a:pt x="234" y="551"/>
                    </a:lnTo>
                    <a:lnTo>
                      <a:pt x="150" y="390"/>
                    </a:lnTo>
                    <a:lnTo>
                      <a:pt x="0" y="37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Freeform 93"/>
              <p:cNvSpPr/>
              <p:nvPr/>
            </p:nvSpPr>
            <p:spPr>
              <a:xfrm>
                <a:off x="7033320" y="2666160"/>
                <a:ext cx="145440" cy="71640"/>
              </a:xfrm>
              <a:custGeom>
                <a:avLst/>
                <a:gdLst>
                  <a:gd name="textAreaLeft" fmla="*/ 0 w 145440"/>
                  <a:gd name="textAreaRight" fmla="*/ 145800 w 145440"/>
                  <a:gd name="textAreaTop" fmla="*/ 0 h 71640"/>
                  <a:gd name="textAreaBottom" fmla="*/ 72000 h 71640"/>
                </a:gdLst>
                <a:ahLst/>
                <a:rect l="textAreaLeft" t="textAreaTop" r="textAreaRight" b="textAreaBottom"/>
                <a:pathLst>
                  <a:path w="288" h="344">
                    <a:moveTo>
                      <a:pt x="27" y="344"/>
                    </a:moveTo>
                    <a:lnTo>
                      <a:pt x="0" y="161"/>
                    </a:lnTo>
                    <a:lnTo>
                      <a:pt x="73" y="0"/>
                    </a:lnTo>
                    <a:lnTo>
                      <a:pt x="139" y="6"/>
                    </a:lnTo>
                    <a:lnTo>
                      <a:pt x="288" y="83"/>
                    </a:lnTo>
                    <a:lnTo>
                      <a:pt x="111" y="66"/>
                    </a:lnTo>
                    <a:lnTo>
                      <a:pt x="49" y="167"/>
                    </a:lnTo>
                    <a:lnTo>
                      <a:pt x="27" y="3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Freeform 94"/>
              <p:cNvSpPr/>
              <p:nvPr/>
            </p:nvSpPr>
            <p:spPr>
              <a:xfrm>
                <a:off x="7156080" y="2358720"/>
                <a:ext cx="459720" cy="225360"/>
              </a:xfrm>
              <a:custGeom>
                <a:avLst/>
                <a:gdLst>
                  <a:gd name="textAreaLeft" fmla="*/ 0 w 459720"/>
                  <a:gd name="textAreaRight" fmla="*/ 460080 w 459720"/>
                  <a:gd name="textAreaTop" fmla="*/ 0 h 225360"/>
                  <a:gd name="textAreaBottom" fmla="*/ 225720 h 225360"/>
                </a:gdLst>
                <a:ahLst/>
                <a:rect l="textAreaLeft" t="textAreaTop" r="textAreaRight" b="textAreaBottom"/>
                <a:pathLst>
                  <a:path w="908" h="1082">
                    <a:moveTo>
                      <a:pt x="66" y="949"/>
                    </a:moveTo>
                    <a:lnTo>
                      <a:pt x="576" y="716"/>
                    </a:lnTo>
                    <a:lnTo>
                      <a:pt x="695" y="703"/>
                    </a:lnTo>
                    <a:lnTo>
                      <a:pt x="781" y="621"/>
                    </a:lnTo>
                    <a:lnTo>
                      <a:pt x="859" y="428"/>
                    </a:lnTo>
                    <a:lnTo>
                      <a:pt x="825" y="161"/>
                    </a:lnTo>
                    <a:lnTo>
                      <a:pt x="700" y="52"/>
                    </a:lnTo>
                    <a:lnTo>
                      <a:pt x="478" y="124"/>
                    </a:lnTo>
                    <a:lnTo>
                      <a:pt x="661" y="0"/>
                    </a:lnTo>
                    <a:lnTo>
                      <a:pt x="781" y="40"/>
                    </a:lnTo>
                    <a:lnTo>
                      <a:pt x="881" y="151"/>
                    </a:lnTo>
                    <a:lnTo>
                      <a:pt x="908" y="372"/>
                    </a:lnTo>
                    <a:lnTo>
                      <a:pt x="897" y="527"/>
                    </a:lnTo>
                    <a:lnTo>
                      <a:pt x="794" y="723"/>
                    </a:lnTo>
                    <a:lnTo>
                      <a:pt x="726" y="765"/>
                    </a:lnTo>
                    <a:lnTo>
                      <a:pt x="604" y="760"/>
                    </a:lnTo>
                    <a:lnTo>
                      <a:pt x="0" y="1082"/>
                    </a:lnTo>
                    <a:lnTo>
                      <a:pt x="66" y="94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Freeform 95"/>
              <p:cNvSpPr/>
              <p:nvPr/>
            </p:nvSpPr>
            <p:spPr>
              <a:xfrm>
                <a:off x="6201360" y="2542320"/>
                <a:ext cx="1646640" cy="262080"/>
              </a:xfrm>
              <a:custGeom>
                <a:avLst/>
                <a:gdLst>
                  <a:gd name="textAreaLeft" fmla="*/ 0 w 1646640"/>
                  <a:gd name="textAreaRight" fmla="*/ 1647000 w 1646640"/>
                  <a:gd name="textAreaTop" fmla="*/ 0 h 262080"/>
                  <a:gd name="textAreaBottom" fmla="*/ 262440 h 262080"/>
                </a:gdLst>
                <a:ahLst/>
                <a:rect l="textAreaLeft" t="textAreaTop" r="textAreaRight" b="textAreaBottom"/>
                <a:pathLst>
                  <a:path w="3257" h="1259">
                    <a:moveTo>
                      <a:pt x="44" y="0"/>
                    </a:moveTo>
                    <a:lnTo>
                      <a:pt x="0" y="99"/>
                    </a:lnTo>
                    <a:lnTo>
                      <a:pt x="5" y="321"/>
                    </a:lnTo>
                    <a:lnTo>
                      <a:pt x="66" y="448"/>
                    </a:lnTo>
                    <a:lnTo>
                      <a:pt x="166" y="482"/>
                    </a:lnTo>
                    <a:lnTo>
                      <a:pt x="338" y="625"/>
                    </a:lnTo>
                    <a:lnTo>
                      <a:pt x="758" y="915"/>
                    </a:lnTo>
                    <a:lnTo>
                      <a:pt x="853" y="931"/>
                    </a:lnTo>
                    <a:lnTo>
                      <a:pt x="974" y="997"/>
                    </a:lnTo>
                    <a:lnTo>
                      <a:pt x="1014" y="1076"/>
                    </a:lnTo>
                    <a:lnTo>
                      <a:pt x="1334" y="1242"/>
                    </a:lnTo>
                    <a:lnTo>
                      <a:pt x="1468" y="1259"/>
                    </a:lnTo>
                    <a:lnTo>
                      <a:pt x="3257" y="698"/>
                    </a:lnTo>
                    <a:lnTo>
                      <a:pt x="3241" y="577"/>
                    </a:lnTo>
                    <a:lnTo>
                      <a:pt x="2764" y="426"/>
                    </a:lnTo>
                    <a:lnTo>
                      <a:pt x="3207" y="621"/>
                    </a:lnTo>
                    <a:lnTo>
                      <a:pt x="1446" y="1174"/>
                    </a:lnTo>
                    <a:lnTo>
                      <a:pt x="1334" y="1076"/>
                    </a:lnTo>
                    <a:lnTo>
                      <a:pt x="1279" y="931"/>
                    </a:lnTo>
                    <a:lnTo>
                      <a:pt x="1324" y="648"/>
                    </a:lnTo>
                    <a:lnTo>
                      <a:pt x="1245" y="786"/>
                    </a:lnTo>
                    <a:lnTo>
                      <a:pt x="1229" y="931"/>
                    </a:lnTo>
                    <a:lnTo>
                      <a:pt x="1279" y="1114"/>
                    </a:lnTo>
                    <a:lnTo>
                      <a:pt x="1324" y="1174"/>
                    </a:lnTo>
                    <a:lnTo>
                      <a:pt x="1064" y="1048"/>
                    </a:lnTo>
                    <a:lnTo>
                      <a:pt x="1014" y="925"/>
                    </a:lnTo>
                    <a:lnTo>
                      <a:pt x="1002" y="742"/>
                    </a:lnTo>
                    <a:lnTo>
                      <a:pt x="1036" y="615"/>
                    </a:lnTo>
                    <a:lnTo>
                      <a:pt x="974" y="710"/>
                    </a:lnTo>
                    <a:lnTo>
                      <a:pt x="952" y="842"/>
                    </a:lnTo>
                    <a:lnTo>
                      <a:pt x="941" y="921"/>
                    </a:lnTo>
                    <a:lnTo>
                      <a:pt x="847" y="859"/>
                    </a:lnTo>
                    <a:lnTo>
                      <a:pt x="831" y="698"/>
                    </a:lnTo>
                    <a:lnTo>
                      <a:pt x="881" y="510"/>
                    </a:lnTo>
                    <a:lnTo>
                      <a:pt x="820" y="593"/>
                    </a:lnTo>
                    <a:lnTo>
                      <a:pt x="776" y="720"/>
                    </a:lnTo>
                    <a:lnTo>
                      <a:pt x="776" y="853"/>
                    </a:lnTo>
                    <a:lnTo>
                      <a:pt x="183" y="442"/>
                    </a:lnTo>
                    <a:lnTo>
                      <a:pt x="177" y="321"/>
                    </a:lnTo>
                    <a:lnTo>
                      <a:pt x="183" y="221"/>
                    </a:lnTo>
                    <a:lnTo>
                      <a:pt x="132" y="287"/>
                    </a:lnTo>
                    <a:lnTo>
                      <a:pt x="104" y="394"/>
                    </a:lnTo>
                    <a:lnTo>
                      <a:pt x="44" y="282"/>
                    </a:lnTo>
                    <a:lnTo>
                      <a:pt x="44" y="121"/>
                    </a:lnTo>
                    <a:lnTo>
                      <a:pt x="149" y="54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Freeform 96"/>
              <p:cNvSpPr/>
              <p:nvPr/>
            </p:nvSpPr>
            <p:spPr>
              <a:xfrm>
                <a:off x="6875280" y="2655360"/>
                <a:ext cx="151560" cy="94680"/>
              </a:xfrm>
              <a:custGeom>
                <a:avLst/>
                <a:gdLst>
                  <a:gd name="textAreaLeft" fmla="*/ 0 w 151560"/>
                  <a:gd name="textAreaRight" fmla="*/ 151920 w 15156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300" h="454">
                    <a:moveTo>
                      <a:pt x="145" y="0"/>
                    </a:moveTo>
                    <a:lnTo>
                      <a:pt x="78" y="50"/>
                    </a:lnTo>
                    <a:lnTo>
                      <a:pt x="46" y="138"/>
                    </a:lnTo>
                    <a:lnTo>
                      <a:pt x="0" y="350"/>
                    </a:lnTo>
                    <a:lnTo>
                      <a:pt x="46" y="454"/>
                    </a:lnTo>
                    <a:lnTo>
                      <a:pt x="300" y="372"/>
                    </a:lnTo>
                    <a:lnTo>
                      <a:pt x="239" y="310"/>
                    </a:lnTo>
                    <a:lnTo>
                      <a:pt x="78" y="355"/>
                    </a:lnTo>
                    <a:lnTo>
                      <a:pt x="84" y="183"/>
                    </a:lnTo>
                    <a:lnTo>
                      <a:pt x="156" y="122"/>
                    </a:lnTo>
                    <a:lnTo>
                      <a:pt x="14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Freeform 97"/>
              <p:cNvSpPr/>
              <p:nvPr/>
            </p:nvSpPr>
            <p:spPr>
              <a:xfrm>
                <a:off x="7045200" y="2694960"/>
                <a:ext cx="236520" cy="33480"/>
              </a:xfrm>
              <a:custGeom>
                <a:avLst/>
                <a:gdLst>
                  <a:gd name="textAreaLeft" fmla="*/ 0 w 236520"/>
                  <a:gd name="textAreaRight" fmla="*/ 236880 w 23652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470" h="161">
                    <a:moveTo>
                      <a:pt x="10" y="99"/>
                    </a:moveTo>
                    <a:lnTo>
                      <a:pt x="470" y="0"/>
                    </a:lnTo>
                    <a:lnTo>
                      <a:pt x="0" y="161"/>
                    </a:lnTo>
                    <a:lnTo>
                      <a:pt x="10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Freeform 98"/>
              <p:cNvSpPr/>
              <p:nvPr/>
            </p:nvSpPr>
            <p:spPr>
              <a:xfrm>
                <a:off x="6096600" y="2578680"/>
                <a:ext cx="1542960" cy="308520"/>
              </a:xfrm>
              <a:custGeom>
                <a:avLst/>
                <a:gdLst>
                  <a:gd name="textAreaLeft" fmla="*/ 0 w 1542960"/>
                  <a:gd name="textAreaRight" fmla="*/ 1543320 w 1542960"/>
                  <a:gd name="textAreaTop" fmla="*/ 0 h 308520"/>
                  <a:gd name="textAreaBottom" fmla="*/ 308880 h 308520"/>
                </a:gdLst>
                <a:ahLst/>
                <a:rect l="textAreaLeft" t="textAreaTop" r="textAreaRight" b="textAreaBottom"/>
                <a:pathLst>
                  <a:path w="3052" h="1482">
                    <a:moveTo>
                      <a:pt x="243" y="0"/>
                    </a:moveTo>
                    <a:lnTo>
                      <a:pt x="0" y="37"/>
                    </a:lnTo>
                    <a:lnTo>
                      <a:pt x="7" y="126"/>
                    </a:lnTo>
                    <a:lnTo>
                      <a:pt x="770" y="1337"/>
                    </a:lnTo>
                    <a:lnTo>
                      <a:pt x="2809" y="1107"/>
                    </a:lnTo>
                    <a:lnTo>
                      <a:pt x="2903" y="1151"/>
                    </a:lnTo>
                    <a:lnTo>
                      <a:pt x="2957" y="1237"/>
                    </a:lnTo>
                    <a:lnTo>
                      <a:pt x="2892" y="1419"/>
                    </a:lnTo>
                    <a:lnTo>
                      <a:pt x="2554" y="1482"/>
                    </a:lnTo>
                    <a:lnTo>
                      <a:pt x="2906" y="1482"/>
                    </a:lnTo>
                    <a:lnTo>
                      <a:pt x="3052" y="1259"/>
                    </a:lnTo>
                    <a:lnTo>
                      <a:pt x="3044" y="1078"/>
                    </a:lnTo>
                    <a:lnTo>
                      <a:pt x="2980" y="994"/>
                    </a:lnTo>
                    <a:lnTo>
                      <a:pt x="2626" y="1041"/>
                    </a:lnTo>
                    <a:lnTo>
                      <a:pt x="2561" y="1069"/>
                    </a:lnTo>
                    <a:lnTo>
                      <a:pt x="2484" y="1041"/>
                    </a:lnTo>
                    <a:lnTo>
                      <a:pt x="881" y="1230"/>
                    </a:lnTo>
                    <a:lnTo>
                      <a:pt x="384" y="532"/>
                    </a:lnTo>
                    <a:lnTo>
                      <a:pt x="827" y="1236"/>
                    </a:lnTo>
                    <a:lnTo>
                      <a:pt x="787" y="1295"/>
                    </a:lnTo>
                    <a:lnTo>
                      <a:pt x="31" y="70"/>
                    </a:lnTo>
                    <a:lnTo>
                      <a:pt x="224" y="37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Freeform 99"/>
              <p:cNvSpPr/>
              <p:nvPr/>
            </p:nvSpPr>
            <p:spPr>
              <a:xfrm>
                <a:off x="6135840" y="2647440"/>
                <a:ext cx="277560" cy="266400"/>
              </a:xfrm>
              <a:custGeom>
                <a:avLst/>
                <a:gdLst>
                  <a:gd name="textAreaLeft" fmla="*/ 0 w 277560"/>
                  <a:gd name="textAreaRight" fmla="*/ 277920 w 277560"/>
                  <a:gd name="textAreaTop" fmla="*/ 0 h 266400"/>
                  <a:gd name="textAreaBottom" fmla="*/ 266760 h 266400"/>
                </a:gdLst>
                <a:ahLst/>
                <a:rect l="textAreaLeft" t="textAreaTop" r="textAreaRight" b="textAreaBottom"/>
                <a:pathLst>
                  <a:path w="547" h="1281">
                    <a:moveTo>
                      <a:pt x="71" y="0"/>
                    </a:moveTo>
                    <a:lnTo>
                      <a:pt x="82" y="95"/>
                    </a:lnTo>
                    <a:lnTo>
                      <a:pt x="66" y="175"/>
                    </a:lnTo>
                    <a:lnTo>
                      <a:pt x="38" y="228"/>
                    </a:lnTo>
                    <a:lnTo>
                      <a:pt x="0" y="256"/>
                    </a:lnTo>
                    <a:lnTo>
                      <a:pt x="143" y="527"/>
                    </a:lnTo>
                    <a:lnTo>
                      <a:pt x="547" y="1281"/>
                    </a:lnTo>
                    <a:lnTo>
                      <a:pt x="249" y="604"/>
                    </a:lnTo>
                    <a:lnTo>
                      <a:pt x="66" y="256"/>
                    </a:lnTo>
                    <a:lnTo>
                      <a:pt x="243" y="465"/>
                    </a:lnTo>
                    <a:lnTo>
                      <a:pt x="104" y="189"/>
                    </a:lnTo>
                    <a:lnTo>
                      <a:pt x="143" y="89"/>
                    </a:lnTo>
                    <a:lnTo>
                      <a:pt x="7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Freeform 100"/>
              <p:cNvSpPr/>
              <p:nvPr/>
            </p:nvSpPr>
            <p:spPr>
              <a:xfrm>
                <a:off x="6052680" y="2671200"/>
                <a:ext cx="1657080" cy="305280"/>
              </a:xfrm>
              <a:custGeom>
                <a:avLst/>
                <a:gdLst>
                  <a:gd name="textAreaLeft" fmla="*/ 0 w 1657080"/>
                  <a:gd name="textAreaRight" fmla="*/ 1657440 w 1657080"/>
                  <a:gd name="textAreaTop" fmla="*/ 0 h 305280"/>
                  <a:gd name="textAreaBottom" fmla="*/ 305280 h 305280"/>
                </a:gdLst>
                <a:ahLst/>
                <a:rect l="textAreaLeft" t="textAreaTop" r="textAreaRight" b="textAreaBottom"/>
                <a:pathLst>
                  <a:path w="3277" h="1467">
                    <a:moveTo>
                      <a:pt x="256" y="0"/>
                    </a:moveTo>
                    <a:lnTo>
                      <a:pt x="120" y="62"/>
                    </a:lnTo>
                    <a:lnTo>
                      <a:pt x="12" y="85"/>
                    </a:lnTo>
                    <a:lnTo>
                      <a:pt x="0" y="157"/>
                    </a:lnTo>
                    <a:lnTo>
                      <a:pt x="445" y="993"/>
                    </a:lnTo>
                    <a:lnTo>
                      <a:pt x="635" y="1467"/>
                    </a:lnTo>
                    <a:lnTo>
                      <a:pt x="2530" y="1233"/>
                    </a:lnTo>
                    <a:lnTo>
                      <a:pt x="2601" y="1210"/>
                    </a:lnTo>
                    <a:lnTo>
                      <a:pt x="2702" y="1244"/>
                    </a:lnTo>
                    <a:lnTo>
                      <a:pt x="3045" y="1198"/>
                    </a:lnTo>
                    <a:lnTo>
                      <a:pt x="3199" y="1056"/>
                    </a:lnTo>
                    <a:lnTo>
                      <a:pt x="3277" y="706"/>
                    </a:lnTo>
                    <a:lnTo>
                      <a:pt x="3223" y="456"/>
                    </a:lnTo>
                    <a:lnTo>
                      <a:pt x="2982" y="245"/>
                    </a:lnTo>
                    <a:lnTo>
                      <a:pt x="2511" y="363"/>
                    </a:lnTo>
                    <a:lnTo>
                      <a:pt x="2933" y="371"/>
                    </a:lnTo>
                    <a:lnTo>
                      <a:pt x="3115" y="510"/>
                    </a:lnTo>
                    <a:lnTo>
                      <a:pt x="3196" y="631"/>
                    </a:lnTo>
                    <a:lnTo>
                      <a:pt x="3202" y="811"/>
                    </a:lnTo>
                    <a:lnTo>
                      <a:pt x="3134" y="1027"/>
                    </a:lnTo>
                    <a:lnTo>
                      <a:pt x="3047" y="1124"/>
                    </a:lnTo>
                    <a:lnTo>
                      <a:pt x="2769" y="1161"/>
                    </a:lnTo>
                    <a:lnTo>
                      <a:pt x="2645" y="1121"/>
                    </a:lnTo>
                    <a:lnTo>
                      <a:pt x="2477" y="1205"/>
                    </a:lnTo>
                    <a:lnTo>
                      <a:pt x="688" y="1360"/>
                    </a:lnTo>
                    <a:lnTo>
                      <a:pt x="53" y="107"/>
                    </a:lnTo>
                    <a:lnTo>
                      <a:pt x="270" y="41"/>
                    </a:lnTo>
                    <a:lnTo>
                      <a:pt x="2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Freeform 101"/>
              <p:cNvSpPr/>
              <p:nvPr/>
            </p:nvSpPr>
            <p:spPr>
              <a:xfrm>
                <a:off x="6423120" y="2820240"/>
                <a:ext cx="837720" cy="101520"/>
              </a:xfrm>
              <a:custGeom>
                <a:avLst/>
                <a:gdLst>
                  <a:gd name="textAreaLeft" fmla="*/ 0 w 837720"/>
                  <a:gd name="textAreaRight" fmla="*/ 838080 w 83772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656" h="489">
                    <a:moveTo>
                      <a:pt x="0" y="489"/>
                    </a:moveTo>
                    <a:lnTo>
                      <a:pt x="133" y="366"/>
                    </a:lnTo>
                    <a:lnTo>
                      <a:pt x="193" y="256"/>
                    </a:lnTo>
                    <a:lnTo>
                      <a:pt x="177" y="123"/>
                    </a:lnTo>
                    <a:lnTo>
                      <a:pt x="1202" y="0"/>
                    </a:lnTo>
                    <a:lnTo>
                      <a:pt x="288" y="157"/>
                    </a:lnTo>
                    <a:lnTo>
                      <a:pt x="248" y="267"/>
                    </a:lnTo>
                    <a:lnTo>
                      <a:pt x="1030" y="223"/>
                    </a:lnTo>
                    <a:lnTo>
                      <a:pt x="232" y="340"/>
                    </a:lnTo>
                    <a:lnTo>
                      <a:pt x="187" y="384"/>
                    </a:lnTo>
                    <a:lnTo>
                      <a:pt x="143" y="411"/>
                    </a:lnTo>
                    <a:lnTo>
                      <a:pt x="1656" y="328"/>
                    </a:lnTo>
                    <a:lnTo>
                      <a:pt x="0" y="48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Freeform 102"/>
              <p:cNvSpPr/>
              <p:nvPr/>
            </p:nvSpPr>
            <p:spPr>
              <a:xfrm>
                <a:off x="6424200" y="2723040"/>
                <a:ext cx="383760" cy="69120"/>
              </a:xfrm>
              <a:custGeom>
                <a:avLst/>
                <a:gdLst>
                  <a:gd name="textAreaLeft" fmla="*/ 0 w 383760"/>
                  <a:gd name="textAreaRight" fmla="*/ 384120 w 383760"/>
                  <a:gd name="textAreaTop" fmla="*/ 0 h 69120"/>
                  <a:gd name="textAreaBottom" fmla="*/ 69480 h 69120"/>
                </a:gdLst>
                <a:ahLst/>
                <a:rect l="textAreaLeft" t="textAreaTop" r="textAreaRight" b="textAreaBottom"/>
                <a:pathLst>
                  <a:path w="759" h="332">
                    <a:moveTo>
                      <a:pt x="292" y="0"/>
                    </a:moveTo>
                    <a:lnTo>
                      <a:pt x="0" y="15"/>
                    </a:lnTo>
                    <a:lnTo>
                      <a:pt x="221" y="332"/>
                    </a:lnTo>
                    <a:lnTo>
                      <a:pt x="759" y="291"/>
                    </a:lnTo>
                    <a:lnTo>
                      <a:pt x="700" y="251"/>
                    </a:lnTo>
                    <a:lnTo>
                      <a:pt x="261" y="266"/>
                    </a:lnTo>
                    <a:lnTo>
                      <a:pt x="145" y="71"/>
                    </a:lnTo>
                    <a:lnTo>
                      <a:pt x="360" y="19"/>
                    </a:lnTo>
                    <a:lnTo>
                      <a:pt x="29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Freeform 103"/>
              <p:cNvSpPr/>
              <p:nvPr/>
            </p:nvSpPr>
            <p:spPr>
              <a:xfrm>
                <a:off x="7081560" y="2764800"/>
                <a:ext cx="331920" cy="17280"/>
              </a:xfrm>
              <a:custGeom>
                <a:avLst/>
                <a:gdLst>
                  <a:gd name="textAreaLeft" fmla="*/ 0 w 331920"/>
                  <a:gd name="textAreaRight" fmla="*/ 332280 w 33192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657" h="84">
                    <a:moveTo>
                      <a:pt x="0" y="84"/>
                    </a:moveTo>
                    <a:lnTo>
                      <a:pt x="113" y="71"/>
                    </a:lnTo>
                    <a:lnTo>
                      <a:pt x="337" y="42"/>
                    </a:lnTo>
                    <a:lnTo>
                      <a:pt x="558" y="13"/>
                    </a:lnTo>
                    <a:lnTo>
                      <a:pt x="657" y="0"/>
                    </a:lnTo>
                    <a:lnTo>
                      <a:pt x="164" y="17"/>
                    </a:lnTo>
                    <a:lnTo>
                      <a:pt x="0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Freeform 104"/>
              <p:cNvSpPr/>
              <p:nvPr/>
            </p:nvSpPr>
            <p:spPr>
              <a:xfrm>
                <a:off x="6506280" y="2345760"/>
                <a:ext cx="922680" cy="93600"/>
              </a:xfrm>
              <a:custGeom>
                <a:avLst/>
                <a:gdLst>
                  <a:gd name="textAreaLeft" fmla="*/ 0 w 922680"/>
                  <a:gd name="textAreaRight" fmla="*/ 923040 w 922680"/>
                  <a:gd name="textAreaTop" fmla="*/ 0 h 93600"/>
                  <a:gd name="textAreaBottom" fmla="*/ 93960 h 93600"/>
                </a:gdLst>
                <a:ahLst/>
                <a:rect l="textAreaLeft" t="textAreaTop" r="textAreaRight" b="textAreaBottom"/>
                <a:pathLst>
                  <a:path w="1825" h="451">
                    <a:moveTo>
                      <a:pt x="1825" y="97"/>
                    </a:moveTo>
                    <a:lnTo>
                      <a:pt x="1527" y="47"/>
                    </a:lnTo>
                    <a:lnTo>
                      <a:pt x="1472" y="4"/>
                    </a:lnTo>
                    <a:lnTo>
                      <a:pt x="1391" y="0"/>
                    </a:lnTo>
                    <a:lnTo>
                      <a:pt x="0" y="308"/>
                    </a:lnTo>
                    <a:lnTo>
                      <a:pt x="451" y="451"/>
                    </a:lnTo>
                    <a:lnTo>
                      <a:pt x="1628" y="153"/>
                    </a:lnTo>
                    <a:lnTo>
                      <a:pt x="433" y="385"/>
                    </a:lnTo>
                    <a:lnTo>
                      <a:pt x="310" y="305"/>
                    </a:lnTo>
                    <a:lnTo>
                      <a:pt x="1400" y="42"/>
                    </a:lnTo>
                    <a:lnTo>
                      <a:pt x="1476" y="63"/>
                    </a:lnTo>
                    <a:lnTo>
                      <a:pt x="1825" y="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Freeform 105"/>
              <p:cNvSpPr/>
              <p:nvPr/>
            </p:nvSpPr>
            <p:spPr>
              <a:xfrm>
                <a:off x="7189560" y="2538720"/>
                <a:ext cx="477720" cy="79920"/>
              </a:xfrm>
              <a:custGeom>
                <a:avLst/>
                <a:gdLst>
                  <a:gd name="textAreaLeft" fmla="*/ 0 w 477720"/>
                  <a:gd name="textAreaRight" fmla="*/ 478080 w 477720"/>
                  <a:gd name="textAreaTop" fmla="*/ 0 h 79920"/>
                  <a:gd name="textAreaBottom" fmla="*/ 80280 h 79920"/>
                </a:gdLst>
                <a:ahLst/>
                <a:rect l="textAreaLeft" t="textAreaTop" r="textAreaRight" b="textAreaBottom"/>
                <a:pathLst>
                  <a:path w="945" h="382">
                    <a:moveTo>
                      <a:pt x="0" y="382"/>
                    </a:moveTo>
                    <a:lnTo>
                      <a:pt x="272" y="118"/>
                    </a:lnTo>
                    <a:lnTo>
                      <a:pt x="663" y="0"/>
                    </a:lnTo>
                    <a:lnTo>
                      <a:pt x="945" y="118"/>
                    </a:lnTo>
                    <a:lnTo>
                      <a:pt x="0" y="382"/>
                    </a:lnTo>
                    <a:close/>
                  </a:path>
                </a:pathLst>
              </a:custGeom>
              <a:solidFill>
                <a:srgbClr val="f7a8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Freeform 106"/>
              <p:cNvSpPr/>
              <p:nvPr/>
            </p:nvSpPr>
            <p:spPr>
              <a:xfrm>
                <a:off x="6955920" y="2520360"/>
                <a:ext cx="851040" cy="244080"/>
              </a:xfrm>
              <a:custGeom>
                <a:avLst/>
                <a:gdLst>
                  <a:gd name="textAreaLeft" fmla="*/ 0 w 851040"/>
                  <a:gd name="textAreaRight" fmla="*/ 851400 w 851040"/>
                  <a:gd name="textAreaTop" fmla="*/ 0 h 244080"/>
                  <a:gd name="textAreaBottom" fmla="*/ 244080 h 244080"/>
                </a:gdLst>
                <a:ahLst/>
                <a:rect l="textAreaLeft" t="textAreaTop" r="textAreaRight" b="textAreaBottom"/>
                <a:pathLst>
                  <a:path w="1682" h="1174">
                    <a:moveTo>
                      <a:pt x="939" y="0"/>
                    </a:moveTo>
                    <a:lnTo>
                      <a:pt x="1648" y="189"/>
                    </a:lnTo>
                    <a:lnTo>
                      <a:pt x="1682" y="300"/>
                    </a:lnTo>
                    <a:lnTo>
                      <a:pt x="1338" y="417"/>
                    </a:lnTo>
                    <a:lnTo>
                      <a:pt x="1293" y="505"/>
                    </a:lnTo>
                    <a:lnTo>
                      <a:pt x="1316" y="605"/>
                    </a:lnTo>
                    <a:lnTo>
                      <a:pt x="1366" y="678"/>
                    </a:lnTo>
                    <a:lnTo>
                      <a:pt x="1465" y="732"/>
                    </a:lnTo>
                    <a:lnTo>
                      <a:pt x="0" y="1174"/>
                    </a:lnTo>
                    <a:lnTo>
                      <a:pt x="1348" y="716"/>
                    </a:lnTo>
                    <a:lnTo>
                      <a:pt x="1259" y="662"/>
                    </a:lnTo>
                    <a:lnTo>
                      <a:pt x="828" y="755"/>
                    </a:lnTo>
                    <a:lnTo>
                      <a:pt x="1237" y="600"/>
                    </a:lnTo>
                    <a:lnTo>
                      <a:pt x="1243" y="473"/>
                    </a:lnTo>
                    <a:lnTo>
                      <a:pt x="368" y="666"/>
                    </a:lnTo>
                    <a:lnTo>
                      <a:pt x="346" y="573"/>
                    </a:lnTo>
                    <a:lnTo>
                      <a:pt x="1642" y="226"/>
                    </a:lnTo>
                    <a:lnTo>
                      <a:pt x="982" y="68"/>
                    </a:lnTo>
                    <a:lnTo>
                      <a:pt x="474" y="235"/>
                    </a:lnTo>
                    <a:lnTo>
                      <a:pt x="93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Freeform 107"/>
              <p:cNvSpPr/>
              <p:nvPr/>
            </p:nvSpPr>
            <p:spPr>
              <a:xfrm>
                <a:off x="7367040" y="2738520"/>
                <a:ext cx="149760" cy="29160"/>
              </a:xfrm>
              <a:custGeom>
                <a:avLst/>
                <a:gdLst>
                  <a:gd name="textAreaLeft" fmla="*/ 0 w 149760"/>
                  <a:gd name="textAreaRight" fmla="*/ 150120 w 149760"/>
                  <a:gd name="textAreaTop" fmla="*/ 0 h 29160"/>
                  <a:gd name="textAreaBottom" fmla="*/ 29520 h 29160"/>
                </a:gdLst>
                <a:ahLst/>
                <a:rect l="textAreaLeft" t="textAreaTop" r="textAreaRight" b="textAreaBottom"/>
                <a:pathLst>
                  <a:path w="297" h="141">
                    <a:moveTo>
                      <a:pt x="197" y="0"/>
                    </a:moveTo>
                    <a:lnTo>
                      <a:pt x="297" y="121"/>
                    </a:lnTo>
                    <a:lnTo>
                      <a:pt x="0" y="141"/>
                    </a:lnTo>
                    <a:lnTo>
                      <a:pt x="169" y="88"/>
                    </a:lnTo>
                    <a:lnTo>
                      <a:pt x="129" y="13"/>
                    </a:lnTo>
                    <a:lnTo>
                      <a:pt x="19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9" name="Group 108"/>
            <p:cNvGrpSpPr/>
            <p:nvPr/>
          </p:nvGrpSpPr>
          <p:grpSpPr>
            <a:xfrm>
              <a:off x="6016320" y="2387520"/>
              <a:ext cx="1831680" cy="669960"/>
              <a:chOff x="6016320" y="2387520"/>
              <a:chExt cx="1831680" cy="669960"/>
            </a:xfrm>
          </p:grpSpPr>
          <p:sp>
            <p:nvSpPr>
              <p:cNvPr id="250" name="Freeform 109"/>
              <p:cNvSpPr/>
              <p:nvPr/>
            </p:nvSpPr>
            <p:spPr>
              <a:xfrm>
                <a:off x="6140880" y="2463480"/>
                <a:ext cx="1298880" cy="570600"/>
              </a:xfrm>
              <a:custGeom>
                <a:avLst/>
                <a:gdLst>
                  <a:gd name="textAreaLeft" fmla="*/ 0 w 1298880"/>
                  <a:gd name="textAreaRight" fmla="*/ 1299240 w 1298880"/>
                  <a:gd name="textAreaTop" fmla="*/ 0 h 570600"/>
                  <a:gd name="textAreaBottom" fmla="*/ 570960 h 570600"/>
                </a:gdLst>
                <a:ahLst/>
                <a:rect l="textAreaLeft" t="textAreaTop" r="textAreaRight" b="textAreaBottom"/>
                <a:pathLst>
                  <a:path w="2566" h="2741">
                    <a:moveTo>
                      <a:pt x="92" y="0"/>
                    </a:moveTo>
                    <a:lnTo>
                      <a:pt x="94" y="307"/>
                    </a:lnTo>
                    <a:lnTo>
                      <a:pt x="10" y="530"/>
                    </a:lnTo>
                    <a:lnTo>
                      <a:pt x="364" y="818"/>
                    </a:lnTo>
                    <a:lnTo>
                      <a:pt x="0" y="1593"/>
                    </a:lnTo>
                    <a:lnTo>
                      <a:pt x="560" y="2741"/>
                    </a:lnTo>
                    <a:lnTo>
                      <a:pt x="1750" y="2587"/>
                    </a:lnTo>
                    <a:lnTo>
                      <a:pt x="2566" y="1882"/>
                    </a:lnTo>
                    <a:lnTo>
                      <a:pt x="1775" y="222"/>
                    </a:lnTo>
                    <a:lnTo>
                      <a:pt x="9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Freeform 110"/>
              <p:cNvSpPr/>
              <p:nvPr/>
            </p:nvSpPr>
            <p:spPr>
              <a:xfrm>
                <a:off x="6096600" y="2657160"/>
                <a:ext cx="294120" cy="203400"/>
              </a:xfrm>
              <a:custGeom>
                <a:avLst/>
                <a:gdLst>
                  <a:gd name="textAreaLeft" fmla="*/ 0 w 294120"/>
                  <a:gd name="textAreaRight" fmla="*/ 294120 w 294120"/>
                  <a:gd name="textAreaTop" fmla="*/ 0 h 203400"/>
                  <a:gd name="textAreaBottom" fmla="*/ 203760 h 203400"/>
                </a:gdLst>
                <a:ahLst/>
                <a:rect l="textAreaLeft" t="textAreaTop" r="textAreaRight" b="textAreaBottom"/>
                <a:pathLst>
                  <a:path w="582" h="978">
                    <a:moveTo>
                      <a:pt x="300" y="0"/>
                    </a:moveTo>
                    <a:lnTo>
                      <a:pt x="0" y="48"/>
                    </a:lnTo>
                    <a:lnTo>
                      <a:pt x="37" y="135"/>
                    </a:lnTo>
                    <a:lnTo>
                      <a:pt x="582" y="978"/>
                    </a:lnTo>
                    <a:lnTo>
                      <a:pt x="339" y="126"/>
                    </a:lnTo>
                    <a:lnTo>
                      <a:pt x="300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Freeform 111"/>
              <p:cNvSpPr/>
              <p:nvPr/>
            </p:nvSpPr>
            <p:spPr>
              <a:xfrm>
                <a:off x="6058440" y="2757240"/>
                <a:ext cx="731520" cy="285840"/>
              </a:xfrm>
              <a:custGeom>
                <a:avLst/>
                <a:gdLst>
                  <a:gd name="textAreaLeft" fmla="*/ 0 w 731520"/>
                  <a:gd name="textAreaRight" fmla="*/ 731880 w 731520"/>
                  <a:gd name="textAreaTop" fmla="*/ 0 h 285840"/>
                  <a:gd name="textAreaBottom" fmla="*/ 286200 h 285840"/>
                </a:gdLst>
                <a:ahLst/>
                <a:rect l="textAreaLeft" t="textAreaTop" r="textAreaRight" b="textAreaBottom"/>
                <a:pathLst>
                  <a:path w="1445" h="1374">
                    <a:moveTo>
                      <a:pt x="247" y="0"/>
                    </a:moveTo>
                    <a:lnTo>
                      <a:pt x="0" y="93"/>
                    </a:lnTo>
                    <a:lnTo>
                      <a:pt x="656" y="1374"/>
                    </a:lnTo>
                    <a:lnTo>
                      <a:pt x="1445" y="1331"/>
                    </a:lnTo>
                    <a:lnTo>
                      <a:pt x="719" y="1182"/>
                    </a:lnTo>
                    <a:lnTo>
                      <a:pt x="204" y="156"/>
                    </a:lnTo>
                    <a:lnTo>
                      <a:pt x="247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Freeform 112"/>
              <p:cNvSpPr/>
              <p:nvPr/>
            </p:nvSpPr>
            <p:spPr>
              <a:xfrm>
                <a:off x="6032880" y="2393640"/>
                <a:ext cx="855720" cy="177840"/>
              </a:xfrm>
              <a:custGeom>
                <a:avLst/>
                <a:gdLst>
                  <a:gd name="textAreaLeft" fmla="*/ 0 w 855720"/>
                  <a:gd name="textAreaRight" fmla="*/ 856080 w 855720"/>
                  <a:gd name="textAreaTop" fmla="*/ 0 h 177840"/>
                  <a:gd name="textAreaBottom" fmla="*/ 178200 h 177840"/>
                </a:gdLst>
                <a:ahLst/>
                <a:rect l="textAreaLeft" t="textAreaTop" r="textAreaRight" b="textAreaBottom"/>
                <a:pathLst>
                  <a:path w="1694" h="855">
                    <a:moveTo>
                      <a:pt x="1463" y="0"/>
                    </a:moveTo>
                    <a:lnTo>
                      <a:pt x="20" y="275"/>
                    </a:lnTo>
                    <a:lnTo>
                      <a:pt x="0" y="335"/>
                    </a:lnTo>
                    <a:lnTo>
                      <a:pt x="1389" y="855"/>
                    </a:lnTo>
                    <a:lnTo>
                      <a:pt x="1694" y="731"/>
                    </a:lnTo>
                    <a:lnTo>
                      <a:pt x="845" y="455"/>
                    </a:lnTo>
                    <a:lnTo>
                      <a:pt x="1509" y="75"/>
                    </a:lnTo>
                    <a:lnTo>
                      <a:pt x="1463" y="0"/>
                    </a:lnTo>
                    <a:close/>
                  </a:path>
                </a:pathLst>
              </a:custGeom>
              <a:solidFill>
                <a:srgbClr val="f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Freeform 113"/>
              <p:cNvSpPr/>
              <p:nvPr/>
            </p:nvSpPr>
            <p:spPr>
              <a:xfrm>
                <a:off x="6052680" y="2545200"/>
                <a:ext cx="913320" cy="169920"/>
              </a:xfrm>
              <a:custGeom>
                <a:avLst/>
                <a:gdLst>
                  <a:gd name="textAreaLeft" fmla="*/ 0 w 913320"/>
                  <a:gd name="textAreaRight" fmla="*/ 913680 w 913320"/>
                  <a:gd name="textAreaTop" fmla="*/ 0 h 169920"/>
                  <a:gd name="textAreaBottom" fmla="*/ 170280 h 169920"/>
                </a:gdLst>
                <a:ahLst/>
                <a:rect l="textAreaLeft" t="textAreaTop" r="textAreaRight" b="textAreaBottom"/>
                <a:pathLst>
                  <a:path w="1806" h="816">
                    <a:moveTo>
                      <a:pt x="241" y="0"/>
                    </a:moveTo>
                    <a:lnTo>
                      <a:pt x="0" y="101"/>
                    </a:lnTo>
                    <a:lnTo>
                      <a:pt x="0" y="172"/>
                    </a:lnTo>
                    <a:lnTo>
                      <a:pt x="1349" y="816"/>
                    </a:lnTo>
                    <a:lnTo>
                      <a:pt x="1779" y="687"/>
                    </a:lnTo>
                    <a:lnTo>
                      <a:pt x="1806" y="570"/>
                    </a:lnTo>
                    <a:lnTo>
                      <a:pt x="1574" y="551"/>
                    </a:lnTo>
                    <a:lnTo>
                      <a:pt x="1344" y="636"/>
                    </a:lnTo>
                    <a:lnTo>
                      <a:pt x="207" y="129"/>
                    </a:lnTo>
                    <a:lnTo>
                      <a:pt x="241" y="0"/>
                    </a:lnTo>
                    <a:close/>
                  </a:path>
                </a:pathLst>
              </a:custGeom>
              <a:solidFill>
                <a:srgbClr val="f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Freeform 114"/>
              <p:cNvSpPr/>
              <p:nvPr/>
            </p:nvSpPr>
            <p:spPr>
              <a:xfrm>
                <a:off x="6213240" y="2625840"/>
                <a:ext cx="689040" cy="224640"/>
              </a:xfrm>
              <a:custGeom>
                <a:avLst/>
                <a:gdLst>
                  <a:gd name="textAreaLeft" fmla="*/ 0 w 689040"/>
                  <a:gd name="textAreaRight" fmla="*/ 689400 w 689040"/>
                  <a:gd name="textAreaTop" fmla="*/ 0 h 224640"/>
                  <a:gd name="textAreaBottom" fmla="*/ 225000 h 224640"/>
                </a:gdLst>
                <a:ahLst/>
                <a:rect l="textAreaLeft" t="textAreaTop" r="textAreaRight" b="textAreaBottom"/>
                <a:pathLst>
                  <a:path w="1360" h="1080">
                    <a:moveTo>
                      <a:pt x="6" y="59"/>
                    </a:moveTo>
                    <a:lnTo>
                      <a:pt x="0" y="180"/>
                    </a:lnTo>
                    <a:lnTo>
                      <a:pt x="10" y="314"/>
                    </a:lnTo>
                    <a:lnTo>
                      <a:pt x="78" y="384"/>
                    </a:lnTo>
                    <a:lnTo>
                      <a:pt x="226" y="419"/>
                    </a:lnTo>
                    <a:lnTo>
                      <a:pt x="805" y="844"/>
                    </a:lnTo>
                    <a:lnTo>
                      <a:pt x="1060" y="1040"/>
                    </a:lnTo>
                    <a:lnTo>
                      <a:pt x="1244" y="1080"/>
                    </a:lnTo>
                    <a:lnTo>
                      <a:pt x="1219" y="835"/>
                    </a:lnTo>
                    <a:lnTo>
                      <a:pt x="1360" y="465"/>
                    </a:lnTo>
                    <a:lnTo>
                      <a:pt x="1075" y="450"/>
                    </a:lnTo>
                    <a:lnTo>
                      <a:pt x="50" y="0"/>
                    </a:lnTo>
                    <a:lnTo>
                      <a:pt x="6" y="59"/>
                    </a:lnTo>
                    <a:close/>
                  </a:path>
                </a:pathLst>
              </a:custGeom>
              <a:solidFill>
                <a:srgbClr val="f7a8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Freeform 115"/>
              <p:cNvSpPr/>
              <p:nvPr/>
            </p:nvSpPr>
            <p:spPr>
              <a:xfrm>
                <a:off x="6632280" y="2434320"/>
                <a:ext cx="833040" cy="81000"/>
              </a:xfrm>
              <a:custGeom>
                <a:avLst/>
                <a:gdLst>
                  <a:gd name="textAreaLeft" fmla="*/ 0 w 833040"/>
                  <a:gd name="textAreaRight" fmla="*/ 833400 w 833040"/>
                  <a:gd name="textAreaTop" fmla="*/ 0 h 81000"/>
                  <a:gd name="textAreaBottom" fmla="*/ 81360 h 81000"/>
                </a:gdLst>
                <a:ahLst/>
                <a:rect l="textAreaLeft" t="textAreaTop" r="textAreaRight" b="textAreaBottom"/>
                <a:pathLst>
                  <a:path w="1646" h="390">
                    <a:moveTo>
                      <a:pt x="0" y="292"/>
                    </a:moveTo>
                    <a:lnTo>
                      <a:pt x="53" y="273"/>
                    </a:lnTo>
                    <a:lnTo>
                      <a:pt x="191" y="238"/>
                    </a:lnTo>
                    <a:lnTo>
                      <a:pt x="281" y="216"/>
                    </a:lnTo>
                    <a:lnTo>
                      <a:pt x="383" y="190"/>
                    </a:lnTo>
                    <a:lnTo>
                      <a:pt x="490" y="165"/>
                    </a:lnTo>
                    <a:lnTo>
                      <a:pt x="602" y="139"/>
                    </a:lnTo>
                    <a:lnTo>
                      <a:pt x="715" y="112"/>
                    </a:lnTo>
                    <a:lnTo>
                      <a:pt x="822" y="87"/>
                    </a:lnTo>
                    <a:lnTo>
                      <a:pt x="924" y="64"/>
                    </a:lnTo>
                    <a:lnTo>
                      <a:pt x="1014" y="43"/>
                    </a:lnTo>
                    <a:lnTo>
                      <a:pt x="1150" y="12"/>
                    </a:lnTo>
                    <a:lnTo>
                      <a:pt x="1202" y="0"/>
                    </a:lnTo>
                    <a:lnTo>
                      <a:pt x="1646" y="75"/>
                    </a:lnTo>
                    <a:lnTo>
                      <a:pt x="158" y="390"/>
                    </a:lnTo>
                    <a:lnTo>
                      <a:pt x="0" y="292"/>
                    </a:lnTo>
                    <a:close/>
                  </a:path>
                </a:pathLst>
              </a:custGeom>
              <a:solidFill>
                <a:srgbClr val="f0ea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Freeform 116"/>
              <p:cNvSpPr/>
              <p:nvPr/>
            </p:nvSpPr>
            <p:spPr>
              <a:xfrm>
                <a:off x="6621480" y="2728440"/>
                <a:ext cx="130680" cy="86400"/>
              </a:xfrm>
              <a:custGeom>
                <a:avLst/>
                <a:gdLst>
                  <a:gd name="textAreaLeft" fmla="*/ 0 w 130680"/>
                  <a:gd name="textAreaRight" fmla="*/ 131040 w 130680"/>
                  <a:gd name="textAreaTop" fmla="*/ 0 h 86400"/>
                  <a:gd name="textAreaBottom" fmla="*/ 86400 h 86400"/>
                </a:gdLst>
                <a:ahLst/>
                <a:rect l="textAreaLeft" t="textAreaTop" r="textAreaRight" b="textAreaBottom"/>
                <a:pathLst>
                  <a:path w="259" h="417">
                    <a:moveTo>
                      <a:pt x="75" y="0"/>
                    </a:moveTo>
                    <a:lnTo>
                      <a:pt x="259" y="21"/>
                    </a:lnTo>
                    <a:lnTo>
                      <a:pt x="135" y="241"/>
                    </a:lnTo>
                    <a:lnTo>
                      <a:pt x="110" y="417"/>
                    </a:lnTo>
                    <a:lnTo>
                      <a:pt x="0" y="350"/>
                    </a:lnTo>
                    <a:lnTo>
                      <a:pt x="25" y="80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f0ea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Freeform 117"/>
              <p:cNvSpPr/>
              <p:nvPr/>
            </p:nvSpPr>
            <p:spPr>
              <a:xfrm>
                <a:off x="6526080" y="2815200"/>
                <a:ext cx="213480" cy="51120"/>
              </a:xfrm>
              <a:custGeom>
                <a:avLst/>
                <a:gdLst>
                  <a:gd name="textAreaLeft" fmla="*/ 0 w 213480"/>
                  <a:gd name="textAreaRight" fmla="*/ 213840 w 213480"/>
                  <a:gd name="textAreaTop" fmla="*/ 0 h 51120"/>
                  <a:gd name="textAreaBottom" fmla="*/ 51480 h 51120"/>
                </a:gdLst>
                <a:ahLst/>
                <a:rect l="textAreaLeft" t="textAreaTop" r="textAreaRight" b="textAreaBottom"/>
                <a:pathLst>
                  <a:path w="423" h="247">
                    <a:moveTo>
                      <a:pt x="0" y="16"/>
                    </a:moveTo>
                    <a:lnTo>
                      <a:pt x="174" y="0"/>
                    </a:lnTo>
                    <a:lnTo>
                      <a:pt x="423" y="201"/>
                    </a:lnTo>
                    <a:lnTo>
                      <a:pt x="44" y="247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f0ea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Freeform 118"/>
              <p:cNvSpPr/>
              <p:nvPr/>
            </p:nvSpPr>
            <p:spPr>
              <a:xfrm>
                <a:off x="6467040" y="2871360"/>
                <a:ext cx="1203480" cy="156240"/>
              </a:xfrm>
              <a:custGeom>
                <a:avLst/>
                <a:gdLst>
                  <a:gd name="textAreaLeft" fmla="*/ 0 w 1203480"/>
                  <a:gd name="textAreaRight" fmla="*/ 1203840 w 1203480"/>
                  <a:gd name="textAreaTop" fmla="*/ 0 h 156240"/>
                  <a:gd name="textAreaBottom" fmla="*/ 156600 h 156240"/>
                </a:gdLst>
                <a:ahLst/>
                <a:rect l="textAreaLeft" t="textAreaTop" r="textAreaRight" b="textAreaBottom"/>
                <a:pathLst>
                  <a:path w="2378" h="751">
                    <a:moveTo>
                      <a:pt x="155" y="301"/>
                    </a:moveTo>
                    <a:lnTo>
                      <a:pt x="129" y="450"/>
                    </a:lnTo>
                    <a:lnTo>
                      <a:pt x="0" y="601"/>
                    </a:lnTo>
                    <a:lnTo>
                      <a:pt x="563" y="751"/>
                    </a:lnTo>
                    <a:lnTo>
                      <a:pt x="1684" y="647"/>
                    </a:lnTo>
                    <a:lnTo>
                      <a:pt x="1763" y="616"/>
                    </a:lnTo>
                    <a:lnTo>
                      <a:pt x="1913" y="647"/>
                    </a:lnTo>
                    <a:lnTo>
                      <a:pt x="2042" y="630"/>
                    </a:lnTo>
                    <a:lnTo>
                      <a:pt x="2187" y="607"/>
                    </a:lnTo>
                    <a:lnTo>
                      <a:pt x="2221" y="580"/>
                    </a:lnTo>
                    <a:lnTo>
                      <a:pt x="2276" y="534"/>
                    </a:lnTo>
                    <a:lnTo>
                      <a:pt x="2326" y="490"/>
                    </a:lnTo>
                    <a:lnTo>
                      <a:pt x="2348" y="471"/>
                    </a:lnTo>
                    <a:lnTo>
                      <a:pt x="2378" y="186"/>
                    </a:lnTo>
                    <a:lnTo>
                      <a:pt x="2218" y="0"/>
                    </a:lnTo>
                    <a:lnTo>
                      <a:pt x="1439" y="140"/>
                    </a:lnTo>
                    <a:lnTo>
                      <a:pt x="155" y="301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Freeform 119"/>
              <p:cNvSpPr/>
              <p:nvPr/>
            </p:nvSpPr>
            <p:spPr>
              <a:xfrm>
                <a:off x="6139080" y="2671560"/>
                <a:ext cx="1549800" cy="360360"/>
              </a:xfrm>
              <a:custGeom>
                <a:avLst/>
                <a:gdLst>
                  <a:gd name="textAreaLeft" fmla="*/ 0 w 1549800"/>
                  <a:gd name="textAreaRight" fmla="*/ 1550160 w 1549800"/>
                  <a:gd name="textAreaTop" fmla="*/ 0 h 360360"/>
                  <a:gd name="textAreaBottom" fmla="*/ 360720 h 360360"/>
                </a:gdLst>
                <a:ahLst/>
                <a:rect l="textAreaLeft" t="textAreaTop" r="textAreaRight" b="textAreaBottom"/>
                <a:pathLst>
                  <a:path w="3063" h="1730">
                    <a:moveTo>
                      <a:pt x="15" y="29"/>
                    </a:moveTo>
                    <a:lnTo>
                      <a:pt x="134" y="0"/>
                    </a:lnTo>
                    <a:lnTo>
                      <a:pt x="205" y="184"/>
                    </a:lnTo>
                    <a:lnTo>
                      <a:pt x="306" y="212"/>
                    </a:lnTo>
                    <a:lnTo>
                      <a:pt x="880" y="630"/>
                    </a:lnTo>
                    <a:lnTo>
                      <a:pt x="669" y="680"/>
                    </a:lnTo>
                    <a:lnTo>
                      <a:pt x="809" y="936"/>
                    </a:lnTo>
                    <a:lnTo>
                      <a:pt x="1284" y="885"/>
                    </a:lnTo>
                    <a:lnTo>
                      <a:pt x="1594" y="980"/>
                    </a:lnTo>
                    <a:lnTo>
                      <a:pt x="2453" y="705"/>
                    </a:lnTo>
                    <a:lnTo>
                      <a:pt x="2883" y="730"/>
                    </a:lnTo>
                    <a:lnTo>
                      <a:pt x="3063" y="970"/>
                    </a:lnTo>
                    <a:lnTo>
                      <a:pt x="3014" y="1427"/>
                    </a:lnTo>
                    <a:lnTo>
                      <a:pt x="2858" y="1555"/>
                    </a:lnTo>
                    <a:lnTo>
                      <a:pt x="2537" y="1614"/>
                    </a:lnTo>
                    <a:lnTo>
                      <a:pt x="2388" y="1581"/>
                    </a:lnTo>
                    <a:lnTo>
                      <a:pt x="2269" y="1620"/>
                    </a:lnTo>
                    <a:lnTo>
                      <a:pt x="1115" y="1730"/>
                    </a:lnTo>
                    <a:lnTo>
                      <a:pt x="561" y="1594"/>
                    </a:lnTo>
                    <a:lnTo>
                      <a:pt x="964" y="1535"/>
                    </a:lnTo>
                    <a:lnTo>
                      <a:pt x="2554" y="1409"/>
                    </a:lnTo>
                    <a:lnTo>
                      <a:pt x="2808" y="1395"/>
                    </a:lnTo>
                    <a:lnTo>
                      <a:pt x="2908" y="1160"/>
                    </a:lnTo>
                    <a:lnTo>
                      <a:pt x="2892" y="1133"/>
                    </a:lnTo>
                    <a:lnTo>
                      <a:pt x="2855" y="1074"/>
                    </a:lnTo>
                    <a:lnTo>
                      <a:pt x="2834" y="1042"/>
                    </a:lnTo>
                    <a:lnTo>
                      <a:pt x="2815" y="1012"/>
                    </a:lnTo>
                    <a:lnTo>
                      <a:pt x="2788" y="980"/>
                    </a:lnTo>
                    <a:lnTo>
                      <a:pt x="2536" y="1006"/>
                    </a:lnTo>
                    <a:lnTo>
                      <a:pt x="2372" y="1029"/>
                    </a:lnTo>
                    <a:lnTo>
                      <a:pt x="2298" y="1040"/>
                    </a:lnTo>
                    <a:lnTo>
                      <a:pt x="784" y="1215"/>
                    </a:lnTo>
                    <a:lnTo>
                      <a:pt x="703" y="1237"/>
                    </a:lnTo>
                    <a:lnTo>
                      <a:pt x="0" y="119"/>
                    </a:lnTo>
                    <a:lnTo>
                      <a:pt x="459" y="710"/>
                    </a:lnTo>
                    <a:lnTo>
                      <a:pt x="15" y="29"/>
                    </a:lnTo>
                    <a:close/>
                  </a:path>
                </a:pathLst>
              </a:custGeom>
              <a:solidFill>
                <a:srgbClr val="7a7a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Freeform 120"/>
              <p:cNvSpPr/>
              <p:nvPr/>
            </p:nvSpPr>
            <p:spPr>
              <a:xfrm>
                <a:off x="7200000" y="2811960"/>
                <a:ext cx="300240" cy="37440"/>
              </a:xfrm>
              <a:custGeom>
                <a:avLst/>
                <a:gdLst>
                  <a:gd name="textAreaLeft" fmla="*/ 0 w 300240"/>
                  <a:gd name="textAreaRight" fmla="*/ 300600 w 300240"/>
                  <a:gd name="textAreaTop" fmla="*/ 0 h 37440"/>
                  <a:gd name="textAreaBottom" fmla="*/ 37800 h 37440"/>
                </a:gdLst>
                <a:ahLst/>
                <a:rect l="textAreaLeft" t="textAreaTop" r="textAreaRight" b="textAreaBottom"/>
                <a:pathLst>
                  <a:path w="593" h="178">
                    <a:moveTo>
                      <a:pt x="0" y="178"/>
                    </a:moveTo>
                    <a:lnTo>
                      <a:pt x="423" y="161"/>
                    </a:lnTo>
                    <a:lnTo>
                      <a:pt x="593" y="142"/>
                    </a:lnTo>
                    <a:lnTo>
                      <a:pt x="519" y="68"/>
                    </a:lnTo>
                    <a:lnTo>
                      <a:pt x="546" y="0"/>
                    </a:lnTo>
                    <a:lnTo>
                      <a:pt x="380" y="29"/>
                    </a:lnTo>
                    <a:lnTo>
                      <a:pt x="155" y="124"/>
                    </a:lnTo>
                    <a:lnTo>
                      <a:pt x="0" y="178"/>
                    </a:lnTo>
                    <a:close/>
                  </a:path>
                </a:pathLst>
              </a:custGeom>
              <a:solidFill>
                <a:srgbClr val="948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Freeform 121"/>
              <p:cNvSpPr/>
              <p:nvPr/>
            </p:nvSpPr>
            <p:spPr>
              <a:xfrm>
                <a:off x="6603480" y="2715840"/>
                <a:ext cx="133200" cy="99000"/>
              </a:xfrm>
              <a:custGeom>
                <a:avLst/>
                <a:gdLst>
                  <a:gd name="textAreaLeft" fmla="*/ 0 w 133200"/>
                  <a:gd name="textAreaRight" fmla="*/ 133560 w 133200"/>
                  <a:gd name="textAreaTop" fmla="*/ 0 h 99000"/>
                  <a:gd name="textAreaBottom" fmla="*/ 99360 h 99000"/>
                </a:gdLst>
                <a:ahLst/>
                <a:rect l="textAreaLeft" t="textAreaTop" r="textAreaRight" b="textAreaBottom"/>
                <a:pathLst>
                  <a:path w="264" h="477">
                    <a:moveTo>
                      <a:pt x="9" y="420"/>
                    </a:moveTo>
                    <a:lnTo>
                      <a:pt x="0" y="266"/>
                    </a:lnTo>
                    <a:lnTo>
                      <a:pt x="59" y="96"/>
                    </a:lnTo>
                    <a:lnTo>
                      <a:pt x="109" y="0"/>
                    </a:lnTo>
                    <a:lnTo>
                      <a:pt x="264" y="81"/>
                    </a:lnTo>
                    <a:lnTo>
                      <a:pt x="214" y="106"/>
                    </a:lnTo>
                    <a:lnTo>
                      <a:pt x="119" y="131"/>
                    </a:lnTo>
                    <a:lnTo>
                      <a:pt x="73" y="245"/>
                    </a:lnTo>
                    <a:lnTo>
                      <a:pt x="73" y="366"/>
                    </a:lnTo>
                    <a:lnTo>
                      <a:pt x="144" y="477"/>
                    </a:lnTo>
                    <a:lnTo>
                      <a:pt x="9" y="420"/>
                    </a:lnTo>
                    <a:close/>
                  </a:path>
                </a:pathLst>
              </a:custGeom>
              <a:solidFill>
                <a:srgbClr val="b8ad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Freeform 122"/>
              <p:cNvSpPr/>
              <p:nvPr/>
            </p:nvSpPr>
            <p:spPr>
              <a:xfrm>
                <a:off x="6627600" y="2430000"/>
                <a:ext cx="700920" cy="102960"/>
              </a:xfrm>
              <a:custGeom>
                <a:avLst/>
                <a:gdLst>
                  <a:gd name="textAreaLeft" fmla="*/ 0 w 700920"/>
                  <a:gd name="textAreaRight" fmla="*/ 701280 w 70092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1385" h="496">
                    <a:moveTo>
                      <a:pt x="0" y="297"/>
                    </a:moveTo>
                    <a:lnTo>
                      <a:pt x="1110" y="0"/>
                    </a:lnTo>
                    <a:lnTo>
                      <a:pt x="1255" y="31"/>
                    </a:lnTo>
                    <a:lnTo>
                      <a:pt x="269" y="309"/>
                    </a:lnTo>
                    <a:lnTo>
                      <a:pt x="1385" y="121"/>
                    </a:lnTo>
                    <a:lnTo>
                      <a:pt x="291" y="496"/>
                    </a:lnTo>
                    <a:lnTo>
                      <a:pt x="0" y="297"/>
                    </a:lnTo>
                    <a:close/>
                  </a:path>
                </a:pathLst>
              </a:custGeom>
              <a:solidFill>
                <a:srgbClr val="b8ad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Freeform 123"/>
              <p:cNvSpPr/>
              <p:nvPr/>
            </p:nvSpPr>
            <p:spPr>
              <a:xfrm>
                <a:off x="6477840" y="2804040"/>
                <a:ext cx="300240" cy="62280"/>
              </a:xfrm>
              <a:custGeom>
                <a:avLst/>
                <a:gdLst>
                  <a:gd name="textAreaLeft" fmla="*/ 0 w 300240"/>
                  <a:gd name="textAreaRight" fmla="*/ 300240 w 300240"/>
                  <a:gd name="textAreaTop" fmla="*/ 0 h 62280"/>
                  <a:gd name="textAreaBottom" fmla="*/ 62640 h 62280"/>
                </a:gdLst>
                <a:ahLst/>
                <a:rect l="textAreaLeft" t="textAreaTop" r="textAreaRight" b="textAreaBottom"/>
                <a:pathLst>
                  <a:path w="595" h="300">
                    <a:moveTo>
                      <a:pt x="0" y="44"/>
                    </a:moveTo>
                    <a:lnTo>
                      <a:pt x="187" y="0"/>
                    </a:lnTo>
                    <a:lnTo>
                      <a:pt x="428" y="131"/>
                    </a:lnTo>
                    <a:lnTo>
                      <a:pt x="595" y="251"/>
                    </a:lnTo>
                    <a:lnTo>
                      <a:pt x="490" y="269"/>
                    </a:lnTo>
                    <a:lnTo>
                      <a:pt x="375" y="193"/>
                    </a:lnTo>
                    <a:lnTo>
                      <a:pt x="291" y="109"/>
                    </a:lnTo>
                    <a:lnTo>
                      <a:pt x="155" y="94"/>
                    </a:lnTo>
                    <a:lnTo>
                      <a:pt x="140" y="300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b8ad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Freeform 124"/>
              <p:cNvSpPr/>
              <p:nvPr/>
            </p:nvSpPr>
            <p:spPr>
              <a:xfrm>
                <a:off x="6946560" y="2571480"/>
                <a:ext cx="228960" cy="251640"/>
              </a:xfrm>
              <a:custGeom>
                <a:avLst/>
                <a:gdLst>
                  <a:gd name="textAreaLeft" fmla="*/ 0 w 228960"/>
                  <a:gd name="textAreaRight" fmla="*/ 229320 w 228960"/>
                  <a:gd name="textAreaTop" fmla="*/ 0 h 251640"/>
                  <a:gd name="textAreaBottom" fmla="*/ 252000 h 251640"/>
                </a:gdLst>
                <a:ahLst/>
                <a:rect l="textAreaLeft" t="textAreaTop" r="textAreaRight" b="textAreaBottom"/>
                <a:pathLst>
                  <a:path w="452" h="1211">
                    <a:moveTo>
                      <a:pt x="71" y="96"/>
                    </a:moveTo>
                    <a:lnTo>
                      <a:pt x="362" y="0"/>
                    </a:lnTo>
                    <a:lnTo>
                      <a:pt x="452" y="110"/>
                    </a:lnTo>
                    <a:lnTo>
                      <a:pt x="322" y="776"/>
                    </a:lnTo>
                    <a:lnTo>
                      <a:pt x="186" y="896"/>
                    </a:lnTo>
                    <a:lnTo>
                      <a:pt x="182" y="1211"/>
                    </a:lnTo>
                    <a:lnTo>
                      <a:pt x="71" y="1086"/>
                    </a:lnTo>
                    <a:lnTo>
                      <a:pt x="49" y="941"/>
                    </a:lnTo>
                    <a:lnTo>
                      <a:pt x="27" y="841"/>
                    </a:lnTo>
                    <a:lnTo>
                      <a:pt x="5" y="794"/>
                    </a:lnTo>
                    <a:lnTo>
                      <a:pt x="0" y="772"/>
                    </a:lnTo>
                    <a:lnTo>
                      <a:pt x="5" y="716"/>
                    </a:lnTo>
                    <a:lnTo>
                      <a:pt x="30" y="549"/>
                    </a:lnTo>
                    <a:lnTo>
                      <a:pt x="61" y="382"/>
                    </a:lnTo>
                    <a:lnTo>
                      <a:pt x="77" y="305"/>
                    </a:lnTo>
                    <a:lnTo>
                      <a:pt x="37" y="121"/>
                    </a:lnTo>
                    <a:lnTo>
                      <a:pt x="71" y="96"/>
                    </a:lnTo>
                    <a:close/>
                  </a:path>
                </a:pathLst>
              </a:custGeom>
              <a:solidFill>
                <a:srgbClr val="ff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Freeform 125"/>
              <p:cNvSpPr/>
              <p:nvPr/>
            </p:nvSpPr>
            <p:spPr>
              <a:xfrm>
                <a:off x="6972120" y="2561040"/>
                <a:ext cx="239760" cy="268560"/>
              </a:xfrm>
              <a:custGeom>
                <a:avLst/>
                <a:gdLst>
                  <a:gd name="textAreaLeft" fmla="*/ 0 w 239760"/>
                  <a:gd name="textAreaRight" fmla="*/ 240120 w 239760"/>
                  <a:gd name="textAreaTop" fmla="*/ 0 h 268560"/>
                  <a:gd name="textAreaBottom" fmla="*/ 268920 h 268560"/>
                </a:gdLst>
                <a:ahLst/>
                <a:rect l="textAreaLeft" t="textAreaTop" r="textAreaRight" b="textAreaBottom"/>
                <a:pathLst>
                  <a:path w="474" h="1290">
                    <a:moveTo>
                      <a:pt x="0" y="109"/>
                    </a:moveTo>
                    <a:lnTo>
                      <a:pt x="369" y="0"/>
                    </a:lnTo>
                    <a:lnTo>
                      <a:pt x="474" y="214"/>
                    </a:lnTo>
                    <a:lnTo>
                      <a:pt x="310" y="689"/>
                    </a:lnTo>
                    <a:lnTo>
                      <a:pt x="434" y="1005"/>
                    </a:lnTo>
                    <a:lnTo>
                      <a:pt x="230" y="959"/>
                    </a:lnTo>
                    <a:lnTo>
                      <a:pt x="140" y="1290"/>
                    </a:lnTo>
                    <a:lnTo>
                      <a:pt x="57" y="1026"/>
                    </a:lnTo>
                    <a:lnTo>
                      <a:pt x="15" y="779"/>
                    </a:lnTo>
                    <a:lnTo>
                      <a:pt x="90" y="509"/>
                    </a:lnTo>
                    <a:lnTo>
                      <a:pt x="34" y="304"/>
                    </a:lnTo>
                    <a:lnTo>
                      <a:pt x="124" y="214"/>
                    </a:lnTo>
                    <a:lnTo>
                      <a:pt x="230" y="244"/>
                    </a:lnTo>
                    <a:lnTo>
                      <a:pt x="190" y="339"/>
                    </a:lnTo>
                    <a:lnTo>
                      <a:pt x="264" y="390"/>
                    </a:lnTo>
                    <a:lnTo>
                      <a:pt x="115" y="689"/>
                    </a:lnTo>
                    <a:lnTo>
                      <a:pt x="190" y="675"/>
                    </a:lnTo>
                    <a:lnTo>
                      <a:pt x="115" y="900"/>
                    </a:lnTo>
                    <a:lnTo>
                      <a:pt x="214" y="785"/>
                    </a:lnTo>
                    <a:lnTo>
                      <a:pt x="260" y="555"/>
                    </a:lnTo>
                    <a:lnTo>
                      <a:pt x="260" y="484"/>
                    </a:lnTo>
                    <a:lnTo>
                      <a:pt x="339" y="314"/>
                    </a:lnTo>
                    <a:lnTo>
                      <a:pt x="285" y="300"/>
                    </a:lnTo>
                    <a:lnTo>
                      <a:pt x="304" y="170"/>
                    </a:lnTo>
                    <a:lnTo>
                      <a:pt x="180" y="149"/>
                    </a:lnTo>
                    <a:lnTo>
                      <a:pt x="199" y="99"/>
                    </a:lnTo>
                    <a:lnTo>
                      <a:pt x="25" y="195"/>
                    </a:lnTo>
                    <a:lnTo>
                      <a:pt x="0" y="109"/>
                    </a:lnTo>
                    <a:close/>
                  </a:path>
                </a:pathLst>
              </a:custGeom>
              <a:solidFill>
                <a:srgbClr val="ff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Freeform 126"/>
              <p:cNvSpPr/>
              <p:nvPr/>
            </p:nvSpPr>
            <p:spPr>
              <a:xfrm>
                <a:off x="6231600" y="2665440"/>
                <a:ext cx="402120" cy="142200"/>
              </a:xfrm>
              <a:custGeom>
                <a:avLst/>
                <a:gdLst>
                  <a:gd name="textAreaLeft" fmla="*/ 0 w 402120"/>
                  <a:gd name="textAreaRight" fmla="*/ 402480 w 402120"/>
                  <a:gd name="textAreaTop" fmla="*/ 0 h 142200"/>
                  <a:gd name="textAreaBottom" fmla="*/ 142560 h 142200"/>
                </a:gdLst>
                <a:ahLst/>
                <a:rect l="textAreaLeft" t="textAreaTop" r="textAreaRight" b="textAreaBottom"/>
                <a:pathLst>
                  <a:path w="794" h="686">
                    <a:moveTo>
                      <a:pt x="0" y="136"/>
                    </a:moveTo>
                    <a:lnTo>
                      <a:pt x="60" y="40"/>
                    </a:lnTo>
                    <a:lnTo>
                      <a:pt x="134" y="0"/>
                    </a:lnTo>
                    <a:lnTo>
                      <a:pt x="144" y="96"/>
                    </a:lnTo>
                    <a:lnTo>
                      <a:pt x="349" y="291"/>
                    </a:lnTo>
                    <a:lnTo>
                      <a:pt x="653" y="466"/>
                    </a:lnTo>
                    <a:lnTo>
                      <a:pt x="794" y="341"/>
                    </a:lnTo>
                    <a:lnTo>
                      <a:pt x="714" y="686"/>
                    </a:lnTo>
                    <a:lnTo>
                      <a:pt x="100" y="230"/>
                    </a:lnTo>
                    <a:lnTo>
                      <a:pt x="20" y="215"/>
                    </a:lnTo>
                    <a:lnTo>
                      <a:pt x="0" y="136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Freeform 127"/>
              <p:cNvSpPr/>
              <p:nvPr/>
            </p:nvSpPr>
            <p:spPr>
              <a:xfrm>
                <a:off x="6222600" y="2628000"/>
                <a:ext cx="456480" cy="107640"/>
              </a:xfrm>
              <a:custGeom>
                <a:avLst/>
                <a:gdLst>
                  <a:gd name="textAreaLeft" fmla="*/ 0 w 456480"/>
                  <a:gd name="textAreaRight" fmla="*/ 456840 w 456480"/>
                  <a:gd name="textAreaTop" fmla="*/ 0 h 107640"/>
                  <a:gd name="textAreaBottom" fmla="*/ 108000 h 107640"/>
                </a:gdLst>
                <a:ahLst/>
                <a:rect l="textAreaLeft" t="textAreaTop" r="textAreaRight" b="textAreaBottom"/>
                <a:pathLst>
                  <a:path w="902" h="521">
                    <a:moveTo>
                      <a:pt x="32" y="40"/>
                    </a:moveTo>
                    <a:lnTo>
                      <a:pt x="0" y="102"/>
                    </a:lnTo>
                    <a:lnTo>
                      <a:pt x="143" y="121"/>
                    </a:lnTo>
                    <a:lnTo>
                      <a:pt x="767" y="446"/>
                    </a:lnTo>
                    <a:lnTo>
                      <a:pt x="812" y="521"/>
                    </a:lnTo>
                    <a:lnTo>
                      <a:pt x="902" y="435"/>
                    </a:lnTo>
                    <a:lnTo>
                      <a:pt x="93" y="0"/>
                    </a:lnTo>
                    <a:lnTo>
                      <a:pt x="32" y="40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Freeform 128"/>
              <p:cNvSpPr/>
              <p:nvPr/>
            </p:nvSpPr>
            <p:spPr>
              <a:xfrm>
                <a:off x="6694560" y="2688480"/>
                <a:ext cx="1143000" cy="187200"/>
              </a:xfrm>
              <a:custGeom>
                <a:avLst/>
                <a:gdLst>
                  <a:gd name="textAreaLeft" fmla="*/ 0 w 1143000"/>
                  <a:gd name="textAreaRight" fmla="*/ 1143360 w 1143000"/>
                  <a:gd name="textAreaTop" fmla="*/ 0 h 187200"/>
                  <a:gd name="textAreaBottom" fmla="*/ 187560 h 187200"/>
                </a:gdLst>
                <a:ahLst/>
                <a:rect l="textAreaLeft" t="textAreaTop" r="textAreaRight" b="textAreaBottom"/>
                <a:pathLst>
                  <a:path w="2259" h="900">
                    <a:moveTo>
                      <a:pt x="11" y="515"/>
                    </a:moveTo>
                    <a:lnTo>
                      <a:pt x="90" y="655"/>
                    </a:lnTo>
                    <a:lnTo>
                      <a:pt x="226" y="709"/>
                    </a:lnTo>
                    <a:lnTo>
                      <a:pt x="231" y="510"/>
                    </a:lnTo>
                    <a:lnTo>
                      <a:pt x="321" y="284"/>
                    </a:lnTo>
                    <a:lnTo>
                      <a:pt x="201" y="345"/>
                    </a:lnTo>
                    <a:lnTo>
                      <a:pt x="155" y="379"/>
                    </a:lnTo>
                    <a:lnTo>
                      <a:pt x="141" y="315"/>
                    </a:lnTo>
                    <a:lnTo>
                      <a:pt x="146" y="184"/>
                    </a:lnTo>
                    <a:lnTo>
                      <a:pt x="511" y="0"/>
                    </a:lnTo>
                    <a:lnTo>
                      <a:pt x="504" y="233"/>
                    </a:lnTo>
                    <a:lnTo>
                      <a:pt x="437" y="283"/>
                    </a:lnTo>
                    <a:lnTo>
                      <a:pt x="390" y="540"/>
                    </a:lnTo>
                    <a:lnTo>
                      <a:pt x="481" y="730"/>
                    </a:lnTo>
                    <a:lnTo>
                      <a:pt x="1885" y="305"/>
                    </a:lnTo>
                    <a:lnTo>
                      <a:pt x="1780" y="100"/>
                    </a:lnTo>
                    <a:lnTo>
                      <a:pt x="2259" y="299"/>
                    </a:lnTo>
                    <a:lnTo>
                      <a:pt x="2179" y="355"/>
                    </a:lnTo>
                    <a:lnTo>
                      <a:pt x="496" y="900"/>
                    </a:lnTo>
                    <a:lnTo>
                      <a:pt x="349" y="864"/>
                    </a:lnTo>
                    <a:lnTo>
                      <a:pt x="46" y="740"/>
                    </a:lnTo>
                    <a:lnTo>
                      <a:pt x="0" y="600"/>
                    </a:lnTo>
                    <a:lnTo>
                      <a:pt x="11" y="515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Freeform 129"/>
              <p:cNvSpPr/>
              <p:nvPr/>
            </p:nvSpPr>
            <p:spPr>
              <a:xfrm>
                <a:off x="7124040" y="2607840"/>
                <a:ext cx="678240" cy="121680"/>
              </a:xfrm>
              <a:custGeom>
                <a:avLst/>
                <a:gdLst/>
                <a:ahLst/>
                <a:rect l="l" t="t" r="r" b="b"/>
                <a:pathLst>
                  <a:path w="1340" h="586">
                    <a:moveTo>
                      <a:pt x="100" y="210"/>
                    </a:moveTo>
                    <a:lnTo>
                      <a:pt x="634" y="0"/>
                    </a:lnTo>
                    <a:lnTo>
                      <a:pt x="1340" y="170"/>
                    </a:lnTo>
                    <a:lnTo>
                      <a:pt x="1208" y="256"/>
                    </a:lnTo>
                    <a:lnTo>
                      <a:pt x="14" y="586"/>
                    </a:lnTo>
                    <a:lnTo>
                      <a:pt x="0" y="436"/>
                    </a:lnTo>
                    <a:lnTo>
                      <a:pt x="100" y="210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Freeform 130"/>
              <p:cNvSpPr/>
              <p:nvPr/>
            </p:nvSpPr>
            <p:spPr>
              <a:xfrm>
                <a:off x="6066360" y="2572920"/>
                <a:ext cx="700920" cy="159840"/>
              </a:xfrm>
              <a:custGeom>
                <a:avLst/>
                <a:gdLst>
                  <a:gd name="textAreaLeft" fmla="*/ 0 w 700920"/>
                  <a:gd name="textAreaRight" fmla="*/ 701280 w 700920"/>
                  <a:gd name="textAreaTop" fmla="*/ 0 h 159840"/>
                  <a:gd name="textAreaBottom" fmla="*/ 160200 h 159840"/>
                </a:gdLst>
                <a:ahLst/>
                <a:rect l="textAreaLeft" t="textAreaTop" r="textAreaRight" b="textAreaBottom"/>
                <a:pathLst>
                  <a:path w="1387" h="770">
                    <a:moveTo>
                      <a:pt x="0" y="45"/>
                    </a:moveTo>
                    <a:lnTo>
                      <a:pt x="24" y="0"/>
                    </a:lnTo>
                    <a:lnTo>
                      <a:pt x="1387" y="659"/>
                    </a:lnTo>
                    <a:lnTo>
                      <a:pt x="1356" y="770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ae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Freeform 131"/>
              <p:cNvSpPr/>
              <p:nvPr/>
            </p:nvSpPr>
            <p:spPr>
              <a:xfrm>
                <a:off x="6184440" y="2469240"/>
                <a:ext cx="1413000" cy="197280"/>
              </a:xfrm>
              <a:custGeom>
                <a:avLst/>
                <a:gdLst>
                  <a:gd name="textAreaLeft" fmla="*/ 0 w 1413000"/>
                  <a:gd name="textAreaRight" fmla="*/ 1413360 w 1413000"/>
                  <a:gd name="textAreaTop" fmla="*/ 0 h 197280"/>
                  <a:gd name="textAreaBottom" fmla="*/ 197640 h 197280"/>
                </a:gdLst>
                <a:ahLst/>
                <a:rect l="textAreaLeft" t="textAreaTop" r="textAreaRight" b="textAreaBottom"/>
                <a:pathLst>
                  <a:path w="2793" h="946">
                    <a:moveTo>
                      <a:pt x="9" y="280"/>
                    </a:moveTo>
                    <a:lnTo>
                      <a:pt x="1219" y="716"/>
                    </a:lnTo>
                    <a:lnTo>
                      <a:pt x="1169" y="946"/>
                    </a:lnTo>
                    <a:lnTo>
                      <a:pt x="1433" y="856"/>
                    </a:lnTo>
                    <a:lnTo>
                      <a:pt x="1584" y="795"/>
                    </a:lnTo>
                    <a:lnTo>
                      <a:pt x="1544" y="590"/>
                    </a:lnTo>
                    <a:lnTo>
                      <a:pt x="1928" y="441"/>
                    </a:lnTo>
                    <a:lnTo>
                      <a:pt x="2003" y="586"/>
                    </a:lnTo>
                    <a:lnTo>
                      <a:pt x="1959" y="835"/>
                    </a:lnTo>
                    <a:lnTo>
                      <a:pt x="2498" y="574"/>
                    </a:lnTo>
                    <a:lnTo>
                      <a:pt x="2648" y="586"/>
                    </a:lnTo>
                    <a:lnTo>
                      <a:pt x="2793" y="310"/>
                    </a:lnTo>
                    <a:lnTo>
                      <a:pt x="2778" y="106"/>
                    </a:lnTo>
                    <a:lnTo>
                      <a:pt x="2588" y="0"/>
                    </a:lnTo>
                    <a:lnTo>
                      <a:pt x="1194" y="435"/>
                    </a:lnTo>
                    <a:lnTo>
                      <a:pt x="1089" y="490"/>
                    </a:lnTo>
                    <a:lnTo>
                      <a:pt x="0" y="115"/>
                    </a:lnTo>
                    <a:lnTo>
                      <a:pt x="9" y="280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Freeform 132"/>
              <p:cNvSpPr/>
              <p:nvPr/>
            </p:nvSpPr>
            <p:spPr>
              <a:xfrm>
                <a:off x="6094800" y="2392200"/>
                <a:ext cx="1510200" cy="263520"/>
              </a:xfrm>
              <a:custGeom>
                <a:avLst/>
                <a:gdLst>
                  <a:gd name="textAreaLeft" fmla="*/ 0 w 1510200"/>
                  <a:gd name="textAreaRight" fmla="*/ 1510560 w 1510200"/>
                  <a:gd name="textAreaTop" fmla="*/ 0 h 263520"/>
                  <a:gd name="textAreaBottom" fmla="*/ 263880 h 263520"/>
                </a:gdLst>
                <a:ahLst/>
                <a:rect l="textAreaLeft" t="textAreaTop" r="textAreaRight" b="textAreaBottom"/>
                <a:pathLst>
                  <a:path w="2984" h="1267">
                    <a:moveTo>
                      <a:pt x="0" y="316"/>
                    </a:moveTo>
                    <a:lnTo>
                      <a:pt x="1490" y="0"/>
                    </a:lnTo>
                    <a:lnTo>
                      <a:pt x="2284" y="170"/>
                    </a:lnTo>
                    <a:lnTo>
                      <a:pt x="991" y="481"/>
                    </a:lnTo>
                    <a:lnTo>
                      <a:pt x="1291" y="586"/>
                    </a:lnTo>
                    <a:lnTo>
                      <a:pt x="2598" y="266"/>
                    </a:lnTo>
                    <a:lnTo>
                      <a:pt x="2731" y="213"/>
                    </a:lnTo>
                    <a:lnTo>
                      <a:pt x="2904" y="306"/>
                    </a:lnTo>
                    <a:lnTo>
                      <a:pt x="2979" y="421"/>
                    </a:lnTo>
                    <a:lnTo>
                      <a:pt x="2984" y="741"/>
                    </a:lnTo>
                    <a:lnTo>
                      <a:pt x="2824" y="957"/>
                    </a:lnTo>
                    <a:lnTo>
                      <a:pt x="2674" y="967"/>
                    </a:lnTo>
                    <a:lnTo>
                      <a:pt x="2649" y="1032"/>
                    </a:lnTo>
                    <a:lnTo>
                      <a:pt x="2514" y="1097"/>
                    </a:lnTo>
                    <a:lnTo>
                      <a:pt x="2349" y="1147"/>
                    </a:lnTo>
                    <a:lnTo>
                      <a:pt x="2119" y="1267"/>
                    </a:lnTo>
                    <a:lnTo>
                      <a:pt x="2135" y="1206"/>
                    </a:lnTo>
                    <a:lnTo>
                      <a:pt x="2209" y="1026"/>
                    </a:lnTo>
                    <a:lnTo>
                      <a:pt x="2759" y="806"/>
                    </a:lnTo>
                    <a:lnTo>
                      <a:pt x="2864" y="676"/>
                    </a:lnTo>
                    <a:lnTo>
                      <a:pt x="2835" y="446"/>
                    </a:lnTo>
                    <a:lnTo>
                      <a:pt x="2759" y="403"/>
                    </a:lnTo>
                    <a:lnTo>
                      <a:pt x="1375" y="787"/>
                    </a:lnTo>
                    <a:lnTo>
                      <a:pt x="0" y="316"/>
                    </a:lnTo>
                    <a:close/>
                  </a:path>
                </a:pathLst>
              </a:custGeom>
              <a:solidFill>
                <a:srgbClr val="ae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Freeform 133"/>
              <p:cNvSpPr/>
              <p:nvPr/>
            </p:nvSpPr>
            <p:spPr>
              <a:xfrm>
                <a:off x="6887160" y="2683800"/>
                <a:ext cx="775440" cy="162360"/>
              </a:xfrm>
              <a:custGeom>
                <a:avLst/>
                <a:gdLst>
                  <a:gd name="textAreaLeft" fmla="*/ 0 w 775440"/>
                  <a:gd name="textAreaRight" fmla="*/ 775800 w 775440"/>
                  <a:gd name="textAreaTop" fmla="*/ 0 h 162360"/>
                  <a:gd name="textAreaBottom" fmla="*/ 162720 h 162360"/>
                </a:gdLst>
                <a:ahLst/>
                <a:rect l="textAreaLeft" t="textAreaTop" r="textAreaRight" b="textAreaBottom"/>
                <a:pathLst>
                  <a:path w="1534" h="781">
                    <a:moveTo>
                      <a:pt x="509" y="236"/>
                    </a:moveTo>
                    <a:lnTo>
                      <a:pt x="1419" y="0"/>
                    </a:lnTo>
                    <a:lnTo>
                      <a:pt x="1408" y="137"/>
                    </a:lnTo>
                    <a:lnTo>
                      <a:pt x="1423" y="251"/>
                    </a:lnTo>
                    <a:lnTo>
                      <a:pt x="1534" y="331"/>
                    </a:lnTo>
                    <a:lnTo>
                      <a:pt x="115" y="781"/>
                    </a:lnTo>
                    <a:lnTo>
                      <a:pt x="40" y="741"/>
                    </a:lnTo>
                    <a:lnTo>
                      <a:pt x="0" y="611"/>
                    </a:lnTo>
                    <a:lnTo>
                      <a:pt x="55" y="345"/>
                    </a:lnTo>
                    <a:lnTo>
                      <a:pt x="109" y="316"/>
                    </a:lnTo>
                    <a:lnTo>
                      <a:pt x="245" y="586"/>
                    </a:lnTo>
                    <a:lnTo>
                      <a:pt x="316" y="648"/>
                    </a:lnTo>
                    <a:lnTo>
                      <a:pt x="325" y="410"/>
                    </a:lnTo>
                    <a:lnTo>
                      <a:pt x="409" y="331"/>
                    </a:lnTo>
                    <a:lnTo>
                      <a:pt x="577" y="387"/>
                    </a:lnTo>
                    <a:lnTo>
                      <a:pt x="509" y="236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Freeform 134"/>
              <p:cNvSpPr/>
              <p:nvPr/>
            </p:nvSpPr>
            <p:spPr>
              <a:xfrm>
                <a:off x="6755400" y="2630880"/>
                <a:ext cx="236160" cy="54720"/>
              </a:xfrm>
              <a:custGeom>
                <a:avLst/>
                <a:gdLst>
                  <a:gd name="textAreaLeft" fmla="*/ 0 w 236160"/>
                  <a:gd name="textAreaRight" fmla="*/ 236520 w 236160"/>
                  <a:gd name="textAreaTop" fmla="*/ 0 h 54720"/>
                  <a:gd name="textAreaBottom" fmla="*/ 55080 h 54720"/>
                </a:gdLst>
                <a:ahLst/>
                <a:rect l="textAreaLeft" t="textAreaTop" r="textAreaRight" b="textAreaBottom"/>
                <a:pathLst>
                  <a:path w="468" h="264">
                    <a:moveTo>
                      <a:pt x="0" y="229"/>
                    </a:moveTo>
                    <a:lnTo>
                      <a:pt x="310" y="199"/>
                    </a:lnTo>
                    <a:lnTo>
                      <a:pt x="294" y="264"/>
                    </a:lnTo>
                    <a:lnTo>
                      <a:pt x="434" y="210"/>
                    </a:lnTo>
                    <a:lnTo>
                      <a:pt x="468" y="0"/>
                    </a:lnTo>
                    <a:lnTo>
                      <a:pt x="0" y="229"/>
                    </a:lnTo>
                    <a:close/>
                  </a:path>
                </a:pathLst>
              </a:custGeom>
              <a:solidFill>
                <a:srgbClr val="ae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Freeform 135"/>
              <p:cNvSpPr/>
              <p:nvPr/>
            </p:nvSpPr>
            <p:spPr>
              <a:xfrm>
                <a:off x="6016320" y="2387520"/>
                <a:ext cx="1552320" cy="225360"/>
              </a:xfrm>
              <a:custGeom>
                <a:avLst/>
                <a:gdLst>
                  <a:gd name="textAreaLeft" fmla="*/ 0 w 1552320"/>
                  <a:gd name="textAreaRight" fmla="*/ 1552680 w 1552320"/>
                  <a:gd name="textAreaTop" fmla="*/ 0 h 225360"/>
                  <a:gd name="textAreaBottom" fmla="*/ 225720 h 225360"/>
                </a:gdLst>
                <a:ahLst/>
                <a:rect l="textAreaLeft" t="textAreaTop" r="textAreaRight" b="textAreaBottom"/>
                <a:pathLst>
                  <a:path w="3069" h="1082">
                    <a:moveTo>
                      <a:pt x="25" y="281"/>
                    </a:moveTo>
                    <a:lnTo>
                      <a:pt x="0" y="384"/>
                    </a:lnTo>
                    <a:lnTo>
                      <a:pt x="272" y="520"/>
                    </a:lnTo>
                    <a:lnTo>
                      <a:pt x="306" y="647"/>
                    </a:lnTo>
                    <a:lnTo>
                      <a:pt x="313" y="757"/>
                    </a:lnTo>
                    <a:lnTo>
                      <a:pt x="279" y="886"/>
                    </a:lnTo>
                    <a:lnTo>
                      <a:pt x="365" y="775"/>
                    </a:lnTo>
                    <a:lnTo>
                      <a:pt x="407" y="647"/>
                    </a:lnTo>
                    <a:lnTo>
                      <a:pt x="399" y="554"/>
                    </a:lnTo>
                    <a:lnTo>
                      <a:pt x="1436" y="920"/>
                    </a:lnTo>
                    <a:lnTo>
                      <a:pt x="2915" y="425"/>
                    </a:lnTo>
                    <a:lnTo>
                      <a:pt x="2958" y="554"/>
                    </a:lnTo>
                    <a:lnTo>
                      <a:pt x="2958" y="698"/>
                    </a:lnTo>
                    <a:lnTo>
                      <a:pt x="2856" y="825"/>
                    </a:lnTo>
                    <a:lnTo>
                      <a:pt x="2371" y="1026"/>
                    </a:lnTo>
                    <a:lnTo>
                      <a:pt x="2345" y="1082"/>
                    </a:lnTo>
                    <a:lnTo>
                      <a:pt x="2908" y="868"/>
                    </a:lnTo>
                    <a:lnTo>
                      <a:pt x="3019" y="791"/>
                    </a:lnTo>
                    <a:lnTo>
                      <a:pt x="3069" y="664"/>
                    </a:lnTo>
                    <a:lnTo>
                      <a:pt x="3053" y="493"/>
                    </a:lnTo>
                    <a:lnTo>
                      <a:pt x="2976" y="400"/>
                    </a:lnTo>
                    <a:lnTo>
                      <a:pt x="2899" y="366"/>
                    </a:lnTo>
                    <a:lnTo>
                      <a:pt x="2695" y="459"/>
                    </a:lnTo>
                    <a:lnTo>
                      <a:pt x="1470" y="748"/>
                    </a:lnTo>
                    <a:lnTo>
                      <a:pt x="282" y="381"/>
                    </a:lnTo>
                    <a:lnTo>
                      <a:pt x="1402" y="809"/>
                    </a:lnTo>
                    <a:lnTo>
                      <a:pt x="1402" y="852"/>
                    </a:lnTo>
                    <a:lnTo>
                      <a:pt x="50" y="357"/>
                    </a:lnTo>
                    <a:lnTo>
                      <a:pt x="93" y="315"/>
                    </a:lnTo>
                    <a:lnTo>
                      <a:pt x="1597" y="43"/>
                    </a:lnTo>
                    <a:lnTo>
                      <a:pt x="2334" y="179"/>
                    </a:lnTo>
                    <a:lnTo>
                      <a:pt x="1556" y="0"/>
                    </a:lnTo>
                    <a:lnTo>
                      <a:pt x="25" y="28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Freeform 136"/>
              <p:cNvSpPr/>
              <p:nvPr/>
            </p:nvSpPr>
            <p:spPr>
              <a:xfrm>
                <a:off x="6020640" y="2538000"/>
                <a:ext cx="959040" cy="199800"/>
              </a:xfrm>
              <a:custGeom>
                <a:avLst/>
                <a:gdLst>
                  <a:gd name="textAreaLeft" fmla="*/ 0 w 959040"/>
                  <a:gd name="textAreaRight" fmla="*/ 959400 w 959040"/>
                  <a:gd name="textAreaTop" fmla="*/ 0 h 199800"/>
                  <a:gd name="textAreaBottom" fmla="*/ 200160 h 199800"/>
                </a:gdLst>
                <a:ahLst/>
                <a:rect l="textAreaLeft" t="textAreaTop" r="textAreaRight" b="textAreaBottom"/>
                <a:pathLst>
                  <a:path w="1894" h="960">
                    <a:moveTo>
                      <a:pt x="321" y="0"/>
                    </a:moveTo>
                    <a:lnTo>
                      <a:pt x="28" y="105"/>
                    </a:lnTo>
                    <a:lnTo>
                      <a:pt x="0" y="211"/>
                    </a:lnTo>
                    <a:lnTo>
                      <a:pt x="1441" y="960"/>
                    </a:lnTo>
                    <a:lnTo>
                      <a:pt x="1840" y="760"/>
                    </a:lnTo>
                    <a:lnTo>
                      <a:pt x="1894" y="626"/>
                    </a:lnTo>
                    <a:lnTo>
                      <a:pt x="1451" y="799"/>
                    </a:lnTo>
                    <a:lnTo>
                      <a:pt x="449" y="338"/>
                    </a:lnTo>
                    <a:lnTo>
                      <a:pt x="1401" y="831"/>
                    </a:lnTo>
                    <a:lnTo>
                      <a:pt x="1423" y="904"/>
                    </a:lnTo>
                    <a:lnTo>
                      <a:pt x="89" y="211"/>
                    </a:lnTo>
                    <a:lnTo>
                      <a:pt x="77" y="149"/>
                    </a:lnTo>
                    <a:lnTo>
                      <a:pt x="316" y="55"/>
                    </a:lnTo>
                    <a:lnTo>
                      <a:pt x="3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Freeform 137"/>
              <p:cNvSpPr/>
              <p:nvPr/>
            </p:nvSpPr>
            <p:spPr>
              <a:xfrm>
                <a:off x="6190560" y="2561040"/>
                <a:ext cx="801000" cy="121680"/>
              </a:xfrm>
              <a:custGeom>
                <a:avLst/>
                <a:gdLst>
                  <a:gd name="textAreaLeft" fmla="*/ 0 w 801000"/>
                  <a:gd name="textAreaRight" fmla="*/ 801360 w 801000"/>
                  <a:gd name="textAreaTop" fmla="*/ 0 h 121680"/>
                  <a:gd name="textAreaBottom" fmla="*/ 122040 h 121680"/>
                </a:gdLst>
                <a:ahLst/>
                <a:rect l="textAreaLeft" t="textAreaTop" r="textAreaRight" b="textAreaBottom"/>
                <a:pathLst>
                  <a:path w="1584" h="584">
                    <a:moveTo>
                      <a:pt x="0" y="83"/>
                    </a:moveTo>
                    <a:lnTo>
                      <a:pt x="1082" y="584"/>
                    </a:lnTo>
                    <a:lnTo>
                      <a:pt x="1584" y="378"/>
                    </a:lnTo>
                    <a:lnTo>
                      <a:pt x="1584" y="335"/>
                    </a:lnTo>
                    <a:lnTo>
                      <a:pt x="1200" y="483"/>
                    </a:lnTo>
                    <a:lnTo>
                      <a:pt x="1255" y="360"/>
                    </a:lnTo>
                    <a:lnTo>
                      <a:pt x="1448" y="282"/>
                    </a:lnTo>
                    <a:lnTo>
                      <a:pt x="1239" y="306"/>
                    </a:lnTo>
                    <a:lnTo>
                      <a:pt x="1227" y="171"/>
                    </a:lnTo>
                    <a:lnTo>
                      <a:pt x="1156" y="22"/>
                    </a:lnTo>
                    <a:lnTo>
                      <a:pt x="1106" y="56"/>
                    </a:lnTo>
                    <a:lnTo>
                      <a:pt x="1167" y="171"/>
                    </a:lnTo>
                    <a:lnTo>
                      <a:pt x="662" y="0"/>
                    </a:lnTo>
                    <a:lnTo>
                      <a:pt x="1167" y="249"/>
                    </a:lnTo>
                    <a:lnTo>
                      <a:pt x="1181" y="325"/>
                    </a:lnTo>
                    <a:lnTo>
                      <a:pt x="1141" y="418"/>
                    </a:lnTo>
                    <a:lnTo>
                      <a:pt x="358" y="111"/>
                    </a:lnTo>
                    <a:lnTo>
                      <a:pt x="1137" y="466"/>
                    </a:lnTo>
                    <a:lnTo>
                      <a:pt x="1082" y="540"/>
                    </a:lnTo>
                    <a:lnTo>
                      <a:pt x="0" y="8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Freeform 138"/>
              <p:cNvSpPr/>
              <p:nvPr/>
            </p:nvSpPr>
            <p:spPr>
              <a:xfrm>
                <a:off x="6858360" y="2514600"/>
                <a:ext cx="561600" cy="304200"/>
              </a:xfrm>
              <a:custGeom>
                <a:avLst/>
                <a:gdLst>
                  <a:gd name="textAreaLeft" fmla="*/ 0 w 561600"/>
                  <a:gd name="textAreaRight" fmla="*/ 561960 w 56160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1109" h="1460">
                    <a:moveTo>
                      <a:pt x="0" y="378"/>
                    </a:moveTo>
                    <a:lnTo>
                      <a:pt x="411" y="256"/>
                    </a:lnTo>
                    <a:lnTo>
                      <a:pt x="1109" y="0"/>
                    </a:lnTo>
                    <a:lnTo>
                      <a:pt x="626" y="245"/>
                    </a:lnTo>
                    <a:lnTo>
                      <a:pt x="709" y="346"/>
                    </a:lnTo>
                    <a:lnTo>
                      <a:pt x="709" y="467"/>
                    </a:lnTo>
                    <a:lnTo>
                      <a:pt x="643" y="672"/>
                    </a:lnTo>
                    <a:lnTo>
                      <a:pt x="554" y="895"/>
                    </a:lnTo>
                    <a:lnTo>
                      <a:pt x="550" y="1016"/>
                    </a:lnTo>
                    <a:lnTo>
                      <a:pt x="632" y="1199"/>
                    </a:lnTo>
                    <a:lnTo>
                      <a:pt x="510" y="1055"/>
                    </a:lnTo>
                    <a:lnTo>
                      <a:pt x="494" y="899"/>
                    </a:lnTo>
                    <a:lnTo>
                      <a:pt x="588" y="639"/>
                    </a:lnTo>
                    <a:lnTo>
                      <a:pt x="660" y="450"/>
                    </a:lnTo>
                    <a:lnTo>
                      <a:pt x="550" y="251"/>
                    </a:lnTo>
                    <a:lnTo>
                      <a:pt x="244" y="368"/>
                    </a:lnTo>
                    <a:lnTo>
                      <a:pt x="272" y="428"/>
                    </a:lnTo>
                    <a:lnTo>
                      <a:pt x="294" y="583"/>
                    </a:lnTo>
                    <a:lnTo>
                      <a:pt x="266" y="760"/>
                    </a:lnTo>
                    <a:lnTo>
                      <a:pt x="222" y="933"/>
                    </a:lnTo>
                    <a:lnTo>
                      <a:pt x="206" y="1110"/>
                    </a:lnTo>
                    <a:lnTo>
                      <a:pt x="256" y="1283"/>
                    </a:lnTo>
                    <a:lnTo>
                      <a:pt x="371" y="1460"/>
                    </a:lnTo>
                    <a:lnTo>
                      <a:pt x="250" y="1387"/>
                    </a:lnTo>
                    <a:lnTo>
                      <a:pt x="167" y="1199"/>
                    </a:lnTo>
                    <a:lnTo>
                      <a:pt x="150" y="989"/>
                    </a:lnTo>
                    <a:lnTo>
                      <a:pt x="212" y="716"/>
                    </a:lnTo>
                    <a:lnTo>
                      <a:pt x="234" y="551"/>
                    </a:lnTo>
                    <a:lnTo>
                      <a:pt x="150" y="390"/>
                    </a:lnTo>
                    <a:lnTo>
                      <a:pt x="0" y="37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Freeform 139"/>
              <p:cNvSpPr/>
              <p:nvPr/>
            </p:nvSpPr>
            <p:spPr>
              <a:xfrm>
                <a:off x="7033320" y="2747160"/>
                <a:ext cx="145440" cy="71640"/>
              </a:xfrm>
              <a:custGeom>
                <a:avLst/>
                <a:gdLst>
                  <a:gd name="textAreaLeft" fmla="*/ 0 w 145440"/>
                  <a:gd name="textAreaRight" fmla="*/ 145800 w 145440"/>
                  <a:gd name="textAreaTop" fmla="*/ 0 h 71640"/>
                  <a:gd name="textAreaBottom" fmla="*/ 72000 h 71640"/>
                </a:gdLst>
                <a:ahLst/>
                <a:rect l="textAreaLeft" t="textAreaTop" r="textAreaRight" b="textAreaBottom"/>
                <a:pathLst>
                  <a:path w="288" h="344">
                    <a:moveTo>
                      <a:pt x="27" y="344"/>
                    </a:moveTo>
                    <a:lnTo>
                      <a:pt x="0" y="161"/>
                    </a:lnTo>
                    <a:lnTo>
                      <a:pt x="73" y="0"/>
                    </a:lnTo>
                    <a:lnTo>
                      <a:pt x="139" y="6"/>
                    </a:lnTo>
                    <a:lnTo>
                      <a:pt x="288" y="83"/>
                    </a:lnTo>
                    <a:lnTo>
                      <a:pt x="111" y="66"/>
                    </a:lnTo>
                    <a:lnTo>
                      <a:pt x="49" y="167"/>
                    </a:lnTo>
                    <a:lnTo>
                      <a:pt x="27" y="3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Freeform 140"/>
              <p:cNvSpPr/>
              <p:nvPr/>
            </p:nvSpPr>
            <p:spPr>
              <a:xfrm>
                <a:off x="7156080" y="2439720"/>
                <a:ext cx="459720" cy="225360"/>
              </a:xfrm>
              <a:custGeom>
                <a:avLst/>
                <a:gdLst>
                  <a:gd name="textAreaLeft" fmla="*/ 0 w 459720"/>
                  <a:gd name="textAreaRight" fmla="*/ 460080 w 459720"/>
                  <a:gd name="textAreaTop" fmla="*/ 0 h 225360"/>
                  <a:gd name="textAreaBottom" fmla="*/ 225720 h 225360"/>
                </a:gdLst>
                <a:ahLst/>
                <a:rect l="textAreaLeft" t="textAreaTop" r="textAreaRight" b="textAreaBottom"/>
                <a:pathLst>
                  <a:path w="908" h="1082">
                    <a:moveTo>
                      <a:pt x="66" y="949"/>
                    </a:moveTo>
                    <a:lnTo>
                      <a:pt x="576" y="716"/>
                    </a:lnTo>
                    <a:lnTo>
                      <a:pt x="695" y="703"/>
                    </a:lnTo>
                    <a:lnTo>
                      <a:pt x="781" y="621"/>
                    </a:lnTo>
                    <a:lnTo>
                      <a:pt x="859" y="428"/>
                    </a:lnTo>
                    <a:lnTo>
                      <a:pt x="825" y="161"/>
                    </a:lnTo>
                    <a:lnTo>
                      <a:pt x="700" y="52"/>
                    </a:lnTo>
                    <a:lnTo>
                      <a:pt x="478" y="124"/>
                    </a:lnTo>
                    <a:lnTo>
                      <a:pt x="661" y="0"/>
                    </a:lnTo>
                    <a:lnTo>
                      <a:pt x="781" y="40"/>
                    </a:lnTo>
                    <a:lnTo>
                      <a:pt x="881" y="151"/>
                    </a:lnTo>
                    <a:lnTo>
                      <a:pt x="908" y="372"/>
                    </a:lnTo>
                    <a:lnTo>
                      <a:pt x="897" y="527"/>
                    </a:lnTo>
                    <a:lnTo>
                      <a:pt x="794" y="723"/>
                    </a:lnTo>
                    <a:lnTo>
                      <a:pt x="726" y="765"/>
                    </a:lnTo>
                    <a:lnTo>
                      <a:pt x="604" y="760"/>
                    </a:lnTo>
                    <a:lnTo>
                      <a:pt x="0" y="1082"/>
                    </a:lnTo>
                    <a:lnTo>
                      <a:pt x="66" y="94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Freeform 141"/>
              <p:cNvSpPr/>
              <p:nvPr/>
            </p:nvSpPr>
            <p:spPr>
              <a:xfrm>
                <a:off x="6201360" y="2623320"/>
                <a:ext cx="1646640" cy="262080"/>
              </a:xfrm>
              <a:custGeom>
                <a:avLst/>
                <a:gdLst>
                  <a:gd name="textAreaLeft" fmla="*/ 0 w 1646640"/>
                  <a:gd name="textAreaRight" fmla="*/ 1647000 w 1646640"/>
                  <a:gd name="textAreaTop" fmla="*/ 0 h 262080"/>
                  <a:gd name="textAreaBottom" fmla="*/ 262440 h 262080"/>
                </a:gdLst>
                <a:ahLst/>
                <a:rect l="textAreaLeft" t="textAreaTop" r="textAreaRight" b="textAreaBottom"/>
                <a:pathLst>
                  <a:path w="3257" h="1259">
                    <a:moveTo>
                      <a:pt x="44" y="0"/>
                    </a:moveTo>
                    <a:lnTo>
                      <a:pt x="0" y="99"/>
                    </a:lnTo>
                    <a:lnTo>
                      <a:pt x="5" y="321"/>
                    </a:lnTo>
                    <a:lnTo>
                      <a:pt x="66" y="448"/>
                    </a:lnTo>
                    <a:lnTo>
                      <a:pt x="166" y="482"/>
                    </a:lnTo>
                    <a:lnTo>
                      <a:pt x="338" y="625"/>
                    </a:lnTo>
                    <a:lnTo>
                      <a:pt x="758" y="915"/>
                    </a:lnTo>
                    <a:lnTo>
                      <a:pt x="853" y="931"/>
                    </a:lnTo>
                    <a:lnTo>
                      <a:pt x="974" y="997"/>
                    </a:lnTo>
                    <a:lnTo>
                      <a:pt x="1014" y="1076"/>
                    </a:lnTo>
                    <a:lnTo>
                      <a:pt x="1334" y="1242"/>
                    </a:lnTo>
                    <a:lnTo>
                      <a:pt x="1468" y="1259"/>
                    </a:lnTo>
                    <a:lnTo>
                      <a:pt x="3257" y="698"/>
                    </a:lnTo>
                    <a:lnTo>
                      <a:pt x="3241" y="577"/>
                    </a:lnTo>
                    <a:lnTo>
                      <a:pt x="2764" y="426"/>
                    </a:lnTo>
                    <a:lnTo>
                      <a:pt x="3207" y="621"/>
                    </a:lnTo>
                    <a:lnTo>
                      <a:pt x="1446" y="1174"/>
                    </a:lnTo>
                    <a:lnTo>
                      <a:pt x="1334" y="1076"/>
                    </a:lnTo>
                    <a:lnTo>
                      <a:pt x="1279" y="931"/>
                    </a:lnTo>
                    <a:lnTo>
                      <a:pt x="1324" y="648"/>
                    </a:lnTo>
                    <a:lnTo>
                      <a:pt x="1245" y="786"/>
                    </a:lnTo>
                    <a:lnTo>
                      <a:pt x="1229" y="931"/>
                    </a:lnTo>
                    <a:lnTo>
                      <a:pt x="1279" y="1114"/>
                    </a:lnTo>
                    <a:lnTo>
                      <a:pt x="1324" y="1174"/>
                    </a:lnTo>
                    <a:lnTo>
                      <a:pt x="1064" y="1048"/>
                    </a:lnTo>
                    <a:lnTo>
                      <a:pt x="1014" y="925"/>
                    </a:lnTo>
                    <a:lnTo>
                      <a:pt x="1002" y="742"/>
                    </a:lnTo>
                    <a:lnTo>
                      <a:pt x="1036" y="615"/>
                    </a:lnTo>
                    <a:lnTo>
                      <a:pt x="974" y="710"/>
                    </a:lnTo>
                    <a:lnTo>
                      <a:pt x="952" y="842"/>
                    </a:lnTo>
                    <a:lnTo>
                      <a:pt x="941" y="921"/>
                    </a:lnTo>
                    <a:lnTo>
                      <a:pt x="847" y="859"/>
                    </a:lnTo>
                    <a:lnTo>
                      <a:pt x="831" y="698"/>
                    </a:lnTo>
                    <a:lnTo>
                      <a:pt x="881" y="510"/>
                    </a:lnTo>
                    <a:lnTo>
                      <a:pt x="820" y="593"/>
                    </a:lnTo>
                    <a:lnTo>
                      <a:pt x="776" y="720"/>
                    </a:lnTo>
                    <a:lnTo>
                      <a:pt x="776" y="853"/>
                    </a:lnTo>
                    <a:lnTo>
                      <a:pt x="183" y="442"/>
                    </a:lnTo>
                    <a:lnTo>
                      <a:pt x="177" y="321"/>
                    </a:lnTo>
                    <a:lnTo>
                      <a:pt x="183" y="221"/>
                    </a:lnTo>
                    <a:lnTo>
                      <a:pt x="132" y="287"/>
                    </a:lnTo>
                    <a:lnTo>
                      <a:pt x="104" y="394"/>
                    </a:lnTo>
                    <a:lnTo>
                      <a:pt x="44" y="282"/>
                    </a:lnTo>
                    <a:lnTo>
                      <a:pt x="44" y="121"/>
                    </a:lnTo>
                    <a:lnTo>
                      <a:pt x="149" y="54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Freeform 142"/>
              <p:cNvSpPr/>
              <p:nvPr/>
            </p:nvSpPr>
            <p:spPr>
              <a:xfrm>
                <a:off x="6875280" y="2736360"/>
                <a:ext cx="151560" cy="94680"/>
              </a:xfrm>
              <a:custGeom>
                <a:avLst/>
                <a:gdLst>
                  <a:gd name="textAreaLeft" fmla="*/ 0 w 151560"/>
                  <a:gd name="textAreaRight" fmla="*/ 151920 w 15156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300" h="454">
                    <a:moveTo>
                      <a:pt x="145" y="0"/>
                    </a:moveTo>
                    <a:lnTo>
                      <a:pt x="78" y="50"/>
                    </a:lnTo>
                    <a:lnTo>
                      <a:pt x="46" y="138"/>
                    </a:lnTo>
                    <a:lnTo>
                      <a:pt x="0" y="350"/>
                    </a:lnTo>
                    <a:lnTo>
                      <a:pt x="46" y="454"/>
                    </a:lnTo>
                    <a:lnTo>
                      <a:pt x="300" y="372"/>
                    </a:lnTo>
                    <a:lnTo>
                      <a:pt x="239" y="310"/>
                    </a:lnTo>
                    <a:lnTo>
                      <a:pt x="78" y="355"/>
                    </a:lnTo>
                    <a:lnTo>
                      <a:pt x="84" y="183"/>
                    </a:lnTo>
                    <a:lnTo>
                      <a:pt x="156" y="122"/>
                    </a:lnTo>
                    <a:lnTo>
                      <a:pt x="14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Freeform 143"/>
              <p:cNvSpPr/>
              <p:nvPr/>
            </p:nvSpPr>
            <p:spPr>
              <a:xfrm>
                <a:off x="7045200" y="2775960"/>
                <a:ext cx="236520" cy="33480"/>
              </a:xfrm>
              <a:custGeom>
                <a:avLst/>
                <a:gdLst>
                  <a:gd name="textAreaLeft" fmla="*/ 0 w 236520"/>
                  <a:gd name="textAreaRight" fmla="*/ 236880 w 23652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470" h="161">
                    <a:moveTo>
                      <a:pt x="10" y="99"/>
                    </a:moveTo>
                    <a:lnTo>
                      <a:pt x="470" y="0"/>
                    </a:lnTo>
                    <a:lnTo>
                      <a:pt x="0" y="161"/>
                    </a:lnTo>
                    <a:lnTo>
                      <a:pt x="10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Freeform 144"/>
              <p:cNvSpPr/>
              <p:nvPr/>
            </p:nvSpPr>
            <p:spPr>
              <a:xfrm>
                <a:off x="6096600" y="2659680"/>
                <a:ext cx="1542960" cy="308520"/>
              </a:xfrm>
              <a:custGeom>
                <a:avLst/>
                <a:gdLst>
                  <a:gd name="textAreaLeft" fmla="*/ 0 w 1542960"/>
                  <a:gd name="textAreaRight" fmla="*/ 1543320 w 1542960"/>
                  <a:gd name="textAreaTop" fmla="*/ 0 h 308520"/>
                  <a:gd name="textAreaBottom" fmla="*/ 308880 h 308520"/>
                </a:gdLst>
                <a:ahLst/>
                <a:rect l="textAreaLeft" t="textAreaTop" r="textAreaRight" b="textAreaBottom"/>
                <a:pathLst>
                  <a:path w="3052" h="1482">
                    <a:moveTo>
                      <a:pt x="243" y="0"/>
                    </a:moveTo>
                    <a:lnTo>
                      <a:pt x="0" y="37"/>
                    </a:lnTo>
                    <a:lnTo>
                      <a:pt x="7" y="126"/>
                    </a:lnTo>
                    <a:lnTo>
                      <a:pt x="770" y="1337"/>
                    </a:lnTo>
                    <a:lnTo>
                      <a:pt x="2809" y="1107"/>
                    </a:lnTo>
                    <a:lnTo>
                      <a:pt x="2903" y="1151"/>
                    </a:lnTo>
                    <a:lnTo>
                      <a:pt x="2957" y="1237"/>
                    </a:lnTo>
                    <a:lnTo>
                      <a:pt x="2892" y="1419"/>
                    </a:lnTo>
                    <a:lnTo>
                      <a:pt x="2554" y="1482"/>
                    </a:lnTo>
                    <a:lnTo>
                      <a:pt x="2906" y="1482"/>
                    </a:lnTo>
                    <a:lnTo>
                      <a:pt x="3052" y="1259"/>
                    </a:lnTo>
                    <a:lnTo>
                      <a:pt x="3044" y="1078"/>
                    </a:lnTo>
                    <a:lnTo>
                      <a:pt x="2980" y="994"/>
                    </a:lnTo>
                    <a:lnTo>
                      <a:pt x="2626" y="1041"/>
                    </a:lnTo>
                    <a:lnTo>
                      <a:pt x="2561" y="1069"/>
                    </a:lnTo>
                    <a:lnTo>
                      <a:pt x="2484" y="1041"/>
                    </a:lnTo>
                    <a:lnTo>
                      <a:pt x="881" y="1230"/>
                    </a:lnTo>
                    <a:lnTo>
                      <a:pt x="384" y="532"/>
                    </a:lnTo>
                    <a:lnTo>
                      <a:pt x="827" y="1236"/>
                    </a:lnTo>
                    <a:lnTo>
                      <a:pt x="787" y="1295"/>
                    </a:lnTo>
                    <a:lnTo>
                      <a:pt x="31" y="70"/>
                    </a:lnTo>
                    <a:lnTo>
                      <a:pt x="224" y="37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Freeform 145"/>
              <p:cNvSpPr/>
              <p:nvPr/>
            </p:nvSpPr>
            <p:spPr>
              <a:xfrm>
                <a:off x="6135840" y="2728440"/>
                <a:ext cx="277560" cy="266400"/>
              </a:xfrm>
              <a:custGeom>
                <a:avLst/>
                <a:gdLst>
                  <a:gd name="textAreaLeft" fmla="*/ 0 w 277560"/>
                  <a:gd name="textAreaRight" fmla="*/ 277920 w 277560"/>
                  <a:gd name="textAreaTop" fmla="*/ 0 h 266400"/>
                  <a:gd name="textAreaBottom" fmla="*/ 266760 h 266400"/>
                </a:gdLst>
                <a:ahLst/>
                <a:rect l="textAreaLeft" t="textAreaTop" r="textAreaRight" b="textAreaBottom"/>
                <a:pathLst>
                  <a:path w="547" h="1281">
                    <a:moveTo>
                      <a:pt x="71" y="0"/>
                    </a:moveTo>
                    <a:lnTo>
                      <a:pt x="82" y="95"/>
                    </a:lnTo>
                    <a:lnTo>
                      <a:pt x="66" y="175"/>
                    </a:lnTo>
                    <a:lnTo>
                      <a:pt x="38" y="228"/>
                    </a:lnTo>
                    <a:lnTo>
                      <a:pt x="0" y="256"/>
                    </a:lnTo>
                    <a:lnTo>
                      <a:pt x="143" y="527"/>
                    </a:lnTo>
                    <a:lnTo>
                      <a:pt x="547" y="1281"/>
                    </a:lnTo>
                    <a:lnTo>
                      <a:pt x="249" y="604"/>
                    </a:lnTo>
                    <a:lnTo>
                      <a:pt x="66" y="256"/>
                    </a:lnTo>
                    <a:lnTo>
                      <a:pt x="243" y="465"/>
                    </a:lnTo>
                    <a:lnTo>
                      <a:pt x="104" y="189"/>
                    </a:lnTo>
                    <a:lnTo>
                      <a:pt x="143" y="89"/>
                    </a:lnTo>
                    <a:lnTo>
                      <a:pt x="7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Freeform 146"/>
              <p:cNvSpPr/>
              <p:nvPr/>
            </p:nvSpPr>
            <p:spPr>
              <a:xfrm>
                <a:off x="6052680" y="2752200"/>
                <a:ext cx="1657080" cy="305280"/>
              </a:xfrm>
              <a:custGeom>
                <a:avLst/>
                <a:gdLst>
                  <a:gd name="textAreaLeft" fmla="*/ 0 w 1657080"/>
                  <a:gd name="textAreaRight" fmla="*/ 1657440 w 1657080"/>
                  <a:gd name="textAreaTop" fmla="*/ 0 h 305280"/>
                  <a:gd name="textAreaBottom" fmla="*/ 305280 h 305280"/>
                </a:gdLst>
                <a:ahLst/>
                <a:rect l="textAreaLeft" t="textAreaTop" r="textAreaRight" b="textAreaBottom"/>
                <a:pathLst>
                  <a:path w="3277" h="1467">
                    <a:moveTo>
                      <a:pt x="256" y="0"/>
                    </a:moveTo>
                    <a:lnTo>
                      <a:pt x="120" y="62"/>
                    </a:lnTo>
                    <a:lnTo>
                      <a:pt x="12" y="85"/>
                    </a:lnTo>
                    <a:lnTo>
                      <a:pt x="0" y="157"/>
                    </a:lnTo>
                    <a:lnTo>
                      <a:pt x="445" y="993"/>
                    </a:lnTo>
                    <a:lnTo>
                      <a:pt x="635" y="1467"/>
                    </a:lnTo>
                    <a:lnTo>
                      <a:pt x="2530" y="1233"/>
                    </a:lnTo>
                    <a:lnTo>
                      <a:pt x="2601" y="1210"/>
                    </a:lnTo>
                    <a:lnTo>
                      <a:pt x="2702" y="1244"/>
                    </a:lnTo>
                    <a:lnTo>
                      <a:pt x="3045" y="1198"/>
                    </a:lnTo>
                    <a:lnTo>
                      <a:pt x="3199" y="1056"/>
                    </a:lnTo>
                    <a:lnTo>
                      <a:pt x="3277" y="706"/>
                    </a:lnTo>
                    <a:lnTo>
                      <a:pt x="3223" y="456"/>
                    </a:lnTo>
                    <a:lnTo>
                      <a:pt x="2982" y="245"/>
                    </a:lnTo>
                    <a:lnTo>
                      <a:pt x="2511" y="363"/>
                    </a:lnTo>
                    <a:lnTo>
                      <a:pt x="2933" y="371"/>
                    </a:lnTo>
                    <a:lnTo>
                      <a:pt x="3115" y="510"/>
                    </a:lnTo>
                    <a:lnTo>
                      <a:pt x="3196" y="631"/>
                    </a:lnTo>
                    <a:lnTo>
                      <a:pt x="3202" y="811"/>
                    </a:lnTo>
                    <a:lnTo>
                      <a:pt x="3134" y="1027"/>
                    </a:lnTo>
                    <a:lnTo>
                      <a:pt x="3047" y="1124"/>
                    </a:lnTo>
                    <a:lnTo>
                      <a:pt x="2769" y="1161"/>
                    </a:lnTo>
                    <a:lnTo>
                      <a:pt x="2645" y="1121"/>
                    </a:lnTo>
                    <a:lnTo>
                      <a:pt x="2477" y="1205"/>
                    </a:lnTo>
                    <a:lnTo>
                      <a:pt x="688" y="1360"/>
                    </a:lnTo>
                    <a:lnTo>
                      <a:pt x="53" y="107"/>
                    </a:lnTo>
                    <a:lnTo>
                      <a:pt x="270" y="41"/>
                    </a:lnTo>
                    <a:lnTo>
                      <a:pt x="2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Freeform 147"/>
              <p:cNvSpPr/>
              <p:nvPr/>
            </p:nvSpPr>
            <p:spPr>
              <a:xfrm>
                <a:off x="6423120" y="2901240"/>
                <a:ext cx="837720" cy="101520"/>
              </a:xfrm>
              <a:custGeom>
                <a:avLst/>
                <a:gdLst>
                  <a:gd name="textAreaLeft" fmla="*/ 0 w 837720"/>
                  <a:gd name="textAreaRight" fmla="*/ 838080 w 83772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656" h="489">
                    <a:moveTo>
                      <a:pt x="0" y="489"/>
                    </a:moveTo>
                    <a:lnTo>
                      <a:pt x="133" y="366"/>
                    </a:lnTo>
                    <a:lnTo>
                      <a:pt x="193" y="256"/>
                    </a:lnTo>
                    <a:lnTo>
                      <a:pt x="177" y="123"/>
                    </a:lnTo>
                    <a:lnTo>
                      <a:pt x="1202" y="0"/>
                    </a:lnTo>
                    <a:lnTo>
                      <a:pt x="288" y="157"/>
                    </a:lnTo>
                    <a:lnTo>
                      <a:pt x="248" y="267"/>
                    </a:lnTo>
                    <a:lnTo>
                      <a:pt x="1030" y="223"/>
                    </a:lnTo>
                    <a:lnTo>
                      <a:pt x="232" y="340"/>
                    </a:lnTo>
                    <a:lnTo>
                      <a:pt x="187" y="384"/>
                    </a:lnTo>
                    <a:lnTo>
                      <a:pt x="143" y="411"/>
                    </a:lnTo>
                    <a:lnTo>
                      <a:pt x="1656" y="328"/>
                    </a:lnTo>
                    <a:lnTo>
                      <a:pt x="0" y="48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Freeform 148"/>
              <p:cNvSpPr/>
              <p:nvPr/>
            </p:nvSpPr>
            <p:spPr>
              <a:xfrm>
                <a:off x="6424200" y="2804040"/>
                <a:ext cx="383760" cy="69120"/>
              </a:xfrm>
              <a:custGeom>
                <a:avLst/>
                <a:gdLst>
                  <a:gd name="textAreaLeft" fmla="*/ 0 w 383760"/>
                  <a:gd name="textAreaRight" fmla="*/ 384120 w 383760"/>
                  <a:gd name="textAreaTop" fmla="*/ 0 h 69120"/>
                  <a:gd name="textAreaBottom" fmla="*/ 69480 h 69120"/>
                </a:gdLst>
                <a:ahLst/>
                <a:rect l="textAreaLeft" t="textAreaTop" r="textAreaRight" b="textAreaBottom"/>
                <a:pathLst>
                  <a:path w="759" h="332">
                    <a:moveTo>
                      <a:pt x="292" y="0"/>
                    </a:moveTo>
                    <a:lnTo>
                      <a:pt x="0" y="15"/>
                    </a:lnTo>
                    <a:lnTo>
                      <a:pt x="221" y="332"/>
                    </a:lnTo>
                    <a:lnTo>
                      <a:pt x="759" y="291"/>
                    </a:lnTo>
                    <a:lnTo>
                      <a:pt x="700" y="251"/>
                    </a:lnTo>
                    <a:lnTo>
                      <a:pt x="261" y="266"/>
                    </a:lnTo>
                    <a:lnTo>
                      <a:pt x="145" y="71"/>
                    </a:lnTo>
                    <a:lnTo>
                      <a:pt x="360" y="19"/>
                    </a:lnTo>
                    <a:lnTo>
                      <a:pt x="29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Freeform 149"/>
              <p:cNvSpPr/>
              <p:nvPr/>
            </p:nvSpPr>
            <p:spPr>
              <a:xfrm>
                <a:off x="7081560" y="2845800"/>
                <a:ext cx="331920" cy="17280"/>
              </a:xfrm>
              <a:custGeom>
                <a:avLst/>
                <a:gdLst>
                  <a:gd name="textAreaLeft" fmla="*/ 0 w 331920"/>
                  <a:gd name="textAreaRight" fmla="*/ 332280 w 33192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657" h="84">
                    <a:moveTo>
                      <a:pt x="0" y="84"/>
                    </a:moveTo>
                    <a:lnTo>
                      <a:pt x="113" y="71"/>
                    </a:lnTo>
                    <a:lnTo>
                      <a:pt x="337" y="42"/>
                    </a:lnTo>
                    <a:lnTo>
                      <a:pt x="558" y="13"/>
                    </a:lnTo>
                    <a:lnTo>
                      <a:pt x="657" y="0"/>
                    </a:lnTo>
                    <a:lnTo>
                      <a:pt x="164" y="17"/>
                    </a:lnTo>
                    <a:lnTo>
                      <a:pt x="0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Freeform 150"/>
              <p:cNvSpPr/>
              <p:nvPr/>
            </p:nvSpPr>
            <p:spPr>
              <a:xfrm>
                <a:off x="6506280" y="2426760"/>
                <a:ext cx="922680" cy="93600"/>
              </a:xfrm>
              <a:custGeom>
                <a:avLst/>
                <a:gdLst>
                  <a:gd name="textAreaLeft" fmla="*/ 0 w 922680"/>
                  <a:gd name="textAreaRight" fmla="*/ 923040 w 922680"/>
                  <a:gd name="textAreaTop" fmla="*/ 0 h 93600"/>
                  <a:gd name="textAreaBottom" fmla="*/ 93960 h 93600"/>
                </a:gdLst>
                <a:ahLst/>
                <a:rect l="textAreaLeft" t="textAreaTop" r="textAreaRight" b="textAreaBottom"/>
                <a:pathLst>
                  <a:path w="1825" h="451">
                    <a:moveTo>
                      <a:pt x="1825" y="97"/>
                    </a:moveTo>
                    <a:lnTo>
                      <a:pt x="1527" y="47"/>
                    </a:lnTo>
                    <a:lnTo>
                      <a:pt x="1472" y="4"/>
                    </a:lnTo>
                    <a:lnTo>
                      <a:pt x="1391" y="0"/>
                    </a:lnTo>
                    <a:lnTo>
                      <a:pt x="0" y="308"/>
                    </a:lnTo>
                    <a:lnTo>
                      <a:pt x="451" y="451"/>
                    </a:lnTo>
                    <a:lnTo>
                      <a:pt x="1628" y="153"/>
                    </a:lnTo>
                    <a:lnTo>
                      <a:pt x="433" y="385"/>
                    </a:lnTo>
                    <a:lnTo>
                      <a:pt x="310" y="305"/>
                    </a:lnTo>
                    <a:lnTo>
                      <a:pt x="1400" y="42"/>
                    </a:lnTo>
                    <a:lnTo>
                      <a:pt x="1476" y="63"/>
                    </a:lnTo>
                    <a:lnTo>
                      <a:pt x="1825" y="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Freeform 151"/>
              <p:cNvSpPr/>
              <p:nvPr/>
            </p:nvSpPr>
            <p:spPr>
              <a:xfrm>
                <a:off x="7189560" y="2619720"/>
                <a:ext cx="477720" cy="79920"/>
              </a:xfrm>
              <a:custGeom>
                <a:avLst/>
                <a:gdLst>
                  <a:gd name="textAreaLeft" fmla="*/ 0 w 477720"/>
                  <a:gd name="textAreaRight" fmla="*/ 478080 w 477720"/>
                  <a:gd name="textAreaTop" fmla="*/ 0 h 79920"/>
                  <a:gd name="textAreaBottom" fmla="*/ 80280 h 79920"/>
                </a:gdLst>
                <a:ahLst/>
                <a:rect l="textAreaLeft" t="textAreaTop" r="textAreaRight" b="textAreaBottom"/>
                <a:pathLst>
                  <a:path w="945" h="382">
                    <a:moveTo>
                      <a:pt x="0" y="382"/>
                    </a:moveTo>
                    <a:lnTo>
                      <a:pt x="272" y="118"/>
                    </a:lnTo>
                    <a:lnTo>
                      <a:pt x="663" y="0"/>
                    </a:lnTo>
                    <a:lnTo>
                      <a:pt x="945" y="118"/>
                    </a:lnTo>
                    <a:lnTo>
                      <a:pt x="0" y="382"/>
                    </a:lnTo>
                    <a:close/>
                  </a:path>
                </a:pathLst>
              </a:custGeom>
              <a:solidFill>
                <a:srgbClr val="f7a8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Freeform 152"/>
              <p:cNvSpPr/>
              <p:nvPr/>
            </p:nvSpPr>
            <p:spPr>
              <a:xfrm>
                <a:off x="6955920" y="2601360"/>
                <a:ext cx="851040" cy="244080"/>
              </a:xfrm>
              <a:custGeom>
                <a:avLst/>
                <a:gdLst>
                  <a:gd name="textAreaLeft" fmla="*/ 0 w 851040"/>
                  <a:gd name="textAreaRight" fmla="*/ 851400 w 851040"/>
                  <a:gd name="textAreaTop" fmla="*/ 0 h 244080"/>
                  <a:gd name="textAreaBottom" fmla="*/ 244080 h 244080"/>
                </a:gdLst>
                <a:ahLst/>
                <a:rect l="textAreaLeft" t="textAreaTop" r="textAreaRight" b="textAreaBottom"/>
                <a:pathLst>
                  <a:path w="1682" h="1174">
                    <a:moveTo>
                      <a:pt x="939" y="0"/>
                    </a:moveTo>
                    <a:lnTo>
                      <a:pt x="1648" y="189"/>
                    </a:lnTo>
                    <a:lnTo>
                      <a:pt x="1682" y="300"/>
                    </a:lnTo>
                    <a:lnTo>
                      <a:pt x="1338" y="417"/>
                    </a:lnTo>
                    <a:lnTo>
                      <a:pt x="1293" y="505"/>
                    </a:lnTo>
                    <a:lnTo>
                      <a:pt x="1316" y="605"/>
                    </a:lnTo>
                    <a:lnTo>
                      <a:pt x="1366" y="678"/>
                    </a:lnTo>
                    <a:lnTo>
                      <a:pt x="1465" y="732"/>
                    </a:lnTo>
                    <a:lnTo>
                      <a:pt x="0" y="1174"/>
                    </a:lnTo>
                    <a:lnTo>
                      <a:pt x="1348" y="716"/>
                    </a:lnTo>
                    <a:lnTo>
                      <a:pt x="1259" y="662"/>
                    </a:lnTo>
                    <a:lnTo>
                      <a:pt x="828" y="755"/>
                    </a:lnTo>
                    <a:lnTo>
                      <a:pt x="1237" y="600"/>
                    </a:lnTo>
                    <a:lnTo>
                      <a:pt x="1243" y="473"/>
                    </a:lnTo>
                    <a:lnTo>
                      <a:pt x="368" y="666"/>
                    </a:lnTo>
                    <a:lnTo>
                      <a:pt x="346" y="573"/>
                    </a:lnTo>
                    <a:lnTo>
                      <a:pt x="1642" y="226"/>
                    </a:lnTo>
                    <a:lnTo>
                      <a:pt x="982" y="68"/>
                    </a:lnTo>
                    <a:lnTo>
                      <a:pt x="474" y="235"/>
                    </a:lnTo>
                    <a:lnTo>
                      <a:pt x="93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Freeform 153"/>
              <p:cNvSpPr/>
              <p:nvPr/>
            </p:nvSpPr>
            <p:spPr>
              <a:xfrm>
                <a:off x="7367040" y="2819520"/>
                <a:ext cx="149760" cy="29160"/>
              </a:xfrm>
              <a:custGeom>
                <a:avLst/>
                <a:gdLst>
                  <a:gd name="textAreaLeft" fmla="*/ 0 w 149760"/>
                  <a:gd name="textAreaRight" fmla="*/ 150120 w 149760"/>
                  <a:gd name="textAreaTop" fmla="*/ 0 h 29160"/>
                  <a:gd name="textAreaBottom" fmla="*/ 29520 h 29160"/>
                </a:gdLst>
                <a:ahLst/>
                <a:rect l="textAreaLeft" t="textAreaTop" r="textAreaRight" b="textAreaBottom"/>
                <a:pathLst>
                  <a:path w="297" h="141">
                    <a:moveTo>
                      <a:pt x="197" y="0"/>
                    </a:moveTo>
                    <a:lnTo>
                      <a:pt x="297" y="121"/>
                    </a:lnTo>
                    <a:lnTo>
                      <a:pt x="0" y="141"/>
                    </a:lnTo>
                    <a:lnTo>
                      <a:pt x="169" y="88"/>
                    </a:lnTo>
                    <a:lnTo>
                      <a:pt x="129" y="13"/>
                    </a:lnTo>
                    <a:lnTo>
                      <a:pt x="19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5" name="Group 154"/>
            <p:cNvGrpSpPr/>
            <p:nvPr/>
          </p:nvGrpSpPr>
          <p:grpSpPr>
            <a:xfrm>
              <a:off x="5943600" y="1981080"/>
              <a:ext cx="1831680" cy="669960"/>
              <a:chOff x="5943600" y="1981080"/>
              <a:chExt cx="1831680" cy="669960"/>
            </a:xfrm>
          </p:grpSpPr>
          <p:sp>
            <p:nvSpPr>
              <p:cNvPr id="296" name="Freeform 155"/>
              <p:cNvSpPr/>
              <p:nvPr/>
            </p:nvSpPr>
            <p:spPr>
              <a:xfrm>
                <a:off x="6068160" y="2057040"/>
                <a:ext cx="1298880" cy="570600"/>
              </a:xfrm>
              <a:custGeom>
                <a:avLst/>
                <a:gdLst>
                  <a:gd name="textAreaLeft" fmla="*/ 0 w 1298880"/>
                  <a:gd name="textAreaRight" fmla="*/ 1299240 w 1298880"/>
                  <a:gd name="textAreaTop" fmla="*/ 0 h 570600"/>
                  <a:gd name="textAreaBottom" fmla="*/ 570960 h 570600"/>
                </a:gdLst>
                <a:ahLst/>
                <a:rect l="textAreaLeft" t="textAreaTop" r="textAreaRight" b="textAreaBottom"/>
                <a:pathLst>
                  <a:path w="2566" h="2741">
                    <a:moveTo>
                      <a:pt x="92" y="0"/>
                    </a:moveTo>
                    <a:lnTo>
                      <a:pt x="94" y="307"/>
                    </a:lnTo>
                    <a:lnTo>
                      <a:pt x="10" y="530"/>
                    </a:lnTo>
                    <a:lnTo>
                      <a:pt x="364" y="818"/>
                    </a:lnTo>
                    <a:lnTo>
                      <a:pt x="0" y="1593"/>
                    </a:lnTo>
                    <a:lnTo>
                      <a:pt x="560" y="2741"/>
                    </a:lnTo>
                    <a:lnTo>
                      <a:pt x="1750" y="2587"/>
                    </a:lnTo>
                    <a:lnTo>
                      <a:pt x="2566" y="1882"/>
                    </a:lnTo>
                    <a:lnTo>
                      <a:pt x="1775" y="222"/>
                    </a:lnTo>
                    <a:lnTo>
                      <a:pt x="9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Freeform 156"/>
              <p:cNvSpPr/>
              <p:nvPr/>
            </p:nvSpPr>
            <p:spPr>
              <a:xfrm>
                <a:off x="6023880" y="2250720"/>
                <a:ext cx="294120" cy="203400"/>
              </a:xfrm>
              <a:custGeom>
                <a:avLst/>
                <a:gdLst>
                  <a:gd name="textAreaLeft" fmla="*/ 0 w 294120"/>
                  <a:gd name="textAreaRight" fmla="*/ 294120 w 294120"/>
                  <a:gd name="textAreaTop" fmla="*/ 0 h 203400"/>
                  <a:gd name="textAreaBottom" fmla="*/ 203760 h 203400"/>
                </a:gdLst>
                <a:ahLst/>
                <a:rect l="textAreaLeft" t="textAreaTop" r="textAreaRight" b="textAreaBottom"/>
                <a:pathLst>
                  <a:path w="582" h="978">
                    <a:moveTo>
                      <a:pt x="300" y="0"/>
                    </a:moveTo>
                    <a:lnTo>
                      <a:pt x="0" y="48"/>
                    </a:lnTo>
                    <a:lnTo>
                      <a:pt x="37" y="135"/>
                    </a:lnTo>
                    <a:lnTo>
                      <a:pt x="582" y="978"/>
                    </a:lnTo>
                    <a:lnTo>
                      <a:pt x="339" y="126"/>
                    </a:lnTo>
                    <a:lnTo>
                      <a:pt x="300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Freeform 157"/>
              <p:cNvSpPr/>
              <p:nvPr/>
            </p:nvSpPr>
            <p:spPr>
              <a:xfrm>
                <a:off x="5985720" y="2350800"/>
                <a:ext cx="731520" cy="285840"/>
              </a:xfrm>
              <a:custGeom>
                <a:avLst/>
                <a:gdLst>
                  <a:gd name="textAreaLeft" fmla="*/ 0 w 731520"/>
                  <a:gd name="textAreaRight" fmla="*/ 731880 w 731520"/>
                  <a:gd name="textAreaTop" fmla="*/ 0 h 285840"/>
                  <a:gd name="textAreaBottom" fmla="*/ 286200 h 285840"/>
                </a:gdLst>
                <a:ahLst/>
                <a:rect l="textAreaLeft" t="textAreaTop" r="textAreaRight" b="textAreaBottom"/>
                <a:pathLst>
                  <a:path w="1445" h="1374">
                    <a:moveTo>
                      <a:pt x="247" y="0"/>
                    </a:moveTo>
                    <a:lnTo>
                      <a:pt x="0" y="93"/>
                    </a:lnTo>
                    <a:lnTo>
                      <a:pt x="656" y="1374"/>
                    </a:lnTo>
                    <a:lnTo>
                      <a:pt x="1445" y="1331"/>
                    </a:lnTo>
                    <a:lnTo>
                      <a:pt x="719" y="1182"/>
                    </a:lnTo>
                    <a:lnTo>
                      <a:pt x="204" y="156"/>
                    </a:lnTo>
                    <a:lnTo>
                      <a:pt x="247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Freeform 158"/>
              <p:cNvSpPr/>
              <p:nvPr/>
            </p:nvSpPr>
            <p:spPr>
              <a:xfrm>
                <a:off x="5960160" y="1987200"/>
                <a:ext cx="855720" cy="177840"/>
              </a:xfrm>
              <a:custGeom>
                <a:avLst/>
                <a:gdLst>
                  <a:gd name="textAreaLeft" fmla="*/ 0 w 855720"/>
                  <a:gd name="textAreaRight" fmla="*/ 856080 w 855720"/>
                  <a:gd name="textAreaTop" fmla="*/ 0 h 177840"/>
                  <a:gd name="textAreaBottom" fmla="*/ 178200 h 177840"/>
                </a:gdLst>
                <a:ahLst/>
                <a:rect l="textAreaLeft" t="textAreaTop" r="textAreaRight" b="textAreaBottom"/>
                <a:pathLst>
                  <a:path w="1694" h="855">
                    <a:moveTo>
                      <a:pt x="1463" y="0"/>
                    </a:moveTo>
                    <a:lnTo>
                      <a:pt x="20" y="275"/>
                    </a:lnTo>
                    <a:lnTo>
                      <a:pt x="0" y="335"/>
                    </a:lnTo>
                    <a:lnTo>
                      <a:pt x="1389" y="855"/>
                    </a:lnTo>
                    <a:lnTo>
                      <a:pt x="1694" y="731"/>
                    </a:lnTo>
                    <a:lnTo>
                      <a:pt x="845" y="455"/>
                    </a:lnTo>
                    <a:lnTo>
                      <a:pt x="1509" y="75"/>
                    </a:lnTo>
                    <a:lnTo>
                      <a:pt x="1463" y="0"/>
                    </a:lnTo>
                    <a:close/>
                  </a:path>
                </a:pathLst>
              </a:custGeom>
              <a:solidFill>
                <a:srgbClr val="f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Freeform 159"/>
              <p:cNvSpPr/>
              <p:nvPr/>
            </p:nvSpPr>
            <p:spPr>
              <a:xfrm>
                <a:off x="5979960" y="2138760"/>
                <a:ext cx="913320" cy="169920"/>
              </a:xfrm>
              <a:custGeom>
                <a:avLst/>
                <a:gdLst>
                  <a:gd name="textAreaLeft" fmla="*/ 0 w 913320"/>
                  <a:gd name="textAreaRight" fmla="*/ 913680 w 913320"/>
                  <a:gd name="textAreaTop" fmla="*/ 0 h 169920"/>
                  <a:gd name="textAreaBottom" fmla="*/ 170280 h 169920"/>
                </a:gdLst>
                <a:ahLst/>
                <a:rect l="textAreaLeft" t="textAreaTop" r="textAreaRight" b="textAreaBottom"/>
                <a:pathLst>
                  <a:path w="1806" h="816">
                    <a:moveTo>
                      <a:pt x="241" y="0"/>
                    </a:moveTo>
                    <a:lnTo>
                      <a:pt x="0" y="101"/>
                    </a:lnTo>
                    <a:lnTo>
                      <a:pt x="0" y="172"/>
                    </a:lnTo>
                    <a:lnTo>
                      <a:pt x="1349" y="816"/>
                    </a:lnTo>
                    <a:lnTo>
                      <a:pt x="1779" y="687"/>
                    </a:lnTo>
                    <a:lnTo>
                      <a:pt x="1806" y="570"/>
                    </a:lnTo>
                    <a:lnTo>
                      <a:pt x="1574" y="551"/>
                    </a:lnTo>
                    <a:lnTo>
                      <a:pt x="1344" y="636"/>
                    </a:lnTo>
                    <a:lnTo>
                      <a:pt x="207" y="129"/>
                    </a:lnTo>
                    <a:lnTo>
                      <a:pt x="241" y="0"/>
                    </a:lnTo>
                    <a:close/>
                  </a:path>
                </a:pathLst>
              </a:custGeom>
              <a:solidFill>
                <a:srgbClr val="f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Freeform 160"/>
              <p:cNvSpPr/>
              <p:nvPr/>
            </p:nvSpPr>
            <p:spPr>
              <a:xfrm>
                <a:off x="6140520" y="2219400"/>
                <a:ext cx="689040" cy="224640"/>
              </a:xfrm>
              <a:custGeom>
                <a:avLst/>
                <a:gdLst>
                  <a:gd name="textAreaLeft" fmla="*/ 0 w 689040"/>
                  <a:gd name="textAreaRight" fmla="*/ 689400 w 689040"/>
                  <a:gd name="textAreaTop" fmla="*/ 0 h 224640"/>
                  <a:gd name="textAreaBottom" fmla="*/ 225000 h 224640"/>
                </a:gdLst>
                <a:ahLst/>
                <a:rect l="textAreaLeft" t="textAreaTop" r="textAreaRight" b="textAreaBottom"/>
                <a:pathLst>
                  <a:path w="1360" h="1080">
                    <a:moveTo>
                      <a:pt x="6" y="59"/>
                    </a:moveTo>
                    <a:lnTo>
                      <a:pt x="0" y="180"/>
                    </a:lnTo>
                    <a:lnTo>
                      <a:pt x="10" y="314"/>
                    </a:lnTo>
                    <a:lnTo>
                      <a:pt x="78" y="384"/>
                    </a:lnTo>
                    <a:lnTo>
                      <a:pt x="226" y="419"/>
                    </a:lnTo>
                    <a:lnTo>
                      <a:pt x="805" y="844"/>
                    </a:lnTo>
                    <a:lnTo>
                      <a:pt x="1060" y="1040"/>
                    </a:lnTo>
                    <a:lnTo>
                      <a:pt x="1244" y="1080"/>
                    </a:lnTo>
                    <a:lnTo>
                      <a:pt x="1219" y="835"/>
                    </a:lnTo>
                    <a:lnTo>
                      <a:pt x="1360" y="465"/>
                    </a:lnTo>
                    <a:lnTo>
                      <a:pt x="1075" y="450"/>
                    </a:lnTo>
                    <a:lnTo>
                      <a:pt x="50" y="0"/>
                    </a:lnTo>
                    <a:lnTo>
                      <a:pt x="6" y="59"/>
                    </a:lnTo>
                    <a:close/>
                  </a:path>
                </a:pathLst>
              </a:custGeom>
              <a:solidFill>
                <a:srgbClr val="f7a8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Freeform 161"/>
              <p:cNvSpPr/>
              <p:nvPr/>
            </p:nvSpPr>
            <p:spPr>
              <a:xfrm>
                <a:off x="6559560" y="2027880"/>
                <a:ext cx="833040" cy="81000"/>
              </a:xfrm>
              <a:custGeom>
                <a:avLst/>
                <a:gdLst>
                  <a:gd name="textAreaLeft" fmla="*/ 0 w 833040"/>
                  <a:gd name="textAreaRight" fmla="*/ 833400 w 833040"/>
                  <a:gd name="textAreaTop" fmla="*/ 0 h 81000"/>
                  <a:gd name="textAreaBottom" fmla="*/ 81360 h 81000"/>
                </a:gdLst>
                <a:ahLst/>
                <a:rect l="textAreaLeft" t="textAreaTop" r="textAreaRight" b="textAreaBottom"/>
                <a:pathLst>
                  <a:path w="1646" h="390">
                    <a:moveTo>
                      <a:pt x="0" y="292"/>
                    </a:moveTo>
                    <a:lnTo>
                      <a:pt x="53" y="273"/>
                    </a:lnTo>
                    <a:lnTo>
                      <a:pt x="191" y="238"/>
                    </a:lnTo>
                    <a:lnTo>
                      <a:pt x="281" y="216"/>
                    </a:lnTo>
                    <a:lnTo>
                      <a:pt x="383" y="190"/>
                    </a:lnTo>
                    <a:lnTo>
                      <a:pt x="490" y="165"/>
                    </a:lnTo>
                    <a:lnTo>
                      <a:pt x="602" y="139"/>
                    </a:lnTo>
                    <a:lnTo>
                      <a:pt x="715" y="112"/>
                    </a:lnTo>
                    <a:lnTo>
                      <a:pt x="822" y="87"/>
                    </a:lnTo>
                    <a:lnTo>
                      <a:pt x="924" y="64"/>
                    </a:lnTo>
                    <a:lnTo>
                      <a:pt x="1014" y="43"/>
                    </a:lnTo>
                    <a:lnTo>
                      <a:pt x="1150" y="12"/>
                    </a:lnTo>
                    <a:lnTo>
                      <a:pt x="1202" y="0"/>
                    </a:lnTo>
                    <a:lnTo>
                      <a:pt x="1646" y="75"/>
                    </a:lnTo>
                    <a:lnTo>
                      <a:pt x="158" y="390"/>
                    </a:lnTo>
                    <a:lnTo>
                      <a:pt x="0" y="292"/>
                    </a:lnTo>
                    <a:close/>
                  </a:path>
                </a:pathLst>
              </a:custGeom>
              <a:solidFill>
                <a:srgbClr val="f0ea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Freeform 162"/>
              <p:cNvSpPr/>
              <p:nvPr/>
            </p:nvSpPr>
            <p:spPr>
              <a:xfrm>
                <a:off x="6548760" y="2322000"/>
                <a:ext cx="130680" cy="86400"/>
              </a:xfrm>
              <a:custGeom>
                <a:avLst/>
                <a:gdLst>
                  <a:gd name="textAreaLeft" fmla="*/ 0 w 130680"/>
                  <a:gd name="textAreaRight" fmla="*/ 131040 w 130680"/>
                  <a:gd name="textAreaTop" fmla="*/ 0 h 86400"/>
                  <a:gd name="textAreaBottom" fmla="*/ 86400 h 86400"/>
                </a:gdLst>
                <a:ahLst/>
                <a:rect l="textAreaLeft" t="textAreaTop" r="textAreaRight" b="textAreaBottom"/>
                <a:pathLst>
                  <a:path w="259" h="417">
                    <a:moveTo>
                      <a:pt x="75" y="0"/>
                    </a:moveTo>
                    <a:lnTo>
                      <a:pt x="259" y="21"/>
                    </a:lnTo>
                    <a:lnTo>
                      <a:pt x="135" y="241"/>
                    </a:lnTo>
                    <a:lnTo>
                      <a:pt x="110" y="417"/>
                    </a:lnTo>
                    <a:lnTo>
                      <a:pt x="0" y="350"/>
                    </a:lnTo>
                    <a:lnTo>
                      <a:pt x="25" y="80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f0ea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Freeform 163"/>
              <p:cNvSpPr/>
              <p:nvPr/>
            </p:nvSpPr>
            <p:spPr>
              <a:xfrm>
                <a:off x="6453360" y="2408760"/>
                <a:ext cx="213480" cy="51120"/>
              </a:xfrm>
              <a:custGeom>
                <a:avLst/>
                <a:gdLst>
                  <a:gd name="textAreaLeft" fmla="*/ 0 w 213480"/>
                  <a:gd name="textAreaRight" fmla="*/ 213840 w 213480"/>
                  <a:gd name="textAreaTop" fmla="*/ 0 h 51120"/>
                  <a:gd name="textAreaBottom" fmla="*/ 51480 h 51120"/>
                </a:gdLst>
                <a:ahLst/>
                <a:rect l="textAreaLeft" t="textAreaTop" r="textAreaRight" b="textAreaBottom"/>
                <a:pathLst>
                  <a:path w="423" h="247">
                    <a:moveTo>
                      <a:pt x="0" y="16"/>
                    </a:moveTo>
                    <a:lnTo>
                      <a:pt x="174" y="0"/>
                    </a:lnTo>
                    <a:lnTo>
                      <a:pt x="423" y="201"/>
                    </a:lnTo>
                    <a:lnTo>
                      <a:pt x="44" y="247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f0ea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Freeform 164"/>
              <p:cNvSpPr/>
              <p:nvPr/>
            </p:nvSpPr>
            <p:spPr>
              <a:xfrm>
                <a:off x="6394320" y="2464920"/>
                <a:ext cx="1203480" cy="156240"/>
              </a:xfrm>
              <a:custGeom>
                <a:avLst/>
                <a:gdLst>
                  <a:gd name="textAreaLeft" fmla="*/ 0 w 1203480"/>
                  <a:gd name="textAreaRight" fmla="*/ 1203840 w 1203480"/>
                  <a:gd name="textAreaTop" fmla="*/ 0 h 156240"/>
                  <a:gd name="textAreaBottom" fmla="*/ 156600 h 156240"/>
                </a:gdLst>
                <a:ahLst/>
                <a:rect l="textAreaLeft" t="textAreaTop" r="textAreaRight" b="textAreaBottom"/>
                <a:pathLst>
                  <a:path w="2378" h="751">
                    <a:moveTo>
                      <a:pt x="155" y="301"/>
                    </a:moveTo>
                    <a:lnTo>
                      <a:pt x="129" y="450"/>
                    </a:lnTo>
                    <a:lnTo>
                      <a:pt x="0" y="601"/>
                    </a:lnTo>
                    <a:lnTo>
                      <a:pt x="563" y="751"/>
                    </a:lnTo>
                    <a:lnTo>
                      <a:pt x="1684" y="647"/>
                    </a:lnTo>
                    <a:lnTo>
                      <a:pt x="1763" y="616"/>
                    </a:lnTo>
                    <a:lnTo>
                      <a:pt x="1913" y="647"/>
                    </a:lnTo>
                    <a:lnTo>
                      <a:pt x="2042" y="630"/>
                    </a:lnTo>
                    <a:lnTo>
                      <a:pt x="2187" y="607"/>
                    </a:lnTo>
                    <a:lnTo>
                      <a:pt x="2221" y="580"/>
                    </a:lnTo>
                    <a:lnTo>
                      <a:pt x="2276" y="534"/>
                    </a:lnTo>
                    <a:lnTo>
                      <a:pt x="2326" y="490"/>
                    </a:lnTo>
                    <a:lnTo>
                      <a:pt x="2348" y="471"/>
                    </a:lnTo>
                    <a:lnTo>
                      <a:pt x="2378" y="186"/>
                    </a:lnTo>
                    <a:lnTo>
                      <a:pt x="2218" y="0"/>
                    </a:lnTo>
                    <a:lnTo>
                      <a:pt x="1439" y="140"/>
                    </a:lnTo>
                    <a:lnTo>
                      <a:pt x="155" y="301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Freeform 165"/>
              <p:cNvSpPr/>
              <p:nvPr/>
            </p:nvSpPr>
            <p:spPr>
              <a:xfrm>
                <a:off x="6066360" y="2265120"/>
                <a:ext cx="1549800" cy="360360"/>
              </a:xfrm>
              <a:custGeom>
                <a:avLst/>
                <a:gdLst>
                  <a:gd name="textAreaLeft" fmla="*/ 0 w 1549800"/>
                  <a:gd name="textAreaRight" fmla="*/ 1550160 w 1549800"/>
                  <a:gd name="textAreaTop" fmla="*/ 0 h 360360"/>
                  <a:gd name="textAreaBottom" fmla="*/ 360720 h 360360"/>
                </a:gdLst>
                <a:ahLst/>
                <a:rect l="textAreaLeft" t="textAreaTop" r="textAreaRight" b="textAreaBottom"/>
                <a:pathLst>
                  <a:path w="3063" h="1730">
                    <a:moveTo>
                      <a:pt x="15" y="29"/>
                    </a:moveTo>
                    <a:lnTo>
                      <a:pt x="134" y="0"/>
                    </a:lnTo>
                    <a:lnTo>
                      <a:pt x="205" y="184"/>
                    </a:lnTo>
                    <a:lnTo>
                      <a:pt x="306" y="212"/>
                    </a:lnTo>
                    <a:lnTo>
                      <a:pt x="880" y="630"/>
                    </a:lnTo>
                    <a:lnTo>
                      <a:pt x="669" y="680"/>
                    </a:lnTo>
                    <a:lnTo>
                      <a:pt x="809" y="936"/>
                    </a:lnTo>
                    <a:lnTo>
                      <a:pt x="1284" y="885"/>
                    </a:lnTo>
                    <a:lnTo>
                      <a:pt x="1594" y="980"/>
                    </a:lnTo>
                    <a:lnTo>
                      <a:pt x="2453" y="705"/>
                    </a:lnTo>
                    <a:lnTo>
                      <a:pt x="2883" y="730"/>
                    </a:lnTo>
                    <a:lnTo>
                      <a:pt x="3063" y="970"/>
                    </a:lnTo>
                    <a:lnTo>
                      <a:pt x="3014" y="1427"/>
                    </a:lnTo>
                    <a:lnTo>
                      <a:pt x="2858" y="1555"/>
                    </a:lnTo>
                    <a:lnTo>
                      <a:pt x="2537" y="1614"/>
                    </a:lnTo>
                    <a:lnTo>
                      <a:pt x="2388" y="1581"/>
                    </a:lnTo>
                    <a:lnTo>
                      <a:pt x="2269" y="1620"/>
                    </a:lnTo>
                    <a:lnTo>
                      <a:pt x="1115" y="1730"/>
                    </a:lnTo>
                    <a:lnTo>
                      <a:pt x="561" y="1594"/>
                    </a:lnTo>
                    <a:lnTo>
                      <a:pt x="964" y="1535"/>
                    </a:lnTo>
                    <a:lnTo>
                      <a:pt x="2554" y="1409"/>
                    </a:lnTo>
                    <a:lnTo>
                      <a:pt x="2808" y="1395"/>
                    </a:lnTo>
                    <a:lnTo>
                      <a:pt x="2908" y="1160"/>
                    </a:lnTo>
                    <a:lnTo>
                      <a:pt x="2892" y="1133"/>
                    </a:lnTo>
                    <a:lnTo>
                      <a:pt x="2855" y="1074"/>
                    </a:lnTo>
                    <a:lnTo>
                      <a:pt x="2834" y="1042"/>
                    </a:lnTo>
                    <a:lnTo>
                      <a:pt x="2815" y="1012"/>
                    </a:lnTo>
                    <a:lnTo>
                      <a:pt x="2788" y="980"/>
                    </a:lnTo>
                    <a:lnTo>
                      <a:pt x="2536" y="1006"/>
                    </a:lnTo>
                    <a:lnTo>
                      <a:pt x="2372" y="1029"/>
                    </a:lnTo>
                    <a:lnTo>
                      <a:pt x="2298" y="1040"/>
                    </a:lnTo>
                    <a:lnTo>
                      <a:pt x="784" y="1215"/>
                    </a:lnTo>
                    <a:lnTo>
                      <a:pt x="703" y="1237"/>
                    </a:lnTo>
                    <a:lnTo>
                      <a:pt x="0" y="119"/>
                    </a:lnTo>
                    <a:lnTo>
                      <a:pt x="459" y="710"/>
                    </a:lnTo>
                    <a:lnTo>
                      <a:pt x="15" y="29"/>
                    </a:lnTo>
                    <a:close/>
                  </a:path>
                </a:pathLst>
              </a:custGeom>
              <a:solidFill>
                <a:srgbClr val="7a7a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Freeform 166"/>
              <p:cNvSpPr/>
              <p:nvPr/>
            </p:nvSpPr>
            <p:spPr>
              <a:xfrm>
                <a:off x="7127280" y="2405520"/>
                <a:ext cx="300240" cy="37440"/>
              </a:xfrm>
              <a:custGeom>
                <a:avLst/>
                <a:gdLst>
                  <a:gd name="textAreaLeft" fmla="*/ 0 w 300240"/>
                  <a:gd name="textAreaRight" fmla="*/ 300600 w 300240"/>
                  <a:gd name="textAreaTop" fmla="*/ 0 h 37440"/>
                  <a:gd name="textAreaBottom" fmla="*/ 37800 h 37440"/>
                </a:gdLst>
                <a:ahLst/>
                <a:rect l="textAreaLeft" t="textAreaTop" r="textAreaRight" b="textAreaBottom"/>
                <a:pathLst>
                  <a:path w="593" h="178">
                    <a:moveTo>
                      <a:pt x="0" y="178"/>
                    </a:moveTo>
                    <a:lnTo>
                      <a:pt x="423" y="161"/>
                    </a:lnTo>
                    <a:lnTo>
                      <a:pt x="593" y="142"/>
                    </a:lnTo>
                    <a:lnTo>
                      <a:pt x="519" y="68"/>
                    </a:lnTo>
                    <a:lnTo>
                      <a:pt x="546" y="0"/>
                    </a:lnTo>
                    <a:lnTo>
                      <a:pt x="380" y="29"/>
                    </a:lnTo>
                    <a:lnTo>
                      <a:pt x="155" y="124"/>
                    </a:lnTo>
                    <a:lnTo>
                      <a:pt x="0" y="178"/>
                    </a:lnTo>
                    <a:close/>
                  </a:path>
                </a:pathLst>
              </a:custGeom>
              <a:solidFill>
                <a:srgbClr val="948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Freeform 167"/>
              <p:cNvSpPr/>
              <p:nvPr/>
            </p:nvSpPr>
            <p:spPr>
              <a:xfrm>
                <a:off x="6530760" y="2309400"/>
                <a:ext cx="133200" cy="99000"/>
              </a:xfrm>
              <a:custGeom>
                <a:avLst/>
                <a:gdLst>
                  <a:gd name="textAreaLeft" fmla="*/ 0 w 133200"/>
                  <a:gd name="textAreaRight" fmla="*/ 133560 w 133200"/>
                  <a:gd name="textAreaTop" fmla="*/ 0 h 99000"/>
                  <a:gd name="textAreaBottom" fmla="*/ 99360 h 99000"/>
                </a:gdLst>
                <a:ahLst/>
                <a:rect l="textAreaLeft" t="textAreaTop" r="textAreaRight" b="textAreaBottom"/>
                <a:pathLst>
                  <a:path w="264" h="477">
                    <a:moveTo>
                      <a:pt x="9" y="420"/>
                    </a:moveTo>
                    <a:lnTo>
                      <a:pt x="0" y="266"/>
                    </a:lnTo>
                    <a:lnTo>
                      <a:pt x="59" y="96"/>
                    </a:lnTo>
                    <a:lnTo>
                      <a:pt x="109" y="0"/>
                    </a:lnTo>
                    <a:lnTo>
                      <a:pt x="264" y="81"/>
                    </a:lnTo>
                    <a:lnTo>
                      <a:pt x="214" y="106"/>
                    </a:lnTo>
                    <a:lnTo>
                      <a:pt x="119" y="131"/>
                    </a:lnTo>
                    <a:lnTo>
                      <a:pt x="73" y="245"/>
                    </a:lnTo>
                    <a:lnTo>
                      <a:pt x="73" y="366"/>
                    </a:lnTo>
                    <a:lnTo>
                      <a:pt x="144" y="477"/>
                    </a:lnTo>
                    <a:lnTo>
                      <a:pt x="9" y="420"/>
                    </a:lnTo>
                    <a:close/>
                  </a:path>
                </a:pathLst>
              </a:custGeom>
              <a:solidFill>
                <a:srgbClr val="b8ad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Freeform 168"/>
              <p:cNvSpPr/>
              <p:nvPr/>
            </p:nvSpPr>
            <p:spPr>
              <a:xfrm>
                <a:off x="6554880" y="2023560"/>
                <a:ext cx="700920" cy="102960"/>
              </a:xfrm>
              <a:custGeom>
                <a:avLst/>
                <a:gdLst>
                  <a:gd name="textAreaLeft" fmla="*/ 0 w 700920"/>
                  <a:gd name="textAreaRight" fmla="*/ 701280 w 70092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1385" h="496">
                    <a:moveTo>
                      <a:pt x="0" y="297"/>
                    </a:moveTo>
                    <a:lnTo>
                      <a:pt x="1110" y="0"/>
                    </a:lnTo>
                    <a:lnTo>
                      <a:pt x="1255" y="31"/>
                    </a:lnTo>
                    <a:lnTo>
                      <a:pt x="269" y="309"/>
                    </a:lnTo>
                    <a:lnTo>
                      <a:pt x="1385" y="121"/>
                    </a:lnTo>
                    <a:lnTo>
                      <a:pt x="291" y="496"/>
                    </a:lnTo>
                    <a:lnTo>
                      <a:pt x="0" y="297"/>
                    </a:lnTo>
                    <a:close/>
                  </a:path>
                </a:pathLst>
              </a:custGeom>
              <a:solidFill>
                <a:srgbClr val="b8ad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Freeform 169"/>
              <p:cNvSpPr/>
              <p:nvPr/>
            </p:nvSpPr>
            <p:spPr>
              <a:xfrm>
                <a:off x="6405120" y="2397600"/>
                <a:ext cx="300240" cy="62280"/>
              </a:xfrm>
              <a:custGeom>
                <a:avLst/>
                <a:gdLst>
                  <a:gd name="textAreaLeft" fmla="*/ 0 w 300240"/>
                  <a:gd name="textAreaRight" fmla="*/ 300240 w 300240"/>
                  <a:gd name="textAreaTop" fmla="*/ 0 h 62280"/>
                  <a:gd name="textAreaBottom" fmla="*/ 62640 h 62280"/>
                </a:gdLst>
                <a:ahLst/>
                <a:rect l="textAreaLeft" t="textAreaTop" r="textAreaRight" b="textAreaBottom"/>
                <a:pathLst>
                  <a:path w="595" h="300">
                    <a:moveTo>
                      <a:pt x="0" y="44"/>
                    </a:moveTo>
                    <a:lnTo>
                      <a:pt x="187" y="0"/>
                    </a:lnTo>
                    <a:lnTo>
                      <a:pt x="428" y="131"/>
                    </a:lnTo>
                    <a:lnTo>
                      <a:pt x="595" y="251"/>
                    </a:lnTo>
                    <a:lnTo>
                      <a:pt x="490" y="269"/>
                    </a:lnTo>
                    <a:lnTo>
                      <a:pt x="375" y="193"/>
                    </a:lnTo>
                    <a:lnTo>
                      <a:pt x="291" y="109"/>
                    </a:lnTo>
                    <a:lnTo>
                      <a:pt x="155" y="94"/>
                    </a:lnTo>
                    <a:lnTo>
                      <a:pt x="140" y="300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b8ad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Freeform 170"/>
              <p:cNvSpPr/>
              <p:nvPr/>
            </p:nvSpPr>
            <p:spPr>
              <a:xfrm>
                <a:off x="6873840" y="2165040"/>
                <a:ext cx="228960" cy="251640"/>
              </a:xfrm>
              <a:custGeom>
                <a:avLst/>
                <a:gdLst>
                  <a:gd name="textAreaLeft" fmla="*/ 0 w 228960"/>
                  <a:gd name="textAreaRight" fmla="*/ 229320 w 228960"/>
                  <a:gd name="textAreaTop" fmla="*/ 0 h 251640"/>
                  <a:gd name="textAreaBottom" fmla="*/ 252000 h 251640"/>
                </a:gdLst>
                <a:ahLst/>
                <a:rect l="textAreaLeft" t="textAreaTop" r="textAreaRight" b="textAreaBottom"/>
                <a:pathLst>
                  <a:path w="452" h="1211">
                    <a:moveTo>
                      <a:pt x="71" y="96"/>
                    </a:moveTo>
                    <a:lnTo>
                      <a:pt x="362" y="0"/>
                    </a:lnTo>
                    <a:lnTo>
                      <a:pt x="452" y="110"/>
                    </a:lnTo>
                    <a:lnTo>
                      <a:pt x="322" y="776"/>
                    </a:lnTo>
                    <a:lnTo>
                      <a:pt x="186" y="896"/>
                    </a:lnTo>
                    <a:lnTo>
                      <a:pt x="182" y="1211"/>
                    </a:lnTo>
                    <a:lnTo>
                      <a:pt x="71" y="1086"/>
                    </a:lnTo>
                    <a:lnTo>
                      <a:pt x="49" y="941"/>
                    </a:lnTo>
                    <a:lnTo>
                      <a:pt x="27" y="841"/>
                    </a:lnTo>
                    <a:lnTo>
                      <a:pt x="5" y="794"/>
                    </a:lnTo>
                    <a:lnTo>
                      <a:pt x="0" y="772"/>
                    </a:lnTo>
                    <a:lnTo>
                      <a:pt x="5" y="716"/>
                    </a:lnTo>
                    <a:lnTo>
                      <a:pt x="30" y="549"/>
                    </a:lnTo>
                    <a:lnTo>
                      <a:pt x="61" y="382"/>
                    </a:lnTo>
                    <a:lnTo>
                      <a:pt x="77" y="305"/>
                    </a:lnTo>
                    <a:lnTo>
                      <a:pt x="37" y="121"/>
                    </a:lnTo>
                    <a:lnTo>
                      <a:pt x="71" y="96"/>
                    </a:lnTo>
                    <a:close/>
                  </a:path>
                </a:pathLst>
              </a:custGeom>
              <a:solidFill>
                <a:srgbClr val="ff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Freeform 171"/>
              <p:cNvSpPr/>
              <p:nvPr/>
            </p:nvSpPr>
            <p:spPr>
              <a:xfrm>
                <a:off x="6899400" y="2154600"/>
                <a:ext cx="239760" cy="268560"/>
              </a:xfrm>
              <a:custGeom>
                <a:avLst/>
                <a:gdLst>
                  <a:gd name="textAreaLeft" fmla="*/ 0 w 239760"/>
                  <a:gd name="textAreaRight" fmla="*/ 240120 w 239760"/>
                  <a:gd name="textAreaTop" fmla="*/ 0 h 268560"/>
                  <a:gd name="textAreaBottom" fmla="*/ 268920 h 268560"/>
                </a:gdLst>
                <a:ahLst/>
                <a:rect l="textAreaLeft" t="textAreaTop" r="textAreaRight" b="textAreaBottom"/>
                <a:pathLst>
                  <a:path w="474" h="1290">
                    <a:moveTo>
                      <a:pt x="0" y="109"/>
                    </a:moveTo>
                    <a:lnTo>
                      <a:pt x="369" y="0"/>
                    </a:lnTo>
                    <a:lnTo>
                      <a:pt x="474" y="214"/>
                    </a:lnTo>
                    <a:lnTo>
                      <a:pt x="310" y="689"/>
                    </a:lnTo>
                    <a:lnTo>
                      <a:pt x="434" y="1005"/>
                    </a:lnTo>
                    <a:lnTo>
                      <a:pt x="230" y="959"/>
                    </a:lnTo>
                    <a:lnTo>
                      <a:pt x="140" y="1290"/>
                    </a:lnTo>
                    <a:lnTo>
                      <a:pt x="57" y="1026"/>
                    </a:lnTo>
                    <a:lnTo>
                      <a:pt x="15" y="779"/>
                    </a:lnTo>
                    <a:lnTo>
                      <a:pt x="90" y="509"/>
                    </a:lnTo>
                    <a:lnTo>
                      <a:pt x="34" y="304"/>
                    </a:lnTo>
                    <a:lnTo>
                      <a:pt x="124" y="214"/>
                    </a:lnTo>
                    <a:lnTo>
                      <a:pt x="230" y="244"/>
                    </a:lnTo>
                    <a:lnTo>
                      <a:pt x="190" y="339"/>
                    </a:lnTo>
                    <a:lnTo>
                      <a:pt x="264" y="390"/>
                    </a:lnTo>
                    <a:lnTo>
                      <a:pt x="115" y="689"/>
                    </a:lnTo>
                    <a:lnTo>
                      <a:pt x="190" y="675"/>
                    </a:lnTo>
                    <a:lnTo>
                      <a:pt x="115" y="900"/>
                    </a:lnTo>
                    <a:lnTo>
                      <a:pt x="214" y="785"/>
                    </a:lnTo>
                    <a:lnTo>
                      <a:pt x="260" y="555"/>
                    </a:lnTo>
                    <a:lnTo>
                      <a:pt x="260" y="484"/>
                    </a:lnTo>
                    <a:lnTo>
                      <a:pt x="339" y="314"/>
                    </a:lnTo>
                    <a:lnTo>
                      <a:pt x="285" y="300"/>
                    </a:lnTo>
                    <a:lnTo>
                      <a:pt x="304" y="170"/>
                    </a:lnTo>
                    <a:lnTo>
                      <a:pt x="180" y="149"/>
                    </a:lnTo>
                    <a:lnTo>
                      <a:pt x="199" y="99"/>
                    </a:lnTo>
                    <a:lnTo>
                      <a:pt x="25" y="195"/>
                    </a:lnTo>
                    <a:lnTo>
                      <a:pt x="0" y="109"/>
                    </a:lnTo>
                    <a:close/>
                  </a:path>
                </a:pathLst>
              </a:custGeom>
              <a:solidFill>
                <a:srgbClr val="ff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Freeform 172"/>
              <p:cNvSpPr/>
              <p:nvPr/>
            </p:nvSpPr>
            <p:spPr>
              <a:xfrm>
                <a:off x="6158880" y="2259000"/>
                <a:ext cx="402120" cy="142200"/>
              </a:xfrm>
              <a:custGeom>
                <a:avLst/>
                <a:gdLst>
                  <a:gd name="textAreaLeft" fmla="*/ 0 w 402120"/>
                  <a:gd name="textAreaRight" fmla="*/ 402480 w 402120"/>
                  <a:gd name="textAreaTop" fmla="*/ 0 h 142200"/>
                  <a:gd name="textAreaBottom" fmla="*/ 142560 h 142200"/>
                </a:gdLst>
                <a:ahLst/>
                <a:rect l="textAreaLeft" t="textAreaTop" r="textAreaRight" b="textAreaBottom"/>
                <a:pathLst>
                  <a:path w="794" h="686">
                    <a:moveTo>
                      <a:pt x="0" y="136"/>
                    </a:moveTo>
                    <a:lnTo>
                      <a:pt x="60" y="40"/>
                    </a:lnTo>
                    <a:lnTo>
                      <a:pt x="134" y="0"/>
                    </a:lnTo>
                    <a:lnTo>
                      <a:pt x="144" y="96"/>
                    </a:lnTo>
                    <a:lnTo>
                      <a:pt x="349" y="291"/>
                    </a:lnTo>
                    <a:lnTo>
                      <a:pt x="653" y="466"/>
                    </a:lnTo>
                    <a:lnTo>
                      <a:pt x="794" y="341"/>
                    </a:lnTo>
                    <a:lnTo>
                      <a:pt x="714" y="686"/>
                    </a:lnTo>
                    <a:lnTo>
                      <a:pt x="100" y="230"/>
                    </a:lnTo>
                    <a:lnTo>
                      <a:pt x="20" y="215"/>
                    </a:lnTo>
                    <a:lnTo>
                      <a:pt x="0" y="136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Freeform 173"/>
              <p:cNvSpPr/>
              <p:nvPr/>
            </p:nvSpPr>
            <p:spPr>
              <a:xfrm>
                <a:off x="6149880" y="2221560"/>
                <a:ext cx="456480" cy="107640"/>
              </a:xfrm>
              <a:custGeom>
                <a:avLst/>
                <a:gdLst>
                  <a:gd name="textAreaLeft" fmla="*/ 0 w 456480"/>
                  <a:gd name="textAreaRight" fmla="*/ 456840 w 456480"/>
                  <a:gd name="textAreaTop" fmla="*/ 0 h 107640"/>
                  <a:gd name="textAreaBottom" fmla="*/ 108000 h 107640"/>
                </a:gdLst>
                <a:ahLst/>
                <a:rect l="textAreaLeft" t="textAreaTop" r="textAreaRight" b="textAreaBottom"/>
                <a:pathLst>
                  <a:path w="902" h="521">
                    <a:moveTo>
                      <a:pt x="32" y="40"/>
                    </a:moveTo>
                    <a:lnTo>
                      <a:pt x="0" y="102"/>
                    </a:lnTo>
                    <a:lnTo>
                      <a:pt x="143" y="121"/>
                    </a:lnTo>
                    <a:lnTo>
                      <a:pt x="767" y="446"/>
                    </a:lnTo>
                    <a:lnTo>
                      <a:pt x="812" y="521"/>
                    </a:lnTo>
                    <a:lnTo>
                      <a:pt x="902" y="435"/>
                    </a:lnTo>
                    <a:lnTo>
                      <a:pt x="93" y="0"/>
                    </a:lnTo>
                    <a:lnTo>
                      <a:pt x="32" y="40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Freeform 174"/>
              <p:cNvSpPr/>
              <p:nvPr/>
            </p:nvSpPr>
            <p:spPr>
              <a:xfrm>
                <a:off x="6621840" y="2282040"/>
                <a:ext cx="1143000" cy="187200"/>
              </a:xfrm>
              <a:custGeom>
                <a:avLst/>
                <a:gdLst>
                  <a:gd name="textAreaLeft" fmla="*/ 0 w 1143000"/>
                  <a:gd name="textAreaRight" fmla="*/ 1143360 w 1143000"/>
                  <a:gd name="textAreaTop" fmla="*/ 0 h 187200"/>
                  <a:gd name="textAreaBottom" fmla="*/ 187560 h 187200"/>
                </a:gdLst>
                <a:ahLst/>
                <a:rect l="textAreaLeft" t="textAreaTop" r="textAreaRight" b="textAreaBottom"/>
                <a:pathLst>
                  <a:path w="2259" h="900">
                    <a:moveTo>
                      <a:pt x="11" y="515"/>
                    </a:moveTo>
                    <a:lnTo>
                      <a:pt x="90" y="655"/>
                    </a:lnTo>
                    <a:lnTo>
                      <a:pt x="226" y="709"/>
                    </a:lnTo>
                    <a:lnTo>
                      <a:pt x="231" y="510"/>
                    </a:lnTo>
                    <a:lnTo>
                      <a:pt x="321" y="284"/>
                    </a:lnTo>
                    <a:lnTo>
                      <a:pt x="201" y="345"/>
                    </a:lnTo>
                    <a:lnTo>
                      <a:pt x="155" y="379"/>
                    </a:lnTo>
                    <a:lnTo>
                      <a:pt x="141" y="315"/>
                    </a:lnTo>
                    <a:lnTo>
                      <a:pt x="146" y="184"/>
                    </a:lnTo>
                    <a:lnTo>
                      <a:pt x="511" y="0"/>
                    </a:lnTo>
                    <a:lnTo>
                      <a:pt x="504" y="233"/>
                    </a:lnTo>
                    <a:lnTo>
                      <a:pt x="437" y="283"/>
                    </a:lnTo>
                    <a:lnTo>
                      <a:pt x="390" y="540"/>
                    </a:lnTo>
                    <a:lnTo>
                      <a:pt x="481" y="730"/>
                    </a:lnTo>
                    <a:lnTo>
                      <a:pt x="1885" y="305"/>
                    </a:lnTo>
                    <a:lnTo>
                      <a:pt x="1780" y="100"/>
                    </a:lnTo>
                    <a:lnTo>
                      <a:pt x="2259" y="299"/>
                    </a:lnTo>
                    <a:lnTo>
                      <a:pt x="2179" y="355"/>
                    </a:lnTo>
                    <a:lnTo>
                      <a:pt x="496" y="900"/>
                    </a:lnTo>
                    <a:lnTo>
                      <a:pt x="349" y="864"/>
                    </a:lnTo>
                    <a:lnTo>
                      <a:pt x="46" y="740"/>
                    </a:lnTo>
                    <a:lnTo>
                      <a:pt x="0" y="600"/>
                    </a:lnTo>
                    <a:lnTo>
                      <a:pt x="11" y="515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Freeform 175"/>
              <p:cNvSpPr/>
              <p:nvPr/>
            </p:nvSpPr>
            <p:spPr>
              <a:xfrm>
                <a:off x="7051320" y="2201400"/>
                <a:ext cx="678240" cy="121680"/>
              </a:xfrm>
              <a:custGeom>
                <a:avLst/>
                <a:gdLst/>
                <a:ahLst/>
                <a:rect l="l" t="t" r="r" b="b"/>
                <a:pathLst>
                  <a:path w="1340" h="586">
                    <a:moveTo>
                      <a:pt x="100" y="210"/>
                    </a:moveTo>
                    <a:lnTo>
                      <a:pt x="634" y="0"/>
                    </a:lnTo>
                    <a:lnTo>
                      <a:pt x="1340" y="170"/>
                    </a:lnTo>
                    <a:lnTo>
                      <a:pt x="1208" y="256"/>
                    </a:lnTo>
                    <a:lnTo>
                      <a:pt x="14" y="586"/>
                    </a:lnTo>
                    <a:lnTo>
                      <a:pt x="0" y="436"/>
                    </a:lnTo>
                    <a:lnTo>
                      <a:pt x="100" y="210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Freeform 176"/>
              <p:cNvSpPr/>
              <p:nvPr/>
            </p:nvSpPr>
            <p:spPr>
              <a:xfrm>
                <a:off x="5993640" y="2166480"/>
                <a:ext cx="700920" cy="159840"/>
              </a:xfrm>
              <a:custGeom>
                <a:avLst/>
                <a:gdLst>
                  <a:gd name="textAreaLeft" fmla="*/ 0 w 700920"/>
                  <a:gd name="textAreaRight" fmla="*/ 701280 w 700920"/>
                  <a:gd name="textAreaTop" fmla="*/ 0 h 159840"/>
                  <a:gd name="textAreaBottom" fmla="*/ 160200 h 159840"/>
                </a:gdLst>
                <a:ahLst/>
                <a:rect l="textAreaLeft" t="textAreaTop" r="textAreaRight" b="textAreaBottom"/>
                <a:pathLst>
                  <a:path w="1387" h="770">
                    <a:moveTo>
                      <a:pt x="0" y="45"/>
                    </a:moveTo>
                    <a:lnTo>
                      <a:pt x="24" y="0"/>
                    </a:lnTo>
                    <a:lnTo>
                      <a:pt x="1387" y="659"/>
                    </a:lnTo>
                    <a:lnTo>
                      <a:pt x="1356" y="770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ae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Freeform 177"/>
              <p:cNvSpPr/>
              <p:nvPr/>
            </p:nvSpPr>
            <p:spPr>
              <a:xfrm>
                <a:off x="6111720" y="2062800"/>
                <a:ext cx="1413000" cy="197280"/>
              </a:xfrm>
              <a:custGeom>
                <a:avLst/>
                <a:gdLst>
                  <a:gd name="textAreaLeft" fmla="*/ 0 w 1413000"/>
                  <a:gd name="textAreaRight" fmla="*/ 1413360 w 1413000"/>
                  <a:gd name="textAreaTop" fmla="*/ 0 h 197280"/>
                  <a:gd name="textAreaBottom" fmla="*/ 197640 h 197280"/>
                </a:gdLst>
                <a:ahLst/>
                <a:rect l="textAreaLeft" t="textAreaTop" r="textAreaRight" b="textAreaBottom"/>
                <a:pathLst>
                  <a:path w="2793" h="946">
                    <a:moveTo>
                      <a:pt x="9" y="280"/>
                    </a:moveTo>
                    <a:lnTo>
                      <a:pt x="1219" y="716"/>
                    </a:lnTo>
                    <a:lnTo>
                      <a:pt x="1169" y="946"/>
                    </a:lnTo>
                    <a:lnTo>
                      <a:pt x="1433" y="856"/>
                    </a:lnTo>
                    <a:lnTo>
                      <a:pt x="1584" y="795"/>
                    </a:lnTo>
                    <a:lnTo>
                      <a:pt x="1544" y="590"/>
                    </a:lnTo>
                    <a:lnTo>
                      <a:pt x="1928" y="441"/>
                    </a:lnTo>
                    <a:lnTo>
                      <a:pt x="2003" y="586"/>
                    </a:lnTo>
                    <a:lnTo>
                      <a:pt x="1959" y="835"/>
                    </a:lnTo>
                    <a:lnTo>
                      <a:pt x="2498" y="574"/>
                    </a:lnTo>
                    <a:lnTo>
                      <a:pt x="2648" y="586"/>
                    </a:lnTo>
                    <a:lnTo>
                      <a:pt x="2793" y="310"/>
                    </a:lnTo>
                    <a:lnTo>
                      <a:pt x="2778" y="106"/>
                    </a:lnTo>
                    <a:lnTo>
                      <a:pt x="2588" y="0"/>
                    </a:lnTo>
                    <a:lnTo>
                      <a:pt x="1194" y="435"/>
                    </a:lnTo>
                    <a:lnTo>
                      <a:pt x="1089" y="490"/>
                    </a:lnTo>
                    <a:lnTo>
                      <a:pt x="0" y="115"/>
                    </a:lnTo>
                    <a:lnTo>
                      <a:pt x="9" y="280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Freeform 178"/>
              <p:cNvSpPr/>
              <p:nvPr/>
            </p:nvSpPr>
            <p:spPr>
              <a:xfrm>
                <a:off x="6022080" y="1985760"/>
                <a:ext cx="1510200" cy="263520"/>
              </a:xfrm>
              <a:custGeom>
                <a:avLst/>
                <a:gdLst>
                  <a:gd name="textAreaLeft" fmla="*/ 0 w 1510200"/>
                  <a:gd name="textAreaRight" fmla="*/ 1510560 w 1510200"/>
                  <a:gd name="textAreaTop" fmla="*/ 0 h 263520"/>
                  <a:gd name="textAreaBottom" fmla="*/ 263880 h 263520"/>
                </a:gdLst>
                <a:ahLst/>
                <a:rect l="textAreaLeft" t="textAreaTop" r="textAreaRight" b="textAreaBottom"/>
                <a:pathLst>
                  <a:path w="2984" h="1267">
                    <a:moveTo>
                      <a:pt x="0" y="316"/>
                    </a:moveTo>
                    <a:lnTo>
                      <a:pt x="1490" y="0"/>
                    </a:lnTo>
                    <a:lnTo>
                      <a:pt x="2284" y="170"/>
                    </a:lnTo>
                    <a:lnTo>
                      <a:pt x="991" y="481"/>
                    </a:lnTo>
                    <a:lnTo>
                      <a:pt x="1291" y="586"/>
                    </a:lnTo>
                    <a:lnTo>
                      <a:pt x="2598" y="266"/>
                    </a:lnTo>
                    <a:lnTo>
                      <a:pt x="2731" y="213"/>
                    </a:lnTo>
                    <a:lnTo>
                      <a:pt x="2904" y="306"/>
                    </a:lnTo>
                    <a:lnTo>
                      <a:pt x="2979" y="421"/>
                    </a:lnTo>
                    <a:lnTo>
                      <a:pt x="2984" y="741"/>
                    </a:lnTo>
                    <a:lnTo>
                      <a:pt x="2824" y="957"/>
                    </a:lnTo>
                    <a:lnTo>
                      <a:pt x="2674" y="967"/>
                    </a:lnTo>
                    <a:lnTo>
                      <a:pt x="2649" y="1032"/>
                    </a:lnTo>
                    <a:lnTo>
                      <a:pt x="2514" y="1097"/>
                    </a:lnTo>
                    <a:lnTo>
                      <a:pt x="2349" y="1147"/>
                    </a:lnTo>
                    <a:lnTo>
                      <a:pt x="2119" y="1267"/>
                    </a:lnTo>
                    <a:lnTo>
                      <a:pt x="2135" y="1206"/>
                    </a:lnTo>
                    <a:lnTo>
                      <a:pt x="2209" y="1026"/>
                    </a:lnTo>
                    <a:lnTo>
                      <a:pt x="2759" y="806"/>
                    </a:lnTo>
                    <a:lnTo>
                      <a:pt x="2864" y="676"/>
                    </a:lnTo>
                    <a:lnTo>
                      <a:pt x="2835" y="446"/>
                    </a:lnTo>
                    <a:lnTo>
                      <a:pt x="2759" y="403"/>
                    </a:lnTo>
                    <a:lnTo>
                      <a:pt x="1375" y="787"/>
                    </a:lnTo>
                    <a:lnTo>
                      <a:pt x="0" y="316"/>
                    </a:lnTo>
                    <a:close/>
                  </a:path>
                </a:pathLst>
              </a:custGeom>
              <a:solidFill>
                <a:srgbClr val="ae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Freeform 179"/>
              <p:cNvSpPr/>
              <p:nvPr/>
            </p:nvSpPr>
            <p:spPr>
              <a:xfrm>
                <a:off x="6814440" y="2277360"/>
                <a:ext cx="775440" cy="162360"/>
              </a:xfrm>
              <a:custGeom>
                <a:avLst/>
                <a:gdLst>
                  <a:gd name="textAreaLeft" fmla="*/ 0 w 775440"/>
                  <a:gd name="textAreaRight" fmla="*/ 775800 w 775440"/>
                  <a:gd name="textAreaTop" fmla="*/ 0 h 162360"/>
                  <a:gd name="textAreaBottom" fmla="*/ 162720 h 162360"/>
                </a:gdLst>
                <a:ahLst/>
                <a:rect l="textAreaLeft" t="textAreaTop" r="textAreaRight" b="textAreaBottom"/>
                <a:pathLst>
                  <a:path w="1534" h="781">
                    <a:moveTo>
                      <a:pt x="509" y="236"/>
                    </a:moveTo>
                    <a:lnTo>
                      <a:pt x="1419" y="0"/>
                    </a:lnTo>
                    <a:lnTo>
                      <a:pt x="1408" y="137"/>
                    </a:lnTo>
                    <a:lnTo>
                      <a:pt x="1423" y="251"/>
                    </a:lnTo>
                    <a:lnTo>
                      <a:pt x="1534" y="331"/>
                    </a:lnTo>
                    <a:lnTo>
                      <a:pt x="115" y="781"/>
                    </a:lnTo>
                    <a:lnTo>
                      <a:pt x="40" y="741"/>
                    </a:lnTo>
                    <a:lnTo>
                      <a:pt x="0" y="611"/>
                    </a:lnTo>
                    <a:lnTo>
                      <a:pt x="55" y="345"/>
                    </a:lnTo>
                    <a:lnTo>
                      <a:pt x="109" y="316"/>
                    </a:lnTo>
                    <a:lnTo>
                      <a:pt x="245" y="586"/>
                    </a:lnTo>
                    <a:lnTo>
                      <a:pt x="316" y="648"/>
                    </a:lnTo>
                    <a:lnTo>
                      <a:pt x="325" y="410"/>
                    </a:lnTo>
                    <a:lnTo>
                      <a:pt x="409" y="331"/>
                    </a:lnTo>
                    <a:lnTo>
                      <a:pt x="577" y="387"/>
                    </a:lnTo>
                    <a:lnTo>
                      <a:pt x="509" y="236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Freeform 180"/>
              <p:cNvSpPr/>
              <p:nvPr/>
            </p:nvSpPr>
            <p:spPr>
              <a:xfrm>
                <a:off x="6682680" y="2224440"/>
                <a:ext cx="236160" cy="54720"/>
              </a:xfrm>
              <a:custGeom>
                <a:avLst/>
                <a:gdLst>
                  <a:gd name="textAreaLeft" fmla="*/ 0 w 236160"/>
                  <a:gd name="textAreaRight" fmla="*/ 236520 w 236160"/>
                  <a:gd name="textAreaTop" fmla="*/ 0 h 54720"/>
                  <a:gd name="textAreaBottom" fmla="*/ 55080 h 54720"/>
                </a:gdLst>
                <a:ahLst/>
                <a:rect l="textAreaLeft" t="textAreaTop" r="textAreaRight" b="textAreaBottom"/>
                <a:pathLst>
                  <a:path w="468" h="264">
                    <a:moveTo>
                      <a:pt x="0" y="229"/>
                    </a:moveTo>
                    <a:lnTo>
                      <a:pt x="310" y="199"/>
                    </a:lnTo>
                    <a:lnTo>
                      <a:pt x="294" y="264"/>
                    </a:lnTo>
                    <a:lnTo>
                      <a:pt x="434" y="210"/>
                    </a:lnTo>
                    <a:lnTo>
                      <a:pt x="468" y="0"/>
                    </a:lnTo>
                    <a:lnTo>
                      <a:pt x="0" y="229"/>
                    </a:lnTo>
                    <a:close/>
                  </a:path>
                </a:pathLst>
              </a:custGeom>
              <a:solidFill>
                <a:srgbClr val="ae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Freeform 181"/>
              <p:cNvSpPr/>
              <p:nvPr/>
            </p:nvSpPr>
            <p:spPr>
              <a:xfrm>
                <a:off x="5943600" y="1981080"/>
                <a:ext cx="1552320" cy="225360"/>
              </a:xfrm>
              <a:custGeom>
                <a:avLst/>
                <a:gdLst>
                  <a:gd name="textAreaLeft" fmla="*/ 0 w 1552320"/>
                  <a:gd name="textAreaRight" fmla="*/ 1552680 w 1552320"/>
                  <a:gd name="textAreaTop" fmla="*/ 0 h 225360"/>
                  <a:gd name="textAreaBottom" fmla="*/ 225720 h 225360"/>
                </a:gdLst>
                <a:ahLst/>
                <a:rect l="textAreaLeft" t="textAreaTop" r="textAreaRight" b="textAreaBottom"/>
                <a:pathLst>
                  <a:path w="3069" h="1082">
                    <a:moveTo>
                      <a:pt x="25" y="281"/>
                    </a:moveTo>
                    <a:lnTo>
                      <a:pt x="0" y="384"/>
                    </a:lnTo>
                    <a:lnTo>
                      <a:pt x="272" y="520"/>
                    </a:lnTo>
                    <a:lnTo>
                      <a:pt x="306" y="647"/>
                    </a:lnTo>
                    <a:lnTo>
                      <a:pt x="313" y="757"/>
                    </a:lnTo>
                    <a:lnTo>
                      <a:pt x="279" y="886"/>
                    </a:lnTo>
                    <a:lnTo>
                      <a:pt x="365" y="775"/>
                    </a:lnTo>
                    <a:lnTo>
                      <a:pt x="407" y="647"/>
                    </a:lnTo>
                    <a:lnTo>
                      <a:pt x="399" y="554"/>
                    </a:lnTo>
                    <a:lnTo>
                      <a:pt x="1436" y="920"/>
                    </a:lnTo>
                    <a:lnTo>
                      <a:pt x="2915" y="425"/>
                    </a:lnTo>
                    <a:lnTo>
                      <a:pt x="2958" y="554"/>
                    </a:lnTo>
                    <a:lnTo>
                      <a:pt x="2958" y="698"/>
                    </a:lnTo>
                    <a:lnTo>
                      <a:pt x="2856" y="825"/>
                    </a:lnTo>
                    <a:lnTo>
                      <a:pt x="2371" y="1026"/>
                    </a:lnTo>
                    <a:lnTo>
                      <a:pt x="2345" y="1082"/>
                    </a:lnTo>
                    <a:lnTo>
                      <a:pt x="2908" y="868"/>
                    </a:lnTo>
                    <a:lnTo>
                      <a:pt x="3019" y="791"/>
                    </a:lnTo>
                    <a:lnTo>
                      <a:pt x="3069" y="664"/>
                    </a:lnTo>
                    <a:lnTo>
                      <a:pt x="3053" y="493"/>
                    </a:lnTo>
                    <a:lnTo>
                      <a:pt x="2976" y="400"/>
                    </a:lnTo>
                    <a:lnTo>
                      <a:pt x="2899" y="366"/>
                    </a:lnTo>
                    <a:lnTo>
                      <a:pt x="2695" y="459"/>
                    </a:lnTo>
                    <a:lnTo>
                      <a:pt x="1470" y="748"/>
                    </a:lnTo>
                    <a:lnTo>
                      <a:pt x="282" y="381"/>
                    </a:lnTo>
                    <a:lnTo>
                      <a:pt x="1402" y="809"/>
                    </a:lnTo>
                    <a:lnTo>
                      <a:pt x="1402" y="852"/>
                    </a:lnTo>
                    <a:lnTo>
                      <a:pt x="50" y="357"/>
                    </a:lnTo>
                    <a:lnTo>
                      <a:pt x="93" y="315"/>
                    </a:lnTo>
                    <a:lnTo>
                      <a:pt x="1597" y="43"/>
                    </a:lnTo>
                    <a:lnTo>
                      <a:pt x="2334" y="179"/>
                    </a:lnTo>
                    <a:lnTo>
                      <a:pt x="1556" y="0"/>
                    </a:lnTo>
                    <a:lnTo>
                      <a:pt x="25" y="28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Freeform 182"/>
              <p:cNvSpPr/>
              <p:nvPr/>
            </p:nvSpPr>
            <p:spPr>
              <a:xfrm>
                <a:off x="5947920" y="2131560"/>
                <a:ext cx="959040" cy="199800"/>
              </a:xfrm>
              <a:custGeom>
                <a:avLst/>
                <a:gdLst>
                  <a:gd name="textAreaLeft" fmla="*/ 0 w 959040"/>
                  <a:gd name="textAreaRight" fmla="*/ 959400 w 959040"/>
                  <a:gd name="textAreaTop" fmla="*/ 0 h 199800"/>
                  <a:gd name="textAreaBottom" fmla="*/ 200160 h 199800"/>
                </a:gdLst>
                <a:ahLst/>
                <a:rect l="textAreaLeft" t="textAreaTop" r="textAreaRight" b="textAreaBottom"/>
                <a:pathLst>
                  <a:path w="1894" h="960">
                    <a:moveTo>
                      <a:pt x="321" y="0"/>
                    </a:moveTo>
                    <a:lnTo>
                      <a:pt x="28" y="105"/>
                    </a:lnTo>
                    <a:lnTo>
                      <a:pt x="0" y="211"/>
                    </a:lnTo>
                    <a:lnTo>
                      <a:pt x="1441" y="960"/>
                    </a:lnTo>
                    <a:lnTo>
                      <a:pt x="1840" y="760"/>
                    </a:lnTo>
                    <a:lnTo>
                      <a:pt x="1894" y="626"/>
                    </a:lnTo>
                    <a:lnTo>
                      <a:pt x="1451" y="799"/>
                    </a:lnTo>
                    <a:lnTo>
                      <a:pt x="449" y="338"/>
                    </a:lnTo>
                    <a:lnTo>
                      <a:pt x="1401" y="831"/>
                    </a:lnTo>
                    <a:lnTo>
                      <a:pt x="1423" y="904"/>
                    </a:lnTo>
                    <a:lnTo>
                      <a:pt x="89" y="211"/>
                    </a:lnTo>
                    <a:lnTo>
                      <a:pt x="77" y="149"/>
                    </a:lnTo>
                    <a:lnTo>
                      <a:pt x="316" y="55"/>
                    </a:lnTo>
                    <a:lnTo>
                      <a:pt x="3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Freeform 183"/>
              <p:cNvSpPr/>
              <p:nvPr/>
            </p:nvSpPr>
            <p:spPr>
              <a:xfrm>
                <a:off x="6117840" y="2154600"/>
                <a:ext cx="801000" cy="121680"/>
              </a:xfrm>
              <a:custGeom>
                <a:avLst/>
                <a:gdLst>
                  <a:gd name="textAreaLeft" fmla="*/ 0 w 801000"/>
                  <a:gd name="textAreaRight" fmla="*/ 801360 w 801000"/>
                  <a:gd name="textAreaTop" fmla="*/ 0 h 121680"/>
                  <a:gd name="textAreaBottom" fmla="*/ 122040 h 121680"/>
                </a:gdLst>
                <a:ahLst/>
                <a:rect l="textAreaLeft" t="textAreaTop" r="textAreaRight" b="textAreaBottom"/>
                <a:pathLst>
                  <a:path w="1584" h="584">
                    <a:moveTo>
                      <a:pt x="0" y="83"/>
                    </a:moveTo>
                    <a:lnTo>
                      <a:pt x="1082" y="584"/>
                    </a:lnTo>
                    <a:lnTo>
                      <a:pt x="1584" y="378"/>
                    </a:lnTo>
                    <a:lnTo>
                      <a:pt x="1584" y="335"/>
                    </a:lnTo>
                    <a:lnTo>
                      <a:pt x="1200" y="483"/>
                    </a:lnTo>
                    <a:lnTo>
                      <a:pt x="1255" y="360"/>
                    </a:lnTo>
                    <a:lnTo>
                      <a:pt x="1448" y="282"/>
                    </a:lnTo>
                    <a:lnTo>
                      <a:pt x="1239" y="306"/>
                    </a:lnTo>
                    <a:lnTo>
                      <a:pt x="1227" y="171"/>
                    </a:lnTo>
                    <a:lnTo>
                      <a:pt x="1156" y="22"/>
                    </a:lnTo>
                    <a:lnTo>
                      <a:pt x="1106" y="56"/>
                    </a:lnTo>
                    <a:lnTo>
                      <a:pt x="1167" y="171"/>
                    </a:lnTo>
                    <a:lnTo>
                      <a:pt x="662" y="0"/>
                    </a:lnTo>
                    <a:lnTo>
                      <a:pt x="1167" y="249"/>
                    </a:lnTo>
                    <a:lnTo>
                      <a:pt x="1181" y="325"/>
                    </a:lnTo>
                    <a:lnTo>
                      <a:pt x="1141" y="418"/>
                    </a:lnTo>
                    <a:lnTo>
                      <a:pt x="358" y="111"/>
                    </a:lnTo>
                    <a:lnTo>
                      <a:pt x="1137" y="466"/>
                    </a:lnTo>
                    <a:lnTo>
                      <a:pt x="1082" y="540"/>
                    </a:lnTo>
                    <a:lnTo>
                      <a:pt x="0" y="8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Freeform 184"/>
              <p:cNvSpPr/>
              <p:nvPr/>
            </p:nvSpPr>
            <p:spPr>
              <a:xfrm>
                <a:off x="6785640" y="2108160"/>
                <a:ext cx="561600" cy="304200"/>
              </a:xfrm>
              <a:custGeom>
                <a:avLst/>
                <a:gdLst>
                  <a:gd name="textAreaLeft" fmla="*/ 0 w 561600"/>
                  <a:gd name="textAreaRight" fmla="*/ 561960 w 56160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1109" h="1460">
                    <a:moveTo>
                      <a:pt x="0" y="378"/>
                    </a:moveTo>
                    <a:lnTo>
                      <a:pt x="411" y="256"/>
                    </a:lnTo>
                    <a:lnTo>
                      <a:pt x="1109" y="0"/>
                    </a:lnTo>
                    <a:lnTo>
                      <a:pt x="626" y="245"/>
                    </a:lnTo>
                    <a:lnTo>
                      <a:pt x="709" y="346"/>
                    </a:lnTo>
                    <a:lnTo>
                      <a:pt x="709" y="467"/>
                    </a:lnTo>
                    <a:lnTo>
                      <a:pt x="643" y="672"/>
                    </a:lnTo>
                    <a:lnTo>
                      <a:pt x="554" y="895"/>
                    </a:lnTo>
                    <a:lnTo>
                      <a:pt x="550" y="1016"/>
                    </a:lnTo>
                    <a:lnTo>
                      <a:pt x="632" y="1199"/>
                    </a:lnTo>
                    <a:lnTo>
                      <a:pt x="510" y="1055"/>
                    </a:lnTo>
                    <a:lnTo>
                      <a:pt x="494" y="899"/>
                    </a:lnTo>
                    <a:lnTo>
                      <a:pt x="588" y="639"/>
                    </a:lnTo>
                    <a:lnTo>
                      <a:pt x="660" y="450"/>
                    </a:lnTo>
                    <a:lnTo>
                      <a:pt x="550" y="251"/>
                    </a:lnTo>
                    <a:lnTo>
                      <a:pt x="244" y="368"/>
                    </a:lnTo>
                    <a:lnTo>
                      <a:pt x="272" y="428"/>
                    </a:lnTo>
                    <a:lnTo>
                      <a:pt x="294" y="583"/>
                    </a:lnTo>
                    <a:lnTo>
                      <a:pt x="266" y="760"/>
                    </a:lnTo>
                    <a:lnTo>
                      <a:pt x="222" y="933"/>
                    </a:lnTo>
                    <a:lnTo>
                      <a:pt x="206" y="1110"/>
                    </a:lnTo>
                    <a:lnTo>
                      <a:pt x="256" y="1283"/>
                    </a:lnTo>
                    <a:lnTo>
                      <a:pt x="371" y="1460"/>
                    </a:lnTo>
                    <a:lnTo>
                      <a:pt x="250" y="1387"/>
                    </a:lnTo>
                    <a:lnTo>
                      <a:pt x="167" y="1199"/>
                    </a:lnTo>
                    <a:lnTo>
                      <a:pt x="150" y="989"/>
                    </a:lnTo>
                    <a:lnTo>
                      <a:pt x="212" y="716"/>
                    </a:lnTo>
                    <a:lnTo>
                      <a:pt x="234" y="551"/>
                    </a:lnTo>
                    <a:lnTo>
                      <a:pt x="150" y="390"/>
                    </a:lnTo>
                    <a:lnTo>
                      <a:pt x="0" y="37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Freeform 185"/>
              <p:cNvSpPr/>
              <p:nvPr/>
            </p:nvSpPr>
            <p:spPr>
              <a:xfrm>
                <a:off x="6960600" y="2340720"/>
                <a:ext cx="145440" cy="71640"/>
              </a:xfrm>
              <a:custGeom>
                <a:avLst/>
                <a:gdLst>
                  <a:gd name="textAreaLeft" fmla="*/ 0 w 145440"/>
                  <a:gd name="textAreaRight" fmla="*/ 145800 w 145440"/>
                  <a:gd name="textAreaTop" fmla="*/ 0 h 71640"/>
                  <a:gd name="textAreaBottom" fmla="*/ 72000 h 71640"/>
                </a:gdLst>
                <a:ahLst/>
                <a:rect l="textAreaLeft" t="textAreaTop" r="textAreaRight" b="textAreaBottom"/>
                <a:pathLst>
                  <a:path w="288" h="344">
                    <a:moveTo>
                      <a:pt x="27" y="344"/>
                    </a:moveTo>
                    <a:lnTo>
                      <a:pt x="0" y="161"/>
                    </a:lnTo>
                    <a:lnTo>
                      <a:pt x="73" y="0"/>
                    </a:lnTo>
                    <a:lnTo>
                      <a:pt x="139" y="6"/>
                    </a:lnTo>
                    <a:lnTo>
                      <a:pt x="288" y="83"/>
                    </a:lnTo>
                    <a:lnTo>
                      <a:pt x="111" y="66"/>
                    </a:lnTo>
                    <a:lnTo>
                      <a:pt x="49" y="167"/>
                    </a:lnTo>
                    <a:lnTo>
                      <a:pt x="27" y="3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Freeform 186"/>
              <p:cNvSpPr/>
              <p:nvPr/>
            </p:nvSpPr>
            <p:spPr>
              <a:xfrm>
                <a:off x="7083360" y="2033280"/>
                <a:ext cx="459720" cy="225360"/>
              </a:xfrm>
              <a:custGeom>
                <a:avLst/>
                <a:gdLst>
                  <a:gd name="textAreaLeft" fmla="*/ 0 w 459720"/>
                  <a:gd name="textAreaRight" fmla="*/ 460080 w 459720"/>
                  <a:gd name="textAreaTop" fmla="*/ 0 h 225360"/>
                  <a:gd name="textAreaBottom" fmla="*/ 225720 h 225360"/>
                </a:gdLst>
                <a:ahLst/>
                <a:rect l="textAreaLeft" t="textAreaTop" r="textAreaRight" b="textAreaBottom"/>
                <a:pathLst>
                  <a:path w="908" h="1082">
                    <a:moveTo>
                      <a:pt x="66" y="949"/>
                    </a:moveTo>
                    <a:lnTo>
                      <a:pt x="576" y="716"/>
                    </a:lnTo>
                    <a:lnTo>
                      <a:pt x="695" y="703"/>
                    </a:lnTo>
                    <a:lnTo>
                      <a:pt x="781" y="621"/>
                    </a:lnTo>
                    <a:lnTo>
                      <a:pt x="859" y="428"/>
                    </a:lnTo>
                    <a:lnTo>
                      <a:pt x="825" y="161"/>
                    </a:lnTo>
                    <a:lnTo>
                      <a:pt x="700" y="52"/>
                    </a:lnTo>
                    <a:lnTo>
                      <a:pt x="478" y="124"/>
                    </a:lnTo>
                    <a:lnTo>
                      <a:pt x="661" y="0"/>
                    </a:lnTo>
                    <a:lnTo>
                      <a:pt x="781" y="40"/>
                    </a:lnTo>
                    <a:lnTo>
                      <a:pt x="881" y="151"/>
                    </a:lnTo>
                    <a:lnTo>
                      <a:pt x="908" y="372"/>
                    </a:lnTo>
                    <a:lnTo>
                      <a:pt x="897" y="527"/>
                    </a:lnTo>
                    <a:lnTo>
                      <a:pt x="794" y="723"/>
                    </a:lnTo>
                    <a:lnTo>
                      <a:pt x="726" y="765"/>
                    </a:lnTo>
                    <a:lnTo>
                      <a:pt x="604" y="760"/>
                    </a:lnTo>
                    <a:lnTo>
                      <a:pt x="0" y="1082"/>
                    </a:lnTo>
                    <a:lnTo>
                      <a:pt x="66" y="94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Freeform 187"/>
              <p:cNvSpPr/>
              <p:nvPr/>
            </p:nvSpPr>
            <p:spPr>
              <a:xfrm>
                <a:off x="6128640" y="2216880"/>
                <a:ext cx="1646640" cy="262080"/>
              </a:xfrm>
              <a:custGeom>
                <a:avLst/>
                <a:gdLst>
                  <a:gd name="textAreaLeft" fmla="*/ 0 w 1646640"/>
                  <a:gd name="textAreaRight" fmla="*/ 1647000 w 1646640"/>
                  <a:gd name="textAreaTop" fmla="*/ 0 h 262080"/>
                  <a:gd name="textAreaBottom" fmla="*/ 262440 h 262080"/>
                </a:gdLst>
                <a:ahLst/>
                <a:rect l="textAreaLeft" t="textAreaTop" r="textAreaRight" b="textAreaBottom"/>
                <a:pathLst>
                  <a:path w="3257" h="1259">
                    <a:moveTo>
                      <a:pt x="44" y="0"/>
                    </a:moveTo>
                    <a:lnTo>
                      <a:pt x="0" y="99"/>
                    </a:lnTo>
                    <a:lnTo>
                      <a:pt x="5" y="321"/>
                    </a:lnTo>
                    <a:lnTo>
                      <a:pt x="66" y="448"/>
                    </a:lnTo>
                    <a:lnTo>
                      <a:pt x="166" y="482"/>
                    </a:lnTo>
                    <a:lnTo>
                      <a:pt x="338" y="625"/>
                    </a:lnTo>
                    <a:lnTo>
                      <a:pt x="758" y="915"/>
                    </a:lnTo>
                    <a:lnTo>
                      <a:pt x="853" y="931"/>
                    </a:lnTo>
                    <a:lnTo>
                      <a:pt x="974" y="997"/>
                    </a:lnTo>
                    <a:lnTo>
                      <a:pt x="1014" y="1076"/>
                    </a:lnTo>
                    <a:lnTo>
                      <a:pt x="1334" y="1242"/>
                    </a:lnTo>
                    <a:lnTo>
                      <a:pt x="1468" y="1259"/>
                    </a:lnTo>
                    <a:lnTo>
                      <a:pt x="3257" y="698"/>
                    </a:lnTo>
                    <a:lnTo>
                      <a:pt x="3241" y="577"/>
                    </a:lnTo>
                    <a:lnTo>
                      <a:pt x="2764" y="426"/>
                    </a:lnTo>
                    <a:lnTo>
                      <a:pt x="3207" y="621"/>
                    </a:lnTo>
                    <a:lnTo>
                      <a:pt x="1446" y="1174"/>
                    </a:lnTo>
                    <a:lnTo>
                      <a:pt x="1334" y="1076"/>
                    </a:lnTo>
                    <a:lnTo>
                      <a:pt x="1279" y="931"/>
                    </a:lnTo>
                    <a:lnTo>
                      <a:pt x="1324" y="648"/>
                    </a:lnTo>
                    <a:lnTo>
                      <a:pt x="1245" y="786"/>
                    </a:lnTo>
                    <a:lnTo>
                      <a:pt x="1229" y="931"/>
                    </a:lnTo>
                    <a:lnTo>
                      <a:pt x="1279" y="1114"/>
                    </a:lnTo>
                    <a:lnTo>
                      <a:pt x="1324" y="1174"/>
                    </a:lnTo>
                    <a:lnTo>
                      <a:pt x="1064" y="1048"/>
                    </a:lnTo>
                    <a:lnTo>
                      <a:pt x="1014" y="925"/>
                    </a:lnTo>
                    <a:lnTo>
                      <a:pt x="1002" y="742"/>
                    </a:lnTo>
                    <a:lnTo>
                      <a:pt x="1036" y="615"/>
                    </a:lnTo>
                    <a:lnTo>
                      <a:pt x="974" y="710"/>
                    </a:lnTo>
                    <a:lnTo>
                      <a:pt x="952" y="842"/>
                    </a:lnTo>
                    <a:lnTo>
                      <a:pt x="941" y="921"/>
                    </a:lnTo>
                    <a:lnTo>
                      <a:pt x="847" y="859"/>
                    </a:lnTo>
                    <a:lnTo>
                      <a:pt x="831" y="698"/>
                    </a:lnTo>
                    <a:lnTo>
                      <a:pt x="881" y="510"/>
                    </a:lnTo>
                    <a:lnTo>
                      <a:pt x="820" y="593"/>
                    </a:lnTo>
                    <a:lnTo>
                      <a:pt x="776" y="720"/>
                    </a:lnTo>
                    <a:lnTo>
                      <a:pt x="776" y="853"/>
                    </a:lnTo>
                    <a:lnTo>
                      <a:pt x="183" y="442"/>
                    </a:lnTo>
                    <a:lnTo>
                      <a:pt x="177" y="321"/>
                    </a:lnTo>
                    <a:lnTo>
                      <a:pt x="183" y="221"/>
                    </a:lnTo>
                    <a:lnTo>
                      <a:pt x="132" y="287"/>
                    </a:lnTo>
                    <a:lnTo>
                      <a:pt x="104" y="394"/>
                    </a:lnTo>
                    <a:lnTo>
                      <a:pt x="44" y="282"/>
                    </a:lnTo>
                    <a:lnTo>
                      <a:pt x="44" y="121"/>
                    </a:lnTo>
                    <a:lnTo>
                      <a:pt x="149" y="54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Freeform 188"/>
              <p:cNvSpPr/>
              <p:nvPr/>
            </p:nvSpPr>
            <p:spPr>
              <a:xfrm>
                <a:off x="6802560" y="2329920"/>
                <a:ext cx="151560" cy="94680"/>
              </a:xfrm>
              <a:custGeom>
                <a:avLst/>
                <a:gdLst>
                  <a:gd name="textAreaLeft" fmla="*/ 0 w 151560"/>
                  <a:gd name="textAreaRight" fmla="*/ 151920 w 15156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300" h="454">
                    <a:moveTo>
                      <a:pt x="145" y="0"/>
                    </a:moveTo>
                    <a:lnTo>
                      <a:pt x="78" y="50"/>
                    </a:lnTo>
                    <a:lnTo>
                      <a:pt x="46" y="138"/>
                    </a:lnTo>
                    <a:lnTo>
                      <a:pt x="0" y="350"/>
                    </a:lnTo>
                    <a:lnTo>
                      <a:pt x="46" y="454"/>
                    </a:lnTo>
                    <a:lnTo>
                      <a:pt x="300" y="372"/>
                    </a:lnTo>
                    <a:lnTo>
                      <a:pt x="239" y="310"/>
                    </a:lnTo>
                    <a:lnTo>
                      <a:pt x="78" y="355"/>
                    </a:lnTo>
                    <a:lnTo>
                      <a:pt x="84" y="183"/>
                    </a:lnTo>
                    <a:lnTo>
                      <a:pt x="156" y="122"/>
                    </a:lnTo>
                    <a:lnTo>
                      <a:pt x="14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Freeform 189"/>
              <p:cNvSpPr/>
              <p:nvPr/>
            </p:nvSpPr>
            <p:spPr>
              <a:xfrm>
                <a:off x="6972480" y="2369520"/>
                <a:ext cx="236520" cy="33480"/>
              </a:xfrm>
              <a:custGeom>
                <a:avLst/>
                <a:gdLst>
                  <a:gd name="textAreaLeft" fmla="*/ 0 w 236520"/>
                  <a:gd name="textAreaRight" fmla="*/ 236880 w 23652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470" h="161">
                    <a:moveTo>
                      <a:pt x="10" y="99"/>
                    </a:moveTo>
                    <a:lnTo>
                      <a:pt x="470" y="0"/>
                    </a:lnTo>
                    <a:lnTo>
                      <a:pt x="0" y="161"/>
                    </a:lnTo>
                    <a:lnTo>
                      <a:pt x="10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Freeform 190"/>
              <p:cNvSpPr/>
              <p:nvPr/>
            </p:nvSpPr>
            <p:spPr>
              <a:xfrm>
                <a:off x="6023880" y="2253240"/>
                <a:ext cx="1542960" cy="308520"/>
              </a:xfrm>
              <a:custGeom>
                <a:avLst/>
                <a:gdLst>
                  <a:gd name="textAreaLeft" fmla="*/ 0 w 1542960"/>
                  <a:gd name="textAreaRight" fmla="*/ 1543320 w 1542960"/>
                  <a:gd name="textAreaTop" fmla="*/ 0 h 308520"/>
                  <a:gd name="textAreaBottom" fmla="*/ 308880 h 308520"/>
                </a:gdLst>
                <a:ahLst/>
                <a:rect l="textAreaLeft" t="textAreaTop" r="textAreaRight" b="textAreaBottom"/>
                <a:pathLst>
                  <a:path w="3052" h="1482">
                    <a:moveTo>
                      <a:pt x="243" y="0"/>
                    </a:moveTo>
                    <a:lnTo>
                      <a:pt x="0" y="37"/>
                    </a:lnTo>
                    <a:lnTo>
                      <a:pt x="7" y="126"/>
                    </a:lnTo>
                    <a:lnTo>
                      <a:pt x="770" y="1337"/>
                    </a:lnTo>
                    <a:lnTo>
                      <a:pt x="2809" y="1107"/>
                    </a:lnTo>
                    <a:lnTo>
                      <a:pt x="2903" y="1151"/>
                    </a:lnTo>
                    <a:lnTo>
                      <a:pt x="2957" y="1237"/>
                    </a:lnTo>
                    <a:lnTo>
                      <a:pt x="2892" y="1419"/>
                    </a:lnTo>
                    <a:lnTo>
                      <a:pt x="2554" y="1482"/>
                    </a:lnTo>
                    <a:lnTo>
                      <a:pt x="2906" y="1482"/>
                    </a:lnTo>
                    <a:lnTo>
                      <a:pt x="3052" y="1259"/>
                    </a:lnTo>
                    <a:lnTo>
                      <a:pt x="3044" y="1078"/>
                    </a:lnTo>
                    <a:lnTo>
                      <a:pt x="2980" y="994"/>
                    </a:lnTo>
                    <a:lnTo>
                      <a:pt x="2626" y="1041"/>
                    </a:lnTo>
                    <a:lnTo>
                      <a:pt x="2561" y="1069"/>
                    </a:lnTo>
                    <a:lnTo>
                      <a:pt x="2484" y="1041"/>
                    </a:lnTo>
                    <a:lnTo>
                      <a:pt x="881" y="1230"/>
                    </a:lnTo>
                    <a:lnTo>
                      <a:pt x="384" y="532"/>
                    </a:lnTo>
                    <a:lnTo>
                      <a:pt x="827" y="1236"/>
                    </a:lnTo>
                    <a:lnTo>
                      <a:pt x="787" y="1295"/>
                    </a:lnTo>
                    <a:lnTo>
                      <a:pt x="31" y="70"/>
                    </a:lnTo>
                    <a:lnTo>
                      <a:pt x="224" y="37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Freeform 191"/>
              <p:cNvSpPr/>
              <p:nvPr/>
            </p:nvSpPr>
            <p:spPr>
              <a:xfrm>
                <a:off x="6063120" y="2322000"/>
                <a:ext cx="277560" cy="266400"/>
              </a:xfrm>
              <a:custGeom>
                <a:avLst/>
                <a:gdLst>
                  <a:gd name="textAreaLeft" fmla="*/ 0 w 277560"/>
                  <a:gd name="textAreaRight" fmla="*/ 277920 w 277560"/>
                  <a:gd name="textAreaTop" fmla="*/ 0 h 266400"/>
                  <a:gd name="textAreaBottom" fmla="*/ 266760 h 266400"/>
                </a:gdLst>
                <a:ahLst/>
                <a:rect l="textAreaLeft" t="textAreaTop" r="textAreaRight" b="textAreaBottom"/>
                <a:pathLst>
                  <a:path w="547" h="1281">
                    <a:moveTo>
                      <a:pt x="71" y="0"/>
                    </a:moveTo>
                    <a:lnTo>
                      <a:pt x="82" y="95"/>
                    </a:lnTo>
                    <a:lnTo>
                      <a:pt x="66" y="175"/>
                    </a:lnTo>
                    <a:lnTo>
                      <a:pt x="38" y="228"/>
                    </a:lnTo>
                    <a:lnTo>
                      <a:pt x="0" y="256"/>
                    </a:lnTo>
                    <a:lnTo>
                      <a:pt x="143" y="527"/>
                    </a:lnTo>
                    <a:lnTo>
                      <a:pt x="547" y="1281"/>
                    </a:lnTo>
                    <a:lnTo>
                      <a:pt x="249" y="604"/>
                    </a:lnTo>
                    <a:lnTo>
                      <a:pt x="66" y="256"/>
                    </a:lnTo>
                    <a:lnTo>
                      <a:pt x="243" y="465"/>
                    </a:lnTo>
                    <a:lnTo>
                      <a:pt x="104" y="189"/>
                    </a:lnTo>
                    <a:lnTo>
                      <a:pt x="143" y="89"/>
                    </a:lnTo>
                    <a:lnTo>
                      <a:pt x="7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Freeform 192"/>
              <p:cNvSpPr/>
              <p:nvPr/>
            </p:nvSpPr>
            <p:spPr>
              <a:xfrm>
                <a:off x="5979960" y="2345760"/>
                <a:ext cx="1657080" cy="305280"/>
              </a:xfrm>
              <a:custGeom>
                <a:avLst/>
                <a:gdLst>
                  <a:gd name="textAreaLeft" fmla="*/ 0 w 1657080"/>
                  <a:gd name="textAreaRight" fmla="*/ 1657440 w 1657080"/>
                  <a:gd name="textAreaTop" fmla="*/ 0 h 305280"/>
                  <a:gd name="textAreaBottom" fmla="*/ 305280 h 305280"/>
                </a:gdLst>
                <a:ahLst/>
                <a:rect l="textAreaLeft" t="textAreaTop" r="textAreaRight" b="textAreaBottom"/>
                <a:pathLst>
                  <a:path w="3277" h="1467">
                    <a:moveTo>
                      <a:pt x="256" y="0"/>
                    </a:moveTo>
                    <a:lnTo>
                      <a:pt x="120" y="62"/>
                    </a:lnTo>
                    <a:lnTo>
                      <a:pt x="12" y="85"/>
                    </a:lnTo>
                    <a:lnTo>
                      <a:pt x="0" y="157"/>
                    </a:lnTo>
                    <a:lnTo>
                      <a:pt x="445" y="993"/>
                    </a:lnTo>
                    <a:lnTo>
                      <a:pt x="635" y="1467"/>
                    </a:lnTo>
                    <a:lnTo>
                      <a:pt x="2530" y="1233"/>
                    </a:lnTo>
                    <a:lnTo>
                      <a:pt x="2601" y="1210"/>
                    </a:lnTo>
                    <a:lnTo>
                      <a:pt x="2702" y="1244"/>
                    </a:lnTo>
                    <a:lnTo>
                      <a:pt x="3045" y="1198"/>
                    </a:lnTo>
                    <a:lnTo>
                      <a:pt x="3199" y="1056"/>
                    </a:lnTo>
                    <a:lnTo>
                      <a:pt x="3277" y="706"/>
                    </a:lnTo>
                    <a:lnTo>
                      <a:pt x="3223" y="456"/>
                    </a:lnTo>
                    <a:lnTo>
                      <a:pt x="2982" y="245"/>
                    </a:lnTo>
                    <a:lnTo>
                      <a:pt x="2511" y="363"/>
                    </a:lnTo>
                    <a:lnTo>
                      <a:pt x="2933" y="371"/>
                    </a:lnTo>
                    <a:lnTo>
                      <a:pt x="3115" y="510"/>
                    </a:lnTo>
                    <a:lnTo>
                      <a:pt x="3196" y="631"/>
                    </a:lnTo>
                    <a:lnTo>
                      <a:pt x="3202" y="811"/>
                    </a:lnTo>
                    <a:lnTo>
                      <a:pt x="3134" y="1027"/>
                    </a:lnTo>
                    <a:lnTo>
                      <a:pt x="3047" y="1124"/>
                    </a:lnTo>
                    <a:lnTo>
                      <a:pt x="2769" y="1161"/>
                    </a:lnTo>
                    <a:lnTo>
                      <a:pt x="2645" y="1121"/>
                    </a:lnTo>
                    <a:lnTo>
                      <a:pt x="2477" y="1205"/>
                    </a:lnTo>
                    <a:lnTo>
                      <a:pt x="688" y="1360"/>
                    </a:lnTo>
                    <a:lnTo>
                      <a:pt x="53" y="107"/>
                    </a:lnTo>
                    <a:lnTo>
                      <a:pt x="270" y="41"/>
                    </a:lnTo>
                    <a:lnTo>
                      <a:pt x="2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Freeform 193"/>
              <p:cNvSpPr/>
              <p:nvPr/>
            </p:nvSpPr>
            <p:spPr>
              <a:xfrm>
                <a:off x="6350400" y="2494800"/>
                <a:ext cx="837720" cy="101520"/>
              </a:xfrm>
              <a:custGeom>
                <a:avLst/>
                <a:gdLst>
                  <a:gd name="textAreaLeft" fmla="*/ 0 w 837720"/>
                  <a:gd name="textAreaRight" fmla="*/ 838080 w 83772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656" h="489">
                    <a:moveTo>
                      <a:pt x="0" y="489"/>
                    </a:moveTo>
                    <a:lnTo>
                      <a:pt x="133" y="366"/>
                    </a:lnTo>
                    <a:lnTo>
                      <a:pt x="193" y="256"/>
                    </a:lnTo>
                    <a:lnTo>
                      <a:pt x="177" y="123"/>
                    </a:lnTo>
                    <a:lnTo>
                      <a:pt x="1202" y="0"/>
                    </a:lnTo>
                    <a:lnTo>
                      <a:pt x="288" y="157"/>
                    </a:lnTo>
                    <a:lnTo>
                      <a:pt x="248" y="267"/>
                    </a:lnTo>
                    <a:lnTo>
                      <a:pt x="1030" y="223"/>
                    </a:lnTo>
                    <a:lnTo>
                      <a:pt x="232" y="340"/>
                    </a:lnTo>
                    <a:lnTo>
                      <a:pt x="187" y="384"/>
                    </a:lnTo>
                    <a:lnTo>
                      <a:pt x="143" y="411"/>
                    </a:lnTo>
                    <a:lnTo>
                      <a:pt x="1656" y="328"/>
                    </a:lnTo>
                    <a:lnTo>
                      <a:pt x="0" y="48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Freeform 194"/>
              <p:cNvSpPr/>
              <p:nvPr/>
            </p:nvSpPr>
            <p:spPr>
              <a:xfrm>
                <a:off x="6351480" y="2397600"/>
                <a:ext cx="383760" cy="69120"/>
              </a:xfrm>
              <a:custGeom>
                <a:avLst/>
                <a:gdLst>
                  <a:gd name="textAreaLeft" fmla="*/ 0 w 383760"/>
                  <a:gd name="textAreaRight" fmla="*/ 384120 w 383760"/>
                  <a:gd name="textAreaTop" fmla="*/ 0 h 69120"/>
                  <a:gd name="textAreaBottom" fmla="*/ 69480 h 69120"/>
                </a:gdLst>
                <a:ahLst/>
                <a:rect l="textAreaLeft" t="textAreaTop" r="textAreaRight" b="textAreaBottom"/>
                <a:pathLst>
                  <a:path w="759" h="332">
                    <a:moveTo>
                      <a:pt x="292" y="0"/>
                    </a:moveTo>
                    <a:lnTo>
                      <a:pt x="0" y="15"/>
                    </a:lnTo>
                    <a:lnTo>
                      <a:pt x="221" y="332"/>
                    </a:lnTo>
                    <a:lnTo>
                      <a:pt x="759" y="291"/>
                    </a:lnTo>
                    <a:lnTo>
                      <a:pt x="700" y="251"/>
                    </a:lnTo>
                    <a:lnTo>
                      <a:pt x="261" y="266"/>
                    </a:lnTo>
                    <a:lnTo>
                      <a:pt x="145" y="71"/>
                    </a:lnTo>
                    <a:lnTo>
                      <a:pt x="360" y="19"/>
                    </a:lnTo>
                    <a:lnTo>
                      <a:pt x="29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Freeform 195"/>
              <p:cNvSpPr/>
              <p:nvPr/>
            </p:nvSpPr>
            <p:spPr>
              <a:xfrm>
                <a:off x="7008840" y="2439360"/>
                <a:ext cx="331920" cy="17280"/>
              </a:xfrm>
              <a:custGeom>
                <a:avLst/>
                <a:gdLst>
                  <a:gd name="textAreaLeft" fmla="*/ 0 w 331920"/>
                  <a:gd name="textAreaRight" fmla="*/ 332280 w 33192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657" h="84">
                    <a:moveTo>
                      <a:pt x="0" y="84"/>
                    </a:moveTo>
                    <a:lnTo>
                      <a:pt x="113" y="71"/>
                    </a:lnTo>
                    <a:lnTo>
                      <a:pt x="337" y="42"/>
                    </a:lnTo>
                    <a:lnTo>
                      <a:pt x="558" y="13"/>
                    </a:lnTo>
                    <a:lnTo>
                      <a:pt x="657" y="0"/>
                    </a:lnTo>
                    <a:lnTo>
                      <a:pt x="164" y="17"/>
                    </a:lnTo>
                    <a:lnTo>
                      <a:pt x="0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Freeform 196"/>
              <p:cNvSpPr/>
              <p:nvPr/>
            </p:nvSpPr>
            <p:spPr>
              <a:xfrm>
                <a:off x="6433560" y="2020320"/>
                <a:ext cx="922680" cy="93600"/>
              </a:xfrm>
              <a:custGeom>
                <a:avLst/>
                <a:gdLst>
                  <a:gd name="textAreaLeft" fmla="*/ 0 w 922680"/>
                  <a:gd name="textAreaRight" fmla="*/ 923040 w 922680"/>
                  <a:gd name="textAreaTop" fmla="*/ 0 h 93600"/>
                  <a:gd name="textAreaBottom" fmla="*/ 93960 h 93600"/>
                </a:gdLst>
                <a:ahLst/>
                <a:rect l="textAreaLeft" t="textAreaTop" r="textAreaRight" b="textAreaBottom"/>
                <a:pathLst>
                  <a:path w="1825" h="451">
                    <a:moveTo>
                      <a:pt x="1825" y="97"/>
                    </a:moveTo>
                    <a:lnTo>
                      <a:pt x="1527" y="47"/>
                    </a:lnTo>
                    <a:lnTo>
                      <a:pt x="1472" y="4"/>
                    </a:lnTo>
                    <a:lnTo>
                      <a:pt x="1391" y="0"/>
                    </a:lnTo>
                    <a:lnTo>
                      <a:pt x="0" y="308"/>
                    </a:lnTo>
                    <a:lnTo>
                      <a:pt x="451" y="451"/>
                    </a:lnTo>
                    <a:lnTo>
                      <a:pt x="1628" y="153"/>
                    </a:lnTo>
                    <a:lnTo>
                      <a:pt x="433" y="385"/>
                    </a:lnTo>
                    <a:lnTo>
                      <a:pt x="310" y="305"/>
                    </a:lnTo>
                    <a:lnTo>
                      <a:pt x="1400" y="42"/>
                    </a:lnTo>
                    <a:lnTo>
                      <a:pt x="1476" y="63"/>
                    </a:lnTo>
                    <a:lnTo>
                      <a:pt x="1825" y="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Freeform 197"/>
              <p:cNvSpPr/>
              <p:nvPr/>
            </p:nvSpPr>
            <p:spPr>
              <a:xfrm>
                <a:off x="7116840" y="2213280"/>
                <a:ext cx="477720" cy="79920"/>
              </a:xfrm>
              <a:custGeom>
                <a:avLst/>
                <a:gdLst>
                  <a:gd name="textAreaLeft" fmla="*/ 0 w 477720"/>
                  <a:gd name="textAreaRight" fmla="*/ 478080 w 477720"/>
                  <a:gd name="textAreaTop" fmla="*/ 0 h 79920"/>
                  <a:gd name="textAreaBottom" fmla="*/ 80280 h 79920"/>
                </a:gdLst>
                <a:ahLst/>
                <a:rect l="textAreaLeft" t="textAreaTop" r="textAreaRight" b="textAreaBottom"/>
                <a:pathLst>
                  <a:path w="945" h="382">
                    <a:moveTo>
                      <a:pt x="0" y="382"/>
                    </a:moveTo>
                    <a:lnTo>
                      <a:pt x="272" y="118"/>
                    </a:lnTo>
                    <a:lnTo>
                      <a:pt x="663" y="0"/>
                    </a:lnTo>
                    <a:lnTo>
                      <a:pt x="945" y="118"/>
                    </a:lnTo>
                    <a:lnTo>
                      <a:pt x="0" y="382"/>
                    </a:lnTo>
                    <a:close/>
                  </a:path>
                </a:pathLst>
              </a:custGeom>
              <a:solidFill>
                <a:srgbClr val="f7a8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Freeform 198"/>
              <p:cNvSpPr/>
              <p:nvPr/>
            </p:nvSpPr>
            <p:spPr>
              <a:xfrm>
                <a:off x="6883200" y="2194920"/>
                <a:ext cx="851040" cy="244080"/>
              </a:xfrm>
              <a:custGeom>
                <a:avLst/>
                <a:gdLst>
                  <a:gd name="textAreaLeft" fmla="*/ 0 w 851040"/>
                  <a:gd name="textAreaRight" fmla="*/ 851400 w 851040"/>
                  <a:gd name="textAreaTop" fmla="*/ 0 h 244080"/>
                  <a:gd name="textAreaBottom" fmla="*/ 244080 h 244080"/>
                </a:gdLst>
                <a:ahLst/>
                <a:rect l="textAreaLeft" t="textAreaTop" r="textAreaRight" b="textAreaBottom"/>
                <a:pathLst>
                  <a:path w="1682" h="1174">
                    <a:moveTo>
                      <a:pt x="939" y="0"/>
                    </a:moveTo>
                    <a:lnTo>
                      <a:pt x="1648" y="189"/>
                    </a:lnTo>
                    <a:lnTo>
                      <a:pt x="1682" y="300"/>
                    </a:lnTo>
                    <a:lnTo>
                      <a:pt x="1338" y="417"/>
                    </a:lnTo>
                    <a:lnTo>
                      <a:pt x="1293" y="505"/>
                    </a:lnTo>
                    <a:lnTo>
                      <a:pt x="1316" y="605"/>
                    </a:lnTo>
                    <a:lnTo>
                      <a:pt x="1366" y="678"/>
                    </a:lnTo>
                    <a:lnTo>
                      <a:pt x="1465" y="732"/>
                    </a:lnTo>
                    <a:lnTo>
                      <a:pt x="0" y="1174"/>
                    </a:lnTo>
                    <a:lnTo>
                      <a:pt x="1348" y="716"/>
                    </a:lnTo>
                    <a:lnTo>
                      <a:pt x="1259" y="662"/>
                    </a:lnTo>
                    <a:lnTo>
                      <a:pt x="828" y="755"/>
                    </a:lnTo>
                    <a:lnTo>
                      <a:pt x="1237" y="600"/>
                    </a:lnTo>
                    <a:lnTo>
                      <a:pt x="1243" y="473"/>
                    </a:lnTo>
                    <a:lnTo>
                      <a:pt x="368" y="666"/>
                    </a:lnTo>
                    <a:lnTo>
                      <a:pt x="346" y="573"/>
                    </a:lnTo>
                    <a:lnTo>
                      <a:pt x="1642" y="226"/>
                    </a:lnTo>
                    <a:lnTo>
                      <a:pt x="982" y="68"/>
                    </a:lnTo>
                    <a:lnTo>
                      <a:pt x="474" y="235"/>
                    </a:lnTo>
                    <a:lnTo>
                      <a:pt x="93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Freeform 199"/>
              <p:cNvSpPr/>
              <p:nvPr/>
            </p:nvSpPr>
            <p:spPr>
              <a:xfrm>
                <a:off x="7294320" y="2413080"/>
                <a:ext cx="149760" cy="29160"/>
              </a:xfrm>
              <a:custGeom>
                <a:avLst/>
                <a:gdLst>
                  <a:gd name="textAreaLeft" fmla="*/ 0 w 149760"/>
                  <a:gd name="textAreaRight" fmla="*/ 150120 w 149760"/>
                  <a:gd name="textAreaTop" fmla="*/ 0 h 29160"/>
                  <a:gd name="textAreaBottom" fmla="*/ 29520 h 29160"/>
                </a:gdLst>
                <a:ahLst/>
                <a:rect l="textAreaLeft" t="textAreaTop" r="textAreaRight" b="textAreaBottom"/>
                <a:pathLst>
                  <a:path w="297" h="141">
                    <a:moveTo>
                      <a:pt x="197" y="0"/>
                    </a:moveTo>
                    <a:lnTo>
                      <a:pt x="297" y="121"/>
                    </a:lnTo>
                    <a:lnTo>
                      <a:pt x="0" y="141"/>
                    </a:lnTo>
                    <a:lnTo>
                      <a:pt x="169" y="88"/>
                    </a:lnTo>
                    <a:lnTo>
                      <a:pt x="129" y="13"/>
                    </a:lnTo>
                    <a:lnTo>
                      <a:pt x="19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41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Номер слайда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042920" y="691920"/>
            <a:ext cx="6842160" cy="215640"/>
          </a:xfrm>
          <a:prstGeom prst="rect">
            <a:avLst/>
          </a:prstGeom>
          <a:solidFill>
            <a:srgbClr val="8df076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Содержание учебников в «Школе 2100» ( с 1998 г.) – 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п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о </a:t>
            </a: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принципу минимакса:</a:t>
            </a:r>
            <a:r>
              <a:rPr b="0" lang="ru-RU" sz="37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3700" spc="-1" strike="noStrike">
              <a:solidFill>
                <a:srgbClr val="ff0000"/>
              </a:solidFill>
              <a:latin typeface="Calibri"/>
            </a:endParaRPr>
          </a:p>
        </p:txBody>
      </p:sp>
      <p:grpSp>
        <p:nvGrpSpPr>
          <p:cNvPr id="344" name="Group 3"/>
          <p:cNvGrpSpPr/>
          <p:nvPr/>
        </p:nvGrpSpPr>
        <p:grpSpPr>
          <a:xfrm>
            <a:off x="468360" y="1197000"/>
            <a:ext cx="1870920" cy="1870920"/>
            <a:chOff x="468360" y="1197000"/>
            <a:chExt cx="1870920" cy="1870920"/>
          </a:xfrm>
        </p:grpSpPr>
        <p:grpSp>
          <p:nvGrpSpPr>
            <p:cNvPr id="345" name="Group 4"/>
            <p:cNvGrpSpPr/>
            <p:nvPr/>
          </p:nvGrpSpPr>
          <p:grpSpPr>
            <a:xfrm>
              <a:off x="540000" y="2118960"/>
              <a:ext cx="1799280" cy="948960"/>
              <a:chOff x="540000" y="2118960"/>
              <a:chExt cx="1799280" cy="948960"/>
            </a:xfrm>
          </p:grpSpPr>
          <p:sp>
            <p:nvSpPr>
              <p:cNvPr id="346" name="Freeform 5"/>
              <p:cNvSpPr/>
              <p:nvPr/>
            </p:nvSpPr>
            <p:spPr>
              <a:xfrm>
                <a:off x="662040" y="2226600"/>
                <a:ext cx="1275840" cy="808560"/>
              </a:xfrm>
              <a:custGeom>
                <a:avLst/>
                <a:gdLst>
                  <a:gd name="textAreaLeft" fmla="*/ 0 w 1275840"/>
                  <a:gd name="textAreaRight" fmla="*/ 1276200 w 1275840"/>
                  <a:gd name="textAreaTop" fmla="*/ 0 h 808560"/>
                  <a:gd name="textAreaBottom" fmla="*/ 808920 h 808560"/>
                </a:gdLst>
                <a:ahLst/>
                <a:rect l="textAreaLeft" t="textAreaTop" r="textAreaRight" b="textAreaBottom"/>
                <a:pathLst>
                  <a:path w="2566" h="2741">
                    <a:moveTo>
                      <a:pt x="92" y="0"/>
                    </a:moveTo>
                    <a:lnTo>
                      <a:pt x="94" y="307"/>
                    </a:lnTo>
                    <a:lnTo>
                      <a:pt x="10" y="530"/>
                    </a:lnTo>
                    <a:lnTo>
                      <a:pt x="364" y="818"/>
                    </a:lnTo>
                    <a:lnTo>
                      <a:pt x="0" y="1593"/>
                    </a:lnTo>
                    <a:lnTo>
                      <a:pt x="560" y="2741"/>
                    </a:lnTo>
                    <a:lnTo>
                      <a:pt x="1750" y="2587"/>
                    </a:lnTo>
                    <a:lnTo>
                      <a:pt x="2566" y="1882"/>
                    </a:lnTo>
                    <a:lnTo>
                      <a:pt x="1775" y="222"/>
                    </a:lnTo>
                    <a:lnTo>
                      <a:pt x="9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Freeform 6"/>
              <p:cNvSpPr/>
              <p:nvPr/>
            </p:nvSpPr>
            <p:spPr>
              <a:xfrm>
                <a:off x="618840" y="2501280"/>
                <a:ext cx="288720" cy="288360"/>
              </a:xfrm>
              <a:custGeom>
                <a:avLst/>
                <a:gdLst>
                  <a:gd name="textAreaLeft" fmla="*/ 0 w 288720"/>
                  <a:gd name="textAreaRight" fmla="*/ 289080 w 288720"/>
                  <a:gd name="textAreaTop" fmla="*/ 0 h 288360"/>
                  <a:gd name="textAreaBottom" fmla="*/ 288720 h 288360"/>
                </a:gdLst>
                <a:ahLst/>
                <a:rect l="textAreaLeft" t="textAreaTop" r="textAreaRight" b="textAreaBottom"/>
                <a:pathLst>
                  <a:path w="582" h="978">
                    <a:moveTo>
                      <a:pt x="300" y="0"/>
                    </a:moveTo>
                    <a:lnTo>
                      <a:pt x="0" y="48"/>
                    </a:lnTo>
                    <a:lnTo>
                      <a:pt x="37" y="135"/>
                    </a:lnTo>
                    <a:lnTo>
                      <a:pt x="582" y="978"/>
                    </a:lnTo>
                    <a:lnTo>
                      <a:pt x="339" y="126"/>
                    </a:lnTo>
                    <a:lnTo>
                      <a:pt x="300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Freeform 7"/>
              <p:cNvSpPr/>
              <p:nvPr/>
            </p:nvSpPr>
            <p:spPr>
              <a:xfrm>
                <a:off x="581400" y="2642760"/>
                <a:ext cx="718560" cy="405360"/>
              </a:xfrm>
              <a:custGeom>
                <a:avLst/>
                <a:gdLst>
                  <a:gd name="textAreaLeft" fmla="*/ 0 w 718560"/>
                  <a:gd name="textAreaRight" fmla="*/ 718920 w 718560"/>
                  <a:gd name="textAreaTop" fmla="*/ 0 h 405360"/>
                  <a:gd name="textAreaBottom" fmla="*/ 405720 h 405360"/>
                </a:gdLst>
                <a:ahLst/>
                <a:rect l="textAreaLeft" t="textAreaTop" r="textAreaRight" b="textAreaBottom"/>
                <a:pathLst>
                  <a:path w="1445" h="1374">
                    <a:moveTo>
                      <a:pt x="247" y="0"/>
                    </a:moveTo>
                    <a:lnTo>
                      <a:pt x="0" y="93"/>
                    </a:lnTo>
                    <a:lnTo>
                      <a:pt x="656" y="1374"/>
                    </a:lnTo>
                    <a:lnTo>
                      <a:pt x="1445" y="1331"/>
                    </a:lnTo>
                    <a:lnTo>
                      <a:pt x="719" y="1182"/>
                    </a:lnTo>
                    <a:lnTo>
                      <a:pt x="204" y="156"/>
                    </a:lnTo>
                    <a:lnTo>
                      <a:pt x="247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Freeform 8"/>
              <p:cNvSpPr/>
              <p:nvPr/>
            </p:nvSpPr>
            <p:spPr>
              <a:xfrm>
                <a:off x="556560" y="2127600"/>
                <a:ext cx="840600" cy="252000"/>
              </a:xfrm>
              <a:custGeom>
                <a:avLst/>
                <a:gdLst>
                  <a:gd name="textAreaLeft" fmla="*/ 0 w 840600"/>
                  <a:gd name="textAreaRight" fmla="*/ 840960 w 840600"/>
                  <a:gd name="textAreaTop" fmla="*/ 0 h 252000"/>
                  <a:gd name="textAreaBottom" fmla="*/ 252360 h 252000"/>
                </a:gdLst>
                <a:ahLst/>
                <a:rect l="textAreaLeft" t="textAreaTop" r="textAreaRight" b="textAreaBottom"/>
                <a:pathLst>
                  <a:path w="1694" h="855">
                    <a:moveTo>
                      <a:pt x="1463" y="0"/>
                    </a:moveTo>
                    <a:lnTo>
                      <a:pt x="20" y="275"/>
                    </a:lnTo>
                    <a:lnTo>
                      <a:pt x="0" y="335"/>
                    </a:lnTo>
                    <a:lnTo>
                      <a:pt x="1389" y="855"/>
                    </a:lnTo>
                    <a:lnTo>
                      <a:pt x="1694" y="731"/>
                    </a:lnTo>
                    <a:lnTo>
                      <a:pt x="845" y="455"/>
                    </a:lnTo>
                    <a:lnTo>
                      <a:pt x="1509" y="75"/>
                    </a:lnTo>
                    <a:lnTo>
                      <a:pt x="1463" y="0"/>
                    </a:lnTo>
                    <a:close/>
                  </a:path>
                </a:pathLst>
              </a:custGeom>
              <a:solidFill>
                <a:srgbClr val="f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Freeform 9"/>
              <p:cNvSpPr/>
              <p:nvPr/>
            </p:nvSpPr>
            <p:spPr>
              <a:xfrm>
                <a:off x="575640" y="2342520"/>
                <a:ext cx="897120" cy="240480"/>
              </a:xfrm>
              <a:custGeom>
                <a:avLst/>
                <a:gdLst>
                  <a:gd name="textAreaLeft" fmla="*/ 0 w 897120"/>
                  <a:gd name="textAreaRight" fmla="*/ 897480 w 897120"/>
                  <a:gd name="textAreaTop" fmla="*/ 0 h 240480"/>
                  <a:gd name="textAreaBottom" fmla="*/ 240840 h 240480"/>
                </a:gdLst>
                <a:ahLst/>
                <a:rect l="textAreaLeft" t="textAreaTop" r="textAreaRight" b="textAreaBottom"/>
                <a:pathLst>
                  <a:path w="1806" h="816">
                    <a:moveTo>
                      <a:pt x="241" y="0"/>
                    </a:moveTo>
                    <a:lnTo>
                      <a:pt x="0" y="101"/>
                    </a:lnTo>
                    <a:lnTo>
                      <a:pt x="0" y="172"/>
                    </a:lnTo>
                    <a:lnTo>
                      <a:pt x="1349" y="816"/>
                    </a:lnTo>
                    <a:lnTo>
                      <a:pt x="1779" y="687"/>
                    </a:lnTo>
                    <a:lnTo>
                      <a:pt x="1806" y="570"/>
                    </a:lnTo>
                    <a:lnTo>
                      <a:pt x="1574" y="551"/>
                    </a:lnTo>
                    <a:lnTo>
                      <a:pt x="1344" y="636"/>
                    </a:lnTo>
                    <a:lnTo>
                      <a:pt x="207" y="129"/>
                    </a:lnTo>
                    <a:lnTo>
                      <a:pt x="241" y="0"/>
                    </a:lnTo>
                    <a:close/>
                  </a:path>
                </a:pathLst>
              </a:custGeom>
              <a:solidFill>
                <a:srgbClr val="f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Freeform 10"/>
              <p:cNvSpPr/>
              <p:nvPr/>
            </p:nvSpPr>
            <p:spPr>
              <a:xfrm>
                <a:off x="733680" y="2456640"/>
                <a:ext cx="676800" cy="318600"/>
              </a:xfrm>
              <a:custGeom>
                <a:avLst/>
                <a:gdLst>
                  <a:gd name="textAreaLeft" fmla="*/ 0 w 676800"/>
                  <a:gd name="textAreaRight" fmla="*/ 677160 w 676800"/>
                  <a:gd name="textAreaTop" fmla="*/ 0 h 318600"/>
                  <a:gd name="textAreaBottom" fmla="*/ 318960 h 318600"/>
                </a:gdLst>
                <a:ahLst/>
                <a:rect l="textAreaLeft" t="textAreaTop" r="textAreaRight" b="textAreaBottom"/>
                <a:pathLst>
                  <a:path w="1360" h="1080">
                    <a:moveTo>
                      <a:pt x="6" y="59"/>
                    </a:moveTo>
                    <a:lnTo>
                      <a:pt x="0" y="180"/>
                    </a:lnTo>
                    <a:lnTo>
                      <a:pt x="10" y="314"/>
                    </a:lnTo>
                    <a:lnTo>
                      <a:pt x="78" y="384"/>
                    </a:lnTo>
                    <a:lnTo>
                      <a:pt x="226" y="419"/>
                    </a:lnTo>
                    <a:lnTo>
                      <a:pt x="805" y="844"/>
                    </a:lnTo>
                    <a:lnTo>
                      <a:pt x="1060" y="1040"/>
                    </a:lnTo>
                    <a:lnTo>
                      <a:pt x="1244" y="1080"/>
                    </a:lnTo>
                    <a:lnTo>
                      <a:pt x="1219" y="835"/>
                    </a:lnTo>
                    <a:lnTo>
                      <a:pt x="1360" y="465"/>
                    </a:lnTo>
                    <a:lnTo>
                      <a:pt x="1075" y="450"/>
                    </a:lnTo>
                    <a:lnTo>
                      <a:pt x="50" y="0"/>
                    </a:lnTo>
                    <a:lnTo>
                      <a:pt x="6" y="59"/>
                    </a:lnTo>
                    <a:close/>
                  </a:path>
                </a:pathLst>
              </a:custGeom>
              <a:solidFill>
                <a:srgbClr val="f7a8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Freeform 11"/>
              <p:cNvSpPr/>
              <p:nvPr/>
            </p:nvSpPr>
            <p:spPr>
              <a:xfrm>
                <a:off x="1145160" y="2185200"/>
                <a:ext cx="818280" cy="114840"/>
              </a:xfrm>
              <a:custGeom>
                <a:avLst/>
                <a:gdLst>
                  <a:gd name="textAreaLeft" fmla="*/ 0 w 818280"/>
                  <a:gd name="textAreaRight" fmla="*/ 818640 w 818280"/>
                  <a:gd name="textAreaTop" fmla="*/ 0 h 114840"/>
                  <a:gd name="textAreaBottom" fmla="*/ 115200 h 114840"/>
                </a:gdLst>
                <a:ahLst/>
                <a:rect l="textAreaLeft" t="textAreaTop" r="textAreaRight" b="textAreaBottom"/>
                <a:pathLst>
                  <a:path w="1646" h="390">
                    <a:moveTo>
                      <a:pt x="0" y="292"/>
                    </a:moveTo>
                    <a:lnTo>
                      <a:pt x="53" y="273"/>
                    </a:lnTo>
                    <a:lnTo>
                      <a:pt x="191" y="238"/>
                    </a:lnTo>
                    <a:lnTo>
                      <a:pt x="281" y="216"/>
                    </a:lnTo>
                    <a:lnTo>
                      <a:pt x="383" y="190"/>
                    </a:lnTo>
                    <a:lnTo>
                      <a:pt x="490" y="165"/>
                    </a:lnTo>
                    <a:lnTo>
                      <a:pt x="602" y="139"/>
                    </a:lnTo>
                    <a:lnTo>
                      <a:pt x="715" y="112"/>
                    </a:lnTo>
                    <a:lnTo>
                      <a:pt x="822" y="87"/>
                    </a:lnTo>
                    <a:lnTo>
                      <a:pt x="924" y="64"/>
                    </a:lnTo>
                    <a:lnTo>
                      <a:pt x="1014" y="43"/>
                    </a:lnTo>
                    <a:lnTo>
                      <a:pt x="1150" y="12"/>
                    </a:lnTo>
                    <a:lnTo>
                      <a:pt x="1202" y="0"/>
                    </a:lnTo>
                    <a:lnTo>
                      <a:pt x="1646" y="75"/>
                    </a:lnTo>
                    <a:lnTo>
                      <a:pt x="158" y="390"/>
                    </a:lnTo>
                    <a:lnTo>
                      <a:pt x="0" y="292"/>
                    </a:lnTo>
                    <a:close/>
                  </a:path>
                </a:pathLst>
              </a:custGeom>
              <a:solidFill>
                <a:srgbClr val="f0ea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Freeform 12"/>
              <p:cNvSpPr/>
              <p:nvPr/>
            </p:nvSpPr>
            <p:spPr>
              <a:xfrm>
                <a:off x="1134360" y="2602080"/>
                <a:ext cx="128160" cy="122760"/>
              </a:xfrm>
              <a:custGeom>
                <a:avLst/>
                <a:gdLst>
                  <a:gd name="textAreaLeft" fmla="*/ 0 w 128160"/>
                  <a:gd name="textAreaRight" fmla="*/ 128520 w 128160"/>
                  <a:gd name="textAreaTop" fmla="*/ 0 h 122760"/>
                  <a:gd name="textAreaBottom" fmla="*/ 123120 h 122760"/>
                </a:gdLst>
                <a:ahLst/>
                <a:rect l="textAreaLeft" t="textAreaTop" r="textAreaRight" b="textAreaBottom"/>
                <a:pathLst>
                  <a:path w="259" h="417">
                    <a:moveTo>
                      <a:pt x="75" y="0"/>
                    </a:moveTo>
                    <a:lnTo>
                      <a:pt x="259" y="21"/>
                    </a:lnTo>
                    <a:lnTo>
                      <a:pt x="135" y="241"/>
                    </a:lnTo>
                    <a:lnTo>
                      <a:pt x="110" y="417"/>
                    </a:lnTo>
                    <a:lnTo>
                      <a:pt x="0" y="350"/>
                    </a:lnTo>
                    <a:lnTo>
                      <a:pt x="25" y="80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f0ea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Freeform 13"/>
              <p:cNvSpPr/>
              <p:nvPr/>
            </p:nvSpPr>
            <p:spPr>
              <a:xfrm>
                <a:off x="1040760" y="2724840"/>
                <a:ext cx="209880" cy="72360"/>
              </a:xfrm>
              <a:custGeom>
                <a:avLst/>
                <a:gdLst>
                  <a:gd name="textAreaLeft" fmla="*/ 0 w 209880"/>
                  <a:gd name="textAreaRight" fmla="*/ 210240 w 209880"/>
                  <a:gd name="textAreaTop" fmla="*/ 0 h 72360"/>
                  <a:gd name="textAreaBottom" fmla="*/ 72720 h 72360"/>
                </a:gdLst>
                <a:ahLst/>
                <a:rect l="textAreaLeft" t="textAreaTop" r="textAreaRight" b="textAreaBottom"/>
                <a:pathLst>
                  <a:path w="423" h="247">
                    <a:moveTo>
                      <a:pt x="0" y="16"/>
                    </a:moveTo>
                    <a:lnTo>
                      <a:pt x="174" y="0"/>
                    </a:lnTo>
                    <a:lnTo>
                      <a:pt x="423" y="201"/>
                    </a:lnTo>
                    <a:lnTo>
                      <a:pt x="44" y="247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f0ea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Freeform 14"/>
              <p:cNvSpPr/>
              <p:nvPr/>
            </p:nvSpPr>
            <p:spPr>
              <a:xfrm>
                <a:off x="982800" y="2804400"/>
                <a:ext cx="1182240" cy="221040"/>
              </a:xfrm>
              <a:custGeom>
                <a:avLst/>
                <a:gdLst>
                  <a:gd name="textAreaLeft" fmla="*/ 0 w 1182240"/>
                  <a:gd name="textAreaRight" fmla="*/ 1182600 w 1182240"/>
                  <a:gd name="textAreaTop" fmla="*/ 0 h 221040"/>
                  <a:gd name="textAreaBottom" fmla="*/ 221400 h 221040"/>
                </a:gdLst>
                <a:ahLst/>
                <a:rect l="textAreaLeft" t="textAreaTop" r="textAreaRight" b="textAreaBottom"/>
                <a:pathLst>
                  <a:path w="2378" h="751">
                    <a:moveTo>
                      <a:pt x="155" y="301"/>
                    </a:moveTo>
                    <a:lnTo>
                      <a:pt x="129" y="450"/>
                    </a:lnTo>
                    <a:lnTo>
                      <a:pt x="0" y="601"/>
                    </a:lnTo>
                    <a:lnTo>
                      <a:pt x="563" y="751"/>
                    </a:lnTo>
                    <a:lnTo>
                      <a:pt x="1684" y="647"/>
                    </a:lnTo>
                    <a:lnTo>
                      <a:pt x="1763" y="616"/>
                    </a:lnTo>
                    <a:lnTo>
                      <a:pt x="1913" y="647"/>
                    </a:lnTo>
                    <a:lnTo>
                      <a:pt x="2042" y="630"/>
                    </a:lnTo>
                    <a:lnTo>
                      <a:pt x="2187" y="607"/>
                    </a:lnTo>
                    <a:lnTo>
                      <a:pt x="2221" y="580"/>
                    </a:lnTo>
                    <a:lnTo>
                      <a:pt x="2276" y="534"/>
                    </a:lnTo>
                    <a:lnTo>
                      <a:pt x="2326" y="490"/>
                    </a:lnTo>
                    <a:lnTo>
                      <a:pt x="2348" y="471"/>
                    </a:lnTo>
                    <a:lnTo>
                      <a:pt x="2378" y="186"/>
                    </a:lnTo>
                    <a:lnTo>
                      <a:pt x="2218" y="0"/>
                    </a:lnTo>
                    <a:lnTo>
                      <a:pt x="1439" y="140"/>
                    </a:lnTo>
                    <a:lnTo>
                      <a:pt x="155" y="301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Freeform 15"/>
              <p:cNvSpPr/>
              <p:nvPr/>
            </p:nvSpPr>
            <p:spPr>
              <a:xfrm>
                <a:off x="660600" y="2521440"/>
                <a:ext cx="1522080" cy="510480"/>
              </a:xfrm>
              <a:custGeom>
                <a:avLst/>
                <a:gdLst>
                  <a:gd name="textAreaLeft" fmla="*/ 0 w 1522080"/>
                  <a:gd name="textAreaRight" fmla="*/ 1522440 w 1522080"/>
                  <a:gd name="textAreaTop" fmla="*/ 0 h 510480"/>
                  <a:gd name="textAreaBottom" fmla="*/ 510840 h 510480"/>
                </a:gdLst>
                <a:ahLst/>
                <a:rect l="textAreaLeft" t="textAreaTop" r="textAreaRight" b="textAreaBottom"/>
                <a:pathLst>
                  <a:path w="3063" h="1730">
                    <a:moveTo>
                      <a:pt x="15" y="29"/>
                    </a:moveTo>
                    <a:lnTo>
                      <a:pt x="134" y="0"/>
                    </a:lnTo>
                    <a:lnTo>
                      <a:pt x="205" y="184"/>
                    </a:lnTo>
                    <a:lnTo>
                      <a:pt x="306" y="212"/>
                    </a:lnTo>
                    <a:lnTo>
                      <a:pt x="880" y="630"/>
                    </a:lnTo>
                    <a:lnTo>
                      <a:pt x="669" y="680"/>
                    </a:lnTo>
                    <a:lnTo>
                      <a:pt x="809" y="936"/>
                    </a:lnTo>
                    <a:lnTo>
                      <a:pt x="1284" y="885"/>
                    </a:lnTo>
                    <a:lnTo>
                      <a:pt x="1594" y="980"/>
                    </a:lnTo>
                    <a:lnTo>
                      <a:pt x="2453" y="705"/>
                    </a:lnTo>
                    <a:lnTo>
                      <a:pt x="2883" y="730"/>
                    </a:lnTo>
                    <a:lnTo>
                      <a:pt x="3063" y="970"/>
                    </a:lnTo>
                    <a:lnTo>
                      <a:pt x="3014" y="1427"/>
                    </a:lnTo>
                    <a:lnTo>
                      <a:pt x="2858" y="1555"/>
                    </a:lnTo>
                    <a:lnTo>
                      <a:pt x="2537" y="1614"/>
                    </a:lnTo>
                    <a:lnTo>
                      <a:pt x="2388" y="1581"/>
                    </a:lnTo>
                    <a:lnTo>
                      <a:pt x="2269" y="1620"/>
                    </a:lnTo>
                    <a:lnTo>
                      <a:pt x="1115" y="1730"/>
                    </a:lnTo>
                    <a:lnTo>
                      <a:pt x="561" y="1594"/>
                    </a:lnTo>
                    <a:lnTo>
                      <a:pt x="964" y="1535"/>
                    </a:lnTo>
                    <a:lnTo>
                      <a:pt x="2554" y="1409"/>
                    </a:lnTo>
                    <a:lnTo>
                      <a:pt x="2808" y="1395"/>
                    </a:lnTo>
                    <a:lnTo>
                      <a:pt x="2908" y="1160"/>
                    </a:lnTo>
                    <a:lnTo>
                      <a:pt x="2892" y="1133"/>
                    </a:lnTo>
                    <a:lnTo>
                      <a:pt x="2855" y="1074"/>
                    </a:lnTo>
                    <a:lnTo>
                      <a:pt x="2834" y="1042"/>
                    </a:lnTo>
                    <a:lnTo>
                      <a:pt x="2815" y="1012"/>
                    </a:lnTo>
                    <a:lnTo>
                      <a:pt x="2788" y="980"/>
                    </a:lnTo>
                    <a:lnTo>
                      <a:pt x="2536" y="1006"/>
                    </a:lnTo>
                    <a:lnTo>
                      <a:pt x="2372" y="1029"/>
                    </a:lnTo>
                    <a:lnTo>
                      <a:pt x="2298" y="1040"/>
                    </a:lnTo>
                    <a:lnTo>
                      <a:pt x="784" y="1215"/>
                    </a:lnTo>
                    <a:lnTo>
                      <a:pt x="703" y="1237"/>
                    </a:lnTo>
                    <a:lnTo>
                      <a:pt x="0" y="119"/>
                    </a:lnTo>
                    <a:lnTo>
                      <a:pt x="459" y="710"/>
                    </a:lnTo>
                    <a:lnTo>
                      <a:pt x="15" y="29"/>
                    </a:lnTo>
                    <a:close/>
                  </a:path>
                </a:pathLst>
              </a:custGeom>
              <a:solidFill>
                <a:srgbClr val="7a7a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Freeform 16"/>
              <p:cNvSpPr/>
              <p:nvPr/>
            </p:nvSpPr>
            <p:spPr>
              <a:xfrm>
                <a:off x="1702800" y="2720520"/>
                <a:ext cx="294840" cy="52920"/>
              </a:xfrm>
              <a:custGeom>
                <a:avLst/>
                <a:gdLst>
                  <a:gd name="textAreaLeft" fmla="*/ 0 w 294840"/>
                  <a:gd name="textAreaRight" fmla="*/ 295200 w 29484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593" h="178">
                    <a:moveTo>
                      <a:pt x="0" y="178"/>
                    </a:moveTo>
                    <a:lnTo>
                      <a:pt x="423" y="161"/>
                    </a:lnTo>
                    <a:lnTo>
                      <a:pt x="593" y="142"/>
                    </a:lnTo>
                    <a:lnTo>
                      <a:pt x="519" y="68"/>
                    </a:lnTo>
                    <a:lnTo>
                      <a:pt x="546" y="0"/>
                    </a:lnTo>
                    <a:lnTo>
                      <a:pt x="380" y="29"/>
                    </a:lnTo>
                    <a:lnTo>
                      <a:pt x="155" y="124"/>
                    </a:lnTo>
                    <a:lnTo>
                      <a:pt x="0" y="178"/>
                    </a:lnTo>
                    <a:close/>
                  </a:path>
                </a:pathLst>
              </a:custGeom>
              <a:solidFill>
                <a:srgbClr val="948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Freeform 17"/>
              <p:cNvSpPr/>
              <p:nvPr/>
            </p:nvSpPr>
            <p:spPr>
              <a:xfrm>
                <a:off x="1117080" y="2584080"/>
                <a:ext cx="131040" cy="140400"/>
              </a:xfrm>
              <a:custGeom>
                <a:avLst/>
                <a:gdLst>
                  <a:gd name="textAreaLeft" fmla="*/ 0 w 131040"/>
                  <a:gd name="textAreaRight" fmla="*/ 131400 w 131040"/>
                  <a:gd name="textAreaTop" fmla="*/ 0 h 140400"/>
                  <a:gd name="textAreaBottom" fmla="*/ 140760 h 140400"/>
                </a:gdLst>
                <a:ahLst/>
                <a:rect l="textAreaLeft" t="textAreaTop" r="textAreaRight" b="textAreaBottom"/>
                <a:pathLst>
                  <a:path w="264" h="477">
                    <a:moveTo>
                      <a:pt x="9" y="420"/>
                    </a:moveTo>
                    <a:lnTo>
                      <a:pt x="0" y="266"/>
                    </a:lnTo>
                    <a:lnTo>
                      <a:pt x="59" y="96"/>
                    </a:lnTo>
                    <a:lnTo>
                      <a:pt x="109" y="0"/>
                    </a:lnTo>
                    <a:lnTo>
                      <a:pt x="264" y="81"/>
                    </a:lnTo>
                    <a:lnTo>
                      <a:pt x="214" y="106"/>
                    </a:lnTo>
                    <a:lnTo>
                      <a:pt x="119" y="131"/>
                    </a:lnTo>
                    <a:lnTo>
                      <a:pt x="73" y="245"/>
                    </a:lnTo>
                    <a:lnTo>
                      <a:pt x="73" y="366"/>
                    </a:lnTo>
                    <a:lnTo>
                      <a:pt x="144" y="477"/>
                    </a:lnTo>
                    <a:lnTo>
                      <a:pt x="9" y="420"/>
                    </a:lnTo>
                    <a:close/>
                  </a:path>
                </a:pathLst>
              </a:custGeom>
              <a:solidFill>
                <a:srgbClr val="b8ad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Freeform 18"/>
              <p:cNvSpPr/>
              <p:nvPr/>
            </p:nvSpPr>
            <p:spPr>
              <a:xfrm>
                <a:off x="1140480" y="2179080"/>
                <a:ext cx="688680" cy="145800"/>
              </a:xfrm>
              <a:custGeom>
                <a:avLst/>
                <a:gdLst>
                  <a:gd name="textAreaLeft" fmla="*/ 0 w 688680"/>
                  <a:gd name="textAreaRight" fmla="*/ 689040 w 688680"/>
                  <a:gd name="textAreaTop" fmla="*/ 0 h 145800"/>
                  <a:gd name="textAreaBottom" fmla="*/ 146160 h 145800"/>
                </a:gdLst>
                <a:ahLst/>
                <a:rect l="textAreaLeft" t="textAreaTop" r="textAreaRight" b="textAreaBottom"/>
                <a:pathLst>
                  <a:path w="1385" h="496">
                    <a:moveTo>
                      <a:pt x="0" y="297"/>
                    </a:moveTo>
                    <a:lnTo>
                      <a:pt x="1110" y="0"/>
                    </a:lnTo>
                    <a:lnTo>
                      <a:pt x="1255" y="31"/>
                    </a:lnTo>
                    <a:lnTo>
                      <a:pt x="269" y="309"/>
                    </a:lnTo>
                    <a:lnTo>
                      <a:pt x="1385" y="121"/>
                    </a:lnTo>
                    <a:lnTo>
                      <a:pt x="291" y="496"/>
                    </a:lnTo>
                    <a:lnTo>
                      <a:pt x="0" y="297"/>
                    </a:lnTo>
                    <a:close/>
                  </a:path>
                </a:pathLst>
              </a:custGeom>
              <a:solidFill>
                <a:srgbClr val="b8ad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Freeform 19"/>
              <p:cNvSpPr/>
              <p:nvPr/>
            </p:nvSpPr>
            <p:spPr>
              <a:xfrm>
                <a:off x="993240" y="2709000"/>
                <a:ext cx="294840" cy="88200"/>
              </a:xfrm>
              <a:custGeom>
                <a:avLst/>
                <a:gdLst>
                  <a:gd name="textAreaLeft" fmla="*/ 0 w 294840"/>
                  <a:gd name="textAreaRight" fmla="*/ 295200 w 294840"/>
                  <a:gd name="textAreaTop" fmla="*/ 0 h 88200"/>
                  <a:gd name="textAreaBottom" fmla="*/ 88200 h 88200"/>
                </a:gdLst>
                <a:ahLst/>
                <a:rect l="textAreaLeft" t="textAreaTop" r="textAreaRight" b="textAreaBottom"/>
                <a:pathLst>
                  <a:path w="595" h="300">
                    <a:moveTo>
                      <a:pt x="0" y="44"/>
                    </a:moveTo>
                    <a:lnTo>
                      <a:pt x="187" y="0"/>
                    </a:lnTo>
                    <a:lnTo>
                      <a:pt x="428" y="131"/>
                    </a:lnTo>
                    <a:lnTo>
                      <a:pt x="595" y="251"/>
                    </a:lnTo>
                    <a:lnTo>
                      <a:pt x="490" y="269"/>
                    </a:lnTo>
                    <a:lnTo>
                      <a:pt x="375" y="193"/>
                    </a:lnTo>
                    <a:lnTo>
                      <a:pt x="291" y="109"/>
                    </a:lnTo>
                    <a:lnTo>
                      <a:pt x="155" y="94"/>
                    </a:lnTo>
                    <a:lnTo>
                      <a:pt x="140" y="300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b8ad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Freeform 20"/>
              <p:cNvSpPr/>
              <p:nvPr/>
            </p:nvSpPr>
            <p:spPr>
              <a:xfrm>
                <a:off x="1453680" y="2379960"/>
                <a:ext cx="225000" cy="356400"/>
              </a:xfrm>
              <a:custGeom>
                <a:avLst/>
                <a:gdLst>
                  <a:gd name="textAreaLeft" fmla="*/ 0 w 225000"/>
                  <a:gd name="textAreaRight" fmla="*/ 225360 w 225000"/>
                  <a:gd name="textAreaTop" fmla="*/ 0 h 356400"/>
                  <a:gd name="textAreaBottom" fmla="*/ 356760 h 356400"/>
                </a:gdLst>
                <a:ahLst/>
                <a:rect l="textAreaLeft" t="textAreaTop" r="textAreaRight" b="textAreaBottom"/>
                <a:pathLst>
                  <a:path w="452" h="1211">
                    <a:moveTo>
                      <a:pt x="71" y="96"/>
                    </a:moveTo>
                    <a:lnTo>
                      <a:pt x="362" y="0"/>
                    </a:lnTo>
                    <a:lnTo>
                      <a:pt x="452" y="110"/>
                    </a:lnTo>
                    <a:lnTo>
                      <a:pt x="322" y="776"/>
                    </a:lnTo>
                    <a:lnTo>
                      <a:pt x="186" y="896"/>
                    </a:lnTo>
                    <a:lnTo>
                      <a:pt x="182" y="1211"/>
                    </a:lnTo>
                    <a:lnTo>
                      <a:pt x="71" y="1086"/>
                    </a:lnTo>
                    <a:lnTo>
                      <a:pt x="49" y="941"/>
                    </a:lnTo>
                    <a:lnTo>
                      <a:pt x="27" y="841"/>
                    </a:lnTo>
                    <a:lnTo>
                      <a:pt x="5" y="794"/>
                    </a:lnTo>
                    <a:lnTo>
                      <a:pt x="0" y="772"/>
                    </a:lnTo>
                    <a:lnTo>
                      <a:pt x="5" y="716"/>
                    </a:lnTo>
                    <a:lnTo>
                      <a:pt x="30" y="549"/>
                    </a:lnTo>
                    <a:lnTo>
                      <a:pt x="61" y="382"/>
                    </a:lnTo>
                    <a:lnTo>
                      <a:pt x="77" y="305"/>
                    </a:lnTo>
                    <a:lnTo>
                      <a:pt x="37" y="121"/>
                    </a:lnTo>
                    <a:lnTo>
                      <a:pt x="71" y="96"/>
                    </a:lnTo>
                    <a:close/>
                  </a:path>
                </a:pathLst>
              </a:custGeom>
              <a:solidFill>
                <a:srgbClr val="ff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Freeform 21"/>
              <p:cNvSpPr/>
              <p:nvPr/>
            </p:nvSpPr>
            <p:spPr>
              <a:xfrm>
                <a:off x="1478880" y="2364840"/>
                <a:ext cx="235440" cy="380160"/>
              </a:xfrm>
              <a:custGeom>
                <a:avLst/>
                <a:gdLst>
                  <a:gd name="textAreaLeft" fmla="*/ 0 w 235440"/>
                  <a:gd name="textAreaRight" fmla="*/ 235800 w 235440"/>
                  <a:gd name="textAreaTop" fmla="*/ 0 h 380160"/>
                  <a:gd name="textAreaBottom" fmla="*/ 380520 h 380160"/>
                </a:gdLst>
                <a:ahLst/>
                <a:rect l="textAreaLeft" t="textAreaTop" r="textAreaRight" b="textAreaBottom"/>
                <a:pathLst>
                  <a:path w="474" h="1290">
                    <a:moveTo>
                      <a:pt x="0" y="109"/>
                    </a:moveTo>
                    <a:lnTo>
                      <a:pt x="369" y="0"/>
                    </a:lnTo>
                    <a:lnTo>
                      <a:pt x="474" y="214"/>
                    </a:lnTo>
                    <a:lnTo>
                      <a:pt x="310" y="689"/>
                    </a:lnTo>
                    <a:lnTo>
                      <a:pt x="434" y="1005"/>
                    </a:lnTo>
                    <a:lnTo>
                      <a:pt x="230" y="959"/>
                    </a:lnTo>
                    <a:lnTo>
                      <a:pt x="140" y="1290"/>
                    </a:lnTo>
                    <a:lnTo>
                      <a:pt x="57" y="1026"/>
                    </a:lnTo>
                    <a:lnTo>
                      <a:pt x="15" y="779"/>
                    </a:lnTo>
                    <a:lnTo>
                      <a:pt x="90" y="509"/>
                    </a:lnTo>
                    <a:lnTo>
                      <a:pt x="34" y="304"/>
                    </a:lnTo>
                    <a:lnTo>
                      <a:pt x="124" y="214"/>
                    </a:lnTo>
                    <a:lnTo>
                      <a:pt x="230" y="244"/>
                    </a:lnTo>
                    <a:lnTo>
                      <a:pt x="190" y="339"/>
                    </a:lnTo>
                    <a:lnTo>
                      <a:pt x="264" y="390"/>
                    </a:lnTo>
                    <a:lnTo>
                      <a:pt x="115" y="689"/>
                    </a:lnTo>
                    <a:lnTo>
                      <a:pt x="190" y="675"/>
                    </a:lnTo>
                    <a:lnTo>
                      <a:pt x="115" y="900"/>
                    </a:lnTo>
                    <a:lnTo>
                      <a:pt x="214" y="785"/>
                    </a:lnTo>
                    <a:lnTo>
                      <a:pt x="260" y="555"/>
                    </a:lnTo>
                    <a:lnTo>
                      <a:pt x="260" y="484"/>
                    </a:lnTo>
                    <a:lnTo>
                      <a:pt x="339" y="314"/>
                    </a:lnTo>
                    <a:lnTo>
                      <a:pt x="285" y="300"/>
                    </a:lnTo>
                    <a:lnTo>
                      <a:pt x="304" y="170"/>
                    </a:lnTo>
                    <a:lnTo>
                      <a:pt x="180" y="149"/>
                    </a:lnTo>
                    <a:lnTo>
                      <a:pt x="199" y="99"/>
                    </a:lnTo>
                    <a:lnTo>
                      <a:pt x="25" y="195"/>
                    </a:lnTo>
                    <a:lnTo>
                      <a:pt x="0" y="109"/>
                    </a:lnTo>
                    <a:close/>
                  </a:path>
                </a:pathLst>
              </a:custGeom>
              <a:solidFill>
                <a:srgbClr val="ff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Freeform 22"/>
              <p:cNvSpPr/>
              <p:nvPr/>
            </p:nvSpPr>
            <p:spPr>
              <a:xfrm>
                <a:off x="751320" y="2512440"/>
                <a:ext cx="394920" cy="201600"/>
              </a:xfrm>
              <a:custGeom>
                <a:avLst/>
                <a:gdLst>
                  <a:gd name="textAreaLeft" fmla="*/ 0 w 394920"/>
                  <a:gd name="textAreaRight" fmla="*/ 395280 w 394920"/>
                  <a:gd name="textAreaTop" fmla="*/ 0 h 201600"/>
                  <a:gd name="textAreaBottom" fmla="*/ 201960 h 201600"/>
                </a:gdLst>
                <a:ahLst/>
                <a:rect l="textAreaLeft" t="textAreaTop" r="textAreaRight" b="textAreaBottom"/>
                <a:pathLst>
                  <a:path w="794" h="686">
                    <a:moveTo>
                      <a:pt x="0" y="136"/>
                    </a:moveTo>
                    <a:lnTo>
                      <a:pt x="60" y="40"/>
                    </a:lnTo>
                    <a:lnTo>
                      <a:pt x="134" y="0"/>
                    </a:lnTo>
                    <a:lnTo>
                      <a:pt x="144" y="96"/>
                    </a:lnTo>
                    <a:lnTo>
                      <a:pt x="349" y="291"/>
                    </a:lnTo>
                    <a:lnTo>
                      <a:pt x="653" y="466"/>
                    </a:lnTo>
                    <a:lnTo>
                      <a:pt x="794" y="341"/>
                    </a:lnTo>
                    <a:lnTo>
                      <a:pt x="714" y="686"/>
                    </a:lnTo>
                    <a:lnTo>
                      <a:pt x="100" y="230"/>
                    </a:lnTo>
                    <a:lnTo>
                      <a:pt x="20" y="215"/>
                    </a:lnTo>
                    <a:lnTo>
                      <a:pt x="0" y="136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Freeform 23"/>
              <p:cNvSpPr/>
              <p:nvPr/>
            </p:nvSpPr>
            <p:spPr>
              <a:xfrm>
                <a:off x="742680" y="2459520"/>
                <a:ext cx="448560" cy="152640"/>
              </a:xfrm>
              <a:custGeom>
                <a:avLst/>
                <a:gdLst>
                  <a:gd name="textAreaLeft" fmla="*/ 0 w 448560"/>
                  <a:gd name="textAreaRight" fmla="*/ 448920 w 44856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902" h="521">
                    <a:moveTo>
                      <a:pt x="32" y="40"/>
                    </a:moveTo>
                    <a:lnTo>
                      <a:pt x="0" y="102"/>
                    </a:lnTo>
                    <a:lnTo>
                      <a:pt x="143" y="121"/>
                    </a:lnTo>
                    <a:lnTo>
                      <a:pt x="767" y="446"/>
                    </a:lnTo>
                    <a:lnTo>
                      <a:pt x="812" y="521"/>
                    </a:lnTo>
                    <a:lnTo>
                      <a:pt x="902" y="435"/>
                    </a:lnTo>
                    <a:lnTo>
                      <a:pt x="93" y="0"/>
                    </a:lnTo>
                    <a:lnTo>
                      <a:pt x="32" y="40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Freeform 24"/>
              <p:cNvSpPr/>
              <p:nvPr/>
            </p:nvSpPr>
            <p:spPr>
              <a:xfrm>
                <a:off x="1206360" y="2545200"/>
                <a:ext cx="1122480" cy="265320"/>
              </a:xfrm>
              <a:custGeom>
                <a:avLst/>
                <a:gdLst>
                  <a:gd name="textAreaLeft" fmla="*/ 0 w 1122480"/>
                  <a:gd name="textAreaRight" fmla="*/ 1122840 w 1122480"/>
                  <a:gd name="textAreaTop" fmla="*/ 0 h 265320"/>
                  <a:gd name="textAreaBottom" fmla="*/ 265680 h 265320"/>
                </a:gdLst>
                <a:ahLst/>
                <a:rect l="textAreaLeft" t="textAreaTop" r="textAreaRight" b="textAreaBottom"/>
                <a:pathLst>
                  <a:path w="2259" h="900">
                    <a:moveTo>
                      <a:pt x="11" y="515"/>
                    </a:moveTo>
                    <a:lnTo>
                      <a:pt x="90" y="655"/>
                    </a:lnTo>
                    <a:lnTo>
                      <a:pt x="226" y="709"/>
                    </a:lnTo>
                    <a:lnTo>
                      <a:pt x="231" y="510"/>
                    </a:lnTo>
                    <a:lnTo>
                      <a:pt x="321" y="284"/>
                    </a:lnTo>
                    <a:lnTo>
                      <a:pt x="201" y="345"/>
                    </a:lnTo>
                    <a:lnTo>
                      <a:pt x="155" y="379"/>
                    </a:lnTo>
                    <a:lnTo>
                      <a:pt x="141" y="315"/>
                    </a:lnTo>
                    <a:lnTo>
                      <a:pt x="146" y="184"/>
                    </a:lnTo>
                    <a:lnTo>
                      <a:pt x="511" y="0"/>
                    </a:lnTo>
                    <a:lnTo>
                      <a:pt x="504" y="233"/>
                    </a:lnTo>
                    <a:lnTo>
                      <a:pt x="437" y="283"/>
                    </a:lnTo>
                    <a:lnTo>
                      <a:pt x="390" y="540"/>
                    </a:lnTo>
                    <a:lnTo>
                      <a:pt x="481" y="730"/>
                    </a:lnTo>
                    <a:lnTo>
                      <a:pt x="1885" y="305"/>
                    </a:lnTo>
                    <a:lnTo>
                      <a:pt x="1780" y="100"/>
                    </a:lnTo>
                    <a:lnTo>
                      <a:pt x="2259" y="299"/>
                    </a:lnTo>
                    <a:lnTo>
                      <a:pt x="2179" y="355"/>
                    </a:lnTo>
                    <a:lnTo>
                      <a:pt x="496" y="900"/>
                    </a:lnTo>
                    <a:lnTo>
                      <a:pt x="349" y="864"/>
                    </a:lnTo>
                    <a:lnTo>
                      <a:pt x="46" y="740"/>
                    </a:lnTo>
                    <a:lnTo>
                      <a:pt x="0" y="600"/>
                    </a:lnTo>
                    <a:lnTo>
                      <a:pt x="11" y="515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Freeform 25"/>
              <p:cNvSpPr/>
              <p:nvPr/>
            </p:nvSpPr>
            <p:spPr>
              <a:xfrm>
                <a:off x="1628280" y="2431080"/>
                <a:ext cx="666360" cy="172440"/>
              </a:xfrm>
              <a:custGeom>
                <a:avLst/>
                <a:gdLst>
                  <a:gd name="textAreaLeft" fmla="*/ 0 w 666360"/>
                  <a:gd name="textAreaRight" fmla="*/ 666720 w 666360"/>
                  <a:gd name="textAreaTop" fmla="*/ 0 h 172440"/>
                  <a:gd name="textAreaBottom" fmla="*/ 172800 h 172440"/>
                </a:gdLst>
                <a:ahLst/>
                <a:rect l="textAreaLeft" t="textAreaTop" r="textAreaRight" b="textAreaBottom"/>
                <a:pathLst>
                  <a:path w="1340" h="586">
                    <a:moveTo>
                      <a:pt x="100" y="210"/>
                    </a:moveTo>
                    <a:lnTo>
                      <a:pt x="634" y="0"/>
                    </a:lnTo>
                    <a:lnTo>
                      <a:pt x="1340" y="170"/>
                    </a:lnTo>
                    <a:lnTo>
                      <a:pt x="1208" y="256"/>
                    </a:lnTo>
                    <a:lnTo>
                      <a:pt x="14" y="586"/>
                    </a:lnTo>
                    <a:lnTo>
                      <a:pt x="0" y="436"/>
                    </a:lnTo>
                    <a:lnTo>
                      <a:pt x="100" y="210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Freeform 26"/>
              <p:cNvSpPr/>
              <p:nvPr/>
            </p:nvSpPr>
            <p:spPr>
              <a:xfrm>
                <a:off x="589320" y="2381400"/>
                <a:ext cx="688680" cy="226440"/>
              </a:xfrm>
              <a:custGeom>
                <a:avLst/>
                <a:gdLst>
                  <a:gd name="textAreaLeft" fmla="*/ 0 w 688680"/>
                  <a:gd name="textAreaRight" fmla="*/ 689040 w 688680"/>
                  <a:gd name="textAreaTop" fmla="*/ 0 h 226440"/>
                  <a:gd name="textAreaBottom" fmla="*/ 226800 h 226440"/>
                </a:gdLst>
                <a:ahLst/>
                <a:rect l="textAreaLeft" t="textAreaTop" r="textAreaRight" b="textAreaBottom"/>
                <a:pathLst>
                  <a:path w="1387" h="770">
                    <a:moveTo>
                      <a:pt x="0" y="45"/>
                    </a:moveTo>
                    <a:lnTo>
                      <a:pt x="24" y="0"/>
                    </a:lnTo>
                    <a:lnTo>
                      <a:pt x="1387" y="659"/>
                    </a:lnTo>
                    <a:lnTo>
                      <a:pt x="1356" y="770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ae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Freeform 27"/>
              <p:cNvSpPr/>
              <p:nvPr/>
            </p:nvSpPr>
            <p:spPr>
              <a:xfrm>
                <a:off x="705240" y="2234520"/>
                <a:ext cx="1388160" cy="279720"/>
              </a:xfrm>
              <a:custGeom>
                <a:avLst/>
                <a:gdLst>
                  <a:gd name="textAreaLeft" fmla="*/ 0 w 1388160"/>
                  <a:gd name="textAreaRight" fmla="*/ 1388520 w 1388160"/>
                  <a:gd name="textAreaTop" fmla="*/ 0 h 279720"/>
                  <a:gd name="textAreaBottom" fmla="*/ 280080 h 279720"/>
                </a:gdLst>
                <a:ahLst/>
                <a:rect l="textAreaLeft" t="textAreaTop" r="textAreaRight" b="textAreaBottom"/>
                <a:pathLst>
                  <a:path w="2793" h="946">
                    <a:moveTo>
                      <a:pt x="9" y="280"/>
                    </a:moveTo>
                    <a:lnTo>
                      <a:pt x="1219" y="716"/>
                    </a:lnTo>
                    <a:lnTo>
                      <a:pt x="1169" y="946"/>
                    </a:lnTo>
                    <a:lnTo>
                      <a:pt x="1433" y="856"/>
                    </a:lnTo>
                    <a:lnTo>
                      <a:pt x="1584" y="795"/>
                    </a:lnTo>
                    <a:lnTo>
                      <a:pt x="1544" y="590"/>
                    </a:lnTo>
                    <a:lnTo>
                      <a:pt x="1928" y="441"/>
                    </a:lnTo>
                    <a:lnTo>
                      <a:pt x="2003" y="586"/>
                    </a:lnTo>
                    <a:lnTo>
                      <a:pt x="1959" y="835"/>
                    </a:lnTo>
                    <a:lnTo>
                      <a:pt x="2498" y="574"/>
                    </a:lnTo>
                    <a:lnTo>
                      <a:pt x="2648" y="586"/>
                    </a:lnTo>
                    <a:lnTo>
                      <a:pt x="2793" y="310"/>
                    </a:lnTo>
                    <a:lnTo>
                      <a:pt x="2778" y="106"/>
                    </a:lnTo>
                    <a:lnTo>
                      <a:pt x="2588" y="0"/>
                    </a:lnTo>
                    <a:lnTo>
                      <a:pt x="1194" y="435"/>
                    </a:lnTo>
                    <a:lnTo>
                      <a:pt x="1089" y="490"/>
                    </a:lnTo>
                    <a:lnTo>
                      <a:pt x="0" y="115"/>
                    </a:lnTo>
                    <a:lnTo>
                      <a:pt x="9" y="280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Freeform 28"/>
              <p:cNvSpPr/>
              <p:nvPr/>
            </p:nvSpPr>
            <p:spPr>
              <a:xfrm>
                <a:off x="617400" y="2125800"/>
                <a:ext cx="1483200" cy="373320"/>
              </a:xfrm>
              <a:custGeom>
                <a:avLst/>
                <a:gdLst>
                  <a:gd name="textAreaLeft" fmla="*/ 0 w 1483200"/>
                  <a:gd name="textAreaRight" fmla="*/ 1483560 w 1483200"/>
                  <a:gd name="textAreaTop" fmla="*/ 0 h 373320"/>
                  <a:gd name="textAreaBottom" fmla="*/ 373680 h 373320"/>
                </a:gdLst>
                <a:ahLst/>
                <a:rect l="textAreaLeft" t="textAreaTop" r="textAreaRight" b="textAreaBottom"/>
                <a:pathLst>
                  <a:path w="2984" h="1267">
                    <a:moveTo>
                      <a:pt x="0" y="316"/>
                    </a:moveTo>
                    <a:lnTo>
                      <a:pt x="1490" y="0"/>
                    </a:lnTo>
                    <a:lnTo>
                      <a:pt x="2284" y="170"/>
                    </a:lnTo>
                    <a:lnTo>
                      <a:pt x="991" y="481"/>
                    </a:lnTo>
                    <a:lnTo>
                      <a:pt x="1291" y="586"/>
                    </a:lnTo>
                    <a:lnTo>
                      <a:pt x="2598" y="266"/>
                    </a:lnTo>
                    <a:lnTo>
                      <a:pt x="2731" y="213"/>
                    </a:lnTo>
                    <a:lnTo>
                      <a:pt x="2904" y="306"/>
                    </a:lnTo>
                    <a:lnTo>
                      <a:pt x="2979" y="421"/>
                    </a:lnTo>
                    <a:lnTo>
                      <a:pt x="2984" y="741"/>
                    </a:lnTo>
                    <a:lnTo>
                      <a:pt x="2824" y="957"/>
                    </a:lnTo>
                    <a:lnTo>
                      <a:pt x="2674" y="967"/>
                    </a:lnTo>
                    <a:lnTo>
                      <a:pt x="2649" y="1032"/>
                    </a:lnTo>
                    <a:lnTo>
                      <a:pt x="2514" y="1097"/>
                    </a:lnTo>
                    <a:lnTo>
                      <a:pt x="2349" y="1147"/>
                    </a:lnTo>
                    <a:lnTo>
                      <a:pt x="2119" y="1267"/>
                    </a:lnTo>
                    <a:lnTo>
                      <a:pt x="2135" y="1206"/>
                    </a:lnTo>
                    <a:lnTo>
                      <a:pt x="2209" y="1026"/>
                    </a:lnTo>
                    <a:lnTo>
                      <a:pt x="2759" y="806"/>
                    </a:lnTo>
                    <a:lnTo>
                      <a:pt x="2864" y="676"/>
                    </a:lnTo>
                    <a:lnTo>
                      <a:pt x="2835" y="446"/>
                    </a:lnTo>
                    <a:lnTo>
                      <a:pt x="2759" y="403"/>
                    </a:lnTo>
                    <a:lnTo>
                      <a:pt x="1375" y="787"/>
                    </a:lnTo>
                    <a:lnTo>
                      <a:pt x="0" y="316"/>
                    </a:lnTo>
                    <a:close/>
                  </a:path>
                </a:pathLst>
              </a:custGeom>
              <a:solidFill>
                <a:srgbClr val="ae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Freeform 29"/>
              <p:cNvSpPr/>
              <p:nvPr/>
            </p:nvSpPr>
            <p:spPr>
              <a:xfrm>
                <a:off x="1395360" y="2539080"/>
                <a:ext cx="761760" cy="230040"/>
              </a:xfrm>
              <a:custGeom>
                <a:avLst/>
                <a:gdLst>
                  <a:gd name="textAreaLeft" fmla="*/ 0 w 761760"/>
                  <a:gd name="textAreaRight" fmla="*/ 762120 w 761760"/>
                  <a:gd name="textAreaTop" fmla="*/ 0 h 230040"/>
                  <a:gd name="textAreaBottom" fmla="*/ 230400 h 230040"/>
                </a:gdLst>
                <a:ahLst/>
                <a:rect l="textAreaLeft" t="textAreaTop" r="textAreaRight" b="textAreaBottom"/>
                <a:pathLst>
                  <a:path w="1534" h="781">
                    <a:moveTo>
                      <a:pt x="509" y="236"/>
                    </a:moveTo>
                    <a:lnTo>
                      <a:pt x="1419" y="0"/>
                    </a:lnTo>
                    <a:lnTo>
                      <a:pt x="1408" y="137"/>
                    </a:lnTo>
                    <a:lnTo>
                      <a:pt x="1423" y="251"/>
                    </a:lnTo>
                    <a:lnTo>
                      <a:pt x="1534" y="331"/>
                    </a:lnTo>
                    <a:lnTo>
                      <a:pt x="115" y="781"/>
                    </a:lnTo>
                    <a:lnTo>
                      <a:pt x="40" y="741"/>
                    </a:lnTo>
                    <a:lnTo>
                      <a:pt x="0" y="611"/>
                    </a:lnTo>
                    <a:lnTo>
                      <a:pt x="55" y="345"/>
                    </a:lnTo>
                    <a:lnTo>
                      <a:pt x="109" y="316"/>
                    </a:lnTo>
                    <a:lnTo>
                      <a:pt x="245" y="586"/>
                    </a:lnTo>
                    <a:lnTo>
                      <a:pt x="316" y="648"/>
                    </a:lnTo>
                    <a:lnTo>
                      <a:pt x="325" y="410"/>
                    </a:lnTo>
                    <a:lnTo>
                      <a:pt x="409" y="331"/>
                    </a:lnTo>
                    <a:lnTo>
                      <a:pt x="577" y="387"/>
                    </a:lnTo>
                    <a:lnTo>
                      <a:pt x="509" y="236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Freeform 30"/>
              <p:cNvSpPr/>
              <p:nvPr/>
            </p:nvSpPr>
            <p:spPr>
              <a:xfrm>
                <a:off x="1266120" y="2463840"/>
                <a:ext cx="232200" cy="77760"/>
              </a:xfrm>
              <a:custGeom>
                <a:avLst/>
                <a:gdLst>
                  <a:gd name="textAreaLeft" fmla="*/ 0 w 232200"/>
                  <a:gd name="textAreaRight" fmla="*/ 232560 w 232200"/>
                  <a:gd name="textAreaTop" fmla="*/ 0 h 77760"/>
                  <a:gd name="textAreaBottom" fmla="*/ 78120 h 77760"/>
                </a:gdLst>
                <a:ahLst/>
                <a:rect l="textAreaLeft" t="textAreaTop" r="textAreaRight" b="textAreaBottom"/>
                <a:pathLst>
                  <a:path w="468" h="264">
                    <a:moveTo>
                      <a:pt x="0" y="229"/>
                    </a:moveTo>
                    <a:lnTo>
                      <a:pt x="310" y="199"/>
                    </a:lnTo>
                    <a:lnTo>
                      <a:pt x="294" y="264"/>
                    </a:lnTo>
                    <a:lnTo>
                      <a:pt x="434" y="210"/>
                    </a:lnTo>
                    <a:lnTo>
                      <a:pt x="468" y="0"/>
                    </a:lnTo>
                    <a:lnTo>
                      <a:pt x="0" y="229"/>
                    </a:lnTo>
                    <a:close/>
                  </a:path>
                </a:pathLst>
              </a:custGeom>
              <a:solidFill>
                <a:srgbClr val="ae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Freeform 31"/>
              <p:cNvSpPr/>
              <p:nvPr/>
            </p:nvSpPr>
            <p:spPr>
              <a:xfrm>
                <a:off x="540000" y="2118960"/>
                <a:ext cx="1524960" cy="319320"/>
              </a:xfrm>
              <a:custGeom>
                <a:avLst/>
                <a:gdLst>
                  <a:gd name="textAreaLeft" fmla="*/ 0 w 1524960"/>
                  <a:gd name="textAreaRight" fmla="*/ 1525320 w 1524960"/>
                  <a:gd name="textAreaTop" fmla="*/ 0 h 319320"/>
                  <a:gd name="textAreaBottom" fmla="*/ 319680 h 319320"/>
                </a:gdLst>
                <a:ahLst/>
                <a:rect l="textAreaLeft" t="textAreaTop" r="textAreaRight" b="textAreaBottom"/>
                <a:pathLst>
                  <a:path w="3069" h="1082">
                    <a:moveTo>
                      <a:pt x="25" y="281"/>
                    </a:moveTo>
                    <a:lnTo>
                      <a:pt x="0" y="384"/>
                    </a:lnTo>
                    <a:lnTo>
                      <a:pt x="272" y="520"/>
                    </a:lnTo>
                    <a:lnTo>
                      <a:pt x="306" y="647"/>
                    </a:lnTo>
                    <a:lnTo>
                      <a:pt x="313" y="757"/>
                    </a:lnTo>
                    <a:lnTo>
                      <a:pt x="279" y="886"/>
                    </a:lnTo>
                    <a:lnTo>
                      <a:pt x="365" y="775"/>
                    </a:lnTo>
                    <a:lnTo>
                      <a:pt x="407" y="647"/>
                    </a:lnTo>
                    <a:lnTo>
                      <a:pt x="399" y="554"/>
                    </a:lnTo>
                    <a:lnTo>
                      <a:pt x="1436" y="920"/>
                    </a:lnTo>
                    <a:lnTo>
                      <a:pt x="2915" y="425"/>
                    </a:lnTo>
                    <a:lnTo>
                      <a:pt x="2958" y="554"/>
                    </a:lnTo>
                    <a:lnTo>
                      <a:pt x="2958" y="698"/>
                    </a:lnTo>
                    <a:lnTo>
                      <a:pt x="2856" y="825"/>
                    </a:lnTo>
                    <a:lnTo>
                      <a:pt x="2371" y="1026"/>
                    </a:lnTo>
                    <a:lnTo>
                      <a:pt x="2345" y="1082"/>
                    </a:lnTo>
                    <a:lnTo>
                      <a:pt x="2908" y="868"/>
                    </a:lnTo>
                    <a:lnTo>
                      <a:pt x="3019" y="791"/>
                    </a:lnTo>
                    <a:lnTo>
                      <a:pt x="3069" y="664"/>
                    </a:lnTo>
                    <a:lnTo>
                      <a:pt x="3053" y="493"/>
                    </a:lnTo>
                    <a:lnTo>
                      <a:pt x="2976" y="400"/>
                    </a:lnTo>
                    <a:lnTo>
                      <a:pt x="2899" y="366"/>
                    </a:lnTo>
                    <a:lnTo>
                      <a:pt x="2695" y="459"/>
                    </a:lnTo>
                    <a:lnTo>
                      <a:pt x="1470" y="748"/>
                    </a:lnTo>
                    <a:lnTo>
                      <a:pt x="282" y="381"/>
                    </a:lnTo>
                    <a:lnTo>
                      <a:pt x="1402" y="809"/>
                    </a:lnTo>
                    <a:lnTo>
                      <a:pt x="1402" y="852"/>
                    </a:lnTo>
                    <a:lnTo>
                      <a:pt x="50" y="357"/>
                    </a:lnTo>
                    <a:lnTo>
                      <a:pt x="93" y="315"/>
                    </a:lnTo>
                    <a:lnTo>
                      <a:pt x="1597" y="43"/>
                    </a:lnTo>
                    <a:lnTo>
                      <a:pt x="2334" y="179"/>
                    </a:lnTo>
                    <a:lnTo>
                      <a:pt x="1556" y="0"/>
                    </a:lnTo>
                    <a:lnTo>
                      <a:pt x="25" y="28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Freeform 32"/>
              <p:cNvSpPr/>
              <p:nvPr/>
            </p:nvSpPr>
            <p:spPr>
              <a:xfrm>
                <a:off x="544320" y="2332080"/>
                <a:ext cx="942120" cy="282960"/>
              </a:xfrm>
              <a:custGeom>
                <a:avLst/>
                <a:gdLst>
                  <a:gd name="textAreaLeft" fmla="*/ 0 w 942120"/>
                  <a:gd name="textAreaRight" fmla="*/ 942480 w 942120"/>
                  <a:gd name="textAreaTop" fmla="*/ 0 h 282960"/>
                  <a:gd name="textAreaBottom" fmla="*/ 283320 h 282960"/>
                </a:gdLst>
                <a:ahLst/>
                <a:rect l="textAreaLeft" t="textAreaTop" r="textAreaRight" b="textAreaBottom"/>
                <a:pathLst>
                  <a:path w="1894" h="960">
                    <a:moveTo>
                      <a:pt x="321" y="0"/>
                    </a:moveTo>
                    <a:lnTo>
                      <a:pt x="28" y="105"/>
                    </a:lnTo>
                    <a:lnTo>
                      <a:pt x="0" y="211"/>
                    </a:lnTo>
                    <a:lnTo>
                      <a:pt x="1441" y="960"/>
                    </a:lnTo>
                    <a:lnTo>
                      <a:pt x="1840" y="760"/>
                    </a:lnTo>
                    <a:lnTo>
                      <a:pt x="1894" y="626"/>
                    </a:lnTo>
                    <a:lnTo>
                      <a:pt x="1451" y="799"/>
                    </a:lnTo>
                    <a:lnTo>
                      <a:pt x="449" y="338"/>
                    </a:lnTo>
                    <a:lnTo>
                      <a:pt x="1401" y="831"/>
                    </a:lnTo>
                    <a:lnTo>
                      <a:pt x="1423" y="904"/>
                    </a:lnTo>
                    <a:lnTo>
                      <a:pt x="89" y="211"/>
                    </a:lnTo>
                    <a:lnTo>
                      <a:pt x="77" y="149"/>
                    </a:lnTo>
                    <a:lnTo>
                      <a:pt x="316" y="55"/>
                    </a:lnTo>
                    <a:lnTo>
                      <a:pt x="3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Freeform 33"/>
              <p:cNvSpPr/>
              <p:nvPr/>
            </p:nvSpPr>
            <p:spPr>
              <a:xfrm>
                <a:off x="711360" y="2364840"/>
                <a:ext cx="786960" cy="172440"/>
              </a:xfrm>
              <a:custGeom>
                <a:avLst/>
                <a:gdLst>
                  <a:gd name="textAreaLeft" fmla="*/ 0 w 786960"/>
                  <a:gd name="textAreaRight" fmla="*/ 787320 w 786960"/>
                  <a:gd name="textAreaTop" fmla="*/ 0 h 172440"/>
                  <a:gd name="textAreaBottom" fmla="*/ 172800 h 172440"/>
                </a:gdLst>
                <a:ahLst/>
                <a:rect l="textAreaLeft" t="textAreaTop" r="textAreaRight" b="textAreaBottom"/>
                <a:pathLst>
                  <a:path w="1584" h="584">
                    <a:moveTo>
                      <a:pt x="0" y="83"/>
                    </a:moveTo>
                    <a:lnTo>
                      <a:pt x="1082" y="584"/>
                    </a:lnTo>
                    <a:lnTo>
                      <a:pt x="1584" y="378"/>
                    </a:lnTo>
                    <a:lnTo>
                      <a:pt x="1584" y="335"/>
                    </a:lnTo>
                    <a:lnTo>
                      <a:pt x="1200" y="483"/>
                    </a:lnTo>
                    <a:lnTo>
                      <a:pt x="1255" y="360"/>
                    </a:lnTo>
                    <a:lnTo>
                      <a:pt x="1448" y="282"/>
                    </a:lnTo>
                    <a:lnTo>
                      <a:pt x="1239" y="306"/>
                    </a:lnTo>
                    <a:lnTo>
                      <a:pt x="1227" y="171"/>
                    </a:lnTo>
                    <a:lnTo>
                      <a:pt x="1156" y="22"/>
                    </a:lnTo>
                    <a:lnTo>
                      <a:pt x="1106" y="56"/>
                    </a:lnTo>
                    <a:lnTo>
                      <a:pt x="1167" y="171"/>
                    </a:lnTo>
                    <a:lnTo>
                      <a:pt x="662" y="0"/>
                    </a:lnTo>
                    <a:lnTo>
                      <a:pt x="1167" y="249"/>
                    </a:lnTo>
                    <a:lnTo>
                      <a:pt x="1181" y="325"/>
                    </a:lnTo>
                    <a:lnTo>
                      <a:pt x="1141" y="418"/>
                    </a:lnTo>
                    <a:lnTo>
                      <a:pt x="358" y="111"/>
                    </a:lnTo>
                    <a:lnTo>
                      <a:pt x="1137" y="466"/>
                    </a:lnTo>
                    <a:lnTo>
                      <a:pt x="1082" y="540"/>
                    </a:lnTo>
                    <a:lnTo>
                      <a:pt x="0" y="8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Freeform 34"/>
              <p:cNvSpPr/>
              <p:nvPr/>
            </p:nvSpPr>
            <p:spPr>
              <a:xfrm>
                <a:off x="1367280" y="2299320"/>
                <a:ext cx="551520" cy="430920"/>
              </a:xfrm>
              <a:custGeom>
                <a:avLst/>
                <a:gdLst>
                  <a:gd name="textAreaLeft" fmla="*/ 0 w 551520"/>
                  <a:gd name="textAreaRight" fmla="*/ 551880 w 551520"/>
                  <a:gd name="textAreaTop" fmla="*/ 0 h 430920"/>
                  <a:gd name="textAreaBottom" fmla="*/ 431280 h 430920"/>
                </a:gdLst>
                <a:ahLst/>
                <a:rect l="textAreaLeft" t="textAreaTop" r="textAreaRight" b="textAreaBottom"/>
                <a:pathLst>
                  <a:path w="1109" h="1460">
                    <a:moveTo>
                      <a:pt x="0" y="378"/>
                    </a:moveTo>
                    <a:lnTo>
                      <a:pt x="411" y="256"/>
                    </a:lnTo>
                    <a:lnTo>
                      <a:pt x="1109" y="0"/>
                    </a:lnTo>
                    <a:lnTo>
                      <a:pt x="626" y="245"/>
                    </a:lnTo>
                    <a:lnTo>
                      <a:pt x="709" y="346"/>
                    </a:lnTo>
                    <a:lnTo>
                      <a:pt x="709" y="467"/>
                    </a:lnTo>
                    <a:lnTo>
                      <a:pt x="643" y="672"/>
                    </a:lnTo>
                    <a:lnTo>
                      <a:pt x="554" y="895"/>
                    </a:lnTo>
                    <a:lnTo>
                      <a:pt x="550" y="1016"/>
                    </a:lnTo>
                    <a:lnTo>
                      <a:pt x="632" y="1199"/>
                    </a:lnTo>
                    <a:lnTo>
                      <a:pt x="510" y="1055"/>
                    </a:lnTo>
                    <a:lnTo>
                      <a:pt x="494" y="899"/>
                    </a:lnTo>
                    <a:lnTo>
                      <a:pt x="588" y="639"/>
                    </a:lnTo>
                    <a:lnTo>
                      <a:pt x="660" y="450"/>
                    </a:lnTo>
                    <a:lnTo>
                      <a:pt x="550" y="251"/>
                    </a:lnTo>
                    <a:lnTo>
                      <a:pt x="244" y="368"/>
                    </a:lnTo>
                    <a:lnTo>
                      <a:pt x="272" y="428"/>
                    </a:lnTo>
                    <a:lnTo>
                      <a:pt x="294" y="583"/>
                    </a:lnTo>
                    <a:lnTo>
                      <a:pt x="266" y="760"/>
                    </a:lnTo>
                    <a:lnTo>
                      <a:pt x="222" y="933"/>
                    </a:lnTo>
                    <a:lnTo>
                      <a:pt x="206" y="1110"/>
                    </a:lnTo>
                    <a:lnTo>
                      <a:pt x="256" y="1283"/>
                    </a:lnTo>
                    <a:lnTo>
                      <a:pt x="371" y="1460"/>
                    </a:lnTo>
                    <a:lnTo>
                      <a:pt x="250" y="1387"/>
                    </a:lnTo>
                    <a:lnTo>
                      <a:pt x="167" y="1199"/>
                    </a:lnTo>
                    <a:lnTo>
                      <a:pt x="150" y="989"/>
                    </a:lnTo>
                    <a:lnTo>
                      <a:pt x="212" y="716"/>
                    </a:lnTo>
                    <a:lnTo>
                      <a:pt x="234" y="551"/>
                    </a:lnTo>
                    <a:lnTo>
                      <a:pt x="150" y="390"/>
                    </a:lnTo>
                    <a:lnTo>
                      <a:pt x="0" y="37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Freeform 35"/>
              <p:cNvSpPr/>
              <p:nvPr/>
            </p:nvSpPr>
            <p:spPr>
              <a:xfrm>
                <a:off x="1539000" y="2628720"/>
                <a:ext cx="142920" cy="10152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288" h="344">
                    <a:moveTo>
                      <a:pt x="27" y="344"/>
                    </a:moveTo>
                    <a:lnTo>
                      <a:pt x="0" y="161"/>
                    </a:lnTo>
                    <a:lnTo>
                      <a:pt x="73" y="0"/>
                    </a:lnTo>
                    <a:lnTo>
                      <a:pt x="139" y="6"/>
                    </a:lnTo>
                    <a:lnTo>
                      <a:pt x="288" y="83"/>
                    </a:lnTo>
                    <a:lnTo>
                      <a:pt x="111" y="66"/>
                    </a:lnTo>
                    <a:lnTo>
                      <a:pt x="49" y="167"/>
                    </a:lnTo>
                    <a:lnTo>
                      <a:pt x="27" y="3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Freeform 36"/>
              <p:cNvSpPr/>
              <p:nvPr/>
            </p:nvSpPr>
            <p:spPr>
              <a:xfrm>
                <a:off x="1659600" y="2193120"/>
                <a:ext cx="451440" cy="319320"/>
              </a:xfrm>
              <a:custGeom>
                <a:avLst/>
                <a:gdLst>
                  <a:gd name="textAreaLeft" fmla="*/ 0 w 451440"/>
                  <a:gd name="textAreaRight" fmla="*/ 451800 w 451440"/>
                  <a:gd name="textAreaTop" fmla="*/ 0 h 319320"/>
                  <a:gd name="textAreaBottom" fmla="*/ 319680 h 319320"/>
                </a:gdLst>
                <a:ahLst/>
                <a:rect l="textAreaLeft" t="textAreaTop" r="textAreaRight" b="textAreaBottom"/>
                <a:pathLst>
                  <a:path w="908" h="1082">
                    <a:moveTo>
                      <a:pt x="66" y="949"/>
                    </a:moveTo>
                    <a:lnTo>
                      <a:pt x="576" y="716"/>
                    </a:lnTo>
                    <a:lnTo>
                      <a:pt x="695" y="703"/>
                    </a:lnTo>
                    <a:lnTo>
                      <a:pt x="781" y="621"/>
                    </a:lnTo>
                    <a:lnTo>
                      <a:pt x="859" y="428"/>
                    </a:lnTo>
                    <a:lnTo>
                      <a:pt x="825" y="161"/>
                    </a:lnTo>
                    <a:lnTo>
                      <a:pt x="700" y="52"/>
                    </a:lnTo>
                    <a:lnTo>
                      <a:pt x="478" y="124"/>
                    </a:lnTo>
                    <a:lnTo>
                      <a:pt x="661" y="0"/>
                    </a:lnTo>
                    <a:lnTo>
                      <a:pt x="781" y="40"/>
                    </a:lnTo>
                    <a:lnTo>
                      <a:pt x="881" y="151"/>
                    </a:lnTo>
                    <a:lnTo>
                      <a:pt x="908" y="372"/>
                    </a:lnTo>
                    <a:lnTo>
                      <a:pt x="897" y="527"/>
                    </a:lnTo>
                    <a:lnTo>
                      <a:pt x="794" y="723"/>
                    </a:lnTo>
                    <a:lnTo>
                      <a:pt x="726" y="765"/>
                    </a:lnTo>
                    <a:lnTo>
                      <a:pt x="604" y="760"/>
                    </a:lnTo>
                    <a:lnTo>
                      <a:pt x="0" y="1082"/>
                    </a:lnTo>
                    <a:lnTo>
                      <a:pt x="66" y="94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Freeform 37"/>
              <p:cNvSpPr/>
              <p:nvPr/>
            </p:nvSpPr>
            <p:spPr>
              <a:xfrm>
                <a:off x="721800" y="2453400"/>
                <a:ext cx="1617480" cy="371520"/>
              </a:xfrm>
              <a:custGeom>
                <a:avLst/>
                <a:gdLst>
                  <a:gd name="textAreaLeft" fmla="*/ 0 w 1617480"/>
                  <a:gd name="textAreaRight" fmla="*/ 1617840 w 161748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3257" h="1259">
                    <a:moveTo>
                      <a:pt x="44" y="0"/>
                    </a:moveTo>
                    <a:lnTo>
                      <a:pt x="0" y="99"/>
                    </a:lnTo>
                    <a:lnTo>
                      <a:pt x="5" y="321"/>
                    </a:lnTo>
                    <a:lnTo>
                      <a:pt x="66" y="448"/>
                    </a:lnTo>
                    <a:lnTo>
                      <a:pt x="166" y="482"/>
                    </a:lnTo>
                    <a:lnTo>
                      <a:pt x="338" y="625"/>
                    </a:lnTo>
                    <a:lnTo>
                      <a:pt x="758" y="915"/>
                    </a:lnTo>
                    <a:lnTo>
                      <a:pt x="853" y="931"/>
                    </a:lnTo>
                    <a:lnTo>
                      <a:pt x="974" y="997"/>
                    </a:lnTo>
                    <a:lnTo>
                      <a:pt x="1014" y="1076"/>
                    </a:lnTo>
                    <a:lnTo>
                      <a:pt x="1334" y="1242"/>
                    </a:lnTo>
                    <a:lnTo>
                      <a:pt x="1468" y="1259"/>
                    </a:lnTo>
                    <a:lnTo>
                      <a:pt x="3257" y="698"/>
                    </a:lnTo>
                    <a:lnTo>
                      <a:pt x="3241" y="577"/>
                    </a:lnTo>
                    <a:lnTo>
                      <a:pt x="2764" y="426"/>
                    </a:lnTo>
                    <a:lnTo>
                      <a:pt x="3207" y="621"/>
                    </a:lnTo>
                    <a:lnTo>
                      <a:pt x="1446" y="1174"/>
                    </a:lnTo>
                    <a:lnTo>
                      <a:pt x="1334" y="1076"/>
                    </a:lnTo>
                    <a:lnTo>
                      <a:pt x="1279" y="931"/>
                    </a:lnTo>
                    <a:lnTo>
                      <a:pt x="1324" y="648"/>
                    </a:lnTo>
                    <a:lnTo>
                      <a:pt x="1245" y="786"/>
                    </a:lnTo>
                    <a:lnTo>
                      <a:pt x="1229" y="931"/>
                    </a:lnTo>
                    <a:lnTo>
                      <a:pt x="1279" y="1114"/>
                    </a:lnTo>
                    <a:lnTo>
                      <a:pt x="1324" y="1174"/>
                    </a:lnTo>
                    <a:lnTo>
                      <a:pt x="1064" y="1048"/>
                    </a:lnTo>
                    <a:lnTo>
                      <a:pt x="1014" y="925"/>
                    </a:lnTo>
                    <a:lnTo>
                      <a:pt x="1002" y="742"/>
                    </a:lnTo>
                    <a:lnTo>
                      <a:pt x="1036" y="615"/>
                    </a:lnTo>
                    <a:lnTo>
                      <a:pt x="974" y="710"/>
                    </a:lnTo>
                    <a:lnTo>
                      <a:pt x="952" y="842"/>
                    </a:lnTo>
                    <a:lnTo>
                      <a:pt x="941" y="921"/>
                    </a:lnTo>
                    <a:lnTo>
                      <a:pt x="847" y="859"/>
                    </a:lnTo>
                    <a:lnTo>
                      <a:pt x="831" y="698"/>
                    </a:lnTo>
                    <a:lnTo>
                      <a:pt x="881" y="510"/>
                    </a:lnTo>
                    <a:lnTo>
                      <a:pt x="820" y="593"/>
                    </a:lnTo>
                    <a:lnTo>
                      <a:pt x="776" y="720"/>
                    </a:lnTo>
                    <a:lnTo>
                      <a:pt x="776" y="853"/>
                    </a:lnTo>
                    <a:lnTo>
                      <a:pt x="183" y="442"/>
                    </a:lnTo>
                    <a:lnTo>
                      <a:pt x="177" y="321"/>
                    </a:lnTo>
                    <a:lnTo>
                      <a:pt x="183" y="221"/>
                    </a:lnTo>
                    <a:lnTo>
                      <a:pt x="132" y="287"/>
                    </a:lnTo>
                    <a:lnTo>
                      <a:pt x="104" y="394"/>
                    </a:lnTo>
                    <a:lnTo>
                      <a:pt x="44" y="282"/>
                    </a:lnTo>
                    <a:lnTo>
                      <a:pt x="44" y="121"/>
                    </a:lnTo>
                    <a:lnTo>
                      <a:pt x="149" y="54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Freeform 38"/>
              <p:cNvSpPr/>
              <p:nvPr/>
            </p:nvSpPr>
            <p:spPr>
              <a:xfrm>
                <a:off x="1383840" y="2613600"/>
                <a:ext cx="149040" cy="134280"/>
              </a:xfrm>
              <a:custGeom>
                <a:avLst/>
                <a:gdLst>
                  <a:gd name="textAreaLeft" fmla="*/ 0 w 149040"/>
                  <a:gd name="textAreaRight" fmla="*/ 149400 w 149040"/>
                  <a:gd name="textAreaTop" fmla="*/ 0 h 134280"/>
                  <a:gd name="textAreaBottom" fmla="*/ 134640 h 134280"/>
                </a:gdLst>
                <a:ahLst/>
                <a:rect l="textAreaLeft" t="textAreaTop" r="textAreaRight" b="textAreaBottom"/>
                <a:pathLst>
                  <a:path w="300" h="454">
                    <a:moveTo>
                      <a:pt x="145" y="0"/>
                    </a:moveTo>
                    <a:lnTo>
                      <a:pt x="78" y="50"/>
                    </a:lnTo>
                    <a:lnTo>
                      <a:pt x="46" y="138"/>
                    </a:lnTo>
                    <a:lnTo>
                      <a:pt x="0" y="350"/>
                    </a:lnTo>
                    <a:lnTo>
                      <a:pt x="46" y="454"/>
                    </a:lnTo>
                    <a:lnTo>
                      <a:pt x="300" y="372"/>
                    </a:lnTo>
                    <a:lnTo>
                      <a:pt x="239" y="310"/>
                    </a:lnTo>
                    <a:lnTo>
                      <a:pt x="78" y="355"/>
                    </a:lnTo>
                    <a:lnTo>
                      <a:pt x="84" y="183"/>
                    </a:lnTo>
                    <a:lnTo>
                      <a:pt x="156" y="122"/>
                    </a:lnTo>
                    <a:lnTo>
                      <a:pt x="14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Freeform 39"/>
              <p:cNvSpPr/>
              <p:nvPr/>
            </p:nvSpPr>
            <p:spPr>
              <a:xfrm>
                <a:off x="1550880" y="2669400"/>
                <a:ext cx="232560" cy="47520"/>
              </a:xfrm>
              <a:custGeom>
                <a:avLst/>
                <a:gdLst>
                  <a:gd name="textAreaLeft" fmla="*/ 0 w 232560"/>
                  <a:gd name="textAreaRight" fmla="*/ 232920 w 2325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470" h="161">
                    <a:moveTo>
                      <a:pt x="10" y="99"/>
                    </a:moveTo>
                    <a:lnTo>
                      <a:pt x="470" y="0"/>
                    </a:lnTo>
                    <a:lnTo>
                      <a:pt x="0" y="161"/>
                    </a:lnTo>
                    <a:lnTo>
                      <a:pt x="10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Freeform 40"/>
              <p:cNvSpPr/>
              <p:nvPr/>
            </p:nvSpPr>
            <p:spPr>
              <a:xfrm>
                <a:off x="618840" y="2504520"/>
                <a:ext cx="1515960" cy="437040"/>
              </a:xfrm>
              <a:custGeom>
                <a:avLst/>
                <a:gdLst>
                  <a:gd name="textAreaLeft" fmla="*/ 0 w 1515960"/>
                  <a:gd name="textAreaRight" fmla="*/ 1516320 w 1515960"/>
                  <a:gd name="textAreaTop" fmla="*/ 0 h 437040"/>
                  <a:gd name="textAreaBottom" fmla="*/ 437400 h 437040"/>
                </a:gdLst>
                <a:ahLst/>
                <a:rect l="textAreaLeft" t="textAreaTop" r="textAreaRight" b="textAreaBottom"/>
                <a:pathLst>
                  <a:path w="3052" h="1482">
                    <a:moveTo>
                      <a:pt x="243" y="0"/>
                    </a:moveTo>
                    <a:lnTo>
                      <a:pt x="0" y="37"/>
                    </a:lnTo>
                    <a:lnTo>
                      <a:pt x="7" y="126"/>
                    </a:lnTo>
                    <a:lnTo>
                      <a:pt x="770" y="1337"/>
                    </a:lnTo>
                    <a:lnTo>
                      <a:pt x="2809" y="1107"/>
                    </a:lnTo>
                    <a:lnTo>
                      <a:pt x="2903" y="1151"/>
                    </a:lnTo>
                    <a:lnTo>
                      <a:pt x="2957" y="1237"/>
                    </a:lnTo>
                    <a:lnTo>
                      <a:pt x="2892" y="1419"/>
                    </a:lnTo>
                    <a:lnTo>
                      <a:pt x="2554" y="1482"/>
                    </a:lnTo>
                    <a:lnTo>
                      <a:pt x="2906" y="1482"/>
                    </a:lnTo>
                    <a:lnTo>
                      <a:pt x="3052" y="1259"/>
                    </a:lnTo>
                    <a:lnTo>
                      <a:pt x="3044" y="1078"/>
                    </a:lnTo>
                    <a:lnTo>
                      <a:pt x="2980" y="994"/>
                    </a:lnTo>
                    <a:lnTo>
                      <a:pt x="2626" y="1041"/>
                    </a:lnTo>
                    <a:lnTo>
                      <a:pt x="2561" y="1069"/>
                    </a:lnTo>
                    <a:lnTo>
                      <a:pt x="2484" y="1041"/>
                    </a:lnTo>
                    <a:lnTo>
                      <a:pt x="881" y="1230"/>
                    </a:lnTo>
                    <a:lnTo>
                      <a:pt x="384" y="532"/>
                    </a:lnTo>
                    <a:lnTo>
                      <a:pt x="827" y="1236"/>
                    </a:lnTo>
                    <a:lnTo>
                      <a:pt x="787" y="1295"/>
                    </a:lnTo>
                    <a:lnTo>
                      <a:pt x="31" y="70"/>
                    </a:lnTo>
                    <a:lnTo>
                      <a:pt x="224" y="37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Freeform 41"/>
              <p:cNvSpPr/>
              <p:nvPr/>
            </p:nvSpPr>
            <p:spPr>
              <a:xfrm>
                <a:off x="657360" y="2602080"/>
                <a:ext cx="272520" cy="377640"/>
              </a:xfrm>
              <a:custGeom>
                <a:avLst/>
                <a:gdLst>
                  <a:gd name="textAreaLeft" fmla="*/ 0 w 272520"/>
                  <a:gd name="textAreaRight" fmla="*/ 272880 w 2725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547" h="1281">
                    <a:moveTo>
                      <a:pt x="71" y="0"/>
                    </a:moveTo>
                    <a:lnTo>
                      <a:pt x="82" y="95"/>
                    </a:lnTo>
                    <a:lnTo>
                      <a:pt x="66" y="175"/>
                    </a:lnTo>
                    <a:lnTo>
                      <a:pt x="38" y="228"/>
                    </a:lnTo>
                    <a:lnTo>
                      <a:pt x="0" y="256"/>
                    </a:lnTo>
                    <a:lnTo>
                      <a:pt x="143" y="527"/>
                    </a:lnTo>
                    <a:lnTo>
                      <a:pt x="547" y="1281"/>
                    </a:lnTo>
                    <a:lnTo>
                      <a:pt x="249" y="604"/>
                    </a:lnTo>
                    <a:lnTo>
                      <a:pt x="66" y="256"/>
                    </a:lnTo>
                    <a:lnTo>
                      <a:pt x="243" y="465"/>
                    </a:lnTo>
                    <a:lnTo>
                      <a:pt x="104" y="189"/>
                    </a:lnTo>
                    <a:lnTo>
                      <a:pt x="143" y="89"/>
                    </a:lnTo>
                    <a:lnTo>
                      <a:pt x="7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Freeform 42"/>
              <p:cNvSpPr/>
              <p:nvPr/>
            </p:nvSpPr>
            <p:spPr>
              <a:xfrm>
                <a:off x="575640" y="2635560"/>
                <a:ext cx="1627560" cy="432360"/>
              </a:xfrm>
              <a:custGeom>
                <a:avLst/>
                <a:gdLst>
                  <a:gd name="textAreaLeft" fmla="*/ 0 w 1627560"/>
                  <a:gd name="textAreaRight" fmla="*/ 1627920 w 1627560"/>
                  <a:gd name="textAreaTop" fmla="*/ 0 h 432360"/>
                  <a:gd name="textAreaBottom" fmla="*/ 432720 h 432360"/>
                </a:gdLst>
                <a:ahLst/>
                <a:rect l="textAreaLeft" t="textAreaTop" r="textAreaRight" b="textAreaBottom"/>
                <a:pathLst>
                  <a:path w="3277" h="1467">
                    <a:moveTo>
                      <a:pt x="256" y="0"/>
                    </a:moveTo>
                    <a:lnTo>
                      <a:pt x="120" y="62"/>
                    </a:lnTo>
                    <a:lnTo>
                      <a:pt x="12" y="85"/>
                    </a:lnTo>
                    <a:lnTo>
                      <a:pt x="0" y="157"/>
                    </a:lnTo>
                    <a:lnTo>
                      <a:pt x="445" y="993"/>
                    </a:lnTo>
                    <a:lnTo>
                      <a:pt x="635" y="1467"/>
                    </a:lnTo>
                    <a:lnTo>
                      <a:pt x="2530" y="1233"/>
                    </a:lnTo>
                    <a:lnTo>
                      <a:pt x="2601" y="1210"/>
                    </a:lnTo>
                    <a:lnTo>
                      <a:pt x="2702" y="1244"/>
                    </a:lnTo>
                    <a:lnTo>
                      <a:pt x="3045" y="1198"/>
                    </a:lnTo>
                    <a:lnTo>
                      <a:pt x="3199" y="1056"/>
                    </a:lnTo>
                    <a:lnTo>
                      <a:pt x="3277" y="706"/>
                    </a:lnTo>
                    <a:lnTo>
                      <a:pt x="3223" y="456"/>
                    </a:lnTo>
                    <a:lnTo>
                      <a:pt x="2982" y="245"/>
                    </a:lnTo>
                    <a:lnTo>
                      <a:pt x="2511" y="363"/>
                    </a:lnTo>
                    <a:lnTo>
                      <a:pt x="2933" y="371"/>
                    </a:lnTo>
                    <a:lnTo>
                      <a:pt x="3115" y="510"/>
                    </a:lnTo>
                    <a:lnTo>
                      <a:pt x="3196" y="631"/>
                    </a:lnTo>
                    <a:lnTo>
                      <a:pt x="3202" y="811"/>
                    </a:lnTo>
                    <a:lnTo>
                      <a:pt x="3134" y="1027"/>
                    </a:lnTo>
                    <a:lnTo>
                      <a:pt x="3047" y="1124"/>
                    </a:lnTo>
                    <a:lnTo>
                      <a:pt x="2769" y="1161"/>
                    </a:lnTo>
                    <a:lnTo>
                      <a:pt x="2645" y="1121"/>
                    </a:lnTo>
                    <a:lnTo>
                      <a:pt x="2477" y="1205"/>
                    </a:lnTo>
                    <a:lnTo>
                      <a:pt x="688" y="1360"/>
                    </a:lnTo>
                    <a:lnTo>
                      <a:pt x="53" y="107"/>
                    </a:lnTo>
                    <a:lnTo>
                      <a:pt x="270" y="41"/>
                    </a:lnTo>
                    <a:lnTo>
                      <a:pt x="2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Freeform 43"/>
              <p:cNvSpPr/>
              <p:nvPr/>
            </p:nvSpPr>
            <p:spPr>
              <a:xfrm>
                <a:off x="939600" y="2847240"/>
                <a:ext cx="822600" cy="144000"/>
              </a:xfrm>
              <a:custGeom>
                <a:avLst/>
                <a:gdLst>
                  <a:gd name="textAreaLeft" fmla="*/ 0 w 822600"/>
                  <a:gd name="textAreaRight" fmla="*/ 822960 w 822600"/>
                  <a:gd name="textAreaTop" fmla="*/ 0 h 144000"/>
                  <a:gd name="textAreaBottom" fmla="*/ 144360 h 144000"/>
                </a:gdLst>
                <a:ahLst/>
                <a:rect l="textAreaLeft" t="textAreaTop" r="textAreaRight" b="textAreaBottom"/>
                <a:pathLst>
                  <a:path w="1656" h="489">
                    <a:moveTo>
                      <a:pt x="0" y="489"/>
                    </a:moveTo>
                    <a:lnTo>
                      <a:pt x="133" y="366"/>
                    </a:lnTo>
                    <a:lnTo>
                      <a:pt x="193" y="256"/>
                    </a:lnTo>
                    <a:lnTo>
                      <a:pt x="177" y="123"/>
                    </a:lnTo>
                    <a:lnTo>
                      <a:pt x="1202" y="0"/>
                    </a:lnTo>
                    <a:lnTo>
                      <a:pt x="288" y="157"/>
                    </a:lnTo>
                    <a:lnTo>
                      <a:pt x="248" y="267"/>
                    </a:lnTo>
                    <a:lnTo>
                      <a:pt x="1030" y="223"/>
                    </a:lnTo>
                    <a:lnTo>
                      <a:pt x="232" y="340"/>
                    </a:lnTo>
                    <a:lnTo>
                      <a:pt x="187" y="384"/>
                    </a:lnTo>
                    <a:lnTo>
                      <a:pt x="143" y="411"/>
                    </a:lnTo>
                    <a:lnTo>
                      <a:pt x="1656" y="328"/>
                    </a:lnTo>
                    <a:lnTo>
                      <a:pt x="0" y="48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Freeform 44"/>
              <p:cNvSpPr/>
              <p:nvPr/>
            </p:nvSpPr>
            <p:spPr>
              <a:xfrm>
                <a:off x="940680" y="2709000"/>
                <a:ext cx="377280" cy="98280"/>
              </a:xfrm>
              <a:custGeom>
                <a:avLst/>
                <a:gdLst>
                  <a:gd name="textAreaLeft" fmla="*/ 0 w 377280"/>
                  <a:gd name="textAreaRight" fmla="*/ 377640 w 377280"/>
                  <a:gd name="textAreaTop" fmla="*/ 0 h 98280"/>
                  <a:gd name="textAreaBottom" fmla="*/ 98640 h 98280"/>
                </a:gdLst>
                <a:ahLst/>
                <a:rect l="textAreaLeft" t="textAreaTop" r="textAreaRight" b="textAreaBottom"/>
                <a:pathLst>
                  <a:path w="759" h="332">
                    <a:moveTo>
                      <a:pt x="292" y="0"/>
                    </a:moveTo>
                    <a:lnTo>
                      <a:pt x="0" y="15"/>
                    </a:lnTo>
                    <a:lnTo>
                      <a:pt x="221" y="332"/>
                    </a:lnTo>
                    <a:lnTo>
                      <a:pt x="759" y="291"/>
                    </a:lnTo>
                    <a:lnTo>
                      <a:pt x="700" y="251"/>
                    </a:lnTo>
                    <a:lnTo>
                      <a:pt x="261" y="266"/>
                    </a:lnTo>
                    <a:lnTo>
                      <a:pt x="145" y="71"/>
                    </a:lnTo>
                    <a:lnTo>
                      <a:pt x="360" y="19"/>
                    </a:lnTo>
                    <a:lnTo>
                      <a:pt x="29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Freeform 45"/>
              <p:cNvSpPr/>
              <p:nvPr/>
            </p:nvSpPr>
            <p:spPr>
              <a:xfrm>
                <a:off x="1586520" y="2768400"/>
                <a:ext cx="326160" cy="24480"/>
              </a:xfrm>
              <a:custGeom>
                <a:avLst/>
                <a:gdLst>
                  <a:gd name="textAreaLeft" fmla="*/ 0 w 326160"/>
                  <a:gd name="textAreaRight" fmla="*/ 326520 w 326160"/>
                  <a:gd name="textAreaTop" fmla="*/ 0 h 24480"/>
                  <a:gd name="textAreaBottom" fmla="*/ 24840 h 24480"/>
                </a:gdLst>
                <a:ahLst/>
                <a:rect l="textAreaLeft" t="textAreaTop" r="textAreaRight" b="textAreaBottom"/>
                <a:pathLst>
                  <a:path w="657" h="84">
                    <a:moveTo>
                      <a:pt x="0" y="84"/>
                    </a:moveTo>
                    <a:lnTo>
                      <a:pt x="113" y="71"/>
                    </a:lnTo>
                    <a:lnTo>
                      <a:pt x="337" y="42"/>
                    </a:lnTo>
                    <a:lnTo>
                      <a:pt x="558" y="13"/>
                    </a:lnTo>
                    <a:lnTo>
                      <a:pt x="657" y="0"/>
                    </a:lnTo>
                    <a:lnTo>
                      <a:pt x="164" y="17"/>
                    </a:lnTo>
                    <a:lnTo>
                      <a:pt x="0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Freeform 46"/>
              <p:cNvSpPr/>
              <p:nvPr/>
            </p:nvSpPr>
            <p:spPr>
              <a:xfrm>
                <a:off x="1021320" y="2174400"/>
                <a:ext cx="906120" cy="132480"/>
              </a:xfrm>
              <a:custGeom>
                <a:avLst/>
                <a:gdLst>
                  <a:gd name="textAreaLeft" fmla="*/ 0 w 906120"/>
                  <a:gd name="textAreaRight" fmla="*/ 906480 w 906120"/>
                  <a:gd name="textAreaTop" fmla="*/ 0 h 132480"/>
                  <a:gd name="textAreaBottom" fmla="*/ 132840 h 132480"/>
                </a:gdLst>
                <a:ahLst/>
                <a:rect l="textAreaLeft" t="textAreaTop" r="textAreaRight" b="textAreaBottom"/>
                <a:pathLst>
                  <a:path w="1825" h="451">
                    <a:moveTo>
                      <a:pt x="1825" y="97"/>
                    </a:moveTo>
                    <a:lnTo>
                      <a:pt x="1527" y="47"/>
                    </a:lnTo>
                    <a:lnTo>
                      <a:pt x="1472" y="4"/>
                    </a:lnTo>
                    <a:lnTo>
                      <a:pt x="1391" y="0"/>
                    </a:lnTo>
                    <a:lnTo>
                      <a:pt x="0" y="308"/>
                    </a:lnTo>
                    <a:lnTo>
                      <a:pt x="451" y="451"/>
                    </a:lnTo>
                    <a:lnTo>
                      <a:pt x="1628" y="153"/>
                    </a:lnTo>
                    <a:lnTo>
                      <a:pt x="433" y="385"/>
                    </a:lnTo>
                    <a:lnTo>
                      <a:pt x="310" y="305"/>
                    </a:lnTo>
                    <a:lnTo>
                      <a:pt x="1400" y="42"/>
                    </a:lnTo>
                    <a:lnTo>
                      <a:pt x="1476" y="63"/>
                    </a:lnTo>
                    <a:lnTo>
                      <a:pt x="1825" y="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Freeform 47"/>
              <p:cNvSpPr/>
              <p:nvPr/>
            </p:nvSpPr>
            <p:spPr>
              <a:xfrm>
                <a:off x="1692360" y="2448000"/>
                <a:ext cx="469440" cy="113040"/>
              </a:xfrm>
              <a:custGeom>
                <a:avLst/>
                <a:gdLst>
                  <a:gd name="textAreaLeft" fmla="*/ 0 w 469440"/>
                  <a:gd name="textAreaRight" fmla="*/ 469800 w 469440"/>
                  <a:gd name="textAreaTop" fmla="*/ 0 h 113040"/>
                  <a:gd name="textAreaBottom" fmla="*/ 113400 h 113040"/>
                </a:gdLst>
                <a:ahLst/>
                <a:rect l="textAreaLeft" t="textAreaTop" r="textAreaRight" b="textAreaBottom"/>
                <a:pathLst>
                  <a:path w="945" h="382">
                    <a:moveTo>
                      <a:pt x="0" y="382"/>
                    </a:moveTo>
                    <a:lnTo>
                      <a:pt x="272" y="118"/>
                    </a:lnTo>
                    <a:lnTo>
                      <a:pt x="663" y="0"/>
                    </a:lnTo>
                    <a:lnTo>
                      <a:pt x="945" y="118"/>
                    </a:lnTo>
                    <a:lnTo>
                      <a:pt x="0" y="382"/>
                    </a:lnTo>
                    <a:close/>
                  </a:path>
                </a:pathLst>
              </a:custGeom>
              <a:solidFill>
                <a:srgbClr val="f7a8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Freeform 48"/>
              <p:cNvSpPr/>
              <p:nvPr/>
            </p:nvSpPr>
            <p:spPr>
              <a:xfrm>
                <a:off x="1462680" y="2422080"/>
                <a:ext cx="835920" cy="345960"/>
              </a:xfrm>
              <a:custGeom>
                <a:avLst/>
                <a:gdLst>
                  <a:gd name="textAreaLeft" fmla="*/ 0 w 835920"/>
                  <a:gd name="textAreaRight" fmla="*/ 836280 w 835920"/>
                  <a:gd name="textAreaTop" fmla="*/ 0 h 345960"/>
                  <a:gd name="textAreaBottom" fmla="*/ 346320 h 345960"/>
                </a:gdLst>
                <a:ahLst/>
                <a:rect l="textAreaLeft" t="textAreaTop" r="textAreaRight" b="textAreaBottom"/>
                <a:pathLst>
                  <a:path w="1682" h="1174">
                    <a:moveTo>
                      <a:pt x="939" y="0"/>
                    </a:moveTo>
                    <a:lnTo>
                      <a:pt x="1648" y="189"/>
                    </a:lnTo>
                    <a:lnTo>
                      <a:pt x="1682" y="300"/>
                    </a:lnTo>
                    <a:lnTo>
                      <a:pt x="1338" y="417"/>
                    </a:lnTo>
                    <a:lnTo>
                      <a:pt x="1293" y="505"/>
                    </a:lnTo>
                    <a:lnTo>
                      <a:pt x="1316" y="605"/>
                    </a:lnTo>
                    <a:lnTo>
                      <a:pt x="1366" y="678"/>
                    </a:lnTo>
                    <a:lnTo>
                      <a:pt x="1465" y="732"/>
                    </a:lnTo>
                    <a:lnTo>
                      <a:pt x="0" y="1174"/>
                    </a:lnTo>
                    <a:lnTo>
                      <a:pt x="1348" y="716"/>
                    </a:lnTo>
                    <a:lnTo>
                      <a:pt x="1259" y="662"/>
                    </a:lnTo>
                    <a:lnTo>
                      <a:pt x="828" y="755"/>
                    </a:lnTo>
                    <a:lnTo>
                      <a:pt x="1237" y="600"/>
                    </a:lnTo>
                    <a:lnTo>
                      <a:pt x="1243" y="473"/>
                    </a:lnTo>
                    <a:lnTo>
                      <a:pt x="368" y="666"/>
                    </a:lnTo>
                    <a:lnTo>
                      <a:pt x="346" y="573"/>
                    </a:lnTo>
                    <a:lnTo>
                      <a:pt x="1642" y="226"/>
                    </a:lnTo>
                    <a:lnTo>
                      <a:pt x="982" y="68"/>
                    </a:lnTo>
                    <a:lnTo>
                      <a:pt x="474" y="235"/>
                    </a:lnTo>
                    <a:lnTo>
                      <a:pt x="93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Freeform 49"/>
              <p:cNvSpPr/>
              <p:nvPr/>
            </p:nvSpPr>
            <p:spPr>
              <a:xfrm>
                <a:off x="1866960" y="2730960"/>
                <a:ext cx="147240" cy="41400"/>
              </a:xfrm>
              <a:custGeom>
                <a:avLst/>
                <a:gdLst>
                  <a:gd name="textAreaLeft" fmla="*/ 0 w 147240"/>
                  <a:gd name="textAreaRight" fmla="*/ 147600 w 147240"/>
                  <a:gd name="textAreaTop" fmla="*/ 0 h 41400"/>
                  <a:gd name="textAreaBottom" fmla="*/ 41760 h 41400"/>
                </a:gdLst>
                <a:ahLst/>
                <a:rect l="textAreaLeft" t="textAreaTop" r="textAreaRight" b="textAreaBottom"/>
                <a:pathLst>
                  <a:path w="297" h="141">
                    <a:moveTo>
                      <a:pt x="197" y="0"/>
                    </a:moveTo>
                    <a:lnTo>
                      <a:pt x="297" y="121"/>
                    </a:lnTo>
                    <a:lnTo>
                      <a:pt x="0" y="141"/>
                    </a:lnTo>
                    <a:lnTo>
                      <a:pt x="169" y="88"/>
                    </a:lnTo>
                    <a:lnTo>
                      <a:pt x="129" y="13"/>
                    </a:lnTo>
                    <a:lnTo>
                      <a:pt x="19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1" name="Group 50"/>
            <p:cNvGrpSpPr/>
            <p:nvPr/>
          </p:nvGrpSpPr>
          <p:grpSpPr>
            <a:xfrm>
              <a:off x="540000" y="1658160"/>
              <a:ext cx="1799280" cy="948960"/>
              <a:chOff x="540000" y="1658160"/>
              <a:chExt cx="1799280" cy="948960"/>
            </a:xfrm>
          </p:grpSpPr>
          <p:sp>
            <p:nvSpPr>
              <p:cNvPr id="392" name="Freeform 51"/>
              <p:cNvSpPr/>
              <p:nvPr/>
            </p:nvSpPr>
            <p:spPr>
              <a:xfrm>
                <a:off x="662040" y="1765800"/>
                <a:ext cx="1275840" cy="808560"/>
              </a:xfrm>
              <a:custGeom>
                <a:avLst/>
                <a:gdLst>
                  <a:gd name="textAreaLeft" fmla="*/ 0 w 1275840"/>
                  <a:gd name="textAreaRight" fmla="*/ 1276200 w 1275840"/>
                  <a:gd name="textAreaTop" fmla="*/ 0 h 808560"/>
                  <a:gd name="textAreaBottom" fmla="*/ 808920 h 808560"/>
                </a:gdLst>
                <a:ahLst/>
                <a:rect l="textAreaLeft" t="textAreaTop" r="textAreaRight" b="textAreaBottom"/>
                <a:pathLst>
                  <a:path w="2566" h="2741">
                    <a:moveTo>
                      <a:pt x="92" y="0"/>
                    </a:moveTo>
                    <a:lnTo>
                      <a:pt x="94" y="307"/>
                    </a:lnTo>
                    <a:lnTo>
                      <a:pt x="10" y="530"/>
                    </a:lnTo>
                    <a:lnTo>
                      <a:pt x="364" y="818"/>
                    </a:lnTo>
                    <a:lnTo>
                      <a:pt x="0" y="1593"/>
                    </a:lnTo>
                    <a:lnTo>
                      <a:pt x="560" y="2741"/>
                    </a:lnTo>
                    <a:lnTo>
                      <a:pt x="1750" y="2587"/>
                    </a:lnTo>
                    <a:lnTo>
                      <a:pt x="2566" y="1882"/>
                    </a:lnTo>
                    <a:lnTo>
                      <a:pt x="1775" y="222"/>
                    </a:lnTo>
                    <a:lnTo>
                      <a:pt x="9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Freeform 52"/>
              <p:cNvSpPr/>
              <p:nvPr/>
            </p:nvSpPr>
            <p:spPr>
              <a:xfrm>
                <a:off x="618840" y="2040480"/>
                <a:ext cx="288720" cy="288360"/>
              </a:xfrm>
              <a:custGeom>
                <a:avLst/>
                <a:gdLst>
                  <a:gd name="textAreaLeft" fmla="*/ 0 w 288720"/>
                  <a:gd name="textAreaRight" fmla="*/ 289080 w 288720"/>
                  <a:gd name="textAreaTop" fmla="*/ 0 h 288360"/>
                  <a:gd name="textAreaBottom" fmla="*/ 288720 h 288360"/>
                </a:gdLst>
                <a:ahLst/>
                <a:rect l="textAreaLeft" t="textAreaTop" r="textAreaRight" b="textAreaBottom"/>
                <a:pathLst>
                  <a:path w="582" h="978">
                    <a:moveTo>
                      <a:pt x="300" y="0"/>
                    </a:moveTo>
                    <a:lnTo>
                      <a:pt x="0" y="48"/>
                    </a:lnTo>
                    <a:lnTo>
                      <a:pt x="37" y="135"/>
                    </a:lnTo>
                    <a:lnTo>
                      <a:pt x="582" y="978"/>
                    </a:lnTo>
                    <a:lnTo>
                      <a:pt x="339" y="126"/>
                    </a:lnTo>
                    <a:lnTo>
                      <a:pt x="300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Freeform 53"/>
              <p:cNvSpPr/>
              <p:nvPr/>
            </p:nvSpPr>
            <p:spPr>
              <a:xfrm>
                <a:off x="581400" y="2181960"/>
                <a:ext cx="718560" cy="405360"/>
              </a:xfrm>
              <a:custGeom>
                <a:avLst/>
                <a:gdLst>
                  <a:gd name="textAreaLeft" fmla="*/ 0 w 718560"/>
                  <a:gd name="textAreaRight" fmla="*/ 718920 w 718560"/>
                  <a:gd name="textAreaTop" fmla="*/ 0 h 405360"/>
                  <a:gd name="textAreaBottom" fmla="*/ 405720 h 405360"/>
                </a:gdLst>
                <a:ahLst/>
                <a:rect l="textAreaLeft" t="textAreaTop" r="textAreaRight" b="textAreaBottom"/>
                <a:pathLst>
                  <a:path w="1445" h="1374">
                    <a:moveTo>
                      <a:pt x="247" y="0"/>
                    </a:moveTo>
                    <a:lnTo>
                      <a:pt x="0" y="93"/>
                    </a:lnTo>
                    <a:lnTo>
                      <a:pt x="656" y="1374"/>
                    </a:lnTo>
                    <a:lnTo>
                      <a:pt x="1445" y="1331"/>
                    </a:lnTo>
                    <a:lnTo>
                      <a:pt x="719" y="1182"/>
                    </a:lnTo>
                    <a:lnTo>
                      <a:pt x="204" y="156"/>
                    </a:lnTo>
                    <a:lnTo>
                      <a:pt x="247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Freeform 54"/>
              <p:cNvSpPr/>
              <p:nvPr/>
            </p:nvSpPr>
            <p:spPr>
              <a:xfrm>
                <a:off x="556560" y="1666800"/>
                <a:ext cx="840600" cy="252000"/>
              </a:xfrm>
              <a:custGeom>
                <a:avLst/>
                <a:gdLst>
                  <a:gd name="textAreaLeft" fmla="*/ 0 w 840600"/>
                  <a:gd name="textAreaRight" fmla="*/ 840960 w 840600"/>
                  <a:gd name="textAreaTop" fmla="*/ 0 h 252000"/>
                  <a:gd name="textAreaBottom" fmla="*/ 252360 h 252000"/>
                </a:gdLst>
                <a:ahLst/>
                <a:rect l="textAreaLeft" t="textAreaTop" r="textAreaRight" b="textAreaBottom"/>
                <a:pathLst>
                  <a:path w="1694" h="855">
                    <a:moveTo>
                      <a:pt x="1463" y="0"/>
                    </a:moveTo>
                    <a:lnTo>
                      <a:pt x="20" y="275"/>
                    </a:lnTo>
                    <a:lnTo>
                      <a:pt x="0" y="335"/>
                    </a:lnTo>
                    <a:lnTo>
                      <a:pt x="1389" y="855"/>
                    </a:lnTo>
                    <a:lnTo>
                      <a:pt x="1694" y="731"/>
                    </a:lnTo>
                    <a:lnTo>
                      <a:pt x="845" y="455"/>
                    </a:lnTo>
                    <a:lnTo>
                      <a:pt x="1509" y="75"/>
                    </a:lnTo>
                    <a:lnTo>
                      <a:pt x="1463" y="0"/>
                    </a:lnTo>
                    <a:close/>
                  </a:path>
                </a:pathLst>
              </a:custGeom>
              <a:solidFill>
                <a:srgbClr val="f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Freeform 55"/>
              <p:cNvSpPr/>
              <p:nvPr/>
            </p:nvSpPr>
            <p:spPr>
              <a:xfrm>
                <a:off x="575640" y="1881720"/>
                <a:ext cx="897120" cy="240480"/>
              </a:xfrm>
              <a:custGeom>
                <a:avLst/>
                <a:gdLst>
                  <a:gd name="textAreaLeft" fmla="*/ 0 w 897120"/>
                  <a:gd name="textAreaRight" fmla="*/ 897480 w 897120"/>
                  <a:gd name="textAreaTop" fmla="*/ 0 h 240480"/>
                  <a:gd name="textAreaBottom" fmla="*/ 240840 h 240480"/>
                </a:gdLst>
                <a:ahLst/>
                <a:rect l="textAreaLeft" t="textAreaTop" r="textAreaRight" b="textAreaBottom"/>
                <a:pathLst>
                  <a:path w="1806" h="816">
                    <a:moveTo>
                      <a:pt x="241" y="0"/>
                    </a:moveTo>
                    <a:lnTo>
                      <a:pt x="0" y="101"/>
                    </a:lnTo>
                    <a:lnTo>
                      <a:pt x="0" y="172"/>
                    </a:lnTo>
                    <a:lnTo>
                      <a:pt x="1349" y="816"/>
                    </a:lnTo>
                    <a:lnTo>
                      <a:pt x="1779" y="687"/>
                    </a:lnTo>
                    <a:lnTo>
                      <a:pt x="1806" y="570"/>
                    </a:lnTo>
                    <a:lnTo>
                      <a:pt x="1574" y="551"/>
                    </a:lnTo>
                    <a:lnTo>
                      <a:pt x="1344" y="636"/>
                    </a:lnTo>
                    <a:lnTo>
                      <a:pt x="207" y="129"/>
                    </a:lnTo>
                    <a:lnTo>
                      <a:pt x="241" y="0"/>
                    </a:lnTo>
                    <a:close/>
                  </a:path>
                </a:pathLst>
              </a:custGeom>
              <a:solidFill>
                <a:srgbClr val="f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Freeform 56"/>
              <p:cNvSpPr/>
              <p:nvPr/>
            </p:nvSpPr>
            <p:spPr>
              <a:xfrm>
                <a:off x="733680" y="1995840"/>
                <a:ext cx="676800" cy="318600"/>
              </a:xfrm>
              <a:custGeom>
                <a:avLst/>
                <a:gdLst>
                  <a:gd name="textAreaLeft" fmla="*/ 0 w 676800"/>
                  <a:gd name="textAreaRight" fmla="*/ 677160 w 676800"/>
                  <a:gd name="textAreaTop" fmla="*/ 0 h 318600"/>
                  <a:gd name="textAreaBottom" fmla="*/ 318960 h 318600"/>
                </a:gdLst>
                <a:ahLst/>
                <a:rect l="textAreaLeft" t="textAreaTop" r="textAreaRight" b="textAreaBottom"/>
                <a:pathLst>
                  <a:path w="1360" h="1080">
                    <a:moveTo>
                      <a:pt x="6" y="59"/>
                    </a:moveTo>
                    <a:lnTo>
                      <a:pt x="0" y="180"/>
                    </a:lnTo>
                    <a:lnTo>
                      <a:pt x="10" y="314"/>
                    </a:lnTo>
                    <a:lnTo>
                      <a:pt x="78" y="384"/>
                    </a:lnTo>
                    <a:lnTo>
                      <a:pt x="226" y="419"/>
                    </a:lnTo>
                    <a:lnTo>
                      <a:pt x="805" y="844"/>
                    </a:lnTo>
                    <a:lnTo>
                      <a:pt x="1060" y="1040"/>
                    </a:lnTo>
                    <a:lnTo>
                      <a:pt x="1244" y="1080"/>
                    </a:lnTo>
                    <a:lnTo>
                      <a:pt x="1219" y="835"/>
                    </a:lnTo>
                    <a:lnTo>
                      <a:pt x="1360" y="465"/>
                    </a:lnTo>
                    <a:lnTo>
                      <a:pt x="1075" y="450"/>
                    </a:lnTo>
                    <a:lnTo>
                      <a:pt x="50" y="0"/>
                    </a:lnTo>
                    <a:lnTo>
                      <a:pt x="6" y="59"/>
                    </a:lnTo>
                    <a:close/>
                  </a:path>
                </a:pathLst>
              </a:custGeom>
              <a:solidFill>
                <a:srgbClr val="f7a8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Freeform 57"/>
              <p:cNvSpPr/>
              <p:nvPr/>
            </p:nvSpPr>
            <p:spPr>
              <a:xfrm>
                <a:off x="1145160" y="1724400"/>
                <a:ext cx="818280" cy="114840"/>
              </a:xfrm>
              <a:custGeom>
                <a:avLst/>
                <a:gdLst>
                  <a:gd name="textAreaLeft" fmla="*/ 0 w 818280"/>
                  <a:gd name="textAreaRight" fmla="*/ 818640 w 818280"/>
                  <a:gd name="textAreaTop" fmla="*/ 0 h 114840"/>
                  <a:gd name="textAreaBottom" fmla="*/ 115200 h 114840"/>
                </a:gdLst>
                <a:ahLst/>
                <a:rect l="textAreaLeft" t="textAreaTop" r="textAreaRight" b="textAreaBottom"/>
                <a:pathLst>
                  <a:path w="1646" h="390">
                    <a:moveTo>
                      <a:pt x="0" y="292"/>
                    </a:moveTo>
                    <a:lnTo>
                      <a:pt x="53" y="273"/>
                    </a:lnTo>
                    <a:lnTo>
                      <a:pt x="191" y="238"/>
                    </a:lnTo>
                    <a:lnTo>
                      <a:pt x="281" y="216"/>
                    </a:lnTo>
                    <a:lnTo>
                      <a:pt x="383" y="190"/>
                    </a:lnTo>
                    <a:lnTo>
                      <a:pt x="490" y="165"/>
                    </a:lnTo>
                    <a:lnTo>
                      <a:pt x="602" y="139"/>
                    </a:lnTo>
                    <a:lnTo>
                      <a:pt x="715" y="112"/>
                    </a:lnTo>
                    <a:lnTo>
                      <a:pt x="822" y="87"/>
                    </a:lnTo>
                    <a:lnTo>
                      <a:pt x="924" y="64"/>
                    </a:lnTo>
                    <a:lnTo>
                      <a:pt x="1014" y="43"/>
                    </a:lnTo>
                    <a:lnTo>
                      <a:pt x="1150" y="12"/>
                    </a:lnTo>
                    <a:lnTo>
                      <a:pt x="1202" y="0"/>
                    </a:lnTo>
                    <a:lnTo>
                      <a:pt x="1646" y="75"/>
                    </a:lnTo>
                    <a:lnTo>
                      <a:pt x="158" y="390"/>
                    </a:lnTo>
                    <a:lnTo>
                      <a:pt x="0" y="292"/>
                    </a:lnTo>
                    <a:close/>
                  </a:path>
                </a:pathLst>
              </a:custGeom>
              <a:solidFill>
                <a:srgbClr val="f0ea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Freeform 58"/>
              <p:cNvSpPr/>
              <p:nvPr/>
            </p:nvSpPr>
            <p:spPr>
              <a:xfrm>
                <a:off x="1134360" y="2141280"/>
                <a:ext cx="128160" cy="122760"/>
              </a:xfrm>
              <a:custGeom>
                <a:avLst/>
                <a:gdLst>
                  <a:gd name="textAreaLeft" fmla="*/ 0 w 128160"/>
                  <a:gd name="textAreaRight" fmla="*/ 128520 w 128160"/>
                  <a:gd name="textAreaTop" fmla="*/ 0 h 122760"/>
                  <a:gd name="textAreaBottom" fmla="*/ 123120 h 122760"/>
                </a:gdLst>
                <a:ahLst/>
                <a:rect l="textAreaLeft" t="textAreaTop" r="textAreaRight" b="textAreaBottom"/>
                <a:pathLst>
                  <a:path w="259" h="417">
                    <a:moveTo>
                      <a:pt x="75" y="0"/>
                    </a:moveTo>
                    <a:lnTo>
                      <a:pt x="259" y="21"/>
                    </a:lnTo>
                    <a:lnTo>
                      <a:pt x="135" y="241"/>
                    </a:lnTo>
                    <a:lnTo>
                      <a:pt x="110" y="417"/>
                    </a:lnTo>
                    <a:lnTo>
                      <a:pt x="0" y="350"/>
                    </a:lnTo>
                    <a:lnTo>
                      <a:pt x="25" y="80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f0ea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Freeform 59"/>
              <p:cNvSpPr/>
              <p:nvPr/>
            </p:nvSpPr>
            <p:spPr>
              <a:xfrm>
                <a:off x="1040760" y="2264040"/>
                <a:ext cx="209880" cy="72360"/>
              </a:xfrm>
              <a:custGeom>
                <a:avLst/>
                <a:gdLst>
                  <a:gd name="textAreaLeft" fmla="*/ 0 w 209880"/>
                  <a:gd name="textAreaRight" fmla="*/ 210240 w 209880"/>
                  <a:gd name="textAreaTop" fmla="*/ 0 h 72360"/>
                  <a:gd name="textAreaBottom" fmla="*/ 72720 h 72360"/>
                </a:gdLst>
                <a:ahLst/>
                <a:rect l="textAreaLeft" t="textAreaTop" r="textAreaRight" b="textAreaBottom"/>
                <a:pathLst>
                  <a:path w="423" h="247">
                    <a:moveTo>
                      <a:pt x="0" y="16"/>
                    </a:moveTo>
                    <a:lnTo>
                      <a:pt x="174" y="0"/>
                    </a:lnTo>
                    <a:lnTo>
                      <a:pt x="423" y="201"/>
                    </a:lnTo>
                    <a:lnTo>
                      <a:pt x="44" y="247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f0ea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Freeform 60"/>
              <p:cNvSpPr/>
              <p:nvPr/>
            </p:nvSpPr>
            <p:spPr>
              <a:xfrm>
                <a:off x="982800" y="2343600"/>
                <a:ext cx="1182240" cy="221040"/>
              </a:xfrm>
              <a:custGeom>
                <a:avLst/>
                <a:gdLst>
                  <a:gd name="textAreaLeft" fmla="*/ 0 w 1182240"/>
                  <a:gd name="textAreaRight" fmla="*/ 1182600 w 1182240"/>
                  <a:gd name="textAreaTop" fmla="*/ 0 h 221040"/>
                  <a:gd name="textAreaBottom" fmla="*/ 221400 h 221040"/>
                </a:gdLst>
                <a:ahLst/>
                <a:rect l="textAreaLeft" t="textAreaTop" r="textAreaRight" b="textAreaBottom"/>
                <a:pathLst>
                  <a:path w="2378" h="751">
                    <a:moveTo>
                      <a:pt x="155" y="301"/>
                    </a:moveTo>
                    <a:lnTo>
                      <a:pt x="129" y="450"/>
                    </a:lnTo>
                    <a:lnTo>
                      <a:pt x="0" y="601"/>
                    </a:lnTo>
                    <a:lnTo>
                      <a:pt x="563" y="751"/>
                    </a:lnTo>
                    <a:lnTo>
                      <a:pt x="1684" y="647"/>
                    </a:lnTo>
                    <a:lnTo>
                      <a:pt x="1763" y="616"/>
                    </a:lnTo>
                    <a:lnTo>
                      <a:pt x="1913" y="647"/>
                    </a:lnTo>
                    <a:lnTo>
                      <a:pt x="2042" y="630"/>
                    </a:lnTo>
                    <a:lnTo>
                      <a:pt x="2187" y="607"/>
                    </a:lnTo>
                    <a:lnTo>
                      <a:pt x="2221" y="580"/>
                    </a:lnTo>
                    <a:lnTo>
                      <a:pt x="2276" y="534"/>
                    </a:lnTo>
                    <a:lnTo>
                      <a:pt x="2326" y="490"/>
                    </a:lnTo>
                    <a:lnTo>
                      <a:pt x="2348" y="471"/>
                    </a:lnTo>
                    <a:lnTo>
                      <a:pt x="2378" y="186"/>
                    </a:lnTo>
                    <a:lnTo>
                      <a:pt x="2218" y="0"/>
                    </a:lnTo>
                    <a:lnTo>
                      <a:pt x="1439" y="140"/>
                    </a:lnTo>
                    <a:lnTo>
                      <a:pt x="155" y="301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Freeform 61"/>
              <p:cNvSpPr/>
              <p:nvPr/>
            </p:nvSpPr>
            <p:spPr>
              <a:xfrm>
                <a:off x="660600" y="2060640"/>
                <a:ext cx="1522080" cy="510480"/>
              </a:xfrm>
              <a:custGeom>
                <a:avLst/>
                <a:gdLst>
                  <a:gd name="textAreaLeft" fmla="*/ 0 w 1522080"/>
                  <a:gd name="textAreaRight" fmla="*/ 1522440 w 1522080"/>
                  <a:gd name="textAreaTop" fmla="*/ 0 h 510480"/>
                  <a:gd name="textAreaBottom" fmla="*/ 510840 h 510480"/>
                </a:gdLst>
                <a:ahLst/>
                <a:rect l="textAreaLeft" t="textAreaTop" r="textAreaRight" b="textAreaBottom"/>
                <a:pathLst>
                  <a:path w="3063" h="1730">
                    <a:moveTo>
                      <a:pt x="15" y="29"/>
                    </a:moveTo>
                    <a:lnTo>
                      <a:pt x="134" y="0"/>
                    </a:lnTo>
                    <a:lnTo>
                      <a:pt x="205" y="184"/>
                    </a:lnTo>
                    <a:lnTo>
                      <a:pt x="306" y="212"/>
                    </a:lnTo>
                    <a:lnTo>
                      <a:pt x="880" y="630"/>
                    </a:lnTo>
                    <a:lnTo>
                      <a:pt x="669" y="680"/>
                    </a:lnTo>
                    <a:lnTo>
                      <a:pt x="809" y="936"/>
                    </a:lnTo>
                    <a:lnTo>
                      <a:pt x="1284" y="885"/>
                    </a:lnTo>
                    <a:lnTo>
                      <a:pt x="1594" y="980"/>
                    </a:lnTo>
                    <a:lnTo>
                      <a:pt x="2453" y="705"/>
                    </a:lnTo>
                    <a:lnTo>
                      <a:pt x="2883" y="730"/>
                    </a:lnTo>
                    <a:lnTo>
                      <a:pt x="3063" y="970"/>
                    </a:lnTo>
                    <a:lnTo>
                      <a:pt x="3014" y="1427"/>
                    </a:lnTo>
                    <a:lnTo>
                      <a:pt x="2858" y="1555"/>
                    </a:lnTo>
                    <a:lnTo>
                      <a:pt x="2537" y="1614"/>
                    </a:lnTo>
                    <a:lnTo>
                      <a:pt x="2388" y="1581"/>
                    </a:lnTo>
                    <a:lnTo>
                      <a:pt x="2269" y="1620"/>
                    </a:lnTo>
                    <a:lnTo>
                      <a:pt x="1115" y="1730"/>
                    </a:lnTo>
                    <a:lnTo>
                      <a:pt x="561" y="1594"/>
                    </a:lnTo>
                    <a:lnTo>
                      <a:pt x="964" y="1535"/>
                    </a:lnTo>
                    <a:lnTo>
                      <a:pt x="2554" y="1409"/>
                    </a:lnTo>
                    <a:lnTo>
                      <a:pt x="2808" y="1395"/>
                    </a:lnTo>
                    <a:lnTo>
                      <a:pt x="2908" y="1160"/>
                    </a:lnTo>
                    <a:lnTo>
                      <a:pt x="2892" y="1133"/>
                    </a:lnTo>
                    <a:lnTo>
                      <a:pt x="2855" y="1074"/>
                    </a:lnTo>
                    <a:lnTo>
                      <a:pt x="2834" y="1042"/>
                    </a:lnTo>
                    <a:lnTo>
                      <a:pt x="2815" y="1012"/>
                    </a:lnTo>
                    <a:lnTo>
                      <a:pt x="2788" y="980"/>
                    </a:lnTo>
                    <a:lnTo>
                      <a:pt x="2536" y="1006"/>
                    </a:lnTo>
                    <a:lnTo>
                      <a:pt x="2372" y="1029"/>
                    </a:lnTo>
                    <a:lnTo>
                      <a:pt x="2298" y="1040"/>
                    </a:lnTo>
                    <a:lnTo>
                      <a:pt x="784" y="1215"/>
                    </a:lnTo>
                    <a:lnTo>
                      <a:pt x="703" y="1237"/>
                    </a:lnTo>
                    <a:lnTo>
                      <a:pt x="0" y="119"/>
                    </a:lnTo>
                    <a:lnTo>
                      <a:pt x="459" y="710"/>
                    </a:lnTo>
                    <a:lnTo>
                      <a:pt x="15" y="29"/>
                    </a:lnTo>
                    <a:close/>
                  </a:path>
                </a:pathLst>
              </a:custGeom>
              <a:solidFill>
                <a:srgbClr val="7a7a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Freeform 62"/>
              <p:cNvSpPr/>
              <p:nvPr/>
            </p:nvSpPr>
            <p:spPr>
              <a:xfrm>
                <a:off x="1702800" y="2259720"/>
                <a:ext cx="294840" cy="52920"/>
              </a:xfrm>
              <a:custGeom>
                <a:avLst/>
                <a:gdLst>
                  <a:gd name="textAreaLeft" fmla="*/ 0 w 294840"/>
                  <a:gd name="textAreaRight" fmla="*/ 295200 w 29484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593" h="178">
                    <a:moveTo>
                      <a:pt x="0" y="178"/>
                    </a:moveTo>
                    <a:lnTo>
                      <a:pt x="423" y="161"/>
                    </a:lnTo>
                    <a:lnTo>
                      <a:pt x="593" y="142"/>
                    </a:lnTo>
                    <a:lnTo>
                      <a:pt x="519" y="68"/>
                    </a:lnTo>
                    <a:lnTo>
                      <a:pt x="546" y="0"/>
                    </a:lnTo>
                    <a:lnTo>
                      <a:pt x="380" y="29"/>
                    </a:lnTo>
                    <a:lnTo>
                      <a:pt x="155" y="124"/>
                    </a:lnTo>
                    <a:lnTo>
                      <a:pt x="0" y="178"/>
                    </a:lnTo>
                    <a:close/>
                  </a:path>
                </a:pathLst>
              </a:custGeom>
              <a:solidFill>
                <a:srgbClr val="948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Freeform 63"/>
              <p:cNvSpPr/>
              <p:nvPr/>
            </p:nvSpPr>
            <p:spPr>
              <a:xfrm>
                <a:off x="1117080" y="2123280"/>
                <a:ext cx="131040" cy="140400"/>
              </a:xfrm>
              <a:custGeom>
                <a:avLst/>
                <a:gdLst>
                  <a:gd name="textAreaLeft" fmla="*/ 0 w 131040"/>
                  <a:gd name="textAreaRight" fmla="*/ 131400 w 131040"/>
                  <a:gd name="textAreaTop" fmla="*/ 0 h 140400"/>
                  <a:gd name="textAreaBottom" fmla="*/ 140760 h 140400"/>
                </a:gdLst>
                <a:ahLst/>
                <a:rect l="textAreaLeft" t="textAreaTop" r="textAreaRight" b="textAreaBottom"/>
                <a:pathLst>
                  <a:path w="264" h="477">
                    <a:moveTo>
                      <a:pt x="9" y="420"/>
                    </a:moveTo>
                    <a:lnTo>
                      <a:pt x="0" y="266"/>
                    </a:lnTo>
                    <a:lnTo>
                      <a:pt x="59" y="96"/>
                    </a:lnTo>
                    <a:lnTo>
                      <a:pt x="109" y="0"/>
                    </a:lnTo>
                    <a:lnTo>
                      <a:pt x="264" y="81"/>
                    </a:lnTo>
                    <a:lnTo>
                      <a:pt x="214" y="106"/>
                    </a:lnTo>
                    <a:lnTo>
                      <a:pt x="119" y="131"/>
                    </a:lnTo>
                    <a:lnTo>
                      <a:pt x="73" y="245"/>
                    </a:lnTo>
                    <a:lnTo>
                      <a:pt x="73" y="366"/>
                    </a:lnTo>
                    <a:lnTo>
                      <a:pt x="144" y="477"/>
                    </a:lnTo>
                    <a:lnTo>
                      <a:pt x="9" y="420"/>
                    </a:lnTo>
                    <a:close/>
                  </a:path>
                </a:pathLst>
              </a:custGeom>
              <a:solidFill>
                <a:srgbClr val="b8ad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Freeform 64"/>
              <p:cNvSpPr/>
              <p:nvPr/>
            </p:nvSpPr>
            <p:spPr>
              <a:xfrm>
                <a:off x="1140480" y="1718280"/>
                <a:ext cx="688680" cy="145800"/>
              </a:xfrm>
              <a:custGeom>
                <a:avLst/>
                <a:gdLst>
                  <a:gd name="textAreaLeft" fmla="*/ 0 w 688680"/>
                  <a:gd name="textAreaRight" fmla="*/ 689040 w 688680"/>
                  <a:gd name="textAreaTop" fmla="*/ 0 h 145800"/>
                  <a:gd name="textAreaBottom" fmla="*/ 146160 h 145800"/>
                </a:gdLst>
                <a:ahLst/>
                <a:rect l="textAreaLeft" t="textAreaTop" r="textAreaRight" b="textAreaBottom"/>
                <a:pathLst>
                  <a:path w="1385" h="496">
                    <a:moveTo>
                      <a:pt x="0" y="297"/>
                    </a:moveTo>
                    <a:lnTo>
                      <a:pt x="1110" y="0"/>
                    </a:lnTo>
                    <a:lnTo>
                      <a:pt x="1255" y="31"/>
                    </a:lnTo>
                    <a:lnTo>
                      <a:pt x="269" y="309"/>
                    </a:lnTo>
                    <a:lnTo>
                      <a:pt x="1385" y="121"/>
                    </a:lnTo>
                    <a:lnTo>
                      <a:pt x="291" y="496"/>
                    </a:lnTo>
                    <a:lnTo>
                      <a:pt x="0" y="297"/>
                    </a:lnTo>
                    <a:close/>
                  </a:path>
                </a:pathLst>
              </a:custGeom>
              <a:solidFill>
                <a:srgbClr val="b8ad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Freeform 65"/>
              <p:cNvSpPr/>
              <p:nvPr/>
            </p:nvSpPr>
            <p:spPr>
              <a:xfrm>
                <a:off x="993240" y="2248200"/>
                <a:ext cx="294840" cy="88200"/>
              </a:xfrm>
              <a:custGeom>
                <a:avLst/>
                <a:gdLst>
                  <a:gd name="textAreaLeft" fmla="*/ 0 w 294840"/>
                  <a:gd name="textAreaRight" fmla="*/ 295200 w 294840"/>
                  <a:gd name="textAreaTop" fmla="*/ 0 h 88200"/>
                  <a:gd name="textAreaBottom" fmla="*/ 88200 h 88200"/>
                </a:gdLst>
                <a:ahLst/>
                <a:rect l="textAreaLeft" t="textAreaTop" r="textAreaRight" b="textAreaBottom"/>
                <a:pathLst>
                  <a:path w="595" h="300">
                    <a:moveTo>
                      <a:pt x="0" y="44"/>
                    </a:moveTo>
                    <a:lnTo>
                      <a:pt x="187" y="0"/>
                    </a:lnTo>
                    <a:lnTo>
                      <a:pt x="428" y="131"/>
                    </a:lnTo>
                    <a:lnTo>
                      <a:pt x="595" y="251"/>
                    </a:lnTo>
                    <a:lnTo>
                      <a:pt x="490" y="269"/>
                    </a:lnTo>
                    <a:lnTo>
                      <a:pt x="375" y="193"/>
                    </a:lnTo>
                    <a:lnTo>
                      <a:pt x="291" y="109"/>
                    </a:lnTo>
                    <a:lnTo>
                      <a:pt x="155" y="94"/>
                    </a:lnTo>
                    <a:lnTo>
                      <a:pt x="140" y="300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b8ad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Freeform 66"/>
              <p:cNvSpPr/>
              <p:nvPr/>
            </p:nvSpPr>
            <p:spPr>
              <a:xfrm>
                <a:off x="1453680" y="1919160"/>
                <a:ext cx="225000" cy="356400"/>
              </a:xfrm>
              <a:custGeom>
                <a:avLst/>
                <a:gdLst>
                  <a:gd name="textAreaLeft" fmla="*/ 0 w 225000"/>
                  <a:gd name="textAreaRight" fmla="*/ 225360 w 225000"/>
                  <a:gd name="textAreaTop" fmla="*/ 0 h 356400"/>
                  <a:gd name="textAreaBottom" fmla="*/ 356760 h 356400"/>
                </a:gdLst>
                <a:ahLst/>
                <a:rect l="textAreaLeft" t="textAreaTop" r="textAreaRight" b="textAreaBottom"/>
                <a:pathLst>
                  <a:path w="452" h="1211">
                    <a:moveTo>
                      <a:pt x="71" y="96"/>
                    </a:moveTo>
                    <a:lnTo>
                      <a:pt x="362" y="0"/>
                    </a:lnTo>
                    <a:lnTo>
                      <a:pt x="452" y="110"/>
                    </a:lnTo>
                    <a:lnTo>
                      <a:pt x="322" y="776"/>
                    </a:lnTo>
                    <a:lnTo>
                      <a:pt x="186" y="896"/>
                    </a:lnTo>
                    <a:lnTo>
                      <a:pt x="182" y="1211"/>
                    </a:lnTo>
                    <a:lnTo>
                      <a:pt x="71" y="1086"/>
                    </a:lnTo>
                    <a:lnTo>
                      <a:pt x="49" y="941"/>
                    </a:lnTo>
                    <a:lnTo>
                      <a:pt x="27" y="841"/>
                    </a:lnTo>
                    <a:lnTo>
                      <a:pt x="5" y="794"/>
                    </a:lnTo>
                    <a:lnTo>
                      <a:pt x="0" y="772"/>
                    </a:lnTo>
                    <a:lnTo>
                      <a:pt x="5" y="716"/>
                    </a:lnTo>
                    <a:lnTo>
                      <a:pt x="30" y="549"/>
                    </a:lnTo>
                    <a:lnTo>
                      <a:pt x="61" y="382"/>
                    </a:lnTo>
                    <a:lnTo>
                      <a:pt x="77" y="305"/>
                    </a:lnTo>
                    <a:lnTo>
                      <a:pt x="37" y="121"/>
                    </a:lnTo>
                    <a:lnTo>
                      <a:pt x="71" y="96"/>
                    </a:lnTo>
                    <a:close/>
                  </a:path>
                </a:pathLst>
              </a:custGeom>
              <a:solidFill>
                <a:srgbClr val="ff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Freeform 67"/>
              <p:cNvSpPr/>
              <p:nvPr/>
            </p:nvSpPr>
            <p:spPr>
              <a:xfrm>
                <a:off x="1478880" y="1904040"/>
                <a:ext cx="235440" cy="380160"/>
              </a:xfrm>
              <a:custGeom>
                <a:avLst/>
                <a:gdLst>
                  <a:gd name="textAreaLeft" fmla="*/ 0 w 235440"/>
                  <a:gd name="textAreaRight" fmla="*/ 235800 w 235440"/>
                  <a:gd name="textAreaTop" fmla="*/ 0 h 380160"/>
                  <a:gd name="textAreaBottom" fmla="*/ 380520 h 380160"/>
                </a:gdLst>
                <a:ahLst/>
                <a:rect l="textAreaLeft" t="textAreaTop" r="textAreaRight" b="textAreaBottom"/>
                <a:pathLst>
                  <a:path w="474" h="1290">
                    <a:moveTo>
                      <a:pt x="0" y="109"/>
                    </a:moveTo>
                    <a:lnTo>
                      <a:pt x="369" y="0"/>
                    </a:lnTo>
                    <a:lnTo>
                      <a:pt x="474" y="214"/>
                    </a:lnTo>
                    <a:lnTo>
                      <a:pt x="310" y="689"/>
                    </a:lnTo>
                    <a:lnTo>
                      <a:pt x="434" y="1005"/>
                    </a:lnTo>
                    <a:lnTo>
                      <a:pt x="230" y="959"/>
                    </a:lnTo>
                    <a:lnTo>
                      <a:pt x="140" y="1290"/>
                    </a:lnTo>
                    <a:lnTo>
                      <a:pt x="57" y="1026"/>
                    </a:lnTo>
                    <a:lnTo>
                      <a:pt x="15" y="779"/>
                    </a:lnTo>
                    <a:lnTo>
                      <a:pt x="90" y="509"/>
                    </a:lnTo>
                    <a:lnTo>
                      <a:pt x="34" y="304"/>
                    </a:lnTo>
                    <a:lnTo>
                      <a:pt x="124" y="214"/>
                    </a:lnTo>
                    <a:lnTo>
                      <a:pt x="230" y="244"/>
                    </a:lnTo>
                    <a:lnTo>
                      <a:pt x="190" y="339"/>
                    </a:lnTo>
                    <a:lnTo>
                      <a:pt x="264" y="390"/>
                    </a:lnTo>
                    <a:lnTo>
                      <a:pt x="115" y="689"/>
                    </a:lnTo>
                    <a:lnTo>
                      <a:pt x="190" y="675"/>
                    </a:lnTo>
                    <a:lnTo>
                      <a:pt x="115" y="900"/>
                    </a:lnTo>
                    <a:lnTo>
                      <a:pt x="214" y="785"/>
                    </a:lnTo>
                    <a:lnTo>
                      <a:pt x="260" y="555"/>
                    </a:lnTo>
                    <a:lnTo>
                      <a:pt x="260" y="484"/>
                    </a:lnTo>
                    <a:lnTo>
                      <a:pt x="339" y="314"/>
                    </a:lnTo>
                    <a:lnTo>
                      <a:pt x="285" y="300"/>
                    </a:lnTo>
                    <a:lnTo>
                      <a:pt x="304" y="170"/>
                    </a:lnTo>
                    <a:lnTo>
                      <a:pt x="180" y="149"/>
                    </a:lnTo>
                    <a:lnTo>
                      <a:pt x="199" y="99"/>
                    </a:lnTo>
                    <a:lnTo>
                      <a:pt x="25" y="195"/>
                    </a:lnTo>
                    <a:lnTo>
                      <a:pt x="0" y="109"/>
                    </a:lnTo>
                    <a:close/>
                  </a:path>
                </a:pathLst>
              </a:custGeom>
              <a:solidFill>
                <a:srgbClr val="ff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Freeform 68"/>
              <p:cNvSpPr/>
              <p:nvPr/>
            </p:nvSpPr>
            <p:spPr>
              <a:xfrm>
                <a:off x="751320" y="2051640"/>
                <a:ext cx="394920" cy="201600"/>
              </a:xfrm>
              <a:custGeom>
                <a:avLst/>
                <a:gdLst>
                  <a:gd name="textAreaLeft" fmla="*/ 0 w 394920"/>
                  <a:gd name="textAreaRight" fmla="*/ 395280 w 394920"/>
                  <a:gd name="textAreaTop" fmla="*/ 0 h 201600"/>
                  <a:gd name="textAreaBottom" fmla="*/ 201960 h 201600"/>
                </a:gdLst>
                <a:ahLst/>
                <a:rect l="textAreaLeft" t="textAreaTop" r="textAreaRight" b="textAreaBottom"/>
                <a:pathLst>
                  <a:path w="794" h="686">
                    <a:moveTo>
                      <a:pt x="0" y="136"/>
                    </a:moveTo>
                    <a:lnTo>
                      <a:pt x="60" y="40"/>
                    </a:lnTo>
                    <a:lnTo>
                      <a:pt x="134" y="0"/>
                    </a:lnTo>
                    <a:lnTo>
                      <a:pt x="144" y="96"/>
                    </a:lnTo>
                    <a:lnTo>
                      <a:pt x="349" y="291"/>
                    </a:lnTo>
                    <a:lnTo>
                      <a:pt x="653" y="466"/>
                    </a:lnTo>
                    <a:lnTo>
                      <a:pt x="794" y="341"/>
                    </a:lnTo>
                    <a:lnTo>
                      <a:pt x="714" y="686"/>
                    </a:lnTo>
                    <a:lnTo>
                      <a:pt x="100" y="230"/>
                    </a:lnTo>
                    <a:lnTo>
                      <a:pt x="20" y="215"/>
                    </a:lnTo>
                    <a:lnTo>
                      <a:pt x="0" y="136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Freeform 69"/>
              <p:cNvSpPr/>
              <p:nvPr/>
            </p:nvSpPr>
            <p:spPr>
              <a:xfrm>
                <a:off x="742680" y="1998720"/>
                <a:ext cx="448560" cy="152640"/>
              </a:xfrm>
              <a:custGeom>
                <a:avLst/>
                <a:gdLst>
                  <a:gd name="textAreaLeft" fmla="*/ 0 w 448560"/>
                  <a:gd name="textAreaRight" fmla="*/ 448920 w 44856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902" h="521">
                    <a:moveTo>
                      <a:pt x="32" y="40"/>
                    </a:moveTo>
                    <a:lnTo>
                      <a:pt x="0" y="102"/>
                    </a:lnTo>
                    <a:lnTo>
                      <a:pt x="143" y="121"/>
                    </a:lnTo>
                    <a:lnTo>
                      <a:pt x="767" y="446"/>
                    </a:lnTo>
                    <a:lnTo>
                      <a:pt x="812" y="521"/>
                    </a:lnTo>
                    <a:lnTo>
                      <a:pt x="902" y="435"/>
                    </a:lnTo>
                    <a:lnTo>
                      <a:pt x="93" y="0"/>
                    </a:lnTo>
                    <a:lnTo>
                      <a:pt x="32" y="40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Freeform 70"/>
              <p:cNvSpPr/>
              <p:nvPr/>
            </p:nvSpPr>
            <p:spPr>
              <a:xfrm>
                <a:off x="1206360" y="2084400"/>
                <a:ext cx="1122480" cy="265320"/>
              </a:xfrm>
              <a:custGeom>
                <a:avLst/>
                <a:gdLst>
                  <a:gd name="textAreaLeft" fmla="*/ 0 w 1122480"/>
                  <a:gd name="textAreaRight" fmla="*/ 1122840 w 1122480"/>
                  <a:gd name="textAreaTop" fmla="*/ 0 h 265320"/>
                  <a:gd name="textAreaBottom" fmla="*/ 265680 h 265320"/>
                </a:gdLst>
                <a:ahLst/>
                <a:rect l="textAreaLeft" t="textAreaTop" r="textAreaRight" b="textAreaBottom"/>
                <a:pathLst>
                  <a:path w="2259" h="900">
                    <a:moveTo>
                      <a:pt x="11" y="515"/>
                    </a:moveTo>
                    <a:lnTo>
                      <a:pt x="90" y="655"/>
                    </a:lnTo>
                    <a:lnTo>
                      <a:pt x="226" y="709"/>
                    </a:lnTo>
                    <a:lnTo>
                      <a:pt x="231" y="510"/>
                    </a:lnTo>
                    <a:lnTo>
                      <a:pt x="321" y="284"/>
                    </a:lnTo>
                    <a:lnTo>
                      <a:pt x="201" y="345"/>
                    </a:lnTo>
                    <a:lnTo>
                      <a:pt x="155" y="379"/>
                    </a:lnTo>
                    <a:lnTo>
                      <a:pt x="141" y="315"/>
                    </a:lnTo>
                    <a:lnTo>
                      <a:pt x="146" y="184"/>
                    </a:lnTo>
                    <a:lnTo>
                      <a:pt x="511" y="0"/>
                    </a:lnTo>
                    <a:lnTo>
                      <a:pt x="504" y="233"/>
                    </a:lnTo>
                    <a:lnTo>
                      <a:pt x="437" y="283"/>
                    </a:lnTo>
                    <a:lnTo>
                      <a:pt x="390" y="540"/>
                    </a:lnTo>
                    <a:lnTo>
                      <a:pt x="481" y="730"/>
                    </a:lnTo>
                    <a:lnTo>
                      <a:pt x="1885" y="305"/>
                    </a:lnTo>
                    <a:lnTo>
                      <a:pt x="1780" y="100"/>
                    </a:lnTo>
                    <a:lnTo>
                      <a:pt x="2259" y="299"/>
                    </a:lnTo>
                    <a:lnTo>
                      <a:pt x="2179" y="355"/>
                    </a:lnTo>
                    <a:lnTo>
                      <a:pt x="496" y="900"/>
                    </a:lnTo>
                    <a:lnTo>
                      <a:pt x="349" y="864"/>
                    </a:lnTo>
                    <a:lnTo>
                      <a:pt x="46" y="740"/>
                    </a:lnTo>
                    <a:lnTo>
                      <a:pt x="0" y="600"/>
                    </a:lnTo>
                    <a:lnTo>
                      <a:pt x="11" y="515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Freeform 71"/>
              <p:cNvSpPr/>
              <p:nvPr/>
            </p:nvSpPr>
            <p:spPr>
              <a:xfrm>
                <a:off x="1628280" y="1970280"/>
                <a:ext cx="666360" cy="172440"/>
              </a:xfrm>
              <a:custGeom>
                <a:avLst/>
                <a:gdLst>
                  <a:gd name="textAreaLeft" fmla="*/ 0 w 666360"/>
                  <a:gd name="textAreaRight" fmla="*/ 666720 w 666360"/>
                  <a:gd name="textAreaTop" fmla="*/ 0 h 172440"/>
                  <a:gd name="textAreaBottom" fmla="*/ 172800 h 172440"/>
                </a:gdLst>
                <a:ahLst/>
                <a:rect l="textAreaLeft" t="textAreaTop" r="textAreaRight" b="textAreaBottom"/>
                <a:pathLst>
                  <a:path w="1340" h="586">
                    <a:moveTo>
                      <a:pt x="100" y="210"/>
                    </a:moveTo>
                    <a:lnTo>
                      <a:pt x="634" y="0"/>
                    </a:lnTo>
                    <a:lnTo>
                      <a:pt x="1340" y="170"/>
                    </a:lnTo>
                    <a:lnTo>
                      <a:pt x="1208" y="256"/>
                    </a:lnTo>
                    <a:lnTo>
                      <a:pt x="14" y="586"/>
                    </a:lnTo>
                    <a:lnTo>
                      <a:pt x="0" y="436"/>
                    </a:lnTo>
                    <a:lnTo>
                      <a:pt x="100" y="210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Freeform 72"/>
              <p:cNvSpPr/>
              <p:nvPr/>
            </p:nvSpPr>
            <p:spPr>
              <a:xfrm>
                <a:off x="589320" y="1920600"/>
                <a:ext cx="688680" cy="226440"/>
              </a:xfrm>
              <a:custGeom>
                <a:avLst/>
                <a:gdLst>
                  <a:gd name="textAreaLeft" fmla="*/ 0 w 688680"/>
                  <a:gd name="textAreaRight" fmla="*/ 689040 w 688680"/>
                  <a:gd name="textAreaTop" fmla="*/ 0 h 226440"/>
                  <a:gd name="textAreaBottom" fmla="*/ 226800 h 226440"/>
                </a:gdLst>
                <a:ahLst/>
                <a:rect l="textAreaLeft" t="textAreaTop" r="textAreaRight" b="textAreaBottom"/>
                <a:pathLst>
                  <a:path w="1387" h="770">
                    <a:moveTo>
                      <a:pt x="0" y="45"/>
                    </a:moveTo>
                    <a:lnTo>
                      <a:pt x="24" y="0"/>
                    </a:lnTo>
                    <a:lnTo>
                      <a:pt x="1387" y="659"/>
                    </a:lnTo>
                    <a:lnTo>
                      <a:pt x="1356" y="770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ae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Freeform 73"/>
              <p:cNvSpPr/>
              <p:nvPr/>
            </p:nvSpPr>
            <p:spPr>
              <a:xfrm>
                <a:off x="705240" y="1773720"/>
                <a:ext cx="1388160" cy="279720"/>
              </a:xfrm>
              <a:custGeom>
                <a:avLst/>
                <a:gdLst>
                  <a:gd name="textAreaLeft" fmla="*/ 0 w 1388160"/>
                  <a:gd name="textAreaRight" fmla="*/ 1388520 w 1388160"/>
                  <a:gd name="textAreaTop" fmla="*/ 0 h 279720"/>
                  <a:gd name="textAreaBottom" fmla="*/ 280080 h 279720"/>
                </a:gdLst>
                <a:ahLst/>
                <a:rect l="textAreaLeft" t="textAreaTop" r="textAreaRight" b="textAreaBottom"/>
                <a:pathLst>
                  <a:path w="2793" h="946">
                    <a:moveTo>
                      <a:pt x="9" y="280"/>
                    </a:moveTo>
                    <a:lnTo>
                      <a:pt x="1219" y="716"/>
                    </a:lnTo>
                    <a:lnTo>
                      <a:pt x="1169" y="946"/>
                    </a:lnTo>
                    <a:lnTo>
                      <a:pt x="1433" y="856"/>
                    </a:lnTo>
                    <a:lnTo>
                      <a:pt x="1584" y="795"/>
                    </a:lnTo>
                    <a:lnTo>
                      <a:pt x="1544" y="590"/>
                    </a:lnTo>
                    <a:lnTo>
                      <a:pt x="1928" y="441"/>
                    </a:lnTo>
                    <a:lnTo>
                      <a:pt x="2003" y="586"/>
                    </a:lnTo>
                    <a:lnTo>
                      <a:pt x="1959" y="835"/>
                    </a:lnTo>
                    <a:lnTo>
                      <a:pt x="2498" y="574"/>
                    </a:lnTo>
                    <a:lnTo>
                      <a:pt x="2648" y="586"/>
                    </a:lnTo>
                    <a:lnTo>
                      <a:pt x="2793" y="310"/>
                    </a:lnTo>
                    <a:lnTo>
                      <a:pt x="2778" y="106"/>
                    </a:lnTo>
                    <a:lnTo>
                      <a:pt x="2588" y="0"/>
                    </a:lnTo>
                    <a:lnTo>
                      <a:pt x="1194" y="435"/>
                    </a:lnTo>
                    <a:lnTo>
                      <a:pt x="1089" y="490"/>
                    </a:lnTo>
                    <a:lnTo>
                      <a:pt x="0" y="115"/>
                    </a:lnTo>
                    <a:lnTo>
                      <a:pt x="9" y="280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Freeform 74"/>
              <p:cNvSpPr/>
              <p:nvPr/>
            </p:nvSpPr>
            <p:spPr>
              <a:xfrm>
                <a:off x="617400" y="1665000"/>
                <a:ext cx="1483200" cy="373320"/>
              </a:xfrm>
              <a:custGeom>
                <a:avLst/>
                <a:gdLst>
                  <a:gd name="textAreaLeft" fmla="*/ 0 w 1483200"/>
                  <a:gd name="textAreaRight" fmla="*/ 1483560 w 1483200"/>
                  <a:gd name="textAreaTop" fmla="*/ 0 h 373320"/>
                  <a:gd name="textAreaBottom" fmla="*/ 373680 h 373320"/>
                </a:gdLst>
                <a:ahLst/>
                <a:rect l="textAreaLeft" t="textAreaTop" r="textAreaRight" b="textAreaBottom"/>
                <a:pathLst>
                  <a:path w="2984" h="1267">
                    <a:moveTo>
                      <a:pt x="0" y="316"/>
                    </a:moveTo>
                    <a:lnTo>
                      <a:pt x="1490" y="0"/>
                    </a:lnTo>
                    <a:lnTo>
                      <a:pt x="2284" y="170"/>
                    </a:lnTo>
                    <a:lnTo>
                      <a:pt x="991" y="481"/>
                    </a:lnTo>
                    <a:lnTo>
                      <a:pt x="1291" y="586"/>
                    </a:lnTo>
                    <a:lnTo>
                      <a:pt x="2598" y="266"/>
                    </a:lnTo>
                    <a:lnTo>
                      <a:pt x="2731" y="213"/>
                    </a:lnTo>
                    <a:lnTo>
                      <a:pt x="2904" y="306"/>
                    </a:lnTo>
                    <a:lnTo>
                      <a:pt x="2979" y="421"/>
                    </a:lnTo>
                    <a:lnTo>
                      <a:pt x="2984" y="741"/>
                    </a:lnTo>
                    <a:lnTo>
                      <a:pt x="2824" y="957"/>
                    </a:lnTo>
                    <a:lnTo>
                      <a:pt x="2674" y="967"/>
                    </a:lnTo>
                    <a:lnTo>
                      <a:pt x="2649" y="1032"/>
                    </a:lnTo>
                    <a:lnTo>
                      <a:pt x="2514" y="1097"/>
                    </a:lnTo>
                    <a:lnTo>
                      <a:pt x="2349" y="1147"/>
                    </a:lnTo>
                    <a:lnTo>
                      <a:pt x="2119" y="1267"/>
                    </a:lnTo>
                    <a:lnTo>
                      <a:pt x="2135" y="1206"/>
                    </a:lnTo>
                    <a:lnTo>
                      <a:pt x="2209" y="1026"/>
                    </a:lnTo>
                    <a:lnTo>
                      <a:pt x="2759" y="806"/>
                    </a:lnTo>
                    <a:lnTo>
                      <a:pt x="2864" y="676"/>
                    </a:lnTo>
                    <a:lnTo>
                      <a:pt x="2835" y="446"/>
                    </a:lnTo>
                    <a:lnTo>
                      <a:pt x="2759" y="403"/>
                    </a:lnTo>
                    <a:lnTo>
                      <a:pt x="1375" y="787"/>
                    </a:lnTo>
                    <a:lnTo>
                      <a:pt x="0" y="316"/>
                    </a:lnTo>
                    <a:close/>
                  </a:path>
                </a:pathLst>
              </a:custGeom>
              <a:solidFill>
                <a:srgbClr val="ae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Freeform 75"/>
              <p:cNvSpPr/>
              <p:nvPr/>
            </p:nvSpPr>
            <p:spPr>
              <a:xfrm>
                <a:off x="1395360" y="2078280"/>
                <a:ext cx="761760" cy="230040"/>
              </a:xfrm>
              <a:custGeom>
                <a:avLst/>
                <a:gdLst>
                  <a:gd name="textAreaLeft" fmla="*/ 0 w 761760"/>
                  <a:gd name="textAreaRight" fmla="*/ 762120 w 761760"/>
                  <a:gd name="textAreaTop" fmla="*/ 0 h 230040"/>
                  <a:gd name="textAreaBottom" fmla="*/ 230400 h 230040"/>
                </a:gdLst>
                <a:ahLst/>
                <a:rect l="textAreaLeft" t="textAreaTop" r="textAreaRight" b="textAreaBottom"/>
                <a:pathLst>
                  <a:path w="1534" h="781">
                    <a:moveTo>
                      <a:pt x="509" y="236"/>
                    </a:moveTo>
                    <a:lnTo>
                      <a:pt x="1419" y="0"/>
                    </a:lnTo>
                    <a:lnTo>
                      <a:pt x="1408" y="137"/>
                    </a:lnTo>
                    <a:lnTo>
                      <a:pt x="1423" y="251"/>
                    </a:lnTo>
                    <a:lnTo>
                      <a:pt x="1534" y="331"/>
                    </a:lnTo>
                    <a:lnTo>
                      <a:pt x="115" y="781"/>
                    </a:lnTo>
                    <a:lnTo>
                      <a:pt x="40" y="741"/>
                    </a:lnTo>
                    <a:lnTo>
                      <a:pt x="0" y="611"/>
                    </a:lnTo>
                    <a:lnTo>
                      <a:pt x="55" y="345"/>
                    </a:lnTo>
                    <a:lnTo>
                      <a:pt x="109" y="316"/>
                    </a:lnTo>
                    <a:lnTo>
                      <a:pt x="245" y="586"/>
                    </a:lnTo>
                    <a:lnTo>
                      <a:pt x="316" y="648"/>
                    </a:lnTo>
                    <a:lnTo>
                      <a:pt x="325" y="410"/>
                    </a:lnTo>
                    <a:lnTo>
                      <a:pt x="409" y="331"/>
                    </a:lnTo>
                    <a:lnTo>
                      <a:pt x="577" y="387"/>
                    </a:lnTo>
                    <a:lnTo>
                      <a:pt x="509" y="236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Freeform 76"/>
              <p:cNvSpPr/>
              <p:nvPr/>
            </p:nvSpPr>
            <p:spPr>
              <a:xfrm>
                <a:off x="1266120" y="2003040"/>
                <a:ext cx="232200" cy="77760"/>
              </a:xfrm>
              <a:custGeom>
                <a:avLst/>
                <a:gdLst>
                  <a:gd name="textAreaLeft" fmla="*/ 0 w 232200"/>
                  <a:gd name="textAreaRight" fmla="*/ 232560 w 232200"/>
                  <a:gd name="textAreaTop" fmla="*/ 0 h 77760"/>
                  <a:gd name="textAreaBottom" fmla="*/ 78120 h 77760"/>
                </a:gdLst>
                <a:ahLst/>
                <a:rect l="textAreaLeft" t="textAreaTop" r="textAreaRight" b="textAreaBottom"/>
                <a:pathLst>
                  <a:path w="468" h="264">
                    <a:moveTo>
                      <a:pt x="0" y="229"/>
                    </a:moveTo>
                    <a:lnTo>
                      <a:pt x="310" y="199"/>
                    </a:lnTo>
                    <a:lnTo>
                      <a:pt x="294" y="264"/>
                    </a:lnTo>
                    <a:lnTo>
                      <a:pt x="434" y="210"/>
                    </a:lnTo>
                    <a:lnTo>
                      <a:pt x="468" y="0"/>
                    </a:lnTo>
                    <a:lnTo>
                      <a:pt x="0" y="229"/>
                    </a:lnTo>
                    <a:close/>
                  </a:path>
                </a:pathLst>
              </a:custGeom>
              <a:solidFill>
                <a:srgbClr val="ae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Freeform 77"/>
              <p:cNvSpPr/>
              <p:nvPr/>
            </p:nvSpPr>
            <p:spPr>
              <a:xfrm>
                <a:off x="540000" y="1658160"/>
                <a:ext cx="1524960" cy="319320"/>
              </a:xfrm>
              <a:custGeom>
                <a:avLst/>
                <a:gdLst>
                  <a:gd name="textAreaLeft" fmla="*/ 0 w 1524960"/>
                  <a:gd name="textAreaRight" fmla="*/ 1525320 w 1524960"/>
                  <a:gd name="textAreaTop" fmla="*/ 0 h 319320"/>
                  <a:gd name="textAreaBottom" fmla="*/ 319680 h 319320"/>
                </a:gdLst>
                <a:ahLst/>
                <a:rect l="textAreaLeft" t="textAreaTop" r="textAreaRight" b="textAreaBottom"/>
                <a:pathLst>
                  <a:path w="3069" h="1082">
                    <a:moveTo>
                      <a:pt x="25" y="281"/>
                    </a:moveTo>
                    <a:lnTo>
                      <a:pt x="0" y="384"/>
                    </a:lnTo>
                    <a:lnTo>
                      <a:pt x="272" y="520"/>
                    </a:lnTo>
                    <a:lnTo>
                      <a:pt x="306" y="647"/>
                    </a:lnTo>
                    <a:lnTo>
                      <a:pt x="313" y="757"/>
                    </a:lnTo>
                    <a:lnTo>
                      <a:pt x="279" y="886"/>
                    </a:lnTo>
                    <a:lnTo>
                      <a:pt x="365" y="775"/>
                    </a:lnTo>
                    <a:lnTo>
                      <a:pt x="407" y="647"/>
                    </a:lnTo>
                    <a:lnTo>
                      <a:pt x="399" y="554"/>
                    </a:lnTo>
                    <a:lnTo>
                      <a:pt x="1436" y="920"/>
                    </a:lnTo>
                    <a:lnTo>
                      <a:pt x="2915" y="425"/>
                    </a:lnTo>
                    <a:lnTo>
                      <a:pt x="2958" y="554"/>
                    </a:lnTo>
                    <a:lnTo>
                      <a:pt x="2958" y="698"/>
                    </a:lnTo>
                    <a:lnTo>
                      <a:pt x="2856" y="825"/>
                    </a:lnTo>
                    <a:lnTo>
                      <a:pt x="2371" y="1026"/>
                    </a:lnTo>
                    <a:lnTo>
                      <a:pt x="2345" y="1082"/>
                    </a:lnTo>
                    <a:lnTo>
                      <a:pt x="2908" y="868"/>
                    </a:lnTo>
                    <a:lnTo>
                      <a:pt x="3019" y="791"/>
                    </a:lnTo>
                    <a:lnTo>
                      <a:pt x="3069" y="664"/>
                    </a:lnTo>
                    <a:lnTo>
                      <a:pt x="3053" y="493"/>
                    </a:lnTo>
                    <a:lnTo>
                      <a:pt x="2976" y="400"/>
                    </a:lnTo>
                    <a:lnTo>
                      <a:pt x="2899" y="366"/>
                    </a:lnTo>
                    <a:lnTo>
                      <a:pt x="2695" y="459"/>
                    </a:lnTo>
                    <a:lnTo>
                      <a:pt x="1470" y="748"/>
                    </a:lnTo>
                    <a:lnTo>
                      <a:pt x="282" y="381"/>
                    </a:lnTo>
                    <a:lnTo>
                      <a:pt x="1402" y="809"/>
                    </a:lnTo>
                    <a:lnTo>
                      <a:pt x="1402" y="852"/>
                    </a:lnTo>
                    <a:lnTo>
                      <a:pt x="50" y="357"/>
                    </a:lnTo>
                    <a:lnTo>
                      <a:pt x="93" y="315"/>
                    </a:lnTo>
                    <a:lnTo>
                      <a:pt x="1597" y="43"/>
                    </a:lnTo>
                    <a:lnTo>
                      <a:pt x="2334" y="179"/>
                    </a:lnTo>
                    <a:lnTo>
                      <a:pt x="1556" y="0"/>
                    </a:lnTo>
                    <a:lnTo>
                      <a:pt x="25" y="28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Freeform 78"/>
              <p:cNvSpPr/>
              <p:nvPr/>
            </p:nvSpPr>
            <p:spPr>
              <a:xfrm>
                <a:off x="544320" y="1871280"/>
                <a:ext cx="942120" cy="282960"/>
              </a:xfrm>
              <a:custGeom>
                <a:avLst/>
                <a:gdLst>
                  <a:gd name="textAreaLeft" fmla="*/ 0 w 942120"/>
                  <a:gd name="textAreaRight" fmla="*/ 942480 w 942120"/>
                  <a:gd name="textAreaTop" fmla="*/ 0 h 282960"/>
                  <a:gd name="textAreaBottom" fmla="*/ 283320 h 282960"/>
                </a:gdLst>
                <a:ahLst/>
                <a:rect l="textAreaLeft" t="textAreaTop" r="textAreaRight" b="textAreaBottom"/>
                <a:pathLst>
                  <a:path w="1894" h="960">
                    <a:moveTo>
                      <a:pt x="321" y="0"/>
                    </a:moveTo>
                    <a:lnTo>
                      <a:pt x="28" y="105"/>
                    </a:lnTo>
                    <a:lnTo>
                      <a:pt x="0" y="211"/>
                    </a:lnTo>
                    <a:lnTo>
                      <a:pt x="1441" y="960"/>
                    </a:lnTo>
                    <a:lnTo>
                      <a:pt x="1840" y="760"/>
                    </a:lnTo>
                    <a:lnTo>
                      <a:pt x="1894" y="626"/>
                    </a:lnTo>
                    <a:lnTo>
                      <a:pt x="1451" y="799"/>
                    </a:lnTo>
                    <a:lnTo>
                      <a:pt x="449" y="338"/>
                    </a:lnTo>
                    <a:lnTo>
                      <a:pt x="1401" y="831"/>
                    </a:lnTo>
                    <a:lnTo>
                      <a:pt x="1423" y="904"/>
                    </a:lnTo>
                    <a:lnTo>
                      <a:pt x="89" y="211"/>
                    </a:lnTo>
                    <a:lnTo>
                      <a:pt x="77" y="149"/>
                    </a:lnTo>
                    <a:lnTo>
                      <a:pt x="316" y="55"/>
                    </a:lnTo>
                    <a:lnTo>
                      <a:pt x="3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Freeform 79"/>
              <p:cNvSpPr/>
              <p:nvPr/>
            </p:nvSpPr>
            <p:spPr>
              <a:xfrm>
                <a:off x="711360" y="1904040"/>
                <a:ext cx="786960" cy="172440"/>
              </a:xfrm>
              <a:custGeom>
                <a:avLst/>
                <a:gdLst>
                  <a:gd name="textAreaLeft" fmla="*/ 0 w 786960"/>
                  <a:gd name="textAreaRight" fmla="*/ 787320 w 786960"/>
                  <a:gd name="textAreaTop" fmla="*/ 0 h 172440"/>
                  <a:gd name="textAreaBottom" fmla="*/ 172800 h 172440"/>
                </a:gdLst>
                <a:ahLst/>
                <a:rect l="textAreaLeft" t="textAreaTop" r="textAreaRight" b="textAreaBottom"/>
                <a:pathLst>
                  <a:path w="1584" h="584">
                    <a:moveTo>
                      <a:pt x="0" y="83"/>
                    </a:moveTo>
                    <a:lnTo>
                      <a:pt x="1082" y="584"/>
                    </a:lnTo>
                    <a:lnTo>
                      <a:pt x="1584" y="378"/>
                    </a:lnTo>
                    <a:lnTo>
                      <a:pt x="1584" y="335"/>
                    </a:lnTo>
                    <a:lnTo>
                      <a:pt x="1200" y="483"/>
                    </a:lnTo>
                    <a:lnTo>
                      <a:pt x="1255" y="360"/>
                    </a:lnTo>
                    <a:lnTo>
                      <a:pt x="1448" y="282"/>
                    </a:lnTo>
                    <a:lnTo>
                      <a:pt x="1239" y="306"/>
                    </a:lnTo>
                    <a:lnTo>
                      <a:pt x="1227" y="171"/>
                    </a:lnTo>
                    <a:lnTo>
                      <a:pt x="1156" y="22"/>
                    </a:lnTo>
                    <a:lnTo>
                      <a:pt x="1106" y="56"/>
                    </a:lnTo>
                    <a:lnTo>
                      <a:pt x="1167" y="171"/>
                    </a:lnTo>
                    <a:lnTo>
                      <a:pt x="662" y="0"/>
                    </a:lnTo>
                    <a:lnTo>
                      <a:pt x="1167" y="249"/>
                    </a:lnTo>
                    <a:lnTo>
                      <a:pt x="1181" y="325"/>
                    </a:lnTo>
                    <a:lnTo>
                      <a:pt x="1141" y="418"/>
                    </a:lnTo>
                    <a:lnTo>
                      <a:pt x="358" y="111"/>
                    </a:lnTo>
                    <a:lnTo>
                      <a:pt x="1137" y="466"/>
                    </a:lnTo>
                    <a:lnTo>
                      <a:pt x="1082" y="540"/>
                    </a:lnTo>
                    <a:lnTo>
                      <a:pt x="0" y="8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Freeform 80"/>
              <p:cNvSpPr/>
              <p:nvPr/>
            </p:nvSpPr>
            <p:spPr>
              <a:xfrm>
                <a:off x="1367280" y="1838520"/>
                <a:ext cx="551520" cy="430920"/>
              </a:xfrm>
              <a:custGeom>
                <a:avLst/>
                <a:gdLst>
                  <a:gd name="textAreaLeft" fmla="*/ 0 w 551520"/>
                  <a:gd name="textAreaRight" fmla="*/ 551880 w 551520"/>
                  <a:gd name="textAreaTop" fmla="*/ 0 h 430920"/>
                  <a:gd name="textAreaBottom" fmla="*/ 431280 h 430920"/>
                </a:gdLst>
                <a:ahLst/>
                <a:rect l="textAreaLeft" t="textAreaTop" r="textAreaRight" b="textAreaBottom"/>
                <a:pathLst>
                  <a:path w="1109" h="1460">
                    <a:moveTo>
                      <a:pt x="0" y="378"/>
                    </a:moveTo>
                    <a:lnTo>
                      <a:pt x="411" y="256"/>
                    </a:lnTo>
                    <a:lnTo>
                      <a:pt x="1109" y="0"/>
                    </a:lnTo>
                    <a:lnTo>
                      <a:pt x="626" y="245"/>
                    </a:lnTo>
                    <a:lnTo>
                      <a:pt x="709" y="346"/>
                    </a:lnTo>
                    <a:lnTo>
                      <a:pt x="709" y="467"/>
                    </a:lnTo>
                    <a:lnTo>
                      <a:pt x="643" y="672"/>
                    </a:lnTo>
                    <a:lnTo>
                      <a:pt x="554" y="895"/>
                    </a:lnTo>
                    <a:lnTo>
                      <a:pt x="550" y="1016"/>
                    </a:lnTo>
                    <a:lnTo>
                      <a:pt x="632" y="1199"/>
                    </a:lnTo>
                    <a:lnTo>
                      <a:pt x="510" y="1055"/>
                    </a:lnTo>
                    <a:lnTo>
                      <a:pt x="494" y="899"/>
                    </a:lnTo>
                    <a:lnTo>
                      <a:pt x="588" y="639"/>
                    </a:lnTo>
                    <a:lnTo>
                      <a:pt x="660" y="450"/>
                    </a:lnTo>
                    <a:lnTo>
                      <a:pt x="550" y="251"/>
                    </a:lnTo>
                    <a:lnTo>
                      <a:pt x="244" y="368"/>
                    </a:lnTo>
                    <a:lnTo>
                      <a:pt x="272" y="428"/>
                    </a:lnTo>
                    <a:lnTo>
                      <a:pt x="294" y="583"/>
                    </a:lnTo>
                    <a:lnTo>
                      <a:pt x="266" y="760"/>
                    </a:lnTo>
                    <a:lnTo>
                      <a:pt x="222" y="933"/>
                    </a:lnTo>
                    <a:lnTo>
                      <a:pt x="206" y="1110"/>
                    </a:lnTo>
                    <a:lnTo>
                      <a:pt x="256" y="1283"/>
                    </a:lnTo>
                    <a:lnTo>
                      <a:pt x="371" y="1460"/>
                    </a:lnTo>
                    <a:lnTo>
                      <a:pt x="250" y="1387"/>
                    </a:lnTo>
                    <a:lnTo>
                      <a:pt x="167" y="1199"/>
                    </a:lnTo>
                    <a:lnTo>
                      <a:pt x="150" y="989"/>
                    </a:lnTo>
                    <a:lnTo>
                      <a:pt x="212" y="716"/>
                    </a:lnTo>
                    <a:lnTo>
                      <a:pt x="234" y="551"/>
                    </a:lnTo>
                    <a:lnTo>
                      <a:pt x="150" y="390"/>
                    </a:lnTo>
                    <a:lnTo>
                      <a:pt x="0" y="37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Freeform 81"/>
              <p:cNvSpPr/>
              <p:nvPr/>
            </p:nvSpPr>
            <p:spPr>
              <a:xfrm>
                <a:off x="1539000" y="2167920"/>
                <a:ext cx="142920" cy="10152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288" h="344">
                    <a:moveTo>
                      <a:pt x="27" y="344"/>
                    </a:moveTo>
                    <a:lnTo>
                      <a:pt x="0" y="161"/>
                    </a:lnTo>
                    <a:lnTo>
                      <a:pt x="73" y="0"/>
                    </a:lnTo>
                    <a:lnTo>
                      <a:pt x="139" y="6"/>
                    </a:lnTo>
                    <a:lnTo>
                      <a:pt x="288" y="83"/>
                    </a:lnTo>
                    <a:lnTo>
                      <a:pt x="111" y="66"/>
                    </a:lnTo>
                    <a:lnTo>
                      <a:pt x="49" y="167"/>
                    </a:lnTo>
                    <a:lnTo>
                      <a:pt x="27" y="3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Freeform 82"/>
              <p:cNvSpPr/>
              <p:nvPr/>
            </p:nvSpPr>
            <p:spPr>
              <a:xfrm>
                <a:off x="1659600" y="1732320"/>
                <a:ext cx="451440" cy="319320"/>
              </a:xfrm>
              <a:custGeom>
                <a:avLst/>
                <a:gdLst>
                  <a:gd name="textAreaLeft" fmla="*/ 0 w 451440"/>
                  <a:gd name="textAreaRight" fmla="*/ 451800 w 451440"/>
                  <a:gd name="textAreaTop" fmla="*/ 0 h 319320"/>
                  <a:gd name="textAreaBottom" fmla="*/ 319680 h 319320"/>
                </a:gdLst>
                <a:ahLst/>
                <a:rect l="textAreaLeft" t="textAreaTop" r="textAreaRight" b="textAreaBottom"/>
                <a:pathLst>
                  <a:path w="908" h="1082">
                    <a:moveTo>
                      <a:pt x="66" y="949"/>
                    </a:moveTo>
                    <a:lnTo>
                      <a:pt x="576" y="716"/>
                    </a:lnTo>
                    <a:lnTo>
                      <a:pt x="695" y="703"/>
                    </a:lnTo>
                    <a:lnTo>
                      <a:pt x="781" y="621"/>
                    </a:lnTo>
                    <a:lnTo>
                      <a:pt x="859" y="428"/>
                    </a:lnTo>
                    <a:lnTo>
                      <a:pt x="825" y="161"/>
                    </a:lnTo>
                    <a:lnTo>
                      <a:pt x="700" y="52"/>
                    </a:lnTo>
                    <a:lnTo>
                      <a:pt x="478" y="124"/>
                    </a:lnTo>
                    <a:lnTo>
                      <a:pt x="661" y="0"/>
                    </a:lnTo>
                    <a:lnTo>
                      <a:pt x="781" y="40"/>
                    </a:lnTo>
                    <a:lnTo>
                      <a:pt x="881" y="151"/>
                    </a:lnTo>
                    <a:lnTo>
                      <a:pt x="908" y="372"/>
                    </a:lnTo>
                    <a:lnTo>
                      <a:pt x="897" y="527"/>
                    </a:lnTo>
                    <a:lnTo>
                      <a:pt x="794" y="723"/>
                    </a:lnTo>
                    <a:lnTo>
                      <a:pt x="726" y="765"/>
                    </a:lnTo>
                    <a:lnTo>
                      <a:pt x="604" y="760"/>
                    </a:lnTo>
                    <a:lnTo>
                      <a:pt x="0" y="1082"/>
                    </a:lnTo>
                    <a:lnTo>
                      <a:pt x="66" y="94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Freeform 83"/>
              <p:cNvSpPr/>
              <p:nvPr/>
            </p:nvSpPr>
            <p:spPr>
              <a:xfrm>
                <a:off x="721800" y="1992600"/>
                <a:ext cx="1617480" cy="371520"/>
              </a:xfrm>
              <a:custGeom>
                <a:avLst/>
                <a:gdLst>
                  <a:gd name="textAreaLeft" fmla="*/ 0 w 1617480"/>
                  <a:gd name="textAreaRight" fmla="*/ 1617840 w 161748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3257" h="1259">
                    <a:moveTo>
                      <a:pt x="44" y="0"/>
                    </a:moveTo>
                    <a:lnTo>
                      <a:pt x="0" y="99"/>
                    </a:lnTo>
                    <a:lnTo>
                      <a:pt x="5" y="321"/>
                    </a:lnTo>
                    <a:lnTo>
                      <a:pt x="66" y="448"/>
                    </a:lnTo>
                    <a:lnTo>
                      <a:pt x="166" y="482"/>
                    </a:lnTo>
                    <a:lnTo>
                      <a:pt x="338" y="625"/>
                    </a:lnTo>
                    <a:lnTo>
                      <a:pt x="758" y="915"/>
                    </a:lnTo>
                    <a:lnTo>
                      <a:pt x="853" y="931"/>
                    </a:lnTo>
                    <a:lnTo>
                      <a:pt x="974" y="997"/>
                    </a:lnTo>
                    <a:lnTo>
                      <a:pt x="1014" y="1076"/>
                    </a:lnTo>
                    <a:lnTo>
                      <a:pt x="1334" y="1242"/>
                    </a:lnTo>
                    <a:lnTo>
                      <a:pt x="1468" y="1259"/>
                    </a:lnTo>
                    <a:lnTo>
                      <a:pt x="3257" y="698"/>
                    </a:lnTo>
                    <a:lnTo>
                      <a:pt x="3241" y="577"/>
                    </a:lnTo>
                    <a:lnTo>
                      <a:pt x="2764" y="426"/>
                    </a:lnTo>
                    <a:lnTo>
                      <a:pt x="3207" y="621"/>
                    </a:lnTo>
                    <a:lnTo>
                      <a:pt x="1446" y="1174"/>
                    </a:lnTo>
                    <a:lnTo>
                      <a:pt x="1334" y="1076"/>
                    </a:lnTo>
                    <a:lnTo>
                      <a:pt x="1279" y="931"/>
                    </a:lnTo>
                    <a:lnTo>
                      <a:pt x="1324" y="648"/>
                    </a:lnTo>
                    <a:lnTo>
                      <a:pt x="1245" y="786"/>
                    </a:lnTo>
                    <a:lnTo>
                      <a:pt x="1229" y="931"/>
                    </a:lnTo>
                    <a:lnTo>
                      <a:pt x="1279" y="1114"/>
                    </a:lnTo>
                    <a:lnTo>
                      <a:pt x="1324" y="1174"/>
                    </a:lnTo>
                    <a:lnTo>
                      <a:pt x="1064" y="1048"/>
                    </a:lnTo>
                    <a:lnTo>
                      <a:pt x="1014" y="925"/>
                    </a:lnTo>
                    <a:lnTo>
                      <a:pt x="1002" y="742"/>
                    </a:lnTo>
                    <a:lnTo>
                      <a:pt x="1036" y="615"/>
                    </a:lnTo>
                    <a:lnTo>
                      <a:pt x="974" y="710"/>
                    </a:lnTo>
                    <a:lnTo>
                      <a:pt x="952" y="842"/>
                    </a:lnTo>
                    <a:lnTo>
                      <a:pt x="941" y="921"/>
                    </a:lnTo>
                    <a:lnTo>
                      <a:pt x="847" y="859"/>
                    </a:lnTo>
                    <a:lnTo>
                      <a:pt x="831" y="698"/>
                    </a:lnTo>
                    <a:lnTo>
                      <a:pt x="881" y="510"/>
                    </a:lnTo>
                    <a:lnTo>
                      <a:pt x="820" y="593"/>
                    </a:lnTo>
                    <a:lnTo>
                      <a:pt x="776" y="720"/>
                    </a:lnTo>
                    <a:lnTo>
                      <a:pt x="776" y="853"/>
                    </a:lnTo>
                    <a:lnTo>
                      <a:pt x="183" y="442"/>
                    </a:lnTo>
                    <a:lnTo>
                      <a:pt x="177" y="321"/>
                    </a:lnTo>
                    <a:lnTo>
                      <a:pt x="183" y="221"/>
                    </a:lnTo>
                    <a:lnTo>
                      <a:pt x="132" y="287"/>
                    </a:lnTo>
                    <a:lnTo>
                      <a:pt x="104" y="394"/>
                    </a:lnTo>
                    <a:lnTo>
                      <a:pt x="44" y="282"/>
                    </a:lnTo>
                    <a:lnTo>
                      <a:pt x="44" y="121"/>
                    </a:lnTo>
                    <a:lnTo>
                      <a:pt x="149" y="54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Freeform 84"/>
              <p:cNvSpPr/>
              <p:nvPr/>
            </p:nvSpPr>
            <p:spPr>
              <a:xfrm>
                <a:off x="1383840" y="2152800"/>
                <a:ext cx="149040" cy="134280"/>
              </a:xfrm>
              <a:custGeom>
                <a:avLst/>
                <a:gdLst>
                  <a:gd name="textAreaLeft" fmla="*/ 0 w 149040"/>
                  <a:gd name="textAreaRight" fmla="*/ 149400 w 149040"/>
                  <a:gd name="textAreaTop" fmla="*/ 0 h 134280"/>
                  <a:gd name="textAreaBottom" fmla="*/ 134640 h 134280"/>
                </a:gdLst>
                <a:ahLst/>
                <a:rect l="textAreaLeft" t="textAreaTop" r="textAreaRight" b="textAreaBottom"/>
                <a:pathLst>
                  <a:path w="300" h="454">
                    <a:moveTo>
                      <a:pt x="145" y="0"/>
                    </a:moveTo>
                    <a:lnTo>
                      <a:pt x="78" y="50"/>
                    </a:lnTo>
                    <a:lnTo>
                      <a:pt x="46" y="138"/>
                    </a:lnTo>
                    <a:lnTo>
                      <a:pt x="0" y="350"/>
                    </a:lnTo>
                    <a:lnTo>
                      <a:pt x="46" y="454"/>
                    </a:lnTo>
                    <a:lnTo>
                      <a:pt x="300" y="372"/>
                    </a:lnTo>
                    <a:lnTo>
                      <a:pt x="239" y="310"/>
                    </a:lnTo>
                    <a:lnTo>
                      <a:pt x="78" y="355"/>
                    </a:lnTo>
                    <a:lnTo>
                      <a:pt x="84" y="183"/>
                    </a:lnTo>
                    <a:lnTo>
                      <a:pt x="156" y="122"/>
                    </a:lnTo>
                    <a:lnTo>
                      <a:pt x="14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Freeform 85"/>
              <p:cNvSpPr/>
              <p:nvPr/>
            </p:nvSpPr>
            <p:spPr>
              <a:xfrm>
                <a:off x="1550880" y="2208600"/>
                <a:ext cx="232560" cy="47520"/>
              </a:xfrm>
              <a:custGeom>
                <a:avLst/>
                <a:gdLst>
                  <a:gd name="textAreaLeft" fmla="*/ 0 w 232560"/>
                  <a:gd name="textAreaRight" fmla="*/ 232920 w 2325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470" h="161">
                    <a:moveTo>
                      <a:pt x="10" y="99"/>
                    </a:moveTo>
                    <a:lnTo>
                      <a:pt x="470" y="0"/>
                    </a:lnTo>
                    <a:lnTo>
                      <a:pt x="0" y="161"/>
                    </a:lnTo>
                    <a:lnTo>
                      <a:pt x="10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Freeform 86"/>
              <p:cNvSpPr/>
              <p:nvPr/>
            </p:nvSpPr>
            <p:spPr>
              <a:xfrm>
                <a:off x="618840" y="2043720"/>
                <a:ext cx="1515960" cy="437040"/>
              </a:xfrm>
              <a:custGeom>
                <a:avLst/>
                <a:gdLst>
                  <a:gd name="textAreaLeft" fmla="*/ 0 w 1515960"/>
                  <a:gd name="textAreaRight" fmla="*/ 1516320 w 1515960"/>
                  <a:gd name="textAreaTop" fmla="*/ 0 h 437040"/>
                  <a:gd name="textAreaBottom" fmla="*/ 437400 h 437040"/>
                </a:gdLst>
                <a:ahLst/>
                <a:rect l="textAreaLeft" t="textAreaTop" r="textAreaRight" b="textAreaBottom"/>
                <a:pathLst>
                  <a:path w="3052" h="1482">
                    <a:moveTo>
                      <a:pt x="243" y="0"/>
                    </a:moveTo>
                    <a:lnTo>
                      <a:pt x="0" y="37"/>
                    </a:lnTo>
                    <a:lnTo>
                      <a:pt x="7" y="126"/>
                    </a:lnTo>
                    <a:lnTo>
                      <a:pt x="770" y="1337"/>
                    </a:lnTo>
                    <a:lnTo>
                      <a:pt x="2809" y="1107"/>
                    </a:lnTo>
                    <a:lnTo>
                      <a:pt x="2903" y="1151"/>
                    </a:lnTo>
                    <a:lnTo>
                      <a:pt x="2957" y="1237"/>
                    </a:lnTo>
                    <a:lnTo>
                      <a:pt x="2892" y="1419"/>
                    </a:lnTo>
                    <a:lnTo>
                      <a:pt x="2554" y="1482"/>
                    </a:lnTo>
                    <a:lnTo>
                      <a:pt x="2906" y="1482"/>
                    </a:lnTo>
                    <a:lnTo>
                      <a:pt x="3052" y="1259"/>
                    </a:lnTo>
                    <a:lnTo>
                      <a:pt x="3044" y="1078"/>
                    </a:lnTo>
                    <a:lnTo>
                      <a:pt x="2980" y="994"/>
                    </a:lnTo>
                    <a:lnTo>
                      <a:pt x="2626" y="1041"/>
                    </a:lnTo>
                    <a:lnTo>
                      <a:pt x="2561" y="1069"/>
                    </a:lnTo>
                    <a:lnTo>
                      <a:pt x="2484" y="1041"/>
                    </a:lnTo>
                    <a:lnTo>
                      <a:pt x="881" y="1230"/>
                    </a:lnTo>
                    <a:lnTo>
                      <a:pt x="384" y="532"/>
                    </a:lnTo>
                    <a:lnTo>
                      <a:pt x="827" y="1236"/>
                    </a:lnTo>
                    <a:lnTo>
                      <a:pt x="787" y="1295"/>
                    </a:lnTo>
                    <a:lnTo>
                      <a:pt x="31" y="70"/>
                    </a:lnTo>
                    <a:lnTo>
                      <a:pt x="224" y="37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Freeform 87"/>
              <p:cNvSpPr/>
              <p:nvPr/>
            </p:nvSpPr>
            <p:spPr>
              <a:xfrm>
                <a:off x="657360" y="2141280"/>
                <a:ext cx="272520" cy="377640"/>
              </a:xfrm>
              <a:custGeom>
                <a:avLst/>
                <a:gdLst>
                  <a:gd name="textAreaLeft" fmla="*/ 0 w 272520"/>
                  <a:gd name="textAreaRight" fmla="*/ 272880 w 2725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547" h="1281">
                    <a:moveTo>
                      <a:pt x="71" y="0"/>
                    </a:moveTo>
                    <a:lnTo>
                      <a:pt x="82" y="95"/>
                    </a:lnTo>
                    <a:lnTo>
                      <a:pt x="66" y="175"/>
                    </a:lnTo>
                    <a:lnTo>
                      <a:pt x="38" y="228"/>
                    </a:lnTo>
                    <a:lnTo>
                      <a:pt x="0" y="256"/>
                    </a:lnTo>
                    <a:lnTo>
                      <a:pt x="143" y="527"/>
                    </a:lnTo>
                    <a:lnTo>
                      <a:pt x="547" y="1281"/>
                    </a:lnTo>
                    <a:lnTo>
                      <a:pt x="249" y="604"/>
                    </a:lnTo>
                    <a:lnTo>
                      <a:pt x="66" y="256"/>
                    </a:lnTo>
                    <a:lnTo>
                      <a:pt x="243" y="465"/>
                    </a:lnTo>
                    <a:lnTo>
                      <a:pt x="104" y="189"/>
                    </a:lnTo>
                    <a:lnTo>
                      <a:pt x="143" y="89"/>
                    </a:lnTo>
                    <a:lnTo>
                      <a:pt x="7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Freeform 88"/>
              <p:cNvSpPr/>
              <p:nvPr/>
            </p:nvSpPr>
            <p:spPr>
              <a:xfrm>
                <a:off x="575640" y="2174760"/>
                <a:ext cx="1627560" cy="432360"/>
              </a:xfrm>
              <a:custGeom>
                <a:avLst/>
                <a:gdLst>
                  <a:gd name="textAreaLeft" fmla="*/ 0 w 1627560"/>
                  <a:gd name="textAreaRight" fmla="*/ 1627920 w 1627560"/>
                  <a:gd name="textAreaTop" fmla="*/ 0 h 432360"/>
                  <a:gd name="textAreaBottom" fmla="*/ 432720 h 432360"/>
                </a:gdLst>
                <a:ahLst/>
                <a:rect l="textAreaLeft" t="textAreaTop" r="textAreaRight" b="textAreaBottom"/>
                <a:pathLst>
                  <a:path w="3277" h="1467">
                    <a:moveTo>
                      <a:pt x="256" y="0"/>
                    </a:moveTo>
                    <a:lnTo>
                      <a:pt x="120" y="62"/>
                    </a:lnTo>
                    <a:lnTo>
                      <a:pt x="12" y="85"/>
                    </a:lnTo>
                    <a:lnTo>
                      <a:pt x="0" y="157"/>
                    </a:lnTo>
                    <a:lnTo>
                      <a:pt x="445" y="993"/>
                    </a:lnTo>
                    <a:lnTo>
                      <a:pt x="635" y="1467"/>
                    </a:lnTo>
                    <a:lnTo>
                      <a:pt x="2530" y="1233"/>
                    </a:lnTo>
                    <a:lnTo>
                      <a:pt x="2601" y="1210"/>
                    </a:lnTo>
                    <a:lnTo>
                      <a:pt x="2702" y="1244"/>
                    </a:lnTo>
                    <a:lnTo>
                      <a:pt x="3045" y="1198"/>
                    </a:lnTo>
                    <a:lnTo>
                      <a:pt x="3199" y="1056"/>
                    </a:lnTo>
                    <a:lnTo>
                      <a:pt x="3277" y="706"/>
                    </a:lnTo>
                    <a:lnTo>
                      <a:pt x="3223" y="456"/>
                    </a:lnTo>
                    <a:lnTo>
                      <a:pt x="2982" y="245"/>
                    </a:lnTo>
                    <a:lnTo>
                      <a:pt x="2511" y="363"/>
                    </a:lnTo>
                    <a:lnTo>
                      <a:pt x="2933" y="371"/>
                    </a:lnTo>
                    <a:lnTo>
                      <a:pt x="3115" y="510"/>
                    </a:lnTo>
                    <a:lnTo>
                      <a:pt x="3196" y="631"/>
                    </a:lnTo>
                    <a:lnTo>
                      <a:pt x="3202" y="811"/>
                    </a:lnTo>
                    <a:lnTo>
                      <a:pt x="3134" y="1027"/>
                    </a:lnTo>
                    <a:lnTo>
                      <a:pt x="3047" y="1124"/>
                    </a:lnTo>
                    <a:lnTo>
                      <a:pt x="2769" y="1161"/>
                    </a:lnTo>
                    <a:lnTo>
                      <a:pt x="2645" y="1121"/>
                    </a:lnTo>
                    <a:lnTo>
                      <a:pt x="2477" y="1205"/>
                    </a:lnTo>
                    <a:lnTo>
                      <a:pt x="688" y="1360"/>
                    </a:lnTo>
                    <a:lnTo>
                      <a:pt x="53" y="107"/>
                    </a:lnTo>
                    <a:lnTo>
                      <a:pt x="270" y="41"/>
                    </a:lnTo>
                    <a:lnTo>
                      <a:pt x="2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Freeform 89"/>
              <p:cNvSpPr/>
              <p:nvPr/>
            </p:nvSpPr>
            <p:spPr>
              <a:xfrm>
                <a:off x="939600" y="2386440"/>
                <a:ext cx="822600" cy="144000"/>
              </a:xfrm>
              <a:custGeom>
                <a:avLst/>
                <a:gdLst>
                  <a:gd name="textAreaLeft" fmla="*/ 0 w 822600"/>
                  <a:gd name="textAreaRight" fmla="*/ 822960 w 822600"/>
                  <a:gd name="textAreaTop" fmla="*/ 0 h 144000"/>
                  <a:gd name="textAreaBottom" fmla="*/ 144360 h 144000"/>
                </a:gdLst>
                <a:ahLst/>
                <a:rect l="textAreaLeft" t="textAreaTop" r="textAreaRight" b="textAreaBottom"/>
                <a:pathLst>
                  <a:path w="1656" h="489">
                    <a:moveTo>
                      <a:pt x="0" y="489"/>
                    </a:moveTo>
                    <a:lnTo>
                      <a:pt x="133" y="366"/>
                    </a:lnTo>
                    <a:lnTo>
                      <a:pt x="193" y="256"/>
                    </a:lnTo>
                    <a:lnTo>
                      <a:pt x="177" y="123"/>
                    </a:lnTo>
                    <a:lnTo>
                      <a:pt x="1202" y="0"/>
                    </a:lnTo>
                    <a:lnTo>
                      <a:pt x="288" y="157"/>
                    </a:lnTo>
                    <a:lnTo>
                      <a:pt x="248" y="267"/>
                    </a:lnTo>
                    <a:lnTo>
                      <a:pt x="1030" y="223"/>
                    </a:lnTo>
                    <a:lnTo>
                      <a:pt x="232" y="340"/>
                    </a:lnTo>
                    <a:lnTo>
                      <a:pt x="187" y="384"/>
                    </a:lnTo>
                    <a:lnTo>
                      <a:pt x="143" y="411"/>
                    </a:lnTo>
                    <a:lnTo>
                      <a:pt x="1656" y="328"/>
                    </a:lnTo>
                    <a:lnTo>
                      <a:pt x="0" y="48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Freeform 90"/>
              <p:cNvSpPr/>
              <p:nvPr/>
            </p:nvSpPr>
            <p:spPr>
              <a:xfrm>
                <a:off x="940680" y="2248200"/>
                <a:ext cx="377280" cy="98280"/>
              </a:xfrm>
              <a:custGeom>
                <a:avLst/>
                <a:gdLst>
                  <a:gd name="textAreaLeft" fmla="*/ 0 w 377280"/>
                  <a:gd name="textAreaRight" fmla="*/ 377640 w 377280"/>
                  <a:gd name="textAreaTop" fmla="*/ 0 h 98280"/>
                  <a:gd name="textAreaBottom" fmla="*/ 98640 h 98280"/>
                </a:gdLst>
                <a:ahLst/>
                <a:rect l="textAreaLeft" t="textAreaTop" r="textAreaRight" b="textAreaBottom"/>
                <a:pathLst>
                  <a:path w="759" h="332">
                    <a:moveTo>
                      <a:pt x="292" y="0"/>
                    </a:moveTo>
                    <a:lnTo>
                      <a:pt x="0" y="15"/>
                    </a:lnTo>
                    <a:lnTo>
                      <a:pt x="221" y="332"/>
                    </a:lnTo>
                    <a:lnTo>
                      <a:pt x="759" y="291"/>
                    </a:lnTo>
                    <a:lnTo>
                      <a:pt x="700" y="251"/>
                    </a:lnTo>
                    <a:lnTo>
                      <a:pt x="261" y="266"/>
                    </a:lnTo>
                    <a:lnTo>
                      <a:pt x="145" y="71"/>
                    </a:lnTo>
                    <a:lnTo>
                      <a:pt x="360" y="19"/>
                    </a:lnTo>
                    <a:lnTo>
                      <a:pt x="29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Freeform 91"/>
              <p:cNvSpPr/>
              <p:nvPr/>
            </p:nvSpPr>
            <p:spPr>
              <a:xfrm>
                <a:off x="1586520" y="2307600"/>
                <a:ext cx="326160" cy="24480"/>
              </a:xfrm>
              <a:custGeom>
                <a:avLst/>
                <a:gdLst>
                  <a:gd name="textAreaLeft" fmla="*/ 0 w 326160"/>
                  <a:gd name="textAreaRight" fmla="*/ 326520 w 326160"/>
                  <a:gd name="textAreaTop" fmla="*/ 0 h 24480"/>
                  <a:gd name="textAreaBottom" fmla="*/ 24840 h 24480"/>
                </a:gdLst>
                <a:ahLst/>
                <a:rect l="textAreaLeft" t="textAreaTop" r="textAreaRight" b="textAreaBottom"/>
                <a:pathLst>
                  <a:path w="657" h="84">
                    <a:moveTo>
                      <a:pt x="0" y="84"/>
                    </a:moveTo>
                    <a:lnTo>
                      <a:pt x="113" y="71"/>
                    </a:lnTo>
                    <a:lnTo>
                      <a:pt x="337" y="42"/>
                    </a:lnTo>
                    <a:lnTo>
                      <a:pt x="558" y="13"/>
                    </a:lnTo>
                    <a:lnTo>
                      <a:pt x="657" y="0"/>
                    </a:lnTo>
                    <a:lnTo>
                      <a:pt x="164" y="17"/>
                    </a:lnTo>
                    <a:lnTo>
                      <a:pt x="0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Freeform 92"/>
              <p:cNvSpPr/>
              <p:nvPr/>
            </p:nvSpPr>
            <p:spPr>
              <a:xfrm>
                <a:off x="1021320" y="1713600"/>
                <a:ext cx="906120" cy="132480"/>
              </a:xfrm>
              <a:custGeom>
                <a:avLst/>
                <a:gdLst>
                  <a:gd name="textAreaLeft" fmla="*/ 0 w 906120"/>
                  <a:gd name="textAreaRight" fmla="*/ 906480 w 906120"/>
                  <a:gd name="textAreaTop" fmla="*/ 0 h 132480"/>
                  <a:gd name="textAreaBottom" fmla="*/ 132840 h 132480"/>
                </a:gdLst>
                <a:ahLst/>
                <a:rect l="textAreaLeft" t="textAreaTop" r="textAreaRight" b="textAreaBottom"/>
                <a:pathLst>
                  <a:path w="1825" h="451">
                    <a:moveTo>
                      <a:pt x="1825" y="97"/>
                    </a:moveTo>
                    <a:lnTo>
                      <a:pt x="1527" y="47"/>
                    </a:lnTo>
                    <a:lnTo>
                      <a:pt x="1472" y="4"/>
                    </a:lnTo>
                    <a:lnTo>
                      <a:pt x="1391" y="0"/>
                    </a:lnTo>
                    <a:lnTo>
                      <a:pt x="0" y="308"/>
                    </a:lnTo>
                    <a:lnTo>
                      <a:pt x="451" y="451"/>
                    </a:lnTo>
                    <a:lnTo>
                      <a:pt x="1628" y="153"/>
                    </a:lnTo>
                    <a:lnTo>
                      <a:pt x="433" y="385"/>
                    </a:lnTo>
                    <a:lnTo>
                      <a:pt x="310" y="305"/>
                    </a:lnTo>
                    <a:lnTo>
                      <a:pt x="1400" y="42"/>
                    </a:lnTo>
                    <a:lnTo>
                      <a:pt x="1476" y="63"/>
                    </a:lnTo>
                    <a:lnTo>
                      <a:pt x="1825" y="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Freeform 93"/>
              <p:cNvSpPr/>
              <p:nvPr/>
            </p:nvSpPr>
            <p:spPr>
              <a:xfrm>
                <a:off x="1692360" y="1987200"/>
                <a:ext cx="469440" cy="113040"/>
              </a:xfrm>
              <a:custGeom>
                <a:avLst/>
                <a:gdLst>
                  <a:gd name="textAreaLeft" fmla="*/ 0 w 469440"/>
                  <a:gd name="textAreaRight" fmla="*/ 469800 w 469440"/>
                  <a:gd name="textAreaTop" fmla="*/ 0 h 113040"/>
                  <a:gd name="textAreaBottom" fmla="*/ 113400 h 113040"/>
                </a:gdLst>
                <a:ahLst/>
                <a:rect l="textAreaLeft" t="textAreaTop" r="textAreaRight" b="textAreaBottom"/>
                <a:pathLst>
                  <a:path w="945" h="382">
                    <a:moveTo>
                      <a:pt x="0" y="382"/>
                    </a:moveTo>
                    <a:lnTo>
                      <a:pt x="272" y="118"/>
                    </a:lnTo>
                    <a:lnTo>
                      <a:pt x="663" y="0"/>
                    </a:lnTo>
                    <a:lnTo>
                      <a:pt x="945" y="118"/>
                    </a:lnTo>
                    <a:lnTo>
                      <a:pt x="0" y="382"/>
                    </a:lnTo>
                    <a:close/>
                  </a:path>
                </a:pathLst>
              </a:custGeom>
              <a:solidFill>
                <a:srgbClr val="f7a8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Freeform 94"/>
              <p:cNvSpPr/>
              <p:nvPr/>
            </p:nvSpPr>
            <p:spPr>
              <a:xfrm>
                <a:off x="1462680" y="1961280"/>
                <a:ext cx="835920" cy="345960"/>
              </a:xfrm>
              <a:custGeom>
                <a:avLst/>
                <a:gdLst>
                  <a:gd name="textAreaLeft" fmla="*/ 0 w 835920"/>
                  <a:gd name="textAreaRight" fmla="*/ 836280 w 835920"/>
                  <a:gd name="textAreaTop" fmla="*/ 0 h 345960"/>
                  <a:gd name="textAreaBottom" fmla="*/ 346320 h 345960"/>
                </a:gdLst>
                <a:ahLst/>
                <a:rect l="textAreaLeft" t="textAreaTop" r="textAreaRight" b="textAreaBottom"/>
                <a:pathLst>
                  <a:path w="1682" h="1174">
                    <a:moveTo>
                      <a:pt x="939" y="0"/>
                    </a:moveTo>
                    <a:lnTo>
                      <a:pt x="1648" y="189"/>
                    </a:lnTo>
                    <a:lnTo>
                      <a:pt x="1682" y="300"/>
                    </a:lnTo>
                    <a:lnTo>
                      <a:pt x="1338" y="417"/>
                    </a:lnTo>
                    <a:lnTo>
                      <a:pt x="1293" y="505"/>
                    </a:lnTo>
                    <a:lnTo>
                      <a:pt x="1316" y="605"/>
                    </a:lnTo>
                    <a:lnTo>
                      <a:pt x="1366" y="678"/>
                    </a:lnTo>
                    <a:lnTo>
                      <a:pt x="1465" y="732"/>
                    </a:lnTo>
                    <a:lnTo>
                      <a:pt x="0" y="1174"/>
                    </a:lnTo>
                    <a:lnTo>
                      <a:pt x="1348" y="716"/>
                    </a:lnTo>
                    <a:lnTo>
                      <a:pt x="1259" y="662"/>
                    </a:lnTo>
                    <a:lnTo>
                      <a:pt x="828" y="755"/>
                    </a:lnTo>
                    <a:lnTo>
                      <a:pt x="1237" y="600"/>
                    </a:lnTo>
                    <a:lnTo>
                      <a:pt x="1243" y="473"/>
                    </a:lnTo>
                    <a:lnTo>
                      <a:pt x="368" y="666"/>
                    </a:lnTo>
                    <a:lnTo>
                      <a:pt x="346" y="573"/>
                    </a:lnTo>
                    <a:lnTo>
                      <a:pt x="1642" y="226"/>
                    </a:lnTo>
                    <a:lnTo>
                      <a:pt x="982" y="68"/>
                    </a:lnTo>
                    <a:lnTo>
                      <a:pt x="474" y="235"/>
                    </a:lnTo>
                    <a:lnTo>
                      <a:pt x="93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Freeform 95"/>
              <p:cNvSpPr/>
              <p:nvPr/>
            </p:nvSpPr>
            <p:spPr>
              <a:xfrm>
                <a:off x="1866960" y="2270160"/>
                <a:ext cx="147240" cy="41400"/>
              </a:xfrm>
              <a:custGeom>
                <a:avLst/>
                <a:gdLst>
                  <a:gd name="textAreaLeft" fmla="*/ 0 w 147240"/>
                  <a:gd name="textAreaRight" fmla="*/ 147600 w 147240"/>
                  <a:gd name="textAreaTop" fmla="*/ 0 h 41400"/>
                  <a:gd name="textAreaBottom" fmla="*/ 41760 h 41400"/>
                </a:gdLst>
                <a:ahLst/>
                <a:rect l="textAreaLeft" t="textAreaTop" r="textAreaRight" b="textAreaBottom"/>
                <a:pathLst>
                  <a:path w="297" h="141">
                    <a:moveTo>
                      <a:pt x="197" y="0"/>
                    </a:moveTo>
                    <a:lnTo>
                      <a:pt x="297" y="121"/>
                    </a:lnTo>
                    <a:lnTo>
                      <a:pt x="0" y="141"/>
                    </a:lnTo>
                    <a:lnTo>
                      <a:pt x="169" y="88"/>
                    </a:lnTo>
                    <a:lnTo>
                      <a:pt x="129" y="13"/>
                    </a:lnTo>
                    <a:lnTo>
                      <a:pt x="19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96"/>
            <p:cNvGrpSpPr/>
            <p:nvPr/>
          </p:nvGrpSpPr>
          <p:grpSpPr>
            <a:xfrm>
              <a:off x="540000" y="1773000"/>
              <a:ext cx="1799280" cy="948960"/>
              <a:chOff x="540000" y="1773000"/>
              <a:chExt cx="1799280" cy="948960"/>
            </a:xfrm>
          </p:grpSpPr>
          <p:sp>
            <p:nvSpPr>
              <p:cNvPr id="438" name="Freeform 97"/>
              <p:cNvSpPr/>
              <p:nvPr/>
            </p:nvSpPr>
            <p:spPr>
              <a:xfrm>
                <a:off x="662040" y="1880640"/>
                <a:ext cx="1275840" cy="808560"/>
              </a:xfrm>
              <a:custGeom>
                <a:avLst/>
                <a:gdLst>
                  <a:gd name="textAreaLeft" fmla="*/ 0 w 1275840"/>
                  <a:gd name="textAreaRight" fmla="*/ 1276200 w 1275840"/>
                  <a:gd name="textAreaTop" fmla="*/ 0 h 808560"/>
                  <a:gd name="textAreaBottom" fmla="*/ 808920 h 808560"/>
                </a:gdLst>
                <a:ahLst/>
                <a:rect l="textAreaLeft" t="textAreaTop" r="textAreaRight" b="textAreaBottom"/>
                <a:pathLst>
                  <a:path w="2566" h="2741">
                    <a:moveTo>
                      <a:pt x="92" y="0"/>
                    </a:moveTo>
                    <a:lnTo>
                      <a:pt x="94" y="307"/>
                    </a:lnTo>
                    <a:lnTo>
                      <a:pt x="10" y="530"/>
                    </a:lnTo>
                    <a:lnTo>
                      <a:pt x="364" y="818"/>
                    </a:lnTo>
                    <a:lnTo>
                      <a:pt x="0" y="1593"/>
                    </a:lnTo>
                    <a:lnTo>
                      <a:pt x="560" y="2741"/>
                    </a:lnTo>
                    <a:lnTo>
                      <a:pt x="1750" y="2587"/>
                    </a:lnTo>
                    <a:lnTo>
                      <a:pt x="2566" y="1882"/>
                    </a:lnTo>
                    <a:lnTo>
                      <a:pt x="1775" y="222"/>
                    </a:lnTo>
                    <a:lnTo>
                      <a:pt x="9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Freeform 98"/>
              <p:cNvSpPr/>
              <p:nvPr/>
            </p:nvSpPr>
            <p:spPr>
              <a:xfrm>
                <a:off x="618840" y="2155320"/>
                <a:ext cx="288720" cy="288360"/>
              </a:xfrm>
              <a:custGeom>
                <a:avLst/>
                <a:gdLst>
                  <a:gd name="textAreaLeft" fmla="*/ 0 w 288720"/>
                  <a:gd name="textAreaRight" fmla="*/ 289080 w 288720"/>
                  <a:gd name="textAreaTop" fmla="*/ 0 h 288360"/>
                  <a:gd name="textAreaBottom" fmla="*/ 288720 h 288360"/>
                </a:gdLst>
                <a:ahLst/>
                <a:rect l="textAreaLeft" t="textAreaTop" r="textAreaRight" b="textAreaBottom"/>
                <a:pathLst>
                  <a:path w="582" h="978">
                    <a:moveTo>
                      <a:pt x="300" y="0"/>
                    </a:moveTo>
                    <a:lnTo>
                      <a:pt x="0" y="48"/>
                    </a:lnTo>
                    <a:lnTo>
                      <a:pt x="37" y="135"/>
                    </a:lnTo>
                    <a:lnTo>
                      <a:pt x="582" y="978"/>
                    </a:lnTo>
                    <a:lnTo>
                      <a:pt x="339" y="126"/>
                    </a:lnTo>
                    <a:lnTo>
                      <a:pt x="300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Freeform 99"/>
              <p:cNvSpPr/>
              <p:nvPr/>
            </p:nvSpPr>
            <p:spPr>
              <a:xfrm>
                <a:off x="581400" y="2296800"/>
                <a:ext cx="718560" cy="405360"/>
              </a:xfrm>
              <a:custGeom>
                <a:avLst/>
                <a:gdLst>
                  <a:gd name="textAreaLeft" fmla="*/ 0 w 718560"/>
                  <a:gd name="textAreaRight" fmla="*/ 718920 w 718560"/>
                  <a:gd name="textAreaTop" fmla="*/ 0 h 405360"/>
                  <a:gd name="textAreaBottom" fmla="*/ 405720 h 405360"/>
                </a:gdLst>
                <a:ahLst/>
                <a:rect l="textAreaLeft" t="textAreaTop" r="textAreaRight" b="textAreaBottom"/>
                <a:pathLst>
                  <a:path w="1445" h="1374">
                    <a:moveTo>
                      <a:pt x="247" y="0"/>
                    </a:moveTo>
                    <a:lnTo>
                      <a:pt x="0" y="93"/>
                    </a:lnTo>
                    <a:lnTo>
                      <a:pt x="656" y="1374"/>
                    </a:lnTo>
                    <a:lnTo>
                      <a:pt x="1445" y="1331"/>
                    </a:lnTo>
                    <a:lnTo>
                      <a:pt x="719" y="1182"/>
                    </a:lnTo>
                    <a:lnTo>
                      <a:pt x="204" y="156"/>
                    </a:lnTo>
                    <a:lnTo>
                      <a:pt x="247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Freeform 100"/>
              <p:cNvSpPr/>
              <p:nvPr/>
            </p:nvSpPr>
            <p:spPr>
              <a:xfrm>
                <a:off x="556560" y="1781640"/>
                <a:ext cx="840600" cy="252000"/>
              </a:xfrm>
              <a:custGeom>
                <a:avLst/>
                <a:gdLst>
                  <a:gd name="textAreaLeft" fmla="*/ 0 w 840600"/>
                  <a:gd name="textAreaRight" fmla="*/ 840960 w 840600"/>
                  <a:gd name="textAreaTop" fmla="*/ 0 h 252000"/>
                  <a:gd name="textAreaBottom" fmla="*/ 252360 h 252000"/>
                </a:gdLst>
                <a:ahLst/>
                <a:rect l="textAreaLeft" t="textAreaTop" r="textAreaRight" b="textAreaBottom"/>
                <a:pathLst>
                  <a:path w="1694" h="855">
                    <a:moveTo>
                      <a:pt x="1463" y="0"/>
                    </a:moveTo>
                    <a:lnTo>
                      <a:pt x="20" y="275"/>
                    </a:lnTo>
                    <a:lnTo>
                      <a:pt x="0" y="335"/>
                    </a:lnTo>
                    <a:lnTo>
                      <a:pt x="1389" y="855"/>
                    </a:lnTo>
                    <a:lnTo>
                      <a:pt x="1694" y="731"/>
                    </a:lnTo>
                    <a:lnTo>
                      <a:pt x="845" y="455"/>
                    </a:lnTo>
                    <a:lnTo>
                      <a:pt x="1509" y="75"/>
                    </a:lnTo>
                    <a:lnTo>
                      <a:pt x="1463" y="0"/>
                    </a:lnTo>
                    <a:close/>
                  </a:path>
                </a:pathLst>
              </a:custGeom>
              <a:solidFill>
                <a:srgbClr val="f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Freeform 101"/>
              <p:cNvSpPr/>
              <p:nvPr/>
            </p:nvSpPr>
            <p:spPr>
              <a:xfrm>
                <a:off x="575640" y="1996560"/>
                <a:ext cx="897120" cy="240480"/>
              </a:xfrm>
              <a:custGeom>
                <a:avLst/>
                <a:gdLst>
                  <a:gd name="textAreaLeft" fmla="*/ 0 w 897120"/>
                  <a:gd name="textAreaRight" fmla="*/ 897480 w 897120"/>
                  <a:gd name="textAreaTop" fmla="*/ 0 h 240480"/>
                  <a:gd name="textAreaBottom" fmla="*/ 240840 h 240480"/>
                </a:gdLst>
                <a:ahLst/>
                <a:rect l="textAreaLeft" t="textAreaTop" r="textAreaRight" b="textAreaBottom"/>
                <a:pathLst>
                  <a:path w="1806" h="816">
                    <a:moveTo>
                      <a:pt x="241" y="0"/>
                    </a:moveTo>
                    <a:lnTo>
                      <a:pt x="0" y="101"/>
                    </a:lnTo>
                    <a:lnTo>
                      <a:pt x="0" y="172"/>
                    </a:lnTo>
                    <a:lnTo>
                      <a:pt x="1349" y="816"/>
                    </a:lnTo>
                    <a:lnTo>
                      <a:pt x="1779" y="687"/>
                    </a:lnTo>
                    <a:lnTo>
                      <a:pt x="1806" y="570"/>
                    </a:lnTo>
                    <a:lnTo>
                      <a:pt x="1574" y="551"/>
                    </a:lnTo>
                    <a:lnTo>
                      <a:pt x="1344" y="636"/>
                    </a:lnTo>
                    <a:lnTo>
                      <a:pt x="207" y="129"/>
                    </a:lnTo>
                    <a:lnTo>
                      <a:pt x="241" y="0"/>
                    </a:lnTo>
                    <a:close/>
                  </a:path>
                </a:pathLst>
              </a:custGeom>
              <a:solidFill>
                <a:srgbClr val="f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Freeform 102"/>
              <p:cNvSpPr/>
              <p:nvPr/>
            </p:nvSpPr>
            <p:spPr>
              <a:xfrm>
                <a:off x="733680" y="2110680"/>
                <a:ext cx="676800" cy="318600"/>
              </a:xfrm>
              <a:custGeom>
                <a:avLst/>
                <a:gdLst>
                  <a:gd name="textAreaLeft" fmla="*/ 0 w 676800"/>
                  <a:gd name="textAreaRight" fmla="*/ 677160 w 676800"/>
                  <a:gd name="textAreaTop" fmla="*/ 0 h 318600"/>
                  <a:gd name="textAreaBottom" fmla="*/ 318960 h 318600"/>
                </a:gdLst>
                <a:ahLst/>
                <a:rect l="textAreaLeft" t="textAreaTop" r="textAreaRight" b="textAreaBottom"/>
                <a:pathLst>
                  <a:path w="1360" h="1080">
                    <a:moveTo>
                      <a:pt x="6" y="59"/>
                    </a:moveTo>
                    <a:lnTo>
                      <a:pt x="0" y="180"/>
                    </a:lnTo>
                    <a:lnTo>
                      <a:pt x="10" y="314"/>
                    </a:lnTo>
                    <a:lnTo>
                      <a:pt x="78" y="384"/>
                    </a:lnTo>
                    <a:lnTo>
                      <a:pt x="226" y="419"/>
                    </a:lnTo>
                    <a:lnTo>
                      <a:pt x="805" y="844"/>
                    </a:lnTo>
                    <a:lnTo>
                      <a:pt x="1060" y="1040"/>
                    </a:lnTo>
                    <a:lnTo>
                      <a:pt x="1244" y="1080"/>
                    </a:lnTo>
                    <a:lnTo>
                      <a:pt x="1219" y="835"/>
                    </a:lnTo>
                    <a:lnTo>
                      <a:pt x="1360" y="465"/>
                    </a:lnTo>
                    <a:lnTo>
                      <a:pt x="1075" y="450"/>
                    </a:lnTo>
                    <a:lnTo>
                      <a:pt x="50" y="0"/>
                    </a:lnTo>
                    <a:lnTo>
                      <a:pt x="6" y="59"/>
                    </a:lnTo>
                    <a:close/>
                  </a:path>
                </a:pathLst>
              </a:custGeom>
              <a:solidFill>
                <a:srgbClr val="f7a8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Freeform 103"/>
              <p:cNvSpPr/>
              <p:nvPr/>
            </p:nvSpPr>
            <p:spPr>
              <a:xfrm>
                <a:off x="1145160" y="1839240"/>
                <a:ext cx="818280" cy="114840"/>
              </a:xfrm>
              <a:custGeom>
                <a:avLst/>
                <a:gdLst>
                  <a:gd name="textAreaLeft" fmla="*/ 0 w 818280"/>
                  <a:gd name="textAreaRight" fmla="*/ 818640 w 818280"/>
                  <a:gd name="textAreaTop" fmla="*/ 0 h 114840"/>
                  <a:gd name="textAreaBottom" fmla="*/ 115200 h 114840"/>
                </a:gdLst>
                <a:ahLst/>
                <a:rect l="textAreaLeft" t="textAreaTop" r="textAreaRight" b="textAreaBottom"/>
                <a:pathLst>
                  <a:path w="1646" h="390">
                    <a:moveTo>
                      <a:pt x="0" y="292"/>
                    </a:moveTo>
                    <a:lnTo>
                      <a:pt x="53" y="273"/>
                    </a:lnTo>
                    <a:lnTo>
                      <a:pt x="191" y="238"/>
                    </a:lnTo>
                    <a:lnTo>
                      <a:pt x="281" y="216"/>
                    </a:lnTo>
                    <a:lnTo>
                      <a:pt x="383" y="190"/>
                    </a:lnTo>
                    <a:lnTo>
                      <a:pt x="490" y="165"/>
                    </a:lnTo>
                    <a:lnTo>
                      <a:pt x="602" y="139"/>
                    </a:lnTo>
                    <a:lnTo>
                      <a:pt x="715" y="112"/>
                    </a:lnTo>
                    <a:lnTo>
                      <a:pt x="822" y="87"/>
                    </a:lnTo>
                    <a:lnTo>
                      <a:pt x="924" y="64"/>
                    </a:lnTo>
                    <a:lnTo>
                      <a:pt x="1014" y="43"/>
                    </a:lnTo>
                    <a:lnTo>
                      <a:pt x="1150" y="12"/>
                    </a:lnTo>
                    <a:lnTo>
                      <a:pt x="1202" y="0"/>
                    </a:lnTo>
                    <a:lnTo>
                      <a:pt x="1646" y="75"/>
                    </a:lnTo>
                    <a:lnTo>
                      <a:pt x="158" y="390"/>
                    </a:lnTo>
                    <a:lnTo>
                      <a:pt x="0" y="292"/>
                    </a:lnTo>
                    <a:close/>
                  </a:path>
                </a:pathLst>
              </a:custGeom>
              <a:solidFill>
                <a:srgbClr val="f0ea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Freeform 104"/>
              <p:cNvSpPr/>
              <p:nvPr/>
            </p:nvSpPr>
            <p:spPr>
              <a:xfrm>
                <a:off x="1134360" y="2256120"/>
                <a:ext cx="128160" cy="122760"/>
              </a:xfrm>
              <a:custGeom>
                <a:avLst/>
                <a:gdLst>
                  <a:gd name="textAreaLeft" fmla="*/ 0 w 128160"/>
                  <a:gd name="textAreaRight" fmla="*/ 128520 w 128160"/>
                  <a:gd name="textAreaTop" fmla="*/ 0 h 122760"/>
                  <a:gd name="textAreaBottom" fmla="*/ 123120 h 122760"/>
                </a:gdLst>
                <a:ahLst/>
                <a:rect l="textAreaLeft" t="textAreaTop" r="textAreaRight" b="textAreaBottom"/>
                <a:pathLst>
                  <a:path w="259" h="417">
                    <a:moveTo>
                      <a:pt x="75" y="0"/>
                    </a:moveTo>
                    <a:lnTo>
                      <a:pt x="259" y="21"/>
                    </a:lnTo>
                    <a:lnTo>
                      <a:pt x="135" y="241"/>
                    </a:lnTo>
                    <a:lnTo>
                      <a:pt x="110" y="417"/>
                    </a:lnTo>
                    <a:lnTo>
                      <a:pt x="0" y="350"/>
                    </a:lnTo>
                    <a:lnTo>
                      <a:pt x="25" y="80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f0ea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Freeform 105"/>
              <p:cNvSpPr/>
              <p:nvPr/>
            </p:nvSpPr>
            <p:spPr>
              <a:xfrm>
                <a:off x="1040760" y="2378880"/>
                <a:ext cx="209880" cy="72360"/>
              </a:xfrm>
              <a:custGeom>
                <a:avLst/>
                <a:gdLst>
                  <a:gd name="textAreaLeft" fmla="*/ 0 w 209880"/>
                  <a:gd name="textAreaRight" fmla="*/ 210240 w 209880"/>
                  <a:gd name="textAreaTop" fmla="*/ 0 h 72360"/>
                  <a:gd name="textAreaBottom" fmla="*/ 72720 h 72360"/>
                </a:gdLst>
                <a:ahLst/>
                <a:rect l="textAreaLeft" t="textAreaTop" r="textAreaRight" b="textAreaBottom"/>
                <a:pathLst>
                  <a:path w="423" h="247">
                    <a:moveTo>
                      <a:pt x="0" y="16"/>
                    </a:moveTo>
                    <a:lnTo>
                      <a:pt x="174" y="0"/>
                    </a:lnTo>
                    <a:lnTo>
                      <a:pt x="423" y="201"/>
                    </a:lnTo>
                    <a:lnTo>
                      <a:pt x="44" y="247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f0ea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Freeform 106"/>
              <p:cNvSpPr/>
              <p:nvPr/>
            </p:nvSpPr>
            <p:spPr>
              <a:xfrm>
                <a:off x="982800" y="2458440"/>
                <a:ext cx="1182240" cy="221040"/>
              </a:xfrm>
              <a:custGeom>
                <a:avLst/>
                <a:gdLst>
                  <a:gd name="textAreaLeft" fmla="*/ 0 w 1182240"/>
                  <a:gd name="textAreaRight" fmla="*/ 1182600 w 1182240"/>
                  <a:gd name="textAreaTop" fmla="*/ 0 h 221040"/>
                  <a:gd name="textAreaBottom" fmla="*/ 221400 h 221040"/>
                </a:gdLst>
                <a:ahLst/>
                <a:rect l="textAreaLeft" t="textAreaTop" r="textAreaRight" b="textAreaBottom"/>
                <a:pathLst>
                  <a:path w="2378" h="751">
                    <a:moveTo>
                      <a:pt x="155" y="301"/>
                    </a:moveTo>
                    <a:lnTo>
                      <a:pt x="129" y="450"/>
                    </a:lnTo>
                    <a:lnTo>
                      <a:pt x="0" y="601"/>
                    </a:lnTo>
                    <a:lnTo>
                      <a:pt x="563" y="751"/>
                    </a:lnTo>
                    <a:lnTo>
                      <a:pt x="1684" y="647"/>
                    </a:lnTo>
                    <a:lnTo>
                      <a:pt x="1763" y="616"/>
                    </a:lnTo>
                    <a:lnTo>
                      <a:pt x="1913" y="647"/>
                    </a:lnTo>
                    <a:lnTo>
                      <a:pt x="2042" y="630"/>
                    </a:lnTo>
                    <a:lnTo>
                      <a:pt x="2187" y="607"/>
                    </a:lnTo>
                    <a:lnTo>
                      <a:pt x="2221" y="580"/>
                    </a:lnTo>
                    <a:lnTo>
                      <a:pt x="2276" y="534"/>
                    </a:lnTo>
                    <a:lnTo>
                      <a:pt x="2326" y="490"/>
                    </a:lnTo>
                    <a:lnTo>
                      <a:pt x="2348" y="471"/>
                    </a:lnTo>
                    <a:lnTo>
                      <a:pt x="2378" y="186"/>
                    </a:lnTo>
                    <a:lnTo>
                      <a:pt x="2218" y="0"/>
                    </a:lnTo>
                    <a:lnTo>
                      <a:pt x="1439" y="140"/>
                    </a:lnTo>
                    <a:lnTo>
                      <a:pt x="155" y="301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Freeform 107"/>
              <p:cNvSpPr/>
              <p:nvPr/>
            </p:nvSpPr>
            <p:spPr>
              <a:xfrm>
                <a:off x="660600" y="2175480"/>
                <a:ext cx="1522080" cy="510480"/>
              </a:xfrm>
              <a:custGeom>
                <a:avLst/>
                <a:gdLst>
                  <a:gd name="textAreaLeft" fmla="*/ 0 w 1522080"/>
                  <a:gd name="textAreaRight" fmla="*/ 1522440 w 1522080"/>
                  <a:gd name="textAreaTop" fmla="*/ 0 h 510480"/>
                  <a:gd name="textAreaBottom" fmla="*/ 510840 h 510480"/>
                </a:gdLst>
                <a:ahLst/>
                <a:rect l="textAreaLeft" t="textAreaTop" r="textAreaRight" b="textAreaBottom"/>
                <a:pathLst>
                  <a:path w="3063" h="1730">
                    <a:moveTo>
                      <a:pt x="15" y="29"/>
                    </a:moveTo>
                    <a:lnTo>
                      <a:pt x="134" y="0"/>
                    </a:lnTo>
                    <a:lnTo>
                      <a:pt x="205" y="184"/>
                    </a:lnTo>
                    <a:lnTo>
                      <a:pt x="306" y="212"/>
                    </a:lnTo>
                    <a:lnTo>
                      <a:pt x="880" y="630"/>
                    </a:lnTo>
                    <a:lnTo>
                      <a:pt x="669" y="680"/>
                    </a:lnTo>
                    <a:lnTo>
                      <a:pt x="809" y="936"/>
                    </a:lnTo>
                    <a:lnTo>
                      <a:pt x="1284" y="885"/>
                    </a:lnTo>
                    <a:lnTo>
                      <a:pt x="1594" y="980"/>
                    </a:lnTo>
                    <a:lnTo>
                      <a:pt x="2453" y="705"/>
                    </a:lnTo>
                    <a:lnTo>
                      <a:pt x="2883" y="730"/>
                    </a:lnTo>
                    <a:lnTo>
                      <a:pt x="3063" y="970"/>
                    </a:lnTo>
                    <a:lnTo>
                      <a:pt x="3014" y="1427"/>
                    </a:lnTo>
                    <a:lnTo>
                      <a:pt x="2858" y="1555"/>
                    </a:lnTo>
                    <a:lnTo>
                      <a:pt x="2537" y="1614"/>
                    </a:lnTo>
                    <a:lnTo>
                      <a:pt x="2388" y="1581"/>
                    </a:lnTo>
                    <a:lnTo>
                      <a:pt x="2269" y="1620"/>
                    </a:lnTo>
                    <a:lnTo>
                      <a:pt x="1115" y="1730"/>
                    </a:lnTo>
                    <a:lnTo>
                      <a:pt x="561" y="1594"/>
                    </a:lnTo>
                    <a:lnTo>
                      <a:pt x="964" y="1535"/>
                    </a:lnTo>
                    <a:lnTo>
                      <a:pt x="2554" y="1409"/>
                    </a:lnTo>
                    <a:lnTo>
                      <a:pt x="2808" y="1395"/>
                    </a:lnTo>
                    <a:lnTo>
                      <a:pt x="2908" y="1160"/>
                    </a:lnTo>
                    <a:lnTo>
                      <a:pt x="2892" y="1133"/>
                    </a:lnTo>
                    <a:lnTo>
                      <a:pt x="2855" y="1074"/>
                    </a:lnTo>
                    <a:lnTo>
                      <a:pt x="2834" y="1042"/>
                    </a:lnTo>
                    <a:lnTo>
                      <a:pt x="2815" y="1012"/>
                    </a:lnTo>
                    <a:lnTo>
                      <a:pt x="2788" y="980"/>
                    </a:lnTo>
                    <a:lnTo>
                      <a:pt x="2536" y="1006"/>
                    </a:lnTo>
                    <a:lnTo>
                      <a:pt x="2372" y="1029"/>
                    </a:lnTo>
                    <a:lnTo>
                      <a:pt x="2298" y="1040"/>
                    </a:lnTo>
                    <a:lnTo>
                      <a:pt x="784" y="1215"/>
                    </a:lnTo>
                    <a:lnTo>
                      <a:pt x="703" y="1237"/>
                    </a:lnTo>
                    <a:lnTo>
                      <a:pt x="0" y="119"/>
                    </a:lnTo>
                    <a:lnTo>
                      <a:pt x="459" y="710"/>
                    </a:lnTo>
                    <a:lnTo>
                      <a:pt x="15" y="29"/>
                    </a:lnTo>
                    <a:close/>
                  </a:path>
                </a:pathLst>
              </a:custGeom>
              <a:solidFill>
                <a:srgbClr val="7a7a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Freeform 108"/>
              <p:cNvSpPr/>
              <p:nvPr/>
            </p:nvSpPr>
            <p:spPr>
              <a:xfrm>
                <a:off x="1702800" y="2374560"/>
                <a:ext cx="294840" cy="52920"/>
              </a:xfrm>
              <a:custGeom>
                <a:avLst/>
                <a:gdLst>
                  <a:gd name="textAreaLeft" fmla="*/ 0 w 294840"/>
                  <a:gd name="textAreaRight" fmla="*/ 295200 w 29484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593" h="178">
                    <a:moveTo>
                      <a:pt x="0" y="178"/>
                    </a:moveTo>
                    <a:lnTo>
                      <a:pt x="423" y="161"/>
                    </a:lnTo>
                    <a:lnTo>
                      <a:pt x="593" y="142"/>
                    </a:lnTo>
                    <a:lnTo>
                      <a:pt x="519" y="68"/>
                    </a:lnTo>
                    <a:lnTo>
                      <a:pt x="546" y="0"/>
                    </a:lnTo>
                    <a:lnTo>
                      <a:pt x="380" y="29"/>
                    </a:lnTo>
                    <a:lnTo>
                      <a:pt x="155" y="124"/>
                    </a:lnTo>
                    <a:lnTo>
                      <a:pt x="0" y="178"/>
                    </a:lnTo>
                    <a:close/>
                  </a:path>
                </a:pathLst>
              </a:custGeom>
              <a:solidFill>
                <a:srgbClr val="948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Freeform 109"/>
              <p:cNvSpPr/>
              <p:nvPr/>
            </p:nvSpPr>
            <p:spPr>
              <a:xfrm>
                <a:off x="1117080" y="2238120"/>
                <a:ext cx="131040" cy="140400"/>
              </a:xfrm>
              <a:custGeom>
                <a:avLst/>
                <a:gdLst>
                  <a:gd name="textAreaLeft" fmla="*/ 0 w 131040"/>
                  <a:gd name="textAreaRight" fmla="*/ 131400 w 131040"/>
                  <a:gd name="textAreaTop" fmla="*/ 0 h 140400"/>
                  <a:gd name="textAreaBottom" fmla="*/ 140760 h 140400"/>
                </a:gdLst>
                <a:ahLst/>
                <a:rect l="textAreaLeft" t="textAreaTop" r="textAreaRight" b="textAreaBottom"/>
                <a:pathLst>
                  <a:path w="264" h="477">
                    <a:moveTo>
                      <a:pt x="9" y="420"/>
                    </a:moveTo>
                    <a:lnTo>
                      <a:pt x="0" y="266"/>
                    </a:lnTo>
                    <a:lnTo>
                      <a:pt x="59" y="96"/>
                    </a:lnTo>
                    <a:lnTo>
                      <a:pt x="109" y="0"/>
                    </a:lnTo>
                    <a:lnTo>
                      <a:pt x="264" y="81"/>
                    </a:lnTo>
                    <a:lnTo>
                      <a:pt x="214" y="106"/>
                    </a:lnTo>
                    <a:lnTo>
                      <a:pt x="119" y="131"/>
                    </a:lnTo>
                    <a:lnTo>
                      <a:pt x="73" y="245"/>
                    </a:lnTo>
                    <a:lnTo>
                      <a:pt x="73" y="366"/>
                    </a:lnTo>
                    <a:lnTo>
                      <a:pt x="144" y="477"/>
                    </a:lnTo>
                    <a:lnTo>
                      <a:pt x="9" y="420"/>
                    </a:lnTo>
                    <a:close/>
                  </a:path>
                </a:pathLst>
              </a:custGeom>
              <a:solidFill>
                <a:srgbClr val="b8ad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Freeform 110"/>
              <p:cNvSpPr/>
              <p:nvPr/>
            </p:nvSpPr>
            <p:spPr>
              <a:xfrm>
                <a:off x="1140480" y="1833120"/>
                <a:ext cx="688680" cy="145800"/>
              </a:xfrm>
              <a:custGeom>
                <a:avLst/>
                <a:gdLst>
                  <a:gd name="textAreaLeft" fmla="*/ 0 w 688680"/>
                  <a:gd name="textAreaRight" fmla="*/ 689040 w 688680"/>
                  <a:gd name="textAreaTop" fmla="*/ 0 h 145800"/>
                  <a:gd name="textAreaBottom" fmla="*/ 146160 h 145800"/>
                </a:gdLst>
                <a:ahLst/>
                <a:rect l="textAreaLeft" t="textAreaTop" r="textAreaRight" b="textAreaBottom"/>
                <a:pathLst>
                  <a:path w="1385" h="496">
                    <a:moveTo>
                      <a:pt x="0" y="297"/>
                    </a:moveTo>
                    <a:lnTo>
                      <a:pt x="1110" y="0"/>
                    </a:lnTo>
                    <a:lnTo>
                      <a:pt x="1255" y="31"/>
                    </a:lnTo>
                    <a:lnTo>
                      <a:pt x="269" y="309"/>
                    </a:lnTo>
                    <a:lnTo>
                      <a:pt x="1385" y="121"/>
                    </a:lnTo>
                    <a:lnTo>
                      <a:pt x="291" y="496"/>
                    </a:lnTo>
                    <a:lnTo>
                      <a:pt x="0" y="297"/>
                    </a:lnTo>
                    <a:close/>
                  </a:path>
                </a:pathLst>
              </a:custGeom>
              <a:solidFill>
                <a:srgbClr val="b8ad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Freeform 111"/>
              <p:cNvSpPr/>
              <p:nvPr/>
            </p:nvSpPr>
            <p:spPr>
              <a:xfrm>
                <a:off x="993240" y="2363040"/>
                <a:ext cx="294840" cy="88200"/>
              </a:xfrm>
              <a:custGeom>
                <a:avLst/>
                <a:gdLst>
                  <a:gd name="textAreaLeft" fmla="*/ 0 w 294840"/>
                  <a:gd name="textAreaRight" fmla="*/ 295200 w 294840"/>
                  <a:gd name="textAreaTop" fmla="*/ 0 h 88200"/>
                  <a:gd name="textAreaBottom" fmla="*/ 88200 h 88200"/>
                </a:gdLst>
                <a:ahLst/>
                <a:rect l="textAreaLeft" t="textAreaTop" r="textAreaRight" b="textAreaBottom"/>
                <a:pathLst>
                  <a:path w="595" h="300">
                    <a:moveTo>
                      <a:pt x="0" y="44"/>
                    </a:moveTo>
                    <a:lnTo>
                      <a:pt x="187" y="0"/>
                    </a:lnTo>
                    <a:lnTo>
                      <a:pt x="428" y="131"/>
                    </a:lnTo>
                    <a:lnTo>
                      <a:pt x="595" y="251"/>
                    </a:lnTo>
                    <a:lnTo>
                      <a:pt x="490" y="269"/>
                    </a:lnTo>
                    <a:lnTo>
                      <a:pt x="375" y="193"/>
                    </a:lnTo>
                    <a:lnTo>
                      <a:pt x="291" y="109"/>
                    </a:lnTo>
                    <a:lnTo>
                      <a:pt x="155" y="94"/>
                    </a:lnTo>
                    <a:lnTo>
                      <a:pt x="140" y="300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b8ad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Freeform 112"/>
              <p:cNvSpPr/>
              <p:nvPr/>
            </p:nvSpPr>
            <p:spPr>
              <a:xfrm>
                <a:off x="1453680" y="2034000"/>
                <a:ext cx="225000" cy="356400"/>
              </a:xfrm>
              <a:custGeom>
                <a:avLst/>
                <a:gdLst>
                  <a:gd name="textAreaLeft" fmla="*/ 0 w 225000"/>
                  <a:gd name="textAreaRight" fmla="*/ 225360 w 225000"/>
                  <a:gd name="textAreaTop" fmla="*/ 0 h 356400"/>
                  <a:gd name="textAreaBottom" fmla="*/ 356760 h 356400"/>
                </a:gdLst>
                <a:ahLst/>
                <a:rect l="textAreaLeft" t="textAreaTop" r="textAreaRight" b="textAreaBottom"/>
                <a:pathLst>
                  <a:path w="452" h="1211">
                    <a:moveTo>
                      <a:pt x="71" y="96"/>
                    </a:moveTo>
                    <a:lnTo>
                      <a:pt x="362" y="0"/>
                    </a:lnTo>
                    <a:lnTo>
                      <a:pt x="452" y="110"/>
                    </a:lnTo>
                    <a:lnTo>
                      <a:pt x="322" y="776"/>
                    </a:lnTo>
                    <a:lnTo>
                      <a:pt x="186" y="896"/>
                    </a:lnTo>
                    <a:lnTo>
                      <a:pt x="182" y="1211"/>
                    </a:lnTo>
                    <a:lnTo>
                      <a:pt x="71" y="1086"/>
                    </a:lnTo>
                    <a:lnTo>
                      <a:pt x="49" y="941"/>
                    </a:lnTo>
                    <a:lnTo>
                      <a:pt x="27" y="841"/>
                    </a:lnTo>
                    <a:lnTo>
                      <a:pt x="5" y="794"/>
                    </a:lnTo>
                    <a:lnTo>
                      <a:pt x="0" y="772"/>
                    </a:lnTo>
                    <a:lnTo>
                      <a:pt x="5" y="716"/>
                    </a:lnTo>
                    <a:lnTo>
                      <a:pt x="30" y="549"/>
                    </a:lnTo>
                    <a:lnTo>
                      <a:pt x="61" y="382"/>
                    </a:lnTo>
                    <a:lnTo>
                      <a:pt x="77" y="305"/>
                    </a:lnTo>
                    <a:lnTo>
                      <a:pt x="37" y="121"/>
                    </a:lnTo>
                    <a:lnTo>
                      <a:pt x="71" y="96"/>
                    </a:lnTo>
                    <a:close/>
                  </a:path>
                </a:pathLst>
              </a:custGeom>
              <a:solidFill>
                <a:srgbClr val="ff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Freeform 113"/>
              <p:cNvSpPr/>
              <p:nvPr/>
            </p:nvSpPr>
            <p:spPr>
              <a:xfrm>
                <a:off x="1478880" y="2018880"/>
                <a:ext cx="235440" cy="380160"/>
              </a:xfrm>
              <a:custGeom>
                <a:avLst/>
                <a:gdLst>
                  <a:gd name="textAreaLeft" fmla="*/ 0 w 235440"/>
                  <a:gd name="textAreaRight" fmla="*/ 235800 w 235440"/>
                  <a:gd name="textAreaTop" fmla="*/ 0 h 380160"/>
                  <a:gd name="textAreaBottom" fmla="*/ 380520 h 380160"/>
                </a:gdLst>
                <a:ahLst/>
                <a:rect l="textAreaLeft" t="textAreaTop" r="textAreaRight" b="textAreaBottom"/>
                <a:pathLst>
                  <a:path w="474" h="1290">
                    <a:moveTo>
                      <a:pt x="0" y="109"/>
                    </a:moveTo>
                    <a:lnTo>
                      <a:pt x="369" y="0"/>
                    </a:lnTo>
                    <a:lnTo>
                      <a:pt x="474" y="214"/>
                    </a:lnTo>
                    <a:lnTo>
                      <a:pt x="310" y="689"/>
                    </a:lnTo>
                    <a:lnTo>
                      <a:pt x="434" y="1005"/>
                    </a:lnTo>
                    <a:lnTo>
                      <a:pt x="230" y="959"/>
                    </a:lnTo>
                    <a:lnTo>
                      <a:pt x="140" y="1290"/>
                    </a:lnTo>
                    <a:lnTo>
                      <a:pt x="57" y="1026"/>
                    </a:lnTo>
                    <a:lnTo>
                      <a:pt x="15" y="779"/>
                    </a:lnTo>
                    <a:lnTo>
                      <a:pt x="90" y="509"/>
                    </a:lnTo>
                    <a:lnTo>
                      <a:pt x="34" y="304"/>
                    </a:lnTo>
                    <a:lnTo>
                      <a:pt x="124" y="214"/>
                    </a:lnTo>
                    <a:lnTo>
                      <a:pt x="230" y="244"/>
                    </a:lnTo>
                    <a:lnTo>
                      <a:pt x="190" y="339"/>
                    </a:lnTo>
                    <a:lnTo>
                      <a:pt x="264" y="390"/>
                    </a:lnTo>
                    <a:lnTo>
                      <a:pt x="115" y="689"/>
                    </a:lnTo>
                    <a:lnTo>
                      <a:pt x="190" y="675"/>
                    </a:lnTo>
                    <a:lnTo>
                      <a:pt x="115" y="900"/>
                    </a:lnTo>
                    <a:lnTo>
                      <a:pt x="214" y="785"/>
                    </a:lnTo>
                    <a:lnTo>
                      <a:pt x="260" y="555"/>
                    </a:lnTo>
                    <a:lnTo>
                      <a:pt x="260" y="484"/>
                    </a:lnTo>
                    <a:lnTo>
                      <a:pt x="339" y="314"/>
                    </a:lnTo>
                    <a:lnTo>
                      <a:pt x="285" y="300"/>
                    </a:lnTo>
                    <a:lnTo>
                      <a:pt x="304" y="170"/>
                    </a:lnTo>
                    <a:lnTo>
                      <a:pt x="180" y="149"/>
                    </a:lnTo>
                    <a:lnTo>
                      <a:pt x="199" y="99"/>
                    </a:lnTo>
                    <a:lnTo>
                      <a:pt x="25" y="195"/>
                    </a:lnTo>
                    <a:lnTo>
                      <a:pt x="0" y="109"/>
                    </a:lnTo>
                    <a:close/>
                  </a:path>
                </a:pathLst>
              </a:custGeom>
              <a:solidFill>
                <a:srgbClr val="ff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Freeform 114"/>
              <p:cNvSpPr/>
              <p:nvPr/>
            </p:nvSpPr>
            <p:spPr>
              <a:xfrm>
                <a:off x="751320" y="2166480"/>
                <a:ext cx="394920" cy="201600"/>
              </a:xfrm>
              <a:custGeom>
                <a:avLst/>
                <a:gdLst>
                  <a:gd name="textAreaLeft" fmla="*/ 0 w 394920"/>
                  <a:gd name="textAreaRight" fmla="*/ 395280 w 394920"/>
                  <a:gd name="textAreaTop" fmla="*/ 0 h 201600"/>
                  <a:gd name="textAreaBottom" fmla="*/ 201960 h 201600"/>
                </a:gdLst>
                <a:ahLst/>
                <a:rect l="textAreaLeft" t="textAreaTop" r="textAreaRight" b="textAreaBottom"/>
                <a:pathLst>
                  <a:path w="794" h="686">
                    <a:moveTo>
                      <a:pt x="0" y="136"/>
                    </a:moveTo>
                    <a:lnTo>
                      <a:pt x="60" y="40"/>
                    </a:lnTo>
                    <a:lnTo>
                      <a:pt x="134" y="0"/>
                    </a:lnTo>
                    <a:lnTo>
                      <a:pt x="144" y="96"/>
                    </a:lnTo>
                    <a:lnTo>
                      <a:pt x="349" y="291"/>
                    </a:lnTo>
                    <a:lnTo>
                      <a:pt x="653" y="466"/>
                    </a:lnTo>
                    <a:lnTo>
                      <a:pt x="794" y="341"/>
                    </a:lnTo>
                    <a:lnTo>
                      <a:pt x="714" y="686"/>
                    </a:lnTo>
                    <a:lnTo>
                      <a:pt x="100" y="230"/>
                    </a:lnTo>
                    <a:lnTo>
                      <a:pt x="20" y="215"/>
                    </a:lnTo>
                    <a:lnTo>
                      <a:pt x="0" y="136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Freeform 115"/>
              <p:cNvSpPr/>
              <p:nvPr/>
            </p:nvSpPr>
            <p:spPr>
              <a:xfrm>
                <a:off x="742680" y="2113560"/>
                <a:ext cx="448560" cy="152640"/>
              </a:xfrm>
              <a:custGeom>
                <a:avLst/>
                <a:gdLst>
                  <a:gd name="textAreaLeft" fmla="*/ 0 w 448560"/>
                  <a:gd name="textAreaRight" fmla="*/ 448920 w 44856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902" h="521">
                    <a:moveTo>
                      <a:pt x="32" y="40"/>
                    </a:moveTo>
                    <a:lnTo>
                      <a:pt x="0" y="102"/>
                    </a:lnTo>
                    <a:lnTo>
                      <a:pt x="143" y="121"/>
                    </a:lnTo>
                    <a:lnTo>
                      <a:pt x="767" y="446"/>
                    </a:lnTo>
                    <a:lnTo>
                      <a:pt x="812" y="521"/>
                    </a:lnTo>
                    <a:lnTo>
                      <a:pt x="902" y="435"/>
                    </a:lnTo>
                    <a:lnTo>
                      <a:pt x="93" y="0"/>
                    </a:lnTo>
                    <a:lnTo>
                      <a:pt x="32" y="40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Freeform 116"/>
              <p:cNvSpPr/>
              <p:nvPr/>
            </p:nvSpPr>
            <p:spPr>
              <a:xfrm>
                <a:off x="1206360" y="2199240"/>
                <a:ext cx="1122480" cy="265320"/>
              </a:xfrm>
              <a:custGeom>
                <a:avLst/>
                <a:gdLst>
                  <a:gd name="textAreaLeft" fmla="*/ 0 w 1122480"/>
                  <a:gd name="textAreaRight" fmla="*/ 1122840 w 1122480"/>
                  <a:gd name="textAreaTop" fmla="*/ 0 h 265320"/>
                  <a:gd name="textAreaBottom" fmla="*/ 265680 h 265320"/>
                </a:gdLst>
                <a:ahLst/>
                <a:rect l="textAreaLeft" t="textAreaTop" r="textAreaRight" b="textAreaBottom"/>
                <a:pathLst>
                  <a:path w="2259" h="900">
                    <a:moveTo>
                      <a:pt x="11" y="515"/>
                    </a:moveTo>
                    <a:lnTo>
                      <a:pt x="90" y="655"/>
                    </a:lnTo>
                    <a:lnTo>
                      <a:pt x="226" y="709"/>
                    </a:lnTo>
                    <a:lnTo>
                      <a:pt x="231" y="510"/>
                    </a:lnTo>
                    <a:lnTo>
                      <a:pt x="321" y="284"/>
                    </a:lnTo>
                    <a:lnTo>
                      <a:pt x="201" y="345"/>
                    </a:lnTo>
                    <a:lnTo>
                      <a:pt x="155" y="379"/>
                    </a:lnTo>
                    <a:lnTo>
                      <a:pt x="141" y="315"/>
                    </a:lnTo>
                    <a:lnTo>
                      <a:pt x="146" y="184"/>
                    </a:lnTo>
                    <a:lnTo>
                      <a:pt x="511" y="0"/>
                    </a:lnTo>
                    <a:lnTo>
                      <a:pt x="504" y="233"/>
                    </a:lnTo>
                    <a:lnTo>
                      <a:pt x="437" y="283"/>
                    </a:lnTo>
                    <a:lnTo>
                      <a:pt x="390" y="540"/>
                    </a:lnTo>
                    <a:lnTo>
                      <a:pt x="481" y="730"/>
                    </a:lnTo>
                    <a:lnTo>
                      <a:pt x="1885" y="305"/>
                    </a:lnTo>
                    <a:lnTo>
                      <a:pt x="1780" y="100"/>
                    </a:lnTo>
                    <a:lnTo>
                      <a:pt x="2259" y="299"/>
                    </a:lnTo>
                    <a:lnTo>
                      <a:pt x="2179" y="355"/>
                    </a:lnTo>
                    <a:lnTo>
                      <a:pt x="496" y="900"/>
                    </a:lnTo>
                    <a:lnTo>
                      <a:pt x="349" y="864"/>
                    </a:lnTo>
                    <a:lnTo>
                      <a:pt x="46" y="740"/>
                    </a:lnTo>
                    <a:lnTo>
                      <a:pt x="0" y="600"/>
                    </a:lnTo>
                    <a:lnTo>
                      <a:pt x="11" y="515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Freeform 117"/>
              <p:cNvSpPr/>
              <p:nvPr/>
            </p:nvSpPr>
            <p:spPr>
              <a:xfrm>
                <a:off x="1628280" y="2085120"/>
                <a:ext cx="666360" cy="172440"/>
              </a:xfrm>
              <a:custGeom>
                <a:avLst/>
                <a:gdLst>
                  <a:gd name="textAreaLeft" fmla="*/ 0 w 666360"/>
                  <a:gd name="textAreaRight" fmla="*/ 666720 w 666360"/>
                  <a:gd name="textAreaTop" fmla="*/ 0 h 172440"/>
                  <a:gd name="textAreaBottom" fmla="*/ 172800 h 172440"/>
                </a:gdLst>
                <a:ahLst/>
                <a:rect l="textAreaLeft" t="textAreaTop" r="textAreaRight" b="textAreaBottom"/>
                <a:pathLst>
                  <a:path w="1340" h="586">
                    <a:moveTo>
                      <a:pt x="100" y="210"/>
                    </a:moveTo>
                    <a:lnTo>
                      <a:pt x="634" y="0"/>
                    </a:lnTo>
                    <a:lnTo>
                      <a:pt x="1340" y="170"/>
                    </a:lnTo>
                    <a:lnTo>
                      <a:pt x="1208" y="256"/>
                    </a:lnTo>
                    <a:lnTo>
                      <a:pt x="14" y="586"/>
                    </a:lnTo>
                    <a:lnTo>
                      <a:pt x="0" y="436"/>
                    </a:lnTo>
                    <a:lnTo>
                      <a:pt x="100" y="210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Freeform 118"/>
              <p:cNvSpPr/>
              <p:nvPr/>
            </p:nvSpPr>
            <p:spPr>
              <a:xfrm>
                <a:off x="589320" y="2035440"/>
                <a:ext cx="688680" cy="226440"/>
              </a:xfrm>
              <a:custGeom>
                <a:avLst/>
                <a:gdLst>
                  <a:gd name="textAreaLeft" fmla="*/ 0 w 688680"/>
                  <a:gd name="textAreaRight" fmla="*/ 689040 w 688680"/>
                  <a:gd name="textAreaTop" fmla="*/ 0 h 226440"/>
                  <a:gd name="textAreaBottom" fmla="*/ 226800 h 226440"/>
                </a:gdLst>
                <a:ahLst/>
                <a:rect l="textAreaLeft" t="textAreaTop" r="textAreaRight" b="textAreaBottom"/>
                <a:pathLst>
                  <a:path w="1387" h="770">
                    <a:moveTo>
                      <a:pt x="0" y="45"/>
                    </a:moveTo>
                    <a:lnTo>
                      <a:pt x="24" y="0"/>
                    </a:lnTo>
                    <a:lnTo>
                      <a:pt x="1387" y="659"/>
                    </a:lnTo>
                    <a:lnTo>
                      <a:pt x="1356" y="770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ae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Freeform 119"/>
              <p:cNvSpPr/>
              <p:nvPr/>
            </p:nvSpPr>
            <p:spPr>
              <a:xfrm>
                <a:off x="705240" y="1888560"/>
                <a:ext cx="1388160" cy="279720"/>
              </a:xfrm>
              <a:custGeom>
                <a:avLst/>
                <a:gdLst>
                  <a:gd name="textAreaLeft" fmla="*/ 0 w 1388160"/>
                  <a:gd name="textAreaRight" fmla="*/ 1388520 w 1388160"/>
                  <a:gd name="textAreaTop" fmla="*/ 0 h 279720"/>
                  <a:gd name="textAreaBottom" fmla="*/ 280080 h 279720"/>
                </a:gdLst>
                <a:ahLst/>
                <a:rect l="textAreaLeft" t="textAreaTop" r="textAreaRight" b="textAreaBottom"/>
                <a:pathLst>
                  <a:path w="2793" h="946">
                    <a:moveTo>
                      <a:pt x="9" y="280"/>
                    </a:moveTo>
                    <a:lnTo>
                      <a:pt x="1219" y="716"/>
                    </a:lnTo>
                    <a:lnTo>
                      <a:pt x="1169" y="946"/>
                    </a:lnTo>
                    <a:lnTo>
                      <a:pt x="1433" y="856"/>
                    </a:lnTo>
                    <a:lnTo>
                      <a:pt x="1584" y="795"/>
                    </a:lnTo>
                    <a:lnTo>
                      <a:pt x="1544" y="590"/>
                    </a:lnTo>
                    <a:lnTo>
                      <a:pt x="1928" y="441"/>
                    </a:lnTo>
                    <a:lnTo>
                      <a:pt x="2003" y="586"/>
                    </a:lnTo>
                    <a:lnTo>
                      <a:pt x="1959" y="835"/>
                    </a:lnTo>
                    <a:lnTo>
                      <a:pt x="2498" y="574"/>
                    </a:lnTo>
                    <a:lnTo>
                      <a:pt x="2648" y="586"/>
                    </a:lnTo>
                    <a:lnTo>
                      <a:pt x="2793" y="310"/>
                    </a:lnTo>
                    <a:lnTo>
                      <a:pt x="2778" y="106"/>
                    </a:lnTo>
                    <a:lnTo>
                      <a:pt x="2588" y="0"/>
                    </a:lnTo>
                    <a:lnTo>
                      <a:pt x="1194" y="435"/>
                    </a:lnTo>
                    <a:lnTo>
                      <a:pt x="1089" y="490"/>
                    </a:lnTo>
                    <a:lnTo>
                      <a:pt x="0" y="115"/>
                    </a:lnTo>
                    <a:lnTo>
                      <a:pt x="9" y="280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Freeform 120"/>
              <p:cNvSpPr/>
              <p:nvPr/>
            </p:nvSpPr>
            <p:spPr>
              <a:xfrm>
                <a:off x="617400" y="1779840"/>
                <a:ext cx="1483200" cy="373320"/>
              </a:xfrm>
              <a:custGeom>
                <a:avLst/>
                <a:gdLst>
                  <a:gd name="textAreaLeft" fmla="*/ 0 w 1483200"/>
                  <a:gd name="textAreaRight" fmla="*/ 1483560 w 1483200"/>
                  <a:gd name="textAreaTop" fmla="*/ 0 h 373320"/>
                  <a:gd name="textAreaBottom" fmla="*/ 373680 h 373320"/>
                </a:gdLst>
                <a:ahLst/>
                <a:rect l="textAreaLeft" t="textAreaTop" r="textAreaRight" b="textAreaBottom"/>
                <a:pathLst>
                  <a:path w="2984" h="1267">
                    <a:moveTo>
                      <a:pt x="0" y="316"/>
                    </a:moveTo>
                    <a:lnTo>
                      <a:pt x="1490" y="0"/>
                    </a:lnTo>
                    <a:lnTo>
                      <a:pt x="2284" y="170"/>
                    </a:lnTo>
                    <a:lnTo>
                      <a:pt x="991" y="481"/>
                    </a:lnTo>
                    <a:lnTo>
                      <a:pt x="1291" y="586"/>
                    </a:lnTo>
                    <a:lnTo>
                      <a:pt x="2598" y="266"/>
                    </a:lnTo>
                    <a:lnTo>
                      <a:pt x="2731" y="213"/>
                    </a:lnTo>
                    <a:lnTo>
                      <a:pt x="2904" y="306"/>
                    </a:lnTo>
                    <a:lnTo>
                      <a:pt x="2979" y="421"/>
                    </a:lnTo>
                    <a:lnTo>
                      <a:pt x="2984" y="741"/>
                    </a:lnTo>
                    <a:lnTo>
                      <a:pt x="2824" y="957"/>
                    </a:lnTo>
                    <a:lnTo>
                      <a:pt x="2674" y="967"/>
                    </a:lnTo>
                    <a:lnTo>
                      <a:pt x="2649" y="1032"/>
                    </a:lnTo>
                    <a:lnTo>
                      <a:pt x="2514" y="1097"/>
                    </a:lnTo>
                    <a:lnTo>
                      <a:pt x="2349" y="1147"/>
                    </a:lnTo>
                    <a:lnTo>
                      <a:pt x="2119" y="1267"/>
                    </a:lnTo>
                    <a:lnTo>
                      <a:pt x="2135" y="1206"/>
                    </a:lnTo>
                    <a:lnTo>
                      <a:pt x="2209" y="1026"/>
                    </a:lnTo>
                    <a:lnTo>
                      <a:pt x="2759" y="806"/>
                    </a:lnTo>
                    <a:lnTo>
                      <a:pt x="2864" y="676"/>
                    </a:lnTo>
                    <a:lnTo>
                      <a:pt x="2835" y="446"/>
                    </a:lnTo>
                    <a:lnTo>
                      <a:pt x="2759" y="403"/>
                    </a:lnTo>
                    <a:lnTo>
                      <a:pt x="1375" y="787"/>
                    </a:lnTo>
                    <a:lnTo>
                      <a:pt x="0" y="316"/>
                    </a:lnTo>
                    <a:close/>
                  </a:path>
                </a:pathLst>
              </a:custGeom>
              <a:solidFill>
                <a:srgbClr val="ae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Freeform 121"/>
              <p:cNvSpPr/>
              <p:nvPr/>
            </p:nvSpPr>
            <p:spPr>
              <a:xfrm>
                <a:off x="1395360" y="2193120"/>
                <a:ext cx="761760" cy="230040"/>
              </a:xfrm>
              <a:custGeom>
                <a:avLst/>
                <a:gdLst>
                  <a:gd name="textAreaLeft" fmla="*/ 0 w 761760"/>
                  <a:gd name="textAreaRight" fmla="*/ 762120 w 761760"/>
                  <a:gd name="textAreaTop" fmla="*/ 0 h 230040"/>
                  <a:gd name="textAreaBottom" fmla="*/ 230400 h 230040"/>
                </a:gdLst>
                <a:ahLst/>
                <a:rect l="textAreaLeft" t="textAreaTop" r="textAreaRight" b="textAreaBottom"/>
                <a:pathLst>
                  <a:path w="1534" h="781">
                    <a:moveTo>
                      <a:pt x="509" y="236"/>
                    </a:moveTo>
                    <a:lnTo>
                      <a:pt x="1419" y="0"/>
                    </a:lnTo>
                    <a:lnTo>
                      <a:pt x="1408" y="137"/>
                    </a:lnTo>
                    <a:lnTo>
                      <a:pt x="1423" y="251"/>
                    </a:lnTo>
                    <a:lnTo>
                      <a:pt x="1534" y="331"/>
                    </a:lnTo>
                    <a:lnTo>
                      <a:pt x="115" y="781"/>
                    </a:lnTo>
                    <a:lnTo>
                      <a:pt x="40" y="741"/>
                    </a:lnTo>
                    <a:lnTo>
                      <a:pt x="0" y="611"/>
                    </a:lnTo>
                    <a:lnTo>
                      <a:pt x="55" y="345"/>
                    </a:lnTo>
                    <a:lnTo>
                      <a:pt x="109" y="316"/>
                    </a:lnTo>
                    <a:lnTo>
                      <a:pt x="245" y="586"/>
                    </a:lnTo>
                    <a:lnTo>
                      <a:pt x="316" y="648"/>
                    </a:lnTo>
                    <a:lnTo>
                      <a:pt x="325" y="410"/>
                    </a:lnTo>
                    <a:lnTo>
                      <a:pt x="409" y="331"/>
                    </a:lnTo>
                    <a:lnTo>
                      <a:pt x="577" y="387"/>
                    </a:lnTo>
                    <a:lnTo>
                      <a:pt x="509" y="236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Freeform 122"/>
              <p:cNvSpPr/>
              <p:nvPr/>
            </p:nvSpPr>
            <p:spPr>
              <a:xfrm>
                <a:off x="1266120" y="2117880"/>
                <a:ext cx="232200" cy="77760"/>
              </a:xfrm>
              <a:custGeom>
                <a:avLst/>
                <a:gdLst>
                  <a:gd name="textAreaLeft" fmla="*/ 0 w 232200"/>
                  <a:gd name="textAreaRight" fmla="*/ 232560 w 232200"/>
                  <a:gd name="textAreaTop" fmla="*/ 0 h 77760"/>
                  <a:gd name="textAreaBottom" fmla="*/ 78120 h 77760"/>
                </a:gdLst>
                <a:ahLst/>
                <a:rect l="textAreaLeft" t="textAreaTop" r="textAreaRight" b="textAreaBottom"/>
                <a:pathLst>
                  <a:path w="468" h="264">
                    <a:moveTo>
                      <a:pt x="0" y="229"/>
                    </a:moveTo>
                    <a:lnTo>
                      <a:pt x="310" y="199"/>
                    </a:lnTo>
                    <a:lnTo>
                      <a:pt x="294" y="264"/>
                    </a:lnTo>
                    <a:lnTo>
                      <a:pt x="434" y="210"/>
                    </a:lnTo>
                    <a:lnTo>
                      <a:pt x="468" y="0"/>
                    </a:lnTo>
                    <a:lnTo>
                      <a:pt x="0" y="229"/>
                    </a:lnTo>
                    <a:close/>
                  </a:path>
                </a:pathLst>
              </a:custGeom>
              <a:solidFill>
                <a:srgbClr val="ae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Freeform 123"/>
              <p:cNvSpPr/>
              <p:nvPr/>
            </p:nvSpPr>
            <p:spPr>
              <a:xfrm>
                <a:off x="540000" y="1773000"/>
                <a:ext cx="1524960" cy="319320"/>
              </a:xfrm>
              <a:custGeom>
                <a:avLst/>
                <a:gdLst>
                  <a:gd name="textAreaLeft" fmla="*/ 0 w 1524960"/>
                  <a:gd name="textAreaRight" fmla="*/ 1525320 w 1524960"/>
                  <a:gd name="textAreaTop" fmla="*/ 0 h 319320"/>
                  <a:gd name="textAreaBottom" fmla="*/ 319680 h 319320"/>
                </a:gdLst>
                <a:ahLst/>
                <a:rect l="textAreaLeft" t="textAreaTop" r="textAreaRight" b="textAreaBottom"/>
                <a:pathLst>
                  <a:path w="3069" h="1082">
                    <a:moveTo>
                      <a:pt x="25" y="281"/>
                    </a:moveTo>
                    <a:lnTo>
                      <a:pt x="0" y="384"/>
                    </a:lnTo>
                    <a:lnTo>
                      <a:pt x="272" y="520"/>
                    </a:lnTo>
                    <a:lnTo>
                      <a:pt x="306" y="647"/>
                    </a:lnTo>
                    <a:lnTo>
                      <a:pt x="313" y="757"/>
                    </a:lnTo>
                    <a:lnTo>
                      <a:pt x="279" y="886"/>
                    </a:lnTo>
                    <a:lnTo>
                      <a:pt x="365" y="775"/>
                    </a:lnTo>
                    <a:lnTo>
                      <a:pt x="407" y="647"/>
                    </a:lnTo>
                    <a:lnTo>
                      <a:pt x="399" y="554"/>
                    </a:lnTo>
                    <a:lnTo>
                      <a:pt x="1436" y="920"/>
                    </a:lnTo>
                    <a:lnTo>
                      <a:pt x="2915" y="425"/>
                    </a:lnTo>
                    <a:lnTo>
                      <a:pt x="2958" y="554"/>
                    </a:lnTo>
                    <a:lnTo>
                      <a:pt x="2958" y="698"/>
                    </a:lnTo>
                    <a:lnTo>
                      <a:pt x="2856" y="825"/>
                    </a:lnTo>
                    <a:lnTo>
                      <a:pt x="2371" y="1026"/>
                    </a:lnTo>
                    <a:lnTo>
                      <a:pt x="2345" y="1082"/>
                    </a:lnTo>
                    <a:lnTo>
                      <a:pt x="2908" y="868"/>
                    </a:lnTo>
                    <a:lnTo>
                      <a:pt x="3019" y="791"/>
                    </a:lnTo>
                    <a:lnTo>
                      <a:pt x="3069" y="664"/>
                    </a:lnTo>
                    <a:lnTo>
                      <a:pt x="3053" y="493"/>
                    </a:lnTo>
                    <a:lnTo>
                      <a:pt x="2976" y="400"/>
                    </a:lnTo>
                    <a:lnTo>
                      <a:pt x="2899" y="366"/>
                    </a:lnTo>
                    <a:lnTo>
                      <a:pt x="2695" y="459"/>
                    </a:lnTo>
                    <a:lnTo>
                      <a:pt x="1470" y="748"/>
                    </a:lnTo>
                    <a:lnTo>
                      <a:pt x="282" y="381"/>
                    </a:lnTo>
                    <a:lnTo>
                      <a:pt x="1402" y="809"/>
                    </a:lnTo>
                    <a:lnTo>
                      <a:pt x="1402" y="852"/>
                    </a:lnTo>
                    <a:lnTo>
                      <a:pt x="50" y="357"/>
                    </a:lnTo>
                    <a:lnTo>
                      <a:pt x="93" y="315"/>
                    </a:lnTo>
                    <a:lnTo>
                      <a:pt x="1597" y="43"/>
                    </a:lnTo>
                    <a:lnTo>
                      <a:pt x="2334" y="179"/>
                    </a:lnTo>
                    <a:lnTo>
                      <a:pt x="1556" y="0"/>
                    </a:lnTo>
                    <a:lnTo>
                      <a:pt x="25" y="28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Freeform 124"/>
              <p:cNvSpPr/>
              <p:nvPr/>
            </p:nvSpPr>
            <p:spPr>
              <a:xfrm>
                <a:off x="544320" y="1986120"/>
                <a:ext cx="942120" cy="282960"/>
              </a:xfrm>
              <a:custGeom>
                <a:avLst/>
                <a:gdLst>
                  <a:gd name="textAreaLeft" fmla="*/ 0 w 942120"/>
                  <a:gd name="textAreaRight" fmla="*/ 942480 w 942120"/>
                  <a:gd name="textAreaTop" fmla="*/ 0 h 282960"/>
                  <a:gd name="textAreaBottom" fmla="*/ 283320 h 282960"/>
                </a:gdLst>
                <a:ahLst/>
                <a:rect l="textAreaLeft" t="textAreaTop" r="textAreaRight" b="textAreaBottom"/>
                <a:pathLst>
                  <a:path w="1894" h="960">
                    <a:moveTo>
                      <a:pt x="321" y="0"/>
                    </a:moveTo>
                    <a:lnTo>
                      <a:pt x="28" y="105"/>
                    </a:lnTo>
                    <a:lnTo>
                      <a:pt x="0" y="211"/>
                    </a:lnTo>
                    <a:lnTo>
                      <a:pt x="1441" y="960"/>
                    </a:lnTo>
                    <a:lnTo>
                      <a:pt x="1840" y="760"/>
                    </a:lnTo>
                    <a:lnTo>
                      <a:pt x="1894" y="626"/>
                    </a:lnTo>
                    <a:lnTo>
                      <a:pt x="1451" y="799"/>
                    </a:lnTo>
                    <a:lnTo>
                      <a:pt x="449" y="338"/>
                    </a:lnTo>
                    <a:lnTo>
                      <a:pt x="1401" y="831"/>
                    </a:lnTo>
                    <a:lnTo>
                      <a:pt x="1423" y="904"/>
                    </a:lnTo>
                    <a:lnTo>
                      <a:pt x="89" y="211"/>
                    </a:lnTo>
                    <a:lnTo>
                      <a:pt x="77" y="149"/>
                    </a:lnTo>
                    <a:lnTo>
                      <a:pt x="316" y="55"/>
                    </a:lnTo>
                    <a:lnTo>
                      <a:pt x="3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Freeform 125"/>
              <p:cNvSpPr/>
              <p:nvPr/>
            </p:nvSpPr>
            <p:spPr>
              <a:xfrm>
                <a:off x="711360" y="2018880"/>
                <a:ext cx="786960" cy="172440"/>
              </a:xfrm>
              <a:custGeom>
                <a:avLst/>
                <a:gdLst>
                  <a:gd name="textAreaLeft" fmla="*/ 0 w 786960"/>
                  <a:gd name="textAreaRight" fmla="*/ 787320 w 786960"/>
                  <a:gd name="textAreaTop" fmla="*/ 0 h 172440"/>
                  <a:gd name="textAreaBottom" fmla="*/ 172800 h 172440"/>
                </a:gdLst>
                <a:ahLst/>
                <a:rect l="textAreaLeft" t="textAreaTop" r="textAreaRight" b="textAreaBottom"/>
                <a:pathLst>
                  <a:path w="1584" h="584">
                    <a:moveTo>
                      <a:pt x="0" y="83"/>
                    </a:moveTo>
                    <a:lnTo>
                      <a:pt x="1082" y="584"/>
                    </a:lnTo>
                    <a:lnTo>
                      <a:pt x="1584" y="378"/>
                    </a:lnTo>
                    <a:lnTo>
                      <a:pt x="1584" y="335"/>
                    </a:lnTo>
                    <a:lnTo>
                      <a:pt x="1200" y="483"/>
                    </a:lnTo>
                    <a:lnTo>
                      <a:pt x="1255" y="360"/>
                    </a:lnTo>
                    <a:lnTo>
                      <a:pt x="1448" y="282"/>
                    </a:lnTo>
                    <a:lnTo>
                      <a:pt x="1239" y="306"/>
                    </a:lnTo>
                    <a:lnTo>
                      <a:pt x="1227" y="171"/>
                    </a:lnTo>
                    <a:lnTo>
                      <a:pt x="1156" y="22"/>
                    </a:lnTo>
                    <a:lnTo>
                      <a:pt x="1106" y="56"/>
                    </a:lnTo>
                    <a:lnTo>
                      <a:pt x="1167" y="171"/>
                    </a:lnTo>
                    <a:lnTo>
                      <a:pt x="662" y="0"/>
                    </a:lnTo>
                    <a:lnTo>
                      <a:pt x="1167" y="249"/>
                    </a:lnTo>
                    <a:lnTo>
                      <a:pt x="1181" y="325"/>
                    </a:lnTo>
                    <a:lnTo>
                      <a:pt x="1141" y="418"/>
                    </a:lnTo>
                    <a:lnTo>
                      <a:pt x="358" y="111"/>
                    </a:lnTo>
                    <a:lnTo>
                      <a:pt x="1137" y="466"/>
                    </a:lnTo>
                    <a:lnTo>
                      <a:pt x="1082" y="540"/>
                    </a:lnTo>
                    <a:lnTo>
                      <a:pt x="0" y="8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Freeform 126"/>
              <p:cNvSpPr/>
              <p:nvPr/>
            </p:nvSpPr>
            <p:spPr>
              <a:xfrm>
                <a:off x="1367280" y="1953360"/>
                <a:ext cx="551520" cy="430920"/>
              </a:xfrm>
              <a:custGeom>
                <a:avLst/>
                <a:gdLst>
                  <a:gd name="textAreaLeft" fmla="*/ 0 w 551520"/>
                  <a:gd name="textAreaRight" fmla="*/ 551880 w 551520"/>
                  <a:gd name="textAreaTop" fmla="*/ 0 h 430920"/>
                  <a:gd name="textAreaBottom" fmla="*/ 431280 h 430920"/>
                </a:gdLst>
                <a:ahLst/>
                <a:rect l="textAreaLeft" t="textAreaTop" r="textAreaRight" b="textAreaBottom"/>
                <a:pathLst>
                  <a:path w="1109" h="1460">
                    <a:moveTo>
                      <a:pt x="0" y="378"/>
                    </a:moveTo>
                    <a:lnTo>
                      <a:pt x="411" y="256"/>
                    </a:lnTo>
                    <a:lnTo>
                      <a:pt x="1109" y="0"/>
                    </a:lnTo>
                    <a:lnTo>
                      <a:pt x="626" y="245"/>
                    </a:lnTo>
                    <a:lnTo>
                      <a:pt x="709" y="346"/>
                    </a:lnTo>
                    <a:lnTo>
                      <a:pt x="709" y="467"/>
                    </a:lnTo>
                    <a:lnTo>
                      <a:pt x="643" y="672"/>
                    </a:lnTo>
                    <a:lnTo>
                      <a:pt x="554" y="895"/>
                    </a:lnTo>
                    <a:lnTo>
                      <a:pt x="550" y="1016"/>
                    </a:lnTo>
                    <a:lnTo>
                      <a:pt x="632" y="1199"/>
                    </a:lnTo>
                    <a:lnTo>
                      <a:pt x="510" y="1055"/>
                    </a:lnTo>
                    <a:lnTo>
                      <a:pt x="494" y="899"/>
                    </a:lnTo>
                    <a:lnTo>
                      <a:pt x="588" y="639"/>
                    </a:lnTo>
                    <a:lnTo>
                      <a:pt x="660" y="450"/>
                    </a:lnTo>
                    <a:lnTo>
                      <a:pt x="550" y="251"/>
                    </a:lnTo>
                    <a:lnTo>
                      <a:pt x="244" y="368"/>
                    </a:lnTo>
                    <a:lnTo>
                      <a:pt x="272" y="428"/>
                    </a:lnTo>
                    <a:lnTo>
                      <a:pt x="294" y="583"/>
                    </a:lnTo>
                    <a:lnTo>
                      <a:pt x="266" y="760"/>
                    </a:lnTo>
                    <a:lnTo>
                      <a:pt x="222" y="933"/>
                    </a:lnTo>
                    <a:lnTo>
                      <a:pt x="206" y="1110"/>
                    </a:lnTo>
                    <a:lnTo>
                      <a:pt x="256" y="1283"/>
                    </a:lnTo>
                    <a:lnTo>
                      <a:pt x="371" y="1460"/>
                    </a:lnTo>
                    <a:lnTo>
                      <a:pt x="250" y="1387"/>
                    </a:lnTo>
                    <a:lnTo>
                      <a:pt x="167" y="1199"/>
                    </a:lnTo>
                    <a:lnTo>
                      <a:pt x="150" y="989"/>
                    </a:lnTo>
                    <a:lnTo>
                      <a:pt x="212" y="716"/>
                    </a:lnTo>
                    <a:lnTo>
                      <a:pt x="234" y="551"/>
                    </a:lnTo>
                    <a:lnTo>
                      <a:pt x="150" y="390"/>
                    </a:lnTo>
                    <a:lnTo>
                      <a:pt x="0" y="37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Freeform 127"/>
              <p:cNvSpPr/>
              <p:nvPr/>
            </p:nvSpPr>
            <p:spPr>
              <a:xfrm>
                <a:off x="1539000" y="2282760"/>
                <a:ext cx="142920" cy="10152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288" h="344">
                    <a:moveTo>
                      <a:pt x="27" y="344"/>
                    </a:moveTo>
                    <a:lnTo>
                      <a:pt x="0" y="161"/>
                    </a:lnTo>
                    <a:lnTo>
                      <a:pt x="73" y="0"/>
                    </a:lnTo>
                    <a:lnTo>
                      <a:pt x="139" y="6"/>
                    </a:lnTo>
                    <a:lnTo>
                      <a:pt x="288" y="83"/>
                    </a:lnTo>
                    <a:lnTo>
                      <a:pt x="111" y="66"/>
                    </a:lnTo>
                    <a:lnTo>
                      <a:pt x="49" y="167"/>
                    </a:lnTo>
                    <a:lnTo>
                      <a:pt x="27" y="3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Freeform 128"/>
              <p:cNvSpPr/>
              <p:nvPr/>
            </p:nvSpPr>
            <p:spPr>
              <a:xfrm>
                <a:off x="1659600" y="1847160"/>
                <a:ext cx="451440" cy="319320"/>
              </a:xfrm>
              <a:custGeom>
                <a:avLst/>
                <a:gdLst>
                  <a:gd name="textAreaLeft" fmla="*/ 0 w 451440"/>
                  <a:gd name="textAreaRight" fmla="*/ 451800 w 451440"/>
                  <a:gd name="textAreaTop" fmla="*/ 0 h 319320"/>
                  <a:gd name="textAreaBottom" fmla="*/ 319680 h 319320"/>
                </a:gdLst>
                <a:ahLst/>
                <a:rect l="textAreaLeft" t="textAreaTop" r="textAreaRight" b="textAreaBottom"/>
                <a:pathLst>
                  <a:path w="908" h="1082">
                    <a:moveTo>
                      <a:pt x="66" y="949"/>
                    </a:moveTo>
                    <a:lnTo>
                      <a:pt x="576" y="716"/>
                    </a:lnTo>
                    <a:lnTo>
                      <a:pt x="695" y="703"/>
                    </a:lnTo>
                    <a:lnTo>
                      <a:pt x="781" y="621"/>
                    </a:lnTo>
                    <a:lnTo>
                      <a:pt x="859" y="428"/>
                    </a:lnTo>
                    <a:lnTo>
                      <a:pt x="825" y="161"/>
                    </a:lnTo>
                    <a:lnTo>
                      <a:pt x="700" y="52"/>
                    </a:lnTo>
                    <a:lnTo>
                      <a:pt x="478" y="124"/>
                    </a:lnTo>
                    <a:lnTo>
                      <a:pt x="661" y="0"/>
                    </a:lnTo>
                    <a:lnTo>
                      <a:pt x="781" y="40"/>
                    </a:lnTo>
                    <a:lnTo>
                      <a:pt x="881" y="151"/>
                    </a:lnTo>
                    <a:lnTo>
                      <a:pt x="908" y="372"/>
                    </a:lnTo>
                    <a:lnTo>
                      <a:pt x="897" y="527"/>
                    </a:lnTo>
                    <a:lnTo>
                      <a:pt x="794" y="723"/>
                    </a:lnTo>
                    <a:lnTo>
                      <a:pt x="726" y="765"/>
                    </a:lnTo>
                    <a:lnTo>
                      <a:pt x="604" y="760"/>
                    </a:lnTo>
                    <a:lnTo>
                      <a:pt x="0" y="1082"/>
                    </a:lnTo>
                    <a:lnTo>
                      <a:pt x="66" y="94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Freeform 129"/>
              <p:cNvSpPr/>
              <p:nvPr/>
            </p:nvSpPr>
            <p:spPr>
              <a:xfrm>
                <a:off x="721800" y="2107440"/>
                <a:ext cx="1617480" cy="371520"/>
              </a:xfrm>
              <a:custGeom>
                <a:avLst/>
                <a:gdLst>
                  <a:gd name="textAreaLeft" fmla="*/ 0 w 1617480"/>
                  <a:gd name="textAreaRight" fmla="*/ 1617840 w 161748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3257" h="1259">
                    <a:moveTo>
                      <a:pt x="44" y="0"/>
                    </a:moveTo>
                    <a:lnTo>
                      <a:pt x="0" y="99"/>
                    </a:lnTo>
                    <a:lnTo>
                      <a:pt x="5" y="321"/>
                    </a:lnTo>
                    <a:lnTo>
                      <a:pt x="66" y="448"/>
                    </a:lnTo>
                    <a:lnTo>
                      <a:pt x="166" y="482"/>
                    </a:lnTo>
                    <a:lnTo>
                      <a:pt x="338" y="625"/>
                    </a:lnTo>
                    <a:lnTo>
                      <a:pt x="758" y="915"/>
                    </a:lnTo>
                    <a:lnTo>
                      <a:pt x="853" y="931"/>
                    </a:lnTo>
                    <a:lnTo>
                      <a:pt x="974" y="997"/>
                    </a:lnTo>
                    <a:lnTo>
                      <a:pt x="1014" y="1076"/>
                    </a:lnTo>
                    <a:lnTo>
                      <a:pt x="1334" y="1242"/>
                    </a:lnTo>
                    <a:lnTo>
                      <a:pt x="1468" y="1259"/>
                    </a:lnTo>
                    <a:lnTo>
                      <a:pt x="3257" y="698"/>
                    </a:lnTo>
                    <a:lnTo>
                      <a:pt x="3241" y="577"/>
                    </a:lnTo>
                    <a:lnTo>
                      <a:pt x="2764" y="426"/>
                    </a:lnTo>
                    <a:lnTo>
                      <a:pt x="3207" y="621"/>
                    </a:lnTo>
                    <a:lnTo>
                      <a:pt x="1446" y="1174"/>
                    </a:lnTo>
                    <a:lnTo>
                      <a:pt x="1334" y="1076"/>
                    </a:lnTo>
                    <a:lnTo>
                      <a:pt x="1279" y="931"/>
                    </a:lnTo>
                    <a:lnTo>
                      <a:pt x="1324" y="648"/>
                    </a:lnTo>
                    <a:lnTo>
                      <a:pt x="1245" y="786"/>
                    </a:lnTo>
                    <a:lnTo>
                      <a:pt x="1229" y="931"/>
                    </a:lnTo>
                    <a:lnTo>
                      <a:pt x="1279" y="1114"/>
                    </a:lnTo>
                    <a:lnTo>
                      <a:pt x="1324" y="1174"/>
                    </a:lnTo>
                    <a:lnTo>
                      <a:pt x="1064" y="1048"/>
                    </a:lnTo>
                    <a:lnTo>
                      <a:pt x="1014" y="925"/>
                    </a:lnTo>
                    <a:lnTo>
                      <a:pt x="1002" y="742"/>
                    </a:lnTo>
                    <a:lnTo>
                      <a:pt x="1036" y="615"/>
                    </a:lnTo>
                    <a:lnTo>
                      <a:pt x="974" y="710"/>
                    </a:lnTo>
                    <a:lnTo>
                      <a:pt x="952" y="842"/>
                    </a:lnTo>
                    <a:lnTo>
                      <a:pt x="941" y="921"/>
                    </a:lnTo>
                    <a:lnTo>
                      <a:pt x="847" y="859"/>
                    </a:lnTo>
                    <a:lnTo>
                      <a:pt x="831" y="698"/>
                    </a:lnTo>
                    <a:lnTo>
                      <a:pt x="881" y="510"/>
                    </a:lnTo>
                    <a:lnTo>
                      <a:pt x="820" y="593"/>
                    </a:lnTo>
                    <a:lnTo>
                      <a:pt x="776" y="720"/>
                    </a:lnTo>
                    <a:lnTo>
                      <a:pt x="776" y="853"/>
                    </a:lnTo>
                    <a:lnTo>
                      <a:pt x="183" y="442"/>
                    </a:lnTo>
                    <a:lnTo>
                      <a:pt x="177" y="321"/>
                    </a:lnTo>
                    <a:lnTo>
                      <a:pt x="183" y="221"/>
                    </a:lnTo>
                    <a:lnTo>
                      <a:pt x="132" y="287"/>
                    </a:lnTo>
                    <a:lnTo>
                      <a:pt x="104" y="394"/>
                    </a:lnTo>
                    <a:lnTo>
                      <a:pt x="44" y="282"/>
                    </a:lnTo>
                    <a:lnTo>
                      <a:pt x="44" y="121"/>
                    </a:lnTo>
                    <a:lnTo>
                      <a:pt x="149" y="54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Freeform 130"/>
              <p:cNvSpPr/>
              <p:nvPr/>
            </p:nvSpPr>
            <p:spPr>
              <a:xfrm>
                <a:off x="1383840" y="2267640"/>
                <a:ext cx="149040" cy="134280"/>
              </a:xfrm>
              <a:custGeom>
                <a:avLst/>
                <a:gdLst>
                  <a:gd name="textAreaLeft" fmla="*/ 0 w 149040"/>
                  <a:gd name="textAreaRight" fmla="*/ 149400 w 149040"/>
                  <a:gd name="textAreaTop" fmla="*/ 0 h 134280"/>
                  <a:gd name="textAreaBottom" fmla="*/ 134640 h 134280"/>
                </a:gdLst>
                <a:ahLst/>
                <a:rect l="textAreaLeft" t="textAreaTop" r="textAreaRight" b="textAreaBottom"/>
                <a:pathLst>
                  <a:path w="300" h="454">
                    <a:moveTo>
                      <a:pt x="145" y="0"/>
                    </a:moveTo>
                    <a:lnTo>
                      <a:pt x="78" y="50"/>
                    </a:lnTo>
                    <a:lnTo>
                      <a:pt x="46" y="138"/>
                    </a:lnTo>
                    <a:lnTo>
                      <a:pt x="0" y="350"/>
                    </a:lnTo>
                    <a:lnTo>
                      <a:pt x="46" y="454"/>
                    </a:lnTo>
                    <a:lnTo>
                      <a:pt x="300" y="372"/>
                    </a:lnTo>
                    <a:lnTo>
                      <a:pt x="239" y="310"/>
                    </a:lnTo>
                    <a:lnTo>
                      <a:pt x="78" y="355"/>
                    </a:lnTo>
                    <a:lnTo>
                      <a:pt x="84" y="183"/>
                    </a:lnTo>
                    <a:lnTo>
                      <a:pt x="156" y="122"/>
                    </a:lnTo>
                    <a:lnTo>
                      <a:pt x="14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Freeform 131"/>
              <p:cNvSpPr/>
              <p:nvPr/>
            </p:nvSpPr>
            <p:spPr>
              <a:xfrm>
                <a:off x="1550880" y="2323440"/>
                <a:ext cx="232560" cy="47520"/>
              </a:xfrm>
              <a:custGeom>
                <a:avLst/>
                <a:gdLst>
                  <a:gd name="textAreaLeft" fmla="*/ 0 w 232560"/>
                  <a:gd name="textAreaRight" fmla="*/ 232920 w 2325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470" h="161">
                    <a:moveTo>
                      <a:pt x="10" y="99"/>
                    </a:moveTo>
                    <a:lnTo>
                      <a:pt x="470" y="0"/>
                    </a:lnTo>
                    <a:lnTo>
                      <a:pt x="0" y="161"/>
                    </a:lnTo>
                    <a:lnTo>
                      <a:pt x="10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Freeform 132"/>
              <p:cNvSpPr/>
              <p:nvPr/>
            </p:nvSpPr>
            <p:spPr>
              <a:xfrm>
                <a:off x="618840" y="2158560"/>
                <a:ext cx="1515960" cy="437040"/>
              </a:xfrm>
              <a:custGeom>
                <a:avLst/>
                <a:gdLst>
                  <a:gd name="textAreaLeft" fmla="*/ 0 w 1515960"/>
                  <a:gd name="textAreaRight" fmla="*/ 1516320 w 1515960"/>
                  <a:gd name="textAreaTop" fmla="*/ 0 h 437040"/>
                  <a:gd name="textAreaBottom" fmla="*/ 437400 h 437040"/>
                </a:gdLst>
                <a:ahLst/>
                <a:rect l="textAreaLeft" t="textAreaTop" r="textAreaRight" b="textAreaBottom"/>
                <a:pathLst>
                  <a:path w="3052" h="1482">
                    <a:moveTo>
                      <a:pt x="243" y="0"/>
                    </a:moveTo>
                    <a:lnTo>
                      <a:pt x="0" y="37"/>
                    </a:lnTo>
                    <a:lnTo>
                      <a:pt x="7" y="126"/>
                    </a:lnTo>
                    <a:lnTo>
                      <a:pt x="770" y="1337"/>
                    </a:lnTo>
                    <a:lnTo>
                      <a:pt x="2809" y="1107"/>
                    </a:lnTo>
                    <a:lnTo>
                      <a:pt x="2903" y="1151"/>
                    </a:lnTo>
                    <a:lnTo>
                      <a:pt x="2957" y="1237"/>
                    </a:lnTo>
                    <a:lnTo>
                      <a:pt x="2892" y="1419"/>
                    </a:lnTo>
                    <a:lnTo>
                      <a:pt x="2554" y="1482"/>
                    </a:lnTo>
                    <a:lnTo>
                      <a:pt x="2906" y="1482"/>
                    </a:lnTo>
                    <a:lnTo>
                      <a:pt x="3052" y="1259"/>
                    </a:lnTo>
                    <a:lnTo>
                      <a:pt x="3044" y="1078"/>
                    </a:lnTo>
                    <a:lnTo>
                      <a:pt x="2980" y="994"/>
                    </a:lnTo>
                    <a:lnTo>
                      <a:pt x="2626" y="1041"/>
                    </a:lnTo>
                    <a:lnTo>
                      <a:pt x="2561" y="1069"/>
                    </a:lnTo>
                    <a:lnTo>
                      <a:pt x="2484" y="1041"/>
                    </a:lnTo>
                    <a:lnTo>
                      <a:pt x="881" y="1230"/>
                    </a:lnTo>
                    <a:lnTo>
                      <a:pt x="384" y="532"/>
                    </a:lnTo>
                    <a:lnTo>
                      <a:pt x="827" y="1236"/>
                    </a:lnTo>
                    <a:lnTo>
                      <a:pt x="787" y="1295"/>
                    </a:lnTo>
                    <a:lnTo>
                      <a:pt x="31" y="70"/>
                    </a:lnTo>
                    <a:lnTo>
                      <a:pt x="224" y="37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Freeform 133"/>
              <p:cNvSpPr/>
              <p:nvPr/>
            </p:nvSpPr>
            <p:spPr>
              <a:xfrm>
                <a:off x="657360" y="2256120"/>
                <a:ext cx="272520" cy="377640"/>
              </a:xfrm>
              <a:custGeom>
                <a:avLst/>
                <a:gdLst>
                  <a:gd name="textAreaLeft" fmla="*/ 0 w 272520"/>
                  <a:gd name="textAreaRight" fmla="*/ 272880 w 2725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547" h="1281">
                    <a:moveTo>
                      <a:pt x="71" y="0"/>
                    </a:moveTo>
                    <a:lnTo>
                      <a:pt x="82" y="95"/>
                    </a:lnTo>
                    <a:lnTo>
                      <a:pt x="66" y="175"/>
                    </a:lnTo>
                    <a:lnTo>
                      <a:pt x="38" y="228"/>
                    </a:lnTo>
                    <a:lnTo>
                      <a:pt x="0" y="256"/>
                    </a:lnTo>
                    <a:lnTo>
                      <a:pt x="143" y="527"/>
                    </a:lnTo>
                    <a:lnTo>
                      <a:pt x="547" y="1281"/>
                    </a:lnTo>
                    <a:lnTo>
                      <a:pt x="249" y="604"/>
                    </a:lnTo>
                    <a:lnTo>
                      <a:pt x="66" y="256"/>
                    </a:lnTo>
                    <a:lnTo>
                      <a:pt x="243" y="465"/>
                    </a:lnTo>
                    <a:lnTo>
                      <a:pt x="104" y="189"/>
                    </a:lnTo>
                    <a:lnTo>
                      <a:pt x="143" y="89"/>
                    </a:lnTo>
                    <a:lnTo>
                      <a:pt x="7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Freeform 134"/>
              <p:cNvSpPr/>
              <p:nvPr/>
            </p:nvSpPr>
            <p:spPr>
              <a:xfrm>
                <a:off x="575640" y="2289600"/>
                <a:ext cx="1627560" cy="432360"/>
              </a:xfrm>
              <a:custGeom>
                <a:avLst/>
                <a:gdLst>
                  <a:gd name="textAreaLeft" fmla="*/ 0 w 1627560"/>
                  <a:gd name="textAreaRight" fmla="*/ 1627920 w 1627560"/>
                  <a:gd name="textAreaTop" fmla="*/ 0 h 432360"/>
                  <a:gd name="textAreaBottom" fmla="*/ 432720 h 432360"/>
                </a:gdLst>
                <a:ahLst/>
                <a:rect l="textAreaLeft" t="textAreaTop" r="textAreaRight" b="textAreaBottom"/>
                <a:pathLst>
                  <a:path w="3277" h="1467">
                    <a:moveTo>
                      <a:pt x="256" y="0"/>
                    </a:moveTo>
                    <a:lnTo>
                      <a:pt x="120" y="62"/>
                    </a:lnTo>
                    <a:lnTo>
                      <a:pt x="12" y="85"/>
                    </a:lnTo>
                    <a:lnTo>
                      <a:pt x="0" y="157"/>
                    </a:lnTo>
                    <a:lnTo>
                      <a:pt x="445" y="993"/>
                    </a:lnTo>
                    <a:lnTo>
                      <a:pt x="635" y="1467"/>
                    </a:lnTo>
                    <a:lnTo>
                      <a:pt x="2530" y="1233"/>
                    </a:lnTo>
                    <a:lnTo>
                      <a:pt x="2601" y="1210"/>
                    </a:lnTo>
                    <a:lnTo>
                      <a:pt x="2702" y="1244"/>
                    </a:lnTo>
                    <a:lnTo>
                      <a:pt x="3045" y="1198"/>
                    </a:lnTo>
                    <a:lnTo>
                      <a:pt x="3199" y="1056"/>
                    </a:lnTo>
                    <a:lnTo>
                      <a:pt x="3277" y="706"/>
                    </a:lnTo>
                    <a:lnTo>
                      <a:pt x="3223" y="456"/>
                    </a:lnTo>
                    <a:lnTo>
                      <a:pt x="2982" y="245"/>
                    </a:lnTo>
                    <a:lnTo>
                      <a:pt x="2511" y="363"/>
                    </a:lnTo>
                    <a:lnTo>
                      <a:pt x="2933" y="371"/>
                    </a:lnTo>
                    <a:lnTo>
                      <a:pt x="3115" y="510"/>
                    </a:lnTo>
                    <a:lnTo>
                      <a:pt x="3196" y="631"/>
                    </a:lnTo>
                    <a:lnTo>
                      <a:pt x="3202" y="811"/>
                    </a:lnTo>
                    <a:lnTo>
                      <a:pt x="3134" y="1027"/>
                    </a:lnTo>
                    <a:lnTo>
                      <a:pt x="3047" y="1124"/>
                    </a:lnTo>
                    <a:lnTo>
                      <a:pt x="2769" y="1161"/>
                    </a:lnTo>
                    <a:lnTo>
                      <a:pt x="2645" y="1121"/>
                    </a:lnTo>
                    <a:lnTo>
                      <a:pt x="2477" y="1205"/>
                    </a:lnTo>
                    <a:lnTo>
                      <a:pt x="688" y="1360"/>
                    </a:lnTo>
                    <a:lnTo>
                      <a:pt x="53" y="107"/>
                    </a:lnTo>
                    <a:lnTo>
                      <a:pt x="270" y="41"/>
                    </a:lnTo>
                    <a:lnTo>
                      <a:pt x="2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Freeform 135"/>
              <p:cNvSpPr/>
              <p:nvPr/>
            </p:nvSpPr>
            <p:spPr>
              <a:xfrm>
                <a:off x="939600" y="2501280"/>
                <a:ext cx="822600" cy="144000"/>
              </a:xfrm>
              <a:custGeom>
                <a:avLst/>
                <a:gdLst>
                  <a:gd name="textAreaLeft" fmla="*/ 0 w 822600"/>
                  <a:gd name="textAreaRight" fmla="*/ 822960 w 822600"/>
                  <a:gd name="textAreaTop" fmla="*/ 0 h 144000"/>
                  <a:gd name="textAreaBottom" fmla="*/ 144360 h 144000"/>
                </a:gdLst>
                <a:ahLst/>
                <a:rect l="textAreaLeft" t="textAreaTop" r="textAreaRight" b="textAreaBottom"/>
                <a:pathLst>
                  <a:path w="1656" h="489">
                    <a:moveTo>
                      <a:pt x="0" y="489"/>
                    </a:moveTo>
                    <a:lnTo>
                      <a:pt x="133" y="366"/>
                    </a:lnTo>
                    <a:lnTo>
                      <a:pt x="193" y="256"/>
                    </a:lnTo>
                    <a:lnTo>
                      <a:pt x="177" y="123"/>
                    </a:lnTo>
                    <a:lnTo>
                      <a:pt x="1202" y="0"/>
                    </a:lnTo>
                    <a:lnTo>
                      <a:pt x="288" y="157"/>
                    </a:lnTo>
                    <a:lnTo>
                      <a:pt x="248" y="267"/>
                    </a:lnTo>
                    <a:lnTo>
                      <a:pt x="1030" y="223"/>
                    </a:lnTo>
                    <a:lnTo>
                      <a:pt x="232" y="340"/>
                    </a:lnTo>
                    <a:lnTo>
                      <a:pt x="187" y="384"/>
                    </a:lnTo>
                    <a:lnTo>
                      <a:pt x="143" y="411"/>
                    </a:lnTo>
                    <a:lnTo>
                      <a:pt x="1656" y="328"/>
                    </a:lnTo>
                    <a:lnTo>
                      <a:pt x="0" y="48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Freeform 136"/>
              <p:cNvSpPr/>
              <p:nvPr/>
            </p:nvSpPr>
            <p:spPr>
              <a:xfrm>
                <a:off x="940680" y="2363040"/>
                <a:ext cx="377280" cy="98280"/>
              </a:xfrm>
              <a:custGeom>
                <a:avLst/>
                <a:gdLst>
                  <a:gd name="textAreaLeft" fmla="*/ 0 w 377280"/>
                  <a:gd name="textAreaRight" fmla="*/ 377640 w 377280"/>
                  <a:gd name="textAreaTop" fmla="*/ 0 h 98280"/>
                  <a:gd name="textAreaBottom" fmla="*/ 98640 h 98280"/>
                </a:gdLst>
                <a:ahLst/>
                <a:rect l="textAreaLeft" t="textAreaTop" r="textAreaRight" b="textAreaBottom"/>
                <a:pathLst>
                  <a:path w="759" h="332">
                    <a:moveTo>
                      <a:pt x="292" y="0"/>
                    </a:moveTo>
                    <a:lnTo>
                      <a:pt x="0" y="15"/>
                    </a:lnTo>
                    <a:lnTo>
                      <a:pt x="221" y="332"/>
                    </a:lnTo>
                    <a:lnTo>
                      <a:pt x="759" y="291"/>
                    </a:lnTo>
                    <a:lnTo>
                      <a:pt x="700" y="251"/>
                    </a:lnTo>
                    <a:lnTo>
                      <a:pt x="261" y="266"/>
                    </a:lnTo>
                    <a:lnTo>
                      <a:pt x="145" y="71"/>
                    </a:lnTo>
                    <a:lnTo>
                      <a:pt x="360" y="19"/>
                    </a:lnTo>
                    <a:lnTo>
                      <a:pt x="29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Freeform 137"/>
              <p:cNvSpPr/>
              <p:nvPr/>
            </p:nvSpPr>
            <p:spPr>
              <a:xfrm>
                <a:off x="1586520" y="2422440"/>
                <a:ext cx="326160" cy="24480"/>
              </a:xfrm>
              <a:custGeom>
                <a:avLst/>
                <a:gdLst>
                  <a:gd name="textAreaLeft" fmla="*/ 0 w 326160"/>
                  <a:gd name="textAreaRight" fmla="*/ 326520 w 326160"/>
                  <a:gd name="textAreaTop" fmla="*/ 0 h 24480"/>
                  <a:gd name="textAreaBottom" fmla="*/ 24840 h 24480"/>
                </a:gdLst>
                <a:ahLst/>
                <a:rect l="textAreaLeft" t="textAreaTop" r="textAreaRight" b="textAreaBottom"/>
                <a:pathLst>
                  <a:path w="657" h="84">
                    <a:moveTo>
                      <a:pt x="0" y="84"/>
                    </a:moveTo>
                    <a:lnTo>
                      <a:pt x="113" y="71"/>
                    </a:lnTo>
                    <a:lnTo>
                      <a:pt x="337" y="42"/>
                    </a:lnTo>
                    <a:lnTo>
                      <a:pt x="558" y="13"/>
                    </a:lnTo>
                    <a:lnTo>
                      <a:pt x="657" y="0"/>
                    </a:lnTo>
                    <a:lnTo>
                      <a:pt x="164" y="17"/>
                    </a:lnTo>
                    <a:lnTo>
                      <a:pt x="0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Freeform 138"/>
              <p:cNvSpPr/>
              <p:nvPr/>
            </p:nvSpPr>
            <p:spPr>
              <a:xfrm>
                <a:off x="1021320" y="1828440"/>
                <a:ext cx="906120" cy="132480"/>
              </a:xfrm>
              <a:custGeom>
                <a:avLst/>
                <a:gdLst>
                  <a:gd name="textAreaLeft" fmla="*/ 0 w 906120"/>
                  <a:gd name="textAreaRight" fmla="*/ 906480 w 906120"/>
                  <a:gd name="textAreaTop" fmla="*/ 0 h 132480"/>
                  <a:gd name="textAreaBottom" fmla="*/ 132840 h 132480"/>
                </a:gdLst>
                <a:ahLst/>
                <a:rect l="textAreaLeft" t="textAreaTop" r="textAreaRight" b="textAreaBottom"/>
                <a:pathLst>
                  <a:path w="1825" h="451">
                    <a:moveTo>
                      <a:pt x="1825" y="97"/>
                    </a:moveTo>
                    <a:lnTo>
                      <a:pt x="1527" y="47"/>
                    </a:lnTo>
                    <a:lnTo>
                      <a:pt x="1472" y="4"/>
                    </a:lnTo>
                    <a:lnTo>
                      <a:pt x="1391" y="0"/>
                    </a:lnTo>
                    <a:lnTo>
                      <a:pt x="0" y="308"/>
                    </a:lnTo>
                    <a:lnTo>
                      <a:pt x="451" y="451"/>
                    </a:lnTo>
                    <a:lnTo>
                      <a:pt x="1628" y="153"/>
                    </a:lnTo>
                    <a:lnTo>
                      <a:pt x="433" y="385"/>
                    </a:lnTo>
                    <a:lnTo>
                      <a:pt x="310" y="305"/>
                    </a:lnTo>
                    <a:lnTo>
                      <a:pt x="1400" y="42"/>
                    </a:lnTo>
                    <a:lnTo>
                      <a:pt x="1476" y="63"/>
                    </a:lnTo>
                    <a:lnTo>
                      <a:pt x="1825" y="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Freeform 139"/>
              <p:cNvSpPr/>
              <p:nvPr/>
            </p:nvSpPr>
            <p:spPr>
              <a:xfrm>
                <a:off x="1692360" y="2102040"/>
                <a:ext cx="469440" cy="113040"/>
              </a:xfrm>
              <a:custGeom>
                <a:avLst/>
                <a:gdLst>
                  <a:gd name="textAreaLeft" fmla="*/ 0 w 469440"/>
                  <a:gd name="textAreaRight" fmla="*/ 469800 w 469440"/>
                  <a:gd name="textAreaTop" fmla="*/ 0 h 113040"/>
                  <a:gd name="textAreaBottom" fmla="*/ 113400 h 113040"/>
                </a:gdLst>
                <a:ahLst/>
                <a:rect l="textAreaLeft" t="textAreaTop" r="textAreaRight" b="textAreaBottom"/>
                <a:pathLst>
                  <a:path w="945" h="382">
                    <a:moveTo>
                      <a:pt x="0" y="382"/>
                    </a:moveTo>
                    <a:lnTo>
                      <a:pt x="272" y="118"/>
                    </a:lnTo>
                    <a:lnTo>
                      <a:pt x="663" y="0"/>
                    </a:lnTo>
                    <a:lnTo>
                      <a:pt x="945" y="118"/>
                    </a:lnTo>
                    <a:lnTo>
                      <a:pt x="0" y="382"/>
                    </a:lnTo>
                    <a:close/>
                  </a:path>
                </a:pathLst>
              </a:custGeom>
              <a:solidFill>
                <a:srgbClr val="f7a8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Freeform 140"/>
              <p:cNvSpPr/>
              <p:nvPr/>
            </p:nvSpPr>
            <p:spPr>
              <a:xfrm>
                <a:off x="1462680" y="2076120"/>
                <a:ext cx="835920" cy="345960"/>
              </a:xfrm>
              <a:custGeom>
                <a:avLst/>
                <a:gdLst>
                  <a:gd name="textAreaLeft" fmla="*/ 0 w 835920"/>
                  <a:gd name="textAreaRight" fmla="*/ 836280 w 835920"/>
                  <a:gd name="textAreaTop" fmla="*/ 0 h 345960"/>
                  <a:gd name="textAreaBottom" fmla="*/ 346320 h 345960"/>
                </a:gdLst>
                <a:ahLst/>
                <a:rect l="textAreaLeft" t="textAreaTop" r="textAreaRight" b="textAreaBottom"/>
                <a:pathLst>
                  <a:path w="1682" h="1174">
                    <a:moveTo>
                      <a:pt x="939" y="0"/>
                    </a:moveTo>
                    <a:lnTo>
                      <a:pt x="1648" y="189"/>
                    </a:lnTo>
                    <a:lnTo>
                      <a:pt x="1682" y="300"/>
                    </a:lnTo>
                    <a:lnTo>
                      <a:pt x="1338" y="417"/>
                    </a:lnTo>
                    <a:lnTo>
                      <a:pt x="1293" y="505"/>
                    </a:lnTo>
                    <a:lnTo>
                      <a:pt x="1316" y="605"/>
                    </a:lnTo>
                    <a:lnTo>
                      <a:pt x="1366" y="678"/>
                    </a:lnTo>
                    <a:lnTo>
                      <a:pt x="1465" y="732"/>
                    </a:lnTo>
                    <a:lnTo>
                      <a:pt x="0" y="1174"/>
                    </a:lnTo>
                    <a:lnTo>
                      <a:pt x="1348" y="716"/>
                    </a:lnTo>
                    <a:lnTo>
                      <a:pt x="1259" y="662"/>
                    </a:lnTo>
                    <a:lnTo>
                      <a:pt x="828" y="755"/>
                    </a:lnTo>
                    <a:lnTo>
                      <a:pt x="1237" y="600"/>
                    </a:lnTo>
                    <a:lnTo>
                      <a:pt x="1243" y="473"/>
                    </a:lnTo>
                    <a:lnTo>
                      <a:pt x="368" y="666"/>
                    </a:lnTo>
                    <a:lnTo>
                      <a:pt x="346" y="573"/>
                    </a:lnTo>
                    <a:lnTo>
                      <a:pt x="1642" y="226"/>
                    </a:lnTo>
                    <a:lnTo>
                      <a:pt x="982" y="68"/>
                    </a:lnTo>
                    <a:lnTo>
                      <a:pt x="474" y="235"/>
                    </a:lnTo>
                    <a:lnTo>
                      <a:pt x="93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Freeform 141"/>
              <p:cNvSpPr/>
              <p:nvPr/>
            </p:nvSpPr>
            <p:spPr>
              <a:xfrm>
                <a:off x="1866960" y="2385000"/>
                <a:ext cx="147240" cy="41400"/>
              </a:xfrm>
              <a:custGeom>
                <a:avLst/>
                <a:gdLst>
                  <a:gd name="textAreaLeft" fmla="*/ 0 w 147240"/>
                  <a:gd name="textAreaRight" fmla="*/ 147600 w 147240"/>
                  <a:gd name="textAreaTop" fmla="*/ 0 h 41400"/>
                  <a:gd name="textAreaBottom" fmla="*/ 41760 h 41400"/>
                </a:gdLst>
                <a:ahLst/>
                <a:rect l="textAreaLeft" t="textAreaTop" r="textAreaRight" b="textAreaBottom"/>
                <a:pathLst>
                  <a:path w="297" h="141">
                    <a:moveTo>
                      <a:pt x="197" y="0"/>
                    </a:moveTo>
                    <a:lnTo>
                      <a:pt x="297" y="121"/>
                    </a:lnTo>
                    <a:lnTo>
                      <a:pt x="0" y="141"/>
                    </a:lnTo>
                    <a:lnTo>
                      <a:pt x="169" y="88"/>
                    </a:lnTo>
                    <a:lnTo>
                      <a:pt x="129" y="13"/>
                    </a:lnTo>
                    <a:lnTo>
                      <a:pt x="19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3" name="Group 142"/>
            <p:cNvGrpSpPr/>
            <p:nvPr/>
          </p:nvGrpSpPr>
          <p:grpSpPr>
            <a:xfrm>
              <a:off x="468360" y="1197000"/>
              <a:ext cx="1799280" cy="948960"/>
              <a:chOff x="468360" y="1197000"/>
              <a:chExt cx="1799280" cy="948960"/>
            </a:xfrm>
          </p:grpSpPr>
          <p:sp>
            <p:nvSpPr>
              <p:cNvPr id="484" name="Freeform 143"/>
              <p:cNvSpPr/>
              <p:nvPr/>
            </p:nvSpPr>
            <p:spPr>
              <a:xfrm>
                <a:off x="590400" y="1304640"/>
                <a:ext cx="1275840" cy="808560"/>
              </a:xfrm>
              <a:custGeom>
                <a:avLst/>
                <a:gdLst>
                  <a:gd name="textAreaLeft" fmla="*/ 0 w 1275840"/>
                  <a:gd name="textAreaRight" fmla="*/ 1276200 w 1275840"/>
                  <a:gd name="textAreaTop" fmla="*/ 0 h 808560"/>
                  <a:gd name="textAreaBottom" fmla="*/ 808920 h 808560"/>
                </a:gdLst>
                <a:ahLst/>
                <a:rect l="textAreaLeft" t="textAreaTop" r="textAreaRight" b="textAreaBottom"/>
                <a:pathLst>
                  <a:path w="2566" h="2741">
                    <a:moveTo>
                      <a:pt x="92" y="0"/>
                    </a:moveTo>
                    <a:lnTo>
                      <a:pt x="94" y="307"/>
                    </a:lnTo>
                    <a:lnTo>
                      <a:pt x="10" y="530"/>
                    </a:lnTo>
                    <a:lnTo>
                      <a:pt x="364" y="818"/>
                    </a:lnTo>
                    <a:lnTo>
                      <a:pt x="0" y="1593"/>
                    </a:lnTo>
                    <a:lnTo>
                      <a:pt x="560" y="2741"/>
                    </a:lnTo>
                    <a:lnTo>
                      <a:pt x="1750" y="2587"/>
                    </a:lnTo>
                    <a:lnTo>
                      <a:pt x="2566" y="1882"/>
                    </a:lnTo>
                    <a:lnTo>
                      <a:pt x="1775" y="222"/>
                    </a:lnTo>
                    <a:lnTo>
                      <a:pt x="9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Freeform 144"/>
              <p:cNvSpPr/>
              <p:nvPr/>
            </p:nvSpPr>
            <p:spPr>
              <a:xfrm>
                <a:off x="547200" y="1579320"/>
                <a:ext cx="288720" cy="288360"/>
              </a:xfrm>
              <a:custGeom>
                <a:avLst/>
                <a:gdLst>
                  <a:gd name="textAreaLeft" fmla="*/ 0 w 288720"/>
                  <a:gd name="textAreaRight" fmla="*/ 289080 w 288720"/>
                  <a:gd name="textAreaTop" fmla="*/ 0 h 288360"/>
                  <a:gd name="textAreaBottom" fmla="*/ 288720 h 288360"/>
                </a:gdLst>
                <a:ahLst/>
                <a:rect l="textAreaLeft" t="textAreaTop" r="textAreaRight" b="textAreaBottom"/>
                <a:pathLst>
                  <a:path w="582" h="978">
                    <a:moveTo>
                      <a:pt x="300" y="0"/>
                    </a:moveTo>
                    <a:lnTo>
                      <a:pt x="0" y="48"/>
                    </a:lnTo>
                    <a:lnTo>
                      <a:pt x="37" y="135"/>
                    </a:lnTo>
                    <a:lnTo>
                      <a:pt x="582" y="978"/>
                    </a:lnTo>
                    <a:lnTo>
                      <a:pt x="339" y="126"/>
                    </a:lnTo>
                    <a:lnTo>
                      <a:pt x="300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Freeform 145"/>
              <p:cNvSpPr/>
              <p:nvPr/>
            </p:nvSpPr>
            <p:spPr>
              <a:xfrm>
                <a:off x="509760" y="1720800"/>
                <a:ext cx="718560" cy="405360"/>
              </a:xfrm>
              <a:custGeom>
                <a:avLst/>
                <a:gdLst>
                  <a:gd name="textAreaLeft" fmla="*/ 0 w 718560"/>
                  <a:gd name="textAreaRight" fmla="*/ 718920 w 718560"/>
                  <a:gd name="textAreaTop" fmla="*/ 0 h 405360"/>
                  <a:gd name="textAreaBottom" fmla="*/ 405720 h 405360"/>
                </a:gdLst>
                <a:ahLst/>
                <a:rect l="textAreaLeft" t="textAreaTop" r="textAreaRight" b="textAreaBottom"/>
                <a:pathLst>
                  <a:path w="1445" h="1374">
                    <a:moveTo>
                      <a:pt x="247" y="0"/>
                    </a:moveTo>
                    <a:lnTo>
                      <a:pt x="0" y="93"/>
                    </a:lnTo>
                    <a:lnTo>
                      <a:pt x="656" y="1374"/>
                    </a:lnTo>
                    <a:lnTo>
                      <a:pt x="1445" y="1331"/>
                    </a:lnTo>
                    <a:lnTo>
                      <a:pt x="719" y="1182"/>
                    </a:lnTo>
                    <a:lnTo>
                      <a:pt x="204" y="156"/>
                    </a:lnTo>
                    <a:lnTo>
                      <a:pt x="247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Freeform 146"/>
              <p:cNvSpPr/>
              <p:nvPr/>
            </p:nvSpPr>
            <p:spPr>
              <a:xfrm>
                <a:off x="484920" y="1205640"/>
                <a:ext cx="840600" cy="252000"/>
              </a:xfrm>
              <a:custGeom>
                <a:avLst/>
                <a:gdLst>
                  <a:gd name="textAreaLeft" fmla="*/ 0 w 840600"/>
                  <a:gd name="textAreaRight" fmla="*/ 840960 w 840600"/>
                  <a:gd name="textAreaTop" fmla="*/ 0 h 252000"/>
                  <a:gd name="textAreaBottom" fmla="*/ 252360 h 252000"/>
                </a:gdLst>
                <a:ahLst/>
                <a:rect l="textAreaLeft" t="textAreaTop" r="textAreaRight" b="textAreaBottom"/>
                <a:pathLst>
                  <a:path w="1694" h="855">
                    <a:moveTo>
                      <a:pt x="1463" y="0"/>
                    </a:moveTo>
                    <a:lnTo>
                      <a:pt x="20" y="275"/>
                    </a:lnTo>
                    <a:lnTo>
                      <a:pt x="0" y="335"/>
                    </a:lnTo>
                    <a:lnTo>
                      <a:pt x="1389" y="855"/>
                    </a:lnTo>
                    <a:lnTo>
                      <a:pt x="1694" y="731"/>
                    </a:lnTo>
                    <a:lnTo>
                      <a:pt x="845" y="455"/>
                    </a:lnTo>
                    <a:lnTo>
                      <a:pt x="1509" y="75"/>
                    </a:lnTo>
                    <a:lnTo>
                      <a:pt x="1463" y="0"/>
                    </a:lnTo>
                    <a:close/>
                  </a:path>
                </a:pathLst>
              </a:custGeom>
              <a:solidFill>
                <a:srgbClr val="f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Freeform 147"/>
              <p:cNvSpPr/>
              <p:nvPr/>
            </p:nvSpPr>
            <p:spPr>
              <a:xfrm>
                <a:off x="504000" y="1420560"/>
                <a:ext cx="897120" cy="240480"/>
              </a:xfrm>
              <a:custGeom>
                <a:avLst/>
                <a:gdLst>
                  <a:gd name="textAreaLeft" fmla="*/ 0 w 897120"/>
                  <a:gd name="textAreaRight" fmla="*/ 897480 w 897120"/>
                  <a:gd name="textAreaTop" fmla="*/ 0 h 240480"/>
                  <a:gd name="textAreaBottom" fmla="*/ 240840 h 240480"/>
                </a:gdLst>
                <a:ahLst/>
                <a:rect l="textAreaLeft" t="textAreaTop" r="textAreaRight" b="textAreaBottom"/>
                <a:pathLst>
                  <a:path w="1806" h="816">
                    <a:moveTo>
                      <a:pt x="241" y="0"/>
                    </a:moveTo>
                    <a:lnTo>
                      <a:pt x="0" y="101"/>
                    </a:lnTo>
                    <a:lnTo>
                      <a:pt x="0" y="172"/>
                    </a:lnTo>
                    <a:lnTo>
                      <a:pt x="1349" y="816"/>
                    </a:lnTo>
                    <a:lnTo>
                      <a:pt x="1779" y="687"/>
                    </a:lnTo>
                    <a:lnTo>
                      <a:pt x="1806" y="570"/>
                    </a:lnTo>
                    <a:lnTo>
                      <a:pt x="1574" y="551"/>
                    </a:lnTo>
                    <a:lnTo>
                      <a:pt x="1344" y="636"/>
                    </a:lnTo>
                    <a:lnTo>
                      <a:pt x="207" y="129"/>
                    </a:lnTo>
                    <a:lnTo>
                      <a:pt x="241" y="0"/>
                    </a:lnTo>
                    <a:close/>
                  </a:path>
                </a:pathLst>
              </a:custGeom>
              <a:solidFill>
                <a:srgbClr val="f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Freeform 148"/>
              <p:cNvSpPr/>
              <p:nvPr/>
            </p:nvSpPr>
            <p:spPr>
              <a:xfrm>
                <a:off x="662040" y="1534680"/>
                <a:ext cx="676800" cy="318600"/>
              </a:xfrm>
              <a:custGeom>
                <a:avLst/>
                <a:gdLst>
                  <a:gd name="textAreaLeft" fmla="*/ 0 w 676800"/>
                  <a:gd name="textAreaRight" fmla="*/ 677160 w 676800"/>
                  <a:gd name="textAreaTop" fmla="*/ 0 h 318600"/>
                  <a:gd name="textAreaBottom" fmla="*/ 318960 h 318600"/>
                </a:gdLst>
                <a:ahLst/>
                <a:rect l="textAreaLeft" t="textAreaTop" r="textAreaRight" b="textAreaBottom"/>
                <a:pathLst>
                  <a:path w="1360" h="1080">
                    <a:moveTo>
                      <a:pt x="6" y="59"/>
                    </a:moveTo>
                    <a:lnTo>
                      <a:pt x="0" y="180"/>
                    </a:lnTo>
                    <a:lnTo>
                      <a:pt x="10" y="314"/>
                    </a:lnTo>
                    <a:lnTo>
                      <a:pt x="78" y="384"/>
                    </a:lnTo>
                    <a:lnTo>
                      <a:pt x="226" y="419"/>
                    </a:lnTo>
                    <a:lnTo>
                      <a:pt x="805" y="844"/>
                    </a:lnTo>
                    <a:lnTo>
                      <a:pt x="1060" y="1040"/>
                    </a:lnTo>
                    <a:lnTo>
                      <a:pt x="1244" y="1080"/>
                    </a:lnTo>
                    <a:lnTo>
                      <a:pt x="1219" y="835"/>
                    </a:lnTo>
                    <a:lnTo>
                      <a:pt x="1360" y="465"/>
                    </a:lnTo>
                    <a:lnTo>
                      <a:pt x="1075" y="450"/>
                    </a:lnTo>
                    <a:lnTo>
                      <a:pt x="50" y="0"/>
                    </a:lnTo>
                    <a:lnTo>
                      <a:pt x="6" y="59"/>
                    </a:lnTo>
                    <a:close/>
                  </a:path>
                </a:pathLst>
              </a:custGeom>
              <a:solidFill>
                <a:srgbClr val="f7a8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Freeform 149"/>
              <p:cNvSpPr/>
              <p:nvPr/>
            </p:nvSpPr>
            <p:spPr>
              <a:xfrm>
                <a:off x="1073520" y="1263240"/>
                <a:ext cx="818280" cy="114840"/>
              </a:xfrm>
              <a:custGeom>
                <a:avLst/>
                <a:gdLst>
                  <a:gd name="textAreaLeft" fmla="*/ 0 w 818280"/>
                  <a:gd name="textAreaRight" fmla="*/ 818640 w 818280"/>
                  <a:gd name="textAreaTop" fmla="*/ 0 h 114840"/>
                  <a:gd name="textAreaBottom" fmla="*/ 115200 h 114840"/>
                </a:gdLst>
                <a:ahLst/>
                <a:rect l="textAreaLeft" t="textAreaTop" r="textAreaRight" b="textAreaBottom"/>
                <a:pathLst>
                  <a:path w="1646" h="390">
                    <a:moveTo>
                      <a:pt x="0" y="292"/>
                    </a:moveTo>
                    <a:lnTo>
                      <a:pt x="53" y="273"/>
                    </a:lnTo>
                    <a:lnTo>
                      <a:pt x="191" y="238"/>
                    </a:lnTo>
                    <a:lnTo>
                      <a:pt x="281" y="216"/>
                    </a:lnTo>
                    <a:lnTo>
                      <a:pt x="383" y="190"/>
                    </a:lnTo>
                    <a:lnTo>
                      <a:pt x="490" y="165"/>
                    </a:lnTo>
                    <a:lnTo>
                      <a:pt x="602" y="139"/>
                    </a:lnTo>
                    <a:lnTo>
                      <a:pt x="715" y="112"/>
                    </a:lnTo>
                    <a:lnTo>
                      <a:pt x="822" y="87"/>
                    </a:lnTo>
                    <a:lnTo>
                      <a:pt x="924" y="64"/>
                    </a:lnTo>
                    <a:lnTo>
                      <a:pt x="1014" y="43"/>
                    </a:lnTo>
                    <a:lnTo>
                      <a:pt x="1150" y="12"/>
                    </a:lnTo>
                    <a:lnTo>
                      <a:pt x="1202" y="0"/>
                    </a:lnTo>
                    <a:lnTo>
                      <a:pt x="1646" y="75"/>
                    </a:lnTo>
                    <a:lnTo>
                      <a:pt x="158" y="390"/>
                    </a:lnTo>
                    <a:lnTo>
                      <a:pt x="0" y="292"/>
                    </a:lnTo>
                    <a:close/>
                  </a:path>
                </a:pathLst>
              </a:custGeom>
              <a:solidFill>
                <a:srgbClr val="f0ea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Freeform 150"/>
              <p:cNvSpPr/>
              <p:nvPr/>
            </p:nvSpPr>
            <p:spPr>
              <a:xfrm>
                <a:off x="1062720" y="1680120"/>
                <a:ext cx="128160" cy="122760"/>
              </a:xfrm>
              <a:custGeom>
                <a:avLst/>
                <a:gdLst>
                  <a:gd name="textAreaLeft" fmla="*/ 0 w 128160"/>
                  <a:gd name="textAreaRight" fmla="*/ 128520 w 128160"/>
                  <a:gd name="textAreaTop" fmla="*/ 0 h 122760"/>
                  <a:gd name="textAreaBottom" fmla="*/ 123120 h 122760"/>
                </a:gdLst>
                <a:ahLst/>
                <a:rect l="textAreaLeft" t="textAreaTop" r="textAreaRight" b="textAreaBottom"/>
                <a:pathLst>
                  <a:path w="259" h="417">
                    <a:moveTo>
                      <a:pt x="75" y="0"/>
                    </a:moveTo>
                    <a:lnTo>
                      <a:pt x="259" y="21"/>
                    </a:lnTo>
                    <a:lnTo>
                      <a:pt x="135" y="241"/>
                    </a:lnTo>
                    <a:lnTo>
                      <a:pt x="110" y="417"/>
                    </a:lnTo>
                    <a:lnTo>
                      <a:pt x="0" y="350"/>
                    </a:lnTo>
                    <a:lnTo>
                      <a:pt x="25" y="80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f0ea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Freeform 151"/>
              <p:cNvSpPr/>
              <p:nvPr/>
            </p:nvSpPr>
            <p:spPr>
              <a:xfrm>
                <a:off x="969120" y="1802880"/>
                <a:ext cx="209880" cy="72360"/>
              </a:xfrm>
              <a:custGeom>
                <a:avLst/>
                <a:gdLst>
                  <a:gd name="textAreaLeft" fmla="*/ 0 w 209880"/>
                  <a:gd name="textAreaRight" fmla="*/ 210240 w 209880"/>
                  <a:gd name="textAreaTop" fmla="*/ 0 h 72360"/>
                  <a:gd name="textAreaBottom" fmla="*/ 72720 h 72360"/>
                </a:gdLst>
                <a:ahLst/>
                <a:rect l="textAreaLeft" t="textAreaTop" r="textAreaRight" b="textAreaBottom"/>
                <a:pathLst>
                  <a:path w="423" h="247">
                    <a:moveTo>
                      <a:pt x="0" y="16"/>
                    </a:moveTo>
                    <a:lnTo>
                      <a:pt x="174" y="0"/>
                    </a:lnTo>
                    <a:lnTo>
                      <a:pt x="423" y="201"/>
                    </a:lnTo>
                    <a:lnTo>
                      <a:pt x="44" y="247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f0ea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Freeform 152"/>
              <p:cNvSpPr/>
              <p:nvPr/>
            </p:nvSpPr>
            <p:spPr>
              <a:xfrm>
                <a:off x="911160" y="1882440"/>
                <a:ext cx="1182240" cy="221040"/>
              </a:xfrm>
              <a:custGeom>
                <a:avLst/>
                <a:gdLst>
                  <a:gd name="textAreaLeft" fmla="*/ 0 w 1182240"/>
                  <a:gd name="textAreaRight" fmla="*/ 1182600 w 1182240"/>
                  <a:gd name="textAreaTop" fmla="*/ 0 h 221040"/>
                  <a:gd name="textAreaBottom" fmla="*/ 221400 h 221040"/>
                </a:gdLst>
                <a:ahLst/>
                <a:rect l="textAreaLeft" t="textAreaTop" r="textAreaRight" b="textAreaBottom"/>
                <a:pathLst>
                  <a:path w="2378" h="751">
                    <a:moveTo>
                      <a:pt x="155" y="301"/>
                    </a:moveTo>
                    <a:lnTo>
                      <a:pt x="129" y="450"/>
                    </a:lnTo>
                    <a:lnTo>
                      <a:pt x="0" y="601"/>
                    </a:lnTo>
                    <a:lnTo>
                      <a:pt x="563" y="751"/>
                    </a:lnTo>
                    <a:lnTo>
                      <a:pt x="1684" y="647"/>
                    </a:lnTo>
                    <a:lnTo>
                      <a:pt x="1763" y="616"/>
                    </a:lnTo>
                    <a:lnTo>
                      <a:pt x="1913" y="647"/>
                    </a:lnTo>
                    <a:lnTo>
                      <a:pt x="2042" y="630"/>
                    </a:lnTo>
                    <a:lnTo>
                      <a:pt x="2187" y="607"/>
                    </a:lnTo>
                    <a:lnTo>
                      <a:pt x="2221" y="580"/>
                    </a:lnTo>
                    <a:lnTo>
                      <a:pt x="2276" y="534"/>
                    </a:lnTo>
                    <a:lnTo>
                      <a:pt x="2326" y="490"/>
                    </a:lnTo>
                    <a:lnTo>
                      <a:pt x="2348" y="471"/>
                    </a:lnTo>
                    <a:lnTo>
                      <a:pt x="2378" y="186"/>
                    </a:lnTo>
                    <a:lnTo>
                      <a:pt x="2218" y="0"/>
                    </a:lnTo>
                    <a:lnTo>
                      <a:pt x="1439" y="140"/>
                    </a:lnTo>
                    <a:lnTo>
                      <a:pt x="155" y="301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Freeform 153"/>
              <p:cNvSpPr/>
              <p:nvPr/>
            </p:nvSpPr>
            <p:spPr>
              <a:xfrm>
                <a:off x="588960" y="1599480"/>
                <a:ext cx="1522080" cy="510480"/>
              </a:xfrm>
              <a:custGeom>
                <a:avLst/>
                <a:gdLst>
                  <a:gd name="textAreaLeft" fmla="*/ 0 w 1522080"/>
                  <a:gd name="textAreaRight" fmla="*/ 1522440 w 1522080"/>
                  <a:gd name="textAreaTop" fmla="*/ 0 h 510480"/>
                  <a:gd name="textAreaBottom" fmla="*/ 510840 h 510480"/>
                </a:gdLst>
                <a:ahLst/>
                <a:rect l="textAreaLeft" t="textAreaTop" r="textAreaRight" b="textAreaBottom"/>
                <a:pathLst>
                  <a:path w="3063" h="1730">
                    <a:moveTo>
                      <a:pt x="15" y="29"/>
                    </a:moveTo>
                    <a:lnTo>
                      <a:pt x="134" y="0"/>
                    </a:lnTo>
                    <a:lnTo>
                      <a:pt x="205" y="184"/>
                    </a:lnTo>
                    <a:lnTo>
                      <a:pt x="306" y="212"/>
                    </a:lnTo>
                    <a:lnTo>
                      <a:pt x="880" y="630"/>
                    </a:lnTo>
                    <a:lnTo>
                      <a:pt x="669" y="680"/>
                    </a:lnTo>
                    <a:lnTo>
                      <a:pt x="809" y="936"/>
                    </a:lnTo>
                    <a:lnTo>
                      <a:pt x="1284" y="885"/>
                    </a:lnTo>
                    <a:lnTo>
                      <a:pt x="1594" y="980"/>
                    </a:lnTo>
                    <a:lnTo>
                      <a:pt x="2453" y="705"/>
                    </a:lnTo>
                    <a:lnTo>
                      <a:pt x="2883" y="730"/>
                    </a:lnTo>
                    <a:lnTo>
                      <a:pt x="3063" y="970"/>
                    </a:lnTo>
                    <a:lnTo>
                      <a:pt x="3014" y="1427"/>
                    </a:lnTo>
                    <a:lnTo>
                      <a:pt x="2858" y="1555"/>
                    </a:lnTo>
                    <a:lnTo>
                      <a:pt x="2537" y="1614"/>
                    </a:lnTo>
                    <a:lnTo>
                      <a:pt x="2388" y="1581"/>
                    </a:lnTo>
                    <a:lnTo>
                      <a:pt x="2269" y="1620"/>
                    </a:lnTo>
                    <a:lnTo>
                      <a:pt x="1115" y="1730"/>
                    </a:lnTo>
                    <a:lnTo>
                      <a:pt x="561" y="1594"/>
                    </a:lnTo>
                    <a:lnTo>
                      <a:pt x="964" y="1535"/>
                    </a:lnTo>
                    <a:lnTo>
                      <a:pt x="2554" y="1409"/>
                    </a:lnTo>
                    <a:lnTo>
                      <a:pt x="2808" y="1395"/>
                    </a:lnTo>
                    <a:lnTo>
                      <a:pt x="2908" y="1160"/>
                    </a:lnTo>
                    <a:lnTo>
                      <a:pt x="2892" y="1133"/>
                    </a:lnTo>
                    <a:lnTo>
                      <a:pt x="2855" y="1074"/>
                    </a:lnTo>
                    <a:lnTo>
                      <a:pt x="2834" y="1042"/>
                    </a:lnTo>
                    <a:lnTo>
                      <a:pt x="2815" y="1012"/>
                    </a:lnTo>
                    <a:lnTo>
                      <a:pt x="2788" y="980"/>
                    </a:lnTo>
                    <a:lnTo>
                      <a:pt x="2536" y="1006"/>
                    </a:lnTo>
                    <a:lnTo>
                      <a:pt x="2372" y="1029"/>
                    </a:lnTo>
                    <a:lnTo>
                      <a:pt x="2298" y="1040"/>
                    </a:lnTo>
                    <a:lnTo>
                      <a:pt x="784" y="1215"/>
                    </a:lnTo>
                    <a:lnTo>
                      <a:pt x="703" y="1237"/>
                    </a:lnTo>
                    <a:lnTo>
                      <a:pt x="0" y="119"/>
                    </a:lnTo>
                    <a:lnTo>
                      <a:pt x="459" y="710"/>
                    </a:lnTo>
                    <a:lnTo>
                      <a:pt x="15" y="29"/>
                    </a:lnTo>
                    <a:close/>
                  </a:path>
                </a:pathLst>
              </a:custGeom>
              <a:solidFill>
                <a:srgbClr val="7a7a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Freeform 154"/>
              <p:cNvSpPr/>
              <p:nvPr/>
            </p:nvSpPr>
            <p:spPr>
              <a:xfrm>
                <a:off x="1631160" y="1798560"/>
                <a:ext cx="294840" cy="52920"/>
              </a:xfrm>
              <a:custGeom>
                <a:avLst/>
                <a:gdLst>
                  <a:gd name="textAreaLeft" fmla="*/ 0 w 294840"/>
                  <a:gd name="textAreaRight" fmla="*/ 295200 w 29484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593" h="178">
                    <a:moveTo>
                      <a:pt x="0" y="178"/>
                    </a:moveTo>
                    <a:lnTo>
                      <a:pt x="423" y="161"/>
                    </a:lnTo>
                    <a:lnTo>
                      <a:pt x="593" y="142"/>
                    </a:lnTo>
                    <a:lnTo>
                      <a:pt x="519" y="68"/>
                    </a:lnTo>
                    <a:lnTo>
                      <a:pt x="546" y="0"/>
                    </a:lnTo>
                    <a:lnTo>
                      <a:pt x="380" y="29"/>
                    </a:lnTo>
                    <a:lnTo>
                      <a:pt x="155" y="124"/>
                    </a:lnTo>
                    <a:lnTo>
                      <a:pt x="0" y="178"/>
                    </a:lnTo>
                    <a:close/>
                  </a:path>
                </a:pathLst>
              </a:custGeom>
              <a:solidFill>
                <a:srgbClr val="948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Freeform 155"/>
              <p:cNvSpPr/>
              <p:nvPr/>
            </p:nvSpPr>
            <p:spPr>
              <a:xfrm>
                <a:off x="1045440" y="1662120"/>
                <a:ext cx="131040" cy="140400"/>
              </a:xfrm>
              <a:custGeom>
                <a:avLst/>
                <a:gdLst>
                  <a:gd name="textAreaLeft" fmla="*/ 0 w 131040"/>
                  <a:gd name="textAreaRight" fmla="*/ 131400 w 131040"/>
                  <a:gd name="textAreaTop" fmla="*/ 0 h 140400"/>
                  <a:gd name="textAreaBottom" fmla="*/ 140760 h 140400"/>
                </a:gdLst>
                <a:ahLst/>
                <a:rect l="textAreaLeft" t="textAreaTop" r="textAreaRight" b="textAreaBottom"/>
                <a:pathLst>
                  <a:path w="264" h="477">
                    <a:moveTo>
                      <a:pt x="9" y="420"/>
                    </a:moveTo>
                    <a:lnTo>
                      <a:pt x="0" y="266"/>
                    </a:lnTo>
                    <a:lnTo>
                      <a:pt x="59" y="96"/>
                    </a:lnTo>
                    <a:lnTo>
                      <a:pt x="109" y="0"/>
                    </a:lnTo>
                    <a:lnTo>
                      <a:pt x="264" y="81"/>
                    </a:lnTo>
                    <a:lnTo>
                      <a:pt x="214" y="106"/>
                    </a:lnTo>
                    <a:lnTo>
                      <a:pt x="119" y="131"/>
                    </a:lnTo>
                    <a:lnTo>
                      <a:pt x="73" y="245"/>
                    </a:lnTo>
                    <a:lnTo>
                      <a:pt x="73" y="366"/>
                    </a:lnTo>
                    <a:lnTo>
                      <a:pt x="144" y="477"/>
                    </a:lnTo>
                    <a:lnTo>
                      <a:pt x="9" y="420"/>
                    </a:lnTo>
                    <a:close/>
                  </a:path>
                </a:pathLst>
              </a:custGeom>
              <a:solidFill>
                <a:srgbClr val="b8ad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Freeform 156"/>
              <p:cNvSpPr/>
              <p:nvPr/>
            </p:nvSpPr>
            <p:spPr>
              <a:xfrm>
                <a:off x="1068840" y="1257120"/>
                <a:ext cx="688680" cy="145800"/>
              </a:xfrm>
              <a:custGeom>
                <a:avLst/>
                <a:gdLst>
                  <a:gd name="textAreaLeft" fmla="*/ 0 w 688680"/>
                  <a:gd name="textAreaRight" fmla="*/ 689040 w 688680"/>
                  <a:gd name="textAreaTop" fmla="*/ 0 h 145800"/>
                  <a:gd name="textAreaBottom" fmla="*/ 146160 h 145800"/>
                </a:gdLst>
                <a:ahLst/>
                <a:rect l="textAreaLeft" t="textAreaTop" r="textAreaRight" b="textAreaBottom"/>
                <a:pathLst>
                  <a:path w="1385" h="496">
                    <a:moveTo>
                      <a:pt x="0" y="297"/>
                    </a:moveTo>
                    <a:lnTo>
                      <a:pt x="1110" y="0"/>
                    </a:lnTo>
                    <a:lnTo>
                      <a:pt x="1255" y="31"/>
                    </a:lnTo>
                    <a:lnTo>
                      <a:pt x="269" y="309"/>
                    </a:lnTo>
                    <a:lnTo>
                      <a:pt x="1385" y="121"/>
                    </a:lnTo>
                    <a:lnTo>
                      <a:pt x="291" y="496"/>
                    </a:lnTo>
                    <a:lnTo>
                      <a:pt x="0" y="297"/>
                    </a:lnTo>
                    <a:close/>
                  </a:path>
                </a:pathLst>
              </a:custGeom>
              <a:solidFill>
                <a:srgbClr val="b8ad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Freeform 157"/>
              <p:cNvSpPr/>
              <p:nvPr/>
            </p:nvSpPr>
            <p:spPr>
              <a:xfrm>
                <a:off x="921600" y="1787040"/>
                <a:ext cx="294840" cy="88200"/>
              </a:xfrm>
              <a:custGeom>
                <a:avLst/>
                <a:gdLst>
                  <a:gd name="textAreaLeft" fmla="*/ 0 w 294840"/>
                  <a:gd name="textAreaRight" fmla="*/ 295200 w 294840"/>
                  <a:gd name="textAreaTop" fmla="*/ 0 h 88200"/>
                  <a:gd name="textAreaBottom" fmla="*/ 88200 h 88200"/>
                </a:gdLst>
                <a:ahLst/>
                <a:rect l="textAreaLeft" t="textAreaTop" r="textAreaRight" b="textAreaBottom"/>
                <a:pathLst>
                  <a:path w="595" h="300">
                    <a:moveTo>
                      <a:pt x="0" y="44"/>
                    </a:moveTo>
                    <a:lnTo>
                      <a:pt x="187" y="0"/>
                    </a:lnTo>
                    <a:lnTo>
                      <a:pt x="428" y="131"/>
                    </a:lnTo>
                    <a:lnTo>
                      <a:pt x="595" y="251"/>
                    </a:lnTo>
                    <a:lnTo>
                      <a:pt x="490" y="269"/>
                    </a:lnTo>
                    <a:lnTo>
                      <a:pt x="375" y="193"/>
                    </a:lnTo>
                    <a:lnTo>
                      <a:pt x="291" y="109"/>
                    </a:lnTo>
                    <a:lnTo>
                      <a:pt x="155" y="94"/>
                    </a:lnTo>
                    <a:lnTo>
                      <a:pt x="140" y="300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b8ad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Freeform 158"/>
              <p:cNvSpPr/>
              <p:nvPr/>
            </p:nvSpPr>
            <p:spPr>
              <a:xfrm>
                <a:off x="1382040" y="1458000"/>
                <a:ext cx="225000" cy="356400"/>
              </a:xfrm>
              <a:custGeom>
                <a:avLst/>
                <a:gdLst>
                  <a:gd name="textAreaLeft" fmla="*/ 0 w 225000"/>
                  <a:gd name="textAreaRight" fmla="*/ 225360 w 225000"/>
                  <a:gd name="textAreaTop" fmla="*/ 0 h 356400"/>
                  <a:gd name="textAreaBottom" fmla="*/ 356760 h 356400"/>
                </a:gdLst>
                <a:ahLst/>
                <a:rect l="textAreaLeft" t="textAreaTop" r="textAreaRight" b="textAreaBottom"/>
                <a:pathLst>
                  <a:path w="452" h="1211">
                    <a:moveTo>
                      <a:pt x="71" y="96"/>
                    </a:moveTo>
                    <a:lnTo>
                      <a:pt x="362" y="0"/>
                    </a:lnTo>
                    <a:lnTo>
                      <a:pt x="452" y="110"/>
                    </a:lnTo>
                    <a:lnTo>
                      <a:pt x="322" y="776"/>
                    </a:lnTo>
                    <a:lnTo>
                      <a:pt x="186" y="896"/>
                    </a:lnTo>
                    <a:lnTo>
                      <a:pt x="182" y="1211"/>
                    </a:lnTo>
                    <a:lnTo>
                      <a:pt x="71" y="1086"/>
                    </a:lnTo>
                    <a:lnTo>
                      <a:pt x="49" y="941"/>
                    </a:lnTo>
                    <a:lnTo>
                      <a:pt x="27" y="841"/>
                    </a:lnTo>
                    <a:lnTo>
                      <a:pt x="5" y="794"/>
                    </a:lnTo>
                    <a:lnTo>
                      <a:pt x="0" y="772"/>
                    </a:lnTo>
                    <a:lnTo>
                      <a:pt x="5" y="716"/>
                    </a:lnTo>
                    <a:lnTo>
                      <a:pt x="30" y="549"/>
                    </a:lnTo>
                    <a:lnTo>
                      <a:pt x="61" y="382"/>
                    </a:lnTo>
                    <a:lnTo>
                      <a:pt x="77" y="305"/>
                    </a:lnTo>
                    <a:lnTo>
                      <a:pt x="37" y="121"/>
                    </a:lnTo>
                    <a:lnTo>
                      <a:pt x="71" y="96"/>
                    </a:lnTo>
                    <a:close/>
                  </a:path>
                </a:pathLst>
              </a:custGeom>
              <a:solidFill>
                <a:srgbClr val="ff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Freeform 159"/>
              <p:cNvSpPr/>
              <p:nvPr/>
            </p:nvSpPr>
            <p:spPr>
              <a:xfrm>
                <a:off x="1407240" y="1442880"/>
                <a:ext cx="235440" cy="380160"/>
              </a:xfrm>
              <a:custGeom>
                <a:avLst/>
                <a:gdLst>
                  <a:gd name="textAreaLeft" fmla="*/ 0 w 235440"/>
                  <a:gd name="textAreaRight" fmla="*/ 235800 w 235440"/>
                  <a:gd name="textAreaTop" fmla="*/ 0 h 380160"/>
                  <a:gd name="textAreaBottom" fmla="*/ 380520 h 380160"/>
                </a:gdLst>
                <a:ahLst/>
                <a:rect l="textAreaLeft" t="textAreaTop" r="textAreaRight" b="textAreaBottom"/>
                <a:pathLst>
                  <a:path w="474" h="1290">
                    <a:moveTo>
                      <a:pt x="0" y="109"/>
                    </a:moveTo>
                    <a:lnTo>
                      <a:pt x="369" y="0"/>
                    </a:lnTo>
                    <a:lnTo>
                      <a:pt x="474" y="214"/>
                    </a:lnTo>
                    <a:lnTo>
                      <a:pt x="310" y="689"/>
                    </a:lnTo>
                    <a:lnTo>
                      <a:pt x="434" y="1005"/>
                    </a:lnTo>
                    <a:lnTo>
                      <a:pt x="230" y="959"/>
                    </a:lnTo>
                    <a:lnTo>
                      <a:pt x="140" y="1290"/>
                    </a:lnTo>
                    <a:lnTo>
                      <a:pt x="57" y="1026"/>
                    </a:lnTo>
                    <a:lnTo>
                      <a:pt x="15" y="779"/>
                    </a:lnTo>
                    <a:lnTo>
                      <a:pt x="90" y="509"/>
                    </a:lnTo>
                    <a:lnTo>
                      <a:pt x="34" y="304"/>
                    </a:lnTo>
                    <a:lnTo>
                      <a:pt x="124" y="214"/>
                    </a:lnTo>
                    <a:lnTo>
                      <a:pt x="230" y="244"/>
                    </a:lnTo>
                    <a:lnTo>
                      <a:pt x="190" y="339"/>
                    </a:lnTo>
                    <a:lnTo>
                      <a:pt x="264" y="390"/>
                    </a:lnTo>
                    <a:lnTo>
                      <a:pt x="115" y="689"/>
                    </a:lnTo>
                    <a:lnTo>
                      <a:pt x="190" y="675"/>
                    </a:lnTo>
                    <a:lnTo>
                      <a:pt x="115" y="900"/>
                    </a:lnTo>
                    <a:lnTo>
                      <a:pt x="214" y="785"/>
                    </a:lnTo>
                    <a:lnTo>
                      <a:pt x="260" y="555"/>
                    </a:lnTo>
                    <a:lnTo>
                      <a:pt x="260" y="484"/>
                    </a:lnTo>
                    <a:lnTo>
                      <a:pt x="339" y="314"/>
                    </a:lnTo>
                    <a:lnTo>
                      <a:pt x="285" y="300"/>
                    </a:lnTo>
                    <a:lnTo>
                      <a:pt x="304" y="170"/>
                    </a:lnTo>
                    <a:lnTo>
                      <a:pt x="180" y="149"/>
                    </a:lnTo>
                    <a:lnTo>
                      <a:pt x="199" y="99"/>
                    </a:lnTo>
                    <a:lnTo>
                      <a:pt x="25" y="195"/>
                    </a:lnTo>
                    <a:lnTo>
                      <a:pt x="0" y="109"/>
                    </a:lnTo>
                    <a:close/>
                  </a:path>
                </a:pathLst>
              </a:custGeom>
              <a:solidFill>
                <a:srgbClr val="ff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Freeform 160"/>
              <p:cNvSpPr/>
              <p:nvPr/>
            </p:nvSpPr>
            <p:spPr>
              <a:xfrm>
                <a:off x="679680" y="1590480"/>
                <a:ext cx="394920" cy="201600"/>
              </a:xfrm>
              <a:custGeom>
                <a:avLst/>
                <a:gdLst>
                  <a:gd name="textAreaLeft" fmla="*/ 0 w 394920"/>
                  <a:gd name="textAreaRight" fmla="*/ 395280 w 394920"/>
                  <a:gd name="textAreaTop" fmla="*/ 0 h 201600"/>
                  <a:gd name="textAreaBottom" fmla="*/ 201960 h 201600"/>
                </a:gdLst>
                <a:ahLst/>
                <a:rect l="textAreaLeft" t="textAreaTop" r="textAreaRight" b="textAreaBottom"/>
                <a:pathLst>
                  <a:path w="794" h="686">
                    <a:moveTo>
                      <a:pt x="0" y="136"/>
                    </a:moveTo>
                    <a:lnTo>
                      <a:pt x="60" y="40"/>
                    </a:lnTo>
                    <a:lnTo>
                      <a:pt x="134" y="0"/>
                    </a:lnTo>
                    <a:lnTo>
                      <a:pt x="144" y="96"/>
                    </a:lnTo>
                    <a:lnTo>
                      <a:pt x="349" y="291"/>
                    </a:lnTo>
                    <a:lnTo>
                      <a:pt x="653" y="466"/>
                    </a:lnTo>
                    <a:lnTo>
                      <a:pt x="794" y="341"/>
                    </a:lnTo>
                    <a:lnTo>
                      <a:pt x="714" y="686"/>
                    </a:lnTo>
                    <a:lnTo>
                      <a:pt x="100" y="230"/>
                    </a:lnTo>
                    <a:lnTo>
                      <a:pt x="20" y="215"/>
                    </a:lnTo>
                    <a:lnTo>
                      <a:pt x="0" y="136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Freeform 161"/>
              <p:cNvSpPr/>
              <p:nvPr/>
            </p:nvSpPr>
            <p:spPr>
              <a:xfrm>
                <a:off x="671040" y="1537560"/>
                <a:ext cx="448560" cy="152640"/>
              </a:xfrm>
              <a:custGeom>
                <a:avLst/>
                <a:gdLst>
                  <a:gd name="textAreaLeft" fmla="*/ 0 w 448560"/>
                  <a:gd name="textAreaRight" fmla="*/ 448920 w 44856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902" h="521">
                    <a:moveTo>
                      <a:pt x="32" y="40"/>
                    </a:moveTo>
                    <a:lnTo>
                      <a:pt x="0" y="102"/>
                    </a:lnTo>
                    <a:lnTo>
                      <a:pt x="143" y="121"/>
                    </a:lnTo>
                    <a:lnTo>
                      <a:pt x="767" y="446"/>
                    </a:lnTo>
                    <a:lnTo>
                      <a:pt x="812" y="521"/>
                    </a:lnTo>
                    <a:lnTo>
                      <a:pt x="902" y="435"/>
                    </a:lnTo>
                    <a:lnTo>
                      <a:pt x="93" y="0"/>
                    </a:lnTo>
                    <a:lnTo>
                      <a:pt x="32" y="40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Freeform 162"/>
              <p:cNvSpPr/>
              <p:nvPr/>
            </p:nvSpPr>
            <p:spPr>
              <a:xfrm>
                <a:off x="1134720" y="1623240"/>
                <a:ext cx="1122480" cy="265320"/>
              </a:xfrm>
              <a:custGeom>
                <a:avLst/>
                <a:gdLst>
                  <a:gd name="textAreaLeft" fmla="*/ 0 w 1122480"/>
                  <a:gd name="textAreaRight" fmla="*/ 1122840 w 1122480"/>
                  <a:gd name="textAreaTop" fmla="*/ 0 h 265320"/>
                  <a:gd name="textAreaBottom" fmla="*/ 265680 h 265320"/>
                </a:gdLst>
                <a:ahLst/>
                <a:rect l="textAreaLeft" t="textAreaTop" r="textAreaRight" b="textAreaBottom"/>
                <a:pathLst>
                  <a:path w="2259" h="900">
                    <a:moveTo>
                      <a:pt x="11" y="515"/>
                    </a:moveTo>
                    <a:lnTo>
                      <a:pt x="90" y="655"/>
                    </a:lnTo>
                    <a:lnTo>
                      <a:pt x="226" y="709"/>
                    </a:lnTo>
                    <a:lnTo>
                      <a:pt x="231" y="510"/>
                    </a:lnTo>
                    <a:lnTo>
                      <a:pt x="321" y="284"/>
                    </a:lnTo>
                    <a:lnTo>
                      <a:pt x="201" y="345"/>
                    </a:lnTo>
                    <a:lnTo>
                      <a:pt x="155" y="379"/>
                    </a:lnTo>
                    <a:lnTo>
                      <a:pt x="141" y="315"/>
                    </a:lnTo>
                    <a:lnTo>
                      <a:pt x="146" y="184"/>
                    </a:lnTo>
                    <a:lnTo>
                      <a:pt x="511" y="0"/>
                    </a:lnTo>
                    <a:lnTo>
                      <a:pt x="504" y="233"/>
                    </a:lnTo>
                    <a:lnTo>
                      <a:pt x="437" y="283"/>
                    </a:lnTo>
                    <a:lnTo>
                      <a:pt x="390" y="540"/>
                    </a:lnTo>
                    <a:lnTo>
                      <a:pt x="481" y="730"/>
                    </a:lnTo>
                    <a:lnTo>
                      <a:pt x="1885" y="305"/>
                    </a:lnTo>
                    <a:lnTo>
                      <a:pt x="1780" y="100"/>
                    </a:lnTo>
                    <a:lnTo>
                      <a:pt x="2259" y="299"/>
                    </a:lnTo>
                    <a:lnTo>
                      <a:pt x="2179" y="355"/>
                    </a:lnTo>
                    <a:lnTo>
                      <a:pt x="496" y="900"/>
                    </a:lnTo>
                    <a:lnTo>
                      <a:pt x="349" y="864"/>
                    </a:lnTo>
                    <a:lnTo>
                      <a:pt x="46" y="740"/>
                    </a:lnTo>
                    <a:lnTo>
                      <a:pt x="0" y="600"/>
                    </a:lnTo>
                    <a:lnTo>
                      <a:pt x="11" y="515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Freeform 163"/>
              <p:cNvSpPr/>
              <p:nvPr/>
            </p:nvSpPr>
            <p:spPr>
              <a:xfrm>
                <a:off x="1556640" y="1509120"/>
                <a:ext cx="666360" cy="172440"/>
              </a:xfrm>
              <a:custGeom>
                <a:avLst/>
                <a:gdLst>
                  <a:gd name="textAreaLeft" fmla="*/ 0 w 666360"/>
                  <a:gd name="textAreaRight" fmla="*/ 666720 w 666360"/>
                  <a:gd name="textAreaTop" fmla="*/ 0 h 172440"/>
                  <a:gd name="textAreaBottom" fmla="*/ 172800 h 172440"/>
                </a:gdLst>
                <a:ahLst/>
                <a:rect l="textAreaLeft" t="textAreaTop" r="textAreaRight" b="textAreaBottom"/>
                <a:pathLst>
                  <a:path w="1340" h="586">
                    <a:moveTo>
                      <a:pt x="100" y="210"/>
                    </a:moveTo>
                    <a:lnTo>
                      <a:pt x="634" y="0"/>
                    </a:lnTo>
                    <a:lnTo>
                      <a:pt x="1340" y="170"/>
                    </a:lnTo>
                    <a:lnTo>
                      <a:pt x="1208" y="256"/>
                    </a:lnTo>
                    <a:lnTo>
                      <a:pt x="14" y="586"/>
                    </a:lnTo>
                    <a:lnTo>
                      <a:pt x="0" y="436"/>
                    </a:lnTo>
                    <a:lnTo>
                      <a:pt x="100" y="210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Freeform 164"/>
              <p:cNvSpPr/>
              <p:nvPr/>
            </p:nvSpPr>
            <p:spPr>
              <a:xfrm>
                <a:off x="517680" y="1459440"/>
                <a:ext cx="688680" cy="226440"/>
              </a:xfrm>
              <a:custGeom>
                <a:avLst/>
                <a:gdLst>
                  <a:gd name="textAreaLeft" fmla="*/ 0 w 688680"/>
                  <a:gd name="textAreaRight" fmla="*/ 689040 w 688680"/>
                  <a:gd name="textAreaTop" fmla="*/ 0 h 226440"/>
                  <a:gd name="textAreaBottom" fmla="*/ 226800 h 226440"/>
                </a:gdLst>
                <a:ahLst/>
                <a:rect l="textAreaLeft" t="textAreaTop" r="textAreaRight" b="textAreaBottom"/>
                <a:pathLst>
                  <a:path w="1387" h="770">
                    <a:moveTo>
                      <a:pt x="0" y="45"/>
                    </a:moveTo>
                    <a:lnTo>
                      <a:pt x="24" y="0"/>
                    </a:lnTo>
                    <a:lnTo>
                      <a:pt x="1387" y="659"/>
                    </a:lnTo>
                    <a:lnTo>
                      <a:pt x="1356" y="770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ae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Freeform 165"/>
              <p:cNvSpPr/>
              <p:nvPr/>
            </p:nvSpPr>
            <p:spPr>
              <a:xfrm>
                <a:off x="633600" y="1312560"/>
                <a:ext cx="1388160" cy="279720"/>
              </a:xfrm>
              <a:custGeom>
                <a:avLst/>
                <a:gdLst>
                  <a:gd name="textAreaLeft" fmla="*/ 0 w 1388160"/>
                  <a:gd name="textAreaRight" fmla="*/ 1388520 w 1388160"/>
                  <a:gd name="textAreaTop" fmla="*/ 0 h 279720"/>
                  <a:gd name="textAreaBottom" fmla="*/ 280080 h 279720"/>
                </a:gdLst>
                <a:ahLst/>
                <a:rect l="textAreaLeft" t="textAreaTop" r="textAreaRight" b="textAreaBottom"/>
                <a:pathLst>
                  <a:path w="2793" h="946">
                    <a:moveTo>
                      <a:pt x="9" y="280"/>
                    </a:moveTo>
                    <a:lnTo>
                      <a:pt x="1219" y="716"/>
                    </a:lnTo>
                    <a:lnTo>
                      <a:pt x="1169" y="946"/>
                    </a:lnTo>
                    <a:lnTo>
                      <a:pt x="1433" y="856"/>
                    </a:lnTo>
                    <a:lnTo>
                      <a:pt x="1584" y="795"/>
                    </a:lnTo>
                    <a:lnTo>
                      <a:pt x="1544" y="590"/>
                    </a:lnTo>
                    <a:lnTo>
                      <a:pt x="1928" y="441"/>
                    </a:lnTo>
                    <a:lnTo>
                      <a:pt x="2003" y="586"/>
                    </a:lnTo>
                    <a:lnTo>
                      <a:pt x="1959" y="835"/>
                    </a:lnTo>
                    <a:lnTo>
                      <a:pt x="2498" y="574"/>
                    </a:lnTo>
                    <a:lnTo>
                      <a:pt x="2648" y="586"/>
                    </a:lnTo>
                    <a:lnTo>
                      <a:pt x="2793" y="310"/>
                    </a:lnTo>
                    <a:lnTo>
                      <a:pt x="2778" y="106"/>
                    </a:lnTo>
                    <a:lnTo>
                      <a:pt x="2588" y="0"/>
                    </a:lnTo>
                    <a:lnTo>
                      <a:pt x="1194" y="435"/>
                    </a:lnTo>
                    <a:lnTo>
                      <a:pt x="1089" y="490"/>
                    </a:lnTo>
                    <a:lnTo>
                      <a:pt x="0" y="115"/>
                    </a:lnTo>
                    <a:lnTo>
                      <a:pt x="9" y="280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Freeform 166"/>
              <p:cNvSpPr/>
              <p:nvPr/>
            </p:nvSpPr>
            <p:spPr>
              <a:xfrm>
                <a:off x="545760" y="1203840"/>
                <a:ext cx="1483200" cy="373320"/>
              </a:xfrm>
              <a:custGeom>
                <a:avLst/>
                <a:gdLst>
                  <a:gd name="textAreaLeft" fmla="*/ 0 w 1483200"/>
                  <a:gd name="textAreaRight" fmla="*/ 1483560 w 1483200"/>
                  <a:gd name="textAreaTop" fmla="*/ 0 h 373320"/>
                  <a:gd name="textAreaBottom" fmla="*/ 373680 h 373320"/>
                </a:gdLst>
                <a:ahLst/>
                <a:rect l="textAreaLeft" t="textAreaTop" r="textAreaRight" b="textAreaBottom"/>
                <a:pathLst>
                  <a:path w="2984" h="1267">
                    <a:moveTo>
                      <a:pt x="0" y="316"/>
                    </a:moveTo>
                    <a:lnTo>
                      <a:pt x="1490" y="0"/>
                    </a:lnTo>
                    <a:lnTo>
                      <a:pt x="2284" y="170"/>
                    </a:lnTo>
                    <a:lnTo>
                      <a:pt x="991" y="481"/>
                    </a:lnTo>
                    <a:lnTo>
                      <a:pt x="1291" y="586"/>
                    </a:lnTo>
                    <a:lnTo>
                      <a:pt x="2598" y="266"/>
                    </a:lnTo>
                    <a:lnTo>
                      <a:pt x="2731" y="213"/>
                    </a:lnTo>
                    <a:lnTo>
                      <a:pt x="2904" y="306"/>
                    </a:lnTo>
                    <a:lnTo>
                      <a:pt x="2979" y="421"/>
                    </a:lnTo>
                    <a:lnTo>
                      <a:pt x="2984" y="741"/>
                    </a:lnTo>
                    <a:lnTo>
                      <a:pt x="2824" y="957"/>
                    </a:lnTo>
                    <a:lnTo>
                      <a:pt x="2674" y="967"/>
                    </a:lnTo>
                    <a:lnTo>
                      <a:pt x="2649" y="1032"/>
                    </a:lnTo>
                    <a:lnTo>
                      <a:pt x="2514" y="1097"/>
                    </a:lnTo>
                    <a:lnTo>
                      <a:pt x="2349" y="1147"/>
                    </a:lnTo>
                    <a:lnTo>
                      <a:pt x="2119" y="1267"/>
                    </a:lnTo>
                    <a:lnTo>
                      <a:pt x="2135" y="1206"/>
                    </a:lnTo>
                    <a:lnTo>
                      <a:pt x="2209" y="1026"/>
                    </a:lnTo>
                    <a:lnTo>
                      <a:pt x="2759" y="806"/>
                    </a:lnTo>
                    <a:lnTo>
                      <a:pt x="2864" y="676"/>
                    </a:lnTo>
                    <a:lnTo>
                      <a:pt x="2835" y="446"/>
                    </a:lnTo>
                    <a:lnTo>
                      <a:pt x="2759" y="403"/>
                    </a:lnTo>
                    <a:lnTo>
                      <a:pt x="1375" y="787"/>
                    </a:lnTo>
                    <a:lnTo>
                      <a:pt x="0" y="316"/>
                    </a:lnTo>
                    <a:close/>
                  </a:path>
                </a:pathLst>
              </a:custGeom>
              <a:solidFill>
                <a:srgbClr val="ae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Freeform 167"/>
              <p:cNvSpPr/>
              <p:nvPr/>
            </p:nvSpPr>
            <p:spPr>
              <a:xfrm>
                <a:off x="1323720" y="1617120"/>
                <a:ext cx="761760" cy="230040"/>
              </a:xfrm>
              <a:custGeom>
                <a:avLst/>
                <a:gdLst>
                  <a:gd name="textAreaLeft" fmla="*/ 0 w 761760"/>
                  <a:gd name="textAreaRight" fmla="*/ 762120 w 761760"/>
                  <a:gd name="textAreaTop" fmla="*/ 0 h 230040"/>
                  <a:gd name="textAreaBottom" fmla="*/ 230400 h 230040"/>
                </a:gdLst>
                <a:ahLst/>
                <a:rect l="textAreaLeft" t="textAreaTop" r="textAreaRight" b="textAreaBottom"/>
                <a:pathLst>
                  <a:path w="1534" h="781">
                    <a:moveTo>
                      <a:pt x="509" y="236"/>
                    </a:moveTo>
                    <a:lnTo>
                      <a:pt x="1419" y="0"/>
                    </a:lnTo>
                    <a:lnTo>
                      <a:pt x="1408" y="137"/>
                    </a:lnTo>
                    <a:lnTo>
                      <a:pt x="1423" y="251"/>
                    </a:lnTo>
                    <a:lnTo>
                      <a:pt x="1534" y="331"/>
                    </a:lnTo>
                    <a:lnTo>
                      <a:pt x="115" y="781"/>
                    </a:lnTo>
                    <a:lnTo>
                      <a:pt x="40" y="741"/>
                    </a:lnTo>
                    <a:lnTo>
                      <a:pt x="0" y="611"/>
                    </a:lnTo>
                    <a:lnTo>
                      <a:pt x="55" y="345"/>
                    </a:lnTo>
                    <a:lnTo>
                      <a:pt x="109" y="316"/>
                    </a:lnTo>
                    <a:lnTo>
                      <a:pt x="245" y="586"/>
                    </a:lnTo>
                    <a:lnTo>
                      <a:pt x="316" y="648"/>
                    </a:lnTo>
                    <a:lnTo>
                      <a:pt x="325" y="410"/>
                    </a:lnTo>
                    <a:lnTo>
                      <a:pt x="409" y="331"/>
                    </a:lnTo>
                    <a:lnTo>
                      <a:pt x="577" y="387"/>
                    </a:lnTo>
                    <a:lnTo>
                      <a:pt x="509" y="236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Freeform 168"/>
              <p:cNvSpPr/>
              <p:nvPr/>
            </p:nvSpPr>
            <p:spPr>
              <a:xfrm>
                <a:off x="1194480" y="1541880"/>
                <a:ext cx="232200" cy="77760"/>
              </a:xfrm>
              <a:custGeom>
                <a:avLst/>
                <a:gdLst>
                  <a:gd name="textAreaLeft" fmla="*/ 0 w 232200"/>
                  <a:gd name="textAreaRight" fmla="*/ 232560 w 232200"/>
                  <a:gd name="textAreaTop" fmla="*/ 0 h 77760"/>
                  <a:gd name="textAreaBottom" fmla="*/ 78120 h 77760"/>
                </a:gdLst>
                <a:ahLst/>
                <a:rect l="textAreaLeft" t="textAreaTop" r="textAreaRight" b="textAreaBottom"/>
                <a:pathLst>
                  <a:path w="468" h="264">
                    <a:moveTo>
                      <a:pt x="0" y="229"/>
                    </a:moveTo>
                    <a:lnTo>
                      <a:pt x="310" y="199"/>
                    </a:lnTo>
                    <a:lnTo>
                      <a:pt x="294" y="264"/>
                    </a:lnTo>
                    <a:lnTo>
                      <a:pt x="434" y="210"/>
                    </a:lnTo>
                    <a:lnTo>
                      <a:pt x="468" y="0"/>
                    </a:lnTo>
                    <a:lnTo>
                      <a:pt x="0" y="229"/>
                    </a:lnTo>
                    <a:close/>
                  </a:path>
                </a:pathLst>
              </a:custGeom>
              <a:solidFill>
                <a:srgbClr val="ae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Freeform 169"/>
              <p:cNvSpPr/>
              <p:nvPr/>
            </p:nvSpPr>
            <p:spPr>
              <a:xfrm>
                <a:off x="468360" y="1197000"/>
                <a:ext cx="1524960" cy="319320"/>
              </a:xfrm>
              <a:custGeom>
                <a:avLst/>
                <a:gdLst>
                  <a:gd name="textAreaLeft" fmla="*/ 0 w 1524960"/>
                  <a:gd name="textAreaRight" fmla="*/ 1525320 w 1524960"/>
                  <a:gd name="textAreaTop" fmla="*/ 0 h 319320"/>
                  <a:gd name="textAreaBottom" fmla="*/ 319680 h 319320"/>
                </a:gdLst>
                <a:ahLst/>
                <a:rect l="textAreaLeft" t="textAreaTop" r="textAreaRight" b="textAreaBottom"/>
                <a:pathLst>
                  <a:path w="3069" h="1082">
                    <a:moveTo>
                      <a:pt x="25" y="281"/>
                    </a:moveTo>
                    <a:lnTo>
                      <a:pt x="0" y="384"/>
                    </a:lnTo>
                    <a:lnTo>
                      <a:pt x="272" y="520"/>
                    </a:lnTo>
                    <a:lnTo>
                      <a:pt x="306" y="647"/>
                    </a:lnTo>
                    <a:lnTo>
                      <a:pt x="313" y="757"/>
                    </a:lnTo>
                    <a:lnTo>
                      <a:pt x="279" y="886"/>
                    </a:lnTo>
                    <a:lnTo>
                      <a:pt x="365" y="775"/>
                    </a:lnTo>
                    <a:lnTo>
                      <a:pt x="407" y="647"/>
                    </a:lnTo>
                    <a:lnTo>
                      <a:pt x="399" y="554"/>
                    </a:lnTo>
                    <a:lnTo>
                      <a:pt x="1436" y="920"/>
                    </a:lnTo>
                    <a:lnTo>
                      <a:pt x="2915" y="425"/>
                    </a:lnTo>
                    <a:lnTo>
                      <a:pt x="2958" y="554"/>
                    </a:lnTo>
                    <a:lnTo>
                      <a:pt x="2958" y="698"/>
                    </a:lnTo>
                    <a:lnTo>
                      <a:pt x="2856" y="825"/>
                    </a:lnTo>
                    <a:lnTo>
                      <a:pt x="2371" y="1026"/>
                    </a:lnTo>
                    <a:lnTo>
                      <a:pt x="2345" y="1082"/>
                    </a:lnTo>
                    <a:lnTo>
                      <a:pt x="2908" y="868"/>
                    </a:lnTo>
                    <a:lnTo>
                      <a:pt x="3019" y="791"/>
                    </a:lnTo>
                    <a:lnTo>
                      <a:pt x="3069" y="664"/>
                    </a:lnTo>
                    <a:lnTo>
                      <a:pt x="3053" y="493"/>
                    </a:lnTo>
                    <a:lnTo>
                      <a:pt x="2976" y="400"/>
                    </a:lnTo>
                    <a:lnTo>
                      <a:pt x="2899" y="366"/>
                    </a:lnTo>
                    <a:lnTo>
                      <a:pt x="2695" y="459"/>
                    </a:lnTo>
                    <a:lnTo>
                      <a:pt x="1470" y="748"/>
                    </a:lnTo>
                    <a:lnTo>
                      <a:pt x="282" y="381"/>
                    </a:lnTo>
                    <a:lnTo>
                      <a:pt x="1402" y="809"/>
                    </a:lnTo>
                    <a:lnTo>
                      <a:pt x="1402" y="852"/>
                    </a:lnTo>
                    <a:lnTo>
                      <a:pt x="50" y="357"/>
                    </a:lnTo>
                    <a:lnTo>
                      <a:pt x="93" y="315"/>
                    </a:lnTo>
                    <a:lnTo>
                      <a:pt x="1597" y="43"/>
                    </a:lnTo>
                    <a:lnTo>
                      <a:pt x="2334" y="179"/>
                    </a:lnTo>
                    <a:lnTo>
                      <a:pt x="1556" y="0"/>
                    </a:lnTo>
                    <a:lnTo>
                      <a:pt x="25" y="28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Freeform 170"/>
              <p:cNvSpPr/>
              <p:nvPr/>
            </p:nvSpPr>
            <p:spPr>
              <a:xfrm>
                <a:off x="472680" y="1410120"/>
                <a:ext cx="942120" cy="282960"/>
              </a:xfrm>
              <a:custGeom>
                <a:avLst/>
                <a:gdLst>
                  <a:gd name="textAreaLeft" fmla="*/ 0 w 942120"/>
                  <a:gd name="textAreaRight" fmla="*/ 942480 w 942120"/>
                  <a:gd name="textAreaTop" fmla="*/ 0 h 282960"/>
                  <a:gd name="textAreaBottom" fmla="*/ 283320 h 282960"/>
                </a:gdLst>
                <a:ahLst/>
                <a:rect l="textAreaLeft" t="textAreaTop" r="textAreaRight" b="textAreaBottom"/>
                <a:pathLst>
                  <a:path w="1894" h="960">
                    <a:moveTo>
                      <a:pt x="321" y="0"/>
                    </a:moveTo>
                    <a:lnTo>
                      <a:pt x="28" y="105"/>
                    </a:lnTo>
                    <a:lnTo>
                      <a:pt x="0" y="211"/>
                    </a:lnTo>
                    <a:lnTo>
                      <a:pt x="1441" y="960"/>
                    </a:lnTo>
                    <a:lnTo>
                      <a:pt x="1840" y="760"/>
                    </a:lnTo>
                    <a:lnTo>
                      <a:pt x="1894" y="626"/>
                    </a:lnTo>
                    <a:lnTo>
                      <a:pt x="1451" y="799"/>
                    </a:lnTo>
                    <a:lnTo>
                      <a:pt x="449" y="338"/>
                    </a:lnTo>
                    <a:lnTo>
                      <a:pt x="1401" y="831"/>
                    </a:lnTo>
                    <a:lnTo>
                      <a:pt x="1423" y="904"/>
                    </a:lnTo>
                    <a:lnTo>
                      <a:pt x="89" y="211"/>
                    </a:lnTo>
                    <a:lnTo>
                      <a:pt x="77" y="149"/>
                    </a:lnTo>
                    <a:lnTo>
                      <a:pt x="316" y="55"/>
                    </a:lnTo>
                    <a:lnTo>
                      <a:pt x="3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Freeform 171"/>
              <p:cNvSpPr/>
              <p:nvPr/>
            </p:nvSpPr>
            <p:spPr>
              <a:xfrm>
                <a:off x="639720" y="1442880"/>
                <a:ext cx="786960" cy="172440"/>
              </a:xfrm>
              <a:custGeom>
                <a:avLst/>
                <a:gdLst>
                  <a:gd name="textAreaLeft" fmla="*/ 0 w 786960"/>
                  <a:gd name="textAreaRight" fmla="*/ 787320 w 786960"/>
                  <a:gd name="textAreaTop" fmla="*/ 0 h 172440"/>
                  <a:gd name="textAreaBottom" fmla="*/ 172800 h 172440"/>
                </a:gdLst>
                <a:ahLst/>
                <a:rect l="textAreaLeft" t="textAreaTop" r="textAreaRight" b="textAreaBottom"/>
                <a:pathLst>
                  <a:path w="1584" h="584">
                    <a:moveTo>
                      <a:pt x="0" y="83"/>
                    </a:moveTo>
                    <a:lnTo>
                      <a:pt x="1082" y="584"/>
                    </a:lnTo>
                    <a:lnTo>
                      <a:pt x="1584" y="378"/>
                    </a:lnTo>
                    <a:lnTo>
                      <a:pt x="1584" y="335"/>
                    </a:lnTo>
                    <a:lnTo>
                      <a:pt x="1200" y="483"/>
                    </a:lnTo>
                    <a:lnTo>
                      <a:pt x="1255" y="360"/>
                    </a:lnTo>
                    <a:lnTo>
                      <a:pt x="1448" y="282"/>
                    </a:lnTo>
                    <a:lnTo>
                      <a:pt x="1239" y="306"/>
                    </a:lnTo>
                    <a:lnTo>
                      <a:pt x="1227" y="171"/>
                    </a:lnTo>
                    <a:lnTo>
                      <a:pt x="1156" y="22"/>
                    </a:lnTo>
                    <a:lnTo>
                      <a:pt x="1106" y="56"/>
                    </a:lnTo>
                    <a:lnTo>
                      <a:pt x="1167" y="171"/>
                    </a:lnTo>
                    <a:lnTo>
                      <a:pt x="662" y="0"/>
                    </a:lnTo>
                    <a:lnTo>
                      <a:pt x="1167" y="249"/>
                    </a:lnTo>
                    <a:lnTo>
                      <a:pt x="1181" y="325"/>
                    </a:lnTo>
                    <a:lnTo>
                      <a:pt x="1141" y="418"/>
                    </a:lnTo>
                    <a:lnTo>
                      <a:pt x="358" y="111"/>
                    </a:lnTo>
                    <a:lnTo>
                      <a:pt x="1137" y="466"/>
                    </a:lnTo>
                    <a:lnTo>
                      <a:pt x="1082" y="540"/>
                    </a:lnTo>
                    <a:lnTo>
                      <a:pt x="0" y="8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Freeform 172"/>
              <p:cNvSpPr/>
              <p:nvPr/>
            </p:nvSpPr>
            <p:spPr>
              <a:xfrm>
                <a:off x="1295640" y="1377360"/>
                <a:ext cx="551520" cy="430920"/>
              </a:xfrm>
              <a:custGeom>
                <a:avLst/>
                <a:gdLst>
                  <a:gd name="textAreaLeft" fmla="*/ 0 w 551520"/>
                  <a:gd name="textAreaRight" fmla="*/ 551880 w 551520"/>
                  <a:gd name="textAreaTop" fmla="*/ 0 h 430920"/>
                  <a:gd name="textAreaBottom" fmla="*/ 431280 h 430920"/>
                </a:gdLst>
                <a:ahLst/>
                <a:rect l="textAreaLeft" t="textAreaTop" r="textAreaRight" b="textAreaBottom"/>
                <a:pathLst>
                  <a:path w="1109" h="1460">
                    <a:moveTo>
                      <a:pt x="0" y="378"/>
                    </a:moveTo>
                    <a:lnTo>
                      <a:pt x="411" y="256"/>
                    </a:lnTo>
                    <a:lnTo>
                      <a:pt x="1109" y="0"/>
                    </a:lnTo>
                    <a:lnTo>
                      <a:pt x="626" y="245"/>
                    </a:lnTo>
                    <a:lnTo>
                      <a:pt x="709" y="346"/>
                    </a:lnTo>
                    <a:lnTo>
                      <a:pt x="709" y="467"/>
                    </a:lnTo>
                    <a:lnTo>
                      <a:pt x="643" y="672"/>
                    </a:lnTo>
                    <a:lnTo>
                      <a:pt x="554" y="895"/>
                    </a:lnTo>
                    <a:lnTo>
                      <a:pt x="550" y="1016"/>
                    </a:lnTo>
                    <a:lnTo>
                      <a:pt x="632" y="1199"/>
                    </a:lnTo>
                    <a:lnTo>
                      <a:pt x="510" y="1055"/>
                    </a:lnTo>
                    <a:lnTo>
                      <a:pt x="494" y="899"/>
                    </a:lnTo>
                    <a:lnTo>
                      <a:pt x="588" y="639"/>
                    </a:lnTo>
                    <a:lnTo>
                      <a:pt x="660" y="450"/>
                    </a:lnTo>
                    <a:lnTo>
                      <a:pt x="550" y="251"/>
                    </a:lnTo>
                    <a:lnTo>
                      <a:pt x="244" y="368"/>
                    </a:lnTo>
                    <a:lnTo>
                      <a:pt x="272" y="428"/>
                    </a:lnTo>
                    <a:lnTo>
                      <a:pt x="294" y="583"/>
                    </a:lnTo>
                    <a:lnTo>
                      <a:pt x="266" y="760"/>
                    </a:lnTo>
                    <a:lnTo>
                      <a:pt x="222" y="933"/>
                    </a:lnTo>
                    <a:lnTo>
                      <a:pt x="206" y="1110"/>
                    </a:lnTo>
                    <a:lnTo>
                      <a:pt x="256" y="1283"/>
                    </a:lnTo>
                    <a:lnTo>
                      <a:pt x="371" y="1460"/>
                    </a:lnTo>
                    <a:lnTo>
                      <a:pt x="250" y="1387"/>
                    </a:lnTo>
                    <a:lnTo>
                      <a:pt x="167" y="1199"/>
                    </a:lnTo>
                    <a:lnTo>
                      <a:pt x="150" y="989"/>
                    </a:lnTo>
                    <a:lnTo>
                      <a:pt x="212" y="716"/>
                    </a:lnTo>
                    <a:lnTo>
                      <a:pt x="234" y="551"/>
                    </a:lnTo>
                    <a:lnTo>
                      <a:pt x="150" y="390"/>
                    </a:lnTo>
                    <a:lnTo>
                      <a:pt x="0" y="37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Freeform 173"/>
              <p:cNvSpPr/>
              <p:nvPr/>
            </p:nvSpPr>
            <p:spPr>
              <a:xfrm>
                <a:off x="1467360" y="1706760"/>
                <a:ext cx="142920" cy="10152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288" h="344">
                    <a:moveTo>
                      <a:pt x="27" y="344"/>
                    </a:moveTo>
                    <a:lnTo>
                      <a:pt x="0" y="161"/>
                    </a:lnTo>
                    <a:lnTo>
                      <a:pt x="73" y="0"/>
                    </a:lnTo>
                    <a:lnTo>
                      <a:pt x="139" y="6"/>
                    </a:lnTo>
                    <a:lnTo>
                      <a:pt x="288" y="83"/>
                    </a:lnTo>
                    <a:lnTo>
                      <a:pt x="111" y="66"/>
                    </a:lnTo>
                    <a:lnTo>
                      <a:pt x="49" y="167"/>
                    </a:lnTo>
                    <a:lnTo>
                      <a:pt x="27" y="3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Freeform 174"/>
              <p:cNvSpPr/>
              <p:nvPr/>
            </p:nvSpPr>
            <p:spPr>
              <a:xfrm>
                <a:off x="1587960" y="1271160"/>
                <a:ext cx="451440" cy="319320"/>
              </a:xfrm>
              <a:custGeom>
                <a:avLst/>
                <a:gdLst>
                  <a:gd name="textAreaLeft" fmla="*/ 0 w 451440"/>
                  <a:gd name="textAreaRight" fmla="*/ 451800 w 451440"/>
                  <a:gd name="textAreaTop" fmla="*/ 0 h 319320"/>
                  <a:gd name="textAreaBottom" fmla="*/ 319680 h 319320"/>
                </a:gdLst>
                <a:ahLst/>
                <a:rect l="textAreaLeft" t="textAreaTop" r="textAreaRight" b="textAreaBottom"/>
                <a:pathLst>
                  <a:path w="908" h="1082">
                    <a:moveTo>
                      <a:pt x="66" y="949"/>
                    </a:moveTo>
                    <a:lnTo>
                      <a:pt x="576" y="716"/>
                    </a:lnTo>
                    <a:lnTo>
                      <a:pt x="695" y="703"/>
                    </a:lnTo>
                    <a:lnTo>
                      <a:pt x="781" y="621"/>
                    </a:lnTo>
                    <a:lnTo>
                      <a:pt x="859" y="428"/>
                    </a:lnTo>
                    <a:lnTo>
                      <a:pt x="825" y="161"/>
                    </a:lnTo>
                    <a:lnTo>
                      <a:pt x="700" y="52"/>
                    </a:lnTo>
                    <a:lnTo>
                      <a:pt x="478" y="124"/>
                    </a:lnTo>
                    <a:lnTo>
                      <a:pt x="661" y="0"/>
                    </a:lnTo>
                    <a:lnTo>
                      <a:pt x="781" y="40"/>
                    </a:lnTo>
                    <a:lnTo>
                      <a:pt x="881" y="151"/>
                    </a:lnTo>
                    <a:lnTo>
                      <a:pt x="908" y="372"/>
                    </a:lnTo>
                    <a:lnTo>
                      <a:pt x="897" y="527"/>
                    </a:lnTo>
                    <a:lnTo>
                      <a:pt x="794" y="723"/>
                    </a:lnTo>
                    <a:lnTo>
                      <a:pt x="726" y="765"/>
                    </a:lnTo>
                    <a:lnTo>
                      <a:pt x="604" y="760"/>
                    </a:lnTo>
                    <a:lnTo>
                      <a:pt x="0" y="1082"/>
                    </a:lnTo>
                    <a:lnTo>
                      <a:pt x="66" y="94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Freeform 175"/>
              <p:cNvSpPr/>
              <p:nvPr/>
            </p:nvSpPr>
            <p:spPr>
              <a:xfrm>
                <a:off x="650160" y="1531440"/>
                <a:ext cx="1617480" cy="371520"/>
              </a:xfrm>
              <a:custGeom>
                <a:avLst/>
                <a:gdLst>
                  <a:gd name="textAreaLeft" fmla="*/ 0 w 1617480"/>
                  <a:gd name="textAreaRight" fmla="*/ 1617840 w 161748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3257" h="1259">
                    <a:moveTo>
                      <a:pt x="44" y="0"/>
                    </a:moveTo>
                    <a:lnTo>
                      <a:pt x="0" y="99"/>
                    </a:lnTo>
                    <a:lnTo>
                      <a:pt x="5" y="321"/>
                    </a:lnTo>
                    <a:lnTo>
                      <a:pt x="66" y="448"/>
                    </a:lnTo>
                    <a:lnTo>
                      <a:pt x="166" y="482"/>
                    </a:lnTo>
                    <a:lnTo>
                      <a:pt x="338" y="625"/>
                    </a:lnTo>
                    <a:lnTo>
                      <a:pt x="758" y="915"/>
                    </a:lnTo>
                    <a:lnTo>
                      <a:pt x="853" y="931"/>
                    </a:lnTo>
                    <a:lnTo>
                      <a:pt x="974" y="997"/>
                    </a:lnTo>
                    <a:lnTo>
                      <a:pt x="1014" y="1076"/>
                    </a:lnTo>
                    <a:lnTo>
                      <a:pt x="1334" y="1242"/>
                    </a:lnTo>
                    <a:lnTo>
                      <a:pt x="1468" y="1259"/>
                    </a:lnTo>
                    <a:lnTo>
                      <a:pt x="3257" y="698"/>
                    </a:lnTo>
                    <a:lnTo>
                      <a:pt x="3241" y="577"/>
                    </a:lnTo>
                    <a:lnTo>
                      <a:pt x="2764" y="426"/>
                    </a:lnTo>
                    <a:lnTo>
                      <a:pt x="3207" y="621"/>
                    </a:lnTo>
                    <a:lnTo>
                      <a:pt x="1446" y="1174"/>
                    </a:lnTo>
                    <a:lnTo>
                      <a:pt x="1334" y="1076"/>
                    </a:lnTo>
                    <a:lnTo>
                      <a:pt x="1279" y="931"/>
                    </a:lnTo>
                    <a:lnTo>
                      <a:pt x="1324" y="648"/>
                    </a:lnTo>
                    <a:lnTo>
                      <a:pt x="1245" y="786"/>
                    </a:lnTo>
                    <a:lnTo>
                      <a:pt x="1229" y="931"/>
                    </a:lnTo>
                    <a:lnTo>
                      <a:pt x="1279" y="1114"/>
                    </a:lnTo>
                    <a:lnTo>
                      <a:pt x="1324" y="1174"/>
                    </a:lnTo>
                    <a:lnTo>
                      <a:pt x="1064" y="1048"/>
                    </a:lnTo>
                    <a:lnTo>
                      <a:pt x="1014" y="925"/>
                    </a:lnTo>
                    <a:lnTo>
                      <a:pt x="1002" y="742"/>
                    </a:lnTo>
                    <a:lnTo>
                      <a:pt x="1036" y="615"/>
                    </a:lnTo>
                    <a:lnTo>
                      <a:pt x="974" y="710"/>
                    </a:lnTo>
                    <a:lnTo>
                      <a:pt x="952" y="842"/>
                    </a:lnTo>
                    <a:lnTo>
                      <a:pt x="941" y="921"/>
                    </a:lnTo>
                    <a:lnTo>
                      <a:pt x="847" y="859"/>
                    </a:lnTo>
                    <a:lnTo>
                      <a:pt x="831" y="698"/>
                    </a:lnTo>
                    <a:lnTo>
                      <a:pt x="881" y="510"/>
                    </a:lnTo>
                    <a:lnTo>
                      <a:pt x="820" y="593"/>
                    </a:lnTo>
                    <a:lnTo>
                      <a:pt x="776" y="720"/>
                    </a:lnTo>
                    <a:lnTo>
                      <a:pt x="776" y="853"/>
                    </a:lnTo>
                    <a:lnTo>
                      <a:pt x="183" y="442"/>
                    </a:lnTo>
                    <a:lnTo>
                      <a:pt x="177" y="321"/>
                    </a:lnTo>
                    <a:lnTo>
                      <a:pt x="183" y="221"/>
                    </a:lnTo>
                    <a:lnTo>
                      <a:pt x="132" y="287"/>
                    </a:lnTo>
                    <a:lnTo>
                      <a:pt x="104" y="394"/>
                    </a:lnTo>
                    <a:lnTo>
                      <a:pt x="44" y="282"/>
                    </a:lnTo>
                    <a:lnTo>
                      <a:pt x="44" y="121"/>
                    </a:lnTo>
                    <a:lnTo>
                      <a:pt x="149" y="54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Freeform 176"/>
              <p:cNvSpPr/>
              <p:nvPr/>
            </p:nvSpPr>
            <p:spPr>
              <a:xfrm>
                <a:off x="1312200" y="1691640"/>
                <a:ext cx="149040" cy="134280"/>
              </a:xfrm>
              <a:custGeom>
                <a:avLst/>
                <a:gdLst>
                  <a:gd name="textAreaLeft" fmla="*/ 0 w 149040"/>
                  <a:gd name="textAreaRight" fmla="*/ 149400 w 149040"/>
                  <a:gd name="textAreaTop" fmla="*/ 0 h 134280"/>
                  <a:gd name="textAreaBottom" fmla="*/ 134640 h 134280"/>
                </a:gdLst>
                <a:ahLst/>
                <a:rect l="textAreaLeft" t="textAreaTop" r="textAreaRight" b="textAreaBottom"/>
                <a:pathLst>
                  <a:path w="300" h="454">
                    <a:moveTo>
                      <a:pt x="145" y="0"/>
                    </a:moveTo>
                    <a:lnTo>
                      <a:pt x="78" y="50"/>
                    </a:lnTo>
                    <a:lnTo>
                      <a:pt x="46" y="138"/>
                    </a:lnTo>
                    <a:lnTo>
                      <a:pt x="0" y="350"/>
                    </a:lnTo>
                    <a:lnTo>
                      <a:pt x="46" y="454"/>
                    </a:lnTo>
                    <a:lnTo>
                      <a:pt x="300" y="372"/>
                    </a:lnTo>
                    <a:lnTo>
                      <a:pt x="239" y="310"/>
                    </a:lnTo>
                    <a:lnTo>
                      <a:pt x="78" y="355"/>
                    </a:lnTo>
                    <a:lnTo>
                      <a:pt x="84" y="183"/>
                    </a:lnTo>
                    <a:lnTo>
                      <a:pt x="156" y="122"/>
                    </a:lnTo>
                    <a:lnTo>
                      <a:pt x="14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Freeform 177"/>
              <p:cNvSpPr/>
              <p:nvPr/>
            </p:nvSpPr>
            <p:spPr>
              <a:xfrm>
                <a:off x="1479240" y="1747440"/>
                <a:ext cx="232560" cy="47520"/>
              </a:xfrm>
              <a:custGeom>
                <a:avLst/>
                <a:gdLst>
                  <a:gd name="textAreaLeft" fmla="*/ 0 w 232560"/>
                  <a:gd name="textAreaRight" fmla="*/ 232920 w 2325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470" h="161">
                    <a:moveTo>
                      <a:pt x="10" y="99"/>
                    </a:moveTo>
                    <a:lnTo>
                      <a:pt x="470" y="0"/>
                    </a:lnTo>
                    <a:lnTo>
                      <a:pt x="0" y="161"/>
                    </a:lnTo>
                    <a:lnTo>
                      <a:pt x="10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Freeform 178"/>
              <p:cNvSpPr/>
              <p:nvPr/>
            </p:nvSpPr>
            <p:spPr>
              <a:xfrm>
                <a:off x="547200" y="1582560"/>
                <a:ext cx="1515960" cy="437040"/>
              </a:xfrm>
              <a:custGeom>
                <a:avLst/>
                <a:gdLst>
                  <a:gd name="textAreaLeft" fmla="*/ 0 w 1515960"/>
                  <a:gd name="textAreaRight" fmla="*/ 1516320 w 1515960"/>
                  <a:gd name="textAreaTop" fmla="*/ 0 h 437040"/>
                  <a:gd name="textAreaBottom" fmla="*/ 437400 h 437040"/>
                </a:gdLst>
                <a:ahLst/>
                <a:rect l="textAreaLeft" t="textAreaTop" r="textAreaRight" b="textAreaBottom"/>
                <a:pathLst>
                  <a:path w="3052" h="1482">
                    <a:moveTo>
                      <a:pt x="243" y="0"/>
                    </a:moveTo>
                    <a:lnTo>
                      <a:pt x="0" y="37"/>
                    </a:lnTo>
                    <a:lnTo>
                      <a:pt x="7" y="126"/>
                    </a:lnTo>
                    <a:lnTo>
                      <a:pt x="770" y="1337"/>
                    </a:lnTo>
                    <a:lnTo>
                      <a:pt x="2809" y="1107"/>
                    </a:lnTo>
                    <a:lnTo>
                      <a:pt x="2903" y="1151"/>
                    </a:lnTo>
                    <a:lnTo>
                      <a:pt x="2957" y="1237"/>
                    </a:lnTo>
                    <a:lnTo>
                      <a:pt x="2892" y="1419"/>
                    </a:lnTo>
                    <a:lnTo>
                      <a:pt x="2554" y="1482"/>
                    </a:lnTo>
                    <a:lnTo>
                      <a:pt x="2906" y="1482"/>
                    </a:lnTo>
                    <a:lnTo>
                      <a:pt x="3052" y="1259"/>
                    </a:lnTo>
                    <a:lnTo>
                      <a:pt x="3044" y="1078"/>
                    </a:lnTo>
                    <a:lnTo>
                      <a:pt x="2980" y="994"/>
                    </a:lnTo>
                    <a:lnTo>
                      <a:pt x="2626" y="1041"/>
                    </a:lnTo>
                    <a:lnTo>
                      <a:pt x="2561" y="1069"/>
                    </a:lnTo>
                    <a:lnTo>
                      <a:pt x="2484" y="1041"/>
                    </a:lnTo>
                    <a:lnTo>
                      <a:pt x="881" y="1230"/>
                    </a:lnTo>
                    <a:lnTo>
                      <a:pt x="384" y="532"/>
                    </a:lnTo>
                    <a:lnTo>
                      <a:pt x="827" y="1236"/>
                    </a:lnTo>
                    <a:lnTo>
                      <a:pt x="787" y="1295"/>
                    </a:lnTo>
                    <a:lnTo>
                      <a:pt x="31" y="70"/>
                    </a:lnTo>
                    <a:lnTo>
                      <a:pt x="224" y="37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Freeform 179"/>
              <p:cNvSpPr/>
              <p:nvPr/>
            </p:nvSpPr>
            <p:spPr>
              <a:xfrm>
                <a:off x="585720" y="1680120"/>
                <a:ext cx="272520" cy="377640"/>
              </a:xfrm>
              <a:custGeom>
                <a:avLst/>
                <a:gdLst>
                  <a:gd name="textAreaLeft" fmla="*/ 0 w 272520"/>
                  <a:gd name="textAreaRight" fmla="*/ 272880 w 2725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547" h="1281">
                    <a:moveTo>
                      <a:pt x="71" y="0"/>
                    </a:moveTo>
                    <a:lnTo>
                      <a:pt x="82" y="95"/>
                    </a:lnTo>
                    <a:lnTo>
                      <a:pt x="66" y="175"/>
                    </a:lnTo>
                    <a:lnTo>
                      <a:pt x="38" y="228"/>
                    </a:lnTo>
                    <a:lnTo>
                      <a:pt x="0" y="256"/>
                    </a:lnTo>
                    <a:lnTo>
                      <a:pt x="143" y="527"/>
                    </a:lnTo>
                    <a:lnTo>
                      <a:pt x="547" y="1281"/>
                    </a:lnTo>
                    <a:lnTo>
                      <a:pt x="249" y="604"/>
                    </a:lnTo>
                    <a:lnTo>
                      <a:pt x="66" y="256"/>
                    </a:lnTo>
                    <a:lnTo>
                      <a:pt x="243" y="465"/>
                    </a:lnTo>
                    <a:lnTo>
                      <a:pt x="104" y="189"/>
                    </a:lnTo>
                    <a:lnTo>
                      <a:pt x="143" y="89"/>
                    </a:lnTo>
                    <a:lnTo>
                      <a:pt x="7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Freeform 180"/>
              <p:cNvSpPr/>
              <p:nvPr/>
            </p:nvSpPr>
            <p:spPr>
              <a:xfrm>
                <a:off x="504000" y="1713600"/>
                <a:ext cx="1627560" cy="432360"/>
              </a:xfrm>
              <a:custGeom>
                <a:avLst/>
                <a:gdLst>
                  <a:gd name="textAreaLeft" fmla="*/ 0 w 1627560"/>
                  <a:gd name="textAreaRight" fmla="*/ 1627920 w 1627560"/>
                  <a:gd name="textAreaTop" fmla="*/ 0 h 432360"/>
                  <a:gd name="textAreaBottom" fmla="*/ 432720 h 432360"/>
                </a:gdLst>
                <a:ahLst/>
                <a:rect l="textAreaLeft" t="textAreaTop" r="textAreaRight" b="textAreaBottom"/>
                <a:pathLst>
                  <a:path w="3277" h="1467">
                    <a:moveTo>
                      <a:pt x="256" y="0"/>
                    </a:moveTo>
                    <a:lnTo>
                      <a:pt x="120" y="62"/>
                    </a:lnTo>
                    <a:lnTo>
                      <a:pt x="12" y="85"/>
                    </a:lnTo>
                    <a:lnTo>
                      <a:pt x="0" y="157"/>
                    </a:lnTo>
                    <a:lnTo>
                      <a:pt x="445" y="993"/>
                    </a:lnTo>
                    <a:lnTo>
                      <a:pt x="635" y="1467"/>
                    </a:lnTo>
                    <a:lnTo>
                      <a:pt x="2530" y="1233"/>
                    </a:lnTo>
                    <a:lnTo>
                      <a:pt x="2601" y="1210"/>
                    </a:lnTo>
                    <a:lnTo>
                      <a:pt x="2702" y="1244"/>
                    </a:lnTo>
                    <a:lnTo>
                      <a:pt x="3045" y="1198"/>
                    </a:lnTo>
                    <a:lnTo>
                      <a:pt x="3199" y="1056"/>
                    </a:lnTo>
                    <a:lnTo>
                      <a:pt x="3277" y="706"/>
                    </a:lnTo>
                    <a:lnTo>
                      <a:pt x="3223" y="456"/>
                    </a:lnTo>
                    <a:lnTo>
                      <a:pt x="2982" y="245"/>
                    </a:lnTo>
                    <a:lnTo>
                      <a:pt x="2511" y="363"/>
                    </a:lnTo>
                    <a:lnTo>
                      <a:pt x="2933" y="371"/>
                    </a:lnTo>
                    <a:lnTo>
                      <a:pt x="3115" y="510"/>
                    </a:lnTo>
                    <a:lnTo>
                      <a:pt x="3196" y="631"/>
                    </a:lnTo>
                    <a:lnTo>
                      <a:pt x="3202" y="811"/>
                    </a:lnTo>
                    <a:lnTo>
                      <a:pt x="3134" y="1027"/>
                    </a:lnTo>
                    <a:lnTo>
                      <a:pt x="3047" y="1124"/>
                    </a:lnTo>
                    <a:lnTo>
                      <a:pt x="2769" y="1161"/>
                    </a:lnTo>
                    <a:lnTo>
                      <a:pt x="2645" y="1121"/>
                    </a:lnTo>
                    <a:lnTo>
                      <a:pt x="2477" y="1205"/>
                    </a:lnTo>
                    <a:lnTo>
                      <a:pt x="688" y="1360"/>
                    </a:lnTo>
                    <a:lnTo>
                      <a:pt x="53" y="107"/>
                    </a:lnTo>
                    <a:lnTo>
                      <a:pt x="270" y="41"/>
                    </a:lnTo>
                    <a:lnTo>
                      <a:pt x="2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Freeform 181"/>
              <p:cNvSpPr/>
              <p:nvPr/>
            </p:nvSpPr>
            <p:spPr>
              <a:xfrm>
                <a:off x="867960" y="1925280"/>
                <a:ext cx="822600" cy="144000"/>
              </a:xfrm>
              <a:custGeom>
                <a:avLst/>
                <a:gdLst>
                  <a:gd name="textAreaLeft" fmla="*/ 0 w 822600"/>
                  <a:gd name="textAreaRight" fmla="*/ 822960 w 822600"/>
                  <a:gd name="textAreaTop" fmla="*/ 0 h 144000"/>
                  <a:gd name="textAreaBottom" fmla="*/ 144360 h 144000"/>
                </a:gdLst>
                <a:ahLst/>
                <a:rect l="textAreaLeft" t="textAreaTop" r="textAreaRight" b="textAreaBottom"/>
                <a:pathLst>
                  <a:path w="1656" h="489">
                    <a:moveTo>
                      <a:pt x="0" y="489"/>
                    </a:moveTo>
                    <a:lnTo>
                      <a:pt x="133" y="366"/>
                    </a:lnTo>
                    <a:lnTo>
                      <a:pt x="193" y="256"/>
                    </a:lnTo>
                    <a:lnTo>
                      <a:pt x="177" y="123"/>
                    </a:lnTo>
                    <a:lnTo>
                      <a:pt x="1202" y="0"/>
                    </a:lnTo>
                    <a:lnTo>
                      <a:pt x="288" y="157"/>
                    </a:lnTo>
                    <a:lnTo>
                      <a:pt x="248" y="267"/>
                    </a:lnTo>
                    <a:lnTo>
                      <a:pt x="1030" y="223"/>
                    </a:lnTo>
                    <a:lnTo>
                      <a:pt x="232" y="340"/>
                    </a:lnTo>
                    <a:lnTo>
                      <a:pt x="187" y="384"/>
                    </a:lnTo>
                    <a:lnTo>
                      <a:pt x="143" y="411"/>
                    </a:lnTo>
                    <a:lnTo>
                      <a:pt x="1656" y="328"/>
                    </a:lnTo>
                    <a:lnTo>
                      <a:pt x="0" y="48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Freeform 182"/>
              <p:cNvSpPr/>
              <p:nvPr/>
            </p:nvSpPr>
            <p:spPr>
              <a:xfrm>
                <a:off x="869040" y="1787040"/>
                <a:ext cx="377280" cy="98280"/>
              </a:xfrm>
              <a:custGeom>
                <a:avLst/>
                <a:gdLst>
                  <a:gd name="textAreaLeft" fmla="*/ 0 w 377280"/>
                  <a:gd name="textAreaRight" fmla="*/ 377640 w 377280"/>
                  <a:gd name="textAreaTop" fmla="*/ 0 h 98280"/>
                  <a:gd name="textAreaBottom" fmla="*/ 98640 h 98280"/>
                </a:gdLst>
                <a:ahLst/>
                <a:rect l="textAreaLeft" t="textAreaTop" r="textAreaRight" b="textAreaBottom"/>
                <a:pathLst>
                  <a:path w="759" h="332">
                    <a:moveTo>
                      <a:pt x="292" y="0"/>
                    </a:moveTo>
                    <a:lnTo>
                      <a:pt x="0" y="15"/>
                    </a:lnTo>
                    <a:lnTo>
                      <a:pt x="221" y="332"/>
                    </a:lnTo>
                    <a:lnTo>
                      <a:pt x="759" y="291"/>
                    </a:lnTo>
                    <a:lnTo>
                      <a:pt x="700" y="251"/>
                    </a:lnTo>
                    <a:lnTo>
                      <a:pt x="261" y="266"/>
                    </a:lnTo>
                    <a:lnTo>
                      <a:pt x="145" y="71"/>
                    </a:lnTo>
                    <a:lnTo>
                      <a:pt x="360" y="19"/>
                    </a:lnTo>
                    <a:lnTo>
                      <a:pt x="29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Freeform 183"/>
              <p:cNvSpPr/>
              <p:nvPr/>
            </p:nvSpPr>
            <p:spPr>
              <a:xfrm>
                <a:off x="1514880" y="1846440"/>
                <a:ext cx="326160" cy="24480"/>
              </a:xfrm>
              <a:custGeom>
                <a:avLst/>
                <a:gdLst>
                  <a:gd name="textAreaLeft" fmla="*/ 0 w 326160"/>
                  <a:gd name="textAreaRight" fmla="*/ 326520 w 326160"/>
                  <a:gd name="textAreaTop" fmla="*/ 0 h 24480"/>
                  <a:gd name="textAreaBottom" fmla="*/ 24840 h 24480"/>
                </a:gdLst>
                <a:ahLst/>
                <a:rect l="textAreaLeft" t="textAreaTop" r="textAreaRight" b="textAreaBottom"/>
                <a:pathLst>
                  <a:path w="657" h="84">
                    <a:moveTo>
                      <a:pt x="0" y="84"/>
                    </a:moveTo>
                    <a:lnTo>
                      <a:pt x="113" y="71"/>
                    </a:lnTo>
                    <a:lnTo>
                      <a:pt x="337" y="42"/>
                    </a:lnTo>
                    <a:lnTo>
                      <a:pt x="558" y="13"/>
                    </a:lnTo>
                    <a:lnTo>
                      <a:pt x="657" y="0"/>
                    </a:lnTo>
                    <a:lnTo>
                      <a:pt x="164" y="17"/>
                    </a:lnTo>
                    <a:lnTo>
                      <a:pt x="0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Freeform 184"/>
              <p:cNvSpPr/>
              <p:nvPr/>
            </p:nvSpPr>
            <p:spPr>
              <a:xfrm>
                <a:off x="949680" y="1252440"/>
                <a:ext cx="906120" cy="132480"/>
              </a:xfrm>
              <a:custGeom>
                <a:avLst/>
                <a:gdLst>
                  <a:gd name="textAreaLeft" fmla="*/ 0 w 906120"/>
                  <a:gd name="textAreaRight" fmla="*/ 906480 w 906120"/>
                  <a:gd name="textAreaTop" fmla="*/ 0 h 132480"/>
                  <a:gd name="textAreaBottom" fmla="*/ 132840 h 132480"/>
                </a:gdLst>
                <a:ahLst/>
                <a:rect l="textAreaLeft" t="textAreaTop" r="textAreaRight" b="textAreaBottom"/>
                <a:pathLst>
                  <a:path w="1825" h="451">
                    <a:moveTo>
                      <a:pt x="1825" y="97"/>
                    </a:moveTo>
                    <a:lnTo>
                      <a:pt x="1527" y="47"/>
                    </a:lnTo>
                    <a:lnTo>
                      <a:pt x="1472" y="4"/>
                    </a:lnTo>
                    <a:lnTo>
                      <a:pt x="1391" y="0"/>
                    </a:lnTo>
                    <a:lnTo>
                      <a:pt x="0" y="308"/>
                    </a:lnTo>
                    <a:lnTo>
                      <a:pt x="451" y="451"/>
                    </a:lnTo>
                    <a:lnTo>
                      <a:pt x="1628" y="153"/>
                    </a:lnTo>
                    <a:lnTo>
                      <a:pt x="433" y="385"/>
                    </a:lnTo>
                    <a:lnTo>
                      <a:pt x="310" y="305"/>
                    </a:lnTo>
                    <a:lnTo>
                      <a:pt x="1400" y="42"/>
                    </a:lnTo>
                    <a:lnTo>
                      <a:pt x="1476" y="63"/>
                    </a:lnTo>
                    <a:lnTo>
                      <a:pt x="1825" y="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Freeform 185"/>
              <p:cNvSpPr/>
              <p:nvPr/>
            </p:nvSpPr>
            <p:spPr>
              <a:xfrm>
                <a:off x="1620720" y="1526040"/>
                <a:ext cx="469440" cy="113040"/>
              </a:xfrm>
              <a:custGeom>
                <a:avLst/>
                <a:gdLst>
                  <a:gd name="textAreaLeft" fmla="*/ 0 w 469440"/>
                  <a:gd name="textAreaRight" fmla="*/ 469800 w 469440"/>
                  <a:gd name="textAreaTop" fmla="*/ 0 h 113040"/>
                  <a:gd name="textAreaBottom" fmla="*/ 113400 h 113040"/>
                </a:gdLst>
                <a:ahLst/>
                <a:rect l="textAreaLeft" t="textAreaTop" r="textAreaRight" b="textAreaBottom"/>
                <a:pathLst>
                  <a:path w="945" h="382">
                    <a:moveTo>
                      <a:pt x="0" y="382"/>
                    </a:moveTo>
                    <a:lnTo>
                      <a:pt x="272" y="118"/>
                    </a:lnTo>
                    <a:lnTo>
                      <a:pt x="663" y="0"/>
                    </a:lnTo>
                    <a:lnTo>
                      <a:pt x="945" y="118"/>
                    </a:lnTo>
                    <a:lnTo>
                      <a:pt x="0" y="382"/>
                    </a:lnTo>
                    <a:close/>
                  </a:path>
                </a:pathLst>
              </a:custGeom>
              <a:solidFill>
                <a:srgbClr val="f7a8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Freeform 186"/>
              <p:cNvSpPr/>
              <p:nvPr/>
            </p:nvSpPr>
            <p:spPr>
              <a:xfrm>
                <a:off x="1391040" y="1500120"/>
                <a:ext cx="835920" cy="345960"/>
              </a:xfrm>
              <a:custGeom>
                <a:avLst/>
                <a:gdLst>
                  <a:gd name="textAreaLeft" fmla="*/ 0 w 835920"/>
                  <a:gd name="textAreaRight" fmla="*/ 836280 w 835920"/>
                  <a:gd name="textAreaTop" fmla="*/ 0 h 345960"/>
                  <a:gd name="textAreaBottom" fmla="*/ 346320 h 345960"/>
                </a:gdLst>
                <a:ahLst/>
                <a:rect l="textAreaLeft" t="textAreaTop" r="textAreaRight" b="textAreaBottom"/>
                <a:pathLst>
                  <a:path w="1682" h="1174">
                    <a:moveTo>
                      <a:pt x="939" y="0"/>
                    </a:moveTo>
                    <a:lnTo>
                      <a:pt x="1648" y="189"/>
                    </a:lnTo>
                    <a:lnTo>
                      <a:pt x="1682" y="300"/>
                    </a:lnTo>
                    <a:lnTo>
                      <a:pt x="1338" y="417"/>
                    </a:lnTo>
                    <a:lnTo>
                      <a:pt x="1293" y="505"/>
                    </a:lnTo>
                    <a:lnTo>
                      <a:pt x="1316" y="605"/>
                    </a:lnTo>
                    <a:lnTo>
                      <a:pt x="1366" y="678"/>
                    </a:lnTo>
                    <a:lnTo>
                      <a:pt x="1465" y="732"/>
                    </a:lnTo>
                    <a:lnTo>
                      <a:pt x="0" y="1174"/>
                    </a:lnTo>
                    <a:lnTo>
                      <a:pt x="1348" y="716"/>
                    </a:lnTo>
                    <a:lnTo>
                      <a:pt x="1259" y="662"/>
                    </a:lnTo>
                    <a:lnTo>
                      <a:pt x="828" y="755"/>
                    </a:lnTo>
                    <a:lnTo>
                      <a:pt x="1237" y="600"/>
                    </a:lnTo>
                    <a:lnTo>
                      <a:pt x="1243" y="473"/>
                    </a:lnTo>
                    <a:lnTo>
                      <a:pt x="368" y="666"/>
                    </a:lnTo>
                    <a:lnTo>
                      <a:pt x="346" y="573"/>
                    </a:lnTo>
                    <a:lnTo>
                      <a:pt x="1642" y="226"/>
                    </a:lnTo>
                    <a:lnTo>
                      <a:pt x="982" y="68"/>
                    </a:lnTo>
                    <a:lnTo>
                      <a:pt x="474" y="235"/>
                    </a:lnTo>
                    <a:lnTo>
                      <a:pt x="93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Freeform 187"/>
              <p:cNvSpPr/>
              <p:nvPr/>
            </p:nvSpPr>
            <p:spPr>
              <a:xfrm>
                <a:off x="1795320" y="1809000"/>
                <a:ext cx="147240" cy="41400"/>
              </a:xfrm>
              <a:custGeom>
                <a:avLst/>
                <a:gdLst>
                  <a:gd name="textAreaLeft" fmla="*/ 0 w 147240"/>
                  <a:gd name="textAreaRight" fmla="*/ 147600 w 147240"/>
                  <a:gd name="textAreaTop" fmla="*/ 0 h 41400"/>
                  <a:gd name="textAreaBottom" fmla="*/ 41760 h 41400"/>
                </a:gdLst>
                <a:ahLst/>
                <a:rect l="textAreaLeft" t="textAreaTop" r="textAreaRight" b="textAreaBottom"/>
                <a:pathLst>
                  <a:path w="297" h="141">
                    <a:moveTo>
                      <a:pt x="197" y="0"/>
                    </a:moveTo>
                    <a:lnTo>
                      <a:pt x="297" y="121"/>
                    </a:lnTo>
                    <a:lnTo>
                      <a:pt x="0" y="141"/>
                    </a:lnTo>
                    <a:lnTo>
                      <a:pt x="169" y="88"/>
                    </a:lnTo>
                    <a:lnTo>
                      <a:pt x="129" y="13"/>
                    </a:lnTo>
                    <a:lnTo>
                      <a:pt x="19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29" name="Text Box 188"/>
          <p:cNvSpPr/>
          <p:nvPr/>
        </p:nvSpPr>
        <p:spPr>
          <a:xfrm>
            <a:off x="2484360" y="1268280"/>
            <a:ext cx="403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читься находить нужную информацию – </a:t>
            </a:r>
            <a:r>
              <a:rPr b="1" lang="ru-RU" sz="2400" spc="-1" strike="noStrike">
                <a:solidFill>
                  <a:srgbClr val="2b03f5"/>
                </a:solidFill>
                <a:latin typeface="Arial"/>
              </a:rPr>
              <a:t>«иголку в стоге сен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Rectangle 189"/>
          <p:cNvSpPr/>
          <p:nvPr/>
        </p:nvSpPr>
        <p:spPr>
          <a:xfrm>
            <a:off x="3203640" y="2492280"/>
            <a:ext cx="2448000" cy="2089080"/>
          </a:xfrm>
          <a:prstGeom prst="rect">
            <a:avLst/>
          </a:prstGeom>
          <a:solidFill>
            <a:srgbClr val="8df0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Text Box 190"/>
          <p:cNvSpPr/>
          <p:nvPr/>
        </p:nvSpPr>
        <p:spPr>
          <a:xfrm>
            <a:off x="3564000" y="3716280"/>
            <a:ext cx="1655640" cy="642600"/>
          </a:xfrm>
          <a:prstGeom prst="rect">
            <a:avLst/>
          </a:pr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И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прашива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 Box 191"/>
          <p:cNvSpPr/>
          <p:nvPr/>
        </p:nvSpPr>
        <p:spPr>
          <a:xfrm>
            <a:off x="3492360" y="2852640"/>
            <a:ext cx="187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АКС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длага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Picture 192" descr="ученый 1"/>
          <p:cNvPicPr/>
          <p:nvPr/>
        </p:nvPicPr>
        <p:blipFill>
          <a:blip r:embed="rId1"/>
          <a:stretch/>
        </p:blipFill>
        <p:spPr>
          <a:xfrm>
            <a:off x="3132000" y="5300640"/>
            <a:ext cx="2305080" cy="1373040"/>
          </a:xfrm>
          <a:prstGeom prst="rect">
            <a:avLst/>
          </a:prstGeom>
          <a:ln w="0">
            <a:noFill/>
          </a:ln>
        </p:spPr>
      </p:pic>
      <p:sp>
        <p:nvSpPr>
          <p:cNvPr id="534" name="Text Box 193"/>
          <p:cNvSpPr/>
          <p:nvPr/>
        </p:nvSpPr>
        <p:spPr>
          <a:xfrm>
            <a:off x="0" y="3003480"/>
            <a:ext cx="29527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ытаясь выполнить задания на уровне МАКСИ, ученик начинает «попадать» </a:t>
            </a:r>
            <a:r>
              <a:rPr b="1" lang="ru-RU" sz="2000" spc="-1" strike="noStrike">
                <a:solidFill>
                  <a:srgbClr val="2b03f5"/>
                </a:solidFill>
                <a:latin typeface="Arial"/>
              </a:rPr>
              <a:t>в свою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2b03f5"/>
                </a:solidFill>
                <a:latin typeface="Arial"/>
              </a:rPr>
              <a:t>зону ближайшего развития</a:t>
            </a: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Line 194"/>
          <p:cNvSpPr/>
          <p:nvPr/>
        </p:nvSpPr>
        <p:spPr>
          <a:xfrm flipV="1">
            <a:off x="5148360" y="2852640"/>
            <a:ext cx="1441440" cy="21600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Text Box 195"/>
          <p:cNvSpPr/>
          <p:nvPr/>
        </p:nvSpPr>
        <p:spPr>
          <a:xfrm>
            <a:off x="6191280" y="2498760"/>
            <a:ext cx="27018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ждый может найти в теме то, что интересует </a:t>
            </a:r>
            <a:r>
              <a:rPr b="1" lang="ru-RU" sz="2000" spc="-1" strike="noStrike">
                <a:solidFill>
                  <a:srgbClr val="2b03f5"/>
                </a:solidFill>
                <a:latin typeface="Arial"/>
              </a:rPr>
              <a:t>лично его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ru-RU" sz="2000" spc="-1" strike="noStrike">
                <a:solidFill>
                  <a:srgbClr val="2b03f5"/>
                </a:solidFill>
                <a:latin typeface="Arial"/>
              </a:rPr>
              <a:t>индивидуальная образовательная траектория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Group 196"/>
          <p:cNvGrpSpPr/>
          <p:nvPr/>
        </p:nvGrpSpPr>
        <p:grpSpPr>
          <a:xfrm>
            <a:off x="4284720" y="5805360"/>
            <a:ext cx="791640" cy="836640"/>
            <a:chOff x="4284720" y="5805360"/>
            <a:chExt cx="791640" cy="836640"/>
          </a:xfrm>
        </p:grpSpPr>
        <p:grpSp>
          <p:nvGrpSpPr>
            <p:cNvPr id="538" name="Group 197"/>
            <p:cNvGrpSpPr/>
            <p:nvPr/>
          </p:nvGrpSpPr>
          <p:grpSpPr>
            <a:xfrm>
              <a:off x="4314960" y="6217560"/>
              <a:ext cx="761400" cy="424440"/>
              <a:chOff x="4314960" y="6217560"/>
              <a:chExt cx="761400" cy="424440"/>
            </a:xfrm>
          </p:grpSpPr>
          <p:sp>
            <p:nvSpPr>
              <p:cNvPr id="539" name="Freeform 198"/>
              <p:cNvSpPr/>
              <p:nvPr/>
            </p:nvSpPr>
            <p:spPr>
              <a:xfrm>
                <a:off x="4366440" y="6265800"/>
                <a:ext cx="540000" cy="361440"/>
              </a:xfrm>
              <a:custGeom>
                <a:avLst/>
                <a:gdLst>
                  <a:gd name="textAreaLeft" fmla="*/ 0 w 540000"/>
                  <a:gd name="textAreaRight" fmla="*/ 540000 w 540000"/>
                  <a:gd name="textAreaTop" fmla="*/ 0 h 361440"/>
                  <a:gd name="textAreaBottom" fmla="*/ 361800 h 361440"/>
                </a:gdLst>
                <a:ahLst/>
                <a:rect l="textAreaLeft" t="textAreaTop" r="textAreaRight" b="textAreaBottom"/>
                <a:pathLst>
                  <a:path w="2566" h="2741">
                    <a:moveTo>
                      <a:pt x="92" y="0"/>
                    </a:moveTo>
                    <a:lnTo>
                      <a:pt x="94" y="307"/>
                    </a:lnTo>
                    <a:lnTo>
                      <a:pt x="10" y="530"/>
                    </a:lnTo>
                    <a:lnTo>
                      <a:pt x="364" y="818"/>
                    </a:lnTo>
                    <a:lnTo>
                      <a:pt x="0" y="1593"/>
                    </a:lnTo>
                    <a:lnTo>
                      <a:pt x="560" y="2741"/>
                    </a:lnTo>
                    <a:lnTo>
                      <a:pt x="1750" y="2587"/>
                    </a:lnTo>
                    <a:lnTo>
                      <a:pt x="2566" y="1882"/>
                    </a:lnTo>
                    <a:lnTo>
                      <a:pt x="1775" y="222"/>
                    </a:lnTo>
                    <a:lnTo>
                      <a:pt x="9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Freeform 199"/>
              <p:cNvSpPr/>
              <p:nvPr/>
            </p:nvSpPr>
            <p:spPr>
              <a:xfrm>
                <a:off x="4348440" y="6388560"/>
                <a:ext cx="122040" cy="12888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128880"/>
                  <a:gd name="textAreaBottom" fmla="*/ 129240 h 128880"/>
                </a:gdLst>
                <a:ahLst/>
                <a:rect l="textAreaLeft" t="textAreaTop" r="textAreaRight" b="textAreaBottom"/>
                <a:pathLst>
                  <a:path w="582" h="978">
                    <a:moveTo>
                      <a:pt x="300" y="0"/>
                    </a:moveTo>
                    <a:lnTo>
                      <a:pt x="0" y="48"/>
                    </a:lnTo>
                    <a:lnTo>
                      <a:pt x="37" y="135"/>
                    </a:lnTo>
                    <a:lnTo>
                      <a:pt x="582" y="978"/>
                    </a:lnTo>
                    <a:lnTo>
                      <a:pt x="339" y="126"/>
                    </a:lnTo>
                    <a:lnTo>
                      <a:pt x="300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Freeform 200"/>
              <p:cNvSpPr/>
              <p:nvPr/>
            </p:nvSpPr>
            <p:spPr>
              <a:xfrm>
                <a:off x="4332240" y="6451560"/>
                <a:ext cx="304200" cy="181080"/>
              </a:xfrm>
              <a:custGeom>
                <a:avLst/>
                <a:gdLst>
                  <a:gd name="textAreaLeft" fmla="*/ 0 w 304200"/>
                  <a:gd name="textAreaRight" fmla="*/ 304560 w 304200"/>
                  <a:gd name="textAreaTop" fmla="*/ 0 h 181080"/>
                  <a:gd name="textAreaBottom" fmla="*/ 181440 h 181080"/>
                </a:gdLst>
                <a:ahLst/>
                <a:rect l="textAreaLeft" t="textAreaTop" r="textAreaRight" b="textAreaBottom"/>
                <a:pathLst>
                  <a:path w="1445" h="1374">
                    <a:moveTo>
                      <a:pt x="247" y="0"/>
                    </a:moveTo>
                    <a:lnTo>
                      <a:pt x="0" y="93"/>
                    </a:lnTo>
                    <a:lnTo>
                      <a:pt x="656" y="1374"/>
                    </a:lnTo>
                    <a:lnTo>
                      <a:pt x="1445" y="1331"/>
                    </a:lnTo>
                    <a:lnTo>
                      <a:pt x="719" y="1182"/>
                    </a:lnTo>
                    <a:lnTo>
                      <a:pt x="204" y="156"/>
                    </a:lnTo>
                    <a:lnTo>
                      <a:pt x="247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Freeform 201"/>
              <p:cNvSpPr/>
              <p:nvPr/>
            </p:nvSpPr>
            <p:spPr>
              <a:xfrm>
                <a:off x="4321800" y="6221160"/>
                <a:ext cx="355680" cy="112680"/>
              </a:xfrm>
              <a:custGeom>
                <a:avLst/>
                <a:gdLst>
                  <a:gd name="textAreaLeft" fmla="*/ 0 w 355680"/>
                  <a:gd name="textAreaRight" fmla="*/ 356040 w 35568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1694" h="855">
                    <a:moveTo>
                      <a:pt x="1463" y="0"/>
                    </a:moveTo>
                    <a:lnTo>
                      <a:pt x="20" y="275"/>
                    </a:lnTo>
                    <a:lnTo>
                      <a:pt x="0" y="335"/>
                    </a:lnTo>
                    <a:lnTo>
                      <a:pt x="1389" y="855"/>
                    </a:lnTo>
                    <a:lnTo>
                      <a:pt x="1694" y="731"/>
                    </a:lnTo>
                    <a:lnTo>
                      <a:pt x="845" y="455"/>
                    </a:lnTo>
                    <a:lnTo>
                      <a:pt x="1509" y="75"/>
                    </a:lnTo>
                    <a:lnTo>
                      <a:pt x="1463" y="0"/>
                    </a:lnTo>
                    <a:close/>
                  </a:path>
                </a:pathLst>
              </a:custGeom>
              <a:solidFill>
                <a:srgbClr val="f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Freeform 202"/>
              <p:cNvSpPr/>
              <p:nvPr/>
            </p:nvSpPr>
            <p:spPr>
              <a:xfrm>
                <a:off x="4330080" y="6317640"/>
                <a:ext cx="379800" cy="107640"/>
              </a:xfrm>
              <a:custGeom>
                <a:avLst/>
                <a:gdLst>
                  <a:gd name="textAreaLeft" fmla="*/ 0 w 379800"/>
                  <a:gd name="textAreaRight" fmla="*/ 380160 w 379800"/>
                  <a:gd name="textAreaTop" fmla="*/ 0 h 107640"/>
                  <a:gd name="textAreaBottom" fmla="*/ 108000 h 107640"/>
                </a:gdLst>
                <a:ahLst/>
                <a:rect l="textAreaLeft" t="textAreaTop" r="textAreaRight" b="textAreaBottom"/>
                <a:pathLst>
                  <a:path w="1806" h="816">
                    <a:moveTo>
                      <a:pt x="241" y="0"/>
                    </a:moveTo>
                    <a:lnTo>
                      <a:pt x="0" y="101"/>
                    </a:lnTo>
                    <a:lnTo>
                      <a:pt x="0" y="172"/>
                    </a:lnTo>
                    <a:lnTo>
                      <a:pt x="1349" y="816"/>
                    </a:lnTo>
                    <a:lnTo>
                      <a:pt x="1779" y="687"/>
                    </a:lnTo>
                    <a:lnTo>
                      <a:pt x="1806" y="570"/>
                    </a:lnTo>
                    <a:lnTo>
                      <a:pt x="1574" y="551"/>
                    </a:lnTo>
                    <a:lnTo>
                      <a:pt x="1344" y="636"/>
                    </a:lnTo>
                    <a:lnTo>
                      <a:pt x="207" y="129"/>
                    </a:lnTo>
                    <a:lnTo>
                      <a:pt x="241" y="0"/>
                    </a:lnTo>
                    <a:close/>
                  </a:path>
                </a:pathLst>
              </a:custGeom>
              <a:solidFill>
                <a:srgbClr val="f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Freeform 203"/>
              <p:cNvSpPr/>
              <p:nvPr/>
            </p:nvSpPr>
            <p:spPr>
              <a:xfrm>
                <a:off x="4396680" y="6368400"/>
                <a:ext cx="286560" cy="142200"/>
              </a:xfrm>
              <a:custGeom>
                <a:avLst/>
                <a:gdLst>
                  <a:gd name="textAreaLeft" fmla="*/ 0 w 286560"/>
                  <a:gd name="textAreaRight" fmla="*/ 286920 w 286560"/>
                  <a:gd name="textAreaTop" fmla="*/ 0 h 142200"/>
                  <a:gd name="textAreaBottom" fmla="*/ 142560 h 142200"/>
                </a:gdLst>
                <a:ahLst/>
                <a:rect l="textAreaLeft" t="textAreaTop" r="textAreaRight" b="textAreaBottom"/>
                <a:pathLst>
                  <a:path w="1360" h="1080">
                    <a:moveTo>
                      <a:pt x="6" y="59"/>
                    </a:moveTo>
                    <a:lnTo>
                      <a:pt x="0" y="180"/>
                    </a:lnTo>
                    <a:lnTo>
                      <a:pt x="10" y="314"/>
                    </a:lnTo>
                    <a:lnTo>
                      <a:pt x="78" y="384"/>
                    </a:lnTo>
                    <a:lnTo>
                      <a:pt x="226" y="419"/>
                    </a:lnTo>
                    <a:lnTo>
                      <a:pt x="805" y="844"/>
                    </a:lnTo>
                    <a:lnTo>
                      <a:pt x="1060" y="1040"/>
                    </a:lnTo>
                    <a:lnTo>
                      <a:pt x="1244" y="1080"/>
                    </a:lnTo>
                    <a:lnTo>
                      <a:pt x="1219" y="835"/>
                    </a:lnTo>
                    <a:lnTo>
                      <a:pt x="1360" y="465"/>
                    </a:lnTo>
                    <a:lnTo>
                      <a:pt x="1075" y="450"/>
                    </a:lnTo>
                    <a:lnTo>
                      <a:pt x="50" y="0"/>
                    </a:lnTo>
                    <a:lnTo>
                      <a:pt x="6" y="59"/>
                    </a:lnTo>
                    <a:close/>
                  </a:path>
                </a:pathLst>
              </a:custGeom>
              <a:solidFill>
                <a:srgbClr val="f7a8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Freeform 204"/>
              <p:cNvSpPr/>
              <p:nvPr/>
            </p:nvSpPr>
            <p:spPr>
              <a:xfrm>
                <a:off x="4570920" y="6247080"/>
                <a:ext cx="346320" cy="51120"/>
              </a:xfrm>
              <a:custGeom>
                <a:avLst/>
                <a:gdLst>
                  <a:gd name="textAreaLeft" fmla="*/ 0 w 346320"/>
                  <a:gd name="textAreaRight" fmla="*/ 346680 w 346320"/>
                  <a:gd name="textAreaTop" fmla="*/ 0 h 51120"/>
                  <a:gd name="textAreaBottom" fmla="*/ 51480 h 51120"/>
                </a:gdLst>
                <a:ahLst/>
                <a:rect l="textAreaLeft" t="textAreaTop" r="textAreaRight" b="textAreaBottom"/>
                <a:pathLst>
                  <a:path w="1646" h="390">
                    <a:moveTo>
                      <a:pt x="0" y="292"/>
                    </a:moveTo>
                    <a:lnTo>
                      <a:pt x="53" y="273"/>
                    </a:lnTo>
                    <a:lnTo>
                      <a:pt x="191" y="238"/>
                    </a:lnTo>
                    <a:lnTo>
                      <a:pt x="281" y="216"/>
                    </a:lnTo>
                    <a:lnTo>
                      <a:pt x="383" y="190"/>
                    </a:lnTo>
                    <a:lnTo>
                      <a:pt x="490" y="165"/>
                    </a:lnTo>
                    <a:lnTo>
                      <a:pt x="602" y="139"/>
                    </a:lnTo>
                    <a:lnTo>
                      <a:pt x="715" y="112"/>
                    </a:lnTo>
                    <a:lnTo>
                      <a:pt x="822" y="87"/>
                    </a:lnTo>
                    <a:lnTo>
                      <a:pt x="924" y="64"/>
                    </a:lnTo>
                    <a:lnTo>
                      <a:pt x="1014" y="43"/>
                    </a:lnTo>
                    <a:lnTo>
                      <a:pt x="1150" y="12"/>
                    </a:lnTo>
                    <a:lnTo>
                      <a:pt x="1202" y="0"/>
                    </a:lnTo>
                    <a:lnTo>
                      <a:pt x="1646" y="75"/>
                    </a:lnTo>
                    <a:lnTo>
                      <a:pt x="158" y="390"/>
                    </a:lnTo>
                    <a:lnTo>
                      <a:pt x="0" y="292"/>
                    </a:lnTo>
                    <a:close/>
                  </a:path>
                </a:pathLst>
              </a:custGeom>
              <a:solidFill>
                <a:srgbClr val="f0ea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Freeform 205"/>
              <p:cNvSpPr/>
              <p:nvPr/>
            </p:nvSpPr>
            <p:spPr>
              <a:xfrm>
                <a:off x="4566600" y="6433560"/>
                <a:ext cx="54360" cy="54720"/>
              </a:xfrm>
              <a:custGeom>
                <a:avLst/>
                <a:gdLst>
                  <a:gd name="textAreaLeft" fmla="*/ 0 w 54360"/>
                  <a:gd name="textAreaRight" fmla="*/ 54720 w 54360"/>
                  <a:gd name="textAreaTop" fmla="*/ 0 h 54720"/>
                  <a:gd name="textAreaBottom" fmla="*/ 55080 h 54720"/>
                </a:gdLst>
                <a:ahLst/>
                <a:rect l="textAreaLeft" t="textAreaTop" r="textAreaRight" b="textAreaBottom"/>
                <a:pathLst>
                  <a:path w="259" h="417">
                    <a:moveTo>
                      <a:pt x="75" y="0"/>
                    </a:moveTo>
                    <a:lnTo>
                      <a:pt x="259" y="21"/>
                    </a:lnTo>
                    <a:lnTo>
                      <a:pt x="135" y="241"/>
                    </a:lnTo>
                    <a:lnTo>
                      <a:pt x="110" y="417"/>
                    </a:lnTo>
                    <a:lnTo>
                      <a:pt x="0" y="350"/>
                    </a:lnTo>
                    <a:lnTo>
                      <a:pt x="25" y="80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f0ea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Freeform 206"/>
              <p:cNvSpPr/>
              <p:nvPr/>
            </p:nvSpPr>
            <p:spPr>
              <a:xfrm>
                <a:off x="4527000" y="6488640"/>
                <a:ext cx="88560" cy="32400"/>
              </a:xfrm>
              <a:custGeom>
                <a:avLst/>
                <a:gdLst>
                  <a:gd name="textAreaLeft" fmla="*/ 0 w 88560"/>
                  <a:gd name="textAreaRight" fmla="*/ 88560 w 88560"/>
                  <a:gd name="textAreaTop" fmla="*/ 0 h 32400"/>
                  <a:gd name="textAreaBottom" fmla="*/ 32760 h 32400"/>
                </a:gdLst>
                <a:ahLst/>
                <a:rect l="textAreaLeft" t="textAreaTop" r="textAreaRight" b="textAreaBottom"/>
                <a:pathLst>
                  <a:path w="423" h="247">
                    <a:moveTo>
                      <a:pt x="0" y="16"/>
                    </a:moveTo>
                    <a:lnTo>
                      <a:pt x="174" y="0"/>
                    </a:lnTo>
                    <a:lnTo>
                      <a:pt x="423" y="201"/>
                    </a:lnTo>
                    <a:lnTo>
                      <a:pt x="44" y="247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f0ea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Freeform 207"/>
              <p:cNvSpPr/>
              <p:nvPr/>
            </p:nvSpPr>
            <p:spPr>
              <a:xfrm>
                <a:off x="4502160" y="6524280"/>
                <a:ext cx="500400" cy="99000"/>
              </a:xfrm>
              <a:custGeom>
                <a:avLst/>
                <a:gdLst>
                  <a:gd name="textAreaLeft" fmla="*/ 0 w 500400"/>
                  <a:gd name="textAreaRight" fmla="*/ 500760 w 500400"/>
                  <a:gd name="textAreaTop" fmla="*/ 0 h 99000"/>
                  <a:gd name="textAreaBottom" fmla="*/ 99360 h 99000"/>
                </a:gdLst>
                <a:ahLst/>
                <a:rect l="textAreaLeft" t="textAreaTop" r="textAreaRight" b="textAreaBottom"/>
                <a:pathLst>
                  <a:path w="2378" h="751">
                    <a:moveTo>
                      <a:pt x="155" y="301"/>
                    </a:moveTo>
                    <a:lnTo>
                      <a:pt x="129" y="450"/>
                    </a:lnTo>
                    <a:lnTo>
                      <a:pt x="0" y="601"/>
                    </a:lnTo>
                    <a:lnTo>
                      <a:pt x="563" y="751"/>
                    </a:lnTo>
                    <a:lnTo>
                      <a:pt x="1684" y="647"/>
                    </a:lnTo>
                    <a:lnTo>
                      <a:pt x="1763" y="616"/>
                    </a:lnTo>
                    <a:lnTo>
                      <a:pt x="1913" y="647"/>
                    </a:lnTo>
                    <a:lnTo>
                      <a:pt x="2042" y="630"/>
                    </a:lnTo>
                    <a:lnTo>
                      <a:pt x="2187" y="607"/>
                    </a:lnTo>
                    <a:lnTo>
                      <a:pt x="2221" y="580"/>
                    </a:lnTo>
                    <a:lnTo>
                      <a:pt x="2276" y="534"/>
                    </a:lnTo>
                    <a:lnTo>
                      <a:pt x="2326" y="490"/>
                    </a:lnTo>
                    <a:lnTo>
                      <a:pt x="2348" y="471"/>
                    </a:lnTo>
                    <a:lnTo>
                      <a:pt x="2378" y="186"/>
                    </a:lnTo>
                    <a:lnTo>
                      <a:pt x="2218" y="0"/>
                    </a:lnTo>
                    <a:lnTo>
                      <a:pt x="1439" y="140"/>
                    </a:lnTo>
                    <a:lnTo>
                      <a:pt x="155" y="301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Freeform 208"/>
              <p:cNvSpPr/>
              <p:nvPr/>
            </p:nvSpPr>
            <p:spPr>
              <a:xfrm>
                <a:off x="4365720" y="6397560"/>
                <a:ext cx="644400" cy="228240"/>
              </a:xfrm>
              <a:custGeom>
                <a:avLst/>
                <a:gdLst>
                  <a:gd name="textAreaLeft" fmla="*/ 0 w 644400"/>
                  <a:gd name="textAreaRight" fmla="*/ 644760 w 644400"/>
                  <a:gd name="textAreaTop" fmla="*/ 0 h 228240"/>
                  <a:gd name="textAreaBottom" fmla="*/ 228600 h 228240"/>
                </a:gdLst>
                <a:ahLst/>
                <a:rect l="textAreaLeft" t="textAreaTop" r="textAreaRight" b="textAreaBottom"/>
                <a:pathLst>
                  <a:path w="3063" h="1730">
                    <a:moveTo>
                      <a:pt x="15" y="29"/>
                    </a:moveTo>
                    <a:lnTo>
                      <a:pt x="134" y="0"/>
                    </a:lnTo>
                    <a:lnTo>
                      <a:pt x="205" y="184"/>
                    </a:lnTo>
                    <a:lnTo>
                      <a:pt x="306" y="212"/>
                    </a:lnTo>
                    <a:lnTo>
                      <a:pt x="880" y="630"/>
                    </a:lnTo>
                    <a:lnTo>
                      <a:pt x="669" y="680"/>
                    </a:lnTo>
                    <a:lnTo>
                      <a:pt x="809" y="936"/>
                    </a:lnTo>
                    <a:lnTo>
                      <a:pt x="1284" y="885"/>
                    </a:lnTo>
                    <a:lnTo>
                      <a:pt x="1594" y="980"/>
                    </a:lnTo>
                    <a:lnTo>
                      <a:pt x="2453" y="705"/>
                    </a:lnTo>
                    <a:lnTo>
                      <a:pt x="2883" y="730"/>
                    </a:lnTo>
                    <a:lnTo>
                      <a:pt x="3063" y="970"/>
                    </a:lnTo>
                    <a:lnTo>
                      <a:pt x="3014" y="1427"/>
                    </a:lnTo>
                    <a:lnTo>
                      <a:pt x="2858" y="1555"/>
                    </a:lnTo>
                    <a:lnTo>
                      <a:pt x="2537" y="1614"/>
                    </a:lnTo>
                    <a:lnTo>
                      <a:pt x="2388" y="1581"/>
                    </a:lnTo>
                    <a:lnTo>
                      <a:pt x="2269" y="1620"/>
                    </a:lnTo>
                    <a:lnTo>
                      <a:pt x="1115" y="1730"/>
                    </a:lnTo>
                    <a:lnTo>
                      <a:pt x="561" y="1594"/>
                    </a:lnTo>
                    <a:lnTo>
                      <a:pt x="964" y="1535"/>
                    </a:lnTo>
                    <a:lnTo>
                      <a:pt x="2554" y="1409"/>
                    </a:lnTo>
                    <a:lnTo>
                      <a:pt x="2808" y="1395"/>
                    </a:lnTo>
                    <a:lnTo>
                      <a:pt x="2908" y="1160"/>
                    </a:lnTo>
                    <a:lnTo>
                      <a:pt x="2892" y="1133"/>
                    </a:lnTo>
                    <a:lnTo>
                      <a:pt x="2855" y="1074"/>
                    </a:lnTo>
                    <a:lnTo>
                      <a:pt x="2834" y="1042"/>
                    </a:lnTo>
                    <a:lnTo>
                      <a:pt x="2815" y="1012"/>
                    </a:lnTo>
                    <a:lnTo>
                      <a:pt x="2788" y="980"/>
                    </a:lnTo>
                    <a:lnTo>
                      <a:pt x="2536" y="1006"/>
                    </a:lnTo>
                    <a:lnTo>
                      <a:pt x="2372" y="1029"/>
                    </a:lnTo>
                    <a:lnTo>
                      <a:pt x="2298" y="1040"/>
                    </a:lnTo>
                    <a:lnTo>
                      <a:pt x="784" y="1215"/>
                    </a:lnTo>
                    <a:lnTo>
                      <a:pt x="703" y="1237"/>
                    </a:lnTo>
                    <a:lnTo>
                      <a:pt x="0" y="119"/>
                    </a:lnTo>
                    <a:lnTo>
                      <a:pt x="459" y="710"/>
                    </a:lnTo>
                    <a:lnTo>
                      <a:pt x="15" y="29"/>
                    </a:lnTo>
                    <a:close/>
                  </a:path>
                </a:pathLst>
              </a:custGeom>
              <a:solidFill>
                <a:srgbClr val="7a7a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Freeform 209"/>
              <p:cNvSpPr/>
              <p:nvPr/>
            </p:nvSpPr>
            <p:spPr>
              <a:xfrm>
                <a:off x="4807080" y="6486480"/>
                <a:ext cx="124920" cy="23760"/>
              </a:xfrm>
              <a:custGeom>
                <a:avLst/>
                <a:gdLst>
                  <a:gd name="textAreaLeft" fmla="*/ 0 w 124920"/>
                  <a:gd name="textAreaRight" fmla="*/ 125280 w 12492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593" h="178">
                    <a:moveTo>
                      <a:pt x="0" y="178"/>
                    </a:moveTo>
                    <a:lnTo>
                      <a:pt x="423" y="161"/>
                    </a:lnTo>
                    <a:lnTo>
                      <a:pt x="593" y="142"/>
                    </a:lnTo>
                    <a:lnTo>
                      <a:pt x="519" y="68"/>
                    </a:lnTo>
                    <a:lnTo>
                      <a:pt x="546" y="0"/>
                    </a:lnTo>
                    <a:lnTo>
                      <a:pt x="380" y="29"/>
                    </a:lnTo>
                    <a:lnTo>
                      <a:pt x="155" y="124"/>
                    </a:lnTo>
                    <a:lnTo>
                      <a:pt x="0" y="178"/>
                    </a:lnTo>
                    <a:close/>
                  </a:path>
                </a:pathLst>
              </a:custGeom>
              <a:solidFill>
                <a:srgbClr val="948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Freeform 210"/>
              <p:cNvSpPr/>
              <p:nvPr/>
            </p:nvSpPr>
            <p:spPr>
              <a:xfrm>
                <a:off x="4559040" y="6425640"/>
                <a:ext cx="55440" cy="6264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62640"/>
                  <a:gd name="textAreaBottom" fmla="*/ 63000 h 62640"/>
                </a:gdLst>
                <a:ahLst/>
                <a:rect l="textAreaLeft" t="textAreaTop" r="textAreaRight" b="textAreaBottom"/>
                <a:pathLst>
                  <a:path w="264" h="477">
                    <a:moveTo>
                      <a:pt x="9" y="420"/>
                    </a:moveTo>
                    <a:lnTo>
                      <a:pt x="0" y="266"/>
                    </a:lnTo>
                    <a:lnTo>
                      <a:pt x="59" y="96"/>
                    </a:lnTo>
                    <a:lnTo>
                      <a:pt x="109" y="0"/>
                    </a:lnTo>
                    <a:lnTo>
                      <a:pt x="264" y="81"/>
                    </a:lnTo>
                    <a:lnTo>
                      <a:pt x="214" y="106"/>
                    </a:lnTo>
                    <a:lnTo>
                      <a:pt x="119" y="131"/>
                    </a:lnTo>
                    <a:lnTo>
                      <a:pt x="73" y="245"/>
                    </a:lnTo>
                    <a:lnTo>
                      <a:pt x="73" y="366"/>
                    </a:lnTo>
                    <a:lnTo>
                      <a:pt x="144" y="477"/>
                    </a:lnTo>
                    <a:lnTo>
                      <a:pt x="9" y="420"/>
                    </a:lnTo>
                    <a:close/>
                  </a:path>
                </a:pathLst>
              </a:custGeom>
              <a:solidFill>
                <a:srgbClr val="b8ad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Freeform 211"/>
              <p:cNvSpPr/>
              <p:nvPr/>
            </p:nvSpPr>
            <p:spPr>
              <a:xfrm>
                <a:off x="4569120" y="6244200"/>
                <a:ext cx="291240" cy="65160"/>
              </a:xfrm>
              <a:custGeom>
                <a:avLst/>
                <a:gdLst>
                  <a:gd name="textAreaLeft" fmla="*/ 0 w 291240"/>
                  <a:gd name="textAreaRight" fmla="*/ 291600 w 291240"/>
                  <a:gd name="textAreaTop" fmla="*/ 0 h 65160"/>
                  <a:gd name="textAreaBottom" fmla="*/ 65520 h 65160"/>
                </a:gdLst>
                <a:ahLst/>
                <a:rect l="textAreaLeft" t="textAreaTop" r="textAreaRight" b="textAreaBottom"/>
                <a:pathLst>
                  <a:path w="1385" h="496">
                    <a:moveTo>
                      <a:pt x="0" y="297"/>
                    </a:moveTo>
                    <a:lnTo>
                      <a:pt x="1110" y="0"/>
                    </a:lnTo>
                    <a:lnTo>
                      <a:pt x="1255" y="31"/>
                    </a:lnTo>
                    <a:lnTo>
                      <a:pt x="269" y="309"/>
                    </a:lnTo>
                    <a:lnTo>
                      <a:pt x="1385" y="121"/>
                    </a:lnTo>
                    <a:lnTo>
                      <a:pt x="291" y="496"/>
                    </a:lnTo>
                    <a:lnTo>
                      <a:pt x="0" y="297"/>
                    </a:lnTo>
                    <a:close/>
                  </a:path>
                </a:pathLst>
              </a:custGeom>
              <a:solidFill>
                <a:srgbClr val="b8ad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Freeform 212"/>
              <p:cNvSpPr/>
              <p:nvPr/>
            </p:nvSpPr>
            <p:spPr>
              <a:xfrm>
                <a:off x="4506840" y="6481440"/>
                <a:ext cx="124920" cy="39240"/>
              </a:xfrm>
              <a:custGeom>
                <a:avLst/>
                <a:gdLst>
                  <a:gd name="textAreaLeft" fmla="*/ 0 w 124920"/>
                  <a:gd name="textAreaRight" fmla="*/ 125280 w 124920"/>
                  <a:gd name="textAreaTop" fmla="*/ 0 h 39240"/>
                  <a:gd name="textAreaBottom" fmla="*/ 39240 h 39240"/>
                </a:gdLst>
                <a:ahLst/>
                <a:rect l="textAreaLeft" t="textAreaTop" r="textAreaRight" b="textAreaBottom"/>
                <a:pathLst>
                  <a:path w="595" h="300">
                    <a:moveTo>
                      <a:pt x="0" y="44"/>
                    </a:moveTo>
                    <a:lnTo>
                      <a:pt x="187" y="0"/>
                    </a:lnTo>
                    <a:lnTo>
                      <a:pt x="428" y="131"/>
                    </a:lnTo>
                    <a:lnTo>
                      <a:pt x="595" y="251"/>
                    </a:lnTo>
                    <a:lnTo>
                      <a:pt x="490" y="269"/>
                    </a:lnTo>
                    <a:lnTo>
                      <a:pt x="375" y="193"/>
                    </a:lnTo>
                    <a:lnTo>
                      <a:pt x="291" y="109"/>
                    </a:lnTo>
                    <a:lnTo>
                      <a:pt x="155" y="94"/>
                    </a:lnTo>
                    <a:lnTo>
                      <a:pt x="140" y="300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b8ad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" name="Freeform 213"/>
              <p:cNvSpPr/>
              <p:nvPr/>
            </p:nvSpPr>
            <p:spPr>
              <a:xfrm>
                <a:off x="4701600" y="6334200"/>
                <a:ext cx="95040" cy="1594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159480"/>
                  <a:gd name="textAreaBottom" fmla="*/ 159840 h 159480"/>
                </a:gdLst>
                <a:ahLst/>
                <a:rect l="textAreaLeft" t="textAreaTop" r="textAreaRight" b="textAreaBottom"/>
                <a:pathLst>
                  <a:path w="452" h="1211">
                    <a:moveTo>
                      <a:pt x="71" y="96"/>
                    </a:moveTo>
                    <a:lnTo>
                      <a:pt x="362" y="0"/>
                    </a:lnTo>
                    <a:lnTo>
                      <a:pt x="452" y="110"/>
                    </a:lnTo>
                    <a:lnTo>
                      <a:pt x="322" y="776"/>
                    </a:lnTo>
                    <a:lnTo>
                      <a:pt x="186" y="896"/>
                    </a:lnTo>
                    <a:lnTo>
                      <a:pt x="182" y="1211"/>
                    </a:lnTo>
                    <a:lnTo>
                      <a:pt x="71" y="1086"/>
                    </a:lnTo>
                    <a:lnTo>
                      <a:pt x="49" y="941"/>
                    </a:lnTo>
                    <a:lnTo>
                      <a:pt x="27" y="841"/>
                    </a:lnTo>
                    <a:lnTo>
                      <a:pt x="5" y="794"/>
                    </a:lnTo>
                    <a:lnTo>
                      <a:pt x="0" y="772"/>
                    </a:lnTo>
                    <a:lnTo>
                      <a:pt x="5" y="716"/>
                    </a:lnTo>
                    <a:lnTo>
                      <a:pt x="30" y="549"/>
                    </a:lnTo>
                    <a:lnTo>
                      <a:pt x="61" y="382"/>
                    </a:lnTo>
                    <a:lnTo>
                      <a:pt x="77" y="305"/>
                    </a:lnTo>
                    <a:lnTo>
                      <a:pt x="37" y="121"/>
                    </a:lnTo>
                    <a:lnTo>
                      <a:pt x="71" y="96"/>
                    </a:lnTo>
                    <a:close/>
                  </a:path>
                </a:pathLst>
              </a:custGeom>
              <a:solidFill>
                <a:srgbClr val="ff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Freeform 214"/>
              <p:cNvSpPr/>
              <p:nvPr/>
            </p:nvSpPr>
            <p:spPr>
              <a:xfrm>
                <a:off x="4712400" y="6327360"/>
                <a:ext cx="99720" cy="16992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69920"/>
                  <a:gd name="textAreaBottom" fmla="*/ 169920 h 169920"/>
                </a:gdLst>
                <a:ahLst/>
                <a:rect l="textAreaLeft" t="textAreaTop" r="textAreaRight" b="textAreaBottom"/>
                <a:pathLst>
                  <a:path w="474" h="1290">
                    <a:moveTo>
                      <a:pt x="0" y="109"/>
                    </a:moveTo>
                    <a:lnTo>
                      <a:pt x="369" y="0"/>
                    </a:lnTo>
                    <a:lnTo>
                      <a:pt x="474" y="214"/>
                    </a:lnTo>
                    <a:lnTo>
                      <a:pt x="310" y="689"/>
                    </a:lnTo>
                    <a:lnTo>
                      <a:pt x="434" y="1005"/>
                    </a:lnTo>
                    <a:lnTo>
                      <a:pt x="230" y="959"/>
                    </a:lnTo>
                    <a:lnTo>
                      <a:pt x="140" y="1290"/>
                    </a:lnTo>
                    <a:lnTo>
                      <a:pt x="57" y="1026"/>
                    </a:lnTo>
                    <a:lnTo>
                      <a:pt x="15" y="779"/>
                    </a:lnTo>
                    <a:lnTo>
                      <a:pt x="90" y="509"/>
                    </a:lnTo>
                    <a:lnTo>
                      <a:pt x="34" y="304"/>
                    </a:lnTo>
                    <a:lnTo>
                      <a:pt x="124" y="214"/>
                    </a:lnTo>
                    <a:lnTo>
                      <a:pt x="230" y="244"/>
                    </a:lnTo>
                    <a:lnTo>
                      <a:pt x="190" y="339"/>
                    </a:lnTo>
                    <a:lnTo>
                      <a:pt x="264" y="390"/>
                    </a:lnTo>
                    <a:lnTo>
                      <a:pt x="115" y="689"/>
                    </a:lnTo>
                    <a:lnTo>
                      <a:pt x="190" y="675"/>
                    </a:lnTo>
                    <a:lnTo>
                      <a:pt x="115" y="900"/>
                    </a:lnTo>
                    <a:lnTo>
                      <a:pt x="214" y="785"/>
                    </a:lnTo>
                    <a:lnTo>
                      <a:pt x="260" y="555"/>
                    </a:lnTo>
                    <a:lnTo>
                      <a:pt x="260" y="484"/>
                    </a:lnTo>
                    <a:lnTo>
                      <a:pt x="339" y="314"/>
                    </a:lnTo>
                    <a:lnTo>
                      <a:pt x="285" y="300"/>
                    </a:lnTo>
                    <a:lnTo>
                      <a:pt x="304" y="170"/>
                    </a:lnTo>
                    <a:lnTo>
                      <a:pt x="180" y="149"/>
                    </a:lnTo>
                    <a:lnTo>
                      <a:pt x="199" y="99"/>
                    </a:lnTo>
                    <a:lnTo>
                      <a:pt x="25" y="195"/>
                    </a:lnTo>
                    <a:lnTo>
                      <a:pt x="0" y="109"/>
                    </a:lnTo>
                    <a:close/>
                  </a:path>
                </a:pathLst>
              </a:custGeom>
              <a:solidFill>
                <a:srgbClr val="ff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Freeform 215"/>
              <p:cNvSpPr/>
              <p:nvPr/>
            </p:nvSpPr>
            <p:spPr>
              <a:xfrm>
                <a:off x="4404240" y="6393600"/>
                <a:ext cx="167040" cy="90000"/>
              </a:xfrm>
              <a:custGeom>
                <a:avLst/>
                <a:gdLst>
                  <a:gd name="textAreaLeft" fmla="*/ 0 w 167040"/>
                  <a:gd name="textAreaRight" fmla="*/ 167400 w 167040"/>
                  <a:gd name="textAreaTop" fmla="*/ 0 h 90000"/>
                  <a:gd name="textAreaBottom" fmla="*/ 90360 h 90000"/>
                </a:gdLst>
                <a:ahLst/>
                <a:rect l="textAreaLeft" t="textAreaTop" r="textAreaRight" b="textAreaBottom"/>
                <a:pathLst>
                  <a:path w="794" h="686">
                    <a:moveTo>
                      <a:pt x="0" y="136"/>
                    </a:moveTo>
                    <a:lnTo>
                      <a:pt x="60" y="40"/>
                    </a:lnTo>
                    <a:lnTo>
                      <a:pt x="134" y="0"/>
                    </a:lnTo>
                    <a:lnTo>
                      <a:pt x="144" y="96"/>
                    </a:lnTo>
                    <a:lnTo>
                      <a:pt x="349" y="291"/>
                    </a:lnTo>
                    <a:lnTo>
                      <a:pt x="653" y="466"/>
                    </a:lnTo>
                    <a:lnTo>
                      <a:pt x="794" y="341"/>
                    </a:lnTo>
                    <a:lnTo>
                      <a:pt x="714" y="686"/>
                    </a:lnTo>
                    <a:lnTo>
                      <a:pt x="100" y="230"/>
                    </a:lnTo>
                    <a:lnTo>
                      <a:pt x="20" y="215"/>
                    </a:lnTo>
                    <a:lnTo>
                      <a:pt x="0" y="136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Freeform 216"/>
              <p:cNvSpPr/>
              <p:nvPr/>
            </p:nvSpPr>
            <p:spPr>
              <a:xfrm>
                <a:off x="4400640" y="6369840"/>
                <a:ext cx="189720" cy="68400"/>
              </a:xfrm>
              <a:custGeom>
                <a:avLst/>
                <a:gdLst>
                  <a:gd name="textAreaLeft" fmla="*/ 0 w 189720"/>
                  <a:gd name="textAreaRight" fmla="*/ 190080 w 189720"/>
                  <a:gd name="textAreaTop" fmla="*/ 0 h 68400"/>
                  <a:gd name="textAreaBottom" fmla="*/ 68760 h 68400"/>
                </a:gdLst>
                <a:ahLst/>
                <a:rect l="textAreaLeft" t="textAreaTop" r="textAreaRight" b="textAreaBottom"/>
                <a:pathLst>
                  <a:path w="902" h="521">
                    <a:moveTo>
                      <a:pt x="32" y="40"/>
                    </a:moveTo>
                    <a:lnTo>
                      <a:pt x="0" y="102"/>
                    </a:lnTo>
                    <a:lnTo>
                      <a:pt x="143" y="121"/>
                    </a:lnTo>
                    <a:lnTo>
                      <a:pt x="767" y="446"/>
                    </a:lnTo>
                    <a:lnTo>
                      <a:pt x="812" y="521"/>
                    </a:lnTo>
                    <a:lnTo>
                      <a:pt x="902" y="435"/>
                    </a:lnTo>
                    <a:lnTo>
                      <a:pt x="93" y="0"/>
                    </a:lnTo>
                    <a:lnTo>
                      <a:pt x="32" y="40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" name="Freeform 217"/>
              <p:cNvSpPr/>
              <p:nvPr/>
            </p:nvSpPr>
            <p:spPr>
              <a:xfrm>
                <a:off x="4596840" y="6408000"/>
                <a:ext cx="475200" cy="118440"/>
              </a:xfrm>
              <a:custGeom>
                <a:avLst/>
                <a:gdLst>
                  <a:gd name="textAreaLeft" fmla="*/ 0 w 475200"/>
                  <a:gd name="textAreaRight" fmla="*/ 475560 w 475200"/>
                  <a:gd name="textAreaTop" fmla="*/ 0 h 118440"/>
                  <a:gd name="textAreaBottom" fmla="*/ 118800 h 118440"/>
                </a:gdLst>
                <a:ahLst/>
                <a:rect l="textAreaLeft" t="textAreaTop" r="textAreaRight" b="textAreaBottom"/>
                <a:pathLst>
                  <a:path w="2259" h="900">
                    <a:moveTo>
                      <a:pt x="11" y="515"/>
                    </a:moveTo>
                    <a:lnTo>
                      <a:pt x="90" y="655"/>
                    </a:lnTo>
                    <a:lnTo>
                      <a:pt x="226" y="709"/>
                    </a:lnTo>
                    <a:lnTo>
                      <a:pt x="231" y="510"/>
                    </a:lnTo>
                    <a:lnTo>
                      <a:pt x="321" y="284"/>
                    </a:lnTo>
                    <a:lnTo>
                      <a:pt x="201" y="345"/>
                    </a:lnTo>
                    <a:lnTo>
                      <a:pt x="155" y="379"/>
                    </a:lnTo>
                    <a:lnTo>
                      <a:pt x="141" y="315"/>
                    </a:lnTo>
                    <a:lnTo>
                      <a:pt x="146" y="184"/>
                    </a:lnTo>
                    <a:lnTo>
                      <a:pt x="511" y="0"/>
                    </a:lnTo>
                    <a:lnTo>
                      <a:pt x="504" y="233"/>
                    </a:lnTo>
                    <a:lnTo>
                      <a:pt x="437" y="283"/>
                    </a:lnTo>
                    <a:lnTo>
                      <a:pt x="390" y="540"/>
                    </a:lnTo>
                    <a:lnTo>
                      <a:pt x="481" y="730"/>
                    </a:lnTo>
                    <a:lnTo>
                      <a:pt x="1885" y="305"/>
                    </a:lnTo>
                    <a:lnTo>
                      <a:pt x="1780" y="100"/>
                    </a:lnTo>
                    <a:lnTo>
                      <a:pt x="2259" y="299"/>
                    </a:lnTo>
                    <a:lnTo>
                      <a:pt x="2179" y="355"/>
                    </a:lnTo>
                    <a:lnTo>
                      <a:pt x="496" y="900"/>
                    </a:lnTo>
                    <a:lnTo>
                      <a:pt x="349" y="864"/>
                    </a:lnTo>
                    <a:lnTo>
                      <a:pt x="46" y="740"/>
                    </a:lnTo>
                    <a:lnTo>
                      <a:pt x="0" y="600"/>
                    </a:lnTo>
                    <a:lnTo>
                      <a:pt x="11" y="515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Freeform 218"/>
              <p:cNvSpPr/>
              <p:nvPr/>
            </p:nvSpPr>
            <p:spPr>
              <a:xfrm>
                <a:off x="4775400" y="6357240"/>
                <a:ext cx="281880" cy="77040"/>
              </a:xfrm>
              <a:custGeom>
                <a:avLst/>
                <a:gdLst>
                  <a:gd name="textAreaLeft" fmla="*/ 0 w 281880"/>
                  <a:gd name="textAreaRight" fmla="*/ 282240 w 281880"/>
                  <a:gd name="textAreaTop" fmla="*/ 0 h 77040"/>
                  <a:gd name="textAreaBottom" fmla="*/ 77400 h 77040"/>
                </a:gdLst>
                <a:ahLst/>
                <a:rect l="textAreaLeft" t="textAreaTop" r="textAreaRight" b="textAreaBottom"/>
                <a:pathLst>
                  <a:path w="1340" h="586">
                    <a:moveTo>
                      <a:pt x="100" y="210"/>
                    </a:moveTo>
                    <a:lnTo>
                      <a:pt x="634" y="0"/>
                    </a:lnTo>
                    <a:lnTo>
                      <a:pt x="1340" y="170"/>
                    </a:lnTo>
                    <a:lnTo>
                      <a:pt x="1208" y="256"/>
                    </a:lnTo>
                    <a:lnTo>
                      <a:pt x="14" y="586"/>
                    </a:lnTo>
                    <a:lnTo>
                      <a:pt x="0" y="436"/>
                    </a:lnTo>
                    <a:lnTo>
                      <a:pt x="100" y="210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Freeform 219"/>
              <p:cNvSpPr/>
              <p:nvPr/>
            </p:nvSpPr>
            <p:spPr>
              <a:xfrm>
                <a:off x="4335840" y="6334920"/>
                <a:ext cx="291240" cy="101160"/>
              </a:xfrm>
              <a:custGeom>
                <a:avLst/>
                <a:gdLst>
                  <a:gd name="textAreaLeft" fmla="*/ 0 w 291240"/>
                  <a:gd name="textAreaRight" fmla="*/ 291600 w 291240"/>
                  <a:gd name="textAreaTop" fmla="*/ 0 h 101160"/>
                  <a:gd name="textAreaBottom" fmla="*/ 101520 h 101160"/>
                </a:gdLst>
                <a:ahLst/>
                <a:rect l="textAreaLeft" t="textAreaTop" r="textAreaRight" b="textAreaBottom"/>
                <a:pathLst>
                  <a:path w="1387" h="770">
                    <a:moveTo>
                      <a:pt x="0" y="45"/>
                    </a:moveTo>
                    <a:lnTo>
                      <a:pt x="24" y="0"/>
                    </a:lnTo>
                    <a:lnTo>
                      <a:pt x="1387" y="659"/>
                    </a:lnTo>
                    <a:lnTo>
                      <a:pt x="1356" y="770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ae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Freeform 220"/>
              <p:cNvSpPr/>
              <p:nvPr/>
            </p:nvSpPr>
            <p:spPr>
              <a:xfrm>
                <a:off x="4384800" y="6269040"/>
                <a:ext cx="587520" cy="124920"/>
              </a:xfrm>
              <a:custGeom>
                <a:avLst/>
                <a:gdLst>
                  <a:gd name="textAreaLeft" fmla="*/ 0 w 587520"/>
                  <a:gd name="textAreaRight" fmla="*/ 587880 w 587520"/>
                  <a:gd name="textAreaTop" fmla="*/ 0 h 124920"/>
                  <a:gd name="textAreaBottom" fmla="*/ 125280 h 124920"/>
                </a:gdLst>
                <a:ahLst/>
                <a:rect l="textAreaLeft" t="textAreaTop" r="textAreaRight" b="textAreaBottom"/>
                <a:pathLst>
                  <a:path w="2793" h="946">
                    <a:moveTo>
                      <a:pt x="9" y="280"/>
                    </a:moveTo>
                    <a:lnTo>
                      <a:pt x="1219" y="716"/>
                    </a:lnTo>
                    <a:lnTo>
                      <a:pt x="1169" y="946"/>
                    </a:lnTo>
                    <a:lnTo>
                      <a:pt x="1433" y="856"/>
                    </a:lnTo>
                    <a:lnTo>
                      <a:pt x="1584" y="795"/>
                    </a:lnTo>
                    <a:lnTo>
                      <a:pt x="1544" y="590"/>
                    </a:lnTo>
                    <a:lnTo>
                      <a:pt x="1928" y="441"/>
                    </a:lnTo>
                    <a:lnTo>
                      <a:pt x="2003" y="586"/>
                    </a:lnTo>
                    <a:lnTo>
                      <a:pt x="1959" y="835"/>
                    </a:lnTo>
                    <a:lnTo>
                      <a:pt x="2498" y="574"/>
                    </a:lnTo>
                    <a:lnTo>
                      <a:pt x="2648" y="586"/>
                    </a:lnTo>
                    <a:lnTo>
                      <a:pt x="2793" y="310"/>
                    </a:lnTo>
                    <a:lnTo>
                      <a:pt x="2778" y="106"/>
                    </a:lnTo>
                    <a:lnTo>
                      <a:pt x="2588" y="0"/>
                    </a:lnTo>
                    <a:lnTo>
                      <a:pt x="1194" y="435"/>
                    </a:lnTo>
                    <a:lnTo>
                      <a:pt x="1089" y="490"/>
                    </a:lnTo>
                    <a:lnTo>
                      <a:pt x="0" y="115"/>
                    </a:lnTo>
                    <a:lnTo>
                      <a:pt x="9" y="280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Freeform 221"/>
              <p:cNvSpPr/>
              <p:nvPr/>
            </p:nvSpPr>
            <p:spPr>
              <a:xfrm>
                <a:off x="4347720" y="6220440"/>
                <a:ext cx="627840" cy="167040"/>
              </a:xfrm>
              <a:custGeom>
                <a:avLst/>
                <a:gdLst>
                  <a:gd name="textAreaLeft" fmla="*/ 0 w 627840"/>
                  <a:gd name="textAreaRight" fmla="*/ 628200 w 627840"/>
                  <a:gd name="textAreaTop" fmla="*/ 0 h 167040"/>
                  <a:gd name="textAreaBottom" fmla="*/ 167400 h 167040"/>
                </a:gdLst>
                <a:ahLst/>
                <a:rect l="textAreaLeft" t="textAreaTop" r="textAreaRight" b="textAreaBottom"/>
                <a:pathLst>
                  <a:path w="2984" h="1267">
                    <a:moveTo>
                      <a:pt x="0" y="316"/>
                    </a:moveTo>
                    <a:lnTo>
                      <a:pt x="1490" y="0"/>
                    </a:lnTo>
                    <a:lnTo>
                      <a:pt x="2284" y="170"/>
                    </a:lnTo>
                    <a:lnTo>
                      <a:pt x="991" y="481"/>
                    </a:lnTo>
                    <a:lnTo>
                      <a:pt x="1291" y="586"/>
                    </a:lnTo>
                    <a:lnTo>
                      <a:pt x="2598" y="266"/>
                    </a:lnTo>
                    <a:lnTo>
                      <a:pt x="2731" y="213"/>
                    </a:lnTo>
                    <a:lnTo>
                      <a:pt x="2904" y="306"/>
                    </a:lnTo>
                    <a:lnTo>
                      <a:pt x="2979" y="421"/>
                    </a:lnTo>
                    <a:lnTo>
                      <a:pt x="2984" y="741"/>
                    </a:lnTo>
                    <a:lnTo>
                      <a:pt x="2824" y="957"/>
                    </a:lnTo>
                    <a:lnTo>
                      <a:pt x="2674" y="967"/>
                    </a:lnTo>
                    <a:lnTo>
                      <a:pt x="2649" y="1032"/>
                    </a:lnTo>
                    <a:lnTo>
                      <a:pt x="2514" y="1097"/>
                    </a:lnTo>
                    <a:lnTo>
                      <a:pt x="2349" y="1147"/>
                    </a:lnTo>
                    <a:lnTo>
                      <a:pt x="2119" y="1267"/>
                    </a:lnTo>
                    <a:lnTo>
                      <a:pt x="2135" y="1206"/>
                    </a:lnTo>
                    <a:lnTo>
                      <a:pt x="2209" y="1026"/>
                    </a:lnTo>
                    <a:lnTo>
                      <a:pt x="2759" y="806"/>
                    </a:lnTo>
                    <a:lnTo>
                      <a:pt x="2864" y="676"/>
                    </a:lnTo>
                    <a:lnTo>
                      <a:pt x="2835" y="446"/>
                    </a:lnTo>
                    <a:lnTo>
                      <a:pt x="2759" y="403"/>
                    </a:lnTo>
                    <a:lnTo>
                      <a:pt x="1375" y="787"/>
                    </a:lnTo>
                    <a:lnTo>
                      <a:pt x="0" y="316"/>
                    </a:lnTo>
                    <a:close/>
                  </a:path>
                </a:pathLst>
              </a:custGeom>
              <a:solidFill>
                <a:srgbClr val="ae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Freeform 222"/>
              <p:cNvSpPr/>
              <p:nvPr/>
            </p:nvSpPr>
            <p:spPr>
              <a:xfrm>
                <a:off x="4677120" y="6405480"/>
                <a:ext cx="322560" cy="102960"/>
              </a:xfrm>
              <a:custGeom>
                <a:avLst/>
                <a:gdLst>
                  <a:gd name="textAreaLeft" fmla="*/ 0 w 322560"/>
                  <a:gd name="textAreaRight" fmla="*/ 322920 w 32256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1534" h="781">
                    <a:moveTo>
                      <a:pt x="509" y="236"/>
                    </a:moveTo>
                    <a:lnTo>
                      <a:pt x="1419" y="0"/>
                    </a:lnTo>
                    <a:lnTo>
                      <a:pt x="1408" y="137"/>
                    </a:lnTo>
                    <a:lnTo>
                      <a:pt x="1423" y="251"/>
                    </a:lnTo>
                    <a:lnTo>
                      <a:pt x="1534" y="331"/>
                    </a:lnTo>
                    <a:lnTo>
                      <a:pt x="115" y="781"/>
                    </a:lnTo>
                    <a:lnTo>
                      <a:pt x="40" y="741"/>
                    </a:lnTo>
                    <a:lnTo>
                      <a:pt x="0" y="611"/>
                    </a:lnTo>
                    <a:lnTo>
                      <a:pt x="55" y="345"/>
                    </a:lnTo>
                    <a:lnTo>
                      <a:pt x="109" y="316"/>
                    </a:lnTo>
                    <a:lnTo>
                      <a:pt x="245" y="586"/>
                    </a:lnTo>
                    <a:lnTo>
                      <a:pt x="316" y="648"/>
                    </a:lnTo>
                    <a:lnTo>
                      <a:pt x="325" y="410"/>
                    </a:lnTo>
                    <a:lnTo>
                      <a:pt x="409" y="331"/>
                    </a:lnTo>
                    <a:lnTo>
                      <a:pt x="577" y="387"/>
                    </a:lnTo>
                    <a:lnTo>
                      <a:pt x="509" y="236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Freeform 223"/>
              <p:cNvSpPr/>
              <p:nvPr/>
            </p:nvSpPr>
            <p:spPr>
              <a:xfrm>
                <a:off x="4622400" y="6371640"/>
                <a:ext cx="98280" cy="34560"/>
              </a:xfrm>
              <a:custGeom>
                <a:avLst/>
                <a:gdLst>
                  <a:gd name="textAreaLeft" fmla="*/ 0 w 98280"/>
                  <a:gd name="textAreaRight" fmla="*/ 98640 w 98280"/>
                  <a:gd name="textAreaTop" fmla="*/ 0 h 34560"/>
                  <a:gd name="textAreaBottom" fmla="*/ 34920 h 34560"/>
                </a:gdLst>
                <a:ahLst/>
                <a:rect l="textAreaLeft" t="textAreaTop" r="textAreaRight" b="textAreaBottom"/>
                <a:pathLst>
                  <a:path w="468" h="264">
                    <a:moveTo>
                      <a:pt x="0" y="229"/>
                    </a:moveTo>
                    <a:lnTo>
                      <a:pt x="310" y="199"/>
                    </a:lnTo>
                    <a:lnTo>
                      <a:pt x="294" y="264"/>
                    </a:lnTo>
                    <a:lnTo>
                      <a:pt x="434" y="210"/>
                    </a:lnTo>
                    <a:lnTo>
                      <a:pt x="468" y="0"/>
                    </a:lnTo>
                    <a:lnTo>
                      <a:pt x="0" y="229"/>
                    </a:lnTo>
                    <a:close/>
                  </a:path>
                </a:pathLst>
              </a:custGeom>
              <a:solidFill>
                <a:srgbClr val="ae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Freeform 224"/>
              <p:cNvSpPr/>
              <p:nvPr/>
            </p:nvSpPr>
            <p:spPr>
              <a:xfrm>
                <a:off x="4314960" y="6217560"/>
                <a:ext cx="645480" cy="142560"/>
              </a:xfrm>
              <a:custGeom>
                <a:avLst/>
                <a:gdLst>
                  <a:gd name="textAreaLeft" fmla="*/ 0 w 645480"/>
                  <a:gd name="textAreaRight" fmla="*/ 645840 w 645480"/>
                  <a:gd name="textAreaTop" fmla="*/ 0 h 142560"/>
                  <a:gd name="textAreaBottom" fmla="*/ 142920 h 142560"/>
                </a:gdLst>
                <a:ahLst/>
                <a:rect l="textAreaLeft" t="textAreaTop" r="textAreaRight" b="textAreaBottom"/>
                <a:pathLst>
                  <a:path w="3069" h="1082">
                    <a:moveTo>
                      <a:pt x="25" y="281"/>
                    </a:moveTo>
                    <a:lnTo>
                      <a:pt x="0" y="384"/>
                    </a:lnTo>
                    <a:lnTo>
                      <a:pt x="272" y="520"/>
                    </a:lnTo>
                    <a:lnTo>
                      <a:pt x="306" y="647"/>
                    </a:lnTo>
                    <a:lnTo>
                      <a:pt x="313" y="757"/>
                    </a:lnTo>
                    <a:lnTo>
                      <a:pt x="279" y="886"/>
                    </a:lnTo>
                    <a:lnTo>
                      <a:pt x="365" y="775"/>
                    </a:lnTo>
                    <a:lnTo>
                      <a:pt x="407" y="647"/>
                    </a:lnTo>
                    <a:lnTo>
                      <a:pt x="399" y="554"/>
                    </a:lnTo>
                    <a:lnTo>
                      <a:pt x="1436" y="920"/>
                    </a:lnTo>
                    <a:lnTo>
                      <a:pt x="2915" y="425"/>
                    </a:lnTo>
                    <a:lnTo>
                      <a:pt x="2958" y="554"/>
                    </a:lnTo>
                    <a:lnTo>
                      <a:pt x="2958" y="698"/>
                    </a:lnTo>
                    <a:lnTo>
                      <a:pt x="2856" y="825"/>
                    </a:lnTo>
                    <a:lnTo>
                      <a:pt x="2371" y="1026"/>
                    </a:lnTo>
                    <a:lnTo>
                      <a:pt x="2345" y="1082"/>
                    </a:lnTo>
                    <a:lnTo>
                      <a:pt x="2908" y="868"/>
                    </a:lnTo>
                    <a:lnTo>
                      <a:pt x="3019" y="791"/>
                    </a:lnTo>
                    <a:lnTo>
                      <a:pt x="3069" y="664"/>
                    </a:lnTo>
                    <a:lnTo>
                      <a:pt x="3053" y="493"/>
                    </a:lnTo>
                    <a:lnTo>
                      <a:pt x="2976" y="400"/>
                    </a:lnTo>
                    <a:lnTo>
                      <a:pt x="2899" y="366"/>
                    </a:lnTo>
                    <a:lnTo>
                      <a:pt x="2695" y="459"/>
                    </a:lnTo>
                    <a:lnTo>
                      <a:pt x="1470" y="748"/>
                    </a:lnTo>
                    <a:lnTo>
                      <a:pt x="282" y="381"/>
                    </a:lnTo>
                    <a:lnTo>
                      <a:pt x="1402" y="809"/>
                    </a:lnTo>
                    <a:lnTo>
                      <a:pt x="1402" y="852"/>
                    </a:lnTo>
                    <a:lnTo>
                      <a:pt x="50" y="357"/>
                    </a:lnTo>
                    <a:lnTo>
                      <a:pt x="93" y="315"/>
                    </a:lnTo>
                    <a:lnTo>
                      <a:pt x="1597" y="43"/>
                    </a:lnTo>
                    <a:lnTo>
                      <a:pt x="2334" y="179"/>
                    </a:lnTo>
                    <a:lnTo>
                      <a:pt x="1556" y="0"/>
                    </a:lnTo>
                    <a:lnTo>
                      <a:pt x="25" y="28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Freeform 225"/>
              <p:cNvSpPr/>
              <p:nvPr/>
            </p:nvSpPr>
            <p:spPr>
              <a:xfrm>
                <a:off x="4316760" y="6312960"/>
                <a:ext cx="398880" cy="126360"/>
              </a:xfrm>
              <a:custGeom>
                <a:avLst/>
                <a:gdLst>
                  <a:gd name="textAreaLeft" fmla="*/ 0 w 398880"/>
                  <a:gd name="textAreaRight" fmla="*/ 399240 w 398880"/>
                  <a:gd name="textAreaTop" fmla="*/ 0 h 126360"/>
                  <a:gd name="textAreaBottom" fmla="*/ 126720 h 126360"/>
                </a:gdLst>
                <a:ahLst/>
                <a:rect l="textAreaLeft" t="textAreaTop" r="textAreaRight" b="textAreaBottom"/>
                <a:pathLst>
                  <a:path w="1894" h="960">
                    <a:moveTo>
                      <a:pt x="321" y="0"/>
                    </a:moveTo>
                    <a:lnTo>
                      <a:pt x="28" y="105"/>
                    </a:lnTo>
                    <a:lnTo>
                      <a:pt x="0" y="211"/>
                    </a:lnTo>
                    <a:lnTo>
                      <a:pt x="1441" y="960"/>
                    </a:lnTo>
                    <a:lnTo>
                      <a:pt x="1840" y="760"/>
                    </a:lnTo>
                    <a:lnTo>
                      <a:pt x="1894" y="626"/>
                    </a:lnTo>
                    <a:lnTo>
                      <a:pt x="1451" y="799"/>
                    </a:lnTo>
                    <a:lnTo>
                      <a:pt x="449" y="338"/>
                    </a:lnTo>
                    <a:lnTo>
                      <a:pt x="1401" y="831"/>
                    </a:lnTo>
                    <a:lnTo>
                      <a:pt x="1423" y="904"/>
                    </a:lnTo>
                    <a:lnTo>
                      <a:pt x="89" y="211"/>
                    </a:lnTo>
                    <a:lnTo>
                      <a:pt x="77" y="149"/>
                    </a:lnTo>
                    <a:lnTo>
                      <a:pt x="316" y="55"/>
                    </a:lnTo>
                    <a:lnTo>
                      <a:pt x="3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Freeform 226"/>
              <p:cNvSpPr/>
              <p:nvPr/>
            </p:nvSpPr>
            <p:spPr>
              <a:xfrm>
                <a:off x="4387320" y="6327360"/>
                <a:ext cx="333000" cy="77040"/>
              </a:xfrm>
              <a:custGeom>
                <a:avLst/>
                <a:gdLst/>
                <a:ahLst/>
                <a:rect l="l" t="t" r="r" b="b"/>
                <a:pathLst>
                  <a:path w="1584" h="584">
                    <a:moveTo>
                      <a:pt x="0" y="83"/>
                    </a:moveTo>
                    <a:lnTo>
                      <a:pt x="1082" y="584"/>
                    </a:lnTo>
                    <a:lnTo>
                      <a:pt x="1584" y="378"/>
                    </a:lnTo>
                    <a:lnTo>
                      <a:pt x="1584" y="335"/>
                    </a:lnTo>
                    <a:lnTo>
                      <a:pt x="1200" y="483"/>
                    </a:lnTo>
                    <a:lnTo>
                      <a:pt x="1255" y="360"/>
                    </a:lnTo>
                    <a:lnTo>
                      <a:pt x="1448" y="282"/>
                    </a:lnTo>
                    <a:lnTo>
                      <a:pt x="1239" y="306"/>
                    </a:lnTo>
                    <a:lnTo>
                      <a:pt x="1227" y="171"/>
                    </a:lnTo>
                    <a:lnTo>
                      <a:pt x="1156" y="22"/>
                    </a:lnTo>
                    <a:lnTo>
                      <a:pt x="1106" y="56"/>
                    </a:lnTo>
                    <a:lnTo>
                      <a:pt x="1167" y="171"/>
                    </a:lnTo>
                    <a:lnTo>
                      <a:pt x="662" y="0"/>
                    </a:lnTo>
                    <a:lnTo>
                      <a:pt x="1167" y="249"/>
                    </a:lnTo>
                    <a:lnTo>
                      <a:pt x="1181" y="325"/>
                    </a:lnTo>
                    <a:lnTo>
                      <a:pt x="1141" y="418"/>
                    </a:lnTo>
                    <a:lnTo>
                      <a:pt x="358" y="111"/>
                    </a:lnTo>
                    <a:lnTo>
                      <a:pt x="1137" y="466"/>
                    </a:lnTo>
                    <a:lnTo>
                      <a:pt x="1082" y="540"/>
                    </a:lnTo>
                    <a:lnTo>
                      <a:pt x="0" y="8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Freeform 227"/>
              <p:cNvSpPr/>
              <p:nvPr/>
            </p:nvSpPr>
            <p:spPr>
              <a:xfrm>
                <a:off x="4665240" y="6298200"/>
                <a:ext cx="233280" cy="192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192600"/>
                  <a:gd name="textAreaBottom" fmla="*/ 192960 h 192600"/>
                </a:gdLst>
                <a:ahLst/>
                <a:rect l="textAreaLeft" t="textAreaTop" r="textAreaRight" b="textAreaBottom"/>
                <a:pathLst>
                  <a:path w="1109" h="1460">
                    <a:moveTo>
                      <a:pt x="0" y="378"/>
                    </a:moveTo>
                    <a:lnTo>
                      <a:pt x="411" y="256"/>
                    </a:lnTo>
                    <a:lnTo>
                      <a:pt x="1109" y="0"/>
                    </a:lnTo>
                    <a:lnTo>
                      <a:pt x="626" y="245"/>
                    </a:lnTo>
                    <a:lnTo>
                      <a:pt x="709" y="346"/>
                    </a:lnTo>
                    <a:lnTo>
                      <a:pt x="709" y="467"/>
                    </a:lnTo>
                    <a:lnTo>
                      <a:pt x="643" y="672"/>
                    </a:lnTo>
                    <a:lnTo>
                      <a:pt x="554" y="895"/>
                    </a:lnTo>
                    <a:lnTo>
                      <a:pt x="550" y="1016"/>
                    </a:lnTo>
                    <a:lnTo>
                      <a:pt x="632" y="1199"/>
                    </a:lnTo>
                    <a:lnTo>
                      <a:pt x="510" y="1055"/>
                    </a:lnTo>
                    <a:lnTo>
                      <a:pt x="494" y="899"/>
                    </a:lnTo>
                    <a:lnTo>
                      <a:pt x="588" y="639"/>
                    </a:lnTo>
                    <a:lnTo>
                      <a:pt x="660" y="450"/>
                    </a:lnTo>
                    <a:lnTo>
                      <a:pt x="550" y="251"/>
                    </a:lnTo>
                    <a:lnTo>
                      <a:pt x="244" y="368"/>
                    </a:lnTo>
                    <a:lnTo>
                      <a:pt x="272" y="428"/>
                    </a:lnTo>
                    <a:lnTo>
                      <a:pt x="294" y="583"/>
                    </a:lnTo>
                    <a:lnTo>
                      <a:pt x="266" y="760"/>
                    </a:lnTo>
                    <a:lnTo>
                      <a:pt x="222" y="933"/>
                    </a:lnTo>
                    <a:lnTo>
                      <a:pt x="206" y="1110"/>
                    </a:lnTo>
                    <a:lnTo>
                      <a:pt x="256" y="1283"/>
                    </a:lnTo>
                    <a:lnTo>
                      <a:pt x="371" y="1460"/>
                    </a:lnTo>
                    <a:lnTo>
                      <a:pt x="250" y="1387"/>
                    </a:lnTo>
                    <a:lnTo>
                      <a:pt x="167" y="1199"/>
                    </a:lnTo>
                    <a:lnTo>
                      <a:pt x="150" y="989"/>
                    </a:lnTo>
                    <a:lnTo>
                      <a:pt x="212" y="716"/>
                    </a:lnTo>
                    <a:lnTo>
                      <a:pt x="234" y="551"/>
                    </a:lnTo>
                    <a:lnTo>
                      <a:pt x="150" y="390"/>
                    </a:lnTo>
                    <a:lnTo>
                      <a:pt x="0" y="37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Freeform 228"/>
              <p:cNvSpPr/>
              <p:nvPr/>
            </p:nvSpPr>
            <p:spPr>
              <a:xfrm>
                <a:off x="4737960" y="6445440"/>
                <a:ext cx="60480" cy="45360"/>
              </a:xfrm>
              <a:custGeom>
                <a:avLst/>
                <a:gdLst>
                  <a:gd name="textAreaLeft" fmla="*/ 0 w 60480"/>
                  <a:gd name="textAreaRight" fmla="*/ 60840 w 60480"/>
                  <a:gd name="textAreaTop" fmla="*/ 0 h 45360"/>
                  <a:gd name="textAreaBottom" fmla="*/ 45720 h 45360"/>
                </a:gdLst>
                <a:ahLst/>
                <a:rect l="textAreaLeft" t="textAreaTop" r="textAreaRight" b="textAreaBottom"/>
                <a:pathLst>
                  <a:path w="288" h="344">
                    <a:moveTo>
                      <a:pt x="27" y="344"/>
                    </a:moveTo>
                    <a:lnTo>
                      <a:pt x="0" y="161"/>
                    </a:lnTo>
                    <a:lnTo>
                      <a:pt x="73" y="0"/>
                    </a:lnTo>
                    <a:lnTo>
                      <a:pt x="139" y="6"/>
                    </a:lnTo>
                    <a:lnTo>
                      <a:pt x="288" y="83"/>
                    </a:lnTo>
                    <a:lnTo>
                      <a:pt x="111" y="66"/>
                    </a:lnTo>
                    <a:lnTo>
                      <a:pt x="49" y="167"/>
                    </a:lnTo>
                    <a:lnTo>
                      <a:pt x="27" y="3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Freeform 229"/>
              <p:cNvSpPr/>
              <p:nvPr/>
            </p:nvSpPr>
            <p:spPr>
              <a:xfrm>
                <a:off x="4788720" y="6250680"/>
                <a:ext cx="191160" cy="142560"/>
              </a:xfrm>
              <a:custGeom>
                <a:avLst/>
                <a:gdLst>
                  <a:gd name="textAreaLeft" fmla="*/ 0 w 191160"/>
                  <a:gd name="textAreaRight" fmla="*/ 191520 w 191160"/>
                  <a:gd name="textAreaTop" fmla="*/ 0 h 142560"/>
                  <a:gd name="textAreaBottom" fmla="*/ 142920 h 142560"/>
                </a:gdLst>
                <a:ahLst/>
                <a:rect l="textAreaLeft" t="textAreaTop" r="textAreaRight" b="textAreaBottom"/>
                <a:pathLst>
                  <a:path w="908" h="1082">
                    <a:moveTo>
                      <a:pt x="66" y="949"/>
                    </a:moveTo>
                    <a:lnTo>
                      <a:pt x="576" y="716"/>
                    </a:lnTo>
                    <a:lnTo>
                      <a:pt x="695" y="703"/>
                    </a:lnTo>
                    <a:lnTo>
                      <a:pt x="781" y="621"/>
                    </a:lnTo>
                    <a:lnTo>
                      <a:pt x="859" y="428"/>
                    </a:lnTo>
                    <a:lnTo>
                      <a:pt x="825" y="161"/>
                    </a:lnTo>
                    <a:lnTo>
                      <a:pt x="700" y="52"/>
                    </a:lnTo>
                    <a:lnTo>
                      <a:pt x="478" y="124"/>
                    </a:lnTo>
                    <a:lnTo>
                      <a:pt x="661" y="0"/>
                    </a:lnTo>
                    <a:lnTo>
                      <a:pt x="781" y="40"/>
                    </a:lnTo>
                    <a:lnTo>
                      <a:pt x="881" y="151"/>
                    </a:lnTo>
                    <a:lnTo>
                      <a:pt x="908" y="372"/>
                    </a:lnTo>
                    <a:lnTo>
                      <a:pt x="897" y="527"/>
                    </a:lnTo>
                    <a:lnTo>
                      <a:pt x="794" y="723"/>
                    </a:lnTo>
                    <a:lnTo>
                      <a:pt x="726" y="765"/>
                    </a:lnTo>
                    <a:lnTo>
                      <a:pt x="604" y="760"/>
                    </a:lnTo>
                    <a:lnTo>
                      <a:pt x="0" y="1082"/>
                    </a:lnTo>
                    <a:lnTo>
                      <a:pt x="66" y="94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Freeform 230"/>
              <p:cNvSpPr/>
              <p:nvPr/>
            </p:nvSpPr>
            <p:spPr>
              <a:xfrm>
                <a:off x="4391640" y="6366960"/>
                <a:ext cx="684720" cy="165960"/>
              </a:xfrm>
              <a:custGeom>
                <a:avLst/>
                <a:gdLst>
                  <a:gd name="textAreaLeft" fmla="*/ 0 w 684720"/>
                  <a:gd name="textAreaRight" fmla="*/ 685080 w 684720"/>
                  <a:gd name="textAreaTop" fmla="*/ 0 h 165960"/>
                  <a:gd name="textAreaBottom" fmla="*/ 166320 h 165960"/>
                </a:gdLst>
                <a:ahLst/>
                <a:rect l="textAreaLeft" t="textAreaTop" r="textAreaRight" b="textAreaBottom"/>
                <a:pathLst>
                  <a:path w="3257" h="1259">
                    <a:moveTo>
                      <a:pt x="44" y="0"/>
                    </a:moveTo>
                    <a:lnTo>
                      <a:pt x="0" y="99"/>
                    </a:lnTo>
                    <a:lnTo>
                      <a:pt x="5" y="321"/>
                    </a:lnTo>
                    <a:lnTo>
                      <a:pt x="66" y="448"/>
                    </a:lnTo>
                    <a:lnTo>
                      <a:pt x="166" y="482"/>
                    </a:lnTo>
                    <a:lnTo>
                      <a:pt x="338" y="625"/>
                    </a:lnTo>
                    <a:lnTo>
                      <a:pt x="758" y="915"/>
                    </a:lnTo>
                    <a:lnTo>
                      <a:pt x="853" y="931"/>
                    </a:lnTo>
                    <a:lnTo>
                      <a:pt x="974" y="997"/>
                    </a:lnTo>
                    <a:lnTo>
                      <a:pt x="1014" y="1076"/>
                    </a:lnTo>
                    <a:lnTo>
                      <a:pt x="1334" y="1242"/>
                    </a:lnTo>
                    <a:lnTo>
                      <a:pt x="1468" y="1259"/>
                    </a:lnTo>
                    <a:lnTo>
                      <a:pt x="3257" y="698"/>
                    </a:lnTo>
                    <a:lnTo>
                      <a:pt x="3241" y="577"/>
                    </a:lnTo>
                    <a:lnTo>
                      <a:pt x="2764" y="426"/>
                    </a:lnTo>
                    <a:lnTo>
                      <a:pt x="3207" y="621"/>
                    </a:lnTo>
                    <a:lnTo>
                      <a:pt x="1446" y="1174"/>
                    </a:lnTo>
                    <a:lnTo>
                      <a:pt x="1334" y="1076"/>
                    </a:lnTo>
                    <a:lnTo>
                      <a:pt x="1279" y="931"/>
                    </a:lnTo>
                    <a:lnTo>
                      <a:pt x="1324" y="648"/>
                    </a:lnTo>
                    <a:lnTo>
                      <a:pt x="1245" y="786"/>
                    </a:lnTo>
                    <a:lnTo>
                      <a:pt x="1229" y="931"/>
                    </a:lnTo>
                    <a:lnTo>
                      <a:pt x="1279" y="1114"/>
                    </a:lnTo>
                    <a:lnTo>
                      <a:pt x="1324" y="1174"/>
                    </a:lnTo>
                    <a:lnTo>
                      <a:pt x="1064" y="1048"/>
                    </a:lnTo>
                    <a:lnTo>
                      <a:pt x="1014" y="925"/>
                    </a:lnTo>
                    <a:lnTo>
                      <a:pt x="1002" y="742"/>
                    </a:lnTo>
                    <a:lnTo>
                      <a:pt x="1036" y="615"/>
                    </a:lnTo>
                    <a:lnTo>
                      <a:pt x="974" y="710"/>
                    </a:lnTo>
                    <a:lnTo>
                      <a:pt x="952" y="842"/>
                    </a:lnTo>
                    <a:lnTo>
                      <a:pt x="941" y="921"/>
                    </a:lnTo>
                    <a:lnTo>
                      <a:pt x="847" y="859"/>
                    </a:lnTo>
                    <a:lnTo>
                      <a:pt x="831" y="698"/>
                    </a:lnTo>
                    <a:lnTo>
                      <a:pt x="881" y="510"/>
                    </a:lnTo>
                    <a:lnTo>
                      <a:pt x="820" y="593"/>
                    </a:lnTo>
                    <a:lnTo>
                      <a:pt x="776" y="720"/>
                    </a:lnTo>
                    <a:lnTo>
                      <a:pt x="776" y="853"/>
                    </a:lnTo>
                    <a:lnTo>
                      <a:pt x="183" y="442"/>
                    </a:lnTo>
                    <a:lnTo>
                      <a:pt x="177" y="321"/>
                    </a:lnTo>
                    <a:lnTo>
                      <a:pt x="183" y="221"/>
                    </a:lnTo>
                    <a:lnTo>
                      <a:pt x="132" y="287"/>
                    </a:lnTo>
                    <a:lnTo>
                      <a:pt x="104" y="394"/>
                    </a:lnTo>
                    <a:lnTo>
                      <a:pt x="44" y="282"/>
                    </a:lnTo>
                    <a:lnTo>
                      <a:pt x="44" y="121"/>
                    </a:lnTo>
                    <a:lnTo>
                      <a:pt x="149" y="54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Freeform 231"/>
              <p:cNvSpPr/>
              <p:nvPr/>
            </p:nvSpPr>
            <p:spPr>
              <a:xfrm>
                <a:off x="4672080" y="6438600"/>
                <a:ext cx="63000" cy="60120"/>
              </a:xfrm>
              <a:custGeom>
                <a:avLst/>
                <a:gdLst>
                  <a:gd name="textAreaLeft" fmla="*/ 0 w 63000"/>
                  <a:gd name="textAreaRight" fmla="*/ 63360 w 63000"/>
                  <a:gd name="textAreaTop" fmla="*/ 0 h 60120"/>
                  <a:gd name="textAreaBottom" fmla="*/ 60480 h 60120"/>
                </a:gdLst>
                <a:ahLst/>
                <a:rect l="textAreaLeft" t="textAreaTop" r="textAreaRight" b="textAreaBottom"/>
                <a:pathLst>
                  <a:path w="300" h="454">
                    <a:moveTo>
                      <a:pt x="145" y="0"/>
                    </a:moveTo>
                    <a:lnTo>
                      <a:pt x="78" y="50"/>
                    </a:lnTo>
                    <a:lnTo>
                      <a:pt x="46" y="138"/>
                    </a:lnTo>
                    <a:lnTo>
                      <a:pt x="0" y="350"/>
                    </a:lnTo>
                    <a:lnTo>
                      <a:pt x="46" y="454"/>
                    </a:lnTo>
                    <a:lnTo>
                      <a:pt x="300" y="372"/>
                    </a:lnTo>
                    <a:lnTo>
                      <a:pt x="239" y="310"/>
                    </a:lnTo>
                    <a:lnTo>
                      <a:pt x="78" y="355"/>
                    </a:lnTo>
                    <a:lnTo>
                      <a:pt x="84" y="183"/>
                    </a:lnTo>
                    <a:lnTo>
                      <a:pt x="156" y="122"/>
                    </a:lnTo>
                    <a:lnTo>
                      <a:pt x="14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Freeform 232"/>
              <p:cNvSpPr/>
              <p:nvPr/>
            </p:nvSpPr>
            <p:spPr>
              <a:xfrm>
                <a:off x="4742640" y="6463800"/>
                <a:ext cx="98280" cy="21240"/>
              </a:xfrm>
              <a:custGeom>
                <a:avLst/>
                <a:gdLst>
                  <a:gd name="textAreaLeft" fmla="*/ 0 w 98280"/>
                  <a:gd name="textAreaRight" fmla="*/ 98640 w 98280"/>
                  <a:gd name="textAreaTop" fmla="*/ 0 h 21240"/>
                  <a:gd name="textAreaBottom" fmla="*/ 21600 h 21240"/>
                </a:gdLst>
                <a:ahLst/>
                <a:rect l="textAreaLeft" t="textAreaTop" r="textAreaRight" b="textAreaBottom"/>
                <a:pathLst>
                  <a:path w="470" h="161">
                    <a:moveTo>
                      <a:pt x="10" y="99"/>
                    </a:moveTo>
                    <a:lnTo>
                      <a:pt x="470" y="0"/>
                    </a:lnTo>
                    <a:lnTo>
                      <a:pt x="0" y="161"/>
                    </a:lnTo>
                    <a:lnTo>
                      <a:pt x="10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Freeform 233"/>
              <p:cNvSpPr/>
              <p:nvPr/>
            </p:nvSpPr>
            <p:spPr>
              <a:xfrm>
                <a:off x="4348440" y="6390000"/>
                <a:ext cx="641520" cy="195480"/>
              </a:xfrm>
              <a:custGeom>
                <a:avLst/>
                <a:gdLst>
                  <a:gd name="textAreaLeft" fmla="*/ 0 w 641520"/>
                  <a:gd name="textAreaRight" fmla="*/ 641880 w 641520"/>
                  <a:gd name="textAreaTop" fmla="*/ 0 h 195480"/>
                  <a:gd name="textAreaBottom" fmla="*/ 195840 h 195480"/>
                </a:gdLst>
                <a:ahLst/>
                <a:rect l="textAreaLeft" t="textAreaTop" r="textAreaRight" b="textAreaBottom"/>
                <a:pathLst>
                  <a:path w="3052" h="1482">
                    <a:moveTo>
                      <a:pt x="243" y="0"/>
                    </a:moveTo>
                    <a:lnTo>
                      <a:pt x="0" y="37"/>
                    </a:lnTo>
                    <a:lnTo>
                      <a:pt x="7" y="126"/>
                    </a:lnTo>
                    <a:lnTo>
                      <a:pt x="770" y="1337"/>
                    </a:lnTo>
                    <a:lnTo>
                      <a:pt x="2809" y="1107"/>
                    </a:lnTo>
                    <a:lnTo>
                      <a:pt x="2903" y="1151"/>
                    </a:lnTo>
                    <a:lnTo>
                      <a:pt x="2957" y="1237"/>
                    </a:lnTo>
                    <a:lnTo>
                      <a:pt x="2892" y="1419"/>
                    </a:lnTo>
                    <a:lnTo>
                      <a:pt x="2554" y="1482"/>
                    </a:lnTo>
                    <a:lnTo>
                      <a:pt x="2906" y="1482"/>
                    </a:lnTo>
                    <a:lnTo>
                      <a:pt x="3052" y="1259"/>
                    </a:lnTo>
                    <a:lnTo>
                      <a:pt x="3044" y="1078"/>
                    </a:lnTo>
                    <a:lnTo>
                      <a:pt x="2980" y="994"/>
                    </a:lnTo>
                    <a:lnTo>
                      <a:pt x="2626" y="1041"/>
                    </a:lnTo>
                    <a:lnTo>
                      <a:pt x="2561" y="1069"/>
                    </a:lnTo>
                    <a:lnTo>
                      <a:pt x="2484" y="1041"/>
                    </a:lnTo>
                    <a:lnTo>
                      <a:pt x="881" y="1230"/>
                    </a:lnTo>
                    <a:lnTo>
                      <a:pt x="384" y="532"/>
                    </a:lnTo>
                    <a:lnTo>
                      <a:pt x="827" y="1236"/>
                    </a:lnTo>
                    <a:lnTo>
                      <a:pt x="787" y="1295"/>
                    </a:lnTo>
                    <a:lnTo>
                      <a:pt x="31" y="70"/>
                    </a:lnTo>
                    <a:lnTo>
                      <a:pt x="224" y="37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Freeform 234"/>
              <p:cNvSpPr/>
              <p:nvPr/>
            </p:nvSpPr>
            <p:spPr>
              <a:xfrm>
                <a:off x="4364640" y="6433560"/>
                <a:ext cx="115200" cy="168840"/>
              </a:xfrm>
              <a:custGeom>
                <a:avLst/>
                <a:gdLst>
                  <a:gd name="textAreaLeft" fmla="*/ 0 w 115200"/>
                  <a:gd name="textAreaRight" fmla="*/ 115560 w 115200"/>
                  <a:gd name="textAreaTop" fmla="*/ 0 h 168840"/>
                  <a:gd name="textAreaBottom" fmla="*/ 169200 h 168840"/>
                </a:gdLst>
                <a:ahLst/>
                <a:rect l="textAreaLeft" t="textAreaTop" r="textAreaRight" b="textAreaBottom"/>
                <a:pathLst>
                  <a:path w="547" h="1281">
                    <a:moveTo>
                      <a:pt x="71" y="0"/>
                    </a:moveTo>
                    <a:lnTo>
                      <a:pt x="82" y="95"/>
                    </a:lnTo>
                    <a:lnTo>
                      <a:pt x="66" y="175"/>
                    </a:lnTo>
                    <a:lnTo>
                      <a:pt x="38" y="228"/>
                    </a:lnTo>
                    <a:lnTo>
                      <a:pt x="0" y="256"/>
                    </a:lnTo>
                    <a:lnTo>
                      <a:pt x="143" y="527"/>
                    </a:lnTo>
                    <a:lnTo>
                      <a:pt x="547" y="1281"/>
                    </a:lnTo>
                    <a:lnTo>
                      <a:pt x="249" y="604"/>
                    </a:lnTo>
                    <a:lnTo>
                      <a:pt x="66" y="256"/>
                    </a:lnTo>
                    <a:lnTo>
                      <a:pt x="243" y="465"/>
                    </a:lnTo>
                    <a:lnTo>
                      <a:pt x="104" y="189"/>
                    </a:lnTo>
                    <a:lnTo>
                      <a:pt x="143" y="89"/>
                    </a:lnTo>
                    <a:lnTo>
                      <a:pt x="7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Freeform 235"/>
              <p:cNvSpPr/>
              <p:nvPr/>
            </p:nvSpPr>
            <p:spPr>
              <a:xfrm>
                <a:off x="4330080" y="6448680"/>
                <a:ext cx="689040" cy="193320"/>
              </a:xfrm>
              <a:custGeom>
                <a:avLst/>
                <a:gdLst>
                  <a:gd name="textAreaLeft" fmla="*/ 0 w 689040"/>
                  <a:gd name="textAreaRight" fmla="*/ 689400 w 689040"/>
                  <a:gd name="textAreaTop" fmla="*/ 0 h 193320"/>
                  <a:gd name="textAreaBottom" fmla="*/ 193680 h 193320"/>
                </a:gdLst>
                <a:ahLst/>
                <a:rect l="textAreaLeft" t="textAreaTop" r="textAreaRight" b="textAreaBottom"/>
                <a:pathLst>
                  <a:path w="3277" h="1467">
                    <a:moveTo>
                      <a:pt x="256" y="0"/>
                    </a:moveTo>
                    <a:lnTo>
                      <a:pt x="120" y="62"/>
                    </a:lnTo>
                    <a:lnTo>
                      <a:pt x="12" y="85"/>
                    </a:lnTo>
                    <a:lnTo>
                      <a:pt x="0" y="157"/>
                    </a:lnTo>
                    <a:lnTo>
                      <a:pt x="445" y="993"/>
                    </a:lnTo>
                    <a:lnTo>
                      <a:pt x="635" y="1467"/>
                    </a:lnTo>
                    <a:lnTo>
                      <a:pt x="2530" y="1233"/>
                    </a:lnTo>
                    <a:lnTo>
                      <a:pt x="2601" y="1210"/>
                    </a:lnTo>
                    <a:lnTo>
                      <a:pt x="2702" y="1244"/>
                    </a:lnTo>
                    <a:lnTo>
                      <a:pt x="3045" y="1198"/>
                    </a:lnTo>
                    <a:lnTo>
                      <a:pt x="3199" y="1056"/>
                    </a:lnTo>
                    <a:lnTo>
                      <a:pt x="3277" y="706"/>
                    </a:lnTo>
                    <a:lnTo>
                      <a:pt x="3223" y="456"/>
                    </a:lnTo>
                    <a:lnTo>
                      <a:pt x="2982" y="245"/>
                    </a:lnTo>
                    <a:lnTo>
                      <a:pt x="2511" y="363"/>
                    </a:lnTo>
                    <a:lnTo>
                      <a:pt x="2933" y="371"/>
                    </a:lnTo>
                    <a:lnTo>
                      <a:pt x="3115" y="510"/>
                    </a:lnTo>
                    <a:lnTo>
                      <a:pt x="3196" y="631"/>
                    </a:lnTo>
                    <a:lnTo>
                      <a:pt x="3202" y="811"/>
                    </a:lnTo>
                    <a:lnTo>
                      <a:pt x="3134" y="1027"/>
                    </a:lnTo>
                    <a:lnTo>
                      <a:pt x="3047" y="1124"/>
                    </a:lnTo>
                    <a:lnTo>
                      <a:pt x="2769" y="1161"/>
                    </a:lnTo>
                    <a:lnTo>
                      <a:pt x="2645" y="1121"/>
                    </a:lnTo>
                    <a:lnTo>
                      <a:pt x="2477" y="1205"/>
                    </a:lnTo>
                    <a:lnTo>
                      <a:pt x="688" y="1360"/>
                    </a:lnTo>
                    <a:lnTo>
                      <a:pt x="53" y="107"/>
                    </a:lnTo>
                    <a:lnTo>
                      <a:pt x="270" y="41"/>
                    </a:lnTo>
                    <a:lnTo>
                      <a:pt x="2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Freeform 236"/>
              <p:cNvSpPr/>
              <p:nvPr/>
            </p:nvSpPr>
            <p:spPr>
              <a:xfrm>
                <a:off x="4484160" y="6543000"/>
                <a:ext cx="348120" cy="64440"/>
              </a:xfrm>
              <a:custGeom>
                <a:avLst/>
                <a:gdLst>
                  <a:gd name="textAreaLeft" fmla="*/ 0 w 348120"/>
                  <a:gd name="textAreaRight" fmla="*/ 348480 w 348120"/>
                  <a:gd name="textAreaTop" fmla="*/ 0 h 64440"/>
                  <a:gd name="textAreaBottom" fmla="*/ 64800 h 64440"/>
                </a:gdLst>
                <a:ahLst/>
                <a:rect l="textAreaLeft" t="textAreaTop" r="textAreaRight" b="textAreaBottom"/>
                <a:pathLst>
                  <a:path w="1656" h="489">
                    <a:moveTo>
                      <a:pt x="0" y="489"/>
                    </a:moveTo>
                    <a:lnTo>
                      <a:pt x="133" y="366"/>
                    </a:lnTo>
                    <a:lnTo>
                      <a:pt x="193" y="256"/>
                    </a:lnTo>
                    <a:lnTo>
                      <a:pt x="177" y="123"/>
                    </a:lnTo>
                    <a:lnTo>
                      <a:pt x="1202" y="0"/>
                    </a:lnTo>
                    <a:lnTo>
                      <a:pt x="288" y="157"/>
                    </a:lnTo>
                    <a:lnTo>
                      <a:pt x="248" y="267"/>
                    </a:lnTo>
                    <a:lnTo>
                      <a:pt x="1030" y="223"/>
                    </a:lnTo>
                    <a:lnTo>
                      <a:pt x="232" y="340"/>
                    </a:lnTo>
                    <a:lnTo>
                      <a:pt x="187" y="384"/>
                    </a:lnTo>
                    <a:lnTo>
                      <a:pt x="143" y="411"/>
                    </a:lnTo>
                    <a:lnTo>
                      <a:pt x="1656" y="328"/>
                    </a:lnTo>
                    <a:lnTo>
                      <a:pt x="0" y="48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Freeform 237"/>
              <p:cNvSpPr/>
              <p:nvPr/>
            </p:nvSpPr>
            <p:spPr>
              <a:xfrm>
                <a:off x="4484520" y="6481440"/>
                <a:ext cx="159480" cy="43920"/>
              </a:xfrm>
              <a:custGeom>
                <a:avLst/>
                <a:gdLst>
                  <a:gd name="textAreaLeft" fmla="*/ 0 w 159480"/>
                  <a:gd name="textAreaRight" fmla="*/ 159480 w 159480"/>
                  <a:gd name="textAreaTop" fmla="*/ 0 h 43920"/>
                  <a:gd name="textAreaBottom" fmla="*/ 44280 h 43920"/>
                </a:gdLst>
                <a:ahLst/>
                <a:rect l="textAreaLeft" t="textAreaTop" r="textAreaRight" b="textAreaBottom"/>
                <a:pathLst>
                  <a:path w="759" h="332">
                    <a:moveTo>
                      <a:pt x="292" y="0"/>
                    </a:moveTo>
                    <a:lnTo>
                      <a:pt x="0" y="15"/>
                    </a:lnTo>
                    <a:lnTo>
                      <a:pt x="221" y="332"/>
                    </a:lnTo>
                    <a:lnTo>
                      <a:pt x="759" y="291"/>
                    </a:lnTo>
                    <a:lnTo>
                      <a:pt x="700" y="251"/>
                    </a:lnTo>
                    <a:lnTo>
                      <a:pt x="261" y="266"/>
                    </a:lnTo>
                    <a:lnTo>
                      <a:pt x="145" y="71"/>
                    </a:lnTo>
                    <a:lnTo>
                      <a:pt x="360" y="19"/>
                    </a:lnTo>
                    <a:lnTo>
                      <a:pt x="29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Freeform 238"/>
              <p:cNvSpPr/>
              <p:nvPr/>
            </p:nvSpPr>
            <p:spPr>
              <a:xfrm>
                <a:off x="4758120" y="6508080"/>
                <a:ext cx="137880" cy="10800"/>
              </a:xfrm>
              <a:custGeom>
                <a:avLst/>
                <a:gdLst>
                  <a:gd name="textAreaLeft" fmla="*/ 0 w 137880"/>
                  <a:gd name="textAreaRight" fmla="*/ 138240 w 137880"/>
                  <a:gd name="textAreaTop" fmla="*/ 0 h 10800"/>
                  <a:gd name="textAreaBottom" fmla="*/ 11160 h 10800"/>
                </a:gdLst>
                <a:ahLst/>
                <a:rect l="textAreaLeft" t="textAreaTop" r="textAreaRight" b="textAreaBottom"/>
                <a:pathLst>
                  <a:path w="657" h="84">
                    <a:moveTo>
                      <a:pt x="0" y="84"/>
                    </a:moveTo>
                    <a:lnTo>
                      <a:pt x="113" y="71"/>
                    </a:lnTo>
                    <a:lnTo>
                      <a:pt x="337" y="42"/>
                    </a:lnTo>
                    <a:lnTo>
                      <a:pt x="558" y="13"/>
                    </a:lnTo>
                    <a:lnTo>
                      <a:pt x="657" y="0"/>
                    </a:lnTo>
                    <a:lnTo>
                      <a:pt x="164" y="17"/>
                    </a:lnTo>
                    <a:lnTo>
                      <a:pt x="0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Freeform 239"/>
              <p:cNvSpPr/>
              <p:nvPr/>
            </p:nvSpPr>
            <p:spPr>
              <a:xfrm>
                <a:off x="4518720" y="6242400"/>
                <a:ext cx="383760" cy="59040"/>
              </a:xfrm>
              <a:custGeom>
                <a:avLst/>
                <a:gdLst>
                  <a:gd name="textAreaLeft" fmla="*/ 0 w 383760"/>
                  <a:gd name="textAreaRight" fmla="*/ 384120 w 383760"/>
                  <a:gd name="textAreaTop" fmla="*/ 0 h 59040"/>
                  <a:gd name="textAreaBottom" fmla="*/ 59400 h 59040"/>
                </a:gdLst>
                <a:ahLst/>
                <a:rect l="textAreaLeft" t="textAreaTop" r="textAreaRight" b="textAreaBottom"/>
                <a:pathLst>
                  <a:path w="1825" h="451">
                    <a:moveTo>
                      <a:pt x="1825" y="97"/>
                    </a:moveTo>
                    <a:lnTo>
                      <a:pt x="1527" y="47"/>
                    </a:lnTo>
                    <a:lnTo>
                      <a:pt x="1472" y="4"/>
                    </a:lnTo>
                    <a:lnTo>
                      <a:pt x="1391" y="0"/>
                    </a:lnTo>
                    <a:lnTo>
                      <a:pt x="0" y="308"/>
                    </a:lnTo>
                    <a:lnTo>
                      <a:pt x="451" y="451"/>
                    </a:lnTo>
                    <a:lnTo>
                      <a:pt x="1628" y="153"/>
                    </a:lnTo>
                    <a:lnTo>
                      <a:pt x="433" y="385"/>
                    </a:lnTo>
                    <a:lnTo>
                      <a:pt x="310" y="305"/>
                    </a:lnTo>
                    <a:lnTo>
                      <a:pt x="1400" y="42"/>
                    </a:lnTo>
                    <a:lnTo>
                      <a:pt x="1476" y="63"/>
                    </a:lnTo>
                    <a:lnTo>
                      <a:pt x="1825" y="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Freeform 240"/>
              <p:cNvSpPr/>
              <p:nvPr/>
            </p:nvSpPr>
            <p:spPr>
              <a:xfrm>
                <a:off x="4802760" y="6364440"/>
                <a:ext cx="198720" cy="50400"/>
              </a:xfrm>
              <a:custGeom>
                <a:avLst/>
                <a:gdLst>
                  <a:gd name="textAreaLeft" fmla="*/ 0 w 198720"/>
                  <a:gd name="textAreaRight" fmla="*/ 199080 w 198720"/>
                  <a:gd name="textAreaTop" fmla="*/ 0 h 50400"/>
                  <a:gd name="textAreaBottom" fmla="*/ 50760 h 50400"/>
                </a:gdLst>
                <a:ahLst/>
                <a:rect l="textAreaLeft" t="textAreaTop" r="textAreaRight" b="textAreaBottom"/>
                <a:pathLst>
                  <a:path w="945" h="382">
                    <a:moveTo>
                      <a:pt x="0" y="382"/>
                    </a:moveTo>
                    <a:lnTo>
                      <a:pt x="272" y="118"/>
                    </a:lnTo>
                    <a:lnTo>
                      <a:pt x="663" y="0"/>
                    </a:lnTo>
                    <a:lnTo>
                      <a:pt x="945" y="118"/>
                    </a:lnTo>
                    <a:lnTo>
                      <a:pt x="0" y="382"/>
                    </a:lnTo>
                    <a:close/>
                  </a:path>
                </a:pathLst>
              </a:custGeom>
              <a:solidFill>
                <a:srgbClr val="f7a8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Freeform 241"/>
              <p:cNvSpPr/>
              <p:nvPr/>
            </p:nvSpPr>
            <p:spPr>
              <a:xfrm>
                <a:off x="4705560" y="6353280"/>
                <a:ext cx="353880" cy="154800"/>
              </a:xfrm>
              <a:custGeom>
                <a:avLst/>
                <a:gdLst>
                  <a:gd name="textAreaLeft" fmla="*/ 0 w 353880"/>
                  <a:gd name="textAreaRight" fmla="*/ 354240 w 353880"/>
                  <a:gd name="textAreaTop" fmla="*/ 0 h 154800"/>
                  <a:gd name="textAreaBottom" fmla="*/ 155160 h 154800"/>
                </a:gdLst>
                <a:ahLst/>
                <a:rect l="textAreaLeft" t="textAreaTop" r="textAreaRight" b="textAreaBottom"/>
                <a:pathLst>
                  <a:path w="1682" h="1174">
                    <a:moveTo>
                      <a:pt x="939" y="0"/>
                    </a:moveTo>
                    <a:lnTo>
                      <a:pt x="1648" y="189"/>
                    </a:lnTo>
                    <a:lnTo>
                      <a:pt x="1682" y="300"/>
                    </a:lnTo>
                    <a:lnTo>
                      <a:pt x="1338" y="417"/>
                    </a:lnTo>
                    <a:lnTo>
                      <a:pt x="1293" y="505"/>
                    </a:lnTo>
                    <a:lnTo>
                      <a:pt x="1316" y="605"/>
                    </a:lnTo>
                    <a:lnTo>
                      <a:pt x="1366" y="678"/>
                    </a:lnTo>
                    <a:lnTo>
                      <a:pt x="1465" y="732"/>
                    </a:lnTo>
                    <a:lnTo>
                      <a:pt x="0" y="1174"/>
                    </a:lnTo>
                    <a:lnTo>
                      <a:pt x="1348" y="716"/>
                    </a:lnTo>
                    <a:lnTo>
                      <a:pt x="1259" y="662"/>
                    </a:lnTo>
                    <a:lnTo>
                      <a:pt x="828" y="755"/>
                    </a:lnTo>
                    <a:lnTo>
                      <a:pt x="1237" y="600"/>
                    </a:lnTo>
                    <a:lnTo>
                      <a:pt x="1243" y="473"/>
                    </a:lnTo>
                    <a:lnTo>
                      <a:pt x="368" y="666"/>
                    </a:lnTo>
                    <a:lnTo>
                      <a:pt x="346" y="573"/>
                    </a:lnTo>
                    <a:lnTo>
                      <a:pt x="1642" y="226"/>
                    </a:lnTo>
                    <a:lnTo>
                      <a:pt x="982" y="68"/>
                    </a:lnTo>
                    <a:lnTo>
                      <a:pt x="474" y="235"/>
                    </a:lnTo>
                    <a:lnTo>
                      <a:pt x="93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Freeform 242"/>
              <p:cNvSpPr/>
              <p:nvPr/>
            </p:nvSpPr>
            <p:spPr>
              <a:xfrm>
                <a:off x="4876560" y="6491160"/>
                <a:ext cx="62280" cy="18360"/>
              </a:xfrm>
              <a:custGeom>
                <a:avLst/>
                <a:gdLst>
                  <a:gd name="textAreaLeft" fmla="*/ 0 w 62280"/>
                  <a:gd name="textAreaRight" fmla="*/ 62640 w 6228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297" h="141">
                    <a:moveTo>
                      <a:pt x="197" y="0"/>
                    </a:moveTo>
                    <a:lnTo>
                      <a:pt x="297" y="121"/>
                    </a:lnTo>
                    <a:lnTo>
                      <a:pt x="0" y="141"/>
                    </a:lnTo>
                    <a:lnTo>
                      <a:pt x="169" y="88"/>
                    </a:lnTo>
                    <a:lnTo>
                      <a:pt x="129" y="13"/>
                    </a:lnTo>
                    <a:lnTo>
                      <a:pt x="19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4" name="Group 243"/>
            <p:cNvGrpSpPr/>
            <p:nvPr/>
          </p:nvGrpSpPr>
          <p:grpSpPr>
            <a:xfrm>
              <a:off x="4314960" y="6011280"/>
              <a:ext cx="761400" cy="424440"/>
              <a:chOff x="4314960" y="6011280"/>
              <a:chExt cx="761400" cy="424440"/>
            </a:xfrm>
          </p:grpSpPr>
          <p:sp>
            <p:nvSpPr>
              <p:cNvPr id="585" name="Freeform 244"/>
              <p:cNvSpPr/>
              <p:nvPr/>
            </p:nvSpPr>
            <p:spPr>
              <a:xfrm>
                <a:off x="4366440" y="6059520"/>
                <a:ext cx="540000" cy="361440"/>
              </a:xfrm>
              <a:custGeom>
                <a:avLst/>
                <a:gdLst>
                  <a:gd name="textAreaLeft" fmla="*/ 0 w 540000"/>
                  <a:gd name="textAreaRight" fmla="*/ 540000 w 540000"/>
                  <a:gd name="textAreaTop" fmla="*/ 0 h 361440"/>
                  <a:gd name="textAreaBottom" fmla="*/ 361800 h 361440"/>
                </a:gdLst>
                <a:ahLst/>
                <a:rect l="textAreaLeft" t="textAreaTop" r="textAreaRight" b="textAreaBottom"/>
                <a:pathLst>
                  <a:path w="2566" h="2741">
                    <a:moveTo>
                      <a:pt x="92" y="0"/>
                    </a:moveTo>
                    <a:lnTo>
                      <a:pt x="94" y="307"/>
                    </a:lnTo>
                    <a:lnTo>
                      <a:pt x="10" y="530"/>
                    </a:lnTo>
                    <a:lnTo>
                      <a:pt x="364" y="818"/>
                    </a:lnTo>
                    <a:lnTo>
                      <a:pt x="0" y="1593"/>
                    </a:lnTo>
                    <a:lnTo>
                      <a:pt x="560" y="2741"/>
                    </a:lnTo>
                    <a:lnTo>
                      <a:pt x="1750" y="2587"/>
                    </a:lnTo>
                    <a:lnTo>
                      <a:pt x="2566" y="1882"/>
                    </a:lnTo>
                    <a:lnTo>
                      <a:pt x="1775" y="222"/>
                    </a:lnTo>
                    <a:lnTo>
                      <a:pt x="9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Freeform 245"/>
              <p:cNvSpPr/>
              <p:nvPr/>
            </p:nvSpPr>
            <p:spPr>
              <a:xfrm>
                <a:off x="4348440" y="6182280"/>
                <a:ext cx="122040" cy="12888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128880"/>
                  <a:gd name="textAreaBottom" fmla="*/ 129240 h 128880"/>
                </a:gdLst>
                <a:ahLst/>
                <a:rect l="textAreaLeft" t="textAreaTop" r="textAreaRight" b="textAreaBottom"/>
                <a:pathLst>
                  <a:path w="582" h="978">
                    <a:moveTo>
                      <a:pt x="300" y="0"/>
                    </a:moveTo>
                    <a:lnTo>
                      <a:pt x="0" y="48"/>
                    </a:lnTo>
                    <a:lnTo>
                      <a:pt x="37" y="135"/>
                    </a:lnTo>
                    <a:lnTo>
                      <a:pt x="582" y="978"/>
                    </a:lnTo>
                    <a:lnTo>
                      <a:pt x="339" y="126"/>
                    </a:lnTo>
                    <a:lnTo>
                      <a:pt x="300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Freeform 246"/>
              <p:cNvSpPr/>
              <p:nvPr/>
            </p:nvSpPr>
            <p:spPr>
              <a:xfrm>
                <a:off x="4332240" y="6245280"/>
                <a:ext cx="304200" cy="181080"/>
              </a:xfrm>
              <a:custGeom>
                <a:avLst/>
                <a:gdLst>
                  <a:gd name="textAreaLeft" fmla="*/ 0 w 304200"/>
                  <a:gd name="textAreaRight" fmla="*/ 304560 w 304200"/>
                  <a:gd name="textAreaTop" fmla="*/ 0 h 181080"/>
                  <a:gd name="textAreaBottom" fmla="*/ 181440 h 181080"/>
                </a:gdLst>
                <a:ahLst/>
                <a:rect l="textAreaLeft" t="textAreaTop" r="textAreaRight" b="textAreaBottom"/>
                <a:pathLst>
                  <a:path w="1445" h="1374">
                    <a:moveTo>
                      <a:pt x="247" y="0"/>
                    </a:moveTo>
                    <a:lnTo>
                      <a:pt x="0" y="93"/>
                    </a:lnTo>
                    <a:lnTo>
                      <a:pt x="656" y="1374"/>
                    </a:lnTo>
                    <a:lnTo>
                      <a:pt x="1445" y="1331"/>
                    </a:lnTo>
                    <a:lnTo>
                      <a:pt x="719" y="1182"/>
                    </a:lnTo>
                    <a:lnTo>
                      <a:pt x="204" y="156"/>
                    </a:lnTo>
                    <a:lnTo>
                      <a:pt x="247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Freeform 247"/>
              <p:cNvSpPr/>
              <p:nvPr/>
            </p:nvSpPr>
            <p:spPr>
              <a:xfrm>
                <a:off x="4321800" y="6014880"/>
                <a:ext cx="355680" cy="112680"/>
              </a:xfrm>
              <a:custGeom>
                <a:avLst/>
                <a:gdLst>
                  <a:gd name="textAreaLeft" fmla="*/ 0 w 355680"/>
                  <a:gd name="textAreaRight" fmla="*/ 356040 w 35568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1694" h="855">
                    <a:moveTo>
                      <a:pt x="1463" y="0"/>
                    </a:moveTo>
                    <a:lnTo>
                      <a:pt x="20" y="275"/>
                    </a:lnTo>
                    <a:lnTo>
                      <a:pt x="0" y="335"/>
                    </a:lnTo>
                    <a:lnTo>
                      <a:pt x="1389" y="855"/>
                    </a:lnTo>
                    <a:lnTo>
                      <a:pt x="1694" y="731"/>
                    </a:lnTo>
                    <a:lnTo>
                      <a:pt x="845" y="455"/>
                    </a:lnTo>
                    <a:lnTo>
                      <a:pt x="1509" y="75"/>
                    </a:lnTo>
                    <a:lnTo>
                      <a:pt x="1463" y="0"/>
                    </a:lnTo>
                    <a:close/>
                  </a:path>
                </a:pathLst>
              </a:custGeom>
              <a:solidFill>
                <a:srgbClr val="f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Freeform 248"/>
              <p:cNvSpPr/>
              <p:nvPr/>
            </p:nvSpPr>
            <p:spPr>
              <a:xfrm>
                <a:off x="4330080" y="6111360"/>
                <a:ext cx="379800" cy="107640"/>
              </a:xfrm>
              <a:custGeom>
                <a:avLst/>
                <a:gdLst>
                  <a:gd name="textAreaLeft" fmla="*/ 0 w 379800"/>
                  <a:gd name="textAreaRight" fmla="*/ 380160 w 379800"/>
                  <a:gd name="textAreaTop" fmla="*/ 0 h 107640"/>
                  <a:gd name="textAreaBottom" fmla="*/ 108000 h 107640"/>
                </a:gdLst>
                <a:ahLst/>
                <a:rect l="textAreaLeft" t="textAreaTop" r="textAreaRight" b="textAreaBottom"/>
                <a:pathLst>
                  <a:path w="1806" h="816">
                    <a:moveTo>
                      <a:pt x="241" y="0"/>
                    </a:moveTo>
                    <a:lnTo>
                      <a:pt x="0" y="101"/>
                    </a:lnTo>
                    <a:lnTo>
                      <a:pt x="0" y="172"/>
                    </a:lnTo>
                    <a:lnTo>
                      <a:pt x="1349" y="816"/>
                    </a:lnTo>
                    <a:lnTo>
                      <a:pt x="1779" y="687"/>
                    </a:lnTo>
                    <a:lnTo>
                      <a:pt x="1806" y="570"/>
                    </a:lnTo>
                    <a:lnTo>
                      <a:pt x="1574" y="551"/>
                    </a:lnTo>
                    <a:lnTo>
                      <a:pt x="1344" y="636"/>
                    </a:lnTo>
                    <a:lnTo>
                      <a:pt x="207" y="129"/>
                    </a:lnTo>
                    <a:lnTo>
                      <a:pt x="241" y="0"/>
                    </a:lnTo>
                    <a:close/>
                  </a:path>
                </a:pathLst>
              </a:custGeom>
              <a:solidFill>
                <a:srgbClr val="f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Freeform 249"/>
              <p:cNvSpPr/>
              <p:nvPr/>
            </p:nvSpPr>
            <p:spPr>
              <a:xfrm>
                <a:off x="4396680" y="6162120"/>
                <a:ext cx="286560" cy="142200"/>
              </a:xfrm>
              <a:custGeom>
                <a:avLst/>
                <a:gdLst>
                  <a:gd name="textAreaLeft" fmla="*/ 0 w 286560"/>
                  <a:gd name="textAreaRight" fmla="*/ 286920 w 286560"/>
                  <a:gd name="textAreaTop" fmla="*/ 0 h 142200"/>
                  <a:gd name="textAreaBottom" fmla="*/ 142560 h 142200"/>
                </a:gdLst>
                <a:ahLst/>
                <a:rect l="textAreaLeft" t="textAreaTop" r="textAreaRight" b="textAreaBottom"/>
                <a:pathLst>
                  <a:path w="1360" h="1080">
                    <a:moveTo>
                      <a:pt x="6" y="59"/>
                    </a:moveTo>
                    <a:lnTo>
                      <a:pt x="0" y="180"/>
                    </a:lnTo>
                    <a:lnTo>
                      <a:pt x="10" y="314"/>
                    </a:lnTo>
                    <a:lnTo>
                      <a:pt x="78" y="384"/>
                    </a:lnTo>
                    <a:lnTo>
                      <a:pt x="226" y="419"/>
                    </a:lnTo>
                    <a:lnTo>
                      <a:pt x="805" y="844"/>
                    </a:lnTo>
                    <a:lnTo>
                      <a:pt x="1060" y="1040"/>
                    </a:lnTo>
                    <a:lnTo>
                      <a:pt x="1244" y="1080"/>
                    </a:lnTo>
                    <a:lnTo>
                      <a:pt x="1219" y="835"/>
                    </a:lnTo>
                    <a:lnTo>
                      <a:pt x="1360" y="465"/>
                    </a:lnTo>
                    <a:lnTo>
                      <a:pt x="1075" y="450"/>
                    </a:lnTo>
                    <a:lnTo>
                      <a:pt x="50" y="0"/>
                    </a:lnTo>
                    <a:lnTo>
                      <a:pt x="6" y="59"/>
                    </a:lnTo>
                    <a:close/>
                  </a:path>
                </a:pathLst>
              </a:custGeom>
              <a:solidFill>
                <a:srgbClr val="f7a8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Freeform 250"/>
              <p:cNvSpPr/>
              <p:nvPr/>
            </p:nvSpPr>
            <p:spPr>
              <a:xfrm>
                <a:off x="4570920" y="6040800"/>
                <a:ext cx="346320" cy="51120"/>
              </a:xfrm>
              <a:custGeom>
                <a:avLst/>
                <a:gdLst>
                  <a:gd name="textAreaLeft" fmla="*/ 0 w 346320"/>
                  <a:gd name="textAreaRight" fmla="*/ 346680 w 346320"/>
                  <a:gd name="textAreaTop" fmla="*/ 0 h 51120"/>
                  <a:gd name="textAreaBottom" fmla="*/ 51480 h 51120"/>
                </a:gdLst>
                <a:ahLst/>
                <a:rect l="textAreaLeft" t="textAreaTop" r="textAreaRight" b="textAreaBottom"/>
                <a:pathLst>
                  <a:path w="1646" h="390">
                    <a:moveTo>
                      <a:pt x="0" y="292"/>
                    </a:moveTo>
                    <a:lnTo>
                      <a:pt x="53" y="273"/>
                    </a:lnTo>
                    <a:lnTo>
                      <a:pt x="191" y="238"/>
                    </a:lnTo>
                    <a:lnTo>
                      <a:pt x="281" y="216"/>
                    </a:lnTo>
                    <a:lnTo>
                      <a:pt x="383" y="190"/>
                    </a:lnTo>
                    <a:lnTo>
                      <a:pt x="490" y="165"/>
                    </a:lnTo>
                    <a:lnTo>
                      <a:pt x="602" y="139"/>
                    </a:lnTo>
                    <a:lnTo>
                      <a:pt x="715" y="112"/>
                    </a:lnTo>
                    <a:lnTo>
                      <a:pt x="822" y="87"/>
                    </a:lnTo>
                    <a:lnTo>
                      <a:pt x="924" y="64"/>
                    </a:lnTo>
                    <a:lnTo>
                      <a:pt x="1014" y="43"/>
                    </a:lnTo>
                    <a:lnTo>
                      <a:pt x="1150" y="12"/>
                    </a:lnTo>
                    <a:lnTo>
                      <a:pt x="1202" y="0"/>
                    </a:lnTo>
                    <a:lnTo>
                      <a:pt x="1646" y="75"/>
                    </a:lnTo>
                    <a:lnTo>
                      <a:pt x="158" y="390"/>
                    </a:lnTo>
                    <a:lnTo>
                      <a:pt x="0" y="292"/>
                    </a:lnTo>
                    <a:close/>
                  </a:path>
                </a:pathLst>
              </a:custGeom>
              <a:solidFill>
                <a:srgbClr val="f0ea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Freeform 251"/>
              <p:cNvSpPr/>
              <p:nvPr/>
            </p:nvSpPr>
            <p:spPr>
              <a:xfrm>
                <a:off x="4566600" y="6227280"/>
                <a:ext cx="54360" cy="54720"/>
              </a:xfrm>
              <a:custGeom>
                <a:avLst/>
                <a:gdLst>
                  <a:gd name="textAreaLeft" fmla="*/ 0 w 54360"/>
                  <a:gd name="textAreaRight" fmla="*/ 54720 w 54360"/>
                  <a:gd name="textAreaTop" fmla="*/ 0 h 54720"/>
                  <a:gd name="textAreaBottom" fmla="*/ 55080 h 54720"/>
                </a:gdLst>
                <a:ahLst/>
                <a:rect l="textAreaLeft" t="textAreaTop" r="textAreaRight" b="textAreaBottom"/>
                <a:pathLst>
                  <a:path w="259" h="417">
                    <a:moveTo>
                      <a:pt x="75" y="0"/>
                    </a:moveTo>
                    <a:lnTo>
                      <a:pt x="259" y="21"/>
                    </a:lnTo>
                    <a:lnTo>
                      <a:pt x="135" y="241"/>
                    </a:lnTo>
                    <a:lnTo>
                      <a:pt x="110" y="417"/>
                    </a:lnTo>
                    <a:lnTo>
                      <a:pt x="0" y="350"/>
                    </a:lnTo>
                    <a:lnTo>
                      <a:pt x="25" y="80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f0ea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Freeform 252"/>
              <p:cNvSpPr/>
              <p:nvPr/>
            </p:nvSpPr>
            <p:spPr>
              <a:xfrm>
                <a:off x="4527000" y="6282360"/>
                <a:ext cx="88560" cy="32400"/>
              </a:xfrm>
              <a:custGeom>
                <a:avLst/>
                <a:gdLst>
                  <a:gd name="textAreaLeft" fmla="*/ 0 w 88560"/>
                  <a:gd name="textAreaRight" fmla="*/ 88560 w 88560"/>
                  <a:gd name="textAreaTop" fmla="*/ 0 h 32400"/>
                  <a:gd name="textAreaBottom" fmla="*/ 32760 h 32400"/>
                </a:gdLst>
                <a:ahLst/>
                <a:rect l="textAreaLeft" t="textAreaTop" r="textAreaRight" b="textAreaBottom"/>
                <a:pathLst>
                  <a:path w="423" h="247">
                    <a:moveTo>
                      <a:pt x="0" y="16"/>
                    </a:moveTo>
                    <a:lnTo>
                      <a:pt x="174" y="0"/>
                    </a:lnTo>
                    <a:lnTo>
                      <a:pt x="423" y="201"/>
                    </a:lnTo>
                    <a:lnTo>
                      <a:pt x="44" y="247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f0ea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Freeform 253"/>
              <p:cNvSpPr/>
              <p:nvPr/>
            </p:nvSpPr>
            <p:spPr>
              <a:xfrm>
                <a:off x="4502160" y="6318000"/>
                <a:ext cx="500400" cy="99000"/>
              </a:xfrm>
              <a:custGeom>
                <a:avLst/>
                <a:gdLst>
                  <a:gd name="textAreaLeft" fmla="*/ 0 w 500400"/>
                  <a:gd name="textAreaRight" fmla="*/ 500760 w 500400"/>
                  <a:gd name="textAreaTop" fmla="*/ 0 h 99000"/>
                  <a:gd name="textAreaBottom" fmla="*/ 99360 h 99000"/>
                </a:gdLst>
                <a:ahLst/>
                <a:rect l="textAreaLeft" t="textAreaTop" r="textAreaRight" b="textAreaBottom"/>
                <a:pathLst>
                  <a:path w="2378" h="751">
                    <a:moveTo>
                      <a:pt x="155" y="301"/>
                    </a:moveTo>
                    <a:lnTo>
                      <a:pt x="129" y="450"/>
                    </a:lnTo>
                    <a:lnTo>
                      <a:pt x="0" y="601"/>
                    </a:lnTo>
                    <a:lnTo>
                      <a:pt x="563" y="751"/>
                    </a:lnTo>
                    <a:lnTo>
                      <a:pt x="1684" y="647"/>
                    </a:lnTo>
                    <a:lnTo>
                      <a:pt x="1763" y="616"/>
                    </a:lnTo>
                    <a:lnTo>
                      <a:pt x="1913" y="647"/>
                    </a:lnTo>
                    <a:lnTo>
                      <a:pt x="2042" y="630"/>
                    </a:lnTo>
                    <a:lnTo>
                      <a:pt x="2187" y="607"/>
                    </a:lnTo>
                    <a:lnTo>
                      <a:pt x="2221" y="580"/>
                    </a:lnTo>
                    <a:lnTo>
                      <a:pt x="2276" y="534"/>
                    </a:lnTo>
                    <a:lnTo>
                      <a:pt x="2326" y="490"/>
                    </a:lnTo>
                    <a:lnTo>
                      <a:pt x="2348" y="471"/>
                    </a:lnTo>
                    <a:lnTo>
                      <a:pt x="2378" y="186"/>
                    </a:lnTo>
                    <a:lnTo>
                      <a:pt x="2218" y="0"/>
                    </a:lnTo>
                    <a:lnTo>
                      <a:pt x="1439" y="140"/>
                    </a:lnTo>
                    <a:lnTo>
                      <a:pt x="155" y="301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Freeform 254"/>
              <p:cNvSpPr/>
              <p:nvPr/>
            </p:nvSpPr>
            <p:spPr>
              <a:xfrm>
                <a:off x="4365720" y="6191280"/>
                <a:ext cx="644400" cy="228240"/>
              </a:xfrm>
              <a:custGeom>
                <a:avLst/>
                <a:gdLst>
                  <a:gd name="textAreaLeft" fmla="*/ 0 w 644400"/>
                  <a:gd name="textAreaRight" fmla="*/ 644760 w 644400"/>
                  <a:gd name="textAreaTop" fmla="*/ 0 h 228240"/>
                  <a:gd name="textAreaBottom" fmla="*/ 228600 h 228240"/>
                </a:gdLst>
                <a:ahLst/>
                <a:rect l="textAreaLeft" t="textAreaTop" r="textAreaRight" b="textAreaBottom"/>
                <a:pathLst>
                  <a:path w="3063" h="1730">
                    <a:moveTo>
                      <a:pt x="15" y="29"/>
                    </a:moveTo>
                    <a:lnTo>
                      <a:pt x="134" y="0"/>
                    </a:lnTo>
                    <a:lnTo>
                      <a:pt x="205" y="184"/>
                    </a:lnTo>
                    <a:lnTo>
                      <a:pt x="306" y="212"/>
                    </a:lnTo>
                    <a:lnTo>
                      <a:pt x="880" y="630"/>
                    </a:lnTo>
                    <a:lnTo>
                      <a:pt x="669" y="680"/>
                    </a:lnTo>
                    <a:lnTo>
                      <a:pt x="809" y="936"/>
                    </a:lnTo>
                    <a:lnTo>
                      <a:pt x="1284" y="885"/>
                    </a:lnTo>
                    <a:lnTo>
                      <a:pt x="1594" y="980"/>
                    </a:lnTo>
                    <a:lnTo>
                      <a:pt x="2453" y="705"/>
                    </a:lnTo>
                    <a:lnTo>
                      <a:pt x="2883" y="730"/>
                    </a:lnTo>
                    <a:lnTo>
                      <a:pt x="3063" y="970"/>
                    </a:lnTo>
                    <a:lnTo>
                      <a:pt x="3014" y="1427"/>
                    </a:lnTo>
                    <a:lnTo>
                      <a:pt x="2858" y="1555"/>
                    </a:lnTo>
                    <a:lnTo>
                      <a:pt x="2537" y="1614"/>
                    </a:lnTo>
                    <a:lnTo>
                      <a:pt x="2388" y="1581"/>
                    </a:lnTo>
                    <a:lnTo>
                      <a:pt x="2269" y="1620"/>
                    </a:lnTo>
                    <a:lnTo>
                      <a:pt x="1115" y="1730"/>
                    </a:lnTo>
                    <a:lnTo>
                      <a:pt x="561" y="1594"/>
                    </a:lnTo>
                    <a:lnTo>
                      <a:pt x="964" y="1535"/>
                    </a:lnTo>
                    <a:lnTo>
                      <a:pt x="2554" y="1409"/>
                    </a:lnTo>
                    <a:lnTo>
                      <a:pt x="2808" y="1395"/>
                    </a:lnTo>
                    <a:lnTo>
                      <a:pt x="2908" y="1160"/>
                    </a:lnTo>
                    <a:lnTo>
                      <a:pt x="2892" y="1133"/>
                    </a:lnTo>
                    <a:lnTo>
                      <a:pt x="2855" y="1074"/>
                    </a:lnTo>
                    <a:lnTo>
                      <a:pt x="2834" y="1042"/>
                    </a:lnTo>
                    <a:lnTo>
                      <a:pt x="2815" y="1012"/>
                    </a:lnTo>
                    <a:lnTo>
                      <a:pt x="2788" y="980"/>
                    </a:lnTo>
                    <a:lnTo>
                      <a:pt x="2536" y="1006"/>
                    </a:lnTo>
                    <a:lnTo>
                      <a:pt x="2372" y="1029"/>
                    </a:lnTo>
                    <a:lnTo>
                      <a:pt x="2298" y="1040"/>
                    </a:lnTo>
                    <a:lnTo>
                      <a:pt x="784" y="1215"/>
                    </a:lnTo>
                    <a:lnTo>
                      <a:pt x="703" y="1237"/>
                    </a:lnTo>
                    <a:lnTo>
                      <a:pt x="0" y="119"/>
                    </a:lnTo>
                    <a:lnTo>
                      <a:pt x="459" y="710"/>
                    </a:lnTo>
                    <a:lnTo>
                      <a:pt x="15" y="29"/>
                    </a:lnTo>
                    <a:close/>
                  </a:path>
                </a:pathLst>
              </a:custGeom>
              <a:solidFill>
                <a:srgbClr val="7a7a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Freeform 255"/>
              <p:cNvSpPr/>
              <p:nvPr/>
            </p:nvSpPr>
            <p:spPr>
              <a:xfrm>
                <a:off x="4807080" y="6280200"/>
                <a:ext cx="124920" cy="23760"/>
              </a:xfrm>
              <a:custGeom>
                <a:avLst/>
                <a:gdLst>
                  <a:gd name="textAreaLeft" fmla="*/ 0 w 124920"/>
                  <a:gd name="textAreaRight" fmla="*/ 125280 w 12492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593" h="178">
                    <a:moveTo>
                      <a:pt x="0" y="178"/>
                    </a:moveTo>
                    <a:lnTo>
                      <a:pt x="423" y="161"/>
                    </a:lnTo>
                    <a:lnTo>
                      <a:pt x="593" y="142"/>
                    </a:lnTo>
                    <a:lnTo>
                      <a:pt x="519" y="68"/>
                    </a:lnTo>
                    <a:lnTo>
                      <a:pt x="546" y="0"/>
                    </a:lnTo>
                    <a:lnTo>
                      <a:pt x="380" y="29"/>
                    </a:lnTo>
                    <a:lnTo>
                      <a:pt x="155" y="124"/>
                    </a:lnTo>
                    <a:lnTo>
                      <a:pt x="0" y="178"/>
                    </a:lnTo>
                    <a:close/>
                  </a:path>
                </a:pathLst>
              </a:custGeom>
              <a:solidFill>
                <a:srgbClr val="948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" name="Freeform 256"/>
              <p:cNvSpPr/>
              <p:nvPr/>
            </p:nvSpPr>
            <p:spPr>
              <a:xfrm>
                <a:off x="4559040" y="6219360"/>
                <a:ext cx="55440" cy="6264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62640"/>
                  <a:gd name="textAreaBottom" fmla="*/ 63000 h 62640"/>
                </a:gdLst>
                <a:ahLst/>
                <a:rect l="textAreaLeft" t="textAreaTop" r="textAreaRight" b="textAreaBottom"/>
                <a:pathLst>
                  <a:path w="264" h="477">
                    <a:moveTo>
                      <a:pt x="9" y="420"/>
                    </a:moveTo>
                    <a:lnTo>
                      <a:pt x="0" y="266"/>
                    </a:lnTo>
                    <a:lnTo>
                      <a:pt x="59" y="96"/>
                    </a:lnTo>
                    <a:lnTo>
                      <a:pt x="109" y="0"/>
                    </a:lnTo>
                    <a:lnTo>
                      <a:pt x="264" y="81"/>
                    </a:lnTo>
                    <a:lnTo>
                      <a:pt x="214" y="106"/>
                    </a:lnTo>
                    <a:lnTo>
                      <a:pt x="119" y="131"/>
                    </a:lnTo>
                    <a:lnTo>
                      <a:pt x="73" y="245"/>
                    </a:lnTo>
                    <a:lnTo>
                      <a:pt x="73" y="366"/>
                    </a:lnTo>
                    <a:lnTo>
                      <a:pt x="144" y="477"/>
                    </a:lnTo>
                    <a:lnTo>
                      <a:pt x="9" y="420"/>
                    </a:lnTo>
                    <a:close/>
                  </a:path>
                </a:pathLst>
              </a:custGeom>
              <a:solidFill>
                <a:srgbClr val="b8ad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Freeform 257"/>
              <p:cNvSpPr/>
              <p:nvPr/>
            </p:nvSpPr>
            <p:spPr>
              <a:xfrm>
                <a:off x="4569120" y="6037920"/>
                <a:ext cx="291240" cy="65160"/>
              </a:xfrm>
              <a:custGeom>
                <a:avLst/>
                <a:gdLst>
                  <a:gd name="textAreaLeft" fmla="*/ 0 w 291240"/>
                  <a:gd name="textAreaRight" fmla="*/ 291600 w 291240"/>
                  <a:gd name="textAreaTop" fmla="*/ 0 h 65160"/>
                  <a:gd name="textAreaBottom" fmla="*/ 65520 h 65160"/>
                </a:gdLst>
                <a:ahLst/>
                <a:rect l="textAreaLeft" t="textAreaTop" r="textAreaRight" b="textAreaBottom"/>
                <a:pathLst>
                  <a:path w="1385" h="496">
                    <a:moveTo>
                      <a:pt x="0" y="297"/>
                    </a:moveTo>
                    <a:lnTo>
                      <a:pt x="1110" y="0"/>
                    </a:lnTo>
                    <a:lnTo>
                      <a:pt x="1255" y="31"/>
                    </a:lnTo>
                    <a:lnTo>
                      <a:pt x="269" y="309"/>
                    </a:lnTo>
                    <a:lnTo>
                      <a:pt x="1385" y="121"/>
                    </a:lnTo>
                    <a:lnTo>
                      <a:pt x="291" y="496"/>
                    </a:lnTo>
                    <a:lnTo>
                      <a:pt x="0" y="297"/>
                    </a:lnTo>
                    <a:close/>
                  </a:path>
                </a:pathLst>
              </a:custGeom>
              <a:solidFill>
                <a:srgbClr val="b8ad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Freeform 258"/>
              <p:cNvSpPr/>
              <p:nvPr/>
            </p:nvSpPr>
            <p:spPr>
              <a:xfrm>
                <a:off x="4506840" y="6275160"/>
                <a:ext cx="124920" cy="39240"/>
              </a:xfrm>
              <a:custGeom>
                <a:avLst/>
                <a:gdLst>
                  <a:gd name="textAreaLeft" fmla="*/ 0 w 124920"/>
                  <a:gd name="textAreaRight" fmla="*/ 125280 w 124920"/>
                  <a:gd name="textAreaTop" fmla="*/ 0 h 39240"/>
                  <a:gd name="textAreaBottom" fmla="*/ 39240 h 39240"/>
                </a:gdLst>
                <a:ahLst/>
                <a:rect l="textAreaLeft" t="textAreaTop" r="textAreaRight" b="textAreaBottom"/>
                <a:pathLst>
                  <a:path w="595" h="300">
                    <a:moveTo>
                      <a:pt x="0" y="44"/>
                    </a:moveTo>
                    <a:lnTo>
                      <a:pt x="187" y="0"/>
                    </a:lnTo>
                    <a:lnTo>
                      <a:pt x="428" y="131"/>
                    </a:lnTo>
                    <a:lnTo>
                      <a:pt x="595" y="251"/>
                    </a:lnTo>
                    <a:lnTo>
                      <a:pt x="490" y="269"/>
                    </a:lnTo>
                    <a:lnTo>
                      <a:pt x="375" y="193"/>
                    </a:lnTo>
                    <a:lnTo>
                      <a:pt x="291" y="109"/>
                    </a:lnTo>
                    <a:lnTo>
                      <a:pt x="155" y="94"/>
                    </a:lnTo>
                    <a:lnTo>
                      <a:pt x="140" y="300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b8ad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Freeform 259"/>
              <p:cNvSpPr/>
              <p:nvPr/>
            </p:nvSpPr>
            <p:spPr>
              <a:xfrm>
                <a:off x="4701600" y="6127920"/>
                <a:ext cx="95040" cy="1594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159480"/>
                  <a:gd name="textAreaBottom" fmla="*/ 159840 h 159480"/>
                </a:gdLst>
                <a:ahLst/>
                <a:rect l="textAreaLeft" t="textAreaTop" r="textAreaRight" b="textAreaBottom"/>
                <a:pathLst>
                  <a:path w="452" h="1211">
                    <a:moveTo>
                      <a:pt x="71" y="96"/>
                    </a:moveTo>
                    <a:lnTo>
                      <a:pt x="362" y="0"/>
                    </a:lnTo>
                    <a:lnTo>
                      <a:pt x="452" y="110"/>
                    </a:lnTo>
                    <a:lnTo>
                      <a:pt x="322" y="776"/>
                    </a:lnTo>
                    <a:lnTo>
                      <a:pt x="186" y="896"/>
                    </a:lnTo>
                    <a:lnTo>
                      <a:pt x="182" y="1211"/>
                    </a:lnTo>
                    <a:lnTo>
                      <a:pt x="71" y="1086"/>
                    </a:lnTo>
                    <a:lnTo>
                      <a:pt x="49" y="941"/>
                    </a:lnTo>
                    <a:lnTo>
                      <a:pt x="27" y="841"/>
                    </a:lnTo>
                    <a:lnTo>
                      <a:pt x="5" y="794"/>
                    </a:lnTo>
                    <a:lnTo>
                      <a:pt x="0" y="772"/>
                    </a:lnTo>
                    <a:lnTo>
                      <a:pt x="5" y="716"/>
                    </a:lnTo>
                    <a:lnTo>
                      <a:pt x="30" y="549"/>
                    </a:lnTo>
                    <a:lnTo>
                      <a:pt x="61" y="382"/>
                    </a:lnTo>
                    <a:lnTo>
                      <a:pt x="77" y="305"/>
                    </a:lnTo>
                    <a:lnTo>
                      <a:pt x="37" y="121"/>
                    </a:lnTo>
                    <a:lnTo>
                      <a:pt x="71" y="96"/>
                    </a:lnTo>
                    <a:close/>
                  </a:path>
                </a:pathLst>
              </a:custGeom>
              <a:solidFill>
                <a:srgbClr val="ff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Freeform 260"/>
              <p:cNvSpPr/>
              <p:nvPr/>
            </p:nvSpPr>
            <p:spPr>
              <a:xfrm>
                <a:off x="4712400" y="6121080"/>
                <a:ext cx="99720" cy="16992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69920"/>
                  <a:gd name="textAreaBottom" fmla="*/ 169920 h 169920"/>
                </a:gdLst>
                <a:ahLst/>
                <a:rect l="textAreaLeft" t="textAreaTop" r="textAreaRight" b="textAreaBottom"/>
                <a:pathLst>
                  <a:path w="474" h="1290">
                    <a:moveTo>
                      <a:pt x="0" y="109"/>
                    </a:moveTo>
                    <a:lnTo>
                      <a:pt x="369" y="0"/>
                    </a:lnTo>
                    <a:lnTo>
                      <a:pt x="474" y="214"/>
                    </a:lnTo>
                    <a:lnTo>
                      <a:pt x="310" y="689"/>
                    </a:lnTo>
                    <a:lnTo>
                      <a:pt x="434" y="1005"/>
                    </a:lnTo>
                    <a:lnTo>
                      <a:pt x="230" y="959"/>
                    </a:lnTo>
                    <a:lnTo>
                      <a:pt x="140" y="1290"/>
                    </a:lnTo>
                    <a:lnTo>
                      <a:pt x="57" y="1026"/>
                    </a:lnTo>
                    <a:lnTo>
                      <a:pt x="15" y="779"/>
                    </a:lnTo>
                    <a:lnTo>
                      <a:pt x="90" y="509"/>
                    </a:lnTo>
                    <a:lnTo>
                      <a:pt x="34" y="304"/>
                    </a:lnTo>
                    <a:lnTo>
                      <a:pt x="124" y="214"/>
                    </a:lnTo>
                    <a:lnTo>
                      <a:pt x="230" y="244"/>
                    </a:lnTo>
                    <a:lnTo>
                      <a:pt x="190" y="339"/>
                    </a:lnTo>
                    <a:lnTo>
                      <a:pt x="264" y="390"/>
                    </a:lnTo>
                    <a:lnTo>
                      <a:pt x="115" y="689"/>
                    </a:lnTo>
                    <a:lnTo>
                      <a:pt x="190" y="675"/>
                    </a:lnTo>
                    <a:lnTo>
                      <a:pt x="115" y="900"/>
                    </a:lnTo>
                    <a:lnTo>
                      <a:pt x="214" y="785"/>
                    </a:lnTo>
                    <a:lnTo>
                      <a:pt x="260" y="555"/>
                    </a:lnTo>
                    <a:lnTo>
                      <a:pt x="260" y="484"/>
                    </a:lnTo>
                    <a:lnTo>
                      <a:pt x="339" y="314"/>
                    </a:lnTo>
                    <a:lnTo>
                      <a:pt x="285" y="300"/>
                    </a:lnTo>
                    <a:lnTo>
                      <a:pt x="304" y="170"/>
                    </a:lnTo>
                    <a:lnTo>
                      <a:pt x="180" y="149"/>
                    </a:lnTo>
                    <a:lnTo>
                      <a:pt x="199" y="99"/>
                    </a:lnTo>
                    <a:lnTo>
                      <a:pt x="25" y="195"/>
                    </a:lnTo>
                    <a:lnTo>
                      <a:pt x="0" y="109"/>
                    </a:lnTo>
                    <a:close/>
                  </a:path>
                </a:pathLst>
              </a:custGeom>
              <a:solidFill>
                <a:srgbClr val="ff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" name="Freeform 261"/>
              <p:cNvSpPr/>
              <p:nvPr/>
            </p:nvSpPr>
            <p:spPr>
              <a:xfrm>
                <a:off x="4404240" y="6187320"/>
                <a:ext cx="167040" cy="90000"/>
              </a:xfrm>
              <a:custGeom>
                <a:avLst/>
                <a:gdLst>
                  <a:gd name="textAreaLeft" fmla="*/ 0 w 167040"/>
                  <a:gd name="textAreaRight" fmla="*/ 167400 w 167040"/>
                  <a:gd name="textAreaTop" fmla="*/ 0 h 90000"/>
                  <a:gd name="textAreaBottom" fmla="*/ 90360 h 90000"/>
                </a:gdLst>
                <a:ahLst/>
                <a:rect l="textAreaLeft" t="textAreaTop" r="textAreaRight" b="textAreaBottom"/>
                <a:pathLst>
                  <a:path w="794" h="686">
                    <a:moveTo>
                      <a:pt x="0" y="136"/>
                    </a:moveTo>
                    <a:lnTo>
                      <a:pt x="60" y="40"/>
                    </a:lnTo>
                    <a:lnTo>
                      <a:pt x="134" y="0"/>
                    </a:lnTo>
                    <a:lnTo>
                      <a:pt x="144" y="96"/>
                    </a:lnTo>
                    <a:lnTo>
                      <a:pt x="349" y="291"/>
                    </a:lnTo>
                    <a:lnTo>
                      <a:pt x="653" y="466"/>
                    </a:lnTo>
                    <a:lnTo>
                      <a:pt x="794" y="341"/>
                    </a:lnTo>
                    <a:lnTo>
                      <a:pt x="714" y="686"/>
                    </a:lnTo>
                    <a:lnTo>
                      <a:pt x="100" y="230"/>
                    </a:lnTo>
                    <a:lnTo>
                      <a:pt x="20" y="215"/>
                    </a:lnTo>
                    <a:lnTo>
                      <a:pt x="0" y="136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Freeform 262"/>
              <p:cNvSpPr/>
              <p:nvPr/>
            </p:nvSpPr>
            <p:spPr>
              <a:xfrm>
                <a:off x="4400640" y="6163560"/>
                <a:ext cx="189720" cy="68400"/>
              </a:xfrm>
              <a:custGeom>
                <a:avLst/>
                <a:gdLst>
                  <a:gd name="textAreaLeft" fmla="*/ 0 w 189720"/>
                  <a:gd name="textAreaRight" fmla="*/ 190080 w 189720"/>
                  <a:gd name="textAreaTop" fmla="*/ 0 h 68400"/>
                  <a:gd name="textAreaBottom" fmla="*/ 68760 h 68400"/>
                </a:gdLst>
                <a:ahLst/>
                <a:rect l="textAreaLeft" t="textAreaTop" r="textAreaRight" b="textAreaBottom"/>
                <a:pathLst>
                  <a:path w="902" h="521">
                    <a:moveTo>
                      <a:pt x="32" y="40"/>
                    </a:moveTo>
                    <a:lnTo>
                      <a:pt x="0" y="102"/>
                    </a:lnTo>
                    <a:lnTo>
                      <a:pt x="143" y="121"/>
                    </a:lnTo>
                    <a:lnTo>
                      <a:pt x="767" y="446"/>
                    </a:lnTo>
                    <a:lnTo>
                      <a:pt x="812" y="521"/>
                    </a:lnTo>
                    <a:lnTo>
                      <a:pt x="902" y="435"/>
                    </a:lnTo>
                    <a:lnTo>
                      <a:pt x="93" y="0"/>
                    </a:lnTo>
                    <a:lnTo>
                      <a:pt x="32" y="40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Freeform 263"/>
              <p:cNvSpPr/>
              <p:nvPr/>
            </p:nvSpPr>
            <p:spPr>
              <a:xfrm>
                <a:off x="4596840" y="6201720"/>
                <a:ext cx="475200" cy="118440"/>
              </a:xfrm>
              <a:custGeom>
                <a:avLst/>
                <a:gdLst>
                  <a:gd name="textAreaLeft" fmla="*/ 0 w 475200"/>
                  <a:gd name="textAreaRight" fmla="*/ 475560 w 475200"/>
                  <a:gd name="textAreaTop" fmla="*/ 0 h 118440"/>
                  <a:gd name="textAreaBottom" fmla="*/ 118800 h 118440"/>
                </a:gdLst>
                <a:ahLst/>
                <a:rect l="textAreaLeft" t="textAreaTop" r="textAreaRight" b="textAreaBottom"/>
                <a:pathLst>
                  <a:path w="2259" h="900">
                    <a:moveTo>
                      <a:pt x="11" y="515"/>
                    </a:moveTo>
                    <a:lnTo>
                      <a:pt x="90" y="655"/>
                    </a:lnTo>
                    <a:lnTo>
                      <a:pt x="226" y="709"/>
                    </a:lnTo>
                    <a:lnTo>
                      <a:pt x="231" y="510"/>
                    </a:lnTo>
                    <a:lnTo>
                      <a:pt x="321" y="284"/>
                    </a:lnTo>
                    <a:lnTo>
                      <a:pt x="201" y="345"/>
                    </a:lnTo>
                    <a:lnTo>
                      <a:pt x="155" y="379"/>
                    </a:lnTo>
                    <a:lnTo>
                      <a:pt x="141" y="315"/>
                    </a:lnTo>
                    <a:lnTo>
                      <a:pt x="146" y="184"/>
                    </a:lnTo>
                    <a:lnTo>
                      <a:pt x="511" y="0"/>
                    </a:lnTo>
                    <a:lnTo>
                      <a:pt x="504" y="233"/>
                    </a:lnTo>
                    <a:lnTo>
                      <a:pt x="437" y="283"/>
                    </a:lnTo>
                    <a:lnTo>
                      <a:pt x="390" y="540"/>
                    </a:lnTo>
                    <a:lnTo>
                      <a:pt x="481" y="730"/>
                    </a:lnTo>
                    <a:lnTo>
                      <a:pt x="1885" y="305"/>
                    </a:lnTo>
                    <a:lnTo>
                      <a:pt x="1780" y="100"/>
                    </a:lnTo>
                    <a:lnTo>
                      <a:pt x="2259" y="299"/>
                    </a:lnTo>
                    <a:lnTo>
                      <a:pt x="2179" y="355"/>
                    </a:lnTo>
                    <a:lnTo>
                      <a:pt x="496" y="900"/>
                    </a:lnTo>
                    <a:lnTo>
                      <a:pt x="349" y="864"/>
                    </a:lnTo>
                    <a:lnTo>
                      <a:pt x="46" y="740"/>
                    </a:lnTo>
                    <a:lnTo>
                      <a:pt x="0" y="600"/>
                    </a:lnTo>
                    <a:lnTo>
                      <a:pt x="11" y="515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Freeform 264"/>
              <p:cNvSpPr/>
              <p:nvPr/>
            </p:nvSpPr>
            <p:spPr>
              <a:xfrm>
                <a:off x="4775400" y="6150960"/>
                <a:ext cx="281880" cy="77040"/>
              </a:xfrm>
              <a:custGeom>
                <a:avLst/>
                <a:gdLst>
                  <a:gd name="textAreaLeft" fmla="*/ 0 w 281880"/>
                  <a:gd name="textAreaRight" fmla="*/ 282240 w 281880"/>
                  <a:gd name="textAreaTop" fmla="*/ 0 h 77040"/>
                  <a:gd name="textAreaBottom" fmla="*/ 77400 h 77040"/>
                </a:gdLst>
                <a:ahLst/>
                <a:rect l="textAreaLeft" t="textAreaTop" r="textAreaRight" b="textAreaBottom"/>
                <a:pathLst>
                  <a:path w="1340" h="586">
                    <a:moveTo>
                      <a:pt x="100" y="210"/>
                    </a:moveTo>
                    <a:lnTo>
                      <a:pt x="634" y="0"/>
                    </a:lnTo>
                    <a:lnTo>
                      <a:pt x="1340" y="170"/>
                    </a:lnTo>
                    <a:lnTo>
                      <a:pt x="1208" y="256"/>
                    </a:lnTo>
                    <a:lnTo>
                      <a:pt x="14" y="586"/>
                    </a:lnTo>
                    <a:lnTo>
                      <a:pt x="0" y="436"/>
                    </a:lnTo>
                    <a:lnTo>
                      <a:pt x="100" y="210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Freeform 265"/>
              <p:cNvSpPr/>
              <p:nvPr/>
            </p:nvSpPr>
            <p:spPr>
              <a:xfrm>
                <a:off x="4335840" y="6128640"/>
                <a:ext cx="291240" cy="101160"/>
              </a:xfrm>
              <a:custGeom>
                <a:avLst/>
                <a:gdLst>
                  <a:gd name="textAreaLeft" fmla="*/ 0 w 291240"/>
                  <a:gd name="textAreaRight" fmla="*/ 291600 w 291240"/>
                  <a:gd name="textAreaTop" fmla="*/ 0 h 101160"/>
                  <a:gd name="textAreaBottom" fmla="*/ 101520 h 101160"/>
                </a:gdLst>
                <a:ahLst/>
                <a:rect l="textAreaLeft" t="textAreaTop" r="textAreaRight" b="textAreaBottom"/>
                <a:pathLst>
                  <a:path w="1387" h="770">
                    <a:moveTo>
                      <a:pt x="0" y="45"/>
                    </a:moveTo>
                    <a:lnTo>
                      <a:pt x="24" y="0"/>
                    </a:lnTo>
                    <a:lnTo>
                      <a:pt x="1387" y="659"/>
                    </a:lnTo>
                    <a:lnTo>
                      <a:pt x="1356" y="770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ae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Freeform 266"/>
              <p:cNvSpPr/>
              <p:nvPr/>
            </p:nvSpPr>
            <p:spPr>
              <a:xfrm>
                <a:off x="4384800" y="6062760"/>
                <a:ext cx="587520" cy="124920"/>
              </a:xfrm>
              <a:custGeom>
                <a:avLst/>
                <a:gdLst>
                  <a:gd name="textAreaLeft" fmla="*/ 0 w 587520"/>
                  <a:gd name="textAreaRight" fmla="*/ 587880 w 587520"/>
                  <a:gd name="textAreaTop" fmla="*/ 0 h 124920"/>
                  <a:gd name="textAreaBottom" fmla="*/ 125280 h 124920"/>
                </a:gdLst>
                <a:ahLst/>
                <a:rect l="textAreaLeft" t="textAreaTop" r="textAreaRight" b="textAreaBottom"/>
                <a:pathLst>
                  <a:path w="2793" h="946">
                    <a:moveTo>
                      <a:pt x="9" y="280"/>
                    </a:moveTo>
                    <a:lnTo>
                      <a:pt x="1219" y="716"/>
                    </a:lnTo>
                    <a:lnTo>
                      <a:pt x="1169" y="946"/>
                    </a:lnTo>
                    <a:lnTo>
                      <a:pt x="1433" y="856"/>
                    </a:lnTo>
                    <a:lnTo>
                      <a:pt x="1584" y="795"/>
                    </a:lnTo>
                    <a:lnTo>
                      <a:pt x="1544" y="590"/>
                    </a:lnTo>
                    <a:lnTo>
                      <a:pt x="1928" y="441"/>
                    </a:lnTo>
                    <a:lnTo>
                      <a:pt x="2003" y="586"/>
                    </a:lnTo>
                    <a:lnTo>
                      <a:pt x="1959" y="835"/>
                    </a:lnTo>
                    <a:lnTo>
                      <a:pt x="2498" y="574"/>
                    </a:lnTo>
                    <a:lnTo>
                      <a:pt x="2648" y="586"/>
                    </a:lnTo>
                    <a:lnTo>
                      <a:pt x="2793" y="310"/>
                    </a:lnTo>
                    <a:lnTo>
                      <a:pt x="2778" y="106"/>
                    </a:lnTo>
                    <a:lnTo>
                      <a:pt x="2588" y="0"/>
                    </a:lnTo>
                    <a:lnTo>
                      <a:pt x="1194" y="435"/>
                    </a:lnTo>
                    <a:lnTo>
                      <a:pt x="1089" y="490"/>
                    </a:lnTo>
                    <a:lnTo>
                      <a:pt x="0" y="115"/>
                    </a:lnTo>
                    <a:lnTo>
                      <a:pt x="9" y="280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Freeform 267"/>
              <p:cNvSpPr/>
              <p:nvPr/>
            </p:nvSpPr>
            <p:spPr>
              <a:xfrm>
                <a:off x="4347720" y="6014160"/>
                <a:ext cx="627840" cy="167040"/>
              </a:xfrm>
              <a:custGeom>
                <a:avLst/>
                <a:gdLst>
                  <a:gd name="textAreaLeft" fmla="*/ 0 w 627840"/>
                  <a:gd name="textAreaRight" fmla="*/ 628200 w 627840"/>
                  <a:gd name="textAreaTop" fmla="*/ 0 h 167040"/>
                  <a:gd name="textAreaBottom" fmla="*/ 167400 h 167040"/>
                </a:gdLst>
                <a:ahLst/>
                <a:rect l="textAreaLeft" t="textAreaTop" r="textAreaRight" b="textAreaBottom"/>
                <a:pathLst>
                  <a:path w="2984" h="1267">
                    <a:moveTo>
                      <a:pt x="0" y="316"/>
                    </a:moveTo>
                    <a:lnTo>
                      <a:pt x="1490" y="0"/>
                    </a:lnTo>
                    <a:lnTo>
                      <a:pt x="2284" y="170"/>
                    </a:lnTo>
                    <a:lnTo>
                      <a:pt x="991" y="481"/>
                    </a:lnTo>
                    <a:lnTo>
                      <a:pt x="1291" y="586"/>
                    </a:lnTo>
                    <a:lnTo>
                      <a:pt x="2598" y="266"/>
                    </a:lnTo>
                    <a:lnTo>
                      <a:pt x="2731" y="213"/>
                    </a:lnTo>
                    <a:lnTo>
                      <a:pt x="2904" y="306"/>
                    </a:lnTo>
                    <a:lnTo>
                      <a:pt x="2979" y="421"/>
                    </a:lnTo>
                    <a:lnTo>
                      <a:pt x="2984" y="741"/>
                    </a:lnTo>
                    <a:lnTo>
                      <a:pt x="2824" y="957"/>
                    </a:lnTo>
                    <a:lnTo>
                      <a:pt x="2674" y="967"/>
                    </a:lnTo>
                    <a:lnTo>
                      <a:pt x="2649" y="1032"/>
                    </a:lnTo>
                    <a:lnTo>
                      <a:pt x="2514" y="1097"/>
                    </a:lnTo>
                    <a:lnTo>
                      <a:pt x="2349" y="1147"/>
                    </a:lnTo>
                    <a:lnTo>
                      <a:pt x="2119" y="1267"/>
                    </a:lnTo>
                    <a:lnTo>
                      <a:pt x="2135" y="1206"/>
                    </a:lnTo>
                    <a:lnTo>
                      <a:pt x="2209" y="1026"/>
                    </a:lnTo>
                    <a:lnTo>
                      <a:pt x="2759" y="806"/>
                    </a:lnTo>
                    <a:lnTo>
                      <a:pt x="2864" y="676"/>
                    </a:lnTo>
                    <a:lnTo>
                      <a:pt x="2835" y="446"/>
                    </a:lnTo>
                    <a:lnTo>
                      <a:pt x="2759" y="403"/>
                    </a:lnTo>
                    <a:lnTo>
                      <a:pt x="1375" y="787"/>
                    </a:lnTo>
                    <a:lnTo>
                      <a:pt x="0" y="316"/>
                    </a:lnTo>
                    <a:close/>
                  </a:path>
                </a:pathLst>
              </a:custGeom>
              <a:solidFill>
                <a:srgbClr val="ae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Freeform 268"/>
              <p:cNvSpPr/>
              <p:nvPr/>
            </p:nvSpPr>
            <p:spPr>
              <a:xfrm>
                <a:off x="4677120" y="6199200"/>
                <a:ext cx="322560" cy="102960"/>
              </a:xfrm>
              <a:custGeom>
                <a:avLst/>
                <a:gdLst>
                  <a:gd name="textAreaLeft" fmla="*/ 0 w 322560"/>
                  <a:gd name="textAreaRight" fmla="*/ 322920 w 32256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1534" h="781">
                    <a:moveTo>
                      <a:pt x="509" y="236"/>
                    </a:moveTo>
                    <a:lnTo>
                      <a:pt x="1419" y="0"/>
                    </a:lnTo>
                    <a:lnTo>
                      <a:pt x="1408" y="137"/>
                    </a:lnTo>
                    <a:lnTo>
                      <a:pt x="1423" y="251"/>
                    </a:lnTo>
                    <a:lnTo>
                      <a:pt x="1534" y="331"/>
                    </a:lnTo>
                    <a:lnTo>
                      <a:pt x="115" y="781"/>
                    </a:lnTo>
                    <a:lnTo>
                      <a:pt x="40" y="741"/>
                    </a:lnTo>
                    <a:lnTo>
                      <a:pt x="0" y="611"/>
                    </a:lnTo>
                    <a:lnTo>
                      <a:pt x="55" y="345"/>
                    </a:lnTo>
                    <a:lnTo>
                      <a:pt x="109" y="316"/>
                    </a:lnTo>
                    <a:lnTo>
                      <a:pt x="245" y="586"/>
                    </a:lnTo>
                    <a:lnTo>
                      <a:pt x="316" y="648"/>
                    </a:lnTo>
                    <a:lnTo>
                      <a:pt x="325" y="410"/>
                    </a:lnTo>
                    <a:lnTo>
                      <a:pt x="409" y="331"/>
                    </a:lnTo>
                    <a:lnTo>
                      <a:pt x="577" y="387"/>
                    </a:lnTo>
                    <a:lnTo>
                      <a:pt x="509" y="236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Freeform 269"/>
              <p:cNvSpPr/>
              <p:nvPr/>
            </p:nvSpPr>
            <p:spPr>
              <a:xfrm>
                <a:off x="4622400" y="6165360"/>
                <a:ext cx="98280" cy="34560"/>
              </a:xfrm>
              <a:custGeom>
                <a:avLst/>
                <a:gdLst>
                  <a:gd name="textAreaLeft" fmla="*/ 0 w 98280"/>
                  <a:gd name="textAreaRight" fmla="*/ 98640 w 98280"/>
                  <a:gd name="textAreaTop" fmla="*/ 0 h 34560"/>
                  <a:gd name="textAreaBottom" fmla="*/ 34920 h 34560"/>
                </a:gdLst>
                <a:ahLst/>
                <a:rect l="textAreaLeft" t="textAreaTop" r="textAreaRight" b="textAreaBottom"/>
                <a:pathLst>
                  <a:path w="468" h="264">
                    <a:moveTo>
                      <a:pt x="0" y="229"/>
                    </a:moveTo>
                    <a:lnTo>
                      <a:pt x="310" y="199"/>
                    </a:lnTo>
                    <a:lnTo>
                      <a:pt x="294" y="264"/>
                    </a:lnTo>
                    <a:lnTo>
                      <a:pt x="434" y="210"/>
                    </a:lnTo>
                    <a:lnTo>
                      <a:pt x="468" y="0"/>
                    </a:lnTo>
                    <a:lnTo>
                      <a:pt x="0" y="229"/>
                    </a:lnTo>
                    <a:close/>
                  </a:path>
                </a:pathLst>
              </a:custGeom>
              <a:solidFill>
                <a:srgbClr val="ae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" name="Freeform 270"/>
              <p:cNvSpPr/>
              <p:nvPr/>
            </p:nvSpPr>
            <p:spPr>
              <a:xfrm>
                <a:off x="4314960" y="6011280"/>
                <a:ext cx="645480" cy="142560"/>
              </a:xfrm>
              <a:custGeom>
                <a:avLst/>
                <a:gdLst>
                  <a:gd name="textAreaLeft" fmla="*/ 0 w 645480"/>
                  <a:gd name="textAreaRight" fmla="*/ 645840 w 645480"/>
                  <a:gd name="textAreaTop" fmla="*/ 0 h 142560"/>
                  <a:gd name="textAreaBottom" fmla="*/ 142920 h 142560"/>
                </a:gdLst>
                <a:ahLst/>
                <a:rect l="textAreaLeft" t="textAreaTop" r="textAreaRight" b="textAreaBottom"/>
                <a:pathLst>
                  <a:path w="3069" h="1082">
                    <a:moveTo>
                      <a:pt x="25" y="281"/>
                    </a:moveTo>
                    <a:lnTo>
                      <a:pt x="0" y="384"/>
                    </a:lnTo>
                    <a:lnTo>
                      <a:pt x="272" y="520"/>
                    </a:lnTo>
                    <a:lnTo>
                      <a:pt x="306" y="647"/>
                    </a:lnTo>
                    <a:lnTo>
                      <a:pt x="313" y="757"/>
                    </a:lnTo>
                    <a:lnTo>
                      <a:pt x="279" y="886"/>
                    </a:lnTo>
                    <a:lnTo>
                      <a:pt x="365" y="775"/>
                    </a:lnTo>
                    <a:lnTo>
                      <a:pt x="407" y="647"/>
                    </a:lnTo>
                    <a:lnTo>
                      <a:pt x="399" y="554"/>
                    </a:lnTo>
                    <a:lnTo>
                      <a:pt x="1436" y="920"/>
                    </a:lnTo>
                    <a:lnTo>
                      <a:pt x="2915" y="425"/>
                    </a:lnTo>
                    <a:lnTo>
                      <a:pt x="2958" y="554"/>
                    </a:lnTo>
                    <a:lnTo>
                      <a:pt x="2958" y="698"/>
                    </a:lnTo>
                    <a:lnTo>
                      <a:pt x="2856" y="825"/>
                    </a:lnTo>
                    <a:lnTo>
                      <a:pt x="2371" y="1026"/>
                    </a:lnTo>
                    <a:lnTo>
                      <a:pt x="2345" y="1082"/>
                    </a:lnTo>
                    <a:lnTo>
                      <a:pt x="2908" y="868"/>
                    </a:lnTo>
                    <a:lnTo>
                      <a:pt x="3019" y="791"/>
                    </a:lnTo>
                    <a:lnTo>
                      <a:pt x="3069" y="664"/>
                    </a:lnTo>
                    <a:lnTo>
                      <a:pt x="3053" y="493"/>
                    </a:lnTo>
                    <a:lnTo>
                      <a:pt x="2976" y="400"/>
                    </a:lnTo>
                    <a:lnTo>
                      <a:pt x="2899" y="366"/>
                    </a:lnTo>
                    <a:lnTo>
                      <a:pt x="2695" y="459"/>
                    </a:lnTo>
                    <a:lnTo>
                      <a:pt x="1470" y="748"/>
                    </a:lnTo>
                    <a:lnTo>
                      <a:pt x="282" y="381"/>
                    </a:lnTo>
                    <a:lnTo>
                      <a:pt x="1402" y="809"/>
                    </a:lnTo>
                    <a:lnTo>
                      <a:pt x="1402" y="852"/>
                    </a:lnTo>
                    <a:lnTo>
                      <a:pt x="50" y="357"/>
                    </a:lnTo>
                    <a:lnTo>
                      <a:pt x="93" y="315"/>
                    </a:lnTo>
                    <a:lnTo>
                      <a:pt x="1597" y="43"/>
                    </a:lnTo>
                    <a:lnTo>
                      <a:pt x="2334" y="179"/>
                    </a:lnTo>
                    <a:lnTo>
                      <a:pt x="1556" y="0"/>
                    </a:lnTo>
                    <a:lnTo>
                      <a:pt x="25" y="28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Freeform 271"/>
              <p:cNvSpPr/>
              <p:nvPr/>
            </p:nvSpPr>
            <p:spPr>
              <a:xfrm>
                <a:off x="4316760" y="6106680"/>
                <a:ext cx="398880" cy="126360"/>
              </a:xfrm>
              <a:custGeom>
                <a:avLst/>
                <a:gdLst>
                  <a:gd name="textAreaLeft" fmla="*/ 0 w 398880"/>
                  <a:gd name="textAreaRight" fmla="*/ 399240 w 398880"/>
                  <a:gd name="textAreaTop" fmla="*/ 0 h 126360"/>
                  <a:gd name="textAreaBottom" fmla="*/ 126720 h 126360"/>
                </a:gdLst>
                <a:ahLst/>
                <a:rect l="textAreaLeft" t="textAreaTop" r="textAreaRight" b="textAreaBottom"/>
                <a:pathLst>
                  <a:path w="1894" h="960">
                    <a:moveTo>
                      <a:pt x="321" y="0"/>
                    </a:moveTo>
                    <a:lnTo>
                      <a:pt x="28" y="105"/>
                    </a:lnTo>
                    <a:lnTo>
                      <a:pt x="0" y="211"/>
                    </a:lnTo>
                    <a:lnTo>
                      <a:pt x="1441" y="960"/>
                    </a:lnTo>
                    <a:lnTo>
                      <a:pt x="1840" y="760"/>
                    </a:lnTo>
                    <a:lnTo>
                      <a:pt x="1894" y="626"/>
                    </a:lnTo>
                    <a:lnTo>
                      <a:pt x="1451" y="799"/>
                    </a:lnTo>
                    <a:lnTo>
                      <a:pt x="449" y="338"/>
                    </a:lnTo>
                    <a:lnTo>
                      <a:pt x="1401" y="831"/>
                    </a:lnTo>
                    <a:lnTo>
                      <a:pt x="1423" y="904"/>
                    </a:lnTo>
                    <a:lnTo>
                      <a:pt x="89" y="211"/>
                    </a:lnTo>
                    <a:lnTo>
                      <a:pt x="77" y="149"/>
                    </a:lnTo>
                    <a:lnTo>
                      <a:pt x="316" y="55"/>
                    </a:lnTo>
                    <a:lnTo>
                      <a:pt x="3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Freeform 272"/>
              <p:cNvSpPr/>
              <p:nvPr/>
            </p:nvSpPr>
            <p:spPr>
              <a:xfrm>
                <a:off x="4387320" y="6121080"/>
                <a:ext cx="333000" cy="77040"/>
              </a:xfrm>
              <a:custGeom>
                <a:avLst/>
                <a:gdLst/>
                <a:ahLst/>
                <a:rect l="l" t="t" r="r" b="b"/>
                <a:pathLst>
                  <a:path w="1584" h="584">
                    <a:moveTo>
                      <a:pt x="0" y="83"/>
                    </a:moveTo>
                    <a:lnTo>
                      <a:pt x="1082" y="584"/>
                    </a:lnTo>
                    <a:lnTo>
                      <a:pt x="1584" y="378"/>
                    </a:lnTo>
                    <a:lnTo>
                      <a:pt x="1584" y="335"/>
                    </a:lnTo>
                    <a:lnTo>
                      <a:pt x="1200" y="483"/>
                    </a:lnTo>
                    <a:lnTo>
                      <a:pt x="1255" y="360"/>
                    </a:lnTo>
                    <a:lnTo>
                      <a:pt x="1448" y="282"/>
                    </a:lnTo>
                    <a:lnTo>
                      <a:pt x="1239" y="306"/>
                    </a:lnTo>
                    <a:lnTo>
                      <a:pt x="1227" y="171"/>
                    </a:lnTo>
                    <a:lnTo>
                      <a:pt x="1156" y="22"/>
                    </a:lnTo>
                    <a:lnTo>
                      <a:pt x="1106" y="56"/>
                    </a:lnTo>
                    <a:lnTo>
                      <a:pt x="1167" y="171"/>
                    </a:lnTo>
                    <a:lnTo>
                      <a:pt x="662" y="0"/>
                    </a:lnTo>
                    <a:lnTo>
                      <a:pt x="1167" y="249"/>
                    </a:lnTo>
                    <a:lnTo>
                      <a:pt x="1181" y="325"/>
                    </a:lnTo>
                    <a:lnTo>
                      <a:pt x="1141" y="418"/>
                    </a:lnTo>
                    <a:lnTo>
                      <a:pt x="358" y="111"/>
                    </a:lnTo>
                    <a:lnTo>
                      <a:pt x="1137" y="466"/>
                    </a:lnTo>
                    <a:lnTo>
                      <a:pt x="1082" y="540"/>
                    </a:lnTo>
                    <a:lnTo>
                      <a:pt x="0" y="8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" name="Freeform 273"/>
              <p:cNvSpPr/>
              <p:nvPr/>
            </p:nvSpPr>
            <p:spPr>
              <a:xfrm>
                <a:off x="4665240" y="6091920"/>
                <a:ext cx="233280" cy="192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192600"/>
                  <a:gd name="textAreaBottom" fmla="*/ 192960 h 192600"/>
                </a:gdLst>
                <a:ahLst/>
                <a:rect l="textAreaLeft" t="textAreaTop" r="textAreaRight" b="textAreaBottom"/>
                <a:pathLst>
                  <a:path w="1109" h="1460">
                    <a:moveTo>
                      <a:pt x="0" y="378"/>
                    </a:moveTo>
                    <a:lnTo>
                      <a:pt x="411" y="256"/>
                    </a:lnTo>
                    <a:lnTo>
                      <a:pt x="1109" y="0"/>
                    </a:lnTo>
                    <a:lnTo>
                      <a:pt x="626" y="245"/>
                    </a:lnTo>
                    <a:lnTo>
                      <a:pt x="709" y="346"/>
                    </a:lnTo>
                    <a:lnTo>
                      <a:pt x="709" y="467"/>
                    </a:lnTo>
                    <a:lnTo>
                      <a:pt x="643" y="672"/>
                    </a:lnTo>
                    <a:lnTo>
                      <a:pt x="554" y="895"/>
                    </a:lnTo>
                    <a:lnTo>
                      <a:pt x="550" y="1016"/>
                    </a:lnTo>
                    <a:lnTo>
                      <a:pt x="632" y="1199"/>
                    </a:lnTo>
                    <a:lnTo>
                      <a:pt x="510" y="1055"/>
                    </a:lnTo>
                    <a:lnTo>
                      <a:pt x="494" y="899"/>
                    </a:lnTo>
                    <a:lnTo>
                      <a:pt x="588" y="639"/>
                    </a:lnTo>
                    <a:lnTo>
                      <a:pt x="660" y="450"/>
                    </a:lnTo>
                    <a:lnTo>
                      <a:pt x="550" y="251"/>
                    </a:lnTo>
                    <a:lnTo>
                      <a:pt x="244" y="368"/>
                    </a:lnTo>
                    <a:lnTo>
                      <a:pt x="272" y="428"/>
                    </a:lnTo>
                    <a:lnTo>
                      <a:pt x="294" y="583"/>
                    </a:lnTo>
                    <a:lnTo>
                      <a:pt x="266" y="760"/>
                    </a:lnTo>
                    <a:lnTo>
                      <a:pt x="222" y="933"/>
                    </a:lnTo>
                    <a:lnTo>
                      <a:pt x="206" y="1110"/>
                    </a:lnTo>
                    <a:lnTo>
                      <a:pt x="256" y="1283"/>
                    </a:lnTo>
                    <a:lnTo>
                      <a:pt x="371" y="1460"/>
                    </a:lnTo>
                    <a:lnTo>
                      <a:pt x="250" y="1387"/>
                    </a:lnTo>
                    <a:lnTo>
                      <a:pt x="167" y="1199"/>
                    </a:lnTo>
                    <a:lnTo>
                      <a:pt x="150" y="989"/>
                    </a:lnTo>
                    <a:lnTo>
                      <a:pt x="212" y="716"/>
                    </a:lnTo>
                    <a:lnTo>
                      <a:pt x="234" y="551"/>
                    </a:lnTo>
                    <a:lnTo>
                      <a:pt x="150" y="390"/>
                    </a:lnTo>
                    <a:lnTo>
                      <a:pt x="0" y="37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Freeform 274"/>
              <p:cNvSpPr/>
              <p:nvPr/>
            </p:nvSpPr>
            <p:spPr>
              <a:xfrm>
                <a:off x="4737960" y="6239160"/>
                <a:ext cx="60480" cy="45360"/>
              </a:xfrm>
              <a:custGeom>
                <a:avLst/>
                <a:gdLst>
                  <a:gd name="textAreaLeft" fmla="*/ 0 w 60480"/>
                  <a:gd name="textAreaRight" fmla="*/ 60840 w 60480"/>
                  <a:gd name="textAreaTop" fmla="*/ 0 h 45360"/>
                  <a:gd name="textAreaBottom" fmla="*/ 45720 h 45360"/>
                </a:gdLst>
                <a:ahLst/>
                <a:rect l="textAreaLeft" t="textAreaTop" r="textAreaRight" b="textAreaBottom"/>
                <a:pathLst>
                  <a:path w="288" h="344">
                    <a:moveTo>
                      <a:pt x="27" y="344"/>
                    </a:moveTo>
                    <a:lnTo>
                      <a:pt x="0" y="161"/>
                    </a:lnTo>
                    <a:lnTo>
                      <a:pt x="73" y="0"/>
                    </a:lnTo>
                    <a:lnTo>
                      <a:pt x="139" y="6"/>
                    </a:lnTo>
                    <a:lnTo>
                      <a:pt x="288" y="83"/>
                    </a:lnTo>
                    <a:lnTo>
                      <a:pt x="111" y="66"/>
                    </a:lnTo>
                    <a:lnTo>
                      <a:pt x="49" y="167"/>
                    </a:lnTo>
                    <a:lnTo>
                      <a:pt x="27" y="3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Freeform 275"/>
              <p:cNvSpPr/>
              <p:nvPr/>
            </p:nvSpPr>
            <p:spPr>
              <a:xfrm>
                <a:off x="4788720" y="6044400"/>
                <a:ext cx="191160" cy="142560"/>
              </a:xfrm>
              <a:custGeom>
                <a:avLst/>
                <a:gdLst>
                  <a:gd name="textAreaLeft" fmla="*/ 0 w 191160"/>
                  <a:gd name="textAreaRight" fmla="*/ 191520 w 191160"/>
                  <a:gd name="textAreaTop" fmla="*/ 0 h 142560"/>
                  <a:gd name="textAreaBottom" fmla="*/ 142920 h 142560"/>
                </a:gdLst>
                <a:ahLst/>
                <a:rect l="textAreaLeft" t="textAreaTop" r="textAreaRight" b="textAreaBottom"/>
                <a:pathLst>
                  <a:path w="908" h="1082">
                    <a:moveTo>
                      <a:pt x="66" y="949"/>
                    </a:moveTo>
                    <a:lnTo>
                      <a:pt x="576" y="716"/>
                    </a:lnTo>
                    <a:lnTo>
                      <a:pt x="695" y="703"/>
                    </a:lnTo>
                    <a:lnTo>
                      <a:pt x="781" y="621"/>
                    </a:lnTo>
                    <a:lnTo>
                      <a:pt x="859" y="428"/>
                    </a:lnTo>
                    <a:lnTo>
                      <a:pt x="825" y="161"/>
                    </a:lnTo>
                    <a:lnTo>
                      <a:pt x="700" y="52"/>
                    </a:lnTo>
                    <a:lnTo>
                      <a:pt x="478" y="124"/>
                    </a:lnTo>
                    <a:lnTo>
                      <a:pt x="661" y="0"/>
                    </a:lnTo>
                    <a:lnTo>
                      <a:pt x="781" y="40"/>
                    </a:lnTo>
                    <a:lnTo>
                      <a:pt x="881" y="151"/>
                    </a:lnTo>
                    <a:lnTo>
                      <a:pt x="908" y="372"/>
                    </a:lnTo>
                    <a:lnTo>
                      <a:pt x="897" y="527"/>
                    </a:lnTo>
                    <a:lnTo>
                      <a:pt x="794" y="723"/>
                    </a:lnTo>
                    <a:lnTo>
                      <a:pt x="726" y="765"/>
                    </a:lnTo>
                    <a:lnTo>
                      <a:pt x="604" y="760"/>
                    </a:lnTo>
                    <a:lnTo>
                      <a:pt x="0" y="1082"/>
                    </a:lnTo>
                    <a:lnTo>
                      <a:pt x="66" y="94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" name="Freeform 276"/>
              <p:cNvSpPr/>
              <p:nvPr/>
            </p:nvSpPr>
            <p:spPr>
              <a:xfrm>
                <a:off x="4391640" y="6160680"/>
                <a:ext cx="684720" cy="165960"/>
              </a:xfrm>
              <a:custGeom>
                <a:avLst/>
                <a:gdLst>
                  <a:gd name="textAreaLeft" fmla="*/ 0 w 684720"/>
                  <a:gd name="textAreaRight" fmla="*/ 685080 w 684720"/>
                  <a:gd name="textAreaTop" fmla="*/ 0 h 165960"/>
                  <a:gd name="textAreaBottom" fmla="*/ 166320 h 165960"/>
                </a:gdLst>
                <a:ahLst/>
                <a:rect l="textAreaLeft" t="textAreaTop" r="textAreaRight" b="textAreaBottom"/>
                <a:pathLst>
                  <a:path w="3257" h="1259">
                    <a:moveTo>
                      <a:pt x="44" y="0"/>
                    </a:moveTo>
                    <a:lnTo>
                      <a:pt x="0" y="99"/>
                    </a:lnTo>
                    <a:lnTo>
                      <a:pt x="5" y="321"/>
                    </a:lnTo>
                    <a:lnTo>
                      <a:pt x="66" y="448"/>
                    </a:lnTo>
                    <a:lnTo>
                      <a:pt x="166" y="482"/>
                    </a:lnTo>
                    <a:lnTo>
                      <a:pt x="338" y="625"/>
                    </a:lnTo>
                    <a:lnTo>
                      <a:pt x="758" y="915"/>
                    </a:lnTo>
                    <a:lnTo>
                      <a:pt x="853" y="931"/>
                    </a:lnTo>
                    <a:lnTo>
                      <a:pt x="974" y="997"/>
                    </a:lnTo>
                    <a:lnTo>
                      <a:pt x="1014" y="1076"/>
                    </a:lnTo>
                    <a:lnTo>
                      <a:pt x="1334" y="1242"/>
                    </a:lnTo>
                    <a:lnTo>
                      <a:pt x="1468" y="1259"/>
                    </a:lnTo>
                    <a:lnTo>
                      <a:pt x="3257" y="698"/>
                    </a:lnTo>
                    <a:lnTo>
                      <a:pt x="3241" y="577"/>
                    </a:lnTo>
                    <a:lnTo>
                      <a:pt x="2764" y="426"/>
                    </a:lnTo>
                    <a:lnTo>
                      <a:pt x="3207" y="621"/>
                    </a:lnTo>
                    <a:lnTo>
                      <a:pt x="1446" y="1174"/>
                    </a:lnTo>
                    <a:lnTo>
                      <a:pt x="1334" y="1076"/>
                    </a:lnTo>
                    <a:lnTo>
                      <a:pt x="1279" y="931"/>
                    </a:lnTo>
                    <a:lnTo>
                      <a:pt x="1324" y="648"/>
                    </a:lnTo>
                    <a:lnTo>
                      <a:pt x="1245" y="786"/>
                    </a:lnTo>
                    <a:lnTo>
                      <a:pt x="1229" y="931"/>
                    </a:lnTo>
                    <a:lnTo>
                      <a:pt x="1279" y="1114"/>
                    </a:lnTo>
                    <a:lnTo>
                      <a:pt x="1324" y="1174"/>
                    </a:lnTo>
                    <a:lnTo>
                      <a:pt x="1064" y="1048"/>
                    </a:lnTo>
                    <a:lnTo>
                      <a:pt x="1014" y="925"/>
                    </a:lnTo>
                    <a:lnTo>
                      <a:pt x="1002" y="742"/>
                    </a:lnTo>
                    <a:lnTo>
                      <a:pt x="1036" y="615"/>
                    </a:lnTo>
                    <a:lnTo>
                      <a:pt x="974" y="710"/>
                    </a:lnTo>
                    <a:lnTo>
                      <a:pt x="952" y="842"/>
                    </a:lnTo>
                    <a:lnTo>
                      <a:pt x="941" y="921"/>
                    </a:lnTo>
                    <a:lnTo>
                      <a:pt x="847" y="859"/>
                    </a:lnTo>
                    <a:lnTo>
                      <a:pt x="831" y="698"/>
                    </a:lnTo>
                    <a:lnTo>
                      <a:pt x="881" y="510"/>
                    </a:lnTo>
                    <a:lnTo>
                      <a:pt x="820" y="593"/>
                    </a:lnTo>
                    <a:lnTo>
                      <a:pt x="776" y="720"/>
                    </a:lnTo>
                    <a:lnTo>
                      <a:pt x="776" y="853"/>
                    </a:lnTo>
                    <a:lnTo>
                      <a:pt x="183" y="442"/>
                    </a:lnTo>
                    <a:lnTo>
                      <a:pt x="177" y="321"/>
                    </a:lnTo>
                    <a:lnTo>
                      <a:pt x="183" y="221"/>
                    </a:lnTo>
                    <a:lnTo>
                      <a:pt x="132" y="287"/>
                    </a:lnTo>
                    <a:lnTo>
                      <a:pt x="104" y="394"/>
                    </a:lnTo>
                    <a:lnTo>
                      <a:pt x="44" y="282"/>
                    </a:lnTo>
                    <a:lnTo>
                      <a:pt x="44" y="121"/>
                    </a:lnTo>
                    <a:lnTo>
                      <a:pt x="149" y="54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Freeform 277"/>
              <p:cNvSpPr/>
              <p:nvPr/>
            </p:nvSpPr>
            <p:spPr>
              <a:xfrm>
                <a:off x="4672080" y="6232320"/>
                <a:ext cx="63000" cy="60120"/>
              </a:xfrm>
              <a:custGeom>
                <a:avLst/>
                <a:gdLst>
                  <a:gd name="textAreaLeft" fmla="*/ 0 w 63000"/>
                  <a:gd name="textAreaRight" fmla="*/ 63360 w 63000"/>
                  <a:gd name="textAreaTop" fmla="*/ 0 h 60120"/>
                  <a:gd name="textAreaBottom" fmla="*/ 60480 h 60120"/>
                </a:gdLst>
                <a:ahLst/>
                <a:rect l="textAreaLeft" t="textAreaTop" r="textAreaRight" b="textAreaBottom"/>
                <a:pathLst>
                  <a:path w="300" h="454">
                    <a:moveTo>
                      <a:pt x="145" y="0"/>
                    </a:moveTo>
                    <a:lnTo>
                      <a:pt x="78" y="50"/>
                    </a:lnTo>
                    <a:lnTo>
                      <a:pt x="46" y="138"/>
                    </a:lnTo>
                    <a:lnTo>
                      <a:pt x="0" y="350"/>
                    </a:lnTo>
                    <a:lnTo>
                      <a:pt x="46" y="454"/>
                    </a:lnTo>
                    <a:lnTo>
                      <a:pt x="300" y="372"/>
                    </a:lnTo>
                    <a:lnTo>
                      <a:pt x="239" y="310"/>
                    </a:lnTo>
                    <a:lnTo>
                      <a:pt x="78" y="355"/>
                    </a:lnTo>
                    <a:lnTo>
                      <a:pt x="84" y="183"/>
                    </a:lnTo>
                    <a:lnTo>
                      <a:pt x="156" y="122"/>
                    </a:lnTo>
                    <a:lnTo>
                      <a:pt x="14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" name="Freeform 278"/>
              <p:cNvSpPr/>
              <p:nvPr/>
            </p:nvSpPr>
            <p:spPr>
              <a:xfrm>
                <a:off x="4742640" y="6257520"/>
                <a:ext cx="98280" cy="21240"/>
              </a:xfrm>
              <a:custGeom>
                <a:avLst/>
                <a:gdLst>
                  <a:gd name="textAreaLeft" fmla="*/ 0 w 98280"/>
                  <a:gd name="textAreaRight" fmla="*/ 98640 w 98280"/>
                  <a:gd name="textAreaTop" fmla="*/ 0 h 21240"/>
                  <a:gd name="textAreaBottom" fmla="*/ 21600 h 21240"/>
                </a:gdLst>
                <a:ahLst/>
                <a:rect l="textAreaLeft" t="textAreaTop" r="textAreaRight" b="textAreaBottom"/>
                <a:pathLst>
                  <a:path w="470" h="161">
                    <a:moveTo>
                      <a:pt x="10" y="99"/>
                    </a:moveTo>
                    <a:lnTo>
                      <a:pt x="470" y="0"/>
                    </a:lnTo>
                    <a:lnTo>
                      <a:pt x="0" y="161"/>
                    </a:lnTo>
                    <a:lnTo>
                      <a:pt x="10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" name="Freeform 279"/>
              <p:cNvSpPr/>
              <p:nvPr/>
            </p:nvSpPr>
            <p:spPr>
              <a:xfrm>
                <a:off x="4348440" y="6183720"/>
                <a:ext cx="641520" cy="195480"/>
              </a:xfrm>
              <a:custGeom>
                <a:avLst/>
                <a:gdLst>
                  <a:gd name="textAreaLeft" fmla="*/ 0 w 641520"/>
                  <a:gd name="textAreaRight" fmla="*/ 641880 w 641520"/>
                  <a:gd name="textAreaTop" fmla="*/ 0 h 195480"/>
                  <a:gd name="textAreaBottom" fmla="*/ 195840 h 195480"/>
                </a:gdLst>
                <a:ahLst/>
                <a:rect l="textAreaLeft" t="textAreaTop" r="textAreaRight" b="textAreaBottom"/>
                <a:pathLst>
                  <a:path w="3052" h="1482">
                    <a:moveTo>
                      <a:pt x="243" y="0"/>
                    </a:moveTo>
                    <a:lnTo>
                      <a:pt x="0" y="37"/>
                    </a:lnTo>
                    <a:lnTo>
                      <a:pt x="7" y="126"/>
                    </a:lnTo>
                    <a:lnTo>
                      <a:pt x="770" y="1337"/>
                    </a:lnTo>
                    <a:lnTo>
                      <a:pt x="2809" y="1107"/>
                    </a:lnTo>
                    <a:lnTo>
                      <a:pt x="2903" y="1151"/>
                    </a:lnTo>
                    <a:lnTo>
                      <a:pt x="2957" y="1237"/>
                    </a:lnTo>
                    <a:lnTo>
                      <a:pt x="2892" y="1419"/>
                    </a:lnTo>
                    <a:lnTo>
                      <a:pt x="2554" y="1482"/>
                    </a:lnTo>
                    <a:lnTo>
                      <a:pt x="2906" y="1482"/>
                    </a:lnTo>
                    <a:lnTo>
                      <a:pt x="3052" y="1259"/>
                    </a:lnTo>
                    <a:lnTo>
                      <a:pt x="3044" y="1078"/>
                    </a:lnTo>
                    <a:lnTo>
                      <a:pt x="2980" y="994"/>
                    </a:lnTo>
                    <a:lnTo>
                      <a:pt x="2626" y="1041"/>
                    </a:lnTo>
                    <a:lnTo>
                      <a:pt x="2561" y="1069"/>
                    </a:lnTo>
                    <a:lnTo>
                      <a:pt x="2484" y="1041"/>
                    </a:lnTo>
                    <a:lnTo>
                      <a:pt x="881" y="1230"/>
                    </a:lnTo>
                    <a:lnTo>
                      <a:pt x="384" y="532"/>
                    </a:lnTo>
                    <a:lnTo>
                      <a:pt x="827" y="1236"/>
                    </a:lnTo>
                    <a:lnTo>
                      <a:pt x="787" y="1295"/>
                    </a:lnTo>
                    <a:lnTo>
                      <a:pt x="31" y="70"/>
                    </a:lnTo>
                    <a:lnTo>
                      <a:pt x="224" y="37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" name="Freeform 280"/>
              <p:cNvSpPr/>
              <p:nvPr/>
            </p:nvSpPr>
            <p:spPr>
              <a:xfrm>
                <a:off x="4364640" y="6227280"/>
                <a:ext cx="115200" cy="168840"/>
              </a:xfrm>
              <a:custGeom>
                <a:avLst/>
                <a:gdLst>
                  <a:gd name="textAreaLeft" fmla="*/ 0 w 115200"/>
                  <a:gd name="textAreaRight" fmla="*/ 115560 w 115200"/>
                  <a:gd name="textAreaTop" fmla="*/ 0 h 168840"/>
                  <a:gd name="textAreaBottom" fmla="*/ 169200 h 168840"/>
                </a:gdLst>
                <a:ahLst/>
                <a:rect l="textAreaLeft" t="textAreaTop" r="textAreaRight" b="textAreaBottom"/>
                <a:pathLst>
                  <a:path w="547" h="1281">
                    <a:moveTo>
                      <a:pt x="71" y="0"/>
                    </a:moveTo>
                    <a:lnTo>
                      <a:pt x="82" y="95"/>
                    </a:lnTo>
                    <a:lnTo>
                      <a:pt x="66" y="175"/>
                    </a:lnTo>
                    <a:lnTo>
                      <a:pt x="38" y="228"/>
                    </a:lnTo>
                    <a:lnTo>
                      <a:pt x="0" y="256"/>
                    </a:lnTo>
                    <a:lnTo>
                      <a:pt x="143" y="527"/>
                    </a:lnTo>
                    <a:lnTo>
                      <a:pt x="547" y="1281"/>
                    </a:lnTo>
                    <a:lnTo>
                      <a:pt x="249" y="604"/>
                    </a:lnTo>
                    <a:lnTo>
                      <a:pt x="66" y="256"/>
                    </a:lnTo>
                    <a:lnTo>
                      <a:pt x="243" y="465"/>
                    </a:lnTo>
                    <a:lnTo>
                      <a:pt x="104" y="189"/>
                    </a:lnTo>
                    <a:lnTo>
                      <a:pt x="143" y="89"/>
                    </a:lnTo>
                    <a:lnTo>
                      <a:pt x="7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" name="Freeform 281"/>
              <p:cNvSpPr/>
              <p:nvPr/>
            </p:nvSpPr>
            <p:spPr>
              <a:xfrm>
                <a:off x="4330080" y="6242400"/>
                <a:ext cx="689040" cy="193320"/>
              </a:xfrm>
              <a:custGeom>
                <a:avLst/>
                <a:gdLst>
                  <a:gd name="textAreaLeft" fmla="*/ 0 w 689040"/>
                  <a:gd name="textAreaRight" fmla="*/ 689400 w 689040"/>
                  <a:gd name="textAreaTop" fmla="*/ 0 h 193320"/>
                  <a:gd name="textAreaBottom" fmla="*/ 193680 h 193320"/>
                </a:gdLst>
                <a:ahLst/>
                <a:rect l="textAreaLeft" t="textAreaTop" r="textAreaRight" b="textAreaBottom"/>
                <a:pathLst>
                  <a:path w="3277" h="1467">
                    <a:moveTo>
                      <a:pt x="256" y="0"/>
                    </a:moveTo>
                    <a:lnTo>
                      <a:pt x="120" y="62"/>
                    </a:lnTo>
                    <a:lnTo>
                      <a:pt x="12" y="85"/>
                    </a:lnTo>
                    <a:lnTo>
                      <a:pt x="0" y="157"/>
                    </a:lnTo>
                    <a:lnTo>
                      <a:pt x="445" y="993"/>
                    </a:lnTo>
                    <a:lnTo>
                      <a:pt x="635" y="1467"/>
                    </a:lnTo>
                    <a:lnTo>
                      <a:pt x="2530" y="1233"/>
                    </a:lnTo>
                    <a:lnTo>
                      <a:pt x="2601" y="1210"/>
                    </a:lnTo>
                    <a:lnTo>
                      <a:pt x="2702" y="1244"/>
                    </a:lnTo>
                    <a:lnTo>
                      <a:pt x="3045" y="1198"/>
                    </a:lnTo>
                    <a:lnTo>
                      <a:pt x="3199" y="1056"/>
                    </a:lnTo>
                    <a:lnTo>
                      <a:pt x="3277" y="706"/>
                    </a:lnTo>
                    <a:lnTo>
                      <a:pt x="3223" y="456"/>
                    </a:lnTo>
                    <a:lnTo>
                      <a:pt x="2982" y="245"/>
                    </a:lnTo>
                    <a:lnTo>
                      <a:pt x="2511" y="363"/>
                    </a:lnTo>
                    <a:lnTo>
                      <a:pt x="2933" y="371"/>
                    </a:lnTo>
                    <a:lnTo>
                      <a:pt x="3115" y="510"/>
                    </a:lnTo>
                    <a:lnTo>
                      <a:pt x="3196" y="631"/>
                    </a:lnTo>
                    <a:lnTo>
                      <a:pt x="3202" y="811"/>
                    </a:lnTo>
                    <a:lnTo>
                      <a:pt x="3134" y="1027"/>
                    </a:lnTo>
                    <a:lnTo>
                      <a:pt x="3047" y="1124"/>
                    </a:lnTo>
                    <a:lnTo>
                      <a:pt x="2769" y="1161"/>
                    </a:lnTo>
                    <a:lnTo>
                      <a:pt x="2645" y="1121"/>
                    </a:lnTo>
                    <a:lnTo>
                      <a:pt x="2477" y="1205"/>
                    </a:lnTo>
                    <a:lnTo>
                      <a:pt x="688" y="1360"/>
                    </a:lnTo>
                    <a:lnTo>
                      <a:pt x="53" y="107"/>
                    </a:lnTo>
                    <a:lnTo>
                      <a:pt x="270" y="41"/>
                    </a:lnTo>
                    <a:lnTo>
                      <a:pt x="2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" name="Freeform 282"/>
              <p:cNvSpPr/>
              <p:nvPr/>
            </p:nvSpPr>
            <p:spPr>
              <a:xfrm>
                <a:off x="4484160" y="6336720"/>
                <a:ext cx="348120" cy="64440"/>
              </a:xfrm>
              <a:custGeom>
                <a:avLst/>
                <a:gdLst>
                  <a:gd name="textAreaLeft" fmla="*/ 0 w 348120"/>
                  <a:gd name="textAreaRight" fmla="*/ 348480 w 348120"/>
                  <a:gd name="textAreaTop" fmla="*/ 0 h 64440"/>
                  <a:gd name="textAreaBottom" fmla="*/ 64800 h 64440"/>
                </a:gdLst>
                <a:ahLst/>
                <a:rect l="textAreaLeft" t="textAreaTop" r="textAreaRight" b="textAreaBottom"/>
                <a:pathLst>
                  <a:path w="1656" h="489">
                    <a:moveTo>
                      <a:pt x="0" y="489"/>
                    </a:moveTo>
                    <a:lnTo>
                      <a:pt x="133" y="366"/>
                    </a:lnTo>
                    <a:lnTo>
                      <a:pt x="193" y="256"/>
                    </a:lnTo>
                    <a:lnTo>
                      <a:pt x="177" y="123"/>
                    </a:lnTo>
                    <a:lnTo>
                      <a:pt x="1202" y="0"/>
                    </a:lnTo>
                    <a:lnTo>
                      <a:pt x="288" y="157"/>
                    </a:lnTo>
                    <a:lnTo>
                      <a:pt x="248" y="267"/>
                    </a:lnTo>
                    <a:lnTo>
                      <a:pt x="1030" y="223"/>
                    </a:lnTo>
                    <a:lnTo>
                      <a:pt x="232" y="340"/>
                    </a:lnTo>
                    <a:lnTo>
                      <a:pt x="187" y="384"/>
                    </a:lnTo>
                    <a:lnTo>
                      <a:pt x="143" y="411"/>
                    </a:lnTo>
                    <a:lnTo>
                      <a:pt x="1656" y="328"/>
                    </a:lnTo>
                    <a:lnTo>
                      <a:pt x="0" y="48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Freeform 283"/>
              <p:cNvSpPr/>
              <p:nvPr/>
            </p:nvSpPr>
            <p:spPr>
              <a:xfrm>
                <a:off x="4484520" y="6275160"/>
                <a:ext cx="159480" cy="43920"/>
              </a:xfrm>
              <a:custGeom>
                <a:avLst/>
                <a:gdLst>
                  <a:gd name="textAreaLeft" fmla="*/ 0 w 159480"/>
                  <a:gd name="textAreaRight" fmla="*/ 159480 w 159480"/>
                  <a:gd name="textAreaTop" fmla="*/ 0 h 43920"/>
                  <a:gd name="textAreaBottom" fmla="*/ 44280 h 43920"/>
                </a:gdLst>
                <a:ahLst/>
                <a:rect l="textAreaLeft" t="textAreaTop" r="textAreaRight" b="textAreaBottom"/>
                <a:pathLst>
                  <a:path w="759" h="332">
                    <a:moveTo>
                      <a:pt x="292" y="0"/>
                    </a:moveTo>
                    <a:lnTo>
                      <a:pt x="0" y="15"/>
                    </a:lnTo>
                    <a:lnTo>
                      <a:pt x="221" y="332"/>
                    </a:lnTo>
                    <a:lnTo>
                      <a:pt x="759" y="291"/>
                    </a:lnTo>
                    <a:lnTo>
                      <a:pt x="700" y="251"/>
                    </a:lnTo>
                    <a:lnTo>
                      <a:pt x="261" y="266"/>
                    </a:lnTo>
                    <a:lnTo>
                      <a:pt x="145" y="71"/>
                    </a:lnTo>
                    <a:lnTo>
                      <a:pt x="360" y="19"/>
                    </a:lnTo>
                    <a:lnTo>
                      <a:pt x="29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Freeform 284"/>
              <p:cNvSpPr/>
              <p:nvPr/>
            </p:nvSpPr>
            <p:spPr>
              <a:xfrm>
                <a:off x="4758120" y="6301800"/>
                <a:ext cx="137880" cy="10800"/>
              </a:xfrm>
              <a:custGeom>
                <a:avLst/>
                <a:gdLst>
                  <a:gd name="textAreaLeft" fmla="*/ 0 w 137880"/>
                  <a:gd name="textAreaRight" fmla="*/ 138240 w 137880"/>
                  <a:gd name="textAreaTop" fmla="*/ 0 h 10800"/>
                  <a:gd name="textAreaBottom" fmla="*/ 11160 h 10800"/>
                </a:gdLst>
                <a:ahLst/>
                <a:rect l="textAreaLeft" t="textAreaTop" r="textAreaRight" b="textAreaBottom"/>
                <a:pathLst>
                  <a:path w="657" h="84">
                    <a:moveTo>
                      <a:pt x="0" y="84"/>
                    </a:moveTo>
                    <a:lnTo>
                      <a:pt x="113" y="71"/>
                    </a:lnTo>
                    <a:lnTo>
                      <a:pt x="337" y="42"/>
                    </a:lnTo>
                    <a:lnTo>
                      <a:pt x="558" y="13"/>
                    </a:lnTo>
                    <a:lnTo>
                      <a:pt x="657" y="0"/>
                    </a:lnTo>
                    <a:lnTo>
                      <a:pt x="164" y="17"/>
                    </a:lnTo>
                    <a:lnTo>
                      <a:pt x="0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Freeform 285"/>
              <p:cNvSpPr/>
              <p:nvPr/>
            </p:nvSpPr>
            <p:spPr>
              <a:xfrm>
                <a:off x="4518720" y="6036120"/>
                <a:ext cx="383760" cy="59040"/>
              </a:xfrm>
              <a:custGeom>
                <a:avLst/>
                <a:gdLst>
                  <a:gd name="textAreaLeft" fmla="*/ 0 w 383760"/>
                  <a:gd name="textAreaRight" fmla="*/ 384120 w 383760"/>
                  <a:gd name="textAreaTop" fmla="*/ 0 h 59040"/>
                  <a:gd name="textAreaBottom" fmla="*/ 59400 h 59040"/>
                </a:gdLst>
                <a:ahLst/>
                <a:rect l="textAreaLeft" t="textAreaTop" r="textAreaRight" b="textAreaBottom"/>
                <a:pathLst>
                  <a:path w="1825" h="451">
                    <a:moveTo>
                      <a:pt x="1825" y="97"/>
                    </a:moveTo>
                    <a:lnTo>
                      <a:pt x="1527" y="47"/>
                    </a:lnTo>
                    <a:lnTo>
                      <a:pt x="1472" y="4"/>
                    </a:lnTo>
                    <a:lnTo>
                      <a:pt x="1391" y="0"/>
                    </a:lnTo>
                    <a:lnTo>
                      <a:pt x="0" y="308"/>
                    </a:lnTo>
                    <a:lnTo>
                      <a:pt x="451" y="451"/>
                    </a:lnTo>
                    <a:lnTo>
                      <a:pt x="1628" y="153"/>
                    </a:lnTo>
                    <a:lnTo>
                      <a:pt x="433" y="385"/>
                    </a:lnTo>
                    <a:lnTo>
                      <a:pt x="310" y="305"/>
                    </a:lnTo>
                    <a:lnTo>
                      <a:pt x="1400" y="42"/>
                    </a:lnTo>
                    <a:lnTo>
                      <a:pt x="1476" y="63"/>
                    </a:lnTo>
                    <a:lnTo>
                      <a:pt x="1825" y="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Freeform 286"/>
              <p:cNvSpPr/>
              <p:nvPr/>
            </p:nvSpPr>
            <p:spPr>
              <a:xfrm>
                <a:off x="4802760" y="6158160"/>
                <a:ext cx="198720" cy="50400"/>
              </a:xfrm>
              <a:custGeom>
                <a:avLst/>
                <a:gdLst>
                  <a:gd name="textAreaLeft" fmla="*/ 0 w 198720"/>
                  <a:gd name="textAreaRight" fmla="*/ 199080 w 198720"/>
                  <a:gd name="textAreaTop" fmla="*/ 0 h 50400"/>
                  <a:gd name="textAreaBottom" fmla="*/ 50760 h 50400"/>
                </a:gdLst>
                <a:ahLst/>
                <a:rect l="textAreaLeft" t="textAreaTop" r="textAreaRight" b="textAreaBottom"/>
                <a:pathLst>
                  <a:path w="945" h="382">
                    <a:moveTo>
                      <a:pt x="0" y="382"/>
                    </a:moveTo>
                    <a:lnTo>
                      <a:pt x="272" y="118"/>
                    </a:lnTo>
                    <a:lnTo>
                      <a:pt x="663" y="0"/>
                    </a:lnTo>
                    <a:lnTo>
                      <a:pt x="945" y="118"/>
                    </a:lnTo>
                    <a:lnTo>
                      <a:pt x="0" y="382"/>
                    </a:lnTo>
                    <a:close/>
                  </a:path>
                </a:pathLst>
              </a:custGeom>
              <a:solidFill>
                <a:srgbClr val="f7a8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Freeform 287"/>
              <p:cNvSpPr/>
              <p:nvPr/>
            </p:nvSpPr>
            <p:spPr>
              <a:xfrm>
                <a:off x="4705560" y="6147000"/>
                <a:ext cx="353880" cy="154800"/>
              </a:xfrm>
              <a:custGeom>
                <a:avLst/>
                <a:gdLst>
                  <a:gd name="textAreaLeft" fmla="*/ 0 w 353880"/>
                  <a:gd name="textAreaRight" fmla="*/ 354240 w 353880"/>
                  <a:gd name="textAreaTop" fmla="*/ 0 h 154800"/>
                  <a:gd name="textAreaBottom" fmla="*/ 155160 h 154800"/>
                </a:gdLst>
                <a:ahLst/>
                <a:rect l="textAreaLeft" t="textAreaTop" r="textAreaRight" b="textAreaBottom"/>
                <a:pathLst>
                  <a:path w="1682" h="1174">
                    <a:moveTo>
                      <a:pt x="939" y="0"/>
                    </a:moveTo>
                    <a:lnTo>
                      <a:pt x="1648" y="189"/>
                    </a:lnTo>
                    <a:lnTo>
                      <a:pt x="1682" y="300"/>
                    </a:lnTo>
                    <a:lnTo>
                      <a:pt x="1338" y="417"/>
                    </a:lnTo>
                    <a:lnTo>
                      <a:pt x="1293" y="505"/>
                    </a:lnTo>
                    <a:lnTo>
                      <a:pt x="1316" y="605"/>
                    </a:lnTo>
                    <a:lnTo>
                      <a:pt x="1366" y="678"/>
                    </a:lnTo>
                    <a:lnTo>
                      <a:pt x="1465" y="732"/>
                    </a:lnTo>
                    <a:lnTo>
                      <a:pt x="0" y="1174"/>
                    </a:lnTo>
                    <a:lnTo>
                      <a:pt x="1348" y="716"/>
                    </a:lnTo>
                    <a:lnTo>
                      <a:pt x="1259" y="662"/>
                    </a:lnTo>
                    <a:lnTo>
                      <a:pt x="828" y="755"/>
                    </a:lnTo>
                    <a:lnTo>
                      <a:pt x="1237" y="600"/>
                    </a:lnTo>
                    <a:lnTo>
                      <a:pt x="1243" y="473"/>
                    </a:lnTo>
                    <a:lnTo>
                      <a:pt x="368" y="666"/>
                    </a:lnTo>
                    <a:lnTo>
                      <a:pt x="346" y="573"/>
                    </a:lnTo>
                    <a:lnTo>
                      <a:pt x="1642" y="226"/>
                    </a:lnTo>
                    <a:lnTo>
                      <a:pt x="982" y="68"/>
                    </a:lnTo>
                    <a:lnTo>
                      <a:pt x="474" y="235"/>
                    </a:lnTo>
                    <a:lnTo>
                      <a:pt x="93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Freeform 288"/>
              <p:cNvSpPr/>
              <p:nvPr/>
            </p:nvSpPr>
            <p:spPr>
              <a:xfrm>
                <a:off x="4876560" y="6284880"/>
                <a:ext cx="62280" cy="18360"/>
              </a:xfrm>
              <a:custGeom>
                <a:avLst/>
                <a:gdLst>
                  <a:gd name="textAreaLeft" fmla="*/ 0 w 62280"/>
                  <a:gd name="textAreaRight" fmla="*/ 62640 w 6228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297" h="141">
                    <a:moveTo>
                      <a:pt x="197" y="0"/>
                    </a:moveTo>
                    <a:lnTo>
                      <a:pt x="297" y="121"/>
                    </a:lnTo>
                    <a:lnTo>
                      <a:pt x="0" y="141"/>
                    </a:lnTo>
                    <a:lnTo>
                      <a:pt x="169" y="88"/>
                    </a:lnTo>
                    <a:lnTo>
                      <a:pt x="129" y="13"/>
                    </a:lnTo>
                    <a:lnTo>
                      <a:pt x="19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0" name="Group 289"/>
            <p:cNvGrpSpPr/>
            <p:nvPr/>
          </p:nvGrpSpPr>
          <p:grpSpPr>
            <a:xfrm>
              <a:off x="4314960" y="6062760"/>
              <a:ext cx="761400" cy="424440"/>
              <a:chOff x="4314960" y="6062760"/>
              <a:chExt cx="761400" cy="424440"/>
            </a:xfrm>
          </p:grpSpPr>
          <p:sp>
            <p:nvSpPr>
              <p:cNvPr id="631" name="Freeform 290"/>
              <p:cNvSpPr/>
              <p:nvPr/>
            </p:nvSpPr>
            <p:spPr>
              <a:xfrm>
                <a:off x="4366440" y="6111000"/>
                <a:ext cx="540000" cy="361440"/>
              </a:xfrm>
              <a:custGeom>
                <a:avLst/>
                <a:gdLst>
                  <a:gd name="textAreaLeft" fmla="*/ 0 w 540000"/>
                  <a:gd name="textAreaRight" fmla="*/ 540000 w 540000"/>
                  <a:gd name="textAreaTop" fmla="*/ 0 h 361440"/>
                  <a:gd name="textAreaBottom" fmla="*/ 361800 h 361440"/>
                </a:gdLst>
                <a:ahLst/>
                <a:rect l="textAreaLeft" t="textAreaTop" r="textAreaRight" b="textAreaBottom"/>
                <a:pathLst>
                  <a:path w="2566" h="2741">
                    <a:moveTo>
                      <a:pt x="92" y="0"/>
                    </a:moveTo>
                    <a:lnTo>
                      <a:pt x="94" y="307"/>
                    </a:lnTo>
                    <a:lnTo>
                      <a:pt x="10" y="530"/>
                    </a:lnTo>
                    <a:lnTo>
                      <a:pt x="364" y="818"/>
                    </a:lnTo>
                    <a:lnTo>
                      <a:pt x="0" y="1593"/>
                    </a:lnTo>
                    <a:lnTo>
                      <a:pt x="560" y="2741"/>
                    </a:lnTo>
                    <a:lnTo>
                      <a:pt x="1750" y="2587"/>
                    </a:lnTo>
                    <a:lnTo>
                      <a:pt x="2566" y="1882"/>
                    </a:lnTo>
                    <a:lnTo>
                      <a:pt x="1775" y="222"/>
                    </a:lnTo>
                    <a:lnTo>
                      <a:pt x="9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Freeform 291"/>
              <p:cNvSpPr/>
              <p:nvPr/>
            </p:nvSpPr>
            <p:spPr>
              <a:xfrm>
                <a:off x="4348440" y="6233760"/>
                <a:ext cx="122040" cy="12888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128880"/>
                  <a:gd name="textAreaBottom" fmla="*/ 129240 h 128880"/>
                </a:gdLst>
                <a:ahLst/>
                <a:rect l="textAreaLeft" t="textAreaTop" r="textAreaRight" b="textAreaBottom"/>
                <a:pathLst>
                  <a:path w="582" h="978">
                    <a:moveTo>
                      <a:pt x="300" y="0"/>
                    </a:moveTo>
                    <a:lnTo>
                      <a:pt x="0" y="48"/>
                    </a:lnTo>
                    <a:lnTo>
                      <a:pt x="37" y="135"/>
                    </a:lnTo>
                    <a:lnTo>
                      <a:pt x="582" y="978"/>
                    </a:lnTo>
                    <a:lnTo>
                      <a:pt x="339" y="126"/>
                    </a:lnTo>
                    <a:lnTo>
                      <a:pt x="300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Freeform 292"/>
              <p:cNvSpPr/>
              <p:nvPr/>
            </p:nvSpPr>
            <p:spPr>
              <a:xfrm>
                <a:off x="4332240" y="6296760"/>
                <a:ext cx="304200" cy="181080"/>
              </a:xfrm>
              <a:custGeom>
                <a:avLst/>
                <a:gdLst>
                  <a:gd name="textAreaLeft" fmla="*/ 0 w 304200"/>
                  <a:gd name="textAreaRight" fmla="*/ 304560 w 304200"/>
                  <a:gd name="textAreaTop" fmla="*/ 0 h 181080"/>
                  <a:gd name="textAreaBottom" fmla="*/ 181440 h 181080"/>
                </a:gdLst>
                <a:ahLst/>
                <a:rect l="textAreaLeft" t="textAreaTop" r="textAreaRight" b="textAreaBottom"/>
                <a:pathLst>
                  <a:path w="1445" h="1374">
                    <a:moveTo>
                      <a:pt x="247" y="0"/>
                    </a:moveTo>
                    <a:lnTo>
                      <a:pt x="0" y="93"/>
                    </a:lnTo>
                    <a:lnTo>
                      <a:pt x="656" y="1374"/>
                    </a:lnTo>
                    <a:lnTo>
                      <a:pt x="1445" y="1331"/>
                    </a:lnTo>
                    <a:lnTo>
                      <a:pt x="719" y="1182"/>
                    </a:lnTo>
                    <a:lnTo>
                      <a:pt x="204" y="156"/>
                    </a:lnTo>
                    <a:lnTo>
                      <a:pt x="247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Freeform 293"/>
              <p:cNvSpPr/>
              <p:nvPr/>
            </p:nvSpPr>
            <p:spPr>
              <a:xfrm>
                <a:off x="4321800" y="6066360"/>
                <a:ext cx="355680" cy="112680"/>
              </a:xfrm>
              <a:custGeom>
                <a:avLst/>
                <a:gdLst>
                  <a:gd name="textAreaLeft" fmla="*/ 0 w 355680"/>
                  <a:gd name="textAreaRight" fmla="*/ 356040 w 35568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1694" h="855">
                    <a:moveTo>
                      <a:pt x="1463" y="0"/>
                    </a:moveTo>
                    <a:lnTo>
                      <a:pt x="20" y="275"/>
                    </a:lnTo>
                    <a:lnTo>
                      <a:pt x="0" y="335"/>
                    </a:lnTo>
                    <a:lnTo>
                      <a:pt x="1389" y="855"/>
                    </a:lnTo>
                    <a:lnTo>
                      <a:pt x="1694" y="731"/>
                    </a:lnTo>
                    <a:lnTo>
                      <a:pt x="845" y="455"/>
                    </a:lnTo>
                    <a:lnTo>
                      <a:pt x="1509" y="75"/>
                    </a:lnTo>
                    <a:lnTo>
                      <a:pt x="1463" y="0"/>
                    </a:lnTo>
                    <a:close/>
                  </a:path>
                </a:pathLst>
              </a:custGeom>
              <a:solidFill>
                <a:srgbClr val="f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Freeform 294"/>
              <p:cNvSpPr/>
              <p:nvPr/>
            </p:nvSpPr>
            <p:spPr>
              <a:xfrm>
                <a:off x="4330080" y="6162840"/>
                <a:ext cx="379800" cy="107640"/>
              </a:xfrm>
              <a:custGeom>
                <a:avLst/>
                <a:gdLst>
                  <a:gd name="textAreaLeft" fmla="*/ 0 w 379800"/>
                  <a:gd name="textAreaRight" fmla="*/ 380160 w 379800"/>
                  <a:gd name="textAreaTop" fmla="*/ 0 h 107640"/>
                  <a:gd name="textAreaBottom" fmla="*/ 108000 h 107640"/>
                </a:gdLst>
                <a:ahLst/>
                <a:rect l="textAreaLeft" t="textAreaTop" r="textAreaRight" b="textAreaBottom"/>
                <a:pathLst>
                  <a:path w="1806" h="816">
                    <a:moveTo>
                      <a:pt x="241" y="0"/>
                    </a:moveTo>
                    <a:lnTo>
                      <a:pt x="0" y="101"/>
                    </a:lnTo>
                    <a:lnTo>
                      <a:pt x="0" y="172"/>
                    </a:lnTo>
                    <a:lnTo>
                      <a:pt x="1349" y="816"/>
                    </a:lnTo>
                    <a:lnTo>
                      <a:pt x="1779" y="687"/>
                    </a:lnTo>
                    <a:lnTo>
                      <a:pt x="1806" y="570"/>
                    </a:lnTo>
                    <a:lnTo>
                      <a:pt x="1574" y="551"/>
                    </a:lnTo>
                    <a:lnTo>
                      <a:pt x="1344" y="636"/>
                    </a:lnTo>
                    <a:lnTo>
                      <a:pt x="207" y="129"/>
                    </a:lnTo>
                    <a:lnTo>
                      <a:pt x="241" y="0"/>
                    </a:lnTo>
                    <a:close/>
                  </a:path>
                </a:pathLst>
              </a:custGeom>
              <a:solidFill>
                <a:srgbClr val="f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Freeform 295"/>
              <p:cNvSpPr/>
              <p:nvPr/>
            </p:nvSpPr>
            <p:spPr>
              <a:xfrm>
                <a:off x="4396680" y="6213600"/>
                <a:ext cx="286560" cy="142200"/>
              </a:xfrm>
              <a:custGeom>
                <a:avLst/>
                <a:gdLst>
                  <a:gd name="textAreaLeft" fmla="*/ 0 w 286560"/>
                  <a:gd name="textAreaRight" fmla="*/ 286920 w 286560"/>
                  <a:gd name="textAreaTop" fmla="*/ 0 h 142200"/>
                  <a:gd name="textAreaBottom" fmla="*/ 142560 h 142200"/>
                </a:gdLst>
                <a:ahLst/>
                <a:rect l="textAreaLeft" t="textAreaTop" r="textAreaRight" b="textAreaBottom"/>
                <a:pathLst>
                  <a:path w="1360" h="1080">
                    <a:moveTo>
                      <a:pt x="6" y="59"/>
                    </a:moveTo>
                    <a:lnTo>
                      <a:pt x="0" y="180"/>
                    </a:lnTo>
                    <a:lnTo>
                      <a:pt x="10" y="314"/>
                    </a:lnTo>
                    <a:lnTo>
                      <a:pt x="78" y="384"/>
                    </a:lnTo>
                    <a:lnTo>
                      <a:pt x="226" y="419"/>
                    </a:lnTo>
                    <a:lnTo>
                      <a:pt x="805" y="844"/>
                    </a:lnTo>
                    <a:lnTo>
                      <a:pt x="1060" y="1040"/>
                    </a:lnTo>
                    <a:lnTo>
                      <a:pt x="1244" y="1080"/>
                    </a:lnTo>
                    <a:lnTo>
                      <a:pt x="1219" y="835"/>
                    </a:lnTo>
                    <a:lnTo>
                      <a:pt x="1360" y="465"/>
                    </a:lnTo>
                    <a:lnTo>
                      <a:pt x="1075" y="450"/>
                    </a:lnTo>
                    <a:lnTo>
                      <a:pt x="50" y="0"/>
                    </a:lnTo>
                    <a:lnTo>
                      <a:pt x="6" y="59"/>
                    </a:lnTo>
                    <a:close/>
                  </a:path>
                </a:pathLst>
              </a:custGeom>
              <a:solidFill>
                <a:srgbClr val="f7a8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" name="Freeform 296"/>
              <p:cNvSpPr/>
              <p:nvPr/>
            </p:nvSpPr>
            <p:spPr>
              <a:xfrm>
                <a:off x="4570920" y="6092280"/>
                <a:ext cx="346320" cy="51120"/>
              </a:xfrm>
              <a:custGeom>
                <a:avLst/>
                <a:gdLst>
                  <a:gd name="textAreaLeft" fmla="*/ 0 w 346320"/>
                  <a:gd name="textAreaRight" fmla="*/ 346680 w 346320"/>
                  <a:gd name="textAreaTop" fmla="*/ 0 h 51120"/>
                  <a:gd name="textAreaBottom" fmla="*/ 51480 h 51120"/>
                </a:gdLst>
                <a:ahLst/>
                <a:rect l="textAreaLeft" t="textAreaTop" r="textAreaRight" b="textAreaBottom"/>
                <a:pathLst>
                  <a:path w="1646" h="390">
                    <a:moveTo>
                      <a:pt x="0" y="292"/>
                    </a:moveTo>
                    <a:lnTo>
                      <a:pt x="53" y="273"/>
                    </a:lnTo>
                    <a:lnTo>
                      <a:pt x="191" y="238"/>
                    </a:lnTo>
                    <a:lnTo>
                      <a:pt x="281" y="216"/>
                    </a:lnTo>
                    <a:lnTo>
                      <a:pt x="383" y="190"/>
                    </a:lnTo>
                    <a:lnTo>
                      <a:pt x="490" y="165"/>
                    </a:lnTo>
                    <a:lnTo>
                      <a:pt x="602" y="139"/>
                    </a:lnTo>
                    <a:lnTo>
                      <a:pt x="715" y="112"/>
                    </a:lnTo>
                    <a:lnTo>
                      <a:pt x="822" y="87"/>
                    </a:lnTo>
                    <a:lnTo>
                      <a:pt x="924" y="64"/>
                    </a:lnTo>
                    <a:lnTo>
                      <a:pt x="1014" y="43"/>
                    </a:lnTo>
                    <a:lnTo>
                      <a:pt x="1150" y="12"/>
                    </a:lnTo>
                    <a:lnTo>
                      <a:pt x="1202" y="0"/>
                    </a:lnTo>
                    <a:lnTo>
                      <a:pt x="1646" y="75"/>
                    </a:lnTo>
                    <a:lnTo>
                      <a:pt x="158" y="390"/>
                    </a:lnTo>
                    <a:lnTo>
                      <a:pt x="0" y="292"/>
                    </a:lnTo>
                    <a:close/>
                  </a:path>
                </a:pathLst>
              </a:custGeom>
              <a:solidFill>
                <a:srgbClr val="f0ea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" name="Freeform 297"/>
              <p:cNvSpPr/>
              <p:nvPr/>
            </p:nvSpPr>
            <p:spPr>
              <a:xfrm>
                <a:off x="4566600" y="6278760"/>
                <a:ext cx="54360" cy="54720"/>
              </a:xfrm>
              <a:custGeom>
                <a:avLst/>
                <a:gdLst>
                  <a:gd name="textAreaLeft" fmla="*/ 0 w 54360"/>
                  <a:gd name="textAreaRight" fmla="*/ 54720 w 54360"/>
                  <a:gd name="textAreaTop" fmla="*/ 0 h 54720"/>
                  <a:gd name="textAreaBottom" fmla="*/ 55080 h 54720"/>
                </a:gdLst>
                <a:ahLst/>
                <a:rect l="textAreaLeft" t="textAreaTop" r="textAreaRight" b="textAreaBottom"/>
                <a:pathLst>
                  <a:path w="259" h="417">
                    <a:moveTo>
                      <a:pt x="75" y="0"/>
                    </a:moveTo>
                    <a:lnTo>
                      <a:pt x="259" y="21"/>
                    </a:lnTo>
                    <a:lnTo>
                      <a:pt x="135" y="241"/>
                    </a:lnTo>
                    <a:lnTo>
                      <a:pt x="110" y="417"/>
                    </a:lnTo>
                    <a:lnTo>
                      <a:pt x="0" y="350"/>
                    </a:lnTo>
                    <a:lnTo>
                      <a:pt x="25" y="80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f0ea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Freeform 298"/>
              <p:cNvSpPr/>
              <p:nvPr/>
            </p:nvSpPr>
            <p:spPr>
              <a:xfrm>
                <a:off x="4527000" y="6333840"/>
                <a:ext cx="88560" cy="32400"/>
              </a:xfrm>
              <a:custGeom>
                <a:avLst/>
                <a:gdLst>
                  <a:gd name="textAreaLeft" fmla="*/ 0 w 88560"/>
                  <a:gd name="textAreaRight" fmla="*/ 88560 w 88560"/>
                  <a:gd name="textAreaTop" fmla="*/ 0 h 32400"/>
                  <a:gd name="textAreaBottom" fmla="*/ 32760 h 32400"/>
                </a:gdLst>
                <a:ahLst/>
                <a:rect l="textAreaLeft" t="textAreaTop" r="textAreaRight" b="textAreaBottom"/>
                <a:pathLst>
                  <a:path w="423" h="247">
                    <a:moveTo>
                      <a:pt x="0" y="16"/>
                    </a:moveTo>
                    <a:lnTo>
                      <a:pt x="174" y="0"/>
                    </a:lnTo>
                    <a:lnTo>
                      <a:pt x="423" y="201"/>
                    </a:lnTo>
                    <a:lnTo>
                      <a:pt x="44" y="247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f0ea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Freeform 299"/>
              <p:cNvSpPr/>
              <p:nvPr/>
            </p:nvSpPr>
            <p:spPr>
              <a:xfrm>
                <a:off x="4502160" y="6369480"/>
                <a:ext cx="500400" cy="99000"/>
              </a:xfrm>
              <a:custGeom>
                <a:avLst/>
                <a:gdLst>
                  <a:gd name="textAreaLeft" fmla="*/ 0 w 500400"/>
                  <a:gd name="textAreaRight" fmla="*/ 500760 w 500400"/>
                  <a:gd name="textAreaTop" fmla="*/ 0 h 99000"/>
                  <a:gd name="textAreaBottom" fmla="*/ 99360 h 99000"/>
                </a:gdLst>
                <a:ahLst/>
                <a:rect l="textAreaLeft" t="textAreaTop" r="textAreaRight" b="textAreaBottom"/>
                <a:pathLst>
                  <a:path w="2378" h="751">
                    <a:moveTo>
                      <a:pt x="155" y="301"/>
                    </a:moveTo>
                    <a:lnTo>
                      <a:pt x="129" y="450"/>
                    </a:lnTo>
                    <a:lnTo>
                      <a:pt x="0" y="601"/>
                    </a:lnTo>
                    <a:lnTo>
                      <a:pt x="563" y="751"/>
                    </a:lnTo>
                    <a:lnTo>
                      <a:pt x="1684" y="647"/>
                    </a:lnTo>
                    <a:lnTo>
                      <a:pt x="1763" y="616"/>
                    </a:lnTo>
                    <a:lnTo>
                      <a:pt x="1913" y="647"/>
                    </a:lnTo>
                    <a:lnTo>
                      <a:pt x="2042" y="630"/>
                    </a:lnTo>
                    <a:lnTo>
                      <a:pt x="2187" y="607"/>
                    </a:lnTo>
                    <a:lnTo>
                      <a:pt x="2221" y="580"/>
                    </a:lnTo>
                    <a:lnTo>
                      <a:pt x="2276" y="534"/>
                    </a:lnTo>
                    <a:lnTo>
                      <a:pt x="2326" y="490"/>
                    </a:lnTo>
                    <a:lnTo>
                      <a:pt x="2348" y="471"/>
                    </a:lnTo>
                    <a:lnTo>
                      <a:pt x="2378" y="186"/>
                    </a:lnTo>
                    <a:lnTo>
                      <a:pt x="2218" y="0"/>
                    </a:lnTo>
                    <a:lnTo>
                      <a:pt x="1439" y="140"/>
                    </a:lnTo>
                    <a:lnTo>
                      <a:pt x="155" y="301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Freeform 300"/>
              <p:cNvSpPr/>
              <p:nvPr/>
            </p:nvSpPr>
            <p:spPr>
              <a:xfrm>
                <a:off x="4365720" y="6242760"/>
                <a:ext cx="644400" cy="228240"/>
              </a:xfrm>
              <a:custGeom>
                <a:avLst/>
                <a:gdLst>
                  <a:gd name="textAreaLeft" fmla="*/ 0 w 644400"/>
                  <a:gd name="textAreaRight" fmla="*/ 644760 w 644400"/>
                  <a:gd name="textAreaTop" fmla="*/ 0 h 228240"/>
                  <a:gd name="textAreaBottom" fmla="*/ 228600 h 228240"/>
                </a:gdLst>
                <a:ahLst/>
                <a:rect l="textAreaLeft" t="textAreaTop" r="textAreaRight" b="textAreaBottom"/>
                <a:pathLst>
                  <a:path w="3063" h="1730">
                    <a:moveTo>
                      <a:pt x="15" y="29"/>
                    </a:moveTo>
                    <a:lnTo>
                      <a:pt x="134" y="0"/>
                    </a:lnTo>
                    <a:lnTo>
                      <a:pt x="205" y="184"/>
                    </a:lnTo>
                    <a:lnTo>
                      <a:pt x="306" y="212"/>
                    </a:lnTo>
                    <a:lnTo>
                      <a:pt x="880" y="630"/>
                    </a:lnTo>
                    <a:lnTo>
                      <a:pt x="669" y="680"/>
                    </a:lnTo>
                    <a:lnTo>
                      <a:pt x="809" y="936"/>
                    </a:lnTo>
                    <a:lnTo>
                      <a:pt x="1284" y="885"/>
                    </a:lnTo>
                    <a:lnTo>
                      <a:pt x="1594" y="980"/>
                    </a:lnTo>
                    <a:lnTo>
                      <a:pt x="2453" y="705"/>
                    </a:lnTo>
                    <a:lnTo>
                      <a:pt x="2883" y="730"/>
                    </a:lnTo>
                    <a:lnTo>
                      <a:pt x="3063" y="970"/>
                    </a:lnTo>
                    <a:lnTo>
                      <a:pt x="3014" y="1427"/>
                    </a:lnTo>
                    <a:lnTo>
                      <a:pt x="2858" y="1555"/>
                    </a:lnTo>
                    <a:lnTo>
                      <a:pt x="2537" y="1614"/>
                    </a:lnTo>
                    <a:lnTo>
                      <a:pt x="2388" y="1581"/>
                    </a:lnTo>
                    <a:lnTo>
                      <a:pt x="2269" y="1620"/>
                    </a:lnTo>
                    <a:lnTo>
                      <a:pt x="1115" y="1730"/>
                    </a:lnTo>
                    <a:lnTo>
                      <a:pt x="561" y="1594"/>
                    </a:lnTo>
                    <a:lnTo>
                      <a:pt x="964" y="1535"/>
                    </a:lnTo>
                    <a:lnTo>
                      <a:pt x="2554" y="1409"/>
                    </a:lnTo>
                    <a:lnTo>
                      <a:pt x="2808" y="1395"/>
                    </a:lnTo>
                    <a:lnTo>
                      <a:pt x="2908" y="1160"/>
                    </a:lnTo>
                    <a:lnTo>
                      <a:pt x="2892" y="1133"/>
                    </a:lnTo>
                    <a:lnTo>
                      <a:pt x="2855" y="1074"/>
                    </a:lnTo>
                    <a:lnTo>
                      <a:pt x="2834" y="1042"/>
                    </a:lnTo>
                    <a:lnTo>
                      <a:pt x="2815" y="1012"/>
                    </a:lnTo>
                    <a:lnTo>
                      <a:pt x="2788" y="980"/>
                    </a:lnTo>
                    <a:lnTo>
                      <a:pt x="2536" y="1006"/>
                    </a:lnTo>
                    <a:lnTo>
                      <a:pt x="2372" y="1029"/>
                    </a:lnTo>
                    <a:lnTo>
                      <a:pt x="2298" y="1040"/>
                    </a:lnTo>
                    <a:lnTo>
                      <a:pt x="784" y="1215"/>
                    </a:lnTo>
                    <a:lnTo>
                      <a:pt x="703" y="1237"/>
                    </a:lnTo>
                    <a:lnTo>
                      <a:pt x="0" y="119"/>
                    </a:lnTo>
                    <a:lnTo>
                      <a:pt x="459" y="710"/>
                    </a:lnTo>
                    <a:lnTo>
                      <a:pt x="15" y="29"/>
                    </a:lnTo>
                    <a:close/>
                  </a:path>
                </a:pathLst>
              </a:custGeom>
              <a:solidFill>
                <a:srgbClr val="7a7a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Freeform 301"/>
              <p:cNvSpPr/>
              <p:nvPr/>
            </p:nvSpPr>
            <p:spPr>
              <a:xfrm>
                <a:off x="4807080" y="6331680"/>
                <a:ext cx="124920" cy="23760"/>
              </a:xfrm>
              <a:custGeom>
                <a:avLst/>
                <a:gdLst>
                  <a:gd name="textAreaLeft" fmla="*/ 0 w 124920"/>
                  <a:gd name="textAreaRight" fmla="*/ 125280 w 12492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593" h="178">
                    <a:moveTo>
                      <a:pt x="0" y="178"/>
                    </a:moveTo>
                    <a:lnTo>
                      <a:pt x="423" y="161"/>
                    </a:lnTo>
                    <a:lnTo>
                      <a:pt x="593" y="142"/>
                    </a:lnTo>
                    <a:lnTo>
                      <a:pt x="519" y="68"/>
                    </a:lnTo>
                    <a:lnTo>
                      <a:pt x="546" y="0"/>
                    </a:lnTo>
                    <a:lnTo>
                      <a:pt x="380" y="29"/>
                    </a:lnTo>
                    <a:lnTo>
                      <a:pt x="155" y="124"/>
                    </a:lnTo>
                    <a:lnTo>
                      <a:pt x="0" y="178"/>
                    </a:lnTo>
                    <a:close/>
                  </a:path>
                </a:pathLst>
              </a:custGeom>
              <a:solidFill>
                <a:srgbClr val="948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Freeform 302"/>
              <p:cNvSpPr/>
              <p:nvPr/>
            </p:nvSpPr>
            <p:spPr>
              <a:xfrm>
                <a:off x="4559040" y="6270840"/>
                <a:ext cx="55440" cy="6264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62640"/>
                  <a:gd name="textAreaBottom" fmla="*/ 63000 h 62640"/>
                </a:gdLst>
                <a:ahLst/>
                <a:rect l="textAreaLeft" t="textAreaTop" r="textAreaRight" b="textAreaBottom"/>
                <a:pathLst>
                  <a:path w="264" h="477">
                    <a:moveTo>
                      <a:pt x="9" y="420"/>
                    </a:moveTo>
                    <a:lnTo>
                      <a:pt x="0" y="266"/>
                    </a:lnTo>
                    <a:lnTo>
                      <a:pt x="59" y="96"/>
                    </a:lnTo>
                    <a:lnTo>
                      <a:pt x="109" y="0"/>
                    </a:lnTo>
                    <a:lnTo>
                      <a:pt x="264" y="81"/>
                    </a:lnTo>
                    <a:lnTo>
                      <a:pt x="214" y="106"/>
                    </a:lnTo>
                    <a:lnTo>
                      <a:pt x="119" y="131"/>
                    </a:lnTo>
                    <a:lnTo>
                      <a:pt x="73" y="245"/>
                    </a:lnTo>
                    <a:lnTo>
                      <a:pt x="73" y="366"/>
                    </a:lnTo>
                    <a:lnTo>
                      <a:pt x="144" y="477"/>
                    </a:lnTo>
                    <a:lnTo>
                      <a:pt x="9" y="420"/>
                    </a:lnTo>
                    <a:close/>
                  </a:path>
                </a:pathLst>
              </a:custGeom>
              <a:solidFill>
                <a:srgbClr val="b8ad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Freeform 303"/>
              <p:cNvSpPr/>
              <p:nvPr/>
            </p:nvSpPr>
            <p:spPr>
              <a:xfrm>
                <a:off x="4569120" y="6089400"/>
                <a:ext cx="291240" cy="65160"/>
              </a:xfrm>
              <a:custGeom>
                <a:avLst/>
                <a:gdLst>
                  <a:gd name="textAreaLeft" fmla="*/ 0 w 291240"/>
                  <a:gd name="textAreaRight" fmla="*/ 291600 w 291240"/>
                  <a:gd name="textAreaTop" fmla="*/ 0 h 65160"/>
                  <a:gd name="textAreaBottom" fmla="*/ 65520 h 65160"/>
                </a:gdLst>
                <a:ahLst/>
                <a:rect l="textAreaLeft" t="textAreaTop" r="textAreaRight" b="textAreaBottom"/>
                <a:pathLst>
                  <a:path w="1385" h="496">
                    <a:moveTo>
                      <a:pt x="0" y="297"/>
                    </a:moveTo>
                    <a:lnTo>
                      <a:pt x="1110" y="0"/>
                    </a:lnTo>
                    <a:lnTo>
                      <a:pt x="1255" y="31"/>
                    </a:lnTo>
                    <a:lnTo>
                      <a:pt x="269" y="309"/>
                    </a:lnTo>
                    <a:lnTo>
                      <a:pt x="1385" y="121"/>
                    </a:lnTo>
                    <a:lnTo>
                      <a:pt x="291" y="496"/>
                    </a:lnTo>
                    <a:lnTo>
                      <a:pt x="0" y="297"/>
                    </a:lnTo>
                    <a:close/>
                  </a:path>
                </a:pathLst>
              </a:custGeom>
              <a:solidFill>
                <a:srgbClr val="b8ad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Freeform 304"/>
              <p:cNvSpPr/>
              <p:nvPr/>
            </p:nvSpPr>
            <p:spPr>
              <a:xfrm>
                <a:off x="4506840" y="6326640"/>
                <a:ext cx="124920" cy="39240"/>
              </a:xfrm>
              <a:custGeom>
                <a:avLst/>
                <a:gdLst>
                  <a:gd name="textAreaLeft" fmla="*/ 0 w 124920"/>
                  <a:gd name="textAreaRight" fmla="*/ 125280 w 124920"/>
                  <a:gd name="textAreaTop" fmla="*/ 0 h 39240"/>
                  <a:gd name="textAreaBottom" fmla="*/ 39240 h 39240"/>
                </a:gdLst>
                <a:ahLst/>
                <a:rect l="textAreaLeft" t="textAreaTop" r="textAreaRight" b="textAreaBottom"/>
                <a:pathLst>
                  <a:path w="595" h="300">
                    <a:moveTo>
                      <a:pt x="0" y="44"/>
                    </a:moveTo>
                    <a:lnTo>
                      <a:pt x="187" y="0"/>
                    </a:lnTo>
                    <a:lnTo>
                      <a:pt x="428" y="131"/>
                    </a:lnTo>
                    <a:lnTo>
                      <a:pt x="595" y="251"/>
                    </a:lnTo>
                    <a:lnTo>
                      <a:pt x="490" y="269"/>
                    </a:lnTo>
                    <a:lnTo>
                      <a:pt x="375" y="193"/>
                    </a:lnTo>
                    <a:lnTo>
                      <a:pt x="291" y="109"/>
                    </a:lnTo>
                    <a:lnTo>
                      <a:pt x="155" y="94"/>
                    </a:lnTo>
                    <a:lnTo>
                      <a:pt x="140" y="300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b8ad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Freeform 305"/>
              <p:cNvSpPr/>
              <p:nvPr/>
            </p:nvSpPr>
            <p:spPr>
              <a:xfrm>
                <a:off x="4701600" y="6179400"/>
                <a:ext cx="95040" cy="1594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159480"/>
                  <a:gd name="textAreaBottom" fmla="*/ 159840 h 159480"/>
                </a:gdLst>
                <a:ahLst/>
                <a:rect l="textAreaLeft" t="textAreaTop" r="textAreaRight" b="textAreaBottom"/>
                <a:pathLst>
                  <a:path w="452" h="1211">
                    <a:moveTo>
                      <a:pt x="71" y="96"/>
                    </a:moveTo>
                    <a:lnTo>
                      <a:pt x="362" y="0"/>
                    </a:lnTo>
                    <a:lnTo>
                      <a:pt x="452" y="110"/>
                    </a:lnTo>
                    <a:lnTo>
                      <a:pt x="322" y="776"/>
                    </a:lnTo>
                    <a:lnTo>
                      <a:pt x="186" y="896"/>
                    </a:lnTo>
                    <a:lnTo>
                      <a:pt x="182" y="1211"/>
                    </a:lnTo>
                    <a:lnTo>
                      <a:pt x="71" y="1086"/>
                    </a:lnTo>
                    <a:lnTo>
                      <a:pt x="49" y="941"/>
                    </a:lnTo>
                    <a:lnTo>
                      <a:pt x="27" y="841"/>
                    </a:lnTo>
                    <a:lnTo>
                      <a:pt x="5" y="794"/>
                    </a:lnTo>
                    <a:lnTo>
                      <a:pt x="0" y="772"/>
                    </a:lnTo>
                    <a:lnTo>
                      <a:pt x="5" y="716"/>
                    </a:lnTo>
                    <a:lnTo>
                      <a:pt x="30" y="549"/>
                    </a:lnTo>
                    <a:lnTo>
                      <a:pt x="61" y="382"/>
                    </a:lnTo>
                    <a:lnTo>
                      <a:pt x="77" y="305"/>
                    </a:lnTo>
                    <a:lnTo>
                      <a:pt x="37" y="121"/>
                    </a:lnTo>
                    <a:lnTo>
                      <a:pt x="71" y="96"/>
                    </a:lnTo>
                    <a:close/>
                  </a:path>
                </a:pathLst>
              </a:custGeom>
              <a:solidFill>
                <a:srgbClr val="ff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Freeform 306"/>
              <p:cNvSpPr/>
              <p:nvPr/>
            </p:nvSpPr>
            <p:spPr>
              <a:xfrm>
                <a:off x="4712400" y="6172560"/>
                <a:ext cx="99720" cy="16992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69920"/>
                  <a:gd name="textAreaBottom" fmla="*/ 169920 h 169920"/>
                </a:gdLst>
                <a:ahLst/>
                <a:rect l="textAreaLeft" t="textAreaTop" r="textAreaRight" b="textAreaBottom"/>
                <a:pathLst>
                  <a:path w="474" h="1290">
                    <a:moveTo>
                      <a:pt x="0" y="109"/>
                    </a:moveTo>
                    <a:lnTo>
                      <a:pt x="369" y="0"/>
                    </a:lnTo>
                    <a:lnTo>
                      <a:pt x="474" y="214"/>
                    </a:lnTo>
                    <a:lnTo>
                      <a:pt x="310" y="689"/>
                    </a:lnTo>
                    <a:lnTo>
                      <a:pt x="434" y="1005"/>
                    </a:lnTo>
                    <a:lnTo>
                      <a:pt x="230" y="959"/>
                    </a:lnTo>
                    <a:lnTo>
                      <a:pt x="140" y="1290"/>
                    </a:lnTo>
                    <a:lnTo>
                      <a:pt x="57" y="1026"/>
                    </a:lnTo>
                    <a:lnTo>
                      <a:pt x="15" y="779"/>
                    </a:lnTo>
                    <a:lnTo>
                      <a:pt x="90" y="509"/>
                    </a:lnTo>
                    <a:lnTo>
                      <a:pt x="34" y="304"/>
                    </a:lnTo>
                    <a:lnTo>
                      <a:pt x="124" y="214"/>
                    </a:lnTo>
                    <a:lnTo>
                      <a:pt x="230" y="244"/>
                    </a:lnTo>
                    <a:lnTo>
                      <a:pt x="190" y="339"/>
                    </a:lnTo>
                    <a:lnTo>
                      <a:pt x="264" y="390"/>
                    </a:lnTo>
                    <a:lnTo>
                      <a:pt x="115" y="689"/>
                    </a:lnTo>
                    <a:lnTo>
                      <a:pt x="190" y="675"/>
                    </a:lnTo>
                    <a:lnTo>
                      <a:pt x="115" y="900"/>
                    </a:lnTo>
                    <a:lnTo>
                      <a:pt x="214" y="785"/>
                    </a:lnTo>
                    <a:lnTo>
                      <a:pt x="260" y="555"/>
                    </a:lnTo>
                    <a:lnTo>
                      <a:pt x="260" y="484"/>
                    </a:lnTo>
                    <a:lnTo>
                      <a:pt x="339" y="314"/>
                    </a:lnTo>
                    <a:lnTo>
                      <a:pt x="285" y="300"/>
                    </a:lnTo>
                    <a:lnTo>
                      <a:pt x="304" y="170"/>
                    </a:lnTo>
                    <a:lnTo>
                      <a:pt x="180" y="149"/>
                    </a:lnTo>
                    <a:lnTo>
                      <a:pt x="199" y="99"/>
                    </a:lnTo>
                    <a:lnTo>
                      <a:pt x="25" y="195"/>
                    </a:lnTo>
                    <a:lnTo>
                      <a:pt x="0" y="109"/>
                    </a:lnTo>
                    <a:close/>
                  </a:path>
                </a:pathLst>
              </a:custGeom>
              <a:solidFill>
                <a:srgbClr val="ff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" name="Freeform 307"/>
              <p:cNvSpPr/>
              <p:nvPr/>
            </p:nvSpPr>
            <p:spPr>
              <a:xfrm>
                <a:off x="4404240" y="6238800"/>
                <a:ext cx="167040" cy="90000"/>
              </a:xfrm>
              <a:custGeom>
                <a:avLst/>
                <a:gdLst>
                  <a:gd name="textAreaLeft" fmla="*/ 0 w 167040"/>
                  <a:gd name="textAreaRight" fmla="*/ 167400 w 167040"/>
                  <a:gd name="textAreaTop" fmla="*/ 0 h 90000"/>
                  <a:gd name="textAreaBottom" fmla="*/ 90360 h 90000"/>
                </a:gdLst>
                <a:ahLst/>
                <a:rect l="textAreaLeft" t="textAreaTop" r="textAreaRight" b="textAreaBottom"/>
                <a:pathLst>
                  <a:path w="794" h="686">
                    <a:moveTo>
                      <a:pt x="0" y="136"/>
                    </a:moveTo>
                    <a:lnTo>
                      <a:pt x="60" y="40"/>
                    </a:lnTo>
                    <a:lnTo>
                      <a:pt x="134" y="0"/>
                    </a:lnTo>
                    <a:lnTo>
                      <a:pt x="144" y="96"/>
                    </a:lnTo>
                    <a:lnTo>
                      <a:pt x="349" y="291"/>
                    </a:lnTo>
                    <a:lnTo>
                      <a:pt x="653" y="466"/>
                    </a:lnTo>
                    <a:lnTo>
                      <a:pt x="794" y="341"/>
                    </a:lnTo>
                    <a:lnTo>
                      <a:pt x="714" y="686"/>
                    </a:lnTo>
                    <a:lnTo>
                      <a:pt x="100" y="230"/>
                    </a:lnTo>
                    <a:lnTo>
                      <a:pt x="20" y="215"/>
                    </a:lnTo>
                    <a:lnTo>
                      <a:pt x="0" y="136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Freeform 308"/>
              <p:cNvSpPr/>
              <p:nvPr/>
            </p:nvSpPr>
            <p:spPr>
              <a:xfrm>
                <a:off x="4400640" y="6215040"/>
                <a:ext cx="189720" cy="68400"/>
              </a:xfrm>
              <a:custGeom>
                <a:avLst/>
                <a:gdLst>
                  <a:gd name="textAreaLeft" fmla="*/ 0 w 189720"/>
                  <a:gd name="textAreaRight" fmla="*/ 190080 w 189720"/>
                  <a:gd name="textAreaTop" fmla="*/ 0 h 68400"/>
                  <a:gd name="textAreaBottom" fmla="*/ 68760 h 68400"/>
                </a:gdLst>
                <a:ahLst/>
                <a:rect l="textAreaLeft" t="textAreaTop" r="textAreaRight" b="textAreaBottom"/>
                <a:pathLst>
                  <a:path w="902" h="521">
                    <a:moveTo>
                      <a:pt x="32" y="40"/>
                    </a:moveTo>
                    <a:lnTo>
                      <a:pt x="0" y="102"/>
                    </a:lnTo>
                    <a:lnTo>
                      <a:pt x="143" y="121"/>
                    </a:lnTo>
                    <a:lnTo>
                      <a:pt x="767" y="446"/>
                    </a:lnTo>
                    <a:lnTo>
                      <a:pt x="812" y="521"/>
                    </a:lnTo>
                    <a:lnTo>
                      <a:pt x="902" y="435"/>
                    </a:lnTo>
                    <a:lnTo>
                      <a:pt x="93" y="0"/>
                    </a:lnTo>
                    <a:lnTo>
                      <a:pt x="32" y="40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Freeform 309"/>
              <p:cNvSpPr/>
              <p:nvPr/>
            </p:nvSpPr>
            <p:spPr>
              <a:xfrm>
                <a:off x="4596840" y="6253200"/>
                <a:ext cx="475200" cy="118440"/>
              </a:xfrm>
              <a:custGeom>
                <a:avLst/>
                <a:gdLst>
                  <a:gd name="textAreaLeft" fmla="*/ 0 w 475200"/>
                  <a:gd name="textAreaRight" fmla="*/ 475560 w 475200"/>
                  <a:gd name="textAreaTop" fmla="*/ 0 h 118440"/>
                  <a:gd name="textAreaBottom" fmla="*/ 118800 h 118440"/>
                </a:gdLst>
                <a:ahLst/>
                <a:rect l="textAreaLeft" t="textAreaTop" r="textAreaRight" b="textAreaBottom"/>
                <a:pathLst>
                  <a:path w="2259" h="900">
                    <a:moveTo>
                      <a:pt x="11" y="515"/>
                    </a:moveTo>
                    <a:lnTo>
                      <a:pt x="90" y="655"/>
                    </a:lnTo>
                    <a:lnTo>
                      <a:pt x="226" y="709"/>
                    </a:lnTo>
                    <a:lnTo>
                      <a:pt x="231" y="510"/>
                    </a:lnTo>
                    <a:lnTo>
                      <a:pt x="321" y="284"/>
                    </a:lnTo>
                    <a:lnTo>
                      <a:pt x="201" y="345"/>
                    </a:lnTo>
                    <a:lnTo>
                      <a:pt x="155" y="379"/>
                    </a:lnTo>
                    <a:lnTo>
                      <a:pt x="141" y="315"/>
                    </a:lnTo>
                    <a:lnTo>
                      <a:pt x="146" y="184"/>
                    </a:lnTo>
                    <a:lnTo>
                      <a:pt x="511" y="0"/>
                    </a:lnTo>
                    <a:lnTo>
                      <a:pt x="504" y="233"/>
                    </a:lnTo>
                    <a:lnTo>
                      <a:pt x="437" y="283"/>
                    </a:lnTo>
                    <a:lnTo>
                      <a:pt x="390" y="540"/>
                    </a:lnTo>
                    <a:lnTo>
                      <a:pt x="481" y="730"/>
                    </a:lnTo>
                    <a:lnTo>
                      <a:pt x="1885" y="305"/>
                    </a:lnTo>
                    <a:lnTo>
                      <a:pt x="1780" y="100"/>
                    </a:lnTo>
                    <a:lnTo>
                      <a:pt x="2259" y="299"/>
                    </a:lnTo>
                    <a:lnTo>
                      <a:pt x="2179" y="355"/>
                    </a:lnTo>
                    <a:lnTo>
                      <a:pt x="496" y="900"/>
                    </a:lnTo>
                    <a:lnTo>
                      <a:pt x="349" y="864"/>
                    </a:lnTo>
                    <a:lnTo>
                      <a:pt x="46" y="740"/>
                    </a:lnTo>
                    <a:lnTo>
                      <a:pt x="0" y="600"/>
                    </a:lnTo>
                    <a:lnTo>
                      <a:pt x="11" y="515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Freeform 310"/>
              <p:cNvSpPr/>
              <p:nvPr/>
            </p:nvSpPr>
            <p:spPr>
              <a:xfrm>
                <a:off x="4775400" y="6202440"/>
                <a:ext cx="281880" cy="77040"/>
              </a:xfrm>
              <a:custGeom>
                <a:avLst/>
                <a:gdLst>
                  <a:gd name="textAreaLeft" fmla="*/ 0 w 281880"/>
                  <a:gd name="textAreaRight" fmla="*/ 282240 w 281880"/>
                  <a:gd name="textAreaTop" fmla="*/ 0 h 77040"/>
                  <a:gd name="textAreaBottom" fmla="*/ 77400 h 77040"/>
                </a:gdLst>
                <a:ahLst/>
                <a:rect l="textAreaLeft" t="textAreaTop" r="textAreaRight" b="textAreaBottom"/>
                <a:pathLst>
                  <a:path w="1340" h="586">
                    <a:moveTo>
                      <a:pt x="100" y="210"/>
                    </a:moveTo>
                    <a:lnTo>
                      <a:pt x="634" y="0"/>
                    </a:lnTo>
                    <a:lnTo>
                      <a:pt x="1340" y="170"/>
                    </a:lnTo>
                    <a:lnTo>
                      <a:pt x="1208" y="256"/>
                    </a:lnTo>
                    <a:lnTo>
                      <a:pt x="14" y="586"/>
                    </a:lnTo>
                    <a:lnTo>
                      <a:pt x="0" y="436"/>
                    </a:lnTo>
                    <a:lnTo>
                      <a:pt x="100" y="210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" name="Freeform 311"/>
              <p:cNvSpPr/>
              <p:nvPr/>
            </p:nvSpPr>
            <p:spPr>
              <a:xfrm>
                <a:off x="4335840" y="6180120"/>
                <a:ext cx="291240" cy="101160"/>
              </a:xfrm>
              <a:custGeom>
                <a:avLst/>
                <a:gdLst>
                  <a:gd name="textAreaLeft" fmla="*/ 0 w 291240"/>
                  <a:gd name="textAreaRight" fmla="*/ 291600 w 291240"/>
                  <a:gd name="textAreaTop" fmla="*/ 0 h 101160"/>
                  <a:gd name="textAreaBottom" fmla="*/ 101520 h 101160"/>
                </a:gdLst>
                <a:ahLst/>
                <a:rect l="textAreaLeft" t="textAreaTop" r="textAreaRight" b="textAreaBottom"/>
                <a:pathLst>
                  <a:path w="1387" h="770">
                    <a:moveTo>
                      <a:pt x="0" y="45"/>
                    </a:moveTo>
                    <a:lnTo>
                      <a:pt x="24" y="0"/>
                    </a:lnTo>
                    <a:lnTo>
                      <a:pt x="1387" y="659"/>
                    </a:lnTo>
                    <a:lnTo>
                      <a:pt x="1356" y="770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ae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Freeform 312"/>
              <p:cNvSpPr/>
              <p:nvPr/>
            </p:nvSpPr>
            <p:spPr>
              <a:xfrm>
                <a:off x="4384800" y="6114240"/>
                <a:ext cx="587520" cy="124920"/>
              </a:xfrm>
              <a:custGeom>
                <a:avLst/>
                <a:gdLst>
                  <a:gd name="textAreaLeft" fmla="*/ 0 w 587520"/>
                  <a:gd name="textAreaRight" fmla="*/ 587880 w 587520"/>
                  <a:gd name="textAreaTop" fmla="*/ 0 h 124920"/>
                  <a:gd name="textAreaBottom" fmla="*/ 125280 h 124920"/>
                </a:gdLst>
                <a:ahLst/>
                <a:rect l="textAreaLeft" t="textAreaTop" r="textAreaRight" b="textAreaBottom"/>
                <a:pathLst>
                  <a:path w="2793" h="946">
                    <a:moveTo>
                      <a:pt x="9" y="280"/>
                    </a:moveTo>
                    <a:lnTo>
                      <a:pt x="1219" y="716"/>
                    </a:lnTo>
                    <a:lnTo>
                      <a:pt x="1169" y="946"/>
                    </a:lnTo>
                    <a:lnTo>
                      <a:pt x="1433" y="856"/>
                    </a:lnTo>
                    <a:lnTo>
                      <a:pt x="1584" y="795"/>
                    </a:lnTo>
                    <a:lnTo>
                      <a:pt x="1544" y="590"/>
                    </a:lnTo>
                    <a:lnTo>
                      <a:pt x="1928" y="441"/>
                    </a:lnTo>
                    <a:lnTo>
                      <a:pt x="2003" y="586"/>
                    </a:lnTo>
                    <a:lnTo>
                      <a:pt x="1959" y="835"/>
                    </a:lnTo>
                    <a:lnTo>
                      <a:pt x="2498" y="574"/>
                    </a:lnTo>
                    <a:lnTo>
                      <a:pt x="2648" y="586"/>
                    </a:lnTo>
                    <a:lnTo>
                      <a:pt x="2793" y="310"/>
                    </a:lnTo>
                    <a:lnTo>
                      <a:pt x="2778" y="106"/>
                    </a:lnTo>
                    <a:lnTo>
                      <a:pt x="2588" y="0"/>
                    </a:lnTo>
                    <a:lnTo>
                      <a:pt x="1194" y="435"/>
                    </a:lnTo>
                    <a:lnTo>
                      <a:pt x="1089" y="490"/>
                    </a:lnTo>
                    <a:lnTo>
                      <a:pt x="0" y="115"/>
                    </a:lnTo>
                    <a:lnTo>
                      <a:pt x="9" y="280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Freeform 313"/>
              <p:cNvSpPr/>
              <p:nvPr/>
            </p:nvSpPr>
            <p:spPr>
              <a:xfrm>
                <a:off x="4347720" y="6065640"/>
                <a:ext cx="627840" cy="167040"/>
              </a:xfrm>
              <a:custGeom>
                <a:avLst/>
                <a:gdLst>
                  <a:gd name="textAreaLeft" fmla="*/ 0 w 627840"/>
                  <a:gd name="textAreaRight" fmla="*/ 628200 w 627840"/>
                  <a:gd name="textAreaTop" fmla="*/ 0 h 167040"/>
                  <a:gd name="textAreaBottom" fmla="*/ 167400 h 167040"/>
                </a:gdLst>
                <a:ahLst/>
                <a:rect l="textAreaLeft" t="textAreaTop" r="textAreaRight" b="textAreaBottom"/>
                <a:pathLst>
                  <a:path w="2984" h="1267">
                    <a:moveTo>
                      <a:pt x="0" y="316"/>
                    </a:moveTo>
                    <a:lnTo>
                      <a:pt x="1490" y="0"/>
                    </a:lnTo>
                    <a:lnTo>
                      <a:pt x="2284" y="170"/>
                    </a:lnTo>
                    <a:lnTo>
                      <a:pt x="991" y="481"/>
                    </a:lnTo>
                    <a:lnTo>
                      <a:pt x="1291" y="586"/>
                    </a:lnTo>
                    <a:lnTo>
                      <a:pt x="2598" y="266"/>
                    </a:lnTo>
                    <a:lnTo>
                      <a:pt x="2731" y="213"/>
                    </a:lnTo>
                    <a:lnTo>
                      <a:pt x="2904" y="306"/>
                    </a:lnTo>
                    <a:lnTo>
                      <a:pt x="2979" y="421"/>
                    </a:lnTo>
                    <a:lnTo>
                      <a:pt x="2984" y="741"/>
                    </a:lnTo>
                    <a:lnTo>
                      <a:pt x="2824" y="957"/>
                    </a:lnTo>
                    <a:lnTo>
                      <a:pt x="2674" y="967"/>
                    </a:lnTo>
                    <a:lnTo>
                      <a:pt x="2649" y="1032"/>
                    </a:lnTo>
                    <a:lnTo>
                      <a:pt x="2514" y="1097"/>
                    </a:lnTo>
                    <a:lnTo>
                      <a:pt x="2349" y="1147"/>
                    </a:lnTo>
                    <a:lnTo>
                      <a:pt x="2119" y="1267"/>
                    </a:lnTo>
                    <a:lnTo>
                      <a:pt x="2135" y="1206"/>
                    </a:lnTo>
                    <a:lnTo>
                      <a:pt x="2209" y="1026"/>
                    </a:lnTo>
                    <a:lnTo>
                      <a:pt x="2759" y="806"/>
                    </a:lnTo>
                    <a:lnTo>
                      <a:pt x="2864" y="676"/>
                    </a:lnTo>
                    <a:lnTo>
                      <a:pt x="2835" y="446"/>
                    </a:lnTo>
                    <a:lnTo>
                      <a:pt x="2759" y="403"/>
                    </a:lnTo>
                    <a:lnTo>
                      <a:pt x="1375" y="787"/>
                    </a:lnTo>
                    <a:lnTo>
                      <a:pt x="0" y="316"/>
                    </a:lnTo>
                    <a:close/>
                  </a:path>
                </a:pathLst>
              </a:custGeom>
              <a:solidFill>
                <a:srgbClr val="ae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Freeform 314"/>
              <p:cNvSpPr/>
              <p:nvPr/>
            </p:nvSpPr>
            <p:spPr>
              <a:xfrm>
                <a:off x="4677120" y="6250680"/>
                <a:ext cx="322560" cy="102960"/>
              </a:xfrm>
              <a:custGeom>
                <a:avLst/>
                <a:gdLst>
                  <a:gd name="textAreaLeft" fmla="*/ 0 w 322560"/>
                  <a:gd name="textAreaRight" fmla="*/ 322920 w 32256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1534" h="781">
                    <a:moveTo>
                      <a:pt x="509" y="236"/>
                    </a:moveTo>
                    <a:lnTo>
                      <a:pt x="1419" y="0"/>
                    </a:lnTo>
                    <a:lnTo>
                      <a:pt x="1408" y="137"/>
                    </a:lnTo>
                    <a:lnTo>
                      <a:pt x="1423" y="251"/>
                    </a:lnTo>
                    <a:lnTo>
                      <a:pt x="1534" y="331"/>
                    </a:lnTo>
                    <a:lnTo>
                      <a:pt x="115" y="781"/>
                    </a:lnTo>
                    <a:lnTo>
                      <a:pt x="40" y="741"/>
                    </a:lnTo>
                    <a:lnTo>
                      <a:pt x="0" y="611"/>
                    </a:lnTo>
                    <a:lnTo>
                      <a:pt x="55" y="345"/>
                    </a:lnTo>
                    <a:lnTo>
                      <a:pt x="109" y="316"/>
                    </a:lnTo>
                    <a:lnTo>
                      <a:pt x="245" y="586"/>
                    </a:lnTo>
                    <a:lnTo>
                      <a:pt x="316" y="648"/>
                    </a:lnTo>
                    <a:lnTo>
                      <a:pt x="325" y="410"/>
                    </a:lnTo>
                    <a:lnTo>
                      <a:pt x="409" y="331"/>
                    </a:lnTo>
                    <a:lnTo>
                      <a:pt x="577" y="387"/>
                    </a:lnTo>
                    <a:lnTo>
                      <a:pt x="509" y="236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Freeform 315"/>
              <p:cNvSpPr/>
              <p:nvPr/>
            </p:nvSpPr>
            <p:spPr>
              <a:xfrm>
                <a:off x="4622400" y="6216840"/>
                <a:ext cx="98280" cy="34560"/>
              </a:xfrm>
              <a:custGeom>
                <a:avLst/>
                <a:gdLst>
                  <a:gd name="textAreaLeft" fmla="*/ 0 w 98280"/>
                  <a:gd name="textAreaRight" fmla="*/ 98640 w 98280"/>
                  <a:gd name="textAreaTop" fmla="*/ 0 h 34560"/>
                  <a:gd name="textAreaBottom" fmla="*/ 34920 h 34560"/>
                </a:gdLst>
                <a:ahLst/>
                <a:rect l="textAreaLeft" t="textAreaTop" r="textAreaRight" b="textAreaBottom"/>
                <a:pathLst>
                  <a:path w="468" h="264">
                    <a:moveTo>
                      <a:pt x="0" y="229"/>
                    </a:moveTo>
                    <a:lnTo>
                      <a:pt x="310" y="199"/>
                    </a:lnTo>
                    <a:lnTo>
                      <a:pt x="294" y="264"/>
                    </a:lnTo>
                    <a:lnTo>
                      <a:pt x="434" y="210"/>
                    </a:lnTo>
                    <a:lnTo>
                      <a:pt x="468" y="0"/>
                    </a:lnTo>
                    <a:lnTo>
                      <a:pt x="0" y="229"/>
                    </a:lnTo>
                    <a:close/>
                  </a:path>
                </a:pathLst>
              </a:custGeom>
              <a:solidFill>
                <a:srgbClr val="ae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" name="Freeform 316"/>
              <p:cNvSpPr/>
              <p:nvPr/>
            </p:nvSpPr>
            <p:spPr>
              <a:xfrm>
                <a:off x="4314960" y="6062760"/>
                <a:ext cx="645480" cy="142560"/>
              </a:xfrm>
              <a:custGeom>
                <a:avLst/>
                <a:gdLst>
                  <a:gd name="textAreaLeft" fmla="*/ 0 w 645480"/>
                  <a:gd name="textAreaRight" fmla="*/ 645840 w 645480"/>
                  <a:gd name="textAreaTop" fmla="*/ 0 h 142560"/>
                  <a:gd name="textAreaBottom" fmla="*/ 142920 h 142560"/>
                </a:gdLst>
                <a:ahLst/>
                <a:rect l="textAreaLeft" t="textAreaTop" r="textAreaRight" b="textAreaBottom"/>
                <a:pathLst>
                  <a:path w="3069" h="1082">
                    <a:moveTo>
                      <a:pt x="25" y="281"/>
                    </a:moveTo>
                    <a:lnTo>
                      <a:pt x="0" y="384"/>
                    </a:lnTo>
                    <a:lnTo>
                      <a:pt x="272" y="520"/>
                    </a:lnTo>
                    <a:lnTo>
                      <a:pt x="306" y="647"/>
                    </a:lnTo>
                    <a:lnTo>
                      <a:pt x="313" y="757"/>
                    </a:lnTo>
                    <a:lnTo>
                      <a:pt x="279" y="886"/>
                    </a:lnTo>
                    <a:lnTo>
                      <a:pt x="365" y="775"/>
                    </a:lnTo>
                    <a:lnTo>
                      <a:pt x="407" y="647"/>
                    </a:lnTo>
                    <a:lnTo>
                      <a:pt x="399" y="554"/>
                    </a:lnTo>
                    <a:lnTo>
                      <a:pt x="1436" y="920"/>
                    </a:lnTo>
                    <a:lnTo>
                      <a:pt x="2915" y="425"/>
                    </a:lnTo>
                    <a:lnTo>
                      <a:pt x="2958" y="554"/>
                    </a:lnTo>
                    <a:lnTo>
                      <a:pt x="2958" y="698"/>
                    </a:lnTo>
                    <a:lnTo>
                      <a:pt x="2856" y="825"/>
                    </a:lnTo>
                    <a:lnTo>
                      <a:pt x="2371" y="1026"/>
                    </a:lnTo>
                    <a:lnTo>
                      <a:pt x="2345" y="1082"/>
                    </a:lnTo>
                    <a:lnTo>
                      <a:pt x="2908" y="868"/>
                    </a:lnTo>
                    <a:lnTo>
                      <a:pt x="3019" y="791"/>
                    </a:lnTo>
                    <a:lnTo>
                      <a:pt x="3069" y="664"/>
                    </a:lnTo>
                    <a:lnTo>
                      <a:pt x="3053" y="493"/>
                    </a:lnTo>
                    <a:lnTo>
                      <a:pt x="2976" y="400"/>
                    </a:lnTo>
                    <a:lnTo>
                      <a:pt x="2899" y="366"/>
                    </a:lnTo>
                    <a:lnTo>
                      <a:pt x="2695" y="459"/>
                    </a:lnTo>
                    <a:lnTo>
                      <a:pt x="1470" y="748"/>
                    </a:lnTo>
                    <a:lnTo>
                      <a:pt x="282" y="381"/>
                    </a:lnTo>
                    <a:lnTo>
                      <a:pt x="1402" y="809"/>
                    </a:lnTo>
                    <a:lnTo>
                      <a:pt x="1402" y="852"/>
                    </a:lnTo>
                    <a:lnTo>
                      <a:pt x="50" y="357"/>
                    </a:lnTo>
                    <a:lnTo>
                      <a:pt x="93" y="315"/>
                    </a:lnTo>
                    <a:lnTo>
                      <a:pt x="1597" y="43"/>
                    </a:lnTo>
                    <a:lnTo>
                      <a:pt x="2334" y="179"/>
                    </a:lnTo>
                    <a:lnTo>
                      <a:pt x="1556" y="0"/>
                    </a:lnTo>
                    <a:lnTo>
                      <a:pt x="25" y="28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" name="Freeform 317"/>
              <p:cNvSpPr/>
              <p:nvPr/>
            </p:nvSpPr>
            <p:spPr>
              <a:xfrm>
                <a:off x="4316760" y="6158160"/>
                <a:ext cx="398880" cy="126360"/>
              </a:xfrm>
              <a:custGeom>
                <a:avLst/>
                <a:gdLst>
                  <a:gd name="textAreaLeft" fmla="*/ 0 w 398880"/>
                  <a:gd name="textAreaRight" fmla="*/ 399240 w 398880"/>
                  <a:gd name="textAreaTop" fmla="*/ 0 h 126360"/>
                  <a:gd name="textAreaBottom" fmla="*/ 126720 h 126360"/>
                </a:gdLst>
                <a:ahLst/>
                <a:rect l="textAreaLeft" t="textAreaTop" r="textAreaRight" b="textAreaBottom"/>
                <a:pathLst>
                  <a:path w="1894" h="960">
                    <a:moveTo>
                      <a:pt x="321" y="0"/>
                    </a:moveTo>
                    <a:lnTo>
                      <a:pt x="28" y="105"/>
                    </a:lnTo>
                    <a:lnTo>
                      <a:pt x="0" y="211"/>
                    </a:lnTo>
                    <a:lnTo>
                      <a:pt x="1441" y="960"/>
                    </a:lnTo>
                    <a:lnTo>
                      <a:pt x="1840" y="760"/>
                    </a:lnTo>
                    <a:lnTo>
                      <a:pt x="1894" y="626"/>
                    </a:lnTo>
                    <a:lnTo>
                      <a:pt x="1451" y="799"/>
                    </a:lnTo>
                    <a:lnTo>
                      <a:pt x="449" y="338"/>
                    </a:lnTo>
                    <a:lnTo>
                      <a:pt x="1401" y="831"/>
                    </a:lnTo>
                    <a:lnTo>
                      <a:pt x="1423" y="904"/>
                    </a:lnTo>
                    <a:lnTo>
                      <a:pt x="89" y="211"/>
                    </a:lnTo>
                    <a:lnTo>
                      <a:pt x="77" y="149"/>
                    </a:lnTo>
                    <a:lnTo>
                      <a:pt x="316" y="55"/>
                    </a:lnTo>
                    <a:lnTo>
                      <a:pt x="3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Freeform 318"/>
              <p:cNvSpPr/>
              <p:nvPr/>
            </p:nvSpPr>
            <p:spPr>
              <a:xfrm>
                <a:off x="4387320" y="6172560"/>
                <a:ext cx="333000" cy="77040"/>
              </a:xfrm>
              <a:custGeom>
                <a:avLst/>
                <a:gdLst/>
                <a:ahLst/>
                <a:rect l="l" t="t" r="r" b="b"/>
                <a:pathLst>
                  <a:path w="1584" h="584">
                    <a:moveTo>
                      <a:pt x="0" y="83"/>
                    </a:moveTo>
                    <a:lnTo>
                      <a:pt x="1082" y="584"/>
                    </a:lnTo>
                    <a:lnTo>
                      <a:pt x="1584" y="378"/>
                    </a:lnTo>
                    <a:lnTo>
                      <a:pt x="1584" y="335"/>
                    </a:lnTo>
                    <a:lnTo>
                      <a:pt x="1200" y="483"/>
                    </a:lnTo>
                    <a:lnTo>
                      <a:pt x="1255" y="360"/>
                    </a:lnTo>
                    <a:lnTo>
                      <a:pt x="1448" y="282"/>
                    </a:lnTo>
                    <a:lnTo>
                      <a:pt x="1239" y="306"/>
                    </a:lnTo>
                    <a:lnTo>
                      <a:pt x="1227" y="171"/>
                    </a:lnTo>
                    <a:lnTo>
                      <a:pt x="1156" y="22"/>
                    </a:lnTo>
                    <a:lnTo>
                      <a:pt x="1106" y="56"/>
                    </a:lnTo>
                    <a:lnTo>
                      <a:pt x="1167" y="171"/>
                    </a:lnTo>
                    <a:lnTo>
                      <a:pt x="662" y="0"/>
                    </a:lnTo>
                    <a:lnTo>
                      <a:pt x="1167" y="249"/>
                    </a:lnTo>
                    <a:lnTo>
                      <a:pt x="1181" y="325"/>
                    </a:lnTo>
                    <a:lnTo>
                      <a:pt x="1141" y="418"/>
                    </a:lnTo>
                    <a:lnTo>
                      <a:pt x="358" y="111"/>
                    </a:lnTo>
                    <a:lnTo>
                      <a:pt x="1137" y="466"/>
                    </a:lnTo>
                    <a:lnTo>
                      <a:pt x="1082" y="540"/>
                    </a:lnTo>
                    <a:lnTo>
                      <a:pt x="0" y="8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Freeform 319"/>
              <p:cNvSpPr/>
              <p:nvPr/>
            </p:nvSpPr>
            <p:spPr>
              <a:xfrm>
                <a:off x="4665240" y="6143400"/>
                <a:ext cx="233280" cy="192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192600"/>
                  <a:gd name="textAreaBottom" fmla="*/ 192960 h 192600"/>
                </a:gdLst>
                <a:ahLst/>
                <a:rect l="textAreaLeft" t="textAreaTop" r="textAreaRight" b="textAreaBottom"/>
                <a:pathLst>
                  <a:path w="1109" h="1460">
                    <a:moveTo>
                      <a:pt x="0" y="378"/>
                    </a:moveTo>
                    <a:lnTo>
                      <a:pt x="411" y="256"/>
                    </a:lnTo>
                    <a:lnTo>
                      <a:pt x="1109" y="0"/>
                    </a:lnTo>
                    <a:lnTo>
                      <a:pt x="626" y="245"/>
                    </a:lnTo>
                    <a:lnTo>
                      <a:pt x="709" y="346"/>
                    </a:lnTo>
                    <a:lnTo>
                      <a:pt x="709" y="467"/>
                    </a:lnTo>
                    <a:lnTo>
                      <a:pt x="643" y="672"/>
                    </a:lnTo>
                    <a:lnTo>
                      <a:pt x="554" y="895"/>
                    </a:lnTo>
                    <a:lnTo>
                      <a:pt x="550" y="1016"/>
                    </a:lnTo>
                    <a:lnTo>
                      <a:pt x="632" y="1199"/>
                    </a:lnTo>
                    <a:lnTo>
                      <a:pt x="510" y="1055"/>
                    </a:lnTo>
                    <a:lnTo>
                      <a:pt x="494" y="899"/>
                    </a:lnTo>
                    <a:lnTo>
                      <a:pt x="588" y="639"/>
                    </a:lnTo>
                    <a:lnTo>
                      <a:pt x="660" y="450"/>
                    </a:lnTo>
                    <a:lnTo>
                      <a:pt x="550" y="251"/>
                    </a:lnTo>
                    <a:lnTo>
                      <a:pt x="244" y="368"/>
                    </a:lnTo>
                    <a:lnTo>
                      <a:pt x="272" y="428"/>
                    </a:lnTo>
                    <a:lnTo>
                      <a:pt x="294" y="583"/>
                    </a:lnTo>
                    <a:lnTo>
                      <a:pt x="266" y="760"/>
                    </a:lnTo>
                    <a:lnTo>
                      <a:pt x="222" y="933"/>
                    </a:lnTo>
                    <a:lnTo>
                      <a:pt x="206" y="1110"/>
                    </a:lnTo>
                    <a:lnTo>
                      <a:pt x="256" y="1283"/>
                    </a:lnTo>
                    <a:lnTo>
                      <a:pt x="371" y="1460"/>
                    </a:lnTo>
                    <a:lnTo>
                      <a:pt x="250" y="1387"/>
                    </a:lnTo>
                    <a:lnTo>
                      <a:pt x="167" y="1199"/>
                    </a:lnTo>
                    <a:lnTo>
                      <a:pt x="150" y="989"/>
                    </a:lnTo>
                    <a:lnTo>
                      <a:pt x="212" y="716"/>
                    </a:lnTo>
                    <a:lnTo>
                      <a:pt x="234" y="551"/>
                    </a:lnTo>
                    <a:lnTo>
                      <a:pt x="150" y="390"/>
                    </a:lnTo>
                    <a:lnTo>
                      <a:pt x="0" y="37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Freeform 320"/>
              <p:cNvSpPr/>
              <p:nvPr/>
            </p:nvSpPr>
            <p:spPr>
              <a:xfrm>
                <a:off x="4737960" y="6290640"/>
                <a:ext cx="60480" cy="45360"/>
              </a:xfrm>
              <a:custGeom>
                <a:avLst/>
                <a:gdLst>
                  <a:gd name="textAreaLeft" fmla="*/ 0 w 60480"/>
                  <a:gd name="textAreaRight" fmla="*/ 60840 w 60480"/>
                  <a:gd name="textAreaTop" fmla="*/ 0 h 45360"/>
                  <a:gd name="textAreaBottom" fmla="*/ 45720 h 45360"/>
                </a:gdLst>
                <a:ahLst/>
                <a:rect l="textAreaLeft" t="textAreaTop" r="textAreaRight" b="textAreaBottom"/>
                <a:pathLst>
                  <a:path w="288" h="344">
                    <a:moveTo>
                      <a:pt x="27" y="344"/>
                    </a:moveTo>
                    <a:lnTo>
                      <a:pt x="0" y="161"/>
                    </a:lnTo>
                    <a:lnTo>
                      <a:pt x="73" y="0"/>
                    </a:lnTo>
                    <a:lnTo>
                      <a:pt x="139" y="6"/>
                    </a:lnTo>
                    <a:lnTo>
                      <a:pt x="288" y="83"/>
                    </a:lnTo>
                    <a:lnTo>
                      <a:pt x="111" y="66"/>
                    </a:lnTo>
                    <a:lnTo>
                      <a:pt x="49" y="167"/>
                    </a:lnTo>
                    <a:lnTo>
                      <a:pt x="27" y="3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Freeform 321"/>
              <p:cNvSpPr/>
              <p:nvPr/>
            </p:nvSpPr>
            <p:spPr>
              <a:xfrm>
                <a:off x="4788720" y="6095880"/>
                <a:ext cx="191160" cy="142560"/>
              </a:xfrm>
              <a:custGeom>
                <a:avLst/>
                <a:gdLst>
                  <a:gd name="textAreaLeft" fmla="*/ 0 w 191160"/>
                  <a:gd name="textAreaRight" fmla="*/ 191520 w 191160"/>
                  <a:gd name="textAreaTop" fmla="*/ 0 h 142560"/>
                  <a:gd name="textAreaBottom" fmla="*/ 142920 h 142560"/>
                </a:gdLst>
                <a:ahLst/>
                <a:rect l="textAreaLeft" t="textAreaTop" r="textAreaRight" b="textAreaBottom"/>
                <a:pathLst>
                  <a:path w="908" h="1082">
                    <a:moveTo>
                      <a:pt x="66" y="949"/>
                    </a:moveTo>
                    <a:lnTo>
                      <a:pt x="576" y="716"/>
                    </a:lnTo>
                    <a:lnTo>
                      <a:pt x="695" y="703"/>
                    </a:lnTo>
                    <a:lnTo>
                      <a:pt x="781" y="621"/>
                    </a:lnTo>
                    <a:lnTo>
                      <a:pt x="859" y="428"/>
                    </a:lnTo>
                    <a:lnTo>
                      <a:pt x="825" y="161"/>
                    </a:lnTo>
                    <a:lnTo>
                      <a:pt x="700" y="52"/>
                    </a:lnTo>
                    <a:lnTo>
                      <a:pt x="478" y="124"/>
                    </a:lnTo>
                    <a:lnTo>
                      <a:pt x="661" y="0"/>
                    </a:lnTo>
                    <a:lnTo>
                      <a:pt x="781" y="40"/>
                    </a:lnTo>
                    <a:lnTo>
                      <a:pt x="881" y="151"/>
                    </a:lnTo>
                    <a:lnTo>
                      <a:pt x="908" y="372"/>
                    </a:lnTo>
                    <a:lnTo>
                      <a:pt x="897" y="527"/>
                    </a:lnTo>
                    <a:lnTo>
                      <a:pt x="794" y="723"/>
                    </a:lnTo>
                    <a:lnTo>
                      <a:pt x="726" y="765"/>
                    </a:lnTo>
                    <a:lnTo>
                      <a:pt x="604" y="760"/>
                    </a:lnTo>
                    <a:lnTo>
                      <a:pt x="0" y="1082"/>
                    </a:lnTo>
                    <a:lnTo>
                      <a:pt x="66" y="94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Freeform 322"/>
              <p:cNvSpPr/>
              <p:nvPr/>
            </p:nvSpPr>
            <p:spPr>
              <a:xfrm>
                <a:off x="4391640" y="6212160"/>
                <a:ext cx="684720" cy="165960"/>
              </a:xfrm>
              <a:custGeom>
                <a:avLst/>
                <a:gdLst>
                  <a:gd name="textAreaLeft" fmla="*/ 0 w 684720"/>
                  <a:gd name="textAreaRight" fmla="*/ 685080 w 684720"/>
                  <a:gd name="textAreaTop" fmla="*/ 0 h 165960"/>
                  <a:gd name="textAreaBottom" fmla="*/ 166320 h 165960"/>
                </a:gdLst>
                <a:ahLst/>
                <a:rect l="textAreaLeft" t="textAreaTop" r="textAreaRight" b="textAreaBottom"/>
                <a:pathLst>
                  <a:path w="3257" h="1259">
                    <a:moveTo>
                      <a:pt x="44" y="0"/>
                    </a:moveTo>
                    <a:lnTo>
                      <a:pt x="0" y="99"/>
                    </a:lnTo>
                    <a:lnTo>
                      <a:pt x="5" y="321"/>
                    </a:lnTo>
                    <a:lnTo>
                      <a:pt x="66" y="448"/>
                    </a:lnTo>
                    <a:lnTo>
                      <a:pt x="166" y="482"/>
                    </a:lnTo>
                    <a:lnTo>
                      <a:pt x="338" y="625"/>
                    </a:lnTo>
                    <a:lnTo>
                      <a:pt x="758" y="915"/>
                    </a:lnTo>
                    <a:lnTo>
                      <a:pt x="853" y="931"/>
                    </a:lnTo>
                    <a:lnTo>
                      <a:pt x="974" y="997"/>
                    </a:lnTo>
                    <a:lnTo>
                      <a:pt x="1014" y="1076"/>
                    </a:lnTo>
                    <a:lnTo>
                      <a:pt x="1334" y="1242"/>
                    </a:lnTo>
                    <a:lnTo>
                      <a:pt x="1468" y="1259"/>
                    </a:lnTo>
                    <a:lnTo>
                      <a:pt x="3257" y="698"/>
                    </a:lnTo>
                    <a:lnTo>
                      <a:pt x="3241" y="577"/>
                    </a:lnTo>
                    <a:lnTo>
                      <a:pt x="2764" y="426"/>
                    </a:lnTo>
                    <a:lnTo>
                      <a:pt x="3207" y="621"/>
                    </a:lnTo>
                    <a:lnTo>
                      <a:pt x="1446" y="1174"/>
                    </a:lnTo>
                    <a:lnTo>
                      <a:pt x="1334" y="1076"/>
                    </a:lnTo>
                    <a:lnTo>
                      <a:pt x="1279" y="931"/>
                    </a:lnTo>
                    <a:lnTo>
                      <a:pt x="1324" y="648"/>
                    </a:lnTo>
                    <a:lnTo>
                      <a:pt x="1245" y="786"/>
                    </a:lnTo>
                    <a:lnTo>
                      <a:pt x="1229" y="931"/>
                    </a:lnTo>
                    <a:lnTo>
                      <a:pt x="1279" y="1114"/>
                    </a:lnTo>
                    <a:lnTo>
                      <a:pt x="1324" y="1174"/>
                    </a:lnTo>
                    <a:lnTo>
                      <a:pt x="1064" y="1048"/>
                    </a:lnTo>
                    <a:lnTo>
                      <a:pt x="1014" y="925"/>
                    </a:lnTo>
                    <a:lnTo>
                      <a:pt x="1002" y="742"/>
                    </a:lnTo>
                    <a:lnTo>
                      <a:pt x="1036" y="615"/>
                    </a:lnTo>
                    <a:lnTo>
                      <a:pt x="974" y="710"/>
                    </a:lnTo>
                    <a:lnTo>
                      <a:pt x="952" y="842"/>
                    </a:lnTo>
                    <a:lnTo>
                      <a:pt x="941" y="921"/>
                    </a:lnTo>
                    <a:lnTo>
                      <a:pt x="847" y="859"/>
                    </a:lnTo>
                    <a:lnTo>
                      <a:pt x="831" y="698"/>
                    </a:lnTo>
                    <a:lnTo>
                      <a:pt x="881" y="510"/>
                    </a:lnTo>
                    <a:lnTo>
                      <a:pt x="820" y="593"/>
                    </a:lnTo>
                    <a:lnTo>
                      <a:pt x="776" y="720"/>
                    </a:lnTo>
                    <a:lnTo>
                      <a:pt x="776" y="853"/>
                    </a:lnTo>
                    <a:lnTo>
                      <a:pt x="183" y="442"/>
                    </a:lnTo>
                    <a:lnTo>
                      <a:pt x="177" y="321"/>
                    </a:lnTo>
                    <a:lnTo>
                      <a:pt x="183" y="221"/>
                    </a:lnTo>
                    <a:lnTo>
                      <a:pt x="132" y="287"/>
                    </a:lnTo>
                    <a:lnTo>
                      <a:pt x="104" y="394"/>
                    </a:lnTo>
                    <a:lnTo>
                      <a:pt x="44" y="282"/>
                    </a:lnTo>
                    <a:lnTo>
                      <a:pt x="44" y="121"/>
                    </a:lnTo>
                    <a:lnTo>
                      <a:pt x="149" y="54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Freeform 323"/>
              <p:cNvSpPr/>
              <p:nvPr/>
            </p:nvSpPr>
            <p:spPr>
              <a:xfrm>
                <a:off x="4672080" y="6283800"/>
                <a:ext cx="63000" cy="60120"/>
              </a:xfrm>
              <a:custGeom>
                <a:avLst/>
                <a:gdLst>
                  <a:gd name="textAreaLeft" fmla="*/ 0 w 63000"/>
                  <a:gd name="textAreaRight" fmla="*/ 63360 w 63000"/>
                  <a:gd name="textAreaTop" fmla="*/ 0 h 60120"/>
                  <a:gd name="textAreaBottom" fmla="*/ 60480 h 60120"/>
                </a:gdLst>
                <a:ahLst/>
                <a:rect l="textAreaLeft" t="textAreaTop" r="textAreaRight" b="textAreaBottom"/>
                <a:pathLst>
                  <a:path w="300" h="454">
                    <a:moveTo>
                      <a:pt x="145" y="0"/>
                    </a:moveTo>
                    <a:lnTo>
                      <a:pt x="78" y="50"/>
                    </a:lnTo>
                    <a:lnTo>
                      <a:pt x="46" y="138"/>
                    </a:lnTo>
                    <a:lnTo>
                      <a:pt x="0" y="350"/>
                    </a:lnTo>
                    <a:lnTo>
                      <a:pt x="46" y="454"/>
                    </a:lnTo>
                    <a:lnTo>
                      <a:pt x="300" y="372"/>
                    </a:lnTo>
                    <a:lnTo>
                      <a:pt x="239" y="310"/>
                    </a:lnTo>
                    <a:lnTo>
                      <a:pt x="78" y="355"/>
                    </a:lnTo>
                    <a:lnTo>
                      <a:pt x="84" y="183"/>
                    </a:lnTo>
                    <a:lnTo>
                      <a:pt x="156" y="122"/>
                    </a:lnTo>
                    <a:lnTo>
                      <a:pt x="14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Freeform 324"/>
              <p:cNvSpPr/>
              <p:nvPr/>
            </p:nvSpPr>
            <p:spPr>
              <a:xfrm>
                <a:off x="4742640" y="6309000"/>
                <a:ext cx="98280" cy="21240"/>
              </a:xfrm>
              <a:custGeom>
                <a:avLst/>
                <a:gdLst>
                  <a:gd name="textAreaLeft" fmla="*/ 0 w 98280"/>
                  <a:gd name="textAreaRight" fmla="*/ 98640 w 98280"/>
                  <a:gd name="textAreaTop" fmla="*/ 0 h 21240"/>
                  <a:gd name="textAreaBottom" fmla="*/ 21600 h 21240"/>
                </a:gdLst>
                <a:ahLst/>
                <a:rect l="textAreaLeft" t="textAreaTop" r="textAreaRight" b="textAreaBottom"/>
                <a:pathLst>
                  <a:path w="470" h="161">
                    <a:moveTo>
                      <a:pt x="10" y="99"/>
                    </a:moveTo>
                    <a:lnTo>
                      <a:pt x="470" y="0"/>
                    </a:lnTo>
                    <a:lnTo>
                      <a:pt x="0" y="161"/>
                    </a:lnTo>
                    <a:lnTo>
                      <a:pt x="10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" name="Freeform 325"/>
              <p:cNvSpPr/>
              <p:nvPr/>
            </p:nvSpPr>
            <p:spPr>
              <a:xfrm>
                <a:off x="4348440" y="6235200"/>
                <a:ext cx="641520" cy="195480"/>
              </a:xfrm>
              <a:custGeom>
                <a:avLst/>
                <a:gdLst>
                  <a:gd name="textAreaLeft" fmla="*/ 0 w 641520"/>
                  <a:gd name="textAreaRight" fmla="*/ 641880 w 641520"/>
                  <a:gd name="textAreaTop" fmla="*/ 0 h 195480"/>
                  <a:gd name="textAreaBottom" fmla="*/ 195840 h 195480"/>
                </a:gdLst>
                <a:ahLst/>
                <a:rect l="textAreaLeft" t="textAreaTop" r="textAreaRight" b="textAreaBottom"/>
                <a:pathLst>
                  <a:path w="3052" h="1482">
                    <a:moveTo>
                      <a:pt x="243" y="0"/>
                    </a:moveTo>
                    <a:lnTo>
                      <a:pt x="0" y="37"/>
                    </a:lnTo>
                    <a:lnTo>
                      <a:pt x="7" y="126"/>
                    </a:lnTo>
                    <a:lnTo>
                      <a:pt x="770" y="1337"/>
                    </a:lnTo>
                    <a:lnTo>
                      <a:pt x="2809" y="1107"/>
                    </a:lnTo>
                    <a:lnTo>
                      <a:pt x="2903" y="1151"/>
                    </a:lnTo>
                    <a:lnTo>
                      <a:pt x="2957" y="1237"/>
                    </a:lnTo>
                    <a:lnTo>
                      <a:pt x="2892" y="1419"/>
                    </a:lnTo>
                    <a:lnTo>
                      <a:pt x="2554" y="1482"/>
                    </a:lnTo>
                    <a:lnTo>
                      <a:pt x="2906" y="1482"/>
                    </a:lnTo>
                    <a:lnTo>
                      <a:pt x="3052" y="1259"/>
                    </a:lnTo>
                    <a:lnTo>
                      <a:pt x="3044" y="1078"/>
                    </a:lnTo>
                    <a:lnTo>
                      <a:pt x="2980" y="994"/>
                    </a:lnTo>
                    <a:lnTo>
                      <a:pt x="2626" y="1041"/>
                    </a:lnTo>
                    <a:lnTo>
                      <a:pt x="2561" y="1069"/>
                    </a:lnTo>
                    <a:lnTo>
                      <a:pt x="2484" y="1041"/>
                    </a:lnTo>
                    <a:lnTo>
                      <a:pt x="881" y="1230"/>
                    </a:lnTo>
                    <a:lnTo>
                      <a:pt x="384" y="532"/>
                    </a:lnTo>
                    <a:lnTo>
                      <a:pt x="827" y="1236"/>
                    </a:lnTo>
                    <a:lnTo>
                      <a:pt x="787" y="1295"/>
                    </a:lnTo>
                    <a:lnTo>
                      <a:pt x="31" y="70"/>
                    </a:lnTo>
                    <a:lnTo>
                      <a:pt x="224" y="37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Freeform 326"/>
              <p:cNvSpPr/>
              <p:nvPr/>
            </p:nvSpPr>
            <p:spPr>
              <a:xfrm>
                <a:off x="4364640" y="6278760"/>
                <a:ext cx="115200" cy="168840"/>
              </a:xfrm>
              <a:custGeom>
                <a:avLst/>
                <a:gdLst>
                  <a:gd name="textAreaLeft" fmla="*/ 0 w 115200"/>
                  <a:gd name="textAreaRight" fmla="*/ 115560 w 115200"/>
                  <a:gd name="textAreaTop" fmla="*/ 0 h 168840"/>
                  <a:gd name="textAreaBottom" fmla="*/ 169200 h 168840"/>
                </a:gdLst>
                <a:ahLst/>
                <a:rect l="textAreaLeft" t="textAreaTop" r="textAreaRight" b="textAreaBottom"/>
                <a:pathLst>
                  <a:path w="547" h="1281">
                    <a:moveTo>
                      <a:pt x="71" y="0"/>
                    </a:moveTo>
                    <a:lnTo>
                      <a:pt x="82" y="95"/>
                    </a:lnTo>
                    <a:lnTo>
                      <a:pt x="66" y="175"/>
                    </a:lnTo>
                    <a:lnTo>
                      <a:pt x="38" y="228"/>
                    </a:lnTo>
                    <a:lnTo>
                      <a:pt x="0" y="256"/>
                    </a:lnTo>
                    <a:lnTo>
                      <a:pt x="143" y="527"/>
                    </a:lnTo>
                    <a:lnTo>
                      <a:pt x="547" y="1281"/>
                    </a:lnTo>
                    <a:lnTo>
                      <a:pt x="249" y="604"/>
                    </a:lnTo>
                    <a:lnTo>
                      <a:pt x="66" y="256"/>
                    </a:lnTo>
                    <a:lnTo>
                      <a:pt x="243" y="465"/>
                    </a:lnTo>
                    <a:lnTo>
                      <a:pt x="104" y="189"/>
                    </a:lnTo>
                    <a:lnTo>
                      <a:pt x="143" y="89"/>
                    </a:lnTo>
                    <a:lnTo>
                      <a:pt x="7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Freeform 327"/>
              <p:cNvSpPr/>
              <p:nvPr/>
            </p:nvSpPr>
            <p:spPr>
              <a:xfrm>
                <a:off x="4330080" y="6293880"/>
                <a:ext cx="689040" cy="193320"/>
              </a:xfrm>
              <a:custGeom>
                <a:avLst/>
                <a:gdLst>
                  <a:gd name="textAreaLeft" fmla="*/ 0 w 689040"/>
                  <a:gd name="textAreaRight" fmla="*/ 689400 w 689040"/>
                  <a:gd name="textAreaTop" fmla="*/ 0 h 193320"/>
                  <a:gd name="textAreaBottom" fmla="*/ 193680 h 193320"/>
                </a:gdLst>
                <a:ahLst/>
                <a:rect l="textAreaLeft" t="textAreaTop" r="textAreaRight" b="textAreaBottom"/>
                <a:pathLst>
                  <a:path w="3277" h="1467">
                    <a:moveTo>
                      <a:pt x="256" y="0"/>
                    </a:moveTo>
                    <a:lnTo>
                      <a:pt x="120" y="62"/>
                    </a:lnTo>
                    <a:lnTo>
                      <a:pt x="12" y="85"/>
                    </a:lnTo>
                    <a:lnTo>
                      <a:pt x="0" y="157"/>
                    </a:lnTo>
                    <a:lnTo>
                      <a:pt x="445" y="993"/>
                    </a:lnTo>
                    <a:lnTo>
                      <a:pt x="635" y="1467"/>
                    </a:lnTo>
                    <a:lnTo>
                      <a:pt x="2530" y="1233"/>
                    </a:lnTo>
                    <a:lnTo>
                      <a:pt x="2601" y="1210"/>
                    </a:lnTo>
                    <a:lnTo>
                      <a:pt x="2702" y="1244"/>
                    </a:lnTo>
                    <a:lnTo>
                      <a:pt x="3045" y="1198"/>
                    </a:lnTo>
                    <a:lnTo>
                      <a:pt x="3199" y="1056"/>
                    </a:lnTo>
                    <a:lnTo>
                      <a:pt x="3277" y="706"/>
                    </a:lnTo>
                    <a:lnTo>
                      <a:pt x="3223" y="456"/>
                    </a:lnTo>
                    <a:lnTo>
                      <a:pt x="2982" y="245"/>
                    </a:lnTo>
                    <a:lnTo>
                      <a:pt x="2511" y="363"/>
                    </a:lnTo>
                    <a:lnTo>
                      <a:pt x="2933" y="371"/>
                    </a:lnTo>
                    <a:lnTo>
                      <a:pt x="3115" y="510"/>
                    </a:lnTo>
                    <a:lnTo>
                      <a:pt x="3196" y="631"/>
                    </a:lnTo>
                    <a:lnTo>
                      <a:pt x="3202" y="811"/>
                    </a:lnTo>
                    <a:lnTo>
                      <a:pt x="3134" y="1027"/>
                    </a:lnTo>
                    <a:lnTo>
                      <a:pt x="3047" y="1124"/>
                    </a:lnTo>
                    <a:lnTo>
                      <a:pt x="2769" y="1161"/>
                    </a:lnTo>
                    <a:lnTo>
                      <a:pt x="2645" y="1121"/>
                    </a:lnTo>
                    <a:lnTo>
                      <a:pt x="2477" y="1205"/>
                    </a:lnTo>
                    <a:lnTo>
                      <a:pt x="688" y="1360"/>
                    </a:lnTo>
                    <a:lnTo>
                      <a:pt x="53" y="107"/>
                    </a:lnTo>
                    <a:lnTo>
                      <a:pt x="270" y="41"/>
                    </a:lnTo>
                    <a:lnTo>
                      <a:pt x="2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Freeform 328"/>
              <p:cNvSpPr/>
              <p:nvPr/>
            </p:nvSpPr>
            <p:spPr>
              <a:xfrm>
                <a:off x="4484160" y="6388200"/>
                <a:ext cx="348120" cy="64440"/>
              </a:xfrm>
              <a:custGeom>
                <a:avLst/>
                <a:gdLst>
                  <a:gd name="textAreaLeft" fmla="*/ 0 w 348120"/>
                  <a:gd name="textAreaRight" fmla="*/ 348480 w 348120"/>
                  <a:gd name="textAreaTop" fmla="*/ 0 h 64440"/>
                  <a:gd name="textAreaBottom" fmla="*/ 64800 h 64440"/>
                </a:gdLst>
                <a:ahLst/>
                <a:rect l="textAreaLeft" t="textAreaTop" r="textAreaRight" b="textAreaBottom"/>
                <a:pathLst>
                  <a:path w="1656" h="489">
                    <a:moveTo>
                      <a:pt x="0" y="489"/>
                    </a:moveTo>
                    <a:lnTo>
                      <a:pt x="133" y="366"/>
                    </a:lnTo>
                    <a:lnTo>
                      <a:pt x="193" y="256"/>
                    </a:lnTo>
                    <a:lnTo>
                      <a:pt x="177" y="123"/>
                    </a:lnTo>
                    <a:lnTo>
                      <a:pt x="1202" y="0"/>
                    </a:lnTo>
                    <a:lnTo>
                      <a:pt x="288" y="157"/>
                    </a:lnTo>
                    <a:lnTo>
                      <a:pt x="248" y="267"/>
                    </a:lnTo>
                    <a:lnTo>
                      <a:pt x="1030" y="223"/>
                    </a:lnTo>
                    <a:lnTo>
                      <a:pt x="232" y="340"/>
                    </a:lnTo>
                    <a:lnTo>
                      <a:pt x="187" y="384"/>
                    </a:lnTo>
                    <a:lnTo>
                      <a:pt x="143" y="411"/>
                    </a:lnTo>
                    <a:lnTo>
                      <a:pt x="1656" y="328"/>
                    </a:lnTo>
                    <a:lnTo>
                      <a:pt x="0" y="48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Freeform 329"/>
              <p:cNvSpPr/>
              <p:nvPr/>
            </p:nvSpPr>
            <p:spPr>
              <a:xfrm>
                <a:off x="4484520" y="6326640"/>
                <a:ext cx="159480" cy="43920"/>
              </a:xfrm>
              <a:custGeom>
                <a:avLst/>
                <a:gdLst>
                  <a:gd name="textAreaLeft" fmla="*/ 0 w 159480"/>
                  <a:gd name="textAreaRight" fmla="*/ 159480 w 159480"/>
                  <a:gd name="textAreaTop" fmla="*/ 0 h 43920"/>
                  <a:gd name="textAreaBottom" fmla="*/ 44280 h 43920"/>
                </a:gdLst>
                <a:ahLst/>
                <a:rect l="textAreaLeft" t="textAreaTop" r="textAreaRight" b="textAreaBottom"/>
                <a:pathLst>
                  <a:path w="759" h="332">
                    <a:moveTo>
                      <a:pt x="292" y="0"/>
                    </a:moveTo>
                    <a:lnTo>
                      <a:pt x="0" y="15"/>
                    </a:lnTo>
                    <a:lnTo>
                      <a:pt x="221" y="332"/>
                    </a:lnTo>
                    <a:lnTo>
                      <a:pt x="759" y="291"/>
                    </a:lnTo>
                    <a:lnTo>
                      <a:pt x="700" y="251"/>
                    </a:lnTo>
                    <a:lnTo>
                      <a:pt x="261" y="266"/>
                    </a:lnTo>
                    <a:lnTo>
                      <a:pt x="145" y="71"/>
                    </a:lnTo>
                    <a:lnTo>
                      <a:pt x="360" y="19"/>
                    </a:lnTo>
                    <a:lnTo>
                      <a:pt x="29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Freeform 330"/>
              <p:cNvSpPr/>
              <p:nvPr/>
            </p:nvSpPr>
            <p:spPr>
              <a:xfrm>
                <a:off x="4758120" y="6353280"/>
                <a:ext cx="137880" cy="10800"/>
              </a:xfrm>
              <a:custGeom>
                <a:avLst/>
                <a:gdLst>
                  <a:gd name="textAreaLeft" fmla="*/ 0 w 137880"/>
                  <a:gd name="textAreaRight" fmla="*/ 138240 w 137880"/>
                  <a:gd name="textAreaTop" fmla="*/ 0 h 10800"/>
                  <a:gd name="textAreaBottom" fmla="*/ 11160 h 10800"/>
                </a:gdLst>
                <a:ahLst/>
                <a:rect l="textAreaLeft" t="textAreaTop" r="textAreaRight" b="textAreaBottom"/>
                <a:pathLst>
                  <a:path w="657" h="84">
                    <a:moveTo>
                      <a:pt x="0" y="84"/>
                    </a:moveTo>
                    <a:lnTo>
                      <a:pt x="113" y="71"/>
                    </a:lnTo>
                    <a:lnTo>
                      <a:pt x="337" y="42"/>
                    </a:lnTo>
                    <a:lnTo>
                      <a:pt x="558" y="13"/>
                    </a:lnTo>
                    <a:lnTo>
                      <a:pt x="657" y="0"/>
                    </a:lnTo>
                    <a:lnTo>
                      <a:pt x="164" y="17"/>
                    </a:lnTo>
                    <a:lnTo>
                      <a:pt x="0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Freeform 331"/>
              <p:cNvSpPr/>
              <p:nvPr/>
            </p:nvSpPr>
            <p:spPr>
              <a:xfrm>
                <a:off x="4518720" y="6087600"/>
                <a:ext cx="383760" cy="59040"/>
              </a:xfrm>
              <a:custGeom>
                <a:avLst/>
                <a:gdLst>
                  <a:gd name="textAreaLeft" fmla="*/ 0 w 383760"/>
                  <a:gd name="textAreaRight" fmla="*/ 384120 w 383760"/>
                  <a:gd name="textAreaTop" fmla="*/ 0 h 59040"/>
                  <a:gd name="textAreaBottom" fmla="*/ 59400 h 59040"/>
                </a:gdLst>
                <a:ahLst/>
                <a:rect l="textAreaLeft" t="textAreaTop" r="textAreaRight" b="textAreaBottom"/>
                <a:pathLst>
                  <a:path w="1825" h="451">
                    <a:moveTo>
                      <a:pt x="1825" y="97"/>
                    </a:moveTo>
                    <a:lnTo>
                      <a:pt x="1527" y="47"/>
                    </a:lnTo>
                    <a:lnTo>
                      <a:pt x="1472" y="4"/>
                    </a:lnTo>
                    <a:lnTo>
                      <a:pt x="1391" y="0"/>
                    </a:lnTo>
                    <a:lnTo>
                      <a:pt x="0" y="308"/>
                    </a:lnTo>
                    <a:lnTo>
                      <a:pt x="451" y="451"/>
                    </a:lnTo>
                    <a:lnTo>
                      <a:pt x="1628" y="153"/>
                    </a:lnTo>
                    <a:lnTo>
                      <a:pt x="433" y="385"/>
                    </a:lnTo>
                    <a:lnTo>
                      <a:pt x="310" y="305"/>
                    </a:lnTo>
                    <a:lnTo>
                      <a:pt x="1400" y="42"/>
                    </a:lnTo>
                    <a:lnTo>
                      <a:pt x="1476" y="63"/>
                    </a:lnTo>
                    <a:lnTo>
                      <a:pt x="1825" y="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Freeform 332"/>
              <p:cNvSpPr/>
              <p:nvPr/>
            </p:nvSpPr>
            <p:spPr>
              <a:xfrm>
                <a:off x="4802760" y="6209640"/>
                <a:ext cx="198720" cy="50400"/>
              </a:xfrm>
              <a:custGeom>
                <a:avLst/>
                <a:gdLst>
                  <a:gd name="textAreaLeft" fmla="*/ 0 w 198720"/>
                  <a:gd name="textAreaRight" fmla="*/ 199080 w 198720"/>
                  <a:gd name="textAreaTop" fmla="*/ 0 h 50400"/>
                  <a:gd name="textAreaBottom" fmla="*/ 50760 h 50400"/>
                </a:gdLst>
                <a:ahLst/>
                <a:rect l="textAreaLeft" t="textAreaTop" r="textAreaRight" b="textAreaBottom"/>
                <a:pathLst>
                  <a:path w="945" h="382">
                    <a:moveTo>
                      <a:pt x="0" y="382"/>
                    </a:moveTo>
                    <a:lnTo>
                      <a:pt x="272" y="118"/>
                    </a:lnTo>
                    <a:lnTo>
                      <a:pt x="663" y="0"/>
                    </a:lnTo>
                    <a:lnTo>
                      <a:pt x="945" y="118"/>
                    </a:lnTo>
                    <a:lnTo>
                      <a:pt x="0" y="382"/>
                    </a:lnTo>
                    <a:close/>
                  </a:path>
                </a:pathLst>
              </a:custGeom>
              <a:solidFill>
                <a:srgbClr val="f7a8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Freeform 333"/>
              <p:cNvSpPr/>
              <p:nvPr/>
            </p:nvSpPr>
            <p:spPr>
              <a:xfrm>
                <a:off x="4705560" y="6198480"/>
                <a:ext cx="353880" cy="154800"/>
              </a:xfrm>
              <a:custGeom>
                <a:avLst/>
                <a:gdLst>
                  <a:gd name="textAreaLeft" fmla="*/ 0 w 353880"/>
                  <a:gd name="textAreaRight" fmla="*/ 354240 w 353880"/>
                  <a:gd name="textAreaTop" fmla="*/ 0 h 154800"/>
                  <a:gd name="textAreaBottom" fmla="*/ 155160 h 154800"/>
                </a:gdLst>
                <a:ahLst/>
                <a:rect l="textAreaLeft" t="textAreaTop" r="textAreaRight" b="textAreaBottom"/>
                <a:pathLst>
                  <a:path w="1682" h="1174">
                    <a:moveTo>
                      <a:pt x="939" y="0"/>
                    </a:moveTo>
                    <a:lnTo>
                      <a:pt x="1648" y="189"/>
                    </a:lnTo>
                    <a:lnTo>
                      <a:pt x="1682" y="300"/>
                    </a:lnTo>
                    <a:lnTo>
                      <a:pt x="1338" y="417"/>
                    </a:lnTo>
                    <a:lnTo>
                      <a:pt x="1293" y="505"/>
                    </a:lnTo>
                    <a:lnTo>
                      <a:pt x="1316" y="605"/>
                    </a:lnTo>
                    <a:lnTo>
                      <a:pt x="1366" y="678"/>
                    </a:lnTo>
                    <a:lnTo>
                      <a:pt x="1465" y="732"/>
                    </a:lnTo>
                    <a:lnTo>
                      <a:pt x="0" y="1174"/>
                    </a:lnTo>
                    <a:lnTo>
                      <a:pt x="1348" y="716"/>
                    </a:lnTo>
                    <a:lnTo>
                      <a:pt x="1259" y="662"/>
                    </a:lnTo>
                    <a:lnTo>
                      <a:pt x="828" y="755"/>
                    </a:lnTo>
                    <a:lnTo>
                      <a:pt x="1237" y="600"/>
                    </a:lnTo>
                    <a:lnTo>
                      <a:pt x="1243" y="473"/>
                    </a:lnTo>
                    <a:lnTo>
                      <a:pt x="368" y="666"/>
                    </a:lnTo>
                    <a:lnTo>
                      <a:pt x="346" y="573"/>
                    </a:lnTo>
                    <a:lnTo>
                      <a:pt x="1642" y="226"/>
                    </a:lnTo>
                    <a:lnTo>
                      <a:pt x="982" y="68"/>
                    </a:lnTo>
                    <a:lnTo>
                      <a:pt x="474" y="235"/>
                    </a:lnTo>
                    <a:lnTo>
                      <a:pt x="93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Freeform 334"/>
              <p:cNvSpPr/>
              <p:nvPr/>
            </p:nvSpPr>
            <p:spPr>
              <a:xfrm>
                <a:off x="4876560" y="6336360"/>
                <a:ext cx="62280" cy="18360"/>
              </a:xfrm>
              <a:custGeom>
                <a:avLst/>
                <a:gdLst>
                  <a:gd name="textAreaLeft" fmla="*/ 0 w 62280"/>
                  <a:gd name="textAreaRight" fmla="*/ 62640 w 6228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297" h="141">
                    <a:moveTo>
                      <a:pt x="197" y="0"/>
                    </a:moveTo>
                    <a:lnTo>
                      <a:pt x="297" y="121"/>
                    </a:lnTo>
                    <a:lnTo>
                      <a:pt x="0" y="141"/>
                    </a:lnTo>
                    <a:lnTo>
                      <a:pt x="169" y="88"/>
                    </a:lnTo>
                    <a:lnTo>
                      <a:pt x="129" y="13"/>
                    </a:lnTo>
                    <a:lnTo>
                      <a:pt x="19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Group 335"/>
            <p:cNvGrpSpPr/>
            <p:nvPr/>
          </p:nvGrpSpPr>
          <p:grpSpPr>
            <a:xfrm>
              <a:off x="4284720" y="5805360"/>
              <a:ext cx="761400" cy="424440"/>
              <a:chOff x="4284720" y="5805360"/>
              <a:chExt cx="761400" cy="424440"/>
            </a:xfrm>
          </p:grpSpPr>
          <p:sp>
            <p:nvSpPr>
              <p:cNvPr id="677" name="Freeform 336"/>
              <p:cNvSpPr/>
              <p:nvPr/>
            </p:nvSpPr>
            <p:spPr>
              <a:xfrm>
                <a:off x="4336200" y="5853600"/>
                <a:ext cx="540000" cy="361440"/>
              </a:xfrm>
              <a:custGeom>
                <a:avLst/>
                <a:gdLst>
                  <a:gd name="textAreaLeft" fmla="*/ 0 w 540000"/>
                  <a:gd name="textAreaRight" fmla="*/ 540000 w 540000"/>
                  <a:gd name="textAreaTop" fmla="*/ 0 h 361440"/>
                  <a:gd name="textAreaBottom" fmla="*/ 361800 h 361440"/>
                </a:gdLst>
                <a:ahLst/>
                <a:rect l="textAreaLeft" t="textAreaTop" r="textAreaRight" b="textAreaBottom"/>
                <a:pathLst>
                  <a:path w="2566" h="2741">
                    <a:moveTo>
                      <a:pt x="92" y="0"/>
                    </a:moveTo>
                    <a:lnTo>
                      <a:pt x="94" y="307"/>
                    </a:lnTo>
                    <a:lnTo>
                      <a:pt x="10" y="530"/>
                    </a:lnTo>
                    <a:lnTo>
                      <a:pt x="364" y="818"/>
                    </a:lnTo>
                    <a:lnTo>
                      <a:pt x="0" y="1593"/>
                    </a:lnTo>
                    <a:lnTo>
                      <a:pt x="560" y="2741"/>
                    </a:lnTo>
                    <a:lnTo>
                      <a:pt x="1750" y="2587"/>
                    </a:lnTo>
                    <a:lnTo>
                      <a:pt x="2566" y="1882"/>
                    </a:lnTo>
                    <a:lnTo>
                      <a:pt x="1775" y="222"/>
                    </a:lnTo>
                    <a:lnTo>
                      <a:pt x="9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Freeform 337"/>
              <p:cNvSpPr/>
              <p:nvPr/>
            </p:nvSpPr>
            <p:spPr>
              <a:xfrm>
                <a:off x="4318200" y="5976360"/>
                <a:ext cx="122040" cy="12888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128880"/>
                  <a:gd name="textAreaBottom" fmla="*/ 129240 h 128880"/>
                </a:gdLst>
                <a:ahLst/>
                <a:rect l="textAreaLeft" t="textAreaTop" r="textAreaRight" b="textAreaBottom"/>
                <a:pathLst>
                  <a:path w="582" h="978">
                    <a:moveTo>
                      <a:pt x="300" y="0"/>
                    </a:moveTo>
                    <a:lnTo>
                      <a:pt x="0" y="48"/>
                    </a:lnTo>
                    <a:lnTo>
                      <a:pt x="37" y="135"/>
                    </a:lnTo>
                    <a:lnTo>
                      <a:pt x="582" y="978"/>
                    </a:lnTo>
                    <a:lnTo>
                      <a:pt x="339" y="126"/>
                    </a:lnTo>
                    <a:lnTo>
                      <a:pt x="300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Freeform 338"/>
              <p:cNvSpPr/>
              <p:nvPr/>
            </p:nvSpPr>
            <p:spPr>
              <a:xfrm>
                <a:off x="4302000" y="6039360"/>
                <a:ext cx="304200" cy="181080"/>
              </a:xfrm>
              <a:custGeom>
                <a:avLst/>
                <a:gdLst>
                  <a:gd name="textAreaLeft" fmla="*/ 0 w 304200"/>
                  <a:gd name="textAreaRight" fmla="*/ 304560 w 304200"/>
                  <a:gd name="textAreaTop" fmla="*/ 0 h 181080"/>
                  <a:gd name="textAreaBottom" fmla="*/ 181440 h 181080"/>
                </a:gdLst>
                <a:ahLst/>
                <a:rect l="textAreaLeft" t="textAreaTop" r="textAreaRight" b="textAreaBottom"/>
                <a:pathLst>
                  <a:path w="1445" h="1374">
                    <a:moveTo>
                      <a:pt x="247" y="0"/>
                    </a:moveTo>
                    <a:lnTo>
                      <a:pt x="0" y="93"/>
                    </a:lnTo>
                    <a:lnTo>
                      <a:pt x="656" y="1374"/>
                    </a:lnTo>
                    <a:lnTo>
                      <a:pt x="1445" y="1331"/>
                    </a:lnTo>
                    <a:lnTo>
                      <a:pt x="719" y="1182"/>
                    </a:lnTo>
                    <a:lnTo>
                      <a:pt x="204" y="156"/>
                    </a:lnTo>
                    <a:lnTo>
                      <a:pt x="247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" name="Freeform 339"/>
              <p:cNvSpPr/>
              <p:nvPr/>
            </p:nvSpPr>
            <p:spPr>
              <a:xfrm>
                <a:off x="4291560" y="5808960"/>
                <a:ext cx="355680" cy="112680"/>
              </a:xfrm>
              <a:custGeom>
                <a:avLst/>
                <a:gdLst>
                  <a:gd name="textAreaLeft" fmla="*/ 0 w 355680"/>
                  <a:gd name="textAreaRight" fmla="*/ 356040 w 35568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1694" h="855">
                    <a:moveTo>
                      <a:pt x="1463" y="0"/>
                    </a:moveTo>
                    <a:lnTo>
                      <a:pt x="20" y="275"/>
                    </a:lnTo>
                    <a:lnTo>
                      <a:pt x="0" y="335"/>
                    </a:lnTo>
                    <a:lnTo>
                      <a:pt x="1389" y="855"/>
                    </a:lnTo>
                    <a:lnTo>
                      <a:pt x="1694" y="731"/>
                    </a:lnTo>
                    <a:lnTo>
                      <a:pt x="845" y="455"/>
                    </a:lnTo>
                    <a:lnTo>
                      <a:pt x="1509" y="75"/>
                    </a:lnTo>
                    <a:lnTo>
                      <a:pt x="1463" y="0"/>
                    </a:lnTo>
                    <a:close/>
                  </a:path>
                </a:pathLst>
              </a:custGeom>
              <a:solidFill>
                <a:srgbClr val="f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1" name="Freeform 340"/>
              <p:cNvSpPr/>
              <p:nvPr/>
            </p:nvSpPr>
            <p:spPr>
              <a:xfrm>
                <a:off x="4299840" y="5905440"/>
                <a:ext cx="379800" cy="107640"/>
              </a:xfrm>
              <a:custGeom>
                <a:avLst/>
                <a:gdLst>
                  <a:gd name="textAreaLeft" fmla="*/ 0 w 379800"/>
                  <a:gd name="textAreaRight" fmla="*/ 380160 w 379800"/>
                  <a:gd name="textAreaTop" fmla="*/ 0 h 107640"/>
                  <a:gd name="textAreaBottom" fmla="*/ 108000 h 107640"/>
                </a:gdLst>
                <a:ahLst/>
                <a:rect l="textAreaLeft" t="textAreaTop" r="textAreaRight" b="textAreaBottom"/>
                <a:pathLst>
                  <a:path w="1806" h="816">
                    <a:moveTo>
                      <a:pt x="241" y="0"/>
                    </a:moveTo>
                    <a:lnTo>
                      <a:pt x="0" y="101"/>
                    </a:lnTo>
                    <a:lnTo>
                      <a:pt x="0" y="172"/>
                    </a:lnTo>
                    <a:lnTo>
                      <a:pt x="1349" y="816"/>
                    </a:lnTo>
                    <a:lnTo>
                      <a:pt x="1779" y="687"/>
                    </a:lnTo>
                    <a:lnTo>
                      <a:pt x="1806" y="570"/>
                    </a:lnTo>
                    <a:lnTo>
                      <a:pt x="1574" y="551"/>
                    </a:lnTo>
                    <a:lnTo>
                      <a:pt x="1344" y="636"/>
                    </a:lnTo>
                    <a:lnTo>
                      <a:pt x="207" y="129"/>
                    </a:lnTo>
                    <a:lnTo>
                      <a:pt x="241" y="0"/>
                    </a:lnTo>
                    <a:close/>
                  </a:path>
                </a:pathLst>
              </a:custGeom>
              <a:solidFill>
                <a:srgbClr val="f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2" name="Freeform 341"/>
              <p:cNvSpPr/>
              <p:nvPr/>
            </p:nvSpPr>
            <p:spPr>
              <a:xfrm>
                <a:off x="4366440" y="5956200"/>
                <a:ext cx="286560" cy="142200"/>
              </a:xfrm>
              <a:custGeom>
                <a:avLst/>
                <a:gdLst>
                  <a:gd name="textAreaLeft" fmla="*/ 0 w 286560"/>
                  <a:gd name="textAreaRight" fmla="*/ 286920 w 286560"/>
                  <a:gd name="textAreaTop" fmla="*/ 0 h 142200"/>
                  <a:gd name="textAreaBottom" fmla="*/ 142560 h 142200"/>
                </a:gdLst>
                <a:ahLst/>
                <a:rect l="textAreaLeft" t="textAreaTop" r="textAreaRight" b="textAreaBottom"/>
                <a:pathLst>
                  <a:path w="1360" h="1080">
                    <a:moveTo>
                      <a:pt x="6" y="59"/>
                    </a:moveTo>
                    <a:lnTo>
                      <a:pt x="0" y="180"/>
                    </a:lnTo>
                    <a:lnTo>
                      <a:pt x="10" y="314"/>
                    </a:lnTo>
                    <a:lnTo>
                      <a:pt x="78" y="384"/>
                    </a:lnTo>
                    <a:lnTo>
                      <a:pt x="226" y="419"/>
                    </a:lnTo>
                    <a:lnTo>
                      <a:pt x="805" y="844"/>
                    </a:lnTo>
                    <a:lnTo>
                      <a:pt x="1060" y="1040"/>
                    </a:lnTo>
                    <a:lnTo>
                      <a:pt x="1244" y="1080"/>
                    </a:lnTo>
                    <a:lnTo>
                      <a:pt x="1219" y="835"/>
                    </a:lnTo>
                    <a:lnTo>
                      <a:pt x="1360" y="465"/>
                    </a:lnTo>
                    <a:lnTo>
                      <a:pt x="1075" y="450"/>
                    </a:lnTo>
                    <a:lnTo>
                      <a:pt x="50" y="0"/>
                    </a:lnTo>
                    <a:lnTo>
                      <a:pt x="6" y="59"/>
                    </a:lnTo>
                    <a:close/>
                  </a:path>
                </a:pathLst>
              </a:custGeom>
              <a:solidFill>
                <a:srgbClr val="f7a8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3" name="Freeform 342"/>
              <p:cNvSpPr/>
              <p:nvPr/>
            </p:nvSpPr>
            <p:spPr>
              <a:xfrm>
                <a:off x="4540680" y="5834880"/>
                <a:ext cx="346320" cy="51120"/>
              </a:xfrm>
              <a:custGeom>
                <a:avLst/>
                <a:gdLst>
                  <a:gd name="textAreaLeft" fmla="*/ 0 w 346320"/>
                  <a:gd name="textAreaRight" fmla="*/ 346680 w 346320"/>
                  <a:gd name="textAreaTop" fmla="*/ 0 h 51120"/>
                  <a:gd name="textAreaBottom" fmla="*/ 51480 h 51120"/>
                </a:gdLst>
                <a:ahLst/>
                <a:rect l="textAreaLeft" t="textAreaTop" r="textAreaRight" b="textAreaBottom"/>
                <a:pathLst>
                  <a:path w="1646" h="390">
                    <a:moveTo>
                      <a:pt x="0" y="292"/>
                    </a:moveTo>
                    <a:lnTo>
                      <a:pt x="53" y="273"/>
                    </a:lnTo>
                    <a:lnTo>
                      <a:pt x="191" y="238"/>
                    </a:lnTo>
                    <a:lnTo>
                      <a:pt x="281" y="216"/>
                    </a:lnTo>
                    <a:lnTo>
                      <a:pt x="383" y="190"/>
                    </a:lnTo>
                    <a:lnTo>
                      <a:pt x="490" y="165"/>
                    </a:lnTo>
                    <a:lnTo>
                      <a:pt x="602" y="139"/>
                    </a:lnTo>
                    <a:lnTo>
                      <a:pt x="715" y="112"/>
                    </a:lnTo>
                    <a:lnTo>
                      <a:pt x="822" y="87"/>
                    </a:lnTo>
                    <a:lnTo>
                      <a:pt x="924" y="64"/>
                    </a:lnTo>
                    <a:lnTo>
                      <a:pt x="1014" y="43"/>
                    </a:lnTo>
                    <a:lnTo>
                      <a:pt x="1150" y="12"/>
                    </a:lnTo>
                    <a:lnTo>
                      <a:pt x="1202" y="0"/>
                    </a:lnTo>
                    <a:lnTo>
                      <a:pt x="1646" y="75"/>
                    </a:lnTo>
                    <a:lnTo>
                      <a:pt x="158" y="390"/>
                    </a:lnTo>
                    <a:lnTo>
                      <a:pt x="0" y="292"/>
                    </a:lnTo>
                    <a:close/>
                  </a:path>
                </a:pathLst>
              </a:custGeom>
              <a:solidFill>
                <a:srgbClr val="f0ea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4" name="Freeform 343"/>
              <p:cNvSpPr/>
              <p:nvPr/>
            </p:nvSpPr>
            <p:spPr>
              <a:xfrm>
                <a:off x="4536360" y="6021360"/>
                <a:ext cx="54360" cy="54720"/>
              </a:xfrm>
              <a:custGeom>
                <a:avLst/>
                <a:gdLst>
                  <a:gd name="textAreaLeft" fmla="*/ 0 w 54360"/>
                  <a:gd name="textAreaRight" fmla="*/ 54720 w 54360"/>
                  <a:gd name="textAreaTop" fmla="*/ 0 h 54720"/>
                  <a:gd name="textAreaBottom" fmla="*/ 55080 h 54720"/>
                </a:gdLst>
                <a:ahLst/>
                <a:rect l="textAreaLeft" t="textAreaTop" r="textAreaRight" b="textAreaBottom"/>
                <a:pathLst>
                  <a:path w="259" h="417">
                    <a:moveTo>
                      <a:pt x="75" y="0"/>
                    </a:moveTo>
                    <a:lnTo>
                      <a:pt x="259" y="21"/>
                    </a:lnTo>
                    <a:lnTo>
                      <a:pt x="135" y="241"/>
                    </a:lnTo>
                    <a:lnTo>
                      <a:pt x="110" y="417"/>
                    </a:lnTo>
                    <a:lnTo>
                      <a:pt x="0" y="350"/>
                    </a:lnTo>
                    <a:lnTo>
                      <a:pt x="25" y="80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f0ea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" name="Freeform 344"/>
              <p:cNvSpPr/>
              <p:nvPr/>
            </p:nvSpPr>
            <p:spPr>
              <a:xfrm>
                <a:off x="4496760" y="6076440"/>
                <a:ext cx="88560" cy="32400"/>
              </a:xfrm>
              <a:custGeom>
                <a:avLst/>
                <a:gdLst>
                  <a:gd name="textAreaLeft" fmla="*/ 0 w 88560"/>
                  <a:gd name="textAreaRight" fmla="*/ 88560 w 88560"/>
                  <a:gd name="textAreaTop" fmla="*/ 0 h 32400"/>
                  <a:gd name="textAreaBottom" fmla="*/ 32760 h 32400"/>
                </a:gdLst>
                <a:ahLst/>
                <a:rect l="textAreaLeft" t="textAreaTop" r="textAreaRight" b="textAreaBottom"/>
                <a:pathLst>
                  <a:path w="423" h="247">
                    <a:moveTo>
                      <a:pt x="0" y="16"/>
                    </a:moveTo>
                    <a:lnTo>
                      <a:pt x="174" y="0"/>
                    </a:lnTo>
                    <a:lnTo>
                      <a:pt x="423" y="201"/>
                    </a:lnTo>
                    <a:lnTo>
                      <a:pt x="44" y="247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f0ea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" name="Freeform 345"/>
              <p:cNvSpPr/>
              <p:nvPr/>
            </p:nvSpPr>
            <p:spPr>
              <a:xfrm>
                <a:off x="4471920" y="6112080"/>
                <a:ext cx="500400" cy="99000"/>
              </a:xfrm>
              <a:custGeom>
                <a:avLst/>
                <a:gdLst>
                  <a:gd name="textAreaLeft" fmla="*/ 0 w 500400"/>
                  <a:gd name="textAreaRight" fmla="*/ 500760 w 500400"/>
                  <a:gd name="textAreaTop" fmla="*/ 0 h 99000"/>
                  <a:gd name="textAreaBottom" fmla="*/ 99360 h 99000"/>
                </a:gdLst>
                <a:ahLst/>
                <a:rect l="textAreaLeft" t="textAreaTop" r="textAreaRight" b="textAreaBottom"/>
                <a:pathLst>
                  <a:path w="2378" h="751">
                    <a:moveTo>
                      <a:pt x="155" y="301"/>
                    </a:moveTo>
                    <a:lnTo>
                      <a:pt x="129" y="450"/>
                    </a:lnTo>
                    <a:lnTo>
                      <a:pt x="0" y="601"/>
                    </a:lnTo>
                    <a:lnTo>
                      <a:pt x="563" y="751"/>
                    </a:lnTo>
                    <a:lnTo>
                      <a:pt x="1684" y="647"/>
                    </a:lnTo>
                    <a:lnTo>
                      <a:pt x="1763" y="616"/>
                    </a:lnTo>
                    <a:lnTo>
                      <a:pt x="1913" y="647"/>
                    </a:lnTo>
                    <a:lnTo>
                      <a:pt x="2042" y="630"/>
                    </a:lnTo>
                    <a:lnTo>
                      <a:pt x="2187" y="607"/>
                    </a:lnTo>
                    <a:lnTo>
                      <a:pt x="2221" y="580"/>
                    </a:lnTo>
                    <a:lnTo>
                      <a:pt x="2276" y="534"/>
                    </a:lnTo>
                    <a:lnTo>
                      <a:pt x="2326" y="490"/>
                    </a:lnTo>
                    <a:lnTo>
                      <a:pt x="2348" y="471"/>
                    </a:lnTo>
                    <a:lnTo>
                      <a:pt x="2378" y="186"/>
                    </a:lnTo>
                    <a:lnTo>
                      <a:pt x="2218" y="0"/>
                    </a:lnTo>
                    <a:lnTo>
                      <a:pt x="1439" y="140"/>
                    </a:lnTo>
                    <a:lnTo>
                      <a:pt x="155" y="301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7" name="Freeform 346"/>
              <p:cNvSpPr/>
              <p:nvPr/>
            </p:nvSpPr>
            <p:spPr>
              <a:xfrm>
                <a:off x="4335480" y="5985360"/>
                <a:ext cx="644400" cy="228240"/>
              </a:xfrm>
              <a:custGeom>
                <a:avLst/>
                <a:gdLst>
                  <a:gd name="textAreaLeft" fmla="*/ 0 w 644400"/>
                  <a:gd name="textAreaRight" fmla="*/ 644760 w 644400"/>
                  <a:gd name="textAreaTop" fmla="*/ 0 h 228240"/>
                  <a:gd name="textAreaBottom" fmla="*/ 228600 h 228240"/>
                </a:gdLst>
                <a:ahLst/>
                <a:rect l="textAreaLeft" t="textAreaTop" r="textAreaRight" b="textAreaBottom"/>
                <a:pathLst>
                  <a:path w="3063" h="1730">
                    <a:moveTo>
                      <a:pt x="15" y="29"/>
                    </a:moveTo>
                    <a:lnTo>
                      <a:pt x="134" y="0"/>
                    </a:lnTo>
                    <a:lnTo>
                      <a:pt x="205" y="184"/>
                    </a:lnTo>
                    <a:lnTo>
                      <a:pt x="306" y="212"/>
                    </a:lnTo>
                    <a:lnTo>
                      <a:pt x="880" y="630"/>
                    </a:lnTo>
                    <a:lnTo>
                      <a:pt x="669" y="680"/>
                    </a:lnTo>
                    <a:lnTo>
                      <a:pt x="809" y="936"/>
                    </a:lnTo>
                    <a:lnTo>
                      <a:pt x="1284" y="885"/>
                    </a:lnTo>
                    <a:lnTo>
                      <a:pt x="1594" y="980"/>
                    </a:lnTo>
                    <a:lnTo>
                      <a:pt x="2453" y="705"/>
                    </a:lnTo>
                    <a:lnTo>
                      <a:pt x="2883" y="730"/>
                    </a:lnTo>
                    <a:lnTo>
                      <a:pt x="3063" y="970"/>
                    </a:lnTo>
                    <a:lnTo>
                      <a:pt x="3014" y="1427"/>
                    </a:lnTo>
                    <a:lnTo>
                      <a:pt x="2858" y="1555"/>
                    </a:lnTo>
                    <a:lnTo>
                      <a:pt x="2537" y="1614"/>
                    </a:lnTo>
                    <a:lnTo>
                      <a:pt x="2388" y="1581"/>
                    </a:lnTo>
                    <a:lnTo>
                      <a:pt x="2269" y="1620"/>
                    </a:lnTo>
                    <a:lnTo>
                      <a:pt x="1115" y="1730"/>
                    </a:lnTo>
                    <a:lnTo>
                      <a:pt x="561" y="1594"/>
                    </a:lnTo>
                    <a:lnTo>
                      <a:pt x="964" y="1535"/>
                    </a:lnTo>
                    <a:lnTo>
                      <a:pt x="2554" y="1409"/>
                    </a:lnTo>
                    <a:lnTo>
                      <a:pt x="2808" y="1395"/>
                    </a:lnTo>
                    <a:lnTo>
                      <a:pt x="2908" y="1160"/>
                    </a:lnTo>
                    <a:lnTo>
                      <a:pt x="2892" y="1133"/>
                    </a:lnTo>
                    <a:lnTo>
                      <a:pt x="2855" y="1074"/>
                    </a:lnTo>
                    <a:lnTo>
                      <a:pt x="2834" y="1042"/>
                    </a:lnTo>
                    <a:lnTo>
                      <a:pt x="2815" y="1012"/>
                    </a:lnTo>
                    <a:lnTo>
                      <a:pt x="2788" y="980"/>
                    </a:lnTo>
                    <a:lnTo>
                      <a:pt x="2536" y="1006"/>
                    </a:lnTo>
                    <a:lnTo>
                      <a:pt x="2372" y="1029"/>
                    </a:lnTo>
                    <a:lnTo>
                      <a:pt x="2298" y="1040"/>
                    </a:lnTo>
                    <a:lnTo>
                      <a:pt x="784" y="1215"/>
                    </a:lnTo>
                    <a:lnTo>
                      <a:pt x="703" y="1237"/>
                    </a:lnTo>
                    <a:lnTo>
                      <a:pt x="0" y="119"/>
                    </a:lnTo>
                    <a:lnTo>
                      <a:pt x="459" y="710"/>
                    </a:lnTo>
                    <a:lnTo>
                      <a:pt x="15" y="29"/>
                    </a:lnTo>
                    <a:close/>
                  </a:path>
                </a:pathLst>
              </a:custGeom>
              <a:solidFill>
                <a:srgbClr val="7a7a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8" name="Freeform 347"/>
              <p:cNvSpPr/>
              <p:nvPr/>
            </p:nvSpPr>
            <p:spPr>
              <a:xfrm>
                <a:off x="4776840" y="6074280"/>
                <a:ext cx="124920" cy="23760"/>
              </a:xfrm>
              <a:custGeom>
                <a:avLst/>
                <a:gdLst>
                  <a:gd name="textAreaLeft" fmla="*/ 0 w 124920"/>
                  <a:gd name="textAreaRight" fmla="*/ 125280 w 12492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593" h="178">
                    <a:moveTo>
                      <a:pt x="0" y="178"/>
                    </a:moveTo>
                    <a:lnTo>
                      <a:pt x="423" y="161"/>
                    </a:lnTo>
                    <a:lnTo>
                      <a:pt x="593" y="142"/>
                    </a:lnTo>
                    <a:lnTo>
                      <a:pt x="519" y="68"/>
                    </a:lnTo>
                    <a:lnTo>
                      <a:pt x="546" y="0"/>
                    </a:lnTo>
                    <a:lnTo>
                      <a:pt x="380" y="29"/>
                    </a:lnTo>
                    <a:lnTo>
                      <a:pt x="155" y="124"/>
                    </a:lnTo>
                    <a:lnTo>
                      <a:pt x="0" y="178"/>
                    </a:lnTo>
                    <a:close/>
                  </a:path>
                </a:pathLst>
              </a:custGeom>
              <a:solidFill>
                <a:srgbClr val="948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Freeform 348"/>
              <p:cNvSpPr/>
              <p:nvPr/>
            </p:nvSpPr>
            <p:spPr>
              <a:xfrm>
                <a:off x="4528800" y="6013440"/>
                <a:ext cx="55440" cy="6264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62640"/>
                  <a:gd name="textAreaBottom" fmla="*/ 63000 h 62640"/>
                </a:gdLst>
                <a:ahLst/>
                <a:rect l="textAreaLeft" t="textAreaTop" r="textAreaRight" b="textAreaBottom"/>
                <a:pathLst>
                  <a:path w="264" h="477">
                    <a:moveTo>
                      <a:pt x="9" y="420"/>
                    </a:moveTo>
                    <a:lnTo>
                      <a:pt x="0" y="266"/>
                    </a:lnTo>
                    <a:lnTo>
                      <a:pt x="59" y="96"/>
                    </a:lnTo>
                    <a:lnTo>
                      <a:pt x="109" y="0"/>
                    </a:lnTo>
                    <a:lnTo>
                      <a:pt x="264" y="81"/>
                    </a:lnTo>
                    <a:lnTo>
                      <a:pt x="214" y="106"/>
                    </a:lnTo>
                    <a:lnTo>
                      <a:pt x="119" y="131"/>
                    </a:lnTo>
                    <a:lnTo>
                      <a:pt x="73" y="245"/>
                    </a:lnTo>
                    <a:lnTo>
                      <a:pt x="73" y="366"/>
                    </a:lnTo>
                    <a:lnTo>
                      <a:pt x="144" y="477"/>
                    </a:lnTo>
                    <a:lnTo>
                      <a:pt x="9" y="420"/>
                    </a:lnTo>
                    <a:close/>
                  </a:path>
                </a:pathLst>
              </a:custGeom>
              <a:solidFill>
                <a:srgbClr val="b8ad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0" name="Freeform 349"/>
              <p:cNvSpPr/>
              <p:nvPr/>
            </p:nvSpPr>
            <p:spPr>
              <a:xfrm>
                <a:off x="4538880" y="5832000"/>
                <a:ext cx="291240" cy="65160"/>
              </a:xfrm>
              <a:custGeom>
                <a:avLst/>
                <a:gdLst>
                  <a:gd name="textAreaLeft" fmla="*/ 0 w 291240"/>
                  <a:gd name="textAreaRight" fmla="*/ 291600 w 291240"/>
                  <a:gd name="textAreaTop" fmla="*/ 0 h 65160"/>
                  <a:gd name="textAreaBottom" fmla="*/ 65520 h 65160"/>
                </a:gdLst>
                <a:ahLst/>
                <a:rect l="textAreaLeft" t="textAreaTop" r="textAreaRight" b="textAreaBottom"/>
                <a:pathLst>
                  <a:path w="1385" h="496">
                    <a:moveTo>
                      <a:pt x="0" y="297"/>
                    </a:moveTo>
                    <a:lnTo>
                      <a:pt x="1110" y="0"/>
                    </a:lnTo>
                    <a:lnTo>
                      <a:pt x="1255" y="31"/>
                    </a:lnTo>
                    <a:lnTo>
                      <a:pt x="269" y="309"/>
                    </a:lnTo>
                    <a:lnTo>
                      <a:pt x="1385" y="121"/>
                    </a:lnTo>
                    <a:lnTo>
                      <a:pt x="291" y="496"/>
                    </a:lnTo>
                    <a:lnTo>
                      <a:pt x="0" y="297"/>
                    </a:lnTo>
                    <a:close/>
                  </a:path>
                </a:pathLst>
              </a:custGeom>
              <a:solidFill>
                <a:srgbClr val="b8ad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1" name="Freeform 350"/>
              <p:cNvSpPr/>
              <p:nvPr/>
            </p:nvSpPr>
            <p:spPr>
              <a:xfrm>
                <a:off x="4476600" y="6069240"/>
                <a:ext cx="124920" cy="39240"/>
              </a:xfrm>
              <a:custGeom>
                <a:avLst/>
                <a:gdLst>
                  <a:gd name="textAreaLeft" fmla="*/ 0 w 124920"/>
                  <a:gd name="textAreaRight" fmla="*/ 125280 w 124920"/>
                  <a:gd name="textAreaTop" fmla="*/ 0 h 39240"/>
                  <a:gd name="textAreaBottom" fmla="*/ 39240 h 39240"/>
                </a:gdLst>
                <a:ahLst/>
                <a:rect l="textAreaLeft" t="textAreaTop" r="textAreaRight" b="textAreaBottom"/>
                <a:pathLst>
                  <a:path w="595" h="300">
                    <a:moveTo>
                      <a:pt x="0" y="44"/>
                    </a:moveTo>
                    <a:lnTo>
                      <a:pt x="187" y="0"/>
                    </a:lnTo>
                    <a:lnTo>
                      <a:pt x="428" y="131"/>
                    </a:lnTo>
                    <a:lnTo>
                      <a:pt x="595" y="251"/>
                    </a:lnTo>
                    <a:lnTo>
                      <a:pt x="490" y="269"/>
                    </a:lnTo>
                    <a:lnTo>
                      <a:pt x="375" y="193"/>
                    </a:lnTo>
                    <a:lnTo>
                      <a:pt x="291" y="109"/>
                    </a:lnTo>
                    <a:lnTo>
                      <a:pt x="155" y="94"/>
                    </a:lnTo>
                    <a:lnTo>
                      <a:pt x="140" y="300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b8ad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2" name="Freeform 351"/>
              <p:cNvSpPr/>
              <p:nvPr/>
            </p:nvSpPr>
            <p:spPr>
              <a:xfrm>
                <a:off x="4671360" y="5922000"/>
                <a:ext cx="95040" cy="1594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159480"/>
                  <a:gd name="textAreaBottom" fmla="*/ 159840 h 159480"/>
                </a:gdLst>
                <a:ahLst/>
                <a:rect l="textAreaLeft" t="textAreaTop" r="textAreaRight" b="textAreaBottom"/>
                <a:pathLst>
                  <a:path w="452" h="1211">
                    <a:moveTo>
                      <a:pt x="71" y="96"/>
                    </a:moveTo>
                    <a:lnTo>
                      <a:pt x="362" y="0"/>
                    </a:lnTo>
                    <a:lnTo>
                      <a:pt x="452" y="110"/>
                    </a:lnTo>
                    <a:lnTo>
                      <a:pt x="322" y="776"/>
                    </a:lnTo>
                    <a:lnTo>
                      <a:pt x="186" y="896"/>
                    </a:lnTo>
                    <a:lnTo>
                      <a:pt x="182" y="1211"/>
                    </a:lnTo>
                    <a:lnTo>
                      <a:pt x="71" y="1086"/>
                    </a:lnTo>
                    <a:lnTo>
                      <a:pt x="49" y="941"/>
                    </a:lnTo>
                    <a:lnTo>
                      <a:pt x="27" y="841"/>
                    </a:lnTo>
                    <a:lnTo>
                      <a:pt x="5" y="794"/>
                    </a:lnTo>
                    <a:lnTo>
                      <a:pt x="0" y="772"/>
                    </a:lnTo>
                    <a:lnTo>
                      <a:pt x="5" y="716"/>
                    </a:lnTo>
                    <a:lnTo>
                      <a:pt x="30" y="549"/>
                    </a:lnTo>
                    <a:lnTo>
                      <a:pt x="61" y="382"/>
                    </a:lnTo>
                    <a:lnTo>
                      <a:pt x="77" y="305"/>
                    </a:lnTo>
                    <a:lnTo>
                      <a:pt x="37" y="121"/>
                    </a:lnTo>
                    <a:lnTo>
                      <a:pt x="71" y="96"/>
                    </a:lnTo>
                    <a:close/>
                  </a:path>
                </a:pathLst>
              </a:custGeom>
              <a:solidFill>
                <a:srgbClr val="ff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3" name="Freeform 352"/>
              <p:cNvSpPr/>
              <p:nvPr/>
            </p:nvSpPr>
            <p:spPr>
              <a:xfrm>
                <a:off x="4682160" y="5915160"/>
                <a:ext cx="99720" cy="16992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69920"/>
                  <a:gd name="textAreaBottom" fmla="*/ 169920 h 169920"/>
                </a:gdLst>
                <a:ahLst/>
                <a:rect l="textAreaLeft" t="textAreaTop" r="textAreaRight" b="textAreaBottom"/>
                <a:pathLst>
                  <a:path w="474" h="1290">
                    <a:moveTo>
                      <a:pt x="0" y="109"/>
                    </a:moveTo>
                    <a:lnTo>
                      <a:pt x="369" y="0"/>
                    </a:lnTo>
                    <a:lnTo>
                      <a:pt x="474" y="214"/>
                    </a:lnTo>
                    <a:lnTo>
                      <a:pt x="310" y="689"/>
                    </a:lnTo>
                    <a:lnTo>
                      <a:pt x="434" y="1005"/>
                    </a:lnTo>
                    <a:lnTo>
                      <a:pt x="230" y="959"/>
                    </a:lnTo>
                    <a:lnTo>
                      <a:pt x="140" y="1290"/>
                    </a:lnTo>
                    <a:lnTo>
                      <a:pt x="57" y="1026"/>
                    </a:lnTo>
                    <a:lnTo>
                      <a:pt x="15" y="779"/>
                    </a:lnTo>
                    <a:lnTo>
                      <a:pt x="90" y="509"/>
                    </a:lnTo>
                    <a:lnTo>
                      <a:pt x="34" y="304"/>
                    </a:lnTo>
                    <a:lnTo>
                      <a:pt x="124" y="214"/>
                    </a:lnTo>
                    <a:lnTo>
                      <a:pt x="230" y="244"/>
                    </a:lnTo>
                    <a:lnTo>
                      <a:pt x="190" y="339"/>
                    </a:lnTo>
                    <a:lnTo>
                      <a:pt x="264" y="390"/>
                    </a:lnTo>
                    <a:lnTo>
                      <a:pt x="115" y="689"/>
                    </a:lnTo>
                    <a:lnTo>
                      <a:pt x="190" y="675"/>
                    </a:lnTo>
                    <a:lnTo>
                      <a:pt x="115" y="900"/>
                    </a:lnTo>
                    <a:lnTo>
                      <a:pt x="214" y="785"/>
                    </a:lnTo>
                    <a:lnTo>
                      <a:pt x="260" y="555"/>
                    </a:lnTo>
                    <a:lnTo>
                      <a:pt x="260" y="484"/>
                    </a:lnTo>
                    <a:lnTo>
                      <a:pt x="339" y="314"/>
                    </a:lnTo>
                    <a:lnTo>
                      <a:pt x="285" y="300"/>
                    </a:lnTo>
                    <a:lnTo>
                      <a:pt x="304" y="170"/>
                    </a:lnTo>
                    <a:lnTo>
                      <a:pt x="180" y="149"/>
                    </a:lnTo>
                    <a:lnTo>
                      <a:pt x="199" y="99"/>
                    </a:lnTo>
                    <a:lnTo>
                      <a:pt x="25" y="195"/>
                    </a:lnTo>
                    <a:lnTo>
                      <a:pt x="0" y="109"/>
                    </a:lnTo>
                    <a:close/>
                  </a:path>
                </a:pathLst>
              </a:custGeom>
              <a:solidFill>
                <a:srgbClr val="ff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" name="Freeform 353"/>
              <p:cNvSpPr/>
              <p:nvPr/>
            </p:nvSpPr>
            <p:spPr>
              <a:xfrm>
                <a:off x="4374000" y="5981400"/>
                <a:ext cx="167040" cy="90000"/>
              </a:xfrm>
              <a:custGeom>
                <a:avLst/>
                <a:gdLst>
                  <a:gd name="textAreaLeft" fmla="*/ 0 w 167040"/>
                  <a:gd name="textAreaRight" fmla="*/ 167400 w 167040"/>
                  <a:gd name="textAreaTop" fmla="*/ 0 h 90000"/>
                  <a:gd name="textAreaBottom" fmla="*/ 90360 h 90000"/>
                </a:gdLst>
                <a:ahLst/>
                <a:rect l="textAreaLeft" t="textAreaTop" r="textAreaRight" b="textAreaBottom"/>
                <a:pathLst>
                  <a:path w="794" h="686">
                    <a:moveTo>
                      <a:pt x="0" y="136"/>
                    </a:moveTo>
                    <a:lnTo>
                      <a:pt x="60" y="40"/>
                    </a:lnTo>
                    <a:lnTo>
                      <a:pt x="134" y="0"/>
                    </a:lnTo>
                    <a:lnTo>
                      <a:pt x="144" y="96"/>
                    </a:lnTo>
                    <a:lnTo>
                      <a:pt x="349" y="291"/>
                    </a:lnTo>
                    <a:lnTo>
                      <a:pt x="653" y="466"/>
                    </a:lnTo>
                    <a:lnTo>
                      <a:pt x="794" y="341"/>
                    </a:lnTo>
                    <a:lnTo>
                      <a:pt x="714" y="686"/>
                    </a:lnTo>
                    <a:lnTo>
                      <a:pt x="100" y="230"/>
                    </a:lnTo>
                    <a:lnTo>
                      <a:pt x="20" y="215"/>
                    </a:lnTo>
                    <a:lnTo>
                      <a:pt x="0" y="136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" name="Freeform 354"/>
              <p:cNvSpPr/>
              <p:nvPr/>
            </p:nvSpPr>
            <p:spPr>
              <a:xfrm>
                <a:off x="4370400" y="5957640"/>
                <a:ext cx="189720" cy="68400"/>
              </a:xfrm>
              <a:custGeom>
                <a:avLst/>
                <a:gdLst>
                  <a:gd name="textAreaLeft" fmla="*/ 0 w 189720"/>
                  <a:gd name="textAreaRight" fmla="*/ 190080 w 189720"/>
                  <a:gd name="textAreaTop" fmla="*/ 0 h 68400"/>
                  <a:gd name="textAreaBottom" fmla="*/ 68760 h 68400"/>
                </a:gdLst>
                <a:ahLst/>
                <a:rect l="textAreaLeft" t="textAreaTop" r="textAreaRight" b="textAreaBottom"/>
                <a:pathLst>
                  <a:path w="902" h="521">
                    <a:moveTo>
                      <a:pt x="32" y="40"/>
                    </a:moveTo>
                    <a:lnTo>
                      <a:pt x="0" y="102"/>
                    </a:lnTo>
                    <a:lnTo>
                      <a:pt x="143" y="121"/>
                    </a:lnTo>
                    <a:lnTo>
                      <a:pt x="767" y="446"/>
                    </a:lnTo>
                    <a:lnTo>
                      <a:pt x="812" y="521"/>
                    </a:lnTo>
                    <a:lnTo>
                      <a:pt x="902" y="435"/>
                    </a:lnTo>
                    <a:lnTo>
                      <a:pt x="93" y="0"/>
                    </a:lnTo>
                    <a:lnTo>
                      <a:pt x="32" y="40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" name="Freeform 355"/>
              <p:cNvSpPr/>
              <p:nvPr/>
            </p:nvSpPr>
            <p:spPr>
              <a:xfrm>
                <a:off x="4566600" y="5995800"/>
                <a:ext cx="475200" cy="118440"/>
              </a:xfrm>
              <a:custGeom>
                <a:avLst/>
                <a:gdLst>
                  <a:gd name="textAreaLeft" fmla="*/ 0 w 475200"/>
                  <a:gd name="textAreaRight" fmla="*/ 475560 w 475200"/>
                  <a:gd name="textAreaTop" fmla="*/ 0 h 118440"/>
                  <a:gd name="textAreaBottom" fmla="*/ 118800 h 118440"/>
                </a:gdLst>
                <a:ahLst/>
                <a:rect l="textAreaLeft" t="textAreaTop" r="textAreaRight" b="textAreaBottom"/>
                <a:pathLst>
                  <a:path w="2259" h="900">
                    <a:moveTo>
                      <a:pt x="11" y="515"/>
                    </a:moveTo>
                    <a:lnTo>
                      <a:pt x="90" y="655"/>
                    </a:lnTo>
                    <a:lnTo>
                      <a:pt x="226" y="709"/>
                    </a:lnTo>
                    <a:lnTo>
                      <a:pt x="231" y="510"/>
                    </a:lnTo>
                    <a:lnTo>
                      <a:pt x="321" y="284"/>
                    </a:lnTo>
                    <a:lnTo>
                      <a:pt x="201" y="345"/>
                    </a:lnTo>
                    <a:lnTo>
                      <a:pt x="155" y="379"/>
                    </a:lnTo>
                    <a:lnTo>
                      <a:pt x="141" y="315"/>
                    </a:lnTo>
                    <a:lnTo>
                      <a:pt x="146" y="184"/>
                    </a:lnTo>
                    <a:lnTo>
                      <a:pt x="511" y="0"/>
                    </a:lnTo>
                    <a:lnTo>
                      <a:pt x="504" y="233"/>
                    </a:lnTo>
                    <a:lnTo>
                      <a:pt x="437" y="283"/>
                    </a:lnTo>
                    <a:lnTo>
                      <a:pt x="390" y="540"/>
                    </a:lnTo>
                    <a:lnTo>
                      <a:pt x="481" y="730"/>
                    </a:lnTo>
                    <a:lnTo>
                      <a:pt x="1885" y="305"/>
                    </a:lnTo>
                    <a:lnTo>
                      <a:pt x="1780" y="100"/>
                    </a:lnTo>
                    <a:lnTo>
                      <a:pt x="2259" y="299"/>
                    </a:lnTo>
                    <a:lnTo>
                      <a:pt x="2179" y="355"/>
                    </a:lnTo>
                    <a:lnTo>
                      <a:pt x="496" y="900"/>
                    </a:lnTo>
                    <a:lnTo>
                      <a:pt x="349" y="864"/>
                    </a:lnTo>
                    <a:lnTo>
                      <a:pt x="46" y="740"/>
                    </a:lnTo>
                    <a:lnTo>
                      <a:pt x="0" y="600"/>
                    </a:lnTo>
                    <a:lnTo>
                      <a:pt x="11" y="515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" name="Freeform 356"/>
              <p:cNvSpPr/>
              <p:nvPr/>
            </p:nvSpPr>
            <p:spPr>
              <a:xfrm>
                <a:off x="4745160" y="5945040"/>
                <a:ext cx="281880" cy="77040"/>
              </a:xfrm>
              <a:custGeom>
                <a:avLst/>
                <a:gdLst>
                  <a:gd name="textAreaLeft" fmla="*/ 0 w 281880"/>
                  <a:gd name="textAreaRight" fmla="*/ 282240 w 281880"/>
                  <a:gd name="textAreaTop" fmla="*/ 0 h 77040"/>
                  <a:gd name="textAreaBottom" fmla="*/ 77400 h 77040"/>
                </a:gdLst>
                <a:ahLst/>
                <a:rect l="textAreaLeft" t="textAreaTop" r="textAreaRight" b="textAreaBottom"/>
                <a:pathLst>
                  <a:path w="1340" h="586">
                    <a:moveTo>
                      <a:pt x="100" y="210"/>
                    </a:moveTo>
                    <a:lnTo>
                      <a:pt x="634" y="0"/>
                    </a:lnTo>
                    <a:lnTo>
                      <a:pt x="1340" y="170"/>
                    </a:lnTo>
                    <a:lnTo>
                      <a:pt x="1208" y="256"/>
                    </a:lnTo>
                    <a:lnTo>
                      <a:pt x="14" y="586"/>
                    </a:lnTo>
                    <a:lnTo>
                      <a:pt x="0" y="436"/>
                    </a:lnTo>
                    <a:lnTo>
                      <a:pt x="100" y="210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" name="Freeform 357"/>
              <p:cNvSpPr/>
              <p:nvPr/>
            </p:nvSpPr>
            <p:spPr>
              <a:xfrm>
                <a:off x="4305600" y="5922720"/>
                <a:ext cx="291240" cy="101160"/>
              </a:xfrm>
              <a:custGeom>
                <a:avLst/>
                <a:gdLst>
                  <a:gd name="textAreaLeft" fmla="*/ 0 w 291240"/>
                  <a:gd name="textAreaRight" fmla="*/ 291600 w 291240"/>
                  <a:gd name="textAreaTop" fmla="*/ 0 h 101160"/>
                  <a:gd name="textAreaBottom" fmla="*/ 101520 h 101160"/>
                </a:gdLst>
                <a:ahLst/>
                <a:rect l="textAreaLeft" t="textAreaTop" r="textAreaRight" b="textAreaBottom"/>
                <a:pathLst>
                  <a:path w="1387" h="770">
                    <a:moveTo>
                      <a:pt x="0" y="45"/>
                    </a:moveTo>
                    <a:lnTo>
                      <a:pt x="24" y="0"/>
                    </a:lnTo>
                    <a:lnTo>
                      <a:pt x="1387" y="659"/>
                    </a:lnTo>
                    <a:lnTo>
                      <a:pt x="1356" y="770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ae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" name="Freeform 358"/>
              <p:cNvSpPr/>
              <p:nvPr/>
            </p:nvSpPr>
            <p:spPr>
              <a:xfrm>
                <a:off x="4354560" y="5856840"/>
                <a:ext cx="587520" cy="124920"/>
              </a:xfrm>
              <a:custGeom>
                <a:avLst/>
                <a:gdLst>
                  <a:gd name="textAreaLeft" fmla="*/ 0 w 587520"/>
                  <a:gd name="textAreaRight" fmla="*/ 587880 w 587520"/>
                  <a:gd name="textAreaTop" fmla="*/ 0 h 124920"/>
                  <a:gd name="textAreaBottom" fmla="*/ 125280 h 124920"/>
                </a:gdLst>
                <a:ahLst/>
                <a:rect l="textAreaLeft" t="textAreaTop" r="textAreaRight" b="textAreaBottom"/>
                <a:pathLst>
                  <a:path w="2793" h="946">
                    <a:moveTo>
                      <a:pt x="9" y="280"/>
                    </a:moveTo>
                    <a:lnTo>
                      <a:pt x="1219" y="716"/>
                    </a:lnTo>
                    <a:lnTo>
                      <a:pt x="1169" y="946"/>
                    </a:lnTo>
                    <a:lnTo>
                      <a:pt x="1433" y="856"/>
                    </a:lnTo>
                    <a:lnTo>
                      <a:pt x="1584" y="795"/>
                    </a:lnTo>
                    <a:lnTo>
                      <a:pt x="1544" y="590"/>
                    </a:lnTo>
                    <a:lnTo>
                      <a:pt x="1928" y="441"/>
                    </a:lnTo>
                    <a:lnTo>
                      <a:pt x="2003" y="586"/>
                    </a:lnTo>
                    <a:lnTo>
                      <a:pt x="1959" y="835"/>
                    </a:lnTo>
                    <a:lnTo>
                      <a:pt x="2498" y="574"/>
                    </a:lnTo>
                    <a:lnTo>
                      <a:pt x="2648" y="586"/>
                    </a:lnTo>
                    <a:lnTo>
                      <a:pt x="2793" y="310"/>
                    </a:lnTo>
                    <a:lnTo>
                      <a:pt x="2778" y="106"/>
                    </a:lnTo>
                    <a:lnTo>
                      <a:pt x="2588" y="0"/>
                    </a:lnTo>
                    <a:lnTo>
                      <a:pt x="1194" y="435"/>
                    </a:lnTo>
                    <a:lnTo>
                      <a:pt x="1089" y="490"/>
                    </a:lnTo>
                    <a:lnTo>
                      <a:pt x="0" y="115"/>
                    </a:lnTo>
                    <a:lnTo>
                      <a:pt x="9" y="280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Freeform 359"/>
              <p:cNvSpPr/>
              <p:nvPr/>
            </p:nvSpPr>
            <p:spPr>
              <a:xfrm>
                <a:off x="4317480" y="5808240"/>
                <a:ext cx="627840" cy="167040"/>
              </a:xfrm>
              <a:custGeom>
                <a:avLst/>
                <a:gdLst>
                  <a:gd name="textAreaLeft" fmla="*/ 0 w 627840"/>
                  <a:gd name="textAreaRight" fmla="*/ 628200 w 627840"/>
                  <a:gd name="textAreaTop" fmla="*/ 0 h 167040"/>
                  <a:gd name="textAreaBottom" fmla="*/ 167400 h 167040"/>
                </a:gdLst>
                <a:ahLst/>
                <a:rect l="textAreaLeft" t="textAreaTop" r="textAreaRight" b="textAreaBottom"/>
                <a:pathLst>
                  <a:path w="2984" h="1267">
                    <a:moveTo>
                      <a:pt x="0" y="316"/>
                    </a:moveTo>
                    <a:lnTo>
                      <a:pt x="1490" y="0"/>
                    </a:lnTo>
                    <a:lnTo>
                      <a:pt x="2284" y="170"/>
                    </a:lnTo>
                    <a:lnTo>
                      <a:pt x="991" y="481"/>
                    </a:lnTo>
                    <a:lnTo>
                      <a:pt x="1291" y="586"/>
                    </a:lnTo>
                    <a:lnTo>
                      <a:pt x="2598" y="266"/>
                    </a:lnTo>
                    <a:lnTo>
                      <a:pt x="2731" y="213"/>
                    </a:lnTo>
                    <a:lnTo>
                      <a:pt x="2904" y="306"/>
                    </a:lnTo>
                    <a:lnTo>
                      <a:pt x="2979" y="421"/>
                    </a:lnTo>
                    <a:lnTo>
                      <a:pt x="2984" y="741"/>
                    </a:lnTo>
                    <a:lnTo>
                      <a:pt x="2824" y="957"/>
                    </a:lnTo>
                    <a:lnTo>
                      <a:pt x="2674" y="967"/>
                    </a:lnTo>
                    <a:lnTo>
                      <a:pt x="2649" y="1032"/>
                    </a:lnTo>
                    <a:lnTo>
                      <a:pt x="2514" y="1097"/>
                    </a:lnTo>
                    <a:lnTo>
                      <a:pt x="2349" y="1147"/>
                    </a:lnTo>
                    <a:lnTo>
                      <a:pt x="2119" y="1267"/>
                    </a:lnTo>
                    <a:lnTo>
                      <a:pt x="2135" y="1206"/>
                    </a:lnTo>
                    <a:lnTo>
                      <a:pt x="2209" y="1026"/>
                    </a:lnTo>
                    <a:lnTo>
                      <a:pt x="2759" y="806"/>
                    </a:lnTo>
                    <a:lnTo>
                      <a:pt x="2864" y="676"/>
                    </a:lnTo>
                    <a:lnTo>
                      <a:pt x="2835" y="446"/>
                    </a:lnTo>
                    <a:lnTo>
                      <a:pt x="2759" y="403"/>
                    </a:lnTo>
                    <a:lnTo>
                      <a:pt x="1375" y="787"/>
                    </a:lnTo>
                    <a:lnTo>
                      <a:pt x="0" y="316"/>
                    </a:lnTo>
                    <a:close/>
                  </a:path>
                </a:pathLst>
              </a:custGeom>
              <a:solidFill>
                <a:srgbClr val="ae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" name="Freeform 360"/>
              <p:cNvSpPr/>
              <p:nvPr/>
            </p:nvSpPr>
            <p:spPr>
              <a:xfrm>
                <a:off x="4646880" y="5993280"/>
                <a:ext cx="322560" cy="102960"/>
              </a:xfrm>
              <a:custGeom>
                <a:avLst/>
                <a:gdLst>
                  <a:gd name="textAreaLeft" fmla="*/ 0 w 322560"/>
                  <a:gd name="textAreaRight" fmla="*/ 322920 w 32256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1534" h="781">
                    <a:moveTo>
                      <a:pt x="509" y="236"/>
                    </a:moveTo>
                    <a:lnTo>
                      <a:pt x="1419" y="0"/>
                    </a:lnTo>
                    <a:lnTo>
                      <a:pt x="1408" y="137"/>
                    </a:lnTo>
                    <a:lnTo>
                      <a:pt x="1423" y="251"/>
                    </a:lnTo>
                    <a:lnTo>
                      <a:pt x="1534" y="331"/>
                    </a:lnTo>
                    <a:lnTo>
                      <a:pt x="115" y="781"/>
                    </a:lnTo>
                    <a:lnTo>
                      <a:pt x="40" y="741"/>
                    </a:lnTo>
                    <a:lnTo>
                      <a:pt x="0" y="611"/>
                    </a:lnTo>
                    <a:lnTo>
                      <a:pt x="55" y="345"/>
                    </a:lnTo>
                    <a:lnTo>
                      <a:pt x="109" y="316"/>
                    </a:lnTo>
                    <a:lnTo>
                      <a:pt x="245" y="586"/>
                    </a:lnTo>
                    <a:lnTo>
                      <a:pt x="316" y="648"/>
                    </a:lnTo>
                    <a:lnTo>
                      <a:pt x="325" y="410"/>
                    </a:lnTo>
                    <a:lnTo>
                      <a:pt x="409" y="331"/>
                    </a:lnTo>
                    <a:lnTo>
                      <a:pt x="577" y="387"/>
                    </a:lnTo>
                    <a:lnTo>
                      <a:pt x="509" y="236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" name="Freeform 361"/>
              <p:cNvSpPr/>
              <p:nvPr/>
            </p:nvSpPr>
            <p:spPr>
              <a:xfrm>
                <a:off x="4592160" y="5959440"/>
                <a:ext cx="98280" cy="34560"/>
              </a:xfrm>
              <a:custGeom>
                <a:avLst/>
                <a:gdLst>
                  <a:gd name="textAreaLeft" fmla="*/ 0 w 98280"/>
                  <a:gd name="textAreaRight" fmla="*/ 98640 w 98280"/>
                  <a:gd name="textAreaTop" fmla="*/ 0 h 34560"/>
                  <a:gd name="textAreaBottom" fmla="*/ 34920 h 34560"/>
                </a:gdLst>
                <a:ahLst/>
                <a:rect l="textAreaLeft" t="textAreaTop" r="textAreaRight" b="textAreaBottom"/>
                <a:pathLst>
                  <a:path w="468" h="264">
                    <a:moveTo>
                      <a:pt x="0" y="229"/>
                    </a:moveTo>
                    <a:lnTo>
                      <a:pt x="310" y="199"/>
                    </a:lnTo>
                    <a:lnTo>
                      <a:pt x="294" y="264"/>
                    </a:lnTo>
                    <a:lnTo>
                      <a:pt x="434" y="210"/>
                    </a:lnTo>
                    <a:lnTo>
                      <a:pt x="468" y="0"/>
                    </a:lnTo>
                    <a:lnTo>
                      <a:pt x="0" y="229"/>
                    </a:lnTo>
                    <a:close/>
                  </a:path>
                </a:pathLst>
              </a:custGeom>
              <a:solidFill>
                <a:srgbClr val="ae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" name="Freeform 362"/>
              <p:cNvSpPr/>
              <p:nvPr/>
            </p:nvSpPr>
            <p:spPr>
              <a:xfrm>
                <a:off x="4284720" y="5805360"/>
                <a:ext cx="645480" cy="142560"/>
              </a:xfrm>
              <a:custGeom>
                <a:avLst/>
                <a:gdLst>
                  <a:gd name="textAreaLeft" fmla="*/ 0 w 645480"/>
                  <a:gd name="textAreaRight" fmla="*/ 645840 w 645480"/>
                  <a:gd name="textAreaTop" fmla="*/ 0 h 142560"/>
                  <a:gd name="textAreaBottom" fmla="*/ 142920 h 142560"/>
                </a:gdLst>
                <a:ahLst/>
                <a:rect l="textAreaLeft" t="textAreaTop" r="textAreaRight" b="textAreaBottom"/>
                <a:pathLst>
                  <a:path w="3069" h="1082">
                    <a:moveTo>
                      <a:pt x="25" y="281"/>
                    </a:moveTo>
                    <a:lnTo>
                      <a:pt x="0" y="384"/>
                    </a:lnTo>
                    <a:lnTo>
                      <a:pt x="272" y="520"/>
                    </a:lnTo>
                    <a:lnTo>
                      <a:pt x="306" y="647"/>
                    </a:lnTo>
                    <a:lnTo>
                      <a:pt x="313" y="757"/>
                    </a:lnTo>
                    <a:lnTo>
                      <a:pt x="279" y="886"/>
                    </a:lnTo>
                    <a:lnTo>
                      <a:pt x="365" y="775"/>
                    </a:lnTo>
                    <a:lnTo>
                      <a:pt x="407" y="647"/>
                    </a:lnTo>
                    <a:lnTo>
                      <a:pt x="399" y="554"/>
                    </a:lnTo>
                    <a:lnTo>
                      <a:pt x="1436" y="920"/>
                    </a:lnTo>
                    <a:lnTo>
                      <a:pt x="2915" y="425"/>
                    </a:lnTo>
                    <a:lnTo>
                      <a:pt x="2958" y="554"/>
                    </a:lnTo>
                    <a:lnTo>
                      <a:pt x="2958" y="698"/>
                    </a:lnTo>
                    <a:lnTo>
                      <a:pt x="2856" y="825"/>
                    </a:lnTo>
                    <a:lnTo>
                      <a:pt x="2371" y="1026"/>
                    </a:lnTo>
                    <a:lnTo>
                      <a:pt x="2345" y="1082"/>
                    </a:lnTo>
                    <a:lnTo>
                      <a:pt x="2908" y="868"/>
                    </a:lnTo>
                    <a:lnTo>
                      <a:pt x="3019" y="791"/>
                    </a:lnTo>
                    <a:lnTo>
                      <a:pt x="3069" y="664"/>
                    </a:lnTo>
                    <a:lnTo>
                      <a:pt x="3053" y="493"/>
                    </a:lnTo>
                    <a:lnTo>
                      <a:pt x="2976" y="400"/>
                    </a:lnTo>
                    <a:lnTo>
                      <a:pt x="2899" y="366"/>
                    </a:lnTo>
                    <a:lnTo>
                      <a:pt x="2695" y="459"/>
                    </a:lnTo>
                    <a:lnTo>
                      <a:pt x="1470" y="748"/>
                    </a:lnTo>
                    <a:lnTo>
                      <a:pt x="282" y="381"/>
                    </a:lnTo>
                    <a:lnTo>
                      <a:pt x="1402" y="809"/>
                    </a:lnTo>
                    <a:lnTo>
                      <a:pt x="1402" y="852"/>
                    </a:lnTo>
                    <a:lnTo>
                      <a:pt x="50" y="357"/>
                    </a:lnTo>
                    <a:lnTo>
                      <a:pt x="93" y="315"/>
                    </a:lnTo>
                    <a:lnTo>
                      <a:pt x="1597" y="43"/>
                    </a:lnTo>
                    <a:lnTo>
                      <a:pt x="2334" y="179"/>
                    </a:lnTo>
                    <a:lnTo>
                      <a:pt x="1556" y="0"/>
                    </a:lnTo>
                    <a:lnTo>
                      <a:pt x="25" y="28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" name="Freeform 363"/>
              <p:cNvSpPr/>
              <p:nvPr/>
            </p:nvSpPr>
            <p:spPr>
              <a:xfrm>
                <a:off x="4286520" y="5900760"/>
                <a:ext cx="398880" cy="126360"/>
              </a:xfrm>
              <a:custGeom>
                <a:avLst/>
                <a:gdLst>
                  <a:gd name="textAreaLeft" fmla="*/ 0 w 398880"/>
                  <a:gd name="textAreaRight" fmla="*/ 399240 w 398880"/>
                  <a:gd name="textAreaTop" fmla="*/ 0 h 126360"/>
                  <a:gd name="textAreaBottom" fmla="*/ 126720 h 126360"/>
                </a:gdLst>
                <a:ahLst/>
                <a:rect l="textAreaLeft" t="textAreaTop" r="textAreaRight" b="textAreaBottom"/>
                <a:pathLst>
                  <a:path w="1894" h="960">
                    <a:moveTo>
                      <a:pt x="321" y="0"/>
                    </a:moveTo>
                    <a:lnTo>
                      <a:pt x="28" y="105"/>
                    </a:lnTo>
                    <a:lnTo>
                      <a:pt x="0" y="211"/>
                    </a:lnTo>
                    <a:lnTo>
                      <a:pt x="1441" y="960"/>
                    </a:lnTo>
                    <a:lnTo>
                      <a:pt x="1840" y="760"/>
                    </a:lnTo>
                    <a:lnTo>
                      <a:pt x="1894" y="626"/>
                    </a:lnTo>
                    <a:lnTo>
                      <a:pt x="1451" y="799"/>
                    </a:lnTo>
                    <a:lnTo>
                      <a:pt x="449" y="338"/>
                    </a:lnTo>
                    <a:lnTo>
                      <a:pt x="1401" y="831"/>
                    </a:lnTo>
                    <a:lnTo>
                      <a:pt x="1423" y="904"/>
                    </a:lnTo>
                    <a:lnTo>
                      <a:pt x="89" y="211"/>
                    </a:lnTo>
                    <a:lnTo>
                      <a:pt x="77" y="149"/>
                    </a:lnTo>
                    <a:lnTo>
                      <a:pt x="316" y="55"/>
                    </a:lnTo>
                    <a:lnTo>
                      <a:pt x="3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" name="Freeform 364"/>
              <p:cNvSpPr/>
              <p:nvPr/>
            </p:nvSpPr>
            <p:spPr>
              <a:xfrm>
                <a:off x="4357080" y="5915160"/>
                <a:ext cx="333000" cy="77040"/>
              </a:xfrm>
              <a:custGeom>
                <a:avLst/>
                <a:gdLst/>
                <a:ahLst/>
                <a:rect l="l" t="t" r="r" b="b"/>
                <a:pathLst>
                  <a:path w="1584" h="584">
                    <a:moveTo>
                      <a:pt x="0" y="83"/>
                    </a:moveTo>
                    <a:lnTo>
                      <a:pt x="1082" y="584"/>
                    </a:lnTo>
                    <a:lnTo>
                      <a:pt x="1584" y="378"/>
                    </a:lnTo>
                    <a:lnTo>
                      <a:pt x="1584" y="335"/>
                    </a:lnTo>
                    <a:lnTo>
                      <a:pt x="1200" y="483"/>
                    </a:lnTo>
                    <a:lnTo>
                      <a:pt x="1255" y="360"/>
                    </a:lnTo>
                    <a:lnTo>
                      <a:pt x="1448" y="282"/>
                    </a:lnTo>
                    <a:lnTo>
                      <a:pt x="1239" y="306"/>
                    </a:lnTo>
                    <a:lnTo>
                      <a:pt x="1227" y="171"/>
                    </a:lnTo>
                    <a:lnTo>
                      <a:pt x="1156" y="22"/>
                    </a:lnTo>
                    <a:lnTo>
                      <a:pt x="1106" y="56"/>
                    </a:lnTo>
                    <a:lnTo>
                      <a:pt x="1167" y="171"/>
                    </a:lnTo>
                    <a:lnTo>
                      <a:pt x="662" y="0"/>
                    </a:lnTo>
                    <a:lnTo>
                      <a:pt x="1167" y="249"/>
                    </a:lnTo>
                    <a:lnTo>
                      <a:pt x="1181" y="325"/>
                    </a:lnTo>
                    <a:lnTo>
                      <a:pt x="1141" y="418"/>
                    </a:lnTo>
                    <a:lnTo>
                      <a:pt x="358" y="111"/>
                    </a:lnTo>
                    <a:lnTo>
                      <a:pt x="1137" y="466"/>
                    </a:lnTo>
                    <a:lnTo>
                      <a:pt x="1082" y="540"/>
                    </a:lnTo>
                    <a:lnTo>
                      <a:pt x="0" y="8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" name="Freeform 365"/>
              <p:cNvSpPr/>
              <p:nvPr/>
            </p:nvSpPr>
            <p:spPr>
              <a:xfrm>
                <a:off x="4635000" y="5886000"/>
                <a:ext cx="233280" cy="192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192600"/>
                  <a:gd name="textAreaBottom" fmla="*/ 192960 h 192600"/>
                </a:gdLst>
                <a:ahLst/>
                <a:rect l="textAreaLeft" t="textAreaTop" r="textAreaRight" b="textAreaBottom"/>
                <a:pathLst>
                  <a:path w="1109" h="1460">
                    <a:moveTo>
                      <a:pt x="0" y="378"/>
                    </a:moveTo>
                    <a:lnTo>
                      <a:pt x="411" y="256"/>
                    </a:lnTo>
                    <a:lnTo>
                      <a:pt x="1109" y="0"/>
                    </a:lnTo>
                    <a:lnTo>
                      <a:pt x="626" y="245"/>
                    </a:lnTo>
                    <a:lnTo>
                      <a:pt x="709" y="346"/>
                    </a:lnTo>
                    <a:lnTo>
                      <a:pt x="709" y="467"/>
                    </a:lnTo>
                    <a:lnTo>
                      <a:pt x="643" y="672"/>
                    </a:lnTo>
                    <a:lnTo>
                      <a:pt x="554" y="895"/>
                    </a:lnTo>
                    <a:lnTo>
                      <a:pt x="550" y="1016"/>
                    </a:lnTo>
                    <a:lnTo>
                      <a:pt x="632" y="1199"/>
                    </a:lnTo>
                    <a:lnTo>
                      <a:pt x="510" y="1055"/>
                    </a:lnTo>
                    <a:lnTo>
                      <a:pt x="494" y="899"/>
                    </a:lnTo>
                    <a:lnTo>
                      <a:pt x="588" y="639"/>
                    </a:lnTo>
                    <a:lnTo>
                      <a:pt x="660" y="450"/>
                    </a:lnTo>
                    <a:lnTo>
                      <a:pt x="550" y="251"/>
                    </a:lnTo>
                    <a:lnTo>
                      <a:pt x="244" y="368"/>
                    </a:lnTo>
                    <a:lnTo>
                      <a:pt x="272" y="428"/>
                    </a:lnTo>
                    <a:lnTo>
                      <a:pt x="294" y="583"/>
                    </a:lnTo>
                    <a:lnTo>
                      <a:pt x="266" y="760"/>
                    </a:lnTo>
                    <a:lnTo>
                      <a:pt x="222" y="933"/>
                    </a:lnTo>
                    <a:lnTo>
                      <a:pt x="206" y="1110"/>
                    </a:lnTo>
                    <a:lnTo>
                      <a:pt x="256" y="1283"/>
                    </a:lnTo>
                    <a:lnTo>
                      <a:pt x="371" y="1460"/>
                    </a:lnTo>
                    <a:lnTo>
                      <a:pt x="250" y="1387"/>
                    </a:lnTo>
                    <a:lnTo>
                      <a:pt x="167" y="1199"/>
                    </a:lnTo>
                    <a:lnTo>
                      <a:pt x="150" y="989"/>
                    </a:lnTo>
                    <a:lnTo>
                      <a:pt x="212" y="716"/>
                    </a:lnTo>
                    <a:lnTo>
                      <a:pt x="234" y="551"/>
                    </a:lnTo>
                    <a:lnTo>
                      <a:pt x="150" y="390"/>
                    </a:lnTo>
                    <a:lnTo>
                      <a:pt x="0" y="37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7" name="Freeform 366"/>
              <p:cNvSpPr/>
              <p:nvPr/>
            </p:nvSpPr>
            <p:spPr>
              <a:xfrm>
                <a:off x="4707720" y="6033240"/>
                <a:ext cx="60480" cy="45360"/>
              </a:xfrm>
              <a:custGeom>
                <a:avLst/>
                <a:gdLst>
                  <a:gd name="textAreaLeft" fmla="*/ 0 w 60480"/>
                  <a:gd name="textAreaRight" fmla="*/ 60840 w 60480"/>
                  <a:gd name="textAreaTop" fmla="*/ 0 h 45360"/>
                  <a:gd name="textAreaBottom" fmla="*/ 45720 h 45360"/>
                </a:gdLst>
                <a:ahLst/>
                <a:rect l="textAreaLeft" t="textAreaTop" r="textAreaRight" b="textAreaBottom"/>
                <a:pathLst>
                  <a:path w="288" h="344">
                    <a:moveTo>
                      <a:pt x="27" y="344"/>
                    </a:moveTo>
                    <a:lnTo>
                      <a:pt x="0" y="161"/>
                    </a:lnTo>
                    <a:lnTo>
                      <a:pt x="73" y="0"/>
                    </a:lnTo>
                    <a:lnTo>
                      <a:pt x="139" y="6"/>
                    </a:lnTo>
                    <a:lnTo>
                      <a:pt x="288" y="83"/>
                    </a:lnTo>
                    <a:lnTo>
                      <a:pt x="111" y="66"/>
                    </a:lnTo>
                    <a:lnTo>
                      <a:pt x="49" y="167"/>
                    </a:lnTo>
                    <a:lnTo>
                      <a:pt x="27" y="3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8" name="Freeform 367"/>
              <p:cNvSpPr/>
              <p:nvPr/>
            </p:nvSpPr>
            <p:spPr>
              <a:xfrm>
                <a:off x="4758480" y="5838480"/>
                <a:ext cx="191160" cy="142560"/>
              </a:xfrm>
              <a:custGeom>
                <a:avLst/>
                <a:gdLst>
                  <a:gd name="textAreaLeft" fmla="*/ 0 w 191160"/>
                  <a:gd name="textAreaRight" fmla="*/ 191520 w 191160"/>
                  <a:gd name="textAreaTop" fmla="*/ 0 h 142560"/>
                  <a:gd name="textAreaBottom" fmla="*/ 142920 h 142560"/>
                </a:gdLst>
                <a:ahLst/>
                <a:rect l="textAreaLeft" t="textAreaTop" r="textAreaRight" b="textAreaBottom"/>
                <a:pathLst>
                  <a:path w="908" h="1082">
                    <a:moveTo>
                      <a:pt x="66" y="949"/>
                    </a:moveTo>
                    <a:lnTo>
                      <a:pt x="576" y="716"/>
                    </a:lnTo>
                    <a:lnTo>
                      <a:pt x="695" y="703"/>
                    </a:lnTo>
                    <a:lnTo>
                      <a:pt x="781" y="621"/>
                    </a:lnTo>
                    <a:lnTo>
                      <a:pt x="859" y="428"/>
                    </a:lnTo>
                    <a:lnTo>
                      <a:pt x="825" y="161"/>
                    </a:lnTo>
                    <a:lnTo>
                      <a:pt x="700" y="52"/>
                    </a:lnTo>
                    <a:lnTo>
                      <a:pt x="478" y="124"/>
                    </a:lnTo>
                    <a:lnTo>
                      <a:pt x="661" y="0"/>
                    </a:lnTo>
                    <a:lnTo>
                      <a:pt x="781" y="40"/>
                    </a:lnTo>
                    <a:lnTo>
                      <a:pt x="881" y="151"/>
                    </a:lnTo>
                    <a:lnTo>
                      <a:pt x="908" y="372"/>
                    </a:lnTo>
                    <a:lnTo>
                      <a:pt x="897" y="527"/>
                    </a:lnTo>
                    <a:lnTo>
                      <a:pt x="794" y="723"/>
                    </a:lnTo>
                    <a:lnTo>
                      <a:pt x="726" y="765"/>
                    </a:lnTo>
                    <a:lnTo>
                      <a:pt x="604" y="760"/>
                    </a:lnTo>
                    <a:lnTo>
                      <a:pt x="0" y="1082"/>
                    </a:lnTo>
                    <a:lnTo>
                      <a:pt x="66" y="94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9" name="Freeform 368"/>
              <p:cNvSpPr/>
              <p:nvPr/>
            </p:nvSpPr>
            <p:spPr>
              <a:xfrm>
                <a:off x="4361400" y="5954760"/>
                <a:ext cx="684720" cy="165960"/>
              </a:xfrm>
              <a:custGeom>
                <a:avLst/>
                <a:gdLst>
                  <a:gd name="textAreaLeft" fmla="*/ 0 w 684720"/>
                  <a:gd name="textAreaRight" fmla="*/ 685080 w 684720"/>
                  <a:gd name="textAreaTop" fmla="*/ 0 h 165960"/>
                  <a:gd name="textAreaBottom" fmla="*/ 166320 h 165960"/>
                </a:gdLst>
                <a:ahLst/>
                <a:rect l="textAreaLeft" t="textAreaTop" r="textAreaRight" b="textAreaBottom"/>
                <a:pathLst>
                  <a:path w="3257" h="1259">
                    <a:moveTo>
                      <a:pt x="44" y="0"/>
                    </a:moveTo>
                    <a:lnTo>
                      <a:pt x="0" y="99"/>
                    </a:lnTo>
                    <a:lnTo>
                      <a:pt x="5" y="321"/>
                    </a:lnTo>
                    <a:lnTo>
                      <a:pt x="66" y="448"/>
                    </a:lnTo>
                    <a:lnTo>
                      <a:pt x="166" y="482"/>
                    </a:lnTo>
                    <a:lnTo>
                      <a:pt x="338" y="625"/>
                    </a:lnTo>
                    <a:lnTo>
                      <a:pt x="758" y="915"/>
                    </a:lnTo>
                    <a:lnTo>
                      <a:pt x="853" y="931"/>
                    </a:lnTo>
                    <a:lnTo>
                      <a:pt x="974" y="997"/>
                    </a:lnTo>
                    <a:lnTo>
                      <a:pt x="1014" y="1076"/>
                    </a:lnTo>
                    <a:lnTo>
                      <a:pt x="1334" y="1242"/>
                    </a:lnTo>
                    <a:lnTo>
                      <a:pt x="1468" y="1259"/>
                    </a:lnTo>
                    <a:lnTo>
                      <a:pt x="3257" y="698"/>
                    </a:lnTo>
                    <a:lnTo>
                      <a:pt x="3241" y="577"/>
                    </a:lnTo>
                    <a:lnTo>
                      <a:pt x="2764" y="426"/>
                    </a:lnTo>
                    <a:lnTo>
                      <a:pt x="3207" y="621"/>
                    </a:lnTo>
                    <a:lnTo>
                      <a:pt x="1446" y="1174"/>
                    </a:lnTo>
                    <a:lnTo>
                      <a:pt x="1334" y="1076"/>
                    </a:lnTo>
                    <a:lnTo>
                      <a:pt x="1279" y="931"/>
                    </a:lnTo>
                    <a:lnTo>
                      <a:pt x="1324" y="648"/>
                    </a:lnTo>
                    <a:lnTo>
                      <a:pt x="1245" y="786"/>
                    </a:lnTo>
                    <a:lnTo>
                      <a:pt x="1229" y="931"/>
                    </a:lnTo>
                    <a:lnTo>
                      <a:pt x="1279" y="1114"/>
                    </a:lnTo>
                    <a:lnTo>
                      <a:pt x="1324" y="1174"/>
                    </a:lnTo>
                    <a:lnTo>
                      <a:pt x="1064" y="1048"/>
                    </a:lnTo>
                    <a:lnTo>
                      <a:pt x="1014" y="925"/>
                    </a:lnTo>
                    <a:lnTo>
                      <a:pt x="1002" y="742"/>
                    </a:lnTo>
                    <a:lnTo>
                      <a:pt x="1036" y="615"/>
                    </a:lnTo>
                    <a:lnTo>
                      <a:pt x="974" y="710"/>
                    </a:lnTo>
                    <a:lnTo>
                      <a:pt x="952" y="842"/>
                    </a:lnTo>
                    <a:lnTo>
                      <a:pt x="941" y="921"/>
                    </a:lnTo>
                    <a:lnTo>
                      <a:pt x="847" y="859"/>
                    </a:lnTo>
                    <a:lnTo>
                      <a:pt x="831" y="698"/>
                    </a:lnTo>
                    <a:lnTo>
                      <a:pt x="881" y="510"/>
                    </a:lnTo>
                    <a:lnTo>
                      <a:pt x="820" y="593"/>
                    </a:lnTo>
                    <a:lnTo>
                      <a:pt x="776" y="720"/>
                    </a:lnTo>
                    <a:lnTo>
                      <a:pt x="776" y="853"/>
                    </a:lnTo>
                    <a:lnTo>
                      <a:pt x="183" y="442"/>
                    </a:lnTo>
                    <a:lnTo>
                      <a:pt x="177" y="321"/>
                    </a:lnTo>
                    <a:lnTo>
                      <a:pt x="183" y="221"/>
                    </a:lnTo>
                    <a:lnTo>
                      <a:pt x="132" y="287"/>
                    </a:lnTo>
                    <a:lnTo>
                      <a:pt x="104" y="394"/>
                    </a:lnTo>
                    <a:lnTo>
                      <a:pt x="44" y="282"/>
                    </a:lnTo>
                    <a:lnTo>
                      <a:pt x="44" y="121"/>
                    </a:lnTo>
                    <a:lnTo>
                      <a:pt x="149" y="54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0" name="Freeform 369"/>
              <p:cNvSpPr/>
              <p:nvPr/>
            </p:nvSpPr>
            <p:spPr>
              <a:xfrm>
                <a:off x="4641840" y="6026400"/>
                <a:ext cx="63000" cy="60120"/>
              </a:xfrm>
              <a:custGeom>
                <a:avLst/>
                <a:gdLst>
                  <a:gd name="textAreaLeft" fmla="*/ 0 w 63000"/>
                  <a:gd name="textAreaRight" fmla="*/ 63360 w 63000"/>
                  <a:gd name="textAreaTop" fmla="*/ 0 h 60120"/>
                  <a:gd name="textAreaBottom" fmla="*/ 60480 h 60120"/>
                </a:gdLst>
                <a:ahLst/>
                <a:rect l="textAreaLeft" t="textAreaTop" r="textAreaRight" b="textAreaBottom"/>
                <a:pathLst>
                  <a:path w="300" h="454">
                    <a:moveTo>
                      <a:pt x="145" y="0"/>
                    </a:moveTo>
                    <a:lnTo>
                      <a:pt x="78" y="50"/>
                    </a:lnTo>
                    <a:lnTo>
                      <a:pt x="46" y="138"/>
                    </a:lnTo>
                    <a:lnTo>
                      <a:pt x="0" y="350"/>
                    </a:lnTo>
                    <a:lnTo>
                      <a:pt x="46" y="454"/>
                    </a:lnTo>
                    <a:lnTo>
                      <a:pt x="300" y="372"/>
                    </a:lnTo>
                    <a:lnTo>
                      <a:pt x="239" y="310"/>
                    </a:lnTo>
                    <a:lnTo>
                      <a:pt x="78" y="355"/>
                    </a:lnTo>
                    <a:lnTo>
                      <a:pt x="84" y="183"/>
                    </a:lnTo>
                    <a:lnTo>
                      <a:pt x="156" y="122"/>
                    </a:lnTo>
                    <a:lnTo>
                      <a:pt x="14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" name="Freeform 370"/>
              <p:cNvSpPr/>
              <p:nvPr/>
            </p:nvSpPr>
            <p:spPr>
              <a:xfrm>
                <a:off x="4712400" y="6051600"/>
                <a:ext cx="98280" cy="21240"/>
              </a:xfrm>
              <a:custGeom>
                <a:avLst/>
                <a:gdLst>
                  <a:gd name="textAreaLeft" fmla="*/ 0 w 98280"/>
                  <a:gd name="textAreaRight" fmla="*/ 98640 w 98280"/>
                  <a:gd name="textAreaTop" fmla="*/ 0 h 21240"/>
                  <a:gd name="textAreaBottom" fmla="*/ 21600 h 21240"/>
                </a:gdLst>
                <a:ahLst/>
                <a:rect l="textAreaLeft" t="textAreaTop" r="textAreaRight" b="textAreaBottom"/>
                <a:pathLst>
                  <a:path w="470" h="161">
                    <a:moveTo>
                      <a:pt x="10" y="99"/>
                    </a:moveTo>
                    <a:lnTo>
                      <a:pt x="470" y="0"/>
                    </a:lnTo>
                    <a:lnTo>
                      <a:pt x="0" y="161"/>
                    </a:lnTo>
                    <a:lnTo>
                      <a:pt x="10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" name="Freeform 371"/>
              <p:cNvSpPr/>
              <p:nvPr/>
            </p:nvSpPr>
            <p:spPr>
              <a:xfrm>
                <a:off x="4318200" y="5977800"/>
                <a:ext cx="641520" cy="195480"/>
              </a:xfrm>
              <a:custGeom>
                <a:avLst/>
                <a:gdLst>
                  <a:gd name="textAreaLeft" fmla="*/ 0 w 641520"/>
                  <a:gd name="textAreaRight" fmla="*/ 641880 w 641520"/>
                  <a:gd name="textAreaTop" fmla="*/ 0 h 195480"/>
                  <a:gd name="textAreaBottom" fmla="*/ 195840 h 195480"/>
                </a:gdLst>
                <a:ahLst/>
                <a:rect l="textAreaLeft" t="textAreaTop" r="textAreaRight" b="textAreaBottom"/>
                <a:pathLst>
                  <a:path w="3052" h="1482">
                    <a:moveTo>
                      <a:pt x="243" y="0"/>
                    </a:moveTo>
                    <a:lnTo>
                      <a:pt x="0" y="37"/>
                    </a:lnTo>
                    <a:lnTo>
                      <a:pt x="7" y="126"/>
                    </a:lnTo>
                    <a:lnTo>
                      <a:pt x="770" y="1337"/>
                    </a:lnTo>
                    <a:lnTo>
                      <a:pt x="2809" y="1107"/>
                    </a:lnTo>
                    <a:lnTo>
                      <a:pt x="2903" y="1151"/>
                    </a:lnTo>
                    <a:lnTo>
                      <a:pt x="2957" y="1237"/>
                    </a:lnTo>
                    <a:lnTo>
                      <a:pt x="2892" y="1419"/>
                    </a:lnTo>
                    <a:lnTo>
                      <a:pt x="2554" y="1482"/>
                    </a:lnTo>
                    <a:lnTo>
                      <a:pt x="2906" y="1482"/>
                    </a:lnTo>
                    <a:lnTo>
                      <a:pt x="3052" y="1259"/>
                    </a:lnTo>
                    <a:lnTo>
                      <a:pt x="3044" y="1078"/>
                    </a:lnTo>
                    <a:lnTo>
                      <a:pt x="2980" y="994"/>
                    </a:lnTo>
                    <a:lnTo>
                      <a:pt x="2626" y="1041"/>
                    </a:lnTo>
                    <a:lnTo>
                      <a:pt x="2561" y="1069"/>
                    </a:lnTo>
                    <a:lnTo>
                      <a:pt x="2484" y="1041"/>
                    </a:lnTo>
                    <a:lnTo>
                      <a:pt x="881" y="1230"/>
                    </a:lnTo>
                    <a:lnTo>
                      <a:pt x="384" y="532"/>
                    </a:lnTo>
                    <a:lnTo>
                      <a:pt x="827" y="1236"/>
                    </a:lnTo>
                    <a:lnTo>
                      <a:pt x="787" y="1295"/>
                    </a:lnTo>
                    <a:lnTo>
                      <a:pt x="31" y="70"/>
                    </a:lnTo>
                    <a:lnTo>
                      <a:pt x="224" y="37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3" name="Freeform 372"/>
              <p:cNvSpPr/>
              <p:nvPr/>
            </p:nvSpPr>
            <p:spPr>
              <a:xfrm>
                <a:off x="4334400" y="6021360"/>
                <a:ext cx="115200" cy="168840"/>
              </a:xfrm>
              <a:custGeom>
                <a:avLst/>
                <a:gdLst>
                  <a:gd name="textAreaLeft" fmla="*/ 0 w 115200"/>
                  <a:gd name="textAreaRight" fmla="*/ 115560 w 115200"/>
                  <a:gd name="textAreaTop" fmla="*/ 0 h 168840"/>
                  <a:gd name="textAreaBottom" fmla="*/ 169200 h 168840"/>
                </a:gdLst>
                <a:ahLst/>
                <a:rect l="textAreaLeft" t="textAreaTop" r="textAreaRight" b="textAreaBottom"/>
                <a:pathLst>
                  <a:path w="547" h="1281">
                    <a:moveTo>
                      <a:pt x="71" y="0"/>
                    </a:moveTo>
                    <a:lnTo>
                      <a:pt x="82" y="95"/>
                    </a:lnTo>
                    <a:lnTo>
                      <a:pt x="66" y="175"/>
                    </a:lnTo>
                    <a:lnTo>
                      <a:pt x="38" y="228"/>
                    </a:lnTo>
                    <a:lnTo>
                      <a:pt x="0" y="256"/>
                    </a:lnTo>
                    <a:lnTo>
                      <a:pt x="143" y="527"/>
                    </a:lnTo>
                    <a:lnTo>
                      <a:pt x="547" y="1281"/>
                    </a:lnTo>
                    <a:lnTo>
                      <a:pt x="249" y="604"/>
                    </a:lnTo>
                    <a:lnTo>
                      <a:pt x="66" y="256"/>
                    </a:lnTo>
                    <a:lnTo>
                      <a:pt x="243" y="465"/>
                    </a:lnTo>
                    <a:lnTo>
                      <a:pt x="104" y="189"/>
                    </a:lnTo>
                    <a:lnTo>
                      <a:pt x="143" y="89"/>
                    </a:lnTo>
                    <a:lnTo>
                      <a:pt x="7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4" name="Freeform 373"/>
              <p:cNvSpPr/>
              <p:nvPr/>
            </p:nvSpPr>
            <p:spPr>
              <a:xfrm>
                <a:off x="4299840" y="6036480"/>
                <a:ext cx="689040" cy="193320"/>
              </a:xfrm>
              <a:custGeom>
                <a:avLst/>
                <a:gdLst>
                  <a:gd name="textAreaLeft" fmla="*/ 0 w 689040"/>
                  <a:gd name="textAreaRight" fmla="*/ 689400 w 689040"/>
                  <a:gd name="textAreaTop" fmla="*/ 0 h 193320"/>
                  <a:gd name="textAreaBottom" fmla="*/ 193680 h 193320"/>
                </a:gdLst>
                <a:ahLst/>
                <a:rect l="textAreaLeft" t="textAreaTop" r="textAreaRight" b="textAreaBottom"/>
                <a:pathLst>
                  <a:path w="3277" h="1467">
                    <a:moveTo>
                      <a:pt x="256" y="0"/>
                    </a:moveTo>
                    <a:lnTo>
                      <a:pt x="120" y="62"/>
                    </a:lnTo>
                    <a:lnTo>
                      <a:pt x="12" y="85"/>
                    </a:lnTo>
                    <a:lnTo>
                      <a:pt x="0" y="157"/>
                    </a:lnTo>
                    <a:lnTo>
                      <a:pt x="445" y="993"/>
                    </a:lnTo>
                    <a:lnTo>
                      <a:pt x="635" y="1467"/>
                    </a:lnTo>
                    <a:lnTo>
                      <a:pt x="2530" y="1233"/>
                    </a:lnTo>
                    <a:lnTo>
                      <a:pt x="2601" y="1210"/>
                    </a:lnTo>
                    <a:lnTo>
                      <a:pt x="2702" y="1244"/>
                    </a:lnTo>
                    <a:lnTo>
                      <a:pt x="3045" y="1198"/>
                    </a:lnTo>
                    <a:lnTo>
                      <a:pt x="3199" y="1056"/>
                    </a:lnTo>
                    <a:lnTo>
                      <a:pt x="3277" y="706"/>
                    </a:lnTo>
                    <a:lnTo>
                      <a:pt x="3223" y="456"/>
                    </a:lnTo>
                    <a:lnTo>
                      <a:pt x="2982" y="245"/>
                    </a:lnTo>
                    <a:lnTo>
                      <a:pt x="2511" y="363"/>
                    </a:lnTo>
                    <a:lnTo>
                      <a:pt x="2933" y="371"/>
                    </a:lnTo>
                    <a:lnTo>
                      <a:pt x="3115" y="510"/>
                    </a:lnTo>
                    <a:lnTo>
                      <a:pt x="3196" y="631"/>
                    </a:lnTo>
                    <a:lnTo>
                      <a:pt x="3202" y="811"/>
                    </a:lnTo>
                    <a:lnTo>
                      <a:pt x="3134" y="1027"/>
                    </a:lnTo>
                    <a:lnTo>
                      <a:pt x="3047" y="1124"/>
                    </a:lnTo>
                    <a:lnTo>
                      <a:pt x="2769" y="1161"/>
                    </a:lnTo>
                    <a:lnTo>
                      <a:pt x="2645" y="1121"/>
                    </a:lnTo>
                    <a:lnTo>
                      <a:pt x="2477" y="1205"/>
                    </a:lnTo>
                    <a:lnTo>
                      <a:pt x="688" y="1360"/>
                    </a:lnTo>
                    <a:lnTo>
                      <a:pt x="53" y="107"/>
                    </a:lnTo>
                    <a:lnTo>
                      <a:pt x="270" y="41"/>
                    </a:lnTo>
                    <a:lnTo>
                      <a:pt x="2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5" name="Freeform 374"/>
              <p:cNvSpPr/>
              <p:nvPr/>
            </p:nvSpPr>
            <p:spPr>
              <a:xfrm>
                <a:off x="4453920" y="6130800"/>
                <a:ext cx="348120" cy="64440"/>
              </a:xfrm>
              <a:custGeom>
                <a:avLst/>
                <a:gdLst>
                  <a:gd name="textAreaLeft" fmla="*/ 0 w 348120"/>
                  <a:gd name="textAreaRight" fmla="*/ 348480 w 348120"/>
                  <a:gd name="textAreaTop" fmla="*/ 0 h 64440"/>
                  <a:gd name="textAreaBottom" fmla="*/ 64800 h 64440"/>
                </a:gdLst>
                <a:ahLst/>
                <a:rect l="textAreaLeft" t="textAreaTop" r="textAreaRight" b="textAreaBottom"/>
                <a:pathLst>
                  <a:path w="1656" h="489">
                    <a:moveTo>
                      <a:pt x="0" y="489"/>
                    </a:moveTo>
                    <a:lnTo>
                      <a:pt x="133" y="366"/>
                    </a:lnTo>
                    <a:lnTo>
                      <a:pt x="193" y="256"/>
                    </a:lnTo>
                    <a:lnTo>
                      <a:pt x="177" y="123"/>
                    </a:lnTo>
                    <a:lnTo>
                      <a:pt x="1202" y="0"/>
                    </a:lnTo>
                    <a:lnTo>
                      <a:pt x="288" y="157"/>
                    </a:lnTo>
                    <a:lnTo>
                      <a:pt x="248" y="267"/>
                    </a:lnTo>
                    <a:lnTo>
                      <a:pt x="1030" y="223"/>
                    </a:lnTo>
                    <a:lnTo>
                      <a:pt x="232" y="340"/>
                    </a:lnTo>
                    <a:lnTo>
                      <a:pt x="187" y="384"/>
                    </a:lnTo>
                    <a:lnTo>
                      <a:pt x="143" y="411"/>
                    </a:lnTo>
                    <a:lnTo>
                      <a:pt x="1656" y="328"/>
                    </a:lnTo>
                    <a:lnTo>
                      <a:pt x="0" y="48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6" name="Freeform 375"/>
              <p:cNvSpPr/>
              <p:nvPr/>
            </p:nvSpPr>
            <p:spPr>
              <a:xfrm>
                <a:off x="4454280" y="6069240"/>
                <a:ext cx="159480" cy="43920"/>
              </a:xfrm>
              <a:custGeom>
                <a:avLst/>
                <a:gdLst>
                  <a:gd name="textAreaLeft" fmla="*/ 0 w 159480"/>
                  <a:gd name="textAreaRight" fmla="*/ 159480 w 159480"/>
                  <a:gd name="textAreaTop" fmla="*/ 0 h 43920"/>
                  <a:gd name="textAreaBottom" fmla="*/ 44280 h 43920"/>
                </a:gdLst>
                <a:ahLst/>
                <a:rect l="textAreaLeft" t="textAreaTop" r="textAreaRight" b="textAreaBottom"/>
                <a:pathLst>
                  <a:path w="759" h="332">
                    <a:moveTo>
                      <a:pt x="292" y="0"/>
                    </a:moveTo>
                    <a:lnTo>
                      <a:pt x="0" y="15"/>
                    </a:lnTo>
                    <a:lnTo>
                      <a:pt x="221" y="332"/>
                    </a:lnTo>
                    <a:lnTo>
                      <a:pt x="759" y="291"/>
                    </a:lnTo>
                    <a:lnTo>
                      <a:pt x="700" y="251"/>
                    </a:lnTo>
                    <a:lnTo>
                      <a:pt x="261" y="266"/>
                    </a:lnTo>
                    <a:lnTo>
                      <a:pt x="145" y="71"/>
                    </a:lnTo>
                    <a:lnTo>
                      <a:pt x="360" y="19"/>
                    </a:lnTo>
                    <a:lnTo>
                      <a:pt x="29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7" name="Freeform 376"/>
              <p:cNvSpPr/>
              <p:nvPr/>
            </p:nvSpPr>
            <p:spPr>
              <a:xfrm>
                <a:off x="4727880" y="6095880"/>
                <a:ext cx="137880" cy="10800"/>
              </a:xfrm>
              <a:custGeom>
                <a:avLst/>
                <a:gdLst>
                  <a:gd name="textAreaLeft" fmla="*/ 0 w 137880"/>
                  <a:gd name="textAreaRight" fmla="*/ 138240 w 137880"/>
                  <a:gd name="textAreaTop" fmla="*/ 0 h 10800"/>
                  <a:gd name="textAreaBottom" fmla="*/ 11160 h 10800"/>
                </a:gdLst>
                <a:ahLst/>
                <a:rect l="textAreaLeft" t="textAreaTop" r="textAreaRight" b="textAreaBottom"/>
                <a:pathLst>
                  <a:path w="657" h="84">
                    <a:moveTo>
                      <a:pt x="0" y="84"/>
                    </a:moveTo>
                    <a:lnTo>
                      <a:pt x="113" y="71"/>
                    </a:lnTo>
                    <a:lnTo>
                      <a:pt x="337" y="42"/>
                    </a:lnTo>
                    <a:lnTo>
                      <a:pt x="558" y="13"/>
                    </a:lnTo>
                    <a:lnTo>
                      <a:pt x="657" y="0"/>
                    </a:lnTo>
                    <a:lnTo>
                      <a:pt x="164" y="17"/>
                    </a:lnTo>
                    <a:lnTo>
                      <a:pt x="0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8" name="Freeform 377"/>
              <p:cNvSpPr/>
              <p:nvPr/>
            </p:nvSpPr>
            <p:spPr>
              <a:xfrm>
                <a:off x="4488480" y="5830200"/>
                <a:ext cx="383760" cy="59040"/>
              </a:xfrm>
              <a:custGeom>
                <a:avLst/>
                <a:gdLst>
                  <a:gd name="textAreaLeft" fmla="*/ 0 w 383760"/>
                  <a:gd name="textAreaRight" fmla="*/ 384120 w 383760"/>
                  <a:gd name="textAreaTop" fmla="*/ 0 h 59040"/>
                  <a:gd name="textAreaBottom" fmla="*/ 59400 h 59040"/>
                </a:gdLst>
                <a:ahLst/>
                <a:rect l="textAreaLeft" t="textAreaTop" r="textAreaRight" b="textAreaBottom"/>
                <a:pathLst>
                  <a:path w="1825" h="451">
                    <a:moveTo>
                      <a:pt x="1825" y="97"/>
                    </a:moveTo>
                    <a:lnTo>
                      <a:pt x="1527" y="47"/>
                    </a:lnTo>
                    <a:lnTo>
                      <a:pt x="1472" y="4"/>
                    </a:lnTo>
                    <a:lnTo>
                      <a:pt x="1391" y="0"/>
                    </a:lnTo>
                    <a:lnTo>
                      <a:pt x="0" y="308"/>
                    </a:lnTo>
                    <a:lnTo>
                      <a:pt x="451" y="451"/>
                    </a:lnTo>
                    <a:lnTo>
                      <a:pt x="1628" y="153"/>
                    </a:lnTo>
                    <a:lnTo>
                      <a:pt x="433" y="385"/>
                    </a:lnTo>
                    <a:lnTo>
                      <a:pt x="310" y="305"/>
                    </a:lnTo>
                    <a:lnTo>
                      <a:pt x="1400" y="42"/>
                    </a:lnTo>
                    <a:lnTo>
                      <a:pt x="1476" y="63"/>
                    </a:lnTo>
                    <a:lnTo>
                      <a:pt x="1825" y="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9" name="Freeform 378"/>
              <p:cNvSpPr/>
              <p:nvPr/>
            </p:nvSpPr>
            <p:spPr>
              <a:xfrm>
                <a:off x="4772520" y="5952240"/>
                <a:ext cx="198720" cy="50400"/>
              </a:xfrm>
              <a:custGeom>
                <a:avLst/>
                <a:gdLst>
                  <a:gd name="textAreaLeft" fmla="*/ 0 w 198720"/>
                  <a:gd name="textAreaRight" fmla="*/ 199080 w 198720"/>
                  <a:gd name="textAreaTop" fmla="*/ 0 h 50400"/>
                  <a:gd name="textAreaBottom" fmla="*/ 50760 h 50400"/>
                </a:gdLst>
                <a:ahLst/>
                <a:rect l="textAreaLeft" t="textAreaTop" r="textAreaRight" b="textAreaBottom"/>
                <a:pathLst>
                  <a:path w="945" h="382">
                    <a:moveTo>
                      <a:pt x="0" y="382"/>
                    </a:moveTo>
                    <a:lnTo>
                      <a:pt x="272" y="118"/>
                    </a:lnTo>
                    <a:lnTo>
                      <a:pt x="663" y="0"/>
                    </a:lnTo>
                    <a:lnTo>
                      <a:pt x="945" y="118"/>
                    </a:lnTo>
                    <a:lnTo>
                      <a:pt x="0" y="382"/>
                    </a:lnTo>
                    <a:close/>
                  </a:path>
                </a:pathLst>
              </a:custGeom>
              <a:solidFill>
                <a:srgbClr val="f7a8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0" name="Freeform 379"/>
              <p:cNvSpPr/>
              <p:nvPr/>
            </p:nvSpPr>
            <p:spPr>
              <a:xfrm>
                <a:off x="4675320" y="5941080"/>
                <a:ext cx="353880" cy="154800"/>
              </a:xfrm>
              <a:custGeom>
                <a:avLst/>
                <a:gdLst>
                  <a:gd name="textAreaLeft" fmla="*/ 0 w 353880"/>
                  <a:gd name="textAreaRight" fmla="*/ 354240 w 353880"/>
                  <a:gd name="textAreaTop" fmla="*/ 0 h 154800"/>
                  <a:gd name="textAreaBottom" fmla="*/ 155160 h 154800"/>
                </a:gdLst>
                <a:ahLst/>
                <a:rect l="textAreaLeft" t="textAreaTop" r="textAreaRight" b="textAreaBottom"/>
                <a:pathLst>
                  <a:path w="1682" h="1174">
                    <a:moveTo>
                      <a:pt x="939" y="0"/>
                    </a:moveTo>
                    <a:lnTo>
                      <a:pt x="1648" y="189"/>
                    </a:lnTo>
                    <a:lnTo>
                      <a:pt x="1682" y="300"/>
                    </a:lnTo>
                    <a:lnTo>
                      <a:pt x="1338" y="417"/>
                    </a:lnTo>
                    <a:lnTo>
                      <a:pt x="1293" y="505"/>
                    </a:lnTo>
                    <a:lnTo>
                      <a:pt x="1316" y="605"/>
                    </a:lnTo>
                    <a:lnTo>
                      <a:pt x="1366" y="678"/>
                    </a:lnTo>
                    <a:lnTo>
                      <a:pt x="1465" y="732"/>
                    </a:lnTo>
                    <a:lnTo>
                      <a:pt x="0" y="1174"/>
                    </a:lnTo>
                    <a:lnTo>
                      <a:pt x="1348" y="716"/>
                    </a:lnTo>
                    <a:lnTo>
                      <a:pt x="1259" y="662"/>
                    </a:lnTo>
                    <a:lnTo>
                      <a:pt x="828" y="755"/>
                    </a:lnTo>
                    <a:lnTo>
                      <a:pt x="1237" y="600"/>
                    </a:lnTo>
                    <a:lnTo>
                      <a:pt x="1243" y="473"/>
                    </a:lnTo>
                    <a:lnTo>
                      <a:pt x="368" y="666"/>
                    </a:lnTo>
                    <a:lnTo>
                      <a:pt x="346" y="573"/>
                    </a:lnTo>
                    <a:lnTo>
                      <a:pt x="1642" y="226"/>
                    </a:lnTo>
                    <a:lnTo>
                      <a:pt x="982" y="68"/>
                    </a:lnTo>
                    <a:lnTo>
                      <a:pt x="474" y="235"/>
                    </a:lnTo>
                    <a:lnTo>
                      <a:pt x="93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1" name="Freeform 380"/>
              <p:cNvSpPr/>
              <p:nvPr/>
            </p:nvSpPr>
            <p:spPr>
              <a:xfrm>
                <a:off x="4846320" y="6078960"/>
                <a:ext cx="62280" cy="18360"/>
              </a:xfrm>
              <a:custGeom>
                <a:avLst/>
                <a:gdLst>
                  <a:gd name="textAreaLeft" fmla="*/ 0 w 62280"/>
                  <a:gd name="textAreaRight" fmla="*/ 62640 w 6228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297" h="141">
                    <a:moveTo>
                      <a:pt x="197" y="0"/>
                    </a:moveTo>
                    <a:lnTo>
                      <a:pt x="297" y="121"/>
                    </a:lnTo>
                    <a:lnTo>
                      <a:pt x="0" y="141"/>
                    </a:lnTo>
                    <a:lnTo>
                      <a:pt x="169" y="88"/>
                    </a:lnTo>
                    <a:lnTo>
                      <a:pt x="129" y="13"/>
                    </a:lnTo>
                    <a:lnTo>
                      <a:pt x="19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22" name="Line 381"/>
          <p:cNvSpPr/>
          <p:nvPr/>
        </p:nvSpPr>
        <p:spPr>
          <a:xfrm flipV="1">
            <a:off x="4356000" y="2491920"/>
            <a:ext cx="0" cy="36036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Line 382"/>
          <p:cNvSpPr/>
          <p:nvPr/>
        </p:nvSpPr>
        <p:spPr>
          <a:xfrm flipH="1" flipV="1">
            <a:off x="2339640" y="2781360"/>
            <a:ext cx="1297080" cy="28872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Line 383"/>
          <p:cNvSpPr/>
          <p:nvPr/>
        </p:nvSpPr>
        <p:spPr>
          <a:xfrm>
            <a:off x="4356000" y="4437000"/>
            <a:ext cx="0" cy="57636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Text Box 384"/>
          <p:cNvSpPr/>
          <p:nvPr/>
        </p:nvSpPr>
        <p:spPr>
          <a:xfrm>
            <a:off x="2771640" y="4941720"/>
            <a:ext cx="338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нтрольные    рабо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0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6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7772400" cy="4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Calibri"/>
              </a:rPr>
              <a:t>Что ОС «Школа 2100» может дать детям</a:t>
            </a:r>
            <a:endParaRPr b="0" lang="en-US" sz="28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 type="subTitle"/>
          </p:nvPr>
        </p:nvSpPr>
        <p:spPr>
          <a:xfrm>
            <a:off x="755280" y="981000"/>
            <a:ext cx="7016760" cy="465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беспечит увлекательный процесс без стресса и перегрузок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зранит радость детства и здоровье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скроет индивидуальность Вашего ребенк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ырастит его как самостоятельную личность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учит правильно и грамотно говорить, уметь слышать и слушать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учит ставить перед собой цели, планировать свою деятельность для достижения результата, разовьет умение самоконтроля, т.е. НАУЧИТ РЕШАТЬ ЖИЗНЕННЫЕ ПРОБЛЕМ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9" name="Picture 1029" descr="sova-2"/>
          <p:cNvPicPr/>
          <p:nvPr/>
        </p:nvPicPr>
        <p:blipFill>
          <a:blip r:embed="rId1"/>
          <a:stretch/>
        </p:blipFill>
        <p:spPr>
          <a:xfrm>
            <a:off x="7020000" y="1484280"/>
            <a:ext cx="1528560" cy="1727280"/>
          </a:xfrm>
          <a:prstGeom prst="rect">
            <a:avLst/>
          </a:prstGeom>
          <a:ln w="0">
            <a:noFill/>
          </a:ln>
        </p:spPr>
      </p:pic>
      <p:sp>
        <p:nvSpPr>
          <p:cNvPr id="73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777240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Calibri"/>
              </a:rPr>
              <a:t>Что ОС «Школа 2100» может дать родителям</a:t>
            </a:r>
            <a:endParaRPr b="0" lang="en-US" sz="28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 type="subTitle"/>
          </p:nvPr>
        </p:nvSpPr>
        <p:spPr>
          <a:xfrm>
            <a:off x="900000" y="836280"/>
            <a:ext cx="633600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ам не придется тратить много времени на дополнительную работу с ребенком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 Вас появится много общих точек соприкосновения с вашим ребенком, Вам будет интересно общаться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ы удивитесь, как быстро расширяется кругозор вашего ребенк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ебенок довольно быстро станет самостоятельным, но будет стараться согласовывать с Вами свое мнение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ы можете быть спокойны за будущее вашего ребенка и станете гордится его успехами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3" name="Picture 1029" descr="sova-2"/>
          <p:cNvPicPr/>
          <p:nvPr/>
        </p:nvPicPr>
        <p:blipFill>
          <a:blip r:embed="rId1"/>
          <a:stretch/>
        </p:blipFill>
        <p:spPr>
          <a:xfrm>
            <a:off x="6804000" y="2060640"/>
            <a:ext cx="1528920" cy="1727280"/>
          </a:xfrm>
          <a:prstGeom prst="rect">
            <a:avLst/>
          </a:prstGeom>
          <a:ln w="0">
            <a:noFill/>
          </a:ln>
        </p:spPr>
      </p:pic>
      <p:sp>
        <p:nvSpPr>
          <p:cNvPr id="73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7T08:59:29Z</dcterms:created>
  <dc:creator>User</dc:creator>
  <dc:description/>
  <cp:keywords/>
  <dc:language>en-US</dc:language>
  <cp:lastModifiedBy>LEGION</cp:lastModifiedBy>
  <dcterms:modified xsi:type="dcterms:W3CDTF">2015-01-26T14:00:20Z</dcterms:modified>
  <cp:revision>7</cp:revision>
  <dc:subject/>
  <dc:title>МОУ «Лицей № 66» 2011 -2012 учебный год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9087049991</vt:lpwstr>
  </property>
</Properties>
</file>