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68EB4-B823-4051-A6B2-CBEFA55FE90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дагогическая конферен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«Мастерство учител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 апреля 2012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C3069-F2D6-4645-80C4-46AD7805222E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82E53-FFE4-455D-B16D-EAF61EE12F24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Что изучается с использованием ИКТ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тличительной особенностью начала обучения является то, что наряду с традиционным письмом ребенок сразу начинает осваивать клавиатурный набор текста. Сегодня многие родители, постоянно использующие компьютер в профессиональной и личной жизни, понимают его возможности для создания и редактирования текстов, поэтому должны понимать важность включения этого компонента в образовательный процесс наравне с традиционным письм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контексте изучения всех предметов должны широко использоваться различные источники информации, в том числе, в доступном Интерне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693B9-E1F1-47EB-8BC2-F8E3FE61E0EC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36A79-639D-4252-9180-D55D880C197D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Что такое проектный метод обуч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современной школе широко применяется метод проекта. Средства ИКТ являются наиболее перспективным средством реализации проектной методики обуч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 время выполнения проек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рмируется активная, самостоятельная и инициативная позиция учащихся в учен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виваются общеучебные умения и навыки: исследовательские, рефлексивные, самооценочн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рмируются не просто умения, а компетенции, т.е. умения, непосредственно сопряженные с опытом их применения в практическ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ализуется принцип связи обучения с жизн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D7065-6C49-4E68-A091-D25285B7CE3A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67D9B-E9AC-4C17-AE31-2180EAEF61D6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Что такое проектный метод обуч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основу метода проектов положена идея о направленности учебно-познавательной деятельности школьников на результат, который получается при решении той или иной практически или теоретически значимой проблем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нешний результа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можно увидеть, осмыслить, применить в реальной практическ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нутренний результа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опыт деятельности – становится бесценным достоянием учащегося, соединяя в себе знания и умения, компетенции и цен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59FF8-1EE8-44DC-B0C1-A36FF61066CA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cc00"/>
                </a:solidFill>
                <a:latin typeface="Arial"/>
              </a:rPr>
              <a:t>Концепция В. М. Шепе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 проблема  может быть благополучно разрешена, если обратиться к концепци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человековедческой компетентнос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едагога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октора философских наук, профессора В.М. Шепел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1200" spc="-1" strike="noStrike">
                <a:solidFill>
                  <a:srgbClr val="00cc00"/>
                </a:solidFill>
                <a:latin typeface="Arial"/>
              </a:rPr>
              <a:t>Человековедческая  компетентность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педагог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это умение практически использовать систематизированные, адаптированные к педагогике гуманитарные, естественные, художественные и другие знания для решения следующих задач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мение воздействовать на личность и социу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мение развивать лучшие качества воспитан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мение педагогов развиваться и самосовершенствоватьс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B9A4E-D8C9-4EB1-9A72-AFD434DBD80E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cc00"/>
                </a:solidFill>
                <a:latin typeface="Arial"/>
              </a:rPr>
              <a:t>Самоорганизация, самопознание, самопрезент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данной концепции лежит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нтропологически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дход к познанию личности учителя и ученика. Ее реализация способствует овладению учителем разнообразными способами </a:t>
            </a:r>
            <a:r>
              <a:rPr b="0" i="1" lang="ru-RU" sz="1200" spc="-1" strike="noStrike">
                <a:solidFill>
                  <a:srgbClr val="00cc00"/>
                </a:solidFill>
                <a:latin typeface="Arial"/>
              </a:rPr>
              <a:t>самопознания, самоорганизации и самопрезентации</a:t>
            </a:r>
            <a:r>
              <a:rPr b="0" lang="ru-RU" sz="1200" spc="-1" strike="noStrike">
                <a:solidFill>
                  <a:srgbClr val="00cc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Характерной особенностью данной концепции является то, что она разработана до уровня обучающих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ехнологи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cc00"/>
                </a:solidFill>
                <a:latin typeface="Arial"/>
              </a:rPr>
              <a:t>Человековедческие технолог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ацелены на развитие личностно значимых качеств человека, способствующих его внутреннему духовному рос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DB524-0CD8-42E7-97CA-3DAFA5FD526E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cc00"/>
                </a:solidFill>
                <a:latin typeface="Arial"/>
              </a:rPr>
              <a:t>Базовые технолог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 М. Шепель предлагает для изучения три  базовые технологии, которые помогут современному педагогу успешно функционировать в рамках своей профессии: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онфликтология, имиджелогия и ортобиотика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ервое название понятно без комментариев, под вторым скрываются техники самопрезентации, а третье означает технологию самосбережения здоровья и жизненного оптимизм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3DE11-67AE-460A-8BAC-A255E6292F0F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фликт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онфликт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это психологическое противоборство лиц, имеющих противоречивые или несовместимые цели и интере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а сегодня очень конфликтна. Да это и понятно: школа и общество -   словно два сообщающихся сосуда,- и в нашей весьма трудной жизни различного рода конфликтов, можно сказать, сверх меры.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астерство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я заключается сегодня не только в том, чтобы грамотно, интересно преподать  свой предмет, но и уметь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едвиде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наиболее безболезненн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еодолева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конфликтные ситу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33E49-B23E-4F77-852B-D9CCB92E8964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иджелог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Имиджелоги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это обращённый к каждому призыв быть обаятельным, уметь нести свет людям. Она способствует внешнему проявлению глубинной потребности человека быть достойной личност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Имиджелог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это мечта о благородном облике каждого гражданина, обладать которым – непременное условие создания демократичного и гуманного об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Имиджелогия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это теоретическое отражение специфики российского менталитета, в котором огромная роль принадлежит душевному складу людей. Россияне человеколюбивы. Не случайно в Своде законов Российской империи 1897 года в качестве духовных ценностей, составляющих главные критерии законотворчества и законопослушания, выделялись человеколюбие, усердие к общему добру, покровительство невинным и оскорблён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23563-C52F-4DCE-9BD5-67B99E588684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9999"/>
                </a:solidFill>
                <a:latin typeface="Arial"/>
              </a:rPr>
              <a:t>При формировании любого имиджа  учитывают различные компоненты.</a:t>
            </a:r>
            <a:br>
              <a:rPr sz="1400"/>
            </a:br>
            <a:r>
              <a:rPr b="0" lang="ru-RU" sz="1400" spc="-1" strike="noStrike">
                <a:solidFill>
                  <a:srgbClr val="009999"/>
                </a:solidFill>
                <a:latin typeface="Arial"/>
              </a:rPr>
              <a:t>Так, В.М. Шепель  выделяет  </a:t>
            </a:r>
            <a:r>
              <a:rPr b="0" i="1" lang="ru-RU" sz="1400" spc="-1" strike="noStrike">
                <a:solidFill>
                  <a:srgbClr val="009999"/>
                </a:solidFill>
                <a:latin typeface="Arial"/>
              </a:rPr>
              <a:t>три</a:t>
            </a:r>
            <a:r>
              <a:rPr b="0" lang="ru-RU" sz="1400" spc="-1" strike="noStrike">
                <a:solidFill>
                  <a:srgbClr val="009999"/>
                </a:solidFill>
                <a:latin typeface="Arial"/>
              </a:rPr>
              <a:t> следующих </a:t>
            </a:r>
            <a:r>
              <a:rPr b="0" i="1" lang="ru-RU" sz="1400" spc="-1" strike="noStrike">
                <a:solidFill>
                  <a:srgbClr val="009999"/>
                </a:solidFill>
                <a:latin typeface="Arial"/>
              </a:rPr>
              <a:t>комплекса</a:t>
            </a:r>
            <a:r>
              <a:rPr b="0" i="1" lang="ru-RU" sz="1100" spc="-1" strike="noStrike">
                <a:solidFill>
                  <a:srgbClr val="009999"/>
                </a:solidFill>
                <a:latin typeface="Arial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) природные качест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оммуникабельн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эмпатичность (способность к сопереживанию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ефлексивность (способность понять другого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расноречивость (способность воздействовать словом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) качества, привитые образованием и воспитание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равственные цен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сихологическое здоровь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абор технологий общ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3) качества, обретенные с жизненным и профессиональным опы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E6E32-F2BF-4BC0-A9B6-00C0D443E936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трица персонального имиджа педаго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чностный настрой с опорой на «я-концепцию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мика и физиогном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лосы и причёс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несик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зайн одежд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снореч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ка повед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регуляц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48164-CD66-4B9C-84F3-9682C9577F5D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овестка дня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тупительное слово зам.директора по МР Гавриловой А.В. «ФГОС второго поколен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тупления педагогов школ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Усова М.В. «Цифровые технологии в обучении английского язык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Александровская Е.В. «Метод дифференциации на уроках литературы как способ организации индивидуальной образовательной траектории учащихс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Набатова Т.В. «Игра – как форма оптимизации обучения на уроках хими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) Шиганова Е.А. «Диагностика учащихся 1-х классов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2E6B8-B775-4632-A9EB-C8F008430BA3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тобио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ртобиоти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наука-технология о самосбережении здоровья и жизненного оптимиз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Здоровьесберегающие технолог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это интеграция всех направлений работы образовательного учреждения по сохранению и укреплению здоровья субъектов образовательного процес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Здоровь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это  совокупность физического, психического, духовно-нравственного состояний человека, определяющих его работоспособность и отношение к окружающему мир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129DD-7102-44A6-BC8E-3EC830DF3894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показывают многочисленные исследования, повьшение общего уровня человековедческой компетентности педагога - ключ к его личностному саморазвитию и росту профессионального мастерства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егодняшний день самоактуализация является не просто привлекательной идеей, ориентиром для личностного роста и развития, а представляет собой вполне стройную теорию со своими принципами, категориями, концепциями и, что не менее важно, практическими технологиями воздействия на личность человека. В силу этого она может быть внедрена в педагогический процесс с целью его оптимизации и гум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E2FB7-6A04-4872-8D1D-0EACBC1CCFB0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и-гимн «Я – чудо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счастливый человек! Я самый счастливый человек на свете! У меня хорошее настроение! У меня всегда хорошее настроение! У меня отличное настрое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и глаза излучают счастье! Моя походка излучает счастье! Я весь излучаю счастье! Я живу – и поэтому я счастлив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оптимист! Солнце для меня всегда самое яркое, а небо самое голубо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меня можно всегда положиться. Я не подведу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умею дружить. Благо семьи – приоритет для меня! Я внимательный и заботливый. Меня ценят и уважают мои друзья, близкие и коллеги. Со мной всегда легко и весе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общительный. Ко мне тянутся люди. Со мной интересно и спокой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постоянно над собой работаю. Я доказываю это своим делом, умением дорожить своим достоинством, семейной чест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благодарю своих родителей за жизнь и радость общения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0F44D-DD14-41B9-B799-0CE73461E0AE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Федеральных  Государственных  Стандартов второго поколения  лежит системно-деятельностный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дход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который предполагает определение цели и основного результата образования как воспитание и развитие обучающихся, их готовность к саморазвитию и непрерывному образованию, отвечающим задачам построения гражданского общества и инновационной экономи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C3CBE-867D-45E1-B547-0DB5B9D217C0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66"/>
                </a:solidFill>
                <a:uFillTx/>
                <a:latin typeface="Arial"/>
              </a:rPr>
              <a:t>ФГОС</a:t>
            </a: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 направлен на обеспече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1) формирования российской гражданской идентичности обучающихс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2) единства образовательного пространства Российской Федерации; сохранения и развития культурного разнообразия и языкового наследия многонационального народа Российской Федерации, реализации права на изучение родного языка, возможности получения основного общего образования на родном языке, овладения духовными ценностями и культурой многонационального народа Росс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3) доступности получения  качественного основного общего образовани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4) преемственности основных образовательных программ начального общего, основного общего, среднего (полного) общего, профессионального образовани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5) духовно-нравственного развития, воспитания обучающихся и сохранения их здоровь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6) развития государственно-общественного управления в образовании;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7) формирования содержательно - критериальной основы оценки результатов освоения обучающимися основной образовательной программы основного общего образования, деятельности педагогических работников, образовательных учреждений, функционирования системы образования в целом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8) условий создания социальной ситуации развития обучающихся, обеспечивающей их социальную самоидентификацию посредством личностно значимой деятель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A2642-CBAB-4D03-898E-9AC24C15FCAD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26CFD-14B9-452D-95A4-208C8B43AE5D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Что является отличительной особенностью нового Стандар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няется метод обучения (с объяснительного на деятельностный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няется подход к оценке результатов обучения (оцениваются не только знания, умения и навыки, но и, прежде всего, метапредметные и личностные результат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няется система аттестации учителей (оценивается качество управления учебной деятельностью учащихся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няется система аттестации школ (оценивается качество организации перехода школы к реализации ФГОС НОО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Целью школы становятся не только зна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о и умение их добывать и ими пользова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BB433-A483-44F4-8519-F2060E8C9F36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540DA-D358-4469-A294-DC16F0F3B484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Какие требования к результатам обучающимся устанавливает Стандар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андарт устанавливает требования к результатам обучающихся, освоивших основную образовательную программу начального общего образов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ЧНОСТНЫ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отовность и способность обучающихся к саморазвитию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формированность мотивации к обучению и познанию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енностно-смысловые установки обучающих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ражающие их индивидуально-личностные позици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формированность основ гражданской идентич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0439-F20B-4528-832A-70FBECAFB831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DD4E9-4A7F-453B-A05B-2DED381F2C84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Какие требования к результатам обучающимся устанавливает Стандар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МЕТАПРЕДМЕТНЫ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своение обучающимися универсальные учебные действия (познавательные, регулятивные и коммуникативные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ежпредметными понят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2D96E-42E8-486F-B4D3-97C37957273F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411BF-A817-470D-BA59-3C71CB241B00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Какие требования к результатам обучающимся устанавливает Стандар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ЕДМЕТНЫ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военный обучающимися в ходе изучения учебного предмета опыт специфической для данной предметной области деятельности по получению нового знания, его преобразованию и применен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дметные результаты сгруппированы по учебным предметы. Они формулируются в терминах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выпускник научится…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группа обязательных требований) 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выпускник получит возможность научиться …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 не достижение этих требований выпускником не может служить препятствием для перевода его на следующую ступень образования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C5A84-0316-4C1E-B6FE-0C1256869377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CF18-8D04-4C6E-9261-38AE0370E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54A7-2D0F-4886-96E8-2B1ACB1D4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5EB1-B119-4C73-AA54-4B3121CA7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1318-7448-4CCF-8893-08A0F08E1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8135E-4E92-4189-9ED9-3FCC823D1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2E822-F89C-4453-BA08-4F8897B3A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358CC-59B6-42CC-A877-CA5FE44F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51088-E950-43AE-A5FB-9011E170B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FF587-D651-42AD-A1E9-FCC6E09EC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2E4C2-6758-4DBC-BD06-C5E8B074A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8CEBD-9BE5-4DBB-8A5C-26533542A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C7EB-909C-4F35-B77C-17AA9D975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BFC64-2FE8-4000-8B3C-F004B6A5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82B26-523B-4222-8525-D0C68F75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7F73B-B160-46C8-97C2-056B0DF96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4D509-79ED-4356-97EC-B6B3774DD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8429B-862F-4383-9D41-24A5E1307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3376-A24F-44DD-9A14-D431F0E6F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DF1F-A603-4D7E-98E8-C4CD961F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EF87-4596-4698-BA41-34661F3FA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F3ED-676F-4121-87B7-2206BEA99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EEB1-4AD8-4E4F-8B7D-D7A08B2E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2EB6-246D-4831-913B-8862EEE3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C3F0-3EF3-4529-BC00-503112C9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94396-582C-4032-A5BA-83C546AD241A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618BA-D4C4-495A-A55D-F40365C0AA87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Педагогическая конференция</a:t>
            </a:r>
            <a:br>
              <a:rPr sz="3600"/>
            </a:b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 «Мастерство учителя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25 апреля 2012 год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81240" y="1379520"/>
            <a:ext cx="824832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Что изучается с использованием ИКТ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04280" y="2604960"/>
            <a:ext cx="8331480" cy="35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личительной особенностью начала обучения является то, что наряду с традиционным письмом ребенок сразу начинает осваивать клавиатурный набор текста. Сегодня многие родители, постоянно использующие компьютер в профессиональной и личной жизни, понимают его возможности для создания и редактирования текстов, поэтому должны понимать важность включения этого компонента в образовательный процесс наравне с традиционным письмом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контексте изучения всех предметов должны широко использоваться различные источники информации, в том числе, в доступном Интернет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41360" y="1178640"/>
            <a:ext cx="8257320" cy="5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Что такое проектный метод обучения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15440" y="2373120"/>
            <a:ext cx="8728200" cy="448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современной школе широко применяется метод проекта. Средства ИКТ являются наиболее перспективным средством реализации проектной методики обучения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 время выполнения проекта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формируется активная, самостоятельная и инициативная позиция учащихся в учении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развиваются общеучебные умения и навыки: исследовательские, рефлексивные, самооценочные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формируются не просто умения, а компетенции, т.е. умения, непосредственно сопряженные с опытом их применения в практической деятельности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реализуется принцип связи обучения с жизнью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41360" y="1178640"/>
            <a:ext cx="8257320" cy="5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Что такое проектный метод обучения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78920" y="2565360"/>
            <a:ext cx="8728200" cy="44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основу метода проектов положена идея о направленности учебно-познавательной деятельности школьников на результат, который получается при решении той или иной практически или теоретически значимой проблемы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внешний результа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можно увидеть, осмыслить, применить в реальной практической деятельност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внутренний результа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опыт деятельности – становится бесценным достоянием учащегося, соединяя в себе знания и умения, компетенции и ценности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Концепция В. М. Шепеля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Эта проблема  может быть благополучно разрешена, если обратиться к концепции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«человековедческой компетентности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педагога»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доктора философских наук, профессора В.М. Шепеля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i="1" lang="ru-RU" sz="2000" spc="-1" strike="noStrike">
                <a:solidFill>
                  <a:srgbClr val="00cc00"/>
                </a:solidFill>
                <a:latin typeface="Arial"/>
              </a:rPr>
              <a:t>Человековедческая  компетентность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 педагога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–это умение практически использовать систематизированные, адаптированные к педагогике гуманитарные, естественные, художественные и другие знания для решения следующих задач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умение воздействовать на личность и социум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умение развивать лучшие качества воспитанников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умение педагогов развиваться и самосовершенствоваться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Picture 4" descr="j0299125"/>
          <p:cNvPicPr/>
          <p:nvPr/>
        </p:nvPicPr>
        <p:blipFill>
          <a:blip r:embed="rId1"/>
          <a:stretch/>
        </p:blipFill>
        <p:spPr>
          <a:xfrm>
            <a:off x="7956720" y="5084640"/>
            <a:ext cx="928440" cy="152424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cc00"/>
                </a:solidFill>
                <a:latin typeface="Arial"/>
              </a:rPr>
              <a:t>Самоорганизация, самопознание, самопрезентац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В основе данной концепции лежит </a:t>
            </a:r>
            <a:r>
              <a:rPr b="0" i="1" lang="ru-RU" sz="2200" spc="-1" strike="noStrike">
                <a:solidFill>
                  <a:srgbClr val="003366"/>
                </a:solidFill>
                <a:latin typeface="Arial"/>
              </a:rPr>
              <a:t>антропологический</a:t>
            </a: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 подход к познанию личности учителя и ученика. Ее реализация способствует овладению учителем разнообразными способами </a:t>
            </a:r>
            <a:r>
              <a:rPr b="0" i="1" lang="ru-RU" sz="2200" spc="-1" strike="noStrike">
                <a:solidFill>
                  <a:srgbClr val="00cc00"/>
                </a:solidFill>
                <a:latin typeface="Arial"/>
              </a:rPr>
              <a:t>самопознания, самоорганизации и самопрезентации</a:t>
            </a:r>
            <a:r>
              <a:rPr b="0" lang="ru-RU" sz="2200" spc="-1" strike="noStrike">
                <a:solidFill>
                  <a:srgbClr val="00cc00"/>
                </a:solidFill>
                <a:latin typeface="Arial"/>
              </a:rPr>
              <a:t>.</a:t>
            </a: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 Характерной особенностью данной концепции является то, что она разработана до уровня обучающих </a:t>
            </a:r>
            <a:r>
              <a:rPr b="0" i="1" lang="ru-RU" sz="2200" spc="-1" strike="noStrike">
                <a:solidFill>
                  <a:srgbClr val="003366"/>
                </a:solidFill>
                <a:latin typeface="Arial"/>
              </a:rPr>
              <a:t>технологий</a:t>
            </a: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cc00"/>
                </a:solidFill>
                <a:latin typeface="Arial"/>
              </a:rPr>
              <a:t>Человековедческие технологии</a:t>
            </a: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 нацелены на развитие личностно значимых качеств человека, способствующих его внутреннему духовному росту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5" name="Picture 4" descr="j0217698"/>
          <p:cNvPicPr/>
          <p:nvPr/>
        </p:nvPicPr>
        <p:blipFill>
          <a:blip r:embed="rId1"/>
          <a:stretch/>
        </p:blipFill>
        <p:spPr>
          <a:xfrm>
            <a:off x="7620120" y="1066680"/>
            <a:ext cx="1218960" cy="118116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Базовые технологии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. М. Шепель предлагает для изучения три  базовые технологии, которые помогут современному педагогу успешно функционировать в рамках своей профессии:  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конфликтология, имиджелогия и ортобиотика.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Первое название понятно без комментариев, под вторым скрываются техники самопрезентации, а третье означает технологию самосбережения здоровья и жизненного оптимизма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9" name="Picture 4" descr="j0292020"/>
          <p:cNvPicPr/>
          <p:nvPr/>
        </p:nvPicPr>
        <p:blipFill>
          <a:blip r:embed="rId1"/>
          <a:stretch/>
        </p:blipFill>
        <p:spPr>
          <a:xfrm>
            <a:off x="7238880" y="5267160"/>
            <a:ext cx="1676520" cy="159084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онфликтолог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Конфликт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– это психологическое противоборство лиц, имеющих противоречивые или несовместимые цели и интересы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Школа сегодня очень конфликтна. Да это и понятно: школа и общество -   словно два сообщающихся сосуда,- и в нашей весьма трудной жизни различного рода конфликтов, можно сказать, сверх меры.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Мастерство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учителя заключается сегодня не только в том, чтобы грамотно, интересно преподать  свой предмет, но и уметь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предвидеть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и наиболее безболезненно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преодолевать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конфликтные ситуаци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Имиджелогия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539280" y="236016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i="1" lang="ru-RU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6666"/>
                </a:solidFill>
                <a:latin typeface="Arial"/>
              </a:rPr>
              <a:t>Имиджелогия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– это обращённый к каждому призыв быть обаятельным, уметь нести свет людям. Она способствует внешнему проявлению глубинной потребности человека быть достойной личностью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i="1" lang="ru-RU" sz="1800" spc="-1" strike="noStrike">
                <a:solidFill>
                  <a:srgbClr val="006666"/>
                </a:solidFill>
                <a:latin typeface="Arial"/>
              </a:rPr>
              <a:t>Имиджелогия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– это мечта о благородном облике каждого гражданина, обладать которым – непременное условие создания демократичного и гуманного обществ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i="1" lang="ru-RU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6666"/>
                </a:solidFill>
                <a:latin typeface="Arial"/>
              </a:rPr>
              <a:t>Имиджелогия</a:t>
            </a: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– это теоретическое отражение специфики российского менталитета, в котором огромная роль принадлежит душевному складу людей. Россияне человеколюбивы. Не случайно в Своде законов Российской империи 1897 года в качестве духовных ценностей, составляющих главные критерии законотворчества и законопослушания, выделялись человеколюбие, усердие к общему добру, покровительство невинным и оскорблённым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21520" y="957960"/>
            <a:ext cx="7805160" cy="82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При формировании любого имиджа  учитывают различные компоненты.</a:t>
            </a:r>
            <a:br>
              <a:rPr sz="2000"/>
            </a:b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Так, В.М. Шепель  выделяет  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три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следующих 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комплекса</a:t>
            </a:r>
            <a:r>
              <a:rPr b="1" i="1" lang="ru-RU" sz="1600" spc="-1" strike="noStrike">
                <a:solidFill>
                  <a:srgbClr val="003366"/>
                </a:solidFill>
                <a:latin typeface="Arial"/>
              </a:rPr>
              <a:t>: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1) природные качества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- коммуникабельность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- эмпатичность (способность к сопереживанию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- рефлексивность (способность понять другого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- красноречивость (способность воздействовать словом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2) качества, привитые образованием и воспитанием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- нравственные ценности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- психологическое здоровье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- набор технологий общения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3) качества, обретенные с жизненным и профессиональным опытом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3100" spc="-1" strike="noStrike">
                <a:solidFill>
                  <a:srgbClr val="006666"/>
                </a:solidFill>
                <a:latin typeface="Arial"/>
              </a:rPr>
              <a:t>Матрица персонального имиджа педагога</a:t>
            </a:r>
            <a:endParaRPr b="1" lang="en-US" sz="3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личностный настрой с опорой на «я-концепцию»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имика и физиогномика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олосы и причёска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инесика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изайн одежды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расноречие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этика поведения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аморегуляция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овестка дня: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ступительное слово зам.директора по МР Гавриловой А.В. «ФГОС второго поколения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ыступления педагогов школы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) Усова М.В. «Цифровые технологии в обучении английского языка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Б) Александровская Е.В. «Метод дифференциации на уроках литературы как способ организации индивидуальной образовательной траектории учащихся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) Набатова Т.В. «Игра – как форма оптимизации обучения на уроках химии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) Шиганова Е.А. «Диагностика учащихся 1-х классов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21160" y="832680"/>
            <a:ext cx="7805880" cy="82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ртобиоти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Ортобиотика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наука-технология о самосбережении здоровья и жизненного оптимизм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Здоровьесберегающие технологии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это интеграция всех направлений работы образовательного учреждения по сохранению и укреплению здоровья субъектов образовательного процесс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Здоровье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это  совокупность физического, психического, духовно-нравственного состояний человека, определяющих его работоспособность и отношение к окружающему миру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ключе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ак показывают многочисленные исследования, повьшение общего уровня человековедческой компетентности педагога - ключ к его личностному саморазвитию и росту профессионального мастерства 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а сегодняшний день самоактуализация является не просто привлекательной идеей, ориентиром для личностного роста и развития, а представляет собой вполне стройную теорию со своими принципами, категориями, концепциями и, что не менее важно, практическими технологиями воздействия на личность человека. В силу этого она может быть внедрена в педагогический процесс с целью его оптимизации и гуманизаци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Мини-гимн «Я – чудо!»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Я счастливый человек! Я самый счастливый человек на свете! У меня хорошее настроение! У меня всегда хорошее настроение! У меня отличное настроение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ои глаза излучают счастье! Моя походка излучает счастье! Я весь излучаю счастье! Я живу – и поэтому я счастлив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Я оптимист! Солнце для меня всегда самое яркое, а небо самое голубое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На меня можно всегда положиться. Я не подведу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Я умею дружить. Благо семьи – приоритет для меня! Я внимательный и заботливый. Меня ценят и уважают мои друзья, близкие и коллеги. Со мной всегда легко и весело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Я общительный. Ко мне тянутся люди. Со мной интересно и спокойно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Я постоянно над собой работаю. Я доказываю это своим делом, умением дорожить своим достоинством, семейной честью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Я благодарю своих родителей за жизнь и радость общения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Рисунок 3" descr="FGOS85.jpg"/>
          <p:cNvPicPr/>
          <p:nvPr/>
        </p:nvPicPr>
        <p:blipFill>
          <a:blip r:embed="rId1"/>
          <a:stretch/>
        </p:blipFill>
        <p:spPr>
          <a:xfrm>
            <a:off x="179280" y="836640"/>
            <a:ext cx="8713800" cy="56610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основе Федеральных  Государственных  Стандартов второго поколения  лежит системно-деятельностный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одход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, который предполагает определение цели и основного результата образования как воспитание и развитие обучающихся, их готовность к саморазвитию и непрерывному образованию, отвечающим задачам построения гражданского общества и инновационной экономики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1" descr="c15ad2c79ae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43920"/>
            <a:ext cx="9144000" cy="640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66"/>
                </a:solidFill>
                <a:uFillTx/>
                <a:latin typeface="Arial"/>
              </a:rPr>
              <a:t>ФГОС</a:t>
            </a: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 направлен на обеспечение: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1) формирования российской гражданской идентичности обучающихся; 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2) единства образовательного пространства Российской Федерации; сохранения и развития культурного разнообразия и языкового наследия многонационального народа Российской Федерации, реализации права на изучение родного языка, возможности получения основного общего образования на родном языке, овладения духовными ценностями и культурой многонационального народа России;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3) доступности получения  качественного основного общего образования; 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4) преемственности основных образовательных программ начального общего, основного общего, среднего (полного) общего, профессионального образования; 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5) духовно-нравственного развития, воспитания обучающихся и сохранения их здоровья; 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6) развития государственно-общественного управления в образовании;  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7) формирования содержательно - критериальной основы оценки результатов освоения обучающимися основной образовательной программы основного общего образования, деятельности педагогических работников, образовательных учреждений, функционирования системы образования в целом; 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8) условий создания социальной ситуации развития обучающихся, обеспечивающей их социальную самоидентификацию посредством личностно значимой деятельности. 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12560" y="1149120"/>
            <a:ext cx="8185680" cy="10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Что является отличительной особенностью нового Стандарта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04280" y="2212560"/>
            <a:ext cx="8331480" cy="40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еняется метод обучения (с объяснительного на деятельностный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еняется подход к оценке результатов обучения (оцениваются не только знания, умения и навыки, но и, прежде всего, метапредметные и личностные результаты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еняется система аттестации учителей (оценивается качество управления учебной деятельностью учащихся)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еняется система аттестации школ (оценивается качество организации перехода школы к реализации ФГОС НОО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Целью школы становятся не только знания,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о и умение их добывать и ими пользоватьс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02480" y="698760"/>
            <a:ext cx="817416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Какие требования к результатам обучающимся устанавливает Стандарт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39840" y="2343240"/>
            <a:ext cx="83311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андарт устанавливает требования к результатам обучающихся, освоивших основную образовательную программу начального общего образования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ЧНОСТНЫМ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готовность и способность обучающихся к саморазвитию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формированность мотивации к обучению и познанию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ценностно-смысловые установки обучающихс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тражающие их индивидуально-личностные позиции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формированность основ гражданской идентичности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99960" y="768240"/>
            <a:ext cx="8179200" cy="10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Какие требования к результатам обучающимся устанавливает Стандарт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04280" y="2736720"/>
            <a:ext cx="8331480" cy="33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ЕТАПРЕДМЕТНЫМ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своение обучающимися универсальные учебные действия (познавательные, регулятивные и коммуникативные)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ежпредметными понятиям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73400" y="914400"/>
            <a:ext cx="8174880" cy="10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Какие требования к результатам обучающимся устанавливает Стандарт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68360" y="2349360"/>
            <a:ext cx="8331120" cy="39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ЕДМЕТНЫМ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своенный обучающимися в ходе изучения учебного предмета опыт специфической для данной предметной области деятельности по получению нового знания, его преобразованию и применению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редметные результаты сгруппированы по учебным предметы. Они формулируются в терминах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«выпускник научится…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группа обязательных требований) 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«выпускник получит возможность научиться …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 не достижение этих требований выпускником не может служить препятствием для перевода его на следующую ступень образования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3T05:02:42Z</dcterms:created>
  <dc:creator>Анна</dc:creator>
  <dc:description/>
  <dc:language>en-US</dc:language>
  <cp:lastModifiedBy>LEGION</cp:lastModifiedBy>
  <dcterms:modified xsi:type="dcterms:W3CDTF">2015-01-26T14:02:39Z</dcterms:modified>
  <cp:revision>8</cp:revision>
  <dc:subject/>
  <dc:title>Педагогическая конференция  «Мастерство учителя»</dc:title>
</cp:coreProperties>
</file>