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69E0-79A0-49CD-B16F-6288A7F401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конферен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стерство учител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апреля 20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4CDD-5798-4AAD-9AD1-30A549FD180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686E-9748-4949-B2BE-365472F69E5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C973-612C-4301-86B3-624738189EE9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42C7-FD27-48C5-AF2A-9EAE5650085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F23A-2695-4F49-BB6D-E1A5FDAA42D2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E0EC-5A4C-4026-97EF-F32DC2D0C47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еш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ожно увидеть, осмыслить, применить в реа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97C0-D739-4BCC-91E0-F75E1337EE3C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еловековедческ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дагог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воздействовать на личность и социу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0091-618A-4884-ACFF-6D620834576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данной концепции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троп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1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8E34-13A9-42BC-A232-04DAADF3F9A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8B64-78FD-4784-818F-B28825D695D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тер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вид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наиболее безболезнен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одолев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конфликтные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422E-3593-4216-987A-C769E6F50E6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идже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908A-FAC4-4D34-952D-56E7C4246BA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1400"/>
            </a:b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Так, В.М. Шепель  выделяет 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три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следующих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комплекса</a:t>
            </a:r>
            <a:r>
              <a:rPr b="0" i="1" lang="ru-RU" sz="11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) природные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муникаб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мпатичность (способность к сопереживанию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равственные ц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сихологическое здоровь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бор технологий об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67F2-400A-49ED-8A7E-241E7F27C6F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а персонального имидж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й настрой с опорой на «я-концепцию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и физиогном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сы и причёс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с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одеж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реч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регуляц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8223-BEFB-4C15-BF3E-FE1E82C6CDF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я педагогов 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5CBD-C225-49F2-9384-73AA6C45342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795F-555D-42E9-8C28-66C37E39E33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665A-0556-4FA4-9410-BAF5E7EBAD3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гимн «Я – чуд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DBCC-CA9E-4D59-A72B-C2EF89934EA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х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193E-612B-464E-B793-76FF7C5B24F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D23A-7928-4CF6-80B4-2AFB0B5395E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B160-DBD0-4808-80DD-AD6DFFCEAFD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8EA8-A3C0-4346-8CC0-229EB61E1D11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6E4A-B5BD-4801-820E-45C4CD0F89A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F238-A2C8-42C6-B278-C37153C9CF2B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B23B-F60D-4D8C-A6E2-6CDDAC52603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жпредметными поня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8071-80E0-4CB6-A7C9-1D7411AF53CF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8916-18ED-4627-84E1-D98863FE5CE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1BF5-B4D9-4B2C-8DFE-CE9837C17EF7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D43-919D-42CB-97D4-8DE6F7DF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9C4-E01E-4D47-A502-DA9EEEED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D75-DDFC-4809-BD8B-E9BD3B11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671-8FAC-42B9-9023-683DB668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12A8-A206-4440-857C-4F78074D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D013-9A60-4775-ACB4-2AC503B6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7F8B-0A8B-4B27-8EFA-1DDF98D6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2086-A92F-45E4-B256-2AB3F450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D6ED-AF34-4D8D-8657-1892CB85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C7D9-5144-41F9-9E0E-3BD749DC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1D62-48FF-4D4A-AEB3-7C24BAE7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FB0-7B16-4EF8-B87E-A5AEAD64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9C52-4F69-441F-B0F6-14E310D9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38F6-3435-4C7C-B557-CAEACA06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A0C2-1121-45D5-B47F-53932A18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61E1-CFE8-4179-B82A-A61038F7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F921-DB43-4F4F-A7F9-C4DF72C9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8F6-83B9-4F34-8FCA-9B1CD6EA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15B-6ECF-477F-9DEA-098F978D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8C7-7D96-4B4F-B6E6-D518D0A4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24F-1F3B-4A07-A37D-0E568A9A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A7D-9C9A-48CC-8C9F-FE1FFD73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4A2-E37E-475F-857B-AC0F75F1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515-23CC-443F-9F99-DA735F3B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F7A6-8B57-4FA9-85DB-B02B077038F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106-1F4D-488C-AAC4-BAFB68CB771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дагогическая конференция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«Мастерство учителя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5 апреля 2012 г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1240" y="1379520"/>
            <a:ext cx="8248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04280" y="2604960"/>
            <a:ext cx="8331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15440" y="2373120"/>
            <a:ext cx="872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8920" y="2565360"/>
            <a:ext cx="87282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но увидеть, осмыслить, применить в реальной практическ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«человековедческой компетентност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едагога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педагог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воздействовать на личность и социу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j0299125"/>
          <p:cNvPicPr/>
          <p:nvPr/>
        </p:nvPicPr>
        <p:blipFill>
          <a:blip r:embed="rId1"/>
          <a:stretch/>
        </p:blipFill>
        <p:spPr>
          <a:xfrm>
            <a:off x="7956720" y="508464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 основе данной концепции лежит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антропологическ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2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технолог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j0217698"/>
          <p:cNvPicPr/>
          <p:nvPr/>
        </p:nvPicPr>
        <p:blipFill>
          <a:blip r:embed="rId1"/>
          <a:stretch/>
        </p:blipFill>
        <p:spPr>
          <a:xfrm>
            <a:off x="7620120" y="106668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j0292020"/>
          <p:cNvPicPr/>
          <p:nvPr/>
        </p:nvPicPr>
        <p:blipFill>
          <a:blip r:embed="rId1"/>
          <a:stretch/>
        </p:blipFill>
        <p:spPr>
          <a:xfrm>
            <a:off x="7238880" y="5267160"/>
            <a:ext cx="1676520" cy="15908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фликт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онфликт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Мастерство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двиде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 наиболее безболезнен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одолев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конфликтные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идже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21520" y="957960"/>
            <a:ext cx="780516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ак, В.М. Шепель  выделяет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ледующих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1) природные качеств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оммуникабель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эмпатичность (способность к сопереживанию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равственные цен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психологическое здоровь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абор технологий общ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трица персонального имиджа педагога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остный настрой с опорой на «я-концепцию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мика и физиогном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лосы и причёс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несик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зайн одежд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реч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ика пове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регуляц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упления педагогов школ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1160" y="832680"/>
            <a:ext cx="78058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ртобио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ртобиоти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сберегающие технолог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ини-гимн «Я – чуд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FGOS85.jpg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х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c15ad2c79a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12560" y="1149120"/>
            <a:ext cx="8185680" cy="10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04280" y="2212560"/>
            <a:ext cx="833148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02480" y="698760"/>
            <a:ext cx="8174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9840" y="2343240"/>
            <a:ext cx="8331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9960" y="768240"/>
            <a:ext cx="8179200" cy="10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4280" y="2736720"/>
            <a:ext cx="8331480" cy="33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жпредметными понят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73400" y="914400"/>
            <a:ext cx="8174880" cy="10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33112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5:02:42Z</dcterms:created>
  <dc:creator>Анна</dc:creator>
  <dc:description/>
  <dc:language>en-US</dc:language>
  <cp:lastModifiedBy>LEGION</cp:lastModifiedBy>
  <dcterms:modified xsi:type="dcterms:W3CDTF">2015-01-26T14:02:39Z</dcterms:modified>
  <cp:revision>8</cp:revision>
  <dc:subject/>
  <dc:title>Педагогическая конференция  «Мастерство учителя»</dc:title>
</cp:coreProperties>
</file>