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EC92-B521-4552-BB90-B9FFA3770C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конферен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стерство учител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апреля 20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E57E-DB15-4DCD-A0FD-0737029390E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C45F-2823-4B47-B1FB-B1A986B7CCB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10EC-C255-4030-844F-030B530E988F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46FD-6D30-4832-A8DC-4ACD91B84F3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9314-6301-40D2-9E52-F9C3892FAE44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92F7-5484-4ACE-988A-372697E31BF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ш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ожно увидеть, осмыслить, применить в реа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6B81-FFF5-4FC1-ACFA-4AF8C5F38561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еловековедческ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дагог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воздействовать на личность и социу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A116-7A89-48B2-BA05-98694343D3C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данной концепции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роп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1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12E8-0EA0-4B10-8688-D2892921CB4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030B-5202-4322-9D2E-8AE3BEE3269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тер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вид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наиболее безболезнен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одолев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онфликтные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5A67-91B1-42E1-B103-422F12B1A3B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идже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512D-C0AC-482A-A323-ADFA395E729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1400"/>
            </a:b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Так, В.М. Шепель  выделяет 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три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следующих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комплекса</a:t>
            </a:r>
            <a:r>
              <a:rPr b="0" i="1" lang="ru-RU" sz="11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) природные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муникаб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мпатичность (способность к сопереживанию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равственные ц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сихологическое здоровь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бор технологий об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50AC-78AD-4B0B-B6CE-9EDF5DDB435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а персонального имидж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й настрой с опорой на «я-концепцию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и физиогном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сы и причёс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с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одеж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реч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регуля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C015-E424-43E4-A279-E1A9C8D49F9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я педагогов 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5622-465B-429B-8347-B8B21FACB1F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D477-7123-4368-B54B-268BE552146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7C68-5E78-4683-BDAD-1D194EDDAD1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гимн «Я – чуд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1A05-BA43-44B0-8106-8AD55CCF783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х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99CD-BD4C-4469-9A4C-AA0832A93D1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DF44-1B1F-48B7-AC17-C1C270DD31D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4078-ECE7-49E2-9C50-C5FD805718E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14E9-9CD6-4390-9D5A-FF9ADB855782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7C4B-44A1-43C8-B20A-AC7033E5387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EEB6-A714-49C8-8FBB-765193CE5766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4662-2F95-44BC-8AF8-6F9FA9C39DF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жпредметными поня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A8A3-0B7A-4895-A0E6-A0BFBAA7FB45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5DD9-0A46-41AF-8704-B0E851B6B6C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39DB-8F12-4673-BC19-591A5586EB49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EE0-9AA3-4BC3-8183-ECA07B89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D09-ADB2-4B07-9C26-54DBB3DE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23A-FB76-4028-B787-9011D772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E5E-C82F-423A-8242-A1837E45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E0B7-29DB-44ED-9190-A650C89B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20C1-0351-4DC9-BDC8-D99F3D53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5A5E-46CE-47EA-B7C9-D6B7BFDE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5590-7714-4779-849C-D16F8A19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EF87-8AAA-4CC1-B7D1-64A4FFCE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466C-5CAE-47D7-81B0-F7FE1595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D2E8-C37B-4279-BC5E-D525775B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2BD-A4D0-4D81-92B8-2B424A5F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F8C4-2717-4480-A538-F886DD3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3489-421C-4035-BFB6-6BBF6005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3FFE-C024-40D4-BF57-36191DAD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AF8-A358-461D-A084-CA07D7D0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1459-DC54-4917-915E-615A840A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9B3-FB7E-4C1D-8C55-2EEDE8A0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5D1-8391-4D87-A9C0-F308B5F2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79D-2E65-452A-A909-B89BB0BF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088-43A0-4DFA-8A61-00F3FED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A5B-15A1-477C-9C31-D5CE9791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901-98D8-497F-BF64-A70BDA38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C444-B76F-4F91-A8C7-5B1037F0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1C6F-1DA1-41F1-844D-5D90F07BF11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5DCF-135B-4E67-8B1F-36593B666D1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ая конференция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«Мастерство учител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5 апреля 2012 г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1240" y="1379520"/>
            <a:ext cx="8248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280" y="2604960"/>
            <a:ext cx="8331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15440" y="2373120"/>
            <a:ext cx="872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87282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но увидеть, осмыслить, применить в реальной практическ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«человековедческой компетентност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дагога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педагог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воздействовать на личность и социу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j0299125"/>
          <p:cNvPicPr/>
          <p:nvPr/>
        </p:nvPicPr>
        <p:blipFill>
          <a:blip r:embed="rId1"/>
          <a:stretch/>
        </p:blipFill>
        <p:spPr>
          <a:xfrm>
            <a:off x="7956720" y="508464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основе данной концепции лежит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антропологическ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2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технолог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j0217698"/>
          <p:cNvPicPr/>
          <p:nvPr/>
        </p:nvPicPr>
        <p:blipFill>
          <a:blip r:embed="rId1"/>
          <a:stretch/>
        </p:blipFill>
        <p:spPr>
          <a:xfrm>
            <a:off x="7620120" y="106668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j0292020"/>
          <p:cNvPicPr/>
          <p:nvPr/>
        </p:nvPicPr>
        <p:blipFill>
          <a:blip r:embed="rId1"/>
          <a:stretch/>
        </p:blipFill>
        <p:spPr>
          <a:xfrm>
            <a:off x="7238880" y="5267160"/>
            <a:ext cx="1676520" cy="15908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фликт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онфликт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Мастерств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двиде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наиболее безболезнен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одолев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конфликтные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идже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21520" y="957960"/>
            <a:ext cx="780516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ак, В.М. Шепель  выделяет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ледующих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1) природные качеств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оммуникабель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эмпатичность (способность к сопереживанию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равственные цен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психологическое здоровь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бор технологий общ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трица персонального имиджа педагога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ный настрой с опорой на «я-концепцию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мика и физиогном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осы и причёс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несик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зайн одежд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реч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ика пове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регуляц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упления педагогов школ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1160" y="832680"/>
            <a:ext cx="78058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тобио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ртобио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сберегающие технолог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ини-гимн «Я – чуд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FGOS85.jpg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х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c15ad2c79a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12560" y="1149120"/>
            <a:ext cx="8185680" cy="10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280" y="2212560"/>
            <a:ext cx="833148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2480" y="698760"/>
            <a:ext cx="8174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9840" y="2343240"/>
            <a:ext cx="8331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9960" y="768240"/>
            <a:ext cx="8179200" cy="10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280" y="2736720"/>
            <a:ext cx="833148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ми понят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73400" y="914400"/>
            <a:ext cx="8174880" cy="10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33112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02:42Z</dcterms:created>
  <dc:creator>Анна</dc:creator>
  <dc:description/>
  <dc:language>en-US</dc:language>
  <cp:lastModifiedBy>LEGION</cp:lastModifiedBy>
  <dcterms:modified xsi:type="dcterms:W3CDTF">2015-01-26T14:02:39Z</dcterms:modified>
  <cp:revision>8</cp:revision>
  <dc:subject/>
  <dc:title>Педагогическая конференция  «Мастерство учителя»</dc:title>
</cp:coreProperties>
</file>