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1413B-98BE-4F97-9E77-6EB88E264F3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дагогическая конферен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«Мастерство учител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 апреля 2012 г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AB933-28D0-4DE0-B8E5-D3042BBECF06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F923F-B5FA-4F03-9DD3-D872F6294ADA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Что изучается с использованием ИКТ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тличительной особенностью начала обучения является то, что наряду с традиционным письмом ребенок сразу начинает осваивать клавиатурный набор текста. Сегодня многие родители, постоянно использующие компьютер в профессиональной и личной жизни, понимают его возможности для создания и редактирования текстов, поэтому должны понимать важность включения этого компонента в образовательный процесс наравне с традиционным письм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контексте изучения всех предметов должны широко использоваться различные источники информации, в том числе, в доступном Интерне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20DC5-1820-458B-AC1A-A0B038B49F4E}" type="slidenum"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93BB6-D8CE-47A1-A780-5270CEBC1FC7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Что такое проектный метод обуч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современной школе широко применяется метод проекта. Средства ИКТ являются наиболее перспективным средством реализации проектной методики обуч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 время выполнения проек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ормируется активная, самостоятельная и инициативная позиция учащихся в учен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звиваются общеучебные умения и навыки: исследовательские, рефлексивные, самооценочны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ормируются не просто умения, а компетенции, т.е. умения, непосредственно сопряженные с опытом их применения в практическо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ализуется принцип связи обучения с жизн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7C987-350A-4230-AD09-165AD01397D1}" type="slidenum"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C5C69-87D8-4978-949F-9156582D412E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Что такое проектный метод обуч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основу метода проектов положена идея о направленности учебно-познавательной деятельности школьников на результат, который получается при решении той или иной практически или теоретически значимой проблем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внешний результа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можно увидеть, осмыслить, применить в реальной практическ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внутренний результа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опыт деятельности – становится бесценным достоянием учащегося, соединяя в себе знания и умения, компетенции и цен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1FB99-D5DD-4FCF-B894-1B6414796BBB}" type="slidenum"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cc00"/>
                </a:solidFill>
                <a:latin typeface="Arial"/>
              </a:rPr>
              <a:t>Концепция В. М. Шепе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 проблема  может быть благополучно разрешена, если обратиться к концепци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«человековедческой компетентност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едагога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октора философских наук, профессора В.М. Шепел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1200" spc="-1" strike="noStrike">
                <a:solidFill>
                  <a:srgbClr val="00cc00"/>
                </a:solidFill>
                <a:latin typeface="Arial"/>
              </a:rPr>
              <a:t>Человековедческая  компетентность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педагог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это умение практически использовать систематизированные, адаптированные к педагогике гуманитарные, естественные, художественные и другие знания для решения следующих задач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мение воздействовать на личность и социу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мение развивать лучшие качества воспитанн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мение педагогов развиваться и самосовершенствоватьс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CE7E1-2BB5-4E5B-836D-FC5D29F64948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cc00"/>
                </a:solidFill>
                <a:latin typeface="Arial"/>
              </a:rPr>
              <a:t>Самоорганизация, самопознание, самопрезент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е данной концепции лежит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нтропологически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дход к познанию личности учителя и ученика. Ее реализация способствует овладению учителем разнообразными способами </a:t>
            </a:r>
            <a:r>
              <a:rPr b="0" i="1" lang="ru-RU" sz="1200" spc="-1" strike="noStrike">
                <a:solidFill>
                  <a:srgbClr val="00cc00"/>
                </a:solidFill>
                <a:latin typeface="Arial"/>
              </a:rPr>
              <a:t>самопознания, самоорганизации и самопрезентации</a:t>
            </a:r>
            <a:r>
              <a:rPr b="0" lang="ru-RU" sz="1200" spc="-1" strike="noStrike">
                <a:solidFill>
                  <a:srgbClr val="00cc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Характерной особенностью данной концепции является то, что она разработана до уровня обучающих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технологи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cc00"/>
                </a:solidFill>
                <a:latin typeface="Arial"/>
              </a:rPr>
              <a:t>Человековедческие технолог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ацелены на развитие личностно значимых качеств человека, способствующих его внутреннему духовному рост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CCC06-B08E-40AB-85A5-0A2739D34325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cc00"/>
                </a:solidFill>
                <a:latin typeface="Arial"/>
              </a:rPr>
              <a:t>Базовые технолог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. М. Шепель предлагает для изучения три  базовые технологии, которые помогут современному педагогу успешно функционировать в рамках своей профессии: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онфликтология, имиджелогия и ортобиотика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ервое название понятно без комментариев, под вторым скрываются техники самопрезентации, а третье означает технологию самосбережения здоровья и жизненного оптимизм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0C64E-F573-466D-BFD3-D3F6C92319CB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фликт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онфликт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это психологическое противоборство лиц, имеющих противоречивые или несовместимые цели и интерес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кола сегодня очень конфликтна. Да это и понятно: школа и общество -   словно два сообщающихся сосуда,- и в нашей весьма трудной жизни различного рода конфликтов, можно сказать, сверх меры.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астерство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я заключается сегодня не только в том, чтобы грамотно, интересно преподать  свой предмет, но и уметь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едвиде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наиболее безболезненн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еодолева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конфликтные ситу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8996F-940E-4807-BE95-8244668EFD0A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иджелог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Имиджелоги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это обращённый к каждому призыв быть обаятельным, уметь нести свет людям. Она способствует внешнему проявлению глубинной потребности человека быть достойной личност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Имиджелог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это мечта о благородном облике каждого гражданина, обладать которым – непременное условие создания демократичного и гуманного общ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Имиджелогия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это теоретическое отражение специфики российского менталитета, в котором огромная роль принадлежит душевному складу людей. Россияне человеколюбивы. Не случайно в Своде законов Российской империи 1897 года в качестве духовных ценностей, составляющих главные критерии законотворчества и законопослушания, выделялись человеколюбие, усердие к общему добру, покровительство невинным и оскорблён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39C4E-A696-4551-897D-4DF2CEC87D2B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9999"/>
                </a:solidFill>
                <a:latin typeface="Arial"/>
              </a:rPr>
              <a:t>При формировании любого имиджа  учитывают различные компоненты.</a:t>
            </a:r>
            <a:br>
              <a:rPr sz="1400"/>
            </a:br>
            <a:r>
              <a:rPr b="0" lang="ru-RU" sz="1400" spc="-1" strike="noStrike">
                <a:solidFill>
                  <a:srgbClr val="009999"/>
                </a:solidFill>
                <a:latin typeface="Arial"/>
              </a:rPr>
              <a:t>Так, В.М. Шепель  выделяет  </a:t>
            </a:r>
            <a:r>
              <a:rPr b="0" i="1" lang="ru-RU" sz="1400" spc="-1" strike="noStrike">
                <a:solidFill>
                  <a:srgbClr val="009999"/>
                </a:solidFill>
                <a:latin typeface="Arial"/>
              </a:rPr>
              <a:t>три</a:t>
            </a:r>
            <a:r>
              <a:rPr b="0" lang="ru-RU" sz="1400" spc="-1" strike="noStrike">
                <a:solidFill>
                  <a:srgbClr val="009999"/>
                </a:solidFill>
                <a:latin typeface="Arial"/>
              </a:rPr>
              <a:t> следующих </a:t>
            </a:r>
            <a:r>
              <a:rPr b="0" i="1" lang="ru-RU" sz="1400" spc="-1" strike="noStrike">
                <a:solidFill>
                  <a:srgbClr val="009999"/>
                </a:solidFill>
                <a:latin typeface="Arial"/>
              </a:rPr>
              <a:t>комплекса</a:t>
            </a:r>
            <a:r>
              <a:rPr b="0" i="1" lang="ru-RU" sz="1100" spc="-1" strike="noStrike">
                <a:solidFill>
                  <a:srgbClr val="009999"/>
                </a:solidFill>
                <a:latin typeface="Arial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1) природные качест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оммуникабельнос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эмпатичность (способность к сопереживанию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ефлексивность (способность понять другого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расноречивость (способность воздействовать словом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2) качества, привитые образованием и воспитание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равственные цен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сихологическое здоровь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абор технологий общ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3) качества, обретенные с жизненным и профессиональным опы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41364-D2DE-42C6-9FCF-BCE079124865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трица персонального имиджа педаго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чностный настрой с опорой на «я-концепцию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мика и физиогном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лосы и причёс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инесик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зайн одежд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снореч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ка повед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регуляц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EFC30-160C-4895-BFE5-27BD1C7BC338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овестка дня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тупительное слово зам.директора по МР Гавриловой А.В. «ФГОС второго поколен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тупления педагогов школ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Усова М.В. «Цифровые технологии в обучении английского язык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Александровская Е.В. «Метод дифференциации на уроках литературы как способ организации индивидуальной образовательной траектории учащихс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Набатова Т.В. «Игра – как форма оптимизации обучения на уроках хими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) Шиганова Е.А. «Диагностика учащихся 1-х классов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1F4BE-3757-4625-897B-F818FD623AC8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тобио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ртобиоти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наука-технология о самосбережении здоровья и жизненного оптимиз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Здоровьесберегающие технолог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это интеграция всех направлений работы образовательного учреждения по сохранению и укреплению здоровья субъектов образовательного процес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Здоровь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это  совокупность физического, психического, духовно-нравственного состояний человека, определяющих его работоспособность и отношение к окружающему мир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C93B5-EFB6-44C1-8EC7-D468A9286812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показывают многочисленные исследования, повьшение общего уровня человековедческой компетентности педагога - ключ к его личностному саморазвитию и росту профессионального мастерства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сегодняшний день самоактуализация является не просто привлекательной идеей, ориентиром для личностного роста и развития, а представляет собой вполне стройную теорию со своими принципами, категориями, концепциями и, что не менее важно, практическими технологиями воздействия на личность человека. В силу этого она может быть внедрена в педагогический процесс с целью его оптимизации и гуман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A71DF-9A04-4D9D-BBAD-3DA60C3FA5E8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ни-гимн «Я – чудо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счастливый человек! Я самый счастливый человек на свете! У меня хорошее настроение! У меня всегда хорошее настроение! У меня отличное настрое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и глаза излучают счастье! Моя походка излучает счастье! Я весь излучаю счастье! Я живу – и поэтому я счастлив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оптимист! Солнце для меня всегда самое яркое, а небо самое голубо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меня можно всегда положиться. Я не подведу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умею дружить. Благо семьи – приоритет для меня! Я внимательный и заботливый. Меня ценят и уважают мои друзья, близкие и коллеги. Со мной всегда легко и весел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общительный. Ко мне тянутся люди. Со мной интересно и спокой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постоянно над собой работаю. Я доказываю это своим делом, умением дорожить своим достоинством, семейной чест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благодарю своих родителей за жизнь и радость общения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2044A-1F43-4A2B-9EA3-DCEDCC04B6BB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е Федеральных  Государственных  Стандартов второго поколения  лежит системно-деятельностный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дход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который предполагает определение цели и основного результата образования как воспитание и развитие обучающихся, их готовность к саморазвитию и непрерывному образованию, отвечающим задачам построения гражданского общества и инновационной экономи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F6C14-20EB-4805-9A3B-60FFAFBD2912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66"/>
                </a:solidFill>
                <a:uFillTx/>
                <a:latin typeface="Arial"/>
              </a:rPr>
              <a:t>ФГОС</a:t>
            </a: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 направлен на обеспече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1) формирования российской гражданской идентичности обучающихс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2) единства образовательного пространства Российской Федерации; сохранения и развития культурного разнообразия и языкового наследия многонационального народа Российской Федерации, реализации права на изучение родного языка, возможности получения основного общего образования на родном языке, овладения духовными ценностями и культурой многонационального народа Росс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3) доступности получения  качественного основного общего образовани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4) преемственности основных образовательных программ начального общего, основного общего, среднего (полного) общего, профессионального образовани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5) духовно-нравственного развития, воспитания обучающихся и сохранения их здоровь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6) развития государственно-общественного управления в образовании;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7) формирования содержательно - критериальной основы оценки результатов освоения обучающимися основной образовательной программы основного общего образования, деятельности педагогических работников, образовательных учреждений, функционирования системы образования в целом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8) условий создания социальной ситуации развития обучающихся, обеспечивающей их социальную самоидентификацию посредством личностно значимой деятель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1C828-B58C-4AE4-8CC9-F18A7AAEE149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6ED14-9309-4548-881D-43624FC8C26E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Что является отличительной особенностью нового Стандар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няется метод обучения (с объяснительного на деятельностный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няется подход к оценке результатов обучения (оцениваются не только знания, умения и навыки, но и, прежде всего, метапредметные и личностные результат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няется система аттестации учителей (оценивается качество управления учебной деятельностью учащихся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няется система аттестации школ (оценивается качество организации перехода школы к реализации ФГОС НОО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Целью школы становятся не только знан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о и умение их добывать и ими пользова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79FF3-B22E-45BB-A891-1FF453302A74}" type="slidenum"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903F4-99FD-45E0-B87D-8CB7095E27EA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Какие требования к результатам обучающимся устанавливает Стандар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андарт устанавливает требования к результатам обучающихся, освоивших основную образовательную программу начального общего образов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ЧНОСТНЫ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отовность и способность обучающихся к саморазвитию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формированность мотивации к обучению и познанию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енностно-смысловые установки обучающих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ражающие их индивидуально-личностные позици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формированность основ гражданской идентич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DB6AF-C9CD-4723-822F-E4B883A8E91A}" type="slidenum"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EF8AC-A03F-49C2-9CF9-C562D46594E9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Какие требования к результатам обучающимся устанавливает Стандар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МЕТАПРЕДМЕТНЫ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своение обучающимися универсальные учебные действия (познавательные, регулятивные и коммуникативные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межпредметными понят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B0065-C902-46FB-96A7-57EB20A2277B}" type="slidenum"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86165-70E6-4ED7-96FF-7E31A9B39FEA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Какие требования к результатам обучающимся устанавливает Стандар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ЕДМЕТНЫ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военный обучающимися в ходе изучения учебного предмета опыт специфической для данной предметной области деятельности по получению нового знания, его преобразованию и применен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дметные результаты сгруппированы по учебным предметы. Они формулируются в терминах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«выпускник научится…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группа обязательных требований) 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«выпускник получит возможность научиться …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 не достижение этих требований выпускником не может служить препятствием для перевода его на следующую ступень образования)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D95D8-2160-45BB-9C17-E1BE57DE2379}" type="slidenum"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DD36-9884-4609-A5C6-5DDC82C38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E650-C999-48FB-B190-0F32F5D15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CF7B-547F-4999-8533-E2692ACF6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3252-47DD-4B86-BE9E-FD26906F8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FF792-4244-471A-B05E-4F1454A2F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25FAD-661F-4594-B12D-827EADF51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68542-BDF7-4AD4-928D-18F71E327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F5DA5-5A3F-406D-96DB-7AFCA9960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B926F-92A8-4D05-A015-80BE92CE4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3EEB3-4CD0-4B6F-83B9-37E36E7EB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B8F0E-E05E-48FE-9259-1AE3086ED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27B3-D0E3-497E-BDD4-AE056F69F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225E5-5348-46F2-8A08-4DA158EA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F7A12-7CA7-4A88-AB76-E8D7069A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1A994-713C-45A8-90F2-0E653C36F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F1954-0E26-484E-9976-0C59EBCEC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F3B87-E1E5-4F48-814D-D46D13E98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9544-636C-40C3-B6EE-0F060869E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CF21-B9EA-4FF0-AF9B-459E1886E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EBE4-0EFC-40A5-B3FB-5D4D34B4A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EDD7-659E-4A0F-A91D-B2E8EF022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4B03-8FC1-4AB3-8545-8609AE64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FF1E-9049-4069-9E72-13C5F1D3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147D-A44D-43E9-8024-E44A37D5D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CF27C-DA23-43DB-9C01-60FA4B2E7902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6E938-3B69-40D6-98DE-01A9D5F7036D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Педагогическая конференция</a:t>
            </a:r>
            <a:br>
              <a:rPr sz="3600"/>
            </a:b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 «Мастерство учителя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25 апреля 2012 год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81240" y="1379520"/>
            <a:ext cx="824832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Что изучается с использованием ИКТ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04280" y="2604960"/>
            <a:ext cx="8331480" cy="35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личительной особенностью начала обучения является то, что наряду с традиционным письмом ребенок сразу начинает осваивать клавиатурный набор текста. Сегодня многие родители, постоянно использующие компьютер в профессиональной и личной жизни, понимают его возможности для создания и редактирования текстов, поэтому должны понимать важность включения этого компонента в образовательный процесс наравне с традиционным письмом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контексте изучения всех предметов должны широко использоваться различные источники информации, в том числе, в доступном Интернет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441360" y="1178640"/>
            <a:ext cx="8257320" cy="5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Что такое проектный метод обучения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15440" y="2373120"/>
            <a:ext cx="8728200" cy="448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современной школе широко применяется метод проекта. Средства ИКТ являются наиболее перспективным средством реализации проектной методики обучения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 время выполнения проекта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формируется активная, самостоятельная и инициативная позиция учащихся в учении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развиваются общеучебные умения и навыки: исследовательские, рефлексивные, самооценочные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формируются не просто умения, а компетенции, т.е. умения, непосредственно сопряженные с опытом их применения в практической деятельности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реализуется принцип связи обучения с жизнью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41360" y="1178640"/>
            <a:ext cx="8257320" cy="5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Что такое проектный метод обучения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78920" y="2565360"/>
            <a:ext cx="8728200" cy="44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основу метода проектов положена идея о направленности учебно-познавательной деятельности школьников на результат, который получается при решении той или иной практически или теоретически значимой проблемы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внешний результа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можно увидеть, осмыслить, применить в реальной практической деятельност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внутренний результа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опыт деятельности – становится бесценным достоянием учащегося, соединяя в себе знания и умения, компетенции и ценности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Концепция В. М. Шепеля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Эта проблема  может быть благополучно разрешена, если обратиться к концепции 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«человековедческой компетентности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педагога»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доктора философских наук, профессора В.М. Шепеля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i="1" lang="ru-RU" sz="2000" spc="-1" strike="noStrike">
                <a:solidFill>
                  <a:srgbClr val="00cc00"/>
                </a:solidFill>
                <a:latin typeface="Arial"/>
              </a:rPr>
              <a:t>Человековедческая  компетентность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 педагога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–это умение практически использовать систематизированные, адаптированные к педагогике гуманитарные, естественные, художественные и другие знания для решения следующих задач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умение воздействовать на личность и социум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умение развивать лучшие качества воспитанников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умение педагогов развиваться и самосовершенствоваться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Picture 4" descr="j0299125"/>
          <p:cNvPicPr/>
          <p:nvPr/>
        </p:nvPicPr>
        <p:blipFill>
          <a:blip r:embed="rId1"/>
          <a:stretch/>
        </p:blipFill>
        <p:spPr>
          <a:xfrm>
            <a:off x="7956720" y="5084640"/>
            <a:ext cx="928440" cy="152424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cc00"/>
                </a:solidFill>
                <a:latin typeface="Arial"/>
              </a:rPr>
              <a:t>Самоорганизация, самопознание, самопрезентац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В основе данной концепции лежит </a:t>
            </a:r>
            <a:r>
              <a:rPr b="0" i="1" lang="ru-RU" sz="2200" spc="-1" strike="noStrike">
                <a:solidFill>
                  <a:srgbClr val="003366"/>
                </a:solidFill>
                <a:latin typeface="Arial"/>
              </a:rPr>
              <a:t>антропологический</a:t>
            </a: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 подход к познанию личности учителя и ученика. Ее реализация способствует овладению учителем разнообразными способами </a:t>
            </a:r>
            <a:r>
              <a:rPr b="0" i="1" lang="ru-RU" sz="2200" spc="-1" strike="noStrike">
                <a:solidFill>
                  <a:srgbClr val="00cc00"/>
                </a:solidFill>
                <a:latin typeface="Arial"/>
              </a:rPr>
              <a:t>самопознания, самоорганизации и самопрезентации</a:t>
            </a:r>
            <a:r>
              <a:rPr b="0" lang="ru-RU" sz="2200" spc="-1" strike="noStrike">
                <a:solidFill>
                  <a:srgbClr val="00cc00"/>
                </a:solidFill>
                <a:latin typeface="Arial"/>
              </a:rPr>
              <a:t>.</a:t>
            </a: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 Характерной особенностью данной концепции является то, что она разработана до уровня обучающих </a:t>
            </a:r>
            <a:r>
              <a:rPr b="0" i="1" lang="ru-RU" sz="2200" spc="-1" strike="noStrike">
                <a:solidFill>
                  <a:srgbClr val="003366"/>
                </a:solidFill>
                <a:latin typeface="Arial"/>
              </a:rPr>
              <a:t>технологий</a:t>
            </a: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cc00"/>
                </a:solidFill>
                <a:latin typeface="Arial"/>
              </a:rPr>
              <a:t>Человековедческие технологии</a:t>
            </a: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 нацелены на развитие личностно значимых качеств человека, способствующих его внутреннему духовному росту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5" name="Picture 4" descr="j0217698"/>
          <p:cNvPicPr/>
          <p:nvPr/>
        </p:nvPicPr>
        <p:blipFill>
          <a:blip r:embed="rId1"/>
          <a:stretch/>
        </p:blipFill>
        <p:spPr>
          <a:xfrm>
            <a:off x="7620120" y="1066680"/>
            <a:ext cx="1218960" cy="118116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Базовые технологии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. М. Шепель предлагает для изучения три  базовые технологии, которые помогут современному педагогу успешно функционировать в рамках своей профессии:  </a:t>
            </a: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конфликтология, имиджелогия и ортобиотика.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Первое название понятно без комментариев, под вторым скрываются техники самопрезентации, а третье означает технологию самосбережения здоровья и жизненного оптимизма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9" name="Picture 4" descr="j0292020"/>
          <p:cNvPicPr/>
          <p:nvPr/>
        </p:nvPicPr>
        <p:blipFill>
          <a:blip r:embed="rId1"/>
          <a:stretch/>
        </p:blipFill>
        <p:spPr>
          <a:xfrm>
            <a:off x="7238880" y="5267160"/>
            <a:ext cx="1676520" cy="159084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Конфликтолог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Конфликт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– это психологическое противоборство лиц, имеющих противоречивые или несовместимые цели и интересы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Школа сегодня очень конфликтна. Да это и понятно: школа и общество -   словно два сообщающихся сосуда,- и в нашей весьма трудной жизни различного рода конфликтов, можно сказать, сверх меры. 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Мастерство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учителя заключается сегодня не только в том, чтобы грамотно, интересно преподать  свой предмет, но и уметь 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предвидеть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и наиболее безболезненно 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преодолевать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конфликтные ситуаци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Имиджелогия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539280" y="236016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i="1" lang="ru-RU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6666"/>
                </a:solidFill>
                <a:latin typeface="Arial"/>
              </a:rPr>
              <a:t>Имиджелогия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– это обращённый к каждому призыв быть обаятельным, уметь нести свет людям. Она способствует внешнему проявлению глубинной потребности человека быть достойной личностью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i="1" lang="ru-RU" sz="1800" spc="-1" strike="noStrike">
                <a:solidFill>
                  <a:srgbClr val="006666"/>
                </a:solidFill>
                <a:latin typeface="Arial"/>
              </a:rPr>
              <a:t>Имиджелогия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– это мечта о благородном облике каждого гражданина, обладать которым – непременное условие создания демократичного и гуманного обществ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i="1" lang="ru-RU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6666"/>
                </a:solidFill>
                <a:latin typeface="Arial"/>
              </a:rPr>
              <a:t>Имиджелогия</a:t>
            </a: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– это теоретическое отражение специфики российского менталитета, в котором огромная роль принадлежит душевному складу людей. Россияне человеколюбивы. Не случайно в Своде законов Российской империи 1897 года в качестве духовных ценностей, составляющих главные критерии законотворчества и законопослушания, выделялись человеколюбие, усердие к общему добру, покровительство невинным и оскорблённым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21520" y="957960"/>
            <a:ext cx="7805160" cy="82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При формировании любого имиджа  учитывают различные компоненты.</a:t>
            </a:r>
            <a:br>
              <a:rPr sz="2000"/>
            </a:b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Так, В.М. Шепель  выделяет  </a:t>
            </a: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три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следующих </a:t>
            </a: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комплекса</a:t>
            </a:r>
            <a:r>
              <a:rPr b="1" i="1" lang="ru-RU" sz="1600" spc="-1" strike="noStrike">
                <a:solidFill>
                  <a:srgbClr val="003366"/>
                </a:solidFill>
                <a:latin typeface="Arial"/>
              </a:rPr>
              <a:t>: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1) природные качества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- коммуникабельность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- эмпатичность (способность к сопереживанию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- рефлексивность (способность понять другого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- красноречивость (способность воздействовать словом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2) качества, привитые образованием и воспитанием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- нравственные ценности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- психологическое здоровье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- набор технологий общения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3) качества, обретенные с жизненным и профессиональным опытом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3100" spc="-1" strike="noStrike">
                <a:solidFill>
                  <a:srgbClr val="006666"/>
                </a:solidFill>
                <a:latin typeface="Arial"/>
              </a:rPr>
              <a:t>Матрица персонального имиджа педагога</a:t>
            </a:r>
            <a:endParaRPr b="1" lang="en-US" sz="3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личностный настрой с опорой на «я-концепцию»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мимика и физиогномика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олосы и причёска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инесика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изайн одежды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расноречие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этика поведения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аморегуляция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овестка дня: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ступительное слово зам.директора по МР Гавриловой А.В. «ФГОС второго поколения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ыступления педагогов школы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) Усова М.В. «Цифровые технологии в обучении английского языка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Б) Александровская Е.В. «Метод дифференциации на уроках литературы как способ организации индивидуальной образовательной траектории учащихся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) Набатова Т.В. «Игра – как форма оптимизации обучения на уроках химии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Г) Шиганова Е.А. «Диагностика учащихся 1-х классов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821160" y="832680"/>
            <a:ext cx="7805880" cy="82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ртобиоти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Ортобиотика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– наука-технология о самосбережении здоровья и жизненного оптимизм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Здоровьесберегающие технологии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– это интеграция всех направлений работы образовательного учреждения по сохранению и укреплению здоровья субъектов образовательного процесс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Здоровье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– это  совокупность физического, психического, духовно-нравственного состояний человека, определяющих его работоспособность и отношение к окружающему миру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аключен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Как показывают многочисленные исследования, повьшение общего уровня человековедческой компетентности педагога - ключ к его личностному саморазвитию и росту профессионального мастерства 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На сегодняшний день самоактуализация является не просто привлекательной идеей, ориентиром для личностного роста и развития, а представляет собой вполне стройную теорию со своими принципами, категориями, концепциями и, что не менее важно, практическими технологиями воздействия на личность человека. В силу этого она может быть внедрена в педагогический процесс с целью его оптимизации и гуманизаци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Мини-гимн «Я – чудо!»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Я счастливый человек! Я самый счастливый человек на свете! У меня хорошее настроение! У меня всегда хорошее настроение! У меня отличное настроение!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ои глаза излучают счастье! Моя походка излучает счастье! Я весь излучаю счастье! Я живу – и поэтому я счастлив!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Я оптимист! Солнце для меня всегда самое яркое, а небо самое голубое!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На меня можно всегда положиться. Я не подведу!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Я умею дружить. Благо семьи – приоритет для меня! Я внимательный и заботливый. Меня ценят и уважают мои друзья, близкие и коллеги. Со мной всегда легко и весело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Я общительный. Ко мне тянутся люди. Со мной интересно и спокойно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Я постоянно над собой работаю. Я доказываю это своим делом, умением дорожить своим достоинством, семейной честью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Я благодарю своих родителей за жизнь и радость общения!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Рисунок 3" descr="FGOS85.jpg"/>
          <p:cNvPicPr/>
          <p:nvPr/>
        </p:nvPicPr>
        <p:blipFill>
          <a:blip r:embed="rId1"/>
          <a:stretch/>
        </p:blipFill>
        <p:spPr>
          <a:xfrm>
            <a:off x="179280" y="836640"/>
            <a:ext cx="8713800" cy="566100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основе Федеральных  Государственных  Стандартов второго поколения  лежит системно-деятельностный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подход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, который предполагает определение цели и основного результата образования как воспитание и развитие обучающихся, их готовность к саморазвитию и непрерывному образованию, отвечающим задачам построения гражданского общества и инновационной экономики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Рисунок 1" descr="c15ad2c79ae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43920"/>
            <a:ext cx="9144000" cy="640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66"/>
                </a:solidFill>
                <a:uFillTx/>
                <a:latin typeface="Arial"/>
              </a:rPr>
              <a:t>ФГОС</a:t>
            </a: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 направлен на обеспечение: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1) формирования российской гражданской идентичности обучающихся; 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2) единства образовательного пространства Российской Федерации; сохранения и развития культурного разнообразия и языкового наследия многонационального народа Российской Федерации, реализации права на изучение родного языка, возможности получения основного общего образования на родном языке, овладения духовными ценностями и культурой многонационального народа России;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3) доступности получения  качественного основного общего образования; 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4) преемственности основных образовательных программ начального общего, основного общего, среднего (полного) общего, профессионального образования; 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5) духовно-нравственного развития, воспитания обучающихся и сохранения их здоровья; 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6) развития государственно-общественного управления в образовании;  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7) формирования содержательно - критериальной основы оценки результатов освоения обучающимися основной образовательной программы основного общего образования, деятельности педагогических работников, образовательных учреждений, функционирования системы образования в целом; 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8) условий создания социальной ситуации развития обучающихся, обеспечивающей их социальную самоидентификацию посредством личностно значимой деятельности. 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12560" y="1149120"/>
            <a:ext cx="8185680" cy="10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Что является отличительной особенностью нового Стандарта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04280" y="2212560"/>
            <a:ext cx="8331480" cy="404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Меняется метод обучения (с объяснительного на деятельностный)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Меняется подход к оценке результатов обучения (оцениваются не только знания, умения и навыки, но и, прежде всего, метапредметные и личностные результаты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Меняется система аттестации учителей (оценивается качество управления учебной деятельностью учащихся)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Меняется система аттестации школ (оценивается качество организации перехода школы к реализации ФГОС НОО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Целью школы становятся не только знания,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о и умение их добывать и ими пользоваться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02480" y="698760"/>
            <a:ext cx="817416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Какие требования к результатам обучающимся устанавливает Стандарт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39840" y="2343240"/>
            <a:ext cx="833112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андарт устанавливает требования к результатам обучающихся, освоивших основную образовательную программу начального общего образования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ЧНОСТНЫМ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готовность и способность обучающихся к саморазвитию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формированность мотивации к обучению и познанию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ценностно-смысловые установки обучающихся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тражающие их индивидуально-личностные позиции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формированность основ гражданской идентичности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99960" y="768240"/>
            <a:ext cx="8179200" cy="10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Какие требования к результатам обучающимся устанавливает Стандарт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04280" y="2736720"/>
            <a:ext cx="8331480" cy="33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ЕТАПРЕДМЕТНЫМ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своение обучающимися универсальные учебные действия (познавательные, регулятивные и коммуникативные)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ежпредметными понятиям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73400" y="914400"/>
            <a:ext cx="8174880" cy="10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Какие требования к результатам обучающимся устанавливает Стандарт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68360" y="2349360"/>
            <a:ext cx="8331120" cy="39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ЕДМЕТНЫМ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своенный обучающимися в ходе изучения учебного предмета опыт специфической для данной предметной области деятельности по получению нового знания, его преобразованию и применению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редметные результаты сгруппированы по учебным предметы. Они формулируются в терминах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«выпускник научится…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группа обязательных требований) 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«выпускник получит возможность научиться …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 не достижение этих требований выпускником не может служить препятствием для перевода его на следующую ступень образования)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3T05:02:42Z</dcterms:created>
  <dc:creator>Анна</dc:creator>
  <dc:description/>
  <dc:language>en-US</dc:language>
  <cp:lastModifiedBy>LEGION</cp:lastModifiedBy>
  <dcterms:modified xsi:type="dcterms:W3CDTF">2015-01-26T14:02:39Z</dcterms:modified>
  <cp:revision>8</cp:revision>
  <dc:subject/>
  <dc:title>Педагогическая конференция  «Мастерство учителя»</dc:title>
</cp:coreProperties>
</file>