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BBE3-7F8A-4892-8CC7-39CC6B6B15F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ая конферен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«Мастерство учител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5 апреля 201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F567F-AFE9-4DE6-84A8-9FA5E80534B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B5B5-A7DC-40C5-99C2-F8BCB6FE0EB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9D13-2C5A-49D0-B4DD-A87AC3D4A0E4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6DFA-3833-4E3C-A4ED-B33DBE61F85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E55EE-A3F1-4EC9-849D-776125EB65F8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8234C-28F4-4B8B-BAC1-BF0C6D2E03A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еш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можно увидеть, осмыслить, применить в реальной практи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нутренний результат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13BE-189F-4284-8D89-3422C11CC9FF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«человековедческой компетент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едагога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воздействовать на личность и социу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AD50-AF59-496D-8603-D74B3BEE6B6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данной концепции лежи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нтропологическ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1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технолог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5CF67-BC4E-4FBD-B246-C8087F2AF320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B806A-1533-41F1-B044-061EC8FD669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фликт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астерств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двиде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наиболее безболезненн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еодолев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конфликтные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2484F-EB52-4663-B28E-50DDD9C0A63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иджелог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миджелогия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D249-A736-4284-A567-BEC3F4B9FAC7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1400"/>
            </a:b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Так, В.М. Шепель  выделяет 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три</a:t>
            </a:r>
            <a:r>
              <a:rPr b="0" lang="ru-RU" sz="1400" spc="-1" strike="noStrike">
                <a:solidFill>
                  <a:srgbClr val="009999"/>
                </a:solidFill>
                <a:latin typeface="Arial"/>
              </a:rPr>
              <a:t> следующих </a:t>
            </a:r>
            <a:r>
              <a:rPr b="0" i="1" lang="ru-RU" sz="1400" spc="-1" strike="noStrike">
                <a:solidFill>
                  <a:srgbClr val="009999"/>
                </a:solidFill>
                <a:latin typeface="Arial"/>
              </a:rPr>
              <a:t>комплекса</a:t>
            </a:r>
            <a:r>
              <a:rPr b="0" i="1" lang="ru-RU" sz="1100" spc="-1" strike="noStrike">
                <a:solidFill>
                  <a:srgbClr val="009999"/>
                </a:solidFill>
                <a:latin typeface="Arial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) природные качест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оммуникаб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мпатичность (способность к сопереживанию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равственные цен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сихологическое здоровь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бор технологий общ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8C26-BEBF-4B54-8230-A9C018A590D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атрица персонального имиджа 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чностный настрой с опорой на «я-концепцию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мика и физиогном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лосы и причёс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несик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зайн одеж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ореч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п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регуляц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5F452-627E-4EFB-8B0D-9698779778A4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тупления педагогов школ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4C6C-FAD0-4FB6-B386-0D9B7BA9182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ртобиоти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сберегающие технолог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доровь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3A83-88BE-4C09-9155-E6FF2B88981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565D1-4CDC-46A9-95E3-B90D0E6EDC9F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ни-гимн «Я – чудо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4EE21-E03F-423D-A8EC-5DF01820A809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хо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1AEC-1177-43C4-9581-EE72AD39116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BEAF-E64A-405B-B326-737DCEC130A3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B47A1-EDB4-4437-911C-277B6A1C559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0C06-27C7-4E02-9F51-3AB4F244CFD8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D542-A1C9-46E5-9666-53AF7EF09CE8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72BC-B636-4468-AB66-6B22C2A38693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3AFE-124A-44D1-841F-42E480312075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ежпредметными поня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99FB-AD79-467C-8C71-5D3223672191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A932-FD40-4776-B68B-73811394BC0D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EEAB-8EF3-4334-9083-A992F76DDC8B}" type="slidenum"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8BD-D55A-4459-8D7E-C3170B4F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C0D-11DE-47B1-985C-D5463175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D925-6066-426F-8B30-DCECD512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F1C5-323A-47D4-81C0-BF6ECD956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B6ADC-9C78-4015-8972-96B49442A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D5687-D910-4B6D-AD6F-8DE4C6E12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1E6A0-9ACA-487C-B14D-58C34E48C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05004-61C7-4634-982C-148F2537E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6FA0-67BB-490F-8535-4C95758A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54ACD-A5CD-4E5F-B6D7-79CDE15C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F685-193F-4100-AA59-EDA12937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85D4-F717-44EA-A0A5-86107BA99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E119-8340-4107-9B24-0E1A8A9C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4A79-EFFB-45E7-802D-B798C5BA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ECD2-09E3-4425-B696-3861977B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BEC15-912C-401F-9471-6D1544E40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98B57-E1D9-4DD7-99B7-8C33C845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4DD-3B92-455A-A3A4-CF8BBBFA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1DD4-7FC9-4367-84DB-623E25F55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0CA-0758-4BBA-A033-E52C29721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0DF6-648B-459F-9288-2BBDE3EA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7F50-AB26-4E10-9063-80869E83B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4C9-BDF7-4E33-9D1C-A2AC88381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5AED-8C7A-4B30-8128-747D9DF6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A402-E649-44B7-97AA-F5A5C31C1D39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D8615-A877-4B5A-9920-6F5A85DA6456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едагогическая конференция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 «Мастерство учителя»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66"/>
                </a:solidFill>
                <a:latin typeface="Arial"/>
              </a:rPr>
              <a:t>25 апреля 2012 год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1240" y="1379520"/>
            <a:ext cx="8248320" cy="5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изучается с использованием ИК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04280" y="2604960"/>
            <a:ext cx="833148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личительной особенностью начала обучения является то, что наряду с традиционным письмом ребенок сразу начинает осваивать клавиатурный набор текста. Сегодня многие родители, постоянно использующие компьютер в профессиональной и личной жизни, понимают его возможности для создания и редактирования текстов, поэтому должны понимать важность включения этого компонента в образовательный процесс наравне с традиционным письмо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онтексте изучения всех предметов должны широко использоваться различные источники информации, в том числе, в доступном Интернет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15440" y="2373120"/>
            <a:ext cx="8728200" cy="448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современной школе широко применяется метод проекта. Средства ИКТ являются наиболее перспективным средством реализации проектной методики обучения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о время выполнения проекта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ется активная, самостоятельная и инициативная позиция учащихся в учени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азвиваются общеучебные умения и навыки: исследовательские, рефлексивные, самооценочные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формируются не просто умения, а компетенции, т.е. умения, непосредственно сопряженные с опытом их применения в практической деятель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реализуется принцип связи обучения с жизнью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41360" y="1178640"/>
            <a:ext cx="8257320" cy="5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такое проектный метод обучения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78920" y="2565360"/>
            <a:ext cx="8728200" cy="448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основу метода проектов положена идея о направленности учебно-познавательной деятельности школьников на результат, который получается при решении той или иной практически или теоретически значимой проблемы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еш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можно увидеть, осмыслить, применить в реальной практической деятельност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нутренний результ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опыт деятельности – становится бесценным достоянием учащегося, соединяя в себе знания и умения, компетенции и ценност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Концепция В. М. Шепеля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Эта проблема  может быть благополучно разрешена, если обратиться к концепции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«человековедческой компетентности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едагога»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доктора философских наук, профессора В.М. Шепеля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0" i="1" lang="ru-RU" sz="2000" spc="-1" strike="noStrike">
                <a:solidFill>
                  <a:srgbClr val="00cc00"/>
                </a:solidFill>
                <a:latin typeface="Arial"/>
              </a:rPr>
              <a:t>Человековедческая  компетентность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 педагог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–это умение практически использовать систематизированные, адаптированные к педагогике гуманитарные, естественные, художественные и другие знания для решения следующих задач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воздействовать на личность и социум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развивать лучшие качества воспитанников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умение педагогов развиваться и самосовершенствоваться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4" descr="j0299125"/>
          <p:cNvPicPr/>
          <p:nvPr/>
        </p:nvPicPr>
        <p:blipFill>
          <a:blip r:embed="rId1"/>
          <a:stretch/>
        </p:blipFill>
        <p:spPr>
          <a:xfrm>
            <a:off x="7956720" y="5084640"/>
            <a:ext cx="928440" cy="1524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00"/>
                </a:solidFill>
                <a:latin typeface="Arial"/>
              </a:rPr>
              <a:t>Самоорганизация, самопознание, самопрезентац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В основе данной концепции лежит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антропологическ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подход к познанию личности учителя и ученика. Ее реализация способствует овладению учителем разнообразными способами </a:t>
            </a: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самопознания, самоорганизации и самопрезентации</a:t>
            </a:r>
            <a:r>
              <a:rPr b="0" lang="ru-RU" sz="2200" spc="-1" strike="noStrike">
                <a:solidFill>
                  <a:srgbClr val="00cc00"/>
                </a:solidFill>
                <a:latin typeface="Arial"/>
              </a:rPr>
              <a:t>.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Характерной особенностью данной концепции является то, что она разработана до уровня обучающих </a:t>
            </a:r>
            <a:r>
              <a:rPr b="0" i="1" lang="ru-RU" sz="2200" spc="-1" strike="noStrike">
                <a:solidFill>
                  <a:srgbClr val="003366"/>
                </a:solidFill>
                <a:latin typeface="Arial"/>
              </a:rPr>
              <a:t>технологий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cc00"/>
                </a:solidFill>
                <a:latin typeface="Arial"/>
              </a:rPr>
              <a:t>Человековедческие технологии</a:t>
            </a:r>
            <a:r>
              <a:rPr b="0" lang="ru-RU" sz="2200" spc="-1" strike="noStrike">
                <a:solidFill>
                  <a:srgbClr val="003366"/>
                </a:solidFill>
                <a:latin typeface="Arial"/>
              </a:rPr>
              <a:t> нацелены на развитие личностно значимых качеств человека, способствующих его внутреннему духовному росту.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5" name="Picture 4" descr="j0217698"/>
          <p:cNvPicPr/>
          <p:nvPr/>
        </p:nvPicPr>
        <p:blipFill>
          <a:blip r:embed="rId1"/>
          <a:stretch/>
        </p:blipFill>
        <p:spPr>
          <a:xfrm>
            <a:off x="7620120" y="1066680"/>
            <a:ext cx="1218960" cy="118116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00"/>
                </a:solidFill>
                <a:latin typeface="Arial"/>
              </a:rPr>
              <a:t>Базовые технологии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952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. М. Шепель предлагает для изучения три  базовые технологии, которые помогут современному педагогу успешно функционировать в рамках своей профессии: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конфликтология, имиджелогия и ортобиотика.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Первое название понятно без комментариев, под вторым скрываются техники самопрезентации, а третье означает технологию самосбережения здоровья и жизненного оптимизма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9" name="Picture 4" descr="j0292020"/>
          <p:cNvPicPr/>
          <p:nvPr/>
        </p:nvPicPr>
        <p:blipFill>
          <a:blip r:embed="rId1"/>
          <a:stretch/>
        </p:blipFill>
        <p:spPr>
          <a:xfrm>
            <a:off x="7238880" y="5267160"/>
            <a:ext cx="1676520" cy="159084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Конфликтолог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Конфликт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– это психологическое противоборство лиц, имеющих противоречивые или несовместимые цели и интерес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Школа сегодня очень конфликтна. Да это и понятно: школа и общество -   словно два сообщающихся сосуда,- и в нашей весьма трудной жизни различного рода конфликтов, можно сказать, сверх меры.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Мастерство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ителя заключается сегодня не только в том, чтобы грамотно, интересно преподать  свой предмет, но и уметь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двиде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и наиболее безболезненно </a:t>
            </a:r>
            <a:r>
              <a:rPr b="0" i="1" lang="ru-RU" sz="2000" spc="-1" strike="noStrike">
                <a:solidFill>
                  <a:srgbClr val="003366"/>
                </a:solidFill>
                <a:latin typeface="Arial"/>
              </a:rPr>
              <a:t>преодолевать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конфликтные ситу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Имиджелогия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539280" y="236016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обращённый к каждому призыв быть обаятельным, уметь нести свет людям. Она способствует внешнему проявлению глубинной потребности человека быть достойной личностью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мечта о благородном облике каждого гражданина, обладать которым – непременное условие создания демократичного и гуманного общества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6666"/>
                </a:solidFill>
                <a:latin typeface="Arial"/>
              </a:rPr>
              <a:t>Имиджелогия</a:t>
            </a:r>
            <a:r>
              <a:rPr b="0" i="1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– это теоретическое отражение специфики российского менталитета, в котором огромная роль принадлежит душевному складу людей. Россияне человеколюбивы. Не случайно в Своде законов Российской империи 1897 года в качестве духовных ценностей, составляющих главные критерии законотворчества и законопослушания, выделялись человеколюбие, усердие к общему добру, покровительство невинным и оскорблённы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21520" y="957960"/>
            <a:ext cx="7805160" cy="82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ри формировании любого имиджа  учитывают различные компоненты.</a:t>
            </a:r>
            <a:br>
              <a:rPr sz="2000"/>
            </a:b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Так, В.М. Шепель  выделяет 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три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следующих </a:t>
            </a:r>
            <a:r>
              <a:rPr b="1" i="1" lang="ru-RU" sz="2000" spc="-1" strike="noStrike">
                <a:solidFill>
                  <a:srgbClr val="003366"/>
                </a:solidFill>
                <a:latin typeface="Arial"/>
              </a:rPr>
              <a:t>комплекса</a:t>
            </a:r>
            <a:r>
              <a:rPr b="1" i="1" lang="ru-RU" sz="1600" spc="-1" strike="noStrike">
                <a:solidFill>
                  <a:srgbClr val="003366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1) природные качества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оммуникабельность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эмпатичность (способность к сопереживанию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рефлексивность (способность понять другого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красноречивость (способность воздействовать словом)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2) качества, привитые образованием и воспитанием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равственные ценности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психологическое здоровье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- набор технологий общения;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3366"/>
                </a:solidFill>
                <a:latin typeface="Arial"/>
              </a:rPr>
              <a:t>3) качества, обретенные с жизненным и профессиональным опытом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ru-RU" sz="3100" spc="-1" strike="noStrike">
                <a:solidFill>
                  <a:srgbClr val="006666"/>
                </a:solidFill>
                <a:latin typeface="Arial"/>
              </a:rPr>
              <a:t>Матрица персонального имиджа педагога</a:t>
            </a:r>
            <a:endParaRPr b="1" lang="en-US" sz="31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личностный настрой с опорой на «я-концепцию»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имика и физиогноми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олосы и причёска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инесика;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изайн одежды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расноречие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тика поведения;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аморегуляция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вестка дня: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ступительное слово зам.директора по МР Гавриловой А.В. «ФГОС второго поколени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ыступления педагогов школы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Усова М.В. «Цифровые технологии в обучении английского языка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Александровская Е.В. «Метод дифференциации на уроках литературы как способ организации индивидуальной образовательной траектории учащихся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Набатова Т.В. «Игра – как форма оптимизации обучения на уроках химии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Шиганова Е.А. «Диагностика учащихся 1-х классов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21160" y="832680"/>
            <a:ext cx="7805880" cy="82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ртобиоти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Ортобиотик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наука-технология о самосбережении здоровья и жизненного оптимизм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сберегающие технологи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интеграция всех направлений работы образовательного учреждения по сохранению и укреплению здоровья субъектов образовательного процесса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i="1" lang="ru-RU" sz="2400" spc="-1" strike="noStrike">
                <a:solidFill>
                  <a:srgbClr val="003366"/>
                </a:solidFill>
                <a:latin typeface="Arial"/>
              </a:rPr>
              <a:t>Здоровье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это  совокупность физического, психического, духовно-нравственного состояний человека, определяющих его работоспособность и отношение к окружающему миру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ключени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ак показывают многочисленные исследования, повьшение общего уровня человековедческой компетентности педагога - ключ к его личностному саморазвитию и росту профессионального мастерства 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а сегодняшний день самоактуализация является не просто привлекательной идеей, ориентиром для личностного роста и развития, а представляет собой вполне стройную теорию со своими принципами, категориями, концепциями и, что не менее важно, практическими технологиями воздействия на личность человека. В силу этого она может быть внедрена в педагогический процесс с целью его оптимизации и гуманизаци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Мини-гимн «Я – чудо!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счастливый человек! Я самый счастливый человек на свете! У меня хорошее настроение! У меня всегда хорошее настроение! У меня отличное настроени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и глаза излучают счастье! Моя походка излучает счастье! Я весь излучаю счастье! Я живу – и поэтому я счастлив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птимист! Солнце для меня всегда самое яркое, а небо самое голубое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На меня можно всегда положиться. Я не подведу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умею дружить. Благо семьи – приоритет для меня! Я внимательный и заботливый. Меня ценят и уважают мои друзья, близкие и коллеги. Со мной всегда легко и весел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общительный. Ко мне тянутся люди. Со мной интересно и спокойно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постоянно над собой работаю. Я доказываю это своим делом, умением дорожить своим достоинством, семейной честью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Я благодарю своих родителей за жизнь и радость общения!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Рисунок 3" descr="FGOS85.jpg"/>
          <p:cNvPicPr/>
          <p:nvPr/>
        </p:nvPicPr>
        <p:blipFill>
          <a:blip r:embed="rId1"/>
          <a:stretch/>
        </p:blipFill>
        <p:spPr>
          <a:xfrm>
            <a:off x="179280" y="836640"/>
            <a:ext cx="8713800" cy="5661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 основе Федеральных  Государственных  Стандартов второго поколения  лежит системно-деятельностный 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подход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, который предполагает определение цели и основного результата образования как воспитание и развитие обучающихся, их готовность к саморазвитию и непрерывному образованию, отвечающим задачам построения гражданского общества и инновационной экономики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c15ad2c79ae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43920"/>
            <a:ext cx="9144000" cy="64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66"/>
                </a:solidFill>
                <a:uFillTx/>
                <a:latin typeface="Arial"/>
              </a:rPr>
              <a:t>ФГОС</a:t>
            </a: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 направлен на обеспечение: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1) формирования российской гражданской идентичности обучающихс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2) единства образовательного пространства Российской Федерации; сохранения и развития культурного разнообразия и языкового наследия многонационального народа Российской Федерации, реализации права на изучение родного языка, возможности получения основного общего образования на родном языке, овладения духовными ценностями и культурой многонационального народа России;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3) доступности получения  качественного основного обще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4) преемственности основных образовательных программ начального общего, основного общего, среднего (полного) общего, профессионального образовани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5) духовно-нравственного развития, воспитания обучающихся и сохранения их здоровья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6) развития государственно-общественного управления в образовании; 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7) формирования содержательно - критериальной основы оценки результатов освоения обучающимися основной образовательной программы основного общего образования, деятельности педагогических работников, образовательных учреждений, функционирования системы образования в целом;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66"/>
                </a:solidFill>
                <a:latin typeface="Arial"/>
              </a:rPr>
              <a:t>8) условий создания социальной ситуации развития обучающихся, обеспечивающей их социальную самоидентификацию посредством личностно значимой деятельности. </a:t>
            </a:r>
            <a:endParaRPr b="0" lang="en-US" sz="17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12560" y="1149120"/>
            <a:ext cx="8185680" cy="10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Что является отличительной особенностью нового Стандарта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04280" y="2212560"/>
            <a:ext cx="8331480" cy="40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метод обучения (с объяснительного на деятельностный)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подход к оценке результатов обучения (оцениваются не только знания, умения и навыки, но и, прежде всего, метапредметные и личностные результаты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учителей (оценивается качество управления учебной деятельностью учащихся)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Меняется система аттестации школ (оценивается качество организации перехода школы к реализации ФГОС НОО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елью школы становятся не только знания,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 и умение их добывать и ими пользоваться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02480" y="698760"/>
            <a:ext cx="81741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39840" y="2343240"/>
            <a:ext cx="8331120" cy="376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ндарт устанавливает требования к результатам обучающихся, освоивших основную образовательную программу начального общего образования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ЧНОСТНЫМ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готовность и способность обучающихся к саморазвит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мотивации к обучению и познанию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ценностно-смысловые установки обучающихс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тражающие их индивидуально-личностные позиции;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формированность основ гражданской идентичности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99960" y="768240"/>
            <a:ext cx="8179200" cy="10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04280" y="2736720"/>
            <a:ext cx="8331480" cy="33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ЕТА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своение обучающимися универсальные учебные действия (познавательные, регулятивные и коммуникативные),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межпредметными понятиям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73400" y="914400"/>
            <a:ext cx="8174880" cy="107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Какие требования к результатам обучающимся устанавливает Стандарт?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68360" y="2349360"/>
            <a:ext cx="8331120" cy="39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ЕДМЕТНЫМ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своенный обучающимися в ходе изучения учебного предмета опыт специфической для данной предметной области деятельности по получению нового знания, его преобразованию и применению;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предметные результаты сгруппированы по учебным предметы. Они формулируются в термина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научится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группа обязательных требований) и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«выпускник получит возможность научиться …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 не достижение этих требований выпускником не может служить препятствием для перевода его на следующую ступень образования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3T05:02:42Z</dcterms:created>
  <dc:creator>Анна</dc:creator>
  <dc:description/>
  <dc:language>en-US</dc:language>
  <cp:lastModifiedBy>LEGION</cp:lastModifiedBy>
  <dcterms:modified xsi:type="dcterms:W3CDTF">2015-01-26T14:02:39Z</dcterms:modified>
  <cp:revision>8</cp:revision>
  <dc:subject/>
  <dc:title>Педагогическая конференция  «Мастерство учителя»</dc:title>
</cp:coreProperties>
</file>