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5C14-5D5D-4295-A624-1EBCFCC81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slide" Target="../slides/slide17.xml"/><Relationship Id="rId8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F7C5-C895-4421-A6C6-6D235D4EF7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Мари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904D-7CCE-414F-AEA9-5E07743BC8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2F85-8B7F-47B2-AD61-251CC5C910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8C4D-3935-4AA1-A8DD-8F4A3ED57E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BD82-7AA4-4FB5-B9B0-B2133F4906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вои возможности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. Монтессори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Дома ребенк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8405-418B-4C04-8DC8-876DB03E39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B32-0501-4FCE-908D-72D4AE20BD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Мотушками»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называла катушки, на которые намотаны цветные нитки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Группе детей можно предложить подвижную игру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Найди пару»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AE7F-6E7D-4D34-BBA9-817A324FA4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2637-10FD-4623-A7EE-E292DA399E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 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средней школе № 5, г. Петрозавод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ДОУ № 99 «Голубая важе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ozon.ru/context/detail/id/869624/?partner=englang  – «Вижу, слышу, чувствую», урок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metodika-montessory.narod.ru/zaniatia.htm   - занятия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rebenok.com/info/study/montessori_group/  - занятия,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parent.fio.ru/news.php?n=15456&amp;c=308  – о школах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defacto.examen.ru/db/ExamineBase/catdoc_id/D469A977E8228C9AC3256B49003C61F2/rootid/9327995FB7A6D40FC3256A02002CE0D5/defacto.html  - особенности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montessori-center.ru/ - сайт о Монтессори для родителей и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school.edu.ru/catalog.asp?cat_ob_no=222&amp;oll.ob no to=   - игры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98B3-D874-4DB8-B982-D558D4DB46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истема Марии Монтессори,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ым отличием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8F15-3285-41E5-89D0-55C083FCF9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606D-9EA8-48DA-AF5E-15C935E0B9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ая идея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6E2D-9CCE-41E8-B1BD-4F886B7C8A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онтессори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D08B-A1E7-40D2-BB84-060E35CDC2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бластей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Жизненная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Сенсор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темат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EC3-5F70-4522-83CD-2D23C8C40E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D801-A7D0-4089-AB00-13C313CE7B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Материал для рисования, штрих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арточки с шершав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5B97-48CE-4A7D-BA84-811AE31DB0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Чтение текста. Дефин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частей речи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предложений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868-8681-4D19-A562-942BE674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99B-A9E0-4572-8337-F39A04F1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F15-11B7-4D51-BA37-42FCE274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D9E-3571-461E-A620-35DADDE2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9BE-29FB-41C4-8FD3-A891B892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26F-5ED7-4EC5-AB9F-86925C2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BA0-7876-4036-B895-4C34CC5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4B9-7D25-4AE2-B857-2882A6C8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748-F043-42C5-9844-6DA1E67B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221-A40A-43ED-8698-6FDD32E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3C9-7FC7-485B-80F2-EE8A491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B8A-03EA-4D6F-8D94-BBCEA7B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59BE-8F39-4AD9-B7D7-276B1496B1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" Target="slide6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hyperlink" Target="http://www.ozon.ru/context/detail/id/869624/?partner=englang" TargetMode="External"/><Relationship Id="rId8" Type="http://schemas.openxmlformats.org/officeDocument/2006/relationships/hyperlink" Target="http://metodika-montessory.narod.ru/zaniatia.htm" TargetMode="External"/><Relationship Id="rId9" Type="http://schemas.openxmlformats.org/officeDocument/2006/relationships/hyperlink" Target="http://www.rebenok.com/info/study/montessori_group/" TargetMode="External"/><Relationship Id="rId10" Type="http://schemas.openxmlformats.org/officeDocument/2006/relationships/hyperlink" Target="http://parent.fio.ru/news.php?n=15456&amp;c=308" TargetMode="External"/><Relationship Id="rId11" Type="http://schemas.openxmlformats.org/officeDocument/2006/relationships/hyperlink" Target="http://defacto.examen.ru/db/ExamineBase/catdoc_id/D469A977E8228C9AC3256B49003C61F2/rootid/9327995FB7A6D40FC3256A02002CE0D5/defacto.html" TargetMode="External"/><Relationship Id="rId12" Type="http://schemas.openxmlformats.org/officeDocument/2006/relationships/hyperlink" Target="http://www.montessori-center.ru/" TargetMode="External"/><Relationship Id="rId13" Type="http://schemas.openxmlformats.org/officeDocument/2006/relationships/hyperlink" Target="http://school.edu.ru/catalog.asp?cat_ob_no=222&amp;oll.ob_no_to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802"/>
          <p:cNvPicPr/>
          <p:nvPr/>
        </p:nvPicPr>
        <p:blipFill>
          <a:blip r:embed="rId1"/>
          <a:stretch/>
        </p:blipFill>
        <p:spPr>
          <a:xfrm>
            <a:off x="3059280" y="2205000"/>
            <a:ext cx="280332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11. track111.wav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12280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305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828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5" descr="306"/>
          <p:cNvPicPr/>
          <p:nvPr/>
        </p:nvPicPr>
        <p:blipFill>
          <a:blip r:embed="rId2"/>
          <a:stretch/>
        </p:blipFill>
        <p:spPr>
          <a:xfrm>
            <a:off x="2700360" y="1628640"/>
            <a:ext cx="4932360" cy="343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7" name="Picture 6" descr="310"/>
          <p:cNvPicPr/>
          <p:nvPr/>
        </p:nvPicPr>
        <p:blipFill>
          <a:blip r:embed="rId3"/>
          <a:stretch/>
        </p:blipFill>
        <p:spPr>
          <a:xfrm>
            <a:off x="1619280" y="2924280"/>
            <a:ext cx="5257800" cy="337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8" name="Picture 8" descr="pic5_jpg"/>
          <p:cNvPicPr/>
          <p:nvPr/>
        </p:nvPicPr>
        <p:blipFill>
          <a:blip r:embed="rId4"/>
          <a:stretch/>
        </p:blipFill>
        <p:spPr>
          <a:xfrm>
            <a:off x="3276720" y="1413000"/>
            <a:ext cx="3112920" cy="46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9" name="Picture 11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16720" cy="115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5699160" cy="46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_"/>
          <p:cNvPicPr/>
          <p:nvPr/>
        </p:nvPicPr>
        <p:blipFill>
          <a:blip r:embed="rId1"/>
          <a:stretch/>
        </p:blipFill>
        <p:spPr>
          <a:xfrm>
            <a:off x="6516720" y="1628640"/>
            <a:ext cx="2274840" cy="171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4" name="Picture 9" descr="23_"/>
          <p:cNvPicPr/>
          <p:nvPr/>
        </p:nvPicPr>
        <p:blipFill>
          <a:blip r:embed="rId2"/>
          <a:stretch/>
        </p:blipFill>
        <p:spPr>
          <a:xfrm>
            <a:off x="6659640" y="4653000"/>
            <a:ext cx="2141640" cy="160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6876360" y="3716280"/>
            <a:ext cx="17398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Средняя школа № 5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2" descr="world"/>
          <p:cNvPicPr/>
          <p:nvPr/>
        </p:nvPicPr>
        <p:blipFill>
          <a:blip r:embed="rId3"/>
          <a:stretch/>
        </p:blipFill>
        <p:spPr>
          <a:xfrm>
            <a:off x="468360" y="40464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267520" cy="1103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602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2514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5" descr="601"/>
          <p:cNvPicPr/>
          <p:nvPr/>
        </p:nvPicPr>
        <p:blipFill>
          <a:blip r:embed="rId2"/>
          <a:stretch/>
        </p:blipFill>
        <p:spPr>
          <a:xfrm>
            <a:off x="5148360" y="1773360"/>
            <a:ext cx="3600360" cy="299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1" name="Picture 7" descr="maps"/>
          <p:cNvPicPr/>
          <p:nvPr/>
        </p:nvPicPr>
        <p:blipFill>
          <a:blip r:embed="rId3"/>
          <a:stretch/>
        </p:blipFill>
        <p:spPr>
          <a:xfrm>
            <a:off x="324000" y="4149720"/>
            <a:ext cx="1962000" cy="2158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8" descr="pic12_jpg"/>
          <p:cNvPicPr/>
          <p:nvPr/>
        </p:nvPicPr>
        <p:blipFill>
          <a:blip r:embed="rId4"/>
          <a:stretch/>
        </p:blipFill>
        <p:spPr>
          <a:xfrm>
            <a:off x="2556000" y="3429000"/>
            <a:ext cx="1962000" cy="295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3" name="Picture 9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_02_3_JPG"/>
          <p:cNvPicPr/>
          <p:nvPr/>
        </p:nvPicPr>
        <p:blipFill>
          <a:blip r:embed="rId7"/>
          <a:stretch/>
        </p:blipFill>
        <p:spPr>
          <a:xfrm>
            <a:off x="5003640" y="3645000"/>
            <a:ext cx="2665440" cy="2590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13" descr="tn_ak_19"/>
          <p:cNvPicPr/>
          <p:nvPr/>
        </p:nvPicPr>
        <p:blipFill>
          <a:blip r:embed="rId8"/>
          <a:stretch/>
        </p:blipFill>
        <p:spPr>
          <a:xfrm>
            <a:off x="2556000" y="2205000"/>
            <a:ext cx="4572000" cy="283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7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2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602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176720" cy="528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тернет-ресурс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256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средней школе № 5, 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ДОУ № 99 «Голубая важен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7"/>
              </a:rPr>
              <a:t>http://www.ozon.ru/context/detail/id/869624/?partner=englang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«Вижу, слышу, чувствую», уроки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http://metodika-montessory.narod.ru/zaniatia.h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- занятия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9"/>
              </a:rPr>
              <a:t>http://www.rebenok.com/info/study/montessori_group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занятия, пособ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http://parent.fio.ru/news.php?n=15456&amp;c=308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о школах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1"/>
              </a:rPr>
              <a:t>http://defacto.examen.ru/db/ExamineBase/catdoc_id/D469A977E8228C9AC3256B49003C61F2/rootid/9327995FB7A6D40FC3256A02002CE0D5/defacto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собенности исполь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2"/>
              </a:rPr>
              <a:t>http://www.montessori-center.ru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сайт о Монтессори для родителей и педагог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3"/>
              </a:rPr>
              <a:t>http://school.edu.ru/catalog.asp?cat_ob_no=222&amp;oll.ob no to=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игры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932360" y="465300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0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1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2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7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8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4321080" cy="647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29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zal1"/>
          <p:cNvPicPr/>
          <p:nvPr/>
        </p:nvPicPr>
        <p:blipFill>
          <a:blip r:embed="rId1"/>
          <a:stretch/>
        </p:blipFill>
        <p:spPr>
          <a:xfrm>
            <a:off x="395280" y="1484280"/>
            <a:ext cx="3527280" cy="227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3" name="Picture 8" descr="table"/>
          <p:cNvPicPr/>
          <p:nvPr/>
        </p:nvPicPr>
        <p:blipFill>
          <a:blip r:embed="rId2"/>
          <a:stretch/>
        </p:blipFill>
        <p:spPr>
          <a:xfrm>
            <a:off x="6516720" y="1268280"/>
            <a:ext cx="2286000" cy="270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9" descr="foto0029"/>
          <p:cNvPicPr/>
          <p:nvPr/>
        </p:nvPicPr>
        <p:blipFill>
          <a:blip r:embed="rId3"/>
          <a:stretch/>
        </p:blipFill>
        <p:spPr>
          <a:xfrm>
            <a:off x="4140360" y="1773360"/>
            <a:ext cx="2160360" cy="28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Жизненная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енсорн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Математическ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Языков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Естественнонаучное и космическ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Двигательн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9" descr="montes"/>
          <p:cNvPicPr/>
          <p:nvPr/>
        </p:nvPicPr>
        <p:blipFill>
          <a:blip r:embed="rId7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9" name="Picture 17" descr="0(2)"/>
          <p:cNvPicPr/>
          <p:nvPr/>
        </p:nvPicPr>
        <p:blipFill>
          <a:blip r:embed="rId8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0" name="Text Box 18"/>
          <p:cNvSpPr/>
          <p:nvPr/>
        </p:nvSpPr>
        <p:spPr>
          <a:xfrm>
            <a:off x="6519960" y="6308640"/>
            <a:ext cx="216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ец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6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7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33080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338440" cy="504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атериал для рисования, штрих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арточки с шершавыми букв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03"/>
          <p:cNvPicPr/>
          <p:nvPr/>
        </p:nvPicPr>
        <p:blipFill>
          <a:blip r:embed="rId1"/>
          <a:stretch/>
        </p:blipFill>
        <p:spPr>
          <a:xfrm>
            <a:off x="2050920" y="69228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4_jpg"/>
          <p:cNvPicPr/>
          <p:nvPr/>
        </p:nvPicPr>
        <p:blipFill>
          <a:blip r:embed="rId2"/>
          <a:stretch/>
        </p:blipFill>
        <p:spPr>
          <a:xfrm>
            <a:off x="324000" y="189000"/>
            <a:ext cx="153324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16" descr="309"/>
          <p:cNvPicPr/>
          <p:nvPr/>
        </p:nvPicPr>
        <p:blipFill>
          <a:blip r:embed="rId3"/>
          <a:stretch/>
        </p:blipFill>
        <p:spPr>
          <a:xfrm>
            <a:off x="324000" y="4797360"/>
            <a:ext cx="2736720" cy="175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18" descr="3_08_2%20(russian)_JPG"/>
          <p:cNvPicPr/>
          <p:nvPr/>
        </p:nvPicPr>
        <p:blipFill>
          <a:blip r:embed="rId4"/>
          <a:stretch/>
        </p:blipFill>
        <p:spPr>
          <a:xfrm>
            <a:off x="1116000" y="2708280"/>
            <a:ext cx="1717560" cy="172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5651640" y="6093000"/>
            <a:ext cx="280800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ОУ № 99 «Голубая важенк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LEGION</cp:lastModifiedBy>
  <dcterms:modified xsi:type="dcterms:W3CDTF">2015-01-26T14:03:37Z</dcterms:modified>
  <cp:revision>94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