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36.gif" ContentType="image/gif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4F4-B84A-41FB-9412-216BBD19B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slide" Target="../slides/slide17.xml"/><Relationship Id="rId8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577D-62A9-4BC1-A142-B17FD26CB4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Мари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C272-6E16-4297-A963-0FDA9B7E64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9E2E-1347-4752-B353-46408C3A87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921E-13F7-409B-B952-149A8BC03B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F56D-6997-43B6-86F6-690C7402E5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вои возможности.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. Монтессори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Дома ребенк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2995-42B4-4095-AFAF-18772C2816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1E56-3B9A-40E9-9918-C037DE14A3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Мотушками»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называла катушки, на которые намотаны цветные нитки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Группе детей можно предложить подвижную игру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Найди пару»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0825-F696-4EB9-95A8-3CB0CD8292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F7A0-082F-44A7-8CBC-9769230D6C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 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средней школе № 5, г. Петрозавод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ДОУ № 99 «Голубая важен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ozon.ru/context/detail/id/869624/?partner=englang  – «Вижу, слышу, чувствую», урок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metodika-montessory.narod.ru/zaniatia.htm   - занятия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rebenok.com/info/study/montessori_group/  - занятия, посо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parent.fio.ru/news.php?n=15456&amp;c=308  – о школах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defacto.examen.ru/db/ExamineBase/catdoc_id/D469A977E8228C9AC3256B49003C61F2/rootid/9327995FB7A6D40FC3256A02002CE0D5/defacto.html  - особенности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montessori-center.ru/ - сайт о Монтессори для родителей и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school.edu.ru/catalog.asp?cat_ob_no=222&amp;oll.ob no to=   - игры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5B66-D04E-4651-8CD4-88590A9ACA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Система Марии Монтессори,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ым отличием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AB82-CF1F-4735-B758-5A0FC08945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08F-0F00-4031-A4AD-5A107AA3E9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ая идея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2F3A-6D28-4671-A330-A55FF40B5E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онтессори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C790-845F-4307-A17C-166BF37AF1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бластей разви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Жизненная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Сенсор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темат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7929-DB29-440E-BC01-8CDC2E62A6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A56D-581C-4E43-83F6-380F892C7A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Материал для рисования, штрих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арточки с шершавы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7770-67BD-4DE9-B852-A3CB8A01C1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Чтение текста. Дефин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частей речи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предложений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6EE-F812-4314-B592-FA3E99E4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520-FE7A-4101-A72D-C9DC63E8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C29-4792-46A1-A6EB-E935486A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6EC-D6BA-42FA-99E0-B35A082E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6D6-CA4C-47C9-AF05-8C0E1733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328-8DC0-42F0-AD5D-37BDB2DF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7EA-4BBD-472A-89F5-89AF5E5E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4C3-C6BA-4A0C-BFED-D26A190C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E4B-D376-4CA8-B18F-ADA1E757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204-4693-43A6-A969-2A0C4341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03B-7CB1-4E7A-9A8D-CC1CB9B4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A0F-5F97-4BA3-84E1-03FFC0F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ABE-EEC3-4520-A4B6-ED7D74C83D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" Target="slide6.xml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hyperlink" Target="http://www.ozon.ru/context/detail/id/869624/?partner=englang" TargetMode="External"/><Relationship Id="rId8" Type="http://schemas.openxmlformats.org/officeDocument/2006/relationships/hyperlink" Target="http://metodika-montessory.narod.ru/zaniatia.htm" TargetMode="External"/><Relationship Id="rId9" Type="http://schemas.openxmlformats.org/officeDocument/2006/relationships/hyperlink" Target="http://www.rebenok.com/info/study/montessori_group/" TargetMode="External"/><Relationship Id="rId10" Type="http://schemas.openxmlformats.org/officeDocument/2006/relationships/hyperlink" Target="http://parent.fio.ru/news.php?n=15456&amp;c=308" TargetMode="External"/><Relationship Id="rId11" Type="http://schemas.openxmlformats.org/officeDocument/2006/relationships/hyperlink" Target="http://defacto.examen.ru/db/ExamineBase/catdoc_id/D469A977E8228C9AC3256B49003C61F2/rootid/9327995FB7A6D40FC3256A02002CE0D5/defacto.html" TargetMode="External"/><Relationship Id="rId12" Type="http://schemas.openxmlformats.org/officeDocument/2006/relationships/hyperlink" Target="http://www.montessori-center.ru/" TargetMode="External"/><Relationship Id="rId13" Type="http://schemas.openxmlformats.org/officeDocument/2006/relationships/hyperlink" Target="http://school.edu.ru/catalog.asp?cat_ob_no=222&amp;oll.ob_no_to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8.xml"/><Relationship Id="rId3" Type="http://schemas.openxmlformats.org/officeDocument/2006/relationships/slide" Target="slide28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802"/>
          <p:cNvPicPr/>
          <p:nvPr/>
        </p:nvPicPr>
        <p:blipFill>
          <a:blip r:embed="rId1"/>
          <a:stretch/>
        </p:blipFill>
        <p:spPr>
          <a:xfrm>
            <a:off x="3059280" y="2205000"/>
            <a:ext cx="280332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826920" y="549360"/>
            <a:ext cx="7867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Марии Монтессори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569320" y="1700280"/>
            <a:ext cx="379728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Помоги мне сделать это сам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11. track111.wav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12280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305"/>
          <p:cNvPicPr/>
          <p:nvPr/>
        </p:nvPicPr>
        <p:blipFill>
          <a:blip r:embed="rId1"/>
          <a:stretch/>
        </p:blipFill>
        <p:spPr>
          <a:xfrm>
            <a:off x="1763640" y="1341360"/>
            <a:ext cx="5688000" cy="3828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6" name="Picture 5" descr="306"/>
          <p:cNvPicPr/>
          <p:nvPr/>
        </p:nvPicPr>
        <p:blipFill>
          <a:blip r:embed="rId2"/>
          <a:stretch/>
        </p:blipFill>
        <p:spPr>
          <a:xfrm>
            <a:off x="2700360" y="1628640"/>
            <a:ext cx="4932360" cy="343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7" name="Picture 6" descr="310"/>
          <p:cNvPicPr/>
          <p:nvPr/>
        </p:nvPicPr>
        <p:blipFill>
          <a:blip r:embed="rId3"/>
          <a:stretch/>
        </p:blipFill>
        <p:spPr>
          <a:xfrm>
            <a:off x="1619280" y="2924280"/>
            <a:ext cx="5257800" cy="3371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8" name="Picture 8" descr="pic5_jpg"/>
          <p:cNvPicPr/>
          <p:nvPr/>
        </p:nvPicPr>
        <p:blipFill>
          <a:blip r:embed="rId4"/>
          <a:stretch/>
        </p:blipFill>
        <p:spPr>
          <a:xfrm>
            <a:off x="3276720" y="1413000"/>
            <a:ext cx="3112920" cy="46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9" name="Picture 11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165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16720" cy="1152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5699160" cy="4680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_"/>
          <p:cNvPicPr/>
          <p:nvPr/>
        </p:nvPicPr>
        <p:blipFill>
          <a:blip r:embed="rId1"/>
          <a:stretch/>
        </p:blipFill>
        <p:spPr>
          <a:xfrm>
            <a:off x="6516720" y="1628640"/>
            <a:ext cx="2274840" cy="171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4" name="Picture 9" descr="23_"/>
          <p:cNvPicPr/>
          <p:nvPr/>
        </p:nvPicPr>
        <p:blipFill>
          <a:blip r:embed="rId2"/>
          <a:stretch/>
        </p:blipFill>
        <p:spPr>
          <a:xfrm>
            <a:off x="6659640" y="4653000"/>
            <a:ext cx="2141640" cy="1603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5" name="Text Box 11"/>
          <p:cNvSpPr/>
          <p:nvPr/>
        </p:nvSpPr>
        <p:spPr>
          <a:xfrm>
            <a:off x="6876360" y="3716280"/>
            <a:ext cx="17398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Средняя школа № 5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2" descr="world"/>
          <p:cNvPicPr/>
          <p:nvPr/>
        </p:nvPicPr>
        <p:blipFill>
          <a:blip r:embed="rId3"/>
          <a:stretch/>
        </p:blipFill>
        <p:spPr>
          <a:xfrm>
            <a:off x="468360" y="40464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267520" cy="1103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4" descr="602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2514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0" name="Picture 5" descr="601"/>
          <p:cNvPicPr/>
          <p:nvPr/>
        </p:nvPicPr>
        <p:blipFill>
          <a:blip r:embed="rId2"/>
          <a:stretch/>
        </p:blipFill>
        <p:spPr>
          <a:xfrm>
            <a:off x="5148360" y="1773360"/>
            <a:ext cx="3600360" cy="2992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1" name="Picture 7" descr="maps"/>
          <p:cNvPicPr/>
          <p:nvPr/>
        </p:nvPicPr>
        <p:blipFill>
          <a:blip r:embed="rId3"/>
          <a:stretch/>
        </p:blipFill>
        <p:spPr>
          <a:xfrm>
            <a:off x="324000" y="4149720"/>
            <a:ext cx="1962000" cy="2158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2" name="Picture 8" descr="pic12_jpg"/>
          <p:cNvPicPr/>
          <p:nvPr/>
        </p:nvPicPr>
        <p:blipFill>
          <a:blip r:embed="rId4"/>
          <a:stretch/>
        </p:blipFill>
        <p:spPr>
          <a:xfrm>
            <a:off x="2556000" y="3429000"/>
            <a:ext cx="1962000" cy="295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3" name="Picture 9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8360" y="609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5_02_3_JPG"/>
          <p:cNvPicPr/>
          <p:nvPr/>
        </p:nvPicPr>
        <p:blipFill>
          <a:blip r:embed="rId7"/>
          <a:stretch/>
        </p:blipFill>
        <p:spPr>
          <a:xfrm>
            <a:off x="5003640" y="3645000"/>
            <a:ext cx="2665440" cy="2590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5" name="Picture 13" descr="tn_ak_19"/>
          <p:cNvPicPr/>
          <p:nvPr/>
        </p:nvPicPr>
        <p:blipFill>
          <a:blip r:embed="rId8"/>
          <a:stretch/>
        </p:blipFill>
        <p:spPr>
          <a:xfrm>
            <a:off x="2556000" y="2205000"/>
            <a:ext cx="4572000" cy="2835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496908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10" descr="child2"/>
          <p:cNvPicPr/>
          <p:nvPr/>
        </p:nvPicPr>
        <p:blipFill>
          <a:blip r:embed="rId1"/>
          <a:stretch/>
        </p:blipFill>
        <p:spPr>
          <a:xfrm>
            <a:off x="7164360" y="4724280"/>
            <a:ext cx="1278000" cy="1584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3" descr="d-033_tn"/>
          <p:cNvPicPr/>
          <p:nvPr/>
        </p:nvPicPr>
        <p:blipFill>
          <a:blip r:embed="rId2"/>
          <a:stretch/>
        </p:blipFill>
        <p:spPr>
          <a:xfrm>
            <a:off x="250920" y="2565360"/>
            <a:ext cx="1800000" cy="1567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0" name="Text Box 16"/>
          <p:cNvSpPr/>
          <p:nvPr/>
        </p:nvSpPr>
        <p:spPr>
          <a:xfrm>
            <a:off x="2195640" y="1413000"/>
            <a:ext cx="6438600" cy="28947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вои возможности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Монтессор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Дома ребе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montes1"/>
          <p:cNvPicPr/>
          <p:nvPr/>
        </p:nvPicPr>
        <p:blipFill>
          <a:blip r:embed="rId3"/>
          <a:stretch/>
        </p:blipFill>
        <p:spPr>
          <a:xfrm>
            <a:off x="1332000" y="4869000"/>
            <a:ext cx="4752720" cy="1414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2" name="Picture 21" descr="spo-badminton"/>
          <p:cNvPicPr/>
          <p:nvPr/>
        </p:nvPicPr>
        <p:blipFill>
          <a:blip r:embed="rId4"/>
          <a:stretch/>
        </p:blipFill>
        <p:spPr>
          <a:xfrm>
            <a:off x="611280" y="620640"/>
            <a:ext cx="103644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51944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9" descr="m1"/>
          <p:cNvPicPr/>
          <p:nvPr/>
        </p:nvPicPr>
        <p:blipFill>
          <a:blip r:embed="rId1"/>
          <a:stretch/>
        </p:blipFill>
        <p:spPr>
          <a:xfrm>
            <a:off x="2843280" y="3860640"/>
            <a:ext cx="3600360" cy="270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6" name="Picture 4" descr="domik2"/>
          <p:cNvPicPr/>
          <p:nvPr/>
        </p:nvPicPr>
        <p:blipFill>
          <a:blip r:embed="rId2"/>
          <a:stretch/>
        </p:blipFill>
        <p:spPr>
          <a:xfrm>
            <a:off x="539640" y="1557360"/>
            <a:ext cx="3024360" cy="2104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7" name="Picture 11" descr="m2"/>
          <p:cNvPicPr/>
          <p:nvPr/>
        </p:nvPicPr>
        <p:blipFill>
          <a:blip r:embed="rId3"/>
          <a:stretch/>
        </p:blipFill>
        <p:spPr>
          <a:xfrm>
            <a:off x="5796000" y="1557360"/>
            <a:ext cx="2736720" cy="205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475128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2802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Мотушками»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Монтессори называла катушки, на которые намотаны цветные нитк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руппе детей можно предложить подвижную игру </a:t>
            </a: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Найди пару»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0(1)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1254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2" name="Picture 6" descr="0(3)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1177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3" name="Picture 8" descr="0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6021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00" y="2997000"/>
            <a:ext cx="5492880" cy="3168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Picture 5" descr="titul_maria_montessori1"/>
          <p:cNvPicPr/>
          <p:nvPr/>
        </p:nvPicPr>
        <p:blipFill>
          <a:blip r:embed="rId1"/>
          <a:stretch/>
        </p:blipFill>
        <p:spPr>
          <a:xfrm>
            <a:off x="3419640" y="476280"/>
            <a:ext cx="2520720" cy="224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8" descr="0(2)"/>
          <p:cNvPicPr/>
          <p:nvPr/>
        </p:nvPicPr>
        <p:blipFill>
          <a:blip r:embed="rId2"/>
          <a:stretch/>
        </p:blipFill>
        <p:spPr>
          <a:xfrm>
            <a:off x="395280" y="2924280"/>
            <a:ext cx="2514600" cy="316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8" name="Picture 10" descr="0(1)"/>
          <p:cNvPicPr/>
          <p:nvPr/>
        </p:nvPicPr>
        <p:blipFill>
          <a:blip r:embed="rId3"/>
          <a:stretch/>
        </p:blipFill>
        <p:spPr>
          <a:xfrm>
            <a:off x="6732720" y="476280"/>
            <a:ext cx="194148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9" name="Picture 12" descr="14"/>
          <p:cNvPicPr/>
          <p:nvPr/>
        </p:nvPicPr>
        <p:blipFill>
          <a:blip r:embed="rId4"/>
          <a:stretch/>
        </p:blipFill>
        <p:spPr>
          <a:xfrm>
            <a:off x="900000" y="836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176720" cy="528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Интернет-ресурс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256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средней школе № 5, 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ДОУ № 99 «Голубая важен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7"/>
              </a:rPr>
              <a:t>http://www.ozon.ru/context/detail/id/869624/?partner=englang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«Вижу, слышу, чувствую», уроки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8"/>
              </a:rPr>
              <a:t>http://metodika-montessory.narod.ru/zaniatia.h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- занятия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9"/>
              </a:rPr>
              <a:t>http://www.rebenok.com/info/study/montessori_group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занятия, пособ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0"/>
              </a:rPr>
              <a:t>http://parent.fio.ru/news.php?n=15456&amp;c=308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о школах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1"/>
              </a:rPr>
              <a:t>http://defacto.examen.ru/db/ExamineBase/catdoc_id/D469A977E8228C9AC3256B49003C61F2/rootid/9327995FB7A6D40FC3256A02002CE0D5/defacto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собенности исполь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2"/>
              </a:rPr>
              <a:t>http://www.montessori-center.ru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сайт о Монтессори для родителей и педагог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3"/>
              </a:rPr>
              <a:t>http://school.edu.ru/catalog.asp?cat_ob_no=222&amp;oll.ob no to=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игры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4932360" y="4653000"/>
            <a:ext cx="287280" cy="360360"/>
          </a:xfrm>
          <a:custGeom>
            <a:avLst/>
            <a:gdLst>
              <a:gd name="textAreaLeft" fmla="*/ 0 w 287280"/>
              <a:gd name="textAreaRight" fmla="*/ 103680 w 287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380520"/>
            <a:ext cx="611964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87280" y="1981080"/>
            <a:ext cx="5699160" cy="3895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истема Марии Монтессори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сновным отличием метода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0" descr="flower"/>
          <p:cNvPicPr/>
          <p:nvPr/>
        </p:nvPicPr>
        <p:blipFill>
          <a:blip r:embed="rId1"/>
          <a:stretch/>
        </p:blipFill>
        <p:spPr>
          <a:xfrm>
            <a:off x="395280" y="2492280"/>
            <a:ext cx="1987560" cy="28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633744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4038480" cy="3392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2" descr="item(1)"/>
          <p:cNvPicPr/>
          <p:nvPr/>
        </p:nvPicPr>
        <p:blipFill>
          <a:blip r:embed="rId1"/>
          <a:stretch/>
        </p:blipFill>
        <p:spPr>
          <a:xfrm>
            <a:off x="7164360" y="4292640"/>
            <a:ext cx="177948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0" name="Picture 13" descr="pic8_jpg"/>
          <p:cNvPicPr/>
          <p:nvPr/>
        </p:nvPicPr>
        <p:blipFill>
          <a:blip r:embed="rId2"/>
          <a:stretch/>
        </p:blipFill>
        <p:spPr>
          <a:xfrm>
            <a:off x="7236000" y="1773360"/>
            <a:ext cx="1538280" cy="230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1" name="Picture 16" descr="foto0048"/>
          <p:cNvPicPr/>
          <p:nvPr/>
        </p:nvPicPr>
        <p:blipFill>
          <a:blip r:embed="rId3"/>
          <a:stretch/>
        </p:blipFill>
        <p:spPr>
          <a:xfrm>
            <a:off x="395280" y="4724280"/>
            <a:ext cx="2303640" cy="172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2" name="Picture 18" descr="foto0050"/>
          <p:cNvPicPr/>
          <p:nvPr/>
        </p:nvPicPr>
        <p:blipFill>
          <a:blip r:embed="rId4"/>
          <a:stretch/>
        </p:blipFill>
        <p:spPr>
          <a:xfrm>
            <a:off x="449280" y="1773360"/>
            <a:ext cx="2052720" cy="273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360" y="380520"/>
            <a:ext cx="597528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Основная идея метода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17" descr="foto0042"/>
          <p:cNvPicPr/>
          <p:nvPr/>
        </p:nvPicPr>
        <p:blipFill>
          <a:blip r:embed="rId1"/>
          <a:stretch/>
        </p:blipFill>
        <p:spPr>
          <a:xfrm>
            <a:off x="6084720" y="1557360"/>
            <a:ext cx="2808360" cy="210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7" name="Picture 18" descr="children"/>
          <p:cNvPicPr/>
          <p:nvPr/>
        </p:nvPicPr>
        <p:blipFill>
          <a:blip r:embed="rId2"/>
          <a:stretch/>
        </p:blipFill>
        <p:spPr>
          <a:xfrm>
            <a:off x="4716360" y="3357720"/>
            <a:ext cx="2276640" cy="1533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8" name="Picture 20" descr="school13_jpg"/>
          <p:cNvPicPr/>
          <p:nvPr/>
        </p:nvPicPr>
        <p:blipFill>
          <a:blip r:embed="rId3"/>
          <a:stretch/>
        </p:blipFill>
        <p:spPr>
          <a:xfrm>
            <a:off x="6084720" y="4653000"/>
            <a:ext cx="2737080" cy="181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4321080" cy="647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онтессори-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5013000"/>
            <a:ext cx="8229600" cy="129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zal1"/>
          <p:cNvPicPr/>
          <p:nvPr/>
        </p:nvPicPr>
        <p:blipFill>
          <a:blip r:embed="rId1"/>
          <a:stretch/>
        </p:blipFill>
        <p:spPr>
          <a:xfrm>
            <a:off x="395280" y="1484280"/>
            <a:ext cx="3527280" cy="2273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3" name="Picture 8" descr="table"/>
          <p:cNvPicPr/>
          <p:nvPr/>
        </p:nvPicPr>
        <p:blipFill>
          <a:blip r:embed="rId2"/>
          <a:stretch/>
        </p:blipFill>
        <p:spPr>
          <a:xfrm>
            <a:off x="6516720" y="1268280"/>
            <a:ext cx="2286000" cy="270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4" name="Picture 9" descr="foto0029"/>
          <p:cNvPicPr/>
          <p:nvPr/>
        </p:nvPicPr>
        <p:blipFill>
          <a:blip r:embed="rId3"/>
          <a:stretch/>
        </p:blipFill>
        <p:spPr>
          <a:xfrm>
            <a:off x="4140360" y="1773360"/>
            <a:ext cx="2160360" cy="2879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280" y="380880"/>
            <a:ext cx="604836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бластей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Жизненная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рак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енсорн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Математическ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Языков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Естественнонаучное и космическ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Двигательн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9" descr="montes"/>
          <p:cNvPicPr/>
          <p:nvPr/>
        </p:nvPicPr>
        <p:blipFill>
          <a:blip r:embed="rId7"/>
          <a:stretch/>
        </p:blipFill>
        <p:spPr>
          <a:xfrm>
            <a:off x="5076720" y="4076640"/>
            <a:ext cx="3240360" cy="2079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9" name="Picture 17" descr="0(2)"/>
          <p:cNvPicPr/>
          <p:nvPr/>
        </p:nvPicPr>
        <p:blipFill>
          <a:blip r:embed="rId8"/>
          <a:stretch/>
        </p:blipFill>
        <p:spPr>
          <a:xfrm>
            <a:off x="5067360" y="2039760"/>
            <a:ext cx="3200400" cy="1864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0" name="Text Box 18"/>
          <p:cNvSpPr/>
          <p:nvPr/>
        </p:nvSpPr>
        <p:spPr>
          <a:xfrm>
            <a:off x="6519960" y="6308640"/>
            <a:ext cx="216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ец презен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19444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3280" y="1628280"/>
            <a:ext cx="367200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7" descr="book1"/>
          <p:cNvPicPr/>
          <p:nvPr/>
        </p:nvPicPr>
        <p:blipFill>
          <a:blip r:embed="rId1"/>
          <a:stretch/>
        </p:blipFill>
        <p:spPr>
          <a:xfrm>
            <a:off x="7236000" y="1341360"/>
            <a:ext cx="1511280" cy="13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4106"/>
          <p:cNvPicPr/>
          <p:nvPr/>
        </p:nvPicPr>
        <p:blipFill>
          <a:blip r:embed="rId2"/>
          <a:stretch/>
        </p:blipFill>
        <p:spPr>
          <a:xfrm>
            <a:off x="6732720" y="3141720"/>
            <a:ext cx="2160360" cy="324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6" name="Picture 26" descr="308"/>
          <p:cNvPicPr/>
          <p:nvPr/>
        </p:nvPicPr>
        <p:blipFill>
          <a:blip r:embed="rId3"/>
          <a:stretch/>
        </p:blipFill>
        <p:spPr>
          <a:xfrm>
            <a:off x="250920" y="1197000"/>
            <a:ext cx="2305080" cy="153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7" name="Picture 28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066760" cy="3095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33080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338440" cy="5040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атериал для рисования, штрихов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арточки с шершавыми букв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1" descr="03"/>
          <p:cNvPicPr/>
          <p:nvPr/>
        </p:nvPicPr>
        <p:blipFill>
          <a:blip r:embed="rId1"/>
          <a:stretch/>
        </p:blipFill>
        <p:spPr>
          <a:xfrm>
            <a:off x="2050920" y="692280"/>
            <a:ext cx="1224000" cy="1125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pic4_jpg"/>
          <p:cNvPicPr/>
          <p:nvPr/>
        </p:nvPicPr>
        <p:blipFill>
          <a:blip r:embed="rId2"/>
          <a:stretch/>
        </p:blipFill>
        <p:spPr>
          <a:xfrm>
            <a:off x="324000" y="189000"/>
            <a:ext cx="1533240" cy="2305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3" name="Picture 16" descr="309"/>
          <p:cNvPicPr/>
          <p:nvPr/>
        </p:nvPicPr>
        <p:blipFill>
          <a:blip r:embed="rId3"/>
          <a:stretch/>
        </p:blipFill>
        <p:spPr>
          <a:xfrm>
            <a:off x="324000" y="4797360"/>
            <a:ext cx="2736720" cy="1755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4" name="Picture 18" descr="3_08_2%20(russian)_JPG"/>
          <p:cNvPicPr/>
          <p:nvPr/>
        </p:nvPicPr>
        <p:blipFill>
          <a:blip r:embed="rId4"/>
          <a:stretch/>
        </p:blipFill>
        <p:spPr>
          <a:xfrm>
            <a:off x="1116000" y="2708280"/>
            <a:ext cx="1717560" cy="172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4680000" cy="600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392720" cy="5543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Чтение текста. Дефини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частей речи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предложений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ontes4_"/>
          <p:cNvPicPr/>
          <p:nvPr/>
        </p:nvPicPr>
        <p:blipFill>
          <a:blip r:embed="rId1"/>
          <a:stretch/>
        </p:blipFill>
        <p:spPr>
          <a:xfrm>
            <a:off x="6084720" y="3645000"/>
            <a:ext cx="190836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5651640" y="6093000"/>
            <a:ext cx="2808000" cy="520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ОУ № 99 «Голубая важенка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ading"/>
          <p:cNvPicPr/>
          <p:nvPr/>
        </p:nvPicPr>
        <p:blipFill>
          <a:blip r:embed="rId2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3"/>
          <p:cNvPicPr/>
          <p:nvPr/>
        </p:nvPicPr>
        <p:blipFill>
          <a:blip r:embed="rId3"/>
          <a:stretch/>
        </p:blipFill>
        <p:spPr>
          <a:xfrm>
            <a:off x="7093080" y="620640"/>
            <a:ext cx="1892160" cy="280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2" name="Picture 1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641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9:29:53Z</dcterms:created>
  <dc:creator>Вера</dc:creator>
  <dc:description/>
  <dc:language>en-US</dc:language>
  <cp:lastModifiedBy>LEGION</cp:lastModifiedBy>
  <dcterms:modified xsi:type="dcterms:W3CDTF">2015-01-26T14:03:37Z</dcterms:modified>
  <cp:revision>94</cp:revision>
  <dc:subject/>
  <dc:title>Методика Марии Монтесс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