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4.jpeg" ContentType="image/jpeg"/>
  <Override PartName="/ppt/media/image21.gif" ContentType="image/gif"/>
  <Override PartName="/ppt/media/image1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gif" ContentType="image/gif"/>
  <Override PartName="/ppt/media/image27.jpeg" ContentType="image/jpeg"/>
  <Override PartName="/ppt/media/image5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33.gif" ContentType="image/gif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36.gif" ContentType="image/gif"/>
  <Override PartName="/ppt/media/image49.jpeg" ContentType="image/jpeg"/>
  <Override PartName="/ppt/media/image54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55.gif" ContentType="image/gif"/>
  <Override PartName="/ppt/media/image9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D842-3C2F-47EA-BC66-0BD38ACDAE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school.edu.ru/catalog.asp?cat_ob_no=222&amp;ob_no=12287&amp;oll.ob_no_to=" TargetMode="External"/><Relationship Id="rId2" Type="http://schemas.openxmlformats.org/officeDocument/2006/relationships/hyperlink" Target="http://biblio.narod.ru/gyrnal/montes/mont_sod.htm" TargetMode="External"/><Relationship Id="rId3" Type="http://schemas.openxmlformats.org/officeDocument/2006/relationships/hyperlink" Target="http://school.edu.ru/catalog.asp?cat_ob_no=222&amp;ob_no=12283&amp;oll.ob_no_to=" TargetMode="External"/><Relationship Id="rId4" Type="http://schemas.openxmlformats.org/officeDocument/2006/relationships/hyperlink" Target="http://karmashov.perm.ru/montesor.htm" TargetMode="External"/><Relationship Id="rId5" Type="http://schemas.openxmlformats.org/officeDocument/2006/relationships/hyperlink" Target="http://razinov.psychology.onego.ru/experiment/5.html" TargetMode="External"/><Relationship Id="rId6" Type="http://schemas.openxmlformats.org/officeDocument/2006/relationships/hyperlink" Target="http://razinov.psychology.onego.ru/experiment/montes.html" TargetMode="External"/><Relationship Id="rId7" Type="http://schemas.openxmlformats.org/officeDocument/2006/relationships/slide" Target="../slides/slide17.xml"/><Relationship Id="rId8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5E7E-6280-4E2F-979A-C03404459A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етодика Марии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797F-6719-4366-9D32-987CC75ADA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848C-0416-455F-A523-182F5FC6AA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Естественнонаучное и космическ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Центральная идея космического воспитания – познание человека во всем многообразии и сложности, его места в культуре, истории, природе. Микрокосмос – это я, мой дом, моя мама, моя школа. Макрокосмос – тысячи других прекрасных жизней, имеющих такие же права, как и 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ария Монтессори показала, как работая с детьми, выучить малыша быть наблюдательным, восхищаться даже самой незначительной частичкой мира, будь то цветок или муравейник, не только понимать гармонию природы, но и беречь ее, работать с книгами, выражать свои мысли разными способами: с помощью письма, речи, живописи, скульптуры, жестов. Сделать так, чтобы размышления о мире и жизни стали ежедневной привыч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Ребенок получает первые знания о физике, химии, биологии, географии, астрономии и многом друг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C7EC-7161-4E94-9BA7-A9CBAE3FF9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Естественнонаучное и космическ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C618-1E21-448A-A289-643FF91974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вигате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Двигательные упражнения развивают ребенка физичес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и помогают ему почувствовать свое тело и осозн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свои возможности.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Физическая свобода - первостепенная потребность дет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М. Монтессори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сравнивает школьные парты с ортопедической повязкой на позвоночник ребенка, которая калечит его физическое и психическое здоровье. Создание </a:t>
            </a:r>
            <a:r>
              <a:rPr b="0" i="1" lang="ru-RU" sz="1200" spc="-1" strike="noStrike">
                <a:solidFill>
                  <a:srgbClr val="808080"/>
                </a:solidFill>
                <a:latin typeface="Arial"/>
              </a:rPr>
              <a:t>Дома ребенка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она начала с того, что продумала условия сохранения двигательной свободы детей, при разработке методик обучения особенно учитывались возможности их двигательной активности.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F056-ADE2-4781-A9A0-B6041CA5D1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вигате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1CD5-96FD-45F8-BD9F-E8B48F651F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Двигатель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«Мотушками»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Монтессори называла катушки, на которые намотаны цветные нитки.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 корзинку кладутся катушки с цветными нитками, из которых можно составлять пары по цвету. На первом этапе работы в набор входят две катушки красного цвета, две синего и две желтого. 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едагог показывает малышу, как можно составить из катушек пары. Например, можно поставить одну красную катушку на другую, а затем достроить столбик двумя синими катушками и двумя желтыми. Ребенок пробует повторить это построение, сравнивает и сортирует катушки по признаку цвета и именно на этом концентрирует свое внимание. 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Группе детей можно предложить подвижную игру 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«Найди пару».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ети произвольно движутся по группе. По условному сигналу они должны быстро отыскать свою «цветную» пару, взяться за руки и построиться на линии (в кругу). Пара, оказавшаяся последней, выбывает из игры. Игра продолжается до тех пор, пока не останется одна пара победителей.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озможен вариант с использованием «домиков». На полу разложены обручи (или веревочные кольца). Партнеры должны не только отыскать друг друга, но и вовремя занять свободный дом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4811-BA93-4127-A91A-E477662852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еномен педагогики Монтессори заключается в ее безграничной вере в природу ребенка, в ее стремлении исключить какое-либо авторитарное давление на формирующегося человека, а также в ориентации н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бодную, самостоятельную, активную личность!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8B01-5A94-4A1E-B879-418BE534BC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Интернет-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 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едагогическая система Монтессори: характеристика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Центр Монтессори (сведения о деятельности центра и его миссии). Актуальные педагогические проблемы воспитания и обучения детей. Понятие "творческий ребенок": развитие творческих способностей, результаты творчества, игра в творчество, перечень рекомендуемой литературы. Подготовка кадров для дошкольных учреждений.</a:t>
            </a:r>
            <a:br>
              <a:rPr sz="1200"/>
            </a:b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iblio.narod.ru/gyrnal/montes/mont_sod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етодика Марии Монтессори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олный текст методики развития детей итальянского педагога-дефектолога. Материалы для развития чувств, мышления, речи. Имеется предисловие с описанием современной версии методики. </a:t>
            </a:r>
            <a:br>
              <a:rPr sz="1200"/>
            </a:b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karmashov.perm.ru/montes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razinov.psychology.onego.ru/experiment/5.html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- о средней школе № 5, г. Петрозавод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razinov.psychology.onego.ru/experiment/montes.html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- о ДОУ № 99 «Голубая важен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www.ozon.ru/context/detail/id/869624/?partner=englang  – «Вижу, слышу, чувствую», уроки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metodika-montessory.narod.ru/zaniatia.htm   - занятия по методике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www.rebenok.com/info/study/montessori_group/  - занятия, пособ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parent.fio.ru/news.php?n=15456&amp;c=308  – о школах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defacto.examen.ru/db/ExamineBase/catdoc_id/D469A977E8228C9AC3256B49003C61F2/rootid/9327995FB7A6D40FC3256A02002CE0D5/defacto.html  - особенности ис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идактических материалов в системе Монтессор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www.montessori-center.ru/ - сайт о Монтессори для родителей и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school.edu.ru/catalog.asp?cat_ob_no=222&amp;oll.ob no to=   - игры по методике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28CB-1CE6-4F46-8BB8-63555F43B7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Система Марии Монтессори,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итальянского педагога-гуманиста (1870-1952) уже давно пользуется мировым признанием и получила самое широкое распространение. Педагогика Монтессори - замечательный пример эффективной практической реализации идей свободного вос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Основным отличием метода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Монтессори от традиционных детских садов является отношение к ребенку как к уникальной, неповторимой личности, со своим собственным планом развития, своими собственными способами и сроками освоения окружающего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ED8A-9381-4750-961A-EA8BDA85D7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онтессори была убеждена, что практически любой ребенок является нормальным человеком, способным открыть себя в активной деятельности. Эта деятельность, направленная на освоение окружающего его мира, на вхождение в культуру, созданную предшествующими поколениями, приводила к реализации заложенного в формирующейся личности потенциала, к полноценному физическому и духовному развит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2E32-2332-44D0-BE12-33220A1DE3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Основная идея метода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Монтессори заключается в стимулировании ребенка к саморазвитию, поместив его в подготовленную среду, имеющую четкую логику построения и соответствующую психологическим потребностям ребен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Задачей же воспитателя или учителя является помочь ребенку организовать свою деятельность в этой среде, пойти свои собственным, уникальным путем, реализовать свой творческий потенц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3020-C8F2-437B-BAC4-7179025E83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Монтессори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Arial"/>
              </a:rPr>
              <a:t>В методе Монтессори нет классно-урочной системы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, вместо школьных парт - легкие переносные столы и стулья + коврики, на которых занимаются на полу. Монтессори-учитель не является центром класса, как в традиционной школе. Он не сидит за столом, а проводит время в индивидуальных занятиях с детьми. 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Монтессори-учитель вмешивается в деятельность ребенка только тогда, когда это необходим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59F8-4A0A-4EF7-8221-5A7930798A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одготовленная среда имеет четкую логику построения и содержит все необходимые материалы из следующих 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областей развит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Жизненная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р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Сенсор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атематическ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Естественнонаучное и космическ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вигательное развит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16A0-723C-48C5-8410-D3A811B9F1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алышу как носителю языка необходимы материалы, служащие языковому развитию, без которого невозможен полноценный интеллектуальный рост. Здесь малыш получает возможность расширить свой словарный запас, познакомиться с буквами, обводя пальчиком шершавые буквы и рисуя на манной крупе, а также научиться составлять слова с помощью подвижного алфави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A0F3-B5D8-44DB-9C8F-A36C6D1E2C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Письмо и чтение стоят близко друг от друга. Но М. Монтессори замечает, что это два различных процесса. Письмо имеет психомоторный характер и предшествует чтению, в основе которого более сложная психическая деятельность ребе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Дидактический материал, позволяющий детям легко овладеть техникой письма, состоит из трех основных групп и многочисленных упражн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Материал для рисования, штрихо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Карточки с шершавыми букв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Подвижный алфавит нескольких ви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Детям, стремящимся тренировать себя в уверенном письме, можно предложить различные варианты прописей и шрифтовых карточ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Ребенок приходит к тому, что процесс чтения – это процесс работы со звуковыми символ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0F70-971D-4EDB-A78B-1C3BBCB1D3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Дидактический материал для обучения чтению состоит из нескольких частей. Логика его предъявления ребенку проста: от конкретного, ощутимого – к абстрактному, к символам. Одновременно и всегда соблюдается принцип расширения запаса слов ребенка, а также их классификация и упорядочивание, объединение в группы, анализ и синте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Весь материал делится на несколько групп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Классификация слов и предметные игры со зву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Розовая серия – материал для первого чт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Голубая серия – материал для правильного чтения трудных с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Чтение текста. Дефини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Анализ частей речи. Симв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Анализ предложений. Симв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BCC-F3B1-4420-82C7-31ABEAF2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602-398A-4D6C-9C0E-E2FDB436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9A1-62CE-46D4-98BA-EEC1EBC7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99B-7241-4B5B-BE61-CC7BD8DE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E94-93E4-445B-A7FB-77E212CA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6AD-0499-44C5-8838-8DA977F4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543C-45A0-4E7F-9E82-32ADCA62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2B6-7123-4E72-A7D4-4A977558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889-CB82-4345-85EF-60B1FE65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579-5891-4A06-9FDB-1F9E453E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B9D1-19DB-4034-B423-87C0B78F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F29-AE5F-4721-A15A-FB107DCB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2639-7A5D-4B4D-8C71-9DCDAF16807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" Target="slide6.xml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" Target="slide6.xml"/><Relationship Id="rId6" Type="http://schemas.openxmlformats.org/officeDocument/2006/relationships/image" Target="../media/image33.gif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" Target="slide6.xml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hool.edu.ru/catalog.asp?cat_ob_no=222&amp;ob_no=12287&amp;oll.ob_no_to=" TargetMode="External"/><Relationship Id="rId2" Type="http://schemas.openxmlformats.org/officeDocument/2006/relationships/hyperlink" Target="http://biblio.narod.ru/gyrnal/montes/mont_sod.htm" TargetMode="External"/><Relationship Id="rId3" Type="http://schemas.openxmlformats.org/officeDocument/2006/relationships/hyperlink" Target="http://school.edu.ru/catalog.asp?cat_ob_no=222&amp;ob_no=12283&amp;oll.ob_no_to=" TargetMode="External"/><Relationship Id="rId4" Type="http://schemas.openxmlformats.org/officeDocument/2006/relationships/hyperlink" Target="http://karmashov.perm.ru/montesor.htm" TargetMode="External"/><Relationship Id="rId5" Type="http://schemas.openxmlformats.org/officeDocument/2006/relationships/hyperlink" Target="http://razinov.psychology.onego.ru/experiment/5.html" TargetMode="External"/><Relationship Id="rId6" Type="http://schemas.openxmlformats.org/officeDocument/2006/relationships/hyperlink" Target="http://razinov.psychology.onego.ru/experiment/montes.html" TargetMode="External"/><Relationship Id="rId7" Type="http://schemas.openxmlformats.org/officeDocument/2006/relationships/hyperlink" Target="http://www.ozon.ru/context/detail/id/869624/?partner=englang" TargetMode="External"/><Relationship Id="rId8" Type="http://schemas.openxmlformats.org/officeDocument/2006/relationships/hyperlink" Target="http://metodika-montessory.narod.ru/zaniatia.htm" TargetMode="External"/><Relationship Id="rId9" Type="http://schemas.openxmlformats.org/officeDocument/2006/relationships/hyperlink" Target="http://www.rebenok.com/info/study/montessori_group/" TargetMode="External"/><Relationship Id="rId10" Type="http://schemas.openxmlformats.org/officeDocument/2006/relationships/hyperlink" Target="http://parent.fio.ru/news.php?n=15456&amp;c=308" TargetMode="External"/><Relationship Id="rId11" Type="http://schemas.openxmlformats.org/officeDocument/2006/relationships/hyperlink" Target="http://defacto.examen.ru/db/ExamineBase/catdoc_id/D469A977E8228C9AC3256B49003C61F2/rootid/9327995FB7A6D40FC3256A02002CE0D5/defacto.html" TargetMode="External"/><Relationship Id="rId12" Type="http://schemas.openxmlformats.org/officeDocument/2006/relationships/hyperlink" Target="http://www.montessori-center.ru/" TargetMode="External"/><Relationship Id="rId13" Type="http://schemas.openxmlformats.org/officeDocument/2006/relationships/hyperlink" Target="http://school.edu.ru/catalog.asp?cat_ob_no=222&amp;oll.ob_no_to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8.xml"/><Relationship Id="rId3" Type="http://schemas.openxmlformats.org/officeDocument/2006/relationships/slide" Target="slide28.xml"/><Relationship Id="rId4" Type="http://schemas.openxmlformats.org/officeDocument/2006/relationships/slide" Target="slide7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" Target="slide1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802"/>
          <p:cNvPicPr/>
          <p:nvPr/>
        </p:nvPicPr>
        <p:blipFill>
          <a:blip r:embed="rId1"/>
          <a:stretch/>
        </p:blipFill>
        <p:spPr>
          <a:xfrm>
            <a:off x="3059280" y="2205000"/>
            <a:ext cx="2803320" cy="4248360"/>
          </a:xfrm>
          <a:prstGeom prst="rect">
            <a:avLst/>
          </a:prstGeom>
          <a:ln w="0">
            <a:noFill/>
          </a:ln>
        </p:spPr>
      </p:pic>
      <p:sp>
        <p:nvSpPr>
          <p:cNvPr id="49" name="WordArt 12"/>
          <p:cNvSpPr txBox="1"/>
          <p:nvPr/>
        </p:nvSpPr>
        <p:spPr>
          <a:xfrm>
            <a:off x="826920" y="549360"/>
            <a:ext cx="7867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ика Марии Монтессори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569320" y="1700280"/>
            <a:ext cx="3797280" cy="368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Помоги мне сделать это само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11. track111.wav" descr=""/>
          <p:cNvPicPr/>
          <p:nvPr/>
        </p:nvPicPr>
        <p:blipFill>
          <a:blip r:embed="rId2"/>
          <a:stretch/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24000" y="404280"/>
            <a:ext cx="512280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Picture 4" descr="305"/>
          <p:cNvPicPr/>
          <p:nvPr/>
        </p:nvPicPr>
        <p:blipFill>
          <a:blip r:embed="rId1"/>
          <a:stretch/>
        </p:blipFill>
        <p:spPr>
          <a:xfrm>
            <a:off x="1763640" y="1341360"/>
            <a:ext cx="5688000" cy="38289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6" name="Picture 5" descr="306"/>
          <p:cNvPicPr/>
          <p:nvPr/>
        </p:nvPicPr>
        <p:blipFill>
          <a:blip r:embed="rId2"/>
          <a:stretch/>
        </p:blipFill>
        <p:spPr>
          <a:xfrm>
            <a:off x="2700360" y="1628640"/>
            <a:ext cx="4932360" cy="3438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7" name="Picture 6" descr="310"/>
          <p:cNvPicPr/>
          <p:nvPr/>
        </p:nvPicPr>
        <p:blipFill>
          <a:blip r:embed="rId3"/>
          <a:stretch/>
        </p:blipFill>
        <p:spPr>
          <a:xfrm>
            <a:off x="1619280" y="2924280"/>
            <a:ext cx="5257800" cy="33717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8" name="Picture 8" descr="pic5_jpg"/>
          <p:cNvPicPr/>
          <p:nvPr/>
        </p:nvPicPr>
        <p:blipFill>
          <a:blip r:embed="rId4"/>
          <a:stretch/>
        </p:blipFill>
        <p:spPr>
          <a:xfrm>
            <a:off x="3276720" y="1413000"/>
            <a:ext cx="3112920" cy="468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9" name="Picture 11" descr="09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59640" y="6165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5616720" cy="1152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Естественнонаучное и космическ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5699160" cy="46800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Центральная идея космического воспитания – познание человека во всем многообразии и сложности, его места в культуре, истории, природе. Микрокосмос – это я, мой дом, моя мама, моя школа. Макрокосмос – тысячи других прекрасных жизней, имеющих такие же права, как и 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рия Монтессори показала, как работая с детьми, выучить малыша быть наблюдательным, восхищаться даже самой незначительной частичкой мира, будь то цветок или муравейник, не только понимать гармонию природы, но и беречь ее, работать с книгами, выражать свои мысли разными способами: с помощью письма, речи, живописи, скульптуры, жестов. Сделать так, чтобы размышления о мире и жизни стали ежедневной привычк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бенок получает первые знания о физике, химии, биологии, географии, астрономии и многом друг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15_"/>
          <p:cNvPicPr/>
          <p:nvPr/>
        </p:nvPicPr>
        <p:blipFill>
          <a:blip r:embed="rId1"/>
          <a:stretch/>
        </p:blipFill>
        <p:spPr>
          <a:xfrm>
            <a:off x="6516720" y="1628640"/>
            <a:ext cx="2274840" cy="1710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14" name="Picture 9" descr="23_"/>
          <p:cNvPicPr/>
          <p:nvPr/>
        </p:nvPicPr>
        <p:blipFill>
          <a:blip r:embed="rId2"/>
          <a:stretch/>
        </p:blipFill>
        <p:spPr>
          <a:xfrm>
            <a:off x="6659640" y="4653000"/>
            <a:ext cx="2141640" cy="1603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15" name="Text Box 11"/>
          <p:cNvSpPr/>
          <p:nvPr/>
        </p:nvSpPr>
        <p:spPr>
          <a:xfrm>
            <a:off x="6876360" y="3716280"/>
            <a:ext cx="1739880" cy="4590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Средняя школа № 5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г. Петрозаводс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2" descr="world"/>
          <p:cNvPicPr/>
          <p:nvPr/>
        </p:nvPicPr>
        <p:blipFill>
          <a:blip r:embed="rId3"/>
          <a:stretch/>
        </p:blipFill>
        <p:spPr>
          <a:xfrm>
            <a:off x="468360" y="40464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24000" y="404280"/>
            <a:ext cx="5267520" cy="1103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Естественнонаучное и космическ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Picture 4" descr="602"/>
          <p:cNvPicPr/>
          <p:nvPr/>
        </p:nvPicPr>
        <p:blipFill>
          <a:blip r:embed="rId1"/>
          <a:stretch/>
        </p:blipFill>
        <p:spPr>
          <a:xfrm>
            <a:off x="468360" y="1773360"/>
            <a:ext cx="3311640" cy="2514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0" name="Picture 5" descr="601"/>
          <p:cNvPicPr/>
          <p:nvPr/>
        </p:nvPicPr>
        <p:blipFill>
          <a:blip r:embed="rId2"/>
          <a:stretch/>
        </p:blipFill>
        <p:spPr>
          <a:xfrm>
            <a:off x="5148360" y="1773360"/>
            <a:ext cx="3600360" cy="29923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1" name="Picture 7" descr="maps"/>
          <p:cNvPicPr/>
          <p:nvPr/>
        </p:nvPicPr>
        <p:blipFill>
          <a:blip r:embed="rId3"/>
          <a:stretch/>
        </p:blipFill>
        <p:spPr>
          <a:xfrm>
            <a:off x="324000" y="4149720"/>
            <a:ext cx="1962000" cy="2158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2" name="Picture 8" descr="pic12_jpg"/>
          <p:cNvPicPr/>
          <p:nvPr/>
        </p:nvPicPr>
        <p:blipFill>
          <a:blip r:embed="rId4"/>
          <a:stretch/>
        </p:blipFill>
        <p:spPr>
          <a:xfrm>
            <a:off x="2556000" y="3429000"/>
            <a:ext cx="1962000" cy="2951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3" name="Picture 9" descr="09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8360" y="6093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5_02_3_JPG"/>
          <p:cNvPicPr/>
          <p:nvPr/>
        </p:nvPicPr>
        <p:blipFill>
          <a:blip r:embed="rId7"/>
          <a:stretch/>
        </p:blipFill>
        <p:spPr>
          <a:xfrm>
            <a:off x="5003640" y="3645000"/>
            <a:ext cx="2665440" cy="25905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5" name="Picture 13" descr="tn_ak_19"/>
          <p:cNvPicPr/>
          <p:nvPr/>
        </p:nvPicPr>
        <p:blipFill>
          <a:blip r:embed="rId8"/>
          <a:stretch/>
        </p:blipFill>
        <p:spPr>
          <a:xfrm>
            <a:off x="2556000" y="2205000"/>
            <a:ext cx="4572000" cy="2835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4969080" cy="720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Picture 10" descr="child2"/>
          <p:cNvPicPr/>
          <p:nvPr/>
        </p:nvPicPr>
        <p:blipFill>
          <a:blip r:embed="rId1"/>
          <a:stretch/>
        </p:blipFill>
        <p:spPr>
          <a:xfrm>
            <a:off x="7164360" y="4724280"/>
            <a:ext cx="1278000" cy="1584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9" name="Picture 13" descr="d-033_tn"/>
          <p:cNvPicPr/>
          <p:nvPr/>
        </p:nvPicPr>
        <p:blipFill>
          <a:blip r:embed="rId2"/>
          <a:stretch/>
        </p:blipFill>
        <p:spPr>
          <a:xfrm>
            <a:off x="250920" y="2565360"/>
            <a:ext cx="1800000" cy="1567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0" name="Text Box 16"/>
          <p:cNvSpPr/>
          <p:nvPr/>
        </p:nvSpPr>
        <p:spPr>
          <a:xfrm>
            <a:off x="2195640" y="1413000"/>
            <a:ext cx="6438600" cy="28947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вигательные упражнения развивают ребенка физичес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помогают ему почувствовать свое тело и осозна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вои возможности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изическая свобода - первостепенная потребность детств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. Монтессори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сравнивает школьные парты с ортопедической повязкой на позвоночник ребенка, которая калечит его физическое и психическое здоровье. Создание 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Дома ребенка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она начала с того, что продумала условия сохранения двигательной свободы детей, при разработке методик обучения особенно учитывались возможности их двигательной активности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8" descr="montes1"/>
          <p:cNvPicPr/>
          <p:nvPr/>
        </p:nvPicPr>
        <p:blipFill>
          <a:blip r:embed="rId3"/>
          <a:stretch/>
        </p:blipFill>
        <p:spPr>
          <a:xfrm>
            <a:off x="1332000" y="4869000"/>
            <a:ext cx="4752720" cy="1414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2" name="Picture 21" descr="spo-badminton"/>
          <p:cNvPicPr/>
          <p:nvPr/>
        </p:nvPicPr>
        <p:blipFill>
          <a:blip r:embed="rId4"/>
          <a:stretch/>
        </p:blipFill>
        <p:spPr>
          <a:xfrm>
            <a:off x="611280" y="620640"/>
            <a:ext cx="1036440" cy="12956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39640" y="404280"/>
            <a:ext cx="519444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Picture 9" descr="m1"/>
          <p:cNvPicPr/>
          <p:nvPr/>
        </p:nvPicPr>
        <p:blipFill>
          <a:blip r:embed="rId1"/>
          <a:stretch/>
        </p:blipFill>
        <p:spPr>
          <a:xfrm>
            <a:off x="2843280" y="3860640"/>
            <a:ext cx="3600360" cy="2702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6" name="Picture 4" descr="domik2"/>
          <p:cNvPicPr/>
          <p:nvPr/>
        </p:nvPicPr>
        <p:blipFill>
          <a:blip r:embed="rId2"/>
          <a:stretch/>
        </p:blipFill>
        <p:spPr>
          <a:xfrm>
            <a:off x="539640" y="1557360"/>
            <a:ext cx="3024360" cy="2104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7" name="Picture 11" descr="m2"/>
          <p:cNvPicPr/>
          <p:nvPr/>
        </p:nvPicPr>
        <p:blipFill>
          <a:blip r:embed="rId3"/>
          <a:stretch/>
        </p:blipFill>
        <p:spPr>
          <a:xfrm>
            <a:off x="5796000" y="1557360"/>
            <a:ext cx="2736720" cy="2052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79640" y="475920"/>
            <a:ext cx="475128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2802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«Мотушками»</a:t>
            </a: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 Монтессори называла катушки, на которые намотаны цветные нитки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 корзинку кладутся катушки с цветными нитками, из которых можно составлять пары по цвету. На первом этапе работы в набор входят две катушки красного цвета, две синего и две желтого. 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Педагог показывает малышу, как можно составить из катушек пары. Например, можно поставить одну красную катушку на другую, а затем достроить столбик двумя синими катушками и двумя желтыми. Ребенок пробует повторить это построение, сравнивает и сортирует катушки по признаку цвета и именно на этом концентрирует свое внимание. 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Группе детей можно предложить подвижную игру </a:t>
            </a: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«Найди пару»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ети произвольно движутся по группе. По условному сигналу они должны быстро отыскать свою «цветную» пару, взяться за руки и построиться на линии (в кругу). Пара, оказавшаяся последней, выбывает из игры. Игра продолжается до тех пор, пока не останется одна пара победителей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озможен вариант с использованием «домиков». На полу разложены обручи (или веревочные кольца). Партнеры должны не только отыскать друг друга, но и вовремя занять свободный домик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0(1)"/>
          <p:cNvPicPr/>
          <p:nvPr/>
        </p:nvPicPr>
        <p:blipFill>
          <a:blip r:embed="rId1"/>
          <a:stretch/>
        </p:blipFill>
        <p:spPr>
          <a:xfrm>
            <a:off x="179280" y="260280"/>
            <a:ext cx="1584360" cy="12542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2" name="Picture 6" descr="0(3)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1177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3" name="Picture 8" descr="09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32720" y="6021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48000" y="2997000"/>
            <a:ext cx="5492880" cy="3168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еномен педагогики Монтессори заключается в ее безграничной вере в природу ребенка, в ее стремлении исключить какое-либо авторитарное давление на формирующегося человека, а также в ориентации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бодную, самостоятельную, активную личность! 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6" name="Picture 5" descr="titul_maria_montessori1"/>
          <p:cNvPicPr/>
          <p:nvPr/>
        </p:nvPicPr>
        <p:blipFill>
          <a:blip r:embed="rId1"/>
          <a:stretch/>
        </p:blipFill>
        <p:spPr>
          <a:xfrm>
            <a:off x="3419640" y="476280"/>
            <a:ext cx="2520720" cy="2243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7" name="Picture 8" descr="0(2)"/>
          <p:cNvPicPr/>
          <p:nvPr/>
        </p:nvPicPr>
        <p:blipFill>
          <a:blip r:embed="rId2"/>
          <a:stretch/>
        </p:blipFill>
        <p:spPr>
          <a:xfrm>
            <a:off x="395280" y="2924280"/>
            <a:ext cx="2514600" cy="3168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8" name="Picture 10" descr="0(1)"/>
          <p:cNvPicPr/>
          <p:nvPr/>
        </p:nvPicPr>
        <p:blipFill>
          <a:blip r:embed="rId3"/>
          <a:stretch/>
        </p:blipFill>
        <p:spPr>
          <a:xfrm>
            <a:off x="6732720" y="476280"/>
            <a:ext cx="1941480" cy="2232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9" name="Picture 12" descr="14"/>
          <p:cNvPicPr/>
          <p:nvPr/>
        </p:nvPicPr>
        <p:blipFill>
          <a:blip r:embed="rId4"/>
          <a:stretch/>
        </p:blipFill>
        <p:spPr>
          <a:xfrm>
            <a:off x="900000" y="83664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4176720" cy="528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Интернет-ресурсы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5256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"/>
              </a:rPr>
              <a:t>Педагогическая система Монтессори: характеристика</a:t>
            </a:r>
            <a:br>
              <a:rPr sz="1400"/>
            </a:b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Центр Монтессори (сведения о деятельности центра и его миссии). Актуальные педагогические проблемы воспитания и обучения детей. Понятие "творческий ребенок": развитие творческих способностей, результаты творчества, игра в творчество, перечень рекомендуемой литературы. Подготовка кадров для дошкольных учреждений.</a:t>
            </a:r>
            <a:br>
              <a:rPr sz="1400"/>
            </a:b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2"/>
              </a:rPr>
              <a:t>http://biblio.narod.ru/gyrnal/montes/mont_sod.ht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3"/>
              </a:rPr>
              <a:t>Методика Марии Монтессори</a:t>
            </a:r>
            <a:br>
              <a:rPr sz="1400"/>
            </a:b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лный текст методики развития детей итальянского педагога-дефектолога. Материалы для развития чувств, мышления, речи. Имеется предисловие с описанием современной версии методики. </a:t>
            </a:r>
            <a:br>
              <a:rPr sz="1400"/>
            </a:b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4"/>
              </a:rPr>
              <a:t>http://karmashov.perm.ru/montesor.ht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5"/>
              </a:rPr>
              <a:t>http://razinov.psychology.onego.ru/experiment/5.html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о средней школе № 5, г. Петрозаводс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6"/>
              </a:rPr>
              <a:t>http://razinov.psychology.onego.ru/experiment/montes.html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о ДОУ № 99 «Голубая важенк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7"/>
              </a:rPr>
              <a:t>http://www.ozon.ru/context/detail/id/869624/?partner=englang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– «Вижу, слышу, чувствую», уроки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8"/>
              </a:rPr>
              <a:t>http://metodika-montessory.narod.ru/zaniatia.htm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- занятия по методике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9"/>
              </a:rPr>
              <a:t>http://www.rebenok.com/info/study/montessori_group/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занятия, пособ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0"/>
              </a:rPr>
              <a:t>http://parent.fio.ru/news.php?n=15456&amp;c=308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– о школах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1"/>
              </a:rPr>
              <a:t>http://defacto.examen.ru/db/ExamineBase/catdoc_id/D469A977E8228C9AC3256B49003C61F2/rootid/9327995FB7A6D40FC3256A02002CE0D5/defacto.html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особенности использ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идактических материалов в системе Монтессор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2"/>
              </a:rPr>
              <a:t>http://www.montessori-center.ru/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- сайт о Монтессори для родителей и педагог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3"/>
              </a:rPr>
              <a:t>http://school.edu.ru/catalog.asp?cat_ob_no=222&amp;oll.ob no to=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- игры по методике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4932360" y="4653000"/>
            <a:ext cx="287280" cy="360360"/>
          </a:xfrm>
          <a:custGeom>
            <a:avLst/>
            <a:gdLst>
              <a:gd name="textAreaLeft" fmla="*/ 0 w 287280"/>
              <a:gd name="textAreaRight" fmla="*/ 103680 w 2872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380520"/>
            <a:ext cx="6119640" cy="887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87280" y="1981080"/>
            <a:ext cx="5699160" cy="38959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Система Марии Монтессори,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итальянского педагога-гуманиста (1870-1952) уже давно пользуется мировым признанием и получила самое широкое распространение. Педагогика Монтессори - замечательный пример эффективной практической реализации идей свободного воспит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Основным отличием метода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Монтессори от традиционных детских садов является отношение к ребенку как к уникальной, неповторимой личности, со своим собственным планом развития, своими собственными способами и сроками освоения окружающего ми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10" descr="flower"/>
          <p:cNvPicPr/>
          <p:nvPr/>
        </p:nvPicPr>
        <p:blipFill>
          <a:blip r:embed="rId1"/>
          <a:stretch/>
        </p:blipFill>
        <p:spPr>
          <a:xfrm>
            <a:off x="395280" y="2492280"/>
            <a:ext cx="1987560" cy="288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6337440" cy="960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43280" y="2133360"/>
            <a:ext cx="4038480" cy="33922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Монтессори была убеждена, что практически любой ребенок является нормальным человеком, способным открыть себя в активной деятельности. Эта деятельность, направленная на освоение окружающего его мира, на вхождение в культуру, созданную предшествующими поколениями, приводила к реализации заложенного в формирующейся личности потенциала, к полноценному физическому и духовному развитию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12" descr="item(1)"/>
          <p:cNvPicPr/>
          <p:nvPr/>
        </p:nvPicPr>
        <p:blipFill>
          <a:blip r:embed="rId1"/>
          <a:stretch/>
        </p:blipFill>
        <p:spPr>
          <a:xfrm>
            <a:off x="7164360" y="4292640"/>
            <a:ext cx="1779480" cy="2160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0" name="Picture 13" descr="pic8_jpg"/>
          <p:cNvPicPr/>
          <p:nvPr/>
        </p:nvPicPr>
        <p:blipFill>
          <a:blip r:embed="rId2"/>
          <a:stretch/>
        </p:blipFill>
        <p:spPr>
          <a:xfrm>
            <a:off x="7236000" y="1773360"/>
            <a:ext cx="1538280" cy="2303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1" name="Picture 16" descr="foto0048"/>
          <p:cNvPicPr/>
          <p:nvPr/>
        </p:nvPicPr>
        <p:blipFill>
          <a:blip r:embed="rId3"/>
          <a:stretch/>
        </p:blipFill>
        <p:spPr>
          <a:xfrm>
            <a:off x="395280" y="4724280"/>
            <a:ext cx="2303640" cy="1727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2" name="Picture 18" descr="foto0050"/>
          <p:cNvPicPr/>
          <p:nvPr/>
        </p:nvPicPr>
        <p:blipFill>
          <a:blip r:embed="rId4"/>
          <a:stretch/>
        </p:blipFill>
        <p:spPr>
          <a:xfrm>
            <a:off x="449280" y="1773360"/>
            <a:ext cx="2052720" cy="2736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92360" y="380520"/>
            <a:ext cx="5975280" cy="887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Основная идея метода</a:t>
            </a: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Монтессори заключается в стимулировании ребенка к саморазвитию, поместив его в подготовленную среду, имеющую четкую логику построения и соответствующую психологическим потребностям ребен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Задачей же воспитателя или учителя является помочь ребенку организовать свою деятельность в этой среде, пойти свои собственным, уникальным путем, реализовать свой творческий потенциа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17" descr="foto0042"/>
          <p:cNvPicPr/>
          <p:nvPr/>
        </p:nvPicPr>
        <p:blipFill>
          <a:blip r:embed="rId1"/>
          <a:stretch/>
        </p:blipFill>
        <p:spPr>
          <a:xfrm>
            <a:off x="6084720" y="1557360"/>
            <a:ext cx="2808360" cy="2106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7" name="Picture 18" descr="children"/>
          <p:cNvPicPr/>
          <p:nvPr/>
        </p:nvPicPr>
        <p:blipFill>
          <a:blip r:embed="rId2"/>
          <a:stretch/>
        </p:blipFill>
        <p:spPr>
          <a:xfrm>
            <a:off x="4716360" y="3357720"/>
            <a:ext cx="2276640" cy="15332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8" name="Picture 20" descr="school13_jpg"/>
          <p:cNvPicPr/>
          <p:nvPr/>
        </p:nvPicPr>
        <p:blipFill>
          <a:blip r:embed="rId3"/>
          <a:stretch/>
        </p:blipFill>
        <p:spPr>
          <a:xfrm>
            <a:off x="6084720" y="4653000"/>
            <a:ext cx="2737080" cy="1817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84000" y="333000"/>
            <a:ext cx="4321080" cy="64764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онтессори-клас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5013000"/>
            <a:ext cx="8229600" cy="12970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66"/>
                </a:solidFill>
                <a:latin typeface="Arial"/>
              </a:rPr>
              <a:t>В методе Монтессори нет классно-урочной системы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, вместо школьных парт - легкие переносные столы и стулья + коврики, на которых занимаются на полу. Монтессори-учитель не является центром класса, как в традиционной школе. Он не сидит за столом, а проводит время в индивидуальных занятиях с детьми.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онтессори-учитель вмешивается в деятельность ребенка только тогда, когда это необходим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7" descr="zal1"/>
          <p:cNvPicPr/>
          <p:nvPr/>
        </p:nvPicPr>
        <p:blipFill>
          <a:blip r:embed="rId1"/>
          <a:stretch/>
        </p:blipFill>
        <p:spPr>
          <a:xfrm>
            <a:off x="395280" y="1484280"/>
            <a:ext cx="3527280" cy="22734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3" name="Picture 8" descr="table"/>
          <p:cNvPicPr/>
          <p:nvPr/>
        </p:nvPicPr>
        <p:blipFill>
          <a:blip r:embed="rId2"/>
          <a:stretch/>
        </p:blipFill>
        <p:spPr>
          <a:xfrm>
            <a:off x="6516720" y="1268280"/>
            <a:ext cx="2286000" cy="2708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4" name="Picture 9" descr="foto0029"/>
          <p:cNvPicPr/>
          <p:nvPr/>
        </p:nvPicPr>
        <p:blipFill>
          <a:blip r:embed="rId3"/>
          <a:stretch/>
        </p:blipFill>
        <p:spPr>
          <a:xfrm>
            <a:off x="4140360" y="1773360"/>
            <a:ext cx="2160360" cy="2879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63280" y="380880"/>
            <a:ext cx="6048360" cy="960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Подготовленная среда имеет четкую логику построения и содержит все необходимые материалы из следующих </a:t>
            </a: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областей развит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Жизненная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прак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енсорное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Математическое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Языковое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Естественнонаучное и космическое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Двигательное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развит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9" descr="montes"/>
          <p:cNvPicPr/>
          <p:nvPr/>
        </p:nvPicPr>
        <p:blipFill>
          <a:blip r:embed="rId7"/>
          <a:stretch/>
        </p:blipFill>
        <p:spPr>
          <a:xfrm>
            <a:off x="5076720" y="4076640"/>
            <a:ext cx="3240360" cy="2079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9" name="Picture 17" descr="0(2)"/>
          <p:cNvPicPr/>
          <p:nvPr/>
        </p:nvPicPr>
        <p:blipFill>
          <a:blip r:embed="rId8"/>
          <a:stretch/>
        </p:blipFill>
        <p:spPr>
          <a:xfrm>
            <a:off x="5067360" y="2039760"/>
            <a:ext cx="3200400" cy="1864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80" name="Text Box 18"/>
          <p:cNvSpPr/>
          <p:nvPr/>
        </p:nvSpPr>
        <p:spPr>
          <a:xfrm>
            <a:off x="6519960" y="6308640"/>
            <a:ext cx="216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Конец презентац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5194440" cy="744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43280" y="1628280"/>
            <a:ext cx="3672000" cy="45370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Малышу как носителю языка необходимы материалы, служащие языковому развитию, без которого невозможен полноценный интеллектуальный рост. Здесь малыш получает возможность расширить свой словарный запас, познакомиться с буквами, обводя пальчиком шершавые буквы и рисуя на манной крупе, а также научиться составлять слова с помощью подвижного алфави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17" descr="book1"/>
          <p:cNvPicPr/>
          <p:nvPr/>
        </p:nvPicPr>
        <p:blipFill>
          <a:blip r:embed="rId1"/>
          <a:stretch/>
        </p:blipFill>
        <p:spPr>
          <a:xfrm>
            <a:off x="7236000" y="1341360"/>
            <a:ext cx="1511280" cy="1355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4106"/>
          <p:cNvPicPr/>
          <p:nvPr/>
        </p:nvPicPr>
        <p:blipFill>
          <a:blip r:embed="rId2"/>
          <a:stretch/>
        </p:blipFill>
        <p:spPr>
          <a:xfrm>
            <a:off x="6732720" y="3141720"/>
            <a:ext cx="2160360" cy="324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86" name="Picture 26" descr="308"/>
          <p:cNvPicPr/>
          <p:nvPr/>
        </p:nvPicPr>
        <p:blipFill>
          <a:blip r:embed="rId3"/>
          <a:stretch/>
        </p:blipFill>
        <p:spPr>
          <a:xfrm>
            <a:off x="250920" y="1197000"/>
            <a:ext cx="2305080" cy="1538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87" name="Picture 28" descr=""/>
          <p:cNvPicPr/>
          <p:nvPr/>
        </p:nvPicPr>
        <p:blipFill>
          <a:blip r:embed="rId4"/>
          <a:stretch/>
        </p:blipFill>
        <p:spPr>
          <a:xfrm>
            <a:off x="395280" y="3213000"/>
            <a:ext cx="2066760" cy="3095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24360" y="333360"/>
            <a:ext cx="4330800" cy="720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19280" y="1196640"/>
            <a:ext cx="5338440" cy="5040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Письмо и чтение стоят близко друг от друга. Но М. Монтессори замечает, что это два различных процесса. Письмо имеет психомоторный характер и предшествует чтению, в основе которого более сложная психическая деятельность ребенк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идактический материал, позволяющий детям легко овладеть техникой письма, состоит из трех основных групп и многочисленных упражнени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Материал для рисования, штрихов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Карточки с шершавыми букв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Подвижный алфавит нескольких вид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етям, стремящимся тренировать себя в уверенном письме, можно предложить различные варианты прописей и шрифтовых карточе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Ребенок приходит к тому, что процесс чтения – это процесс работы со звуковыми символам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1" descr="03"/>
          <p:cNvPicPr/>
          <p:nvPr/>
        </p:nvPicPr>
        <p:blipFill>
          <a:blip r:embed="rId1"/>
          <a:stretch/>
        </p:blipFill>
        <p:spPr>
          <a:xfrm>
            <a:off x="2050920" y="692280"/>
            <a:ext cx="1224000" cy="1125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pic4_jpg"/>
          <p:cNvPicPr/>
          <p:nvPr/>
        </p:nvPicPr>
        <p:blipFill>
          <a:blip r:embed="rId2"/>
          <a:stretch/>
        </p:blipFill>
        <p:spPr>
          <a:xfrm>
            <a:off x="324000" y="189000"/>
            <a:ext cx="1533240" cy="2305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93" name="Picture 16" descr="309"/>
          <p:cNvPicPr/>
          <p:nvPr/>
        </p:nvPicPr>
        <p:blipFill>
          <a:blip r:embed="rId3"/>
          <a:stretch/>
        </p:blipFill>
        <p:spPr>
          <a:xfrm>
            <a:off x="324000" y="4797360"/>
            <a:ext cx="2736720" cy="1755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94" name="Picture 18" descr="3_08_2%20(russian)_JPG"/>
          <p:cNvPicPr/>
          <p:nvPr/>
        </p:nvPicPr>
        <p:blipFill>
          <a:blip r:embed="rId4"/>
          <a:stretch/>
        </p:blipFill>
        <p:spPr>
          <a:xfrm>
            <a:off x="1116000" y="2708280"/>
            <a:ext cx="1717560" cy="1728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4680000" cy="600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392720" cy="554364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идактический материал для обучения чтению состоит из нескольких частей. Логика его предъявления ребенку проста: от конкретного, ощутимого – к абстрактному, к символам. Одновременно и всегда соблюдается принцип расширения запаса слов ребенка, а также их классификация и упорядочивание, объединение в группы, анализ и синтез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есь материал делится на несколько групп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Классификация слов и предметные игры со звук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Розовая серия – материал для первого чт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Голубая серия – материал для правильного чтения трудных сл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Чтение текста. Дефиниц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Анализ частей речи. Символ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Анализ предложений. Символ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montes4_"/>
          <p:cNvPicPr/>
          <p:nvPr/>
        </p:nvPicPr>
        <p:blipFill>
          <a:blip r:embed="rId1"/>
          <a:stretch/>
        </p:blipFill>
        <p:spPr>
          <a:xfrm>
            <a:off x="6084720" y="3645000"/>
            <a:ext cx="1908360" cy="2232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99" name="Text Box 6"/>
          <p:cNvSpPr/>
          <p:nvPr/>
        </p:nvSpPr>
        <p:spPr>
          <a:xfrm>
            <a:off x="5651640" y="6093000"/>
            <a:ext cx="2808000" cy="5202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ДОУ № 99 «Голубая важенка»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г. Петрозаводс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reading"/>
          <p:cNvPicPr/>
          <p:nvPr/>
        </p:nvPicPr>
        <p:blipFill>
          <a:blip r:embed="rId2"/>
          <a:stretch/>
        </p:blipFill>
        <p:spPr>
          <a:xfrm>
            <a:off x="179280" y="189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3"/>
          <p:cNvPicPr/>
          <p:nvPr/>
        </p:nvPicPr>
        <p:blipFill>
          <a:blip r:embed="rId3"/>
          <a:stretch/>
        </p:blipFill>
        <p:spPr>
          <a:xfrm>
            <a:off x="7093080" y="620640"/>
            <a:ext cx="1892160" cy="2808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2" name="Picture 12" descr=""/>
          <p:cNvPicPr/>
          <p:nvPr/>
        </p:nvPicPr>
        <p:blipFill>
          <a:blip r:embed="rId4"/>
          <a:stretch/>
        </p:blipFill>
        <p:spPr>
          <a:xfrm>
            <a:off x="5003640" y="1484280"/>
            <a:ext cx="1873440" cy="1641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9:29:53Z</dcterms:created>
  <dc:creator>Вера</dc:creator>
  <dc:description/>
  <dc:language>en-US</dc:language>
  <cp:lastModifiedBy>LEGION</cp:lastModifiedBy>
  <dcterms:modified xsi:type="dcterms:W3CDTF">2015-01-26T14:03:37Z</dcterms:modified>
  <cp:revision>94</cp:revision>
  <dc:subject/>
  <dc:title>Методика Марии Монтессор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