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3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36.gif" ContentType="image/gif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4586-111D-43CF-AE8C-F32784850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slide" Target="../slides/slide17.xml"/><Relationship Id="rId8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C4CE-7B5E-40C4-95A3-AFCC3F787A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Мари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2CAA-7284-43D2-9988-7B05C408F4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F8CB-25F4-41D6-94B7-8865697C26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EACD-58A7-4386-A2A1-6B164AB200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A5C4-6123-4C88-B7A2-90EE7FB2FA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свои возможности.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. Монтессори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Дома ребенк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5475-FBFF-4020-B6C4-60769C223C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C76E-CB35-4EF7-9F3B-7F79677EE5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Мотушками»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называла катушки, на которые намотаны цветные нитки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Группе детей можно предложить подвижную игру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Найди пару»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5769-CEFE-4049-A254-2761B1BED1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E10-BF2D-4530-A9C4-5C94BD3552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 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средней школе № 5, г. Петрозавод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ДОУ № 99 «Голубая важен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ozon.ru/context/detail/id/869624/?partner=englang  – «Вижу, слышу, чувствую», урок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metodika-montessory.narod.ru/zaniatia.htm   - занятия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rebenok.com/info/study/montessori_group/  - занятия, посо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parent.fio.ru/news.php?n=15456&amp;c=308  – о школах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defacto.examen.ru/db/ExamineBase/catdoc_id/D469A977E8228C9AC3256B49003C61F2/rootid/9327995FB7A6D40FC3256A02002CE0D5/defacto.html  - особенности ис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montessori-center.ru/ - сайт о Монтессори для родителей и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school.edu.ru/catalog.asp?cat_ob_no=222&amp;oll.ob no to=   - игры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26A7-EA44-47DB-AA80-2DD51CA066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Система Марии Монтессори,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ым отличием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21CA-7142-478E-BF4D-E395CF1BC3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50E7-F62D-4560-AF10-EC2BF3698A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ая идея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DD11-BC17-45CD-8DE8-81E693727F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онтессори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C7B8-ACBB-47E9-B074-FEC2A5D46A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бластей разви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Жизненная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Сенсор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темат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894E-C15E-4B17-B06C-83391BCA99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75B0-C189-40AD-AF2E-3F1AAFCCF0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Материал для рисования, штрих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арточки с шершавы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8AFB-9F07-43F3-9870-B725773FFA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Чтение текста. Дефин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частей речи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предложений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07E-5680-4B7F-865E-8E489258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F76-5C58-4844-91BB-D57B9D54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589-113E-4A80-9E02-2683D7B4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F60-A939-446E-81C2-CBE3814C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6DA-B168-4AAC-B693-BC3E8B5E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9A4-F780-4231-BFA5-CA0AE1C4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D0E-66D3-4A18-B8D9-8AF6E553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241-BE03-4DAC-A938-A3E4650F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AAB-7BC5-4215-A6DE-80CC640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3A1-7CC6-4A9E-826B-F2A3F60C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550-EDDC-461C-9B5A-1A84467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F5A-FA54-4E93-AFB9-B820C698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7E45-934E-43E8-BEDB-352B155C33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" Target="slide6.xml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hyperlink" Target="http://www.ozon.ru/context/detail/id/869624/?partner=englang" TargetMode="External"/><Relationship Id="rId8" Type="http://schemas.openxmlformats.org/officeDocument/2006/relationships/hyperlink" Target="http://metodika-montessory.narod.ru/zaniatia.htm" TargetMode="External"/><Relationship Id="rId9" Type="http://schemas.openxmlformats.org/officeDocument/2006/relationships/hyperlink" Target="http://www.rebenok.com/info/study/montessori_group/" TargetMode="External"/><Relationship Id="rId10" Type="http://schemas.openxmlformats.org/officeDocument/2006/relationships/hyperlink" Target="http://parent.fio.ru/news.php?n=15456&amp;c=308" TargetMode="External"/><Relationship Id="rId11" Type="http://schemas.openxmlformats.org/officeDocument/2006/relationships/hyperlink" Target="http://defacto.examen.ru/db/ExamineBase/catdoc_id/D469A977E8228C9AC3256B49003C61F2/rootid/9327995FB7A6D40FC3256A02002CE0D5/defacto.html" TargetMode="External"/><Relationship Id="rId12" Type="http://schemas.openxmlformats.org/officeDocument/2006/relationships/hyperlink" Target="http://www.montessori-center.ru/" TargetMode="External"/><Relationship Id="rId13" Type="http://schemas.openxmlformats.org/officeDocument/2006/relationships/hyperlink" Target="http://school.edu.ru/catalog.asp?cat_ob_no=222&amp;oll.ob_no_to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8.xml"/><Relationship Id="rId3" Type="http://schemas.openxmlformats.org/officeDocument/2006/relationships/slide" Target="slide28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802"/>
          <p:cNvPicPr/>
          <p:nvPr/>
        </p:nvPicPr>
        <p:blipFill>
          <a:blip r:embed="rId1"/>
          <a:stretch/>
        </p:blipFill>
        <p:spPr>
          <a:xfrm>
            <a:off x="3059280" y="2205000"/>
            <a:ext cx="280332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826920" y="549360"/>
            <a:ext cx="7867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Марии Монтессори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569320" y="1700280"/>
            <a:ext cx="379728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Помоги мне сделать это сам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11. track111.wav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12280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305"/>
          <p:cNvPicPr/>
          <p:nvPr/>
        </p:nvPicPr>
        <p:blipFill>
          <a:blip r:embed="rId1"/>
          <a:stretch/>
        </p:blipFill>
        <p:spPr>
          <a:xfrm>
            <a:off x="1763640" y="1341360"/>
            <a:ext cx="5688000" cy="3828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6" name="Picture 5" descr="306"/>
          <p:cNvPicPr/>
          <p:nvPr/>
        </p:nvPicPr>
        <p:blipFill>
          <a:blip r:embed="rId2"/>
          <a:stretch/>
        </p:blipFill>
        <p:spPr>
          <a:xfrm>
            <a:off x="2700360" y="1628640"/>
            <a:ext cx="4932360" cy="343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7" name="Picture 6" descr="310"/>
          <p:cNvPicPr/>
          <p:nvPr/>
        </p:nvPicPr>
        <p:blipFill>
          <a:blip r:embed="rId3"/>
          <a:stretch/>
        </p:blipFill>
        <p:spPr>
          <a:xfrm>
            <a:off x="1619280" y="2924280"/>
            <a:ext cx="5257800" cy="3371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8" name="Picture 8" descr="pic5_jpg"/>
          <p:cNvPicPr/>
          <p:nvPr/>
        </p:nvPicPr>
        <p:blipFill>
          <a:blip r:embed="rId4"/>
          <a:stretch/>
        </p:blipFill>
        <p:spPr>
          <a:xfrm>
            <a:off x="3276720" y="1413000"/>
            <a:ext cx="3112920" cy="46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9" name="Picture 11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6165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16720" cy="1152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5699160" cy="4680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_"/>
          <p:cNvPicPr/>
          <p:nvPr/>
        </p:nvPicPr>
        <p:blipFill>
          <a:blip r:embed="rId1"/>
          <a:stretch/>
        </p:blipFill>
        <p:spPr>
          <a:xfrm>
            <a:off x="6516720" y="1628640"/>
            <a:ext cx="2274840" cy="171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4" name="Picture 9" descr="23_"/>
          <p:cNvPicPr/>
          <p:nvPr/>
        </p:nvPicPr>
        <p:blipFill>
          <a:blip r:embed="rId2"/>
          <a:stretch/>
        </p:blipFill>
        <p:spPr>
          <a:xfrm>
            <a:off x="6659640" y="4653000"/>
            <a:ext cx="2141640" cy="1603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15" name="Text Box 11"/>
          <p:cNvSpPr/>
          <p:nvPr/>
        </p:nvSpPr>
        <p:spPr>
          <a:xfrm>
            <a:off x="6876360" y="3716280"/>
            <a:ext cx="17398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Средняя школа № 5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2" descr="world"/>
          <p:cNvPicPr/>
          <p:nvPr/>
        </p:nvPicPr>
        <p:blipFill>
          <a:blip r:embed="rId3"/>
          <a:stretch/>
        </p:blipFill>
        <p:spPr>
          <a:xfrm>
            <a:off x="468360" y="40464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267520" cy="1103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Picture 4" descr="602"/>
          <p:cNvPicPr/>
          <p:nvPr/>
        </p:nvPicPr>
        <p:blipFill>
          <a:blip r:embed="rId1"/>
          <a:stretch/>
        </p:blipFill>
        <p:spPr>
          <a:xfrm>
            <a:off x="468360" y="1773360"/>
            <a:ext cx="3311640" cy="2514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0" name="Picture 5" descr="601"/>
          <p:cNvPicPr/>
          <p:nvPr/>
        </p:nvPicPr>
        <p:blipFill>
          <a:blip r:embed="rId2"/>
          <a:stretch/>
        </p:blipFill>
        <p:spPr>
          <a:xfrm>
            <a:off x="5148360" y="1773360"/>
            <a:ext cx="3600360" cy="2992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1" name="Picture 7" descr="maps"/>
          <p:cNvPicPr/>
          <p:nvPr/>
        </p:nvPicPr>
        <p:blipFill>
          <a:blip r:embed="rId3"/>
          <a:stretch/>
        </p:blipFill>
        <p:spPr>
          <a:xfrm>
            <a:off x="324000" y="4149720"/>
            <a:ext cx="1962000" cy="2158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2" name="Picture 8" descr="pic12_jpg"/>
          <p:cNvPicPr/>
          <p:nvPr/>
        </p:nvPicPr>
        <p:blipFill>
          <a:blip r:embed="rId4"/>
          <a:stretch/>
        </p:blipFill>
        <p:spPr>
          <a:xfrm>
            <a:off x="2556000" y="3429000"/>
            <a:ext cx="1962000" cy="295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3" name="Picture 9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8360" y="609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5_02_3_JPG"/>
          <p:cNvPicPr/>
          <p:nvPr/>
        </p:nvPicPr>
        <p:blipFill>
          <a:blip r:embed="rId7"/>
          <a:stretch/>
        </p:blipFill>
        <p:spPr>
          <a:xfrm>
            <a:off x="5003640" y="3645000"/>
            <a:ext cx="2665440" cy="2590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5" name="Picture 13" descr="tn_ak_19"/>
          <p:cNvPicPr/>
          <p:nvPr/>
        </p:nvPicPr>
        <p:blipFill>
          <a:blip r:embed="rId8"/>
          <a:stretch/>
        </p:blipFill>
        <p:spPr>
          <a:xfrm>
            <a:off x="2556000" y="2205000"/>
            <a:ext cx="4572000" cy="2835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496908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10" descr="child2"/>
          <p:cNvPicPr/>
          <p:nvPr/>
        </p:nvPicPr>
        <p:blipFill>
          <a:blip r:embed="rId1"/>
          <a:stretch/>
        </p:blipFill>
        <p:spPr>
          <a:xfrm>
            <a:off x="7164360" y="4724280"/>
            <a:ext cx="1278000" cy="1584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9" name="Picture 13" descr="d-033_tn"/>
          <p:cNvPicPr/>
          <p:nvPr/>
        </p:nvPicPr>
        <p:blipFill>
          <a:blip r:embed="rId2"/>
          <a:stretch/>
        </p:blipFill>
        <p:spPr>
          <a:xfrm>
            <a:off x="250920" y="2565360"/>
            <a:ext cx="1800000" cy="1567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0" name="Text Box 16"/>
          <p:cNvSpPr/>
          <p:nvPr/>
        </p:nvSpPr>
        <p:spPr>
          <a:xfrm>
            <a:off x="2195640" y="1413000"/>
            <a:ext cx="6438600" cy="28947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вои возможности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. Монтессор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Дома ребен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8" descr="montes1"/>
          <p:cNvPicPr/>
          <p:nvPr/>
        </p:nvPicPr>
        <p:blipFill>
          <a:blip r:embed="rId3"/>
          <a:stretch/>
        </p:blipFill>
        <p:spPr>
          <a:xfrm>
            <a:off x="1332000" y="4869000"/>
            <a:ext cx="4752720" cy="1414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2" name="Picture 21" descr="spo-badminton"/>
          <p:cNvPicPr/>
          <p:nvPr/>
        </p:nvPicPr>
        <p:blipFill>
          <a:blip r:embed="rId4"/>
          <a:stretch/>
        </p:blipFill>
        <p:spPr>
          <a:xfrm>
            <a:off x="611280" y="620640"/>
            <a:ext cx="103644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519444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9" descr="m1"/>
          <p:cNvPicPr/>
          <p:nvPr/>
        </p:nvPicPr>
        <p:blipFill>
          <a:blip r:embed="rId1"/>
          <a:stretch/>
        </p:blipFill>
        <p:spPr>
          <a:xfrm>
            <a:off x="2843280" y="3860640"/>
            <a:ext cx="3600360" cy="2702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6" name="Picture 4" descr="domik2"/>
          <p:cNvPicPr/>
          <p:nvPr/>
        </p:nvPicPr>
        <p:blipFill>
          <a:blip r:embed="rId2"/>
          <a:stretch/>
        </p:blipFill>
        <p:spPr>
          <a:xfrm>
            <a:off x="539640" y="1557360"/>
            <a:ext cx="3024360" cy="2104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7" name="Picture 11" descr="m2"/>
          <p:cNvPicPr/>
          <p:nvPr/>
        </p:nvPicPr>
        <p:blipFill>
          <a:blip r:embed="rId3"/>
          <a:stretch/>
        </p:blipFill>
        <p:spPr>
          <a:xfrm>
            <a:off x="5796000" y="1557360"/>
            <a:ext cx="2736720" cy="205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475128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2802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Мотушками»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Монтессори называла катушки, на которые намотаны цветные нитк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руппе детей можно предложить подвижную игру </a:t>
            </a: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Найди пару»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0(1)"/>
          <p:cNvPicPr/>
          <p:nvPr/>
        </p:nvPicPr>
        <p:blipFill>
          <a:blip r:embed="rId1"/>
          <a:stretch/>
        </p:blipFill>
        <p:spPr>
          <a:xfrm>
            <a:off x="179280" y="260280"/>
            <a:ext cx="1584360" cy="1254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2" name="Picture 6" descr="0(3)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1177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3" name="Picture 8" descr="0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6021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00" y="2997000"/>
            <a:ext cx="5492880" cy="3168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Picture 5" descr="titul_maria_montessori1"/>
          <p:cNvPicPr/>
          <p:nvPr/>
        </p:nvPicPr>
        <p:blipFill>
          <a:blip r:embed="rId1"/>
          <a:stretch/>
        </p:blipFill>
        <p:spPr>
          <a:xfrm>
            <a:off x="3419640" y="476280"/>
            <a:ext cx="2520720" cy="224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8" descr="0(2)"/>
          <p:cNvPicPr/>
          <p:nvPr/>
        </p:nvPicPr>
        <p:blipFill>
          <a:blip r:embed="rId2"/>
          <a:stretch/>
        </p:blipFill>
        <p:spPr>
          <a:xfrm>
            <a:off x="395280" y="2924280"/>
            <a:ext cx="2514600" cy="316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8" name="Picture 10" descr="0(1)"/>
          <p:cNvPicPr/>
          <p:nvPr/>
        </p:nvPicPr>
        <p:blipFill>
          <a:blip r:embed="rId3"/>
          <a:stretch/>
        </p:blipFill>
        <p:spPr>
          <a:xfrm>
            <a:off x="6732720" y="476280"/>
            <a:ext cx="194148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9" name="Picture 12" descr="14"/>
          <p:cNvPicPr/>
          <p:nvPr/>
        </p:nvPicPr>
        <p:blipFill>
          <a:blip r:embed="rId4"/>
          <a:stretch/>
        </p:blipFill>
        <p:spPr>
          <a:xfrm>
            <a:off x="900000" y="836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176720" cy="528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Интернет-ресурс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256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средней школе № 5, 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ДОУ № 99 «Голубая важен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7"/>
              </a:rPr>
              <a:t>http://www.ozon.ru/context/detail/id/869624/?partner=englang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«Вижу, слышу, чувствую», уроки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8"/>
              </a:rPr>
              <a:t>http://metodika-montessory.narod.ru/zaniatia.ht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- занятия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9"/>
              </a:rPr>
              <a:t>http://www.rebenok.com/info/study/montessori_group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занятия, пособ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0"/>
              </a:rPr>
              <a:t>http://parent.fio.ru/news.php?n=15456&amp;c=308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о школах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1"/>
              </a:rPr>
              <a:t>http://defacto.examen.ru/db/ExamineBase/catdoc_id/D469A977E8228C9AC3256B49003C61F2/rootid/9327995FB7A6D40FC3256A02002CE0D5/defacto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собенности исполь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2"/>
              </a:rPr>
              <a:t>http://www.montessori-center.ru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сайт о Монтессори для родителей и педагог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3"/>
              </a:rPr>
              <a:t>http://school.edu.ru/catalog.asp?cat_ob_no=222&amp;oll.ob no to=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игры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4932360" y="4653000"/>
            <a:ext cx="287280" cy="360360"/>
          </a:xfrm>
          <a:custGeom>
            <a:avLst/>
            <a:gdLst>
              <a:gd name="textAreaLeft" fmla="*/ 0 w 287280"/>
              <a:gd name="textAreaRight" fmla="*/ 103680 w 287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380520"/>
            <a:ext cx="611964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87280" y="1981080"/>
            <a:ext cx="5699160" cy="3895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Система Марии Монтессори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сновным отличием метода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0" descr="flower"/>
          <p:cNvPicPr/>
          <p:nvPr/>
        </p:nvPicPr>
        <p:blipFill>
          <a:blip r:embed="rId1"/>
          <a:stretch/>
        </p:blipFill>
        <p:spPr>
          <a:xfrm>
            <a:off x="395280" y="2492280"/>
            <a:ext cx="1987560" cy="28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633744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43280" y="2133360"/>
            <a:ext cx="4038480" cy="3392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2" descr="item(1)"/>
          <p:cNvPicPr/>
          <p:nvPr/>
        </p:nvPicPr>
        <p:blipFill>
          <a:blip r:embed="rId1"/>
          <a:stretch/>
        </p:blipFill>
        <p:spPr>
          <a:xfrm>
            <a:off x="7164360" y="4292640"/>
            <a:ext cx="177948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0" name="Picture 13" descr="pic8_jpg"/>
          <p:cNvPicPr/>
          <p:nvPr/>
        </p:nvPicPr>
        <p:blipFill>
          <a:blip r:embed="rId2"/>
          <a:stretch/>
        </p:blipFill>
        <p:spPr>
          <a:xfrm>
            <a:off x="7236000" y="1773360"/>
            <a:ext cx="1538280" cy="2303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1" name="Picture 16" descr="foto0048"/>
          <p:cNvPicPr/>
          <p:nvPr/>
        </p:nvPicPr>
        <p:blipFill>
          <a:blip r:embed="rId3"/>
          <a:stretch/>
        </p:blipFill>
        <p:spPr>
          <a:xfrm>
            <a:off x="395280" y="4724280"/>
            <a:ext cx="2303640" cy="1727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2" name="Picture 18" descr="foto0050"/>
          <p:cNvPicPr/>
          <p:nvPr/>
        </p:nvPicPr>
        <p:blipFill>
          <a:blip r:embed="rId4"/>
          <a:stretch/>
        </p:blipFill>
        <p:spPr>
          <a:xfrm>
            <a:off x="449280" y="1773360"/>
            <a:ext cx="2052720" cy="273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360" y="380520"/>
            <a:ext cx="597528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Основная идея метода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17" descr="foto0042"/>
          <p:cNvPicPr/>
          <p:nvPr/>
        </p:nvPicPr>
        <p:blipFill>
          <a:blip r:embed="rId1"/>
          <a:stretch/>
        </p:blipFill>
        <p:spPr>
          <a:xfrm>
            <a:off x="6084720" y="1557360"/>
            <a:ext cx="2808360" cy="210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7" name="Picture 18" descr="children"/>
          <p:cNvPicPr/>
          <p:nvPr/>
        </p:nvPicPr>
        <p:blipFill>
          <a:blip r:embed="rId2"/>
          <a:stretch/>
        </p:blipFill>
        <p:spPr>
          <a:xfrm>
            <a:off x="4716360" y="3357720"/>
            <a:ext cx="2276640" cy="1533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8" name="Picture 20" descr="school13_jpg"/>
          <p:cNvPicPr/>
          <p:nvPr/>
        </p:nvPicPr>
        <p:blipFill>
          <a:blip r:embed="rId3"/>
          <a:stretch/>
        </p:blipFill>
        <p:spPr>
          <a:xfrm>
            <a:off x="6084720" y="4653000"/>
            <a:ext cx="2737080" cy="181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4321080" cy="647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онтессори-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5013000"/>
            <a:ext cx="8229600" cy="129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zal1"/>
          <p:cNvPicPr/>
          <p:nvPr/>
        </p:nvPicPr>
        <p:blipFill>
          <a:blip r:embed="rId1"/>
          <a:stretch/>
        </p:blipFill>
        <p:spPr>
          <a:xfrm>
            <a:off x="395280" y="1484280"/>
            <a:ext cx="3527280" cy="2273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3" name="Picture 8" descr="table"/>
          <p:cNvPicPr/>
          <p:nvPr/>
        </p:nvPicPr>
        <p:blipFill>
          <a:blip r:embed="rId2"/>
          <a:stretch/>
        </p:blipFill>
        <p:spPr>
          <a:xfrm>
            <a:off x="6516720" y="1268280"/>
            <a:ext cx="2286000" cy="270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4" name="Picture 9" descr="foto0029"/>
          <p:cNvPicPr/>
          <p:nvPr/>
        </p:nvPicPr>
        <p:blipFill>
          <a:blip r:embed="rId3"/>
          <a:stretch/>
        </p:blipFill>
        <p:spPr>
          <a:xfrm>
            <a:off x="4140360" y="1773360"/>
            <a:ext cx="2160360" cy="2879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280" y="380880"/>
            <a:ext cx="604836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бластей разви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Жизненная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рак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енсорн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Математическ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Языков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Естественнонаучное и космическ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Двигательн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9" descr="montes"/>
          <p:cNvPicPr/>
          <p:nvPr/>
        </p:nvPicPr>
        <p:blipFill>
          <a:blip r:embed="rId7"/>
          <a:stretch/>
        </p:blipFill>
        <p:spPr>
          <a:xfrm>
            <a:off x="5076720" y="4076640"/>
            <a:ext cx="3240360" cy="2079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9" name="Picture 17" descr="0(2)"/>
          <p:cNvPicPr/>
          <p:nvPr/>
        </p:nvPicPr>
        <p:blipFill>
          <a:blip r:embed="rId8"/>
          <a:stretch/>
        </p:blipFill>
        <p:spPr>
          <a:xfrm>
            <a:off x="5067360" y="2039760"/>
            <a:ext cx="3200400" cy="1864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0" name="Text Box 18"/>
          <p:cNvSpPr/>
          <p:nvPr/>
        </p:nvSpPr>
        <p:spPr>
          <a:xfrm>
            <a:off x="6519960" y="6308640"/>
            <a:ext cx="216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ец презент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19444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43280" y="1628280"/>
            <a:ext cx="3672000" cy="453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7" descr="book1"/>
          <p:cNvPicPr/>
          <p:nvPr/>
        </p:nvPicPr>
        <p:blipFill>
          <a:blip r:embed="rId1"/>
          <a:stretch/>
        </p:blipFill>
        <p:spPr>
          <a:xfrm>
            <a:off x="7236000" y="1341360"/>
            <a:ext cx="1511280" cy="13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4106"/>
          <p:cNvPicPr/>
          <p:nvPr/>
        </p:nvPicPr>
        <p:blipFill>
          <a:blip r:embed="rId2"/>
          <a:stretch/>
        </p:blipFill>
        <p:spPr>
          <a:xfrm>
            <a:off x="6732720" y="3141720"/>
            <a:ext cx="2160360" cy="324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6" name="Picture 26" descr="308"/>
          <p:cNvPicPr/>
          <p:nvPr/>
        </p:nvPicPr>
        <p:blipFill>
          <a:blip r:embed="rId3"/>
          <a:stretch/>
        </p:blipFill>
        <p:spPr>
          <a:xfrm>
            <a:off x="250920" y="1197000"/>
            <a:ext cx="2305080" cy="153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7" name="Picture 28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066760" cy="3095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33080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338440" cy="5040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атериал для рисования, штрихов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арточки с шершавыми букв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1" descr="03"/>
          <p:cNvPicPr/>
          <p:nvPr/>
        </p:nvPicPr>
        <p:blipFill>
          <a:blip r:embed="rId1"/>
          <a:stretch/>
        </p:blipFill>
        <p:spPr>
          <a:xfrm>
            <a:off x="2050920" y="692280"/>
            <a:ext cx="1224000" cy="1125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pic4_jpg"/>
          <p:cNvPicPr/>
          <p:nvPr/>
        </p:nvPicPr>
        <p:blipFill>
          <a:blip r:embed="rId2"/>
          <a:stretch/>
        </p:blipFill>
        <p:spPr>
          <a:xfrm>
            <a:off x="324000" y="189000"/>
            <a:ext cx="1533240" cy="2305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3" name="Picture 16" descr="309"/>
          <p:cNvPicPr/>
          <p:nvPr/>
        </p:nvPicPr>
        <p:blipFill>
          <a:blip r:embed="rId3"/>
          <a:stretch/>
        </p:blipFill>
        <p:spPr>
          <a:xfrm>
            <a:off x="324000" y="4797360"/>
            <a:ext cx="2736720" cy="1755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4" name="Picture 18" descr="3_08_2%20(russian)_JPG"/>
          <p:cNvPicPr/>
          <p:nvPr/>
        </p:nvPicPr>
        <p:blipFill>
          <a:blip r:embed="rId4"/>
          <a:stretch/>
        </p:blipFill>
        <p:spPr>
          <a:xfrm>
            <a:off x="1116000" y="2708280"/>
            <a:ext cx="1717560" cy="172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4680000" cy="600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392720" cy="5543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Чтение текста. Дефини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частей речи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предложений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ontes4_"/>
          <p:cNvPicPr/>
          <p:nvPr/>
        </p:nvPicPr>
        <p:blipFill>
          <a:blip r:embed="rId1"/>
          <a:stretch/>
        </p:blipFill>
        <p:spPr>
          <a:xfrm>
            <a:off x="6084720" y="3645000"/>
            <a:ext cx="190836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5651640" y="6093000"/>
            <a:ext cx="2808000" cy="520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ОУ № 99 «Голубая важенка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ading"/>
          <p:cNvPicPr/>
          <p:nvPr/>
        </p:nvPicPr>
        <p:blipFill>
          <a:blip r:embed="rId2"/>
          <a:stretch/>
        </p:blipFill>
        <p:spPr>
          <a:xfrm>
            <a:off x="179280" y="18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3"/>
          <p:cNvPicPr/>
          <p:nvPr/>
        </p:nvPicPr>
        <p:blipFill>
          <a:blip r:embed="rId3"/>
          <a:stretch/>
        </p:blipFill>
        <p:spPr>
          <a:xfrm>
            <a:off x="7093080" y="620640"/>
            <a:ext cx="1892160" cy="280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2" name="Picture 12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1873440" cy="1641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9:29:53Z</dcterms:created>
  <dc:creator>Вера</dc:creator>
  <dc:description/>
  <dc:language>en-US</dc:language>
  <cp:lastModifiedBy>LEGION</cp:lastModifiedBy>
  <dcterms:modified xsi:type="dcterms:W3CDTF">2015-01-26T14:03:37Z</dcterms:modified>
  <cp:revision>94</cp:revision>
  <dc:subject/>
  <dc:title>Методика Марии Монтесс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