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30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gif" ContentType="image/gif"/>
  <Override PartName="/ppt/media/image39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102-4308-4615-90A9-0B00467FF3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" Target="../slides/slide15.xml"/><Relationship Id="rId6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ерспективы использования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ых технологий в учеб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     приёмы      работы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нтерактивной до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 проекции SMART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D9D4-6664-477A-A4B7-D6484ABBB5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Экранная клавиатура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бивайте и редактируйте текст, не отходя от интерактивной дос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жмите кнопку на лотке для маркеров, чтобы запустить Экранную клавиат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ыпадающее меню клавиатуры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Позволяет выбрать вид клавиатуры. Классическая (Classic) выглядит, как обычная клавиатура, которую вы привыкли использовать. В Простой (Simple) - буквы расположены в алфавитном порядке, что удобно при обучении учащихся начальных классов. Также есть Цифровая клавиатура (Number Pad), Отрывки (Shortcut) и Заглавные буквы (Simple Cap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2. Стрелка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Нажмите Стрелку, чтобы открыть Предварительный просмотр.   В окне Предварительного просмотра вы можете напечатать любой текст прежде, чем отправить эту информацию в файл. Когда вы закончите печатать, нажмите Отправить (Send), и ваш текст будет помещен в активное при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FCB6-25AD-4CEC-B588-C3B3E995E7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равый клик мыш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жмите правую кнопку на лотке для маркеров, чтобы превратить ваше следующее прикосновение к доске в правый клик мыш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 правом нижнем углу экрана появится значок, подтверждающий то, что ваше следующее прикосновение будет правым кликом мыш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9213-821C-4D42-8E0D-3BB657F973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ель инструментов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Notebook позволяет работать с инструментами Notebook. По умолчанию панель инструментов появляется вверху страницы Notebook. Если вы хотите работать сидя или преподаете маленьким детям, панель инструментов можно переместить в низ страницы. Для этого нажмите и удерживайте пустой участок на панели инструментов и тащите ее вни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FD85-E909-4D8E-BAA2-850A2F5C89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 Notebook предоставляет доступ ко всем возможностям панели инструментов и многим 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мен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ь новый или существующий фай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ить фай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ить текущую страницу как шабл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орт в различных формат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равить файл по электронной поч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печатать файл или изменить свойства печа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менить или повторить предыдущие дейст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онировать, вырезать, копировать, вставить или удалить выбранные объекты или все объекты на страниц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дактировать тек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рить правописание всех текстов в файл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далить текущую стран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текущий вид (Сортировщик страниц, Галерея, Вложения или Во весь экран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крыть боковую пан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пустить панель инструментов захвата экрана или Затенения экра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штаб для приближения или удаления содержимого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бавить пустую страницу, шаблон, рисунок, файл Flash или ссы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свойства шрифта (жирный, подчеркнутый, курсив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свойства объекта (цвет, ширина линии, заливка, прозрачност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репить свойства и положение объек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цвет фона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ть формы, линии и тек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о, художественное перо и ласт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ыделить, изменить порядок, сгруппировать и разгруппировать о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нформация о программе Notebook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рить наличие обно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46E4-2A8D-46AD-A0B9-7F4F697A8C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День 2-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Различное ПО и интерактивная доска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Использование ПО SMART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ортировщик страниц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коллек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ло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активные ст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бъекты, фигуры и инструменты для рисования,           - группировка объект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галер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оказ фрагментов уроков слушателе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41B2-848A-4E23-81F1-F671F3C305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личное ПО и интерактивная доска SM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(файлы), созданные в любом приложе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 презентации PowerPoint, Microsoft Word, Microsoft Excel;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, рисунки, анимированные кар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ющие программы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V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FE96-071F-4612-B0E4-67B42FC6D5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DF39-A92F-47B6-B6F8-212BF682E0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рограммное обеспечение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Notebook позволяет создавать занятия и презентации с помощью ярких рисунков, объектов Macromedia Flash и текстов, используя различные ресурсы. Заинтересуйте аудиторию, передвигая и изменяя объекты. Если слушатели предлагают свои идеи, задают вопросы, записывайте их маркером в программном обеспечении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F6EC-6CAD-44FE-BB71-6E25C99FFB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Боковые закл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боку от страницы Notebook находятся три заклад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ортировщик страниц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позволяет вам увидеть эскизы изображений каждой страницы в файле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оллекция -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здесь расположены образцы, картинки и анимации Flash, которые можно добавить на страницу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ложения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 добавлять файлы из других программ в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ы можете спрятать закладки, поставив галочку рядом со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крывать автоматически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внизу окна закла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имер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работы с заклад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актическое  занятие в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Notebook (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создание фрагмента урока с  использованием коллекции готовых картинок и анимации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709-A8BA-4091-AB2C-3354BBC7C2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кты в Not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 вы можете передвигать пальцем или мышью на страни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ebook, э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ы добавляете его на страницу Notebook одним из следующих способ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ечатать тек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и написать на доск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геометрическую форму при помощи панели инструментов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стить картинку из Коллекции Noteboo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го компьютера или Инт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9166-9B45-4A5D-AE4C-4C959DDF60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1488b"/>
                </a:solidFill>
                <a:uFillTx/>
                <a:latin typeface="Calibri"/>
              </a:rPr>
              <a:t>Режим работы</a:t>
            </a:r>
            <a:r>
              <a:rPr b="0" lang="ru-RU" sz="1200" spc="-1" strike="noStrike" u="sng">
                <a:solidFill>
                  <a:srgbClr val="11488b"/>
                </a:solidFill>
                <a:uFillTx/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9807-E462-4A35-A0B1-1C9119603B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изменять и передвигать объек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любой объект на странице Notebook, чтобы изменить его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ыделенных объектов есть две «ручки» и выпадающее ме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еленую «ручку», чтобы повернуть объект и белую, чтобы уменьшить или увеличить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98EF-80E6-4D48-8274-7F26974F95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стрелку на кнопке </a:t>
            </a:r>
            <a:r>
              <a:rPr b="1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Фигура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, на панели инструментов Notebook появится список различных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Выберите фигуру, которую вы хотите использовать и поставьте курсор туда, где вы хотите нарисовать фиг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и тащите курсор до тех пор, пока ваша фигура не будет того размера, который нужен 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Теперь, когда вы нарисовали фигуру на странице Notebook, вы можете изменять ее так же, как вы изменяете другие объекты, используя ручку поворота и изменения размера и выпадающее ме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E1A5-3DFC-497D-B499-8980DBF9E0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Распознавание рукописного текста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(только английский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Если вы написали что-то маркером, вы можете распознать текст и превратить его в печ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войное нажатие на печатный текст открывает панель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Шрифты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Выделите текст, который вы хотите изменить, а затем используйте возможности пан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B8A3-61C5-4F41-8FAF-2BF56B5427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к делать запис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ы можете писать и рисовать на поверхности доски, взяв маркер с лотка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розрачный сл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Когда вы берете маркер с лотка, появляется перемещаемая панель инструментов и рамка вокруг рабочего стола. Рамка означает, что вы можете писать поверх рабочего стола, и остается до тех пор, пока вы не положите маркер или ластик обратно на лоток и не коснетесь доски. Ваше первое прикосновение к доске удалит рамку и все ваши запис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к сохранить записи и рисун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еремещаемая панель инструментов позволяет вам сохранять ваши надписи и рису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0632-79EB-4906-96C9-845ED175E5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 позволяет вам захватывать изображение отдельного окна, всего экрана или его части в файл Notebook. Чтобы открыть Панель инструментов захвата экрана нажмите кнопку Захвата на панели инструментов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902D-8693-4C93-92F9-AB3998B161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лезные ссылки для анимированных картино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r-kartinok.ucoz.ru/forum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ifpark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opinfo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if.vukogurt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wall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demp3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p3ex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usicfilesarea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294D-EE0A-4F84-9A99-54AF66A886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воении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ых 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ехнологий!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DD97-1DF0-4B53-92CD-389CB82DA0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488b"/>
                </a:solidFill>
                <a:latin typeface="Calibri"/>
              </a:rPr>
              <a:t>Что даёт использование мультимедийных средств обучения нового поколения  в обучени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ветствие тому способу восприятия информации, которым отличается новое поколение школьников, выросшее на ТВ, компьютерах и мобильных телефонах, у которого гораздо выше потребность в темпераментной визуальной информации и зрительной стиму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х наглядных обучающих  материалов по любой теме можно найти великое множество и использовать их многок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получает возможность полностью управлять любой компьютерной демонстрацией - выводить на экран доски картинки, карты, схемы, создавать и перемещать объекты, запускать видео и интерактивные анимации, выделять важные моменты цветными пометками, работать с любыми компьютерными программами. И все это прямо с доски, не теряя визуального контакта с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е привязываясь к своему компьют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агодаря наглядности и интерактивности, класс вовлекается в активную работу. Обостряется восприятие. Повышается концентрация внимания, улучшается понимание и запоминание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ю проведенную в ходе урока работу, со всеми сделанными на доске записями и пометками, можно сохранить в компьютере для последующего просмотра и анализа, в том числе и виде видеоза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енно повышается уровень компьютерной компетенции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ольникам  учиться становится интересно и увлекатель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45F2-8141-4B84-A1BF-D48AD1326E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ая доска SMART Board 6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Интерактивная доска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это сенсорный экран, работающий как часть системы, в которую также входит компьютер и про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Компьютер посылает изображение проект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Проектор передает изображение на интерактивную до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Интерактивная доска работает одновременно как монитор и устройство ввода данных: управлять компьютером можно, прикасаясь к поверхности доски.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статочно только прикоснуться к поверхности доски, чтобы начать работу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ециальное программное обеспечение для интерактивных досок позволяет работать с текстами и объектами, аудио- и видеоматериалами, делать записи от руки прямо поверх открытых документов и сохраня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856B-4E26-47AF-8B48-28B28B51CC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Как работать с программами на интерактивной доске SMART Board?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Если какая-либо программа открыта на компьютере, вы можете работать с ней прямо на интерактивной дос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аш палец работает как мыш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дно прикосновение к поверхности интерактивной доски SMART Board равносильно щелчку левой кнопкой мыши. Откройте программу так же, как вы делаете это на компьютере, но вместо того, чтобы выделять и открывать файлы мышью, сделайте то же самое пальцем. Чтобы курсор соответствовал нажатию пальцем, необходимо откалибровать эк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1643-24B4-433B-8508-CE93728272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либровка интерактивной дос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MART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либровка экрана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еобходима для настройки точного прикосновения к интерактивной доске. К примеру, если вы нажимаете кнопку Пуск, а курсор появляется в другом месте, попробуйте откалибровать доску. Чтобы начать калибровку, нажмите и держите обе кнопки на лотке до тех пор, пока не появится экран калибровки.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имер  калибровки до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4528-C222-44CA-9450-AD9BE9EA13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D9B6-8E31-400B-9544-1275E10227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Марк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Чтобы делать пометки поверх изображения или файла, возьмите маркер с лотка и пишите на интерактивной доске.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Чтобы писать другим цветом, возьмите другой марк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Цвет определяет контейнер для маркера, а не сам маркер. Чтобы избежать путаницы, кладите маркеры на соответствующ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Лоток для марк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 лотке есть специальные контейнеры, отвечающие за цвет маркера и ластик. У каждого контейнера есть оптический сенсор, определяющий, какой из инструментов вы взяли с ло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евая кнопка на панели загружает Экранную Клавиат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авая - превращает ваше следующее прикосновение к доске в щелчок правой кнопкой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71A9-8817-4707-A340-B804C9E0CF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D1EC-F73E-4A02-BD06-6382FBD6B7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D16-CC58-46DB-A4CB-A4BEB5B7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640-2A88-4148-9611-87E669D0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B98-EC5E-4611-B6DC-05D2F781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037-61C6-4BED-A911-5ED79E57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7320-12AD-4E24-87C4-D3205DAE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72E6-8F5C-4554-B86F-23336FE3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66D5-328C-41FC-8127-9311405C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55E2-ECA4-468E-BEA9-2DB94016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1F55-472A-457C-B719-D6812713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0700-985B-41D6-90E0-76F6BB19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D73F-E9CA-4D08-B4CE-DF243460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CE1-1937-4316-AFCD-FBABCFCD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EB7C-527B-46F3-9449-A81819A5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B329-56E6-410E-8BF4-5E21E0C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898C-BE0B-4EDE-A759-7815B6BA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9D3D-7368-45EE-8677-C11655AF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B666-BB49-4332-992B-3472FEA5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73B1-A166-44B5-BB4F-58478BB5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72D3-5C4A-41BF-8C2A-E5EDA4A0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B4F98-FE06-443D-ABA1-837ED225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8020-A3FA-4903-BDC8-CB669946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083A-9086-4B59-8ECD-59D0B4DD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80B-8D2C-4016-9D5A-D1031527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125C-3DA7-40BA-B758-F3A36FE0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E903-1B54-4848-AC84-E39DD19C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5C77-2FA4-4AFD-8A98-A4C8F930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5223-198F-4B49-9EEE-36AE0114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B332-1132-43F5-AF90-3C33BA4C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D0BA-CC77-4C7C-8BF5-9314EBD3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2925-64E4-42F6-9603-AF3C30CC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62D61-4FD4-4790-85E3-43DA9B33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54047-AEAC-4D97-A3FA-49682657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3BB6-2A20-4335-9F6D-CB0B41F2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995-92E6-46AB-A70A-850B2BA6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CAD6-8F6D-4BCE-A814-D86C33BD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65E3-0BE1-4327-8FD1-433D3305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71489-45A2-46B1-978D-DAD1366E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99F6B-75A1-47BA-A2DB-5A485003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1F44-FBC0-450F-8443-516E63ED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E0201-3AEC-460E-8373-D93B290D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843F-B999-4E48-B1FA-6496441F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C71C-F85B-4019-8973-8103C71C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09E2-FEE6-4729-A85D-97FBA3DB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0AD64-2124-4BF4-B8B9-0FE88016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888-7079-4C8B-8316-FF5F10C2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90341-4485-467C-BA55-1E7B6EEA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CDB38-1695-4658-BF45-F6BE35B0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4B67B-5F52-4177-A22E-4762F247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5EC6-AABB-4F2C-99A3-EB839953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877BD-6953-45C3-989E-81DFF772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2D2AE-5C07-4C35-A90B-3DA11E5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EA5BB-9150-4A89-B46E-14800F8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6671D-B193-407E-AF2A-A99BE47A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DA812-C147-43BA-BFD9-B8C1FE60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430A3-2423-4FBF-B5FD-30294246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FEA-268E-42A1-BFEA-B0180D57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157C-46DF-4DDB-BFD4-A0798B6E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C1F6E-9879-49A3-93DB-445D393D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5C997-010E-4ACB-A86C-47E7B09B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27AC4-742F-42E3-A2F8-6DB49882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C7A09-C368-4B46-B5EC-18B681D1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F399-EDF4-4DA6-81C6-3288C915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41B66-7878-498C-8B7B-808C7151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577A7-5197-41EF-B243-FE414C24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3C710-2D58-4478-9443-B0D81DE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33176-819A-4394-B64D-63BB26CE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123-2CA1-4579-B050-C4DBFF28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B62E3-A33D-4893-B51A-2865B450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744F1-D0C2-46FE-9DF6-AF0BD00C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3123-03A7-46C3-B46D-47C21BA4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FEB10-2FE0-4411-85AC-F552EB6C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131D2-C2F8-41B7-A431-8A655ED6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62040-8EB0-4531-BE39-1D066B6D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E4AE9-13DA-49D0-8DC0-15EF89EF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36224-0DE8-498F-AF9E-C0FB060B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A4443-942F-4AA5-A02B-9A5B74A1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A51C7-2419-4F35-A715-97E6D197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EA4-D0E7-4899-95A2-EA59451D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F5D9-B735-4354-AE4E-3801B021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29095-2117-4C71-BDE7-D02C2BF5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4F646-C4EA-4C45-B1AC-D9955D66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6D3D0-9405-4538-A778-FE3CE47D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137C2-2227-4E6B-B795-5AB37ABD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00F-83A4-448A-9882-BCD35A75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66E1-FF90-4469-B398-F46362DC800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C67F-FD12-45EA-B1A3-8AC98DA0FBA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7D26-E929-4A8E-9ACB-F14837E0FCD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B28B-7C94-431A-98EC-983CD7E24A9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7C4B-B3E9-4CBC-902A-ADCBA3742A0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ED2C-F857-4C49-B728-64ED0F0CD44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F945-74B6-4BD6-BDDD-7BD116DF3BA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308B-FDFC-46FC-97A1-A6B58D193BD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38F4-BC81-40A2-8432-6C81CD5C789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52A0-A2F2-4316-B498-03F66924EED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D69A-699B-41DB-B44B-5301E0E7368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E98B-CC4F-42B4-AAA3-29C04BA7A57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0015-4A80-48BC-BE8A-761A976CD20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5233-34F9-4C29-9C19-4BB5803C997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mir-kartinok.ucoz.ru/forum/2" TargetMode="External"/><Relationship Id="rId3" Type="http://schemas.openxmlformats.org/officeDocument/2006/relationships/hyperlink" Target="http://mir-kartinok.ucoz.ru/forum/2" TargetMode="External"/><Relationship Id="rId4" Type="http://schemas.openxmlformats.org/officeDocument/2006/relationships/hyperlink" Target="http://mir-kartinok.ucoz.ru/forum/2" TargetMode="External"/><Relationship Id="rId5" Type="http://schemas.openxmlformats.org/officeDocument/2006/relationships/hyperlink" Target="http://mir-kartinok.ucoz.ru/forum/2" TargetMode="External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4"/>
          <p:cNvPicPr/>
          <p:nvPr/>
        </p:nvPicPr>
        <p:blipFill>
          <a:blip r:embed="rId1"/>
          <a:stretch/>
        </p:blipFill>
        <p:spPr>
          <a:xfrm>
            <a:off x="5572080" y="3786120"/>
            <a:ext cx="2865600" cy="24289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407360" cy="1757160"/>
          </a:xfrm>
          <a:prstGeom prst="rect">
            <a:avLst/>
          </a:prstGeom>
          <a:solidFill>
            <a:srgbClr val="fdd7ba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спективы использовани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нтерактивных технологий в учебном процессе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000160" y="2356920"/>
            <a:ext cx="557208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Основные      приёмы      работы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с интерактивной доской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ямой проекции SMART Boar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1042920" y="3838680"/>
            <a:ext cx="4249800" cy="1067400"/>
          </a:xfrm>
          <a:prstGeom prst="rect">
            <a:avLst/>
          </a:prstGeom>
          <a:noFill/>
          <a:ln w="9360">
            <a:solidFill>
              <a:srgbClr val="fdd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гнат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У школы № 5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мор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0080" y="142560"/>
            <a:ext cx="74977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Экранная клавиатура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5" name="Picture 6" descr="klava"/>
          <p:cNvPicPr/>
          <p:nvPr/>
        </p:nvPicPr>
        <p:blipFill>
          <a:blip r:embed="rId1"/>
          <a:stretch/>
        </p:blipFill>
        <p:spPr>
          <a:xfrm>
            <a:off x="2214720" y="714240"/>
            <a:ext cx="5238720" cy="20383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431640" y="2571840"/>
            <a:ext cx="8569440" cy="451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бивайте и редактируйте текст, не отходя от интерактивной дос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жмите кнопку на лотке для маркеров, чтобы запустить Экранную клавиат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адающее меню клавиатуры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озволяет выбрать вид клавиатуры. Классическая (Classic) выглядит, как обычная клавиатура, которую вы привыкли использовать. В Простой (Simple) - буквы расположены в алфавитном порядке, что удобно при обучении учащихся начальных классов. Также есть Цифровая клавиатура (Number Pad), Отрывки (Shortcut) и Заглавные буквы (Simple Ca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. Стрелка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Нажмите Стрелку, чтобы открыть Предварительный просмотр.   В окне Предварительного просмотра вы можете напечатать любой текст прежде, чем отправить эту информацию в файл. Когда вы закончите печатать, нажмите Отправить (Send), и ваш текст будет помещен в активное при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2603520" y="63482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работы с экранной клавиа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равый клик мышью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0" name="Picture 6" descr="knopkamishi"/>
          <p:cNvPicPr/>
          <p:nvPr/>
        </p:nvPicPr>
        <p:blipFill>
          <a:blip r:embed="rId1"/>
          <a:stretch/>
        </p:blipFill>
        <p:spPr>
          <a:xfrm>
            <a:off x="1187280" y="1214280"/>
            <a:ext cx="3384720" cy="14734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3429000" y="3000240"/>
            <a:ext cx="5256360" cy="24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жмите правую кнопку на лотке для маркеров, чтобы превратить ваше следующее прикосновение к доске в правый клик мы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правом нижнем углу экрана появится значок, подтверждающий то, что ваше следующее прикосновение будет правым кликом мы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786040" y="60148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использования правой кнопки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4395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Панель инструментов Notebook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rcRect l="0" t="0" r="0" b="90044"/>
          <a:stretch/>
        </p:blipFill>
        <p:spPr>
          <a:xfrm>
            <a:off x="714240" y="571680"/>
            <a:ext cx="8247240" cy="620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table"/>
          <p:cNvPicPr/>
          <p:nvPr/>
        </p:nvPicPr>
        <p:blipFill>
          <a:blip r:embed="rId2"/>
          <a:stretch/>
        </p:blipFill>
        <p:spPr>
          <a:xfrm>
            <a:off x="679320" y="1214280"/>
            <a:ext cx="4178520" cy="56167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7"/>
          <p:cNvSpPr/>
          <p:nvPr/>
        </p:nvSpPr>
        <p:spPr>
          <a:xfrm>
            <a:off x="5076720" y="1700280"/>
            <a:ext cx="381636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Notebook позволяет работать с инструментами Notebook. По умолчанию панель инструментов появляется вверху страницы Notebook. Если вы хотите работать сидя или преподаете маленьким детям, панель инструментов можно переместить в низ страницы. Для этого нажмите и удерживайте пустой участок на панели инструментов и тащите ее вни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535640" y="60148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инструментами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Note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06" descr=""/>
          <p:cNvPicPr/>
          <p:nvPr/>
        </p:nvPicPr>
        <p:blipFill>
          <a:blip r:embed="rId1"/>
          <a:srcRect l="0" t="0" r="65323" b="94109"/>
          <a:stretch/>
        </p:blipFill>
        <p:spPr>
          <a:xfrm>
            <a:off x="2214720" y="93600"/>
            <a:ext cx="5905440" cy="7635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1071720" y="64296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 Notebook предоставляет доступ ко всем возможностям панели инструментов и многим друг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714240" y="1589040"/>
          <a:ext cx="8286840" cy="5153040"/>
        </p:xfrm>
        <a:graphic>
          <a:graphicData uri="http://schemas.openxmlformats.org/drawingml/2006/table">
            <a:tbl>
              <a:tblPr/>
              <a:tblGrid>
                <a:gridCol w="1408320"/>
                <a:gridCol w="6878520"/>
              </a:tblGrid>
              <a:tr h="428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дел мен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07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й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крыть новый или существующий фай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хранить фай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хранить текущую страницу как шаблон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Экспорт в различных формата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править файл по электронной почт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печатать файл или изменить свойства печ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менить или повторить предыдущие действия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лонировать, вырезать, копировать, вставить или удалить выбранные объекты или все объекты на странице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едактировать текст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роверить правописание всех текстов в файл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Удалить текущую страниц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текущий вид (Сортировщик страниц, Галерея, Вложения или Во весь экран)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крыть боковую панел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Запустить панель инструментов захвата экрана или Затенения экран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Масштаб для приближения или удаления содержимого стра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обавить пустую страницу, шаблон, рисунок, файл Flash или ссыл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свойства шрифта (жирный, подчеркнутый, курсив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свойства объекта (цвет, ширина линии, заливка, прозрачность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Закрепить свойства и положение объект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цвет фона стра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с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здать формы, линии и текст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о, художественное перо и ласти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ыделить, изменить порядок, сгруппировать и разгруппировать объ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нформация о программе Notebook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роверить наличие обно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42680" y="571320"/>
            <a:ext cx="1779480" cy="3999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День 2-ой: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428920" y="2928960"/>
            <a:ext cx="554508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зличное ПО и интерактивная доска 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спользование ПО SMART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ртировщик страни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ллек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ло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ктивные стра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ъекты, фигуры и инструменты для рисования,           - группировка объект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але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каз фрагментов уроков слушателей к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976400" y="1214280"/>
            <a:ext cx="3024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4"/>
          <p:cNvPicPr/>
          <p:nvPr/>
        </p:nvPicPr>
        <p:blipFill>
          <a:blip r:embed="rId1"/>
          <a:stretch/>
        </p:blipFill>
        <p:spPr>
          <a:xfrm>
            <a:off x="5072040" y="785880"/>
            <a:ext cx="2865600" cy="242892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6143760" y="1763640"/>
            <a:ext cx="2857320" cy="22370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142920"/>
            <a:ext cx="7499520" cy="5112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Различное ПО и интерактивная доска SMART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57160" y="1000080"/>
            <a:ext cx="749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ументы (файлы), созданные в любом приложении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   презентации PowerPoint, Microsoft Word, Microsoft Excel; и т.д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идео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ото, рисунки, анимированные картинк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учающие программы на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D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VD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1071720" y="71424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ску, как на экран,  можно выводит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7"/>
          <p:cNvGraphicFramePr/>
          <p:nvPr/>
        </p:nvGraphicFramePr>
        <p:xfrm>
          <a:off x="928800" y="3002040"/>
          <a:ext cx="3071880" cy="231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800" y="3002040"/>
                    <a:ext cx="30718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Picture 11" descr=""/>
          <p:cNvPicPr/>
          <p:nvPr/>
        </p:nvPicPr>
        <p:blipFill>
          <a:blip r:embed="rId8"/>
          <a:stretch/>
        </p:blipFill>
        <p:spPr>
          <a:xfrm>
            <a:off x="5572080" y="40719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Documents and Settings\Игнатова\Мои документы\Таллинн\Изображение 081.jpg"/>
          <p:cNvPicPr/>
          <p:nvPr/>
        </p:nvPicPr>
        <p:blipFill>
          <a:blip r:embed="rId9"/>
          <a:stretch/>
        </p:blipFill>
        <p:spPr>
          <a:xfrm>
            <a:off x="2381400" y="4286160"/>
            <a:ext cx="3333600" cy="2500560"/>
          </a:xfrm>
          <a:prstGeom prst="rect">
            <a:avLst/>
          </a:prstGeom>
          <a:ln w="57240">
            <a:solidFill>
              <a:srgbClr val="c58d01"/>
            </a:solidFill>
            <a:miter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3"/>
          <a:srcRect l="48481" t="56045" r="0" b="0"/>
          <a:stretch/>
        </p:blipFill>
        <p:spPr>
          <a:xfrm>
            <a:off x="428760" y="5000760"/>
            <a:ext cx="2286000" cy="992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6760" y="856800"/>
            <a:ext cx="6715080" cy="7254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рограммное обеспечение Notebook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714680" y="2214720"/>
            <a:ext cx="45352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Notebook позволяет создавать занятия и презентации с помощью ярких рисунков, объектов Macromedia Flash и текстов, используя различные ресурсы. Заинтересуйте аудиторию, передвигая и изменяя объекты. Если слушатели предлагают свои идеи, задают вопросы, записывайте их маркером в программном обеспечении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6" descr=""/>
          <p:cNvPicPr/>
          <p:nvPr/>
        </p:nvPicPr>
        <p:blipFill>
          <a:blip r:embed="rId1"/>
          <a:srcRect l="84335" t="0" r="0" b="0"/>
          <a:stretch/>
        </p:blipFill>
        <p:spPr>
          <a:xfrm>
            <a:off x="7164360" y="189000"/>
            <a:ext cx="1682640" cy="61927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5"/>
          <p:cNvSpPr/>
          <p:nvPr/>
        </p:nvSpPr>
        <p:spPr>
          <a:xfrm>
            <a:off x="1333440" y="285840"/>
            <a:ext cx="55436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оковые за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боку от страницы Notebook находятся три заклад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ортировщик страниц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позволяет вам увидеть эскизы изображений каждой страницы в файле Not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оллекция 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десь расположены образцы, картинки и анимации Flash, которые можно добавить на страницу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лож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 добавлять файлы из других программ в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 можете спрятать закладки, поставив галочку рядом со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крывать автоматическ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низу окна закла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1071720" y="4786200"/>
            <a:ext cx="585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работы с заклад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актическое  занятие в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Notebook (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создание фрагмента урока с  использованием коллекции готовых картинок и анимации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499160" cy="6429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Объекты в Notebook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71360" y="1143000"/>
            <a:ext cx="7862760" cy="32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е что вы можете передвигать пальцем или мышью на страниц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Notebook, это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ъект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Вы добавляете его на страницу Notebook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печатать текст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рисовать или написать на доске маркер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здать геометрическую форму при помощи панели инструментов Notebook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местить картинку из Коллекции Notebook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ашего компьютера или Интернет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6858000" y="1968480"/>
            <a:ext cx="1714680" cy="960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2"/>
          <a:srcRect l="16929" t="6933" r="136" b="31047"/>
          <a:stretch/>
        </p:blipFill>
        <p:spPr>
          <a:xfrm>
            <a:off x="1428840" y="4857840"/>
            <a:ext cx="7000920" cy="12859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9" descr="0-005.jpg"/>
          <p:cNvPicPr/>
          <p:nvPr/>
        </p:nvPicPr>
        <p:blipFill>
          <a:blip r:embed="rId3"/>
          <a:stretch/>
        </p:blipFill>
        <p:spPr>
          <a:xfrm>
            <a:off x="7572240" y="3143160"/>
            <a:ext cx="1024200" cy="1524240"/>
          </a:xfrm>
          <a:prstGeom prst="rect">
            <a:avLst/>
          </a:prstGeom>
          <a:ln w="38160">
            <a:solidFill>
              <a:srgbClr val="c58d01"/>
            </a:solidFill>
            <a:miter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3610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72314"/>
                </a:solidFill>
                <a:uFillTx/>
                <a:latin typeface="Corbel"/>
              </a:rPr>
              <a:t>Режим работы</a:t>
            </a:r>
            <a:r>
              <a:rPr b="0" lang="ru-RU" sz="2400" spc="-1" strike="noStrike" u="sng">
                <a:solidFill>
                  <a:srgbClr val="572314"/>
                </a:solidFill>
                <a:uFillTx/>
                <a:latin typeface="Corbel"/>
              </a:rPr>
              <a:t>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643040" y="928800"/>
            <a:ext cx="3024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2071800" y="3714840"/>
            <a:ext cx="5500440" cy="32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активная доска прямой про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SMART Bo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омпоненты и основные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либровка доски,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рке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ртуальная клавиатура,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равая кнопка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имеры работы с  интерактивной доской  прямой проекции SMART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3714840" y="28576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День 1- 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1"/>
          <p:cNvPicPr/>
          <p:nvPr/>
        </p:nvPicPr>
        <p:blipFill>
          <a:blip r:embed="rId1"/>
          <a:srcRect l="0" t="0" r="0" b="3447"/>
          <a:stretch/>
        </p:blipFill>
        <p:spPr>
          <a:xfrm>
            <a:off x="6572160" y="615960"/>
            <a:ext cx="1643040" cy="240012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ак изменять и передвигать объекты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785960" y="3499920"/>
            <a:ext cx="6291360" cy="307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берите любой объект на странице Notebook, чтобы изменить его свойств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 выделенных объектов есть две «ручки» и выпадающее меню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уйте зеленую «ручку», чтобы повернуть объект и белую, чтобы уменьшить или увеличить его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2604960" y="1071720"/>
            <a:ext cx="5013360" cy="285732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499520" cy="5828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72314"/>
                </a:solidFill>
                <a:latin typeface="Corbel"/>
              </a:rPr>
              <a:t>Фигуры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429000" y="957960"/>
            <a:ext cx="4857840" cy="53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стрелку на кнопке </a:t>
            </a:r>
            <a:r>
              <a:rPr b="1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Фигура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, на панели инструментов Notebook появится список различных фиг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Выберите фигуру, которую вы хотите использовать и поставьте курсор туда, где вы хотите нарисовать фиг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и тащите курсор до тех пор, пока ваша фигура не будет того размера, который нужен 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Теперь, когда вы нарисовали фигуру на странице Notebook, вы можете изменять ее так же, как вы изменяете другие объекты, используя ручку поворота и изменения размера и выпадающее ме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rcRect l="0" t="0" r="0" b="5229"/>
          <a:stretch/>
        </p:blipFill>
        <p:spPr>
          <a:xfrm>
            <a:off x="1857240" y="857160"/>
            <a:ext cx="1214640" cy="5662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7"/>
          <p:cNvSpPr/>
          <p:nvPr/>
        </p:nvSpPr>
        <p:spPr>
          <a:xfrm>
            <a:off x="1663560" y="214200"/>
            <a:ext cx="6408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спознавание рукописного текста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(только английский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Если вы написали что-то маркером, вы можете распознать текст и превратить его в печа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9" descr="9"/>
          <p:cNvPicPr/>
          <p:nvPr/>
        </p:nvPicPr>
        <p:blipFill>
          <a:blip r:embed="rId1"/>
          <a:stretch/>
        </p:blipFill>
        <p:spPr>
          <a:xfrm>
            <a:off x="1714680" y="1538280"/>
            <a:ext cx="6162480" cy="15336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1809720" y="3429000"/>
            <a:ext cx="5977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войное нажатие на печатный текст открывает панель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Шрифт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Выделите текст, который вы хотите изменить, а затем используйте возможности пан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1" descr="10"/>
          <p:cNvPicPr/>
          <p:nvPr/>
        </p:nvPicPr>
        <p:blipFill>
          <a:blip r:embed="rId2"/>
          <a:stretch/>
        </p:blipFill>
        <p:spPr>
          <a:xfrm>
            <a:off x="1332000" y="4786200"/>
            <a:ext cx="7451640" cy="1670040"/>
          </a:xfrm>
          <a:prstGeom prst="rect">
            <a:avLst/>
          </a:prstGeom>
          <a:ln w="0">
            <a:noFill/>
          </a:ln>
        </p:spPr>
      </p:pic>
      <p:sp>
        <p:nvSpPr>
          <p:cNvPr id="44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анель инструментов захвата экрана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3" name="Picture 7" descr="panelka"/>
          <p:cNvPicPr/>
          <p:nvPr/>
        </p:nvPicPr>
        <p:blipFill>
          <a:blip r:embed="rId1"/>
          <a:stretch/>
        </p:blipFill>
        <p:spPr>
          <a:xfrm>
            <a:off x="357120" y="3214800"/>
            <a:ext cx="1511280" cy="13078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6"/>
          <p:cNvSpPr/>
          <p:nvPr/>
        </p:nvSpPr>
        <p:spPr>
          <a:xfrm>
            <a:off x="3429000" y="1214280"/>
            <a:ext cx="5334120" cy="53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к делать запи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 можете писать и рисовать на поверхности доски, взяв маркер с лотк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зрачный сл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гда вы берете маркер с лотка, появляется перемещаемая панель инструментов и рамка вокруг рабочего стола. Рамка означает, что вы можете писать поверх рабочего стола, и остается до тех пор, пока вы не положите маркер или ластик обратно на лоток и не коснетесь доски. Ваше первое прикосновение к доске удалит рамку и все ваши запи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к сохранить записи и рисун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ремещаемая панель инструментов позволяет вам сохранять ваши надписи и рису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1514520" y="627696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выделения области для копирования и  её сох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6" descr=""/>
          <p:cNvPicPr/>
          <p:nvPr/>
        </p:nvPicPr>
        <p:blipFill>
          <a:blip r:embed="rId2"/>
          <a:srcRect l="48481" t="56045" r="0" b="0"/>
          <a:stretch/>
        </p:blipFill>
        <p:spPr>
          <a:xfrm>
            <a:off x="285840" y="1714680"/>
            <a:ext cx="3125520" cy="135720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979640" y="357120"/>
          <a:ext cx="6516720" cy="4857840"/>
        </p:xfrm>
        <a:graphic>
          <a:graphicData uri="http://schemas.openxmlformats.org/drawingml/2006/table">
            <a:tbl>
              <a:tblPr/>
              <a:tblGrid>
                <a:gridCol w="3340080"/>
                <a:gridCol w="31766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работ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жмите и тащите, чтобы выделить область, которую вы хотите захватить. Отпустите палец, когда нужная область выде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жмите внутри окна, которое вы хотите захватить. Отпустите палец, когда нужное окно станет заштрихованны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йдите к изображению на экране, которое вы хотите сохранить и нажмите кнопку, чтобы захватить весь эк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Text Box 65"/>
          <p:cNvSpPr/>
          <p:nvPr/>
        </p:nvSpPr>
        <p:spPr>
          <a:xfrm>
            <a:off x="1108080" y="5445000"/>
            <a:ext cx="7893000" cy="13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 позволяет вам захватывать изображение отдельного окна, всего экрана или его части в файл Notebook. Чтобы открыть Панель инструментов захвата экрана нажмите кнопку Захвата на панели инструментов Note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rcRect l="39549" t="35157" r="47267" b="25782"/>
          <a:stretch/>
        </p:blipFill>
        <p:spPr>
          <a:xfrm>
            <a:off x="2857680" y="1000080"/>
            <a:ext cx="1828800" cy="42861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rcRect l="0" t="0" r="27997" b="0"/>
          <a:stretch/>
        </p:blipFill>
        <p:spPr>
          <a:xfrm>
            <a:off x="7143840" y="1428840"/>
            <a:ext cx="1714320" cy="19447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Полезные ссылки для анимированных картинок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28840" y="928440"/>
            <a:ext cx="7215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mir-kartinok.ucoz.ru/forum/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gifpark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http://www.dopinfo.net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http://gif.vukogurt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sunhome.ru/wallpap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gdemp3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mp3ex.net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musicfilesarea.com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Заголовок 1"/>
          <p:cNvSpPr/>
          <p:nvPr/>
        </p:nvSpPr>
        <p:spPr>
          <a:xfrm>
            <a:off x="1359000" y="4429080"/>
            <a:ext cx="7499160" cy="5000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2314"/>
                </a:solidFill>
                <a:latin typeface="Corbel"/>
              </a:rPr>
              <a:t>Полезные ссылки для скачивания музыки в формате </a:t>
            </a:r>
            <a:r>
              <a:rPr b="0" lang="en-US" sz="2300" spc="-1" strike="noStrike">
                <a:solidFill>
                  <a:srgbClr val="572314"/>
                </a:solidFill>
                <a:latin typeface="Gill Sans MT"/>
              </a:rPr>
              <a:t>mp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5" descr="99.gif"/>
          <p:cNvPicPr/>
          <p:nvPr/>
        </p:nvPicPr>
        <p:blipFill>
          <a:blip r:embed="rId6"/>
          <a:stretch/>
        </p:blipFill>
        <p:spPr>
          <a:xfrm>
            <a:off x="5929200" y="2143080"/>
            <a:ext cx="1067040" cy="5716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5" descr="99.gif"/>
          <p:cNvPicPr/>
          <p:nvPr/>
        </p:nvPicPr>
        <p:blipFill>
          <a:blip r:embed="rId7"/>
          <a:stretch/>
        </p:blipFill>
        <p:spPr>
          <a:xfrm>
            <a:off x="5934240" y="5000760"/>
            <a:ext cx="1066680" cy="571320"/>
          </a:xfrm>
          <a:prstGeom prst="rect">
            <a:avLst/>
          </a:prstGeom>
          <a:ln w="0">
            <a:noFill/>
          </a:ln>
        </p:spPr>
      </p:pic>
      <p:sp>
        <p:nvSpPr>
          <p:cNvPr id="4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42800" y="1428480"/>
            <a:ext cx="4000680" cy="32144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спехов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в освоении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нтерактивных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хнологий!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0" name="Рисунок 6" descr="lin-rot-r.gif"/>
          <p:cNvPicPr/>
          <p:nvPr/>
        </p:nvPicPr>
        <p:blipFill>
          <a:blip r:embed="rId1"/>
          <a:stretch/>
        </p:blipFill>
        <p:spPr>
          <a:xfrm>
            <a:off x="2214720" y="5214960"/>
            <a:ext cx="5715000" cy="3816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7" descr="47.gif"/>
          <p:cNvPicPr/>
          <p:nvPr/>
        </p:nvPicPr>
        <p:blipFill>
          <a:blip r:embed="rId2"/>
          <a:stretch/>
        </p:blipFill>
        <p:spPr>
          <a:xfrm>
            <a:off x="4572000" y="5572080"/>
            <a:ext cx="1371600" cy="609480"/>
          </a:xfrm>
          <a:prstGeom prst="rect">
            <a:avLst/>
          </a:prstGeom>
          <a:ln w="0">
            <a:noFill/>
          </a:ln>
        </p:spPr>
      </p:pic>
      <p:sp>
        <p:nvSpPr>
          <p:cNvPr id="46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notebook_school"/>
          <p:cNvPicPr/>
          <p:nvPr/>
        </p:nvPicPr>
        <p:blipFill>
          <a:blip r:embed="rId1"/>
          <a:stretch/>
        </p:blipFill>
        <p:spPr>
          <a:xfrm>
            <a:off x="4357800" y="3384720"/>
            <a:ext cx="4572000" cy="33303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99000"/>
              </a:srgbClr>
            </a:outerShdw>
          </a:effectLst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497720" cy="7858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Что даёт использование мультимедийных средств обучения нового поколения  в обучении?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56800" y="1018800"/>
            <a:ext cx="828684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оответствие тому способу восприятия информации, которым отличается новое поколение школьников, выросшее на ТВ, компьютерах и мобильных телефонах, у которого гораздо выше потребность в темпераментной визуальной информации и зрительной стимуляци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Компьютерных наглядных обучающих  материалов по любой теме можно найти великое множество и использовать их многократн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Учитель получает возможность полностью управлять любой компьютерной демонстрацией - выводить на экран доски картинки, карты, схемы, создавать и перемещать объекты, запускать видео и интерактивные анимации, выделять важные моменты цветными пометками, работать с любыми компьютерными программами. И все это прямо с доски, не теряя визуального контакта с классом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и не привязываясь к своему компьютеру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Благодаря наглядности и интерактивности, класс вовлекается в активную работу. Обостряется восприятие. Повышается концентрация внимания, улучшается понимание и запоминание материал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Всю проведенную в ходе урока работу, со всеми сделанными на доске записями и пометками, можно сохранить в компьютере для последующего просмотра и анализа, в том числе и виде видеозапис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ущественно повышается уровень компьютерной компетенции учителей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Школьникам  учиться становится интересно и увлекательно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нтерактивная доска SMART Board 600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357720" y="1357200"/>
            <a:ext cx="5572080" cy="58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активная доск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это сенсорный экран, работающий как часть системы, в которую также входит компьютер и прое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Компьютер посылает изображение проект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Проектор передает изображение на интерактивную до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Интерактивная доска работает одновременно как монитор и устройство ввода данных: управлять компьютером можно, прикасаясь к поверхности доски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статочно только прикоснуться к поверхности доски, чтобы начать работу на компьюте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ециальное программное обеспечение для интерактивных досок позволяет работать с текстами и объектами, аудио- и видеоматериалами, делать записи от руки прямо поверх открытых документов и сохранять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8" descr="kak"/>
          <p:cNvPicPr/>
          <p:nvPr/>
        </p:nvPicPr>
        <p:blipFill>
          <a:blip r:embed="rId1"/>
          <a:stretch/>
        </p:blipFill>
        <p:spPr>
          <a:xfrm>
            <a:off x="1000080" y="1643040"/>
            <a:ext cx="2303640" cy="210816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1143000" y="1500120"/>
            <a:ext cx="2308320" cy="20862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ак работать с программами на интерактивной доске SMART Board?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3643200" y="2286000"/>
            <a:ext cx="5143680" cy="407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сли какая-либо программа открыта на компьютере, вы можете работать с ней прямо на интерактивной до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аш палец работает как мыш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дно прикосновение к поверхности интерактивной доски SMART Board равносильно щелчку левой кнопкой мыши. Откройте программу так же, как вы делаете это на компьютере, но вместо того, чтобы выделять и открывать файлы мышью, сделайте то же самое пальцем. Чтобы курсор соответствовал нажатию пальцем, необходимо откалибровать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70920"/>
            <a:ext cx="7499520" cy="11430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либровка интерактивной дос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SMART Board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9" name="Picture 6" descr="ekran_kalibrovki"/>
          <p:cNvPicPr/>
          <p:nvPr/>
        </p:nvPicPr>
        <p:blipFill>
          <a:blip r:embed="rId1"/>
          <a:stretch/>
        </p:blipFill>
        <p:spPr>
          <a:xfrm>
            <a:off x="785880" y="2500200"/>
            <a:ext cx="3143160" cy="26463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4"/>
          <p:cNvSpPr/>
          <p:nvPr/>
        </p:nvSpPr>
        <p:spPr>
          <a:xfrm>
            <a:off x="928800" y="5357880"/>
            <a:ext cx="7786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либровка экра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а для настройки точного прикосновения к интерактивной доске. К примеру, если вы нажимаете кнопку Пуск, а курсор появляется в другом месте, попробуйте откалибровать доску. Чтобы начать калибровку, нажмите и держите обе кнопки на лотке до тех пор, пока не появится экран калибровки.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 калибровки до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2"/>
          <a:srcRect l="32422" t="12894" r="0" b="13868"/>
          <a:stretch/>
        </p:blipFill>
        <p:spPr>
          <a:xfrm>
            <a:off x="4000680" y="1214280"/>
            <a:ext cx="5010120" cy="4071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3"/>
          <a:srcRect l="60255" t="8007" r="31691" b="79301"/>
          <a:stretch/>
        </p:blipFill>
        <p:spPr>
          <a:xfrm>
            <a:off x="2000160" y="1285920"/>
            <a:ext cx="785880" cy="1143000"/>
          </a:xfrm>
          <a:prstGeom prst="rect">
            <a:avLst/>
          </a:prstGeom>
          <a:ln w="0">
            <a:noFill/>
          </a:ln>
        </p:spPr>
      </p:pic>
      <p:cxnSp>
        <p:nvCxnSpPr>
          <p:cNvPr id="353" name="Прямая со стрелкой 11"/>
          <p:cNvCxnSpPr/>
          <p:nvPr/>
        </p:nvCxnSpPr>
        <p:spPr>
          <a:xfrm flipH="1" flipV="1">
            <a:off x="6143040" y="3285360"/>
            <a:ext cx="2500920" cy="78660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9" descr="3"/>
          <p:cNvPicPr/>
          <p:nvPr/>
        </p:nvPicPr>
        <p:blipFill>
          <a:blip r:embed="rId1"/>
          <a:stretch/>
        </p:blipFill>
        <p:spPr>
          <a:xfrm>
            <a:off x="258840" y="4357800"/>
            <a:ext cx="3241440" cy="1881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3643200" y="1000080"/>
            <a:ext cx="4753080" cy="298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бы делать пометки поверх изображения или файла, возьмите маркер с лотка и пишите на интерактивной доске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бы писать другим цветом, возьмите другой марк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 определяет контейнер для маркера, а не сам маркер. Чтобы избежать путаницы, кладите маркеры на соответствующе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" descr="5"/>
          <p:cNvPicPr/>
          <p:nvPr/>
        </p:nvPicPr>
        <p:blipFill>
          <a:blip r:embed="rId2"/>
          <a:stretch/>
        </p:blipFill>
        <p:spPr>
          <a:xfrm>
            <a:off x="1143000" y="1643040"/>
            <a:ext cx="2160720" cy="18255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7"/>
          <p:cNvSpPr/>
          <p:nvPr/>
        </p:nvSpPr>
        <p:spPr>
          <a:xfrm>
            <a:off x="3670200" y="3286080"/>
            <a:ext cx="53308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Лоток для марк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лотке есть специальные контейнеры, отвечающие за цвет маркера и ластик. У каждого контейнера есть оптический сенсор, определяющий, какой из инструментов вы взяли с ло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вая кнопка на панели загружает Экранную Клавиат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авая - превращает ваше следующее прикосновение к доске в щелчок правой кнопко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Маркеры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2462040" y="64468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работы с маркерами и ласт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06:22Z</dcterms:created>
  <dc:creator>Игнатова</dc:creator>
  <dc:description/>
  <dc:language>en-US</dc:language>
  <cp:lastModifiedBy>LEGION</cp:lastModifiedBy>
  <dcterms:modified xsi:type="dcterms:W3CDTF">2015-01-26T14:07:38Z</dcterms:modified>
  <cp:revision>99</cp:revision>
  <dc:subject/>
  <dc:title>Перспективы использования интерактивных технологий в учебном процессе</dc:title>
</cp:coreProperties>
</file>