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30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gif" ContentType="image/gif"/>
  <Override PartName="/ppt/media/image39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4196-D660-4F07-B1DA-6FC1B6A6DE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" Target="../slides/slide15.xml"/><Relationship Id="rId6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ерспективы использования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технологий в учеб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     приёмы      работы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нтерактивной до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 проекции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14B2-A872-44C3-9C88-8B251A3FC9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Экранная клавиатура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4B16-797D-4724-9016-EC19E977C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авый клик мыш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891E-E549-445C-ACAA-B3520DD3E4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ель инструментов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F921-ABF7-4737-9DAA-03BDFACD9D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мен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ь новый или существующий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текущую страницу как шабл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орт в различных формат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равить файл по электронной поч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печатать файл или изменить свойства печа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менить или повторить предыдущие дейст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онировать, вырезать, копировать, вставить или удалить выбранные объекты или все объекты на страниц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дактировать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правописание всех текстов в файл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далить текущую стран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текущий вид (Сортировщик страниц, Галерея, Вложения или Во весь экран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крыть боковую пан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пустить панель инструментов захвата экрана или Затенения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штаб для приближения или удаления содержимого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бавить пустую страницу, шаблон, рисунок, файл Flash или ссы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шрифта (жирный, подчеркнутый, курсив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объекта (цвет, ширина линии, заливка, прозрачност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репить свойства и положение объек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цвет фона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ть формы, линии и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о, художественное перо и ласт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ыделить, изменить порядок, сгруппировать и разгруппировать о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нформация о программе Notebook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наличие обно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85B7-C1E8-4CF0-8817-70F199C564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День 2-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3969-A3D9-4867-A778-E71B5EEE76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личное ПО и интерактивная доска SM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(файлы), созданные в любом приложе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 презентации PowerPoint, Microsoft Word, Microsoft Excel;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, рисунки, анимированные кар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 программы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V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ABFF-2F0F-421F-92EB-8B98C92790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9AAD-CC08-4A21-9CD2-F734F49072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ограммное обеспечение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4C51-2A66-46CB-83C5-B75AB47AFA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D4F8-C3F5-44C8-8A64-A276799070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кты в Not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 вы можете передвигать пальцем или мышью на страни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ebook,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ы добавляете его на страницу Notebook одним из следующих способ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ечатать тек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и написать на доск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геометрическую форму при помощи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стить картинку из Коллекции Noteboo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го компьютера или Инт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59A7-1F8F-4DBF-AAF9-36987675AD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Режим работы</a:t>
            </a:r>
            <a:r>
              <a:rPr b="0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314F-A2F6-4F92-A5A5-352F857569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изменять и передвигать объ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любой объект на странице Notebook, чтобы изменить его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ыделенных объектов есть две «ручки»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58D6-6B92-43C1-956F-6D8211B92E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38A2-3C34-47B0-8075-D739C8BB4C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28E2-15AE-48DC-86DD-5AD3CE2097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FAD5-470B-48F0-939E-F891BB3C9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2D02-447F-4D4D-BCF3-4A38CFF826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лезные ссылки для анимированных картино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r-kartinok.ucoz.ru/forum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ifpark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opinfo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if.vukogurt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wall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demp3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p3ex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usicfilesarea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339B-5A32-453A-BCC6-46EDD29FBA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воении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хнологий!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0179-328E-430A-91AD-0DE73F7209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488b"/>
                </a:solidFill>
                <a:latin typeface="Calibri"/>
              </a:rPr>
              <a:t>Что даёт использование мультимедийных средств обучения нового поколения  в обучени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е привязываясь к своему компьют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енно повышается уровень компьютерной компетенции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ольникам  учиться становится интересно и увлека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63E6-38FB-44C4-9852-245219605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ая доска SMART Board 6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9B58-E248-472B-916D-7400BA52C3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Как работать с программами на интерактивной доске SMART Board?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EFB9-B9EB-42FA-AED4-174B1BDD4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либровка интерактивной дос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34BE-FFA5-4766-85EF-C0A539C2E2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F042-D7C7-43E9-B697-AF82D23C17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Марк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BF78-38DC-4BED-AC44-D7D408658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D6F1-3D75-4785-85B9-96D739F927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B33-16EB-4D01-88FC-97E39BBF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27B-DB0A-4AFE-8FCA-8733970D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516-32CD-496A-A347-E816648D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32B-D3FE-489D-BD76-0E394F54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DEDF-4B20-4BE2-8386-75F10F26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6056-AE3D-4AD5-B71F-B3EC4476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2F1A-B2F4-40E2-93B5-BACBDCD9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D283-E715-491E-AD4A-766A964A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098E-22A5-4ACB-88B3-83A96D25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0803-2F62-4F3E-9827-D977EF08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20FE-6C24-4A8A-96E7-7BC3CA2F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2D6-D267-4E50-8E22-86422113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8264-C877-4363-BBEB-12984764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BEDD-6A35-43A8-9C5A-9C28910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11DF-BF3D-41BD-848C-C95D65AB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2600-4126-499A-AD08-AD8F889A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F34B-9DF3-48F1-BB69-226E3D6D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085A-D8E3-4E7D-8963-B326B610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3D35-8D7F-40D3-BE7A-DD4C3F40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763C-3B9F-42DB-8A6E-9D9FA4C5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A061-4123-4966-BBC5-EEB67309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AF3F-B86F-42C8-BE24-1DB891B4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6E3-F1BF-47A0-AD1B-D3EE5682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F262-4BE7-410C-AFE5-A95D7A8F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4394-6012-4965-8A72-E5AEB0A3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78CD4-9453-46FD-9B05-2B2C3FC2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BAED-F7D7-4573-8004-1FFD747F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9A72-8C08-4258-BF04-4577410F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6CC1-3E3E-48A0-BD6B-5E2B7AB9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8F89-EBBE-45C1-9F45-4879EC9E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96FA-5F84-4506-A79A-B3252A48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F3D23-D01D-4671-8813-45A6D27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07B7F-42EA-4F63-88AE-44B020D4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68F-618A-4286-9B48-7C01D5FB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2FAAA-DFC0-49E9-B90A-C4F3B788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D5A8-942E-44E7-9413-A886CD56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03EC4-EE4B-4C17-8B85-7B6D17C1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5DD5-6899-470E-8C6A-8DF4920F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5468-F0CE-4D5F-A28E-A2DBB19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8740-E194-4CE8-B1FC-76A8893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DCCC-EB65-45C8-9A85-9DA473DE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FB03-9DDE-4DC4-BCD4-BFFE585F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C1B3-981B-41CF-8773-CC361B72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D18C-BA6D-4506-BF39-37FCCD2F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1D1-D88E-4C64-A666-9613E8AF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F7B5B-C174-485C-A75D-700F9746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1885A-F522-4E52-8D61-17BF123D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5A05-7378-4EE9-AB5C-E3B9F03C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72C7-5EA7-4FF0-AFE7-C8C791BA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CCAE3-310C-49EA-8BBE-D218DAEB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C2D3-E508-4609-A0A3-E81BE74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73C0A-56D1-412C-8A4A-96A3364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695A-0723-4F00-BE4D-154E33E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CBF42-718C-4F2A-A409-8354A657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42DB5-71DA-455C-88CF-9F5562CE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C52-2B58-49B2-B823-ED760161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9B28-FB12-42D3-911D-304C0B0A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CB6C8-75D8-48FB-8A62-B1ED9C11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35259-61C6-4EED-A719-FB16EB5D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32CEA-9811-4B0D-8430-2EAF54CF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DEEA-D635-4003-A6DE-5ED49D56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799E2-9C43-40D3-935F-2F2C6A33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5FB0-4F10-4551-AF48-826906D7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1CC6D-FE99-4685-97F9-A02DDECD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72116-CD41-4701-A9DC-51D10600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E67C-6813-4B1A-B535-33EE994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629-FA75-4598-9ADF-24943731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ACFF2-881F-43C2-8AAF-A9FC46C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068B-652D-4B39-B658-DABC1899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662CD-27B4-4435-B611-1B1A0663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3019B-AC0A-42C5-A93B-1A2AC667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2A13-F6F2-4FB4-B4E8-F2D4CA49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801F5-3CA6-4189-B3CC-7FB0F18E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3218F-877B-4C3B-9F87-AA4B80BA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39F72-55A2-471F-BC86-AB6F2162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A8F15-007E-45FE-B248-12636F9D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6905C-1AD3-4806-AD0B-8F211AF1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A92-4ED5-4754-B6B7-D75088E6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2136-FB6D-4E0D-88F2-38EEBBBA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A0CA3-C5ED-4B3A-9D94-8F32EFE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F3AD9-7C2B-4656-82F8-5E8F941F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DE03-3382-4525-A4F1-4CEA7716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6E98A-02F4-47A2-9754-1C4BDBC9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659-4939-4A6B-8EF4-19A356D4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8849-1549-49CB-B210-A67075043FA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F39F-7115-4047-8FEA-5D85081265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D1C7-7EAA-4EA1-ADDD-9327ADB0009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4F54-7C44-4FD7-B1B1-B479FDF5EF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8B9-67DB-4B0B-B39A-F689764FD89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04C1-48A6-43B7-8B23-1AD5193FF55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9893-5FBB-42D9-A7B1-F3F7EFA66ED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6696-3566-4C1F-B567-2135EDE6649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0D19-A696-4839-8108-5055C49D265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D89-1A00-4E3A-A716-3550E3858FA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FB1A-4D9F-40C9-B5C7-74DD2FCAD98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919E-FBC0-4FCE-9088-A1BDFAA6B3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D904-322F-43D9-9D1F-9746A16A9B5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DC1A-1B7D-4595-A88B-2F8E8AD9D6F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mir-kartinok.ucoz.ru/forum/2" TargetMode="External"/><Relationship Id="rId3" Type="http://schemas.openxmlformats.org/officeDocument/2006/relationships/hyperlink" Target="http://mir-kartinok.ucoz.ru/forum/2" TargetMode="External"/><Relationship Id="rId4" Type="http://schemas.openxmlformats.org/officeDocument/2006/relationships/hyperlink" Target="http://mir-kartinok.ucoz.ru/forum/2" TargetMode="External"/><Relationship Id="rId5" Type="http://schemas.openxmlformats.org/officeDocument/2006/relationships/hyperlink" Target="http://mir-kartinok.ucoz.ru/forum/2" TargetMode="External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4"/>
          <p:cNvPicPr/>
          <p:nvPr/>
        </p:nvPicPr>
        <p:blipFill>
          <a:blip r:embed="rId1"/>
          <a:stretch/>
        </p:blipFill>
        <p:spPr>
          <a:xfrm>
            <a:off x="5572080" y="378612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407360" cy="1757160"/>
          </a:xfrm>
          <a:prstGeom prst="rect">
            <a:avLst/>
          </a:prstGeom>
          <a:solidFill>
            <a:srgbClr val="fdd7ba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спективы использован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нтерактивных технологий в учебном процесс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000160" y="2356920"/>
            <a:ext cx="557208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Основные      приёмы      работы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с интерактивной доской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ямой проекции SMART Boar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042920" y="3838680"/>
            <a:ext cx="4249800" cy="1067400"/>
          </a:xfrm>
          <a:prstGeom prst="rect">
            <a:avLst/>
          </a:prstGeom>
          <a:noFill/>
          <a:ln w="9360">
            <a:solidFill>
              <a:srgbClr val="fdd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гнат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У школы № 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мор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0080" y="142560"/>
            <a:ext cx="74977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Экранная клавиатура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5" name="Picture 6" descr="klava"/>
          <p:cNvPicPr/>
          <p:nvPr/>
        </p:nvPicPr>
        <p:blipFill>
          <a:blip r:embed="rId1"/>
          <a:stretch/>
        </p:blipFill>
        <p:spPr>
          <a:xfrm>
            <a:off x="2214720" y="714240"/>
            <a:ext cx="5238720" cy="20383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431640" y="2571840"/>
            <a:ext cx="8569440" cy="451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2603520" y="63482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экранной клави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равый клик мышью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0" name="Picture 6" descr="knopkamishi"/>
          <p:cNvPicPr/>
          <p:nvPr/>
        </p:nvPicPr>
        <p:blipFill>
          <a:blip r:embed="rId1"/>
          <a:stretch/>
        </p:blipFill>
        <p:spPr>
          <a:xfrm>
            <a:off x="1187280" y="1214280"/>
            <a:ext cx="3384720" cy="14734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3429000" y="3000240"/>
            <a:ext cx="5256360" cy="24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786040" y="60148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использования правой кнопки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4395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анель инструментов Notebook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rcRect l="0" t="0" r="0" b="90044"/>
          <a:stretch/>
        </p:blipFill>
        <p:spPr>
          <a:xfrm>
            <a:off x="714240" y="571680"/>
            <a:ext cx="8247240" cy="620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table"/>
          <p:cNvPicPr/>
          <p:nvPr/>
        </p:nvPicPr>
        <p:blipFill>
          <a:blip r:embed="rId2"/>
          <a:stretch/>
        </p:blipFill>
        <p:spPr>
          <a:xfrm>
            <a:off x="679320" y="1214280"/>
            <a:ext cx="4178520" cy="56167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5076720" y="1700280"/>
            <a:ext cx="381636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535640" y="60148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инструментами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Note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06" descr=""/>
          <p:cNvPicPr/>
          <p:nvPr/>
        </p:nvPicPr>
        <p:blipFill>
          <a:blip r:embed="rId1"/>
          <a:srcRect l="0" t="0" r="65323" b="94109"/>
          <a:stretch/>
        </p:blipFill>
        <p:spPr>
          <a:xfrm>
            <a:off x="2214720" y="93600"/>
            <a:ext cx="5905440" cy="7635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1071720" y="64296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714240" y="1589040"/>
          <a:ext cx="8286840" cy="5153040"/>
        </p:xfrm>
        <a:graphic>
          <a:graphicData uri="http://schemas.openxmlformats.org/drawingml/2006/table">
            <a:tbl>
              <a:tblPr/>
              <a:tblGrid>
                <a:gridCol w="1408320"/>
                <a:gridCol w="6878520"/>
              </a:tblGrid>
              <a:tr h="428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дел мен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07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крыть новый или существующий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текущую страницу как шаблон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Экспорт в различных формата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править файл по электронной почт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печатать файл или изменить свойства печ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менить или повторить предыдущие действия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лонировать, вырезать, копировать, вставить или удалить выбранные объекты или все объекты на странице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едактировать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правописание всех текстов в файл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Удалить текущую страниц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текущий вид (Сортировщик страниц, Галерея, Вложения или Во весь экран)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крыть боковую панел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пустить панель инструментов захвата экрана или Затенения экран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Масштаб для приближения или удаления содержимого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обавить пустую страницу, шаблон, рисунок, файл Flash или ссыл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шрифта (жирный, подчеркнутый, курсив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объекта (цвет, ширина линии, заливка, прозрачность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крепить свойства и положение объект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цвет фона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здать формы, линии и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о, художественное перо и ласти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ыделить, изменить порядок, сгруппировать и разгруппировать объ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нформация о программе Notebook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наличие обно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42680" y="571320"/>
            <a:ext cx="1779480" cy="399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День 2-ой: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428920" y="2928960"/>
            <a:ext cx="5545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976400" y="121428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4"/>
          <p:cNvPicPr/>
          <p:nvPr/>
        </p:nvPicPr>
        <p:blipFill>
          <a:blip r:embed="rId1"/>
          <a:stretch/>
        </p:blipFill>
        <p:spPr>
          <a:xfrm>
            <a:off x="5072040" y="78588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6143760" y="1763640"/>
            <a:ext cx="2857320" cy="2237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5112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Различное ПО и интерактивная доска SMART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57160" y="1000080"/>
            <a:ext cx="749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ументы (файлы), созданные в любом приложении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   презентации PowerPoint, Microsoft Word, Microsoft Excel; и т.д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идео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то, рисунки, анимированные картинк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учающие программы на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VD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1071720" y="71424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ску, как на экран,  можно выводит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928800" y="3002040"/>
          <a:ext cx="3071880" cy="231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3002040"/>
                    <a:ext cx="30718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Picture 11" descr=""/>
          <p:cNvPicPr/>
          <p:nvPr/>
        </p:nvPicPr>
        <p:blipFill>
          <a:blip r:embed="rId8"/>
          <a:stretch/>
        </p:blipFill>
        <p:spPr>
          <a:xfrm>
            <a:off x="557208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Игнатова\Мои документы\Таллинн\Изображение 081.jpg"/>
          <p:cNvPicPr/>
          <p:nvPr/>
        </p:nvPicPr>
        <p:blipFill>
          <a:blip r:embed="rId9"/>
          <a:stretch/>
        </p:blipFill>
        <p:spPr>
          <a:xfrm>
            <a:off x="2381400" y="4286160"/>
            <a:ext cx="3333600" cy="2500560"/>
          </a:xfrm>
          <a:prstGeom prst="rect">
            <a:avLst/>
          </a:prstGeom>
          <a:ln w="57240">
            <a:solidFill>
              <a:srgbClr val="c58d01"/>
            </a:solidFill>
            <a:miter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3"/>
          <a:srcRect l="48481" t="56045" r="0" b="0"/>
          <a:stretch/>
        </p:blipFill>
        <p:spPr>
          <a:xfrm>
            <a:off x="428760" y="5000760"/>
            <a:ext cx="2286000" cy="992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671508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рограммное обеспечение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714680" y="2214720"/>
            <a:ext cx="45352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6" descr=""/>
          <p:cNvPicPr/>
          <p:nvPr/>
        </p:nvPicPr>
        <p:blipFill>
          <a:blip r:embed="rId1"/>
          <a:srcRect l="84335" t="0" r="0" b="0"/>
          <a:stretch/>
        </p:blipFill>
        <p:spPr>
          <a:xfrm>
            <a:off x="7164360" y="189000"/>
            <a:ext cx="1682640" cy="61927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"/>
          <p:cNvSpPr/>
          <p:nvPr/>
        </p:nvSpPr>
        <p:spPr>
          <a:xfrm>
            <a:off x="1333440" y="285840"/>
            <a:ext cx="55436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071720" y="4786200"/>
            <a:ext cx="585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499160" cy="642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Объекты в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71360" y="1143000"/>
            <a:ext cx="7862760" cy="32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 что вы можете передвигать пальцем или мышью на страниц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Notebook, эт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ъект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Вы добавляете его на страницу Notebook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печатать текс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рисовать или написать на доске маркер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здать геометрическую форму при помощи панели инструментов Notebook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местить картинку из Коллекции Notebook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шего компьютера или Интерне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6858000" y="1968480"/>
            <a:ext cx="1714680" cy="960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2"/>
          <a:srcRect l="16929" t="6933" r="136" b="31047"/>
          <a:stretch/>
        </p:blipFill>
        <p:spPr>
          <a:xfrm>
            <a:off x="1428840" y="4857840"/>
            <a:ext cx="7000920" cy="1285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9" descr="0-005.jpg"/>
          <p:cNvPicPr/>
          <p:nvPr/>
        </p:nvPicPr>
        <p:blipFill>
          <a:blip r:embed="rId3"/>
          <a:stretch/>
        </p:blipFill>
        <p:spPr>
          <a:xfrm>
            <a:off x="7572240" y="3143160"/>
            <a:ext cx="1024200" cy="1524240"/>
          </a:xfrm>
          <a:prstGeom prst="rect">
            <a:avLst/>
          </a:prstGeom>
          <a:ln w="38160">
            <a:solidFill>
              <a:srgbClr val="c58d01"/>
            </a:solidFill>
            <a:miter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3610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Режим работы</a:t>
            </a:r>
            <a:r>
              <a:rPr b="0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643040" y="92880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071800" y="3714840"/>
            <a:ext cx="5500440" cy="32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 прямой про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SMART Bo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омпоненты и основные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либровка доски,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рк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ртуальная клавиатура,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равая кнопка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меры работы с  интерактивной доской  прямой проекции SMART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3714840" y="28576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День 1- 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1"/>
          <p:cNvPicPr/>
          <p:nvPr/>
        </p:nvPicPr>
        <p:blipFill>
          <a:blip r:embed="rId1"/>
          <a:srcRect l="0" t="0" r="0" b="3447"/>
          <a:stretch/>
        </p:blipFill>
        <p:spPr>
          <a:xfrm>
            <a:off x="6572160" y="615960"/>
            <a:ext cx="1643040" cy="240012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изменять и передвигать объект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85960" y="3499920"/>
            <a:ext cx="6291360" cy="307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берите любой объект на странице Notebook, чтобы изменить его свойств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 выделенных объектов есть две «ручки» и выпадающее меню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604960" y="1071720"/>
            <a:ext cx="5013360" cy="285732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499520" cy="5828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72314"/>
                </a:solidFill>
                <a:latin typeface="Corbel"/>
              </a:rPr>
              <a:t>Фигуры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429000" y="957960"/>
            <a:ext cx="485784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rcRect l="0" t="0" r="0" b="5229"/>
          <a:stretch/>
        </p:blipFill>
        <p:spPr>
          <a:xfrm>
            <a:off x="1857240" y="857160"/>
            <a:ext cx="1214640" cy="5662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7"/>
          <p:cNvSpPr/>
          <p:nvPr/>
        </p:nvSpPr>
        <p:spPr>
          <a:xfrm>
            <a:off x="1663560" y="214200"/>
            <a:ext cx="6408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9"/>
          <p:cNvPicPr/>
          <p:nvPr/>
        </p:nvPicPr>
        <p:blipFill>
          <a:blip r:embed="rId1"/>
          <a:stretch/>
        </p:blipFill>
        <p:spPr>
          <a:xfrm>
            <a:off x="1714680" y="1538280"/>
            <a:ext cx="6162480" cy="15336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1809720" y="3429000"/>
            <a:ext cx="5977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1" descr="10"/>
          <p:cNvPicPr/>
          <p:nvPr/>
        </p:nvPicPr>
        <p:blipFill>
          <a:blip r:embed="rId2"/>
          <a:stretch/>
        </p:blipFill>
        <p:spPr>
          <a:xfrm>
            <a:off x="1332000" y="4786200"/>
            <a:ext cx="7451640" cy="1670040"/>
          </a:xfrm>
          <a:prstGeom prst="rect">
            <a:avLst/>
          </a:prstGeom>
          <a:ln w="0">
            <a:noFill/>
          </a:ln>
        </p:spPr>
      </p:pic>
      <p:sp>
        <p:nvSpPr>
          <p:cNvPr id="44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анель инструментов захвата экрана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3" name="Picture 7" descr="panelka"/>
          <p:cNvPicPr/>
          <p:nvPr/>
        </p:nvPicPr>
        <p:blipFill>
          <a:blip r:embed="rId1"/>
          <a:stretch/>
        </p:blipFill>
        <p:spPr>
          <a:xfrm>
            <a:off x="357120" y="3214800"/>
            <a:ext cx="1511280" cy="13078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3429000" y="1214280"/>
            <a:ext cx="533412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1514520" y="62769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выделения области для копирования и  её сох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2"/>
          <a:srcRect l="48481" t="56045" r="0" b="0"/>
          <a:stretch/>
        </p:blipFill>
        <p:spPr>
          <a:xfrm>
            <a:off x="285840" y="1714680"/>
            <a:ext cx="3125520" cy="135720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979640" y="357120"/>
          <a:ext cx="6516720" cy="4857840"/>
        </p:xfrm>
        <a:graphic>
          <a:graphicData uri="http://schemas.openxmlformats.org/drawingml/2006/table">
            <a:tbl>
              <a:tblPr/>
              <a:tblGrid>
                <a:gridCol w="3340080"/>
                <a:gridCol w="31766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абот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и тащите, чтобы выделить область, которую вы хотите захватить. Отпустите палец, когда нужная область выде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внутри окна, которое вы хотите захватить. Отпустите палец, когда нужное окно станет заштрихованны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йдите к изображению на экране, которое вы хотите сохранить и нажмите кнопку, чтобы захватить весь эк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Text Box 65"/>
          <p:cNvSpPr/>
          <p:nvPr/>
        </p:nvSpPr>
        <p:spPr>
          <a:xfrm>
            <a:off x="1108080" y="5445000"/>
            <a:ext cx="7893000" cy="13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rcRect l="39549" t="35157" r="47267" b="25782"/>
          <a:stretch/>
        </p:blipFill>
        <p:spPr>
          <a:xfrm>
            <a:off x="2857680" y="1000080"/>
            <a:ext cx="1828800" cy="42861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rcRect l="0" t="0" r="27997" b="0"/>
          <a:stretch/>
        </p:blipFill>
        <p:spPr>
          <a:xfrm>
            <a:off x="7143840" y="1428840"/>
            <a:ext cx="1714320" cy="19447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Полезные ссылки для анимированных картинок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28840" y="928440"/>
            <a:ext cx="7215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mir-kartinok.ucoz.ru/forum/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gifpark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http://www.dopinfo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http://gif.vukogurt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sunhome.ru/wallpap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gdemp3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mp3ex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musicfilesarea.com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Заголовок 1"/>
          <p:cNvSpPr/>
          <p:nvPr/>
        </p:nvSpPr>
        <p:spPr>
          <a:xfrm>
            <a:off x="1359000" y="4429080"/>
            <a:ext cx="7499160" cy="5000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Полезные ссылки для скачивания музыки в формате </a:t>
            </a:r>
            <a:r>
              <a:rPr b="0" lang="en-US" sz="2300" spc="-1" strike="noStrike">
                <a:solidFill>
                  <a:srgbClr val="572314"/>
                </a:solidFill>
                <a:latin typeface="Gill Sans MT"/>
              </a:rPr>
              <a:t>mp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5" descr="99.gif"/>
          <p:cNvPicPr/>
          <p:nvPr/>
        </p:nvPicPr>
        <p:blipFill>
          <a:blip r:embed="rId6"/>
          <a:stretch/>
        </p:blipFill>
        <p:spPr>
          <a:xfrm>
            <a:off x="5929200" y="2143080"/>
            <a:ext cx="1067040" cy="5716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5" descr="99.gif"/>
          <p:cNvPicPr/>
          <p:nvPr/>
        </p:nvPicPr>
        <p:blipFill>
          <a:blip r:embed="rId7"/>
          <a:stretch/>
        </p:blipFill>
        <p:spPr>
          <a:xfrm>
            <a:off x="5934240" y="5000760"/>
            <a:ext cx="1066680" cy="571320"/>
          </a:xfrm>
          <a:prstGeom prst="rect">
            <a:avLst/>
          </a:prstGeom>
          <a:ln w="0">
            <a:noFill/>
          </a:ln>
        </p:spPr>
      </p:pic>
      <p:sp>
        <p:nvSpPr>
          <p:cNvPr id="4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42800" y="1428480"/>
            <a:ext cx="4000680" cy="32144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пехов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в освоении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нтерактивных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хнологий!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0" name="Рисунок 6" descr="lin-rot-r.gif"/>
          <p:cNvPicPr/>
          <p:nvPr/>
        </p:nvPicPr>
        <p:blipFill>
          <a:blip r:embed="rId1"/>
          <a:stretch/>
        </p:blipFill>
        <p:spPr>
          <a:xfrm>
            <a:off x="2214720" y="5214960"/>
            <a:ext cx="5715000" cy="3816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7" descr="47.gif"/>
          <p:cNvPicPr/>
          <p:nvPr/>
        </p:nvPicPr>
        <p:blipFill>
          <a:blip r:embed="rId2"/>
          <a:stretch/>
        </p:blipFill>
        <p:spPr>
          <a:xfrm>
            <a:off x="4572000" y="5572080"/>
            <a:ext cx="1371600" cy="609480"/>
          </a:xfrm>
          <a:prstGeom prst="rect">
            <a:avLst/>
          </a:prstGeom>
          <a:ln w="0">
            <a:noFill/>
          </a:ln>
        </p:spPr>
      </p:pic>
      <p:sp>
        <p:nvSpPr>
          <p:cNvPr id="46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notebook_school"/>
          <p:cNvPicPr/>
          <p:nvPr/>
        </p:nvPicPr>
        <p:blipFill>
          <a:blip r:embed="rId1"/>
          <a:stretch/>
        </p:blipFill>
        <p:spPr>
          <a:xfrm>
            <a:off x="4357800" y="3384720"/>
            <a:ext cx="4572000" cy="33303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99000"/>
              </a:srgbClr>
            </a:outerShdw>
          </a:effectLst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7858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Что даёт использование мультимедийных средств обучения нового поколения  в обучении?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56800" y="1018800"/>
            <a:ext cx="828684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 не привязываясь к своему компьютеру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ущественно повышается уровень компьютерной компетенции учителей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Школьникам  учиться становится интересно и увлекательн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нтерактивная доска SMART Board 600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357720" y="1357200"/>
            <a:ext cx="5572080" cy="58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kak"/>
          <p:cNvPicPr/>
          <p:nvPr/>
        </p:nvPicPr>
        <p:blipFill>
          <a:blip r:embed="rId1"/>
          <a:stretch/>
        </p:blipFill>
        <p:spPr>
          <a:xfrm>
            <a:off x="1000080" y="1643040"/>
            <a:ext cx="2303640" cy="210816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1143000" y="1500120"/>
            <a:ext cx="2308320" cy="20862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работать с программами на интерактивной доске SMART Board?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3643200" y="2286000"/>
            <a:ext cx="5143680" cy="407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70920"/>
            <a:ext cx="7499520" cy="11430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либровка интерактивной дос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SMART Board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9" name="Picture 6" descr="ekran_kalibrovki"/>
          <p:cNvPicPr/>
          <p:nvPr/>
        </p:nvPicPr>
        <p:blipFill>
          <a:blip r:embed="rId1"/>
          <a:stretch/>
        </p:blipFill>
        <p:spPr>
          <a:xfrm>
            <a:off x="785880" y="2500200"/>
            <a:ext cx="3143160" cy="2646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4"/>
          <p:cNvSpPr/>
          <p:nvPr/>
        </p:nvSpPr>
        <p:spPr>
          <a:xfrm>
            <a:off x="928800" y="5357880"/>
            <a:ext cx="7786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rcRect l="32422" t="12894" r="0" b="13868"/>
          <a:stretch/>
        </p:blipFill>
        <p:spPr>
          <a:xfrm>
            <a:off x="4000680" y="1214280"/>
            <a:ext cx="5010120" cy="4071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3"/>
          <a:srcRect l="60255" t="8007" r="31691" b="79301"/>
          <a:stretch/>
        </p:blipFill>
        <p:spPr>
          <a:xfrm>
            <a:off x="2000160" y="1285920"/>
            <a:ext cx="785880" cy="1143000"/>
          </a:xfrm>
          <a:prstGeom prst="rect">
            <a:avLst/>
          </a:prstGeom>
          <a:ln w="0">
            <a:noFill/>
          </a:ln>
        </p:spPr>
      </p:pic>
      <p:cxnSp>
        <p:nvCxnSpPr>
          <p:cNvPr id="353" name="Прямая со стрелкой 11"/>
          <p:cNvCxnSpPr/>
          <p:nvPr/>
        </p:nvCxnSpPr>
        <p:spPr>
          <a:xfrm flipH="1" flipV="1">
            <a:off x="6143040" y="3285360"/>
            <a:ext cx="2500920" cy="78660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9" descr="3"/>
          <p:cNvPicPr/>
          <p:nvPr/>
        </p:nvPicPr>
        <p:blipFill>
          <a:blip r:embed="rId1"/>
          <a:stretch/>
        </p:blipFill>
        <p:spPr>
          <a:xfrm>
            <a:off x="258840" y="4357800"/>
            <a:ext cx="3241440" cy="1881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3643200" y="1000080"/>
            <a:ext cx="4753080" cy="298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5"/>
          <p:cNvPicPr/>
          <p:nvPr/>
        </p:nvPicPr>
        <p:blipFill>
          <a:blip r:embed="rId2"/>
          <a:stretch/>
        </p:blipFill>
        <p:spPr>
          <a:xfrm>
            <a:off x="1143000" y="1643040"/>
            <a:ext cx="2160720" cy="1825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7"/>
          <p:cNvSpPr/>
          <p:nvPr/>
        </p:nvSpPr>
        <p:spPr>
          <a:xfrm>
            <a:off x="3670200" y="3286080"/>
            <a:ext cx="53308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Маркер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2462040" y="64468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маркерами и ласт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06:22Z</dcterms:created>
  <dc:creator>Игнатова</dc:creator>
  <dc:description/>
  <dc:language>en-US</dc:language>
  <cp:lastModifiedBy>LEGION</cp:lastModifiedBy>
  <dcterms:modified xsi:type="dcterms:W3CDTF">2015-01-26T14:07:38Z</dcterms:modified>
  <cp:revision>99</cp:revision>
  <dc:subject/>
  <dc:title>Перспективы использования интерактивных технологий в учебном процессе</dc:title>
</cp:coreProperties>
</file>