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gif" ContentType="image/gif"/>
  <Override PartName="/ppt/media/image3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B10-D5CB-40B3-9E9D-7D87178016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ерспективы использования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технологий в учеб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     приёмы      работы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нтерактивной до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 проекции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0E0-6D49-4974-937F-D6645F087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Экранная клавиатура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25D-4726-4728-9E3A-94E0FBDC4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авый клик мыш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B1A-65A3-4D2B-8133-7301FB85F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ель инструментов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FED7-0025-4467-BB57-674CD78A2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ь новый или существующий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текущую страницу как шабл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орт в различных формат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равить файл по электронной поч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печатать файл или изменить свойства печ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менить или повторить предыдущие дейст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онировать, вырезать, копировать, вставить или удалить выбранные объекты или все объекты на страниц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дактировать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правописание всех текстов в файл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далить текущую стран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текущий вид (Сортировщик страниц, Галерея, Вложения или Во весь экран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крыть боковую пан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пустить панель инструментов захвата экрана или Затенения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штаб для приближения или удаления содержимого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бавить пустую страницу, шаблон, рисунок, файл Flash или ссы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шрифта (жирный, подчеркнутый, курси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объекта (цвет, ширина линии, заливка, прозрачност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репить свойства и положение объек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цвет фона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ть формы, линии и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о, художественное перо и ласт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делить, изменить порядок, сгруппировать и разгруппировать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я о программе Notebook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наличие обно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8FCA-13A6-4AA9-8FE0-DB00144F5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День 2-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6B3-C2DB-482E-9DCC-5B0997CF8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личное ПО и интерактивная доска SM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(файлы), созданные в любом приложе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 презентации PowerPoint, Microsoft Word, Microsoft Excel;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, рисунки, анимированные кар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 программы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V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D1CF-3A8E-47D0-9C4A-81B0BD94B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C05-6F38-4300-B1E6-0E5292E4B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ограммное обеспечение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B2B-A5A2-499A-9F8D-226CF5E5D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892-C8E5-4B0B-814D-4BDCEBED5C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ы в Not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 вы можете передвигать пальцем или мышью на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ebook,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ы добавляете его на страницу Notebook одним из следующих способ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ечатать тек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и написать на доск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еометрическую форму при помощи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ь картинку из Коллекции Noteboo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го компьютера ил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5DE-CBC6-44A8-B6C4-5FCE50933A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Режим работы</a:t>
            </a:r>
            <a:r>
              <a:rPr b="0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A17-DC17-412F-915E-DB86BB6BB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изменять и передвигать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любой объект на странице Notebook, чтобы изменить его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ыделенных объектов есть две «ручки»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16E-A2B6-43FE-BC41-2DAE7ADC9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BC98-5358-4C65-806A-5F23A7BCF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E22C-0038-4681-A527-8BA76E331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A13-94FC-4475-8C10-EB70C0C3E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9FE-68A6-4E25-A9DC-A86567367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лезные ссылки для анимированных карти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r-kartinok.ucoz.ru/forum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ifpark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pinfo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if.vukogurt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wall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demp3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p3ex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usicfilesarea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2464-12A4-4D89-BABE-D2723B1B6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воении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хнологий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CAD-DF61-4EDC-BDC7-ED7F011F8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488b"/>
                </a:solidFill>
                <a:latin typeface="Calibri"/>
              </a:rPr>
              <a:t>Что даёт использование мультимедийных средств обучения нового поколения  в обучен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е привязываясь к своему компьют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енно повышается уровень компьютерной компетенции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ольникам  учиться становится интересно и увлека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7E7-623B-4423-BA34-5D8BA2F0CB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ая доска SMART Board 6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2A87-6A36-4F7D-8927-AB3AFFFFB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Как работать с программами на интерактивной доске SMART Board?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21D-32F8-4BDA-BBDE-3A004E7BB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либровка интерактивной дос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5AB-0F55-43F0-B43A-D5AFA9090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46E-96AE-4514-8FD1-90F3ACE03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Марк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50CB-3D40-440E-9E85-383BC06AC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08A-9118-4ABB-82B2-3384E81FF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1D0-7F66-40C1-A5BE-A89BFB23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A00-B1D7-4AF6-A081-BA22795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73A-3805-47AF-8888-CDF8DB8E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072-092F-4CEB-9D3B-6BDB66A6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791A-0F35-4883-B015-01578500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04C0-7E84-48F1-8007-843DF256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0F0D-A860-463A-8885-004ADC0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035A-9E86-480A-89B5-ADD7566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F7FA-A03D-4FEF-B595-5E1A32A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B9BB-54C6-4ECB-955B-0955435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120E-CEF7-44D8-B4DE-C616CA3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B8E-30AB-4F94-B60F-E462AB4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35D-90F8-4243-BA91-FBD1ECE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27D-E327-4147-87C9-FA75A98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F0A-5918-4AE2-BF21-294C0B1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287C-E78B-44DE-9A33-3E99D884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94EA-07EA-4290-A6D1-811A0D2A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06F3-AD4F-4326-960C-673791EA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BDE8-BC1F-46F5-A72F-A28ABDE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F566-B073-48E9-A866-4A4285B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9555-6B78-49EF-94B6-69AFE21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E3DF-C7FE-4C29-B33A-941203B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8EC-EB6C-4F84-A65D-F554398F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0CB1-AA8A-4E1F-A1C8-ECB1189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25DF-C5FC-4CE7-B6FB-F0FB9C49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8CF2-5FA7-4618-8778-7B74F69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41FE-C2B4-452B-9FC4-CB18030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BD55-8C63-4577-B2FA-3FA1AFAF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53C7-9749-4B26-9E5A-5862C2BD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1A9D-88DC-4318-8D33-05D276EE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5A6C-98BE-4BD6-B1B8-4C0921FF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74EF-8B50-416A-8395-50546F0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28B1-D6F7-48E3-BDB7-FA8044C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485-614B-49AD-99FB-BA8E7C7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8712-4F78-4D67-89FD-7B7C487A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A9AD-3962-4DE8-B4C2-B84A1F6E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AF1B-36CA-487D-8B07-EC70450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0084-4ED5-426A-9738-FF134E6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FB97-C11D-43C8-985C-2FBB4D1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A2D0-9084-4812-A696-6D8BDF3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C1FE-C16A-4755-BE55-72792FD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4391-B44F-456D-A3CC-380139D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38BB-0A23-406B-967C-3B96ED23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EA6D-42A3-4447-A646-6C0187BE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E81-F0D3-47CF-88DF-69E38CC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A1F0-2A0A-44C7-9E9C-483E2B2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6431E-F525-423B-9FCA-6A83AAAD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5DA6-EADD-4A72-9ECD-0B71BC5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9FBED-2A78-447B-90B7-4AC93D9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7450-2BB8-4AFC-883A-43D43494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BB667-2C2B-4DA0-AD1C-1685D41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4470-64DC-407A-AF82-130FA80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0F98-F673-4E5E-8FFF-DDA1AFA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1D90F-94DC-4CB8-BB75-2C5EE04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7A0F-33E6-4EC1-AD6E-73B392B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DDC-3B10-44A1-B194-3B2F257E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C78C-C341-4E5F-A6E5-A1AA2F8D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8CC10-235B-4D66-BCE6-19985366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4A13-7551-4B23-A55F-A0791A7C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BC10-18EA-4053-85D0-2AF2240A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16AA-9F23-43A8-B8C5-F9A2685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3BD9-DDD0-4AE8-B49D-7196C73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EAD3-DF37-4553-8969-B4FEA69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F29E-A3E0-456C-A634-1E739D9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2CE95-C055-46D7-836D-D5C2C23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C86A-9F25-44E4-BA62-C2C07B5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DE9-F079-4A44-9808-0559A92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D6F5-C2CD-4561-932B-5E5CC2E0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1F96-0B2E-4C22-86FE-4556F583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7D3B-9BE0-4FE6-96B9-E35E1DA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B07B-E927-49A5-8684-845C8E0E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DB6A-1FD0-4B95-9917-B29E033E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4EF0-AACC-4E3E-8310-CBCA40C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A5D4-4C41-4445-954E-5217131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E50B-9839-4EEB-B382-738F6A9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E15E-2B10-4455-BA1A-3CA46C2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8F8C7-2C14-4160-82E1-39B7B9A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CCB-930C-48F1-A15D-7BBDF33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13623-9481-4E49-9AF6-971A4F2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AE18-BDF2-4E5C-B212-AFC7C2D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CEEB-729E-4233-8EBC-E962101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1246-952F-4BBD-923F-1F968BC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4235E-8F42-4C27-BF92-6C6A78E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77C-1062-41CA-91B7-20A3BB0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637-EA54-4352-AA81-713529F05A5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88A-6AC0-46F1-A69B-72CC988862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A13-488B-4636-966C-6D6A341BC6C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834-5B6E-40A3-A2A4-6C48E9257BD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2F4-D709-46DB-82D1-B3E8E72912C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50D2-14A4-4A81-9EA9-B0746BE22C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24E8-07BC-49D3-A9E2-76B75BA6524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437C-746A-4DF1-B809-43E7EF395EF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CCB-BDA3-481D-94F9-5F60FC4AC9A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65CE-BC1D-4535-BDD7-0525C0AAEE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0B6-0A5C-431B-9A8C-9280F435E32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D8F4-BADE-46D9-9932-A4C7857948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B5E-6EB9-40EC-A8CE-F1BCD2C595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A65-FC91-4269-AAAC-6ACDB06C848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mir-kartinok.ucoz.ru/forum/2" TargetMode="External"/><Relationship Id="rId3" Type="http://schemas.openxmlformats.org/officeDocument/2006/relationships/hyperlink" Target="http://mir-kartinok.ucoz.ru/forum/2" TargetMode="External"/><Relationship Id="rId4" Type="http://schemas.openxmlformats.org/officeDocument/2006/relationships/hyperlink" Target="http://mir-kartinok.ucoz.ru/forum/2" TargetMode="External"/><Relationship Id="rId5" Type="http://schemas.openxmlformats.org/officeDocument/2006/relationships/hyperlink" Target="http://mir-kartinok.ucoz.ru/forum/2" TargetMode="External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4"/>
          <p:cNvPicPr/>
          <p:nvPr/>
        </p:nvPicPr>
        <p:blipFill>
          <a:blip r:embed="rId1"/>
          <a:stretch/>
        </p:blipFill>
        <p:spPr>
          <a:xfrm>
            <a:off x="5572080" y="378612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1757160"/>
          </a:xfrm>
          <a:prstGeom prst="rect">
            <a:avLst/>
          </a:prstGeom>
          <a:solidFill>
            <a:srgbClr val="fdd7ba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спективы использован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активных технологий в учебном процесс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00160" y="2356920"/>
            <a:ext cx="557208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сновные      приёмы      работы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 интерактивной доской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ямой проекции SMART Boa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042920" y="3838680"/>
            <a:ext cx="4249800" cy="1067400"/>
          </a:xfrm>
          <a:prstGeom prst="rect">
            <a:avLst/>
          </a:prstGeom>
          <a:noFill/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нат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У школы № 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0080" y="142560"/>
            <a:ext cx="74977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кранная клавиатур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Picture 6" descr="klava"/>
          <p:cNvPicPr/>
          <p:nvPr/>
        </p:nvPicPr>
        <p:blipFill>
          <a:blip r:embed="rId1"/>
          <a:stretch/>
        </p:blipFill>
        <p:spPr>
          <a:xfrm>
            <a:off x="2214720" y="714240"/>
            <a:ext cx="5238720" cy="2038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431640" y="2571840"/>
            <a:ext cx="856944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603520" y="63482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экранной клави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ый клик мышью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6" descr="knopkamishi"/>
          <p:cNvPicPr/>
          <p:nvPr/>
        </p:nvPicPr>
        <p:blipFill>
          <a:blip r:embed="rId1"/>
          <a:stretch/>
        </p:blipFill>
        <p:spPr>
          <a:xfrm>
            <a:off x="1187280" y="1214280"/>
            <a:ext cx="3384720" cy="14734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429000" y="3000240"/>
            <a:ext cx="5256360" cy="24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786040" y="601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использования правой кнопки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4395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анель инструментов Notebook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0" t="0" r="0" b="90044"/>
          <a:stretch/>
        </p:blipFill>
        <p:spPr>
          <a:xfrm>
            <a:off x="714240" y="571680"/>
            <a:ext cx="8247240" cy="620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table"/>
          <p:cNvPicPr/>
          <p:nvPr/>
        </p:nvPicPr>
        <p:blipFill>
          <a:blip r:embed="rId2"/>
          <a:stretch/>
        </p:blipFill>
        <p:spPr>
          <a:xfrm>
            <a:off x="679320" y="1214280"/>
            <a:ext cx="4178520" cy="56167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5076720" y="1700280"/>
            <a:ext cx="38163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535640" y="6014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инструментами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6" descr=""/>
          <p:cNvPicPr/>
          <p:nvPr/>
        </p:nvPicPr>
        <p:blipFill>
          <a:blip r:embed="rId1"/>
          <a:srcRect l="0" t="0" r="65323" b="94109"/>
          <a:stretch/>
        </p:blipFill>
        <p:spPr>
          <a:xfrm>
            <a:off x="2214720" y="93600"/>
            <a:ext cx="5905440" cy="763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071720" y="64296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14240" y="1589040"/>
          <a:ext cx="8286840" cy="5153040"/>
        </p:xfrm>
        <a:graphic>
          <a:graphicData uri="http://schemas.openxmlformats.org/drawingml/2006/table">
            <a:tbl>
              <a:tblPr/>
              <a:tblGrid>
                <a:gridCol w="1408320"/>
                <a:gridCol w="6878520"/>
              </a:tblGrid>
              <a:tr h="42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мен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7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крыть новый или существующий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текущую страницу как шаблон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орт в различных формата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равить файл по электронной почт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печатать файл или изменить свойства печ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менить или повторить предыдущие действия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лонировать, вырезать, копировать, вставить или удалить выбранные объекты или все объекты на страниц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едактировать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правописание всех текстов в файл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Удалить текущую страниц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текущий вид (Сортировщик страниц, Галерея, Вложения или Во весь экран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крыть боковую панел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пустить панель инструментов захвата экрана или Затенения экран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сштаб для приближения или удаления содержимого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бавить пустую страницу, шаблон, рисунок, файл Flash или ссыл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шрифта (жирный, подчеркнутый, курсив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объекта (цвет, ширина линии, заливка, прозрачност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крепить свойства и положение объек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цвет фона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здать формы, линии и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о, художественное перо и ласти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делить, изменить порядок, сгруппировать и разгруппировать о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нформация о программе Notebook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наличие обно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1779480" cy="399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День 2-ой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28920" y="2928960"/>
            <a:ext cx="5545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976400" y="121428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4"/>
          <p:cNvPicPr/>
          <p:nvPr/>
        </p:nvPicPr>
        <p:blipFill>
          <a:blip r:embed="rId1"/>
          <a:stretch/>
        </p:blipFill>
        <p:spPr>
          <a:xfrm>
            <a:off x="5072040" y="78588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6143760" y="1763640"/>
            <a:ext cx="2857320" cy="2237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5112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Различное ПО и интерактивная доска SMART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57160" y="100008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ументы (файлы), созданные в любом приложени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   презентации PowerPoint, Microsoft Word, Microsoft Excel; и т.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то, рисунки, анимированные картинк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ающие программы н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V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1071720" y="71424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у, как на экран,  можно выводи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928800" y="3002040"/>
          <a:ext cx="3071880" cy="23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3002040"/>
                    <a:ext cx="30718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11" descr=""/>
          <p:cNvPicPr/>
          <p:nvPr/>
        </p:nvPicPr>
        <p:blipFill>
          <a:blip r:embed="rId8"/>
          <a:stretch/>
        </p:blipFill>
        <p:spPr>
          <a:xfrm>
            <a:off x="557208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гнатова\Мои документы\Таллинн\Изображение 081.jpg"/>
          <p:cNvPicPr/>
          <p:nvPr/>
        </p:nvPicPr>
        <p:blipFill>
          <a:blip r:embed="rId9"/>
          <a:stretch/>
        </p:blipFill>
        <p:spPr>
          <a:xfrm>
            <a:off x="2381400" y="4286160"/>
            <a:ext cx="3333600" cy="2500560"/>
          </a:xfrm>
          <a:prstGeom prst="rect">
            <a:avLst/>
          </a:prstGeom>
          <a:ln w="57240">
            <a:solidFill>
              <a:srgbClr val="c58d01"/>
            </a:solidFill>
            <a:miter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3"/>
          <a:srcRect l="48481" t="56045" r="0" b="0"/>
          <a:stretch/>
        </p:blipFill>
        <p:spPr>
          <a:xfrm>
            <a:off x="428760" y="5000760"/>
            <a:ext cx="2286000" cy="992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671508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рограммное обеспечение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14680" y="2214720"/>
            <a:ext cx="4535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"/>
          <p:cNvPicPr/>
          <p:nvPr/>
        </p:nvPicPr>
        <p:blipFill>
          <a:blip r:embed="rId1"/>
          <a:srcRect l="84335" t="0" r="0" b="0"/>
          <a:stretch/>
        </p:blipFill>
        <p:spPr>
          <a:xfrm>
            <a:off x="7164360" y="189000"/>
            <a:ext cx="1682640" cy="6192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33440" y="285840"/>
            <a:ext cx="5543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071720" y="4786200"/>
            <a:ext cx="585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9160" cy="642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Объекты в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71360" y="1143000"/>
            <a:ext cx="7862760" cy="32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что вы можете передвигать пальцем или мышью на страниц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Notebook, э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ек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ы добавляете его на страницу Notebook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ечатать тек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исовать или написать на доске маркер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ть геометрическую форму при помощи панели инструментов Noteb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естить картинку из Коллекции Noteboo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шего компьютера или Интерне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6858000" y="1968480"/>
            <a:ext cx="1714680" cy="9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rcRect l="16929" t="6933" r="136" b="31047"/>
          <a:stretch/>
        </p:blipFill>
        <p:spPr>
          <a:xfrm>
            <a:off x="1428840" y="4857840"/>
            <a:ext cx="7000920" cy="1285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9" descr="0-005.jpg"/>
          <p:cNvPicPr/>
          <p:nvPr/>
        </p:nvPicPr>
        <p:blipFill>
          <a:blip r:embed="rId3"/>
          <a:stretch/>
        </p:blipFill>
        <p:spPr>
          <a:xfrm>
            <a:off x="7572240" y="3143160"/>
            <a:ext cx="1024200" cy="1524240"/>
          </a:xfrm>
          <a:prstGeom prst="rect">
            <a:avLst/>
          </a:prstGeom>
          <a:ln w="38160">
            <a:solidFill>
              <a:srgbClr val="c58d01"/>
            </a:solidFill>
            <a:miter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3610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Режим работы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643040" y="92880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71800" y="3714840"/>
            <a:ext cx="5500440" cy="32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 прям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SMART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омпоненты и основны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либровка доски,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ртуальная клавиатура,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равая кнопка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меры работы с  интерактивной доской  прямой проекции SMART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3714840" y="2857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День 1- 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1"/>
          <p:cNvPicPr/>
          <p:nvPr/>
        </p:nvPicPr>
        <p:blipFill>
          <a:blip r:embed="rId1"/>
          <a:srcRect l="0" t="0" r="0" b="3447"/>
          <a:stretch/>
        </p:blipFill>
        <p:spPr>
          <a:xfrm>
            <a:off x="6572160" y="615960"/>
            <a:ext cx="1643040" cy="240012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изменять и передвигать объект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5960" y="3499920"/>
            <a:ext cx="6291360" cy="30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ерите любой объект на странице Notebook, чтобы изменить его свойс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выделенных объектов есть две «ручки» и выпадающее мен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604960" y="1071720"/>
            <a:ext cx="50133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5828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2314"/>
                </a:solidFill>
                <a:latin typeface="Corbel"/>
              </a:rPr>
              <a:t>Фигуры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429000" y="957960"/>
            <a:ext cx="485784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1857240" y="857160"/>
            <a:ext cx="1214640" cy="5662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1663560" y="214200"/>
            <a:ext cx="640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9"/>
          <p:cNvPicPr/>
          <p:nvPr/>
        </p:nvPicPr>
        <p:blipFill>
          <a:blip r:embed="rId1"/>
          <a:stretch/>
        </p:blipFill>
        <p:spPr>
          <a:xfrm>
            <a:off x="1714680" y="1538280"/>
            <a:ext cx="6162480" cy="15336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1809720" y="3429000"/>
            <a:ext cx="597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10"/>
          <p:cNvPicPr/>
          <p:nvPr/>
        </p:nvPicPr>
        <p:blipFill>
          <a:blip r:embed="rId2"/>
          <a:stretch/>
        </p:blipFill>
        <p:spPr>
          <a:xfrm>
            <a:off x="1332000" y="4786200"/>
            <a:ext cx="7451640" cy="1670040"/>
          </a:xfrm>
          <a:prstGeom prst="rect">
            <a:avLst/>
          </a:prstGeom>
          <a:ln w="0">
            <a:noFill/>
          </a:ln>
        </p:spPr>
      </p:pic>
      <p:sp>
        <p:nvSpPr>
          <p:cNvPr id="44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анель инструментов захвата экран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3" name="Picture 7" descr="panelka"/>
          <p:cNvPicPr/>
          <p:nvPr/>
        </p:nvPicPr>
        <p:blipFill>
          <a:blip r:embed="rId1"/>
          <a:stretch/>
        </p:blipFill>
        <p:spPr>
          <a:xfrm>
            <a:off x="357120" y="3214800"/>
            <a:ext cx="1511280" cy="13078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429000" y="1214280"/>
            <a:ext cx="533412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4520" y="62769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выделения области для копирования и  её с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rcRect l="48481" t="56045" r="0" b="0"/>
          <a:stretch/>
        </p:blipFill>
        <p:spPr>
          <a:xfrm>
            <a:off x="285840" y="1714680"/>
            <a:ext cx="31255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979640" y="357120"/>
          <a:ext cx="6516720" cy="4857840"/>
        </p:xfrm>
        <a:graphic>
          <a:graphicData uri="http://schemas.openxmlformats.org/drawingml/2006/table">
            <a:tbl>
              <a:tblPr/>
              <a:tblGrid>
                <a:gridCol w="3340080"/>
                <a:gridCol w="3176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або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и тащите, чтобы выделить область, которую вы хотите захватить. Отпустите палец, когда нужная область выд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внутри окна, которое вы хотите захватить. Отпустите палец, когда нужное окно станет заштрихован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йдите к изображению на экране, которое вы хотите сохранить и нажмите кнопку, чтобы захватить весь эк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65"/>
          <p:cNvSpPr/>
          <p:nvPr/>
        </p:nvSpPr>
        <p:spPr>
          <a:xfrm>
            <a:off x="1108080" y="5445000"/>
            <a:ext cx="78930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rcRect l="39549" t="35157" r="47267" b="25782"/>
          <a:stretch/>
        </p:blipFill>
        <p:spPr>
          <a:xfrm>
            <a:off x="2857680" y="1000080"/>
            <a:ext cx="1828800" cy="42861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0" t="0" r="27997" b="0"/>
          <a:stretch/>
        </p:blipFill>
        <p:spPr>
          <a:xfrm>
            <a:off x="7143840" y="1428840"/>
            <a:ext cx="1714320" cy="1944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олезные ссылки для анимированных картинок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28840" y="928440"/>
            <a:ext cx="721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ir-kartinok.ucoz.ru/forum/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gifpark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dopinfo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gif.vukogurt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unhome.ru/wallpa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demp3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mp3ex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musicfilesarea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1359000" y="4429080"/>
            <a:ext cx="7499160" cy="5000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Полезные ссылки для скачивания музыки в формате </a:t>
            </a:r>
            <a:r>
              <a:rPr b="0" lang="en-US" sz="2300" spc="-1" strike="noStrike">
                <a:solidFill>
                  <a:srgbClr val="572314"/>
                </a:solidFill>
                <a:latin typeface="Gill Sans MT"/>
              </a:rPr>
              <a:t>mp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5" descr="99.gif"/>
          <p:cNvPicPr/>
          <p:nvPr/>
        </p:nvPicPr>
        <p:blipFill>
          <a:blip r:embed="rId6"/>
          <a:stretch/>
        </p:blipFill>
        <p:spPr>
          <a:xfrm>
            <a:off x="5929200" y="2143080"/>
            <a:ext cx="10670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5" descr="99.gif"/>
          <p:cNvPicPr/>
          <p:nvPr/>
        </p:nvPicPr>
        <p:blipFill>
          <a:blip r:embed="rId7"/>
          <a:stretch/>
        </p:blipFill>
        <p:spPr>
          <a:xfrm>
            <a:off x="5934240" y="500076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42800" y="1428480"/>
            <a:ext cx="4000680" cy="32144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пехов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освоении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активных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ологий!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Рисунок 6" descr="lin-rot-r.gif"/>
          <p:cNvPicPr/>
          <p:nvPr/>
        </p:nvPicPr>
        <p:blipFill>
          <a:blip r:embed="rId1"/>
          <a:stretch/>
        </p:blipFill>
        <p:spPr>
          <a:xfrm>
            <a:off x="2214720" y="5214960"/>
            <a:ext cx="5715000" cy="3816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7" descr="47.gif"/>
          <p:cNvPicPr/>
          <p:nvPr/>
        </p:nvPicPr>
        <p:blipFill>
          <a:blip r:embed="rId2"/>
          <a:stretch/>
        </p:blipFill>
        <p:spPr>
          <a:xfrm>
            <a:off x="4572000" y="557208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notebook_school"/>
          <p:cNvPicPr/>
          <p:nvPr/>
        </p:nvPicPr>
        <p:blipFill>
          <a:blip r:embed="rId1"/>
          <a:stretch/>
        </p:blipFill>
        <p:spPr>
          <a:xfrm>
            <a:off x="4357800" y="3384720"/>
            <a:ext cx="4572000" cy="3330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9000"/>
              </a:srgbClr>
            </a:outerShdw>
          </a:effectLst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7858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Что даёт использование мультимедийных средств обучения нового поколения  в обучении?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1018800"/>
            <a:ext cx="828684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не привязываясь к своему компьютер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щественно повышается уровень компьютерной компетенции учите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кольникам  учиться становится интересно и увлекательн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нтерактивная доска SMART Board 600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357720" y="1357200"/>
            <a:ext cx="5572080" cy="58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kak"/>
          <p:cNvPicPr/>
          <p:nvPr/>
        </p:nvPicPr>
        <p:blipFill>
          <a:blip r:embed="rId1"/>
          <a:stretch/>
        </p:blipFill>
        <p:spPr>
          <a:xfrm>
            <a:off x="1000080" y="1643040"/>
            <a:ext cx="2303640" cy="210816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1143000" y="1500120"/>
            <a:ext cx="2308320" cy="208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работать с программами на интерактивной доске SMART Board?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643200" y="2286000"/>
            <a:ext cx="5143680" cy="407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70920"/>
            <a:ext cx="7499520" cy="11430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либровка интерактивной дос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SMART Bo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Picture 6" descr="ekran_kalibrovki"/>
          <p:cNvPicPr/>
          <p:nvPr/>
        </p:nvPicPr>
        <p:blipFill>
          <a:blip r:embed="rId1"/>
          <a:stretch/>
        </p:blipFill>
        <p:spPr>
          <a:xfrm>
            <a:off x="785880" y="2500200"/>
            <a:ext cx="3143160" cy="2646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928800" y="5357880"/>
            <a:ext cx="7786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32422" t="12894" r="0" b="13868"/>
          <a:stretch/>
        </p:blipFill>
        <p:spPr>
          <a:xfrm>
            <a:off x="4000680" y="1214280"/>
            <a:ext cx="5010120" cy="40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rcRect l="60255" t="8007" r="31691" b="79301"/>
          <a:stretch/>
        </p:blipFill>
        <p:spPr>
          <a:xfrm>
            <a:off x="2000160" y="1285920"/>
            <a:ext cx="7858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"/>
          <p:cNvCxnSpPr/>
          <p:nvPr/>
        </p:nvCxnSpPr>
        <p:spPr>
          <a:xfrm flipH="1" flipV="1">
            <a:off x="6143040" y="3285360"/>
            <a:ext cx="2500920" cy="7866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3"/>
          <p:cNvPicPr/>
          <p:nvPr/>
        </p:nvPicPr>
        <p:blipFill>
          <a:blip r:embed="rId1"/>
          <a:stretch/>
        </p:blipFill>
        <p:spPr>
          <a:xfrm>
            <a:off x="258840" y="4357800"/>
            <a:ext cx="324144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3643200" y="1000080"/>
            <a:ext cx="4753080" cy="298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5"/>
          <p:cNvPicPr/>
          <p:nvPr/>
        </p:nvPicPr>
        <p:blipFill>
          <a:blip r:embed="rId2"/>
          <a:stretch/>
        </p:blipFill>
        <p:spPr>
          <a:xfrm>
            <a:off x="1143000" y="16430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3670200" y="3286080"/>
            <a:ext cx="53308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Маркер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462040" y="64468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маркерами и ласт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6:22Z</dcterms:created>
  <dc:creator>Игнатова</dc:creator>
  <dc:description/>
  <dc:language>en-US</dc:language>
  <cp:lastModifiedBy>LEGION</cp:lastModifiedBy>
  <dcterms:modified xsi:type="dcterms:W3CDTF">2015-01-26T14:07:38Z</dcterms:modified>
  <cp:revision>99</cp:revision>
  <dc:subject/>
  <dc:title>Перспективы использования интерактивных технологий в учебном процессе</dc:title>
</cp:coreProperties>
</file>