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30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gif" ContentType="image/gif"/>
  <Override PartName="/ppt/media/image39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8.gif" ContentType="image/gif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gif" ContentType="image/gif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1B70-EB7B-43A4-B8F7-F3CF0288FC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" Target="../slides/slide15.xml"/><Relationship Id="rId6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Перспективы использования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нтерактивных технологий в учебном проце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     приёмы      работы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нтерактивной до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й проекции SMART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D5F4-77C9-4C90-83CA-B1E84E2346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Экранная клавиатура</a:t>
            </a: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бивайте и редактируйте текст, не отходя от интерактивной дос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жмите кнопку на лотке для маркеров, чтобы запустить Экранную клавиату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Выпадающее меню клавиатуры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Позволяет выбрать вид клавиатуры. Классическая (Classic) выглядит, как обычная клавиатура, которую вы привыкли использовать. В Простой (Simple) - буквы расположены в алфавитном порядке, что удобно при обучении учащихся начальных классов. Также есть Цифровая клавиатура (Number Pad), Отрывки (Shortcut) и Заглавные буквы (Simple Cap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2. Стрелка: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Нажмите Стрелку, чтобы открыть Предварительный просмотр.   В окне Предварительного просмотра вы можете напечатать любой текст прежде, чем отправить эту информацию в файл. Когда вы закончите печатать, нажмите Отправить (Send), и ваш текст будет помещен в активное при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829D-C315-4F4C-A0CB-3D0B05C898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Правый клик мыш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жмите правую кнопку на лотке для маркеров, чтобы превратить ваше следующее прикосновение к доске в правый клик мыш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 правом нижнем углу экрана появится значок, подтверждающий то, что ваше следующее прикосновение будет правым кликом мыш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F46E-9759-484A-A874-2A7CE905E9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ель инструментов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Notebook позволяет работать с инструментами Notebook. По умолчанию панель инструментов появляется вверху страницы Notebook. Если вы хотите работать сидя или преподаете маленьким детям, панель инструментов можно переместить в низ страницы. Для этого нажмите и удерживайте пустой участок на панели инструментов и тащите ее вни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9C18-FA77-4EB2-A567-C52B68FAA7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 Notebook предоставляет доступ ко всем возможностям панели инструментов и многим друг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дел мен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крыть новый или существующий фай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хранить фай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хранить текущую страницу как шаблон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кспорт в различных формата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править файл по электронной поч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печатать файл или изменить свойства печа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тменить или повторить предыдущие действ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лонировать, вырезать, копировать, вставить или удалить выбранные объекты или все объекты на страниц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дактировать тек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верить правописание всех текстов в файл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далить текущую страниц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текущий вид (Сортировщик страниц, Галерея, Вложения или Во весь экран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крыть боковую панел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пустить панель инструментов захвата экрана или Затенения экра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сштаб для приближения или удаления содержимого стран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обавить пустую страницу, шаблон, рисунок, файл Flash или ссыл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свойства шрифта (жирный, подчеркнутый, курсив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свойства объекта (цвет, ширина линии, заливка, прозрачность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крепить свойства и положение объек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нить цвет фона стран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здать формы, линии и текс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о, художественное перо и ласти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ыделить, изменить порядок, сгруппировать и разгруппировать о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нформация о программе Notebook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верить наличие обно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B1FC-6E8B-43FA-B8A8-EC604F701B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День 2-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10.00 -11.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11.30 – 12.00 - перерыв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12.00 - 13.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Различное ПО и интерактивная доска SM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Использование ПО SMART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ортировщик страниц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коллек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лож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активные стран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бъекты, фигуры и инструменты для рисования,           - группировка объект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галер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оказ фрагментов уроков слушателей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DA6C-99F6-40C2-B555-0A809EEDAF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азличное ПО и интерактивная доска SMA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 (файлы), созданные в любом приложе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  презентации PowerPoint, Microsoft Word, Microsoft Excel;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, рисунки, анимированные карти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ающие программы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V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026F-B3C3-4A90-AFC2-4EA994DBB5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 запуска SMART Boa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8FF7-7241-4AFB-AF9E-1F6C0DE891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Программное обеспечение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Notebook позволяет создавать занятия и презентации с помощью ярких рисунков, объектов Macromedia Flash и текстов, используя различные ресурсы. Заинтересуйте аудиторию, передвигая и изменяя объекты. Если слушатели предлагают свои идеи, задают вопросы, записывайте их маркером в программном обеспечении Noteboo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0835-0130-4589-9B5D-35E25248FE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Боковые закл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боку от страницы Notebook находятся три закладк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Сортировщик страниц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- позволяет вам увидеть эскизы изображений каждой страницы в файле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оллекция -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здесь расположены образцы, картинки и анимации Flash, которые можно добавить на страницу Noteboo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Вложения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-  добавлять файлы из других программ в Noteboo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ы можете спрятать закладки, поставив галочку рядом со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Скрывать автоматически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внизу окна закла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Пример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работы с заклад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Практическое  занятие в 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Notebook (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создание фрагмента урока с  использованием коллекции готовых картинок и анимации</a:t>
            </a:r>
            <a:r>
              <a:rPr b="0" i="1" lang="en-US" sz="12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CF31-10B1-482B-B59E-EC760EC8E4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ъекты в Not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то вы можете передвигать пальцем или мышью на страниц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otebook, э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к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ы добавляете его на страницу Notebook одним из следующих способ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ечатать тек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исовать или написать на доске марке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ь геометрическую форму при помощи панели инструментов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стить картинку из Коллекции Notebook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его компьютера или Интер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2E6C-33AE-4156-A7A7-D98164A4CC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11488b"/>
                </a:solidFill>
                <a:uFillTx/>
                <a:latin typeface="Calibri"/>
              </a:rPr>
              <a:t>Режим работы</a:t>
            </a:r>
            <a:r>
              <a:rPr b="0" lang="ru-RU" sz="1200" spc="-1" strike="noStrike" u="sng">
                <a:solidFill>
                  <a:srgbClr val="11488b"/>
                </a:solidFill>
                <a:uFillTx/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8F5C-A58F-4CE9-AEFC-553F1AE194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к изменять и передвигать объек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любой объект на странице Notebook, чтобы изменить его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выделенных объектов есть две «ручки» и выпадающее ме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зеленую «ручку», чтобы повернуть объект и белую, чтобы уменьшить или увеличить е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5995-CF77-4A64-B89E-C725018B2C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г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21e1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стрелку на кнопке </a:t>
            </a:r>
            <a:r>
              <a:rPr b="1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Фигура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, на панели инструментов Notebook появится список различных фиг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21e1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Выберите фигуру, которую вы хотите использовать и поставьте курсор туда, где вы хотите нарисовать фигу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221e1f"/>
              </a:buClr>
              <a:buFont typeface="Myriad Pr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и тащите курсор до тех пор, пока ваша фигура не будет того размера, который нужен 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Теперь, когда вы нарисовали фигуру на странице Notebook, вы можете изменять ее так же, как вы изменяете другие объекты, используя ручку поворота и изменения размера и выпадающее мен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62C9-7A56-48AC-A587-F31AD368AD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Распознавание рукописного текста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(только английский)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Если вы написали что-то маркером, вы можете распознать текст и превратить его в печа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войное нажатие на печатный текст открывает панель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Шрифты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. Выделите текст, который вы хотите изменить, а затем используйте возможности пан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8E02-A805-4709-A0FF-8C15F3AEEC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ак делать запис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ы можете писать и рисовать на поверхности доски, взяв маркер с лотка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розрачный сл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Когда вы берете маркер с лотка, появляется перемещаемая панель инструментов и рамка вокруг рабочего стола. Рамка означает, что вы можете писать поверх рабочего стола, и остается до тех пор, пока вы не положите маркер или ластик обратно на лоток и не коснетесь доски. Ваше первое прикосновение к доске удалит рамку и все ваши запис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ак сохранить записи и рисун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еремещаемая панель инструментов позволяет вам сохранять ваши надписи и рису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4432-BC22-4189-AD6E-929A82130F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 позволяет вам захватывать изображение отдельного окна, всего экрана или его части в файл Notebook. Чтобы открыть Панель инструментов захвата экрана нажмите кнопку Захвата на панели инструментов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2E8E-81B2-4DFA-9AD0-045FBCCAF2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лезные ссылки для анимированных картино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r-kartinok.ucoz.ru/forum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gifpark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opinfo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gif.vukogurt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wall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gdemp3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p3ex.ne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usicfilesarea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5EEA-3C8C-49F1-957C-9B55EF7EBB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х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своении</a:t>
            </a: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нтерактивных </a:t>
            </a:r>
            <a:br>
              <a:rPr sz="1200"/>
            </a:b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технологий!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E061-3C2A-4D29-89E1-C853FCEEF3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1488b"/>
                </a:solidFill>
                <a:latin typeface="Calibri"/>
              </a:rPr>
              <a:t>Что даёт использование мультимедийных средств обучения нового поколения  в обучении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ответствие тому способу восприятия информации, которым отличается новое поколение школьников, выросшее на ТВ, компьютерах и мобильных телефонах, у которого гораздо выше потребность в темпераментной визуальной информации и зрительной стимуля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ьютерных наглядных обучающих  материалов по любой теме можно найти великое множество и использовать их многокр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получает возможность полностью управлять любой компьютерной демонстрацией - выводить на экран доски картинки, карты, схемы, создавать и перемещать объекты, запускать видео и интерактивные анимации, выделять важные моменты цветными пометками, работать с любыми компьютерными программами. И все это прямо с доски, не теряя визуального контакта с клас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не привязываясь к своему компьют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лагодаря наглядности и интерактивности, класс вовлекается в активную работу. Обостряется восприятие. Повышается концентрация внимания, улучшается понимание и запоминание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ю проведенную в ходе урока работу, со всеми сделанными на доске записями и пометками, можно сохранить в компьютере для последующего просмотра и анализа, в том числе и виде видеозапи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щественно повышается уровень компьютерной компетенции уч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31859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кольникам  учиться становится интересно и увлекатель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5B10-AFDD-430C-B3FE-2428DF3B36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Интерактивная доска SMART Board 6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Интерактивная доска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-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это сенсорный экран, работающий как часть системы, в которую также входит компьютер и прое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221e1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Компьютер посылает изображение проект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221e1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Проектор передает изображение на интерактивную дос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221e1f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21e1f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221e1f"/>
                </a:solidFill>
                <a:latin typeface="Corbel"/>
                <a:ea typeface="Times New Roman"/>
              </a:rPr>
              <a:t>Интерактивная доска работает одновременно как монитор и устройство ввода данных: управлять компьютером можно, прикасаясь к поверхности доски.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статочно только прикоснуться к поверхности доски, чтобы начать работу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ециальное программное обеспечение для интерактивных досок позволяет работать с текстами и объектами, аудио- и видеоматериалами, делать записи от руки прямо поверх открытых документов и сохранять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8126-5D0B-479F-8B03-45427CEDB1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Как работать с программами на интерактивной доске SMART Board?</a:t>
            </a: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Если какая-либо программа открыта на компьютере, вы можете работать с ней прямо на интерактивной дос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Ваш палец работает как мыш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дно прикосновение к поверхности интерактивной доски SMART Board равносильно щелчку левой кнопкой мыши. Откройте программу так же, как вы делаете это на компьютере, но вместо того, чтобы выделять и открывать файлы мышью, сделайте то же самое пальцем. Чтобы курсор соответствовал нажатию пальцем, необходимо откалибровать эк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E96F-67EF-47D3-B6C7-DCC51CCBA1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либровка интерактивной дос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SMART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Калибровка экрана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еобходима для настройки точного прикосновения к интерактивной доске. К примеру, если вы нажимаете кнопку Пуск, а курсор появляется в другом месте, попробуйте откалибровать доску. Чтобы начать калибровку, нажмите и держите обе кнопки на лотке до тех пор, пока не появится экран калибровки.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Пример  калибровки дос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CCA8-5A7F-4E34-8594-0E693544F4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 запуска SMART Boa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54E1-6345-4DB4-B3F0-98732C2DFC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1488b"/>
                </a:solidFill>
                <a:latin typeface="Calibri"/>
              </a:rPr>
              <a:t>Марк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Чтобы делать пометки поверх изображения или файла, возьмите маркер с лотка и пишите на интерактивной доске.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Чтобы писать другим цветом, возьмите другой марк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orbel"/>
              </a:rPr>
              <a:t>Цвет определяет контейнер для маркера, а не сам маркер. Чтобы избежать путаницы, кладите маркеры на соответствующе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Лоток для марк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На лотке есть специальные контейнеры, отвечающие за цвет маркера и ластик. У каждого контейнера есть оптический сенсор, определяющий, какой из инструментов вы взяли с лот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евая кнопка на панели загружает Экранную Клавиату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авая - превращает ваше следующее прикосновение к доске в щелчок правой кнопкой мы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97E5-61F0-4C73-B231-D5945EC2EF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нтр запуска SMART Boa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41AF-15D4-45B3-9DBD-6E09A9C451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66A6-8C14-46F7-A668-E974953C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2B9-B495-41F3-BCDD-A81D4365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F87D-FFB3-453A-B2AC-62409498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67D-D037-4A55-9F61-76976EDD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1A85-6B78-4180-A9D0-C1D64072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D4CB-6C86-49DD-9AAF-ADAABEDA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CEEA-A9E0-4847-AC9E-0B712098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6CAF-C754-449C-840B-8C3A30FB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6DDB-BB5F-40D8-BAA2-F205572C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D849-3B8C-433A-B502-BDE1CDDD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159B-BFA2-461D-9283-30CF9286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227-B69C-43E7-843C-6C8F0A8F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6087-0422-4BB4-8973-19FCD63C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945E-B675-41F2-9D81-0807A6F2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EC2A-D6F5-451D-BB44-86695304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85C9-2EA3-4DF1-9DF2-DCDB9F26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C171-577A-4FF7-9F3D-2AE2EB03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40B84-B14A-4295-8B26-B96C33A3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B9C5B-2463-46A8-AAAD-3FF8237A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4B2A8-32AF-4FF7-B1CC-6857F1E2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217F5-6FBB-4363-AAFF-68401889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AAC7D-88BC-4494-9C0A-3D98E4DE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3A9-8235-4F13-A06C-CBCF11DB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5DD4E-68B3-4D1D-AA3A-B475312C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D3FE5-D564-41C5-86C0-1E6CE4C9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7BCEB-E899-47B2-95F5-D8969D53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57054-C2E8-4480-BE69-CB031266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F1C20-EEBB-493C-854D-1E149BE1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F903D-7FFC-4FEC-9C3C-293CC169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299E3-0A95-4417-A277-A735DFA6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57421-A421-4D33-A407-32AE4D46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C201A-5D70-4701-8B14-BB0F65FC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A070E-6120-4D9A-9E08-049DA5F4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378F-3620-4442-BE43-8FAB6551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1A50F-D599-4813-B39E-D646F3F5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0FB60-78A3-4F44-8AF3-186D7FFC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D49CB-B8B5-43FE-B175-9F242B1A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6D898-5FA8-47FF-B7B5-E844D67E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644AA-0F9A-48C9-9F6D-F544FBE8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6D354-B97B-479F-9913-DE6104D2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5CF6D-43A5-40E1-B322-683F32D6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7C93A-C19B-4DE7-9FA8-641A4064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56DB5-58D2-46C8-B4A7-8D812DBE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F2C67-1A60-4D15-BEEC-0904E185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3E6-1D8E-4924-A48E-756EFF5C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EA2A6-FCBA-4373-B294-8C4549F9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A77A0-3182-4555-8CD7-E92650F9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4326D-B71F-49F2-9D22-54A18CFA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6B4C7-942D-47DD-9FDC-34175608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04910-93E9-4D5B-B5D8-6F992969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E08D0-54E4-422B-BB12-9DE41966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6A653-4468-4912-BE71-F3A5D051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EE4A8-9B5D-40C0-AEE9-EA90CFC2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4374D-FAAE-48EF-AB4B-BF516D25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FA51B-D3D3-4F50-BEFD-2AF2292E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3DB-D986-4552-9BB8-95DE5417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F66D8-FBD6-4C2B-A4F3-985792E8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926C0-CB54-4F44-A5AC-E9FFD48B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F8341-4379-4B87-ADAA-704654A3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B07D8-472A-4009-8612-95D55DF0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ABC13-393A-4275-9057-5B9892EE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AA6A5-9934-4654-80F5-998EDC0B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51995-7BFD-441A-A28D-A52F36F9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AD65F-849B-431E-8CFB-F12BD66F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DD9A6-3B91-473C-AFE8-F3A25C5A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A64BA-CFC3-4CE7-BFD6-EF1ABF70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C59-EECD-459F-9FBA-E17011FB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07092-3C48-4AAB-BCC5-9D0B13D2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2DC48-21FC-4CD3-8F39-B3DF7674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E4775-ED86-408F-824A-17B2373C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1F627-3920-44A5-9EF8-EC374774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C9893-7BD2-4D70-B1EB-43FC2BB5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71BA3-FA6C-4081-AADB-6C5512AC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72BBE-F663-4C5B-98BB-3D9A43E0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88F8F-271D-4486-A64C-6248B961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CDB00-1A15-4941-8B58-DFAFE9C1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086DC-CE43-42D6-A4F7-9D254989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DC0-0484-4E6C-97DC-897B00E8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7BB11-AE8B-4D15-978B-72B4CD7F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60284-7C88-4F0E-B467-D6159CF6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835F2-FF53-49D8-AEA7-BFF52952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F091F-300D-42E8-B39E-70434252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09B62-7168-4020-8A4E-6D78B260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6B7-7CD5-4C34-9621-438B210E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9B92A-575F-4B41-8A3C-969A69247F5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9866-1D5D-4363-84D9-DACB7C9E3D6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2FD8-78C8-4614-9F17-B36C5197D4C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582F-3EA5-4F63-8CE0-8423CADEC4B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20F0-FD36-4595-8446-1C64D6ED138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17C7-99A9-46D1-B42D-282BAC9CE2C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918B-4B9E-4ADC-B323-264F36ECD88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34D1-9E1E-442F-933E-05D6F49736E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CD91-07F1-4A7E-B4D3-855FD73C1AB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7408-ACBF-4615-AB95-641FE31AA8B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EDDF-F93D-4AE9-B16F-985C16637E3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8420-4DF0-441C-88B2-A60A3CE2763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1AE6-2994-43BF-A56B-AC775F57659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6DBE-A6E9-4178-B7CB-20C4736B6A0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hyperlink" Target="http://mir-kartinok.ucoz.ru/forum/2" TargetMode="External"/><Relationship Id="rId3" Type="http://schemas.openxmlformats.org/officeDocument/2006/relationships/hyperlink" Target="http://mir-kartinok.ucoz.ru/forum/2" TargetMode="External"/><Relationship Id="rId4" Type="http://schemas.openxmlformats.org/officeDocument/2006/relationships/hyperlink" Target="http://mir-kartinok.ucoz.ru/forum/2" TargetMode="External"/><Relationship Id="rId5" Type="http://schemas.openxmlformats.org/officeDocument/2006/relationships/hyperlink" Target="http://mir-kartinok.ucoz.ru/forum/2" TargetMode="External"/><Relationship Id="rId6" Type="http://schemas.openxmlformats.org/officeDocument/2006/relationships/image" Target="../media/image36.gif"/><Relationship Id="rId7" Type="http://schemas.openxmlformats.org/officeDocument/2006/relationships/image" Target="../media/image36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3" descr="4"/>
          <p:cNvPicPr/>
          <p:nvPr/>
        </p:nvPicPr>
        <p:blipFill>
          <a:blip r:embed="rId1"/>
          <a:stretch/>
        </p:blipFill>
        <p:spPr>
          <a:xfrm>
            <a:off x="5572080" y="3786120"/>
            <a:ext cx="2865600" cy="24289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28840" y="285480"/>
            <a:ext cx="7407360" cy="1757160"/>
          </a:xfrm>
          <a:prstGeom prst="rect">
            <a:avLst/>
          </a:prstGeom>
          <a:solidFill>
            <a:srgbClr val="fdd7ba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ерспективы использования</a:t>
            </a: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интерактивных технологий в учебном процессе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2000160" y="2356920"/>
            <a:ext cx="557208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Основные      приёмы      работы   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с интерактивной доской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прямой проекции SMART Boar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1042920" y="3838680"/>
            <a:ext cx="4249800" cy="1067400"/>
          </a:xfrm>
          <a:prstGeom prst="rect">
            <a:avLst/>
          </a:prstGeom>
          <a:noFill/>
          <a:ln w="9360">
            <a:solidFill>
              <a:srgbClr val="fdd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гнатова Светлана Пет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ОУ школы № 5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морского района 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60080" y="142560"/>
            <a:ext cx="749772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Экранная клавиатура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5" name="Picture 6" descr="klava"/>
          <p:cNvPicPr/>
          <p:nvPr/>
        </p:nvPicPr>
        <p:blipFill>
          <a:blip r:embed="rId1"/>
          <a:stretch/>
        </p:blipFill>
        <p:spPr>
          <a:xfrm>
            <a:off x="2214720" y="714240"/>
            <a:ext cx="5238720" cy="20383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431640" y="2571840"/>
            <a:ext cx="8569440" cy="451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бивайте и редактируйте текст, не отходя от интерактивной дос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жмите кнопку на лотке для маркеров, чтобы запустить Экранную клавиату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ыпадающее меню клавиатуры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Позволяет выбрать вид клавиатуры. Классическая (Classic) выглядит, как обычная клавиатура, которую вы привыкли использовать. В Простой (Simple) - буквы расположены в алфавитном порядке, что удобно при обучении учащихся начальных классов. Также есть Цифровая клавиатура (Number Pad), Отрывки (Shortcut) и Заглавные буквы (Simple Ca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2. Стрелка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Нажмите Стрелку, чтобы открыть Предварительный просмотр.   В окне Предварительного просмотра вы можете напечатать любой текст прежде, чем отправить эту информацию в файл. Когда вы закончите печатать, нажмите Отправить (Send), и ваш текст будет помещен в активное при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2603520" y="63482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работы с экранной клавиат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Правый клик мышью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0" name="Picture 6" descr="knopkamishi"/>
          <p:cNvPicPr/>
          <p:nvPr/>
        </p:nvPicPr>
        <p:blipFill>
          <a:blip r:embed="rId1"/>
          <a:stretch/>
        </p:blipFill>
        <p:spPr>
          <a:xfrm>
            <a:off x="1187280" y="1214280"/>
            <a:ext cx="3384720" cy="147348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7"/>
          <p:cNvSpPr/>
          <p:nvPr/>
        </p:nvSpPr>
        <p:spPr>
          <a:xfrm>
            <a:off x="3429000" y="3000240"/>
            <a:ext cx="5256360" cy="24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жмите правую кнопку на лотке для маркеров, чтобы превратить ваше следующее прикосновение к доске в правый клик мыш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правом нижнем углу экрана появится значок, подтверждающий то, что ваше следующее прикосновение будет правым кликом мыш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2786040" y="601488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использования правой кнопки мы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43956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rbel"/>
              </a:rPr>
              <a:t>Панель инструментов Notebook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rcRect l="0" t="0" r="0" b="90044"/>
          <a:stretch/>
        </p:blipFill>
        <p:spPr>
          <a:xfrm>
            <a:off x="714240" y="571680"/>
            <a:ext cx="8247240" cy="6206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9" descr="table"/>
          <p:cNvPicPr/>
          <p:nvPr/>
        </p:nvPicPr>
        <p:blipFill>
          <a:blip r:embed="rId2"/>
          <a:stretch/>
        </p:blipFill>
        <p:spPr>
          <a:xfrm>
            <a:off x="679320" y="1214280"/>
            <a:ext cx="4178520" cy="561672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7"/>
          <p:cNvSpPr/>
          <p:nvPr/>
        </p:nvSpPr>
        <p:spPr>
          <a:xfrm>
            <a:off x="5076720" y="1700280"/>
            <a:ext cx="381636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Notebook позволяет работать с инструментами Notebook. По умолчанию панель инструментов появляется вверху страницы Notebook. Если вы хотите работать сидя или преподаете маленьким детям, панель инструментов можно переместить в низ страницы. Для этого нажмите и удерживайте пустой участок на панели инструментов и тащите ее вни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4535640" y="60148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инструментами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Note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06" descr=""/>
          <p:cNvPicPr/>
          <p:nvPr/>
        </p:nvPicPr>
        <p:blipFill>
          <a:blip r:embed="rId1"/>
          <a:srcRect l="0" t="0" r="65323" b="94109"/>
          <a:stretch/>
        </p:blipFill>
        <p:spPr>
          <a:xfrm>
            <a:off x="2214720" y="93600"/>
            <a:ext cx="5905440" cy="76356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4"/>
          <p:cNvSpPr/>
          <p:nvPr/>
        </p:nvSpPr>
        <p:spPr>
          <a:xfrm>
            <a:off x="1071720" y="642960"/>
            <a:ext cx="785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Меню Notebook предоставляет доступ ко всем возможностям панели инструментов и многим друг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714240" y="1589040"/>
          <a:ext cx="8286840" cy="5153040"/>
        </p:xfrm>
        <a:graphic>
          <a:graphicData uri="http://schemas.openxmlformats.org/drawingml/2006/table">
            <a:tbl>
              <a:tblPr/>
              <a:tblGrid>
                <a:gridCol w="1408320"/>
                <a:gridCol w="6878520"/>
              </a:tblGrid>
              <a:tr h="4284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дел мен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0076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ай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Открыть новый или существующий файл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охранить файл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охранить текущую страницу как шаблон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Экспорт в различных форматах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Отправить файл по электронной почт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печатать файл или изменить свойства печа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5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Отменить или повторить предыдущие действия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лонировать, вырезать, копировать, вставить или удалить выбранные объекты или все объекты на странице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едактировать текст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роверить правописание всех текстов в файле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Удалить текущую страниц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60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текущий вид (Сортировщик страниц, Галерея, Вложения или Во весь экран)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крыть боковую панель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Запустить панель инструментов захвата экрана или Затенения экран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Масштаб для приближения или удаления содержимого стра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т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Добавить пустую страницу, шаблон, рисунок, файл Flash или ссыл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свойства шрифта (жирный, подчеркнутый, курсив)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свойства объекта (цвет, ширина линии, заливка, прозрачность)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Закрепить свойства и положение объект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ить цвет фона стра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ис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Создать формы, линии и текст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еро, художественное перо и ластик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Выделить, изменить порядок, сгруппировать и разгруппировать объе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73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рав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нформация о программе Notebook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роверить наличие обно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42680" y="571320"/>
            <a:ext cx="1779480" cy="39996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День 2-ой: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2428920" y="2928960"/>
            <a:ext cx="5545080" cy="420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зличное ПО и интерактивная доска SM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спользование ПО SMART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ртировщик страниц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ллекц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лож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активные страниц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бъекты, фигуры и инструменты для рисования,           - группировка объект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галер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оказ фрагментов уроков слушателей к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976400" y="1214280"/>
            <a:ext cx="30243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0.00 -11.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11.30 – 12.00 - перерыв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2.00 - 13.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4"/>
          <p:cNvPicPr/>
          <p:nvPr/>
        </p:nvPicPr>
        <p:blipFill>
          <a:blip r:embed="rId1"/>
          <a:stretch/>
        </p:blipFill>
        <p:spPr>
          <a:xfrm>
            <a:off x="5072040" y="785880"/>
            <a:ext cx="2865600" cy="2428920"/>
          </a:xfrm>
          <a:prstGeom prst="rect">
            <a:avLst/>
          </a:prstGeom>
          <a:ln w="0">
            <a:noFill/>
          </a:ln>
        </p:spPr>
      </p:pic>
      <p:sp>
        <p:nvSpPr>
          <p:cNvPr id="39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6143760" y="1763640"/>
            <a:ext cx="2857320" cy="223704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142920"/>
            <a:ext cx="7499520" cy="5112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Различное ПО и интерактивная доска SMART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857160" y="1000080"/>
            <a:ext cx="74995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Документы (файлы), созданные в любом приложении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-    презентации PowerPoint, Microsoft Word, Microsoft Excel; и т.д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идео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Фото, рисунки, анимированные картинки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Обучающие программы на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D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VD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1071720" y="714240"/>
            <a:ext cx="61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ску, как на экран,  можно выводить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Object 7"/>
          <p:cNvGraphicFramePr/>
          <p:nvPr/>
        </p:nvGraphicFramePr>
        <p:xfrm>
          <a:off x="928800" y="3002040"/>
          <a:ext cx="3071880" cy="2317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4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800" y="3002040"/>
                    <a:ext cx="307188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5" name="Picture 11" descr=""/>
          <p:cNvPicPr/>
          <p:nvPr/>
        </p:nvPicPr>
        <p:blipFill>
          <a:blip r:embed="rId8"/>
          <a:stretch/>
        </p:blipFill>
        <p:spPr>
          <a:xfrm>
            <a:off x="5572080" y="40719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8" descr="C:\Documents and Settings\Игнатова\Мои документы\Таллинн\Изображение 081.jpg"/>
          <p:cNvPicPr/>
          <p:nvPr/>
        </p:nvPicPr>
        <p:blipFill>
          <a:blip r:embed="rId9"/>
          <a:stretch/>
        </p:blipFill>
        <p:spPr>
          <a:xfrm>
            <a:off x="2381400" y="4286160"/>
            <a:ext cx="3333600" cy="2500560"/>
          </a:xfrm>
          <a:prstGeom prst="rect">
            <a:avLst/>
          </a:prstGeom>
          <a:ln w="57240">
            <a:solidFill>
              <a:srgbClr val="c58d01"/>
            </a:solidFill>
            <a:miter/>
          </a:ln>
        </p:spPr>
      </p:pic>
      <p:sp>
        <p:nvSpPr>
          <p:cNvPr id="40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74600" y="285480"/>
            <a:ext cx="749808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нтр запуска SMART Boar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071800" y="1500120"/>
            <a:ext cx="535788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2249640" y="630540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Центром запу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rcRect l="91555" t="8789" r="2587" b="19921"/>
          <a:stretch/>
        </p:blipFill>
        <p:spPr>
          <a:xfrm>
            <a:off x="7572240" y="0"/>
            <a:ext cx="857520" cy="6858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2"/>
          <a:srcRect l="61060" t="10664" r="31691" b="80610"/>
          <a:stretch/>
        </p:blipFill>
        <p:spPr>
          <a:xfrm>
            <a:off x="1071720" y="71280"/>
            <a:ext cx="1285560" cy="14288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"/>
          <p:cNvPicPr/>
          <p:nvPr/>
        </p:nvPicPr>
        <p:blipFill>
          <a:blip r:embed="rId3"/>
          <a:srcRect l="48481" t="56045" r="0" b="0"/>
          <a:stretch/>
        </p:blipFill>
        <p:spPr>
          <a:xfrm>
            <a:off x="428760" y="5000760"/>
            <a:ext cx="2286000" cy="9921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56760" y="856800"/>
            <a:ext cx="6715080" cy="7254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Программное обеспечение Notebook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1714680" y="2214720"/>
            <a:ext cx="453528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Notebook позволяет создавать занятия и презентации с помощью ярких рисунков, объектов Macromedia Flash и текстов, используя различные ресурсы. Заинтересуйте аудиторию, передвигая и изменяя объекты. Если слушатели предлагают свои идеи, задают вопросы, записывайте их маркером в программном обеспечении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6" descr=""/>
          <p:cNvPicPr/>
          <p:nvPr/>
        </p:nvPicPr>
        <p:blipFill>
          <a:blip r:embed="rId1"/>
          <a:srcRect l="84335" t="0" r="0" b="0"/>
          <a:stretch/>
        </p:blipFill>
        <p:spPr>
          <a:xfrm>
            <a:off x="7164360" y="189000"/>
            <a:ext cx="1682640" cy="61927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5"/>
          <p:cNvSpPr/>
          <p:nvPr/>
        </p:nvSpPr>
        <p:spPr>
          <a:xfrm>
            <a:off x="1333440" y="285840"/>
            <a:ext cx="55436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Боковые закл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боку от страницы Notebook находятся три заклад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ортировщик страниц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позволяет вам увидеть эскизы изображений каждой страницы в файле Note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оллекция -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десь расположены образцы, картинки и анимации Flash, которые можно добавить на страницу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ложения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 добавлять файлы из других программ в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 можете спрятать закладки, поставив галочку рядом со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Скрывать автоматически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низу окна заклад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1071720" y="4786200"/>
            <a:ext cx="585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работы с заклад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актическое  занятие в 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Notebook (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создание фрагмента урока с  использованием коллекции готовых картинок и анимации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85560" y="142920"/>
            <a:ext cx="7499160" cy="64296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Объекты в Notebook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071360" y="1143000"/>
            <a:ext cx="7862760" cy="3286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е что вы можете передвигать пальцем или мышью на страниц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Notebook, это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объект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. Вы добавляете его на страницу Notebook одним из следующих способов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печатать текст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рисовать или написать на доске маркером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оздать геометрическую форму при помощи панели инструментов Notebook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оместить картинку из Коллекции Notebook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ашего компьютера или Интернет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tretch/>
        </p:blipFill>
        <p:spPr>
          <a:xfrm>
            <a:off x="6858000" y="1968480"/>
            <a:ext cx="1714680" cy="9604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"/>
          <p:cNvPicPr/>
          <p:nvPr/>
        </p:nvPicPr>
        <p:blipFill>
          <a:blip r:embed="rId2"/>
          <a:srcRect l="16929" t="6933" r="136" b="31047"/>
          <a:stretch/>
        </p:blipFill>
        <p:spPr>
          <a:xfrm>
            <a:off x="1428840" y="4857840"/>
            <a:ext cx="7000920" cy="128592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9" descr="0-005.jpg"/>
          <p:cNvPicPr/>
          <p:nvPr/>
        </p:nvPicPr>
        <p:blipFill>
          <a:blip r:embed="rId3"/>
          <a:stretch/>
        </p:blipFill>
        <p:spPr>
          <a:xfrm>
            <a:off x="7572240" y="3143160"/>
            <a:ext cx="1024200" cy="1524240"/>
          </a:xfrm>
          <a:prstGeom prst="rect">
            <a:avLst/>
          </a:prstGeom>
          <a:ln w="38160">
            <a:solidFill>
              <a:srgbClr val="c58d01"/>
            </a:solidFill>
            <a:miter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3610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72314"/>
                </a:solidFill>
                <a:uFillTx/>
                <a:latin typeface="Corbel"/>
              </a:rPr>
              <a:t>Режим работы</a:t>
            </a:r>
            <a:r>
              <a:rPr b="0" lang="ru-RU" sz="2400" spc="-1" strike="noStrike" u="sng">
                <a:solidFill>
                  <a:srgbClr val="572314"/>
                </a:solidFill>
                <a:uFillTx/>
                <a:latin typeface="Corbel"/>
              </a:rPr>
              <a:t>: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1643040" y="928800"/>
            <a:ext cx="302436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0.00 -11.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11.30 – 12.00 - перерыв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12.00 - 13.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2071800" y="3714840"/>
            <a:ext cx="5500440" cy="32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терактивная доска прямой про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SMART Boar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омпоненты и основные функ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алибровка доски,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марке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ртуальная клавиатура,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равая кнопка м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имеры работы с  интерактивной доской  прямой проекции SMART 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3714840" y="28576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День 1- ы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3" descr="1"/>
          <p:cNvPicPr/>
          <p:nvPr/>
        </p:nvPicPr>
        <p:blipFill>
          <a:blip r:embed="rId1"/>
          <a:srcRect l="0" t="0" r="0" b="3447"/>
          <a:stretch/>
        </p:blipFill>
        <p:spPr>
          <a:xfrm>
            <a:off x="6572160" y="615960"/>
            <a:ext cx="1643040" cy="240012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254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Как изменять и передвигать объекты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785960" y="3499920"/>
            <a:ext cx="6291360" cy="3071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берите любой объект на странице Notebook, чтобы изменить его свойств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У выделенных объектов есть две «ручки» и выпадающее меню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Используйте зеленую «ручку», чтобы повернуть объект и белую, чтобы уменьшить или увеличить его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2604960" y="1071720"/>
            <a:ext cx="5013360" cy="2857320"/>
          </a:xfrm>
          <a:prstGeom prst="rect">
            <a:avLst/>
          </a:prstGeom>
          <a:ln w="0">
            <a:noFill/>
          </a:ln>
        </p:spPr>
      </p:pic>
      <p:sp>
        <p:nvSpPr>
          <p:cNvPr id="4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357200" y="213840"/>
            <a:ext cx="7499520" cy="5828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572314"/>
                </a:solidFill>
                <a:latin typeface="Corbel"/>
              </a:rPr>
              <a:t>Фигуры</a:t>
            </a:r>
            <a:endParaRPr b="0" lang="en-US" sz="31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429000" y="957960"/>
            <a:ext cx="4857840" cy="530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стрелку на кнопке </a:t>
            </a:r>
            <a:r>
              <a:rPr b="1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Фигура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, на панели инструментов Notebook появится список различных фигу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Выберите фигуру, которую вы хотите использовать и поставьте курсор туда, где вы хотите нарисовать фигу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Нажмите и тащите курсор до тех пор, пока ваша фигура не будет того размера, который нужен в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Myriad Pro"/>
                <a:ea typeface="Times New Roman"/>
              </a:rPr>
              <a:t>Теперь, когда вы нарисовали фигуру на странице Notebook, вы можете изменять ее так же, как вы изменяете другие объекты, используя ручку поворота и изменения размера и выпадающее ме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1"/>
          <a:srcRect l="0" t="0" r="0" b="5229"/>
          <a:stretch/>
        </p:blipFill>
        <p:spPr>
          <a:xfrm>
            <a:off x="1857240" y="857160"/>
            <a:ext cx="1214640" cy="566280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7"/>
          <p:cNvSpPr/>
          <p:nvPr/>
        </p:nvSpPr>
        <p:spPr>
          <a:xfrm>
            <a:off x="1663560" y="214200"/>
            <a:ext cx="6408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Распознавание рукописного текста</a:t>
            </a:r>
            <a:r>
              <a:rPr b="1" i="1" lang="ru-RU" sz="1800" spc="-1" strike="noStrike">
                <a:solidFill>
                  <a:srgbClr val="000000"/>
                </a:solidFill>
                <a:latin typeface="Corbel"/>
              </a:rPr>
              <a:t> (только английский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Если вы написали что-то маркером, вы можете распознать текст и превратить его в печат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9" descr="9"/>
          <p:cNvPicPr/>
          <p:nvPr/>
        </p:nvPicPr>
        <p:blipFill>
          <a:blip r:embed="rId1"/>
          <a:stretch/>
        </p:blipFill>
        <p:spPr>
          <a:xfrm>
            <a:off x="1714680" y="1538280"/>
            <a:ext cx="6162480" cy="153360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"/>
          <p:cNvSpPr/>
          <p:nvPr/>
        </p:nvSpPr>
        <p:spPr>
          <a:xfrm>
            <a:off x="1809720" y="3429000"/>
            <a:ext cx="5977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войное нажатие на печатный текст открывает панель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Шрифты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 Выделите текст, который вы хотите изменить, а затем используйте возможности пан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1" descr="10"/>
          <p:cNvPicPr/>
          <p:nvPr/>
        </p:nvPicPr>
        <p:blipFill>
          <a:blip r:embed="rId2"/>
          <a:stretch/>
        </p:blipFill>
        <p:spPr>
          <a:xfrm>
            <a:off x="1332000" y="4786200"/>
            <a:ext cx="7451640" cy="1670040"/>
          </a:xfrm>
          <a:prstGeom prst="rect">
            <a:avLst/>
          </a:prstGeom>
          <a:ln w="0">
            <a:noFill/>
          </a:ln>
        </p:spPr>
      </p:pic>
      <p:sp>
        <p:nvSpPr>
          <p:cNvPr id="44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824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Панель инструментов захвата экрана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43" name="Picture 7" descr="panelka"/>
          <p:cNvPicPr/>
          <p:nvPr/>
        </p:nvPicPr>
        <p:blipFill>
          <a:blip r:embed="rId1"/>
          <a:stretch/>
        </p:blipFill>
        <p:spPr>
          <a:xfrm>
            <a:off x="357120" y="3214800"/>
            <a:ext cx="1511280" cy="13078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6"/>
          <p:cNvSpPr/>
          <p:nvPr/>
        </p:nvSpPr>
        <p:spPr>
          <a:xfrm>
            <a:off x="3429000" y="1214280"/>
            <a:ext cx="5334120" cy="530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ак делать запи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ы можете писать и рисовать на поверхности доски, взяв маркер с лотка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розрачный сло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гда вы берете маркер с лотка, появляется перемещаемая панель инструментов и рамка вокруг рабочего стола. Рамка означает, что вы можете писать поверх рабочего стола, и остается до тех пор, пока вы не положите маркер или ластик обратно на лоток и не коснетесь доски. Ваше первое прикосновение к доске удалит рамку и все ваши запи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ак сохранить записи и рисун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еремещаемая панель инструментов позволяет вам сохранять ваши надписи и рисун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1514520" y="627696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выделения области для копирования и  её сохра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6" descr=""/>
          <p:cNvPicPr/>
          <p:nvPr/>
        </p:nvPicPr>
        <p:blipFill>
          <a:blip r:embed="rId2"/>
          <a:srcRect l="48481" t="56045" r="0" b="0"/>
          <a:stretch/>
        </p:blipFill>
        <p:spPr>
          <a:xfrm>
            <a:off x="285840" y="1714680"/>
            <a:ext cx="3125520" cy="1357200"/>
          </a:xfrm>
          <a:prstGeom prst="rect">
            <a:avLst/>
          </a:prstGeom>
          <a:ln w="0">
            <a:noFill/>
          </a:ln>
        </p:spPr>
      </p:pic>
      <p:sp>
        <p:nvSpPr>
          <p:cNvPr id="447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8" name=""/>
          <p:cNvGraphicFramePr/>
          <p:nvPr/>
        </p:nvGraphicFramePr>
        <p:xfrm>
          <a:off x="1979640" y="357120"/>
          <a:ext cx="6516720" cy="4857840"/>
        </p:xfrm>
        <a:graphic>
          <a:graphicData uri="http://schemas.openxmlformats.org/drawingml/2006/table">
            <a:tbl>
              <a:tblPr/>
              <a:tblGrid>
                <a:gridCol w="3340080"/>
                <a:gridCol w="31766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 работ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жмите и тащите, чтобы выделить область, которую вы хотите захватить. Отпустите палец, когда нужная область выде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жмите внутри окна, которое вы хотите захватить. Отпустите палец, когда нужное окно станет заштрихованны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йдите к изображению на экране, которое вы хотите сохранить и нажмите кнопку, чтобы захватить весь эк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Text Box 65"/>
          <p:cNvSpPr/>
          <p:nvPr/>
        </p:nvSpPr>
        <p:spPr>
          <a:xfrm>
            <a:off x="1108080" y="5445000"/>
            <a:ext cx="7893000" cy="134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 позволяет вам захватывать изображение отдельного окна, всего экрана или его части в файл Notebook. Чтобы открыть Панель инструментов захвата экрана нажмите кнопку Захвата на панели инструментов Notebo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rcRect l="39549" t="35157" r="47267" b="25782"/>
          <a:stretch/>
        </p:blipFill>
        <p:spPr>
          <a:xfrm>
            <a:off x="2857680" y="1000080"/>
            <a:ext cx="1828800" cy="428616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rcRect l="0" t="0" r="27997" b="0"/>
          <a:stretch/>
        </p:blipFill>
        <p:spPr>
          <a:xfrm>
            <a:off x="7143840" y="1428840"/>
            <a:ext cx="1714320" cy="194472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5824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Полезные ссылки для анимированных картинок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428840" y="928440"/>
            <a:ext cx="7215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mir-kartinok.ucoz.ru/forum/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www.gifpark.ru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4"/>
              </a:rPr>
              <a:t>http://www.dopinfo.net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5"/>
              </a:rPr>
              <a:t>http://gif.vukogurt.ru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sunhome.ru/wallpap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gdemp3.ru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mp3ex.net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ttp://www.musicfilesarea.com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Заголовок 1"/>
          <p:cNvSpPr/>
          <p:nvPr/>
        </p:nvSpPr>
        <p:spPr>
          <a:xfrm>
            <a:off x="1359000" y="4429080"/>
            <a:ext cx="7499160" cy="5000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72314"/>
                </a:solidFill>
                <a:latin typeface="Corbel"/>
              </a:rPr>
              <a:t>Полезные ссылки для скачивания музыки в формате </a:t>
            </a:r>
            <a:r>
              <a:rPr b="0" lang="en-US" sz="2300" spc="-1" strike="noStrike">
                <a:solidFill>
                  <a:srgbClr val="572314"/>
                </a:solidFill>
                <a:latin typeface="Gill Sans MT"/>
              </a:rPr>
              <a:t>mp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Рисунок 5" descr="99.gif"/>
          <p:cNvPicPr/>
          <p:nvPr/>
        </p:nvPicPr>
        <p:blipFill>
          <a:blip r:embed="rId6"/>
          <a:stretch/>
        </p:blipFill>
        <p:spPr>
          <a:xfrm>
            <a:off x="5929200" y="2143080"/>
            <a:ext cx="1067040" cy="5716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5" descr="99.gif"/>
          <p:cNvPicPr/>
          <p:nvPr/>
        </p:nvPicPr>
        <p:blipFill>
          <a:blip r:embed="rId7"/>
          <a:stretch/>
        </p:blipFill>
        <p:spPr>
          <a:xfrm>
            <a:off x="5934240" y="5000760"/>
            <a:ext cx="1066680" cy="571320"/>
          </a:xfrm>
          <a:prstGeom prst="rect">
            <a:avLst/>
          </a:prstGeom>
          <a:ln w="0">
            <a:noFill/>
          </a:ln>
        </p:spPr>
      </p:pic>
      <p:sp>
        <p:nvSpPr>
          <p:cNvPr id="4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142800" y="1428480"/>
            <a:ext cx="4000680" cy="32144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спехов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в освоении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нтерактивных 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ехнологий!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0" name="Рисунок 6" descr="lin-rot-r.gif"/>
          <p:cNvPicPr/>
          <p:nvPr/>
        </p:nvPicPr>
        <p:blipFill>
          <a:blip r:embed="rId1"/>
          <a:stretch/>
        </p:blipFill>
        <p:spPr>
          <a:xfrm>
            <a:off x="2214720" y="5214960"/>
            <a:ext cx="5715000" cy="3816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7" descr="47.gif"/>
          <p:cNvPicPr/>
          <p:nvPr/>
        </p:nvPicPr>
        <p:blipFill>
          <a:blip r:embed="rId2"/>
          <a:stretch/>
        </p:blipFill>
        <p:spPr>
          <a:xfrm>
            <a:off x="4572000" y="5572080"/>
            <a:ext cx="1371600" cy="609480"/>
          </a:xfrm>
          <a:prstGeom prst="rect">
            <a:avLst/>
          </a:prstGeom>
          <a:ln w="0">
            <a:noFill/>
          </a:ln>
        </p:spPr>
      </p:pic>
      <p:sp>
        <p:nvSpPr>
          <p:cNvPr id="46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notebook_school"/>
          <p:cNvPicPr/>
          <p:nvPr/>
        </p:nvPicPr>
        <p:blipFill>
          <a:blip r:embed="rId1"/>
          <a:stretch/>
        </p:blipFill>
        <p:spPr>
          <a:xfrm>
            <a:off x="4357800" y="3384720"/>
            <a:ext cx="4572000" cy="33303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99000"/>
              </a:srgbClr>
            </a:outerShdw>
          </a:effectLst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7497720" cy="78588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Что даёт использование мультимедийных средств обучения нового поколения  в обучении?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56800" y="1018800"/>
            <a:ext cx="828684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Соответствие тому способу восприятия информации, которым отличается новое поколение школьников, выросшее на ТВ, компьютерах и мобильных телефонах, у которого гораздо выше потребность в темпераментной визуальной информации и зрительной стимуляции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Компьютерных наглядных обучающих  материалов по любой теме можно найти великое множество и использовать их многократно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Учитель получает возможность полностью управлять любой компьютерной демонстрацией - выводить на экран доски картинки, карты, схемы, создавать и перемещать объекты, запускать видео и интерактивные анимации, выделять важные моменты цветными пометками, работать с любыми компьютерными программами. И все это прямо с доски, не теряя визуального контакта с классом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и не привязываясь к своему компьютеру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Благодаря наглядности и интерактивности, класс вовлекается в активную работу. Обостряется восприятие. Повышается концентрация внимания, улучшается понимание и запоминание материала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Всю проведенную в ходе урока работу, со всеми сделанными на доске записями и пометками, можно сохранить в компьютере для последующего просмотра и анализа, в том числе и виде видеозаписи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Существенно повышается уровень компьютерной компетенции учителей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100000"/>
              </a:lnSpc>
              <a:spcBef>
                <a:spcPts val="601"/>
              </a:spcBef>
              <a:buClr>
                <a:srgbClr val="713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Школьникам  учиться становится интересно и увлекательно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8683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Интерактивная доска SMART Board 600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3357720" y="1357200"/>
            <a:ext cx="5572080" cy="587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Интерактивная доска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-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это сенсорный экран, работающий как часть системы, в которую также входит компьютер и прое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Компьютер посылает изображение проект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Проектор передает изображение на интерактивную дос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221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e1f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221e1f"/>
                </a:solidFill>
                <a:latin typeface="Corbel"/>
                <a:ea typeface="Times New Roman"/>
              </a:rPr>
              <a:t>Интерактивная доска работает одновременно как монитор и устройство ввода данных: управлять компьютером можно, прикасаясь к поверхности доски.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статочно только прикоснуться к поверхности доски, чтобы начать работу на компьюте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ециальное программное обеспечение для интерактивных досок позволяет работать с текстами и объектами, аудио- и видеоматериалами, делать записи от руки прямо поверх открытых документов и сохранять информа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8" descr="kak"/>
          <p:cNvPicPr/>
          <p:nvPr/>
        </p:nvPicPr>
        <p:blipFill>
          <a:blip r:embed="rId1"/>
          <a:stretch/>
        </p:blipFill>
        <p:spPr>
          <a:xfrm>
            <a:off x="1000080" y="1643040"/>
            <a:ext cx="2303640" cy="2108160"/>
          </a:xfrm>
          <a:prstGeom prst="rect">
            <a:avLst/>
          </a:prstGeom>
          <a:ln w="0">
            <a:noFill/>
          </a:ln>
        </p:spPr>
      </p:pic>
      <p:sp>
        <p:nvSpPr>
          <p:cNvPr id="34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6" descr="1"/>
          <p:cNvPicPr/>
          <p:nvPr/>
        </p:nvPicPr>
        <p:blipFill>
          <a:blip r:embed="rId1"/>
          <a:stretch/>
        </p:blipFill>
        <p:spPr>
          <a:xfrm>
            <a:off x="1143000" y="1500120"/>
            <a:ext cx="2308320" cy="20862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1124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Как работать с программами на интерактивной доске SMART Board?</a:t>
            </a: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 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3643200" y="2286000"/>
            <a:ext cx="5143680" cy="407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Если какая-либо программа открыта на компьютере, вы можете работать с ней прямо на интерактивной дос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Ваш палец работает как мыш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дно прикосновение к поверхности интерактивной доски SMART Board равносильно щелчку левой кнопкой мыши. Откройте программу так же, как вы делаете это на компьютере, но вместо того, чтобы выделять и открывать файлы мышью, сделайте то же самое пальцем. Чтобы курсор соответствовал нажатию пальцем, необходимо откалибровать эк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70920"/>
            <a:ext cx="7499520" cy="114300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либровка интерактивной доск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SMART Board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9" name="Picture 6" descr="ekran_kalibrovki"/>
          <p:cNvPicPr/>
          <p:nvPr/>
        </p:nvPicPr>
        <p:blipFill>
          <a:blip r:embed="rId1"/>
          <a:stretch/>
        </p:blipFill>
        <p:spPr>
          <a:xfrm>
            <a:off x="785880" y="2500200"/>
            <a:ext cx="3143160" cy="26463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4"/>
          <p:cNvSpPr/>
          <p:nvPr/>
        </p:nvSpPr>
        <p:spPr>
          <a:xfrm>
            <a:off x="928800" y="5357880"/>
            <a:ext cx="77864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Калибровка экран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еобходима для настройки точного прикосновения к интерактивной доске. К примеру, если вы нажимаете кнопку Пуск, а курсор появляется в другом месте, попробуйте откалибровать доску. Чтобы начать калибровку, нажмите и держите обе кнопки на лотке до тех пор, пока не появится экран калибровки.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 калибровки до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2"/>
          <a:srcRect l="32422" t="12894" r="0" b="13868"/>
          <a:stretch/>
        </p:blipFill>
        <p:spPr>
          <a:xfrm>
            <a:off x="4000680" y="1214280"/>
            <a:ext cx="5010120" cy="40719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"/>
          <p:cNvPicPr/>
          <p:nvPr/>
        </p:nvPicPr>
        <p:blipFill>
          <a:blip r:embed="rId3"/>
          <a:srcRect l="60255" t="8007" r="31691" b="79301"/>
          <a:stretch/>
        </p:blipFill>
        <p:spPr>
          <a:xfrm>
            <a:off x="2000160" y="1285920"/>
            <a:ext cx="785880" cy="1143000"/>
          </a:xfrm>
          <a:prstGeom prst="rect">
            <a:avLst/>
          </a:prstGeom>
          <a:ln w="0">
            <a:noFill/>
          </a:ln>
        </p:spPr>
      </p:pic>
      <p:cxnSp>
        <p:nvCxnSpPr>
          <p:cNvPr id="353" name="Прямая со стрелкой 11"/>
          <p:cNvCxnSpPr/>
          <p:nvPr/>
        </p:nvCxnSpPr>
        <p:spPr>
          <a:xfrm flipH="1" flipV="1">
            <a:off x="6143040" y="3285360"/>
            <a:ext cx="2500920" cy="786600"/>
          </a:xfrm>
          <a:prstGeom prst="straightConnector1">
            <a:avLst/>
          </a:prstGeom>
          <a:ln w="42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4600" y="285480"/>
            <a:ext cx="749808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нтр запуска SMART Boar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2071800" y="1500120"/>
            <a:ext cx="535788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2249640" y="630540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Центром запу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rcRect l="91555" t="8789" r="2587" b="19921"/>
          <a:stretch/>
        </p:blipFill>
        <p:spPr>
          <a:xfrm>
            <a:off x="7572240" y="0"/>
            <a:ext cx="857520" cy="68580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"/>
          <p:cNvPicPr/>
          <p:nvPr/>
        </p:nvPicPr>
        <p:blipFill>
          <a:blip r:embed="rId2"/>
          <a:srcRect l="61060" t="10664" r="31691" b="80610"/>
          <a:stretch/>
        </p:blipFill>
        <p:spPr>
          <a:xfrm>
            <a:off x="1071720" y="71280"/>
            <a:ext cx="1285560" cy="142884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9" descr="3"/>
          <p:cNvPicPr/>
          <p:nvPr/>
        </p:nvPicPr>
        <p:blipFill>
          <a:blip r:embed="rId1"/>
          <a:stretch/>
        </p:blipFill>
        <p:spPr>
          <a:xfrm>
            <a:off x="258840" y="4357800"/>
            <a:ext cx="3241440" cy="18810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3643200" y="1000080"/>
            <a:ext cx="4753080" cy="298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Чтобы делать пометки поверх изображения или файла, возьмите маркер с лотка и пишите на интерактивной доске.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Чтобы писать другим цветом, возьмите другой марк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4f27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4f271c"/>
                </a:solidFill>
                <a:latin typeface="Corbel"/>
              </a:rPr>
              <a:t>Цвет определяет контейнер для маркера, а не сам маркер. Чтобы избежать путаницы, кладите маркеры на соответствующее ме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0" descr="5"/>
          <p:cNvPicPr/>
          <p:nvPr/>
        </p:nvPicPr>
        <p:blipFill>
          <a:blip r:embed="rId2"/>
          <a:stretch/>
        </p:blipFill>
        <p:spPr>
          <a:xfrm>
            <a:off x="1143000" y="1643040"/>
            <a:ext cx="2160720" cy="182556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7"/>
          <p:cNvSpPr/>
          <p:nvPr/>
        </p:nvSpPr>
        <p:spPr>
          <a:xfrm>
            <a:off x="3670200" y="3286080"/>
            <a:ext cx="533088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Лоток для марке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На лотке есть специальные контейнеры, отвечающие за цвет маркера и ластик. У каждого контейнера есть оптический сенсор, определяющий, какой из инструментов вы взяли с лот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евая кнопка на панели загружает Экранную Клавиату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авая - превращает ваше следующее прикосновение к доске в щелчок правой кнопкой м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142560"/>
            <a:ext cx="749952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Corbel"/>
              </a:rPr>
              <a:t>Маркеры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2462040" y="64468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Пример работы с маркерами и ласт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4600" y="285480"/>
            <a:ext cx="7498080" cy="654120"/>
          </a:xfrm>
          <a:prstGeom prst="rect">
            <a:avLst/>
          </a:prstGeom>
          <a:solidFill>
            <a:srgbClr val="fdd7b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нтр запуска SMART Board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071800" y="1500120"/>
            <a:ext cx="5357880" cy="50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rbel"/>
              </a:rPr>
              <a:t>Центр запус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ное обеспечение 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средство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идеопле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кранная клави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ра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дополни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rbe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анель инструментов захвата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све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луп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указ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затенение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2249640" y="630540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orbel"/>
              </a:rPr>
              <a:t>Пример работы с Центром запу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rcRect l="91555" t="8789" r="2587" b="19921"/>
          <a:stretch/>
        </p:blipFill>
        <p:spPr>
          <a:xfrm>
            <a:off x="7572240" y="0"/>
            <a:ext cx="857520" cy="6858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rcRect l="61060" t="10664" r="31691" b="80610"/>
          <a:stretch/>
        </p:blipFill>
        <p:spPr>
          <a:xfrm>
            <a:off x="1071720" y="71280"/>
            <a:ext cx="1285560" cy="14288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06:22Z</dcterms:created>
  <dc:creator>Игнатова</dc:creator>
  <dc:description/>
  <dc:language>en-US</dc:language>
  <cp:lastModifiedBy>LEGION</cp:lastModifiedBy>
  <dcterms:modified xsi:type="dcterms:W3CDTF">2015-01-26T14:07:38Z</dcterms:modified>
  <cp:revision>99</cp:revision>
  <dc:subject/>
  <dc:title>Перспективы использования интерактивных технологий в учебном процессе</dc:title>
</cp:coreProperties>
</file>