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6C0A-9D32-4E5F-B61F-2994AEA0127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1488b"/>
                </a:solidFill>
                <a:latin typeface="Constantia"/>
              </a:rPr>
              <a:t>Формирование здоровых детско-родительски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13E8-FBF7-49AB-9A73-BA319D5C35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Constantia"/>
              </a:rPr>
              <a:t>Воспитание – процесс целенаправленного, систематического формирования личности в целях подготовки её к активному участию в общественной, производственной и культурной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C251-3820-48B1-AC91-970EDACAAD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Constantia"/>
              </a:rPr>
              <a:t>«Воспитание – навыки поведения, привитые семьёй, школой, средой и проявляющиеся в общественной жизн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9372-0754-498B-8715-6EF2A3FC2B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Моя семь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Arial Black"/>
              </a:rPr>
              <a:t>☼ </a:t>
            </a:r>
            <a:r>
              <a:rPr b="1" lang="ru-RU" sz="1200" spc="-1" strike="noStrike">
                <a:solidFill>
                  <a:srgbClr val="31859c"/>
                </a:solidFill>
                <a:latin typeface="Calibri"/>
              </a:rPr>
              <a:t>Я очень люблю свою семью, потому что у нас в семье все дружные и очень меня любя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Arial Black"/>
              </a:rPr>
              <a:t>☼ </a:t>
            </a:r>
            <a:r>
              <a:rPr b="1" lang="ru-RU" sz="1200" spc="-1" strike="noStrike">
                <a:solidFill>
                  <a:srgbClr val="31859c"/>
                </a:solidFill>
                <a:latin typeface="Calibri"/>
              </a:rPr>
              <a:t>Я очень люблю свою семью и дорожу ею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Arial Black"/>
              </a:rPr>
              <a:t>☼ </a:t>
            </a:r>
            <a:r>
              <a:rPr b="1" lang="ru-RU" sz="1200" spc="-1" strike="noStrike">
                <a:solidFill>
                  <a:srgbClr val="31859c"/>
                </a:solidFill>
                <a:latin typeface="Calibri"/>
              </a:rPr>
              <a:t>Наша семья дружная и крепка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Arial Black"/>
              </a:rPr>
              <a:t>☼ </a:t>
            </a:r>
            <a:r>
              <a:rPr b="1" lang="ru-RU" sz="1200" spc="-1" strike="noStrike">
                <a:solidFill>
                  <a:srgbClr val="31859c"/>
                </a:solidFill>
                <a:latin typeface="Calibri"/>
              </a:rPr>
              <a:t>Вот такая у меня интересная и дружная семь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Arial Black"/>
              </a:rPr>
              <a:t>☼ </a:t>
            </a:r>
            <a:r>
              <a:rPr b="1" lang="ru-RU" sz="1200" spc="-1" strike="noStrike">
                <a:solidFill>
                  <a:srgbClr val="31859c"/>
                </a:solidFill>
                <a:latin typeface="Calibri"/>
              </a:rPr>
              <a:t>Я ни минуточки не могу прожить без своих род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ED90-28F5-4471-90F2-9729FDCE4D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D408-07CE-41E8-A879-1FC4D152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D5E0-B391-423D-B35A-E7F67BDB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3ABA-76F1-4514-87D7-F39B3AAD3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CFD3-E347-435F-ADD3-73E7547CD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7F74-AB21-406B-9AE6-141CD98E8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3BB0-DBB3-4365-A78F-BBD6ADCE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420D-7F54-4502-A486-8B491CAD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2141-2BB6-4FF7-829B-473950AB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2B4A-C2F1-490D-87D0-EF0073AA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DB74-18FD-4808-97E5-FCB4F3B9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E75E-EEFE-4B34-92C1-08A84507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BE37-72B7-4D18-AD45-139C5B34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2556-3AAD-429F-84A0-34BE49A7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29FB-6AA2-4E59-B707-0683F87C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DF5F-5B68-4B98-95FA-D2779D0E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32C6-4F8E-4855-97BD-F9652607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6DFD-DE64-4A1C-9533-7869278A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4C5EC-F97F-425D-BDDD-A3485D2E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EEDA2-E720-4E34-98AD-B3C061C5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5266A-3825-4452-8390-B4812482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1C938-7AC8-45D7-AC2C-43DCDFAB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FD77F-5C03-4872-A7A9-9E35663C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CECC-222D-4434-A386-5E4E5666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36225-92A4-4D7E-9AE3-8E218F69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4487F-2AED-42CC-A11B-539B8C47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6027E-D04A-469C-B6EE-E5167B47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84C21-F3BD-4688-9557-690DF0DC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7230C-BBD9-4BCA-BE08-1F1848E1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285AA-E0BB-4AEF-B1C9-C5098FD47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70242-34B9-4F4C-9E2A-FC4D2DC7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12738-E9A5-4EC6-A04C-D7487859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31F6C-6F12-4854-AA89-146A5735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A8649-0D8A-4FC3-BF8D-ECF5B77C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3672-34FC-4DDE-A0BA-C6214C71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CCA53-12A3-47C5-99DE-1464AB39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0326F-6274-495C-A992-849DC342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C9084-2C3E-459B-96EC-1F7277D6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9CD7B-B2F6-4D97-B6F8-9FD78701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D9DA4-9F66-4FFC-A939-376B839D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4E08D-DCBF-4F29-B640-89568C0A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05FD1-202C-4E94-BA64-6C41787D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B7DF0-CC5A-459C-B05C-F8C1E82F3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C0BE7-A79E-4C69-9FA9-E14137AEF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E3863-CD99-4D9D-A27F-C2D7E675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B1D8-3244-4B3C-B297-401997FE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C351B-33AB-46D7-8846-99D9CBE4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2E822-0B2A-4440-94A2-66B7C3F3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65EE1-069D-48C2-9D3D-8D086AAF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20C5E-AC6F-4C3A-A3BF-D83684CE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26199-E8F8-4EE8-A18D-CC1DD6CE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69384-D852-478D-8E5B-E63E7B31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69015-BA5E-4CFD-8177-0206FADC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DE913-C6B5-414E-B0F5-C8EC4CC8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7AACA-6622-4CFA-9DAF-6A06B886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332ED-3281-45FA-8AB9-C80DBF9B2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9EBB-9AD6-4E0C-A73C-82082BD6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97FFC-83AE-446F-9D60-8C7A1B7B7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31AA-C156-419B-925E-815823FB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87FB-32A6-4C9C-AD5E-CD8E25B2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5A1A-483F-44C9-99CC-6D8C5003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21EF-1F58-4410-8A76-68B7479DE65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DB58-242D-44E3-B8E8-A4236A34827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4825-7558-43CF-8753-C793DF401A49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32EE-6D1E-4313-9295-3467E8D49F9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10" name="Овал 15" descr=""/>
            <p:cNvPicPr/>
            <p:nvPr/>
          </p:nvPicPr>
          <p:blipFill>
            <a:blip r:embed="rId4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F3B1-20B9-4773-9F9B-D1ADCF9B477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69BC-4608-426D-BBD6-3CE1B0A62D5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5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8950-1028-45D1-83DE-EB6AD6ABA5A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C294-A232-4B9C-855F-884B1180722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0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12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C968-4AFA-4F2D-BC66-9C632858ACE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0C57-9F1E-4591-B79B-47A394472AD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24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nstantia"/>
              </a:rPr>
              <a:t>Формирование здоровых детско-родительских отношени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65" name="Picture 4" descr="55220375"/>
          <p:cNvPicPr/>
          <p:nvPr/>
        </p:nvPicPr>
        <p:blipFill>
          <a:blip r:embed="rId1"/>
          <a:stretch/>
        </p:blipFill>
        <p:spPr>
          <a:xfrm>
            <a:off x="5429160" y="2428920"/>
            <a:ext cx="3143520" cy="4286160"/>
          </a:xfrm>
          <a:prstGeom prst="rect">
            <a:avLst/>
          </a:prstGeom>
          <a:ln w="0">
            <a:noFill/>
          </a:ln>
        </p:spPr>
      </p:pic>
      <p:sp>
        <p:nvSpPr>
          <p:cNvPr id="266" name="TextBox 4"/>
          <p:cNvSpPr/>
          <p:nvPr/>
        </p:nvSpPr>
        <p:spPr>
          <a:xfrm>
            <a:off x="1205640" y="6453360"/>
            <a:ext cx="63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речанова Лариса Николаевна Социальный педагог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МБОУ «СОШ №4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9" name="Прямоугольник 3"/>
          <p:cNvSpPr/>
          <p:nvPr/>
        </p:nvSpPr>
        <p:spPr>
          <a:xfrm>
            <a:off x="1928880" y="714240"/>
            <a:ext cx="6572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13204"/>
                </a:solidFill>
                <a:latin typeface="Constantia"/>
              </a:rPr>
              <a:t>Воспитание – процесс целенаправленного, систематического формирования личности в целях подготовки её к активному участию в общественной, производственной и культурной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9" descr="vikrus76_9910_L"/>
          <p:cNvPicPr/>
          <p:nvPr/>
        </p:nvPicPr>
        <p:blipFill>
          <a:blip r:embed="rId1"/>
          <a:stretch/>
        </p:blipFill>
        <p:spPr>
          <a:xfrm>
            <a:off x="4429080" y="3714840"/>
            <a:ext cx="3929040" cy="283824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3204"/>
                </a:solidFill>
                <a:latin typeface="Constantia"/>
              </a:rPr>
              <a:t>«Воспитание – навыки поведения, привитые семьёй, школой, средой и проявляющиеся в общественной жизни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Rectangle 1"/>
          <p:cNvSpPr/>
          <p:nvPr/>
        </p:nvSpPr>
        <p:spPr>
          <a:xfrm>
            <a:off x="1143000" y="3715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Times New Roman"/>
                <a:ea typeface="Times New Roman"/>
              </a:rPr>
              <a:t>«Толковый словарь русского языка» С.И. Ожег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orbel"/>
              </a:rPr>
              <a:t>Моя семья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276360" y="1285920"/>
            <a:ext cx="562428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Arial Black"/>
              </a:rPr>
              <a:t>☼ </a:t>
            </a: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Я очень люблю свою семью, потому что у нас в семье все дружные и очень меня любя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Arial Black"/>
              </a:rPr>
              <a:t>☼ </a:t>
            </a: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Я очень люблю свою семью и дорожу ею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Arial Black"/>
              </a:rPr>
              <a:t>☼ </a:t>
            </a: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Наша семья дружная и крепкая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Arial Black"/>
              </a:rPr>
              <a:t>☼ </a:t>
            </a: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Вот такая у меня интересная и дружная семья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Arial Black"/>
              </a:rPr>
              <a:t>☼ </a:t>
            </a: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Я ни минуточки не могу прожить без своих родны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8" name="Picture 4" descr="55220375"/>
          <p:cNvPicPr/>
          <p:nvPr/>
        </p:nvPicPr>
        <p:blipFill>
          <a:blip r:embed="rId1"/>
          <a:stretch/>
        </p:blipFill>
        <p:spPr>
          <a:xfrm>
            <a:off x="0" y="2666880"/>
            <a:ext cx="3086280" cy="41911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5"/>
          <p:cNvSpPr/>
          <p:nvPr/>
        </p:nvSpPr>
        <p:spPr>
          <a:xfrm>
            <a:off x="5475960" y="6237360"/>
            <a:ext cx="32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Из детских сочи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82" name="Picture 4" descr="сканирование0033"/>
          <p:cNvPicPr/>
          <p:nvPr/>
        </p:nvPicPr>
        <p:blipFill>
          <a:blip r:embed="rId1"/>
          <a:stretch/>
        </p:blipFill>
        <p:spPr>
          <a:xfrm>
            <a:off x="285840" y="214200"/>
            <a:ext cx="8643960" cy="6429600"/>
          </a:xfrm>
          <a:prstGeom prst="rect">
            <a:avLst/>
          </a:prstGeom>
          <a:ln w="0">
            <a:noFill/>
          </a:ln>
        </p:spPr>
      </p:pic>
      <p:pic>
        <p:nvPicPr>
          <p:cNvPr id="283" name="09 Блонкер - Уличное кафе.wav" descr=""/>
          <p:cNvPicPr/>
          <p:nvPr/>
        </p:nvPicPr>
        <p:blipFill>
          <a:blip r:embed="rId2"/>
          <a:stretch/>
        </p:blipFill>
        <p:spPr>
          <a:xfrm>
            <a:off x="428760" y="62150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90783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26T14:07:58Z</dcterms:modified>
  <cp:revision>21</cp:revision>
  <dc:subject/>
  <dc:title>Формирование здоровых детско-родительских отношений</dc:title>
</cp:coreProperties>
</file>