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66C9-E1EC-47FF-841A-29295CD81A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16B9-A827-4BBC-9EEB-A8865FAB3F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124B-D6EB-41CE-8DDB-BB8955A082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1C8A-A295-4EA3-ADBC-C0953CA36B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Моя сем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, потому что у нас в семье все дружные и очень меня люб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 и дорожу ею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Наша семья дружная и креп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Вот такая у меня интересная и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ни минуточки не могу прожить без своих р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1C73-FE49-4D78-B0A2-81837B1189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CE1-23C2-4753-BBA1-645DCE88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F78-CCD3-402B-9DEA-8D2F679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DF6-87FE-44F4-8CFC-97811082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B89-06EE-4D16-B28F-61E1A16C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61EE-7149-483E-9901-07F5D208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D5BA-A214-49C0-B77F-7C5B4EEC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E98A-2F26-4164-9408-5F1E84A5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B1E6-47F8-4F5C-B694-5E0FAFA9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1E13-0BB3-4B24-8816-3D012E8A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D017-4EC1-4CD1-BF46-6834CFBC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745E-E9B3-499D-A445-70D22559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445-AF43-4107-A9E5-19D2460E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DA2B-AB5C-4A95-A678-30CCD31A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4FAC-D7F0-4520-A7C5-CCC4531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C1A5-1D24-491C-A597-BC22DA4C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3F8D-0F15-476B-A03C-E848FAA2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9D3B-D584-4F38-BED0-4110D624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1C27-4E33-4801-A287-413D6A96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2A4D-ADE4-42AA-927C-67E440EA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861F5-0C4B-4F77-9AEE-C7317E98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74CB-1776-495D-BB8A-2E84AEA3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D4B36-A326-479F-8BAF-63D7EE19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84D-3009-40C1-A494-5B514936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431E-509E-4F58-90F3-0D7C4166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55FD-1668-4FC5-9BEC-D6F0E7C6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6122E-6F5E-4610-9BEB-C555C4E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EE70-0627-48F8-979F-7F9C8B22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5B32-E2C1-412C-AB58-FA5C4DEB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F2BA-3573-41D5-8900-C9D8750C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A1BFC-8467-4D00-8218-667290D8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CB98-2185-4706-9011-C0E7CC9E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AAB6E-A94E-418E-9B0E-B6C49247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3546-C545-43D5-B68F-180A3E5B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A1F-4154-4523-9FB4-B96F3D42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60D6-4318-4A5C-9978-AFFEFCF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A8D78-9F26-483A-85BD-96AB12F5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D2019-3B72-47FB-A504-8F784735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AA76-B801-496E-A6CE-C218D527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8B3F-9741-4FD9-BA99-11515C4D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AE9FA-7CE5-444F-A0B8-6FB7E0D7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1857-9CA7-44C2-BDD2-F7630BA7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14ED2-02C8-4890-A003-C2B80F93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9B10-06F2-425C-8087-73162C5C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5FA83-12DD-4F05-9253-3E9E0C7A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ABB-CC64-4E2A-8E4E-75DF4E07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E3A2C-B33E-4FFB-922B-44E37C6F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527DC-A0D5-49F2-AD54-439B237D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CCF36-8C60-4D57-96DE-1EAD9776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43B69-9539-4B3F-9F60-2A3DB3BD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C55C5-BDDB-4E05-9E28-F093276D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5428-3506-4919-8A6D-15FEC43B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C796-51FA-4D79-A93F-9AFED5F1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5DBE8-F105-46FA-89DB-574DE2A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10363-15B7-42D5-8FA4-FDDCDF6A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2F50-A86B-4D59-9FCD-56FD2DC7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983-6A2A-41ED-AF22-8127D7AD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243A4-3483-4ABA-9957-95FA49A3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BCB-D75F-4320-A558-EF94155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E97-7B46-4B2E-8754-9B186A4B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7B3-DE60-406A-9D9E-CFD38055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4BB7-DBA2-4042-A5BF-88CCEF46A56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FF68-B106-46D8-8DA2-2C5A40A087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AFD7-5B05-49DD-8EA0-A1529D2CF22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726B-57BB-4D24-BDF0-94700760CAB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BAD6-AB33-47E6-8D46-B17052E9BCF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C322-3451-4E9E-84CB-6480D675C6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9C24-EB5A-4E47-B864-605EB79F6C4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A77B-79BB-4A00-9470-C82346D03B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9076-2FB2-426A-AE22-6C45AF37545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CAE3-3DB1-4447-A037-64F8380875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5" name="Picture 4" descr="55220375"/>
          <p:cNvPicPr/>
          <p:nvPr/>
        </p:nvPicPr>
        <p:blipFill>
          <a:blip r:embed="rId1"/>
          <a:stretch/>
        </p:blipFill>
        <p:spPr>
          <a:xfrm>
            <a:off x="5429160" y="2428920"/>
            <a:ext cx="3143520" cy="4286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1205640" y="6453360"/>
            <a:ext cx="63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ечанова Лариса Николаевна Социальный педагог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МБОУ «СОШ №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1928880" y="714240"/>
            <a:ext cx="657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3204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vikrus76_9910_L"/>
          <p:cNvPicPr/>
          <p:nvPr/>
        </p:nvPicPr>
        <p:blipFill>
          <a:blip r:embed="rId1"/>
          <a:stretch/>
        </p:blipFill>
        <p:spPr>
          <a:xfrm>
            <a:off x="4429080" y="3714840"/>
            <a:ext cx="3929040" cy="28382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1143000" y="37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«Толковый словарь русского языка» С.И. Ожег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rbel"/>
              </a:rPr>
              <a:t>Моя семь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76360" y="1285920"/>
            <a:ext cx="56242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, потому что у нас в семье все дружные и очень меня любя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 и дорожу ею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Наша семья дружная и крепка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Вот такая у меня интересная и дружная семь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ни минуточки не могу прожить без своих родны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8" name="Picture 4" descr="55220375"/>
          <p:cNvPicPr/>
          <p:nvPr/>
        </p:nvPicPr>
        <p:blipFill>
          <a:blip r:embed="rId1"/>
          <a:stretch/>
        </p:blipFill>
        <p:spPr>
          <a:xfrm>
            <a:off x="0" y="2666880"/>
            <a:ext cx="3086280" cy="41911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5475960" y="623736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з детских соч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2" name="Picture 4" descr="сканирование0033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  <p:pic>
        <p:nvPicPr>
          <p:cNvPr id="283" name="09 Блонкер - Уличное кафе.wav" descr=""/>
          <p:cNvPicPr/>
          <p:nvPr/>
        </p:nvPicPr>
        <p:blipFill>
          <a:blip r:embed="rId2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90783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7:58Z</dcterms:modified>
  <cp:revision>21</cp:revision>
  <dc:subject/>
  <dc:title>Формирование здоровых детско-родительских отношений</dc:title>
</cp:coreProperties>
</file>