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3DBC-F1A9-41B4-833A-DDA54FBA15E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1488b"/>
                </a:solidFill>
                <a:latin typeface="Constantia"/>
              </a:rPr>
              <a:t>Формирование здоровых детско-родительски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13EF-8628-44DD-9426-AE949624AA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Constantia"/>
              </a:rPr>
              <a:t>Воспитание – процесс целенаправленного, систематического формирования личности в целях подготовки её к активному участию в общественной, производственной и культурной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8E87-E178-47AD-BFE9-9594677934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Constantia"/>
              </a:rPr>
              <a:t>«Воспитание – навыки поведения, привитые семьёй, школой, средой и проявляющиеся в общественной жизн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6AD4-407E-45A9-83CA-209236E459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Моя семь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Arial Black"/>
              </a:rPr>
              <a:t>☼ </a:t>
            </a:r>
            <a:r>
              <a:rPr b="1" lang="ru-RU" sz="1200" spc="-1" strike="noStrike">
                <a:solidFill>
                  <a:srgbClr val="31859c"/>
                </a:solidFill>
                <a:latin typeface="Calibri"/>
              </a:rPr>
              <a:t>Я очень люблю свою семью, потому что у нас в семье все дружные и очень меня любя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Arial Black"/>
              </a:rPr>
              <a:t>☼ </a:t>
            </a:r>
            <a:r>
              <a:rPr b="1" lang="ru-RU" sz="1200" spc="-1" strike="noStrike">
                <a:solidFill>
                  <a:srgbClr val="31859c"/>
                </a:solidFill>
                <a:latin typeface="Calibri"/>
              </a:rPr>
              <a:t>Я очень люблю свою семью и дорожу ею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Arial Black"/>
              </a:rPr>
              <a:t>☼ </a:t>
            </a:r>
            <a:r>
              <a:rPr b="1" lang="ru-RU" sz="1200" spc="-1" strike="noStrike">
                <a:solidFill>
                  <a:srgbClr val="31859c"/>
                </a:solidFill>
                <a:latin typeface="Calibri"/>
              </a:rPr>
              <a:t>Наша семья дружная и крепка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Arial Black"/>
              </a:rPr>
              <a:t>☼ </a:t>
            </a:r>
            <a:r>
              <a:rPr b="1" lang="ru-RU" sz="1200" spc="-1" strike="noStrike">
                <a:solidFill>
                  <a:srgbClr val="31859c"/>
                </a:solidFill>
                <a:latin typeface="Calibri"/>
              </a:rPr>
              <a:t>Вот такая у меня интересная и дружная семь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Arial Black"/>
              </a:rPr>
              <a:t>☼ </a:t>
            </a:r>
            <a:r>
              <a:rPr b="1" lang="ru-RU" sz="1200" spc="-1" strike="noStrike">
                <a:solidFill>
                  <a:srgbClr val="31859c"/>
                </a:solidFill>
                <a:latin typeface="Calibri"/>
              </a:rPr>
              <a:t>Я ни минуточки не могу прожить без своих род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BEAE-99E3-4120-A36C-49D69F188D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DF03-8692-4C26-9FDA-91ACC1684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E8FF-E312-48E9-839C-AF194860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F9E5-8DC7-4B40-9325-3B41A469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D0A1-A67C-47C6-9171-FEFAD9AB8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9061-D2C6-4418-A16F-DEF8BDBB9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3693-E6EC-4510-8FD4-D110E71C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14AC-73C8-4978-95F7-B801F952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2381-BEDD-473A-A725-C75C4F4E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60AC-9633-4F11-A165-F295D3EF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49A8-EB41-44B0-AFEC-E5653B73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8916-0387-44D9-A88D-822DFE0A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3762-B96B-45AE-A93D-0CB0A882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53DE-C327-48FB-847E-5164AABA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5EA5-55C6-482E-AAFB-9E3B6125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BDE6-A0EC-49B3-80D3-3958FFD2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87B0-6FBC-493C-8B19-AED058E81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846F-F45D-4DF9-9BB9-9A5FFDAB7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7CCCD-CDAA-45E8-8B56-9B8E3DA60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1C6A5-E940-4E41-868A-126DCB2C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74BD7-D2D7-44E6-9591-F6814AA5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35257-57E1-49A5-93F7-47DC74C6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BDF50-2D57-46E2-B6BB-4B70B84F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53BE-7D38-4D1C-9DD9-A7694B86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DCEB7-6816-42E5-893F-3783D9A1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871AB-89AC-458A-99D6-CCA7529C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B6070-375B-4E87-B93C-9515D309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17C0D-1D23-48C9-9440-3FB4A573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7BF94-E8A1-4F2B-86E1-F1EB7F2E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4C073-B7D7-4F78-9127-1B7427B6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A72B5-72B6-4BB4-8423-34972F5E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AF247-F0EC-418B-98BE-C45CAFEA6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38E6C-DE05-4DBE-BBCC-417D9E52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BE21A-C199-4FC1-ADD7-728AD995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964D-BA17-48D5-99B3-A3D2C8E9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751AA-62AE-479B-A1E8-8F206571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56F1E-D897-45BC-AF81-37D926AA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24812-6028-4368-96AD-0A34A3CC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A0D7A-08F7-4A47-8E8E-3230D63D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79F19-1413-4290-AE75-F7B90252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65916-FC2D-4C47-99E3-50CE1DF0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D805A-E47F-4979-8CB4-9F8D29A7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67237-C0D3-498E-B18F-0C061527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F38C7-EBCD-42C6-91B2-8B690CB0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AAAC3-F391-4DD8-B2EA-2767947A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5170-AA77-4604-8026-75A7422E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9C6FA-1892-4B63-BC26-DBDE39FD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ABF7F-C304-4924-AE3B-62FA3720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E0EBB-D77F-4E5F-B9C1-E479D52F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C48C8-60C6-4757-AE21-07582B81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17D19-86B8-4304-BA44-2D9DCEDA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577A1-7067-419D-842F-9A8E56A7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75179-96CB-4D5C-BF23-198EB749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FC01A-6D7B-4505-8754-DE172511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A9E7A-A3A7-4281-B23E-B22876FC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9D235-63BE-40BB-A0F6-69F55BA0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6E41-8729-493B-97C8-A7FD7946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F67F7-0394-4B9A-967E-95D5EF38D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151C-71BC-4AD3-A30D-80A4EA12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1DBB-795C-4705-962D-17E94857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1D8B-FD52-4074-99AE-855274C7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0981-EB7B-413F-B6B3-98D086E05420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22AA-4472-43D2-AE7D-BEBFE990C5B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DFD0-2919-4987-8BD7-D0810DA88AF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BBB6-F906-4F50-8270-C21E30D7A10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10" name="Овал 15" descr=""/>
            <p:cNvPicPr/>
            <p:nvPr/>
          </p:nvPicPr>
          <p:blipFill>
            <a:blip r:embed="rId4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7B14-5FC4-4866-A54C-8E4C83AFE671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C1AA-79E9-4513-8640-1A1A9A85A63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5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6C7B-ED84-4C38-8A87-CCFAA1282349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9017-030E-40D2-A3EF-C96B299E685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0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12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0D2B-1613-427D-A1CA-ADB2235F9187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F759-DAC4-4750-B556-78286D85D51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24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nstantia"/>
              </a:rPr>
              <a:t>Формирование здоровых детско-родительских отношени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65" name="Picture 4" descr="55220375"/>
          <p:cNvPicPr/>
          <p:nvPr/>
        </p:nvPicPr>
        <p:blipFill>
          <a:blip r:embed="rId1"/>
          <a:stretch/>
        </p:blipFill>
        <p:spPr>
          <a:xfrm>
            <a:off x="5429160" y="2428920"/>
            <a:ext cx="3143520" cy="4286160"/>
          </a:xfrm>
          <a:prstGeom prst="rect">
            <a:avLst/>
          </a:prstGeom>
          <a:ln w="0">
            <a:noFill/>
          </a:ln>
        </p:spPr>
      </p:pic>
      <p:sp>
        <p:nvSpPr>
          <p:cNvPr id="266" name="TextBox 4"/>
          <p:cNvSpPr/>
          <p:nvPr/>
        </p:nvSpPr>
        <p:spPr>
          <a:xfrm>
            <a:off x="1205640" y="6453360"/>
            <a:ext cx="63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речанова Лариса Николаевна Социальный педагог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МБОУ «СОШ №4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9" name="Прямоугольник 3"/>
          <p:cNvSpPr/>
          <p:nvPr/>
        </p:nvSpPr>
        <p:spPr>
          <a:xfrm>
            <a:off x="1928880" y="714240"/>
            <a:ext cx="6572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13204"/>
                </a:solidFill>
                <a:latin typeface="Constantia"/>
              </a:rPr>
              <a:t>Воспитание – процесс целенаправленного, систематического формирования личности в целях подготовки её к активному участию в общественной, производственной и культурной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9" descr="vikrus76_9910_L"/>
          <p:cNvPicPr/>
          <p:nvPr/>
        </p:nvPicPr>
        <p:blipFill>
          <a:blip r:embed="rId1"/>
          <a:stretch/>
        </p:blipFill>
        <p:spPr>
          <a:xfrm>
            <a:off x="4429080" y="3714840"/>
            <a:ext cx="3929040" cy="283824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3204"/>
                </a:solidFill>
                <a:latin typeface="Constantia"/>
              </a:rPr>
              <a:t>«Воспитание – навыки поведения, привитые семьёй, школой, средой и проявляющиеся в общественной жизни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Rectangle 1"/>
          <p:cNvSpPr/>
          <p:nvPr/>
        </p:nvSpPr>
        <p:spPr>
          <a:xfrm>
            <a:off x="1143000" y="3715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Times New Roman"/>
                <a:ea typeface="Times New Roman"/>
              </a:rPr>
              <a:t>«Толковый словарь русского языка» С.И. Ожег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orbel"/>
              </a:rPr>
              <a:t>Моя семья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276360" y="1285920"/>
            <a:ext cx="562428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Arial Black"/>
              </a:rPr>
              <a:t>☼ </a:t>
            </a: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Я очень люблю свою семью, потому что у нас в семье все дружные и очень меня любя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Arial Black"/>
              </a:rPr>
              <a:t>☼ </a:t>
            </a: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Я очень люблю свою семью и дорожу ею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Arial Black"/>
              </a:rPr>
              <a:t>☼ </a:t>
            </a: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Наша семья дружная и крепкая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Arial Black"/>
              </a:rPr>
              <a:t>☼ </a:t>
            </a: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Вот такая у меня интересная и дружная семья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Arial Black"/>
              </a:rPr>
              <a:t>☼ </a:t>
            </a: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Я ни минуточки не могу прожить без своих родных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8" name="Picture 4" descr="55220375"/>
          <p:cNvPicPr/>
          <p:nvPr/>
        </p:nvPicPr>
        <p:blipFill>
          <a:blip r:embed="rId1"/>
          <a:stretch/>
        </p:blipFill>
        <p:spPr>
          <a:xfrm>
            <a:off x="0" y="2666880"/>
            <a:ext cx="3086280" cy="41911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5"/>
          <p:cNvSpPr/>
          <p:nvPr/>
        </p:nvSpPr>
        <p:spPr>
          <a:xfrm>
            <a:off x="5475960" y="6237360"/>
            <a:ext cx="32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Из детских сочи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82" name="Picture 4" descr="сканирование0033"/>
          <p:cNvPicPr/>
          <p:nvPr/>
        </p:nvPicPr>
        <p:blipFill>
          <a:blip r:embed="rId1"/>
          <a:stretch/>
        </p:blipFill>
        <p:spPr>
          <a:xfrm>
            <a:off x="285840" y="214200"/>
            <a:ext cx="8643960" cy="6429600"/>
          </a:xfrm>
          <a:prstGeom prst="rect">
            <a:avLst/>
          </a:prstGeom>
          <a:ln w="0">
            <a:noFill/>
          </a:ln>
        </p:spPr>
      </p:pic>
      <p:pic>
        <p:nvPicPr>
          <p:cNvPr id="283" name="09 Блонкер - Уличное кафе.wav" descr=""/>
          <p:cNvPicPr/>
          <p:nvPr/>
        </p:nvPicPr>
        <p:blipFill>
          <a:blip r:embed="rId2"/>
          <a:stretch/>
        </p:blipFill>
        <p:spPr>
          <a:xfrm>
            <a:off x="428760" y="62150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90783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26T14:07:58Z</dcterms:modified>
  <cp:revision>21</cp:revision>
  <dc:subject/>
  <dc:title>Формирование здоровых детско-родительских отношений</dc:title>
</cp:coreProperties>
</file>