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5DEA0-79D7-4207-830B-4389A577204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нало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пособу взим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ависимости от органа, который устанавливает и имеет право изменять и конкретизировать нал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целевой направленности введения нало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ависимости от субъекта-налогоплательщ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уровню бюдже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порядку вве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рокам упла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AC05F-D960-4BA8-B3C4-19190633C95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По характеру связи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и, построенные по принципу резиден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и, построенные по принципу территориа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9B84E-5852-4E1A-91E0-E4EE2EBFEEF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сходы по уплате налог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ключаются полностью или частично в себестоимость проду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ключаются в цену проду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сятся на финансовый результ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лачиваются за счет налогооблагаемой прибы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ируются за счет чистой прибыли предпри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держиваются из доходов работ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A7925-A6FB-4072-97F4-C948BC1F22A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пособу взим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ые налоги взимаются непосредственно с имущества или доходов налогоплательщика.Окончательным плательщиком прямых налогов выступает владелец имущества (дохода). Эти налоги подразделяются на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еальные прямые налог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торые уплачиваются с учетом не действительного среднего дохода плательщика, 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личные прямые налог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торые уплачиваются с реально полученного дохода и учитывают фактическую платежеспособность налогоплательщ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DC508-FDE8-49F7-BFE2-75F021B5B5D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свенные налоги включаются в цену товаров и услуг. Окончательным косвенных налогов является потребитель товара. В зависимости от объектов взимания косвенные налоги подразделяются на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освенные индивидуальны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торыми облагаются строго определенные группы товаров;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освенные универсальны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торыми облагаются в основном все товары и услуги;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фискальные монопол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торыми облагаются все товары , производство и реализация которых сосредоточены в государственных структурах;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таможенные пошлин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торыми облагаются товары и услуги при совершении экспортно-импортных опера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502F7-A227-440D-870C-69543027CEA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В устанавливает и имеет право зависимости от органов, которые изменять и конкретизировать нал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ые (общегосударственные) нал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ые нал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стные нал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B2AA7-C03A-4C37-949E-EBCA1F58DC7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целевой направленности введения нало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бстрактные (общие) налоги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едназначенные для формирования доходной части бюджета в цел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Целевые (специальные) налоги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одимые для финансирования конкретного направления государственных расходов. Для целевых платежей часто создается специальный внебюджетный фон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4C407-1C00-4E9C-B49B-DE094867BAB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ависимости от субъекта-налогоплательщ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и, взимаемые с физических л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и, взимаемые с предприятий и организ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ежные налоги, уплачиваемые и физическими и юридическими лиц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4F7DC-71E8-43DF-A6F6-30C3D7F74A6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уровню бюдже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Закрепленные налог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непосредственно и целиком поступающие в тот или иной бюджет или внебюджетный фон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егулирующие налог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разноуровневые, поступающие одновременно в различные бюджеты в пропорции, принятой согласно бюджетному законодательств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B4842-6EBD-4856-852D-14D51888803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порядку вве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бщеобязательные налог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торые взимаются на всей территории страны независимо от бюджета, в который они поступа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Факультативные налог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которые предусмотрены основами налоговой системы, но их введение и взимание  компенсация органов местного само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2D0B3-D933-47D3-A9C8-BF64A37C0AA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рокам уплат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очные нал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иодично-календарные нал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6806C-A898-4572-8AC2-EAF57267140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27C8-D631-45C7-A5B5-043B8BE7D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377A-A119-4361-8073-B9E0B722D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CE13-8B5E-46FF-A42A-57E56FA0A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48FC-E2A4-4678-9CA4-612D97668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A2A7C-37F2-4A9F-ADC2-5EC87FC6D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56009-8DF8-4DFA-A1D5-46B1A440B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3FB99-E631-4AF1-8CBB-4F86D2309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71807-1B68-4348-88A4-2ED7F98E6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4DD31-D6C6-4F33-B2AA-A090A1391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E65FE-DC23-4E67-AA2D-AFE6BD493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B4B4A-E200-4FB5-A175-07F366777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1582-855F-4B85-B03D-F4EB58C61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FA1EC-19ED-4D64-8AD6-8EA8C9F3E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2F55B-5E79-487A-9179-AFA4F470F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1E96A-DFC7-4382-BE22-C1A194587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3BC57-CE25-4FE2-9703-C0728A50A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A2FF4-9D19-44FD-AE08-8424961E7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96CB-9728-4D0B-931A-65D90AEBF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B43B-2725-49A4-B146-415336A3B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5F94-203F-47D1-A1DE-9CE19FC92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BDD1-ED36-4239-B4F2-FFEA4571A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CA3F-C660-4DE7-9632-317AA2E31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8222-9B2C-4F3F-9F6D-4C1BF2BC1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BAB5-A292-47C7-9D69-3767D3F63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Group 1024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Rectangle 2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Pictur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Freeform 4"/>
              <p:cNvSpPr/>
              <p:nvPr/>
            </p:nvSpPr>
            <p:spPr>
              <a:xfrm>
                <a:off x="9360" y="162396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5"/>
              <p:cNvSpPr/>
              <p:nvPr/>
            </p:nvSpPr>
            <p:spPr>
              <a:xfrm>
                <a:off x="9360" y="331308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6"/>
              <p:cNvSpPr/>
              <p:nvPr/>
            </p:nvSpPr>
            <p:spPr>
              <a:xfrm>
                <a:off x="9360" y="501660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1025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Rectangle 8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Line 9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Line 10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Line 11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Line 12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3"/>
              <p:cNvSpPr/>
              <p:nvPr/>
            </p:nvSpPr>
            <p:spPr>
              <a:xfrm>
                <a:off x="1576440" y="1631880"/>
                <a:ext cx="7564320" cy="18900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5E514-E26E-49B7-8B41-EBC044C1DFC1}" type="slidenum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25"/>
          <p:cNvGrpSpPr/>
          <p:nvPr/>
        </p:nvGrpSpPr>
        <p:grpSpPr>
          <a:xfrm>
            <a:off x="0" y="0"/>
            <a:ext cx="9093240" cy="6856560"/>
            <a:chOff x="0" y="0"/>
            <a:chExt cx="9093240" cy="6856560"/>
          </a:xfrm>
        </p:grpSpPr>
        <p:grpSp>
          <p:nvGrpSpPr>
            <p:cNvPr id="56" name="Group 21"/>
            <p:cNvGrpSpPr/>
            <p:nvPr/>
          </p:nvGrpSpPr>
          <p:grpSpPr>
            <a:xfrm>
              <a:off x="1527120" y="3090960"/>
              <a:ext cx="7566120" cy="188640"/>
              <a:chOff x="1527120" y="3090960"/>
              <a:chExt cx="7566120" cy="188640"/>
            </a:xfrm>
          </p:grpSpPr>
          <p:sp>
            <p:nvSpPr>
              <p:cNvPr id="57" name="Rectangle 10"/>
              <p:cNvSpPr/>
              <p:nvPr/>
            </p:nvSpPr>
            <p:spPr>
              <a:xfrm>
                <a:off x="1531800" y="3101760"/>
                <a:ext cx="7561440" cy="167760"/>
              </a:xfrm>
              <a:prstGeom prst="rect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Line 11"/>
              <p:cNvSpPr/>
              <p:nvPr/>
            </p:nvSpPr>
            <p:spPr>
              <a:xfrm>
                <a:off x="1536480" y="32763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Line 12"/>
              <p:cNvSpPr/>
              <p:nvPr/>
            </p:nvSpPr>
            <p:spPr>
              <a:xfrm>
                <a:off x="1536480" y="32382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Line 13"/>
              <p:cNvSpPr/>
              <p:nvPr/>
            </p:nvSpPr>
            <p:spPr>
              <a:xfrm>
                <a:off x="1536480" y="3190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Line 14"/>
              <p:cNvSpPr/>
              <p:nvPr/>
            </p:nvSpPr>
            <p:spPr>
              <a:xfrm>
                <a:off x="1536480" y="3136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Freeform 15"/>
              <p:cNvSpPr/>
              <p:nvPr/>
            </p:nvSpPr>
            <p:spPr>
              <a:xfrm>
                <a:off x="1527120" y="3090960"/>
                <a:ext cx="7564320" cy="18864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Group 23"/>
            <p:cNvGrpSpPr/>
            <p:nvPr/>
          </p:nvGrpSpPr>
          <p:grpSpPr>
            <a:xfrm>
              <a:off x="0" y="0"/>
              <a:ext cx="1473120" cy="6856560"/>
              <a:chOff x="0" y="0"/>
              <a:chExt cx="1473120" cy="6856560"/>
            </a:xfrm>
          </p:grpSpPr>
          <p:sp>
            <p:nvSpPr>
              <p:cNvPr id="64" name="Rectangle 4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Group 22"/>
              <p:cNvGrpSpPr/>
              <p:nvPr/>
            </p:nvGrpSpPr>
            <p:grpSpPr>
              <a:xfrm>
                <a:off x="0" y="65160"/>
                <a:ext cx="1473120" cy="6405480"/>
                <a:chOff x="0" y="65160"/>
                <a:chExt cx="1473120" cy="6405480"/>
              </a:xfrm>
            </p:grpSpPr>
            <p:pic>
              <p:nvPicPr>
                <p:cNvPr id="66" name="Picture 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609560"/>
                  <a:ext cx="146052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Freeform 6"/>
                <p:cNvSpPr/>
                <p:nvPr/>
              </p:nvSpPr>
              <p:spPr>
                <a:xfrm>
                  <a:off x="60480" y="65160"/>
                  <a:ext cx="141264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Freeform 7"/>
                <p:cNvSpPr/>
                <p:nvPr/>
              </p:nvSpPr>
              <p:spPr>
                <a:xfrm>
                  <a:off x="9360" y="331308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Freeform 8"/>
                <p:cNvSpPr/>
                <p:nvPr/>
              </p:nvSpPr>
              <p:spPr>
                <a:xfrm>
                  <a:off x="9360" y="501660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5DE79-03B0-414F-AD7E-8AA5B92192A1}" type="slidenum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Классификация налогов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94920" y="2057400"/>
            <a:ext cx="762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 способу взим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зависимости от органа, который устанавливает и имеет право изменять и конкретизировать налог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 целевой направленности введения налог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зависимости от субъекта-налогоплательщ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 уровню бюдже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 порядку введ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 срокам упла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7972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По характеру связи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996633"/>
              </a:buClr>
              <a:buSzPct val="9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логи, построенные по принципу резиденст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996633"/>
              </a:buClr>
              <a:buSzPct val="9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логи, построенные по принципу территориаль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7972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Расходы по уплате налогов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ключаются полностью или частично в себестоимость проду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ключаются в цену проду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носятся на финансовый результа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плачиваются за счет налогооблагаемой прибы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инансируются за счет чистой прибыли предприят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держиваются из доходов работн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7972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По способу взимания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ямые налоги взимаются непосредственно с имущества или доходов налогоплательщика.Окончательным плательщиком прямых налогов выступает владелец имущества (дохода). Эти налоги подразделяются на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реальные прямые налог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которые уплачиваются с учетом не действительного среднего дохода плательщика, и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личные прямые налог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которые уплачиваются с реально полученного дохода и учитывают фактическую платежеспособность налогоплательщи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7972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свенные налоги включаются в цену товаров и услуг. Окончательным косвенных налогов является потребитель товара. В зависимости от объектов взимания косвенные налоги подразделяются на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косвенные индивидуальны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которыми облагаются строго определенные группы товаров;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косвенные универсальны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которыми облагаются в основном все товары и услуги;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фискальные монополи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которыми облагаются все товары , производство и реализация которых сосредоточены в государственных структурах;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таможенные пошлин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которыми облагаются товары и услуги при совершении экспортно-импортных операц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7972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79680" y="83772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993366"/>
                </a:solidFill>
                <a:latin typeface="Times New Roman"/>
              </a:rPr>
              <a:t>В устанавливает и имеет право зависимости от органов, которые изменять и конкретизировать налоги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17760" y="320040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Федеральные (общегосударственные) налог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егиональные налог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Местные налог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7972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По целевой направленности введения налогов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Абстрактные (общие) налоги,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дназначенные для формирования доходной части бюджета в цело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Целевые (специальные) налоги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водимые для финансирования конкретного направления государственных расходов. Для целевых платежей часто создается специальный внебюджетный фон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7972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В зависимости от субъекта-налогоплательщика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17760" y="24382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логи, взимаемые с физических ли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логи, взимаемые с предприятий и организац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межные налоги, уплачиваемые и физическими и юридическими лица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7972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По уровню бюджета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Закрепленные налог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непосредственно и целиком поступающие в тот или иной бюджет или внебюджетный фон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Регулирующие налог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разноуровневые, поступающие одновременно в различные бюджеты в пропорции, принятой согласно бюджетному законодательств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7972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По порядку введения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бщеобязательные налог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которые взимаются на всей территории страны независимо от бюджета, в который они поступаю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Факультативные налог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которые предусмотрены основами налоговой системы, но их введение и взимание  компенсация органов местного самоуправл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7972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6633"/>
                </a:solidFill>
                <a:latin typeface="Times New Roman"/>
              </a:rPr>
              <a:t>По срокам уплаты</a:t>
            </a:r>
            <a:br>
              <a:rPr sz="4400"/>
            </a:b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79600" y="3716280"/>
            <a:ext cx="7626240" cy="237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рочные налог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ериодично-календарные налог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7972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9T22:33:58Z</dcterms:created>
  <dc:creator>TANYA</dc:creator>
  <dc:description/>
  <dc:language>en-US</dc:language>
  <cp:lastModifiedBy>LEGION</cp:lastModifiedBy>
  <dcterms:modified xsi:type="dcterms:W3CDTF">2014-11-10T09:07:32Z</dcterms:modified>
  <cp:revision>3</cp:revision>
  <dc:subject/>
  <dc:title>Классификация налогов</dc:title>
</cp:coreProperties>
</file>