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F0B5-0396-4D8B-8C5F-3F739361F8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B7C-AB64-43A6-B222-4108FC4AD4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о характеру связ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резид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территор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D30-5A1C-4CBB-AD86-E6C5158E46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ходы по уплате нало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полностью или частично в себестоимость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в цену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на финансовый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лачиваются за счет налогооблагаемой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уются за счет чистой прибы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иваются из доходов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F314-AC6B-43B0-A11A-3C7E8D1441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ь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ич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E266-EE6D-49EC-BB78-FCBCD51EC3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индивиду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строго определенные группы товаров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универс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 основном все товары и услуги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скальные монопо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товары и услуги при совершении экспортно-импор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4A01-8CFA-48F7-BE1B-E2C828D5EF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общегосударственные)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30C-DFD8-4F53-B075-C5546507E4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трактные (общие) налог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назначенные для формирования доходной части бюджет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вые (специальные) налог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D08B-3C85-4B09-A4EB-CD19E2C059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ые налоги, уплачиваемые 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90ED-9AAF-4C8E-870F-D86E599315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репл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посредственно и целиком поступающие в тот или иной бюджет или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ющи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A778-AA67-4C7C-9466-796D728214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обязатель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культатив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4BF-7A86-41A9-8162-978F585DB6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-календар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FDF3-14AD-496E-8DAB-A31740A3FB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949-8494-4C22-913A-CE450B4F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E28-C49D-4256-8E09-73DC066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813-3F22-4541-B3E3-B232A163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325-340A-406F-A85B-88312B38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B9E-F8BA-49CA-9745-D1852799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3D0-4B50-4FB5-AD27-709F6476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4085-DF41-4F9F-8977-4ECACDAD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C29A-DBC6-46D2-9C8B-34AFF74A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0EE-55C6-4851-A2FA-EB47BABD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3960-EE8E-467D-B126-4140B194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21BE-8AED-487A-ABB6-A969CABF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13F-16A3-4228-8A6A-99F0A832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BE9-432B-41D6-ACB5-F42E5734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9902-4227-4111-8040-334A708F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254D-1DC7-4E53-BB24-56FB0E0E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52FF-F461-4427-8385-2FD5F677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D57E-70EE-4B59-9629-1DF34F8F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280-884F-4C0F-A4D8-BCDA3E2B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29E-3D26-430C-B005-C02F6416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73B-D135-458F-810A-1635A40D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C5E-5CBE-46DD-B184-054B820B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6C4-C1E8-45B0-B1B2-CFE01C6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81A-8A78-4724-A0AB-EA179E6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272-F45F-447F-8F03-34101668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7BEB-ED82-48CA-B452-75C96415354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5EC-9687-4CDE-BA42-35296597534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лассификац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пособу взи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целевой направленности введения нало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субъекта-налогоплательщ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уровню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рядку в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рокам уп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 характеру связ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резиде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территориа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по уплате налог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полностью или частично в себестоимость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в цену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ятся на финансовый резуль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лачиваются за счет налогооблагаемой при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ируются за счет чистой прибыли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ерживаются из доходов работ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пособу взима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еаль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индивиду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строго определенные группы товаров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универс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 основном все товары и услуги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искальные монопол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моженные пошл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товары и услуги при совершении экспортно-импор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9680" y="8377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7760" y="3200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едеральные (общегосударственные)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ональ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целевой направленности введен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бстрактные (общие) налоги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назначенные для формирования доходной части бюджета в це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евые (специальные) налог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 зависимости от субъекта-налогоплательщи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776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физических 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предприятий и организ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жные налоги, уплачиваемые и физическими и юридическими лиц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уровню бюдже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посредственно и целиком поступающие в тот или иной бюджет или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и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порядку введ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обязатель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акультатив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рокам уплаты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3716280"/>
            <a:ext cx="762624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роч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иодично-календар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2:33:58Z</dcterms:created>
  <dc:creator>TANYA</dc:creator>
  <dc:description/>
  <dc:language>en-US</dc:language>
  <cp:lastModifiedBy>LEGION</cp:lastModifiedBy>
  <dcterms:modified xsi:type="dcterms:W3CDTF">2014-11-10T09:07:32Z</dcterms:modified>
  <cp:revision>3</cp:revision>
  <dc:subject/>
  <dc:title>Классификация налогов</dc:title>
</cp:coreProperties>
</file>