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E60-2E31-43C3-BBBE-F8E99C1FE5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ED7A-28EC-4BC3-A785-DE526D612B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о характеру связ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резид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территор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C011-14A8-4097-AAFB-7424399559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ходы по уплате нало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полностью или частично в себестоимость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в цену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на финансовый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лачиваются за счет налогооблагаемой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уются за счет чистой прибы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иваются из доходов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C020-B4DD-4633-8D31-8D2F69D50F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ь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ич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2711-BC14-4EC4-90ED-490979144A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индивиду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строго определенные группы товаров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универс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 основном все товары и услуги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скальные монопо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товары и услуги при совершении экспортно-импор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9DD6-28BA-4B59-9EEE-E7B00059E1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общегосударственные)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722F-5E55-4A17-B1EC-32907BDAE5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трактные (общие) налог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назначенные для формирования доходной части бюджет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евые (специальные) налог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A698-FB1A-40B7-9C82-15AEE0CB25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ые налоги, уплачиваемые 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82A6-A4BC-4217-A5E6-95083F5B7A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репл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посредственно и целиком поступающие в тот или иной бюджет или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ющи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93CD-2BFB-4FA1-A92D-778F33FDA6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обязатель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культатив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D52-0A51-4781-9B87-EA82CDA67C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-календар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12C0-59E6-4608-97B0-E524058713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2FB-46B9-48CB-9FFA-5484AE84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4B9-BF28-4968-8DA6-4FFC2622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183-7E59-44AE-A17D-32766F64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72B-5A90-4A85-A732-6C78BE6D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43E8-80B2-49C7-A6BD-92C01BF3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8373-6084-4098-AB62-A203782B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2480-5D98-4EB9-8099-601B14AB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3D8E-05C4-4E61-B46C-1A57C032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4BD4-5D02-4ACB-8DF8-1AB6BA3C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2A88-818F-47DE-ABFB-7C543A9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88D8-98E3-4035-B08C-BAA5DCD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884-C01D-4F53-857D-8AC1E181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3801-3DAA-412C-9FB8-24CEC5B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1CE7-53E2-4530-A08F-841E61F1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053C-46BE-4534-908E-2BC71CA6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5AF0-5462-4AB6-B3E6-CE7DBC40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99F2-AAF2-4718-9191-130D639A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A4D-EF40-4AC2-96D1-1EB64657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7DC-7AAB-4666-878C-45DFFC76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970-C62D-4503-B849-31EF5AB4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041-C186-40F7-ACCB-2B7CA0F9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B38-8AE2-40C2-AE20-DC20C92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7CE-E225-4496-89C1-FD2ADA7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A7A-3CEC-4546-9287-095E910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3F5-B460-4A9E-9BCE-1EDE8657BB0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0166-63C7-4E2A-B612-036E1980F6CB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лассификац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пособу взи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целевой направленности введения нало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субъекта-налогоплательщ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уровню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орядку в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рокам упл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 характеру связ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резиде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территориа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по уплате налог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полностью или частично в себестоимость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в цену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ятся на финансовый резуль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лачиваются за счет налогооблагаемой при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нансируются за счет чистой прибыли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ерживаются из доходов работ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пособу взима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еаль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ч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индивиду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строго определенные группы товаров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универс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 основном все товары и услуги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искальные монопол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моженные пошл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товары и услуги при совершении экспортно-импор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79680" y="8377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93366"/>
                </a:solidFill>
                <a:latin typeface="Times New Roman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7760" y="3200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едеральные (общегосударственные)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ональ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целевой направленности введен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бстрактные (общие) налоги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назначенные для формирования доходной части бюджета в це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евые (специальные) налог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 зависимости от субъекта-налогоплательщи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7760" y="2438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физических 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предприятий и организ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жные налоги, уплачиваемые и физическими и юридическими лиц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уровню бюджет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епосредственно и целиком поступающие в тот или иной бюджет или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и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порядку введе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обязатель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акультатив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рокам уплаты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3716280"/>
            <a:ext cx="762624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роч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иодично-календар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2:33:58Z</dcterms:created>
  <dc:creator>TANYA</dc:creator>
  <dc:description/>
  <dc:language>en-US</dc:language>
  <cp:lastModifiedBy>LEGION</cp:lastModifiedBy>
  <dcterms:modified xsi:type="dcterms:W3CDTF">2014-11-10T09:07:32Z</dcterms:modified>
  <cp:revision>3</cp:revision>
  <dc:subject/>
  <dc:title>Классификация налогов</dc:title>
</cp:coreProperties>
</file>