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781B-8544-459C-A63E-A89A526A17F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Детский сад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етский сад – мой дом род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Я его люблю как с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роги мне сте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рог мне у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ждый, кто здесь трудит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е меня пойм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 каждым ранним солныш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этот сад спеш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Чтоб увидеть малень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Я ими дорож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0F31-A1FC-4721-A91E-07A470AED51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ши группы</a:t>
            </a:r>
            <a:br>
              <a:rPr sz="1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уппа «Петуш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ушок с утра вс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онко песенки по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и мы не отст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солнышком вст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лимся и игр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гда не уныв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DB22-BAF3-44ED-9A24-053020E0B80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Лу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солнце расплывается в улыб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зя по васильковым неб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яркий лучик нежно нас коснется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, цветущий мир откроет 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81A6-05BB-4ED8-9A8F-15525B62DBF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Руче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нит ручеек, бежит и смее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руппа у нас «Ручейком» и зов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им на занятиях побольше узн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 в будущем самыми умными ст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A108-1CB3-4881-AFD0-9F741F0B299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Малин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виз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Мы детиш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ы «Малин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м люба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плечу тропи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ихотвор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детском садике сво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мечательно живе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ы и лепим, и рису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танцуем, и по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ень любим выступ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а ложках  поигр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рошо живется т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 малинками зов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9DE2-7850-49B5-B07D-E76009E0EC6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Вишен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виз: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ишенка, вишенк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ы твои цве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расти хорошим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м поможешь ты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ихотвор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ятишки очень ра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группу «Вишенка» ход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тепло, заботу, лас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юбят взрослые дар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игрушки стоя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жидаются ребя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картины на ст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цветочки на ок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дут и сказка, и расск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ивляют всегда н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ы в театре все игр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артисты выступ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пеньем, рисованьем, леп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жат дети очень креп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ша группа просто кла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кой группе рад весь сад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7EC5-BF06-4BD6-B8E2-376EDD97754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3D6F-B4F4-447F-8235-D14F3CF8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046-1A50-4F75-ABA6-02AC4C67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FF27-37B1-462C-84DC-AD0898C3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32A9-8178-409F-8A19-617B88C5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314D-DBB9-43DF-BE22-9AEE7D09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FA19-6014-423F-8CF6-10636753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4F7D-8677-4C18-BA01-16A56811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B315-67B4-4BCC-B7D5-CEFADE5E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71A9-E82D-4576-ACC7-5A59A2BE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8ABE-9EB9-4944-802B-9B290E6A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003D-1302-4B51-813E-EE81C08D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AA78-B7E7-4F8B-8A6B-03413FB4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480F-C11D-4793-8531-25BD3DCD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146C-6798-4BF2-8AE0-65E4EF30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40F0-BBCD-482E-A6D9-64D68CEA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B900-F086-4B4E-BD55-03D9D10A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62D7-3632-47B9-939B-A5540181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9992-6530-4695-A807-865942F0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6F67-8B3F-4F14-BB9D-EBC0B39A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CF49-0DB7-4952-83D5-3D0249E6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0947-1FBC-4380-930D-7145A2AB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1FC7-E58B-4F54-B15F-8E7ACA8B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A864-5D1A-4794-A07F-BD715F89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7AD-097B-4163-8BB0-1B6975DE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D9D0-30DA-450E-8F76-639E534E33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1FF8-EA89-44D1-A005-DA8D1ED639C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eec94"/>
                </a:solidFill>
                <a:latin typeface="Comic Sans MS"/>
              </a:rPr>
              <a:t>Детский сад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5840" y="2214360"/>
            <a:ext cx="8229600" cy="37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етский сад – мой дом родно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Я его люблю как сво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ороги мне стены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орог мне уют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Каждый, кто здесь трудится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Те меня пойму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С каждым ранним солнышко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В этот сад спешу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Чтоб увидеть маленьки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Я ими дорожу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Comic Sans MS"/>
              </a:rPr>
              <a:t>Наши группы</a:t>
            </a:r>
            <a:br>
              <a:rPr sz="44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Группа «Петушок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тушок с утра вста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вонко песенки по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 и мы не отста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месте с солнышком вста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селимся и игра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когда не уныва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10" descr="SS100015"/>
          <p:cNvPicPr/>
          <p:nvPr/>
        </p:nvPicPr>
        <p:blipFill>
          <a:blip r:embed="rId1"/>
          <a:stretch/>
        </p:blipFill>
        <p:spPr>
          <a:xfrm>
            <a:off x="5003640" y="1628640"/>
            <a:ext cx="3384720" cy="43578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Лучик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4392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усть солнце расплывается в улыбке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кользя по васильковым небеса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яркий лучик нежно нас коснется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ольшой, цветущий мир откроет на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SS100003"/>
          <p:cNvPicPr/>
          <p:nvPr/>
        </p:nvPicPr>
        <p:blipFill>
          <a:blip r:embed="rId1"/>
          <a:stretch/>
        </p:blipFill>
        <p:spPr>
          <a:xfrm>
            <a:off x="4500720" y="1989000"/>
            <a:ext cx="4465440" cy="36766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Ручеек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евиз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венит ручеек, бежит и смеется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группа у нас «Ручейком» и зовет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отим на занятиях побольше узна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тоб в будущем самыми умными ста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6" descr="SS100005"/>
          <p:cNvPicPr/>
          <p:nvPr/>
        </p:nvPicPr>
        <p:blipFill>
          <a:blip r:embed="rId1"/>
          <a:stretch/>
        </p:blipFill>
        <p:spPr>
          <a:xfrm>
            <a:off x="4643280" y="1989000"/>
            <a:ext cx="4321440" cy="375156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Малинк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Мы детиш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уппы «Малин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м люба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плечу тропин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ихотворение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 детском садике свое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амечательно живем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ы и лепим, и рисуем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И танцуем, и по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чень любим выступат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И на ложках  поиграть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Хорошо живется ту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с малинками зову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2" descr="SS100017"/>
          <p:cNvPicPr/>
          <p:nvPr/>
        </p:nvPicPr>
        <p:blipFill>
          <a:blip r:embed="rId1"/>
          <a:stretch/>
        </p:blipFill>
        <p:spPr>
          <a:xfrm>
            <a:off x="4572000" y="1916280"/>
            <a:ext cx="4321080" cy="3744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Вишенк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евиз: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ишенка, вишенка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ы твои цветы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расти хорошим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м поможешь ты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тихотворение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ебятишки очень ра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 группу «Вишенка» ходить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тепло, заботу, ласк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Любят взрослые дарить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игрушки стоят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ожидаются ребят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картины на сте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И цветочки на окне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Ждут и сказка, и рассказ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Удивляют всегда нас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Мы в театре все игра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Как артисты выступае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 пеньем, рисованьем, лепк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ружат дети очень крепко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ша группа просто клад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кой группе рад весь сад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SS100021"/>
          <p:cNvPicPr/>
          <p:nvPr/>
        </p:nvPicPr>
        <p:blipFill>
          <a:blip r:embed="rId1"/>
          <a:stretch/>
        </p:blipFill>
        <p:spPr>
          <a:xfrm>
            <a:off x="4500720" y="1989000"/>
            <a:ext cx="4402080" cy="360072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26T14:08:31Z</dcterms:modified>
  <cp:revision>49</cp:revision>
  <dc:subject/>
  <dc:title>PowerPoint Presentation</dc:title>
</cp:coreProperties>
</file>