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1530-0100-4E78-BCAD-657A054B61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Детский с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етский сад – мой дом 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его люблю как с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и мне сте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 мне у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ждый, кто здесь труди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 меня пойм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каждым ранним солныш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т сад спеш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б увидеть малень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ими дорож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1778-5390-4174-897C-90AC6907A66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ши группы</a:t>
            </a: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«Петуш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ушок с утра в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ко песенки по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мы не отст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солнышком вс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имся и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уныв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5036-8B18-4850-B1C0-F04FA80E75F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Лу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солнце расплывается в улыб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 по васильковым неб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яркий лучик нежно нас коснется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, цветущий мир откроет 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5DD2-4E7D-4E02-847B-FCC3F8988ED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Руче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ит ручеек, бежит и сме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а у нас «Ручейком» и зов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м на занятиях побольше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будущем самыми умными с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BEBD-BB4E-4935-AF64-FAEFA91B5BB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Мали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из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Мы дети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ы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люб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лечу троп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етском садике сво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тельно живе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и лепим, и рису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танцуем, и по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любим высту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 ложках 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ошо живется 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 малин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AFE3-F86D-47DB-821F-A95F4C57413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Више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виз: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шенка, вишен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 твои цве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сти хороши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м поможешь ты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ятишки очень 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группу «Вишенка»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тепло, заботу, ла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юбят взрослые да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игрушки сто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жидаются реб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картины на ст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цветочки на ок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дут и сказка, и 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ивляют всегда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в театре все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артисты выступ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пеньем, рисованьем, леп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жат дети очень креп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ша группа просто к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ой группе рад весь са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1B68-6D3B-49FD-9B58-7A58A309F4F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C75-8CDB-492E-9EDF-992C0034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976-53F5-4A3B-BE2D-027E40D3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8A3-36B4-469A-AFEB-AE36E43F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54A-B297-463C-881F-C5C3FF8A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359C-A18C-47DF-A63A-267FCB0C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34B5-8C5D-490A-8DDB-7B76CF1C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EDDC-035E-452C-916A-D186E4FA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5689-2ADB-4FDB-9EF4-650EAAF5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C576-95CA-4C9D-8867-440FD560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599E-4648-42DD-A332-1640F49F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B681-9108-48F1-B106-F11DE39D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338-A302-4AC0-A116-3FBD160C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F99F-A621-40AC-AFA8-F370E8C5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3FFD-A56E-4A51-A0D4-0CF2B0EF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8402-9DCB-490D-B761-9007E30F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83D2-8004-46FF-85BA-54E8EE16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3857-D956-4E2B-8CC9-D490984E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056-9A45-4112-B805-0E4C8A09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9BE-8AB7-4254-8B8F-89F50E42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27A-CCB1-4B00-9185-185625F9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CFF-1E30-4F46-9A1D-C9C53562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957-6570-4967-BFC5-98EFD4DE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D9C-91CE-4C66-A9F9-6B01C549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34F-CA5B-49F0-A917-6B174105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4DEE-2E29-4178-93ED-4C27DD1831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6DE9-566F-44E6-B660-0FA9BEBA02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Comic Sans MS"/>
              </a:rPr>
              <a:t>Детский сад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2214360"/>
            <a:ext cx="822960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етский сад – мой дом род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его люблю как св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и мне стен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 мне ую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ждый, кто здесь трудится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е меня пойм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 каждым ранним солнышк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В этот сад спеш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Чтоб увидеть маленьк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ими дорож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mic Sans MS"/>
              </a:rPr>
              <a:t>Наши группы</a:t>
            </a:r>
            <a:br>
              <a:rPr sz="4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руппа «Петушок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ушок с утра вст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песенки по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и мы не отст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е с солнышком вст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елимся и игр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гда не уныв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0" descr="SS100015"/>
          <p:cNvPicPr/>
          <p:nvPr/>
        </p:nvPicPr>
        <p:blipFill>
          <a:blip r:embed="rId1"/>
          <a:stretch/>
        </p:blipFill>
        <p:spPr>
          <a:xfrm>
            <a:off x="5003640" y="1628640"/>
            <a:ext cx="3384720" cy="4357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Лучи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солнце расплывается в улыб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ользя по васильковым небес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ий лучик нежно нас коснется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, цветущий мир откроет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SS100003"/>
          <p:cNvPicPr/>
          <p:nvPr/>
        </p:nvPicPr>
        <p:blipFill>
          <a:blip r:embed="rId1"/>
          <a:stretch/>
        </p:blipFill>
        <p:spPr>
          <a:xfrm>
            <a:off x="4500720" y="1989000"/>
            <a:ext cx="4465440" cy="3676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Ручее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енит ручеек, бежит и смеетс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группа у нас «Ручейком» и зове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тим на занятиях побольше узн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 в будущем самыми умными ст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SS100005"/>
          <p:cNvPicPr/>
          <p:nvPr/>
        </p:nvPicPr>
        <p:blipFill>
          <a:blip r:embed="rId1"/>
          <a:stretch/>
        </p:blipFill>
        <p:spPr>
          <a:xfrm>
            <a:off x="4643280" y="1989000"/>
            <a:ext cx="4321440" cy="37515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Мал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Мы дети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«Малин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люб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лечу тропи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детском садике сво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мечательно живем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 и лепим, и рисуе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танцуем, и по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чень любим выступа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на ложках  поигр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орошо живется ту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с малинками зову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SS100017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3744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Више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виз: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шенка, вишенк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ы твои цве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расти хороши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м поможешь ты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ебятишки очень ра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 группу «Вишенка» ход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тепло, заботу, ла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Любят взрослые дар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игрушки сто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жидаются реб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картины на ст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 цветочки на окн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дут и сказка, и рассказ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дивляют всегда нас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ы в театре все игра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артисты выступае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 пеньем, рисованьем, леп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ружат дети очень крепко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ша группа просто клад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ой группе рад весь сад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S100021"/>
          <p:cNvPicPr/>
          <p:nvPr/>
        </p:nvPicPr>
        <p:blipFill>
          <a:blip r:embed="rId1"/>
          <a:stretch/>
        </p:blipFill>
        <p:spPr>
          <a:xfrm>
            <a:off x="4500720" y="1989000"/>
            <a:ext cx="4402080" cy="36007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8:31Z</dcterms:modified>
  <cp:revision>49</cp:revision>
  <dc:subject/>
  <dc:title>PowerPoint Presentation</dc:title>
</cp:coreProperties>
</file>