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1CE5-4B99-4A45-AA40-AEAD6878453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Детский са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етский сад – мой дом род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 его люблю как с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роги мне сте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рог мне у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ждый, кто здесь трудит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 меня пойм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 каждым ранним солныш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этот сад спеш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тоб увидеть малень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 ими дорож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89DF-D418-49CC-B7E9-ED3EBE42701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ши группы</a:t>
            </a:r>
            <a:br>
              <a:rPr sz="1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уппа «Петуш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ушок с утра вс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онко песенки по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мы не отст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солнышком вст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имся и игр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не уныв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9D3C-170C-446C-BAD7-8FC228D8341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Лу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солнце расплывается в улыб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зя по васильковым неб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яркий лучик нежно нас коснется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, цветущий мир откроет 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D70E-347F-401F-9EFD-CD25B6569AB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Руче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нит ручеек, бежит и сме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руппа у нас «Ручейком» и зов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м на занятиях побольше узн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 в будущем самыми умными с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D98C-E31C-44FA-8B94-FD8BFCE5387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Малин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виз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Мы детиш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ы «Малин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м люб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плечу тропи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ихотвор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детском садике сво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чательно живе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ы и лепим, и рису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танцуем, и по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ень любим выступ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 ложках  поигр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рошо живется т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 малинками зов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C203-53CF-49F0-A30F-D99410DFF1E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Вишен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виз: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ишенка, вишенк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ы твои цве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расти хорошим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м поможешь ты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ихотвор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ятишки очень ра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группу «Вишенка» ход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тепло, заботу, ла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юбят взрослые дар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игрушки стоя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жидаются ребя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картины на ст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цветочки на ок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дут и сказка, и расс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ивляют всегда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ы в театре все игр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артисты выступ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пеньем, рисованьем, леп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жат дети очень креп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ша группа просто кла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кой группе рад весь сад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D037-F69F-4FF2-9397-32413D92444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ACEC-FDB1-4B91-831B-69FB338A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87E7-7A1B-4F6C-A3E3-DC8687BC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CFD8-7480-41CF-B9F6-7A689E5D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FAB4-7A3A-4C35-B9CF-431211BC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8F30-C1FF-469B-96AC-6ACFED6B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11AA-9F23-41A0-AE3B-8221F562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5A81-3C8E-49AA-8608-9B063E8C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5FFC-E20D-4BF2-ADA0-168DE6DE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CE61-535A-4B77-9718-71B37FFD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D989-F8D8-4594-B9BD-7821808A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BAB9-13A1-4791-8B8E-DD954DF9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F260-4E0B-4ED0-B1FB-8132525F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8506-BAA5-483E-ADDB-A64A5267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D46B-180E-4D50-AD9D-D1591BDC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6762-7224-4B4F-B5D9-8FC4C55B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6696-E83A-44BB-9445-F2F6C32F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7F8B-AC21-4AF8-8951-A2CB54DE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D970-5FED-4ECD-86FD-05203EA6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F8D0-089D-4076-8279-62F67A58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2B50-89A2-4448-A6AC-49C32ADD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0E80-B48D-4A8E-A82E-36F3EABB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8321-8C91-410C-9D28-ABF65D56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6325-8334-4D0B-B265-9B1D72B8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9EF4-4984-4316-ACCE-3D6DAE85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0769-18BB-49A3-A8CF-68D0AA5154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01AD-9293-471B-893E-CB57ABA1F60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eec94"/>
                </a:solidFill>
                <a:latin typeface="Comic Sans MS"/>
              </a:rPr>
              <a:t>Детский сад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5840" y="2214360"/>
            <a:ext cx="8229600" cy="37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етский сад – мой дом родно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Я его люблю как сво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ороги мне стены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орог мне уют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Каждый, кто здесь трудится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Те меня пойму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С каждым ранним солнышко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В этот сад спешу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Чтоб увидеть маленьки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Я ими дорож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Comic Sans MS"/>
              </a:rPr>
              <a:t>Наши группы</a:t>
            </a:r>
            <a:br>
              <a:rPr sz="44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Группа «Петушок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тушок с утра вста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вонко песенки по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 и мы не отста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месте с солнышком вста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селимся и игра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когда не уныва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10" descr="SS100015"/>
          <p:cNvPicPr/>
          <p:nvPr/>
        </p:nvPicPr>
        <p:blipFill>
          <a:blip r:embed="rId1"/>
          <a:stretch/>
        </p:blipFill>
        <p:spPr>
          <a:xfrm>
            <a:off x="5003640" y="1628640"/>
            <a:ext cx="3384720" cy="4357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Лучик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4392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усть солнце расплывается в улыбк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кользя по васильковым небес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яркий лучик нежно нас коснется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ольшой, цветущий мир откроет на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SS100003"/>
          <p:cNvPicPr/>
          <p:nvPr/>
        </p:nvPicPr>
        <p:blipFill>
          <a:blip r:embed="rId1"/>
          <a:stretch/>
        </p:blipFill>
        <p:spPr>
          <a:xfrm>
            <a:off x="4500720" y="1989000"/>
            <a:ext cx="4465440" cy="36766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Ручеек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евиз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венит ручеек, бежит и смеется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группа у нас «Ручейком» и зовет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отим на занятиях побольше узна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тоб в будущем самыми умными ста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6" descr="SS100005"/>
          <p:cNvPicPr/>
          <p:nvPr/>
        </p:nvPicPr>
        <p:blipFill>
          <a:blip r:embed="rId1"/>
          <a:stretch/>
        </p:blipFill>
        <p:spPr>
          <a:xfrm>
            <a:off x="4643280" y="1989000"/>
            <a:ext cx="4321440" cy="375156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Малинк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Мы детиш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уппы «Малин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м люба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плечу тропин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ихотворение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 детском садике свое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мечательно живем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ы и лепим, и рисуем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И танцуем, и по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чень любим выступат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И на ложках  поиграть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Хорошо живется ту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с малинками зову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2" descr="SS100017"/>
          <p:cNvPicPr/>
          <p:nvPr/>
        </p:nvPicPr>
        <p:blipFill>
          <a:blip r:embed="rId1"/>
          <a:stretch/>
        </p:blipFill>
        <p:spPr>
          <a:xfrm>
            <a:off x="4572000" y="1916280"/>
            <a:ext cx="4321080" cy="3744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Вишенк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евиз: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ишенка, вишенка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ы твои цвет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расти хорошим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м поможешь ты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тихотворение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ебятишки очень ра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 группу «Вишенка» ходить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тепло, заботу, ласк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Любят взрослые дарить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игрушки стоят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ожидаются ребят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картины на ст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 цветочки на окне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Ждут и сказка, и рассказ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Удивляют всегда нас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Мы в театре все игра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Как артисты выступае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 пеньем, рисованьем, лепк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ружат дети очень крепко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ша группа просто клад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кой группе рад весь сад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SS100021"/>
          <p:cNvPicPr/>
          <p:nvPr/>
        </p:nvPicPr>
        <p:blipFill>
          <a:blip r:embed="rId1"/>
          <a:stretch/>
        </p:blipFill>
        <p:spPr>
          <a:xfrm>
            <a:off x="4500720" y="1989000"/>
            <a:ext cx="4402080" cy="360072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26T14:08:31Z</dcterms:modified>
  <cp:revision>49</cp:revision>
  <dc:subject/>
  <dc:title>PowerPoint Presentation</dc:title>
</cp:coreProperties>
</file>