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F01E-7706-49FF-82BE-C05F87D971A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Детский са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етский сад – мой дом род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 его люблю как с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роги мне сте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рог мне у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ждый, кто здесь трудит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 меня пойм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 каждым ранним солныш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этот сад спеш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тоб увидеть малень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 ими дорож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67D5-3A75-4992-AA9D-D7586761EB8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ши группы</a:t>
            </a:r>
            <a:br>
              <a:rPr sz="1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уппа «Петуш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ушок с утра вс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онко песенки по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мы не отст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солнышком вст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имся и игр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не уныв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4CB5-35CC-481F-9929-9792426FE04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Лу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солнце расплывается в улыб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зя по васильковым неб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яркий лучик нежно нас коснется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, цветущий мир откроет 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45FF-6CB1-4F9B-BD16-B65349F3CFD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Руче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нит ручеек, бежит и сме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руппа у нас «Ручейком» и зов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м на занятиях побольше узн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 в будущем самыми умными с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0AF2-E7FF-4CC4-8E23-2D7EA03F783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Малин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виз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Мы детиш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ы «Малин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м люб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плечу тропи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ихотвор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детском садике сво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чательно живе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ы и лепим, и рису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танцуем, и по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ень любим выступ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 ложках  поигр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рошо живется т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 малинками зов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4FEB-1EC1-4AB6-A8F9-47678C5370E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Вишен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виз: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ишенка, вишенк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ы твои цве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расти хорошим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м поможешь ты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ихотвор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ятишки очень ра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группу «Вишенка» ход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тепло, заботу, ла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юбят взрослые дар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игрушки стоя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жидаются ребя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картины на ст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цветочки на ок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дут и сказка, и расс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ивляют всегда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ы в театре все игр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артисты выступ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пеньем, рисованьем, леп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жат дети очень креп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ша группа просто кла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кой группе рад весь сад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125F-7135-4D4E-98D1-C846EEA9223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A92C-28AB-402D-9359-D05C0778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ABF2-5034-497E-9CE5-782E5A04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F48C-B0A4-45D4-B3B4-843721BB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F51-E198-457C-B9C3-5CC58925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0723-567F-4D34-9650-924B3883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51BD-242B-455E-AA93-3C95C555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E38E-4549-4D99-86CB-F58DECC7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A1E8-ABBF-4D72-AD0B-15404B07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9BD0-F837-4846-A616-207E5F37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124B-E7B6-4763-A0CE-EDE73E92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319B-A67B-4DCE-A37D-11F8AD00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B83-C3A7-4FFC-9621-BC66A822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6169-B10C-4B2F-B6A8-5AF6B54F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7F43-2982-4C8F-85EE-EA2E5BA4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CCF9-A652-45B9-AE20-27117695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11FB-7A30-4940-A8F1-63345218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55E7-683F-4B2F-8016-44834898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BE1-B37A-42F4-89C5-C4F252A7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A54C-3A96-4B20-9DC7-AAC9BAF2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A09E-5DED-4339-A5FB-FE34F753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D1BB-EADA-4D42-A91F-CEB58BA2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89A9-8688-47ED-8786-1DF5A369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9E0F-952E-49C0-8B91-5CD3BBB1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C09-2D14-4A7E-95F2-706D6502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F268-0D78-4EC5-9306-811D797814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FFCD-ABE8-405C-830A-92E7C7E1479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eec94"/>
                </a:solidFill>
                <a:latin typeface="Comic Sans MS"/>
              </a:rPr>
              <a:t>Детский сад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5840" y="2214360"/>
            <a:ext cx="8229600" cy="37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етский сад – мой дом родно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Я его люблю как сво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ороги мне стены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орог мне уют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Каждый, кто здесь трудится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Те меня пойму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С каждым ранним солнышко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В этот сад спешу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Чтоб увидеть маленьки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Я ими дорож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Comic Sans MS"/>
              </a:rPr>
              <a:t>Наши группы</a:t>
            </a:r>
            <a:br>
              <a:rPr sz="44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Группа «Петушок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тушок с утра вста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вонко песенки по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 и мы не отста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месте с солнышком вста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селимся и игра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когда не уныва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10" descr="SS100015"/>
          <p:cNvPicPr/>
          <p:nvPr/>
        </p:nvPicPr>
        <p:blipFill>
          <a:blip r:embed="rId1"/>
          <a:stretch/>
        </p:blipFill>
        <p:spPr>
          <a:xfrm>
            <a:off x="5003640" y="1628640"/>
            <a:ext cx="3384720" cy="4357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Лучик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4392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усть солнце расплывается в улыбк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кользя по васильковым небес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яркий лучик нежно нас коснется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ольшой, цветущий мир откроет на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SS100003"/>
          <p:cNvPicPr/>
          <p:nvPr/>
        </p:nvPicPr>
        <p:blipFill>
          <a:blip r:embed="rId1"/>
          <a:stretch/>
        </p:blipFill>
        <p:spPr>
          <a:xfrm>
            <a:off x="4500720" y="1989000"/>
            <a:ext cx="4465440" cy="36766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Ручеек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евиз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венит ручеек, бежит и смеется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группа у нас «Ручейком» и зовет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отим на занятиях побольше узна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тоб в будущем самыми умными ста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6" descr="SS100005"/>
          <p:cNvPicPr/>
          <p:nvPr/>
        </p:nvPicPr>
        <p:blipFill>
          <a:blip r:embed="rId1"/>
          <a:stretch/>
        </p:blipFill>
        <p:spPr>
          <a:xfrm>
            <a:off x="4643280" y="1989000"/>
            <a:ext cx="4321440" cy="375156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Малинк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Мы детиш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уппы «Малин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м люба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плечу тропин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ихотворение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 детском садике свое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мечательно живем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ы и лепим, и рисуем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И танцуем, и по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чень любим выступат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И на ложках  поиграть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Хорошо живется ту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с малинками зову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2" descr="SS100017"/>
          <p:cNvPicPr/>
          <p:nvPr/>
        </p:nvPicPr>
        <p:blipFill>
          <a:blip r:embed="rId1"/>
          <a:stretch/>
        </p:blipFill>
        <p:spPr>
          <a:xfrm>
            <a:off x="4572000" y="1916280"/>
            <a:ext cx="4321080" cy="3744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Вишенк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евиз: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ишенка, вишенка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ы твои цвет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расти хорошим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м поможешь ты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тихотворение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ебятишки очень ра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 группу «Вишенка» ходить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тепло, заботу, ласк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Любят взрослые дарить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игрушки стоят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ожидаются ребят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картины на ст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 цветочки на окне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Ждут и сказка, и рассказ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Удивляют всегда нас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Мы в театре все игра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Как артисты выступае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 пеньем, рисованьем, лепк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ружат дети очень крепко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ша группа просто клад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кой группе рад весь сад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SS100021"/>
          <p:cNvPicPr/>
          <p:nvPr/>
        </p:nvPicPr>
        <p:blipFill>
          <a:blip r:embed="rId1"/>
          <a:stretch/>
        </p:blipFill>
        <p:spPr>
          <a:xfrm>
            <a:off x="4500720" y="1989000"/>
            <a:ext cx="4402080" cy="360072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26T14:08:31Z</dcterms:modified>
  <cp:revision>49</cp:revision>
  <dc:subject/>
  <dc:title>PowerPoint Presentation</dc:title>
</cp:coreProperties>
</file>