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5D6-1743-4E06-B206-E1B91E30A9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Детский с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етский сад – мой дом 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его люблю как с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и мне сте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рог мне у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ждый, кто здесь труди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 меня пойм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каждым ранним солныш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этот сад спеш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б увидеть малень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 ими дорож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FCA7-F9CF-49EA-8C67-BF19A784511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ши группы</a:t>
            </a:r>
            <a:br>
              <a:rPr sz="1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а «Петуш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ушок с утра в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онко песенки по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мы не отст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солнышком вс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имся и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уныв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70E7-6B90-458E-B53A-87C709196F6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Лу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солнце расплывается в улыб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 по васильковым неб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яркий лучик нежно нас коснется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, цветущий мир откроет 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CF35-91A7-4DBF-B51B-D4DBADDB305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Руче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ит ручеек, бежит и сме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руппа у нас «Ручейком» и зов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м на занятиях побольше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будущем самыми умными с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7FB5-7048-4D00-B346-0AC58B409A4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Мали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виз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Мы дети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ы «Малин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люб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плечу троп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детском садике сво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тельно живе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и лепим, и рису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танцуем, и по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любим высту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 ложках  поигр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ошо живется 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 малин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3116-2E31-4084-BA4E-DED9737B6F4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«Вишен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виз: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шенка, вишен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 твои цве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сти хороши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м поможешь ты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ихотвор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ятишки очень р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группу «Вишенка»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тепло, заботу, ла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юбят взрослые да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игрушки сто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жидаются ребя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 картины на ст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цветочки на ок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дут и сказка, и 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ивляют всегда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ы в театре все игр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артисты выступ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пеньем, рисованьем, леп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жат дети очень креп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ша группа просто к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ой группе рад весь са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2046-355B-4355-9ABC-114A496358E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767-8F32-4243-94FF-C0C01BED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F62-8C80-4815-B7DB-1E60F768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BF4-0BFE-4D6B-9AEB-B5F9B83C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115-375D-4E4F-96B2-D2B5B33B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99EB-6465-40CC-A3BF-0A20D56D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2639-592F-49E1-A70F-DBE34DA2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7298-E5D0-48A5-8DDD-F89D1E82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FE20-E1F9-48D0-9198-3169FBD4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767C-1AA8-4A22-A171-27467A91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5177-D440-43BA-80F7-915BCAE2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19F3-32E3-4D6C-BF6F-F55D4B57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203-40C4-46F7-B150-2BB991E9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5EAB-3DFC-445F-9314-0B41EB8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379E-FB81-456A-B1C9-1F122AAF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7D52-1167-4C3E-B5B8-826A0855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30D7-7C1D-4724-B800-7E8B3A2A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776E-FC36-4818-B1E2-D80FC7CA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9A5-FA8D-42DB-8342-F23044A9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55F-BEAA-4C08-9275-1FA4B723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0A3-8CB7-4859-A195-CE523BDF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842-1FB6-4DFA-90FF-80294878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F86-3BD5-43AE-8A24-0F550012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381-97FA-4C8A-9ECD-CEC2F533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52B-62CA-472C-8C15-EB03E27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892E-3B17-4289-8097-359CE3BE68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C943-4807-4556-88CF-41FB812E0B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eec94"/>
                </a:solidFill>
                <a:latin typeface="Comic Sans MS"/>
              </a:rPr>
              <a:t>Детский сад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2214360"/>
            <a:ext cx="822960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етский сад – мой дом родн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его люблю как сво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и мне стен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орог мне ую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Каждый, кто здесь трудится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Те меня пойм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 каждым ранним солнышк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В этот сад спеш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Чтоб увидеть маленьк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 ими дорож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Comic Sans MS"/>
              </a:rPr>
              <a:t>Наши группы</a:t>
            </a:r>
            <a:br>
              <a:rPr sz="44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руппа «Петушок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тушок с утра вста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онко песенки по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и мы не отст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е с солнышком вст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елимся и игра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когда не уныва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0" descr="SS100015"/>
          <p:cNvPicPr/>
          <p:nvPr/>
        </p:nvPicPr>
        <p:blipFill>
          <a:blip r:embed="rId1"/>
          <a:stretch/>
        </p:blipFill>
        <p:spPr>
          <a:xfrm>
            <a:off x="5003640" y="1628640"/>
            <a:ext cx="3384720" cy="4357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Лучи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39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солнце расплывается в улыбк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ользя по васильковым небе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яркий лучик нежно нас коснется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, цветущий мир откроет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SS100003"/>
          <p:cNvPicPr/>
          <p:nvPr/>
        </p:nvPicPr>
        <p:blipFill>
          <a:blip r:embed="rId1"/>
          <a:stretch/>
        </p:blipFill>
        <p:spPr>
          <a:xfrm>
            <a:off x="4500720" y="1989000"/>
            <a:ext cx="4465440" cy="3676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Ручее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венит ручеек, бежит и смеется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группа у нас «Ручейком» и зове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отим на занятиях побольше узна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тоб в будущем самыми умными ста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SS100005"/>
          <p:cNvPicPr/>
          <p:nvPr/>
        </p:nvPicPr>
        <p:blipFill>
          <a:blip r:embed="rId1"/>
          <a:stretch/>
        </p:blipFill>
        <p:spPr>
          <a:xfrm>
            <a:off x="4643280" y="1989000"/>
            <a:ext cx="4321440" cy="37515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Мали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Мы детиш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«Малин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 люб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плечу тропи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детском садике сво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мечательно живем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ы и лепим, и рисуем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танцуем, и по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чень любим выступат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И на ложках  поиграт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Хорошо живется т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с малинками зову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SS100017"/>
          <p:cNvPicPr/>
          <p:nvPr/>
        </p:nvPicPr>
        <p:blipFill>
          <a:blip r:embed="rId1"/>
          <a:stretch/>
        </p:blipFill>
        <p:spPr>
          <a:xfrm>
            <a:off x="4572000" y="1916280"/>
            <a:ext cx="4321080" cy="3744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руппа «Вишенк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виз: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ишенка, вишенка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ы твои цвет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расти хороши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м поможешь ты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ихотворен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ебятишки очень ра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 группу «Вишенка» ход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тепло, заботу, ла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Любят взрослые дарить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игрушки сто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жидаются ребят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м картины на ст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 цветочки на окн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дут и сказка, и рассказ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ивляют всегда нас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ы в театре все игра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артисты выступае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 пеньем, рисованьем, леп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ружат дети очень крепко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ша группа просто клад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ой группе рад весь сад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SS100021"/>
          <p:cNvPicPr/>
          <p:nvPr/>
        </p:nvPicPr>
        <p:blipFill>
          <a:blip r:embed="rId1"/>
          <a:stretch/>
        </p:blipFill>
        <p:spPr>
          <a:xfrm>
            <a:off x="4500720" y="1989000"/>
            <a:ext cx="4402080" cy="36007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8:31Z</dcterms:modified>
  <cp:revision>49</cp:revision>
  <dc:subject/>
  <dc:title>PowerPoint Presentation</dc:title>
</cp:coreProperties>
</file>