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D98C-31F9-49CC-B549-4610F9119D3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ный метод (проблемное изложение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назначение метода — раскрытие в изучаемом учебном материале различных проблем и показ способов их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EAF7-1B73-4275-86F3-E9169FDD06D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тод. Основное назначение метода – постепенная подготовка обучаемых к самостоятельной постановке и решению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7EF2-DDB0-49E2-BFC4-35DABEFDD61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ъявление обучаемым новых для них проблем, постановка и разработка исследовательских зада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2829-E175-4464-9B0C-71AA7393999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закрепления изученн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именения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и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ерки и коррекции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й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1C9C-3C21-4852-AACC-CA136ED5EAD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рок ознакомления с новым материалом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, задач урока и мотивация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знакомление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вичное осмысление и закрепление связей и отношений в объектах из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становка задания на 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F8FE-96BC-4C38-80D3-DF76356B114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изуч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, уточнение направлений актуализации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сообщение темы, цели и задач урока, мотивация 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оизведение изученного и его применение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1FF1-D5EB-48FE-ADD2-F760AAB8CBD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рок применения знаний и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самостоятельное выполнение учащимися заданий под контролем учите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обобщение и систематизация результатов выполненн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5D0B-8691-4EC5-8FD2-751C734D874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становка цели урока и мотивация учеб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воспроизведение и коррекция опорн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овторение и анализ основных фактов, событий, яв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5F9-6E85-4454-98FB-7B7F33173AB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Урок проверки и коррекции знаний и у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роверка умений учащихся применять знания в измененных, не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(на данном и последующих урока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0EBA-3E3B-444A-8AE9-903909BA316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омбинированны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темой урока, постановка его целей и зада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и умений учащихся по пройденному материал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излож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ервичное закрепление изученн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CC50-495F-4117-A53A-C569CFC1757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(буквально путь к чему-то) означает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осо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стижения цели, определенным образом упорядоч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BB8-EF1F-4A8E-8CDC-35B0A55E194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актуализация опорных знани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 и выдача учащимся индивидуальных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9A6-0AA4-4BCB-9193-F4A33F8B90F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- 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дготов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игро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заключ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анализ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9E4F-06D4-4E8D-9C16-D1FCA704042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источнику получения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ловесные методы (источником знания является устное или печатное слов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CAA9-D589-4BA1-B656-1AAC52F98AF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ебником и кни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9F2D-E2A0-45A4-A783-215F65DAAD4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ллю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мон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3D6C-B300-41C6-BBAF-6DDFA366538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е методы обу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AC93-78EB-4B93-A311-000AE35A8F6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 в зависимости от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характе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ознавательной деятельности учащих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льно-иллюстр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родук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 мет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A651-448E-4C88-B0F9-8A04D608BB3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Объяснительно-иллюстратив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еятельность обучаемых заключается в восприятии, осмыслении и запоминании сообщае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30E1-7E07-4866-844F-ACE9481773F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продуктивны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назначение метода — формирование навыков и умений использования и применения получе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B534-1158-4CD4-89D4-3F88745B082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50C-2574-4E1D-8CE7-E4D6A73A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CB7-362A-4DA1-BE33-6ADF81A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CC4-9782-497B-A7B2-CB62E8B9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959-9848-4AE7-A93C-9F877C00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503-7924-4018-9626-63307A03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3EB2-D50E-4A87-99E6-54F3454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C9F6-F276-49F1-8C53-24C7662A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5BB2-E6FA-4959-BB37-08F83218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1E91-F8DC-4D24-BD00-714D6F15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CA1D-000F-43D3-9A77-4DD88370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A42A-8E8E-4913-B468-4FC2561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C62-C36B-4A37-B18E-65D1725C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D4E8-FF7F-4F5C-A0D5-75D7C7D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4110-635E-4470-A4FA-63DC8C3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8764-0C1A-45BE-882F-AE4BCB5A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805A-C604-4BEE-ADDF-9B66C959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B23C-076E-41C0-8530-46B39B0C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E31-ADDF-4040-BF5A-ECE3F962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BFF-9524-4DE6-BC50-648E6664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96F-EF65-4E91-9609-F2B5910F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27D-BA73-4262-8402-DC5EC42C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D00-2B8F-4530-A761-CCA7A82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F12-9D85-4665-B776-2475094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20F-5D3C-47E7-BCA2-34B9B2C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F35B-324B-4746-ACA3-C54131B8C9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C4F2-38CC-4BCF-B561-A90C46A650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WordArt 48"/>
          <p:cNvSpPr txBox="1"/>
          <p:nvPr/>
        </p:nvSpPr>
        <p:spPr>
          <a:xfrm>
            <a:off x="3132000" y="15573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4427640" y="155736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6804000" y="1557360"/>
            <a:ext cx="48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1979640" y="2349360"/>
            <a:ext cx="34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203640" y="2276640"/>
            <a:ext cx="425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4356000" y="234936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6804000" y="2349360"/>
            <a:ext cx="40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3203640" y="314172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4433760" y="3162240"/>
            <a:ext cx="35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877080" y="3141720"/>
            <a:ext cx="35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1908000" y="400536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76720" y="393372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4427640" y="4005360"/>
            <a:ext cx="50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6" name="WordArt 61"/>
          <p:cNvSpPr txBox="1"/>
          <p:nvPr/>
        </p:nvSpPr>
        <p:spPr>
          <a:xfrm>
            <a:off x="6804000" y="393372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7" name="WordArt 62"/>
          <p:cNvSpPr txBox="1"/>
          <p:nvPr/>
        </p:nvSpPr>
        <p:spPr>
          <a:xfrm>
            <a:off x="2050920" y="472428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8" name="WordArt 63"/>
          <p:cNvSpPr txBox="1"/>
          <p:nvPr/>
        </p:nvSpPr>
        <p:spPr>
          <a:xfrm>
            <a:off x="3203640" y="4724280"/>
            <a:ext cx="39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9" name="WordArt 64"/>
          <p:cNvSpPr txBox="1"/>
          <p:nvPr/>
        </p:nvSpPr>
        <p:spPr>
          <a:xfrm>
            <a:off x="4427640" y="47242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10" name="WordArt 65"/>
          <p:cNvSpPr txBox="1"/>
          <p:nvPr/>
        </p:nvSpPr>
        <p:spPr>
          <a:xfrm>
            <a:off x="5508720" y="1557360"/>
            <a:ext cx="57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1" name="WordArt 66"/>
          <p:cNvSpPr txBox="1"/>
          <p:nvPr/>
        </p:nvSpPr>
        <p:spPr>
          <a:xfrm>
            <a:off x="5651640" y="234936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67"/>
          <p:cNvSpPr txBox="1"/>
          <p:nvPr/>
        </p:nvSpPr>
        <p:spPr>
          <a:xfrm>
            <a:off x="5651640" y="321300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68"/>
          <p:cNvSpPr txBox="1"/>
          <p:nvPr/>
        </p:nvSpPr>
        <p:spPr>
          <a:xfrm>
            <a:off x="5651640" y="393372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4" name="WordArt 69"/>
          <p:cNvSpPr txBox="1"/>
          <p:nvPr/>
        </p:nvSpPr>
        <p:spPr>
          <a:xfrm>
            <a:off x="5724360" y="472428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7830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89000"/>
          <a:ext cx="8229600" cy="64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ый метод (проблемное изложение)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назначение метода — раскрытие в изучаемом учебном материале различных проблем и показ способов их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9000"/>
          <a:ext cx="8229600" cy="707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чно-поисковый метод, или эвристическ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етод. Основное назначение метода – постепенная подготовка обучаемых к самостоятельной постановке и решению проб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0"/>
          <a:ext cx="8229600" cy="647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тельский метод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ъявление обучаемым новых для них проблем, постановка и разработка исследовательских заданий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ипы уроков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знакомления с новым материало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закрепления изученного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именения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бобщения и систематизации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оверки и коррекции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бинированный урок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Урок ознакомления с новым материалом</a:t>
            </a:r>
            <a:br>
              <a:rPr sz="2400"/>
            </a:br>
            <a:br>
              <a:rPr sz="2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сообщение темы, цели, задач урока и мотивация учебной деятель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ознакомление с новым материал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первичное осмысление и закрепление связей и отношений в объектах изуче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остановка задания на д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. Урок закрепления изученн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, уточнение направлений актуализации материал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сообщение темы, цели и задач урока, мотивация учени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воспроизведение изученного и его применение в стандартных условиях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подведение итогов урок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становка домашнего зад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3. Урок применения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     самостоятельное выполнение учащимися заданий под контролем учител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     обобщение и систематизация результатов выполненны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Урок обобщения и систематизации знаний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остановка цели урока и мотивация учебной деятельности учащихс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воспроизведение и коррекция опорных знани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повторение и анализ основных фактов, событий, явл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. Урок проверки и коррекции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5.      проверка умений учащихся применять знания в измененных, не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6.      подведение итогов (на данном и последующих уроках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. Комбинированный ур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ознакомление с темой урока, постановка его целей и задач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роверка домашнего зад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проверка знаний и умений учащихся по пройденному материалу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изложение нов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ервичное закрепление изученн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тоды обуч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7010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 (буквально путь к чему-то) означает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пособ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достижения цели, определенным образом упорядоченную деятельнос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-экскур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     сообщение темы, цели и задач уро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     актуализация опорных знаний учащихс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     подведение итогов урока и выдача учащимся индивидуальных зада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 - ролевая иг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     подготов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     игров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     заключ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     анализ результа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 источнику получения знаний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) словесные методы (источником знания является устное или печатное слово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ес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та с учебником и книг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кскурс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усс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ка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ая раб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гляд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иллю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демон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методы обу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ассификация методов обучения в зависимости от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характе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знавательной 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продук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астично-поисковый метод, или эвристический мет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ельский метод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602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бъяснительно-иллюстративный метод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Деятельность обучаемых заключается в восприятии, осмыслении и запоминании сообщаемой информ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9000"/>
          <a:ext cx="8229600" cy="6118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продуктивный мето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ое назначение метода — формирование навыков и умений использования и применения получен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50:38Z</dcterms:created>
  <dc:creator>Ольга Филиповна</dc:creator>
  <dc:description/>
  <dc:language>en-US</dc:language>
  <cp:lastModifiedBy>LEGION</cp:lastModifiedBy>
  <dcterms:modified xsi:type="dcterms:W3CDTF">2015-01-26T14:09:20Z</dcterms:modified>
  <cp:revision>12</cp:revision>
  <dc:subject/>
  <dc:title>Слайд 1</dc:title>
</cp:coreProperties>
</file>