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4C5D-52E0-42E1-9302-2B6E3E35202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блемный метод (проблемное изложение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ное назначение метода — раскрытие в изучаемом учебном материале различных проблем и показ способов их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классификация проблем, которые можно ставить перед обучаемым, формулировка гипотез и показ способов их проверки. Постановка проблем в процессе проведения опыта, наблюдений в природе, логического умозаключения. При этом обучаемый может пользоваться словом, логическим рассуждением, демонстрацией опыта, анализом наблюден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не только в восприятии, осмыслении и запоминании готовых научных выводов, но и в прослеживании за логикой доказательств, за движением мыслей обучающего (проблема, гипотеза, доказательство достоверности или ложности выдвинутых предложений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3328-679D-43D6-B1E5-EE3841C26AB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ично-поисковый метод, или эврист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тод. Основное назначение метода – постепенная подготовка обучаемых к самостоятельной постановке и решению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дведение обучаемых к постановке проблемы, показ им, как необходимо находить доказательства, делать выводы из приведенных фактов, построить план проверки фактов и т.д. Обучающий широко применяет эвристическую беседу, в процессе которой ставит систему взаимосвязанных вопросов, каждый из которых является шагом к решению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 заключается в активном участии в эвристических беседах, в овладении приемами анализа учебного материала с целью постановки проблемы и нахождения путей ее реше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E50D-B370-4123-85FE-4F4CDB9F690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тельский мет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ное содержание метода — обеспечить овладение обучаемыми методами научного познания, развить и сформировать у них черты творческой деятельности, обеспечить условия успешного формирования мотивов творческой деятельности, способствовать формированию осознанных, оперативно и гибко используемых знаний. Сущность метода — обеспечение организаций поисковой творческой деятельности обучаемых по решению новых для н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ъявление обучаемым новых для них проблем, постановка и разработка исследовательских задан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в освоении ими приемов самостоятельной постановки проблем, нахождении способов их реше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DF63-5C04-48CC-9108-BE6109E03E1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ур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знакомления с новым материа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закрепления изученног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именения знаний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общения и систематизации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оверки и коррекции знаний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ый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1C4D-AA2F-4B01-9AC3-B3028C95973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Урок ознакомления с новым материалом</a:t>
            </a: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сообщение темы, цели, задач урока и мотивация учеб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одготовка к изучению нового материала через повторение и актуализацию опорных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ознакомление с новым материа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ервичное осмысление и закрепление связей и отношений в объектах изу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становка задания на 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D74B-0773-4CE3-A392-46B15B7BD32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Урок закрепления изучен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роверка домашнего задания, уточнение направлений актуализации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сообщение темы, цели и задач урока, мотивация у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воспроизведение изученного и его применение в 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еренос приобретенных знаний и их первичное применение в новых или измененных условиях с целью формирования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дведение итогов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2A30-4C49-49D6-8AEF-467B1A11B79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Урок применения знаний и ум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роверка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мотивация учебной деятельности через осознание учащимися практической значимости применяемых знаний и умений, сообщение темы, цели и задач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осмысление содержания и последовательности применения практических действий при выполнении предстоящи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самостоятельное выполнение учащимися заданий под контролем учите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обобщение и систематизация результатов выполненны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 и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36EB-D82D-4E4C-B1CD-3CF3BBD0C51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Урок обобщения и систематизации знаний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остановка цели урока и мотивация учебной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воспроизведение и коррекция опорны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овторение и анализ основных фактов, событий, явл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обобщение и систематизация понятий, усвоение системы знаний и их применение для объяснения новых фактов и выполнения практически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усвоение ведущих идей и основных теорий на основе широкой систематизации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1960-6CCA-4E61-AF11-32633379ACC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Урок проверки и коррекции знаний и ум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ознакомление с целью и задачами урока, инструктаж учащихся по организации работы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роверка знаний учащимися фактического материала и их умений раскрывать элементарные внешние связи в предметах и явлен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роверка знаний учащимися основных понятий, правил, законов и умений объяснить их сущность, аргументировать свои суждения и приводить пример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роверка умений учащихся самостоятельно применять знания в 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роверка умений учащихся применять знания в измененных, не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(на данном и последующих урока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62AF-B4C4-4B84-BBB0-AC0256D76FF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омбинированный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ознакомление с темой урока, постановка его целей и зада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роверка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роверка знаний и умений учащихся по пройденному материал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изложение нов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ервичное закрепление изученн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 и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ED78-F350-4E9E-9153-3144514BBFE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(буквально путь к чему-то) означает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осо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остижения цели, определенным образом упорядоченн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7FB4-87FE-4976-921E-F95851C8379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экскур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сообщение темы, цели и задач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актуализация опорных знаний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восприятие особенностей экскурсионных объектов, первичное осознание заложенной в них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обобщение и систематизация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дведение итогов урока и выдача учащимся индивидуальных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2FAA-45DE-4522-A06D-8B8EA738062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- 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одготовите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игров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заключите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анализ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A231-292A-4193-96BE-DEDAC9C4978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источнику получения зн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ловесные методы (источником знания является устное или печатное слово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глядные методы (источником знаний являются наблюдаемые предметы, явления, наглядные пособ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актические методы (учащиеся получают знания и вырабатывают умения, выполняя практические действ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A91D-C72E-4372-BA3A-CB0B9984274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есные 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ебником и книг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6202-300D-487B-AE4A-0EB81C45E88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ые 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иллюст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емонст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B503-AC49-45EE-8FBB-B9D74303D57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актические методы обуч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ие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50F9-1625-4D2D-9C00-B8BEEB104EC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лассификация методов обучения в зависимости от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характер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ознавательной деятельности учащихс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льно-иллюстра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родук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чно-поисковый метод, или эвристический мет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0B37-FD65-4AF6-8CB3-25F9F2C5685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Объяснительно-иллюстратив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нформационно-рецептивный). Основное назначение метода — организация усвоения информации обучаемыми путем сообщения им учебного материала и обеспечение его успешного восприятия. Объяснительно-иллюстративный метод — один из наиболее экономных способов передачи обучаемым обобщенного и систематизированного опыта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общение учебной информации с использованием различных дидактических средств: слова, различных пособий, в том числе кино- и диафильмов и т.д. Обучающий широко использует беседу, демонстрацию опыт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еятельность обучаемых заключается в восприятии, осмыслении и запоминании сообщаем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2E92-8A2B-4011-8FE6-AF928CD0B8F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продуктивны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назначение метода — формирование навыков и умений использования и применения получе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и применение различных упражнений и задач, использование различных инструкций (алгоритмов) и программирова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в овладении приемами выполнения отдельных упражнений в решении различных видов задач, овладении алгоритмом практически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47D7-271F-49C2-8BA9-A709BB4DEB2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6D5-7EEA-49A0-8B7B-64499E10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3B02-2BEA-4F0C-A489-278696D0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5D7-3444-48AC-9415-F26EDF46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6C6D-74C6-4029-BAEE-107A8CAD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26DC-9CEE-43ED-8240-213A1166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9C5A-3702-44B0-BD9E-AB33E7BB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AED9-4848-45CA-BBCA-9FFEC786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DBDC-6A90-47A3-AE5C-C2E57FCB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5C15-222D-4FEC-A9D4-13F8213F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5580-605D-4BB6-BA52-A8C8F8A9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627E-5D21-43C6-AF80-238E47DE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413-69AC-4C47-9770-D12B286C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4126-D010-482C-9A33-C28AEB47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04F2-15F4-4961-A05C-EE4E4CC3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1D86-DB18-41F2-A627-F70146A1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E39E-749C-4D27-B0BB-9D330141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09C1-174F-4C4E-BDA8-6C27A651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24A-8CEB-438C-89E8-68CFE2C5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26B-89FD-4CC1-89D3-E158CF14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06C-DA9A-4E2E-9717-24CB5361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6BA-CCC7-4412-A8B6-86E5F3FF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B29-5F7A-44ED-8962-3402CCC4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B63-CBEF-4415-982A-9DF62F73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447-00AE-4648-B899-3F206BC7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6D65-84E1-401F-B9A8-B3CF1F892F3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B79C-EF21-4B59-A88E-E4B80983304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WordArt 48"/>
          <p:cNvSpPr txBox="1"/>
          <p:nvPr/>
        </p:nvSpPr>
        <p:spPr>
          <a:xfrm>
            <a:off x="3132000" y="1557360"/>
            <a:ext cx="576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4" name="WordArt 49"/>
          <p:cNvSpPr txBox="1"/>
          <p:nvPr/>
        </p:nvSpPr>
        <p:spPr>
          <a:xfrm>
            <a:off x="4427640" y="1557360"/>
            <a:ext cx="50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5" name="WordArt 50"/>
          <p:cNvSpPr txBox="1"/>
          <p:nvPr/>
        </p:nvSpPr>
        <p:spPr>
          <a:xfrm>
            <a:off x="6804000" y="1557360"/>
            <a:ext cx="488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6" name="WordArt 51"/>
          <p:cNvSpPr txBox="1"/>
          <p:nvPr/>
        </p:nvSpPr>
        <p:spPr>
          <a:xfrm>
            <a:off x="1979640" y="2349360"/>
            <a:ext cx="344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7" name="WordArt 52"/>
          <p:cNvSpPr txBox="1"/>
          <p:nvPr/>
        </p:nvSpPr>
        <p:spPr>
          <a:xfrm>
            <a:off x="3203640" y="2276640"/>
            <a:ext cx="425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8" name="WordArt 53"/>
          <p:cNvSpPr txBox="1"/>
          <p:nvPr/>
        </p:nvSpPr>
        <p:spPr>
          <a:xfrm>
            <a:off x="4356000" y="2349360"/>
            <a:ext cx="43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9" name="WordArt 54"/>
          <p:cNvSpPr txBox="1"/>
          <p:nvPr/>
        </p:nvSpPr>
        <p:spPr>
          <a:xfrm>
            <a:off x="6804000" y="2349360"/>
            <a:ext cx="401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0" name="WordArt 55"/>
          <p:cNvSpPr txBox="1"/>
          <p:nvPr/>
        </p:nvSpPr>
        <p:spPr>
          <a:xfrm>
            <a:off x="3203640" y="3141720"/>
            <a:ext cx="43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1" name="WordArt 56"/>
          <p:cNvSpPr txBox="1"/>
          <p:nvPr/>
        </p:nvSpPr>
        <p:spPr>
          <a:xfrm>
            <a:off x="4433760" y="3162240"/>
            <a:ext cx="354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2" name="WordArt 57"/>
          <p:cNvSpPr txBox="1"/>
          <p:nvPr/>
        </p:nvSpPr>
        <p:spPr>
          <a:xfrm>
            <a:off x="6877080" y="3141720"/>
            <a:ext cx="358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3" name="WordArt 58"/>
          <p:cNvSpPr txBox="1"/>
          <p:nvPr/>
        </p:nvSpPr>
        <p:spPr>
          <a:xfrm>
            <a:off x="1908000" y="4005360"/>
            <a:ext cx="432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4" name="WordArt 59"/>
          <p:cNvSpPr txBox="1"/>
          <p:nvPr/>
        </p:nvSpPr>
        <p:spPr>
          <a:xfrm>
            <a:off x="3276720" y="393372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5" name="WordArt 60"/>
          <p:cNvSpPr txBox="1"/>
          <p:nvPr/>
        </p:nvSpPr>
        <p:spPr>
          <a:xfrm>
            <a:off x="4427640" y="4005360"/>
            <a:ext cx="50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6" name="WordArt 61"/>
          <p:cNvSpPr txBox="1"/>
          <p:nvPr/>
        </p:nvSpPr>
        <p:spPr>
          <a:xfrm>
            <a:off x="6804000" y="3933720"/>
            <a:ext cx="50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7" name="WordArt 62"/>
          <p:cNvSpPr txBox="1"/>
          <p:nvPr/>
        </p:nvSpPr>
        <p:spPr>
          <a:xfrm>
            <a:off x="2050920" y="4724280"/>
            <a:ext cx="36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08" name="WordArt 63"/>
          <p:cNvSpPr txBox="1"/>
          <p:nvPr/>
        </p:nvSpPr>
        <p:spPr>
          <a:xfrm>
            <a:off x="3203640" y="4724280"/>
            <a:ext cx="390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09" name="WordArt 64"/>
          <p:cNvSpPr txBox="1"/>
          <p:nvPr/>
        </p:nvSpPr>
        <p:spPr>
          <a:xfrm>
            <a:off x="4427640" y="4724280"/>
            <a:ext cx="431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10" name="WordArt 65"/>
          <p:cNvSpPr txBox="1"/>
          <p:nvPr/>
        </p:nvSpPr>
        <p:spPr>
          <a:xfrm>
            <a:off x="5508720" y="1557360"/>
            <a:ext cx="57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1" name="WordArt 66"/>
          <p:cNvSpPr txBox="1"/>
          <p:nvPr/>
        </p:nvSpPr>
        <p:spPr>
          <a:xfrm>
            <a:off x="5651640" y="2349360"/>
            <a:ext cx="43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2" name="WordArt 67"/>
          <p:cNvSpPr txBox="1"/>
          <p:nvPr/>
        </p:nvSpPr>
        <p:spPr>
          <a:xfrm>
            <a:off x="5651640" y="3213000"/>
            <a:ext cx="43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3" name="WordArt 68"/>
          <p:cNvSpPr txBox="1"/>
          <p:nvPr/>
        </p:nvSpPr>
        <p:spPr>
          <a:xfrm>
            <a:off x="5651640" y="3933720"/>
            <a:ext cx="36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4" name="WordArt 69"/>
          <p:cNvSpPr txBox="1"/>
          <p:nvPr/>
        </p:nvSpPr>
        <p:spPr>
          <a:xfrm>
            <a:off x="5724360" y="4724280"/>
            <a:ext cx="43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78300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89000"/>
          <a:ext cx="8229600" cy="6406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ый метод (проблемное изложение)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сновное назначение метода — раскрытие в изучаемом учебном материале различных проблем и показ способов их ре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явление и классификация проблем, которые можно ставить перед обучаемым, формулировка гипотез и показ способов их проверки. Постановка проблем в процессе проведения опыта, наблюдений в природе, логического умозаключения. При этом обучаемый может пользоваться словом, логическим рассуждением, демонстрацией опыта, анализом наблюдений и т.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не только в восприятии, осмыслении и запоминании готовых научных выводов, но и в прослеживании за логикой доказательств, за движением мыслей обучающего (проблема, гипотеза, доказательство достоверности или ложности выдвинутых предложений и т.д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89000"/>
          <a:ext cx="8229600" cy="7072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ично-поисковый метод, или эвристическ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метод. Основное назначение метода – постепенная подготовка обучаемых к самостоятельной постановке и решению проб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Подведение обучаемых к постановке проблемы, показ им, как необходимо находить доказательства, делать выводы из приведенных фактов, построить план проверки фактов и т.д. Обучающий широко применяет эвристическую беседу, в процессе которой ставит систему взаимосвязанных вопросов, каждый из которых является шагом к решению пробл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 заключается в активном участии в эвристических беседах, в овладении приемами анализа учебного материала с целью постановки проблемы и нахождения путей ее решения и т.д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0"/>
          <a:ext cx="8229600" cy="6473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тельский метод.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сновное содержание метода — обеспечить овладение обучаемыми методами научного познания, развить и сформировать у них черты творческой деятельности, обеспечить условия успешного формирования мотивов творческой деятельности, способствовать формированию осознанных, оперативно и гибко используемых знаний. Сущность метода — обеспечение организаций поисковой творческой деятельности обучаемых по решению новых для них пробле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ъявление обучаемым новых для них проблем, постановка и разработка исследовательских заданий и т.д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в освоении ими приемов самостоятельной постановки проблем, нахождении способов их решения и т.д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ипы уроков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ознакомления с новым материалом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закрепления изученного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применения знаний и уме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обобщения и систематизации зна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проверки и коррекции знаний и уме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мбинированный урок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Урок ознакомления с новым материалом</a:t>
            </a:r>
            <a:br>
              <a:rPr sz="2400"/>
            </a:br>
            <a:br>
              <a:rPr sz="2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     сообщение темы, цели, задач урока и мотивация учебной деятельност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     подготовка к изучению нового материала через повторение и актуализацию опорных знаний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     ознакомление с новым материало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     первичное осмысление и закрепление связей и отношений в объектах изуче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     постановка задания на до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.      подведение итогов уро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2. Урок закрепления изученног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      проверка домашнего задания, уточнение направлений актуализации материала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.      сообщение темы, цели и задач урока, мотивация учения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     воспроизведение изученного и его применение в стандартных условиях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.      перенос приобретенных знаний и их первичное применение в новых или измененных условиях с целью формирования уме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.      подведение итогов урока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.      постановка домашнего зада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3. Урок применения знаний и ум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     проверка домашнего зада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     мотивация учебной деятельности через осознание учащимися практической значимости применяемых знаний и умений, сообщение темы, цели и задач урока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     осмысление содержания и последовательности применения практических действий при выполнении предстоящих задани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     самостоятельное выполнение учащимися заданий под контролем учител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     обобщение и систематизация результатов выполненных задани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.      подведение итогов урока и постановка домашнего зад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Урок обобщения и систематизации знаний</a:t>
            </a:r>
            <a:br>
              <a:rPr sz="3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      постановка цели урока и мотивация учебной деятельности учащихся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.      воспроизведение и коррекция опорных знаний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     повторение и анализ основных фактов, событий, явле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.      обобщение и систематизация понятий, усвоение системы знаний и их применение для объяснения новых фактов и выполнения практических зада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.      усвоение ведущих идей и основных теорий на основе широкой систематизации зна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.      подведение итогов урок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5. Урок проверки и коррекции знаний и ум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.      ознакомление с целью и задачами урока, инструктаж учащихся по организации работы на уроке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2.      проверка знаний учащимися фактического материала и их умений раскрывать элементарные внешние связи в предметах и явлен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3.      проверка знаний учащимися основных понятий, правил, законов и умений объяснить их сущность, аргументировать свои суждения и приводить примеры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4.      проверка умений учащихся самостоятельно применять знания в стандартных услов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5.      проверка умений учащихся применять знания в измененных, нестандартных услов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6.      подведение итогов (на данном и последующих уроках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6. Комбинированный ур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     ознакомление с темой урока, постановка его целей и задач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     проверка домашнего зада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     проверка знаний и умений учащихся по пройденному материалу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     изложение нового материал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     первичное закрепление изученного материал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.      подведение итогов урока и постановка домашнего задан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етоды обуч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70106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етод (буквально путь к чему-то) означает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способ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достижения цели, определенным образом упорядоченную деятельность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рок-экскурс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     сообщение темы, цели и задач урока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     актуализация опорных знаний учащихся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     восприятие особенностей экскурсионных объектов, первичное осознание заложенной в них информаци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     обобщение и систематизация зна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     подведение итогов урока и выдача учащимся индивидуальных задани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рок - ролевая иг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     подготовительны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     игрово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     заключительны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     анализ результат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 источнику получения знаний.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) словесные методы (источником знания является устное или печатное слово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) наглядные методы (источником знаний являются наблюдаемые предметы, явления, наглядные пособия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) практические методы (учащиеся получают знания и вырабатывают умения, выполняя практические действия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ловесные методы обу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бота с учебником и книго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кскурс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кусс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ъясн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каз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есе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амостоятельная рабо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глядные методы обу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етод иллюстрац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етод демонстрац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актические методы обуч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ажн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ворческие работ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лассификация методов обучения в зависимости от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характер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познавательной деятельности учащих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ъяснительно-иллюстратив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продуктив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блем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астично-поисковый метод, или эвристический метод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тельский метод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260280"/>
          <a:ext cx="8229600" cy="6523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7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Объяснительно-иллюстративный метод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информационно-рецептивный). Основное назначение метода — организация усвоения информации обучаемыми путем сообщения им учебного материала и обеспечение его успешного восприятия. Объяснительно-иллюстративный метод — один из наиболее экономных способов передачи обучаемым обобщенного и систематизированного опыта человече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Сообщение учебной информации с использованием различных дидактических средств: слова, различных пособий, в том числе кино- и диафильмов и т.д. Обучающий широко использует беседу, демонстрацию опытов и т.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Деятельность обучаемых заключается в восприятии, осмыслении и запоминании сообщаемой информ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89000"/>
          <a:ext cx="8229600" cy="6118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продуктивный метод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ное назначение метода — формирование навыков и умений использования и применения получен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работка и применение различных упражнений и задач, использование различных инструкций (алгоритмов) и программированного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в овладении приемами выполнения отдельных упражнений в решении различных видов задач, овладении алгоритмом практических действ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3:50:38Z</dcterms:created>
  <dc:creator>Ольга Филиповна</dc:creator>
  <dc:description/>
  <dc:language>en-US</dc:language>
  <cp:lastModifiedBy>LEGION</cp:lastModifiedBy>
  <dcterms:modified xsi:type="dcterms:W3CDTF">2015-01-26T14:09:20Z</dcterms:modified>
  <cp:revision>12</cp:revision>
  <dc:subject/>
  <dc:title>Слайд 1</dc:title>
</cp:coreProperties>
</file>