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70C2-A184-4A79-A021-6035DF704915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блемный метод (проблемное изложение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новное назначение метода — раскрытие в изучаемом учебном материале различных проблем и показ способов их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и классификация проблем, которые можно ставить перед обучаемым, формулировка гипотез и показ способов их проверки. Постановка проблем в процессе проведения опыта, наблюдений в природе, логического умозаключения. При этом обучаемый может пользоваться словом, логическим рассуждением, демонстрацией опыта, анализом наблюдени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ых заключается не только в восприятии, осмыслении и запоминании готовых научных выводов, но и в прослеживании за логикой доказательств, за движением мыслей обучающего (проблема, гипотеза, доказательство достоверности или ложности выдвинутых предложений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E872-2E0F-4557-A2DD-D3A26F8137E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тично-поисковый метод, или эвристиче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тод. Основное назначение метода – постепенная подготовка обучаемых к самостоятельной постановке и решению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дведение обучаемых к постановке проблемы, показ им, как необходимо находить доказательства, делать выводы из приведенных фактов, построить план проверки фактов и т.д. Обучающий широко применяет эвристическую беседу, в процессе которой ставит систему взаимосвязанных вопросов, каждый из которых является шагом к решению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 заключается в активном участии в эвристических беседах, в овладении приемами анализа учебного материала с целью постановки проблемы и нахождения путей ее решен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7F49-E757-4559-8D58-3E02E4633C7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тельский метод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новное содержание метода — обеспечить овладение обучаемыми методами научного познания, развить и сформировать у них черты творческой деятельности, обеспечить условия успешного формирования мотивов творческой деятельности, способствовать формированию осознанных, оперативно и гибко используемых знаний. Сущность метода — обеспечение организаций поисковой творческой деятельности обучаемых по решению новых для н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ъявление обучаемым новых для них проблем, постановка и разработка исследовательских задани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ых заключается в освоении ими приемов самостоятельной постановки проблем, нахождении способов их решен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3404-43E9-41C0-A1D7-F946CE90BA7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ур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ознакомления с новым материал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закрепления изученног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применения знаний и ум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обобщения и систематизации зн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проверки и коррекции знаний и ум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ированный у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2664-95F6-4EEF-B66C-2042AE7387D5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 Урок ознакомления с новым материалом</a:t>
            </a:r>
            <a:br>
              <a:rPr sz="1400"/>
            </a:br>
            <a:br>
              <a:rPr sz="1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сообщение темы, цели, задач урока и мотивация учебн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подготовка к изучению нового материала через повторение и актуализацию опорных зн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ознакомление с новым материал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первичное осмысление и закрепление связей и отношений в объектах изуч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остановка задания на д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FFD6-7C52-415E-9B80-60C5FEBE63D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Урок закрепления изученн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проверка домашнего задания, уточнение направлений актуализации матери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сообщение темы, цели и задач урока, мотивация уч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воспроизведение изученного и его применение в стандартных услов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перенос приобретенных знаний и их первичное применение в новых или измененных условиях с целью формирования ум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одведение итогов уро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станов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EA4E-C616-4C4B-8F96-5654B488509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Урок применения знаний и ум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проверка домашнего зад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мотивация учебной деятельности через осознание учащимися практической значимости применяемых знаний и умений, сообщение темы, цели и задач уро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осмысление содержания и последовательности применения практических действий при выполнении предстоящих зад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самостоятельное выполнение учащимися заданий под контролем учител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обобщение и систематизация результатов выполненных зад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урока и постанов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9546-6AF3-4EDF-8510-0942F163EA9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Урок обобщения и систематизации знаний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постановка цели урока и мотивация учебной деятельности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воспроизведение и коррекция опорных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повторение и анализ основных фактов, событий, явл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обобщение и систематизация понятий, усвоение системы знаний и их применение для объяснения новых фактов и выполнения практических зад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усвоение ведущих идей и основных теорий на основе широкой систематизации зн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7264-6A12-47E6-A41A-181CF990343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Урок проверки и коррекции знаний и ум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ознакомление с целью и задачами урока, инструктаж учащихся по организации работы на урок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проверка знаний учащимися фактического материала и их умений раскрывать элементарные внешние связи в предметах и явлен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проверка знаний учащимися основных понятий, правил, законов и умений объяснить их сущность, аргументировать свои суждения и приводить пример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проверка умений учащихся самостоятельно применять знания в стандартных услов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роверка умений учащихся применять знания в измененных, нестандартных услов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(на данном и последующих уроках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6B55-2F9C-4BDD-952A-19D9793A0CE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омбинированный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ознакомление с темой урока, постановка его целей и задач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проверка домашнего зад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проверка знаний и умений учащихся по пройденному материал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изложение нового матери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ервичное закрепление изученного матери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урока и постанов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993F-736C-4760-8EF6-7921999AFB9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 (буквально путь к чему-то) означает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особ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остижения цели, определенным образом упорядоченную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07FA-1A36-452F-A4AD-9341478F22F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экскур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сообщение темы, цели и задач уро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актуализация опорных знаний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восприятие особенностей экскурсионных объектов, первичное осознание заложенной в них информ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обобщение и систематизация зн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одведение итогов урока и выдача учащимся индивидуальных зад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82AE-0D65-4469-B65F-8208A2044FE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- роле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подготовительны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игров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заключительны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анализ результ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2790-5492-4B37-AE63-5C8B2AFA657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источнику получения знаний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ловесные методы (источником знания является устное или печатное слово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аглядные методы (источником знаний являются наблюдаемые предметы, явления, наглядные пособи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рактические методы (учащиеся получают знания и вырабатывают умения, выполняя практические действ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3A85-59A1-456D-B0C4-AFFF84E3CC0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есные методы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учебником и книг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усс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е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1428-F7F0-4DF6-B6A2-12478EE70D3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лядные методы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иллюстра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демонстра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E018-9B3F-4300-A7C7-9B465AB1BF1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актические методы обуч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ие рабо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E788-6FB0-4F0F-8C32-5C61BDDB1FA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лассификация методов обучения в зависимости от </a:t>
            </a: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характера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ознавательной деятельности учащихс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ельно-иллюстрати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родукти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ично-поисковый метод, или эвристический мет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ьский мет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5CAF-D724-4F27-B84E-960057A41C8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Объяснительно-иллюстративный мет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информационно-рецептивный). Основное назначение метода — организация усвоения информации обучаемыми путем сообщения им учебного материала и обеспечение его успешного восприятия. Объяснительно-иллюстративный метод — один из наиболее экономных способов передачи обучаемым обобщенного и систематизированного опыта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ообщение учебной информации с использованием различных дидактических средств: слова, различных пособий, в том числе кино- и диафильмов и т.д. Обучающий широко использует беседу, демонстрацию опыт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еятельность обучаемых заключается в восприятии, осмыслении и запоминании сообщаем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34C6-EA23-4975-A896-8C5241FFF1D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продуктивный мет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е назначение метода — формирование навыков и умений использования и применения полученных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и применение различных упражнений и задач, использование различных инструкций (алгоритмов) и программированно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ых заключается в овладении приемами выполнения отдельных упражнений в решении различных видов задач, овладении алгоритмом практически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B852-3C1C-4BC6-857D-8D10E18360D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3A9B-E2C0-4B62-A88A-5BA12695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8201-FFDF-4C47-A3D9-C9726F07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B495-58C3-4F14-95FF-B266F117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5231-4669-4735-B07A-34CAFD41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27EF-059C-4668-BFAC-5119C3D9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7C91-7D14-49F9-B70B-D9B289E4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60E9-6CF9-48B5-986B-BBF024E5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C049-5F40-46AD-A5F0-45BF2270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8B33-97F5-4BD6-AB2E-C62F1225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2C39-276A-4017-BB18-2F5E89EC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5277-E662-467A-A0C4-427DEDC2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C7C9-77B3-4F25-AFEE-6D4CC985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860D-B65B-48B0-84B7-AA037D7D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4BEC-5756-4E32-B50D-6F356FE2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EB0F-3F3F-4E6D-9D74-C6B6D62E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CDFD-BD1A-4971-A8ED-86A994F3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07A8-279D-4DB2-B4E3-C4AD2E94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6302-42C9-4D53-9C69-CA8084A4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113F-6D3F-40A4-90F7-CEBD036C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B039-CCFA-4CF5-95D4-6CD2DA53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24B8-F66E-449C-9912-3236FF65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8D09-758C-4846-BDA4-82C73429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830C-E393-4DA7-980E-A2C59FAB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4201-085A-4C44-95A5-4F0B8C9F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0C7D-67B3-4D0B-837B-AA4969DB826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C175-54B2-41D9-991C-317F774C778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WordArt 48"/>
          <p:cNvSpPr txBox="1"/>
          <p:nvPr/>
        </p:nvSpPr>
        <p:spPr>
          <a:xfrm>
            <a:off x="3132000" y="1557360"/>
            <a:ext cx="576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Arial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Arial"/>
              <a:ea typeface="Arial"/>
            </a:endParaRPr>
          </a:p>
        </p:txBody>
      </p:sp>
      <p:sp>
        <p:nvSpPr>
          <p:cNvPr id="94" name="WordArt 49"/>
          <p:cNvSpPr txBox="1"/>
          <p:nvPr/>
        </p:nvSpPr>
        <p:spPr>
          <a:xfrm>
            <a:off x="4427640" y="1557360"/>
            <a:ext cx="504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Arial"/>
              <a:ea typeface="Arial"/>
            </a:endParaRPr>
          </a:p>
        </p:txBody>
      </p:sp>
      <p:sp>
        <p:nvSpPr>
          <p:cNvPr id="95" name="WordArt 50"/>
          <p:cNvSpPr txBox="1"/>
          <p:nvPr/>
        </p:nvSpPr>
        <p:spPr>
          <a:xfrm>
            <a:off x="6804000" y="1557360"/>
            <a:ext cx="488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Arial"/>
              <a:ea typeface="Arial"/>
            </a:endParaRPr>
          </a:p>
        </p:txBody>
      </p:sp>
      <p:sp>
        <p:nvSpPr>
          <p:cNvPr id="96" name="WordArt 51"/>
          <p:cNvSpPr txBox="1"/>
          <p:nvPr/>
        </p:nvSpPr>
        <p:spPr>
          <a:xfrm>
            <a:off x="1979640" y="2349360"/>
            <a:ext cx="344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97" name="WordArt 52"/>
          <p:cNvSpPr txBox="1"/>
          <p:nvPr/>
        </p:nvSpPr>
        <p:spPr>
          <a:xfrm>
            <a:off x="3203640" y="2276640"/>
            <a:ext cx="425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98" name="WordArt 53"/>
          <p:cNvSpPr txBox="1"/>
          <p:nvPr/>
        </p:nvSpPr>
        <p:spPr>
          <a:xfrm>
            <a:off x="4356000" y="2349360"/>
            <a:ext cx="430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99" name="WordArt 54"/>
          <p:cNvSpPr txBox="1"/>
          <p:nvPr/>
        </p:nvSpPr>
        <p:spPr>
          <a:xfrm>
            <a:off x="6804000" y="2349360"/>
            <a:ext cx="401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00" name="WordArt 55"/>
          <p:cNvSpPr txBox="1"/>
          <p:nvPr/>
        </p:nvSpPr>
        <p:spPr>
          <a:xfrm>
            <a:off x="3203640" y="3141720"/>
            <a:ext cx="430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1" name="WordArt 56"/>
          <p:cNvSpPr txBox="1"/>
          <p:nvPr/>
        </p:nvSpPr>
        <p:spPr>
          <a:xfrm>
            <a:off x="4433760" y="3162240"/>
            <a:ext cx="354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2" name="WordArt 57"/>
          <p:cNvSpPr txBox="1"/>
          <p:nvPr/>
        </p:nvSpPr>
        <p:spPr>
          <a:xfrm>
            <a:off x="6877080" y="3141720"/>
            <a:ext cx="358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3" name="WordArt 58"/>
          <p:cNvSpPr txBox="1"/>
          <p:nvPr/>
        </p:nvSpPr>
        <p:spPr>
          <a:xfrm>
            <a:off x="1908000" y="4005360"/>
            <a:ext cx="432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104" name="WordArt 59"/>
          <p:cNvSpPr txBox="1"/>
          <p:nvPr/>
        </p:nvSpPr>
        <p:spPr>
          <a:xfrm>
            <a:off x="3276720" y="3933720"/>
            <a:ext cx="503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105" name="WordArt 60"/>
          <p:cNvSpPr txBox="1"/>
          <p:nvPr/>
        </p:nvSpPr>
        <p:spPr>
          <a:xfrm>
            <a:off x="4427640" y="4005360"/>
            <a:ext cx="50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106" name="WordArt 61"/>
          <p:cNvSpPr txBox="1"/>
          <p:nvPr/>
        </p:nvSpPr>
        <p:spPr>
          <a:xfrm>
            <a:off x="6804000" y="3933720"/>
            <a:ext cx="504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107" name="WordArt 62"/>
          <p:cNvSpPr txBox="1"/>
          <p:nvPr/>
        </p:nvSpPr>
        <p:spPr>
          <a:xfrm>
            <a:off x="2050920" y="4724280"/>
            <a:ext cx="360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  <p:sp>
        <p:nvSpPr>
          <p:cNvPr id="108" name="WordArt 63"/>
          <p:cNvSpPr txBox="1"/>
          <p:nvPr/>
        </p:nvSpPr>
        <p:spPr>
          <a:xfrm>
            <a:off x="3203640" y="4724280"/>
            <a:ext cx="390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  <p:sp>
        <p:nvSpPr>
          <p:cNvPr id="109" name="WordArt 64"/>
          <p:cNvSpPr txBox="1"/>
          <p:nvPr/>
        </p:nvSpPr>
        <p:spPr>
          <a:xfrm>
            <a:off x="4427640" y="4724280"/>
            <a:ext cx="431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  <p:sp>
        <p:nvSpPr>
          <p:cNvPr id="110" name="WordArt 65"/>
          <p:cNvSpPr txBox="1"/>
          <p:nvPr/>
        </p:nvSpPr>
        <p:spPr>
          <a:xfrm>
            <a:off x="5508720" y="1557360"/>
            <a:ext cx="57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1" name="WordArt 66"/>
          <p:cNvSpPr txBox="1"/>
          <p:nvPr/>
        </p:nvSpPr>
        <p:spPr>
          <a:xfrm>
            <a:off x="5651640" y="2349360"/>
            <a:ext cx="43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2" name="WordArt 67"/>
          <p:cNvSpPr txBox="1"/>
          <p:nvPr/>
        </p:nvSpPr>
        <p:spPr>
          <a:xfrm>
            <a:off x="5651640" y="3213000"/>
            <a:ext cx="43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3" name="WordArt 68"/>
          <p:cNvSpPr txBox="1"/>
          <p:nvPr/>
        </p:nvSpPr>
        <p:spPr>
          <a:xfrm>
            <a:off x="5651640" y="3933720"/>
            <a:ext cx="360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4" name="WordArt 69"/>
          <p:cNvSpPr txBox="1"/>
          <p:nvPr/>
        </p:nvSpPr>
        <p:spPr>
          <a:xfrm>
            <a:off x="5724360" y="4724280"/>
            <a:ext cx="432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78300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89000"/>
          <a:ext cx="8229600" cy="6406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77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блемный метод (проблемное изложение)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Основное назначение метода — раскрытие в изучаемом учебном материале различных проблем и показ способов их реш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явление и классификация проблем, которые можно ставить перед обучаемым, формулировка гипотез и показ способов их проверки. Постановка проблем в процессе проведения опыта, наблюдений в природе, логического умозаключения. При этом обучаемый может пользоваться словом, логическим рассуждением, демонстрацией опыта, анализом наблюдений и т.д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ых заключается не только в восприятии, осмыслении и запоминании готовых научных выводов, но и в прослеживании за логикой доказательств, за движением мыслей обучающего (проблема, гипотеза, доказательство достоверности или ложности выдвинутых предложений и т.д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89000"/>
          <a:ext cx="8229600" cy="7072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77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астично-поисковый метод, или эвристически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метод. Основное назначение метода – постепенная подготовка обучаемых к самостоятельной постановке и решению пробл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 Подведение обучаемых к постановке проблемы, показ им, как необходимо находить доказательства, делать выводы из приведенных фактов, построить план проверки фактов и т.д. Обучающий широко применяет эвристическую беседу, в процессе которой ставит систему взаимосвязанных вопросов, каждый из которых является шагом к решению пробле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 заключается в активном участии в эвристических беседах, в овладении приемами анализа учебного материала с целью постановки проблемы и нахождения путей ее решения и т.д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0"/>
          <a:ext cx="8229600" cy="6473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44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следовательский метод.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Основное содержание метода — обеспечить овладение обучаемыми методами научного познания, развить и сформировать у них черты творческой деятельности, обеспечить условия успешного формирования мотивов творческой деятельности, способствовать формированию осознанных, оперативно и гибко используемых знаний. Сущность метода — обеспечение организаций поисковой творческой деятельности обучаемых по решению новых для них пробле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ъявление обучаемым новых для них проблем, постановка и разработка исследовательских заданий и т.д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ых заключается в освоении ими приемов самостоятельной постановки проблем, нахождении способов их решения и т.д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Типы уроков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ознакомления с новым материалом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закрепления изученного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применения знаний и умений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обобщения и систематизации знаний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проверки и коррекции знаний и умений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омбинированный урок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Урок ознакомления с новым материалом</a:t>
            </a:r>
            <a:br>
              <a:rPr sz="2400"/>
            </a:br>
            <a:br>
              <a:rPr sz="2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.      сообщение темы, цели, задач урока и мотивация учебной деятельности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.      подготовка к изучению нового материала через повторение и актуализацию опорных знаний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.      ознакомление с новым материалом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.      первичное осмысление и закрепление связей и отношений в объектах изучения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.      постановка задания на дом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6.      подведение итогов урок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2. Урок закрепления изученного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1.      проверка домашнего задания, уточнение направлений актуализации материала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2.      сообщение темы, цели и задач урока, мотивация учения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3.      воспроизведение изученного и его применение в стандартных условиях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4.      перенос приобретенных знаний и их первичное применение в новых или измененных условиях с целью формирования умений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5.      подведение итогов урока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6.      постановка домашнего зада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3. Урок применения знаний и умени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      проверка домашнего задани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      мотивация учебной деятельности через осознание учащимися практической значимости применяемых знаний и умений, сообщение темы, цели и задач урока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      осмысление содержания и последовательности применения практических действий при выполнении предстоящих заданий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.      самостоятельное выполнение учащимися заданий под контролем учител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.      обобщение и систематизация результатов выполненных заданий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6.      подведение итогов урока и постановка домашнего зада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 Урок обобщения и систематизации знаний</a:t>
            </a:r>
            <a:br>
              <a:rPr sz="34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1.      постановка цели урока и мотивация учебной деятельности учащихся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2.      воспроизведение и коррекция опорных знаний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3.      повторение и анализ основных фактов, событий, явлений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4.      обобщение и систематизация понятий, усвоение системы знаний и их применение для объяснения новых фактов и выполнения практических заданий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5.      усвоение ведущих идей и основных теорий на основе широкой систематизации знаний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6.      подведение итогов урок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5. Урок проверки и коррекции знаний и умени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1.      ознакомление с целью и задачами урока, инструктаж учащихся по организации работы на уроке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2.      проверка знаний учащимися фактического материала и их умений раскрывать элементарные внешние связи в предметах и явлениях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3.      проверка знаний учащимися основных понятий, правил, законов и умений объяснить их сущность, аргументировать свои суждения и приводить примеры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4.      проверка умений учащихся самостоятельно применять знания в стандартных условиях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5.      проверка умений учащихся применять знания в измененных, нестандартных условиях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6.      подведение итогов (на данном и последующих уроках)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6. Комбинированный уро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.      ознакомление с темой урока, постановка его целей и задач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.      проверка домашнего задания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.      проверка знаний и умений учащихся по пройденному материалу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.      изложение нового материала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.      первичное закрепление изученного материала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6.      подведение итогов урока и постановка домашнего задани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Методы обуч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03280" y="2637000"/>
            <a:ext cx="701064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Метод (буквально путь к чему-то) означает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способ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достижения цели, определенным образом упорядоченную деятельность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Урок-экскурс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.      сообщение темы, цели и задач урока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2.      актуализация опорных знаний учащихся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3.      восприятие особенностей экскурсионных объектов, первичное осознание заложенной в них информации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4.      обобщение и систематизация знаний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5.      подведение итогов урока и выдача учащимся индивидуальных задани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Урок - ролевая игр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     подготовительный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     игровой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     заключительный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      анализ результат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о источнику получения знаний.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) словесные методы (источником знания является устное или печатное слово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) наглядные методы (источником знаний являются наблюдаемые предметы, явления, наглядные пособия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) практические методы (учащиеся получают знания и вырабатывают умения, выполняя практические действия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ловесные методы обуч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бота с учебником и книгой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кскурси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искусс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бъясне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сказ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есед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амостоятельная рабо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глядные методы обуч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Метод иллюстрац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Метод демонстрац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рактические методы обуче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пражне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ворческие работ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лассификация методов обучения в зависимости от </a:t>
            </a: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характер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познавательной деятельности учащихс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бъяснительно-иллюстратив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епродуктив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блемн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астично-поисковый метод, или эвристический метод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следовательский метод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260280"/>
          <a:ext cx="8229600" cy="6523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73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Объяснительно-иллюстративный метод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информационно-рецептивный). Основное назначение метода — организация усвоения информации обучаемыми путем сообщения им учебного материала и обеспечение его успешного восприятия. Объяснительно-иллюстративный метод — один из наиболее экономных способов передачи обучаемым обобщенного и систематизированного опыта человече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Сообщение учебной информации с использованием различных дидактических средств: слова, различных пособий, в том числе кино- и диафильмов и т.д. Обучающий широко использует беседу, демонстрацию опытов и т.д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Деятельность обучаемых заключается в восприятии, осмыслении и запоминании сообщаемой информа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89000"/>
          <a:ext cx="8229600" cy="6118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4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продуктивный метод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новное назначение метода — формирование навыков и умений использования и применения полученных зна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работка и применение различных упражнений и задач, использование различных инструкций (алгоритмов) и программированного обуч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ых заключается в овладении приемами выполнения отдельных упражнений в решении различных видов задач, овладении алгоритмом практических действ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7T13:50:38Z</dcterms:created>
  <dc:creator>Ольга Филиповна</dc:creator>
  <dc:description/>
  <dc:language>en-US</dc:language>
  <cp:lastModifiedBy>LEGION</cp:lastModifiedBy>
  <dcterms:modified xsi:type="dcterms:W3CDTF">2015-01-26T14:09:20Z</dcterms:modified>
  <cp:revision>12</cp:revision>
  <dc:subject/>
  <dc:title>Слайд 1</dc:title>
</cp:coreProperties>
</file>