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10.jpeg" ContentType="image/jpeg"/>
  <Override PartName="/ppt/media/image8.jpeg" ContentType="image/jpeg"/>
  <Override PartName="/ppt/media/image5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12.wmf" ContentType="image/x-wmf"/>
  <Override PartName="/ppt/media/image4.png" ContentType="image/png"/>
  <Override PartName="/ppt/media/image23.jpeg" ContentType="image/jpeg"/>
  <Override PartName="/ppt/media/image20.gif" ContentType="image/gif"/>
  <Override PartName="/ppt/media/image21.jpeg" ContentType="image/jpeg"/>
  <Override PartName="/ppt/media/image16.wmf" ContentType="image/x-wmf"/>
  <Override PartName="/ppt/media/image14.wmf" ContentType="image/x-wmf"/>
  <Override PartName="/ppt/media/image15.wmf" ContentType="image/x-wmf"/>
  <Override PartName="/ppt/media/image22.jpeg" ContentType="image/jpeg"/>
  <Override PartName="/ppt/media/image1.jpeg" ContentType="image/jpe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EA0CF-C3CD-4238-AD4E-AB6C2D8FB4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1200" spc="-1" strike="noStrike">
                <a:solidFill>
                  <a:srgbClr val="4a452a"/>
                </a:solidFill>
                <a:latin typeface="Calibri"/>
              </a:rPr>
              <a:t>Развитие </a:t>
            </a:r>
            <a:br>
              <a:rPr sz="1200"/>
            </a:br>
            <a:r>
              <a:rPr b="0" lang="ru-RU" sz="1200" spc="-1" strike="noStrike">
                <a:solidFill>
                  <a:srgbClr val="4a452a"/>
                </a:solidFill>
                <a:latin typeface="Calibri"/>
              </a:rPr>
              <a:t>логического мышления </a:t>
            </a:r>
            <a:br>
              <a:rPr sz="1200"/>
            </a:br>
            <a:r>
              <a:rPr b="0" lang="ru-RU" sz="1200" spc="-1" strike="noStrike">
                <a:solidFill>
                  <a:srgbClr val="4a452a"/>
                </a:solidFill>
                <a:latin typeface="Calibri"/>
              </a:rPr>
              <a:t>у детей дошкольного возраста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br>
              <a:rPr sz="1200"/>
            </a:b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c </a:t>
            </a:r>
            <a:r>
              <a:rPr b="0" lang="ru-RU" sz="1200" spc="-1" strike="noStrike">
                <a:solidFill>
                  <a:srgbClr val="4a452a"/>
                </a:solidFill>
                <a:latin typeface="Calibri"/>
              </a:rPr>
              <a:t> речевыми нарушениями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Учитель-логопед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высшей категории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Филипенко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Галина Петровна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6F346-4E5A-4633-8010-6B84650E6B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делирование, алгоритмы,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мбинатор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сположи, назови по-порядк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сначала, что пот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поч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становление последовательностей и логических ря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929E6-7677-4B12-BC31-6B5289A4A8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Комбинаторик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едини все фигурки в цепочку так, чтобы арбуз был пятым, а снеговик предпоследн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Найди истинное и ложное утверждение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этой цепочке 5-я буква – 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этой цепочке 3-я буква – 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этой цепочке 2-я и 4-я буквы разн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этой цепочке 1-я буква – соглас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2F450-EECA-4EAF-9425-C1A1487874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дачи на смекалку, догадку,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спользование элементарной научной информ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и на определение возрас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и на отрица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и на различ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и на сравн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и на совмещ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и на причинно-следственные зависим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и на соотнесение понятий и предме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огико-поисковые задачи; Сколько человек тянули репку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и-шутки (</a:t>
            </a:r>
            <a:r>
              <a:rPr b="1" lang="ru-RU" sz="1200" spc="-1" strike="noStrike">
                <a:solidFill>
                  <a:srgbClr val="632523"/>
                </a:solidFill>
                <a:latin typeface="Sylfaen"/>
                <a:ea typeface="Times New Roman"/>
              </a:rPr>
              <a:t> Что едят жирафы, когда земля покрыта снегом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D23B5-B0F7-4190-AD88-C0285B1322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ребу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A686C-7957-427F-BDEB-128E8CB92D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шение кресскрос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DEFA4-4290-4E78-AC12-C6C4CC561D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знание человеком окружающего мира осуществляется в двух основных форма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чувственное познание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абстрактное мышление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79CF1-49DD-49C3-B4F2-17651A8943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апы становления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огического мыш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D3AC3-4622-43C7-9FEF-E70294933C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обенности речи и мышления у детей с ОН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рудность в  усвоении отвлеченных и обобщающих понят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10000"/>
              </a:lnSpc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мена родовых понятий видовыми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210000"/>
              </a:lnSpc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ексический запас характеризуется стереотипность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210000"/>
              </a:lnSpc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рудности в программировании своего высказы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0000"/>
              </a:lnSpc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доступность осмысления и употребления сложных речевых конструкц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доступность для понимания метафор и сравнений, слов с переносным значением, скрытого смысла загадок и пословиц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FE275-42FC-4ECC-8879-3E9E769B00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апы формирования логического мышления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 дошколь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равнение, обобщение, группировк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лассифик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дел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лгорит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мбинатор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н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мекалку, догадку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элементарной научной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точнен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крытого смысла загадок, послов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бусов, кресс-крос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34B84-CB6E-4CBA-A37A-6AF1B8BD3F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равнение, обобщение,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руппировка, классифик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деление существенных признак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равнение предметов и явлений по  свойствам и качества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накомство с родо-видовыми отношениями и противоположными понятиями, группировка предме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лассификация предметов (по одному, двум и более признака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463CE-57A9-41CE-8D1C-E075A1332A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r>
              <a:rPr b="1" lang="ru-RU" sz="1100" spc="-1" strike="noStrike">
                <a:solidFill>
                  <a:srgbClr val="1e1c11"/>
                </a:solidFill>
                <a:latin typeface="Calibri"/>
              </a:rPr>
              <a:t>Сравнение, обобщение, группировка, классификация </a:t>
            </a:r>
            <a:br>
              <a:rPr sz="28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деление существенных призна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етает – не летае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ъедобное – не съедобно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Я знаю, что красным (сильным, глубоким, тяжёлым, круглым,  красивым…) бывае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гадывание и составление описательных загадо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D39EF-E972-4C0B-B68A-4F463D672A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1e1c11"/>
                </a:solidFill>
                <a:latin typeface="Calibri"/>
              </a:rPr>
              <a:t>Сравнение, обобщение, группировка,     классификаци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равнение предметов и явлений по  свойствам и качеств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на что похож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има – лет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йди предмет, не похожий на друг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йди ошибку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равни картинки, найди отлич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изменилос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B8937-7800-471A-B111-1677B73403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600" spc="-1" strike="noStrike">
                <a:solidFill>
                  <a:srgbClr val="1e1c11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1e1c11"/>
                </a:solidFill>
                <a:latin typeface="Calibri"/>
              </a:rPr>
              <a:t>Сравнение, обобщение, группировка, классификация </a:t>
            </a:r>
            <a:br>
              <a:rPr sz="11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Знакомство с родо-видовыми отношениями и противоположными понятиями,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группировка и классификация предмет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кажи наоборо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прос – отве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зови одним слов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Я знаю 5 названий одежды (обуви, мебели…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-й лиш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общего и чем отличаютс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становление аналог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Найди нелепые ситуации. 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Чего не бывает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F204C-57E4-4A4B-87D4-D5128ED2D3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2CE5-0DB3-4D35-B291-1750F19BF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3730-ED88-474A-91DB-B535CD080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9F4C-6593-494B-952B-0FF8E3A4F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10DE-A83A-42A0-B5B1-AD00522E8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BD84F-16EC-4A7C-8CE1-A53335512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45272-F181-4807-A395-782510EB5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EBF6C-93B2-4204-B79A-DFE118915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E50B0-0E9E-4C07-8142-4152129BF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4AD1E-0171-43A0-B42D-A9348B676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12388-7F94-452F-88A1-E41367395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E0B66-9650-4FE3-8B8D-4E36BC7FF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841D-6E24-4D99-914E-8F9F7C771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418C3-2E73-4A47-B21E-B07628D78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66D77-7C5A-4B1E-9553-DE7CFE376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55023-4E99-40F0-B245-D98951AB8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288AB-EBA7-41A8-A292-A91406C38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0BB83-FA6A-423F-9880-0D4073917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01A0-9656-4896-ACAD-9B076D5A5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2DA8-6E66-4E67-869E-A53301B3B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7807-5F19-47C5-AEB6-20CEDC839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FDD3-E7C3-452D-8077-8B5528291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6230-3F86-4CCA-A3FF-6FA4209C7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8584-A170-4C26-8B4F-E980B650C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2FD8-2E80-4477-BA05-038A9FFE8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C93EF-5BA0-4EB3-AAC4-6F9A45DCE7C1}" type="datetime">
              <a:rPr b="0" lang="ru-RU" sz="1200" spc="-1" strike="noStrike">
                <a:solidFill>
                  <a:srgbClr val="045c75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7A9B9-A1DA-4943-B1DF-4C2EEE53AB58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ED0BD-28C2-4EE9-B022-860F5747EE3A}" type="datetime">
              <a:rPr b="0" lang="ru-RU" sz="1200" spc="-1" strike="noStrike">
                <a:solidFill>
                  <a:srgbClr val="045c75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95D7A-2D0B-4B6A-9362-7CFDBFDBA4FB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Заголовок 1" descr=""/>
          <p:cNvPicPr/>
          <p:nvPr/>
        </p:nvPicPr>
        <p:blipFill>
          <a:blip r:embed="rId1"/>
          <a:stretch/>
        </p:blipFill>
        <p:spPr>
          <a:xfrm>
            <a:off x="311040" y="360360"/>
            <a:ext cx="8204400" cy="3571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3857400" y="4071960"/>
            <a:ext cx="4857480" cy="22147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Учитель-логопед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высшей категории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Филипенко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Галина Петровн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004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Моделирование, алгоритмы, </a:t>
            </a:r>
            <a:br>
              <a:rPr sz="4500"/>
            </a:b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комбинаторика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2142720"/>
            <a:ext cx="8229600" cy="26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Расположи, назови по-порядку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Что сначала, что потом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Цепочк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Установление последовательностей и логических рядо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rcRect l="5542" t="19147" r="0" b="12629"/>
          <a:stretch/>
        </p:blipFill>
        <p:spPr>
          <a:xfrm>
            <a:off x="6321600" y="2071800"/>
            <a:ext cx="2822400" cy="19904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" descr="C:\Documents and Settings\Администратор\Мои документы\Мои документы\Мои рисунки\Новая папка\P2080811.JPG"/>
          <p:cNvPicPr/>
          <p:nvPr/>
        </p:nvPicPr>
        <p:blipFill>
          <a:blip r:embed="rId2"/>
          <a:stretch/>
        </p:blipFill>
        <p:spPr>
          <a:xfrm>
            <a:off x="2786040" y="4572000"/>
            <a:ext cx="2071800" cy="155412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572000" y="1071720"/>
            <a:ext cx="4038480" cy="52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Найди истинное и ложное утверждение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В этой цепочке 5-я буква – о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В этой цепочке 3-я буква – л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В этой цепочке 2-я и 4-я буквы разные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В этой цепочке 1-я буква – согласная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54" name="Заголовок 8"/>
          <p:cNvGrpSpPr/>
          <p:nvPr/>
        </p:nvGrpSpPr>
        <p:grpSpPr>
          <a:xfrm>
            <a:off x="500040" y="0"/>
            <a:ext cx="8375760" cy="1212840"/>
            <a:chOff x="500040" y="0"/>
            <a:chExt cx="8375760" cy="1212840"/>
          </a:xfrm>
        </p:grpSpPr>
        <p:pic>
          <p:nvPicPr>
            <p:cNvPr id="155" name="Заголовок 8" descr=""/>
            <p:cNvPicPr/>
            <p:nvPr/>
          </p:nvPicPr>
          <p:blipFill>
            <a:blip r:embed="rId1"/>
            <a:stretch/>
          </p:blipFill>
          <p:spPr>
            <a:xfrm>
              <a:off x="500040" y="0"/>
              <a:ext cx="837576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571680" y="285840"/>
              <a:ext cx="822960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ffffff"/>
                  </a:solidFill>
                  <a:latin typeface="Constantia"/>
                </a:rPr>
                <a:t>Комбинаторика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 txBox="1"/>
          <p:nvPr/>
        </p:nvSpPr>
        <p:spPr>
          <a:xfrm>
            <a:off x="457200" y="1000080"/>
            <a:ext cx="4038480" cy="53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Соедини все фигурки в цепочку так, чтобы арбуз был пятым, а снеговик предпоследним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8" name="Picture 6" descr="E:\ClipArt2\j0232671.wmf"/>
          <p:cNvPicPr/>
          <p:nvPr/>
        </p:nvPicPr>
        <p:blipFill>
          <a:blip r:embed="rId2"/>
          <a:stretch/>
        </p:blipFill>
        <p:spPr>
          <a:xfrm>
            <a:off x="500040" y="3714840"/>
            <a:ext cx="1009800" cy="14079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E:\ClipArt2\j0215164.wmf"/>
          <p:cNvPicPr/>
          <p:nvPr/>
        </p:nvPicPr>
        <p:blipFill>
          <a:blip r:embed="rId3"/>
          <a:stretch/>
        </p:blipFill>
        <p:spPr>
          <a:xfrm>
            <a:off x="1928880" y="2571840"/>
            <a:ext cx="1066680" cy="14461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E:\ClipArt2\j0215163.wmf"/>
          <p:cNvPicPr/>
          <p:nvPr/>
        </p:nvPicPr>
        <p:blipFill>
          <a:blip r:embed="rId4"/>
          <a:stretch/>
        </p:blipFill>
        <p:spPr>
          <a:xfrm>
            <a:off x="3214800" y="3571920"/>
            <a:ext cx="1214280" cy="11556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E:\ClipArt2\j0232724.wmf"/>
          <p:cNvPicPr/>
          <p:nvPr/>
        </p:nvPicPr>
        <p:blipFill>
          <a:blip r:embed="rId5"/>
          <a:stretch/>
        </p:blipFill>
        <p:spPr>
          <a:xfrm>
            <a:off x="1285920" y="5000760"/>
            <a:ext cx="1738440" cy="15364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E:\ClipArt1\j0199719.wmf"/>
          <p:cNvPicPr/>
          <p:nvPr/>
        </p:nvPicPr>
        <p:blipFill>
          <a:blip r:embed="rId6"/>
          <a:stretch/>
        </p:blipFill>
        <p:spPr>
          <a:xfrm>
            <a:off x="3357720" y="5214960"/>
            <a:ext cx="1054080" cy="1071720"/>
          </a:xfrm>
          <a:prstGeom prst="rect">
            <a:avLst/>
          </a:prstGeom>
          <a:ln w="0">
            <a:noFill/>
          </a:ln>
        </p:spPr>
      </p:pic>
      <p:sp>
        <p:nvSpPr>
          <p:cNvPr id="163" name="Прямоугольник 11"/>
          <p:cNvSpPr/>
          <p:nvPr/>
        </p:nvSpPr>
        <p:spPr>
          <a:xfrm>
            <a:off x="4786200" y="4572000"/>
            <a:ext cx="857520" cy="7858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onstantia"/>
              </a:rPr>
              <a:t>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12"/>
          <p:cNvSpPr/>
          <p:nvPr/>
        </p:nvSpPr>
        <p:spPr>
          <a:xfrm>
            <a:off x="7715160" y="4643280"/>
            <a:ext cx="857520" cy="7858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onstantia"/>
              </a:rPr>
              <a:t>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13"/>
          <p:cNvSpPr/>
          <p:nvPr/>
        </p:nvSpPr>
        <p:spPr>
          <a:xfrm>
            <a:off x="6715080" y="4572000"/>
            <a:ext cx="857160" cy="7858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onstantia"/>
              </a:rPr>
              <a:t>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14"/>
          <p:cNvSpPr/>
          <p:nvPr/>
        </p:nvSpPr>
        <p:spPr>
          <a:xfrm>
            <a:off x="5715000" y="4643280"/>
            <a:ext cx="857160" cy="7858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onstantia"/>
              </a:rPr>
              <a:t>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Прямая со стрелкой 17"/>
          <p:cNvCxnSpPr/>
          <p:nvPr/>
        </p:nvCxnSpPr>
        <p:spPr>
          <a:xfrm>
            <a:off x="4785840" y="4928760"/>
            <a:ext cx="4072680" cy="1080"/>
          </a:xfrm>
          <a:prstGeom prst="straightConnector1">
            <a:avLst/>
          </a:prstGeom>
          <a:ln w="381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168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8760" y="856800"/>
            <a:ext cx="8229600" cy="1562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Задачи на смекалку, догадку, </a:t>
            </a:r>
            <a:br>
              <a:rPr sz="3600"/>
            </a:b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использование элементарной научной информации.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500040" y="2643120"/>
            <a:ext cx="8229600" cy="36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Задачи на определение возраста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Задачи на отрицание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Задачи на различие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Задачи на сравнение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Задачи на совмещение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Задачи на причинно-следственные зависимости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Задачи на соотнесение понятий и предметов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Логико-поисковые задачи; Сколько человек тянули репку?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Задачи-шутки (</a:t>
            </a:r>
            <a:r>
              <a:rPr b="1" lang="ru-RU" sz="1800" spc="-1" strike="noStrike">
                <a:solidFill>
                  <a:srgbClr val="004e6d"/>
                </a:solidFill>
                <a:latin typeface="Sylfaen"/>
                <a:ea typeface="Times New Roman"/>
              </a:rPr>
              <a:t> Что едят жирафы, когда земля покрыта снегом?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Прямоугольник 6"/>
          <p:cNvSpPr/>
          <p:nvPr/>
        </p:nvSpPr>
        <p:spPr>
          <a:xfrm>
            <a:off x="5929200" y="2214720"/>
            <a:ext cx="2928960" cy="2571480"/>
          </a:xfrm>
          <a:prstGeom prst="rect">
            <a:avLst/>
          </a:prstGeom>
          <a:solidFill>
            <a:srgbClr val="c8e3fb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e6d"/>
                </a:solidFill>
                <a:latin typeface="Sylfaen"/>
                <a:ea typeface="Times New Roman"/>
              </a:rPr>
              <a:t>Петя, Нина, Надя, Вова и Юра играли в прят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e6d"/>
                </a:solidFill>
                <a:latin typeface="Sylfaen"/>
                <a:ea typeface="Times New Roman"/>
              </a:rPr>
              <a:t>Кого было больше: мальчиков или девочек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6" descr=""/>
          <p:cNvPicPr/>
          <p:nvPr/>
        </p:nvPicPr>
        <p:blipFill>
          <a:blip r:embed="rId1"/>
          <a:srcRect l="0" t="0" r="4582" b="0"/>
          <a:stretch/>
        </p:blipFill>
        <p:spPr>
          <a:xfrm>
            <a:off x="6143760" y="2357280"/>
            <a:ext cx="2260440" cy="1000440"/>
          </a:xfrm>
          <a:prstGeom prst="rect">
            <a:avLst/>
          </a:prstGeom>
          <a:ln w="0">
            <a:noFill/>
          </a:ln>
        </p:spPr>
      </p:pic>
      <p:sp>
        <p:nvSpPr>
          <p:cNvPr id="173" name="Текст 2"/>
          <p:cNvSpPr/>
          <p:nvPr/>
        </p:nvSpPr>
        <p:spPr>
          <a:xfrm>
            <a:off x="4286160" y="4678200"/>
            <a:ext cx="2210040" cy="21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Заголовок 1"/>
          <p:cNvGrpSpPr/>
          <p:nvPr/>
        </p:nvGrpSpPr>
        <p:grpSpPr>
          <a:xfrm>
            <a:off x="1139760" y="360360"/>
            <a:ext cx="6937560" cy="1339920"/>
            <a:chOff x="1139760" y="360360"/>
            <a:chExt cx="6937560" cy="1339920"/>
          </a:xfrm>
        </p:grpSpPr>
        <p:pic>
          <p:nvPicPr>
            <p:cNvPr id="176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1139760" y="360360"/>
              <a:ext cx="6937560" cy="133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1214280" y="642960"/>
              <a:ext cx="678672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500" spc="-1" strike="noStrike">
                  <a:solidFill>
                    <a:srgbClr val="ffffff"/>
                  </a:solidFill>
                  <a:latin typeface="Constantia"/>
                </a:rPr>
                <a:t>Решение ребусов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"/>
          <p:cNvSpPr txBox="1"/>
          <p:nvPr/>
        </p:nvSpPr>
        <p:spPr>
          <a:xfrm>
            <a:off x="428760" y="2214720"/>
            <a:ext cx="818352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2"/>
          <a:stretch/>
        </p:blipFill>
        <p:spPr>
          <a:xfrm>
            <a:off x="1214280" y="1357200"/>
            <a:ext cx="6500880" cy="51436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E:\Animated\j0283248.gif"/>
          <p:cNvPicPr/>
          <p:nvPr/>
        </p:nvPicPr>
        <p:blipFill>
          <a:blip r:embed="rId3"/>
          <a:stretch/>
        </p:blipFill>
        <p:spPr>
          <a:xfrm>
            <a:off x="428760" y="3143160"/>
            <a:ext cx="1643040" cy="1143000"/>
          </a:xfrm>
          <a:prstGeom prst="rect">
            <a:avLst/>
          </a:prstGeom>
          <a:ln w="0">
            <a:noFill/>
          </a:ln>
        </p:spPr>
      </p:pic>
      <p:sp>
        <p:nvSpPr>
          <p:cNvPr id="181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818352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Решение кресскроссов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83" name="Picture 2" descr="C:\Documents and Settings\Администратор\Мои документы\Мои документы\Мои рисунки\Новая папка\P2080839.JPG"/>
          <p:cNvPicPr/>
          <p:nvPr/>
        </p:nvPicPr>
        <p:blipFill>
          <a:blip r:embed="rId1"/>
          <a:stretch/>
        </p:blipFill>
        <p:spPr>
          <a:xfrm>
            <a:off x="2643120" y="1143000"/>
            <a:ext cx="4000680" cy="3000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C:\Documents and Settings\Администратор\Мои документы\Мои документы\Мои рисунки\Новая папка\P2080840.JPG"/>
          <p:cNvPicPr/>
          <p:nvPr/>
        </p:nvPicPr>
        <p:blipFill>
          <a:blip r:embed="rId2"/>
          <a:stretch/>
        </p:blipFill>
        <p:spPr>
          <a:xfrm>
            <a:off x="285840" y="3429000"/>
            <a:ext cx="4298760" cy="32241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C:\Documents and Settings\Администратор\Мои документы\Мои документы\Мои рисунки\Новая папка\P2080843.JPG"/>
          <p:cNvPicPr/>
          <p:nvPr/>
        </p:nvPicPr>
        <p:blipFill>
          <a:blip r:embed="rId3"/>
          <a:stretch/>
        </p:blipFill>
        <p:spPr>
          <a:xfrm>
            <a:off x="4714920" y="3571920"/>
            <a:ext cx="4143240" cy="310680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Познание человеком окружающего мира осуществляется в двух основных формах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71680" y="18572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чувственное познани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абстрактное мышлени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Прямоугольник 3"/>
          <p:cNvSpPr/>
          <p:nvPr/>
        </p:nvSpPr>
        <p:spPr>
          <a:xfrm>
            <a:off x="642960" y="3105000"/>
            <a:ext cx="8072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ые формы логического мыш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Группа 4"/>
          <p:cNvGrpSpPr/>
          <p:nvPr/>
        </p:nvGrpSpPr>
        <p:grpSpPr>
          <a:xfrm>
            <a:off x="3929040" y="3286080"/>
            <a:ext cx="2428920" cy="2171880"/>
            <a:chOff x="3929040" y="3286080"/>
            <a:chExt cx="2428920" cy="2171880"/>
          </a:xfrm>
        </p:grpSpPr>
        <p:sp>
          <p:nvSpPr>
            <p:cNvPr id="109" name="Овал 5"/>
            <p:cNvSpPr/>
            <p:nvPr/>
          </p:nvSpPr>
          <p:spPr>
            <a:xfrm>
              <a:off x="3929040" y="3286080"/>
              <a:ext cx="2428920" cy="2171880"/>
            </a:xfrm>
            <a:prstGeom prst="ellipse">
              <a:avLst/>
            </a:prstGeom>
            <a:solidFill>
              <a:srgbClr val="009dd9">
                <a:alpha val="5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Овал 4"/>
            <p:cNvSpPr/>
            <p:nvPr/>
          </p:nvSpPr>
          <p:spPr>
            <a:xfrm>
              <a:off x="4252680" y="3665520"/>
              <a:ext cx="1781280" cy="97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onstantia"/>
                </a:rPr>
                <a:t>Понят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Группа 7"/>
          <p:cNvGrpSpPr/>
          <p:nvPr/>
        </p:nvGrpSpPr>
        <p:grpSpPr>
          <a:xfrm>
            <a:off x="2643120" y="4429080"/>
            <a:ext cx="3000600" cy="2428920"/>
            <a:chOff x="2643120" y="4429080"/>
            <a:chExt cx="3000600" cy="2428920"/>
          </a:xfrm>
        </p:grpSpPr>
        <p:sp>
          <p:nvSpPr>
            <p:cNvPr id="112" name="Овал 8"/>
            <p:cNvSpPr/>
            <p:nvPr/>
          </p:nvSpPr>
          <p:spPr>
            <a:xfrm>
              <a:off x="2643120" y="4429080"/>
              <a:ext cx="3000600" cy="2428920"/>
            </a:xfrm>
            <a:prstGeom prst="ellipse">
              <a:avLst/>
            </a:prstGeom>
            <a:solidFill>
              <a:srgbClr val="009dd9">
                <a:alpha val="5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Овал 4"/>
            <p:cNvSpPr/>
            <p:nvPr/>
          </p:nvSpPr>
          <p:spPr>
            <a:xfrm>
              <a:off x="3062160" y="4714560"/>
              <a:ext cx="1730520" cy="185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onstantia"/>
                </a:rPr>
                <a:t>Сужд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Группа 10"/>
          <p:cNvGrpSpPr/>
          <p:nvPr/>
        </p:nvGrpSpPr>
        <p:grpSpPr>
          <a:xfrm>
            <a:off x="5214960" y="4429080"/>
            <a:ext cx="2928960" cy="2428920"/>
            <a:chOff x="5214960" y="4429080"/>
            <a:chExt cx="2928960" cy="2428920"/>
          </a:xfrm>
        </p:grpSpPr>
        <p:sp>
          <p:nvSpPr>
            <p:cNvPr id="115" name="Овал 11"/>
            <p:cNvSpPr/>
            <p:nvPr/>
          </p:nvSpPr>
          <p:spPr>
            <a:xfrm>
              <a:off x="5214960" y="4429080"/>
              <a:ext cx="2928960" cy="2428920"/>
            </a:xfrm>
            <a:prstGeom prst="ellipse">
              <a:avLst/>
            </a:prstGeom>
            <a:solidFill>
              <a:srgbClr val="009dd9">
                <a:alpha val="5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Овал 4"/>
            <p:cNvSpPr/>
            <p:nvPr/>
          </p:nvSpPr>
          <p:spPr>
            <a:xfrm>
              <a:off x="5643360" y="4784400"/>
              <a:ext cx="2071800" cy="171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onstantia"/>
                </a:rPr>
                <a:t>Умозак-люч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Этапы становления </a:t>
            </a:r>
            <a:br>
              <a:rPr sz="4500"/>
            </a:b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логического мышления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0" name="Схема 4" descr=""/>
          <p:cNvPicPr/>
          <p:nvPr/>
        </p:nvPicPr>
        <p:blipFill>
          <a:blip r:embed="rId1"/>
          <a:stretch/>
        </p:blipFill>
        <p:spPr>
          <a:xfrm>
            <a:off x="560520" y="2030400"/>
            <a:ext cx="8022960" cy="451656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Особенности речи и мышления у детей с ОНР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2876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just"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nstantia"/>
              </a:rPr>
              <a:t>Трудность в  усвоении отвлеченных и обобщающих понятий;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21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Constantia"/>
              </a:rPr>
              <a:t>Замена родовых понятий видовыми</a:t>
            </a:r>
            <a:r>
              <a:rPr b="1" i="1" lang="ru-RU" sz="2100" spc="-1" strike="noStrike">
                <a:solidFill>
                  <a:srgbClr val="000000"/>
                </a:solidFill>
                <a:latin typeface="Constantia"/>
              </a:rPr>
              <a:t>;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lnSpc>
                <a:spcPct val="21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nstantia"/>
              </a:rPr>
              <a:t>Лексический запас характеризуется стереотипностью;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lnSpc>
                <a:spcPct val="21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nstantia"/>
              </a:rPr>
              <a:t>Трудности в программировании своего высказывания;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lnSpc>
                <a:spcPct val="12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nstantia"/>
              </a:rPr>
              <a:t>Недоступность осмысления и употребления сложных речевых конструкций;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lnSpc>
                <a:spcPct val="11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nstantia"/>
              </a:rPr>
              <a:t>Недоступность для понимания метафор и сравнений, слов с переносным значением, скрытого смысла загадок и пословиц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1847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Этапы формирования логического мышления </a:t>
            </a:r>
            <a:br>
              <a:rPr sz="4500"/>
            </a:b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у дошкольников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2857680"/>
            <a:ext cx="8229600" cy="34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равнение, обобщение, группировка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классификаци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Моделировани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Алгоритмы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Комбинаторик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Задачи на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мекалку, догадку,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спользование элементарной научной информаци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Уточнение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крытого смысла загадок, пословиц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Решение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ребусов, кресс-кроссов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600" cy="1571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Сравнение, обобщение, </a:t>
            </a:r>
            <a:br>
              <a:rPr sz="4500"/>
            </a:b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группировка, классификация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2357280"/>
            <a:ext cx="822960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Выделение существенных признаков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равнение предметов и явлений по  свойствам и качествам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Знакомство с родо-видовыми отношениями и противоположными понятиями, группировка предметов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Классификация предметов (по одному, двум и более признакам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714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4500"/>
            </a:br>
            <a:r>
              <a:rPr b="1" lang="ru-RU" sz="2000" spc="-1" strike="noStrike">
                <a:solidFill>
                  <a:srgbClr val="072428"/>
                </a:solidFill>
                <a:latin typeface="Calibri"/>
              </a:rPr>
              <a:t>Сравнение, обобщение, группировка, классификация </a:t>
            </a:r>
            <a:br>
              <a:rPr sz="4900"/>
            </a:b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Выделение существенных признаков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57120" y="2500200"/>
            <a:ext cx="8229600" cy="34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Летает – не летает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ъедобное – не съедобное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Я знаю, что красным (сильным, глубоким, тяжёлым, круглым,  красивым…) бывает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тгадывание и составление описательных загадок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1633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2428"/>
                </a:solidFill>
                <a:latin typeface="Calibri"/>
              </a:rPr>
              <a:t>Сравнение, обобщение, группировка,     классификация </a:t>
            </a: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Сравнение предметов и явлений по  свойствам и качествам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00040" y="21427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Что на что похоже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Зима – лето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Найди предмет, не похожий на другие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Найди ошибку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равни картинки, найди отличи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Что изменилось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6" name="Рисунок 3" descr=""/>
          <p:cNvPicPr/>
          <p:nvPr/>
        </p:nvPicPr>
        <p:blipFill>
          <a:blip r:embed="rId1"/>
          <a:stretch/>
        </p:blipFill>
        <p:spPr>
          <a:xfrm>
            <a:off x="4714920" y="2214720"/>
            <a:ext cx="1000080" cy="992160"/>
          </a:xfrm>
          <a:prstGeom prst="rect">
            <a:avLst/>
          </a:prstGeom>
          <a:ln w="0">
            <a:noFill/>
          </a:ln>
        </p:spPr>
      </p:pic>
      <p:sp>
        <p:nvSpPr>
          <p:cNvPr id="137" name="Прямоугольник 4"/>
          <p:cNvSpPr/>
          <p:nvPr/>
        </p:nvSpPr>
        <p:spPr>
          <a:xfrm>
            <a:off x="928800" y="3786120"/>
            <a:ext cx="1357200" cy="7858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5"/>
          <p:cNvSpPr/>
          <p:nvPr/>
        </p:nvSpPr>
        <p:spPr>
          <a:xfrm>
            <a:off x="2786040" y="3786120"/>
            <a:ext cx="857160" cy="7858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Овал 6"/>
          <p:cNvSpPr/>
          <p:nvPr/>
        </p:nvSpPr>
        <p:spPr>
          <a:xfrm>
            <a:off x="4214880" y="3714840"/>
            <a:ext cx="857160" cy="85716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Равнобедренный треугольник 7"/>
          <p:cNvSpPr/>
          <p:nvPr/>
        </p:nvSpPr>
        <p:spPr>
          <a:xfrm>
            <a:off x="5715000" y="3786120"/>
            <a:ext cx="857160" cy="785880"/>
          </a:xfrm>
          <a:prstGeom prst="triangle">
            <a:avLst>
              <a:gd name="adj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Трапеция 8"/>
          <p:cNvSpPr/>
          <p:nvPr/>
        </p:nvSpPr>
        <p:spPr>
          <a:xfrm>
            <a:off x="7358040" y="3786120"/>
            <a:ext cx="1000080" cy="714600"/>
          </a:xfrm>
          <a:custGeom>
            <a:avLst/>
            <a:gdLst/>
            <a:ahLst/>
            <a:rect l="l" t="t" r="r" b="b"/>
            <a:pathLst>
              <a:path w="1000125" h="714375">
                <a:moveTo>
                  <a:pt x="0" y="714375"/>
                </a:moveTo>
                <a:lnTo>
                  <a:pt x="178594" y="0"/>
                </a:lnTo>
                <a:lnTo>
                  <a:pt x="821531" y="0"/>
                </a:lnTo>
                <a:lnTo>
                  <a:pt x="1000125" y="714375"/>
                </a:lnTo>
                <a:lnTo>
                  <a:pt x="0" y="714375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2"/>
          <a:stretch/>
        </p:blipFill>
        <p:spPr>
          <a:xfrm>
            <a:off x="6786720" y="4643280"/>
            <a:ext cx="2000160" cy="189252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28400" y="428400"/>
            <a:ext cx="8258040" cy="1847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1" lang="ru-RU" sz="3200" spc="-1" strike="noStrike">
                <a:solidFill>
                  <a:srgbClr val="072428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72428"/>
                </a:solidFill>
                <a:latin typeface="Calibri"/>
              </a:rPr>
              <a:t>Сравнение, обобщение, группировка, классификация </a:t>
            </a:r>
            <a:br>
              <a:rPr sz="2000"/>
            </a:b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Знакомство с родо-видовыми отношениями и противоположными понятиями, </a:t>
            </a:r>
            <a:br>
              <a:rPr sz="3200"/>
            </a:b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группировка и классификация предметов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2571840"/>
            <a:ext cx="8229600" cy="37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кажи наоборот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Вопрос – ответ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Назови одним словом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Я знаю 5 названий одежды (обуви, мебели…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4-й лишний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Что общего и чем отличаются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Установление аналогий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Найди нелепые ситуации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Чего не бывает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46" name="Содержимое 3" descr="P2130911.JPG"/>
          <p:cNvPicPr/>
          <p:nvPr/>
        </p:nvPicPr>
        <p:blipFill>
          <a:blip r:embed="rId1"/>
          <a:stretch/>
        </p:blipFill>
        <p:spPr>
          <a:xfrm>
            <a:off x="6715080" y="4437000"/>
            <a:ext cx="1816200" cy="2421000"/>
          </a:xfrm>
          <a:prstGeom prst="rect">
            <a:avLst/>
          </a:prstGeom>
          <a:ln w="57240">
            <a:solidFill>
              <a:srgbClr val="083763"/>
            </a:solidFill>
            <a:miter/>
          </a:ln>
        </p:spPr>
      </p:pic>
      <p:sp>
        <p:nvSpPr>
          <p:cNvPr id="147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7T11:54:12Z</dcterms:created>
  <dc:creator>Admin</dc:creator>
  <dc:description/>
  <dc:language>en-US</dc:language>
  <cp:lastModifiedBy>LEGION</cp:lastModifiedBy>
  <dcterms:modified xsi:type="dcterms:W3CDTF">2015-01-27T11:57:39Z</dcterms:modified>
  <cp:revision>150</cp:revision>
  <dc:subject/>
  <dc:title>Развитие логического мышления  у детей дошкольного возраста</dc:title>
</cp:coreProperties>
</file>