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12.wmf" ContentType="image/x-wmf"/>
  <Override PartName="/ppt/media/image4.png" ContentType="image/png"/>
  <Override PartName="/ppt/media/image23.jpeg" ContentType="image/jpeg"/>
  <Override PartName="/ppt/media/image20.gif" ContentType="image/gif"/>
  <Override PartName="/ppt/media/image21.jpeg" ContentType="image/jpeg"/>
  <Override PartName="/ppt/media/image16.wmf" ContentType="image/x-wmf"/>
  <Override PartName="/ppt/media/image14.wmf" ContentType="image/x-wmf"/>
  <Override PartName="/ppt/media/image15.wmf" ContentType="image/x-wmf"/>
  <Override PartName="/ppt/media/image22.jpeg" ContentType="image/jpeg"/>
  <Override PartName="/ppt/media/image1.jpeg" ContentType="image/jpe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23319-DC3F-45F2-8B6C-E5DA6582EF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200" spc="-1" strike="noStrike">
                <a:solidFill>
                  <a:srgbClr val="4a452a"/>
                </a:solidFill>
                <a:latin typeface="Calibri"/>
              </a:rPr>
              <a:t>Развитие </a:t>
            </a:r>
            <a:br>
              <a:rPr sz="1200"/>
            </a:br>
            <a:r>
              <a:rPr b="0" lang="ru-RU" sz="1200" spc="-1" strike="noStrike">
                <a:solidFill>
                  <a:srgbClr val="4a452a"/>
                </a:solidFill>
                <a:latin typeface="Calibri"/>
              </a:rPr>
              <a:t>логического мышления </a:t>
            </a:r>
            <a:br>
              <a:rPr sz="1200"/>
            </a:br>
            <a:r>
              <a:rPr b="0" lang="ru-RU" sz="1200" spc="-1" strike="noStrike">
                <a:solidFill>
                  <a:srgbClr val="4a452a"/>
                </a:solidFill>
                <a:latin typeface="Calibri"/>
              </a:rPr>
              <a:t>у детей дошкольного возраста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c </a:t>
            </a:r>
            <a:r>
              <a:rPr b="0" lang="ru-RU" sz="1200" spc="-1" strike="noStrike">
                <a:solidFill>
                  <a:srgbClr val="4a452a"/>
                </a:solidFill>
                <a:latin typeface="Calibri"/>
              </a:rPr>
              <a:t> речевыми нарушениям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Учитель-логопед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высшей категории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Филипенко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Галина Петровн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9993C-AA84-4E68-ADCC-1C1EB949CC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делирование, алгоритмы,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мбинатор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сположи, назови по-порядк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сначала, что пот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поч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становление последовательностей и логических ря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29EB8-51DB-40FC-B8B9-9C9256F7C4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Комбинаторик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едини все фигурки в цепочку так, чтобы арбуз был пятым, а снеговик предпоследн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айди истинное и ложное утверждение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этой цепочке 5-я буква – 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этой цепочке 3-я буква – 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этой цепочке 2-я и 4-я буквы раз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этой цепочке 1-я буква – соглас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35BA3-C0C4-4576-B69A-31D36F7ABE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дачи на смекалку, догадку,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спользование элементарной научной информ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 на определение возрас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 на отриц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 на различ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 на сравн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 на совмещ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 на причинно-следственные зависим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 на соотнесение понятий и предме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огико-поисковые задачи; Сколько человек тянули репку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-шутки (</a:t>
            </a:r>
            <a:r>
              <a:rPr b="1" lang="ru-RU" sz="1200" spc="-1" strike="noStrike">
                <a:solidFill>
                  <a:srgbClr val="632523"/>
                </a:solidFill>
                <a:latin typeface="Sylfaen"/>
                <a:ea typeface="Times New Roman"/>
              </a:rPr>
              <a:t> Что едят жирафы, когда земля покрыта снегом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166EC-5A15-496A-8158-B98BC9525A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ребу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DE253-6E70-41C3-9E75-8F1D2D3DE9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шение кресскрос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E0CE5-57DB-41C6-94F7-64B4B5F67B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знание человеком окружающего мира осуществляется в двух основных форма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чувственное познани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абстрактное мышлени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938CA-6483-48E1-B962-4FF5C44528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апы становления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огического мыш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A65F4-CF85-4275-ABBD-94C0847CF8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обенности речи и мышления у детей с ОН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удность в  усвоении отвлеченных и обобщающих понят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10000"/>
              </a:lnSpc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мена родовых понятий видовыми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210000"/>
              </a:lnSpc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ксический запас характеризуется стереотипность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210000"/>
              </a:lnSpc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удности в программировании своего высказы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0000"/>
              </a:lnSpc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доступность осмысления и употребления сложных речевых конструкц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доступность для понимания метафор и сравнений, слов с переносным значением, скрытого смысла загадок и послови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31CB9-BC09-4A1E-B7A9-1672B3127D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апы формирования логического мышления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 дошколь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равнение, обобщение, группировк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ассифик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дел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лгорит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мбинатор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н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мекалку, догадку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элементарной научной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очне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крытого смысла загадок, послов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бусов, кресс-крос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20D56-F384-4FB7-8D56-CCE6F1963F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равнение, обобщение,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уппировка, классифик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деление существенных призна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равнение предметов и явлений по  свойствам и качества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накомство с родо-видовыми отношениями и противоположными понятиями, группировка предме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ассификация предметов (по одному, двум и более признака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53AF6-999D-4A10-AB66-2AEBCEAC5D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r>
              <a:rPr b="1" lang="ru-RU" sz="1100" spc="-1" strike="noStrike">
                <a:solidFill>
                  <a:srgbClr val="1e1c11"/>
                </a:solidFill>
                <a:latin typeface="Calibri"/>
              </a:rPr>
              <a:t>Сравнение, обобщение, группировка, классификация </a:t>
            </a:r>
            <a:br>
              <a:rPr sz="28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деление существенных призна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тает – не летае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ъедобное – не съедобно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 знаю, что красным (сильным, глубоким, тяжёлым, круглым,  красивым…) бывае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гадывание и составление описательных загад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56F64-32BC-403B-B232-177AE83E79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1e1c11"/>
                </a:solidFill>
                <a:latin typeface="Calibri"/>
              </a:rPr>
              <a:t>Сравнение, обобщение, группировка,     классификаци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равнение предметов и явлений по  свойствам и качеств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на что похож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има – лет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йди предмет, не похожий на друг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йди ошибку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равни картинки, найди отлич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изменилос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3A8D2-5C60-4D06-A8C5-47C467A07C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600" spc="-1" strike="noStrike">
                <a:solidFill>
                  <a:srgbClr val="1e1c11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1e1c11"/>
                </a:solidFill>
                <a:latin typeface="Calibri"/>
              </a:rPr>
              <a:t>Сравнение, обобщение, группировка, классификация </a:t>
            </a:r>
            <a:br>
              <a:rPr sz="11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Знакомство с родо-видовыми отношениями и противоположными понятиями,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группировка и классификация предмет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кажи наоборо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прос – отве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зови одним слов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 знаю 5 названий одежды (обуви, мебели…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-й лиш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общего и чем отличаютс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становление аналог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Найди нелепые ситуации.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Чего не бывает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88E39-3C7D-4C4B-A836-FC61EDBE2C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EF50-E990-4301-B245-25E0ECD11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0740-51AD-4EA2-83BE-E950A0347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A89D-236D-4D24-ABE2-8DF5E51CC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E3EF-FBE8-4DCD-A79C-8011AE6B7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17034-1B5B-4251-8916-156ACF537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467C6-278E-427A-8608-7BBB25BE4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8BD6C-C9AA-411A-931E-7E8C9499B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4FC1C-49D0-42F3-9043-6EA6D8BA7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CF55E-E251-4CFB-A74B-EC5F1DA44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A265D-A400-4AA4-83F2-01078EEE8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CDC34-539F-45C7-8733-69387989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D6D4-F010-43C3-9341-E1EFACF85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9CBA7-2E14-47F4-9793-229162AA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45C8D-F1F3-46FA-9860-7F170DBD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75E5F-02B1-4594-9998-2F25F98E6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CDAF0-955B-4D5B-A2FC-D58338CC1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F8297-756C-4613-9DCA-0ECE00684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3006-6AFD-46F4-8CB3-2F12D1D74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0283-6210-4FCE-801E-7961C3AC7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848E-36A0-4D2E-AE05-662E96068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D00C-1449-4360-8887-517FDFB37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2A0A-C67E-4C90-93C8-9E5FB195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E6C8-E1F0-467B-8EE2-B86A7408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5410-2CBD-446C-9394-69BEA383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D5225-2B06-45A3-AFAB-3A797B4EF8FC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003B0-FA02-4771-BE77-413198DA5E5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B9DC1-0457-4F4E-8847-0377E1DE0333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69B59-0CDF-4AFF-B8F0-A495DB38CB9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311040" y="360360"/>
            <a:ext cx="8204400" cy="3571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3857400" y="4071960"/>
            <a:ext cx="4857480" cy="22147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Учитель-логопед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ысшей категории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Филипенко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Галина Петровн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004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Моделирование, алгоритмы, </a:t>
            </a: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комбинаторика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2142720"/>
            <a:ext cx="8229600" cy="26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Расположи, назови по-порядку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Что сначала, что пото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Цепочк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Установление последовательностей и логических ряд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rcRect l="5542" t="19147" r="0" b="12629"/>
          <a:stretch/>
        </p:blipFill>
        <p:spPr>
          <a:xfrm>
            <a:off x="6321600" y="2071800"/>
            <a:ext cx="2822400" cy="1990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C:\Documents and Settings\Администратор\Мои документы\Мои документы\Мои рисунки\Новая папка\P2080811.JPG"/>
          <p:cNvPicPr/>
          <p:nvPr/>
        </p:nvPicPr>
        <p:blipFill>
          <a:blip r:embed="rId2"/>
          <a:stretch/>
        </p:blipFill>
        <p:spPr>
          <a:xfrm>
            <a:off x="2786040" y="4572000"/>
            <a:ext cx="2071800" cy="155412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572000" y="1071720"/>
            <a:ext cx="403848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айди истинное и ложное утверждение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В этой цепочке 5-я буква – о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В этой цепочке 3-я буква – л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В этой цепочке 2-я и 4-я буквы разны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В этой цепочке 1-я буква – согласна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4" name="Заголовок 8"/>
          <p:cNvGrpSpPr/>
          <p:nvPr/>
        </p:nvGrpSpPr>
        <p:grpSpPr>
          <a:xfrm>
            <a:off x="500040" y="0"/>
            <a:ext cx="8375760" cy="1212840"/>
            <a:chOff x="500040" y="0"/>
            <a:chExt cx="8375760" cy="1212840"/>
          </a:xfrm>
        </p:grpSpPr>
        <p:pic>
          <p:nvPicPr>
            <p:cNvPr id="155" name="Заголовок 8" descr=""/>
            <p:cNvPicPr/>
            <p:nvPr/>
          </p:nvPicPr>
          <p:blipFill>
            <a:blip r:embed="rId1"/>
            <a:stretch/>
          </p:blipFill>
          <p:spPr>
            <a:xfrm>
              <a:off x="500040" y="0"/>
              <a:ext cx="837576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571680" y="285840"/>
              <a:ext cx="822960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ffffff"/>
                  </a:solidFill>
                  <a:latin typeface="Constantia"/>
                </a:rPr>
                <a:t>Комбинаторика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 txBox="1"/>
          <p:nvPr/>
        </p:nvSpPr>
        <p:spPr>
          <a:xfrm>
            <a:off x="457200" y="1000080"/>
            <a:ext cx="4038480" cy="53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Соедини все фигурки в цепочку так, чтобы арбуз был пятым, а снеговик предпоследним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8" name="Picture 6" descr="E:\ClipArt2\j0232671.wmf"/>
          <p:cNvPicPr/>
          <p:nvPr/>
        </p:nvPicPr>
        <p:blipFill>
          <a:blip r:embed="rId2"/>
          <a:stretch/>
        </p:blipFill>
        <p:spPr>
          <a:xfrm>
            <a:off x="500040" y="3714840"/>
            <a:ext cx="1009800" cy="14079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E:\ClipArt2\j0215164.wmf"/>
          <p:cNvPicPr/>
          <p:nvPr/>
        </p:nvPicPr>
        <p:blipFill>
          <a:blip r:embed="rId3"/>
          <a:stretch/>
        </p:blipFill>
        <p:spPr>
          <a:xfrm>
            <a:off x="1928880" y="2571840"/>
            <a:ext cx="1066680" cy="14461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E:\ClipArt2\j0215163.wmf"/>
          <p:cNvPicPr/>
          <p:nvPr/>
        </p:nvPicPr>
        <p:blipFill>
          <a:blip r:embed="rId4"/>
          <a:stretch/>
        </p:blipFill>
        <p:spPr>
          <a:xfrm>
            <a:off x="3214800" y="3571920"/>
            <a:ext cx="1214280" cy="1155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E:\ClipArt2\j0232724.wmf"/>
          <p:cNvPicPr/>
          <p:nvPr/>
        </p:nvPicPr>
        <p:blipFill>
          <a:blip r:embed="rId5"/>
          <a:stretch/>
        </p:blipFill>
        <p:spPr>
          <a:xfrm>
            <a:off x="1285920" y="5000760"/>
            <a:ext cx="1738440" cy="15364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E:\ClipArt1\j0199719.wmf"/>
          <p:cNvPicPr/>
          <p:nvPr/>
        </p:nvPicPr>
        <p:blipFill>
          <a:blip r:embed="rId6"/>
          <a:stretch/>
        </p:blipFill>
        <p:spPr>
          <a:xfrm>
            <a:off x="3357720" y="5214960"/>
            <a:ext cx="1054080" cy="107172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11"/>
          <p:cNvSpPr/>
          <p:nvPr/>
        </p:nvSpPr>
        <p:spPr>
          <a:xfrm>
            <a:off x="4786200" y="4572000"/>
            <a:ext cx="857520" cy="7858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onstantia"/>
              </a:rPr>
              <a:t>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12"/>
          <p:cNvSpPr/>
          <p:nvPr/>
        </p:nvSpPr>
        <p:spPr>
          <a:xfrm>
            <a:off x="7715160" y="4643280"/>
            <a:ext cx="857520" cy="7858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onstantia"/>
              </a:rPr>
              <a:t>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13"/>
          <p:cNvSpPr/>
          <p:nvPr/>
        </p:nvSpPr>
        <p:spPr>
          <a:xfrm>
            <a:off x="6715080" y="4572000"/>
            <a:ext cx="857160" cy="7858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onstantia"/>
              </a:rPr>
              <a:t>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14"/>
          <p:cNvSpPr/>
          <p:nvPr/>
        </p:nvSpPr>
        <p:spPr>
          <a:xfrm>
            <a:off x="5715000" y="4643280"/>
            <a:ext cx="857160" cy="7858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onstantia"/>
              </a:rPr>
              <a:t>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Прямая со стрелкой 17"/>
          <p:cNvCxnSpPr/>
          <p:nvPr/>
        </p:nvCxnSpPr>
        <p:spPr>
          <a:xfrm>
            <a:off x="4785840" y="4928760"/>
            <a:ext cx="4072680" cy="1080"/>
          </a:xfrm>
          <a:prstGeom prst="straightConnector1">
            <a:avLst/>
          </a:prstGeom>
          <a:ln w="381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168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8760" y="856800"/>
            <a:ext cx="8229600" cy="1562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Задачи на смекалку, догадку, </a:t>
            </a:r>
            <a:br>
              <a:rPr sz="3600"/>
            </a:b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использование элементарной научной информации.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500040" y="2643120"/>
            <a:ext cx="8229600" cy="36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адачи на определение возраст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адачи на отрицание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адачи на различие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адачи на сравнение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адачи на совмещение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адачи на причинно-следственные зависимости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адачи на соотнесение понятий и предметов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Логико-поисковые задачи; Сколько человек тянули репку?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адачи-шутки (</a:t>
            </a:r>
            <a:r>
              <a:rPr b="1" lang="ru-RU" sz="1800" spc="-1" strike="noStrike">
                <a:solidFill>
                  <a:srgbClr val="004e6d"/>
                </a:solidFill>
                <a:latin typeface="Sylfaen"/>
                <a:ea typeface="Times New Roman"/>
              </a:rPr>
              <a:t> Что едят жирафы, когда земля покрыта снегом?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5929200" y="2214720"/>
            <a:ext cx="2928960" cy="2571480"/>
          </a:xfrm>
          <a:prstGeom prst="rect">
            <a:avLst/>
          </a:prstGeom>
          <a:solidFill>
            <a:srgbClr val="c8e3fb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e6d"/>
                </a:solidFill>
                <a:latin typeface="Sylfaen"/>
                <a:ea typeface="Times New Roman"/>
              </a:rPr>
              <a:t>Петя, Нина, Надя, Вова и Юра играли в прят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e6d"/>
                </a:solidFill>
                <a:latin typeface="Sylfaen"/>
                <a:ea typeface="Times New Roman"/>
              </a:rPr>
              <a:t>Кого было больше: мальчиков или девоче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6" descr=""/>
          <p:cNvPicPr/>
          <p:nvPr/>
        </p:nvPicPr>
        <p:blipFill>
          <a:blip r:embed="rId1"/>
          <a:srcRect l="0" t="0" r="4582" b="0"/>
          <a:stretch/>
        </p:blipFill>
        <p:spPr>
          <a:xfrm>
            <a:off x="6143760" y="2357280"/>
            <a:ext cx="2260440" cy="1000440"/>
          </a:xfrm>
          <a:prstGeom prst="rect">
            <a:avLst/>
          </a:prstGeom>
          <a:ln w="0">
            <a:noFill/>
          </a:ln>
        </p:spPr>
      </p:pic>
      <p:sp>
        <p:nvSpPr>
          <p:cNvPr id="173" name="Текст 2"/>
          <p:cNvSpPr/>
          <p:nvPr/>
        </p:nvSpPr>
        <p:spPr>
          <a:xfrm>
            <a:off x="4286160" y="4678200"/>
            <a:ext cx="2210040" cy="21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Заголовок 1"/>
          <p:cNvGrpSpPr/>
          <p:nvPr/>
        </p:nvGrpSpPr>
        <p:grpSpPr>
          <a:xfrm>
            <a:off x="1139760" y="360360"/>
            <a:ext cx="6937560" cy="1339920"/>
            <a:chOff x="1139760" y="360360"/>
            <a:chExt cx="6937560" cy="1339920"/>
          </a:xfrm>
        </p:grpSpPr>
        <p:pic>
          <p:nvPicPr>
            <p:cNvPr id="176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1139760" y="360360"/>
              <a:ext cx="6937560" cy="13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1214280" y="642960"/>
              <a:ext cx="678672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500" spc="-1" strike="noStrike">
                  <a:solidFill>
                    <a:srgbClr val="ffffff"/>
                  </a:solidFill>
                  <a:latin typeface="Constantia"/>
                </a:rPr>
                <a:t>Решение ребусов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 txBox="1"/>
          <p:nvPr/>
        </p:nvSpPr>
        <p:spPr>
          <a:xfrm>
            <a:off x="428760" y="2214720"/>
            <a:ext cx="818352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2"/>
          <a:stretch/>
        </p:blipFill>
        <p:spPr>
          <a:xfrm>
            <a:off x="1214280" y="1357200"/>
            <a:ext cx="6500880" cy="51436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E:\Animated\j0283248.gif"/>
          <p:cNvPicPr/>
          <p:nvPr/>
        </p:nvPicPr>
        <p:blipFill>
          <a:blip r:embed="rId3"/>
          <a:stretch/>
        </p:blipFill>
        <p:spPr>
          <a:xfrm>
            <a:off x="428760" y="3143160"/>
            <a:ext cx="1643040" cy="114300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18352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Решение кресскроссов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83" name="Picture 2" descr="C:\Documents and Settings\Администратор\Мои документы\Мои документы\Мои рисунки\Новая папка\P2080839.JPG"/>
          <p:cNvPicPr/>
          <p:nvPr/>
        </p:nvPicPr>
        <p:blipFill>
          <a:blip r:embed="rId1"/>
          <a:stretch/>
        </p:blipFill>
        <p:spPr>
          <a:xfrm>
            <a:off x="2643120" y="1143000"/>
            <a:ext cx="4000680" cy="3000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C:\Documents and Settings\Администратор\Мои документы\Мои документы\Мои рисунки\Новая папка\P2080840.JPG"/>
          <p:cNvPicPr/>
          <p:nvPr/>
        </p:nvPicPr>
        <p:blipFill>
          <a:blip r:embed="rId2"/>
          <a:stretch/>
        </p:blipFill>
        <p:spPr>
          <a:xfrm>
            <a:off x="285840" y="3429000"/>
            <a:ext cx="4298760" cy="32241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C:\Documents and Settings\Администратор\Мои документы\Мои документы\Мои рисунки\Новая папка\P2080843.JPG"/>
          <p:cNvPicPr/>
          <p:nvPr/>
        </p:nvPicPr>
        <p:blipFill>
          <a:blip r:embed="rId3"/>
          <a:stretch/>
        </p:blipFill>
        <p:spPr>
          <a:xfrm>
            <a:off x="4714920" y="3571920"/>
            <a:ext cx="4143240" cy="310680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Познание человеком окружающего мира осуществляется в двух основных формах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71680" y="18572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чувственное познани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абстрактное мышлени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Прямоугольник 3"/>
          <p:cNvSpPr/>
          <p:nvPr/>
        </p:nvSpPr>
        <p:spPr>
          <a:xfrm>
            <a:off x="642960" y="3105000"/>
            <a:ext cx="8072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е формы логического мыш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Группа 4"/>
          <p:cNvGrpSpPr/>
          <p:nvPr/>
        </p:nvGrpSpPr>
        <p:grpSpPr>
          <a:xfrm>
            <a:off x="3929040" y="3286080"/>
            <a:ext cx="2428920" cy="2171880"/>
            <a:chOff x="3929040" y="3286080"/>
            <a:chExt cx="2428920" cy="2171880"/>
          </a:xfrm>
        </p:grpSpPr>
        <p:sp>
          <p:nvSpPr>
            <p:cNvPr id="109" name="Овал 5"/>
            <p:cNvSpPr/>
            <p:nvPr/>
          </p:nvSpPr>
          <p:spPr>
            <a:xfrm>
              <a:off x="3929040" y="3286080"/>
              <a:ext cx="2428920" cy="2171880"/>
            </a:xfrm>
            <a:prstGeom prst="ellipse">
              <a:avLst/>
            </a:prstGeom>
            <a:solidFill>
              <a:srgbClr val="009dd9">
                <a:alpha val="5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Овал 4"/>
            <p:cNvSpPr/>
            <p:nvPr/>
          </p:nvSpPr>
          <p:spPr>
            <a:xfrm>
              <a:off x="4252680" y="3665520"/>
              <a:ext cx="1781280" cy="97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onstantia"/>
                </a:rPr>
                <a:t>Понят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Группа 7"/>
          <p:cNvGrpSpPr/>
          <p:nvPr/>
        </p:nvGrpSpPr>
        <p:grpSpPr>
          <a:xfrm>
            <a:off x="2643120" y="4429080"/>
            <a:ext cx="3000600" cy="2428920"/>
            <a:chOff x="2643120" y="4429080"/>
            <a:chExt cx="3000600" cy="2428920"/>
          </a:xfrm>
        </p:grpSpPr>
        <p:sp>
          <p:nvSpPr>
            <p:cNvPr id="112" name="Овал 8"/>
            <p:cNvSpPr/>
            <p:nvPr/>
          </p:nvSpPr>
          <p:spPr>
            <a:xfrm>
              <a:off x="2643120" y="4429080"/>
              <a:ext cx="3000600" cy="2428920"/>
            </a:xfrm>
            <a:prstGeom prst="ellipse">
              <a:avLst/>
            </a:prstGeom>
            <a:solidFill>
              <a:srgbClr val="009dd9">
                <a:alpha val="5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Овал 4"/>
            <p:cNvSpPr/>
            <p:nvPr/>
          </p:nvSpPr>
          <p:spPr>
            <a:xfrm>
              <a:off x="3062160" y="4714560"/>
              <a:ext cx="1730520" cy="185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onstantia"/>
                </a:rPr>
                <a:t>Сужд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Группа 10"/>
          <p:cNvGrpSpPr/>
          <p:nvPr/>
        </p:nvGrpSpPr>
        <p:grpSpPr>
          <a:xfrm>
            <a:off x="5214960" y="4429080"/>
            <a:ext cx="2928960" cy="2428920"/>
            <a:chOff x="5214960" y="4429080"/>
            <a:chExt cx="2928960" cy="2428920"/>
          </a:xfrm>
        </p:grpSpPr>
        <p:sp>
          <p:nvSpPr>
            <p:cNvPr id="115" name="Овал 11"/>
            <p:cNvSpPr/>
            <p:nvPr/>
          </p:nvSpPr>
          <p:spPr>
            <a:xfrm>
              <a:off x="5214960" y="4429080"/>
              <a:ext cx="2928960" cy="2428920"/>
            </a:xfrm>
            <a:prstGeom prst="ellipse">
              <a:avLst/>
            </a:prstGeom>
            <a:solidFill>
              <a:srgbClr val="009dd9">
                <a:alpha val="5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Овал 4"/>
            <p:cNvSpPr/>
            <p:nvPr/>
          </p:nvSpPr>
          <p:spPr>
            <a:xfrm>
              <a:off x="5643360" y="4784400"/>
              <a:ext cx="2071800" cy="171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onstantia"/>
                </a:rPr>
                <a:t>Умозак-люч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Этапы становления </a:t>
            </a: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логического мышлени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0" name="Схема 4" descr=""/>
          <p:cNvPicPr/>
          <p:nvPr/>
        </p:nvPicPr>
        <p:blipFill>
          <a:blip r:embed="rId1"/>
          <a:stretch/>
        </p:blipFill>
        <p:spPr>
          <a:xfrm>
            <a:off x="560520" y="2030400"/>
            <a:ext cx="8022960" cy="451656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Особенности речи и мышления у детей с ОНР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2876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just"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Трудность в  усвоении отвлеченных и обобщающих понятий;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21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Замена родовых понятий видовыми</a:t>
            </a:r>
            <a:r>
              <a:rPr b="1" i="1" lang="ru-RU" sz="2100" spc="-1" strike="noStrike">
                <a:solidFill>
                  <a:srgbClr val="000000"/>
                </a:solidFill>
                <a:latin typeface="Constantia"/>
              </a:rPr>
              <a:t>;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lnSpc>
                <a:spcPct val="21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Лексический запас характеризуется стереотипностью;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lnSpc>
                <a:spcPct val="21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Трудности в программировании своего высказывания;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lnSpc>
                <a:spcPct val="12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Недоступность осмысления и употребления сложных речевых конструкций;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lnSpc>
                <a:spcPct val="11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Недоступность для понимания метафор и сравнений, слов с переносным значением, скрытого смысла загадок и пословиц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Этапы формирования логического мышления </a:t>
            </a: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у дошкольников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2857680"/>
            <a:ext cx="8229600" cy="34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равнение, обобщение, группировк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лассификаци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Моделировани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Алгоритмы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омбинаторик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Задачи на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мекалку, догадку,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спользование элементарной научной информаци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точнение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крытого смысла загадок, пословиц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ешение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ребусов, кресс-кроссо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571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Сравнение, обобщение, </a:t>
            </a: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группировка, классификаци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2357280"/>
            <a:ext cx="822960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ыделение существенных признаков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равнение предметов и явлений по  свойствам и качества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Знакомство с родо-видовыми отношениями и противоположными понятиями, группировка предметов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Классификация предметов (по одному, двум и более признакам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4500"/>
            </a:br>
            <a:r>
              <a:rPr b="1" lang="ru-RU" sz="2000" spc="-1" strike="noStrike">
                <a:solidFill>
                  <a:srgbClr val="072428"/>
                </a:solidFill>
                <a:latin typeface="Calibri"/>
              </a:rPr>
              <a:t>Сравнение, обобщение, группировка, классификация </a:t>
            </a:r>
            <a:br>
              <a:rPr sz="4900"/>
            </a:b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Выделение существенных признаков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7120" y="2500200"/>
            <a:ext cx="822960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Летает – не летает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ъедобное – не съедобно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Я знаю, что красным (сильным, глубоким, тяжёлым, круглым,  красивым…) бывает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тгадывание и составление описательных загадок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633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2428"/>
                </a:solidFill>
                <a:latin typeface="Calibri"/>
              </a:rPr>
              <a:t>Сравнение, обобщение, группировка,     классификация </a:t>
            </a: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Сравнение предметов и явлений по  свойствам и качествам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00040" y="21427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Что на что похож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Зима – лето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Найди предмет, не похожий на други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Найди ошибку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равни картинки, найди отличи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Что изменилось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6" name="Рисунок 3" descr=""/>
          <p:cNvPicPr/>
          <p:nvPr/>
        </p:nvPicPr>
        <p:blipFill>
          <a:blip r:embed="rId1"/>
          <a:stretch/>
        </p:blipFill>
        <p:spPr>
          <a:xfrm>
            <a:off x="4714920" y="2214720"/>
            <a:ext cx="1000080" cy="99216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оугольник 4"/>
          <p:cNvSpPr/>
          <p:nvPr/>
        </p:nvSpPr>
        <p:spPr>
          <a:xfrm>
            <a:off x="928800" y="3786120"/>
            <a:ext cx="1357200" cy="7858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5"/>
          <p:cNvSpPr/>
          <p:nvPr/>
        </p:nvSpPr>
        <p:spPr>
          <a:xfrm>
            <a:off x="2786040" y="3786120"/>
            <a:ext cx="857160" cy="7858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Овал 6"/>
          <p:cNvSpPr/>
          <p:nvPr/>
        </p:nvSpPr>
        <p:spPr>
          <a:xfrm>
            <a:off x="4214880" y="3714840"/>
            <a:ext cx="857160" cy="85716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Равнобедренный треугольник 7"/>
          <p:cNvSpPr/>
          <p:nvPr/>
        </p:nvSpPr>
        <p:spPr>
          <a:xfrm>
            <a:off x="5715000" y="3786120"/>
            <a:ext cx="857160" cy="785880"/>
          </a:xfrm>
          <a:prstGeom prst="triangle">
            <a:avLst>
              <a:gd name="adj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Трапеция 8"/>
          <p:cNvSpPr/>
          <p:nvPr/>
        </p:nvSpPr>
        <p:spPr>
          <a:xfrm>
            <a:off x="7358040" y="3786120"/>
            <a:ext cx="1000080" cy="714600"/>
          </a:xfrm>
          <a:custGeom>
            <a:avLst/>
            <a:gdLst/>
            <a:ahLst/>
            <a:rect l="l" t="t" r="r" b="b"/>
            <a:pathLst>
              <a:path w="1000125" h="714375">
                <a:moveTo>
                  <a:pt x="0" y="714375"/>
                </a:moveTo>
                <a:lnTo>
                  <a:pt x="178594" y="0"/>
                </a:lnTo>
                <a:lnTo>
                  <a:pt x="821531" y="0"/>
                </a:lnTo>
                <a:lnTo>
                  <a:pt x="1000125" y="714375"/>
                </a:lnTo>
                <a:lnTo>
                  <a:pt x="0" y="714375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2"/>
          <a:stretch/>
        </p:blipFill>
        <p:spPr>
          <a:xfrm>
            <a:off x="6786720" y="4643280"/>
            <a:ext cx="2000160" cy="189252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28400" y="428400"/>
            <a:ext cx="825804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1" lang="ru-RU" sz="3200" spc="-1" strike="noStrike">
                <a:solidFill>
                  <a:srgbClr val="072428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72428"/>
                </a:solidFill>
                <a:latin typeface="Calibri"/>
              </a:rPr>
              <a:t>Сравнение, обобщение, группировка, классификация </a:t>
            </a:r>
            <a:br>
              <a:rPr sz="2000"/>
            </a:b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Знакомство с родо-видовыми отношениями и противоположными понятиями, </a:t>
            </a:r>
            <a:br>
              <a:rPr sz="3200"/>
            </a:b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группировка и классификация предметов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2571840"/>
            <a:ext cx="8229600" cy="37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кажи наоборот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опрос – ответ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Назови одним слово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Я знаю 5 названий одежды (обуви, мебели…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4-й лишни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Что общего и чем отличаются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Установление аналоги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айди нелепые ситуации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Чего не бывает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6" name="Содержимое 3" descr="P2130911.JPG"/>
          <p:cNvPicPr/>
          <p:nvPr/>
        </p:nvPicPr>
        <p:blipFill>
          <a:blip r:embed="rId1"/>
          <a:stretch/>
        </p:blipFill>
        <p:spPr>
          <a:xfrm>
            <a:off x="6715080" y="4437000"/>
            <a:ext cx="1816200" cy="2421000"/>
          </a:xfrm>
          <a:prstGeom prst="rect">
            <a:avLst/>
          </a:prstGeom>
          <a:ln w="57240">
            <a:solidFill>
              <a:srgbClr val="083763"/>
            </a:solidFill>
            <a:miter/>
          </a:ln>
        </p:spPr>
      </p:pic>
      <p:sp>
        <p:nvSpPr>
          <p:cNvPr id="147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7T11:54:12Z</dcterms:created>
  <dc:creator>Admin</dc:creator>
  <dc:description/>
  <dc:language>en-US</dc:language>
  <cp:lastModifiedBy>LEGION</cp:lastModifiedBy>
  <dcterms:modified xsi:type="dcterms:W3CDTF">2015-01-27T11:57:39Z</dcterms:modified>
  <cp:revision>150</cp:revision>
  <dc:subject/>
  <dc:title>Развитие логического мышления  у детей дошкольного возраста</dc:title>
</cp:coreProperties>
</file>