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FEAF-2961-4983-BB30-1CAEB611A96E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ощ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824-FB6A-43AD-A3F9-C4B5BFEC260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раждая хороших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ы тем самым наказываем дур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Д. Дидр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82A7-4434-4453-AD86-97CB9564789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еще одно средство воспит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м его психологические механизм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равственное приме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8238-2BEC-44A7-9E0B-9C553815A49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ра воздействия против совершившего преступления, проступка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E887-38F5-47C0-8353-080B04B1938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ы наказания, практикующиеся в шк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ложение дополнительны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ценка и отметка за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7D58-7893-417E-A0C0-C85CE2D4B37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D20D-5EA2-43E4-8815-60337167608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казание –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А.С. Макарен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40DD-E377-4043-A9FA-18F56730449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наказ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четать наказание с убе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наказ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EF27-1BEF-40EB-B3D1-B74E40EE651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тей наказывают стыдом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не кну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Русская пословиц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73B5-98E7-4885-9D24-DC678A9E091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деальное воспитание – это воспитани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без поощрения 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Н.К. Круп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08FF-BC64-432C-83EA-01E18223DCC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дагогике в качеств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083-A7C2-449C-9D39-81F1530BE32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ой поощрения 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, А.С. Макаренк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. Корчак, В.Я. Сухомлинс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Н. Толстой, П.Ф. Каптерев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5F45-1860-405A-90C7-0A4310652A0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Лучше, если воспитатель добьется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F2A1-BF18-4D9B-9BD6-3ECDB450CAB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можно достигн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метода 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32CC-E9A2-460D-8835-1FAF3D5282C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Ф. Харламов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П. Подласый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воспитания направлен на эмоциональное утверждение успешно производимых действий и нравственных поступков человека и стимулирование к новы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дагогическая энциклопед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7E47-D742-4082-B3C4-D6E2D18340C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BF98-34D3-4AA6-A56C-4EF6C8A80BE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поощ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справедлив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и не захвал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пользовать различные меры поощ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F1DE-619D-4AFB-8874-BC8D0F48F24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что не следует хвали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получе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 жалости (дети это чувству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торой раз за одно и то же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достигнуто не своим тр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-за желания понр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18AF-5747-4A74-9DC3-5F6D9AFC99F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94B-3E89-4CDE-B60B-BF9414E8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AF1-0AE3-4C28-89F4-5624938E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EA2-4DEC-4B35-92F3-7B5C07C1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81D-1EEE-45BE-A25B-CE168708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46BE-3167-4F84-BC0B-6805B3B4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0A81-E8F3-4926-BB6E-868CAAEC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F7FA-D4FE-43A1-A24E-232B14F6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FC64-3EC1-472D-87D6-4E7CC212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5542-0885-4F9F-8FB3-9E93C22A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BF2-A941-48AF-97F7-309B8F24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18A2-E90B-4DD7-8023-EBC2FFA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18D-B27D-4238-A3B3-8277CB4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3AD-AA44-422B-A4C8-252CDACE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478B-370B-467F-82CE-79A21399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812A-6243-4C80-9B04-914AE033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2201-034E-4898-B3AA-7F1FF6FF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DDB3-A4A4-4C8A-98BC-16BD39A7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FFB-6090-443B-83D8-EAB6050C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685-06FE-4285-8B95-1AF80C85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223-7287-48D6-8F28-76B98A75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E94-FCD9-4C56-BEC2-9BE73232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236-A656-4D31-BBA3-B08DC25C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5D0-AB37-4263-8688-8BED6C2E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C92-93AA-4301-A349-BD75C66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5888-649E-4872-A5A4-E0BAB72BDDB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8D43-57AD-4CC0-AEBF-872E4DC6963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роблема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оощре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и наказа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младших школьников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Награждая хороших, </a:t>
            </a:r>
            <a:br>
              <a:rPr sz="6000"/>
            </a:b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мы тем самым наказываем дурных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29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Д. Дидр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– еще одно средство воспитания.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зучим его психологические механизмы,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нравственное применение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ра воздействия против совершившего преступления, проступка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1" lang="en-US" sz="2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Меры наказания, практикующиеся в школе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ложение дополнительных обязанно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ценка и отметка за по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наказа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68" name="Organization Chart 7"/>
          <p:cNvGrpSpPr/>
          <p:nvPr/>
        </p:nvGrpSpPr>
        <p:grpSpPr>
          <a:xfrm>
            <a:off x="431640" y="2314440"/>
            <a:ext cx="8712360" cy="1143000"/>
            <a:chOff x="431640" y="2314440"/>
            <a:chExt cx="8712360" cy="11430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6161400" y="1397160"/>
              <a:ext cx="229320" cy="297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V="1">
              <a:off x="4788000" y="277092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184920" y="1396440"/>
              <a:ext cx="229320" cy="297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4134960" y="2314440"/>
              <a:ext cx="13032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_s2056"/>
            <p:cNvSpPr/>
            <p:nvPr/>
          </p:nvSpPr>
          <p:spPr>
            <a:xfrm>
              <a:off x="43164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По логике </a:t>
              </a:r>
              <a:r>
                <a:rPr b="0" lang="en-US" sz="1200" spc="-1" strike="noStrike">
                  <a:solidFill>
                    <a:srgbClr val="d6d8c0"/>
                  </a:solidFill>
                  <a:latin typeface="Times New Roman"/>
                </a:rPr>
                <a:t>“</a:t>
              </a: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естественные последствия</a:t>
              </a:r>
              <a:r>
                <a:rPr b="0" lang="en-US" sz="1200" spc="-1" strike="noStrike">
                  <a:solidFill>
                    <a:srgbClr val="d6d8c0"/>
                  </a:solidFill>
                  <a:latin typeface="Garamond"/>
                </a:rPr>
                <a:t>”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3408120" y="3000240"/>
              <a:ext cx="275904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традицион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638460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-экспромт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Наказание –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76720" y="5589720"/>
            <a:ext cx="3735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наказанию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Сочетать наказание с убежд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е злоупотреблять наказ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Детей наказывают стыдом, </a:t>
            </a:r>
            <a:br>
              <a:rPr sz="6600"/>
            </a:b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а не кнутом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95640" y="5373360"/>
            <a:ext cx="46404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Русская послов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Идеальное воспитание – это воспитание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без поощрения и наказани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148360" y="5589720"/>
            <a:ext cx="32716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Н.К. Крупск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В педагогике в качестве </a:t>
            </a:r>
            <a:r>
              <a:rPr b="0" i="1" lang="ru-RU" sz="4400" spc="-1" strike="noStrike" u="sng">
                <a:solidFill>
                  <a:srgbClr val="d6d8c0"/>
                </a:solidFill>
                <a:uFillTx/>
                <a:latin typeface="Times New Roman"/>
              </a:rPr>
              <a:t>стимулирования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Проблемой поощрения и наказания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К.Д. Ушинский, А.С. Макаренко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Я. Корчак, В.Я. Сухомлинский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Л.Н. Толстой, П.Ф. Каптерев и др.</a:t>
            </a:r>
            <a:br>
              <a:rPr sz="4000"/>
            </a:b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748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0" y="5516280"/>
            <a:ext cx="36702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К.Д. Ушинский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Лучше, если воспитатель добьется того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Этого можно достигнут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с помощью метода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Ф. Харламов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П. Подласый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метод воспитания направлен на эмоциональное утверждение успешно производимых действий и нравственных поступков человека и стимулирование к новым.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Педагогическая энциклопедия</a:t>
            </a: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”</a:t>
            </a:r>
            <a:br>
              <a:rPr sz="2400"/>
            </a:br>
            <a:endParaRPr b="1" lang="en-US" sz="2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поощре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1305720" y="2624040"/>
            <a:ext cx="6387840" cy="2651400"/>
            <a:chOff x="1305720" y="2624040"/>
            <a:chExt cx="6387840" cy="265140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rot="10800000">
              <a:off x="3630600" y="3903120"/>
              <a:ext cx="2383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41" idx="3"/>
              <a:endCxn id="139" idx="2"/>
            </p:cNvCxnSpPr>
            <p:nvPr/>
          </p:nvCxnSpPr>
          <p:spPr>
            <a:xfrm flipV="1">
              <a:off x="3390480" y="3903480"/>
              <a:ext cx="24120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173040" y="4359960"/>
              <a:ext cx="915120" cy="216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23560" y="1955520"/>
              <a:ext cx="229320" cy="24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785840" y="2792520"/>
              <a:ext cx="229320" cy="80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3"/>
            <p:cNvCxnSpPr>
              <a:stCxn id="139" idx="0"/>
              <a:endCxn id="146" idx="2"/>
            </p:cNvCxnSpPr>
            <p:nvPr/>
          </p:nvCxnSpPr>
          <p:spPr>
            <a:xfrm flipH="1" flipV="1" rot="5400000">
              <a:off x="3950280" y="2761200"/>
              <a:ext cx="229320" cy="86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34"/>
            <p:cNvSpPr/>
            <p:nvPr/>
          </p:nvSpPr>
          <p:spPr>
            <a:xfrm>
              <a:off x="3781080" y="2624040"/>
              <a:ext cx="143532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поощ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291384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доб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_s1036"/>
            <p:cNvSpPr/>
            <p:nvPr/>
          </p:nvSpPr>
          <p:spPr>
            <a:xfrm>
              <a:off x="458676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материальна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6260040" y="3309840"/>
              <a:ext cx="143352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бъявление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благодарности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38"/>
            <p:cNvSpPr/>
            <p:nvPr/>
          </p:nvSpPr>
          <p:spPr>
            <a:xfrm>
              <a:off x="2588040" y="48182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личная похвал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130572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86928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не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8720" y="364680"/>
            <a:ext cx="7796160" cy="111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поощрению</a:t>
            </a: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справедлив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злоупотреблять и не захвалив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Использовать различные меры поощр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За что не следует хвалить?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8116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получено от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 жалости (дети это чувствуют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Второй раз за одно и то же дости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достигнуто не своим труд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-за желания понрав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LEGION</cp:lastModifiedBy>
  <dcterms:modified xsi:type="dcterms:W3CDTF">2015-01-27T11:58:09Z</dcterms:modified>
  <cp:revision>42</cp:revision>
  <dc:subject/>
  <dc:title>PowerPoint Presentation</dc:title>
</cp:coreProperties>
</file>