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28A0-A8CD-42FF-B81E-577532B38753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ощ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9D53-0EA5-4B68-B27E-32B10FD61C2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граждая хороших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ы тем самым наказываем дур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Д. Дидр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35A2-08B7-4EE0-8A39-21C3B8150A8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еще одно средство воспит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м его психологические механизм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равственное приме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8340-137E-4410-B1C7-0B88D146945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ра воздействия против совершившего преступления, проступка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.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2834-671B-46EC-8A8D-A3FDC3F9F04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ы наказания, практикующиеся в школ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ложение дополнительны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ценка и отметка за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F089-D989-4758-A81C-A2FE1AE85CA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6EC9-D7D9-4E54-B483-97C7BD36E38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казание –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А.С. Макаренк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9A50-1B66-4F00-B689-8D8FF20B505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наказан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четать наказание с убе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наказ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3136-F4E2-4E5C-9C0C-41947096AC2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етей наказывают стыдом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не кну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Times New Roman"/>
              </a:rPr>
              <a:t>Русская пословиц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5F7D-E94B-44FD-A8C0-40DC9469A43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деальное воспитание – это воспитани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без поощрения и наказ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Н.К. Круп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FCE2-099C-47D7-AF06-AFE2C7B469D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дагогике в качестве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иров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7689-81DF-443B-9B39-9D3E475FF80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ой поощрения и наказ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, А.С. Макаренк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. Корчак, В.Я. Сухомлинс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Н. Толстой, П.Ф. Каптерев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0C38-3926-42CB-89E5-1CBC936B3CA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.Д. Уш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Лучше, если воспитатель добьется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8F3F-4EAB-4ED3-94EB-EE86EE07D2B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го можно достигн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метода 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69C9-49DE-4885-98FE-B1C2EDB2A81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Ф. Харламов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П. Подласый</a:t>
            </a:r>
            <a:br>
              <a:rPr sz="1200"/>
            </a:br>
            <a:br>
              <a:rPr sz="1200"/>
            </a:br>
            <a:r>
              <a:rPr b="0" i="1" lang="ru-RU" sz="12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метод воспитания направлен на эмоциональное утверждение успешно производимых действий и нравственных поступков человека и стимулирование к новым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дагогическая энциклопед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F3D0-9BDB-4F57-94A4-940FFA7277B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оощ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3F2B-EADA-40F9-B643-6D2A80A0C27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ие требования к поощрен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справедлив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злоупотреблять и не захвал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спользовать различные меры поощ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498C-7854-427A-9383-5A7FABFE6AD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что не следует хвали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получе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 жалости (дети это чувству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торой раз за одно и то же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За то, что достигнуто не своим тр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з-за желания понр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7065-9D24-4538-8425-D750DA36142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278-0B60-48D2-A70D-410CC9C2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1D4-629C-4BB9-93F4-24C9CB00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F5F-A71B-427E-89A3-213270A4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38D-E261-477C-B15D-3FB120BE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3F7D-7A84-48CF-8862-62293A3F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D100-DB6E-4C53-B261-586D4998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77E8-8DC0-4705-B7D2-380053E3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887F-0077-4141-A577-BE9DE72F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1308-2BD4-4A6E-8934-4B88EC34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50AA-B287-45AC-9C38-7D801F1A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228E-4E30-466F-A7A6-2884D0E3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330-7956-4647-970D-DF8516DF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2A78-983E-475F-8DF2-CCDAA378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F5F0-3DDD-41EE-81AF-21E796A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76F6-0272-4D29-AA1B-AC9F8386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80D5-3F9C-4C65-97FD-769E4B64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EC6F-D33F-4D74-8E92-53F275FE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1CD-833B-44EE-B948-89696E97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496-2603-49EC-9161-7AE582F5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792-A6A4-4753-B781-80C5A9C8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707-73DD-4BF3-A587-9A9C24E7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426-A051-473D-B55D-80F62E2D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014-43DA-4C54-9CFD-AE7FE12A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D9C-7E1D-46F7-8D13-09343E13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1BBC-B480-4342-83EF-583576B0BF9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9D45-567E-4552-B691-9A138F9FF8F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роблема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поощре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и наказания </a:t>
            </a:r>
            <a:br>
              <a:rPr sz="6000"/>
            </a:br>
            <a:r>
              <a:rPr b="1" lang="ru-RU" sz="6000" spc="-1" strike="noStrike">
                <a:solidFill>
                  <a:srgbClr val="d6d8c0"/>
                </a:solidFill>
                <a:latin typeface="Times New Roman"/>
              </a:rPr>
              <a:t>младших школьников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Награждая хороших, </a:t>
            </a:r>
            <a:br>
              <a:rPr sz="6000"/>
            </a:br>
            <a:r>
              <a:rPr b="0" i="1" lang="ru-RU" sz="6000" spc="-1" strike="noStrike">
                <a:solidFill>
                  <a:srgbClr val="d6d8c0"/>
                </a:solidFill>
                <a:latin typeface="Times New Roman"/>
              </a:rPr>
              <a:t>мы тем самым наказываем дурных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300360" y="5373720"/>
            <a:ext cx="2295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Д. Дидр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НАКАЗА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– еще одно средство воспитания.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зучим его психологические механизмы,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нравственное применение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которое должно предупредить нежелательные поступки, тормозить их, вызывать чувство вины перед собой и другими людьми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разрешения конфликтов, могущих возникнуть на основе противоречий между требованиями педагогов и коллектива, с одной стороны, и поведением отдельных детей – с другой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ра воздействия против совершившего преступления, проступка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метод педагогического воздействия, используемый в условиях конфликтной ситуации и направленный на торможение нежелательных явлений в поведении детей, а также стимулирующий их общественно полезную деятельность путем наложения дополнительных обязанностей, лишения определенных прав или морального порицания</a:t>
            </a:r>
            <a:r>
              <a:rPr b="1" lang="ru-RU" sz="2000" spc="-1" strike="noStrike">
                <a:solidFill>
                  <a:srgbClr val="d6d8c0"/>
                </a:solidFill>
                <a:latin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i="1" lang="ru-RU" sz="20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 </a:t>
            </a:r>
            <a:r>
              <a:rPr b="0" lang="ru-RU" sz="2000" spc="-1" strike="noStrike">
                <a:solidFill>
                  <a:srgbClr val="d6d8c0"/>
                </a:solidFill>
                <a:latin typeface="Times New Roman"/>
              </a:rPr>
              <a:t>– средство педагогического воздействия, используемое в тех случаях, когда ребенок не выполнил установленные требования и нарушил нормы поведения.</a:t>
            </a:r>
            <a:endParaRPr b="1" lang="en-US" sz="2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Меры наказания, практикующиеся в школе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ложение дополнительных обязанност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Лишение или ограничение прав, удовольств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Выражение морального порицания, осу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ценка и отметка за по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Замечание, предупреждение, выговор, строгий выгов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транение от занятий, перевод в другой класс, отря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Исключение из общеобразовательного учре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наказа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68" name="Organization Chart 7"/>
          <p:cNvGrpSpPr/>
          <p:nvPr/>
        </p:nvGrpSpPr>
        <p:grpSpPr>
          <a:xfrm>
            <a:off x="431640" y="2314440"/>
            <a:ext cx="8712360" cy="1143000"/>
            <a:chOff x="431640" y="2314440"/>
            <a:chExt cx="8712360" cy="1143000"/>
          </a:xfrm>
        </p:grpSpPr>
        <p:cxnSp>
          <p:nvCxnSpPr>
            <p:cNvPr id="169" name="_s2052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6161400" y="1397160"/>
              <a:ext cx="229320" cy="297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2053"/>
            <p:cNvCxnSpPr>
              <a:stCxn id="173" idx="0"/>
              <a:endCxn id="171" idx="2"/>
            </p:cNvCxnSpPr>
            <p:nvPr/>
          </p:nvCxnSpPr>
          <p:spPr>
            <a:xfrm flipV="1">
              <a:off x="4788000" y="2770920"/>
              <a:ext cx="180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2054"/>
            <p:cNvCxnSpPr>
              <a:stCxn id="175" idx="0"/>
              <a:endCxn id="171" idx="2"/>
            </p:cNvCxnSpPr>
            <p:nvPr/>
          </p:nvCxnSpPr>
          <p:spPr>
            <a:xfrm flipH="1" flipV="1" rot="5400000">
              <a:off x="3184920" y="1396440"/>
              <a:ext cx="229320" cy="2978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1" name="_s2055"/>
            <p:cNvSpPr/>
            <p:nvPr/>
          </p:nvSpPr>
          <p:spPr>
            <a:xfrm>
              <a:off x="4134960" y="2314440"/>
              <a:ext cx="13032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_s2056"/>
            <p:cNvSpPr/>
            <p:nvPr/>
          </p:nvSpPr>
          <p:spPr>
            <a:xfrm>
              <a:off x="43164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По логике </a:t>
              </a:r>
              <a:r>
                <a:rPr b="0" lang="en-US" sz="1200" spc="-1" strike="noStrike">
                  <a:solidFill>
                    <a:srgbClr val="d6d8c0"/>
                  </a:solidFill>
                  <a:latin typeface="Times New Roman"/>
                </a:rPr>
                <a:t>“</a:t>
              </a: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естественные последствия</a:t>
              </a:r>
              <a:r>
                <a:rPr b="0" lang="en-US" sz="1200" spc="-1" strike="noStrike">
                  <a:solidFill>
                    <a:srgbClr val="d6d8c0"/>
                  </a:solidFill>
                  <a:latin typeface="Garamond"/>
                </a:rPr>
                <a:t>”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_s2057"/>
            <p:cNvSpPr/>
            <p:nvPr/>
          </p:nvSpPr>
          <p:spPr>
            <a:xfrm>
              <a:off x="3408120" y="3000240"/>
              <a:ext cx="275904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традиционные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>
              <a:off x="6384600" y="3000240"/>
              <a:ext cx="275940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d6d8c0"/>
                  </a:solidFill>
                  <a:latin typeface="Times New Roman"/>
                </a:rPr>
                <a:t>наказание-экспромт</a:t>
              </a:r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Наказание –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очень трудная вещь; оно требует от воспитателя огромного такта и осторожности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076720" y="5589720"/>
            <a:ext cx="3735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А.С. Макарен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наказанию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субъектив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Сочетать наказание с убежде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Отсутствие поспешности в применении наказ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Применять наказание лишь после того, как другие методы и средства не дают никаких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аказание должно быть строго индивидуализирова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d8c0"/>
                </a:solidFill>
                <a:latin typeface="Times New Roman"/>
              </a:rPr>
              <a:t>Не злоупотреблять наказа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Детей наказывают стыдом, </a:t>
            </a:r>
            <a:br>
              <a:rPr sz="6600"/>
            </a:br>
            <a:r>
              <a:rPr b="0" i="1" lang="ru-RU" sz="6600" spc="-1" strike="noStrike">
                <a:solidFill>
                  <a:srgbClr val="d6d8c0"/>
                </a:solidFill>
                <a:latin typeface="Times New Roman"/>
              </a:rPr>
              <a:t>а не кнутом</a:t>
            </a:r>
            <a:endParaRPr b="1" lang="en-US" sz="6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995640" y="5373360"/>
            <a:ext cx="46404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Русская послови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Идеальное воспитание – это воспитание </a:t>
            </a:r>
            <a:br>
              <a:rPr sz="5400"/>
            </a:br>
            <a:r>
              <a:rPr b="0" i="1" lang="ru-RU" sz="5400" spc="-1" strike="noStrike">
                <a:solidFill>
                  <a:srgbClr val="d6d8c0"/>
                </a:solidFill>
                <a:latin typeface="Times New Roman"/>
              </a:rPr>
              <a:t>без поощрения и наказания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148360" y="5589720"/>
            <a:ext cx="32716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Н.К. Крупска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В педагогике в качестве </a:t>
            </a:r>
            <a:r>
              <a:rPr b="0" i="1" lang="ru-RU" sz="4400" spc="-1" strike="noStrike" u="sng">
                <a:solidFill>
                  <a:srgbClr val="d6d8c0"/>
                </a:solidFill>
                <a:uFillTx/>
                <a:latin typeface="Times New Roman"/>
              </a:rPr>
              <a:t>стимулирования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распространены такие компоненты, как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 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и </a:t>
            </a:r>
            <a:r>
              <a:rPr b="0" i="1" lang="ru-RU" sz="4400" spc="-1" strike="noStrike" u="sng">
                <a:solidFill>
                  <a:srgbClr val="c2b2f6"/>
                </a:solidFill>
                <a:uFillTx/>
                <a:latin typeface="Times New Roman"/>
              </a:rPr>
              <a:t>наказание</a:t>
            </a: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Проблемой поощрения и наказания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в своих трудах и сочинениях занимались такие педагоги, как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К.Д. Ушинский, А.С. Макаренко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Я. Корчак, В.Я. Сухомлинский, </a:t>
            </a:r>
            <a:br>
              <a:rPr sz="4000"/>
            </a:br>
            <a:r>
              <a:rPr b="0" lang="ru-RU" sz="4000" spc="-1" strike="noStrike">
                <a:solidFill>
                  <a:srgbClr val="d6d8c0"/>
                </a:solidFill>
                <a:latin typeface="Times New Roman"/>
              </a:rPr>
              <a:t>Л.Н. Толстой, П.Ф. Каптерев и др.</a:t>
            </a:r>
            <a:br>
              <a:rPr sz="4000"/>
            </a:b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-360" y="1557360"/>
            <a:ext cx="7489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32000" y="5516280"/>
            <a:ext cx="367020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К.Д. Ушинский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5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Если мы до сих пор применяем поощрение и наказание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то это показывает несовершенство нашего искусства воспитания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Лучше, если воспитатель добьется того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d8c0"/>
                </a:solidFill>
                <a:latin typeface="Times New Roman"/>
              </a:rPr>
              <a:t>что поощрение и наказание станут ненужными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2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Детям необходимо, чтобы их хвалили, это повышает их самооценку, стремление учиться.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Этого можно достигнуть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Times New Roman"/>
              </a:rPr>
              <a:t>с помощью метода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2b2f6"/>
                </a:solidFill>
                <a:latin typeface="Times New Roman"/>
              </a:rPr>
              <a:t>ПООЩРЕНИЕ</a:t>
            </a: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это признание, положительная оценка поведения или качества ученика со стороны педагога или коллектива товарищей, которые выражены публично или в личной форме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Ф. Харламов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c2b2f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положительная оценка действий воспитанников.</a:t>
            </a:r>
            <a:br>
              <a:rPr sz="2400"/>
            </a:b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И.П. Подласый</a:t>
            </a:r>
            <a:br>
              <a:rPr sz="2400"/>
            </a:br>
            <a:br>
              <a:rPr sz="2400"/>
            </a:br>
            <a:r>
              <a:rPr b="0" i="1" lang="ru-RU" sz="2400" spc="-1" strike="noStrike" u="sng">
                <a:solidFill>
                  <a:srgbClr val="c2b2f6"/>
                </a:solidFill>
                <a:uFillTx/>
                <a:latin typeface="Times New Roman"/>
              </a:rPr>
              <a:t>Поощрение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– метод воспитания направлен на эмоциональное утверждение успешно производимых действий и нравственных поступков человека и стимулирование к новым.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d6d8c0"/>
                </a:solidFill>
                <a:latin typeface="Times New Roman"/>
              </a:rPr>
              <a:t>Педагогическая энциклопедия</a:t>
            </a:r>
            <a:r>
              <a:rPr b="1" lang="en-US" sz="2400" spc="-1" strike="noStrike">
                <a:solidFill>
                  <a:srgbClr val="d6d8c0"/>
                </a:solidFill>
                <a:latin typeface="Times New Roman"/>
              </a:rPr>
              <a:t>”</a:t>
            </a:r>
            <a:br>
              <a:rPr sz="2400"/>
            </a:br>
            <a:endParaRPr b="1" lang="en-US" sz="2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Times New Roman"/>
              </a:rPr>
              <a:t>Формы поощрени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36" name="Organization Chart 7"/>
          <p:cNvGrpSpPr/>
          <p:nvPr/>
        </p:nvGrpSpPr>
        <p:grpSpPr>
          <a:xfrm>
            <a:off x="1305720" y="2624040"/>
            <a:ext cx="6387840" cy="2651400"/>
            <a:chOff x="1305720" y="2624040"/>
            <a:chExt cx="6387840" cy="2651400"/>
          </a:xfrm>
        </p:grpSpPr>
        <p:cxnSp>
          <p:nvCxnSpPr>
            <p:cNvPr id="137" name="_s1028"/>
            <p:cNvCxnSpPr>
              <a:stCxn id="138" idx="1"/>
              <a:endCxn id="139" idx="2"/>
            </p:cNvCxnSpPr>
            <p:nvPr/>
          </p:nvCxnSpPr>
          <p:spPr>
            <a:xfrm rot="10800000">
              <a:off x="3630600" y="3903120"/>
              <a:ext cx="23832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1029"/>
            <p:cNvCxnSpPr>
              <a:stCxn id="141" idx="3"/>
              <a:endCxn id="139" idx="2"/>
            </p:cNvCxnSpPr>
            <p:nvPr/>
          </p:nvCxnSpPr>
          <p:spPr>
            <a:xfrm flipV="1">
              <a:off x="3390480" y="3903480"/>
              <a:ext cx="24120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173040" y="4359960"/>
              <a:ext cx="915120" cy="2160"/>
            </a:xfrm>
            <a:prstGeom prst="bentConnector3">
              <a:avLst>
                <a:gd name="adj1" fmla="val 1247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5623560" y="1955520"/>
              <a:ext cx="229320" cy="24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032"/>
            <p:cNvCxnSpPr>
              <a:stCxn id="148" idx="0"/>
              <a:endCxn id="146" idx="2"/>
            </p:cNvCxnSpPr>
            <p:nvPr/>
          </p:nvCxnSpPr>
          <p:spPr>
            <a:xfrm flipV="1" rot="16200000">
              <a:off x="4785840" y="2792520"/>
              <a:ext cx="229320" cy="804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033"/>
            <p:cNvCxnSpPr>
              <a:stCxn id="139" idx="0"/>
              <a:endCxn id="146" idx="2"/>
            </p:cNvCxnSpPr>
            <p:nvPr/>
          </p:nvCxnSpPr>
          <p:spPr>
            <a:xfrm flipH="1" flipV="1" rot="5400000">
              <a:off x="3950280" y="2761200"/>
              <a:ext cx="229320" cy="867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6" name="_s1034"/>
            <p:cNvSpPr/>
            <p:nvPr/>
          </p:nvSpPr>
          <p:spPr>
            <a:xfrm>
              <a:off x="3781080" y="2624040"/>
              <a:ext cx="143532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поощ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_s1035"/>
            <p:cNvSpPr/>
            <p:nvPr/>
          </p:nvSpPr>
          <p:spPr>
            <a:xfrm>
              <a:off x="291384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добр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_s1036"/>
            <p:cNvSpPr/>
            <p:nvPr/>
          </p:nvSpPr>
          <p:spPr>
            <a:xfrm>
              <a:off x="4586760" y="3309840"/>
              <a:ext cx="143388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материальная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_s1037"/>
            <p:cNvSpPr/>
            <p:nvPr/>
          </p:nvSpPr>
          <p:spPr>
            <a:xfrm>
              <a:off x="6260040" y="3309840"/>
              <a:ext cx="1433520" cy="5940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объявление 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благодарности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_s1038"/>
            <p:cNvSpPr/>
            <p:nvPr/>
          </p:nvSpPr>
          <p:spPr>
            <a:xfrm>
              <a:off x="2588040" y="48182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личная похвал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130572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869280" y="4132440"/>
              <a:ext cx="2084760" cy="4572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d6d8c0"/>
                  </a:solidFill>
                  <a:latin typeface="Times New Roman"/>
                </a:rPr>
                <a:t>невербальные средства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8720" y="364680"/>
            <a:ext cx="7796160" cy="111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Педагогические требования к поощрению</a:t>
            </a:r>
            <a:r>
              <a:rPr b="1" lang="ru-RU" sz="4000" spc="-1" strike="noStrike">
                <a:solidFill>
                  <a:srgbClr val="d6d8c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справедливы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ять следует не только совокупность достижений, но и за отдельные реальные успех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возраст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обходимо учитывать индивидуальные особенност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злоупотреблять и не захвалива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Использовать различные меры поощр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Не следует забывать о тех, кто редко поощряется или не поощря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в присутствии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d8c0"/>
                </a:solidFill>
                <a:latin typeface="Times New Roman"/>
              </a:rPr>
              <a:t>Поощрение должно быть доброжелательным, идти от сердца, от душ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d8c0"/>
                </a:solidFill>
                <a:latin typeface="Times New Roman"/>
              </a:rPr>
              <a:t>За что не следует хвалить?</a:t>
            </a:r>
            <a:endParaRPr b="1" lang="en-US" sz="36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760" y="2081160"/>
            <a:ext cx="822960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получено от прир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 жалости (дети это чувствуют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Второй раз за одно и то же достиж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За то, что достигнуто не своим труд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d8c0"/>
                </a:solidFill>
                <a:latin typeface="Times New Roman"/>
              </a:rPr>
              <a:t>Из-за желания понравить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LEGION</cp:lastModifiedBy>
  <dcterms:modified xsi:type="dcterms:W3CDTF">2015-01-27T11:58:09Z</dcterms:modified>
  <cp:revision>42</cp:revision>
  <dc:subject/>
  <dc:title>PowerPoint Presentation</dc:title>
</cp:coreProperties>
</file>