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F9B8-17B5-4F2C-A238-F73FF616AF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щ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B525-0CFA-442A-9CFC-5D07F37070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условия установления контак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272A-19FC-4479-9462-A38A9E8045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нима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30D3-D806-415A-B09F-4A1BEB7FF4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A1D4-71B3-42AB-9BF8-39E5B463A0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е условия умения убежд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ить психологическ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дитесь сами в том, в чем убежд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ерите лог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арг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противоположные точки зрения и столкни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ите ит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9159-0DCA-4AA9-B438-BC9ABD77F3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маст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профессионализм учителя проявляется в его умении учить все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C157-81A4-4BBF-AFAC-B19B4565E1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педагогической техники лежит  психология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владеть педагогической техникой, нужно овладеть психологией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C3AB-B05D-4766-94FC-B2A2451667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евербального общ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н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ьный конт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9A5A-9F9C-443A-BF57-77CE6CE2E8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невербальн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6346-7117-4FAE-AE26-F74198F984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американскому психотерапевту Э.Берну, в человеке существует три «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Дит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зависимое, подчиняемое и безответственное существ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Родитель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апротив, независим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 подчиняемый и берущий ответственность не только за себя, но и за окружающих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зросл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38D4-D750-4250-A125-7D96CA8E9D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ирован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ональный уровен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841D-AC19-45A4-92DF-78AF93AFC9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D3AC-1533-4EF4-9344-04ABFE2DE5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в личном конта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ад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060D-1F1F-4D79-B532-BCAD0066C2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358-5464-4BB0-996D-B637D343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847-11E4-411A-A515-FED42E10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AAF-6678-4E4C-9888-6870A2C7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E8E-D79A-4A99-AB32-0DCAB9C9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BB7A-B1C4-4E62-88D1-88C14959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22C0-28D9-491E-A05A-B93288EF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8D1C-1130-421C-B703-5BF2E2EF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6ADB-8631-476A-B2B4-490DB5E3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C8C0-1A8E-4C6C-83F5-8F6CE19D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3E89-3312-4C59-9DD8-3144C8D6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D36A-3780-432F-9366-8FCF3F97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37F-8B30-411E-B35A-59D7F7E3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43A3-AA16-4CBD-84F6-AF1B6056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F64A-5E91-419D-A0DA-6AC8EBE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95F8-D7F2-4EB2-A32B-50D92F7A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7C13-EE53-416E-B310-81557BE5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8466-79FA-4BFF-878B-D6F13F4B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378-A16D-4110-98A7-C5CBFDB6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217-C86B-4484-822A-5BB9487F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4D1-E25B-4730-829E-BE94CF96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445-9AD5-42F4-BBF9-9F986CFF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E99-D144-4FAD-A588-D23D7832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E16-65EB-4EAB-B290-06F5FD17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46B-F00B-425E-9A11-746DA9F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7139-7228-422A-90C8-CB35D85DCD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DCBA-3736-4B24-B507-A64CC67E4B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31640" y="1700280"/>
            <a:ext cx="5324760" cy="14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едагогическое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обще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859280" y="4868640"/>
            <a:ext cx="3952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-психо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имов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651640" y="40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S02064_"/>
          <p:cNvPicPr/>
          <p:nvPr/>
        </p:nvPicPr>
        <p:blipFill>
          <a:blip r:embed="rId1"/>
          <a:stretch/>
        </p:blipFill>
        <p:spPr>
          <a:xfrm>
            <a:off x="611280" y="2421000"/>
            <a:ext cx="3600360" cy="35845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сихологические условия установления контакта с учащимис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16676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55640" y="1628640"/>
            <a:ext cx="1727280" cy="1081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948360" y="1557360"/>
            <a:ext cx="1368720" cy="127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ий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916360" y="1700280"/>
            <a:ext cx="4032000" cy="1081080"/>
          </a:xfrm>
          <a:prstGeom prst="rightArrow">
            <a:avLst>
              <a:gd name="adj1" fmla="val 50000"/>
              <a:gd name="adj2" fmla="val 9324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ие чувств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ний, пережи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5580000" y="2924280"/>
            <a:ext cx="3313080" cy="309708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бода вы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 rot="17755200">
            <a:off x="3649680" y="1996560"/>
            <a:ext cx="576360" cy="3745080"/>
          </a:xfrm>
          <a:prstGeom prst="downArrow">
            <a:avLst>
              <a:gd name="adj1" fmla="val 50000"/>
              <a:gd name="adj2" fmla="val 16244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468360" y="3933720"/>
            <a:ext cx="2879640" cy="27352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нутреннее 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ча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1403280" y="2852640"/>
            <a:ext cx="504720" cy="1081080"/>
          </a:xfrm>
          <a:prstGeom prst="downArrow">
            <a:avLst>
              <a:gd name="adj1" fmla="val 50000"/>
              <a:gd name="adj2" fmla="val 5354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понимать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55640" y="1557360"/>
            <a:ext cx="1584360" cy="129528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5867280" y="162864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2484360" y="1916280"/>
            <a:ext cx="1800360" cy="649080"/>
          </a:xfrm>
          <a:prstGeom prst="rightArrow">
            <a:avLst>
              <a:gd name="adj1" fmla="val 50000"/>
              <a:gd name="adj2" fmla="val 6934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 rot="565800">
            <a:off x="4787640" y="1628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 rot="18027000">
            <a:off x="5400360" y="2671560"/>
            <a:ext cx="719280" cy="360360"/>
          </a:xfrm>
          <a:prstGeom prst="leftArrow">
            <a:avLst>
              <a:gd name="adj1" fmla="val 50000"/>
              <a:gd name="adj2" fmla="val 499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0"/>
          <p:cNvSpPr/>
          <p:nvPr/>
        </p:nvSpPr>
        <p:spPr>
          <a:xfrm rot="13079400">
            <a:off x="6803640" y="2420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1"/>
          <p:cNvSpPr/>
          <p:nvPr/>
        </p:nvSpPr>
        <p:spPr>
          <a:xfrm rot="9796800">
            <a:off x="6875640" y="1412640"/>
            <a:ext cx="785520" cy="360360"/>
          </a:xfrm>
          <a:prstGeom prst="leftArrow">
            <a:avLst>
              <a:gd name="adj1" fmla="val 50000"/>
              <a:gd name="adj2" fmla="val 5449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7722000" y="12891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7506000" y="26557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он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5489640" y="3160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3852720" y="1413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с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2828160" y="3376440"/>
            <a:ext cx="44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нять своего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казать ему, что понимаю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1166760" y="4313160"/>
            <a:ext cx="318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Чутко слушать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Не давать созреть гне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« Без личностей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4211640" y="4941720"/>
            <a:ext cx="1440000" cy="216000"/>
          </a:xfrm>
          <a:prstGeom prst="rightArrow">
            <a:avLst>
              <a:gd name="adj1" fmla="val 50000"/>
              <a:gd name="adj2" fmla="val 1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24"/>
          <p:cNvSpPr/>
          <p:nvPr/>
        </p:nvSpPr>
        <p:spPr>
          <a:xfrm rot="4300200">
            <a:off x="3924000" y="5084640"/>
            <a:ext cx="576360" cy="576360"/>
          </a:xfrm>
          <a:custGeom>
            <a:avLst/>
            <a:gdLst>
              <a:gd name="textAreaLeft" fmla="*/ 84240 w 576360"/>
              <a:gd name="textAreaRight" fmla="*/ 492120 w 576360"/>
              <a:gd name="textAreaTop" fmla="*/ 84240 h 576360"/>
              <a:gd name="textAreaBottom" fmla="*/ 49212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25"/>
          <p:cNvSpPr/>
          <p:nvPr/>
        </p:nvSpPr>
        <p:spPr>
          <a:xfrm rot="20686200">
            <a:off x="4140000" y="4652640"/>
            <a:ext cx="1373040" cy="189000"/>
          </a:xfrm>
          <a:prstGeom prst="rightArrow">
            <a:avLst>
              <a:gd name="adj1" fmla="val 50000"/>
              <a:gd name="adj2" fmla="val 18161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26"/>
          <p:cNvSpPr/>
          <p:nvPr/>
        </p:nvSpPr>
        <p:spPr>
          <a:xfrm rot="1356000">
            <a:off x="4140000" y="5229000"/>
            <a:ext cx="1373040" cy="188640"/>
          </a:xfrm>
          <a:prstGeom prst="rightArrow">
            <a:avLst>
              <a:gd name="adj1" fmla="val 50000"/>
              <a:gd name="adj2" fmla="val 18196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7"/>
          <p:cNvSpPr/>
          <p:nvPr/>
        </p:nvSpPr>
        <p:spPr>
          <a:xfrm>
            <a:off x="5634360" y="43848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р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5776200" y="48895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ви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5488560" y="546588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рб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4050000" y="5753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гатель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ти и упрям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316" name="AutoShape 4"/>
          <p:cNvCxnSpPr/>
          <p:nvPr/>
        </p:nvCxnSpPr>
        <p:spPr>
          <a:xfrm>
            <a:off x="900000" y="1628280"/>
            <a:ext cx="1944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7" name="AutoShape 5"/>
          <p:cNvCxnSpPr/>
          <p:nvPr/>
        </p:nvCxnSpPr>
        <p:spPr>
          <a:xfrm>
            <a:off x="2771640" y="1628280"/>
            <a:ext cx="7214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8" name="AutoShape 6"/>
          <p:cNvCxnSpPr/>
          <p:nvPr/>
        </p:nvCxnSpPr>
        <p:spPr>
          <a:xfrm flipV="1">
            <a:off x="3492000" y="1627920"/>
            <a:ext cx="5756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9" name="AutoShape 7"/>
          <p:cNvCxnSpPr/>
          <p:nvPr/>
        </p:nvCxnSpPr>
        <p:spPr>
          <a:xfrm>
            <a:off x="4140000" y="1557360"/>
            <a:ext cx="1152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0" name="AutoShape 8"/>
          <p:cNvCxnSpPr/>
          <p:nvPr/>
        </p:nvCxnSpPr>
        <p:spPr>
          <a:xfrm>
            <a:off x="5292720" y="1557000"/>
            <a:ext cx="79272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1" name="AutoShape 9"/>
          <p:cNvCxnSpPr/>
          <p:nvPr/>
        </p:nvCxnSpPr>
        <p:spPr>
          <a:xfrm flipV="1">
            <a:off x="6084720" y="1556640"/>
            <a:ext cx="64836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AutoShape 10"/>
          <p:cNvCxnSpPr/>
          <p:nvPr/>
        </p:nvCxnSpPr>
        <p:spPr>
          <a:xfrm>
            <a:off x="6803640" y="1628280"/>
            <a:ext cx="180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3" name="Text Box 11"/>
          <p:cNvSpPr/>
          <p:nvPr/>
        </p:nvSpPr>
        <p:spPr>
          <a:xfrm>
            <a:off x="953280" y="12891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5 -3,5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952560" y="172080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4214880" y="11970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7(8-9)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140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3928320" y="179244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 на с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6716160" y="179244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6858000" y="12891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рос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468360" y="3645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5580720" y="422100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>
            <a:off x="7236000" y="4005360"/>
            <a:ext cx="1584000" cy="1079280"/>
          </a:xfrm>
          <a:prstGeom prst="rightArrow">
            <a:avLst>
              <a:gd name="adj1" fmla="val 50000"/>
              <a:gd name="adj2" fmla="val 3669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ям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обо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1909080" y="4292640"/>
            <a:ext cx="343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 - У –уступать – 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настаи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оставлять ? открыт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3"/>
          <p:cNvSpPr/>
          <p:nvPr/>
        </p:nvSpPr>
        <p:spPr>
          <a:xfrm rot="18837600">
            <a:off x="2483280" y="3430080"/>
            <a:ext cx="733680" cy="865080"/>
          </a:xfrm>
          <a:custGeom>
            <a:avLst/>
            <a:gdLst>
              <a:gd name="textAreaLeft" fmla="*/ 98280 w 733680"/>
              <a:gd name="textAreaRight" fmla="*/ 635400 w 73368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25"/>
          <p:cNvSpPr/>
          <p:nvPr/>
        </p:nvSpPr>
        <p:spPr>
          <a:xfrm rot="11279400">
            <a:off x="3998160" y="3296880"/>
            <a:ext cx="2336760" cy="882720"/>
          </a:xfrm>
          <a:custGeom>
            <a:avLst/>
            <a:gdLst>
              <a:gd name="textAreaLeft" fmla="*/ 408960 w 2336760"/>
              <a:gd name="textAreaRight" fmla="*/ 1694160 w 23367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сихологические условия умения убежда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авить психологическую пробл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дитесь сами в том, в чем убежда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берите логи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аргумен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е противоположные точки зрения и столкните 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дите ит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делайте вывод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ое мастер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ий профессионализм учителя проявляется в его умении учить всех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ая техн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снове педагогической техники лежит  психология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владеть педагогической техникой, нужно овладеть психологией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ред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м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уальный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755640" y="1989000"/>
            <a:ext cx="2016000" cy="93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48000" y="2924280"/>
            <a:ext cx="244800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эмо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88000" y="1989000"/>
            <a:ext cx="2016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б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203640" y="4292640"/>
            <a:ext cx="2952720" cy="8427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203640" y="5661000"/>
            <a:ext cx="2881080" cy="627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3132000" y="4292640"/>
            <a:ext cx="295272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ес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826920" y="3933720"/>
            <a:ext cx="1727280" cy="158436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в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6804000" y="3429000"/>
            <a:ext cx="1800360" cy="18730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6"/>
          <p:cNvSpPr/>
          <p:nvPr/>
        </p:nvSpPr>
        <p:spPr>
          <a:xfrm>
            <a:off x="3059280" y="1916280"/>
            <a:ext cx="3313080" cy="485640"/>
          </a:xfrm>
          <a:custGeom>
            <a:avLst/>
            <a:gdLst>
              <a:gd name="textAreaLeft" fmla="*/ 517680 w 3313080"/>
              <a:gd name="textAreaRight" fmla="*/ 2899080 w 3313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6012000" y="306864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 rot="5400000">
            <a:off x="2219760" y="2828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1"/>
          <p:cNvSpPr/>
          <p:nvPr/>
        </p:nvSpPr>
        <p:spPr>
          <a:xfrm rot="18369600">
            <a:off x="2190960" y="5009040"/>
            <a:ext cx="486000" cy="1163520"/>
          </a:xfrm>
          <a:prstGeom prst="downArrow">
            <a:avLst>
              <a:gd name="adj1" fmla="val 50000"/>
              <a:gd name="adj2" fmla="val 5985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248436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 rot="5400000">
            <a:off x="6372360" y="5084640"/>
            <a:ext cx="91440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4356000" y="23493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4427640" y="386064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4427640" y="522936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американскому психотерапевту Э.Берну, в человеке существует три «Я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ит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зависимое, подчиняемое и безответственное сущест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одител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против, независим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одчиняемый и берущий ответственность не только за себя, но и за окружающи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зросл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ипуля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изирован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ональный урове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ховный 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 rot="19128600">
            <a:off x="4176360" y="3971520"/>
            <a:ext cx="527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вни обще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на уро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4211640" y="33577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3995640" y="1700280"/>
            <a:ext cx="15130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м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020000" y="1773360"/>
            <a:ext cx="1224000" cy="769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я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684360" y="3716280"/>
            <a:ext cx="1800000" cy="86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1979640" y="5084640"/>
            <a:ext cx="1368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тер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6156360" y="5013360"/>
            <a:ext cx="12952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4211640" y="5373720"/>
            <a:ext cx="1224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с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6804000" y="3500280"/>
            <a:ext cx="1728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като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826920" y="1773360"/>
            <a:ext cx="1729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б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1"/>
          <p:cNvSpPr/>
          <p:nvPr/>
        </p:nvSpPr>
        <p:spPr>
          <a:xfrm rot="13907400">
            <a:off x="5782320" y="1699200"/>
            <a:ext cx="485640" cy="2046240"/>
          </a:xfrm>
          <a:prstGeom prst="downArrow">
            <a:avLst>
              <a:gd name="adj1" fmla="val 50000"/>
              <a:gd name="adj2" fmla="val 10533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2"/>
          <p:cNvSpPr/>
          <p:nvPr/>
        </p:nvSpPr>
        <p:spPr>
          <a:xfrm rot="18339600">
            <a:off x="5478120" y="3792240"/>
            <a:ext cx="485640" cy="1384200"/>
          </a:xfrm>
          <a:prstGeom prst="downArrow">
            <a:avLst>
              <a:gd name="adj1" fmla="val 50000"/>
              <a:gd name="adj2" fmla="val 712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23"/>
          <p:cNvSpPr/>
          <p:nvPr/>
        </p:nvSpPr>
        <p:spPr>
          <a:xfrm rot="16639800">
            <a:off x="5741640" y="3124080"/>
            <a:ext cx="486000" cy="1384200"/>
          </a:xfrm>
          <a:prstGeom prst="downArrow">
            <a:avLst>
              <a:gd name="adj1" fmla="val 50000"/>
              <a:gd name="adj2" fmla="val 712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24"/>
          <p:cNvSpPr/>
          <p:nvPr/>
        </p:nvSpPr>
        <p:spPr>
          <a:xfrm>
            <a:off x="4500720" y="4365720"/>
            <a:ext cx="485640" cy="863640"/>
          </a:xfrm>
          <a:prstGeom prst="downArrow">
            <a:avLst>
              <a:gd name="adj1" fmla="val 50000"/>
              <a:gd name="adj2" fmla="val 444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25"/>
          <p:cNvSpPr/>
          <p:nvPr/>
        </p:nvSpPr>
        <p:spPr>
          <a:xfrm rot="7348800">
            <a:off x="3079080" y="2155320"/>
            <a:ext cx="485640" cy="1800360"/>
          </a:xfrm>
          <a:prstGeom prst="downArrow">
            <a:avLst>
              <a:gd name="adj1" fmla="val 50000"/>
              <a:gd name="adj2" fmla="val 926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6"/>
          <p:cNvSpPr/>
          <p:nvPr/>
        </p:nvSpPr>
        <p:spPr>
          <a:xfrm rot="10800000">
            <a:off x="4427280" y="270792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7"/>
          <p:cNvSpPr/>
          <p:nvPr/>
        </p:nvSpPr>
        <p:spPr>
          <a:xfrm rot="3075000">
            <a:off x="3705480" y="4079160"/>
            <a:ext cx="486000" cy="1201680"/>
          </a:xfrm>
          <a:prstGeom prst="downArrow">
            <a:avLst>
              <a:gd name="adj1" fmla="val 50000"/>
              <a:gd name="adj2" fmla="val 618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 rot="5400000">
            <a:off x="3069360" y="3204000"/>
            <a:ext cx="485640" cy="1656000"/>
          </a:xfrm>
          <a:prstGeom prst="downArrow">
            <a:avLst>
              <a:gd name="adj1" fmla="val 50000"/>
              <a:gd name="adj2" fmla="val 8524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в личном контак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т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од от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а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ме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ад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2556000" y="1557360"/>
            <a:ext cx="1520640" cy="4465440"/>
          </a:xfrm>
          <a:custGeom>
            <a:avLst/>
            <a:gdLst>
              <a:gd name="textAreaLeft" fmla="*/ 0 w 1520640"/>
              <a:gd name="textAreaRight" fmla="*/ 549000 w 1520640"/>
              <a:gd name="textAreaTop" fmla="*/ 116280 h 4465440"/>
              <a:gd name="textAreaBottom" fmla="*/ 4349160 h 44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67280" y="1628640"/>
            <a:ext cx="4844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емы правильного слуш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ение фра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жать чув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оч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с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фраз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юм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00:59Z</dcterms:created>
  <dc:creator>Митрофан</dc:creator>
  <dc:description/>
  <dc:language>en-US</dc:language>
  <cp:lastModifiedBy>LEGION</cp:lastModifiedBy>
  <dcterms:modified xsi:type="dcterms:W3CDTF">2015-01-27T11:58:33Z</dcterms:modified>
  <cp:revision>5</cp:revision>
  <dc:subject/>
  <dc:title>Педагогическое  общение</dc:title>
</cp:coreProperties>
</file>