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6A1F-596A-49D6-BC39-376BF3B947F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дагогическо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общ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-психол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ова И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8EC0-2D9B-44CF-9A7B-0E2F8B3441A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ие условия установления контакта с учащими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CE55-9DB6-4222-B0D7-72E8687B744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онимать уч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18FC-4A5A-4C43-8E05-AA8BD303E6B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и упрям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4D7A-24B4-47FB-9E22-8579EDA7247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сихологические условия умения убежда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вить психологическую пробл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бедитесь сами в том, в чем убеждае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берите лог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 аргу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ите противоположные точки зрения и столкните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ите ит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айте вывод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BD11-75DB-4DD9-B62A-B32F4008A82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ое масте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ое применение в тесной связи педагогических знаний, педагогического опыта и педагогической техники на основе любви к дет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й профессионализм учителя проявляется в его умении учить всех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8F37-DCDD-4FD9-8FD4-C67D0283709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ая тех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педагогической техники лежит  психология общ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ого, чтобы овладеть  конкретными педагогическими умениями, нужно понимать их психологические механиз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овладеть педагогической техникой, нужно овладеть психологией общ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FE68-61AA-49A1-B996-FA8278E9B15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редства невербального общ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м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то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он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зуальный конта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576B-2D2A-4B9F-ACBC-B98E9CB72C3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невербального об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эмо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D54F-FC60-42CC-B711-28FFA9E04C8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об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американскому психотерапевту Э.Берну, в человеке существует три «Я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Дит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зависимое, подчиняемое и безответственное существо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Родитель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напротив, независим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 подчиняемый и берущий ответственность не только за себя, но и за окружающих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Взросл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умеющий считаться с ситуацией, помнить интересы,  других и распределять ответственность между собой и другими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03FE-82BC-41E1-A6FF-4355ADEA59F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об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итивный уров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нипулятивный уров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ированный уров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нциональный уровен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овой уров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овой уров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ый  уров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6FD2-9D9A-49B0-BDE5-9590833902F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рьеры на уро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54BB-66E6-4A94-B0F8-956DF9D1A67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рьеры в личном контак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т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о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ход от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меш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ад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6402-74F5-41E3-8DB3-C073E205AFF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07D3-2639-4F45-92F5-307F043DC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BE9C-F0AF-4D23-A8ED-40841C27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8835-7376-41F4-A783-EEA498339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9296-4076-412E-8632-785B4D659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4DEE-BC51-4502-9E29-8A95CF722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04F4-5F75-46A8-B5B9-8F0DEC9A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0160-995F-412D-89A4-194D219B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C625-9C8E-45EB-9754-BC3B8F9C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DCC9-64EA-40D1-B37A-5EBEBE60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0592-B961-438F-B46B-BCCFD3B4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E463E-CDCA-4793-ACDA-400059B0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8D2D-F535-4BDC-9C6C-C12B136F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AC21-ACE4-40DD-8DA1-58782C70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39D1-66BB-4448-B701-62DD3391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9A99-FA2B-4457-9B4D-39447FE4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8571-4A5B-4E17-85D7-CE05DB3D6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073D-F4EC-4FA4-84AD-8B5F6654F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A674-CF89-4F4B-BE03-871F7722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318B-44D4-4ECF-BD04-D9177495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9CA2-0785-477B-A9F9-8CBDFDC4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7F74-B9CA-4D56-81A0-4CEB3AF3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D869-FB3A-4062-BA5E-25EDB26A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8961-A27D-4D98-89D3-94E39F11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F7E1-7A26-4828-8ABA-8D095965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D2A3-4D5E-4666-A394-5EDA1AEEAC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8E71-1FAD-499D-BEA0-DB58D1563E0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31640" y="1700280"/>
            <a:ext cx="5324760" cy="1441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едагогическое</a:t>
            </a:r>
            <a:br>
              <a:rPr sz="4800"/>
            </a:b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общение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859280" y="4868640"/>
            <a:ext cx="395280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дагог-психоло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лимова И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5651640" y="4046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ступл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педагогическом сове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5" descr="BS02064_"/>
          <p:cNvPicPr/>
          <p:nvPr/>
        </p:nvPicPr>
        <p:blipFill>
          <a:blip r:embed="rId1"/>
          <a:stretch/>
        </p:blipFill>
        <p:spPr>
          <a:xfrm>
            <a:off x="611280" y="2421000"/>
            <a:ext cx="3600360" cy="358452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Психологические условия установления контакта с учащимися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1166760" y="157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755640" y="1628640"/>
            <a:ext cx="1727280" cy="1081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Oval 6"/>
          <p:cNvSpPr/>
          <p:nvPr/>
        </p:nvSpPr>
        <p:spPr>
          <a:xfrm>
            <a:off x="6948360" y="1557360"/>
            <a:ext cx="1368720" cy="12747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щий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7"/>
          <p:cNvSpPr/>
          <p:nvPr/>
        </p:nvSpPr>
        <p:spPr>
          <a:xfrm>
            <a:off x="2916360" y="1700280"/>
            <a:ext cx="4032000" cy="1081080"/>
          </a:xfrm>
          <a:prstGeom prst="rightArrow">
            <a:avLst>
              <a:gd name="adj1" fmla="val 50000"/>
              <a:gd name="adj2" fmla="val 9324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нятие чувств 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еланий, пережива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10"/>
          <p:cNvSpPr/>
          <p:nvPr/>
        </p:nvSpPr>
        <p:spPr>
          <a:xfrm>
            <a:off x="5580000" y="2924280"/>
            <a:ext cx="3313080" cy="3097080"/>
          </a:xfrm>
          <a:prstGeom prst="irregularSeal2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бода выбо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11"/>
          <p:cNvSpPr/>
          <p:nvPr/>
        </p:nvSpPr>
        <p:spPr>
          <a:xfrm rot="17755200">
            <a:off x="3649680" y="1996560"/>
            <a:ext cx="576360" cy="3745080"/>
          </a:xfrm>
          <a:prstGeom prst="downArrow">
            <a:avLst>
              <a:gd name="adj1" fmla="val 50000"/>
              <a:gd name="adj2" fmla="val 16244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12"/>
          <p:cNvSpPr/>
          <p:nvPr/>
        </p:nvSpPr>
        <p:spPr>
          <a:xfrm>
            <a:off x="468360" y="3933720"/>
            <a:ext cx="2879640" cy="2735280"/>
          </a:xfrm>
          <a:prstGeom prst="pi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Внутреннее состоя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учащего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utoShape 13"/>
          <p:cNvSpPr/>
          <p:nvPr/>
        </p:nvSpPr>
        <p:spPr>
          <a:xfrm>
            <a:off x="1403280" y="2852640"/>
            <a:ext cx="504720" cy="1081080"/>
          </a:xfrm>
          <a:prstGeom prst="downArrow">
            <a:avLst>
              <a:gd name="adj1" fmla="val 50000"/>
              <a:gd name="adj2" fmla="val 5354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ак понимать учащихс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AutoShape 4"/>
          <p:cNvSpPr/>
          <p:nvPr/>
        </p:nvSpPr>
        <p:spPr>
          <a:xfrm>
            <a:off x="755640" y="1557360"/>
            <a:ext cx="1584360" cy="129528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6"/>
          <p:cNvSpPr/>
          <p:nvPr/>
        </p:nvSpPr>
        <p:spPr>
          <a:xfrm>
            <a:off x="5867280" y="1628640"/>
            <a:ext cx="91440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ни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AutoShape 7"/>
          <p:cNvSpPr/>
          <p:nvPr/>
        </p:nvSpPr>
        <p:spPr>
          <a:xfrm>
            <a:off x="2484360" y="1916280"/>
            <a:ext cx="1800360" cy="649080"/>
          </a:xfrm>
          <a:prstGeom prst="rightArrow">
            <a:avLst>
              <a:gd name="adj1" fmla="val 50000"/>
              <a:gd name="adj2" fmla="val 6934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AutoShape 8"/>
          <p:cNvSpPr/>
          <p:nvPr/>
        </p:nvSpPr>
        <p:spPr>
          <a:xfrm rot="565800">
            <a:off x="4787640" y="1628280"/>
            <a:ext cx="863640" cy="360360"/>
          </a:xfrm>
          <a:prstGeom prst="leftArrow">
            <a:avLst>
              <a:gd name="adj1" fmla="val 50000"/>
              <a:gd name="adj2" fmla="val 5991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AutoShape 9"/>
          <p:cNvSpPr/>
          <p:nvPr/>
        </p:nvSpPr>
        <p:spPr>
          <a:xfrm rot="18027000">
            <a:off x="5400360" y="2671560"/>
            <a:ext cx="719280" cy="360360"/>
          </a:xfrm>
          <a:prstGeom prst="leftArrow">
            <a:avLst>
              <a:gd name="adj1" fmla="val 50000"/>
              <a:gd name="adj2" fmla="val 499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AutoShape 10"/>
          <p:cNvSpPr/>
          <p:nvPr/>
        </p:nvSpPr>
        <p:spPr>
          <a:xfrm rot="13079400">
            <a:off x="6803640" y="2420280"/>
            <a:ext cx="863640" cy="360360"/>
          </a:xfrm>
          <a:prstGeom prst="leftArrow">
            <a:avLst>
              <a:gd name="adj1" fmla="val 50000"/>
              <a:gd name="adj2" fmla="val 5991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11"/>
          <p:cNvSpPr/>
          <p:nvPr/>
        </p:nvSpPr>
        <p:spPr>
          <a:xfrm rot="9796800">
            <a:off x="6875640" y="1412640"/>
            <a:ext cx="785520" cy="360360"/>
          </a:xfrm>
          <a:prstGeom prst="leftArrow">
            <a:avLst>
              <a:gd name="adj1" fmla="val 50000"/>
              <a:gd name="adj2" fmla="val 5449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2"/>
          <p:cNvSpPr/>
          <p:nvPr/>
        </p:nvSpPr>
        <p:spPr>
          <a:xfrm>
            <a:off x="7722000" y="128916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о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3"/>
          <p:cNvSpPr/>
          <p:nvPr/>
        </p:nvSpPr>
        <p:spPr>
          <a:xfrm>
            <a:off x="7506000" y="2655720"/>
            <a:ext cx="14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тонац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4"/>
          <p:cNvSpPr/>
          <p:nvPr/>
        </p:nvSpPr>
        <p:spPr>
          <a:xfrm>
            <a:off x="5489640" y="316080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з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5"/>
          <p:cNvSpPr/>
          <p:nvPr/>
        </p:nvSpPr>
        <p:spPr>
          <a:xfrm>
            <a:off x="3852720" y="14130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ест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16"/>
          <p:cNvSpPr/>
          <p:nvPr/>
        </p:nvSpPr>
        <p:spPr>
          <a:xfrm>
            <a:off x="2828160" y="3376440"/>
            <a:ext cx="440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очу понять своего уче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очу показать ему, что понимаю е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17"/>
          <p:cNvSpPr/>
          <p:nvPr/>
        </p:nvSpPr>
        <p:spPr>
          <a:xfrm>
            <a:off x="1166760" y="4313160"/>
            <a:ext cx="3189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Чутко слушать уче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Не давать созреть гнев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« Без личностей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AutoShape 23"/>
          <p:cNvSpPr/>
          <p:nvPr/>
        </p:nvSpPr>
        <p:spPr>
          <a:xfrm>
            <a:off x="4211640" y="4941720"/>
            <a:ext cx="1440000" cy="216000"/>
          </a:xfrm>
          <a:prstGeom prst="rightArrow">
            <a:avLst>
              <a:gd name="adj1" fmla="val 50000"/>
              <a:gd name="adj2" fmla="val 16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utoShape 24"/>
          <p:cNvSpPr/>
          <p:nvPr/>
        </p:nvSpPr>
        <p:spPr>
          <a:xfrm rot="4300200">
            <a:off x="3924000" y="5084640"/>
            <a:ext cx="576360" cy="576360"/>
          </a:xfrm>
          <a:custGeom>
            <a:avLst/>
            <a:gdLst>
              <a:gd name="textAreaLeft" fmla="*/ 84240 w 576360"/>
              <a:gd name="textAreaRight" fmla="*/ 492120 w 576360"/>
              <a:gd name="textAreaTop" fmla="*/ 84240 h 576360"/>
              <a:gd name="textAreaBottom" fmla="*/ 49212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25"/>
          <p:cNvSpPr/>
          <p:nvPr/>
        </p:nvSpPr>
        <p:spPr>
          <a:xfrm rot="20686200">
            <a:off x="4140000" y="4652640"/>
            <a:ext cx="1373040" cy="189000"/>
          </a:xfrm>
          <a:prstGeom prst="rightArrow">
            <a:avLst>
              <a:gd name="adj1" fmla="val 50000"/>
              <a:gd name="adj2" fmla="val 18161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AutoShape 26"/>
          <p:cNvSpPr/>
          <p:nvPr/>
        </p:nvSpPr>
        <p:spPr>
          <a:xfrm rot="1356000">
            <a:off x="4140000" y="5229000"/>
            <a:ext cx="1373040" cy="188640"/>
          </a:xfrm>
          <a:prstGeom prst="rightArrow">
            <a:avLst>
              <a:gd name="adj1" fmla="val 50000"/>
              <a:gd name="adj2" fmla="val 18196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27"/>
          <p:cNvSpPr/>
          <p:nvPr/>
        </p:nvSpPr>
        <p:spPr>
          <a:xfrm>
            <a:off x="5634360" y="438480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гроз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28"/>
          <p:cNvSpPr/>
          <p:nvPr/>
        </p:nvSpPr>
        <p:spPr>
          <a:xfrm>
            <a:off x="5776200" y="488952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вин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29"/>
          <p:cNvSpPr/>
          <p:nvPr/>
        </p:nvSpPr>
        <p:spPr>
          <a:xfrm>
            <a:off x="5488560" y="5465880"/>
            <a:ext cx="16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корбл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30"/>
          <p:cNvSpPr/>
          <p:nvPr/>
        </p:nvSpPr>
        <p:spPr>
          <a:xfrm>
            <a:off x="4050000" y="5753160"/>
            <a:ext cx="16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гательс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ети и упрямство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cxnSp>
        <p:nvCxnSpPr>
          <p:cNvPr id="316" name="AutoShape 4"/>
          <p:cNvCxnSpPr/>
          <p:nvPr/>
        </p:nvCxnSpPr>
        <p:spPr>
          <a:xfrm>
            <a:off x="900000" y="1628280"/>
            <a:ext cx="1944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7" name="AutoShape 5"/>
          <p:cNvCxnSpPr/>
          <p:nvPr/>
        </p:nvCxnSpPr>
        <p:spPr>
          <a:xfrm>
            <a:off x="2771640" y="1628280"/>
            <a:ext cx="721440" cy="577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8" name="AutoShape 6"/>
          <p:cNvCxnSpPr/>
          <p:nvPr/>
        </p:nvCxnSpPr>
        <p:spPr>
          <a:xfrm flipV="1">
            <a:off x="3492000" y="1627920"/>
            <a:ext cx="575640" cy="577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9" name="AutoShape 7"/>
          <p:cNvCxnSpPr/>
          <p:nvPr/>
        </p:nvCxnSpPr>
        <p:spPr>
          <a:xfrm>
            <a:off x="4140000" y="1557360"/>
            <a:ext cx="11527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0" name="AutoShape 8"/>
          <p:cNvCxnSpPr/>
          <p:nvPr/>
        </p:nvCxnSpPr>
        <p:spPr>
          <a:xfrm>
            <a:off x="5292720" y="1557000"/>
            <a:ext cx="792720" cy="648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1" name="AutoShape 9"/>
          <p:cNvCxnSpPr/>
          <p:nvPr/>
        </p:nvCxnSpPr>
        <p:spPr>
          <a:xfrm flipV="1">
            <a:off x="6084720" y="1556640"/>
            <a:ext cx="648360" cy="648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2" name="AutoShape 10"/>
          <p:cNvCxnSpPr/>
          <p:nvPr/>
        </p:nvCxnSpPr>
        <p:spPr>
          <a:xfrm>
            <a:off x="6803640" y="1628280"/>
            <a:ext cx="180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23" name="Text Box 11"/>
          <p:cNvSpPr/>
          <p:nvPr/>
        </p:nvSpPr>
        <p:spPr>
          <a:xfrm>
            <a:off x="953280" y="128916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,5 -3,5 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952560" y="1720800"/>
            <a:ext cx="156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ро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его «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4214880" y="119700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-7(8-9)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14"/>
          <p:cNvSpPr/>
          <p:nvPr/>
        </p:nvSpPr>
        <p:spPr>
          <a:xfrm>
            <a:off x="4140360" y="184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16"/>
          <p:cNvSpPr/>
          <p:nvPr/>
        </p:nvSpPr>
        <p:spPr>
          <a:xfrm>
            <a:off x="3928320" y="179244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 на св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17"/>
          <p:cNvSpPr/>
          <p:nvPr/>
        </p:nvSpPr>
        <p:spPr>
          <a:xfrm>
            <a:off x="6716160" y="1792440"/>
            <a:ext cx="16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твер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его «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18"/>
          <p:cNvSpPr/>
          <p:nvPr/>
        </p:nvSpPr>
        <p:spPr>
          <a:xfrm>
            <a:off x="6858000" y="128916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росто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9"/>
          <p:cNvSpPr/>
          <p:nvPr/>
        </p:nvSpPr>
        <p:spPr>
          <a:xfrm>
            <a:off x="468360" y="364500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ите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20"/>
          <p:cNvSpPr/>
          <p:nvPr/>
        </p:nvSpPr>
        <p:spPr>
          <a:xfrm>
            <a:off x="5580720" y="4221000"/>
            <a:ext cx="170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ни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AutoShape 21"/>
          <p:cNvSpPr/>
          <p:nvPr/>
        </p:nvSpPr>
        <p:spPr>
          <a:xfrm>
            <a:off x="7236000" y="4005360"/>
            <a:ext cx="1584000" cy="1079280"/>
          </a:xfrm>
          <a:prstGeom prst="rightArrow">
            <a:avLst>
              <a:gd name="adj1" fmla="val 50000"/>
              <a:gd name="adj2" fmla="val 36691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ямств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обор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22"/>
          <p:cNvSpPr/>
          <p:nvPr/>
        </p:nvSpPr>
        <p:spPr>
          <a:xfrm>
            <a:off x="1909080" y="4292640"/>
            <a:ext cx="343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/3 - У –уступать – У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/3-  У - настаива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/3-  У - оставлять ? открыты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AutoShape 23"/>
          <p:cNvSpPr/>
          <p:nvPr/>
        </p:nvSpPr>
        <p:spPr>
          <a:xfrm rot="18837600">
            <a:off x="2483280" y="3430080"/>
            <a:ext cx="733680" cy="865080"/>
          </a:xfrm>
          <a:custGeom>
            <a:avLst/>
            <a:gdLst>
              <a:gd name="textAreaLeft" fmla="*/ 98280 w 733680"/>
              <a:gd name="textAreaRight" fmla="*/ 635400 w 733680"/>
              <a:gd name="textAreaTop" fmla="*/ 151200 h 865080"/>
              <a:gd name="textAreaBottom" fmla="*/ 62712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AutoShape 25"/>
          <p:cNvSpPr/>
          <p:nvPr/>
        </p:nvSpPr>
        <p:spPr>
          <a:xfrm rot="11279400">
            <a:off x="3998160" y="3296880"/>
            <a:ext cx="2336760" cy="882720"/>
          </a:xfrm>
          <a:custGeom>
            <a:avLst/>
            <a:gdLst>
              <a:gd name="textAreaLeft" fmla="*/ 408960 w 2336760"/>
              <a:gd name="textAreaRight" fmla="*/ 1694160 w 2336760"/>
              <a:gd name="textAreaTop" fmla="*/ 118080 h 882720"/>
              <a:gd name="textAreaBottom" fmla="*/ 76464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сихологические условия умения убежда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тавить психологическую проблем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бедитесь сами в том, в чем убеждае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берите логи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йдите аргумен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делите противоположные точки зрения и столкните 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ведите ито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делайте вывод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едагогическое мастерств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ворческое применение в тесной связи педагогических знаний, педагогического опыта и педагогической техники на основе любви к детя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сокий профессионализм учителя проявляется в его умении учить всех дет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едагогическая техни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основе педагогической техники лежит  психология общ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того, чтобы овладеть  конкретными педагогическими умениями, нужно понимать их психологические механизм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бы овладеть педагогической техникой, нужно овладеть психологией общ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редства невербального обще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ими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тоя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уз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он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ес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з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зуальный контак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войства невербального обще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755640" y="1989000"/>
            <a:ext cx="2016000" cy="935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мо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348000" y="2924280"/>
            <a:ext cx="2448000" cy="792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эмо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6588000" y="1989000"/>
            <a:ext cx="201636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вербаль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203640" y="4292640"/>
            <a:ext cx="2952720" cy="8427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3203640" y="5661000"/>
            <a:ext cx="2881080" cy="6271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9"/>
          <p:cNvSpPr/>
          <p:nvPr/>
        </p:nvSpPr>
        <p:spPr>
          <a:xfrm>
            <a:off x="3132000" y="4292640"/>
            <a:ext cx="2952720" cy="914400"/>
          </a:xfrm>
          <a:prstGeom prst="lightningBol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гресс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12"/>
          <p:cNvSpPr/>
          <p:nvPr/>
        </p:nvSpPr>
        <p:spPr>
          <a:xfrm>
            <a:off x="826920" y="3933720"/>
            <a:ext cx="1727280" cy="1584360"/>
          </a:xfrm>
          <a:prstGeom prst="pi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бов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14"/>
          <p:cNvSpPr/>
          <p:nvPr/>
        </p:nvSpPr>
        <p:spPr>
          <a:xfrm>
            <a:off x="6804000" y="3429000"/>
            <a:ext cx="1800360" cy="1873080"/>
          </a:xfrm>
          <a:prstGeom prst="pi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16"/>
          <p:cNvSpPr/>
          <p:nvPr/>
        </p:nvSpPr>
        <p:spPr>
          <a:xfrm>
            <a:off x="3059280" y="1916280"/>
            <a:ext cx="3313080" cy="485640"/>
          </a:xfrm>
          <a:custGeom>
            <a:avLst/>
            <a:gdLst>
              <a:gd name="textAreaLeft" fmla="*/ 517680 w 3313080"/>
              <a:gd name="textAreaRight" fmla="*/ 2899080 w 331308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18"/>
          <p:cNvSpPr/>
          <p:nvPr/>
        </p:nvSpPr>
        <p:spPr>
          <a:xfrm>
            <a:off x="6012000" y="306864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AutoShape 20"/>
          <p:cNvSpPr/>
          <p:nvPr/>
        </p:nvSpPr>
        <p:spPr>
          <a:xfrm rot="5400000">
            <a:off x="2219760" y="282816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21"/>
          <p:cNvSpPr/>
          <p:nvPr/>
        </p:nvSpPr>
        <p:spPr>
          <a:xfrm rot="18369600">
            <a:off x="2190960" y="5009040"/>
            <a:ext cx="486000" cy="1163520"/>
          </a:xfrm>
          <a:prstGeom prst="downArrow">
            <a:avLst>
              <a:gd name="adj1" fmla="val 50000"/>
              <a:gd name="adj2" fmla="val 59852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23"/>
          <p:cNvSpPr/>
          <p:nvPr/>
        </p:nvSpPr>
        <p:spPr>
          <a:xfrm>
            <a:off x="2484360" y="57340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26"/>
          <p:cNvSpPr/>
          <p:nvPr/>
        </p:nvSpPr>
        <p:spPr>
          <a:xfrm rot="5400000">
            <a:off x="6372360" y="5084640"/>
            <a:ext cx="914400" cy="914400"/>
          </a:xfrm>
          <a:prstGeom prst="lightningBol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27"/>
          <p:cNvSpPr/>
          <p:nvPr/>
        </p:nvSpPr>
        <p:spPr>
          <a:xfrm>
            <a:off x="4356000" y="2349360"/>
            <a:ext cx="486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28"/>
          <p:cNvSpPr/>
          <p:nvPr/>
        </p:nvSpPr>
        <p:spPr>
          <a:xfrm>
            <a:off x="4427640" y="3860640"/>
            <a:ext cx="485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29"/>
          <p:cNvSpPr/>
          <p:nvPr/>
        </p:nvSpPr>
        <p:spPr>
          <a:xfrm>
            <a:off x="4427640" y="5229360"/>
            <a:ext cx="485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войства общ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американскому психотерапевту Э.Берну, в человеке существует три «Я»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Дит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зависимое, подчиняемое и безответственное существо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Родитель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напротив, независимы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подчиняемый и берущий ответственность не только за себя, но и за окружающих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Взрослы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умеющий считаться с ситуацией, помнить интересы,  других и распределять ответственность между собой и другими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войства общ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митивный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нипулятивный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ндартизированный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венциональный уровен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ловой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овой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уховный 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WordArt 4"/>
          <p:cNvSpPr txBox="1"/>
          <p:nvPr/>
        </p:nvSpPr>
        <p:spPr>
          <a:xfrm rot="19128600">
            <a:off x="4176360" y="3971520"/>
            <a:ext cx="5278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овни общения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арьеры на урок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AutoShape 7"/>
          <p:cNvSpPr/>
          <p:nvPr/>
        </p:nvSpPr>
        <p:spPr>
          <a:xfrm>
            <a:off x="4211640" y="3357720"/>
            <a:ext cx="914400" cy="914400"/>
          </a:xfrm>
          <a:custGeom>
            <a:avLst/>
            <a:gdLst>
              <a:gd name="textAreaLeft" fmla="*/ 133920 w 914400"/>
              <a:gd name="textAreaRight" fmla="*/ 780480 w 914400"/>
              <a:gd name="textAreaTop" fmla="*/ 133920 h 914400"/>
              <a:gd name="textAreaBottom" fmla="*/ 7804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3995640" y="1700280"/>
            <a:ext cx="151308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мл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7020000" y="1773360"/>
            <a:ext cx="1224000" cy="7696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яте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684360" y="3716280"/>
            <a:ext cx="1800000" cy="865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тай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12"/>
          <p:cNvSpPr/>
          <p:nvPr/>
        </p:nvSpPr>
        <p:spPr>
          <a:xfrm>
            <a:off x="1979640" y="5084640"/>
            <a:ext cx="136836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тере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3"/>
          <p:cNvSpPr/>
          <p:nvPr/>
        </p:nvSpPr>
        <p:spPr>
          <a:xfrm>
            <a:off x="6156360" y="5013360"/>
            <a:ext cx="129528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бо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14"/>
          <p:cNvSpPr/>
          <p:nvPr/>
        </p:nvSpPr>
        <p:spPr>
          <a:xfrm>
            <a:off x="4211640" y="5373720"/>
            <a:ext cx="12240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са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5"/>
          <p:cNvSpPr/>
          <p:nvPr/>
        </p:nvSpPr>
        <p:spPr>
          <a:xfrm>
            <a:off x="6804000" y="3500280"/>
            <a:ext cx="172872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окато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16"/>
          <p:cNvSpPr/>
          <p:nvPr/>
        </p:nvSpPr>
        <p:spPr>
          <a:xfrm>
            <a:off x="826920" y="1773360"/>
            <a:ext cx="1729080" cy="792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нбл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21"/>
          <p:cNvSpPr/>
          <p:nvPr/>
        </p:nvSpPr>
        <p:spPr>
          <a:xfrm rot="13907400">
            <a:off x="5782320" y="1699200"/>
            <a:ext cx="485640" cy="2046240"/>
          </a:xfrm>
          <a:prstGeom prst="downArrow">
            <a:avLst>
              <a:gd name="adj1" fmla="val 50000"/>
              <a:gd name="adj2" fmla="val 10533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22"/>
          <p:cNvSpPr/>
          <p:nvPr/>
        </p:nvSpPr>
        <p:spPr>
          <a:xfrm rot="18339600">
            <a:off x="5478120" y="3792240"/>
            <a:ext cx="485640" cy="1384200"/>
          </a:xfrm>
          <a:prstGeom prst="downArrow">
            <a:avLst>
              <a:gd name="adj1" fmla="val 50000"/>
              <a:gd name="adj2" fmla="val 7125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23"/>
          <p:cNvSpPr/>
          <p:nvPr/>
        </p:nvSpPr>
        <p:spPr>
          <a:xfrm rot="16639800">
            <a:off x="5741640" y="3124080"/>
            <a:ext cx="486000" cy="1384200"/>
          </a:xfrm>
          <a:prstGeom prst="downArrow">
            <a:avLst>
              <a:gd name="adj1" fmla="val 50000"/>
              <a:gd name="adj2" fmla="val 7120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24"/>
          <p:cNvSpPr/>
          <p:nvPr/>
        </p:nvSpPr>
        <p:spPr>
          <a:xfrm>
            <a:off x="4500720" y="4365720"/>
            <a:ext cx="485640" cy="863640"/>
          </a:xfrm>
          <a:prstGeom prst="downArrow">
            <a:avLst>
              <a:gd name="adj1" fmla="val 50000"/>
              <a:gd name="adj2" fmla="val 4445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25"/>
          <p:cNvSpPr/>
          <p:nvPr/>
        </p:nvSpPr>
        <p:spPr>
          <a:xfrm rot="7348800">
            <a:off x="3079080" y="2155320"/>
            <a:ext cx="485640" cy="1800360"/>
          </a:xfrm>
          <a:prstGeom prst="downArrow">
            <a:avLst>
              <a:gd name="adj1" fmla="val 50000"/>
              <a:gd name="adj2" fmla="val 9268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6"/>
          <p:cNvSpPr/>
          <p:nvPr/>
        </p:nvSpPr>
        <p:spPr>
          <a:xfrm rot="10800000">
            <a:off x="4427280" y="2707920"/>
            <a:ext cx="485640" cy="576360"/>
          </a:xfrm>
          <a:prstGeom prst="downArrow">
            <a:avLst>
              <a:gd name="adj1" fmla="val 50000"/>
              <a:gd name="adj2" fmla="val 2967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27"/>
          <p:cNvSpPr/>
          <p:nvPr/>
        </p:nvSpPr>
        <p:spPr>
          <a:xfrm rot="3075000">
            <a:off x="3705480" y="4079160"/>
            <a:ext cx="486000" cy="1201680"/>
          </a:xfrm>
          <a:prstGeom prst="downArrow">
            <a:avLst>
              <a:gd name="adj1" fmla="val 50000"/>
              <a:gd name="adj2" fmla="val 6181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28"/>
          <p:cNvSpPr/>
          <p:nvPr/>
        </p:nvSpPr>
        <p:spPr>
          <a:xfrm rot="5400000">
            <a:off x="3069360" y="3204000"/>
            <a:ext cx="485640" cy="1656000"/>
          </a:xfrm>
          <a:prstGeom prst="downArrow">
            <a:avLst>
              <a:gd name="adj1" fmla="val 50000"/>
              <a:gd name="adj2" fmla="val 85248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арьеры в личном контакт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9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ити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тац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роз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ход от пробл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каз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еш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меш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гад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2556000" y="1557360"/>
            <a:ext cx="1520640" cy="4465440"/>
          </a:xfrm>
          <a:custGeom>
            <a:avLst/>
            <a:gdLst>
              <a:gd name="textAreaLeft" fmla="*/ 0 w 1520640"/>
              <a:gd name="textAreaRight" fmla="*/ 549000 w 1520640"/>
              <a:gd name="textAreaTop" fmla="*/ 116280 h 4465440"/>
              <a:gd name="textAreaBottom" fmla="*/ 4349160 h 44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4067280" y="1628640"/>
            <a:ext cx="4844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емы правильного слуш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вторение фраз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ауз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ражать чув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точн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ясн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фраз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зюмирова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3:00:59Z</dcterms:created>
  <dc:creator>Митрофан</dc:creator>
  <dc:description/>
  <dc:language>en-US</dc:language>
  <cp:lastModifiedBy>LEGION</cp:lastModifiedBy>
  <dcterms:modified xsi:type="dcterms:W3CDTF">2015-01-27T11:58:33Z</dcterms:modified>
  <cp:revision>5</cp:revision>
  <dc:subject/>
  <dc:title>Педагогическое  общение</dc:title>
</cp:coreProperties>
</file>