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9171-CC44-4577-A43F-1C21BC35E2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DE81-89A7-492E-A576-A879354BAA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условия установления контак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168F-680E-42D5-93AB-5370A4B483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нима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8594-1279-4CE9-99ED-E996BD2787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C92A-630A-4E4F-B915-5EC121BB98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е условия умения убежд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ить психологическ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есь сами в том, в чем убежд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ерите лог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арг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противоположные точки зрения и столкни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ите ит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E2FB-533B-4ADD-92B7-372AE4F151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маст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профессионализм учителя проявляется в его умении учить все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056E-5C4D-4D9E-B09B-992A534DAB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педагогической техники лежит  психология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владеть педагогической техникой, нужно овладеть психологией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78F-2AA9-4B8A-9C79-2BB3029DCB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евербального об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н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конт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09FB-1348-4762-962E-ACBBF20D81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невербальн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3691-FAE1-4A56-8F4D-D91E8E6901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американскому психотерапевту Э.Берну, в человеке существует три «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Дит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зависимое, подчиняемое и безответственное существ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Родител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апротив, независим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подчиняемый и берущий ответственность не только за себя, но и за окружающих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зросл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CEA2-F41E-44F2-BB9A-F73F7024CA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ирован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ональный уровен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8FB8-9F4C-4C37-81F9-EFD2D2FEF8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4A7-2255-48C6-8A8A-003240E31D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в личном конта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CC05-5462-46AA-AB01-5E2F89B89A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01F-853F-4BB9-8F65-AB366551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473-1B7D-4EF4-A7DF-D5E1356D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CC3-6E9D-411D-8E18-D18EF569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A42-BC10-4BBA-9B12-8FFB89B0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C8D4-6ABD-44FB-8802-4BC27469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7840-F363-404A-9B1A-B2FF923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32D1-D60B-4B45-84A7-2B903368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594E-B402-4B82-8724-2187514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515C-2D0C-4A81-BB8C-EFC58ABF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C00B-628F-4D22-899C-0ADED786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EDC3-DE94-4BA3-9454-30BA280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94B-BC10-423B-916F-9E5FC623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8544-2039-44D6-B57D-DECC1C8C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EAAE-9AF9-4B00-94A7-11E0D1B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1851-B598-4EAF-87BB-6D71018A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7AB8-68DC-4553-98B5-D5413E60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930F-97B5-4FBE-90DF-C8BF87F6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EC3-6955-404B-96B3-7574F8AE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6DF-169C-4C3B-8089-92FC807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A89-3D95-4A49-8FFB-9B3E5A53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D94-7902-4C47-8D0B-AC61BBF3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754-F1B4-4DC6-A2D4-9B41F966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D01-5BA0-4E61-959E-946269A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266-F482-4A7A-AD40-C3B6193D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CA1C-85A1-435D-B86B-F970E8E029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1224-ED51-4C49-A2F6-45AA7D56C2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1640" y="1700280"/>
            <a:ext cx="532476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едагогическое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общ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859280" y="4868640"/>
            <a:ext cx="3952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мов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51640" y="40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S02064_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5845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сихологические условия установления контакта с учащимис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667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55640" y="1628640"/>
            <a:ext cx="1727280" cy="10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948360" y="1557360"/>
            <a:ext cx="1368720" cy="127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й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16360" y="1700280"/>
            <a:ext cx="4032000" cy="1081080"/>
          </a:xfrm>
          <a:prstGeom prst="rightArrow">
            <a:avLst>
              <a:gd name="adj1" fmla="val 50000"/>
              <a:gd name="adj2" fmla="val 9324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ие чувств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й, пережи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5580000" y="2924280"/>
            <a:ext cx="3313080" cy="30970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 rot="17755200">
            <a:off x="3649680" y="1996560"/>
            <a:ext cx="576360" cy="3745080"/>
          </a:xfrm>
          <a:prstGeom prst="downArrow">
            <a:avLst>
              <a:gd name="adj1" fmla="val 50000"/>
              <a:gd name="adj2" fmla="val 16244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468360" y="3933720"/>
            <a:ext cx="2879640" cy="27352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нутреннее 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ча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1403280" y="2852640"/>
            <a:ext cx="504720" cy="1081080"/>
          </a:xfrm>
          <a:prstGeom prst="downArrow">
            <a:avLst>
              <a:gd name="adj1" fmla="val 50000"/>
              <a:gd name="adj2" fmla="val 5354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понимать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55640" y="1557360"/>
            <a:ext cx="1584360" cy="129528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867280" y="162864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484360" y="1916280"/>
            <a:ext cx="1800360" cy="649080"/>
          </a:xfrm>
          <a:prstGeom prst="rightArrow">
            <a:avLst>
              <a:gd name="adj1" fmla="val 50000"/>
              <a:gd name="adj2" fmla="val 69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 rot="565800">
            <a:off x="4787640" y="1628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 rot="18027000">
            <a:off x="5400360" y="2671560"/>
            <a:ext cx="719280" cy="360360"/>
          </a:xfrm>
          <a:prstGeom prst="leftArrow">
            <a:avLst>
              <a:gd name="adj1" fmla="val 50000"/>
              <a:gd name="adj2" fmla="val 499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 rot="13079400">
            <a:off x="6803640" y="2420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1"/>
          <p:cNvSpPr/>
          <p:nvPr/>
        </p:nvSpPr>
        <p:spPr>
          <a:xfrm rot="9796800">
            <a:off x="6875640" y="1412640"/>
            <a:ext cx="785520" cy="360360"/>
          </a:xfrm>
          <a:prstGeom prst="leftArrow">
            <a:avLst>
              <a:gd name="adj1" fmla="val 50000"/>
              <a:gd name="adj2" fmla="val 544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7722000" y="1289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7506000" y="26557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он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9640" y="3160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852720" y="1413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2828160" y="337644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нять свое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казать ему, что понимаю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1166760" y="431316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Чутко слушать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Не давать созреть гне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« Без личност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211640" y="4941720"/>
            <a:ext cx="1440000" cy="2160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 rot="4300200">
            <a:off x="3924000" y="5084640"/>
            <a:ext cx="576360" cy="57636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 rot="20686200">
            <a:off x="4140000" y="4652640"/>
            <a:ext cx="1373040" cy="189000"/>
          </a:xfrm>
          <a:prstGeom prst="rightArrow">
            <a:avLst>
              <a:gd name="adj1" fmla="val 50000"/>
              <a:gd name="adj2" fmla="val 18161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6"/>
          <p:cNvSpPr/>
          <p:nvPr/>
        </p:nvSpPr>
        <p:spPr>
          <a:xfrm rot="1356000">
            <a:off x="4140000" y="5229000"/>
            <a:ext cx="1373040" cy="188640"/>
          </a:xfrm>
          <a:prstGeom prst="rightArrow">
            <a:avLst>
              <a:gd name="adj1" fmla="val 50000"/>
              <a:gd name="adj2" fmla="val 18196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7"/>
          <p:cNvSpPr/>
          <p:nvPr/>
        </p:nvSpPr>
        <p:spPr>
          <a:xfrm>
            <a:off x="5634360" y="43848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р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5776200" y="4889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ви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5488560" y="5465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рб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050000" y="5753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атель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ти и упрям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316" name="AutoShape 4"/>
          <p:cNvCxnSpPr/>
          <p:nvPr/>
        </p:nvCxnSpPr>
        <p:spPr>
          <a:xfrm>
            <a:off x="900000" y="1628280"/>
            <a:ext cx="1944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AutoShape 5"/>
          <p:cNvCxnSpPr/>
          <p:nvPr/>
        </p:nvCxnSpPr>
        <p:spPr>
          <a:xfrm>
            <a:off x="2771640" y="1628280"/>
            <a:ext cx="7214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8" name="AutoShape 6"/>
          <p:cNvCxnSpPr/>
          <p:nvPr/>
        </p:nvCxnSpPr>
        <p:spPr>
          <a:xfrm flipV="1">
            <a:off x="3492000" y="1627920"/>
            <a:ext cx="5756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9" name="AutoShape 7"/>
          <p:cNvCxnSpPr/>
          <p:nvPr/>
        </p:nvCxnSpPr>
        <p:spPr>
          <a:xfrm>
            <a:off x="4140000" y="1557360"/>
            <a:ext cx="1152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0" name="AutoShape 8"/>
          <p:cNvCxnSpPr/>
          <p:nvPr/>
        </p:nvCxnSpPr>
        <p:spPr>
          <a:xfrm>
            <a:off x="5292720" y="1557000"/>
            <a:ext cx="79272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1" name="AutoShape 9"/>
          <p:cNvCxnSpPr/>
          <p:nvPr/>
        </p:nvCxnSpPr>
        <p:spPr>
          <a:xfrm flipV="1">
            <a:off x="6084720" y="1556640"/>
            <a:ext cx="6483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10"/>
          <p:cNvCxnSpPr/>
          <p:nvPr/>
        </p:nvCxnSpPr>
        <p:spPr>
          <a:xfrm>
            <a:off x="6803640" y="162828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Text Box 11"/>
          <p:cNvSpPr/>
          <p:nvPr/>
        </p:nvSpPr>
        <p:spPr>
          <a:xfrm>
            <a:off x="953280" y="12891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-3,5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52560" y="1720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214880" y="11970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(8-9)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14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3928320" y="17924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на с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716160" y="1792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6858000" y="1289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рос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68360" y="3645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580720" y="4221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>
            <a:off x="7236000" y="4005360"/>
            <a:ext cx="1584000" cy="1079280"/>
          </a:xfrm>
          <a:prstGeom prst="rightArrow">
            <a:avLst>
              <a:gd name="adj1" fmla="val 50000"/>
              <a:gd name="adj2" fmla="val 366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ям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1909080" y="4292640"/>
            <a:ext cx="343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 - У –уступать – 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наста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оставлять ? откры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3"/>
          <p:cNvSpPr/>
          <p:nvPr/>
        </p:nvSpPr>
        <p:spPr>
          <a:xfrm rot="18837600">
            <a:off x="2483280" y="3430080"/>
            <a:ext cx="733680" cy="865080"/>
          </a:xfrm>
          <a:custGeom>
            <a:avLst/>
            <a:gdLst>
              <a:gd name="textAreaLeft" fmla="*/ 98280 w 733680"/>
              <a:gd name="textAreaRight" fmla="*/ 635400 w 7336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5"/>
          <p:cNvSpPr/>
          <p:nvPr/>
        </p:nvSpPr>
        <p:spPr>
          <a:xfrm rot="11279400">
            <a:off x="3998160" y="3296880"/>
            <a:ext cx="2336760" cy="882720"/>
          </a:xfrm>
          <a:custGeom>
            <a:avLst/>
            <a:gdLst>
              <a:gd name="textAreaLeft" fmla="*/ 408960 w 2336760"/>
              <a:gd name="textAreaRight" fmla="*/ 1694160 w 23367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сихологические условия умения убежд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вить психологическую пробл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дитесь сами в том, в чем убежда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ерите лог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аргум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е противоположные точки зрения и столкните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дите ит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елайте вывод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ое мастер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ий профессионализм учителя проявляется в его умении учить всех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ая тех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педагогической техники лежит  психология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владеть педагогической техникой, нужно овладеть психологией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ед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м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уальный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55640" y="1989000"/>
            <a:ext cx="201600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48000" y="2924280"/>
            <a:ext cx="2448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88000" y="1989000"/>
            <a:ext cx="2016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б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03640" y="4292640"/>
            <a:ext cx="2952720" cy="842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203640" y="5661000"/>
            <a:ext cx="2881080" cy="627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3132000" y="4292640"/>
            <a:ext cx="295272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826920" y="3933720"/>
            <a:ext cx="1727280" cy="158436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6804000" y="3429000"/>
            <a:ext cx="1800360" cy="18730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3059280" y="1916280"/>
            <a:ext cx="3313080" cy="485640"/>
          </a:xfrm>
          <a:custGeom>
            <a:avLst/>
            <a:gdLst>
              <a:gd name="textAreaLeft" fmla="*/ 517680 w 3313080"/>
              <a:gd name="textAreaRight" fmla="*/ 2899080 w 3313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012000" y="3068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 rot="5400000">
            <a:off x="2219760" y="2828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rot="18369600">
            <a:off x="2190960" y="5009040"/>
            <a:ext cx="486000" cy="1163520"/>
          </a:xfrm>
          <a:prstGeom prst="downArrow">
            <a:avLst>
              <a:gd name="adj1" fmla="val 50000"/>
              <a:gd name="adj2" fmla="val 598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48436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 rot="5400000">
            <a:off x="6372360" y="5084640"/>
            <a:ext cx="91440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4356000" y="23493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4427640" y="3860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4427640" y="522936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американскому психотерапевту Э.Берну, в человеке существует три «Я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ит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зависимое, подчиняемое и безответственное суще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дител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против, независим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дчиняемый и берущий ответственность не только за себя, но и за окружающ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зросл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ипуля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изирован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ональный уро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й 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 rot="19128600">
            <a:off x="4176360" y="3971520"/>
            <a:ext cx="527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вни общ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на ур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4211640" y="33577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95640" y="1700280"/>
            <a:ext cx="1513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м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020000" y="1773360"/>
            <a:ext cx="1224000" cy="76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я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3716280"/>
            <a:ext cx="1800000" cy="86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979640" y="5084640"/>
            <a:ext cx="1368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156360" y="5013360"/>
            <a:ext cx="129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11640" y="5373720"/>
            <a:ext cx="1224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804000" y="3500280"/>
            <a:ext cx="1728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826920" y="1773360"/>
            <a:ext cx="1729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б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 rot="13907400">
            <a:off x="5782320" y="1699200"/>
            <a:ext cx="485640" cy="2046240"/>
          </a:xfrm>
          <a:prstGeom prst="downArrow">
            <a:avLst>
              <a:gd name="adj1" fmla="val 50000"/>
              <a:gd name="adj2" fmla="val 10533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 rot="18339600">
            <a:off x="5478120" y="3792240"/>
            <a:ext cx="485640" cy="1384200"/>
          </a:xfrm>
          <a:prstGeom prst="downArrow">
            <a:avLst>
              <a:gd name="adj1" fmla="val 50000"/>
              <a:gd name="adj2" fmla="val 712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3"/>
          <p:cNvSpPr/>
          <p:nvPr/>
        </p:nvSpPr>
        <p:spPr>
          <a:xfrm rot="16639800">
            <a:off x="5741640" y="3124080"/>
            <a:ext cx="486000" cy="1384200"/>
          </a:xfrm>
          <a:prstGeom prst="downArrow">
            <a:avLst>
              <a:gd name="adj1" fmla="val 50000"/>
              <a:gd name="adj2" fmla="val 712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4"/>
          <p:cNvSpPr/>
          <p:nvPr/>
        </p:nvSpPr>
        <p:spPr>
          <a:xfrm>
            <a:off x="4500720" y="436572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5"/>
          <p:cNvSpPr/>
          <p:nvPr/>
        </p:nvSpPr>
        <p:spPr>
          <a:xfrm rot="7348800">
            <a:off x="3079080" y="215532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6"/>
          <p:cNvSpPr/>
          <p:nvPr/>
        </p:nvSpPr>
        <p:spPr>
          <a:xfrm rot="10800000">
            <a:off x="4427280" y="270792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7"/>
          <p:cNvSpPr/>
          <p:nvPr/>
        </p:nvSpPr>
        <p:spPr>
          <a:xfrm rot="3075000">
            <a:off x="3705480" y="4079160"/>
            <a:ext cx="486000" cy="1201680"/>
          </a:xfrm>
          <a:prstGeom prst="downArrow">
            <a:avLst>
              <a:gd name="adj1" fmla="val 50000"/>
              <a:gd name="adj2" fmla="val 618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 rot="5400000">
            <a:off x="3069360" y="3204000"/>
            <a:ext cx="485640" cy="1656000"/>
          </a:xfrm>
          <a:prstGeom prst="downArrow">
            <a:avLst>
              <a:gd name="adj1" fmla="val 50000"/>
              <a:gd name="adj2" fmla="val 852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в личном контак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от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м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556000" y="1557360"/>
            <a:ext cx="1520640" cy="4465440"/>
          </a:xfrm>
          <a:custGeom>
            <a:avLst/>
            <a:gdLst>
              <a:gd name="textAreaLeft" fmla="*/ 0 w 1520640"/>
              <a:gd name="textAreaRight" fmla="*/ 549000 w 1520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67280" y="1628640"/>
            <a:ext cx="484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емы правильного слуш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фр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ать чув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фраз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ю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00:59Z</dcterms:created>
  <dc:creator>Митрофан</dc:creator>
  <dc:description/>
  <dc:language>en-US</dc:language>
  <cp:lastModifiedBy>LEGION</cp:lastModifiedBy>
  <dcterms:modified xsi:type="dcterms:W3CDTF">2015-01-27T11:58:33Z</dcterms:modified>
  <cp:revision>5</cp:revision>
  <dc:subject/>
  <dc:title>Педагогическое  общение</dc:title>
</cp:coreProperties>
</file>