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C2C7-EAFB-4D6D-836C-510EB31EE0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8863-88B5-4F44-82E4-8C778875B8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гра с пальчиками «Колеч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и как грабельки скребут по шершавой поверхности подушечками паль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катает грецкий орех  (шишку, фундук) между ладон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61AB-CE69-4911-84D4-BA786E16B5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A42C-F0F4-4161-9EED-14308D59F0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зрительно-моторных тренаж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) все упражнения выполняются в позе свободного 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) каждое упражнение базируется на зрительно-поисковых  стимул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) продолжительность таких упражнений 1,5—2 минут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7300-8F25-44C0-B424-0D4E521BE7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  <a:ea typeface="Aharoni"/>
              </a:rPr>
              <a:t>Особенность ВНД  младших школьник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устойчив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ых процессов  и преобладание возбудительных 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ышенн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тощаем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агруз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трудн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формирования новых условных связей (требуется большее число повтор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прочн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овь образованных связей и их ут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9A26-A8A6-4B88-B9B5-515A88482E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ь анализаторных систем и опорно-двигательного аппара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0FC0-4AA8-4509-A59D-2C9550C17A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келет, суставно-связочный аппарат и мускулату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есовершенен (дисфункции мышечных групп в области позвоночни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1CAF-275B-4DFE-A003-0C0D1DC185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физминут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ервом уроке достаточно одной физкультминутки на 25-ой минуте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втором и третьем уроках — по 2 физкультминутки на 10-й и    20-ой минут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четвертом уроке — 3 физкультминутки на 10-ой, 20-ой и 30-й мину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6BEA-3F5C-40E8-BED2-3AD248BF3D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физмин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мозгового кровообращ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5E7B-9591-467C-AB14-60862DC233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згового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8AE1-12F3-4542-AA38-665BF5D1CE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пка для размышл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нивые восьмер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ак – ребро – ладо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C5A8-E857-4F9F-9BA5-30BDAD4CF7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езги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хо – н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3379-BC9E-4EAF-AFC2-DA03E5C4EE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3A3-1820-407F-B90B-009C1D00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6C8-91BD-42C1-97C8-917CD709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D36-6048-4F8C-AE92-DB3A32B8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00E-FE32-4094-A02B-CC599539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8E54-3AC3-4DE7-995B-8D1BF851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8A7B-31EF-419C-AE1F-B045FAC3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8566-EB75-44BF-9DEA-935A5CAB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C655-6594-4111-87CA-768CB5A9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B528-4AD0-48F9-8010-A1A17652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BD55-B570-4F7B-8229-C7F4D01B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864C-0123-4C58-A03C-9B617C5D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44D-C405-47AE-9800-585BAD5A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D431-2C34-4A1A-8175-537A1ACC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E275-C990-4F56-A2F2-6841B92A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E8D6-3EF2-437F-98D1-9FE3C082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19F0-B9F7-4359-944A-B70ED853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7220-1508-4EC4-80F4-828C63F6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16567-2BDC-4613-B376-BAAF1279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99065-3BA8-40A5-B8E5-228BB8B7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05ADE-4F49-4B95-BA70-0DC0B4D4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AD861-99D1-49D1-A8F9-D70D09B7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9AD89-44C8-4D0E-A47B-69013180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12E-6BBF-40CF-ABF4-6820B3F8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E4E3-4C49-48FE-8DE9-2ECC8183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A38C4-C90E-4F12-B8DB-68005ED0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1244F-A14C-4218-B3EE-7AC45146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99170-383F-459C-AA97-C670C715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454CF-F1A1-4C1B-80AE-C2EE4875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8460F-D3EF-41C1-86E5-6745FE6B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4CB9F-C21E-4283-A67E-739E67CC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8D3B4-0EC7-49C9-B453-AF877806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9C4DC-E16D-46B4-8931-409AF5B5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A1AFC-164E-4DE9-83AE-C9280CA1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94D-1FE2-4674-AC87-325083E1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51D83-9829-4256-9AF6-20B69128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F8A9E-3F10-477A-9A67-1248C401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F3116-BFE0-45B5-B89B-B93D0CE9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2BF90-9125-4B5E-8C1D-71706F3A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46A47-0632-44D8-9B41-6D75B5B2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0C07E-2551-4601-A70B-8437D7A2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0F6B9-0DA3-468D-8700-BAED5E6B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361A4-BB9F-423F-AB2B-393BDA77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FC331-71BA-4DF2-BD1B-F431085C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E8F82-452E-49D0-A231-087578D5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047-4491-4250-8AD6-36CAAB4B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EDF4A-0E38-471A-BB02-5F4EF092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C2BEC-9444-4DF7-BC5F-E2CDFF98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DE4B4-05CA-4196-9673-A2900928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D1215-01E0-4023-9B4D-B7B8F98F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A1717-F847-4F71-98B3-02FC0F5C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BEED4-23D3-4403-BF89-4E27CE38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FC49-6FC1-4279-9EF5-6909289A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85BB5-13E9-4284-B00C-A8E1B8B9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B48D7-3A48-4F10-AE3E-121280C3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FBE5F-3765-475A-8930-21527F18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32C-C78E-4395-8D20-FC40FD3E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3065F-E3E5-4462-A74A-1CDF5AA9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671B9-5621-4747-8374-6488D512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C200B-3125-4627-A3BB-636DB968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E7873-D4FA-42BF-A9BB-6A33DAC2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C0723-2AB7-4FB0-81F8-2804500C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13EB0-770F-496E-B28C-8BEA41C1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EB98B-B9E6-4BCD-9A2E-F6CFD878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3D4A6-A59E-4A35-8E32-328FF88D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155E1-27C2-44B6-A34C-765F6E05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0F546-FAB0-4ADF-8438-ADC6EBFC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A80-EEB6-4FC8-B04C-B8CC2369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909ED-1FA0-441F-B673-2B3877EF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1097B-4648-4A5A-A3D0-61EE5032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4E007-F1F6-4007-8BFA-641D92E1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D40-5424-41E4-8196-A49887BA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4C8-D1C5-4AC7-81AE-F78BD1A5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3BF2-0DC6-4D6E-8C9A-8F67654A3788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BE3D-FFF9-49BD-B48D-E6D6957A6350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D9BB-FBDB-4C9A-AC51-0BD27610C591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4783-3224-4B42-A422-FB048A9672AF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5E9D-C2D8-46D3-B9FB-4855967BA016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65ED-A7AC-487D-B821-198B94162FC6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131D-A828-4788-993A-4A88091C089B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A3DD-7842-4A6E-9718-57AC1525F7D2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F53B-BB64-4640-9F00-A5B20D9C138F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D632-BB01-4EBC-876A-A2765918873C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CC0A-0929-45D2-9ADB-08A142464FF5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926E-1111-4640-AC21-F2CA1D1AB612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440" y="1285920"/>
            <a:ext cx="8458200" cy="37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75988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304920" y="1554120"/>
            <a:ext cx="86868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Игра с пальчиками «Колечки»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уки как грабельки скребут по шершавой поверхности подушечками пальцев.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ебенок катает грецкий орех  (шишку, фундук) между ладонями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285840" y="-55440"/>
            <a:ext cx="8686800" cy="993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14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04920" y="1553760"/>
            <a:ext cx="868680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а) все упражнения выполняются в позе свободного стояния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б) каждое упражнение базируется на зрительно-поисковых  стимулах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г) продолжительность таких упражнений 1,5—2 минуты.</a:t>
            </a:r>
            <a:br>
              <a:rPr sz="2200"/>
            </a:b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357120" y="471492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Franklin Gothic Book"/>
              </a:rPr>
              <a:t>Установлено,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что наибольший эффект по поддержанию активности детей на уроках от этих упражнений тогда, когда выполняются они в середине каждого урока (а при двукратном проведении — через каждые 15 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85840" y="1214280"/>
            <a:ext cx="8686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  <a:ea typeface="Aharoni"/>
              </a:rPr>
              <a:t>Особенность ВНД  младших школьников: 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устойчив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основных процессов  и преобладание возбудительных процессов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вышенная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истощаем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 нагрузке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Затрудненн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формирования новых условных связей (требуется большее число повторений)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прочн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новь образованных связей и их утрата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1420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Особенность анализаторных систем и опорно-двигательного аппарата: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14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Скелет, суставно-связочный аппарат и мускулатура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несовершенен (дисфункции мышечных групп в области позвоночника)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04920" y="1554120"/>
            <a:ext cx="86868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первом уроке достаточно одной физкультминутки на 25-ой минуте урока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втором и третьем уроках — по 2 физкультминутки на 10-й и    20-ой минутах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четвертом уроке — 3 физкультминутки на 10-ой, 20-ой и 30-й минутах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улучшения мозгового кровообращения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младших школьников на уроках с элементами письма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глаз 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686800" cy="1353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14200" y="1357200"/>
            <a:ext cx="86868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500040" y="5572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о время выполнений упражн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ключается дых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1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Шапка для размышлений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нивые восьмер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ягуш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улак – ребро – ладонь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4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Лезгинка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хо – нос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9:14:59Z</dcterms:created>
  <dc:creator>Елена</dc:creator>
  <dc:description/>
  <dc:language>en-US</dc:language>
  <cp:lastModifiedBy>LEGION</cp:lastModifiedBy>
  <dcterms:modified xsi:type="dcterms:W3CDTF">2015-01-27T11:59:04Z</dcterms:modified>
  <cp:revision>47</cp:revision>
  <dc:subject/>
  <dc:title>Слайд 1</dc:title>
</cp:coreProperties>
</file>