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A0DF-F2DC-4E2F-A086-183164C33E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2050-8E6D-40A1-AC40-55A68FA170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гра с пальчиками «Колеч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и как грабельки скребут по шершавой поверхности подушечками паль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катает грецкий орех  (шишку, фундук) между ладон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4EFB-0D94-4BFC-AA7E-F3B2359349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AC43-CA1F-46EB-8E51-EC6EBB72CA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зрительно-моторных тренаж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) все упражнения выполняются в позе свободного 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) каждое упражнение базируется на зрительно-поисковых  стимул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) продолжительность таких упражнений 1,5—2 минут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3962-B9BD-4B26-81E0-5D1CA60CFA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  <a:ea typeface="Aharoni"/>
              </a:rPr>
              <a:t>Особенность ВНД  младших школьник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устойчив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ых процессов  и преобладание возбудительных 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ышенн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тощаем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агруз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трудн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формирования новых условных связей (требуется большее число повтор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прочн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овь образованных связей и их ут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D26E-C212-4FF9-A74F-567A91E5BB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ь анализаторных систем и опорно-двигательного аппара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A241-8609-42C7-904C-51AA259678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келет, суставно-связочный аппарат и мускулату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есовершенен (дисфункции мышечных групп в области позвоночни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7394-DB8A-43DB-A7B4-BC243208E2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физминут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ервом уроке достаточно одной физкультминутки на 25-ой минуте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втором и третьем уроках — по 2 физкультминутки на 10-й и    20-ой минут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четвертом уроке — 3 физкультминутки на 10-ой, 20-ой и 30-й мину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C7A5-601D-4F33-BBA1-655EC3371E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физмин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мозгового кровообращ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2BE6-438A-4B39-A4CD-90102B120C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згового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EE9A-20B8-40B1-BED1-ADF3C0C869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пка для размышл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нивые восьмер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ак – ребро – ладо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AA99-B514-40D0-9CCF-0813A276BA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езги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хо – н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F66B-DB9F-4903-BDD0-9BE4E475F8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9D38-2029-4E1D-BA61-CA853A2A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4B0-8D74-4251-8217-AF5AF35C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D0E-FFDE-4F7C-8915-7D6DB477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273-6091-4C3D-9C7C-EC877810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5E76-E7A5-4A78-BF26-E80642A7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2255-885D-4839-9F3F-129651BB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E9E5-BD95-42E0-888D-12C3B8F9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1351-9E87-458A-B663-40A369EF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563E-BD4C-4C26-A355-57600245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73FE-6E66-4911-9407-E2EE2E95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B33B-17A6-407C-ACB1-66C1AEDB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93B-E18A-4557-A479-E0442067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C597-193E-4F6C-AB0F-2AC567AD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2298-9EC0-4AEA-9632-CAC6726C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5851-520F-43F3-BF7F-56516732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8C23-5B91-41EF-B4DD-AE335857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F331-650E-4D38-B229-8314ACB2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4F1D4-64DC-4DE4-BFF8-DC6CB766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733E-CB9D-4B8B-B161-AA2497BD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D1695-E260-489A-B5F2-A2944A7E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733C7-E206-4DA4-8FCA-A924400E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0CD0F-6DEC-4ED2-8403-3542C178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B66-3B43-4E0B-8C5E-F69BE6CE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BF374-5122-4AF4-BF5F-6229ACF7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FCF74-E8AA-45B9-9F41-D37B3F09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6466A-2003-489D-B963-CC57B10B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C2A22-E51B-41C4-AD5C-76E2DC5D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C6213-7CE0-498E-8892-1B812576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4598A-8480-47F4-AA41-53FAB75F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D5AA-C6B0-496C-8518-F5D7D4D5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CBB6B-0397-4778-B274-AF180791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3CD5B-7D2D-44F1-A5AD-F4A82379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20620-9325-425B-A227-809DA086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F156-311B-4F99-91E2-E949D7B9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3A4FE-0DDD-4B1F-ABBE-36A1C41E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F3ED3-8A55-44E2-BE33-E9A51781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E32AC-1D6B-4A36-8FCC-694A8C0B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6A27C-AF79-45AC-B305-8DF7DCC6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5BFCB-2912-44CE-AD3F-82875447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DA564-8D1B-4714-AB56-C276CD2B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7B21F-A04E-43E5-B912-89D0767F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93D8F-0FD0-4182-910D-03FACFAD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DF16B-862B-4060-B71F-9666362B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68185-AEE4-447B-9C0C-771C1E00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42F-2C9C-4AEF-A007-D8406C4F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4F39D-BAD7-4141-8394-92C45C4B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1DC19-6BA3-4BFA-8FCD-BCB974A3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5B8D3-76CC-430F-822B-782E15EC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DC851-11EE-4260-9339-306000AB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9909D-811B-4547-A2E5-68314916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2B936-0AAD-40E9-BF28-79B626F4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2C6B7-3805-4360-8A6C-EE18CFCB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1A91F-2B4F-4589-BE10-E0CE1DD1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13355-D852-4B31-B265-F84DAAAF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355ED-A971-4446-861B-6942F108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8D0-BC43-44FE-B303-50592E5F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0AF18-2935-473E-A20E-1C36AC67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C2EA7-7C4D-449A-B230-2318B2DA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CBA0C-B776-4385-93F4-DD378902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CD1EE-0491-4CB7-B23A-6C4604CE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FC815-C1C1-4BB3-9158-3FA7ADF1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8C2FA-947F-43E8-9E0F-9E7D7701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99A0D-CFD3-4504-8530-88616D37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53D09-166D-421A-BD40-FF66014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04D1C-3FCD-48CC-9324-35A3FB7B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81F0D-45DE-41F0-A28F-55DCB70F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B1B-4ADF-4DCD-9D52-3BA5A826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A2C28-380A-4BC9-BC28-71738C6C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7967B-0FBC-4301-9711-63B8581A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A5A08-2207-4E74-BA86-204120E7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205-4AC1-42CE-98FF-435019D5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EC1-2880-45C2-8238-CCFC6D71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D975-DADE-4858-9093-822356F99CBE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51AA-5452-4270-8304-D420578B7FE5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587A-94E4-4DEA-829A-D660B0B54DB5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4925-EBAA-4A22-809D-6B506A1E8249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5AB5-E99C-49D7-AC80-53394F44D08E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B8C5-819F-4B71-913E-2042EA039C30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2CF7-9AAC-4830-AFB3-5EC3E6D08D3C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9BD0-B070-4E25-BD85-D983D960A1A9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DF16-0DEA-4B47-B711-9C8266CAE793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2B59-B2CE-4F51-B48C-CFE8AF4560FB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E888-FF10-4E3E-8636-AF3940BC3CF0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8144-BE76-4525-99C1-8B332A83400B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440" y="1285920"/>
            <a:ext cx="8458200" cy="37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75988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304920" y="1554120"/>
            <a:ext cx="86868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Игра с пальчиками «Колечки»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уки как грабельки скребут по шершавой поверхности подушечками пальцев.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ебенок катает грецкий орех  (шишку, фундук) между ладонями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285840" y="-55440"/>
            <a:ext cx="8686800" cy="993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14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04920" y="1553760"/>
            <a:ext cx="868680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а) все упражнения выполняются в позе свободного стояния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б) каждое упражнение базируется на зрительно-поисковых  стимулах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г) продолжительность таких упражнений 1,5—2 минуты.</a:t>
            </a:r>
            <a:br>
              <a:rPr sz="2200"/>
            </a:b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357120" y="471492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Franklin Gothic Book"/>
              </a:rPr>
              <a:t>Установлено,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что наибольший эффект по поддержанию активности детей на уроках от этих упражнений тогда, когда выполняются они в середине каждого урока (а при двукратном проведении — через каждые 15 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85840" y="1214280"/>
            <a:ext cx="8686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  <a:ea typeface="Aharoni"/>
              </a:rPr>
              <a:t>Особенность ВНД  младших школьников: 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устойчив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основных процессов  и преобладание возбудительных процессов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вышенная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истощаем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 нагрузке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Затрудненн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формирования новых условных связей (требуется большее число повторений)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прочн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новь образованных связей и их утрата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1420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Особенность анализаторных систем и опорно-двигательного аппарата: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14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Скелет, суставно-связочный аппарат и мускулатура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несовершенен (дисфункции мышечных групп в области позвоночника)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04920" y="1554120"/>
            <a:ext cx="86868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первом уроке достаточно одной физкультминутки на 25-ой минуте урока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втором и третьем уроках — по 2 физкультминутки на 10-й и    20-ой минутах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четвертом уроке — 3 физкультминутки на 10-ой, 20-ой и 30-й минутах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улучшения мозгового кровообращения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младших школьников на уроках с элементами письма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глаз 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686800" cy="1353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14200" y="1357200"/>
            <a:ext cx="86868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500040" y="5572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о время выполнений упражн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ключается дых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1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Шапка для размышлений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нивые восьмер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ягуш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улак – ребро – ладонь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4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Лезгинка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хо – нос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9:14:59Z</dcterms:created>
  <dc:creator>Елена</dc:creator>
  <dc:description/>
  <dc:language>en-US</dc:language>
  <cp:lastModifiedBy>LEGION</cp:lastModifiedBy>
  <dcterms:modified xsi:type="dcterms:W3CDTF">2015-01-27T11:59:04Z</dcterms:modified>
  <cp:revision>47</cp:revision>
  <dc:subject/>
  <dc:title>Слайд 1</dc:title>
</cp:coreProperties>
</file>