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F39-4329-4943-8142-FB40853C03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7348-403F-4680-8B60-2F8EA731FD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гра с пальчиками «Колеч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и как грабельки скребут по шершавой поверхности подушечками пальц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катает грецкий орех  (шишку, фундук) между ладон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0FD6-CC28-42D6-883C-422C11BA0A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0BD2-73E3-4F88-9872-694B0DF8D2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зрительно-моторных тренаж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) все упражнения выполняются в позе свободного 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) каждое упражнение базируется на зрительно-поисковых  стимул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) продолжительность таких упражнений 1,5—2 минут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5E1B-60F1-47B8-8A92-AACD5845F4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  <a:ea typeface="Aharoni"/>
              </a:rPr>
              <a:t>Особенность ВНД  младших школьник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устойчив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ых процессов  и преобладание возбудительных процес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ышенн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стощаем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агруз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трудне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формирования новых условных связей (требуется большее число повтор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прочно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овь образованных связей и их утр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EEB9-4DB5-4909-AEAD-62FD494A05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обенность анализаторных систем и опорно-двигательного аппара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544-7946-4F6A-805C-A2FDE9932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келет, суставно-связочный аппарат и мускулату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есовершенен (дисфункции мышечных групп в области позвоночни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5D84-1E52-49B7-8E26-17E5DB333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бования к физмину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первом уроке достаточно одной физкультминутки на 25-ой минуте уро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втором и третьем уроках — по 2 физкультминутки на 10-й и    20-ой минут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четвертом уроке — 3 физкультминутки на 10-ой, 20-ой и 30-й мину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A3CA-246A-4A13-B174-2B56E2067F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физмин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мозгового кровообращения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младших школьников на уроках с элементами письма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глаз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7B0D-0055-43A9-BF59-AB5F7EACC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зминутки для улуч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згового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2F52-A354-4FB0-89C4-3EE4CE6D49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апка для размышл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нивые восьмер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ягушк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ак – ребро – ладон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7BE-0EE6-49A7-B6E7-917BA0AF0A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КИНЕЗИОЛОГИЧЕСКИЕ УПРАЖ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Лезги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хо – но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DEDD-40EB-4E94-82A1-8368C8FA0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A66-1FD7-4708-BB69-C518508F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0F9-2A41-4384-A46E-8891C0D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1D8D-EE33-487F-884A-D8164422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FF2-7E4E-4A1F-BD40-0C7DAA36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5986-7803-41CB-8DB3-F584AD49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2973-5CC7-4253-B25D-00DB49B1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0378-DE4E-471E-BC6C-E11CC0D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5285-76D5-4A35-8372-88C7BD28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A03A-DDB2-446C-872A-DED81B1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B34F-04C3-4833-8216-08295D2E2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AF38-4412-4024-A705-3FEA1CC6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513-FA89-44F2-8297-9536FD5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7ED0-3434-41DF-90E6-02BD7063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999F-6744-4751-9CED-89E0BFE0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BC75-2519-44E1-93EE-F1982AD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08B8-C5D4-4D4C-943D-F641D9F3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0153-0A52-45F3-8DFC-A00F3883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AFA5C-FA2F-4E9A-B7A3-27E1B055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0C13-4CBF-4754-80ED-E0070F1E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6BB5-C7E8-45D8-A61B-36C1065C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BC935-73F0-404C-BA89-659475A0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389D-CECC-4436-8B84-3AEFF713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E6FA-4E83-41FF-983F-58AD7A8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2FDEC-DB38-4080-920A-795DF28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FB4F-F58F-4C61-B712-EF0AA5F3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557C-5B47-4DA5-85A7-0656E4DA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5AB14-D05D-4A28-B24B-862EAD14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C81E-FF20-4B58-9416-582D951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3F30-E942-4C97-A6C1-CCE92C74A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2751-2E57-471A-8CC8-D308A8265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63DD2-72CD-4C61-817E-EF7BBB76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07DE4-D4C0-451E-870F-CF414BF5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B4BE5-5CA5-42B5-A187-9ACAE69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DF8-331C-4056-8076-5CCF04A6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2372F-B2DC-4744-AA97-055FFAB0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CEEB-EA09-4907-A926-4C11F76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AA9D-F31E-4326-B76B-43C07745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AE6F2-98EB-42F8-ADBB-8B6A8BCA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5D00-9C59-4585-AA80-DB4C4C2D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A3E2-01BA-4A58-8389-F9AAB09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4E17C-CDE7-4255-A011-FC7FB678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F503F-32A6-487E-B68B-15BF2310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F430B-3E42-4B3C-B903-F253AC1C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C56E2-6950-4369-B935-9045AAC7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4AD-7DE7-4D0A-869A-A6A9629F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C85D-4553-4DCC-BBB4-0807BBE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9C354-C0D5-41BE-90BD-BD123457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D9516-649A-413A-8279-017E9F5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C46D0-7D2C-4CD8-AAF6-1894016E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364D-814B-4055-B7C4-DCDDBB92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1F80-D191-4FF6-B484-05CC3C56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077CF-E2B3-40CC-9081-F19ED6F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F229F-E5F4-4A63-A206-C7F35E6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4740-2CA5-4595-963F-27F2DDBD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C6067-619F-4CC9-8EEE-E319E410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1028-5D7C-4DB8-A057-1C04C8F4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0B454-084E-4C72-99EE-31A61C51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33181-D23D-44C5-B67A-A324EBE2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96780-86FC-4BA5-BCBD-CDBDBA2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91B1D-E0A2-4DC6-BF43-A2AF08C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C14FF-5284-4A72-BC5D-C61C5E41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D0CEF-867A-4B7E-9B51-026E899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35C79-5FFE-4075-B933-CF8CB157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EA3DC-D155-45F6-A817-C9289344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11CD2-1018-4771-8DF6-3C3D427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566E-76B8-4643-90A9-B8817C11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6E0-26DE-44CB-8120-2BFC2CE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248BD-81BF-45E6-8DF2-B012A2C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DE35-518C-44E1-A933-31E49F6E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B6C77-3C20-46AE-A850-D2AF906F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74A7-1CAD-4A52-8D87-D4D3F5F3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27A-2810-4680-85BB-EE09F130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577-A381-489B-B365-EF1F1851CC8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7F04-8C0D-4C7D-B15D-1F3B0F386395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EB6-516B-4DA7-96EF-AF74F9F251B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B058-0B25-4645-87B2-F8B8DD906E5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499-E6D5-4874-99CE-F363F975163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5FF5-F481-44A7-B7EB-CE02B0EE56BF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9BFB-AD29-46CC-9672-A7BB3C6AE42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DB6-8A1B-4050-BBB0-2273F246EB28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338A-82CB-40A9-B393-0E800D73F8D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53C1-2034-4090-AE1C-5D2B515E78BD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5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3678-0181-4CC8-B0E3-FA5753461BEC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81BC-2180-48B1-87D1-2F6A4E51AED7}" type="slidenum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85440" y="1285920"/>
            <a:ext cx="8458200" cy="37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Организация         и содержание 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d3d3d"/>
                </a:solidFill>
                <a:latin typeface="Arial Black"/>
                <a:ea typeface="Aharoni"/>
              </a:rPr>
              <a:t>физминутки           на уроке</a:t>
            </a:r>
            <a:endParaRPr b="0" lang="en-US" sz="6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759880" cy="1359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амомассаж фаланг пальцев – поглаживание большим пальцем всех по очереди других пальцев по направлению от ногтевой фаланги к основанию пальца. Упражнение выполняется сразу на двух руках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Игра с пальчиками «Колечки»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уки как грабельки скребут по шершавой поверхности подушечками пальцев. 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Ладони лежат на поверхности стола. Синхронное поочередное поднимание-опускание пальцев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Ребенок катает грецкий орех  (шишку, фундук) между ладонями.</a:t>
            </a: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285840" y="-55440"/>
            <a:ext cx="8686800" cy="9936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214200" y="1071360"/>
            <a:ext cx="8686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ыстро поморгать, закрыть глаза и посидеть спокойно, медленно считая до 5. 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епко зажмурить глаза (считать до 3), открыть, посмотреть вдаль (считать до 5)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Вытянуть правую руку вперед. Следить глазами, не поворачивая головы, за медленными движениями указательного пальца вытянутой руки влево и вправо, вверх и вниз. Повторить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4.     Посмотреть на указательный палец вытянутый руки на счет 1-4, потом перенести взгляд вдаль на счет 1-6. Повторить  4-5 раз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483480" indent="-483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5.    В среднем темпе проделать 3-4 круговых движения глазами в правую сторону, столько же в левую сторону. Расслабив глазные мышцы, посмотреть вдаль на счет 1-6. Повторить 1-2 раза.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1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304920" y="268200"/>
            <a:ext cx="8686800" cy="13590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04920" y="1553760"/>
            <a:ext cx="868680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а) все упражнения выполняются в позе свободного стояния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б) каждое упражнение базируется на зрительно-поисковых  стимулах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в) в процессе такого поиска дети совершают сочетанные движения головой, глазами и туловищем;</a:t>
            </a: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г) продолжительность таких упражнений 1,5—2 минуты.</a:t>
            </a:r>
            <a:br>
              <a:rPr sz="2200"/>
            </a:b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357120" y="471492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1f28"/>
                </a:solidFill>
                <a:latin typeface="Franklin Gothic Book"/>
              </a:rPr>
              <a:t>Установлено,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то наибольший эффект по поддержанию активности детей на уроках от этих упражнений тогда, когда выполняются они в середине каждого урока (а при двукратном проведении — через каждые 15 м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285840" y="1214280"/>
            <a:ext cx="8686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  <a:ea typeface="Aharoni"/>
              </a:rPr>
              <a:t>Особенность ВНД  младших школьников: 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устойчив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основных процессов  и преобладание возбудительных процессов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вышенная </a:t>
            </a: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истощаем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нагрузке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Затрудненность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формирования новых условных связей (требуется большее число повторений),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Непрочность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вновь образованных связей и их утрата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214200" y="1142640"/>
            <a:ext cx="8686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Особенность анализаторных систем и опорно-двигательного аппарата: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 6-7 годам заканчивается формирование совместного зрения двумя глазами (пространственное восприятие)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едостаточная устойчивость и повышенная чувствительность к внешним воздействия, т.к. продолжается развитие других функций зрения,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луховой анализатор не обладает всеми качествами (ниже порог слышимости, ниже острота слуха на слова).</a:t>
            </a:r>
            <a:endParaRPr b="0" lang="en-US" sz="28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Скелет, суставно-связочный аппарат и мускулатура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несовершенен (дисфункции мышечных групп в области позвоночника)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Недостаточное развитие эластичности сосудов, высокая возбудимость дыхательного центра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(быстрое нарушение ритма дыхательных движений) создают предпосылки воспалительных заболеваний верхних дыхательных путей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85840" y="21276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304920" y="1554120"/>
            <a:ext cx="86868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пражнения должны быть просты, интересны, доступны детям, по   возможности связаны с содержанием урока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омплекс должен состоять из одного - двух упражнений, повторяющихся 4-6 раз. Замена комплекса проводится не реже 1 раза в две недели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Содержание упражнений должно зависеть от характера и условий проведения урока. Так, после  письменных заданий, включают движения рук, сжимание  и разжимание пальцев и т.д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о  время контрольных и некоторых практических уроках (труд, физкультура, ритмика и др.) физкультминутку не проводят.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первом уроке достаточно одной физкультминутки на 25-ой минуте урока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втором и третьем уроках — по 2 физкультминутки на 10-й и    20-ой минутах,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 четвертом уроке — 3 физкультминутки на 10-ой, 20-ой и 30-й минутах.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улучшения мозгового кровообращения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младших школьников на уроках с элементами письма ;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Физминутки для глаз .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686800" cy="13539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14200" y="135720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1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сходное положение (и.п.) - сидя на стуле, 1-2 - плавно наклонить голову назад, 3-4 - голову наклонить вперед, плечи не поднимать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2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идя, руки на поясе. 1 - поворот головы направо, 2 - и.п., 3 -поворот головы налево, 4 - и.п. Повторить 6-8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3.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Franklin Gothic Book"/>
              </a:rPr>
              <a:t>И.п. - стоя или сидя, руки на поясе. 1 - махом левую руку занести через правое плечо, голову повернуть налево, 2 - и.п., 3-4 - то же правой рукой. Повторить 4-6 раз. Темп медленный.</a:t>
            </a:r>
            <a:endParaRPr b="0" lang="en-US" sz="25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500040" y="557208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о время выполнений упраж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включается дых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1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Шапка для размышлений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улучшить внимание, правописание, ясное восприятие и речь). Дети мягко заворачивают уши от верхней точки до мочки 3 раза. Это помогает им услышать резонирующий звук своего голоса, когда они говорят или по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енивые восьмер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активизирует структуры, обеспечивающие запоминание, повышают устойчивость внимания). Дети рисуют в воздухе в горизонтальной (вертикальной) плоскости «8» по 3 раза каждой рукой, а затем повторяют это движение обеи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Лягушки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 Положить руки на стол (колени). Одна рука сжата  в кулак, другая лежит на плоскости стола (ладошка). Одновременно менять положение рук. Усложнение упражнения состоит в ускор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Кулак – ребро – ладонь 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кистей рук, улучшение внимания).чередование кисти в трех положениях: ладонь на плоскости, ладонь сжатая в кулак, ладонь ребром на плоскости стола, распрямленная ладонь на столе. Ребенок может самостоятельно произносить инструкцию синхронизируясь с клас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686800" cy="963720"/>
          </a:xfrm>
          <a:prstGeom prst="rect">
            <a:avLst/>
          </a:prstGeom>
          <a:ln w="0">
            <a:noFill/>
          </a:ln>
        </p:spPr>
      </p:pic>
      <p:sp>
        <p:nvSpPr>
          <p:cNvPr id="344" name="Содержимое 2"/>
          <p:cNvSpPr/>
          <p:nvPr/>
        </p:nvSpPr>
        <p:spPr>
          <a:xfrm>
            <a:off x="214200" y="1000080"/>
            <a:ext cx="868680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Лезгинка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нятие мышечного напряжения рук, улучшение внимания и самоконтроля). Ребенок складывает левую руку в кулак, большой палец отставляет в сторону, кулак разворачивает пальцами к себе. Правой рукой прямой ладонью прикасается к мизинцу левой. После этого одновременно меняет положение правой и левой рук. Необходимо добиваться высокой скорости смены по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хо – нос </a:t>
            </a:r>
            <a:r>
              <a:rPr b="0" lang="ru-RU" sz="2600" spc="-1" strike="noStrike">
                <a:solidFill>
                  <a:srgbClr val="000000"/>
                </a:solidFill>
                <a:latin typeface="Franklin Gothic Book"/>
              </a:rPr>
              <a:t>(согласование деятельности, активизация внимания, улучшение мыслительной деятельности). Левой рукой взяться за кончик носа, а правой за противоположное ухо. Одновременно отпустить ухо и нос, хлопнуть в ладоши, поменять положение рук «с точностью до наоборот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8ea8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9:14:59Z</dcterms:created>
  <dc:creator>Елена</dc:creator>
  <dc:description/>
  <dc:language>en-US</dc:language>
  <cp:lastModifiedBy>LEGION</cp:lastModifiedBy>
  <dcterms:modified xsi:type="dcterms:W3CDTF">2015-01-27T11:59:04Z</dcterms:modified>
  <cp:revision>47</cp:revision>
  <dc:subject/>
  <dc:title>Слайд 1</dc:title>
</cp:coreProperties>
</file>