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DA75E-277D-4385-A531-FE8A420970D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Black"/>
                <a:ea typeface="Aharoni"/>
              </a:rPr>
              <a:t>Организация         и содержа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Black"/>
                <a:ea typeface="Aharoni"/>
              </a:rPr>
              <a:t>физминутки           на уро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AE00B-44FE-4BE8-B2AC-53C58396B48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изминутки для младших школьников на уроках с элементами письм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амомассаж фаланг пальцев – поглаживание большим пальцем всех по очереди других пальцев по направлению от ногтевой фаланги к основанию пальца. Упражнение выполняется сразу на двух рук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гра с пальчиками «Колечки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уки как грабельки скребут по шершавой поверхности подушечками пальце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Ладони лежат на поверхности стола. Синхронное поочередное поднимание-опускание пальце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ебенок катает грецкий орех  (шишку, фундук) между ладоня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FD6F1-BACC-4143-9C92-B6284F7BE83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изминутки для гла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Быстро поморгать, закрыть глаза и посидеть спокойно, медленно считая до 5.  Повторить 4-5 раз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репко зажмурить глаза (считать до 3), открыть, посмотреть вдаль (считать до 5). Повторить 4-5 раз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ытянуть правую руку вперед. Следить глазами, не поворачивая головы, за медленными движениями указательного пальца вытянутой руки влево и вправо, вверх и вниз. Повторить 4-5 раз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4.     Посмотреть на указательный палец вытянутый руки на счет 1-4, потом перенести взгляд вдаль на счет 1-6. Повторить  4-5 раз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5.    В среднем темпе проделать 3-4 круговых движения глазами в правую сторону, столько же в левую сторону. Расслабив глазные мышцы, посмотреть вдаль на счет 1-6. Повторить 1-2 раз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5AB7B-C3F5-470C-9020-29DD2DAD6BC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собенности зрительно-моторных тренаж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а) все упражнения выполняются в позе свободного стоя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б) каждое упражнение базируется на зрительно-поисковых  стимула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) в процессе такого поиска дети совершают сочетанные движения головой, глазами и туловище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г) продолжительность таких упражнений 1,5—2 минуты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3FF5E-4718-49F3-85A1-178B9880B65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актуаль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  <a:ea typeface="Aharoni"/>
              </a:rPr>
              <a:t>Особенность ВНД  младших школьников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Неустойчивость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основных процессов  и преобладание возбудительных процессов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вышенная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истощаемость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и нагрузке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Затрудненность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формирования новых условных связей (требуется большее число повторений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Непрочность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новь образованных связей и их утра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E338D-5B07-4DC9-8DF1-96631523FF8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актуаль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Особенность анализаторных систем и опорно-двигательного аппарат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 6-7 годам заканчивается формирование совместного зрения двумя глазами (пространственное восприятие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едостаточная устойчивость и повышенная чувствительность к внешним воздействия, т.к. продолжается развитие других функций зрения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луховой анализатор не обладает всеми качествами (ниже порог слышимости, ниже острота слуха на слова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6A84C-20F9-4803-981C-7AAD3F0DE95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актуаль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келет, суставно-связочный аппарат и мускулатура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несовершенен (дисфункции мышечных групп в области позвоночника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Недостаточное развитие эластичности сосудов, высокая возбудимость дыхательного центра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(быстрое нарушение ритма дыхательных движений) создают предпосылки воспалительных заболеваний верхних дыхательных пут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31105-F693-44E6-8051-CE85423C69B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ребования к физминутк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пражнения должны быть просты, интересны, доступны детям, по   возможности связаны с содержанием уро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омплекс должен состоять из одного - двух упражнений, повторяющихся 4-6 раз. Замена комплекса проводится не реже 1 раза в две неде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одержание упражнений должно зависеть от характера и условий проведения урока. Так, после  письменных заданий, включают движения рук, сжимание  и разжимание пальцев и т.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о  время контрольных и некоторых практических уроках (труд, физкультура, ритмика и др.) физкультминутку не проводя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 первом уроке достаточно одной физкультминутки на 25-ой минуте урока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 втором и третьем уроках — по 2 физкультминутки на 10-й и    20-ой минутах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 четвертом уроке — 3 физкультминутки на 10-ой, 20-ой и 30-й минута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D48B0-FC05-4A20-A0DF-1F94005DFC3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иды физминут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изминутки для улучшения мозгового кровообращения 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изминутки для младших школьников на уроках с элементами письма 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изминутки для глаз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07096-2A92-4484-A92B-6A576942742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изминутки для улучшения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озгового кровообращ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сходное положение (и.п.) - сидя на стуле, 1-2 - плавно наклонить голову назад, 3-4 - голову наклонить вперед, плечи не поднимать. Повторить 4-6 раз. Темп медленны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.п. - сидя, руки на поясе. 1 - поворот головы направо, 2 - и.п., 3 -поворот головы налево, 4 - и.п. Повторить 6-8 раз. Темп медленны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.п. - стоя или сидя, руки на поясе. 1 - махом левую руку занести через правое плечо, голову повернуть налево, 2 - и.п., 3-4 - то же правой рукой. Повторить 4-6 раз. Темп медленны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208C9-7933-4C81-82FB-F54ECF4356C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КИНЕЗИОЛОГИЧЕСКИЕ УПРАЖН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Шапка для размышлений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улучшить внимание, правописание, ясное восприятие и речь). Дети мягко заворачивают уши от верхней точки до мочки 3 раза. Это помогает им услышать резонирующий звук своего голоса, когда они говорят или пою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Ленивые восьмерки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активизирует структуры, обеспечивающие запоминание, повышают устойчивость внимания). Дети рисуют в воздухе в горизонтальной (вертикальной) плоскости «8» по 3 раза каждой рукой, а затем повторяют это движение обеими рук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Лягушки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снятие мышечного напряжения кистей рук, улучшение внимания). Положить руки на стол (колени). Одна рука сжата  в кулак, другая лежит на плоскости стола (ладошка). Одновременно менять положение рук. Усложнение упражнения состоит в ускорен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улак – ребро – ладонь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снятие мышечного напряжения кистей рук, улучшение внимания).чередование кисти в трех положениях: ладонь на плоскости, ладонь сжатая в кулак, ладонь ребром на плоскости стола, распрямленная ладонь на столе. Ребенок может самостоятельно произносить инструкцию синхронизируясь с класс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369AC-DFBE-4682-A5CB-57B2B34A168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КИНЕЗИОЛОГИЧЕСКИЕ УПРАЖН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Лезгинка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снятие мышечного напряжения рук, улучшение внимания и самоконтроля). Ребенок складывает левую руку в кулак, большой палец отставляет в сторону, кулак разворачивает пальцами к себе. Правой рукой прямой ладонью прикасается к мизинцу левой. После этого одновременно меняет положение правой и левой рук. Необходимо добиваться высокой скорости смены полож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Ухо – нос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согласование деятельности, активизация внимания, улучшение мыслительной деятельности). Левой рукой взяться за кончик носа, а правой за противоположное ухо. Одновременно отпустить ухо и нос, хлопнуть в ладоши, поменять положение рук «с точностью до наоборот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F8D0F-88AF-4850-ACDF-2AB2BB46B91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7F69A-A13F-45FF-A929-939143C8B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70D5A-75E1-4315-A61E-D23CE10CE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AEBF0-C6FA-4F53-82D3-685FD0B8D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78ED8-3506-49F8-829B-CB5F8A0BB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D3B94-0822-4003-8DED-2D5B845AE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F2CC4-B0DB-40B3-B144-C115B9CEF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0D13F-4583-4E03-A387-7367E0256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42D88-50C0-4B59-9A92-41B0D5008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D2BDF-4CAC-4F77-A93E-1313ACD9C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58545-9F9E-41D0-B66A-A66847519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D3545-C635-4A04-A534-C56304E16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1D48A-39D6-4844-A6AA-F80A44557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7B579-0FBD-49CD-A858-8F8B9EA66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E2F75-CDB8-4823-AED5-F1DA1CC8E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42F45-EA59-48AE-B056-C36C5E189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CDF7E-08A3-46FD-BB69-9E0646082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B632A-EFBB-42D1-ABAF-91CF7914D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3D5043-BE9F-45ED-A9CA-1174C9669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054F65-45AE-4BE2-8110-80E11312F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B0457A-6438-4408-9057-E24ECDD94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A42744-840E-4414-9ADB-C71F6BC1F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331A79-A490-4DDE-96B7-8A716C4FD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4A983-62AE-49A6-B8B9-7AEE55E6F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E1E230-5F4B-488B-A31C-5FB319D6A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38A2C9-2FBA-444E-B2A7-583DDBABE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E93A7A-0AAE-4747-BF56-306E75BDD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DF9201-F0C3-4FBA-AF68-EC0884243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2D179B-998B-41FB-8B5F-571A1A637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52E57B-B94F-4364-90A6-C8D385298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BF4E40-DCD4-4678-81FC-52E5DD23F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9FC95E-E699-40FA-A0ED-9ABAC6A6C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4DABD2-DDD6-488A-963B-209A5F1DB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3A9BCA-12B9-4A35-9399-3B3CCA7D5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1CA6E-0331-400F-9EB7-9A69BB255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F45E27-4964-41B2-8F3A-3532A0DCC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7B4694-E45F-4AA0-887C-3BD4CCF78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838643-F197-422A-ADDB-3A5DA2C34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209912-22D2-4914-B07E-BDE7E233A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B0844F-92C2-437F-892D-6C5DE170D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E59397-CC46-4734-BEF8-50613E7BA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EAEE7E-0B29-4EB0-8971-9B86F7C61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489318-2A48-40EE-8D19-7933CF3BD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11AC33-2A3C-4959-B455-120E5587A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80EF66-F114-4F26-B4B7-12DDE3B02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862BA-0885-482A-B90D-2E73A0F97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D70310-CBCE-4E92-A984-13F86CD12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C79019-F473-4724-B20D-3A96321EE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4971F9-CD3F-4120-91D3-0CAFC8571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E823BA-2348-434F-9002-AE7B775B1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34549F-067B-443C-9040-47C654AF4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B36DF1-4966-468F-A901-14723F176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9F8293-EA68-4A4D-B6A6-82E582CD0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F1F665-68F0-4F22-BED9-8D06DCCB6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FB2D85-ED70-47D6-8FF8-4652B33C4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942EE3-8423-425C-B5DD-BB7F4AF59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ED485-A431-4E1D-ACB6-121AB2862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80DECA-5F1A-40DD-A9E9-704DFD026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211741-9EC2-4D99-9874-B0F0DDB9E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6C0084-0F61-41A7-BDDF-DCBA23EE5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893356-A9A3-4D00-B0E4-6388134EF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0098AE-19F0-4404-AE0B-B13DC4DA2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EC4206-0C83-4633-A996-81AA09EC5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49154C-6497-4360-8EE1-2D7687A6D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CF6030-8DF2-4661-B1F2-E38AAD249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AA9A2A-272A-4B47-9EAD-DA56BBA95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6FE19C-492E-4D60-8FB2-AFBED7B75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93A57-DADB-4138-9E8F-4A289D590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753BD7-ED9B-494F-825B-A49200526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2798BB-0EDE-4CA4-9B2B-C408D56D0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DF8BE3-7D1D-4029-BB4E-456F476C4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3B47D-7CF1-4309-8EB3-2B1B90D22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3F4B0-F0BA-4543-B94C-E76B61CCE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2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da2b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65478-C7C7-4BCF-86DB-122044C8D31A}" type="datetime">
              <a:rPr b="0" lang="ru-RU" sz="1200" spc="-1" strike="noStrike">
                <a:solidFill>
                  <a:srgbClr val="268ea8"/>
                </a:solidFill>
                <a:latin typeface="Franklin Gothic Book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68ea8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B4D71-B5D3-4885-ACE0-F38E216B4C46}" type="slidenum">
              <a:rPr b="0" lang="ru-RU" sz="1200" spc="-1" strike="noStrike">
                <a:solidFill>
                  <a:srgbClr val="268ea8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4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51" name="Прямая соединительная линия 6" descr=""/>
            <p:cNvPicPr/>
            <p:nvPr/>
          </p:nvPicPr>
          <p:blipFill>
            <a:blip r:embed="rId2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54" name="Прямая соединительная линия 8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57" name="Прямая соединительная линия 11" descr=""/>
            <p:cNvPicPr/>
            <p:nvPr/>
          </p:nvPicPr>
          <p:blipFill>
            <a:blip r:embed="rId4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Прямая соединительная линия 12"/>
          <p:cNvGrpSpPr/>
          <p:nvPr/>
        </p:nvGrpSpPr>
        <p:grpSpPr>
          <a:xfrm>
            <a:off x="512640" y="5346720"/>
            <a:ext cx="8631360" cy="11160"/>
            <a:chOff x="512640" y="5346720"/>
            <a:chExt cx="8631360" cy="11160"/>
          </a:xfrm>
        </p:grpSpPr>
        <p:pic>
          <p:nvPicPr>
            <p:cNvPr id="60" name="Прямая соединительная линия 12" descr=""/>
            <p:cNvPicPr/>
            <p:nvPr/>
          </p:nvPicPr>
          <p:blipFill>
            <a:blip r:embed="rId5"/>
            <a:stretch/>
          </p:blipFill>
          <p:spPr>
            <a:xfrm>
              <a:off x="512640" y="534672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da2b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57CED-8CD5-4AF2-BD63-E177D818A947}" type="datetime">
              <a:rPr b="0" lang="ru-RU" sz="1200" spc="-1" strike="noStrike">
                <a:solidFill>
                  <a:srgbClr val="268ea8"/>
                </a:solidFill>
                <a:latin typeface="Franklin Gothic Book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68ea8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CD264-6855-43A5-A445-DF921CD17EAC}" type="slidenum">
              <a:rPr b="0" lang="ru-RU" sz="1200" spc="-1" strike="noStrike">
                <a:solidFill>
                  <a:srgbClr val="268ea8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04" name="Прямая соединительная линия 6" descr=""/>
            <p:cNvPicPr/>
            <p:nvPr/>
          </p:nvPicPr>
          <p:blipFill>
            <a:blip r:embed="rId2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07" name="Прямая соединительная линия 8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10" name="Прямая соединительная линия 11" descr=""/>
            <p:cNvPicPr/>
            <p:nvPr/>
          </p:nvPicPr>
          <p:blipFill>
            <a:blip r:embed="rId4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da2b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8C8EB-CD76-4760-B7D4-D090A562C89F}" type="datetime">
              <a:rPr b="0" lang="ru-RU" sz="1200" spc="-1" strike="noStrike">
                <a:solidFill>
                  <a:srgbClr val="268ea8"/>
                </a:solidFill>
                <a:latin typeface="Franklin Gothic Book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68ea8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FF7DD-F33F-4FA4-91B4-218DB488F2B4}" type="slidenum">
              <a:rPr b="0" lang="ru-RU" sz="1200" spc="-1" strike="noStrike">
                <a:solidFill>
                  <a:srgbClr val="268ea8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3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54" name="Прямая соединительная линия 6" descr=""/>
            <p:cNvPicPr/>
            <p:nvPr/>
          </p:nvPicPr>
          <p:blipFill>
            <a:blip r:embed="rId2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57" name="Прямая соединительная линия 8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60" name="Прямая соединительная линия 11" descr=""/>
            <p:cNvPicPr/>
            <p:nvPr/>
          </p:nvPicPr>
          <p:blipFill>
            <a:blip r:embed="rId4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Прямая соединительная линия 12"/>
          <p:cNvGrpSpPr/>
          <p:nvPr/>
        </p:nvGrpSpPr>
        <p:grpSpPr>
          <a:xfrm>
            <a:off x="512640" y="3438360"/>
            <a:ext cx="8631360" cy="11160"/>
            <a:chOff x="512640" y="3438360"/>
            <a:chExt cx="8631360" cy="11160"/>
          </a:xfrm>
        </p:grpSpPr>
        <p:pic>
          <p:nvPicPr>
            <p:cNvPr id="163" name="Прямая соединительная линия 12" descr=""/>
            <p:cNvPicPr/>
            <p:nvPr/>
          </p:nvPicPr>
          <p:blipFill>
            <a:blip r:embed="rId5"/>
            <a:stretch/>
          </p:blipFill>
          <p:spPr>
            <a:xfrm>
              <a:off x="512640" y="34383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ef5fa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def5fa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ef5fa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def5fa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ef5fa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def5fa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ef5fa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def5fa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da2b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ef5fa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def5fa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ef5fa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def5fa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ef5fa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def5fa"/>
              </a:solidFill>
              <a:latin typeface="Franklin Gothic Boo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ef5fa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def5fa"/>
              </a:solidFill>
              <a:latin typeface="Franklin Gothic Medium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DCE2F-48A0-4A7C-9AF0-3CEBC7A78B85}" type="datetime">
              <a:rPr b="0" lang="ru-RU" sz="1200" spc="-1" strike="noStrike">
                <a:solidFill>
                  <a:srgbClr val="268ea8"/>
                </a:solidFill>
                <a:latin typeface="Franklin Gothic Book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68ea8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9D5E8-F7E5-4FD3-94A5-6FBACF9A25E5}" type="slidenum">
              <a:rPr b="0" lang="ru-RU" sz="1200" spc="-1" strike="noStrike">
                <a:solidFill>
                  <a:srgbClr val="268ea8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207" name="Прямая соединительная линия 6" descr=""/>
            <p:cNvPicPr/>
            <p:nvPr/>
          </p:nvPicPr>
          <p:blipFill>
            <a:blip r:embed="rId2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210" name="Прямая соединительная линия 8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213" name="Прямая соединительная линия 11" descr=""/>
            <p:cNvPicPr/>
            <p:nvPr/>
          </p:nvPicPr>
          <p:blipFill>
            <a:blip r:embed="rId4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Прямая соединительная линия 12"/>
          <p:cNvGrpSpPr/>
          <p:nvPr/>
        </p:nvGrpSpPr>
        <p:grpSpPr>
          <a:xfrm>
            <a:off x="512640" y="6016680"/>
            <a:ext cx="8631360" cy="12600"/>
            <a:chOff x="512640" y="6016680"/>
            <a:chExt cx="8631360" cy="12600"/>
          </a:xfrm>
        </p:grpSpPr>
        <p:pic>
          <p:nvPicPr>
            <p:cNvPr id="216" name="Прямая соединительная линия 12" descr=""/>
            <p:cNvPicPr/>
            <p:nvPr/>
          </p:nvPicPr>
          <p:blipFill>
            <a:blip r:embed="rId5"/>
            <a:stretch/>
          </p:blipFill>
          <p:spPr>
            <a:xfrm>
              <a:off x="512640" y="60166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da2b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508D3-ED84-4FD9-95F7-1E01FCFBB47F}" type="datetime">
              <a:rPr b="0" lang="ru-RU" sz="1200" spc="-1" strike="noStrike">
                <a:solidFill>
                  <a:srgbClr val="268ea8"/>
                </a:solidFill>
                <a:latin typeface="Franklin Gothic Book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68ea8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3C335-4261-478E-A87F-C96AEAEE7189}" type="slidenum">
              <a:rPr b="0" lang="ru-RU" sz="1200" spc="-1" strike="noStrike">
                <a:solidFill>
                  <a:srgbClr val="268ea8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9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260" name="Прямая соединительная линия 6" descr=""/>
            <p:cNvPicPr/>
            <p:nvPr/>
          </p:nvPicPr>
          <p:blipFill>
            <a:blip r:embed="rId2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263" name="Прямая соединительная линия 8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4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266" name="Прямая соединительная линия 11" descr=""/>
            <p:cNvPicPr/>
            <p:nvPr/>
          </p:nvPicPr>
          <p:blipFill>
            <a:blip r:embed="rId4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7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" name="Прямая соединительная линия 12"/>
          <p:cNvGrpSpPr/>
          <p:nvPr/>
        </p:nvGrpSpPr>
        <p:grpSpPr>
          <a:xfrm>
            <a:off x="512640" y="5846760"/>
            <a:ext cx="8631360" cy="11160"/>
            <a:chOff x="512640" y="5846760"/>
            <a:chExt cx="8631360" cy="11160"/>
          </a:xfrm>
        </p:grpSpPr>
        <p:pic>
          <p:nvPicPr>
            <p:cNvPr id="269" name="Прямая соединительная линия 12" descr=""/>
            <p:cNvPicPr/>
            <p:nvPr/>
          </p:nvPicPr>
          <p:blipFill>
            <a:blip r:embed="rId5"/>
            <a:stretch/>
          </p:blipFill>
          <p:spPr>
            <a:xfrm>
              <a:off x="512640" y="58467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0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da2b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E907A-E43B-437D-865E-FAC026AF4688}" type="datetime">
              <a:rPr b="0" lang="ru-RU" sz="1200" spc="-1" strike="noStrike">
                <a:solidFill>
                  <a:srgbClr val="268ea8"/>
                </a:solidFill>
                <a:latin typeface="Franklin Gothic Book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68ea8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1A465-45DB-430F-8F40-80A132366F23}" type="slidenum">
              <a:rPr b="0" lang="ru-RU" sz="1200" spc="-1" strike="noStrike">
                <a:solidFill>
                  <a:srgbClr val="268ea8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685440" y="1285920"/>
            <a:ext cx="8458200" cy="372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3d3d3d"/>
                </a:solidFill>
                <a:latin typeface="Arial Black"/>
                <a:ea typeface="Aharoni"/>
              </a:rPr>
              <a:t>Организация         и содержание </a:t>
            </a:r>
            <a:endParaRPr b="0" lang="en-US" sz="6000" spc="-1" strike="noStrike">
              <a:solidFill>
                <a:srgbClr val="464646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3d3d3d"/>
                </a:solidFill>
                <a:latin typeface="Arial Black"/>
                <a:ea typeface="Aharoni"/>
              </a:rPr>
              <a:t>физминутки           на уроке</a:t>
            </a:r>
            <a:endParaRPr b="0" lang="en-US" sz="6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20" name="Місце для нижнього колонтитула 1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68ea8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Заголовок 1" descr=""/>
          <p:cNvPicPr/>
          <p:nvPr/>
        </p:nvPicPr>
        <p:blipFill>
          <a:blip r:embed="rId1"/>
          <a:stretch/>
        </p:blipFill>
        <p:spPr>
          <a:xfrm>
            <a:off x="304920" y="268200"/>
            <a:ext cx="8759880" cy="1359000"/>
          </a:xfrm>
          <a:prstGeom prst="rect">
            <a:avLst/>
          </a:prstGeom>
          <a:ln w="0">
            <a:noFill/>
          </a:ln>
        </p:spPr>
      </p:pic>
      <p:sp>
        <p:nvSpPr>
          <p:cNvPr id="347" name=""/>
          <p:cNvSpPr txBox="1"/>
          <p:nvPr/>
        </p:nvSpPr>
        <p:spPr>
          <a:xfrm>
            <a:off x="304920" y="1554120"/>
            <a:ext cx="8686800" cy="508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Franklin Gothic Book"/>
              </a:rPr>
              <a:t>Самомассаж фаланг пальцев – поглаживание большим пальцем всех по очереди других пальцев по направлению от ногтевой фаланги к основанию пальца. Упражнение выполняется сразу на двух руках.</a:t>
            </a:r>
            <a:endParaRPr b="0" lang="en-US" sz="2700" spc="-1" strike="noStrike">
              <a:solidFill>
                <a:srgbClr val="464646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Franklin Gothic Book"/>
              </a:rPr>
              <a:t>Игра с пальчиками «Колечки».</a:t>
            </a:r>
            <a:endParaRPr b="0" lang="en-US" sz="2700" spc="-1" strike="noStrike">
              <a:solidFill>
                <a:srgbClr val="464646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Franklin Gothic Book"/>
              </a:rPr>
              <a:t>Руки как грабельки скребут по шершавой поверхности подушечками пальцев. </a:t>
            </a:r>
            <a:endParaRPr b="0" lang="en-US" sz="2700" spc="-1" strike="noStrike">
              <a:solidFill>
                <a:srgbClr val="464646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Franklin Gothic Book"/>
              </a:rPr>
              <a:t>Ладони лежат на поверхности стола. Синхронное поочередное поднимание-опускание пальцев.</a:t>
            </a:r>
            <a:endParaRPr b="0" lang="en-US" sz="2700" spc="-1" strike="noStrike">
              <a:solidFill>
                <a:srgbClr val="464646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Franklin Gothic Book"/>
              </a:rPr>
              <a:t>Ребенок катает грецкий орех  (шишку, фундук) между ладонями.</a:t>
            </a:r>
            <a:endParaRPr b="0" lang="en-US" sz="2700" spc="-1" strike="noStrike">
              <a:solidFill>
                <a:srgbClr val="464646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48" name="Місце для нижнього колонтитула 3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68ea8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Заголовок 1" descr=""/>
          <p:cNvPicPr/>
          <p:nvPr/>
        </p:nvPicPr>
        <p:blipFill>
          <a:blip r:embed="rId1"/>
          <a:stretch/>
        </p:blipFill>
        <p:spPr>
          <a:xfrm>
            <a:off x="285840" y="-55440"/>
            <a:ext cx="8686800" cy="993600"/>
          </a:xfrm>
          <a:prstGeom prst="rect">
            <a:avLst/>
          </a:prstGeom>
          <a:ln w="0">
            <a:noFill/>
          </a:ln>
        </p:spPr>
      </p:pic>
      <p:sp>
        <p:nvSpPr>
          <p:cNvPr id="350" name=""/>
          <p:cNvSpPr txBox="1"/>
          <p:nvPr/>
        </p:nvSpPr>
        <p:spPr>
          <a:xfrm>
            <a:off x="214200" y="1071360"/>
            <a:ext cx="86868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83480" indent="-483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ranklin Gothic Book"/>
              </a:rPr>
              <a:t>1.</a:t>
            </a:r>
            <a:r>
              <a:rPr b="0" lang="ru-RU" sz="24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Быстро поморгать, закрыть глаза и посидеть спокойно, медленно считая до 5.  Повторить 4-5 раз.</a:t>
            </a:r>
            <a:endParaRPr b="0" lang="en-US" sz="2400" spc="-1" strike="noStrike">
              <a:solidFill>
                <a:srgbClr val="464646"/>
              </a:solidFill>
              <a:latin typeface="Franklin Gothic Book"/>
            </a:endParaRPr>
          </a:p>
          <a:p>
            <a:pPr marL="483480" indent="-483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2.</a:t>
            </a: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Крепко зажмурить глаза (считать до 3), открыть, посмотреть вдаль (считать до 5). Повторить 4-5 раз.</a:t>
            </a:r>
            <a:endParaRPr b="0" lang="en-US" sz="2400" spc="-1" strike="noStrike">
              <a:solidFill>
                <a:srgbClr val="464646"/>
              </a:solidFill>
              <a:latin typeface="Franklin Gothic Book"/>
            </a:endParaRPr>
          </a:p>
          <a:p>
            <a:pPr marL="483480" indent="-483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3.</a:t>
            </a: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Вытянуть правую руку вперед. Следить глазами, не поворачивая головы, за медленными движениями указательного пальца вытянутой руки влево и вправо, вверх и вниз. Повторить 4-5 раз.</a:t>
            </a:r>
            <a:endParaRPr b="0" lang="en-US" sz="2400" spc="-1" strike="noStrike">
              <a:solidFill>
                <a:srgbClr val="464646"/>
              </a:solidFill>
              <a:latin typeface="Franklin Gothic Book"/>
            </a:endParaRPr>
          </a:p>
          <a:p>
            <a:pPr marL="483480" indent="-483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4.     Посмотреть на указательный палец вытянутый руки на счет 1-4, потом перенести взгляд вдаль на счет 1-6. Повторить  4-5 раз.</a:t>
            </a:r>
            <a:endParaRPr b="0" lang="en-US" sz="2400" spc="-1" strike="noStrike">
              <a:solidFill>
                <a:srgbClr val="464646"/>
              </a:solidFill>
              <a:latin typeface="Franklin Gothic Book"/>
            </a:endParaRPr>
          </a:p>
          <a:p>
            <a:pPr marL="483480" indent="-483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5.    В среднем темпе проделать 3-4 круговых движения глазами в правую сторону, столько же в левую сторону. Расслабив глазные мышцы, посмотреть вдаль на счет 1-6. Повторить 1-2 раза.</a:t>
            </a:r>
            <a:endParaRPr b="0" lang="en-US" sz="24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51" name="Місце для нижнього колонтитула 3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68ea8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Заголовок 1" descr=""/>
          <p:cNvPicPr/>
          <p:nvPr/>
        </p:nvPicPr>
        <p:blipFill>
          <a:blip r:embed="rId1"/>
          <a:stretch/>
        </p:blipFill>
        <p:spPr>
          <a:xfrm>
            <a:off x="304920" y="268200"/>
            <a:ext cx="8686800" cy="1359000"/>
          </a:xfrm>
          <a:prstGeom prst="rect">
            <a:avLst/>
          </a:prstGeom>
          <a:ln w="0">
            <a:noFill/>
          </a:ln>
        </p:spPr>
      </p:pic>
      <p:sp>
        <p:nvSpPr>
          <p:cNvPr id="353" name=""/>
          <p:cNvSpPr txBox="1"/>
          <p:nvPr/>
        </p:nvSpPr>
        <p:spPr>
          <a:xfrm>
            <a:off x="304920" y="1553760"/>
            <a:ext cx="8686800" cy="330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Franklin Gothic Book"/>
              </a:rPr>
              <a:t>а) все упражнения выполняются в позе свободного стояния;</a:t>
            </a:r>
            <a:endParaRPr b="0" lang="en-US" sz="2200" spc="-1" strike="noStrike">
              <a:solidFill>
                <a:srgbClr val="464646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Franklin Gothic Book"/>
              </a:rPr>
              <a:t>б) каждое упражнение базируется на зрительно-поисковых  стимулах;</a:t>
            </a:r>
            <a:endParaRPr b="0" lang="en-US" sz="2200" spc="-1" strike="noStrike">
              <a:solidFill>
                <a:srgbClr val="464646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Franklin Gothic Book"/>
              </a:rPr>
              <a:t>в) в процессе такого поиска дети совершают сочетанные движения головой, глазами и туловищем;</a:t>
            </a:r>
            <a:endParaRPr b="0" lang="en-US" sz="2200" spc="-1" strike="noStrike">
              <a:solidFill>
                <a:srgbClr val="464646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Franklin Gothic Book"/>
              </a:rPr>
              <a:t>г) продолжительность таких упражнений 1,5—2 минуты.</a:t>
            </a:r>
            <a:br>
              <a:rPr sz="2200"/>
            </a:br>
            <a:endParaRPr b="0" lang="en-US" sz="2200" spc="-1" strike="noStrike">
              <a:solidFill>
                <a:srgbClr val="464646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54" name="TextBox 3"/>
          <p:cNvSpPr/>
          <p:nvPr/>
        </p:nvSpPr>
        <p:spPr>
          <a:xfrm>
            <a:off x="357120" y="4714920"/>
            <a:ext cx="8572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a1f28"/>
                </a:solidFill>
                <a:latin typeface="Franklin Gothic Book"/>
              </a:rPr>
              <a:t>Установлено, </a:t>
            </a: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что наибольший эффект по поддержанию активности детей на уроках от этих упражнений тогда, когда выполняются они в середине каждого урока (а при двукратном проведении — через каждые 15 мин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Місце для нижнього колонтитула 3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68ea8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 txBox="1"/>
          <p:nvPr/>
        </p:nvSpPr>
        <p:spPr>
          <a:xfrm>
            <a:off x="285840" y="1214280"/>
            <a:ext cx="8686800" cy="507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Franklin Gothic Book"/>
                <a:ea typeface="Aharoni"/>
              </a:rPr>
              <a:t>Особенность ВНД  младших школьников: 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marL="305280" indent="-3052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Franklin Gothic Book"/>
              </a:rPr>
              <a:t>Неустойчивость</a:t>
            </a:r>
            <a:r>
              <a:rPr b="1" lang="ru-RU" sz="3200" spc="-1" strike="noStrike">
                <a:solidFill>
                  <a:srgbClr val="000000"/>
                </a:solidFill>
                <a:latin typeface="Franklin Gothic Book"/>
              </a:rPr>
              <a:t> основных процессов  и преобладание возбудительных процессов,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marL="305280" indent="-3052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Franklin Gothic Book"/>
              </a:rPr>
              <a:t>Повышенная </a:t>
            </a:r>
            <a:r>
              <a:rPr b="1" i="1" lang="ru-RU" sz="3200" spc="-1" strike="noStrike">
                <a:solidFill>
                  <a:srgbClr val="000000"/>
                </a:solidFill>
                <a:latin typeface="Franklin Gothic Book"/>
              </a:rPr>
              <a:t>истощаемость </a:t>
            </a:r>
            <a:r>
              <a:rPr b="1" lang="ru-RU" sz="3200" spc="-1" strike="noStrike">
                <a:solidFill>
                  <a:srgbClr val="000000"/>
                </a:solidFill>
                <a:latin typeface="Franklin Gothic Book"/>
              </a:rPr>
              <a:t>при нагрузке,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marL="305280" indent="-3052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Franklin Gothic Book"/>
              </a:rPr>
              <a:t>Затрудненность</a:t>
            </a:r>
            <a:r>
              <a:rPr b="1" lang="ru-RU" sz="3200" spc="-1" strike="noStrike">
                <a:solidFill>
                  <a:srgbClr val="000000"/>
                </a:solidFill>
                <a:latin typeface="Franklin Gothic Book"/>
              </a:rPr>
              <a:t> формирования новых условных связей (требуется большее число повторений),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marL="305280" indent="-3052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Franklin Gothic Book"/>
              </a:rPr>
              <a:t>Непрочность </a:t>
            </a:r>
            <a:r>
              <a:rPr b="1" lang="ru-RU" sz="3200" spc="-1" strike="noStrike">
                <a:solidFill>
                  <a:srgbClr val="000000"/>
                </a:solidFill>
                <a:latin typeface="Franklin Gothic Book"/>
              </a:rPr>
              <a:t>вновь образованных связей и их утрата.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marL="305280" indent="-3052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pic>
        <p:nvPicPr>
          <p:cNvPr id="322" name="Заголовок 1" descr=""/>
          <p:cNvPicPr/>
          <p:nvPr/>
        </p:nvPicPr>
        <p:blipFill>
          <a:blip r:embed="rId1"/>
          <a:stretch/>
        </p:blipFill>
        <p:spPr>
          <a:xfrm>
            <a:off x="285840" y="212760"/>
            <a:ext cx="8686800" cy="1000080"/>
          </a:xfrm>
          <a:prstGeom prst="rect">
            <a:avLst/>
          </a:prstGeom>
          <a:ln w="0">
            <a:noFill/>
          </a:ln>
        </p:spPr>
      </p:pic>
      <p:sp>
        <p:nvSpPr>
          <p:cNvPr id="323" name="Місце для нижнього колонтитула 1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68ea8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 txBox="1"/>
          <p:nvPr/>
        </p:nvSpPr>
        <p:spPr>
          <a:xfrm>
            <a:off x="214200" y="1142640"/>
            <a:ext cx="86868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Franklin Gothic Book"/>
              </a:rPr>
              <a:t>Особенность анализаторных систем и опорно-двигательного аппарата: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marL="332640" indent="-332640">
              <a:spcBef>
                <a:spcPts val="700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К 6-7 годам заканчивается формирование совместного зрения двумя глазами (пространственное восприятие),</a:t>
            </a:r>
            <a:endParaRPr b="0" lang="en-US" sz="2800" spc="-1" strike="noStrike">
              <a:solidFill>
                <a:srgbClr val="464646"/>
              </a:solidFill>
              <a:latin typeface="Franklin Gothic Book"/>
            </a:endParaRPr>
          </a:p>
          <a:p>
            <a:pPr marL="332640" indent="-332640">
              <a:spcBef>
                <a:spcPts val="700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Недостаточная устойчивость и повышенная чувствительность к внешним воздействия, т.к. продолжается развитие других функций зрения,</a:t>
            </a:r>
            <a:endParaRPr b="0" lang="en-US" sz="2800" spc="-1" strike="noStrike">
              <a:solidFill>
                <a:srgbClr val="464646"/>
              </a:solidFill>
              <a:latin typeface="Franklin Gothic Book"/>
            </a:endParaRPr>
          </a:p>
          <a:p>
            <a:pPr marL="332640" indent="-332640">
              <a:spcBef>
                <a:spcPts val="700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Слуховой анализатор не обладает всеми качествами (ниже порог слышимости, ниже острота слуха на слова).</a:t>
            </a:r>
            <a:endParaRPr b="0" lang="en-US" sz="2800" spc="-1" strike="noStrike">
              <a:solidFill>
                <a:srgbClr val="464646"/>
              </a:solidFill>
              <a:latin typeface="Franklin Gothic Book"/>
            </a:endParaRPr>
          </a:p>
          <a:p>
            <a:pPr marL="332640" indent="-33264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marL="332640" indent="-33264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pic>
        <p:nvPicPr>
          <p:cNvPr id="325" name="Заголовок 1" descr=""/>
          <p:cNvPicPr/>
          <p:nvPr/>
        </p:nvPicPr>
        <p:blipFill>
          <a:blip r:embed="rId1"/>
          <a:stretch/>
        </p:blipFill>
        <p:spPr>
          <a:xfrm>
            <a:off x="285840" y="212760"/>
            <a:ext cx="8686800" cy="1000080"/>
          </a:xfrm>
          <a:prstGeom prst="rect">
            <a:avLst/>
          </a:prstGeom>
          <a:ln w="0">
            <a:noFill/>
          </a:ln>
        </p:spPr>
      </p:pic>
      <p:sp>
        <p:nvSpPr>
          <p:cNvPr id="326" name="Місце для нижнього колонтитула 1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68ea8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 txBox="1"/>
          <p:nvPr/>
        </p:nvSpPr>
        <p:spPr>
          <a:xfrm>
            <a:off x="214200" y="12859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Franklin Gothic Book"/>
              </a:rPr>
              <a:t>Скелет, суставно-связочный аппарат и мускулатура</a:t>
            </a:r>
            <a:r>
              <a:rPr b="1" lang="ru-RU" sz="3200" spc="-1" strike="noStrike">
                <a:solidFill>
                  <a:srgbClr val="000000"/>
                </a:solidFill>
                <a:latin typeface="Franklin Gothic Book"/>
              </a:rPr>
              <a:t> несовершенен (дисфункции мышечных групп в области позвоночника).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marL="291600" indent="-291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Franklin Gothic Book"/>
              </a:rPr>
              <a:t>Недостаточное развитие эластичности сосудов, высокая возбудимость дыхательного центра </a:t>
            </a:r>
            <a:r>
              <a:rPr b="1" lang="ru-RU" sz="3200" spc="-1" strike="noStrike">
                <a:solidFill>
                  <a:srgbClr val="000000"/>
                </a:solidFill>
                <a:latin typeface="Franklin Gothic Book"/>
              </a:rPr>
              <a:t>(быстрое нарушение ритма дыхательных движений) создают предпосылки воспалительных заболеваний верхних дыхательных путей.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pic>
        <p:nvPicPr>
          <p:cNvPr id="328" name="Заголовок 1" descr=""/>
          <p:cNvPicPr/>
          <p:nvPr/>
        </p:nvPicPr>
        <p:blipFill>
          <a:blip r:embed="rId1"/>
          <a:stretch/>
        </p:blipFill>
        <p:spPr>
          <a:xfrm>
            <a:off x="285840" y="212760"/>
            <a:ext cx="8686800" cy="1000080"/>
          </a:xfrm>
          <a:prstGeom prst="rect">
            <a:avLst/>
          </a:prstGeom>
          <a:ln w="0">
            <a:noFill/>
          </a:ln>
        </p:spPr>
      </p:pic>
      <p:sp>
        <p:nvSpPr>
          <p:cNvPr id="329" name="Місце для нижнього колонтитула 1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68ea8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Заголовок 1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8686800" cy="1000080"/>
          </a:xfrm>
          <a:prstGeom prst="rect">
            <a:avLst/>
          </a:prstGeom>
          <a:ln w="0">
            <a:noFill/>
          </a:ln>
        </p:spPr>
      </p:pic>
      <p:sp>
        <p:nvSpPr>
          <p:cNvPr id="331" name=""/>
          <p:cNvSpPr txBox="1"/>
          <p:nvPr/>
        </p:nvSpPr>
        <p:spPr>
          <a:xfrm>
            <a:off x="304920" y="1554120"/>
            <a:ext cx="8686800" cy="48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Упражнения должны быть просты, интересны, доступны детям, по   возможности связаны с содержанием урока.</a:t>
            </a:r>
            <a:endParaRPr b="0" lang="en-US" sz="2000" spc="-1" strike="noStrike">
              <a:solidFill>
                <a:srgbClr val="464646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Комплекс должен состоять из одного - двух упражнений, повторяющихся 4-6 раз. Замена комплекса проводится не реже 1 раза в две недели.</a:t>
            </a:r>
            <a:endParaRPr b="0" lang="en-US" sz="2000" spc="-1" strike="noStrike">
              <a:solidFill>
                <a:srgbClr val="464646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Содержание упражнений должно зависеть от характера и условий проведения урока. Так, после  письменных заданий, включают движения рук, сжимание  и разжимание пальцев и т.д.</a:t>
            </a:r>
            <a:endParaRPr b="0" lang="en-US" sz="2000" spc="-1" strike="noStrike">
              <a:solidFill>
                <a:srgbClr val="464646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Во  время контрольных и некоторых практических уроках (труд, физкультура, ритмика и др.) физкультминутку не проводят.</a:t>
            </a:r>
            <a:endParaRPr b="0" lang="en-US" sz="2000" spc="-1" strike="noStrike">
              <a:solidFill>
                <a:srgbClr val="464646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На первом уроке достаточно одной физкультминутки на 25-ой минуте урока, </a:t>
            </a:r>
            <a:endParaRPr b="0" lang="en-US" sz="2000" spc="-1" strike="noStrike">
              <a:solidFill>
                <a:srgbClr val="464646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на втором и третьем уроках — по 2 физкультминутки на 10-й и    20-ой минутах, </a:t>
            </a:r>
            <a:endParaRPr b="0" lang="en-US" sz="2000" spc="-1" strike="noStrike">
              <a:solidFill>
                <a:srgbClr val="464646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на четвертом уроке — 3 физкультминутки на 10-ой, 20-ой и 30-й минутах. </a:t>
            </a:r>
            <a:endParaRPr b="0" lang="en-US" sz="2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32" name="Місце для нижнього колонтитула 3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68ea8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Заголовок 1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8686800" cy="1000080"/>
          </a:xfrm>
          <a:prstGeom prst="rect">
            <a:avLst/>
          </a:prstGeom>
          <a:ln w="0">
            <a:noFill/>
          </a:ln>
        </p:spPr>
      </p:pic>
      <p:sp>
        <p:nvSpPr>
          <p:cNvPr id="334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Franklin Gothic Book"/>
              </a:rPr>
              <a:t>Физминутки для улучшения мозгового кровообращения ;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Franklin Gothic Book"/>
              </a:rPr>
              <a:t>Физминутки для младших школьников на уроках с элементами письма ;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Franklin Gothic Book"/>
              </a:rPr>
              <a:t>Физминутки для глаз .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35" name="Місце для нижнього колонтитула 2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68ea8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Заголовок 1" descr=""/>
          <p:cNvPicPr/>
          <p:nvPr/>
        </p:nvPicPr>
        <p:blipFill>
          <a:blip r:embed="rId1"/>
          <a:stretch/>
        </p:blipFill>
        <p:spPr>
          <a:xfrm>
            <a:off x="212760" y="-42840"/>
            <a:ext cx="8686800" cy="1353960"/>
          </a:xfrm>
          <a:prstGeom prst="rect">
            <a:avLst/>
          </a:prstGeom>
          <a:ln w="0">
            <a:noFill/>
          </a:ln>
        </p:spPr>
      </p:pic>
      <p:sp>
        <p:nvSpPr>
          <p:cNvPr id="337" name=""/>
          <p:cNvSpPr txBox="1"/>
          <p:nvPr/>
        </p:nvSpPr>
        <p:spPr>
          <a:xfrm>
            <a:off x="214200" y="1357200"/>
            <a:ext cx="8686800" cy="444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Franklin Gothic Book"/>
              </a:rPr>
              <a:t>1.</a:t>
            </a:r>
            <a:r>
              <a:rPr b="1" lang="ru-RU" sz="25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ru-RU" sz="2500" spc="-1" strike="noStrike">
                <a:solidFill>
                  <a:srgbClr val="000000"/>
                </a:solidFill>
                <a:latin typeface="Franklin Gothic Book"/>
              </a:rPr>
              <a:t>Исходное положение (и.п.) - сидя на стуле, 1-2 - плавно наклонить голову назад, 3-4 - голову наклонить вперед, плечи не поднимать. Повторить 4-6 раз. Темп медленный.</a:t>
            </a:r>
            <a:endParaRPr b="0" lang="en-US" sz="2500" spc="-1" strike="noStrike">
              <a:solidFill>
                <a:srgbClr val="464646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Franklin Gothic Book"/>
              </a:rPr>
              <a:t> </a:t>
            </a:r>
            <a:endParaRPr b="0" lang="en-US" sz="2500" spc="-1" strike="noStrike">
              <a:solidFill>
                <a:srgbClr val="464646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Franklin Gothic Book"/>
              </a:rPr>
              <a:t>2.</a:t>
            </a:r>
            <a:r>
              <a:rPr b="1" lang="ru-RU" sz="25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ru-RU" sz="2500" spc="-1" strike="noStrike">
                <a:solidFill>
                  <a:srgbClr val="000000"/>
                </a:solidFill>
                <a:latin typeface="Franklin Gothic Book"/>
              </a:rPr>
              <a:t>И.п. - сидя, руки на поясе. 1 - поворот головы направо, 2 - и.п., 3 -поворот головы налево, 4 - и.п. Повторить 6-8 раз. Темп медленный.</a:t>
            </a:r>
            <a:endParaRPr b="0" lang="en-US" sz="2500" spc="-1" strike="noStrike">
              <a:solidFill>
                <a:srgbClr val="464646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464646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Franklin Gothic Book"/>
              </a:rPr>
              <a:t>3.</a:t>
            </a:r>
            <a:r>
              <a:rPr b="1" lang="ru-RU" sz="25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ru-RU" sz="2500" spc="-1" strike="noStrike">
                <a:solidFill>
                  <a:srgbClr val="000000"/>
                </a:solidFill>
                <a:latin typeface="Franklin Gothic Book"/>
              </a:rPr>
              <a:t>И.п. - стоя или сидя, руки на поясе. 1 - махом левую руку занести через правое плечо, голову повернуть налево, 2 - и.п., 3-4 - то же правой рукой. Повторить 4-6 раз. Темп медленный.</a:t>
            </a:r>
            <a:endParaRPr b="0" lang="en-US" sz="25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38" name="TextBox 3"/>
          <p:cNvSpPr/>
          <p:nvPr/>
        </p:nvSpPr>
        <p:spPr>
          <a:xfrm>
            <a:off x="500040" y="5572080"/>
            <a:ext cx="8143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Franklin Gothic Book"/>
              </a:rPr>
              <a:t>Во время выполнений упражнени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Franklin Gothic Book"/>
              </a:rPr>
              <a:t>включается дыхани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Місце для нижнього колонтитула 3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68ea8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Заголовок 1" descr=""/>
          <p:cNvPicPr/>
          <p:nvPr/>
        </p:nvPicPr>
        <p:blipFill>
          <a:blip r:embed="rId1"/>
          <a:stretch/>
        </p:blipFill>
        <p:spPr>
          <a:xfrm>
            <a:off x="457200" y="-92160"/>
            <a:ext cx="8686800" cy="963720"/>
          </a:xfrm>
          <a:prstGeom prst="rect">
            <a:avLst/>
          </a:prstGeom>
          <a:ln w="0">
            <a:noFill/>
          </a:ln>
        </p:spPr>
      </p:pic>
      <p:sp>
        <p:nvSpPr>
          <p:cNvPr id="341" name="Содержимое 2"/>
          <p:cNvSpPr/>
          <p:nvPr/>
        </p:nvSpPr>
        <p:spPr>
          <a:xfrm>
            <a:off x="214200" y="1000080"/>
            <a:ext cx="8686800" cy="56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Шапка для размышлений </a:t>
            </a:r>
            <a:r>
              <a:rPr b="0" lang="ru-RU" sz="2000" spc="-1" strike="noStrike">
                <a:solidFill>
                  <a:srgbClr val="000000"/>
                </a:solidFill>
                <a:latin typeface="Franklin Gothic Book"/>
              </a:rPr>
              <a:t>(улучшить внимание, правописание, ясное восприятие и речь). Дети мягко заворачивают уши от верхней точки до мочки 3 раза. Это помогает им услышать резонирующий звук своего голоса, когда они говорят или пою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Ленивые восьмерки </a:t>
            </a:r>
            <a:r>
              <a:rPr b="0" lang="ru-RU" sz="2000" spc="-1" strike="noStrike">
                <a:solidFill>
                  <a:srgbClr val="000000"/>
                </a:solidFill>
                <a:latin typeface="Franklin Gothic Book"/>
              </a:rPr>
              <a:t>(активизирует структуры, обеспечивающие запоминание, повышают устойчивость внимания). Дети рисуют в воздухе в горизонтальной (вертикальной) плоскости «8» по 3 раза каждой рукой, а затем повторяют это движение обеими рук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Лягушки </a:t>
            </a:r>
            <a:r>
              <a:rPr b="0" lang="ru-RU" sz="2000" spc="-1" strike="noStrike">
                <a:solidFill>
                  <a:srgbClr val="000000"/>
                </a:solidFill>
                <a:latin typeface="Franklin Gothic Book"/>
              </a:rPr>
              <a:t>(снятие мышечного напряжения кистей рук, улучшение внимания). Положить руки на стол (колени). Одна рука сжата  в кулак, другая лежит на плоскости стола (ладошка). Одновременно менять положение рук. Усложнение упражнения состоит в ускорен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Кулак – ребро – ладонь </a:t>
            </a:r>
            <a:r>
              <a:rPr b="0" lang="ru-RU" sz="2000" spc="-1" strike="noStrike">
                <a:solidFill>
                  <a:srgbClr val="000000"/>
                </a:solidFill>
                <a:latin typeface="Franklin Gothic Book"/>
              </a:rPr>
              <a:t>(снятие мышечного напряжения кистей рук, улучшение внимания).чередование кисти в трех положениях: ладонь на плоскости, ладонь сжатая в кулак, ладонь ребром на плоскости стола, распрямленная ладонь на столе. Ребенок может самостоятельно произносить инструкцию синхронизируясь с класс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Місце для нижнього колонтитула 1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68ea8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Заголовок 1" descr=""/>
          <p:cNvPicPr/>
          <p:nvPr/>
        </p:nvPicPr>
        <p:blipFill>
          <a:blip r:embed="rId1"/>
          <a:stretch/>
        </p:blipFill>
        <p:spPr>
          <a:xfrm>
            <a:off x="457200" y="-92160"/>
            <a:ext cx="8686800" cy="963720"/>
          </a:xfrm>
          <a:prstGeom prst="rect">
            <a:avLst/>
          </a:prstGeom>
          <a:ln w="0">
            <a:noFill/>
          </a:ln>
        </p:spPr>
      </p:pic>
      <p:sp>
        <p:nvSpPr>
          <p:cNvPr id="344" name="Содержимое 2"/>
          <p:cNvSpPr/>
          <p:nvPr/>
        </p:nvSpPr>
        <p:spPr>
          <a:xfrm>
            <a:off x="214200" y="1000080"/>
            <a:ext cx="8686800" cy="56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Лезгинка</a:t>
            </a:r>
            <a:r>
              <a:rPr b="1" lang="ru-RU" sz="26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Franklin Gothic Book"/>
              </a:rPr>
              <a:t>(снятие мышечного напряжения рук, улучшение внимания и самоконтроля). Ребенок складывает левую руку в кулак, большой палец отставляет в сторону, кулак разворачивает пальцами к себе. Правой рукой прямой ладонью прикасается к мизинцу левой. После этого одновременно меняет положение правой и левой рук. Необходимо добиваться высокой скорости смены положений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Ухо – нос </a:t>
            </a:r>
            <a:r>
              <a:rPr b="0" lang="ru-RU" sz="2600" spc="-1" strike="noStrike">
                <a:solidFill>
                  <a:srgbClr val="000000"/>
                </a:solidFill>
                <a:latin typeface="Franklin Gothic Book"/>
              </a:rPr>
              <a:t>(согласование деятельности, активизация внимания, улучшение мыслительной деятельности). Левой рукой взяться за кончик носа, а правой за противоположное ухо. Одновременно отпустить ухо и нос, хлопнуть в ладоши, поменять положение рук «с точностью до наоборот»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Місце для нижнього колонтитула 3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68ea8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31T19:14:59Z</dcterms:created>
  <dc:creator>Елена</dc:creator>
  <dc:description/>
  <dc:language>en-US</dc:language>
  <cp:lastModifiedBy>LEGION</cp:lastModifiedBy>
  <dcterms:modified xsi:type="dcterms:W3CDTF">2015-01-27T11:59:04Z</dcterms:modified>
  <cp:revision>47</cp:revision>
  <dc:subject/>
  <dc:title>Слайд 1</dc:title>
</cp:coreProperties>
</file>