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955C-6D37-4F5B-9EB0-4CA06D81FA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Aharoni"/>
              </a:rPr>
              <a:t>Организация         и содерж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Aharoni"/>
              </a:rPr>
              <a:t>физминутки           на уро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6784-3A97-44DF-971A-43795FE6E2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минутки для младших школьников на уроках с элементами пись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момассаж фаланг пальцев – поглаживание большим пальцем всех по очереди других пальцев по направлению от ногтевой фаланги к основанию пальца. Упражнение выполняется сразу на двух ру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гра с пальчиками «Колечк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уки как грабельки скребут по шершавой поверхности подушечками пальц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адони лежат на поверхности стола. Синхронное поочередное поднимание-опускание паль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бенок катает грецкий орех  (шишку, фундук) между ладон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5C46-EF19-4AAE-B461-6F48806572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минутки для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ыстро поморгать, закрыть глаза и посидеть спокойно, медленно считая до 5.  Повторить 4-5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епко зажмурить глаза (считать до 3), открыть, посмотреть вдаль (считать до 5). Повторить 4-5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тянуть правую руку вперед. Следить глазами, не поворачивая головы, за медленными движениями указательного пальца вытянутой руки влево и вправо, вверх и вниз. Повторить 4-5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    Посмотреть на указательный палец вытянутый руки на счет 1-4, потом перенести взгляд вдаль на счет 1-6. Повторить  4-5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   В среднем темпе проделать 3-4 круговых движения глазами в правую сторону, столько же в левую сторону. Расслабив глазные мышцы, посмотреть вдаль на счет 1-6. Повторить 1-2 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47F6-327C-4F46-8277-D9F56C2969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сти зрительно-моторных тренаж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) все упражнения выполняются в позе свободного стоя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) каждое упражнение базируется на зрительно-поисковых  стимул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) в процессе такого поиска дети совершают сочетанные движения головой, глазами и туловищ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) продолжительность таких упражнений 1,5—2 минуты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52E0-AA0F-422E-B693-CE1834FABB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  <a:ea typeface="Aharoni"/>
              </a:rPr>
              <a:t>Особенность ВНД  младших школьник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устойчив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основных процессов  и преобладание возбудительных процесс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вышенна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стощаемос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нагрузк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труднен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формирования новых условных связей (требуется большее число повторений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прочнос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овь образованных связей и их утр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7B0E-836F-4C6B-B435-EEB224CAC7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обенность анализаторных систем и опорно-двигательного аппара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6-7 годам заканчивается формирование совместного зрения двумя глазами (пространственное восприятие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аточная устойчивость и повышенная чувствительность к внешним воздействия, т.к. продолжается развитие других функций зр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уховой анализатор не обладает всеми качествами (ниже порог слышимости, ниже острота слуха на слов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E2EB-C44A-4113-BCCE-6C666381D6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келет, суставно-связочный аппарат и мускулатур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несовершенен (дисфункции мышечных групп в области позвоночник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достаточное развитие эластичности сосудов, высокая возбудимость дыхательного центр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быстрое нарушение ритма дыхательных движений) создают предпосылки воспалительных заболеваний верхних дыхательных пу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F11B-4397-43BB-A527-A5D4523A5C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ебования к физминутк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я должны быть просты, интересны, доступны детям, по   возможности связаны с содержанием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лекс должен состоять из одного - двух упражнений, повторяющихся 4-6 раз. Замена комплекса проводится не реже 1 раза в две нед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держание упражнений должно зависеть от характера и условий проведения урока. Так, после  письменных заданий, включают движения рук, сжимание  и разжимание пальце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  время контрольных и некоторых практических уроках (труд, физкультура, ритмика и др.) физкультминутку не проводя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первом уроке достаточно одной физкультминутки на 25-ой минуте уро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втором и третьем уроках — по 2 физкультминутки на 10-й и    20-ой минута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четвертом уроке — 3 физкультминутки на 10-ой, 20-ой и 30-й минут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6C53-85F8-4D90-88A8-47B060C117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ы физмину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минутки для улучшения мозгового кровообращения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минутки для младших школьников на уроках с элементами письма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минутки для глаз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465C-100F-48C0-BE75-C3AD1182AA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минутки для улучшения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згового кровообра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ходное положение (и.п.) - сидя на стуле, 1-2 - плавно наклонить голову назад, 3-4 - голову наклонить вперед, плечи не поднимать. Повторить 4-6 раз. Темп медлен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.п. - сидя, руки на поясе. 1 - поворот головы направо, 2 - и.п., 3 -поворот головы налево, 4 - и.п. Повторить 6-8 раз. Темп медлен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.п. - стоя или сидя, руки на поясе. 1 - махом левую руку занести через правое плечо, голову повернуть налево, 2 - и.п., 3-4 - то же правой рукой. Повторить 4-6 раз. Темп медлен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EA43-04C9-49B1-BA40-51A480B80C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КИНЕЗИОЛОГИЧЕСКИЕ УПРАЖ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Шапка для размышлен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улучшить внимание, правописание, ясное восприятие и речь). Дети мягко заворачивают уши от верхней точки до мочки 3 раза. Это помогает им услышать резонирующий звук своего голоса, когда они говорят или по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нивые восьмерк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активизирует структуры, обеспечивающие запоминание, повышают устойчивость внимания). Дети рисуют в воздухе в горизонтальной (вертикальной) плоскости «8» по 3 раза каждой рукой, а затем повторяют это движение обеими ру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ягушк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нятие мышечного напряжения кистей рук, улучшение внимания). Положить руки на стол (колени). Одна рука сжата  в кулак, другая лежит на плоскости стола (ладошка). Одновременно менять положение рук. Усложнение упражнения состоит в ускор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лак – ребро – ладон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нятие мышечного напряжения кистей рук, улучшение внимания).чередование кисти в трех положениях: ладонь на плоскости, ладонь сжатая в кулак, ладонь ребром на плоскости стола, распрямленная ладонь на столе. Ребенок может самостоятельно произносить инструкцию синхронизируясь с класс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6D67-E425-45D0-A3F4-B3F6399C62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КИНЕЗИОЛОГИЧЕСКИЕ УПРАЖ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Лезгинк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нятие мышечного напряжения рук, улучшение внимания и самоконтроля). Ребенок складывает левую руку в кулак, большой палец отставляет в сторону, кулак разворачивает пальцами к себе. Правой рукой прямой ладонью прикасается к мизинцу левой. После этого одновременно меняет положение правой и левой рук. Необходимо добиваться высокой скорости смены поло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хо – но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огласование деятельности, активизация внимания, улучшение мыслительной деятельности). Левой рукой взяться за кончик носа, а правой за противоположное ухо. Одновременно отпустить ухо и нос, хлопнуть в ладоши, поменять положение рук «с точностью до наоборо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669F-1043-436D-B9E0-46BA8BDED7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9E26-C2CD-4141-B447-4ED5710CD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1581-B782-43A4-A339-68E920B2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1131-0A8D-45FA-B24A-ADF041A55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29B5-1CDB-4AF7-90EE-5CA4B104E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C7137-806D-4388-AA81-390E28072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6620-CB7F-420C-9FC7-E76EA659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53515-117C-4662-B76E-DE1A2300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BBE5C-C7D3-4B13-8E8B-3C881FA7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F356-A4E9-40E6-8E33-803B4A79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DE73-41E1-4057-B724-5E5781B9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747E-127C-482B-834B-A91391B7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EA8C-21A8-49F4-857B-90A3875F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E93A-4C64-48DA-8C68-B846901F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8774-13C2-4873-9060-C72FF9F8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69E7-A5AE-4CDD-BEEA-D573A4AD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23673-7890-447E-A61E-5AF4C0AB2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AE6B7-9870-4AEF-BDAE-079EB901C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1BEAC-A432-4E6C-8275-57B51092E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792E1-CCEB-4114-8CAA-4FD28383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17047-CEF2-4F71-913E-192B6057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01DD1-ABC0-489E-B8BF-C6E7A014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76028-A067-4FDF-B7F7-66A76E3F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AA11-F844-4079-92FB-F09E6A9F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394DA-12B1-4C89-9895-F56C2150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72D49-C010-49E1-9EA0-DF801EBA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DF70C-2566-443C-B959-476AE72D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59265-1DF3-44E0-B3B3-77DA0623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E787D-4493-4398-8867-0411FD03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D33A4-9C46-43C9-A1FA-9FC592ACD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9A38C-D4EA-4B5F-ACE0-D349B8EDF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4300A-4134-481C-AA0D-DAA196F1B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39909-A791-455B-8A69-C8DD8E53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261EB-3A5B-4C1F-B1E4-31D2B391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4ADF-6AB3-43D7-8E0D-E8912FA1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AAE35-373C-428F-A1AB-FA7C89A4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3C2E5-2B1B-4D15-940E-616E625E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41601-6078-4ECF-8075-BF6C38FE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7182C-39E2-42C7-8151-97A3166D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191CA-5AED-4330-92A6-553CBF1D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B9FA5-33DD-4BBD-A538-E38C975E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C63E5-C0E0-4B23-93E0-8B4E763B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F817D-F498-4206-94E9-49BCF999C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A3B22-5FEE-4B5F-B71D-8A21ED67D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6DFFA-EA63-47C9-B00B-3CDFB25CC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5063-97EB-492A-BB2D-C4EF04D5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C6962-9D47-41BD-878E-3B8134C1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ADB33-DA16-4590-A7F5-78E47581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9E8A1-0B62-4693-ADB4-07280043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51167-134A-4AD4-99B3-0012E4A8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DCC61-E113-4344-8C36-761CA947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42B49-21FF-4C37-A006-88114AA9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9F319-1712-46C9-B416-92B5D0D4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5175E-92C8-4D4A-BE22-16B92544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AE530-AA8B-4EB3-B665-92EE038D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EA677-23BC-45DC-BF45-336D84390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D815-B9A5-4C05-91F0-1C4ACD54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D8E4B-63AA-4725-80D7-36D67D7FF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D720F-5287-4DFD-A6DE-A242FE79E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65926-D2C1-4789-94DA-87466E13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DC451-48B8-4CF5-9407-45740560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A2442-BA1D-4723-84C7-7DA09CDC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87ED8-5C67-49D4-86A8-8C6D1ABD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D544D-E732-4241-BE24-476EE644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33E16-2C8D-4C55-A484-7E42DE58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5F70B-9902-448E-AED9-3AF7B647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374A8-1B74-467E-A1B9-035D42E0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B886-CFBA-40AE-961A-4EA23C08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4EB41-8CD4-4DF8-85C2-EF89F757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8DECF-1377-438A-ABC7-E3C097C03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D538B-95D0-4047-A45E-3BBDB6D80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08CE-C382-4B89-9497-92FFD71D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AE25-FDE7-42E2-9C46-24B8C63B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37ED-753B-4BA4-A23E-06D325EBD8F9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43A9-E54F-4D2E-A2D1-9D264D72B76B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46A1-DEE5-4A77-BEDC-762FA00658C2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71F6-52F2-44DF-A614-64D4268EF7F2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DED7-E0D0-41DF-8B32-58797F07F8E8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D700-8764-443E-8976-A47E26C97877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5f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80D2-9980-4272-89B5-015C81152B4F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2534-584D-4121-9586-EE178576FA51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816C-8B41-4FF8-ABB3-E7B96686AED0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E1E6-8797-4D1E-B664-C9A5626472E5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9671-6547-4683-894F-80BE5A70445E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E788-480C-496F-AEF4-A5D45C29976E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685440" y="1285920"/>
            <a:ext cx="8458200" cy="37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d3d3d"/>
                </a:solidFill>
                <a:latin typeface="Arial Black"/>
                <a:ea typeface="Aharoni"/>
              </a:rPr>
              <a:t>Организация         и содержание </a:t>
            </a:r>
            <a:endParaRPr b="0" lang="en-US" sz="6000" spc="-1" strike="noStrike">
              <a:solidFill>
                <a:srgbClr val="464646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d3d3d"/>
                </a:solidFill>
                <a:latin typeface="Arial Black"/>
                <a:ea typeface="Aharoni"/>
              </a:rPr>
              <a:t>физминутки           на уроке</a:t>
            </a:r>
            <a:endParaRPr b="0" lang="en-US" sz="6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Заголовок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8759880" cy="13590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304920" y="1554120"/>
            <a:ext cx="868680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Franklin Gothic Book"/>
              </a:rPr>
              <a:t>Самомассаж фаланг пальцев – поглаживание большим пальцем всех по очереди других пальцев по направлению от ногтевой фаланги к основанию пальца. Упражнение выполняется сразу на двух руках.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Franklin Gothic Book"/>
              </a:rPr>
              <a:t>Игра с пальчиками «Колечки».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Franklin Gothic Book"/>
              </a:rPr>
              <a:t>Руки как грабельки скребут по шершавой поверхности подушечками пальцев. 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Franklin Gothic Book"/>
              </a:rPr>
              <a:t>Ладони лежат на поверхности стола. Синхронное поочередное поднимание-опускание пальцев.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Franklin Gothic Book"/>
              </a:rPr>
              <a:t>Ребенок катает грецкий орех  (шишку, фундук) между ладонями.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8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285840" y="-55440"/>
            <a:ext cx="8686800" cy="9936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214200" y="1071360"/>
            <a:ext cx="8686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Быстро поморгать, закрыть глаза и посидеть спокойно, медленно считая до 5.  Повторить 4-5 раз.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  <a:p>
            <a:pPr marL="483480" indent="-483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2.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репко зажмурить глаза (считать до 3), открыть, посмотреть вдаль (считать до 5). Повторить 4-5 раз.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  <a:p>
            <a:pPr marL="483480" indent="-483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3.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Вытянуть правую руку вперед. Следить глазами, не поворачивая головы, за медленными движениями указательного пальца вытянутой руки влево и вправо, вверх и вниз. Повторить 4-5 раз.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  <a:p>
            <a:pPr marL="483480" indent="-483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4.     Посмотреть на указательный палец вытянутый руки на счет 1-4, потом перенести взгляд вдаль на счет 1-6. Повторить  4-5 раз.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  <a:p>
            <a:pPr marL="483480" indent="-483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5.    В среднем темпе проделать 3-4 круговых движения глазами в правую сторону, столько же в левую сторону. Расслабив глазные мышцы, посмотреть вдаль на счет 1-6. Повторить 1-2 раза.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1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Заголовок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8686800" cy="13590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304920" y="1553760"/>
            <a:ext cx="8686800" cy="33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а) все упражнения выполняются в позе свободного стояния;</a:t>
            </a:r>
            <a:endParaRPr b="0" lang="en-US" sz="2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б) каждое упражнение базируется на зрительно-поисковых  стимулах;</a:t>
            </a:r>
            <a:endParaRPr b="0" lang="en-US" sz="2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в) в процессе такого поиска дети совершают сочетанные движения головой, глазами и туловищем;</a:t>
            </a:r>
            <a:endParaRPr b="0" lang="en-US" sz="2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г) продолжительность таких упражнений 1,5—2 минуты.</a:t>
            </a:r>
            <a:br>
              <a:rPr sz="2200"/>
            </a:br>
            <a:endParaRPr b="0" lang="en-US" sz="2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4" name="TextBox 3"/>
          <p:cNvSpPr/>
          <p:nvPr/>
        </p:nvSpPr>
        <p:spPr>
          <a:xfrm>
            <a:off x="357120" y="4714920"/>
            <a:ext cx="857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a1f28"/>
                </a:solidFill>
                <a:latin typeface="Franklin Gothic Book"/>
              </a:rPr>
              <a:t>Установлено,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что наибольший эффект по поддержанию активности детей на уроках от этих упражнений тогда, когда выполняются они в середине каждого урока (а при двукратном проведении — через каждые 15 ми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285840" y="1214280"/>
            <a:ext cx="868680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Franklin Gothic Book"/>
                <a:ea typeface="Aharoni"/>
              </a:rPr>
              <a:t>Особенность ВНД  младших школьников: 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Franklin Gothic Book"/>
              </a:rPr>
              <a:t>Неустойчивость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 основных процессов  и преобладание возбудительных процессов,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Повышенная </a:t>
            </a:r>
            <a:r>
              <a:rPr b="1" i="1" lang="ru-RU" sz="3200" spc="-1" strike="noStrike">
                <a:solidFill>
                  <a:srgbClr val="000000"/>
                </a:solidFill>
                <a:latin typeface="Franklin Gothic Book"/>
              </a:rPr>
              <a:t>истощаемость 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при нагрузке,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Franklin Gothic Book"/>
              </a:rPr>
              <a:t>Затрудненность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 формирования новых условных связей (требуется большее число повторений),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Franklin Gothic Book"/>
              </a:rPr>
              <a:t>Непрочность 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вновь образованных связей и их утрата.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285840" y="21276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323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214200" y="1142640"/>
            <a:ext cx="86868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Особенность анализаторных систем и опорно-двигательного аппарата: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К 6-7 годам заканчивается формирование совместного зрения двумя глазами (пространственное восприятие),</a:t>
            </a:r>
            <a:endParaRPr b="0" lang="en-US" sz="28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Недостаточная устойчивость и повышенная чувствительность к внешним воздействия, т.к. продолжается развитие других функций зрения,</a:t>
            </a:r>
            <a:endParaRPr b="0" lang="en-US" sz="28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Слуховой анализатор не обладает всеми качествами (ниже порог слышимости, ниже острота слуха на слова).</a:t>
            </a:r>
            <a:endParaRPr b="0" lang="en-US" sz="28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325" name="Заголовок 1" descr=""/>
          <p:cNvPicPr/>
          <p:nvPr/>
        </p:nvPicPr>
        <p:blipFill>
          <a:blip r:embed="rId1"/>
          <a:stretch/>
        </p:blipFill>
        <p:spPr>
          <a:xfrm>
            <a:off x="285840" y="21276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326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214200" y="12859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Скелет, суставно-связочный аппарат и мускулатура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 несовершенен (дисфункции мышечных групп в области позвоночника).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Недостаточное развитие эластичности сосудов, высокая возбудимость дыхательного центра 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(быстрое нарушение ритма дыхательных движений) создают предпосылки воспалительных заболеваний верхних дыхательных путей.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328" name="Заголовок 1" descr=""/>
          <p:cNvPicPr/>
          <p:nvPr/>
        </p:nvPicPr>
        <p:blipFill>
          <a:blip r:embed="rId1"/>
          <a:stretch/>
        </p:blipFill>
        <p:spPr>
          <a:xfrm>
            <a:off x="285840" y="21276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329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304920" y="1554120"/>
            <a:ext cx="868680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Упражнения должны быть просты, интересны, доступны детям, по   возможности связаны с содержанием урока.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Комплекс должен состоять из одного - двух упражнений, повторяющихся 4-6 раз. Замена комплекса проводится не реже 1 раза в две недели.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Содержание упражнений должно зависеть от характера и условий проведения урока. Так, после  письменных заданий, включают движения рук, сжимание  и разжимание пальцев и т.д.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Во  время контрольных и некоторых практических уроках (труд, физкультура, ритмика и др.) физкультминутку не проводят.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На первом уроке достаточно одной физкультминутки на 25-ой минуте урока, 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на втором и третьем уроках — по 2 физкультминутки на 10-й и    20-ой минутах, 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на четвертом уроке — 3 физкультминутки на 10-ой, 20-ой и 30-й минутах. 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2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Физминутки для улучшения мозгового кровообращения ;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Физминутки для младших школьников на уроках с элементами письма ;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Физминутки для глаз .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5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Заголовок 1" descr=""/>
          <p:cNvPicPr/>
          <p:nvPr/>
        </p:nvPicPr>
        <p:blipFill>
          <a:blip r:embed="rId1"/>
          <a:stretch/>
        </p:blipFill>
        <p:spPr>
          <a:xfrm>
            <a:off x="212760" y="-42840"/>
            <a:ext cx="8686800" cy="13539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214200" y="1357200"/>
            <a:ext cx="8686800" cy="44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1.</a:t>
            </a: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Исходное положение (и.п.) - сидя на стуле, 1-2 - плавно наклонить голову назад, 3-4 - голову наклонить вперед, плечи не поднимать. Повторить 4-6 раз. Темп медленный.</a:t>
            </a:r>
            <a:endParaRPr b="0" lang="en-US" sz="25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0" lang="en-US" sz="25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2.</a:t>
            </a: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И.п. - сидя, руки на поясе. 1 - поворот головы направо, 2 - и.п., 3 -поворот головы налево, 4 - и.п. Повторить 6-8 раз. Темп медленный.</a:t>
            </a:r>
            <a:endParaRPr b="0" lang="en-US" sz="25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3.</a:t>
            </a: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И.п. - стоя или сидя, руки на поясе. 1 - махом левую руку занести через правое плечо, голову повернуть налево, 2 - и.п., 3-4 - то же правой рукой. Повторить 4-6 раз. Темп медленный.</a:t>
            </a:r>
            <a:endParaRPr b="0" lang="en-US" sz="25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8" name="TextBox 3"/>
          <p:cNvSpPr/>
          <p:nvPr/>
        </p:nvSpPr>
        <p:spPr>
          <a:xfrm>
            <a:off x="500040" y="5572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ranklin Gothic Book"/>
              </a:rPr>
              <a:t>Во время выполнений упражн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ranklin Gothic Book"/>
              </a:rPr>
              <a:t>включается дыха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Заголовок 1" descr=""/>
          <p:cNvPicPr/>
          <p:nvPr/>
        </p:nvPicPr>
        <p:blipFill>
          <a:blip r:embed="rId1"/>
          <a:stretch/>
        </p:blipFill>
        <p:spPr>
          <a:xfrm>
            <a:off x="457200" y="-92160"/>
            <a:ext cx="8686800" cy="963720"/>
          </a:xfrm>
          <a:prstGeom prst="rect">
            <a:avLst/>
          </a:prstGeom>
          <a:ln w="0">
            <a:noFill/>
          </a:ln>
        </p:spPr>
      </p:pic>
      <p:sp>
        <p:nvSpPr>
          <p:cNvPr id="341" name="Содержимое 2"/>
          <p:cNvSpPr/>
          <p:nvPr/>
        </p:nvSpPr>
        <p:spPr>
          <a:xfrm>
            <a:off x="214200" y="1000080"/>
            <a:ext cx="868680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Шапка для размышлений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(улучшить внимание, правописание, ясное восприятие и речь). Дети мягко заворачивают уши от верхней точки до мочки 3 раза. Это помогает им услышать резонирующий звук своего голоса, когда они говорят или по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Ленивые восьмерки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(активизирует структуры, обеспечивающие запоминание, повышают устойчивость внимания). Дети рисуют в воздухе в горизонтальной (вертикальной) плоскости «8» по 3 раза каждой рукой, а затем повторяют это движение обеими ру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Лягушки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(снятие мышечного напряжения кистей рук, улучшение внимания). Положить руки на стол (колени). Одна рука сжата  в кулак, другая лежит на плоскости стола (ладошка). Одновременно менять положение рук. Усложнение упражнения состоит в ускор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Кулак – ребро – ладонь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(снятие мышечного напряжения кистей рук, улучшение внимания).чередование кисти в трех положениях: ладонь на плоскости, ладонь сжатая в кулак, ладонь ребром на плоскости стола, распрямленная ладонь на столе. Ребенок может самостоятельно произносить инструкцию синхронизируясь с класс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Заголовок 1" descr=""/>
          <p:cNvPicPr/>
          <p:nvPr/>
        </p:nvPicPr>
        <p:blipFill>
          <a:blip r:embed="rId1"/>
          <a:stretch/>
        </p:blipFill>
        <p:spPr>
          <a:xfrm>
            <a:off x="457200" y="-92160"/>
            <a:ext cx="8686800" cy="963720"/>
          </a:xfrm>
          <a:prstGeom prst="rect">
            <a:avLst/>
          </a:prstGeom>
          <a:ln w="0">
            <a:noFill/>
          </a:ln>
        </p:spPr>
      </p:pic>
      <p:sp>
        <p:nvSpPr>
          <p:cNvPr id="344" name="Содержимое 2"/>
          <p:cNvSpPr/>
          <p:nvPr/>
        </p:nvSpPr>
        <p:spPr>
          <a:xfrm>
            <a:off x="214200" y="1000080"/>
            <a:ext cx="868680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Лезгинка</a:t>
            </a: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ranklin Gothic Book"/>
              </a:rPr>
              <a:t>(снятие мышечного напряжения рук, улучшение внимания и самоконтроля). Ребенок складывает левую руку в кулак, большой палец отставляет в сторону, кулак разворачивает пальцами к себе. Правой рукой прямой ладонью прикасается к мизинцу левой. После этого одновременно меняет положение правой и левой рук. Необходимо добиваться высокой скорости смены положени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Ухо – нос </a:t>
            </a:r>
            <a:r>
              <a:rPr b="0" lang="ru-RU" sz="2600" spc="-1" strike="noStrike">
                <a:solidFill>
                  <a:srgbClr val="000000"/>
                </a:solidFill>
                <a:latin typeface="Franklin Gothic Book"/>
              </a:rPr>
              <a:t>(согласование деятельности, активизация внимания, улучшение мыслительной деятельности). Левой рукой взяться за кончик носа, а правой за противоположное ухо. Одновременно отпустить ухо и нос, хлопнуть в ладоши, поменять положение рук «с точностью до наоборот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Місце для нижнього колонтитула 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19:14:59Z</dcterms:created>
  <dc:creator>Елена</dc:creator>
  <dc:description/>
  <dc:language>en-US</dc:language>
  <cp:lastModifiedBy>LEGION</cp:lastModifiedBy>
  <dcterms:modified xsi:type="dcterms:W3CDTF">2015-01-27T11:59:04Z</dcterms:modified>
  <cp:revision>47</cp:revision>
  <dc:subject/>
  <dc:title>Слайд 1</dc:title>
</cp:coreProperties>
</file>