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10.jpeg" ContentType="image/jpe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EEBE-A5FA-434E-BA87-DDEA2F813E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нквентн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9889-9016-4307-B7B3-696F5E12A8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лог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торые включаются наличие у ребенка психопатологии или акцентуации (чрезмерное усиление) отдельных черт характера. Эти отклонения выражаются в нервно-психических заболеваниях, психопатии, неврастении, пограничных состояниях, повышающих возбудимость нервной системы и обусловливающих неадекватные реакции подрост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E6BB-8E0D-4AA4-8B5D-DF410056B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ждый период развития ребенка, формируются некоторые психическ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черты личности и характера. У подростка наблюдается два процесса развития психики: либо отчуждение от той социальной среды, где он живет, либо приобщение. Если в семье ребенок чувствует недостаток родительской ласки, любви, внимания, то защитным механизмом в этом случае будет выступать отчуж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253A-D59D-4213-84D9-A0AC36139B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ологические подростковые реакции, такие как отказ, протест, группирование, являются, как правило, следствие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висимых, дисгармоничных семейных отношений. В случае несформированности системы нравственных ценностей подростка сфера его интересов начинает принимать преимущественно корыстную, насильственную, паразитическую или потребительскую направленность. Для таких подростков характерен инфантилизм, примитивность в суждениях, преобладание развлекательных инте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гоцентрическая позиция подростка с демонстрацией пренебрежительного отношения к существующим нормам и правам другого человека приводит к «отрицательному лидерству», навязыванию физически более слабым сверстникам системы их «порабощения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A108-3C88-46A9-85C9-162701BB36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педаг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7C3C-4070-4B29-85AA-69DA23B45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педаг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D555-16E7-4DE8-82BE-838D8E822A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оциально-эконом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8348-3937-4707-894C-DC92BA5FFB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оциально-эконом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F858-32A3-4081-8A12-324D557B1F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6849-890A-4730-A048-BE22AE641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Предпосылки девиантного</a:t>
            </a:r>
            <a:br>
              <a:rPr sz="1200"/>
            </a:b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п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ростковом возрасте у ребенка проявляется потребность в познании самого себя. Ответ на вопрос «Кто я?» часто мучает подростка. Он проявляет интерес к самому себе, у него формируются собственные взгляды и суждения; появляются собственные оценки на те или иные события и факты; он пытается оценить свои возможности и поступки, сопоставляя себя со сверстниками и их действ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возрасте происходит временное психологическое отдаление подростка от семьи и школы, их значение в становлении личности подростка снижается, тогда как влияние сверстников усиливается. Зачастую он стоит перед выбором м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 официальным коллективом и неформальной группой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изменяются интересы подростка по сравнения 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ом младшего возраста. Наряду с любознательностью и стремлением к творческой деятельности, для него характерна разбросанность и неустойчивость инте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ожно выделить характерные особенности подросткового возраста: эмоциональная незрелость, недостаточно развитое умение контролировать собственное поведение, соразмерять желания и возможности в удовлетворении своих потребностей, повышенная внушаемость, желание самоутвердиться и стать взрослы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0C1A-6FD7-4BE7-AEA9-985F2A8425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дростка формируется чувство взрослости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ое проявляется через стремление к независим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остоятельности, протест против желания взрослых «поучить» его. Подросток в этом возрасте нередко выбирает для себя кумира (герой фильма, сильный взрослый, герой передачи, выдающийся спортсмен и др.), которому он пытается подражать: его внешнему облику, манере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0A64-5C93-48BA-90EB-7D9AF84A92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линквентное пове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3761-3D17-4C06-ADD7-2D4E7A3E11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пы деви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ов, чье поведение отклоняется от принятых в обществе правил, норм поведения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ы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воспитуемым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воспитуемость п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ка, несоблюдение им норм и вправил, установленных в обществе, в науке рассматривается через явление, которое называется деви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ция (отклонение) является одной из сторон явления "изменчивости, которое присуще как человеку, так и окружающему его миру. Изменчивость в социальной сфере всегда связанна с деятельностью и выражается в поведении человека, которое представляет взаимод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ие его с окружающей средой, опосредованное внешней и внутренней активностью подростка. Как уже было сказано ранее, поведение может быть нормальное и отклоняющееся.(Баженов.В.Г. 198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AAC7-F502-4BF4-8348-C90E255670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льное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а полагает взаимодействие его с микросоциумом, адекватно отвечающее потребностям и возможностям его развития и социализации. Отсюд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яющееся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т быть охарактеризовано как взаимодействие ребенка с микросоциумом, нарушающее его развитие и социализацию вследствие отсутствия адекватного учета средой особенностей его индивидуальности и проявляющееся в поведенческом противодействии установленны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равственным и правовым общественным нормам.. Говоря о детскоп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ковой дезадаптации, необходимо уточнить категории детей, которые подвержены этому процес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школьного возраста, не посещающие шк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D2B0-4BDD-499C-A00F-C69C1D0322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ые сироты; действительность мест в детских домах, дети месяцами ждут очереди для помещения их в детский дом, живя с родителями, лишенными родительских прав, не имея нормальной е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дежды, подвергаясь физическому, психическому, сексуальному насилию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, употребляющие наркотики и токсические средств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 сексуально распущенного поведен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, совершившие противоправные действия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фициальным данным, их число среди детей и подростков растет в два раза быстрее, чем среди взрослы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ции включают в себ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нтное, делинквентно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минально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де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61C1-18DA-49FA-A674-5A54999A1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нтное поведен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дин из видов отклоняющегося поведения, связанный с нарушением соответствующих возрасту социальных норм и правил поведения, характерных для микро социальных отношений (семейных, школьных) и малых половозрастных социальных групп. Типичными проявлениями девиантного поведения являются ситуационно обусловленные детские и подростковые поведенческие реакции, такие как; демонстрация, агрессия, вызов, самовольное и систематическое отклонение от учебы или трудовой деятельности; систематические уходы из дома и бродяжничество, пьянство и алкоголизм детей и подростков; ранняя наркотизация и связанные с ней асоциальные действия; антиобщественые действия сексуального характера; попытки суиц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AB96-CBD3-4A4D-86AA-513C455E35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инквентное поведени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отличие от девиантного, характеризуется как повторяющиеся асоциальные проступки детей и подростков,, нарушающих правовые нормы, но не влекущих уголовной ответственности из-за их ограниченной общественной опасности или не достижения ребенком возраста, с которого начинается уголовная ответственность. Выделяются следующие типы делинквентного пове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грессивно-насильственное поведение, включая оскорбления, побои, поджоги, садистские действия, направленные в основном, против личности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ыстное поведение, включая мелкие кражи, вымогательство, угоны авто­транспорта и другие имущественные посягательства,— распространение и продажа наркот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018C-954E-4CE4-B240-8C9C8A7569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минальное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тся как противоправный поступок, который по достижению возраста уголовной ответственности служит основанием для возбуждения уголовного дела и квалифицируется по определенным статьям уголовного кодекса. Криминальному поведению, как правило, предшествуют различные формы девиантного и делинквентного поведения. Негативные формы девиаций являются социальной патологией: пьянство и алкоголизм, токсикомания и наркомания, (проституция, суицид, правонарушения и преступность). Они дезорганизуют систему, подрывают ее основы и наносят значительный ущерб, в первую очередь, личности самого подрост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0ADF-C876-4640-A844-3B1D847B3C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ависимости от типа нарушаемой нормы отклоняющееся поведение классифицируется по следующим характеристик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ам преступления (уголовные, административные) и аморальных поступков (пьянство, проституц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уровню или масштабности отклонения, когда принято говорить об индивидуальном или массовом отклон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утренней структуре отклонения, когда отклонение связывают 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ност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к той или иной социальной группе, половозрастными особ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ориентированности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8AF3-8ECC-4E98-9847-746F660854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34C2-1777-4142-A0EF-7A8A4BC64C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крытия природы и причины социальных отклонении необходимо исходить из того, что они как и социальные нормы, есть выражение отношений людей, складывающийся в обществе. Социальная норма и социальное отклонение - два полюса на одной и той же оси социально значимого поведения индивидов, социальных групп и других социальных общносте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отклонения столь же разнообразны, сколь сами социальные нормы. Более того, разнообразие отклонений превышает разнообразие норм, ибо норма типична, а отклонения могут быть весьма индивидуализиров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5AE0-6A8B-4B28-A6B8-D4949FFD5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7F39-5FEA-4751-A78C-72C7D97C8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bcebef"/>
                </a:solidFill>
                <a:latin typeface="Times New Roman"/>
              </a:rPr>
              <a:t>Делинквентность  её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дение, сопряженное с риском, иногда принимает  формы противозаконных действий. Правонарушения по своей значимости варьируют о магазинных краж и вандализма до  разбойных нападений, изнасилований и убийств. Лиц моложе 16 или 18 лет, совершающих преступные действия, называют делинквента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и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но или поздно большинство подростков втягиваются в деструктивное поведение, связанное с риско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тические, социологические и психологические факторы обуславливающие делинкв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F133-A475-431D-B263-D44C5D5CF1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ь подросткового возраста в том и состоит, что внешне и по своим притязаниям это взрослый, а по внутренним особенностям и возможностям это во многом еще ребенок. Отсюда сохраняющаяся у подростка потребность в ласке, внимании, интерес к играм, забавам, возне друг с другом. Наряду с этим, вместе с чувством взрослости у подростка пробуждается и активно формируется самосознание, обостренное чувство собственного достоинства, осознание половой принадлежности. Подростку свойственна повышенная критичность. Если, будучи ребенком, он на многие события в окружающем мире не обращал внимания или был снисходителен в своих оценках, то став подростком, он начинает переоценивать давно знакомое и привычное, вынося собственные суждения, нередко очень прямолинейные, категоричные и бескомпромисс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05E6-5D98-481C-882B-906161B68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ов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озраст, по словам Л.С.Выготского, представляет собой совокупность условий, в высшей степени предрасполагающих к воздействию различных психотравмирующих факторов. Самыми сильнодействующими из них являются недостойное поведение родителей, конфликтные взаимоотношения между ними, наличие у них недостатков, унизительных с точки зре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р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кружающих, оскорбительное отношение к подростку, проявления недоверия или неуважения к нему. Все это не просто осложняет учебно-воспитательную работу с ними, но и делает ее порой практически невозможной. У подростка на этой почве могут возникнуть различные отклонения в повед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2D30-26F0-4E1C-8026-4179857347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83D9-E2CB-498E-A980-B6C0AE3A61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4EF2-72E6-4F15-9DF8-770456030E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cebe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bcebef"/>
                </a:solidFill>
                <a:latin typeface="Arial"/>
              </a:rPr>
              <a:t>девиантное поведение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яющееся поведение имеет сложную природу, обусловленную самыми разнообразными факторами, находящимися в сложном взаимодействии и взаимовлиянии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ловеческое развитие обусловлено взаимодействием многих факторов: наследственности, среды, воспитания, собственной практической деятельности человека. Можно выделить основные фак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обусловливающие девиант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л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существовании! неблагоприятных физиологических или анатомических особенностей организма ребенка, затрудняющих его социальную адапта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етические, которые передаются по наследству. Это могут быть нарушения умственного развития, дефекты слуха и зрения, телесные пороки, повреждения нерв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физиологические, связанные с влиянием на организм человека психоф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ологических нагрузок, конфликтных ситуаций, химического состава окружающей среды, новых видов энергии, приводящих к различным соматическим, аллергическим, токсическим заболева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изиологические, включающие в себя дефекты речи, внешнюю непривлекательность, недостатки конституционно-соматического склада человека, которые в большинстве случаев вызывают негативное отношение со стороны окружающих, что приводит к искажению системы межличностных отношений ребенка в среде сверстников,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1D02-93B4-4CD9-89A6-15CC755E47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571-E1E0-4205-8A5E-46A08276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BBC-73DC-41ED-8366-48767346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C487A-4E4A-48DA-9AAF-0E7DA115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A5749-2E5B-44F0-899B-B2816C93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11AB6-9C09-48EF-90CC-D7908EE0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AE4A4-02FC-474F-BEC8-30E7E560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AB9A3-745A-4E6E-9250-C1409E34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4EB3D-575D-44AC-925E-D620096D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D517A-9F94-484F-908A-FFD6695D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EF13B-BFEA-4DE2-8A2A-5080F0C2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9DBD0-29E5-4830-82D8-1C7C05A7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C1118-75BC-433B-8EA2-56BB12D6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63A-13E2-4273-A71C-E9AFC891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B9C4D-4F3A-40FF-97F4-BA157CC1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85950-2C58-48D5-A22A-121C5BA3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D1DB4-9B81-435A-A505-51B422E2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43502-767D-42DB-9EA9-A51F1E39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9D4DD-6A11-441E-B9F1-DB12E2E3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364EE-3F1D-49F1-A023-A6632F11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0A8FC-92B2-4901-905D-8B6D54CD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D3DB4-53B0-472E-A738-5218F5C9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86181-9896-4127-9DC6-6C0E3FE0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8F17A-E845-4261-ABAB-FB97C662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ECF-F36D-4010-BF9C-7AC3CE83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20BEE-F3FD-40E5-A8AE-0A36B501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778E-74B0-4952-AC6B-54BDAD58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7ECB-680E-4F6D-B706-81D90117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476B-FE0E-44E5-AD20-5026066E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25C2-19B8-4952-831C-144E913E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7627-5E4A-46E2-8FAF-68D4D437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2E10-F737-48A3-996A-D175AB9B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AD6E-BE6B-432E-9CF1-CBDF8BC4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1CC-5A82-471D-A3C6-B222A6A5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6A0A-869F-48F9-8BC8-8A3D2061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6DFD-2FA3-46F8-B964-3E3C9BCF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0A48-CB88-4090-A911-38AEC3EF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2D74-092C-4192-85E6-67129689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B9FA-64DD-49C6-A45E-BF6D5006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68C9C-6881-4715-BBCB-00839EB3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2DFFF-08D6-4AA2-ACF5-74D6A97F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EB5E6-232A-48B6-A79B-50B5C9BA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5A30A-C37F-49AA-A9C5-1635AD99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F73EB-B0DF-4EEA-AEF1-899C0D5F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26A-978F-48DB-82CF-2A3151AF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F464C-0A06-4FFF-9C56-4D1C736C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A035-A15D-4F35-B1F6-073A142E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0BB55-B15F-46DF-A44B-5E9A6A7C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D6431-0452-49B1-A40A-CCAB41F3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D6987-2C6D-4077-81DD-C15B8461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AAE0C-5566-4260-95AB-D9BB0FF7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5BA5B-A6D1-4ED9-80F6-7196F7F7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CF3E3-A7F4-4457-9F0B-C94C93AA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20001-BDC1-4573-9BDA-91F81338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4BFE0-4A30-41DA-ADC7-98485C43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F84-4F71-41FB-8227-0606C9DB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93980-6AA7-4C73-9589-73ED18F3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79FBC-D4A5-4A2F-A697-0871A989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CB339-E6B5-41EE-A89A-C2EB56FE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8FC3A-5FD8-490C-ABDE-1A4397F5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4A61C-65F2-45BB-A0BB-4F052370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7C23A-A983-4727-994F-DBD68A3F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401FB-E887-4AF2-A0B5-E2DF3BC3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5D125-9C5B-4CAF-A1DA-58A0ACBC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80A73-8E09-4FF0-A4E5-96AB4DDA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8CF0C-DFA9-41C9-BB60-115F0979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70F-DDAF-452D-82B4-6172E5DE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6017A-CBC5-40A4-B35C-A0B90051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8E6CC-EE11-469A-8552-9833645A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753E9-8CE5-4AD4-B5BF-3682BC7D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B82A8-8918-4E86-B7EE-C8607490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E1920-611B-48FD-8C79-A0BE5DE9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BC306-4F54-49E8-843D-F935952C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F8A4F-816D-4A90-B6AD-F8DA577A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F650C-9A2F-41BB-93F6-82C9446A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52C03-FA89-4D21-B4EA-5633A6EF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9AA29-5491-4239-AA35-914D42F7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24B-9F30-43A2-9B6A-F25AE4CE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834A5-6ED5-4938-9728-0452A3E8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EC368-D1D7-4AC6-9733-6EC3596B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AF751-E8D0-48DC-81C1-C5BAA62B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82F80-295E-46BE-97ED-65D3A2AF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64293-4C44-4001-A1C8-2E511D15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482F7-20D5-496F-9A41-C73E6F63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24997-4DC7-4D82-99D8-1AD8BCAE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A0D7A-8733-425B-89A4-D1B2AFF6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8D81F-6F81-48B7-9630-2990B555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CFD0B-FC79-4FDA-8D69-7E95A3F3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1C0-0602-4EE6-9042-52881514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6B55E-37BD-4F50-9DE2-E841EC43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25C71-DA52-44F4-83CB-34EAA830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4D49D-3783-46A2-9C1A-7362D37A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F0542-DF41-4B11-BBE7-9B02A17C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D4357-7E82-4173-86AF-C466ABDD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57948-25ED-428E-AAE4-0ADADFF2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43F86-0464-4B56-A88B-3F7CEDC2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29057-A5D0-4AF9-B61E-9AE3D697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414C6-4B32-44E8-BB7A-1EF19496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C2F78-0AF9-4AC3-8F23-B05CAB01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452-3F38-42BC-AC95-A8E8A037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1ACCF-943B-4523-A19F-E3E5A620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B5BEE-64E6-4671-8C8A-0D1AB2FB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67820-C400-4B70-BB5A-64C4C0DB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6171A-2DFB-418C-A5C6-2C0D6AC0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F7E58-68E6-49A9-AFF0-FDF086B7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F8649-229B-4FA4-BFA8-903E0AA2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17077-3BC3-4657-9E04-8A8A588F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71C0B-C0D4-44AE-8338-8BD006F4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E7414-7967-4AE3-AD8A-FFD7617A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846CE-D209-4E4D-BB57-C165E8D5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8E8-49B7-48A5-93D5-18E14512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60FD2-E1B0-4686-BAAD-46944A39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70E32-1201-4D28-9220-D8289E0E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17A56-9FBE-4E43-9127-3B617D36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8DC59-355B-436B-B2DC-34C2F2B6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C0118-FFA9-4EB1-B889-7A133669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C1462-EFF6-4167-B1E6-F4251C64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83FF6-65F9-4021-9C62-B771487C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61399-FFC1-4D57-B3DA-F929A945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01A82-22FD-455B-B496-CCD84ADD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AABF3-742C-412A-ADBA-C245119D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0247-EB8F-4EE6-BCFC-76F69981BD8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0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0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91DF-3B9E-41CB-96CE-C3B37724411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6FA5-391A-4A73-954D-59A8FA1C3A8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EF19-619F-445E-8C2F-3955B225420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460D-E550-427F-B432-7608360E58B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9AF7-7D30-473F-AF55-1DA9B2A5649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BD03-A759-451A-BA06-BFF5662F1F3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3BE1-CE42-41FD-8886-362CA174A3B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4C47-C754-4A52-A350-575E3B495C7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D651-D6D5-43C3-86E3-DC24ABBF25D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1071720" y="150012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aramond"/>
              </a:rPr>
              <a:t>Делинквентное поведение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сихологические факторы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ые включаются наличие у ребенка психопатологии или акцентуации (чрезмерное усиление) отдельных черт характера. Эти отклонения выражаются в нервно-психических заболеваниях, психопатии, неврастении, пограничных состояниях, повышающих возбудимость нервной системы и обусловливающих неадекватные реакции подрост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152280" y="457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аждый период развития ребенка, формируются некоторые психическ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ч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черты личности и характера. У подростка наблюдается два процесса развития психики: либо отчуждение от той социальной среды, где он живет, либо приобщение. Если в семье ребенок чувствует недостаток родительской ласки, любви, внимания, то защитным механизмом в этом случае будет выступать отчужде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Характерологические подростковые реакции, такие как отказ, протест, группирование, являются, как правило, следствием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о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зависимых, дисгармоничных семейных отношений. В случае несформированности системы нравственных ценностей подростка сфера его интересов начинает принимать преимущественно корыстную, насильственную, паразитическую или потребительскую направленность. Для таких подростков характерен инфантилизм, примитивность в суждениях, преобладание развлекательных интерес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Эгоцентрическая позиция подростка с демонстрацией пренебрежительного отношения к существующим нормам и правам другого человека приводит к «отрицательному лидерству», навязыванию физически более слабым сверстникам системы их «порабощения»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-360" y="503280"/>
            <a:ext cx="8675640" cy="4602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циально-педагогические факторы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ебная дезадаптация школьника проходит в своем развитии следующие стади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ебной декомпенсации — состояния ребенка, характеризующееся возникновением затруднений в изучении одного или нескольких предметов при сохранении общего интереса к школе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школьной дезадаптации — состояния ребенка, когда наряду с возрастающими трудностями в обучении на первый план выступают нарушения поведения, выраженные в виде конфликтов с педагогами, одноклассниками, пропусков занят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циальной дезадаптации — состояния ребенка, когда отмечается полная утрата интереса к учебе, пребыванию в школьном коллективе, уход в асоциальные компании, увлечение спиртными напитками, наркотикам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4. Социально-экономические факторы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Жестокому обращению дети подвергаются в семье, на улице, в школе, детских домах, больницах и других детских учреждениях. Дети, которые подверглись таким действиям, лишены чувства безопасности, необходимого для их нормального развития. Тип реагирования детей и подростков на жестокое обращение зависит от возраста ребенка, черт его личности, социального опыта. Наряду с психическими реакциями (страх, нарушение сна, аппетита и пр.), наблюдаются различные формы нарушения поведения: повышение агрессивности, выраженная драчливость, жестокость или неуверенность в себе, робость, нарушение общения со сверстниками, снижение самооценки. что большинство детей, переживших в детстве жестокое обращение (насилие) взрослых, склонны воспроизводить его, выступая уже в роли насильника и мучител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едпосылки девиантного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овед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ростковом возрасте у ребенка проявляется потребность в познании самого себя. Ответ на вопрос «Кто я?» часто мучает подростка. Он проявляет интерес к самому себе, у него формируются собственные взгляды и суждения; появляются собственные оценки на те или иные события и факты; он пытается оценить свои возможности и поступки, сопоставляя себя со сверстниками и их действ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возрасте происходит временное психологическое отдаление подростка от семьи и школы, их значение в становлении личности подростка снижается, тогда как влияние сверстников усиливается. Зачастую он стоит перед выбором 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 официальным коллективом и неформальной группой об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533520" y="762120"/>
            <a:ext cx="80769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изменяются интересы подростка по сравнения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ом младшего возраста. Наряду с любознательностью и стремлением к творческой деятельности, для него характерна разбросанность и неустойчивость интерес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ожно выделить характерные особенности подросткового возраста: эмоциональная незрелость, недостаточно развитое умение контролировать собственное поведение, соразмерять желания и возможности в удовлетворении своих потребностей, повышенная внушаемость, желание самоутвердиться и стать взрослым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513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25686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343040" y="45684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дростка формируется чувство взрослости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ое проявляется через стремление к независим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остоятельности, протест против желания взрослых «поучить» его. Подросток в этом возрасте нередко выбирает для себя кумира (герой фильма, сильный взрослый, герой передачи, выдающийся спортсмен и др.), которому он пытается подражать: его внешнему облику, манере пове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026"/>
          <p:cNvSpPr/>
          <p:nvPr/>
        </p:nvSpPr>
        <p:spPr>
          <a:xfrm>
            <a:off x="974880" y="431640"/>
            <a:ext cx="7331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Rectangle 1028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Garamond"/>
              </a:rPr>
              <a:t>Делинквентное поведение</a:t>
            </a:r>
            <a:br>
              <a:rPr sz="4000"/>
            </a:br>
            <a:r>
              <a:rPr b="1" lang="ru-RU" sz="4000" spc="-1" strike="noStrike">
                <a:solidFill>
                  <a:srgbClr val="323232"/>
                </a:solidFill>
                <a:latin typeface="Garamond"/>
              </a:rPr>
              <a:t>ребенк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6" name="Схема 6" descr=""/>
          <p:cNvPicPr/>
          <p:nvPr/>
        </p:nvPicPr>
        <p:blipFill>
          <a:blip r:embed="rId2"/>
          <a:stretch/>
        </p:blipFill>
        <p:spPr>
          <a:xfrm>
            <a:off x="2316240" y="1865160"/>
            <a:ext cx="4413240" cy="42069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304920" y="304920"/>
            <a:ext cx="960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762120" y="0"/>
            <a:ext cx="7772400" cy="80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Типы девиаций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дростков, чье поведение отклоняется от принятых в обществе правил, норм поведения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ыми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или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овоспитуемыми.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овоспитуемость под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остка, несоблюдение им норм и вправил, установленных в обществе, в науке рассматривается через явление, которое называется девиац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ция (отклонение) является одной из сторон явления "изменчивости, которое присуще как человеку, так и окружающему его миру. Изменчивость в социальной сфере всегда связанна с деятельностью и выражается в поведении человека, которое представляет взаимодей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твие его с окружающей средой, опосредованное внешней и внутренней активностью подростка. Как уже было сказано ранее, поведение может быть нормальное и отклоняющееся.(Баженов.В.Г. 1989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33520" y="304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914400" y="304920"/>
            <a:ext cx="716292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Нормаль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дростка полагает взаимодействие его с микросоциумом, адекватно отвечающее потребностям и возможностям его развития и социализации. Отсюда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тклоняющееся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может быть охарактеризовано как взаимодействие ребенка с микросоциумом, нарушающее его развитие и социализацию вследствие отсутствия адекватного учета средой особенностей его индивидуальности и проявляющееся в поведенческом противодействии установленным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нравственным и правовым общественным нормам.. Говоря о детскопод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остковой дезадаптации, необходимо уточнить категории детей, которые подвержены этому процессу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ти школьного возраста, не посещающие школу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152280" y="304920"/>
            <a:ext cx="6553440" cy="79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оциальные сироты; действительность мест в детских домах, дети месяцами ждут очереди для помещения их в детский дом, живя с родителями, лишенными родительских прав, не имея нормальной еды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дежды, подвергаясь физическому, психическому, сексуальному насилию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, употребляющие наркотики и токсические средств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 сексуально распущенного повед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, совершившие противоправные действия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not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фициальным данным, их число среди детей и подростков растет в два раза быстрее, чем среди взрослы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ции включают в себя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нтное, делинквентное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риминально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едение.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9" name="Picture 3" descr="m_631"/>
          <p:cNvPicPr/>
          <p:nvPr/>
        </p:nvPicPr>
        <p:blipFill>
          <a:blip r:embed="rId1"/>
          <a:stretch/>
        </p:blipFill>
        <p:spPr>
          <a:xfrm>
            <a:off x="6781680" y="457200"/>
            <a:ext cx="2210040" cy="160020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2057400" y="990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04920" y="0"/>
            <a:ext cx="6553080" cy="90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нтное поведение </a:t>
            </a:r>
            <a:r>
              <a:rPr b="0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дин из видов отклоняющегося поведения, связанный с нарушением соответствующих возрасту социальных норм и правил поведения, характерных для микро социальных отношений (семейных, школьных) и малых половозрастных социальных групп. Типичными проявлениями девиантного поведения являются ситуационно обусловленные детские и подростковые поведенческие реакции, такие как; демонстрация, агрессия, вызов, самовольное и систематическое отклонение от учебы или трудовой деятельности; систематические уходы из дома и бродяжничество, пьянство и алкоголизм детей и подростков; ранняя наркотизация и связанные с ней асоциальные действия; антиобщественые действия сексуального характера; попытки суицид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3" name="Picture 4" descr="small_1013686199"/>
          <p:cNvPicPr/>
          <p:nvPr/>
        </p:nvPicPr>
        <p:blipFill>
          <a:blip r:embed="rId1"/>
          <a:stretch/>
        </p:blipFill>
        <p:spPr>
          <a:xfrm>
            <a:off x="6858000" y="228600"/>
            <a:ext cx="2133720" cy="1676520"/>
          </a:xfrm>
          <a:prstGeom prst="rect">
            <a:avLst/>
          </a:prstGeom>
          <a:ln w="0">
            <a:noFill/>
          </a:ln>
        </p:spPr>
      </p:pic>
      <p:sp>
        <p:nvSpPr>
          <p:cNvPr id="51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990720" y="76320"/>
            <a:ext cx="7010280" cy="77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линквентное поведение,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отличие от девиантного, характеризуется как повторяющиеся асоциальные проступки детей и подростков,, нарушающих правовые нормы, но не влекущих уголовной ответственности из-за их ограниченной общественной опасности или не достижения ребенком возраста, с которого начинается уголовная ответственность. Выделяются следующие типы делинквентного поведения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агрессивно-насильственное поведение, включая оскорбления, побои, поджоги, садистские действия, направленные в основном, против личности человека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орыстное поведение, включая мелкие кражи, вымогательство, угоны авто­транспорта и другие имущественные посягательства,— распространение и продажа наркотик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m_633"/>
          <p:cNvPicPr/>
          <p:nvPr/>
        </p:nvPicPr>
        <p:blipFill>
          <a:blip r:embed="rId1"/>
          <a:stretch/>
        </p:blipFill>
        <p:spPr>
          <a:xfrm>
            <a:off x="6172200" y="685800"/>
            <a:ext cx="2819520" cy="260208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205740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52280" y="-457200"/>
            <a:ext cx="6019920" cy="86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риминаль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пределяется как противоправный поступок, который по достижению возраста уголовной ответственности служит основанием для возбуждения уголовного дела и квалифицируется по определенным статьям уголовного кодекса. Криминальному поведению, как правило, предшествуют различные формы девиантного и делинквентного поведения. Негативные формы девиаций являются социальной патологией: пьянство и алкоголизм, токсикомания и наркомания, (проституция, суицид, правонарушения и преступность). Они дезорганизуют систему, подрывают ее основы и наносят значительный ущерб, в первую очередь, личности самого подростка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62120" y="152280"/>
            <a:ext cx="7467480" cy="76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зависимости от типа нарушаемой нормы отклоняющееся поведение классифицируется по следующим характеристикам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видам преступления (уголовные, административные) и аморальных поступков (пьянство, проституция)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уровню или масштабности отклонения, когда принято говорить об индивидуальном или массовом отклонении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внутренней структуре отклонения, когда отклонение связывают 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ностью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к той или иной социальной группе, половозрастными особенностями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ориентированности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380880" y="190512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крытия природы и причины социальных отклонении необходимо исходить из того, что они как и социальные нормы, есть выражение отношений людей, складывающийся в обществе. Социальная норма и социальное отклонение - два полюса на одной и той же оси социально значимого поведения индивидов, социальных групп и других социальных общносте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отклонения столь же разнообразны, сколь сами социальные нормы. Более того, разнообразие отклонений превышает разнообразие норм, ибо норма типична, а отклонения могут быть весьма индивидуализированы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533520" y="1066680"/>
          <a:ext cx="8381880" cy="4738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адаев Алексей Вениамин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СИХОЛОГ -ПЕДАГ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ОУ СОШ №1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Rectangle 37"/>
          <p:cNvSpPr/>
          <p:nvPr/>
        </p:nvSpPr>
        <p:spPr>
          <a:xfrm>
            <a:off x="457200" y="15228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23232"/>
                </a:solidFill>
                <a:latin typeface="Garamond"/>
              </a:rPr>
              <a:t>Автор проект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8" name="Text Box 38"/>
          <p:cNvSpPr/>
          <p:nvPr/>
        </p:nvSpPr>
        <p:spPr>
          <a:xfrm>
            <a:off x="685800" y="6172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8d3e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ff8d3e"/>
                </a:solidFill>
                <a:latin typeface="Times New Roman"/>
              </a:rPr>
              <a:t>Делинквентность  её особенн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едение, сопряженное с риском, иногда принимает  формы противозаконных действий. Правонарушения по своей значимости варьируют о магазинных краж и вандализма до  разбойных нападений, изнасилований и убийств. Лиц моложе 16 или 18 лет, совершающих преступные действия, называют делинквентами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457200" y="3808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некоторые моменты своей жизни большинство детей  вовлекаются  в отдельные формы  делинквентного поведения. Очень распространены кражи, а так же умеренные акты вандализма – разрушение или осквернение  собственност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удности возра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но или поздно большинство подростков втягиваются в деструктивное поведение, связанное с рис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22856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енетические, социологические и психологические факторы обуславливающие делинквен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50560" y="33300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собенность подросткового возраста в том и состоит, что внешне и по своим притязаниям это взрослый, а по внутренним особенностям и возможностям это во многом еще ребенок. Отсюда сохраняющаяся у подростка потребность в ласке, внимании, интерес к играм, забавам, возне друг с другом. Наряду с этим, вместе с чувством взрослости у подростка пробуждается и активно формируется самосознание, обостренное чувство собственного достоинства, осознание половой принадлежности. Подростку свойственна повышенная критичность. Если, будучи ребенком, он на многие события в окружающем мире не обращал внимания или был снисходителен в своих оценках, то став подростком, он начинает переоценивать давно знакомое и привычное, вынося собственные суждения, нередко очень прямолинейные, категоричные и бескомпромиссны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0" y="214200"/>
            <a:ext cx="6153120" cy="614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ростковы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возраст, по словам Л.С.Выготского, представляет собой совокупность условий, в высшей степени предрасполагающих к воздействию различных психотравмирующих факторов. Самыми сильнодействующими из них являются недостойное поведение родителей, конфликтные взаимоотношения между ними, наличие у них недостатков, унизительных с точки зре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р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к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кружающих, оскорбительное отношение к подростку, проявления недоверия или неуважения к нему. Все это не просто осложняет учебно-воспитательную работу с ними, но и делает ее порой практически невозможной. У подростка на этой почве могут возникнуть различные отклонения в поведени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0" name="Picture 1028" descr="33"/>
          <p:cNvPicPr/>
          <p:nvPr/>
        </p:nvPicPr>
        <p:blipFill>
          <a:blip r:embed="rId1"/>
          <a:stretch/>
        </p:blipFill>
        <p:spPr>
          <a:xfrm>
            <a:off x="6172200" y="457200"/>
            <a:ext cx="2703600" cy="3733920"/>
          </a:xfrm>
          <a:prstGeom prst="rect">
            <a:avLst/>
          </a:prstGeom>
          <a:ln w="0">
            <a:noFill/>
          </a:ln>
        </p:spPr>
      </p:pic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049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514600" cy="2595600"/>
          </a:xfrm>
          <a:prstGeom prst="rect">
            <a:avLst/>
          </a:prstGeom>
          <a:ln w="0">
            <a:noFill/>
          </a:ln>
        </p:spPr>
      </p:pic>
      <p:pic>
        <p:nvPicPr>
          <p:cNvPr id="473" name="Схема 4" descr=""/>
          <p:cNvPicPr/>
          <p:nvPr/>
        </p:nvPicPr>
        <p:blipFill>
          <a:blip r:embed="rId3"/>
          <a:stretch/>
        </p:blipFill>
        <p:spPr>
          <a:xfrm>
            <a:off x="1335240" y="907920"/>
            <a:ext cx="6132240" cy="5748480"/>
          </a:xfrm>
          <a:prstGeom prst="rect">
            <a:avLst/>
          </a:prstGeom>
          <a:ln w="0">
            <a:noFill/>
          </a:ln>
        </p:spPr>
      </p:pic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евиантное поведение подрост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клоняющееся поведение имеет сложную природу, обусловленную самыми разнообразными факторами, находящимися в сложном взаимодействии и взаимовлиянии.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овеческое развитие обусловлено взаимодействием многих факторов: наследственности, среды, воспитания, собственной практической деятельности человека. Можно выделить основные фак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ры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, обусловливающие девиантное повед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совершеннолетних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Биологические факторы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ражаются в существовании! неблагоприятных физиологических или анатомических особенностей организма ребенка, затрудняющих его социальную адаптацию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нетические, которые передаются по наследству. Это могут быть нарушения умственного развития, дефекты слуха и зрения, телесные пороки, повреждения нервной системы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психофизиологические, связанные с влиянием на организм человека психо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ологических нагрузок, конфликтных ситуаций, химического состава окружающей среды, новых видов энергии, приводящих к различным соматическим, аллергическим, токсическим заболевания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физиологические, включающие в себя дефекты речи, внешнюю непривлекательность, недостатки конституционно-соматического склада человека, которые в большинстве случаев вызывают негативное отношение со стороны окружающих, что приводит к искажению системы межличностных отношений ребенка в среде сверстников, коллектив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3:05:01Z</dcterms:created>
  <dc:creator>InTech</dc:creator>
  <dc:description/>
  <dc:language>en-US</dc:language>
  <cp:lastModifiedBy>LEGION</cp:lastModifiedBy>
  <dcterms:modified xsi:type="dcterms:W3CDTF">2015-01-27T12:00:15Z</dcterms:modified>
  <cp:revision>107</cp:revision>
  <dc:subject/>
  <dc:title>Слайд 1</dc:title>
</cp:coreProperties>
</file>