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png" ContentType="image/png"/>
  <Override PartName="/ppt/media/image11.jpeg" ContentType="image/jpeg"/>
  <Override PartName="/ppt/media/image10.jpeg" ContentType="image/jpeg"/>
  <Override PartName="/ppt/media/image12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D5BB-9FC3-4AC2-B2FA-6CE55B35F0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инквентное по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8C39-4BAA-4BA5-A4B0-B3AA519DAA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сихологические факторы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оторые включаются наличие у ребенка психопатологии или акцентуации (чрезмерное усиление) отдельных черт характера. Эти отклонения выражаются в нервно-психических заболеваниях, психопатии, неврастении, пограничных состояниях, повышающих возбудимость нервной системы и обусловливающих неадекватные реакции подрост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5EE5-AFBA-4159-95A8-51B7D4B73E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аждый период развития ребенка, формируются некоторые психическ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ч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черты личности и характера. У подростка наблюдается два процесса развития психики: либо отчуждение от той социальной среды, где он живет, либо приобщение. Если в семье ребенок чувствует недостаток родительской ласки, любви, внимания, то защитным механизмом в этом случае будет выступать отчужд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65D1-9D39-4FDC-BF8F-D0F050FE8B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Характерологические подростковые реакции, такие как отказ, протест, группирование, являются, как правило, следствием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н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зависимых, дисгармоничных семейных отношений. В случае несформированности системы нравственных ценностей подростка сфера его интересов начинает принимать преимущественно корыстную, насильственную, паразитическую или потребительскую направленность. Для таких подростков характерен инфантилизм, примитивность в суждениях, преобладание развлекательных интере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Эгоцентрическая позиция подростка с демонстрацией пренебрежительного отношения к существующим нормам и правам другого человека приводит к «отрицательному лидерству», навязыванию физически более слабым сверстникам системы их «порабощения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B49D-921B-4A1A-A839-5F5E19CC6C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оциально-педагогические фактор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ыражаются в дефектах школьного, семейного или общественного воспитания, в основе которых лежат половозрастные и индивидуальные Такие дети, как правило, изначально бывают плохо подготовлены к школе, негативно относятся к домашним заданиям, выражают безразличие к школьным оценкам, что говорит о их учебной дезадапт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398B-331C-4453-9757-662A0BECA4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оциально-педагогические фактор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ыражаются в дефектах школьного, семейного или общественного воспитания, в основе которых лежат половозрастные и индивидуальные Такие дети, как правило, изначально бывают плохо подготовлены к школе, негативно относятся к домашним заданиям, выражают безразличие к школьным оценкам, что говорит о их учебной дезадапт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B779-8018-4186-9237-D19EA95075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. Социально-экономические факторы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ключают социальное неравенство; расслоение общества на богатых и бедных; обнищание значительной массы населения, ограничение социально приемлемых способов получения достойного заработка; безработицу; инфляцию и, как следствие, социальную напряж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05AA-1045-453A-9771-340538C4F0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. Социально-экономические факторы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ключают социальное неравенство; расслоение общества на богатых и бедных; обнищание значительной массы населения, ограничение социально приемлемых способов получения достойного заработка; безработицу; инфляцию и, как следствие, социальную напряж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E7FE-BB7E-4D70-8033-D367761030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6998-135C-4C07-AC7F-CAFE9946D6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ebef"/>
                </a:solidFill>
                <a:latin typeface="Arial"/>
              </a:rPr>
              <a:t>Предпосылки девиантного</a:t>
            </a:r>
            <a:br>
              <a:rPr sz="1200"/>
            </a:br>
            <a:r>
              <a:rPr b="0" lang="ru-RU" sz="1200" spc="-1" strike="noStrike">
                <a:solidFill>
                  <a:srgbClr val="bcebef"/>
                </a:solidFill>
                <a:latin typeface="Arial"/>
              </a:rPr>
              <a:t>пове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дростковом возрасте у ребенка проявляется потребность в познании самого себя. Ответ на вопрос «Кто я?» часто мучает подростка. Он проявляет интерес к самому себе, у него формируются собственные взгляды и суждения; появляются собственные оценки на те или иные события и факты; он пытается оценить свои возможности и поступки, сопоставляя себя со сверстниками и их действ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возрасте происходит временное психологическое отдаление подростка от семьи и школы, их значение в становлении личности подростка снижается, тогда как влияние сверстников усиливается. Зачастую он стоит перед выбором м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 официальным коллективом и неформальной группой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ельно изменяются интересы подростка по сравнения 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ом младшего возраста. Наряду с любознательностью и стремлением к творческой деятельности, для него характерна разбросанность и неустойчивость интере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можно выделить характерные особенности подросткового возраста: эмоциональная незрелость, недостаточно развитое умение контролировать собственное поведение, соразмерять желания и возможности в удовлетворении своих потребностей, повышенная внушаемость, желание самоутвердиться и стать взрослы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CA31-F309-4866-AEEC-20A1709CD1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одростка формируется чувство взрослости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рое проявляется через стремление к независим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амостоятельности, протест против желания взрослых «поучить» его. Подросток в этом возрасте нередко выбирает для себя кумира (герой фильма, сильный взрослый, герой передачи, выдающийся спортсмен и др.), которому он пытается подражать: его внешнему облику, манере пове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9746-F4BA-4718-9903-0D951C8183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линквентное повед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б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7776-A4F9-4EA7-AA31-2AC0BDE247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ипы деви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ростков, чье поведение отклоняется от принятых в обществе правил, норм поведения, называют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рудным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рудновоспитуемыми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рудновоспитуемость п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остка, несоблюдение им норм и вправил, установленных в обществе, в науке рассматривается через явление, которое называется деви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евиация (отклонение) является одной из сторон явления "изменчивости, которое присуще как человеку, так и окружающему его миру. Изменчивость в социальной сфере всегда связанна с деятельностью и выражается в поведении человека, которое представляет взаимод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твие его с окружающей средой, опосредованное внешней и внутренней активностью подростка. Как уже было сказано ранее, поведение может быть нормальное и отклоняющееся.(Баженов.В.Г. 198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7A61-9A10-427E-9713-A044E9EADC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ормальное поведе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ростка полагает взаимодействие его с микросоциумом, адекватно отвечающее потребностям и возможностям его развития и социализации. Отсюда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лоняющееся поведе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ожет быть охарактеризовано как взаимодействие ребенка с микросоциумом, нарушающее его развитие и социализацию вследствие отсутствия адекватного учета средой особенностей его индивидуальности и проявляющееся в поведенческом противодействии установленны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равственным и правовым общественным нормам.. Говоря о детскоп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остковой дезадаптации, необходимо уточнить категории детей, которые подвержены этому процесс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ети школьного возраста, не посещающие шко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AB06-E8EC-49C4-961A-D2E7467DF9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оциальные сироты; действительность мест в детских домах, дети месяцами ждут очереди для помещения их в детский дом, живя с родителями, лишенными родительских прав, не имея нормальной е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одежды, подвергаясь физическому, психическому, сексуальному насилию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подростки, употребляющие наркотики и токсические средств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подростки сексуально распущенного поведения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подростки, совершившие противоправные действия;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официальным данным, их число среди детей и подростков растет в два раза быстрее, чем среди взрослы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евиации включают в себя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евиантное, делинквентно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риминально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едение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7C84-801E-4316-8288-DFA4C5FFB1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евиантное поведени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дин из видов отклоняющегося поведения, связанный с нарушением соответствующих возрасту социальных норм и правил поведения, характерных для микро социальных отношений (семейных, школьных) и малых половозрастных социальных групп. Типичными проявлениями девиантного поведения являются ситуационно обусловленные детские и подростковые поведенческие реакции, такие как; демонстрация, агрессия, вызов, самовольное и систематическое отклонение от учебы или трудовой деятельности; систематические уходы из дома и бродяжничество, пьянство и алкоголизм детей и подростков; ранняя наркотизация и связанные с ней асоциальные действия; антиобщественые действия сексуального характера; попытки суици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40C0-2827-47EF-A768-B3F3E4AECE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елинквентное поведение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отличие от девиантного, характеризуется как повторяющиеся асоциальные проступки детей и подростков,, нарушающих правовые нормы, но не влекущих уголовной ответственности из-за их ограниченной общественной опасности или не достижения ребенком возраста, с которого начинается уголовная ответственность. Выделяются следующие типы делинквентного повед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агрессивно-насильственное поведение, включая оскорбления, побои, поджоги, садистские действия, направленные в основном, против личности челове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ыстное поведение, включая мелкие кражи, вымогательство, угоны авто­транспорта и другие имущественные посягательства,— распространение и продажа наркот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E6B5-32E8-42B5-9D8B-60B562D3CD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риминальное поведе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яется как противоправный поступок, который по достижению возраста уголовной ответственности служит основанием для возбуждения уголовного дела и квалифицируется по определенным статьям уголовного кодекса. Криминальному поведению, как правило, предшествуют различные формы девиантного и делинквентного поведения. Негативные формы девиаций являются социальной патологией: пьянство и алкоголизм, токсикомания и наркомания, (проституция, суицид, правонарушения и преступность). Они дезорганизуют систему, подрывают ее основы и наносят значительный ущерб, в первую очередь, личности самого подрост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0562-D19D-4784-A2D3-C4A6FF127C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зависимости от типа нарушаемой нормы отклоняющееся поведение классифицируется по следующим характеристик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видам преступления (уголовные, административные) и аморальных поступков (пьянство, проституци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уровню или масштабности отклонения, когда принято говорить об индивидуальном или массовом отклоне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внутренней структуре отклонения, когда отклонение связывают с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ность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к той или иной социальной группе, половозрастными особенност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ориентированности отклонения на внешнюю среду (семейные ссоры, насильственные преступления и др.) или на самого себя (суицид, алкоголизм и др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43B0-8BFA-47E8-A793-D5FF872EFE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8835-2D94-486F-BFD1-A004FC4BCC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ebef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скрытия природы и причины социальных отклонении необходимо исходить из того, что они как и социальные нормы, есть выражение отношений людей, складывающийся в обществе. Социальная норма и социальное отклонение - два полюса на одной и той же оси социально значимого поведения индивидов, социальных групп и других социальных общносте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е отклонения столь же разнообразны, сколь сами социальные нормы. Более того, разнообразие отклонений превышает разнообразие норм, ибо норма типична, а отклонения могут быть весьма индивидуализиров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BBC3-EDB3-4E53-BDDA-BCFB02352C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65EE-0C67-4D27-A94B-B2A1EE2F55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ebe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bcebef"/>
                </a:solidFill>
                <a:latin typeface="Times New Roman"/>
              </a:rPr>
              <a:t>Делинквентность  её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едение, сопряженное с риском, иногда принимает  формы противозаконных действий. Правонарушения по своей значимости варьируют о магазинных краж и вандализма до  разбойных нападений, изнасилований и убийств. Лиц моложе 16 или 18 лет, совершающих преступные действия, называют делинквентам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ности возра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но или поздно большинство подростков втягиваются в деструктивное поведение, связанное с риско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тические, социологические и психологические факторы обуславливающие делинквен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BBDD-D6EE-43ED-A513-132D326C21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обенность подросткового возраста в том и состоит, что внешне и по своим притязаниям это взрослый, а по внутренним особенностям и возможностям это во многом еще ребенок. Отсюда сохраняющаяся у подростка потребность в ласке, внимании, интерес к играм, забавам, возне друг с другом. Наряду с этим, вместе с чувством взрослости у подростка пробуждается и активно формируется самосознание, обостренное чувство собственного достоинства, осознание половой принадлежности. Подростку свойственна повышенная критичность. Если, будучи ребенком, он на многие события в окружающем мире не обращал внимания или был снисходителен в своих оценках, то став подростком, он начинает переоценивать давно знакомое и привычное, вынося собственные суждения, нередко очень прямолинейные, категоричные и бескомпромисс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7008-1AF6-45F5-BB50-5B888868E0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ebe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ростковы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возраст, по словам Л.С.Выготского, представляет собой совокупность условий, в высшей степени предрасполагающих к воздействию различных психотравмирующих факторов. Самыми сильнодействующими из них являются недостойное поведение родителей, конфликтные взаимоотношения между ними, наличие у них недостатков, унизительных с точки зрен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др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окружающих, оскорбительное отношение к подростку, проявления недоверия или неуважения к нему. Все это не просто осложняет учебно-воспитательную работу с ними, но и делает ее порой практически невозможной. У подростка на этой почве могут возникнуть различные отклонения в повед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5C76-5FE9-4F52-ACF8-A94A1F21CB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23B4-2B28-4BDC-9144-93928280DB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ADA7-FD9A-4C53-9663-2D5EB81762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cebe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bcebef"/>
                </a:solidFill>
                <a:latin typeface="Arial"/>
              </a:rPr>
              <a:t>девиантное поведение подрост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лоняющееся поведение имеет сложную природу, обусловленную самыми разнообразными факторами, находящимися в сложном взаимодействии и взаимовлиянии.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еловеческое развитие обусловлено взаимодействием многих факторов: наследственности, среды, воспитания, собственной практической деятельности человека. Можно выделить основные фак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обусловливающие девиантное повед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есовершеннолет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иологические фактор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ыражаются в существовании! неблагоприятных физиологических или анатомических особенностей организма ребенка, затрудняющих его социальную адаптац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енетические, которые передаются по наследству. Это могут быть нарушения умственного развития, дефекты слуха и зрения, телесные пороки, повреждения нервной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сихофизиологические, связанные с влиянием на организм человека психоф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ологических нагрузок, конфликтных ситуаций, химического состава окружающей среды, новых видов энергии, приводящих к различным соматическим, аллергическим, токсическим заболева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физиологические, включающие в себя дефекты речи, внешнюю непривлекательность, недостатки конституционно-соматического склада человека, которые в большинстве случаев вызывают негативное отношение со стороны окружающих, что приводит к искажению системы межличностных отношений ребенка в среде сверстников, коллекти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C9D1-3E6E-4165-AAC7-3494F73C8A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A566-6240-4166-96F5-AFC98B50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76AC-F02A-46B2-9A92-1E875CD4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4D09C-D7E2-410C-9BB8-97D195C4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934D0-8189-491F-BE5B-7233B1B4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F9C30-2D02-4AC3-9892-0A824880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93335-7929-4FD8-A300-48644316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48A66-5829-4521-AD13-69B07E77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DAAE2-9C1C-4713-847F-8A9A774D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32689-2A02-4E4D-97B1-8ADEBE63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95E44-5164-4895-8FB9-A4A18290C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02DE1-9E25-4CA1-AB53-9179DE79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5BB899-B877-4C30-A7F6-9C13B723D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E82D-277D-4B8C-AF66-8E9875091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71AED-5558-47CA-9AA4-CBE60B75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5E444-0781-47A8-8202-09A07EC8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200A29-8542-4D24-A07D-06C6643C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818F3-B8D1-4589-BD80-6254B48F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D6BA6-7A6D-4523-8A10-7AC0E68F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68BFF-E5D0-4708-AA4D-18B0E7A9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47AC6-D728-4155-BCC1-3A341BE8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1EF8A-7321-4ADD-ACD2-A119A6AB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20C9D-667B-4C06-A48D-E3B0E13F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23806-FC8D-422B-99A1-9ADAB99CC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7B80-7217-40E5-81BC-CBC613EB9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79AC7-D96E-4F03-B066-26E1DBF42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231A-ED74-45E8-9EB7-7036E5503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1978-B818-4D7A-A3E1-D48336BF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7083-3474-4519-A4D3-4F477655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292C-7CAE-40D2-A831-6E74191C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EC55-53D2-4FE9-8143-CB5956EF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94C6-6814-4246-A850-1EECF021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4873-1FF1-4D32-BE3E-231C5B2B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4511-0D2E-4EF9-8CD2-2E3500F8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1174-B122-42B6-A9C6-1BDBDC40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9820-27F7-4066-94B9-D2D2A9E0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56D8-DE62-44F4-8FDF-2E04BFA0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B401-E9DE-44FD-9AA0-8793A1C46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65A3-24F7-4E35-9004-890BC1E9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D2B7C-CFF9-4ED3-BDAD-11C8459C6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1C9BD-D6C1-4C94-8409-96AEABA3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13C42-79D5-41FF-B4F3-2B7219A4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33F1D-A2C8-4888-AE0E-D36B3D41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EFB09-E177-4182-98E0-3539EA2E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7AAA-9C85-4FB0-AAEC-AE347BC5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6538C-688C-4B81-81D5-694315DE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884FF-452D-4DB5-8A98-CD35966E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7D3E1-6E9B-49E4-AA4A-10F0835C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B395B-9FB4-48BE-82E1-C814C21D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2A6C2-11D7-4166-9A68-6123E17E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6D274-0164-4C2B-BFF2-593D95903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AC380-5D29-40C5-9918-A1E9B740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78D7A-DEB5-47A7-9522-C9CD38AA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61BCF-A0D5-4AFE-B688-A3259E3C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6DBF3-853E-4C87-984A-1ED128FA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B2CF-0BA2-44B8-9519-D3B1105E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C4551-B1DC-42C3-B785-B5F254A6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EDFD7-10B4-43F3-988D-83133189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1D8CB-3AC8-4CC5-80D4-8889BECA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F56DD-9E22-45CA-9095-CD9C1AEF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CF034-C969-4FF1-A630-BC93B34B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43F89-16AB-4561-B2BE-21E77D34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BFA4D-E8B4-44FB-B598-A924A579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F6047-7655-48DF-8585-291095D45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01624-FC60-4157-A76D-40C94F7C3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37545-9D79-41C8-8634-9C1253566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0875-096D-420D-B523-2F9BCE60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2025F-4694-4E6D-9710-DC1C2945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23145-3F65-44BE-9389-FED72FDE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3A26D-7879-4D8C-AEFA-A1ED0D5A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A3DE5-DF4F-4D80-8522-7B8B8160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E50E9-A802-44F7-9B62-B04A23F8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36A2B-94BE-4204-A5F1-5088F988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2F687-EE5B-46FF-A95C-44946CE8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592AA-8ED0-48CB-AE9C-D363E88D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67154-C69C-490A-BC1A-4376FDFD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5B2F3-3682-43C5-982F-CBDE1093B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2412-D140-4175-A2EA-2993B2BA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1C678-1D43-4167-94F3-F24EE5B62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5F418-175B-454F-82F3-5EE71C4E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EA769-8061-4BE1-A6F1-1FF9ED66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B0110-08AA-4841-8180-5918D89C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01904-B7F3-4B49-BC2F-14C1AF7F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9274D-4154-4778-BBBA-13A21D36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A4547-0EDD-4E99-9CFB-9D76C02F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EC475-83DB-48BB-A478-8D6BC760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251D2-2DA9-4370-BE79-91644CDB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AB0E0-F64C-43DE-AC4A-0E294933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4763-2B9A-48D4-8332-5D55A312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60048-45DE-42C1-8EC3-A6D67333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7BF68-2457-49B4-A652-2BEC123E4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0DBA0-C6D4-47AF-9AE9-46F07EF07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65E78-196E-4C1C-A448-B672238E3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79A01-7F05-47B2-83AF-064C9F97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16F24-A832-43AD-8131-7490501D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C6421-3C0B-4D51-B79A-28555DC3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F5A2D-319E-4A4F-B37B-246D459D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F63FE-CA58-44B5-915A-319EC7BA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2BEC1-55E3-4BBD-B39E-0E8F086E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6E88-D463-42A0-841C-1C4C9873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DD132-379B-4D28-9607-AF72CF03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7007D-2363-4A3D-8DEC-3BEED876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1C648-0AE5-48C0-A046-AA28854B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026F1-3CA4-4078-8B11-DB494DECE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B15DE-B600-4951-82BC-4529B96CE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FCA27-8295-4222-BA54-C5139D67C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DA488-D71B-45DA-87E1-EAE7C736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7A99C-730A-47DC-B7FE-0833A87E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994F0-5031-42AA-AC23-AB1CC30A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042EC-EB3B-44B7-99E4-7A54DB10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20D0-2EEC-45B4-881D-2D582A2F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94A17-3BE9-45A2-9765-CE292EA5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3CC05-407C-4F8C-87FA-F70E53A7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EBB06-A0EF-4B4C-84FC-C20C4C22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A141B-EC54-4ED1-93B6-F48BD6AA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D2F5C-130E-4A8F-A1A5-DC865178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BE929-6B8F-4006-940F-1E7E98A13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F6FC9-5A5A-425B-B62E-D90F37829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99259-6BD8-47E7-8017-82D505E90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C4037-BBB4-441F-BB2C-E6FBAFEB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CDFDE-80E8-4F94-A7E1-6D617168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352F-03BE-45E8-AEE4-21CB5003286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0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0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94B3-1DFD-4B3B-A94B-C1017CBC815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1937-E63A-46FD-959A-3A1980EE0B9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5C42-ED43-4B26-8F3C-B9BECF7CFC9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566F-DB45-4406-A5FC-5C5350244A1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A17F-6C61-4190-BD4E-C65A84C342E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B0B5-35B5-46AE-9E1F-30EDBF89144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6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6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2F4A-2DF0-4E11-B848-092F0A52456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1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1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A7EF-BEE8-4833-976E-7590AD9F3A5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5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5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0CDD-D83B-4050-BB72-33479579499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Box 2"/>
          <p:cNvSpPr/>
          <p:nvPr/>
        </p:nvSpPr>
        <p:spPr>
          <a:xfrm>
            <a:off x="1071720" y="1500120"/>
            <a:ext cx="70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aramond"/>
              </a:rPr>
              <a:t>Делинквентное поведение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2.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Психологические факторы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в которые включаются наличие у ребенка психопатологии или акцентуации (чрезмерное усиление) отдельных черт характера. Эти отклонения выражаются в нервно-психических заболеваниях, психопатии, неврастении, пограничных состояниях, повышающих возбудимость нервной системы и обусловливающих неадекватные реакции подростка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152280" y="45720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В каждый период развития ребенка, формируются некоторые психическ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ч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, черты личности и характера. У подростка наблюдается два процесса развития психики: либо отчуждение от той социальной среды, где он живет, либо приобщение. Если в семье ребенок чувствует недостаток родительской ласки, любви, внимания, то защитным механизмом в этом случае будет выступать отчуждение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Характерологические подростковые реакции, такие как отказ, протест, группирование, являются, как правило, следствием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но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зависимых, дисгармоничных семейных отношений. В случае несформированности системы нравственных ценностей подростка сфера его интересов начинает принимать преимущественно корыстную, насильственную, паразитическую или потребительскую направленность. Для таких подростков характерен инфантилизм, примитивность в суждениях, преобладание развлекательных интерес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Эгоцентрическая позиция подростка с демонстрацией пренебрежительного отношения к существующим нормам и правам другого человека приводит к «отрицательному лидерству», навязыванию физически более слабым сверстникам системы их «порабощения»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-360" y="503280"/>
            <a:ext cx="8675640" cy="4602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3.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циально-педагогические факторы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выражаются в дефектах школьного, семейного или общественного воспитания, в основе которых лежат половозрастные и индивидуальные Такие дети, как правило, изначально бывают плохо подготовлены к школе, негативно относятся к домашним заданиям, выражают безразличие к школьным оценкам, что говорит о их учебной дезадаптаци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Учебная дезадаптация школьника проходит в своем развитии следующие стади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учебной декомпенсации — состояния ребенка, характеризующееся возникновением затруднений в изучении одного или нескольких предметов при сохранении общего интереса к школе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школьной дезадаптации — состояния ребенка, когда наряду с возрастающими трудностями в обучении на первый план выступают нарушения поведения, выраженные в виде конфликтов с педагогами, одноклассниками, пропусков занятий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циальной дезадаптации — состояния ребенка, когда отмечается полная утрата интереса к учебе, пребыванию в школьном коллективе, уход в асоциальные компании, увлечение спиртными напитками, наркотиками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6553080" cy="3200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4. Социально-экономические факторы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включают социальное неравенство; расслоение общества на богатых и бедных; обнищание значительной массы населения, ограничение социально приемлемых способов получения достойного заработка; безработицу; инфляцию и, как следствие, социальную напряженность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Жестокому обращению дети подвергаются в семье, на улице, в школе, детских домах, больницах и других детских учреждениях. Дети, которые подверглись таким действиям, лишены чувства безопасности, необходимого для их нормального развития. Тип реагирования детей и подростков на жестокое обращение зависит от возраста ребенка, черт его личности, социального опыта. Наряду с психическими реакциями (страх, нарушение сна, аппетита и пр.), наблюдаются различные формы нарушения поведения: повышение агрессивности, выраженная драчливость, жестокость или неуверенность в себе, робость, нарушение общения со сверстниками, снижение самооценки. что большинство детей, переживших в детстве жестокое обращение (насилие) взрослых, склонны воспроизводить его, выступая уже в роли насильника и мучителя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едпосылки девиантного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оведения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дростковом возрасте у ребенка проявляется потребность в познании самого себя. Ответ на вопрос «Кто я?» часто мучает подростка. Он проявляет интерес к самому себе, у него формируются собственные взгляды и суждения; появляются собственные оценки на те или иные события и факты; он пытается оценить свои возможности и поступки, сопоставляя себя со сверстниками и их действия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возрасте происходит временное психологическое отдаление подростка от семьи и школы, их значение в становлении личности подростка снижается, тогда как влияние сверстников усиливается. Зачастую он стоит перед выбором 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 официальным коллективом и неформальной группой общ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533520" y="762120"/>
            <a:ext cx="807696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ельно изменяются интересы подростка по сравнения 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ом младшего возраста. Наряду с любознательностью и стремлением к творческой деятельности, для него характерна разбросанность и неустойчивость интересов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можно выделить характерные особенности подросткового возраста: эмоциональная незрелость, недостаточно развитое умение контролировать собственное поведение, соразмерять желания и возможности в удовлетворении своих потребностей, повышенная внушаемость, желание самоутвердиться и стать взрослым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3" descr="513"/>
          <p:cNvPicPr/>
          <p:nvPr/>
        </p:nvPicPr>
        <p:blipFill>
          <a:blip r:embed="rId1"/>
          <a:stretch/>
        </p:blipFill>
        <p:spPr>
          <a:xfrm>
            <a:off x="380880" y="1905120"/>
            <a:ext cx="4038840" cy="256860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343040" y="45684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одростка формируется чувство взрослости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рое проявляется через стремление к независим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амостоятельности, протест против желания взрослых «поучить» его. Подросток в этом возрасте нередко выбирает для себя кумира (герой фильма, сильный взрослый, герой передачи, выдающийся спортсмен и др.), которому он пытается подражать: его внешнему облику, манере повед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1026"/>
          <p:cNvSpPr/>
          <p:nvPr/>
        </p:nvSpPr>
        <p:spPr>
          <a:xfrm>
            <a:off x="974880" y="431640"/>
            <a:ext cx="7331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5" name="Rectangle 1028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23232"/>
                </a:solidFill>
                <a:latin typeface="Garamond"/>
              </a:rPr>
              <a:t>Делинквентное поведение</a:t>
            </a:r>
            <a:br>
              <a:rPr sz="4000"/>
            </a:br>
            <a:r>
              <a:rPr b="1" lang="ru-RU" sz="4000" spc="-1" strike="noStrike">
                <a:solidFill>
                  <a:srgbClr val="323232"/>
                </a:solidFill>
                <a:latin typeface="Garamond"/>
              </a:rPr>
              <a:t>ребенка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56" name="Схема 6" descr=""/>
          <p:cNvPicPr/>
          <p:nvPr/>
        </p:nvPicPr>
        <p:blipFill>
          <a:blip r:embed="rId2"/>
          <a:stretch/>
        </p:blipFill>
        <p:spPr>
          <a:xfrm>
            <a:off x="2316240" y="1865160"/>
            <a:ext cx="4413240" cy="4206960"/>
          </a:xfrm>
          <a:prstGeom prst="rect">
            <a:avLst/>
          </a:prstGeom>
          <a:ln w="0">
            <a:noFill/>
          </a:ln>
        </p:spPr>
      </p:pic>
      <p:sp>
        <p:nvSpPr>
          <p:cNvPr id="457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2"/>
          <p:cNvSpPr/>
          <p:nvPr/>
        </p:nvSpPr>
        <p:spPr>
          <a:xfrm>
            <a:off x="304920" y="304920"/>
            <a:ext cx="9601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762120" y="0"/>
            <a:ext cx="7772400" cy="80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Типы девиаций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Подростков, чье поведение отклоняется от принятых в обществе правил, норм поведения,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трудными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или 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трудновоспитуемыми.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Трудновоспитуемость под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ростка, несоблюдение им норм и вправил, установленных в обществе, в науке рассматривается через явление, которое называется девиация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Девиация (отклонение) является одной из сторон явления "изменчивости, которое присуще как человеку, так и окружающему его миру. Изменчивость в социальной сфере всегда связанна с деятельностью и выражается в поведении человека, которое представляет взаимодей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ствие его с окружающей средой, опосредованное внешней и внутренней активностью подростка. Как уже было сказано ранее, поведение может быть нормальное и отклоняющееся.(Баженов.В.Г. 1989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4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533520" y="304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914400" y="304920"/>
            <a:ext cx="7162920" cy="72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Нормальное поведение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подростка полагает взаимодействие его с микросоциумом, адекватно отвечающее потребностям и возможностям его развития и социализации. Отсюда 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отклоняющееся поведение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может быть охарактеризовано как взаимодействие ребенка с микросоциумом, нарушающее его развитие и социализацию вследствие отсутствия адекватного учета средой особенностей его индивидуальности и проявляющееся в поведенческом противодействии установленным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нравственным и правовым общественным нормам.. Говоря о детскопод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ростковой дезадаптации, необходимо уточнить категории детей, которые подвержены этому процессу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дети школьного возраста, не посещающие школу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7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152280" y="304920"/>
            <a:ext cx="6553440" cy="79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социальные сироты; действительность мест в детских домах, дети месяцами ждут очереди для помещения их в детский дом, живя с родителями, лишенными родительских прав, не имея нормальной еды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одежды, подвергаясь физическому, психическому, сексуальному насилию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подростки, употребляющие наркотики и токсические средств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подростки сексуально распущенного поведения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подростки, совершившие противоправные действия;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not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официальным данным, их число среди детей и подростков растет в два раза быстрее, чем среди взрослы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Девиации включают в себя 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девиантное, делинквентное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и 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криминальное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ведение.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9" name="Picture 3" descr="m_631"/>
          <p:cNvPicPr/>
          <p:nvPr/>
        </p:nvPicPr>
        <p:blipFill>
          <a:blip r:embed="rId1"/>
          <a:stretch/>
        </p:blipFill>
        <p:spPr>
          <a:xfrm>
            <a:off x="6781680" y="457200"/>
            <a:ext cx="2210040" cy="1600200"/>
          </a:xfrm>
          <a:prstGeom prst="rect">
            <a:avLst/>
          </a:prstGeom>
          <a:ln w="0">
            <a:noFill/>
          </a:ln>
        </p:spPr>
      </p:pic>
      <p:sp>
        <p:nvSpPr>
          <p:cNvPr id="510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2057400" y="990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304920" y="0"/>
            <a:ext cx="6553080" cy="90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Девиантное поведение </a:t>
            </a:r>
            <a:r>
              <a:rPr b="0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один из видов отклоняющегося поведения, связанный с нарушением соответствующих возрасту социальных норм и правил поведения, характерных для микро социальных отношений (семейных, школьных) и малых половозрастных социальных групп. Типичными проявлениями девиантного поведения являются ситуационно обусловленные детские и подростковые поведенческие реакции, такие как; демонстрация, агрессия, вызов, самовольное и систематическое отклонение от учебы или трудовой деятельности; систематические уходы из дома и бродяжничество, пьянство и алкоголизм детей и подростков; ранняя наркотизация и связанные с ней асоциальные действия; антиобщественые действия сексуального характера; попытки суицида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13" name="Picture 4" descr="small_1013686199"/>
          <p:cNvPicPr/>
          <p:nvPr/>
        </p:nvPicPr>
        <p:blipFill>
          <a:blip r:embed="rId1"/>
          <a:stretch/>
        </p:blipFill>
        <p:spPr>
          <a:xfrm>
            <a:off x="6858000" y="228600"/>
            <a:ext cx="2133720" cy="1676520"/>
          </a:xfrm>
          <a:prstGeom prst="rect">
            <a:avLst/>
          </a:prstGeom>
          <a:ln w="0">
            <a:noFill/>
          </a:ln>
        </p:spPr>
      </p:pic>
      <p:sp>
        <p:nvSpPr>
          <p:cNvPr id="514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990720" y="76320"/>
            <a:ext cx="7010280" cy="77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Делинквентное поведение,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в отличие от девиантного, характеризуется как повторяющиеся асоциальные проступки детей и подростков,, нарушающих правовые нормы, но не влекущих уголовной ответственности из-за их ограниченной общественной опасности или не достижения ребенком возраста, с которого начинается уголовная ответственность. Выделяются следующие типы делинквентного поведения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агрессивно-насильственное поведение, включая оскорбления, побои, поджоги, садистские действия, направленные в основном, против личности человека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корыстное поведение, включая мелкие кражи, вымогательство, угоны авто­транспорта и другие имущественные посягательства,— распространение и продажа наркотиков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6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m_633"/>
          <p:cNvPicPr/>
          <p:nvPr/>
        </p:nvPicPr>
        <p:blipFill>
          <a:blip r:embed="rId1"/>
          <a:stretch/>
        </p:blipFill>
        <p:spPr>
          <a:xfrm>
            <a:off x="6172200" y="685800"/>
            <a:ext cx="2819520" cy="260208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3"/>
          <p:cNvSpPr/>
          <p:nvPr/>
        </p:nvSpPr>
        <p:spPr>
          <a:xfrm>
            <a:off x="2057400" y="53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152280" y="-457200"/>
            <a:ext cx="6019920" cy="86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Криминальное поведение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определяется как противоправный поступок, который по достижению возраста уголовной ответственности служит основанием для возбуждения уголовного дела и квалифицируется по определенным статьям уголовного кодекса. Криминальному поведению, как правило, предшествуют различные формы девиантного и делинквентного поведения. Негативные формы девиаций являются социальной патологией: пьянство и алкоголизм, токсикомания и наркомания, (проституция, суицид, правонарушения и преступность). Они дезорганизуют систему, подрывают ее основы и наносят значительный ущерб, в первую очередь, личности самого подростка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0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762120" y="152280"/>
            <a:ext cx="7467480" cy="762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В зависимости от типа нарушаемой нормы отклоняющееся поведение классифицируется по следующим характеристикам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- видам преступления (уголовные, административные) и аморальных поступков (пьянство, проституция)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- уровню или масштабности отклонения, когда принято говорить об индивидуальном или массовом отклонении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- внутренней структуре отклонения, когда отклонение связывают с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ностью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к той или иной социальной группе, половозрастными особенностями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- ориентированности отклонения на внешнюю среду (семейные ссоры, насильственные преступления и др.) или на самого себя (суицид, алкоголизм и др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2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Заключ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4" name="Rectangle 14"/>
          <p:cNvSpPr/>
          <p:nvPr/>
        </p:nvSpPr>
        <p:spPr>
          <a:xfrm>
            <a:off x="380880" y="1905120"/>
            <a:ext cx="8305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скрытия природы и причины социальных отклонении необходимо исходить из того, что они как и социальные нормы, есть выражение отношений людей, складывающийся в обществе. Социальная норма и социальное отклонение - два полюса на одной и той же оси социально значимого поведения индивидов, социальных групп и других социальных общностей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е отклонения столь же разнообразны, сколь сами социальные нормы. Более того, разнообразие отклонений превышает разнообразие норм, ибо норма типична, а отклонения могут быть весьма индивидуализированы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5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6" name=""/>
          <p:cNvGraphicFramePr/>
          <p:nvPr/>
        </p:nvGraphicFramePr>
        <p:xfrm>
          <a:off x="533520" y="1066680"/>
          <a:ext cx="8381880" cy="473868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Гадаев Алексей Вениаминови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СИХОЛОГ -ПЕДАГО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ГОУ СОШ №10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7" name="Rectangle 37"/>
          <p:cNvSpPr/>
          <p:nvPr/>
        </p:nvSpPr>
        <p:spPr>
          <a:xfrm>
            <a:off x="457200" y="152280"/>
            <a:ext cx="8229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23232"/>
                </a:solidFill>
                <a:latin typeface="Garamond"/>
              </a:rPr>
              <a:t>Автор проекта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8" name="Text Box 38"/>
          <p:cNvSpPr/>
          <p:nvPr/>
        </p:nvSpPr>
        <p:spPr>
          <a:xfrm>
            <a:off x="685800" y="61722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9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8d3e"/>
                </a:solidFill>
                <a:latin typeface="Times New Roman"/>
              </a:rPr>
              <a:t>     </a:t>
            </a:r>
            <a:r>
              <a:rPr b="0" lang="ru-RU" sz="3600" spc="-1" strike="noStrike">
                <a:solidFill>
                  <a:srgbClr val="ff8d3e"/>
                </a:solidFill>
                <a:latin typeface="Times New Roman"/>
              </a:rPr>
              <a:t>Делинквентность  её особенност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ведение, сопряженное с риском, иногда принимает  формы противозаконных действий. Правонарушения по своей значимости варьируют о магазинных краж и вандализма до  разбойных нападений, изнасилований и убийств. Лиц моложе 16 или 18 лет, совершающих преступные действия, называют делинквентами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457200" y="38088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В некоторые моменты своей жизни большинство детей  вовлекаются  в отдельные формы  делинквентного поведения. Очень распространены кражи, а так же умеренные акты вандализма – разрушение или осквернение  собственности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38480" cy="3809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удности возрас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но или поздно большинство подростков втягиваются в деструктивное поведение, связанное с риск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648320" y="2285640"/>
            <a:ext cx="4038480" cy="3809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енетические, социологические и психологические факторы обуславливающие делинквент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250560" y="33300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Особенность подросткового возраста в том и состоит, что внешне и по своим притязаниям это взрослый, а по внутренним особенностям и возможностям это во многом еще ребенок. Отсюда сохраняющаяся у подростка потребность в ласке, внимании, интерес к играм, забавам, возне друг с другом. Наряду с этим, вместе с чувством взрослости у подростка пробуждается и активно формируется самосознание, обостренное чувство собственного достоинства, осознание половой принадлежности. Подростку свойственна повышенная критичность. Если, будучи ребенком, он на многие события в окружающем мире не обращал внимания или был снисходителен в своих оценках, то став подростком, он начинает переоценивать давно знакомое и привычное, вынося собственные суждения, нередко очень прямолинейные, категоричные и бескомпромиссны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0" y="214200"/>
            <a:ext cx="6153120" cy="6143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дростковы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возраст, по словам Л.С.Выготского, представляет собой совокупность условий, в высшей степени предрасполагающих к воздействию различных психотравмирующих факторов. Самыми сильнодействующими из них являются недостойное поведение родителей, конфликтные взаимоотношения между ними, наличие у них недостатков, унизительных с точки зрен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подр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ка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окружающих, оскорбительное отношение к подростку, проявления недоверия или неуважения к нему. Все это не просто осложняет учебно-воспитательную работу с ними, но и делает ее порой практически невозможной. У подростка на этой почве могут возникнуть различные отклонения в поведени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0" name="Picture 1028" descr="33"/>
          <p:cNvPicPr/>
          <p:nvPr/>
        </p:nvPicPr>
        <p:blipFill>
          <a:blip r:embed="rId1"/>
          <a:stretch/>
        </p:blipFill>
        <p:spPr>
          <a:xfrm>
            <a:off x="6172200" y="457200"/>
            <a:ext cx="2703600" cy="3733920"/>
          </a:xfrm>
          <a:prstGeom prst="rect">
            <a:avLst/>
          </a:prstGeom>
          <a:ln w="0">
            <a:noFill/>
          </a:ln>
        </p:spPr>
      </p:pic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1049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514600" cy="2595600"/>
          </a:xfrm>
          <a:prstGeom prst="rect">
            <a:avLst/>
          </a:prstGeom>
          <a:ln w="0">
            <a:noFill/>
          </a:ln>
        </p:spPr>
      </p:pic>
      <p:pic>
        <p:nvPicPr>
          <p:cNvPr id="473" name="Схема 4" descr=""/>
          <p:cNvPicPr/>
          <p:nvPr/>
        </p:nvPicPr>
        <p:blipFill>
          <a:blip r:embed="rId3"/>
          <a:stretch/>
        </p:blipFill>
        <p:spPr>
          <a:xfrm>
            <a:off x="1335240" y="907920"/>
            <a:ext cx="6132240" cy="5748480"/>
          </a:xfrm>
          <a:prstGeom prst="rect">
            <a:avLst/>
          </a:prstGeom>
          <a:ln w="0">
            <a:noFill/>
          </a:ln>
        </p:spPr>
      </p:pic>
      <p:sp>
        <p:nvSpPr>
          <p:cNvPr id="4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евиантное поведение подростк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Отклоняющееся поведение имеет сложную природу, обусловленную самыми разнообразными факторами, находящимися в сложном взаимодействии и взаимовлиянии.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еловеческое развитие обусловлено взаимодействием многих факторов: наследственности, среды, воспитания, собственной практической деятельности человека. Можно выделить основные фак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ры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, обусловливающие девиантное поведени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несовершеннолетних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1.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Биологические факторы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выражаются в существовании! неблагоприятных физиологических или анатомических особенностей организма ребенка, затрудняющих его социальную адаптацию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—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генетические, которые передаются по наследству. Это могут быть нарушения умственного развития, дефекты слуха и зрения, телесные пороки, повреждения нервной системы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—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психофизиологические, связанные с влиянием на организм человека психоф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иологических нагрузок, конфликтных ситуаций, химического состава окружающей среды, новых видов энергии, приводящих к различным соматическим, аллергическим, токсическим заболеваниям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—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физиологические, включающие в себя дефекты речи, внешнюю непривлекательность, недостатки конституционно-соматического склада человека, которые в большинстве случаев вызывают негативное отношение со стороны окружающих, что приводит к искажению системы межличностных отношений ребенка в среде сверстников, коллектив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03:05:01Z</dcterms:created>
  <dc:creator>InTech</dc:creator>
  <dc:description/>
  <dc:language>en-US</dc:language>
  <cp:lastModifiedBy>LEGION</cp:lastModifiedBy>
  <dcterms:modified xsi:type="dcterms:W3CDTF">2015-01-27T12:00:15Z</dcterms:modified>
  <cp:revision>107</cp:revision>
  <dc:subject/>
  <dc:title>Слайд 1</dc:title>
</cp:coreProperties>
</file>