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png" ContentType="image/png"/>
  <Override PartName="/ppt/media/image11.jpeg" ContentType="image/jpeg"/>
  <Override PartName="/ppt/media/image10.jpeg" ContentType="image/jpeg"/>
  <Override PartName="/ppt/media/image12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4CB5-3731-4099-9CD9-7E248080BD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инквентное по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E657-37FA-49AB-BC50-D83BCC57B8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.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сихологические факторы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оторые включаются наличие у ребенка психопатологии или акцентуации (чрезмерное усиление) отдельных черт характера. Эти отклонения выражаются в нервно-психических заболеваниях, психопатии, неврастении, пограничных состояниях, повышающих возбудимость нервной системы и обусловливающих неадекватные реакции подрост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B02F-D61B-4415-B768-6E8488C2B6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аждый период развития ребенка, формируются некоторые психическ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ч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черты личности и характера. У подростка наблюдается два процесса развития психики: либо отчуждение от той социальной среды, где он живет, либо приобщение. Если в семье ребенок чувствует недостаток родительской ласки, любви, внимания, то защитным механизмом в этом случае будет выступать отчужд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7AF9-30CE-4FE9-8E69-9ADE87A635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Характерологические подростковые реакции, такие как отказ, протест, группирование, являются, как правило, следствием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н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зависимых, дисгармоничных семейных отношений. В случае несформированности системы нравственных ценностей подростка сфера его интересов начинает принимать преимущественно корыстную, насильственную, паразитическую или потребительскую направленность. Для таких подростков характерен инфантилизм, примитивность в суждениях, преобладание развлекательных интере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Эгоцентрическая позиция подростка с демонстрацией пренебрежительного отношения к существующим нормам и правам другого человека приводит к «отрицательному лидерству», навязыванию физически более слабым сверстникам системы их «порабощения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F93E-F287-4BF7-A254-3EDE757F50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.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оциально-педагогические фактор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ыражаются в дефектах школьного, семейного или общественного воспитания, в основе которых лежат половозрастные и индивидуальные Такие дети, как правило, изначально бывают плохо подготовлены к школе, негативно относятся к домашним заданиям, выражают безразличие к школьным оценкам, что говорит о их учебной дезадапт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E3EA-6B0B-489B-B752-AB2A0239D6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.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оциально-педагогические фактор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ыражаются в дефектах школьного, семейного или общественного воспитания, в основе которых лежат половозрастные и индивидуальные Такие дети, как правило, изначально бывают плохо подготовлены к школе, негативно относятся к домашним заданиям, выражают безразличие к школьным оценкам, что говорит о их учебной дезадапт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896F-A8E8-4AEE-B97D-6981C419C0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. Социально-экономические факторы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ключают социальное неравенство; расслоение общества на богатых и бедных; обнищание значительной массы населения, ограничение социально приемлемых способов получения достойного заработка; безработицу; инфляцию и, как следствие, социальную напряж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8155-15CA-49CD-A31D-C8E4A9BD67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. Социально-экономические факторы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ключают социальное неравенство; расслоение общества на богатых и бедных; обнищание значительной массы населения, ограничение социально приемлемых способов получения достойного заработка; безработицу; инфляцию и, как следствие, социальную напряж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5271-84B5-4660-A625-78478B2333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B091-A0F6-4A45-9BCE-6B837DDA58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ebef"/>
                </a:solidFill>
                <a:latin typeface="Arial"/>
              </a:rPr>
              <a:t>Предпосылки девиантного</a:t>
            </a:r>
            <a:br>
              <a:rPr sz="1200"/>
            </a:br>
            <a:r>
              <a:rPr b="0" lang="ru-RU" sz="1200" spc="-1" strike="noStrike">
                <a:solidFill>
                  <a:srgbClr val="bcebef"/>
                </a:solidFill>
                <a:latin typeface="Arial"/>
              </a:rPr>
              <a:t>пове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дростковом возрасте у ребенка проявляется потребность в познании самого себя. Ответ на вопрос «Кто я?» часто мучает подростка. Он проявляет интерес к самому себе, у него формируются собственные взгляды и суждения; появляются собственные оценки на те или иные события и факты; он пытается оценить свои возможности и поступки, сопоставляя себя со сверстниками и их действ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возрасте происходит временное психологическое отдаление подростка от семьи и школы, их значение в становлении личности подростка снижается, тогда как влияние сверстников усиливается. Зачастую он стоит перед выбором м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 официальным коллективом и неформальной группой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ельно изменяются интересы подростка по сравнения 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ком младшего возраста. Наряду с любознательностью и стремлением к творческой деятельности, для него характерна разбросанность и неустойчивость интере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можно выделить характерные особенности подросткового возраста: эмоциональная незрелость, недостаточно развитое умение контролировать собственное поведение, соразмерять желания и возможности в удовлетворении своих потребностей, повышенная внушаемость, желание самоутвердиться и стать взрослы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3282-C949-4FD6-B36D-7B2F4E2F74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одростка формируется чувство взрослости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рое проявляется через стремление к независим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амостоятельности, протест против желания взрослых «поучить» его. Подросток в этом возрасте нередко выбирает для себя кумира (герой фильма, сильный взрослый, герой передачи, выдающийся спортсмен и др.), которому он пытается подражать: его внешнему облику, манере пове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311E-5533-4EB7-A81F-B2FA41EE1B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линквентное повед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б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F178-78E4-4B89-8622-0EE1485F81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ипы деви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ростков, чье поведение отклоняется от принятых в обществе правил, норм поведения, называют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рудным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рудновоспитуемыми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рудновоспитуемость п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ростка, несоблюдение им норм и вправил, установленных в обществе, в науке рассматривается через явление, которое называется деви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евиация (отклонение) является одной из сторон явления "изменчивости, которое присуще как человеку, так и окружающему его миру. Изменчивость в социальной сфере всегда связанна с деятельностью и выражается в поведении человека, которое представляет взаимод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твие его с окружающей средой, опосредованное внешней и внутренней активностью подростка. Как уже было сказано ранее, поведение может быть нормальное и отклоняющееся.(Баженов.В.Г. 198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235A-101D-44AC-AC77-13AEEDA8DF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ормальное поведе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ростка полагает взаимодействие его с микросоциумом, адекватно отвечающее потребностям и возможностям его развития и социализации. Отсюда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тклоняющееся поведе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ожет быть охарактеризовано как взаимодействие ребенка с микросоциумом, нарушающее его развитие и социализацию вследствие отсутствия адекватного учета средой особенностей его индивидуальности и проявляющееся в поведенческом противодействии установленны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равственным и правовым общественным нормам.. Говоря о детскоп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ростковой дезадаптации, необходимо уточнить категории детей, которые подвержены этому процесс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ети школьного возраста, не посещающие шко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327B-D6CF-48D0-9856-F1E83A8348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оциальные сироты; действительность мест в детских домах, дети месяцами ждут очереди для помещения их в детский дом, живя с родителями, лишенными родительских прав, не имея нормальной е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одежды, подвергаясь физическому, психическому, сексуальному насилию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подростки, употребляющие наркотики и токсические средств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подростки сексуально распущенного поведения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подростки, совершившие противоправные действия;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официальным данным, их число среди детей и подростков растет в два раза быстрее, чем среди взрослы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евиации включают в себя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евиантное, делинквентно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риминально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едение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C1E3-0388-453E-9E82-EBC15D4993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евиантное поведени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дин из видов отклоняющегося поведения, связанный с нарушением соответствующих возрасту социальных норм и правил поведения, характерных для микро социальных отношений (семейных, школьных) и малых половозрастных социальных групп. Типичными проявлениями девиантного поведения являются ситуационно обусловленные детские и подростковые поведенческие реакции, такие как; демонстрация, агрессия, вызов, самовольное и систематическое отклонение от учебы или трудовой деятельности; систематические уходы из дома и бродяжничество, пьянство и алкоголизм детей и подростков; ранняя наркотизация и связанные с ней асоциальные действия; антиобщественые действия сексуального характера; попытки суици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D494-D96D-4867-9321-74DE82514A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елинквентное поведение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отличие от девиантного, характеризуется как повторяющиеся асоциальные проступки детей и подростков,, нарушающих правовые нормы, но не влекущих уголовной ответственности из-за их ограниченной общественной опасности или не достижения ребенком возраста, с которого начинается уголовная ответственность. Выделяются следующие типы делинквентного повед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агрессивно-насильственное поведение, включая оскорбления, побои, поджоги, садистские действия, направленные в основном, против личности челове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ыстное поведение, включая мелкие кражи, вымогательство, угоны авто­транспорта и другие имущественные посягательства,— распространение и продажа наркот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4F75-6AD7-4F8D-8C5A-4DD16DF766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риминальное поведе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яется как противоправный поступок, который по достижению возраста уголовной ответственности служит основанием для возбуждения уголовного дела и квалифицируется по определенным статьям уголовного кодекса. Криминальному поведению, как правило, предшествуют различные формы девиантного и делинквентного поведения. Негативные формы девиаций являются социальной патологией: пьянство и алкоголизм, токсикомания и наркомания, (проституция, суицид, правонарушения и преступность). Они дезорганизуют систему, подрывают ее основы и наносят значительный ущерб, в первую очередь, личности самого подрост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8CFA-AF17-4E18-B9F5-8077060DCD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зависимости от типа нарушаемой нормы отклоняющееся поведение классифицируется по следующим характеристик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видам преступления (уголовные, административные) и аморальных поступков (пьянство, проституци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уровню или масштабности отклонения, когда принято говорить об индивидуальном или массовом отклонен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внутренней структуре отклонения, когда отклонение связывают с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ность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к той или иной социальной группе, половозрастными особенност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ориентированности отклонения на внешнюю среду (семейные ссоры, насильственные преступления и др.) или на самого себя (суицид, алкоголизм и др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7469-18D6-4D76-B00F-4D62A2EFAA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8825-EDB7-4BB5-A876-AE347AEAF8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ebef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скрытия природы и причины социальных отклонении необходимо исходить из того, что они как и социальные нормы, есть выражение отношений людей, складывающийся в обществе. Социальная норма и социальное отклонение - два полюса на одной и той же оси социально значимого поведения индивидов, социальных групп и других социальных общностей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е отклонения столь же разнообразны, сколь сами социальные нормы. Более того, разнообразие отклонений превышает разнообразие норм, ибо норма типична, а отклонения могут быть весьма индивидуализиров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26F8-447B-4688-8481-9A12D3DF09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1BBE-3507-45C5-A35A-6E4B454805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ebe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bcebef"/>
                </a:solidFill>
                <a:latin typeface="Times New Roman"/>
              </a:rPr>
              <a:t>Делинквентность  её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едение, сопряженное с риском, иногда принимает  формы противозаконных действий. Правонарушения по своей значимости варьируют о магазинных краж и вандализма до  разбойных нападений, изнасилований и убийств. Лиц моложе 16 или 18 лет, совершающих преступные действия, называют делинквентам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ности возра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но или поздно большинство подростков втягиваются в деструктивное поведение, связанное с риско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тические, социологические и психологические факторы обуславливающие делинквент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06C1-88BD-4036-B559-4A4F359D47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собенность подросткового возраста в том и состоит, что внешне и по своим притязаниям это взрослый, а по внутренним особенностям и возможностям это во многом еще ребенок. Отсюда сохраняющаяся у подростка потребность в ласке, внимании, интерес к играм, забавам, возне друг с другом. Наряду с этим, вместе с чувством взрослости у подростка пробуждается и активно формируется самосознание, обостренное чувство собственного достоинства, осознание половой принадлежности. Подростку свойственна повышенная критичность. Если, будучи ребенком, он на многие события в окружающем мире не обращал внимания или был снисходителен в своих оценках, то став подростком, он начинает переоценивать давно знакомое и привычное, вынося собственные суждения, нередко очень прямолинейные, категоричные и бескомпромисс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87E0-6AE3-4B35-AA6C-CF3ECBC57C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ebe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ростковы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возраст, по словам Л.С.Выготского, представляет собой совокупность условий, в высшей степени предрасполагающих к воздействию различных психотравмирующих факторов. Самыми сильнодействующими из них являются недостойное поведение родителей, конфликтные взаимоотношения между ними, наличие у них недостатков, унизительных с точки зрен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др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окружающих, оскорбительное отношение к подростку, проявления недоверия или неуважения к нему. Все это не просто осложняет учебно-воспитательную работу с ними, но и делает ее порой практически невозможной. У подростка на этой почве могут возникнуть различные отклонения в повед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7E01-ED90-4DBB-8D35-92541DF076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898D-5DB4-4879-9A3C-18D24B94B2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645E-A0B5-4CD7-85E5-BC84550BC7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cebe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bcebef"/>
                </a:solidFill>
                <a:latin typeface="Arial"/>
              </a:rPr>
              <a:t>девиантное поведение подрост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тклоняющееся поведение имеет сложную природу, обусловленную самыми разнообразными факторами, находящимися в сложном взаимодействии и взаимовлиянии.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еловеческое развитие обусловлено взаимодействием многих факторов: наследственности, среды, воспитания, собственной практической деятельности человека. Можно выделить основные фак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обусловливающие девиантное повед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есовершеннолет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иологические фактор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ыражаются в существовании! неблагоприятных физиологических или анатомических особенностей организма ребенка, затрудняющих его социальную адаптац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енетические, которые передаются по наследству. Это могут быть нарушения умственного развития, дефекты слуха и зрения, телесные пороки, повреждения нервной систе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сихофизиологические, связанные с влиянием на организм человека психоф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ологических нагрузок, конфликтных ситуаций, химического состава окружающей среды, новых видов энергии, приводящих к различным соматическим, аллергическим, токсическим заболева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физиологические, включающие в себя дефекты речи, внешнюю непривлекательность, недостатки конституционно-соматического склада человека, которые в большинстве случаев вызывают негативное отношение со стороны окружающих, что приводит к искажению системы межличностных отношений ребенка в среде сверстников, коллекти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A6F5-4D23-469A-89F2-9FE87FB68F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A4E3-6347-4FF2-BE84-DF353B3C2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2C54-D544-40FE-90B6-25AB1478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5A279-15F3-4E4F-B82A-D9F67410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586B9-50DE-4B81-9987-4D674639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3B04D-8A58-4074-8E44-FE4F40BF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1DF6D-41C7-4394-B512-DF5A89FD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7B490-3574-4EC4-BBED-62632EB4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08F64-B297-4A50-9980-9306975D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A65A6-2D14-42F8-AFDA-5AC237E0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0EFC1-3C2A-4D56-BBA8-2A370CAE5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FA9538-B0B1-4AE7-A720-64F806CE8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F086FD-70DD-4911-92D3-8A0D0FC80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87A5-A6BE-4913-BD3F-0771779A2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52164B-1237-4566-A6D9-EF60C91D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2C79BD-E61D-43DF-A01F-4A440CAF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81A87-E85F-4B71-B987-E8A7D357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3E9E7A-0C4A-4C28-842F-CF7BECF0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5A8A8-0B83-45E3-8FCB-27394BF5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4A82CA-7EF3-42DB-A6A1-6E2F6F00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C7C617-7760-4EB1-9391-C67F8CB2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B098D-3DA0-49AC-8722-D70ECA40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C90C4D-B4F7-4C33-BD11-303D7C62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0AB525-DD60-4F1E-B3B0-E7E03F7AC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6C9B-A55F-43DF-B4F8-91402F213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4EA908-E629-4140-8FFD-5EC821BBD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FD01-2480-402A-BC88-18E7A604D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57BB-6DE0-4D2B-A96D-8B63C4E2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D2DD-9C69-483B-90CD-C071C38B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CD8F-68D9-49DE-BF93-5FCDE691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8786-D8F5-4445-984D-514378FE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383E-A0CA-4498-8A7F-609C6669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5243-6E74-4A12-ACE9-883D1A69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5087-C875-4709-B3DA-88785B26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5189-6B51-43A1-9EF6-A8286081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CD8F-0657-42B5-9A62-656BAC06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1C42-ECAA-4737-8659-3117EFF6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E640-6A80-4AEC-BF18-AC32C35D1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51D2-87AB-4932-8E54-AD05E17B0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CED0D-8136-4A16-9062-9CBA5922C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5AFEC-25B1-485F-BD4A-57CBA928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1ADAF-0101-4125-87F8-2637CA34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60608-5392-4086-8E01-6671ACC8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68C7F-C921-4B97-814C-1F1E5370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08C9-D1E0-465C-BF2D-29F7CE17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8C806-9C29-4D8D-8EBA-F8BF0C8C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B75D6-8A71-4DE8-B3B0-0DADF529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24665-ED47-4EE5-BF20-35C5010A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97A58-534F-4F4B-A4DB-967245B1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A589E-6A44-4327-A18C-17E428BF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3C185-670F-4D2B-B463-23870F50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0DBEF-A218-4797-908C-934B17398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D1FDA-E346-4D0F-95CB-5598157BD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53844-9FC1-4F73-A64B-DAE54461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40D69-770C-479A-991D-EAA015D0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715D-5F3E-44EA-A772-EB80F566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51674-DBF4-4787-96E5-66EEF953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CF4B1-3198-4A2A-B9C2-DE27BD73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8A229-5666-421C-8B03-DA75DED2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E325F-137C-4BE8-8FF0-4EC489F2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CD318-D50B-45AA-AE91-F5ADC004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CC64F-D187-49C2-9384-A5BD150F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7E7D6-36E8-4985-8D1A-27CFC413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6504C-997D-49E9-AC73-3ACEDBB3D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C4D27-2F8B-4511-A2E7-BF791F37D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2ED7C-B34A-4B1A-929E-D96D0EA0C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C2D0-30AE-414A-B422-40115FDB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C2E02-9EB2-4013-A123-32094F52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1D30C-E72A-4CFF-B0E3-6BF8A016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A9A30-E589-42EA-8AAE-21CDBE92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0E369-68FA-4FD7-8771-EA3BA981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0D459-E4F8-4E98-A9B9-8EBE903B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B3432-A2ED-4243-A3D7-AE4445D8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F16D6-7CE2-4909-AD81-214BB53E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947DD-CA47-44B0-8456-DBC5CCCE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DFD41-22D6-4D04-AE84-5923AAEF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FF155-539C-4429-BED2-81D45EE88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5015-633E-43D0-8D78-6BF40193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7F0CB-F10A-4B64-B099-B27615A44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79F38-7B19-4D7E-AFE6-AEDB9A26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D9329-C6EE-4D6F-9C50-A3A79C99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39B16-550A-4ACA-8144-8CE68259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32D73-0F24-42D3-B934-9A852F8A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5789C-83D2-4C6D-BE38-E56C7B10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A47A7-83FD-43A4-99DA-DF283B13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98487-FBE5-40BF-99E8-FEBC6366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E6442-C3BE-4C24-930A-96C4EC8D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FCA77-05FE-43C4-B99B-582A7C5D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CC95-769A-47C4-826E-6E0626AA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F236E-1950-4229-A795-979FDB44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3D04F-46B8-4736-A64A-40EC9DBE6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C55DD-AB3B-4701-AACB-499C5D552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35E4A-DC4B-481C-81A4-5CA038852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7503B-CBCF-408F-9287-CE594E28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4F731-A6EF-4F29-AD36-CA28335C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F0E82-5240-44F2-8D2A-1E9C7E89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68D10-6B3A-4D45-AE15-4246CBBA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DDB4A-E4C1-49A0-BE19-07E29052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A3537-AA84-40BB-B860-48642E96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B7F3-8D33-47B7-ADCC-469930B4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92AB8-752C-45DF-9394-720865DF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5571D-C155-4D5A-A9E4-00980E65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58D2B-A049-4410-A44F-1169D36C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3B04F-E884-4CBA-A17D-0D110F5D5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7654F-8D51-4D37-8FF8-C81700E06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522B1-F8F6-463E-B0BC-0E9959CBB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7FD70-D8E5-4EA3-BC4E-7CDBD900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55412-0020-4BAB-ACB1-4CFDE659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A76D2-2D86-4865-BD22-9DDB0072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7D9B0-0075-4897-AD5C-BADD367B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9A1F-0E73-4C91-9DB2-ACEA109E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92E87-204F-48A8-8DA5-94A247CA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E246A-F839-4E57-A4F1-340D8D1A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CACF4-75C9-47E9-AB7E-91DF3985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C4C9A-7EBF-49BE-9698-6B7B0C94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5BFEF-FD7C-4A04-AE50-CE6AAFEF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33687-58CF-4E1E-8D90-CFEFC5BC8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06D63-4D55-4920-83CB-57F4DFEEA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96473-EDBE-4C18-83E8-2AA22A323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F5632-BFA4-4FD3-A540-74D07DF0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F1262E-992A-455D-B903-FD0DB2C4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48A6-72E7-4B28-94ED-BB9904F8434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0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0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D094-4566-454A-9B3E-E636D2D2416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2945-FC82-4A9C-8E42-B1618481CF4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D388-9085-43D2-B878-75A3971515C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07D3-7595-4F0C-ABD3-565EE223E57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0D5B-475E-47FE-BADA-4345EB9A2FD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58FE-65E5-46EB-9FA0-1D2568E1372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6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6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F717-4FF7-4A47-A851-B9AFD185198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1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31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8314-4809-46FA-BF64-42A8375F38B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5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35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E57A-6231-41EE-B84D-EC309F8EFE6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Box 2"/>
          <p:cNvSpPr/>
          <p:nvPr/>
        </p:nvSpPr>
        <p:spPr>
          <a:xfrm>
            <a:off x="1071720" y="1500120"/>
            <a:ext cx="70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aramond"/>
              </a:rPr>
              <a:t>Делинквентное поведение</a:t>
            </a:r>
            <a:endParaRPr b="0" lang="en-US" sz="7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2.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Психологические факторы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в которые включаются наличие у ребенка психопатологии или акцентуации (чрезмерное усиление) отдельных черт характера. Эти отклонения выражаются в нервно-психических заболеваниях, психопатии, неврастении, пограничных состояниях, повышающих возбудимость нервной системы и обусловливающих неадекватные реакции подростка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152280" y="45720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В каждый период развития ребенка, формируются некоторые психическ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ч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, черты личности и характера. У подростка наблюдается два процесса развития психики: либо отчуждение от той социальной среды, где он живет, либо приобщение. Если в семье ребенок чувствует недостаток родительской ласки, любви, внимания, то защитным механизмом в этом случае будет выступать отчуждение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Характерологические подростковые реакции, такие как отказ, протест, группирование, являются, как правило, следствием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но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зависимых, дисгармоничных семейных отношений. В случае несформированности системы нравственных ценностей подростка сфера его интересов начинает принимать преимущественно корыстную, насильственную, паразитическую или потребительскую направленность. Для таких подростков характерен инфантилизм, примитивность в суждениях, преобладание развлекательных интерес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Эгоцентрическая позиция подростка с демонстрацией пренебрежительного отношения к существующим нормам и правам другого человека приводит к «отрицательному лидерству», навязыванию физически более слабым сверстникам системы их «порабощения»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-360" y="503280"/>
            <a:ext cx="8675640" cy="4602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3.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Социально-педагогические факторы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выражаются в дефектах школьного, семейного или общественного воспитания, в основе которых лежат половозрастные и индивидуальные Такие дети, как правило, изначально бывают плохо подготовлены к школе, негативно относятся к домашним заданиям, выражают безразличие к школьным оценкам, что говорит о их учебной дезадаптаци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Учебная дезадаптация школьника проходит в своем развитии следующие стадии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учебной декомпенсации — состояния ребенка, характеризующееся возникновением затруднений в изучении одного или нескольких предметов при сохранении общего интереса к школе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школьной дезадаптации — состояния ребенка, когда наряду с возрастающими трудностями в обучении на первый план выступают нарушения поведения, выраженные в виде конфликтов с педагогами, одноклассниками, пропусков занятий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социальной дезадаптации — состояния ребенка, когда отмечается полная утрата интереса к учебе, пребыванию в школьном коллективе, уход в асоциальные компании, увлечение спиртными напитками, наркотиками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6553080" cy="3200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4. Социально-экономические факторы,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включают социальное неравенство; расслоение общества на богатых и бедных; обнищание значительной массы населения, ограничение социально приемлемых способов получения достойного заработка; безработицу; инфляцию и, как следствие, социальную напряженность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Жестокому обращению дети подвергаются в семье, на улице, в школе, детских домах, больницах и других детских учреждениях. Дети, которые подверглись таким действиям, лишены чувства безопасности, необходимого для их нормального развития. Тип реагирования детей и подростков на жестокое обращение зависит от возраста ребенка, черт его личности, социального опыта. Наряду с психическими реакциями (страх, нарушение сна, аппетита и пр.), наблюдаются различные формы нарушения поведения: повышение агрессивности, выраженная драчливость, жестокость или неуверенность в себе, робость, нарушение общения со сверстниками, снижение самооценки. что большинство детей, переживших в детстве жестокое обращение (насилие) взрослых, склонны воспроизводить его, выступая уже в роли насильника и мучителя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едпосылки девиантного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оведения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дростковом возрасте у ребенка проявляется потребность в познании самого себя. Ответ на вопрос «Кто я?» часто мучает подростка. Он проявляет интерес к самому себе, у него формируются собственные взгляды и суждения; появляются собственные оценки на те или иные события и факты; он пытается оценить свои возможности и поступки, сопоставляя себя со сверстниками и их действия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возрасте происходит временное психологическое отдаление подростка от семьи и школы, их значение в становлении личности подростка снижается, тогда как влияние сверстников усиливается. Зачастую он стоит перед выбором 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 официальным коллективом и неформальной группой общ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533520" y="762120"/>
            <a:ext cx="807696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ельно изменяются интересы подростка по сравнения 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ком младшего возраста. Наряду с любознательностью и стремлением к творческой деятельности, для него характерна разбросанность и неустойчивость интересов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можно выделить характерные особенности подросткового возраста: эмоциональная незрелость, недостаточно развитое умение контролировать собственное поведение, соразмерять желания и возможности в удовлетворении своих потребностей, повышенная внушаемость, желание самоутвердиться и стать взрослым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3" descr="513"/>
          <p:cNvPicPr/>
          <p:nvPr/>
        </p:nvPicPr>
        <p:blipFill>
          <a:blip r:embed="rId1"/>
          <a:stretch/>
        </p:blipFill>
        <p:spPr>
          <a:xfrm>
            <a:off x="380880" y="1905120"/>
            <a:ext cx="4038840" cy="256860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343040" y="45684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одростка формируется чувство взрослости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рое проявляется через стремление к независим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амостоятельности, протест против желания взрослых «поучить» его. Подросток в этом возрасте нередко выбирает для себя кумира (герой фильма, сильный взрослый, герой передачи, выдающийся спортсмен и др.), которому он пытается подражать: его внешнему облику, манере повед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1026"/>
          <p:cNvSpPr/>
          <p:nvPr/>
        </p:nvSpPr>
        <p:spPr>
          <a:xfrm>
            <a:off x="974880" y="431640"/>
            <a:ext cx="7331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5" name="Rectangle 1028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23232"/>
                </a:solidFill>
                <a:latin typeface="Garamond"/>
              </a:rPr>
              <a:t>Делинквентное поведение</a:t>
            </a:r>
            <a:br>
              <a:rPr sz="4000"/>
            </a:br>
            <a:r>
              <a:rPr b="1" lang="ru-RU" sz="4000" spc="-1" strike="noStrike">
                <a:solidFill>
                  <a:srgbClr val="323232"/>
                </a:solidFill>
                <a:latin typeface="Garamond"/>
              </a:rPr>
              <a:t>ребенка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56" name="Схема 6" descr=""/>
          <p:cNvPicPr/>
          <p:nvPr/>
        </p:nvPicPr>
        <p:blipFill>
          <a:blip r:embed="rId2"/>
          <a:stretch/>
        </p:blipFill>
        <p:spPr>
          <a:xfrm>
            <a:off x="2316240" y="1865160"/>
            <a:ext cx="4413240" cy="4206960"/>
          </a:xfrm>
          <a:prstGeom prst="rect">
            <a:avLst/>
          </a:prstGeom>
          <a:ln w="0">
            <a:noFill/>
          </a:ln>
        </p:spPr>
      </p:pic>
      <p:sp>
        <p:nvSpPr>
          <p:cNvPr id="457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2"/>
          <p:cNvSpPr/>
          <p:nvPr/>
        </p:nvSpPr>
        <p:spPr>
          <a:xfrm>
            <a:off x="304920" y="304920"/>
            <a:ext cx="9601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762120" y="0"/>
            <a:ext cx="7772400" cy="80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Типы девиаций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Подростков, чье поведение отклоняется от принятых в обществе правил, норм поведения, называют 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трудными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или 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трудновоспитуемыми.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Трудновоспитуемость под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ростка, несоблюдение им норм и вправил, установленных в обществе, в науке рассматривается через явление, которое называется девиация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Девиация (отклонение) является одной из сторон явления "изменчивости, которое присуще как человеку, так и окружающему его миру. Изменчивость в социальной сфере всегда связанна с деятельностью и выражается в поведении человека, которое представляет взаимодей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ствие его с окружающей средой, опосредованное внешней и внутренней активностью подростка. Как уже было сказано ранее, поведение может быть нормальное и отклоняющееся.(Баженов.В.Г. 1989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4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533520" y="304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914400" y="304920"/>
            <a:ext cx="7162920" cy="72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Нормальное поведение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подростка полагает взаимодействие его с микросоциумом, адекватно отвечающее потребностям и возможностям его развития и социализации. Отсюда 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отклоняющееся поведение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может быть охарактеризовано как взаимодействие ребенка с микросоциумом, нарушающее его развитие и социализацию вследствие отсутствия адекватного учета средой особенностей его индивидуальности и проявляющееся в поведенческом противодействии установленным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нравственным и правовым общественным нормам.. Говоря о детскопод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ростковой дезадаптации, необходимо уточнить категории детей, которые подвержены этому процессу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дети школьного возраста, не посещающие школу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7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2"/>
          <p:cNvSpPr/>
          <p:nvPr/>
        </p:nvSpPr>
        <p:spPr>
          <a:xfrm>
            <a:off x="152280" y="304920"/>
            <a:ext cx="6553440" cy="79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социальные сироты; действительность мест в детских домах, дети месяцами ждут очереди для помещения их в детский дом, живя с родителями, лишенными родительских прав, не имея нормальной еды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одежды, подвергаясь физическому, психическому, сексуальному насилию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подростки, употребляющие наркотики и токсические средства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подростки сексуально распущенного поведения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подростки, совершившие противоправные действия;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not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официальным данным, их число среди детей и подростков растет в два раза быстрее, чем среди взрослы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Девиации включают в себя 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девиантное, делинквентное 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и </a:t>
            </a: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криминальное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ведение.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9" name="Picture 3" descr="m_631"/>
          <p:cNvPicPr/>
          <p:nvPr/>
        </p:nvPicPr>
        <p:blipFill>
          <a:blip r:embed="rId1"/>
          <a:stretch/>
        </p:blipFill>
        <p:spPr>
          <a:xfrm>
            <a:off x="6781680" y="457200"/>
            <a:ext cx="2210040" cy="1600200"/>
          </a:xfrm>
          <a:prstGeom prst="rect">
            <a:avLst/>
          </a:prstGeom>
          <a:ln w="0">
            <a:noFill/>
          </a:ln>
        </p:spPr>
      </p:pic>
      <p:sp>
        <p:nvSpPr>
          <p:cNvPr id="510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2057400" y="990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2" name="Text Box 3"/>
          <p:cNvSpPr/>
          <p:nvPr/>
        </p:nvSpPr>
        <p:spPr>
          <a:xfrm>
            <a:off x="304920" y="0"/>
            <a:ext cx="6553080" cy="90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Девиантное поведение </a:t>
            </a:r>
            <a:r>
              <a:rPr b="0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один из видов отклоняющегося поведения, связанный с нарушением соответствующих возрасту социальных норм и правил поведения, характерных для микро социальных отношений (семейных, школьных) и малых половозрастных социальных групп. Типичными проявлениями девиантного поведения являются ситуационно обусловленные детские и подростковые поведенческие реакции, такие как; демонстрация, агрессия, вызов, самовольное и систематическое отклонение от учебы или трудовой деятельности; систематические уходы из дома и бродяжничество, пьянство и алкоголизм детей и подростков; ранняя наркотизация и связанные с ней асоциальные действия; антиобщественые действия сексуального характера; попытки суицида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13" name="Picture 4" descr="small_1013686199"/>
          <p:cNvPicPr/>
          <p:nvPr/>
        </p:nvPicPr>
        <p:blipFill>
          <a:blip r:embed="rId1"/>
          <a:stretch/>
        </p:blipFill>
        <p:spPr>
          <a:xfrm>
            <a:off x="6858000" y="228600"/>
            <a:ext cx="2133720" cy="1676520"/>
          </a:xfrm>
          <a:prstGeom prst="rect">
            <a:avLst/>
          </a:prstGeom>
          <a:ln w="0">
            <a:noFill/>
          </a:ln>
        </p:spPr>
      </p:pic>
      <p:sp>
        <p:nvSpPr>
          <p:cNvPr id="514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990720" y="76320"/>
            <a:ext cx="7010280" cy="77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Делинквентное поведение,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в отличие от девиантного, характеризуется как повторяющиеся асоциальные проступки детей и подростков,, нарушающих правовые нормы, но не влекущих уголовной ответственности из-за их ограниченной общественной опасности или не достижения ребенком возраста, с которого начинается уголовная ответственность. Выделяются следующие типы делинквентного поведения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агрессивно-насильственное поведение, включая оскорбления, побои, поджоги, садистские действия, направленные в основном, против личности человека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корыстное поведение, включая мелкие кражи, вымогательство, угоны авто­транспорта и другие имущественные посягательства,— распространение и продажа наркотиков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6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m_633"/>
          <p:cNvPicPr/>
          <p:nvPr/>
        </p:nvPicPr>
        <p:blipFill>
          <a:blip r:embed="rId1"/>
          <a:stretch/>
        </p:blipFill>
        <p:spPr>
          <a:xfrm>
            <a:off x="6172200" y="685800"/>
            <a:ext cx="2819520" cy="260208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3"/>
          <p:cNvSpPr/>
          <p:nvPr/>
        </p:nvSpPr>
        <p:spPr>
          <a:xfrm>
            <a:off x="2057400" y="53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152280" y="-457200"/>
            <a:ext cx="6019920" cy="86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Криминальное поведение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определяется как противоправный поступок, который по достижению возраста уголовной ответственности служит основанием для возбуждения уголовного дела и квалифицируется по определенным статьям уголовного кодекса. Криминальному поведению, как правило, предшествуют различные формы девиантного и делинквентного поведения. Негативные формы девиаций являются социальной патологией: пьянство и алкоголизм, токсикомания и наркомания, (проституция, суицид, правонарушения и преступность). Они дезорганизуют систему, подрывают ее основы и наносят значительный ущерб, в первую очередь, личности самого подростка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0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762120" y="152280"/>
            <a:ext cx="7467480" cy="762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В зависимости от типа нарушаемой нормы отклоняющееся поведение классифицируется по следующим характеристикам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- видам преступления (уголовные, административные) и аморальных поступков (пьянство, проституция)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- уровню или масштабности отклонения, когда принято говорить об индивидуальном или массовом отклонении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- внутренней структуре отклонения, когда отклонение связывают с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ностью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к той или иной социальной группе, половозрастными особенностями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- ориентированности отклонения на внешнюю среду (семейные ссоры, насильственные преступления и др.) или на самого себя (суицид, алкоголизм и др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2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Заключ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4" name="Rectangle 14"/>
          <p:cNvSpPr/>
          <p:nvPr/>
        </p:nvSpPr>
        <p:spPr>
          <a:xfrm>
            <a:off x="380880" y="1905120"/>
            <a:ext cx="8305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скрытия природы и причины социальных отклонении необходимо исходить из того, что они как и социальные нормы, есть выражение отношений людей, складывающийся в обществе. Социальная норма и социальное отклонение - два полюса на одной и той же оси социально значимого поведения индивидов, социальных групп и других социальных общностей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е отклонения столь же разнообразны, сколь сами социальные нормы. Более того, разнообразие отклонений превышает разнообразие норм, ибо норма типична, а отклонения могут быть весьма индивидуализированы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5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6" name=""/>
          <p:cNvGraphicFramePr/>
          <p:nvPr/>
        </p:nvGraphicFramePr>
        <p:xfrm>
          <a:off x="533520" y="1066680"/>
          <a:ext cx="8381880" cy="473868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Гадаев Алексей Вениаминови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СИХОЛОГ -ПЕДАГО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ГОУ СОШ №10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7" name="Rectangle 37"/>
          <p:cNvSpPr/>
          <p:nvPr/>
        </p:nvSpPr>
        <p:spPr>
          <a:xfrm>
            <a:off x="457200" y="152280"/>
            <a:ext cx="8229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23232"/>
                </a:solidFill>
                <a:latin typeface="Garamond"/>
              </a:rPr>
              <a:t>Автор проекта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8" name="Text Box 38"/>
          <p:cNvSpPr/>
          <p:nvPr/>
        </p:nvSpPr>
        <p:spPr>
          <a:xfrm>
            <a:off x="685800" y="61722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9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8d3e"/>
                </a:solidFill>
                <a:latin typeface="Times New Roman"/>
              </a:rPr>
              <a:t>     </a:t>
            </a:r>
            <a:r>
              <a:rPr b="0" lang="ru-RU" sz="3600" spc="-1" strike="noStrike">
                <a:solidFill>
                  <a:srgbClr val="ff8d3e"/>
                </a:solidFill>
                <a:latin typeface="Times New Roman"/>
              </a:rPr>
              <a:t>Делинквентность  её особенност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ведение, сопряженное с риском, иногда принимает  формы противозаконных действий. Правонарушения по своей значимости варьируют о магазинных краж и вандализма до  разбойных нападений, изнасилований и убийств. Лиц моложе 16 или 18 лет, совершающих преступные действия, называют делинквентами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457200" y="38088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В некоторые моменты своей жизни большинство детей  вовлекаются  в отдельные формы  делинквентного поведения. Очень распространены кражи, а так же умеренные акты вандализма – разрушение или осквернение  собственности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38480" cy="3809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удности возрас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но или поздно большинство подростков втягиваются в деструктивное поведение, связанное с риск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648320" y="2285640"/>
            <a:ext cx="4038480" cy="3809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енетические, социологические и психологические факторы обуславливающие делинквент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250560" y="33300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Особенность подросткового возраста в том и состоит, что внешне и по своим притязаниям это взрослый, а по внутренним особенностям и возможностям это во многом еще ребенок. Отсюда сохраняющаяся у подростка потребность в ласке, внимании, интерес к играм, забавам, возне друг с другом. Наряду с этим, вместе с чувством взрослости у подростка пробуждается и активно формируется самосознание, обостренное чувство собственного достоинства, осознание половой принадлежности. Подростку свойственна повышенная критичность. Если, будучи ребенком, он на многие события в окружающем мире не обращал внимания или был снисходителен в своих оценках, то став подростком, он начинает переоценивать давно знакомое и привычное, вынося собственные суждения, нередко очень прямолинейные, категоричные и бескомпромиссны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0" y="214200"/>
            <a:ext cx="6153120" cy="6143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дростковый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возраст, по словам Л.С.Выготского, представляет собой совокупность условий, в высшей степени предрасполагающих к воздействию различных психотравмирующих факторов. Самыми сильнодействующими из них являются недостойное поведение родителей, конфликтные взаимоотношения между ними, наличие у них недостатков, унизительных с точки зрен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подр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ка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окружающих, оскорбительное отношение к подростку, проявления недоверия или неуважения к нему. Все это не просто осложняет учебно-воспитательную работу с ними, но и делает ее порой практически невозможной. У подростка на этой почве могут возникнуть различные отклонения в поведени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0" name="Picture 1028" descr="33"/>
          <p:cNvPicPr/>
          <p:nvPr/>
        </p:nvPicPr>
        <p:blipFill>
          <a:blip r:embed="rId1"/>
          <a:stretch/>
        </p:blipFill>
        <p:spPr>
          <a:xfrm>
            <a:off x="6172200" y="457200"/>
            <a:ext cx="2703600" cy="3733920"/>
          </a:xfrm>
          <a:prstGeom prst="rect">
            <a:avLst/>
          </a:prstGeom>
          <a:ln w="0">
            <a:noFill/>
          </a:ln>
        </p:spPr>
      </p:pic>
      <p:sp>
        <p:nvSpPr>
          <p:cNvPr id="4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1049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2514600" cy="2595600"/>
          </a:xfrm>
          <a:prstGeom prst="rect">
            <a:avLst/>
          </a:prstGeom>
          <a:ln w="0">
            <a:noFill/>
          </a:ln>
        </p:spPr>
      </p:pic>
      <p:pic>
        <p:nvPicPr>
          <p:cNvPr id="473" name="Схема 4" descr=""/>
          <p:cNvPicPr/>
          <p:nvPr/>
        </p:nvPicPr>
        <p:blipFill>
          <a:blip r:embed="rId3"/>
          <a:stretch/>
        </p:blipFill>
        <p:spPr>
          <a:xfrm>
            <a:off x="1335240" y="907920"/>
            <a:ext cx="6132240" cy="5748480"/>
          </a:xfrm>
          <a:prstGeom prst="rect">
            <a:avLst/>
          </a:prstGeom>
          <a:ln w="0">
            <a:noFill/>
          </a:ln>
        </p:spPr>
      </p:pic>
      <p:sp>
        <p:nvSpPr>
          <p:cNvPr id="4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евиантное поведение подростк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Отклоняющееся поведение имеет сложную природу, обусловленную самыми разнообразными факторами, находящимися в сложном взаимодействии и взаимовлиянии.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еловеческое развитие обусловлено взаимодействием многих факторов: наследственности, среды, воспитания, собственной практической деятельности человека. Можно выделить основные фак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ры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, обусловливающие девиантное поведение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несовершеннолетних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1. 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Биологические факторы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выражаются в существовании! неблагоприятных физиологических или анатомических особенностей организма ребенка, затрудняющих его социальную адаптацию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—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генетические, которые передаются по наследству. Это могут быть нарушения умственного развития, дефекты слуха и зрения, телесные пороки, повреждения нервной системы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—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психофизиологические, связанные с влиянием на организм человека психоф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иологических нагрузок, конфликтных ситуаций, химического состава окружающей среды, новых видов энергии, приводящих к различным соматическим, аллергическим, токсическим заболеваниям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—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физиологические, включающие в себя дефекты речи, внешнюю непривлекательность, недостатки конституционно-соматического склада человека, которые в большинстве случаев вызывают негативное отношение со стороны окружающих, что приводит к искажению системы межличностных отношений ребенка в среде сверстников, коллективе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Garamond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03:05:01Z</dcterms:created>
  <dc:creator>InTech</dc:creator>
  <dc:description/>
  <dc:language>en-US</dc:language>
  <cp:lastModifiedBy>LEGION</cp:lastModifiedBy>
  <dcterms:modified xsi:type="dcterms:W3CDTF">2015-01-27T12:00:15Z</dcterms:modified>
  <cp:revision>107</cp:revision>
  <dc:subject/>
  <dc:title>Слайд 1</dc:title>
</cp:coreProperties>
</file>