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10.jpeg" ContentType="image/jpe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D46C-B874-4778-A6E2-ADB0AEB964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нквентн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55B5-F03C-4AF9-969B-0CC0BA46D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лог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торые включаются наличие у ребенка психопатологии или акцентуации (чрезмерное усиление) отдельных черт характера. Эти отклонения выражаются в нервно-психических заболеваниях, психопатии, неврастении, пограничных состояниях, повышающих возбудимость нервной системы и обусловливающих неадекватные реакции подрост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9EFA-30FF-4D15-B337-FD2EE88C4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ждый период развития ребенка, формируются некоторые психическ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черты личности и характера. У подростка наблюдается два процесса развития психики: либо отчуждение от той социальной среды, где он живет, либо приобщение. Если в семье ребенок чувствует недостаток родительской ласки, любви, внимания, то защитным механизмом в этом случае будет выступать отчуж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5EBC-1315-445B-B0AE-57B8976A6D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ологические подростковые реакции, такие как отказ, протест, группирование, являются, как правило, следствие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висимых, дисгармоничных семейных отношений. В случае несформированности системы нравственных ценностей подростка сфера его интересов начинает принимать преимущественно корыстную, насильственную, паразитическую или потребительскую направленность. Для таких подростков характерен инфантилизм, примитивность в суждениях, преобладание развлекательных инте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гоцентрическая позиция подростка с демонстрацией пренебрежительного отношения к существующим нормам и правам другого человека приводит к «отрицательному лидерству», навязыванию физически более слабым сверстникам системы их «порабощения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598F-1F2A-449C-8759-4261DA8E7F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педаг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1A38-3BCC-47D9-826A-DB0600A08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педаг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E566-6DC8-4055-B83C-D73B1ABCC0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оциально-эконом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3208-0195-45CF-9704-A02A32E569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оциально-эконом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EC6A-CB89-4BA6-92B1-76B8D83954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D74C-70C7-4605-9F24-6B4329D7F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Предпосылки девиантного</a:t>
            </a:r>
            <a:br>
              <a:rPr sz="1200"/>
            </a:b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п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ростковом возрасте у ребенка проявляется потребность в познании самого себя. Ответ на вопрос «Кто я?» часто мучает подростка. Он проявляет интерес к самому себе, у него формируются собственные взгляды и суждения; появляются собственные оценки на те или иные события и факты; он пытается оценить свои возможности и поступки, сопоставляя себя со сверстниками и их действ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возрасте происходит временное психологическое отдаление подростка от семьи и школы, их значение в становлении личности подростка снижается, тогда как влияние сверстников усиливается. Зачастую он стоит перед выбором м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 официальным коллективом и неформальной группой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изменяются интересы подростка по сравнения 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ом младшего возраста. Наряду с любознательностью и стремлением к творческой деятельности, для него характерна разбросанность и неустойчивость инте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можно выделить характерные особенности подросткового возраста: эмоциональная незрелость, недостаточно развитое умение контролировать собственное поведение, соразмерять желания и возможности в удовлетворении своих потребностей, повышенная внушаемость, желание самоутвердиться и стать взрослы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91AC-C022-4A72-B07A-7A82A5C327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дростка формируется чувство взрослости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рое проявляется через стремление к независим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остоятельности, протест против желания взрослых «поучить» его. Подросток в этом возрасте нередко выбирает для себя кумира (герой фильма, сильный взрослый, герой передачи, выдающийся спортсмен и др.), которому он пытается подражать: его внешнему облику, манере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2D79-1BDA-4A5A-9FE7-5F6CAE0974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линквентное пове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1EA2-A9A4-419B-AF9C-A97F81EDC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пы деви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ов, чье поведение отклоняется от принятых в обществе правил, норм поведения,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ы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овоспитуемым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овоспитуемость п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ка, несоблюдение им норм и вправил, установленных в обществе, в науке рассматривается через явление, которое называется деви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ция (отклонение) является одной из сторон явления "изменчивости, которое присуще как человеку, так и окружающему его миру. Изменчивость в социальной сфере всегда связанна с деятельностью и выражается в поведении человека, которое представляет взаимод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ие его с окружающей средой, опосредованное внешней и внутренней активностью подростка. Как уже было сказано ранее, поведение может быть нормальное и отклоняющееся.(Баженов.В.Г. 198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8940-165D-4EE6-BA7D-C24FF492BA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альное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а полагает взаимодействие его с микросоциумом, адекватно отвечающее потребностям и возможностям его развития и социализации. Отсюд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лоняющееся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т быть охарактеризовано как взаимодействие ребенка с микросоциумом, нарушающее его развитие и социализацию вследствие отсутствия адекватного учета средой особенностей его индивидуальности и проявляющееся в поведенческом противодействии установленны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равственным и правовым общественным нормам.. Говоря о детскоп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ковой дезадаптации, необходимо уточнить категории детей, которые подвержены этому процес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школьного возраста, не посещающие шк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A869-4955-41AD-B920-BE418E1BDA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ые сироты; действительность мест в детских домах, дети месяцами ждут очереди для помещения их в детский дом, живя с родителями, лишенными родительских прав, не имея нормальной е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дежды, подвергаясь физическому, психическому, сексуальному насилию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, употребляющие наркотики и токсические средств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 сексуально распущенного поведен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, совершившие противоправные действия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фициальным данным, их число среди детей и подростков растет в два раза быстрее, чем среди взрослы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ции включают в себ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нтное, делинквентно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минально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еде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B4B5-48B1-4267-88FC-07248F1F30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нтное поведени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дин из видов отклоняющегося поведения, связанный с нарушением соответствующих возрасту социальных норм и правил поведения, характерных для микро социальных отношений (семейных, школьных) и малых половозрастных социальных групп. Типичными проявлениями девиантного поведения являются ситуационно обусловленные детские и подростковые поведенческие реакции, такие как; демонстрация, агрессия, вызов, самовольное и систематическое отклонение от учебы или трудовой деятельности; систематические уходы из дома и бродяжничество, пьянство и алкоголизм детей и подростков; ранняя наркотизация и связанные с ней асоциальные действия; антиобщественые действия сексуального характера; попытки суиц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BE3D-C704-4D75-B053-B3C71D423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инквентное поведени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отличие от девиантного, характеризуется как повторяющиеся асоциальные проступки детей и подростков,, нарушающих правовые нормы, но не влекущих уголовной ответственности из-за их ограниченной общественной опасности или не достижения ребенком возраста, с которого начинается уголовная ответственность. Выделяются следующие типы делинквентного пове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грессивно-насильственное поведение, включая оскорбления, побои, поджоги, садистские действия, направленные в основном, против личности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ыстное поведение, включая мелкие кражи, вымогательство, угоны авто­транспорта и другие имущественные посягательства,— распространение и продажа наркот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0091-F390-42A1-B9C7-1BFE56CAA5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минальное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тся как противоправный поступок, который по достижению возраста уголовной ответственности служит основанием для возбуждения уголовного дела и квалифицируется по определенным статьям уголовного кодекса. Криминальному поведению, как правило, предшествуют различные формы девиантного и делинквентного поведения. Негативные формы девиаций являются социальной патологией: пьянство и алкоголизм, токсикомания и наркомания, (проституция, суицид, правонарушения и преступность). Они дезорганизуют систему, подрывают ее основы и наносят значительный ущерб, в первую очередь, личности самого подрост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56B3-D2B4-49D9-9CE2-712666EE5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ависимости от типа нарушаемой нормы отклоняющееся поведение классифицируется по следующим характеристик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идам преступления (уголовные, административные) и аморальных поступков (пьянство, проституц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уровню или масштабности отклонения, когда принято говорить об индивидуальном или массовом отклон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утренней структуре отклонения, когда отклонение связывают 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ност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к той или иной социальной группе, половозрастными особ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ориентированности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E5E4-D9BF-4B06-A170-84F88A762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005F-C32D-46D5-A0F5-C21C858B7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крытия природы и причины социальных отклонении необходимо исходить из того, что они как и социальные нормы, есть выражение отношений людей, складывающийся в обществе. Социальная норма и социальное отклонение - два полюса на одной и той же оси социально значимого поведения индивидов, социальных групп и других социальных общносте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отклонения столь же разнообразны, сколь сами социальные нормы. Более того, разнообразие отклонений превышает разнообразие норм, ибо норма типична, а отклонения могут быть весьма индивидуализиров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9103-1E28-4F52-B43F-7591A77C8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2442-4A97-447A-8F8D-D239F1490E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bcebef"/>
                </a:solidFill>
                <a:latin typeface="Times New Roman"/>
              </a:rPr>
              <a:t>Делинквентность  её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дение, сопряженное с риском, иногда принимает  формы противозаконных действий. Правонарушения по своей значимости варьируют о магазинных краж и вандализма до  разбойных нападений, изнасилований и убийств. Лиц моложе 16 или 18 лет, совершающих преступные действия, называют делинквента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и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но или поздно большинство подростков втягиваются в деструктивное поведение, связанное с риско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тические, социологические и психологические факторы обуславливающие делинкв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418C-2331-4339-AB23-C7BA6C984E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ь подросткового возраста в том и состоит, что внешне и по своим притязаниям это взрослый, а по внутренним особенностям и возможностям это во многом еще ребенок. Отсюда сохраняющаяся у подростка потребность в ласке, внимании, интерес к играм, забавам, возне друг с другом. Наряду с этим, вместе с чувством взрослости у подростка пробуждается и активно формируется самосознание, обостренное чувство собственного достоинства, осознание половой принадлежности. Подростку свойственна повышенная критичность. Если, будучи ребенком, он на многие события в окружающем мире не обращал внимания или был снисходителен в своих оценках, то став подростком, он начинает переоценивать давно знакомое и привычное, вынося собственные суждения, нередко очень прямолинейные, категоричные и бескомпромисс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459D-3318-484F-9676-B9F6A91673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ов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озраст, по словам Л.С.Выготского, представляет собой совокупность условий, в высшей степени предрасполагающих к воздействию различных психотравмирующих факторов. Самыми сильнодействующими из них являются недостойное поведение родителей, конфликтные взаимоотношения между ними, наличие у них недостатков, унизительных с точки зрен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р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кружающих, оскорбительное отношение к подростку, проявления недоверия или неуважения к нему. Все это не просто осложняет учебно-воспитательную работу с ними, но и делает ее порой практически невозможной. У подростка на этой почве могут возникнуть различные отклонения в повед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8913-5001-437C-A7EE-2CFAC71524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DF6F-7F9D-49A4-AEBD-7ED279A7A5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CA12-4619-4B0B-BC05-1F0D78D24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cebe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bcebef"/>
                </a:solidFill>
                <a:latin typeface="Arial"/>
              </a:rPr>
              <a:t>девиантное поведение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лоняющееся поведение имеет сложную природу, обусловленную самыми разнообразными факторами, находящимися в сложном взаимодействии и взаимовлиянии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ловеческое развитие обусловлено взаимодействием многих факторов: наследственности, среды, воспитания, собственной практической деятельности человека. Можно выделить основные фак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обусловливающие девиант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л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существовании! неблагоприятных физиологических или анатомических особенностей организма ребенка, затрудняющих его социальную адапта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етические, которые передаются по наследству. Это могут быть нарушения умственного развития, дефекты слуха и зрения, телесные пороки, повреждения нерв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физиологические, связанные с влиянием на организм человека психоф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ологических нагрузок, конфликтных ситуаций, химического состава окружающей среды, новых видов энергии, приводящих к различным соматическим, аллергическим, токсическим заболева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изиологические, включающие в себя дефекты речи, внешнюю непривлекательность, недостатки конституционно-соматического склада человека, которые в большинстве случаев вызывают негативное отношение со стороны окружающих, что приводит к искажению системы межличностных отношений ребенка в среде сверстников,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23CC-2496-4768-8337-6172B943A2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78D-AB38-4A5D-9DF4-E62EDB3E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6B6-DE4B-44ED-81A6-1E308A68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F8057-5156-45E3-BB0D-02AE4AE9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E26C5-20C4-4B9F-B9CC-6B279CA4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2CAA3-E519-4CE0-AF91-10646E18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BB918-6C41-4B9A-9709-52E84296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BE611-0E53-49DD-BAFF-B3A9D85E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4F461-D222-4FC5-9542-6AB85732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23FDF-E717-4973-BFC9-C51DBC76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38342-1745-45A9-BFAB-1E53AD87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65574-6406-469D-A9AC-1033ECFE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A9BB0-4471-419C-AE9D-B8919890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568-F87B-40D5-8FD7-93A4B9EA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A6EB5-CD60-491C-BCB8-83DCF81A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103F1-2106-4A36-8D92-20E5DC09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38E70-B14E-4750-B208-88434983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367A6-8BDC-4249-A79E-40339ED8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EB7F7-F481-4214-9D07-DF31524D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AB0D8-C108-4736-9425-BA041376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A6C6F-24E1-4C3A-A621-A6D25A61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BD241-2329-4B64-8758-F69B4B3C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2EAEA-87A6-4C60-ACCF-1E6979CF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CB5C2-F923-4E07-8BFF-D322208A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300-507B-4183-9CA2-4EBB2E1E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4D241-1BCC-4060-80D6-E4E601F5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5562-790B-4807-A87E-6C76E528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F10D-1E3B-4F7E-899C-11D2E867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DD40-FAA7-4E21-860A-1C9CF500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A6DD-BFD4-426E-8ED4-0815E6F5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F51A-0749-445D-88DB-68E609CC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38B9-9B59-4DF8-BA5A-1D5478C8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2BD7-413B-4CCF-B10E-786750D7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4CF-1D90-4848-8F54-84E9E7AB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B221-8527-49CE-B321-DC7A6B20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8997-51C4-42F5-9FA3-58F4E25B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F602-7F4B-4502-8E24-460D9F07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75E8-DBAC-40E8-A238-A237F505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7E88-6A31-45B7-809F-25462E55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1CBF8-F875-4166-9A37-4B05B4FC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81C31-CD22-4260-8FA6-BC3B18E8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F060-01C2-4773-A0CB-9DC8EE04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477A-B03D-474D-A05D-72ADAD5F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E764-1FB1-42C8-A162-E1E9AC63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DDD-3A70-4BD4-98D7-335DD28E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90D5A-97FF-4F82-A255-50286BDD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79B45-0DED-45C3-8F48-566D5983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38732-F2AF-4156-ABFF-4460D4CF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25AC-FD65-4E61-A757-4A0042AB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3C45-B2F2-4B70-BF4A-85006133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DA228-AFD8-4448-A4DE-5A1E88C7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13C49-5AB2-4836-A2EB-AA44158E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0FF9D-D9E6-4AC6-BBC2-5A941EC1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230FB-ABFA-4C97-9D5E-3CCFC3CE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BF7DC-8535-4B74-A9E7-25951F65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AD4-63FA-4B09-8E97-B91E5F53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15C6A-FC7A-443C-8BEC-1C348661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11467-5023-4859-BCE6-F51EA621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29269-117D-460E-900F-4A55B578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C5F84-6E9B-4854-BD7F-5CDC8087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6EAFF-2EF4-4BFE-AF4F-A5D043B5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7557-38BB-49C5-8F55-24FE5A02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8C6EB-71E1-45E7-B42A-8CC2062A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62ACC-AAD5-42A9-BC33-CA5D435F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74C30-3674-4AA4-AB80-48F31EF7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DBF0C-282B-4F20-95AC-CB6D99A2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BF3-2A3C-4EED-BA92-36FB9710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A9A50-AA9B-4B5E-B7FE-00FA14B6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9B471-C36A-4988-9E9E-889029C0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861A3-1BED-485B-821E-70B1B991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CA5E9-2BDD-46D9-8243-54308A39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67D2D-127C-4E41-A070-8158476D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F6DD2-219F-45AB-A290-5DEEAD5A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9A125-D5BC-4EBB-BBE5-2FDFE31D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343B2-1591-4DD2-AB6A-DE4918E6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2FC38-A767-48DB-BF66-661847A2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C616E-58EF-4B8E-B65F-CF15C1FB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746-F51C-4F61-9BF9-9138AE41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20CB0-5756-4C20-B2B8-78FAF177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B8DBE-11BB-45D0-B4FC-68EC5E91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2868A-F560-406C-B7E8-1B3481A2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E5A9E-962A-47D8-85E7-BBEAFCCD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8761A-B6B8-47E9-82EF-5721709D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98F3F-8EC1-4A43-BC4C-B1F65B39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E64F8-3EDF-4715-8D98-930B772F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A84AB-7E58-4D20-A09B-1E1A3A33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837C1-C654-449E-BC93-16DF17DA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3951F-3FA0-49A2-9D46-2468E318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39D-C541-4C16-9DDB-7A149821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4E8C5-C59D-4541-AB30-D1460196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67CB1-C8FA-45A2-8E93-BD29FCFF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7FBF4-3914-455C-9C04-3973779D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6741E-9C3C-47D7-8F6F-052FE436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382D5-7543-4D56-8B4F-17C704D7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4DC10-731F-4ABE-A2B1-1180D9EA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0D51D-1A46-4D6D-A02D-165EE0FD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27589-2FCE-4A6E-8604-80C141F7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DA403-4DDD-4AD1-BFD7-1841D436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43034-FCD5-4CAF-95EC-3D238A36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BC3-0E35-4B5C-AB87-A5B2CEA0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9A705-DF91-4D50-9A1F-D3B4A1EF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EE649-3BA9-4866-B8DF-7DB49A93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0D279-19DE-4459-9D5A-38C7E253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C5F1E-BAB6-4D37-8016-E2F7D9C3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B99D9-16DF-4DA5-9082-79D844AB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D03C0-14B2-4668-8FE4-CC06E903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FAB17-5E6B-4F3F-8A0E-EBA72408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2FFC5-0563-47D5-8E73-51A7D2E4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389FD-ED31-4115-942E-6B603F33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54A1C-9BBC-40AC-8DFD-35C2F83D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78D-7880-497A-864B-7E6A1BED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B0F6F-473F-4921-9CA2-5E8B81B6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A4044-94A2-44E9-A153-109A176F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9A4E5-F345-4CB0-8C49-786130B7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50977-3A9D-40D2-9815-215E2791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E9264-340C-4C7B-8FFE-AA48819A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A9649-116B-4A40-BD36-9C9F1CE9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79100-0EF3-409E-A042-FEB1E422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9D0C5-5D9E-4E1E-A5E2-0AD9A1CA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DBDB0-D1D7-4242-84B5-01EB4298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6E3D5-0D6B-493D-9A22-ABEDB997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1367-50E4-4965-8E5F-459E22D378C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0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0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4AC8-D5A6-4801-8D0F-B59C421F55E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FB0C-D374-4AB2-AFF5-4814234E37B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AADE-9622-46CE-8817-72B9874D43A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79E5-532C-48F5-991B-272EDAFAE88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B71E-FF19-4148-A875-9C9531B3FE0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B953-AFFE-4546-AAE5-053A7C2B802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2A3D-040C-40EC-99FC-B0D0918C6DB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860A-D647-427D-B8AE-96A796B91D3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56DA-93E1-4D91-AFAA-E340DB36495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1071720" y="150012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aramond"/>
              </a:rPr>
              <a:t>Делинквентное поведение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сихологические факторы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ые включаются наличие у ребенка психопатологии или акцентуации (чрезмерное усиление) отдельных черт характера. Эти отклонения выражаются в нервно-психических заболеваниях, психопатии, неврастении, пограничных состояниях, повышающих возбудимость нервной системы и обусловливающих неадекватные реакции подрост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152280" y="457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аждый период развития ребенка, формируются некоторые психическ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ч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черты личности и характера. У подростка наблюдается два процесса развития психики: либо отчуждение от той социальной среды, где он живет, либо приобщение. Если в семье ребенок чувствует недостаток родительской ласки, любви, внимания, то защитным механизмом в этом случае будет выступать отчужден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Характерологические подростковые реакции, такие как отказ, протест, группирование, являются, как правило, следствием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о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зависимых, дисгармоничных семейных отношений. В случае несформированности системы нравственных ценностей подростка сфера его интересов начинает принимать преимущественно корыстную, насильственную, паразитическую или потребительскую направленность. Для таких подростков характерен инфантилизм, примитивность в суждениях, преобладание развлекательных интерес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Эгоцентрическая позиция подростка с демонстрацией пренебрежительного отношения к существующим нормам и правам другого человека приводит к «отрицательному лидерству», навязыванию физически более слабым сверстникам системы их «порабощения»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-360" y="503280"/>
            <a:ext cx="8675640" cy="4602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циально-педагогические факторы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ебная дезадаптация школьника проходит в своем развитии следующие стади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ебной декомпенсации — состояния ребенка, характеризующееся возникновением затруднений в изучении одного или нескольких предметов при сохранении общего интереса к школе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школьной дезадаптации — состояния ребенка, когда наряду с возрастающими трудностями в обучении на первый план выступают нарушения поведения, выраженные в виде конфликтов с педагогами, одноклассниками, пропусков занят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циальной дезадаптации — состояния ребенка, когда отмечается полная утрата интереса к учебе, пребыванию в школьном коллективе, уход в асоциальные компании, увлечение спиртными напитками, наркотиками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4. Социально-экономические факторы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Жестокому обращению дети подвергаются в семье, на улице, в школе, детских домах, больницах и других детских учреждениях. Дети, которые подверглись таким действиям, лишены чувства безопасности, необходимого для их нормального развития. Тип реагирования детей и подростков на жестокое обращение зависит от возраста ребенка, черт его личности, социального опыта. Наряду с психическими реакциями (страх, нарушение сна, аппетита и пр.), наблюдаются различные формы нарушения поведения: повышение агрессивности, выраженная драчливость, жестокость или неуверенность в себе, робость, нарушение общения со сверстниками, снижение самооценки. что большинство детей, переживших в детстве жестокое обращение (насилие) взрослых, склонны воспроизводить его, выступая уже в роли насильника и мучител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едпосылки девиантного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оведе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ростковом возрасте у ребенка проявляется потребность в познании самого себя. Ответ на вопрос «Кто я?» часто мучает подростка. Он проявляет интерес к самому себе, у него формируются собственные взгляды и суждения; появляются собственные оценки на те или иные события и факты; он пытается оценить свои возможности и поступки, сопоставляя себя со сверстниками и их действи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возрасте происходит временное психологическое отдаление подростка от семьи и школы, их значение в становлении личности подростка снижается, тогда как влияние сверстников усиливается. Зачастую он стоит перед выбором 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 официальным коллективом и неформальной группой об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533520" y="762120"/>
            <a:ext cx="80769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изменяются интересы подростка по сравнения 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ом младшего возраста. Наряду с любознательностью и стремлением к творческой деятельности, для него характерна разбросанность и неустойчивость интерес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можно выделить характерные особенности подросткового возраста: эмоциональная незрелость, недостаточно развитое умение контролировать собственное поведение, соразмерять желания и возможности в удовлетворении своих потребностей, повышенная внушаемость, желание самоутвердиться и стать взрослым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513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25686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343040" y="45684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дростка формируется чувство взрослости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рое проявляется через стремление к независим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остоятельности, протест против желания взрослых «поучить» его. Подросток в этом возрасте нередко выбирает для себя кумира (герой фильма, сильный взрослый, герой передачи, выдающийся спортсмен и др.), которому он пытается подражать: его внешнему облику, манере пове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026"/>
          <p:cNvSpPr/>
          <p:nvPr/>
        </p:nvSpPr>
        <p:spPr>
          <a:xfrm>
            <a:off x="974880" y="431640"/>
            <a:ext cx="7331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Rectangle 1028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Garamond"/>
              </a:rPr>
              <a:t>Делинквентное поведение</a:t>
            </a:r>
            <a:br>
              <a:rPr sz="4000"/>
            </a:br>
            <a:r>
              <a:rPr b="1" lang="ru-RU" sz="4000" spc="-1" strike="noStrike">
                <a:solidFill>
                  <a:srgbClr val="323232"/>
                </a:solidFill>
                <a:latin typeface="Garamond"/>
              </a:rPr>
              <a:t>ребенк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56" name="Схема 6" descr=""/>
          <p:cNvPicPr/>
          <p:nvPr/>
        </p:nvPicPr>
        <p:blipFill>
          <a:blip r:embed="rId2"/>
          <a:stretch/>
        </p:blipFill>
        <p:spPr>
          <a:xfrm>
            <a:off x="2316240" y="1865160"/>
            <a:ext cx="4413240" cy="4206960"/>
          </a:xfrm>
          <a:prstGeom prst="rect">
            <a:avLst/>
          </a:prstGeom>
          <a:ln w="0">
            <a:noFill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304920" y="304920"/>
            <a:ext cx="960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762120" y="0"/>
            <a:ext cx="7772400" cy="80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Типы девиаций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дростков, чье поведение отклоняется от принятых в обществе правил, норм поведения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ыми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или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овоспитуемыми.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овоспитуемость под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ростка, несоблюдение им норм и вправил, установленных в обществе, в науке рассматривается через явление, которое называется девиаци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ция (отклонение) является одной из сторон явления "изменчивости, которое присуще как человеку, так и окружающему его миру. Изменчивость в социальной сфере всегда связанна с деятельностью и выражается в поведении человека, которое представляет взаимодей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ствие его с окружающей средой, опосредованное внешней и внутренней активностью подростка. Как уже было сказано ранее, поведение может быть нормальное и отклоняющееся.(Баженов.В.Г. 1989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33520" y="304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914400" y="304920"/>
            <a:ext cx="716292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Нормаль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дростка полагает взаимодействие его с микросоциумом, адекватно отвечающее потребностям и возможностям его развития и социализации. Отсюда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тклоняющееся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может быть охарактеризовано как взаимодействие ребенка с микросоциумом, нарушающее его развитие и социализацию вследствие отсутствия адекватного учета средой особенностей его индивидуальности и проявляющееся в поведенческом противодействии установленным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нравственным и правовым общественным нормам.. Говоря о детскопод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ростковой дезадаптации, необходимо уточнить категории детей, которые подвержены этому процессу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ти школьного возраста, не посещающие школу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152280" y="304920"/>
            <a:ext cx="6553440" cy="79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социальные сироты; действительность мест в детских домах, дети месяцами ждут очереди для помещения их в детский дом, живя с родителями, лишенными родительских прав, не имея нормальной еды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дежды, подвергаясь физическому, психическому, сексуальному насилию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, употребляющие наркотики и токсические средств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 сексуально распущенного поведе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, совершившие противоправные действия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not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фициальным данным, их число среди детей и подростков растет в два раза быстрее, чем среди взрослы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ции включают в себя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нтное, делинквентное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риминально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едение.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9" name="Picture 3" descr="m_631"/>
          <p:cNvPicPr/>
          <p:nvPr/>
        </p:nvPicPr>
        <p:blipFill>
          <a:blip r:embed="rId1"/>
          <a:stretch/>
        </p:blipFill>
        <p:spPr>
          <a:xfrm>
            <a:off x="6781680" y="457200"/>
            <a:ext cx="2210040" cy="160020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2057400" y="990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304920" y="0"/>
            <a:ext cx="6553080" cy="90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нтное поведение </a:t>
            </a:r>
            <a:r>
              <a:rPr b="0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дин из видов отклоняющегося поведения, связанный с нарушением соответствующих возрасту социальных норм и правил поведения, характерных для микро социальных отношений (семейных, школьных) и малых половозрастных социальных групп. Типичными проявлениями девиантного поведения являются ситуационно обусловленные детские и подростковые поведенческие реакции, такие как; демонстрация, агрессия, вызов, самовольное и систематическое отклонение от учебы или трудовой деятельности; систематические уходы из дома и бродяжничество, пьянство и алкоголизм детей и подростков; ранняя наркотизация и связанные с ней асоциальные действия; антиобщественые действия сексуального характера; попытки суицид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3" name="Picture 4" descr="small_1013686199"/>
          <p:cNvPicPr/>
          <p:nvPr/>
        </p:nvPicPr>
        <p:blipFill>
          <a:blip r:embed="rId1"/>
          <a:stretch/>
        </p:blipFill>
        <p:spPr>
          <a:xfrm>
            <a:off x="6858000" y="228600"/>
            <a:ext cx="2133720" cy="1676520"/>
          </a:xfrm>
          <a:prstGeom prst="rect">
            <a:avLst/>
          </a:prstGeom>
          <a:ln w="0">
            <a:noFill/>
          </a:ln>
        </p:spPr>
      </p:pic>
      <p:sp>
        <p:nvSpPr>
          <p:cNvPr id="51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990720" y="76320"/>
            <a:ext cx="7010280" cy="77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линквентное поведение,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отличие от девиантного, характеризуется как повторяющиеся асоциальные проступки детей и подростков,, нарушающих правовые нормы, но не влекущих уголовной ответственности из-за их ограниченной общественной опасности или не достижения ребенком возраста, с которого начинается уголовная ответственность. Выделяются следующие типы делинквентного поведения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агрессивно-насильственное поведение, включая оскорбления, побои, поджоги, садистские действия, направленные в основном, против личности человека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орыстное поведение, включая мелкие кражи, вымогательство, угоны авто­транспорта и другие имущественные посягательства,— распространение и продажа наркотик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m_633"/>
          <p:cNvPicPr/>
          <p:nvPr/>
        </p:nvPicPr>
        <p:blipFill>
          <a:blip r:embed="rId1"/>
          <a:stretch/>
        </p:blipFill>
        <p:spPr>
          <a:xfrm>
            <a:off x="6172200" y="685800"/>
            <a:ext cx="2819520" cy="260208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205740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52280" y="-457200"/>
            <a:ext cx="6019920" cy="86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риминаль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пределяется как противоправный поступок, который по достижению возраста уголовной ответственности служит основанием для возбуждения уголовного дела и квалифицируется по определенным статьям уголовного кодекса. Криминальному поведению, как правило, предшествуют различные формы девиантного и делинквентного поведения. Негативные формы девиаций являются социальной патологией: пьянство и алкоголизм, токсикомания и наркомания, (проституция, суицид, правонарушения и преступность). Они дезорганизуют систему, подрывают ее основы и наносят значительный ущерб, в первую очередь, личности самого подростка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62120" y="152280"/>
            <a:ext cx="7467480" cy="76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зависимости от типа нарушаемой нормы отклоняющееся поведение классифицируется по следующим характеристикам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видам преступления (уголовные, административные) и аморальных поступков (пьянство, проституция)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уровню или масштабности отклонения, когда принято говорить об индивидуальном или массовом отклонении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внутренней структуре отклонения, когда отклонение связывают 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ностью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к той или иной социальной группе, половозрастными особенностями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ориентированности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Rectangle 14"/>
          <p:cNvSpPr/>
          <p:nvPr/>
        </p:nvSpPr>
        <p:spPr>
          <a:xfrm>
            <a:off x="380880" y="190512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крытия природы и причины социальных отклонении необходимо исходить из того, что они как и социальные нормы, есть выражение отношений людей, складывающийся в обществе. Социальная норма и социальное отклонение - два полюса на одной и той же оси социально значимого поведения индивидов, социальных групп и других социальных общносте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отклонения столь же разнообразны, сколь сами социальные нормы. Более того, разнообразие отклонений превышает разнообразие норм, ибо норма типична, а отклонения могут быть весьма индивидуализированы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533520" y="1066680"/>
          <a:ext cx="8381880" cy="4738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адаев Алексей Вениамино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СИХОЛОГ -ПЕДАГО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ОУ СОШ №1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Rectangle 37"/>
          <p:cNvSpPr/>
          <p:nvPr/>
        </p:nvSpPr>
        <p:spPr>
          <a:xfrm>
            <a:off x="457200" y="15228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23232"/>
                </a:solidFill>
                <a:latin typeface="Garamond"/>
              </a:rPr>
              <a:t>Автор проект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8" name="Text Box 38"/>
          <p:cNvSpPr/>
          <p:nvPr/>
        </p:nvSpPr>
        <p:spPr>
          <a:xfrm>
            <a:off x="685800" y="6172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8d3e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ff8d3e"/>
                </a:solidFill>
                <a:latin typeface="Times New Roman"/>
              </a:rPr>
              <a:t>Делинквентность  её особенн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едение, сопряженное с риском, иногда принимает  формы противозаконных действий. Правонарушения по своей значимости варьируют о магазинных краж и вандализма до  разбойных нападений, изнасилований и убийств. Лиц моложе 16 или 18 лет, совершающих преступные действия, называют делинквентами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457200" y="3808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некоторые моменты своей жизни большинство детей  вовлекаются  в отдельные формы  делинквентного поведения. Очень распространены кражи, а так же умеренные акты вандализма – разрушение или осквернение  собственност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удности возра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но или поздно большинство подростков втягиваются в деструктивное поведение, связанное с рис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22856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енетические, социологические и психологические факторы обуславливающие делинквен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250560" y="33300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собенность подросткового возраста в том и состоит, что внешне и по своим притязаниям это взрослый, а по внутренним особенностям и возможностям это во многом еще ребенок. Отсюда сохраняющаяся у подростка потребность в ласке, внимании, интерес к играм, забавам, возне друг с другом. Наряду с этим, вместе с чувством взрослости у подростка пробуждается и активно формируется самосознание, обостренное чувство собственного достоинства, осознание половой принадлежности. Подростку свойственна повышенная критичность. Если, будучи ребенком, он на многие события в окружающем мире не обращал внимания или был снисходителен в своих оценках, то став подростком, он начинает переоценивать давно знакомое и привычное, вынося собственные суждения, нередко очень прямолинейные, категоричные и бескомпромиссны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0" y="214200"/>
            <a:ext cx="6153120" cy="614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ростковы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возраст, по словам Л.С.Выготского, представляет собой совокупность условий, в высшей степени предрасполагающих к воздействию различных психотравмирующих факторов. Самыми сильнодействующими из них являются недостойное поведение родителей, конфликтные взаимоотношения между ними, наличие у них недостатков, унизительных с точки зре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р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к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кружающих, оскорбительное отношение к подростку, проявления недоверия или неуважения к нему. Все это не просто осложняет учебно-воспитательную работу с ними, но и делает ее порой практически невозможной. У подростка на этой почве могут возникнуть различные отклонения в поведени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0" name="Picture 1028" descr="33"/>
          <p:cNvPicPr/>
          <p:nvPr/>
        </p:nvPicPr>
        <p:blipFill>
          <a:blip r:embed="rId1"/>
          <a:stretch/>
        </p:blipFill>
        <p:spPr>
          <a:xfrm>
            <a:off x="6172200" y="457200"/>
            <a:ext cx="2703600" cy="3733920"/>
          </a:xfrm>
          <a:prstGeom prst="rect">
            <a:avLst/>
          </a:prstGeom>
          <a:ln w="0">
            <a:noFill/>
          </a:ln>
        </p:spPr>
      </p:pic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049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514600" cy="2595600"/>
          </a:xfrm>
          <a:prstGeom prst="rect">
            <a:avLst/>
          </a:prstGeom>
          <a:ln w="0">
            <a:noFill/>
          </a:ln>
        </p:spPr>
      </p:pic>
      <p:pic>
        <p:nvPicPr>
          <p:cNvPr id="473" name="Схема 4" descr=""/>
          <p:cNvPicPr/>
          <p:nvPr/>
        </p:nvPicPr>
        <p:blipFill>
          <a:blip r:embed="rId3"/>
          <a:stretch/>
        </p:blipFill>
        <p:spPr>
          <a:xfrm>
            <a:off x="1335240" y="907920"/>
            <a:ext cx="6132240" cy="5748480"/>
          </a:xfrm>
          <a:prstGeom prst="rect">
            <a:avLst/>
          </a:prstGeom>
          <a:ln w="0">
            <a:noFill/>
          </a:ln>
        </p:spPr>
      </p:pic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евиантное поведение подрост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клоняющееся поведение имеет сложную природу, обусловленную самыми разнообразными факторами, находящимися в сложном взаимодействии и взаимовлиянии.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овеческое развитие обусловлено взаимодействием многих факторов: наследственности, среды, воспитания, собственной практической деятельности человека. Можно выделить основные фак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ры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, обусловливающие девиантное повед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совершеннолетних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1.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Биологические факторы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ражаются в существовании! неблагоприятных физиологических или анатомических особенностей организма ребенка, затрудняющих его социальную адаптацию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нетические, которые передаются по наследству. Это могут быть нарушения умственного развития, дефекты слуха и зрения, телесные пороки, повреждения нервной системы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психофизиологические, связанные с влиянием на организм человека психо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ологических нагрузок, конфликтных ситуаций, химического состава окружающей среды, новых видов энергии, приводящих к различным соматическим, аллергическим, токсическим заболевания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физиологические, включающие в себя дефекты речи, внешнюю непривлекательность, недостатки конституционно-соматического склада человека, которые в большинстве случаев вызывают негативное отношение со стороны окружающих, что приводит к искажению системы межличностных отношений ребенка в среде сверстников, коллектив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3:05:01Z</dcterms:created>
  <dc:creator>InTech</dc:creator>
  <dc:description/>
  <dc:language>en-US</dc:language>
  <cp:lastModifiedBy>LEGION</cp:lastModifiedBy>
  <dcterms:modified xsi:type="dcterms:W3CDTF">2015-01-27T12:00:15Z</dcterms:modified>
  <cp:revision>107</cp:revision>
  <dc:subject/>
  <dc:title>Слайд 1</dc:title>
</cp:coreProperties>
</file>