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11.jpeg" ContentType="image/jpeg"/>
  <Override PartName="/ppt/media/image10.jpeg" ContentType="image/jpeg"/>
  <Override PartName="/ppt/media/image1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F8DD-83BE-4983-BC2F-75E7B02E0A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инквентное по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4175-B2D0-4AC1-B40D-D8A378FAC9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сихологические факторы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оторые включаются наличие у ребенка психопатологии или акцентуации (чрезмерное усиление) отдельных черт характера. Эти отклонения выражаются в нервно-психических заболеваниях, психопатии, неврастении, пограничных состояниях, повышающих возбудимость нервной системы и обусловливающих неадекватные реакции подрост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BF92-A8F6-4380-A393-8460E5692A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аждый период развития ребенка, формируются некоторые психическ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черты личности и характера. У подростка наблюдается два процесса развития психики: либо отчуждение от той социальной среды, где он живет, либо приобщение. Если в семье ребенок чувствует недостаток родительской ласки, любви, внимания, то защитным механизмом в этом случае будет выступать отчужд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6F2B-FF30-4639-98C5-65273630A0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ологические подростковые реакции, такие как отказ, протест, группирование, являются, как правило, следствием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н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зависимых, дисгармоничных семейных отношений. В случае несформированности системы нравственных ценностей подростка сфера его интересов начинает принимать преимущественно корыстную, насильственную, паразитическую или потребительскую направленность. Для таких подростков характерен инфантилизм, примитивность в суждениях, преобладание развлекательных интере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Эгоцентрическая позиция подростка с демонстрацией пренебрежительного отношения к существующим нормам и правам другого человека приводит к «отрицательному лидерству», навязыванию физически более слабым сверстникам системы их «порабощения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23B9-3418-45D6-8B66-3472F70655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ьно-педагогические фактор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ыражаются в дефектах школьного, семейного или общественного воспитания, в основе которых лежат половозрастные и индивидуальные Такие дети, как правило, изначально бывают плохо подготовлены к школе, негативно относятся к домашним заданиям, выражают безразличие к школьным оценкам, что говорит о их учебной дезадап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2D57-9FE5-4AC7-86F3-0FB99A41CB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ьно-педагогические фактор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ыражаются в дефектах школьного, семейного или общественного воспитания, в основе которых лежат половозрастные и индивидуальные Такие дети, как правило, изначально бывают плохо подготовлены к школе, негативно относятся к домашним заданиям, выражают безразличие к школьным оценкам, что говорит о их учебной дезадап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DD89-F072-401F-A1D8-4713E4D256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 Социально-экономические факторы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ают социальное неравенство; расслоение общества на богатых и бедных; обнищание значительной массы населения, ограничение социально приемлемых способов получения достойного заработка; безработицу; инфляцию и, как следствие, социальную напряж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E213-09BE-48B0-B805-B77638DC74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 Социально-экономические факторы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ают социальное неравенство; расслоение общества на богатых и бедных; обнищание значительной массы населения, ограничение социально приемлемых способов получения достойного заработка; безработицу; инфляцию и, как следствие, социальную напряж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A328-C174-44D0-A71E-9F73216B15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D067-EFC3-412D-A247-7478A4FD26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ebef"/>
                </a:solidFill>
                <a:latin typeface="Arial"/>
              </a:rPr>
              <a:t>Предпосылки девиантного</a:t>
            </a:r>
            <a:br>
              <a:rPr sz="1200"/>
            </a:br>
            <a:r>
              <a:rPr b="0" lang="ru-RU" sz="1200" spc="-1" strike="noStrike">
                <a:solidFill>
                  <a:srgbClr val="bcebef"/>
                </a:solidFill>
                <a:latin typeface="Arial"/>
              </a:rPr>
              <a:t>по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дростковом возрасте у ребенка проявляется потребность в познании самого себя. Ответ на вопрос «Кто я?» часто мучает подростка. Он проявляет интерес к самому себе, у него формируются собственные взгляды и суждения; появляются собственные оценки на те или иные события и факты; он пытается оценить свои возможности и поступки, сопоставляя себя со сверстниками и их действ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возрасте происходит временное психологическое отдаление подростка от семьи и школы, их значение в становлении личности подростка снижается, тогда как влияние сверстников усиливается. Зачастую он стоит перед выбором м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 официальным коллективом и неформальной группой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ельно изменяются интересы подростка по сравнения 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ом младшего возраста. Наряду с любознательностью и стремлением к творческой деятельности, для него характерна разбросанность и неустойчивость интере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можно выделить характерные особенности подросткового возраста: эмоциональная незрелость, недостаточно развитое умение контролировать собственное поведение, соразмерять желания и возможности в удовлетворении своих потребностей, повышенная внушаемость, желание самоутвердиться и стать взрослы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2D6C-26C3-40A9-8D2D-8E735C69DC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дростка формируется чувство взрослости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рое проявляется через стремление к независим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остоятельности, протест против желания взрослых «поучить» его. Подросток в этом возрасте нередко выбирает для себя кумира (герой фильма, сильный взрослый, герой передачи, выдающийся спортсмен и др.), которому он пытается подражать: его внешнему облику, манере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191D-B287-48C8-84AB-F6D85461F4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линквентное повед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б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39EF-FEA7-4FB8-8EE2-7D1944FB41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ипы деви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ростков, чье поведение отклоняется от принятых в обществе правил, норм поведения,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ны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новоспитуемым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новоспитуемость п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остка, несоблюдение им норм и вправил, установленных в обществе, в науке рассматривается через явление, которое называется деви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виация (отклонение) является одной из сторон явления "изменчивости, которое присуще как человеку, так и окружающему его миру. Изменчивость в социальной сфере всегда связанна с деятельностью и выражается в поведении человека, которое представляет взаимод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твие его с окружающей средой, опосредованное внешней и внутренней активностью подростка. Как уже было сказано ранее, поведение может быть нормальное и отклоняющееся.(Баженов.В.Г. 198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E5E4-CB98-47C8-B53C-20F60A200F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ормальное повед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ростка полагает взаимодействие его с микросоциумом, адекватно отвечающее потребностям и возможностям его развития и социализации. Отсюда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лоняющееся повед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ет быть охарактеризовано как взаимодействие ребенка с микросоциумом, нарушающее его развитие и социализацию вследствие отсутствия адекватного учета средой особенностей его индивидуальности и проявляющееся в поведенческом противодействии установленны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равственным и правовым общественным нормам.. Говоря о детскоп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остковой дезадаптации, необходимо уточнить категории детей, которые подвержены этому процесс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ти школьного возраста, не посещающие шко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A249-77FB-4AFE-ACC1-2DE028213F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ьные сироты; действительность мест в детских домах, дети месяцами ждут очереди для помещения их в детский дом, живя с родителями, лишенными родительских прав, не имея нормальной е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одежды, подвергаясь физическому, психическому, сексуальному насилию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подростки, употребляющие наркотики и токсические средств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подростки сексуально распущенного поведения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подростки, совершившие противоправные действия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официальным данным, их число среди детей и подростков растет в два раза быстрее, чем среди взрослы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виации включают в себ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виантное, делинквентно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минально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едени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182E-8F71-4BC2-93A1-5F76C60291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виантное поведени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дин из видов отклоняющегося поведения, связанный с нарушением соответствующих возрасту социальных норм и правил поведения, характерных для микро социальных отношений (семейных, школьных) и малых половозрастных социальных групп. Типичными проявлениями девиантного поведения являются ситуационно обусловленные детские и подростковые поведенческие реакции, такие как; демонстрация, агрессия, вызов, самовольное и систематическое отклонение от учебы или трудовой деятельности; систематические уходы из дома и бродяжничество, пьянство и алкоголизм детей и подростков; ранняя наркотизация и связанные с ней асоциальные действия; антиобщественые действия сексуального характера; попытки суиц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A438-D525-4E0E-B670-35FCF9D063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линквентное поведение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отличие от девиантного, характеризуется как повторяющиеся асоциальные проступки детей и подростков,, нарушающих правовые нормы, но не влекущих уголовной ответственности из-за их ограниченной общественной опасности или не достижения ребенком возраста, с которого начинается уголовная ответственность. Выделяются следующие типы делинквентного повед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агрессивно-насильственное поведение, включая оскорбления, побои, поджоги, садистские действия, направленные в основном, против личности чело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ыстное поведение, включая мелкие кражи, вымогательство, угоны авто­транспорта и другие имущественные посягательства,— распространение и продажа наркот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B6C8-F8E7-41B2-BBA0-44EC5D813E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минальное повед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яется как противоправный поступок, который по достижению возраста уголовной ответственности служит основанием для возбуждения уголовного дела и квалифицируется по определенным статьям уголовного кодекса. Криминальному поведению, как правило, предшествуют различные формы девиантного и делинквентного поведения. Негативные формы девиаций являются социальной патологией: пьянство и алкоголизм, токсикомания и наркомания, (проституция, суицид, правонарушения и преступность). Они дезорганизуют систему, подрывают ее основы и наносят значительный ущерб, в первую очередь, личности самого подрост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2CD9-B5E3-40DA-A39C-66C2696C12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зависимости от типа нарушаемой нормы отклоняющееся поведение классифицируется по следующим характеристик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видам преступления (уголовные, административные) и аморальных поступков (пьянство, проституц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уровню или масштабности отклонения, когда принято говорить об индивидуальном или массовом отклон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внутренней структуре отклонения, когда отклонение связывают с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ность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к той или иной социальной группе, половозрастными особенност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ориентированности отклонения на внешнюю среду (семейные ссоры, насильственные преступления и др.) или на самого себя (суицид, алкоголизм и д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3531-C161-4932-A23E-9B2801C87E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0CDE-ED54-415D-A683-C57E10DB35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ebef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скрытия природы и причины социальных отклонении необходимо исходить из того, что они как и социальные нормы, есть выражение отношений людей, складывающийся в обществе. Социальная норма и социальное отклонение - два полюса на одной и той же оси социально значимого поведения индивидов, социальных групп и других социальных общносте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отклонения столь же разнообразны, сколь сами социальные нормы. Более того, разнообразие отклонений превышает разнообразие норм, ибо норма типична, а отклонения могут быть весьма индивидуализиров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4091-A16E-4F88-ACF9-F1360CFF4D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0E39-2D4C-4AC3-BAA8-4609B2621E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ebe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bcebef"/>
                </a:solidFill>
                <a:latin typeface="Times New Roman"/>
              </a:rPr>
              <a:t>Делинквентность  её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едение, сопряженное с риском, иногда принимает  формы противозаконных действий. Правонарушения по своей значимости варьируют о магазинных краж и вандализма до  разбойных нападений, изнасилований и убийств. Лиц моложе 16 или 18 лет, совершающих преступные действия, называют делинквентам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сти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но или поздно большинство подростков втягиваются в деструктивное поведение, связанное с риско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тические, социологические и психологические факторы обуславливающие делинквен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0AC6-8DBC-431E-B493-BEFE03BD01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енность подросткового возраста в том и состоит, что внешне и по своим притязаниям это взрослый, а по внутренним особенностям и возможностям это во многом еще ребенок. Отсюда сохраняющаяся у подростка потребность в ласке, внимании, интерес к играм, забавам, возне друг с другом. Наряду с этим, вместе с чувством взрослости у подростка пробуждается и активно формируется самосознание, обостренное чувство собственного достоинства, осознание половой принадлежности. Подростку свойственна повышенная критичность. Если, будучи ребенком, он на многие события в окружающем мире не обращал внимания или был снисходителен в своих оценках, то став подростком, он начинает переоценивать давно знакомое и привычное, вынося собственные суждения, нередко очень прямолинейные, категоричные и бескомпромисс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6961-7EBE-4F08-B6CF-48076B5E6E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ebe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ростковы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возраст, по словам Л.С.Выготского, представляет собой совокупность условий, в высшей степени предрасполагающих к воздействию различных психотравмирующих факторов. Самыми сильнодействующими из них являются недостойное поведение родителей, конфликтные взаимоотношения между ними, наличие у них недостатков, унизительных с точки зрен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р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окружающих, оскорбительное отношение к подростку, проявления недоверия или неуважения к нему. Все это не просто осложняет учебно-воспитательную работу с ними, но и делает ее порой практически невозможной. У подростка на этой почве могут возникнуть различные отклонения в повед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AB42-B63E-437E-AEC1-2D1EE63D28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8077-D2FC-47E1-BEB6-9E631BE4F2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DA8C-73A3-4988-8A40-B8B6D46EDF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cebe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bcebef"/>
                </a:solidFill>
                <a:latin typeface="Arial"/>
              </a:rPr>
              <a:t>девиантное поведение подрос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лоняющееся поведение имеет сложную природу, обусловленную самыми разнообразными факторами, находящимися в сложном взаимодействии и взаимовлиянии.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ловеческое развитие обусловлено взаимодействием многих факторов: наследственности, среды, воспитания, собственной практической деятельности человека. Можно выделить основные фак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обусловливающие девиант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есовершеннолет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иологические фактор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ыражаются в существовании! неблагоприятных физиологических или анатомических особенностей организма ребенка, затрудняющих его социальную адапта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енетические, которые передаются по наследству. Это могут быть нарушения умственного развития, дефекты слуха и зрения, телесные пороки, повреждения нервн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сихофизиологические, связанные с влиянием на организм человека психоф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ологических нагрузок, конфликтных ситуаций, химического состава окружающей среды, новых видов энергии, приводящих к различным соматическим, аллергическим, токсическим заболева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физиологические, включающие в себя дефекты речи, внешнюю непривлекательность, недостатки конституционно-соматического склада человека, которые в большинстве случаев вызывают негативное отношение со стороны окружающих, что приводит к искажению системы межличностных отношений ребенка в среде сверстников, коллекти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6F5A-0169-45C2-8089-7A4AA24792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24DD-5E56-4094-9A0C-E0F306E7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8050-C786-4A76-86F0-9CC5A38E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EA14D-CEFF-410D-BC71-6065C954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78181-BBDF-4787-BDC6-CCA0E04C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01F89-0464-45B6-97A3-8C5EF012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C279B-48EB-4516-A6FE-9D8FF03E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B7DA2-C766-420F-A194-BE94F8F3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3187A-41B1-48B3-9405-451FBC86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A00B0-7166-4205-8105-E04B551D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A8AA7-DDBB-4BC9-935D-5906E725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1571A-936E-4F06-8014-4802A270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9A842-7CE9-41CA-BD57-B83EF332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D0E4-54A9-4FD6-B2B9-17629AD4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3446B-854A-4210-965E-D3A0A93B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552B5-598A-47E4-8DC2-7180BE72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DA491-CFD0-40B8-87A1-4802331A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46C03-EC55-4471-9C65-4127C3A4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7B345-999C-4099-936A-0B5E5606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BD9B0-A032-4195-9B45-9ED6B94A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0003B-D3A8-42BA-8372-71B11922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EFFCA-BD57-4978-99A2-2338975F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B9DEF-C687-4F69-B432-F8E3C555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549DF-1768-49F8-8D56-3D666618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D5C5-E33C-439F-8643-F875E726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27A80-0C66-4400-BEE2-DAA0A5D3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F2BA-EBE8-4BB5-8C53-CC6FBF75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7AD9-653B-4718-A98B-0AFC89D8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72C7-F85E-46F8-B478-43F6CF5B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EF75-87C6-4FBE-9675-CF087AF0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93D1-B4F2-470B-A1B9-BBAFBBC0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4F34-4F5E-4B8E-8113-1DE11E54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D0E9-CD2A-4779-9C14-21E545FE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0A9B-F0BC-43A6-9C1B-C987E5A4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3E2D-7CC2-48F2-808C-7E86516D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CF47-5755-4215-9113-C802BDEE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FC0B-441D-427D-B92A-9258E812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DE29-58C4-4A67-9F40-77796C56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C11F-0475-4EBA-A878-58CC6326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8E08F-C7E1-455D-9E74-45E6C1DB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6912F-623F-48FA-A5D6-8FBAA495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606A2-874E-4A65-9A1B-74BD498D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C0A1D-B713-4B2D-96DC-AB114CF2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BB8CF-D1CE-4C8D-A07D-E7D336D4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BDEE-7C03-4948-8B97-2E832C1F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14A4F-3CC6-4E07-AF9F-07AB752A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4A18D-3124-46EA-B213-1C24BD3E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A77B9-C2E2-4B9C-AF5F-532EED2C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8A604-0CCB-43C1-B1C9-A19BC7A6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D638D-95BA-43A8-9FF2-6DD6E0BE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12D81-E4ED-4F28-800A-C58058CB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DCFC0-7213-427C-8FBD-EB21D847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789AF-A916-43C3-BFB7-DC14661B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A0537-FE07-45D1-B921-10E5750B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2A32D-0DCF-4155-81B5-2E713431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BF0D-1D7A-4D0C-AF74-B0044645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6C25E-2382-4DC2-B1E6-3DD1D8BF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A3042-6042-4647-9A47-E5D95083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AC7CB-F084-4958-AC01-180A8A51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A5DC8-58F6-4619-A302-09550B3E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8C4F7-1B59-40C2-9BF7-1FB6B611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46AE6-F049-4E26-B26B-85835B45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42613-08F1-40F1-8813-098F06FA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90326-F9D5-48E7-A3E8-4E6FCD38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E4242-02B9-4FB9-9875-14746014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40A5F-02D6-425A-A3F8-A58A03CA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60D2-F1FA-47A2-B9F4-8FA65968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D2099-1E1C-4969-8D39-A3A4F0A2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74D8A-BAE5-4A88-919D-D6D66E7C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86C40-ED43-4E23-8DAF-E36D60D8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B6816-C4FF-461D-8FEA-BFADE3BC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096CC-22D8-4BAE-B8CC-83CD8B94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2AA6C-6B6A-4F97-A17F-DCCF62A3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FC4AD-4813-4FEB-85DC-353B9F82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77062-0BB4-499A-82CD-F9E3D6EF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99E00-A2B8-4DA5-BCE6-E71F7F99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01B25-1454-4563-933C-A11728C7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0F80-0B64-4FDC-8EAD-1ACDF015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AB26B-56E7-49F3-AD8A-938F56DE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DC6D0-D0BC-4DEC-8657-FE21B74C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290F5-F12C-4362-A084-0A2A5D6A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78BEC-5A75-495D-88BB-44A00DA3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F102F-50A1-4DB0-BA3D-252E334A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76F51-799C-4F6B-9A32-CFB2ECD0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C69C5-FE67-4C71-9F3F-5AB31339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97242-C934-41C0-8D1C-A5646354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98240-A0CB-45B2-98AC-BE39DB04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0BF80-BCB5-46EB-B696-D2A7D7D6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F95D-AA0B-4B76-BF17-D8ABB67E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3103E-CE52-4A72-914E-98A40260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CD2FD-599B-4A9B-95DB-F9C9D3B1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FA0E2-0CF7-44F2-9230-3A840F68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2DC71-BE00-4C2B-895A-3B072DC5B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B243E-85C8-4AD9-A603-B029EE2A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92C2B-F763-4575-9D50-F6F9AF57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1D911-E4D4-460D-ACDF-B9A6EED7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832C1-D156-4A29-B6E5-9C6C3CD9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A8F1D-579A-46D2-8C4F-B0EA1167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B206E-ACA7-4F7C-AB97-016DE13E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3920-7185-4019-9BA1-F90C6991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EECC4-ACB5-4AB9-8668-9F51340B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7823F-386F-4D38-9EAC-F5DEF657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A715A-660C-4499-9819-B59EB04B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49B32-AE71-4900-892E-66BB150A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A7AF9-414D-4FC4-A88B-3492EA48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00E7E-C2BA-4CD2-93F1-9F8EE4EA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F375D-2978-4EA8-83F0-9C37A3E6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669ED-7528-454B-92D5-A408B2C7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519DC-A6B1-42B2-9824-E299CB48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8E6D4-7D3C-4736-8F5C-D7D5E3A9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C5D9-2538-4D7F-BFE7-4C0E4892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C311A-A317-4602-B81A-C4011088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BB465-E1C2-490C-8AA3-2B61570E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D1EA2-A8BC-46B9-A5EC-1CD1C744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1EAAC-7A23-4308-B5F8-0325C262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26010-FD94-4010-82AF-95B5144D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3F01E-E547-4A5A-8CA7-58C9279E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BB7AB-A822-4490-A7E2-CF4E708E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F81C9-87EE-4F49-81E3-0D8831EF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20ED1-874B-4159-ABF2-A93BFB9D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AB8BA-0E02-49E0-94F3-E8757402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B94A-25CE-4913-B01F-56F1BE658C3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0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0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93E4-5864-4C13-BCCA-83C1260FB7E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2060-43F8-4CD3-A572-860933D7C73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D738-E021-4C65-9B87-7EA43C187E9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6342-169D-44F7-BF68-79F425073ED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B558-41F5-4013-89C1-32074466D67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42CE-654E-4A4A-99E1-3891F699874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35EF-9406-4C2B-A82F-5CCF396C96F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1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1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1A7F-54A6-46E9-A6B4-FDF0D5A890D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5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5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15FA-20A1-45BB-99DF-1E519FFB14F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2"/>
          <p:cNvSpPr/>
          <p:nvPr/>
        </p:nvSpPr>
        <p:spPr>
          <a:xfrm>
            <a:off x="1071720" y="1500120"/>
            <a:ext cx="70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aramond"/>
              </a:rPr>
              <a:t>Делинквентное поведение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2.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Психологические факторы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которые включаются наличие у ребенка психопатологии или акцентуации (чрезмерное усиление) отдельных черт характера. Эти отклонения выражаются в нервно-психических заболеваниях, психопатии, неврастении, пограничных состояниях, повышающих возбудимость нервной системы и обусловливающих неадекватные реакции подростка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152280" y="4572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каждый период развития ребенка, формируются некоторые психическ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ч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, черты личности и характера. У подростка наблюдается два процесса развития психики: либо отчуждение от той социальной среды, где он живет, либо приобщение. Если в семье ребенок чувствует недостаток родительской ласки, любви, внимания, то защитным механизмом в этом случае будет выступать отчуждени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Характерологические подростковые реакции, такие как отказ, протест, группирование, являются, как правило, следствием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но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зависимых, дисгармоничных семейных отношений. В случае несформированности системы нравственных ценностей подростка сфера его интересов начинает принимать преимущественно корыстную, насильственную, паразитическую или потребительскую направленность. Для таких подростков характерен инфантилизм, примитивность в суждениях, преобладание развлекательных интерес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Эгоцентрическая позиция подростка с демонстрацией пренебрежительного отношения к существующим нормам и правам другого человека приводит к «отрицательному лидерству», навязыванию физически более слабым сверстникам системы их «порабощения»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-360" y="503280"/>
            <a:ext cx="8675640" cy="4602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3.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циально-педагогические факторы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выражаются в дефектах школьного, семейного или общественного воспитания, в основе которых лежат половозрастные и индивидуальные Такие дети, как правило, изначально бывают плохо подготовлены к школе, негативно относятся к домашним заданиям, выражают безразличие к школьным оценкам, что говорит о их учебной дезадаптаци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Учебная дезадаптация школьника проходит в своем развитии следующие стади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учебной декомпенсации — состояния ребенка, характеризующееся возникновением затруднений в изучении одного или нескольких предметов при сохранении общего интереса к школе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школьной дезадаптации — состояния ребенка, когда наряду с возрастающими трудностями в обучении на первый план выступают нарушения поведения, выраженные в виде конфликтов с педагогами, одноклассниками, пропусков занят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циальной дезадаптации — состояния ребенка, когда отмечается полная утрата интереса к учебе, пребыванию в школьном коллективе, уход в асоциальные компании, увлечение спиртными напитками, наркотиками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6553080" cy="3200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4. Социально-экономические факторы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включают социальное неравенство; расслоение общества на богатых и бедных; обнищание значительной массы населения, ограничение социально приемлемых способов получения достойного заработка; безработицу; инфляцию и, как следствие, социальную напряженность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Жестокому обращению дети подвергаются в семье, на улице, в школе, детских домах, больницах и других детских учреждениях. Дети, которые подверглись таким действиям, лишены чувства безопасности, необходимого для их нормального развития. Тип реагирования детей и подростков на жестокое обращение зависит от возраста ребенка, черт его личности, социального опыта. Наряду с психическими реакциями (страх, нарушение сна, аппетита и пр.), наблюдаются различные формы нарушения поведения: повышение агрессивности, выраженная драчливость, жестокость или неуверенность в себе, робость, нарушение общения со сверстниками, снижение самооценки. что большинство детей, переживших в детстве жестокое обращение (насилие) взрослых, склонны воспроизводить его, выступая уже в роли насильника и мучителя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едпосылки девиантного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оведения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дростковом возрасте у ребенка проявляется потребность в познании самого себя. Ответ на вопрос «Кто я?» часто мучает подростка. Он проявляет интерес к самому себе, у него формируются собственные взгляды и суждения; появляются собственные оценки на те или иные события и факты; он пытается оценить свои возможности и поступки, сопоставляя себя со сверстниками и их действия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возрасте происходит временное психологическое отдаление подростка от семьи и школы, их значение в становлении личности подростка снижается, тогда как влияние сверстников усиливается. Зачастую он стоит перед выбором 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 официальным коллективом и неформальной группой общ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533520" y="762120"/>
            <a:ext cx="807696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ельно изменяются интересы подростка по сравнения 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ом младшего возраста. Наряду с любознательностью и стремлением к творческой деятельности, для него характерна разбросанность и неустойчивость интересов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можно выделить характерные особенности подросткового возраста: эмоциональная незрелость, недостаточно развитое умение контролировать собственное поведение, соразмерять желания и возможности в удовлетворении своих потребностей, повышенная внушаемость, желание самоутвердиться и стать взрослым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3" descr="513"/>
          <p:cNvPicPr/>
          <p:nvPr/>
        </p:nvPicPr>
        <p:blipFill>
          <a:blip r:embed="rId1"/>
          <a:stretch/>
        </p:blipFill>
        <p:spPr>
          <a:xfrm>
            <a:off x="380880" y="1905120"/>
            <a:ext cx="4038840" cy="25686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343040" y="45684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дростка формируется чувство взрослости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рое проявляется через стремление к независим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остоятельности, протест против желания взрослых «поучить» его. Подросток в этом возрасте нередко выбирает для себя кумира (герой фильма, сильный взрослый, герой передачи, выдающийся спортсмен и др.), которому он пытается подражать: его внешнему облику, манере повед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026"/>
          <p:cNvSpPr/>
          <p:nvPr/>
        </p:nvSpPr>
        <p:spPr>
          <a:xfrm>
            <a:off x="974880" y="431640"/>
            <a:ext cx="7331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Rectangle 1028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23232"/>
                </a:solidFill>
                <a:latin typeface="Garamond"/>
              </a:rPr>
              <a:t>Делинквентное поведение</a:t>
            </a:r>
            <a:br>
              <a:rPr sz="4000"/>
            </a:br>
            <a:r>
              <a:rPr b="1" lang="ru-RU" sz="4000" spc="-1" strike="noStrike">
                <a:solidFill>
                  <a:srgbClr val="323232"/>
                </a:solidFill>
                <a:latin typeface="Garamond"/>
              </a:rPr>
              <a:t>ребенк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56" name="Схема 6" descr=""/>
          <p:cNvPicPr/>
          <p:nvPr/>
        </p:nvPicPr>
        <p:blipFill>
          <a:blip r:embed="rId2"/>
          <a:stretch/>
        </p:blipFill>
        <p:spPr>
          <a:xfrm>
            <a:off x="2316240" y="1865160"/>
            <a:ext cx="4413240" cy="4206960"/>
          </a:xfrm>
          <a:prstGeom prst="rect">
            <a:avLst/>
          </a:prstGeom>
          <a:ln w="0">
            <a:noFill/>
          </a:ln>
        </p:spPr>
      </p:pic>
      <p:sp>
        <p:nvSpPr>
          <p:cNvPr id="45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304920" y="304920"/>
            <a:ext cx="9601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762120" y="0"/>
            <a:ext cx="7772400" cy="80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Типы девиаций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Подростков, чье поведение отклоняется от принятых в обществе правил, норм поведения,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трудными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или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трудновоспитуемыми.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Трудновоспитуемость под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ростка, несоблюдение им норм и вправил, установленных в обществе, в науке рассматривается через явление, которое называется девиаци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виация (отклонение) является одной из сторон явления "изменчивости, которое присуще как человеку, так и окружающему его миру. Изменчивость в социальной сфере всегда связанна с деятельностью и выражается в поведении человека, которое представляет взаимодей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ствие его с окружающей средой, опосредованное внешней и внутренней активностью подростка. Как уже было сказано ранее, поведение может быть нормальное и отклоняющееся.(Баженов.В.Г. 1989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4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533520" y="304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914400" y="304920"/>
            <a:ext cx="7162920" cy="72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Нормальное поведение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подростка полагает взаимодействие его с микросоциумом, адекватно отвечающее потребностям и возможностям его развития и социализации. Отсюда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отклоняющееся поведение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может быть охарактеризовано как взаимодействие ребенка с микросоциумом, нарушающее его развитие и социализацию вследствие отсутствия адекватного учета средой особенностей его индивидуальности и проявляющееся в поведенческом противодействии установленным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нравственным и правовым общественным нормам.. Говоря о детскопод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ростковой дезадаптации, необходимо уточнить категории детей, которые подвержены этому процессу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ти школьного возраста, не посещающие школу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152280" y="304920"/>
            <a:ext cx="6553440" cy="79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социальные сироты; действительность мест в детских домах, дети месяцами ждут очереди для помещения их в детский дом, живя с родителями, лишенными родительских прав, не имея нормальной еды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одежды, подвергаясь физическому, психическому, сексуальному насилию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подростки, употребляющие наркотики и токсические средств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подростки сексуально распущенного поведени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подростки, совершившие противоправные действия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not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официальным данным, их число среди детей и подростков растет в два раза быстрее, чем среди взрослы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виации включают в себя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виантное, делинквентное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криминальное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ведение.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9" name="Picture 3" descr="m_631"/>
          <p:cNvPicPr/>
          <p:nvPr/>
        </p:nvPicPr>
        <p:blipFill>
          <a:blip r:embed="rId1"/>
          <a:stretch/>
        </p:blipFill>
        <p:spPr>
          <a:xfrm>
            <a:off x="6781680" y="457200"/>
            <a:ext cx="2210040" cy="1600200"/>
          </a:xfrm>
          <a:prstGeom prst="rect">
            <a:avLst/>
          </a:prstGeom>
          <a:ln w="0">
            <a:noFill/>
          </a:ln>
        </p:spPr>
      </p:pic>
      <p:sp>
        <p:nvSpPr>
          <p:cNvPr id="510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2057400" y="990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304920" y="0"/>
            <a:ext cx="6553080" cy="90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виантное поведение </a:t>
            </a:r>
            <a:r>
              <a:rPr b="0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один из видов отклоняющегося поведения, связанный с нарушением соответствующих возрасту социальных норм и правил поведения, характерных для микро социальных отношений (семейных, школьных) и малых половозрастных социальных групп. Типичными проявлениями девиантного поведения являются ситуационно обусловленные детские и подростковые поведенческие реакции, такие как; демонстрация, агрессия, вызов, самовольное и систематическое отклонение от учебы или трудовой деятельности; систематические уходы из дома и бродяжничество, пьянство и алкоголизм детей и подростков; ранняя наркотизация и связанные с ней асоциальные действия; антиобщественые действия сексуального характера; попытки суицида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13" name="Picture 4" descr="small_1013686199"/>
          <p:cNvPicPr/>
          <p:nvPr/>
        </p:nvPicPr>
        <p:blipFill>
          <a:blip r:embed="rId1"/>
          <a:stretch/>
        </p:blipFill>
        <p:spPr>
          <a:xfrm>
            <a:off x="6858000" y="228600"/>
            <a:ext cx="2133720" cy="1676520"/>
          </a:xfrm>
          <a:prstGeom prst="rect">
            <a:avLst/>
          </a:prstGeom>
          <a:ln w="0">
            <a:noFill/>
          </a:ln>
        </p:spPr>
      </p:pic>
      <p:sp>
        <p:nvSpPr>
          <p:cNvPr id="514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990720" y="76320"/>
            <a:ext cx="7010280" cy="77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линквентное поведение,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в отличие от девиантного, характеризуется как повторяющиеся асоциальные проступки детей и подростков,, нарушающих правовые нормы, но не влекущих уголовной ответственности из-за их ограниченной общественной опасности или не достижения ребенком возраста, с которого начинается уголовная ответственность. Выделяются следующие типы делинквентного поведения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агрессивно-насильственное поведение, включая оскорбления, побои, поджоги, садистские действия, направленные в основном, против личности человека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корыстное поведение, включая мелкие кражи, вымогательство, угоны авто­транспорта и другие имущественные посягательства,— распространение и продажа наркотиков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m_633"/>
          <p:cNvPicPr/>
          <p:nvPr/>
        </p:nvPicPr>
        <p:blipFill>
          <a:blip r:embed="rId1"/>
          <a:stretch/>
        </p:blipFill>
        <p:spPr>
          <a:xfrm>
            <a:off x="6172200" y="685800"/>
            <a:ext cx="2819520" cy="260208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3"/>
          <p:cNvSpPr/>
          <p:nvPr/>
        </p:nvSpPr>
        <p:spPr>
          <a:xfrm>
            <a:off x="2057400" y="53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152280" y="-457200"/>
            <a:ext cx="6019920" cy="86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Криминальное поведение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определяется как противоправный поступок, который по достижению возраста уголовной ответственности служит основанием для возбуждения уголовного дела и квалифицируется по определенным статьям уголовного кодекса. Криминальному поведению, как правило, предшествуют различные формы девиантного и делинквентного поведения. Негативные формы девиаций являются социальной патологией: пьянство и алкоголизм, токсикомания и наркомания, (проституция, суицид, правонарушения и преступность). Они дезорганизуют систему, подрывают ее основы и наносят значительный ущерб, в первую очередь, личности самого подростка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762120" y="152280"/>
            <a:ext cx="7467480" cy="76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В зависимости от типа нарушаемой нормы отклоняющееся поведение классифицируется по следующим характеристикам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 видам преступления (уголовные, административные) и аморальных поступков (пьянство, проституция)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 уровню или масштабности отклонения, когда принято говорить об индивидуальном или массовом отклонении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 внутренней структуре отклонения, когда отклонение связывают 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ностью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к той или иной социальной группе, половозрастными особенностями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 ориентированности отклонения на внешнюю среду (семейные ссоры, насильственные преступления и др.) или на самого себя (суицид, алкоголизм и др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Заключ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Rectangle 14"/>
          <p:cNvSpPr/>
          <p:nvPr/>
        </p:nvSpPr>
        <p:spPr>
          <a:xfrm>
            <a:off x="380880" y="1905120"/>
            <a:ext cx="830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скрытия природы и причины социальных отклонении необходимо исходить из того, что они как и социальные нормы, есть выражение отношений людей, складывающийся в обществе. Социальная норма и социальное отклонение - два полюса на одной и той же оси социально значимого поведения индивидов, социальных групп и других социальных общносте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отклонения столь же разнообразны, сколь сами социальные нормы. Более того, разнообразие отклонений превышает разнообразие норм, ибо норма типична, а отклонения могут быть весьма индивидуализированы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6" name=""/>
          <p:cNvGraphicFramePr/>
          <p:nvPr/>
        </p:nvGraphicFramePr>
        <p:xfrm>
          <a:off x="533520" y="1066680"/>
          <a:ext cx="8381880" cy="4738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Гадаев Алексей Вениаминови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СИХОЛОГ -ПЕДАГО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ГОУ СОШ №10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7" name="Rectangle 37"/>
          <p:cNvSpPr/>
          <p:nvPr/>
        </p:nvSpPr>
        <p:spPr>
          <a:xfrm>
            <a:off x="457200" y="15228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23232"/>
                </a:solidFill>
                <a:latin typeface="Garamond"/>
              </a:rPr>
              <a:t>Автор проекта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8" name="Text Box 38"/>
          <p:cNvSpPr/>
          <p:nvPr/>
        </p:nvSpPr>
        <p:spPr>
          <a:xfrm>
            <a:off x="685800" y="61722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9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8d3e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ff8d3e"/>
                </a:solidFill>
                <a:latin typeface="Times New Roman"/>
              </a:rPr>
              <a:t>Делинквентность  её особенност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ведение, сопряженное с риском, иногда принимает  формы противозаконных действий. Правонарушения по своей значимости варьируют о магазинных краж и вандализма до  разбойных нападений, изнасилований и убийств. Лиц моложе 16 или 18 лет, совершающих преступные действия, называют делинквентами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457200" y="38088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В некоторые моменты своей жизни большинство детей  вовлекаются  в отдельные формы  делинквентного поведения. Очень распространены кражи, а так же умеренные акты вандализма – разрушение или осквернение  собственности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удности возрас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но или поздно большинство подростков втягиваются в деструктивное поведение, связанное с риск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648320" y="228564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енетические, социологические и психологические факторы обуславливающие делинквен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250560" y="33300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Особенность подросткового возраста в том и состоит, что внешне и по своим притязаниям это взрослый, а по внутренним особенностям и возможностям это во многом еще ребенок. Отсюда сохраняющаяся у подростка потребность в ласке, внимании, интерес к играм, забавам, возне друг с другом. Наряду с этим, вместе с чувством взрослости у подростка пробуждается и активно формируется самосознание, обостренное чувство собственного достоинства, осознание половой принадлежности. Подростку свойственна повышенная критичность. Если, будучи ребенком, он на многие события в окружающем мире не обращал внимания или был снисходителен в своих оценках, то став подростком, он начинает переоценивать давно знакомое и привычное, вынося собственные суждения, нередко очень прямолинейные, категоричные и бескомпромиссны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0" y="214200"/>
            <a:ext cx="6153120" cy="6143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дростковы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возраст, по словам Л.С.Выготского, представляет собой совокупность условий, в высшей степени предрасполагающих к воздействию различных психотравмирующих факторов. Самыми сильнодействующими из них являются недостойное поведение родителей, конфликтные взаимоотношения между ними, наличие у них недостатков, унизительных с точки зрен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одр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к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окружающих, оскорбительное отношение к подростку, проявления недоверия или неуважения к нему. Все это не просто осложняет учебно-воспитательную работу с ними, но и делает ее порой практически невозможной. У подростка на этой почве могут возникнуть различные отклонения в поведени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0" name="Picture 1028" descr="33"/>
          <p:cNvPicPr/>
          <p:nvPr/>
        </p:nvPicPr>
        <p:blipFill>
          <a:blip r:embed="rId1"/>
          <a:stretch/>
        </p:blipFill>
        <p:spPr>
          <a:xfrm>
            <a:off x="6172200" y="457200"/>
            <a:ext cx="2703600" cy="3733920"/>
          </a:xfrm>
          <a:prstGeom prst="rect">
            <a:avLst/>
          </a:prstGeom>
          <a:ln w="0">
            <a:noFill/>
          </a:ln>
        </p:spPr>
      </p:pic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1049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514600" cy="2595600"/>
          </a:xfrm>
          <a:prstGeom prst="rect">
            <a:avLst/>
          </a:prstGeom>
          <a:ln w="0">
            <a:noFill/>
          </a:ln>
        </p:spPr>
      </p:pic>
      <p:pic>
        <p:nvPicPr>
          <p:cNvPr id="473" name="Схема 4" descr=""/>
          <p:cNvPicPr/>
          <p:nvPr/>
        </p:nvPicPr>
        <p:blipFill>
          <a:blip r:embed="rId3"/>
          <a:stretch/>
        </p:blipFill>
        <p:spPr>
          <a:xfrm>
            <a:off x="1335240" y="907920"/>
            <a:ext cx="6132240" cy="5748480"/>
          </a:xfrm>
          <a:prstGeom prst="rect">
            <a:avLst/>
          </a:prstGeom>
          <a:ln w="0">
            <a:noFill/>
          </a:ln>
        </p:spPr>
      </p:pic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евиантное поведение подростк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Отклоняющееся поведение имеет сложную природу, обусловленную самыми разнообразными факторами, находящимися в сложном взаимодействии и взаимовлиянии.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еловеческое развитие обусловлено взаимодействием многих факторов: наследственности, среды, воспитания, собственной практической деятельности человека. Можно выделить основные фак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ры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, обусловливающие девиантное поведени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совершеннолетних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1.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Биологические факторы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выражаются в существовании! неблагоприятных физиологических или анатомических особенностей организма ребенка, затрудняющих его социальную адаптацию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генетические, которые передаются по наследству. Это могут быть нарушения умственного развития, дефекты слуха и зрения, телесные пороки, повреждения нервной системы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психофизиологические, связанные с влиянием на организм человека психоф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иологических нагрузок, конфликтных ситуаций, химического состава окружающей среды, новых видов энергии, приводящих к различным соматическим, аллергическим, токсическим заболевания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физиологические, включающие в себя дефекты речи, внешнюю непривлекательность, недостатки конституционно-соматического склада человека, которые в большинстве случаев вызывают негативное отношение со стороны окружающих, что приводит к искажению системы межличностных отношений ребенка в среде сверстников, коллектив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03:05:01Z</dcterms:created>
  <dc:creator>InTech</dc:creator>
  <dc:description/>
  <dc:language>en-US</dc:language>
  <cp:lastModifiedBy>LEGION</cp:lastModifiedBy>
  <dcterms:modified xsi:type="dcterms:W3CDTF">2015-01-27T12:00:15Z</dcterms:modified>
  <cp:revision>107</cp:revision>
  <dc:subject/>
  <dc:title>Слайд 1</dc:title>
</cp:coreProperties>
</file>