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C878-167F-4546-939C-7F2BD058778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EB10-E355-408A-90D9-68F4D5573B1C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A6FC-194D-4E3B-B3AA-BA94A2B8035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D5B-DDE2-4DAF-95D4-5EDAF2FF9C7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030-A273-46B7-8654-45295598A8BF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2581-7C04-41A1-B390-CEC186FE663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EA30-D67E-4DCC-A334-D21145925AF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5992-BC5E-47F7-BB15-C2C6B335C0D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69A-DF7F-436E-A922-6709E774F70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871F-94F1-4788-932F-2BA2410A8D3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23DE-033D-436F-887D-B1645F630F9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0010-80E2-4805-91C6-0B4E43287ACB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1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F8AF-223C-4979-9BF1-D4D465714C0C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FB2A-DA30-4032-AFB1-B32C0E6229F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C501-C5FA-4926-A88F-64600BC0544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52D-35F3-4394-94A6-64BC99DB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769-DEA0-4522-A316-23895D89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30C-B5DC-400C-A558-92F7406C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683-93B5-4F33-BB39-4FD224FD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B6F-9BEB-4441-BDBD-4C8BF4C8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96E-3492-4FBE-98EE-B32A5648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D05-7F96-4708-A51D-50EFA0A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D89-7B23-45D3-8261-63AC876B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D2E-1AFE-48F6-9459-9B41ADFD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AC2-2E9A-4087-AF03-CB8D2C44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DD4-F07A-4B45-8518-AC9679BC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596-CEE3-432A-904B-CA973CB4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D926-3776-4739-B43A-A7EEEC4E7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50" name="Oval 6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303377[1]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34128[1]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98139[1]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11" descr="j0398305[1]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80405[1]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Oval 9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96700[1]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28[1]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398159[1]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17332[1]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32909[1]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343361[1]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LEGION</cp:lastModifiedBy>
  <dcterms:modified xsi:type="dcterms:W3CDTF">2015-01-27T12:00:55Z</dcterms:modified>
  <cp:revision>7</cp:revision>
  <dc:subject/>
  <dc:title>Системы  обучения   в начальной школе</dc:title>
</cp:coreProperties>
</file>