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51BE-A5CE-4DD2-866B-882D675E9D65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0851-6CBE-40F7-8C38-B2F3A1F1E4C2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AF12-7A84-4524-8074-46C8851D9686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12F9-446B-4C37-A002-BC54956267F9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D13B-689D-42C9-A772-437D68169603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E171-6100-4C51-8E0B-9C4609B6BC76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18DE-B99F-4BA4-B628-F62EE2E894D5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09DD-1ED8-4FA2-A4AE-8E2B377A3149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7A57-9B9E-4264-B10B-4344AC999353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3121-8562-4511-939E-623882B67606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D8C0-B007-4E3D-8C0E-75B8ECBEC514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53B6-64D7-437A-9DDF-F9D611553786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1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2C51-45B6-46B2-93C1-3BBE1CD71B4A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26B7-D946-4DAB-819D-20AB946903B8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0CD6-8724-4435-A850-B4A26BBAA44E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90D-D0B4-4477-B9BB-5F72E248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E6D-08B6-4A1F-912F-DDDC8E16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85F-CB94-4045-9938-2DED9F9B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11C-ACEA-4CB1-AE99-68BF32FA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799-89F8-4AB7-A643-8F3A27AC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1C2-4091-4AA7-A34F-441C8397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729-5432-4EB2-90C8-FD2B2C23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03B-4AB1-4EEE-A926-9FE8B18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FF4-8A8E-4B9E-B5D4-EE37D672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463-A259-4320-9923-CCF140C5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487-5A4A-4023-9DA8-8B305CD4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C45-8ED0-4AF0-8E75-4920EA2C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4723-AF68-4852-AAA0-7D1BAB5D1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332000" y="189000"/>
            <a:ext cx="6264360" cy="280836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  <p:sp>
        <p:nvSpPr>
          <p:cNvPr id="50" name="Oval 6"/>
          <p:cNvSpPr/>
          <p:nvPr/>
        </p:nvSpPr>
        <p:spPr>
          <a:xfrm>
            <a:off x="324000" y="2997360"/>
            <a:ext cx="8351640" cy="3671640"/>
          </a:xfrm>
          <a:prstGeom prst="ellipse">
            <a:avLst/>
          </a:prstGeom>
          <a:gradFill rotWithShape="0">
            <a:gsLst>
              <a:gs pos="0">
                <a:srgbClr val="477618"/>
              </a:gs>
              <a:gs pos="50000">
                <a:srgbClr val="99ff33"/>
              </a:gs>
              <a:gs pos="100000">
                <a:srgbClr val="477618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Системы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обучения 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в начальной школе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df98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Bookman Old Style"/>
              </a:rPr>
              <a:t>УМК «Классическая 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ами учебников являются известные методисты и учёные, оказывающие серьёзное влияние на становление современного начального образования (Т.Г. Рамзаева, О.В. Джежелей, Л.И. Тикунова, Э.И. Александрова, В.С.Кузин и друг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идактическую основу учебных пособий составляют классические принципы дид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обенностью является органическое соединение традиционной методики с последними достижениями современной психологии и новейшими подходами к решению методических проблем, а также опора на педагогику сотрудни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вторы делают акцент на систему заданий проблемно-поисков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нацелены на развитие самостоятельности и в добывании знаний, и в оценке результатов соб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ниги содержат не только индивидуальные, но и коллективные задания, которые учат детей взаимодействовать друг с другом, отстаивать свою позицию, слушать и понимать товари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спользование тетрадей на печатной основе позволяет учителю регулировать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ыт практической деятельности способствует формированию теоретических понятий, которые составляют фундамент успешного обучения не только в начальных классах, но и в дальнейш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303377[1]"/>
          <p:cNvPicPr/>
          <p:nvPr/>
        </p:nvPicPr>
        <p:blipFill>
          <a:blip r:embed="rId1"/>
          <a:stretch/>
        </p:blipFill>
        <p:spPr>
          <a:xfrm>
            <a:off x="7093080" y="5516640"/>
            <a:ext cx="1638000" cy="13413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da3a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УМК 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Bookman Old Style"/>
              </a:rPr>
              <a:t>(под ред. А.А. Леонтьева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росто комплект учебников, а система, кото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едполагает развивающее личностно ориентированное образование для младших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главное преимущество учебно-методического комплекта заключается в глубокой преемственности и непрерывност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программы построены с учетом психологической специфики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ети учатся действовать самостоятельно, правила и выводы не даются в готовом ви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а программа направлена на развитие логического мышления, речи, воображения, пам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арактерной особенностью этой образовательной программы является принцип минимакс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ый материал предлагается ученикам по максимуму, а учащийся должен усвоить материал по минимуму стандарта. Таким образом, у каждого ребенка есть возможность взять столько, сколько он мо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0234128[1]"/>
          <p:cNvPicPr/>
          <p:nvPr/>
        </p:nvPicPr>
        <p:blipFill>
          <a:blip r:embed="rId1"/>
          <a:stretch/>
        </p:blipFill>
        <p:spPr>
          <a:xfrm>
            <a:off x="7596360" y="0"/>
            <a:ext cx="1690560" cy="16286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f5996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Bookman Old Style"/>
              </a:rPr>
              <a:t>УМК «Перспектива</a:t>
            </a:r>
            <a:r>
              <a:rPr b="1" lang="ru-RU" sz="2800" spc="-1" strike="noStrike">
                <a:solidFill>
                  <a:srgbClr val="cc6600"/>
                </a:solidFill>
                <a:latin typeface="Bookman Old Style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 комплекта одобрены и рекомендованы РАН-РАО, включены в серию «Академический школьный учеб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реализована новая технология конструирования учебников комплекта, котор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лучшает и облегчает преподавание и усвоение предметного материала (единые методология, дизайн и система навиг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позволяет родителям стать активными участника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предполагает дифференцированные задания для учеников с разным уровнем подго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школьных предметов раскрывается в культурно-историческом аспекте, что обеспечивает всесторонне развитие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етодический аппарат книг тщательно продуман, что позволяет использовать этот комплект для индивидуальной работы родителей с ребенком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гровой и занимательный материалы пособ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уют возрастным особен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ервокласс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398139[1]"/>
          <p:cNvPicPr/>
          <p:nvPr/>
        </p:nvPicPr>
        <p:blipFill>
          <a:blip r:embed="rId1"/>
          <a:stretch/>
        </p:blipFill>
        <p:spPr>
          <a:xfrm>
            <a:off x="6588000" y="5013360"/>
            <a:ext cx="2376720" cy="1844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877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УМК по математике Б.П.Гейдм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cc"/>
                </a:solidFill>
                <a:latin typeface="Bookman Old Style"/>
              </a:rPr>
              <a:t>(издательство «Русское слов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 всем параметрам соответствуют требованиям подготовки учащихся на конец обучения в начальной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дачная структура, прекрасная проработка каждого уро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истемность подачи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ноуровневые задания, обеспечивающие комфор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ля всех участников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ителю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нет необходимост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дбирать материал для устного счёта, т.к. учеб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сыщен  разнообразными интересными зад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исовать и чертить на доске, т.к. все черт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хемы, рисунки и т.д. представлены в учеб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имеет возможность работать в тетради на печатной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 чёткой формулировкой все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держание задач близко и понятно детям, т.к. построено на основе ска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урочное представление материала даёт возможность отсле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ошаговость проходимого материала (н-р, во время болезни ребёнка родители легко могут ему помочь в освоени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63640" y="4365720"/>
            <a:ext cx="201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771640" y="378936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6" name="Picture 11" descr="j0398305[1]"/>
          <p:cNvPicPr/>
          <p:nvPr/>
        </p:nvPicPr>
        <p:blipFill>
          <a:blip r:embed="rId1"/>
          <a:stretch/>
        </p:blipFill>
        <p:spPr>
          <a:xfrm>
            <a:off x="7380360" y="1628640"/>
            <a:ext cx="1763640" cy="24768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cecdb"/>
          </a:solidFill>
          <a:ln w="9360">
            <a:solidFill>
              <a:srgbClr val="cc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Авторск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курса «Литературное чт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(издательство «Русское слово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Bookman Old Style"/>
              </a:rPr>
              <a:t>Г.С.Меркин, Б.Г.Меркин, С.А.Бол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рассчитана на четыре года обучения младших школьников с 1 по 4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каждого года состоит из следующих разделов: «Круг произведений для чтения», «Читательские умения», «Литературоведческие понятия». Заканчивается программа разделом «Основные требования к знаниям, умениям и навыкам учащихся, оканчивающих начальную школ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личительная особенность - введение в круг чтения младших школьников целостных литературных текстов, а также фрагментов отдельных эпических произве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вязь с другими искусствами, работа с иллюстрациями, фотографиями, выполнение рисунков и иллюстраций к эпизодам произведения, художественное произведение – кино – мультипл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ирование личности, воспитание чувства любви, внимания, уважения к членам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для 1–4 классов ориентирует учителя начальной школы на выполнение задач литературного образования и эстетического развития младших школьников в определенной системе, все элементы которой взаимосвязаны, логически взаимообусловлены и достаточно жестко структуриров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ограмма является звеном в системе общего среднего филологического образования учащихся с первого по девятый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для 2,3,4 классов планируются к выпуску в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половине 200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280405[1]"/>
          <p:cNvPicPr/>
          <p:nvPr/>
        </p:nvPicPr>
        <p:blipFill>
          <a:blip r:embed="rId1"/>
          <a:stretch/>
        </p:blipFill>
        <p:spPr>
          <a:xfrm>
            <a:off x="0" y="0"/>
            <a:ext cx="1619280" cy="1125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9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3200" spc="-1" strike="noStrike" u="sng">
              <a:solidFill>
                <a:srgbClr val="333399"/>
              </a:solidFill>
              <a:uFillTx/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5003640" cy="4365720"/>
          </a:xfrm>
          <a:prstGeom prst="rect">
            <a:avLst/>
          </a:prstGeom>
          <a:solidFill>
            <a:srgbClr val="ff6600"/>
          </a:solidFill>
          <a:ln w="936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66ff"/>
                </a:solidFill>
                <a:uFillTx/>
                <a:latin typeface="Bookman Old Style"/>
              </a:rPr>
              <a:t>ТРАДИ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Начальная школа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XX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Школа 2100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Гармо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Классическ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ланета зна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«Перспекти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003640" y="2492280"/>
            <a:ext cx="4140360" cy="4365720"/>
          </a:xfrm>
          <a:prstGeom prst="rect">
            <a:avLst/>
          </a:prstGeom>
          <a:solidFill>
            <a:srgbClr val="ffff66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ff"/>
                </a:solidFill>
                <a:uFillTx/>
                <a:latin typeface="Bookman Old Style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идактическая система Л.В. Занк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Д.Б. Эльконина-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В.В. Давыдов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3276360" y="1916280"/>
            <a:ext cx="1150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788000" y="191628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Oval 9"/>
          <p:cNvSpPr/>
          <p:nvPr/>
        </p:nvSpPr>
        <p:spPr>
          <a:xfrm>
            <a:off x="1187280" y="0"/>
            <a:ext cx="6769440" cy="206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Системы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обучения 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Bookman Old Style"/>
              </a:rPr>
              <a:t>в начальной школе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Развивающее 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идактическая система Л.В. Зан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идактический принцип – быстрое освоение материала, высокий уровень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дущая роль принадлежит теоретическим знан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усвоенный материал закрепляется практическими      зад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ставка на самостоятельность учащегося, его творческое постиж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стижение понятий происходит в понимании системных взаимосвяз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486560" y="3141720"/>
            <a:ext cx="1657440" cy="1847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Развивающая система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Bookman Old Style"/>
              </a:rPr>
              <a:t>Д.Б. Эльконина – В.В. Давыд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solidFill>
            <a:srgbClr val="bcf7a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амое яркое отличие – научная проработка проблемы безотметоч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основной принцип – научить детей получать знания, искать их самостоятельно, а не заучивать школьные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елается упор не на результат – усвоенные знания, а на способы их п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ольшое значение придаётся отработке коммуникативных навыков и работе в команде (паре, групп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396700[1]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193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Традиционная </a:t>
            </a:r>
            <a:br>
              <a:rPr sz="4000"/>
            </a:b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Bookman Old Style"/>
              </a:rPr>
              <a:t>система 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6c6a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man Old Style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хватывает все учебные предм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ключает завершённые линии по всем предметам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ебники компл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рекомендованы МО и наук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твечают требованиям действующего Государственного стандарта начального обще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ют преемственность с дошкольным и основным общим образ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является гибким инструментом с полным методическим обеспеч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читывает изменения, предусмотренные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стандартом второго поко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личностно- и ценностно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беспечивает успешность ребёнка в школе и за её предел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актикоориентиров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едусматривает формирование УУД (универсальных учебных действи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правлен на развитие умения детей общать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ддерживает совместную деятельность школы и 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32128[1]"/>
          <p:cNvPicPr/>
          <p:nvPr/>
        </p:nvPicPr>
        <p:blipFill>
          <a:blip r:embed="rId1"/>
          <a:stretch/>
        </p:blipFill>
        <p:spPr>
          <a:xfrm>
            <a:off x="7429680" y="5373720"/>
            <a:ext cx="1714320" cy="1257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ff"/>
                </a:solidFill>
                <a:latin typeface="Bookman Old Style"/>
              </a:rPr>
              <a:t>УМК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eefb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ает в себя учебники и учебные пособия по основным предметам начального образования (с 2009 года планируется дополнить такими дисциплинами как английский язык, изобразительное искусство и музы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се учебники рекомендованы МО и наук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лавные задачи, решаемые  авторами компл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работка способов организации учебной деятельности младших школь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ние комфортных условий для развития ребёнка в процессе усвоения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ответствие учебных программ требованиям начального образовательного станд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МК направлен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приёмов умственной деятельности (анализ, синтез, сравнение, аналогия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амостоятельную деятельность учащихся в усвоении содерж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ктивное включение в познавательную деятельность приёмов наблюдения, выбора, преобразования и констру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пору на опыт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нцепция УМК соотносится с основными идеями развивающего обучения (с системой Л.В.Зан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0398159[1]"/>
          <p:cNvPicPr/>
          <p:nvPr/>
        </p:nvPicPr>
        <p:blipFill>
          <a:blip r:embed="rId1"/>
          <a:stretch/>
        </p:blipFill>
        <p:spPr>
          <a:xfrm>
            <a:off x="7632720" y="1628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c1bb"/>
          </a:solidFill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УМК «Начальная школа </a:t>
            </a:r>
            <a:r>
              <a:rPr b="1" lang="en-US" sz="2800" spc="-1" strike="noStrike">
                <a:solidFill>
                  <a:srgbClr val="ff3399"/>
                </a:solidFill>
                <a:latin typeface="Bookman Old Style"/>
              </a:rPr>
              <a:t>XXI</a:t>
            </a: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Bookman Old Style"/>
              </a:rPr>
              <a:t>(под ред. Н.Ф.Виноградов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К включает завершённые линии по основным предметам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ерьёзное внимание уделено проблеме формирования учебной деятельности младшего школь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 комплекте есть параллельная программа «Учебная деятель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еализует основные идеи системы 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направлен на обеспечение «мягкой» адаптации детей к новым для них условиям школь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комплект реализует право ребенка на свою индивидуальность: дети поставлены в условия, когда могут самостоятельно добывать знания, применять их, размышлять, фантазировать, играть (предусмотрены специальные тетради «Учимся думать и фантазировать», «Учимся познавать окружающий ми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j0417332[1]"/>
          <p:cNvPicPr/>
          <p:nvPr/>
        </p:nvPicPr>
        <p:blipFill>
          <a:blip r:embed="rId1"/>
          <a:stretch/>
        </p:blipFill>
        <p:spPr>
          <a:xfrm>
            <a:off x="6443640" y="5003640"/>
            <a:ext cx="2209680" cy="18543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6d3f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Bookman Old Style"/>
              </a:rPr>
              <a:t>УМК «Планета зна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ебники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ключены в ФП на 2009/10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состоит из  учебников, рабочих тетрадей, дидактических и методических пособий по основным предметам нача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держание предоставляет возможность учителю использовать разные формы и 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целью является создание образовательного пространства с разнообразием  видо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се учебники имеют единую систему заданий и единую маркировку, которая облегчает работу и школьника, 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К полностью реализует государственный образовательный станд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организации внеурочной деятельности предусмотрены специальные развороты проектной деятель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труктурирование учебного материала обеспеч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балансированность репродуктивной,  исследовательск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ичностно ориентированное взаимо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зрослых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j0232909[1]"/>
          <p:cNvPicPr/>
          <p:nvPr/>
        </p:nvPicPr>
        <p:blipFill>
          <a:blip r:embed="rId1"/>
          <a:stretch/>
        </p:blipFill>
        <p:spPr>
          <a:xfrm>
            <a:off x="7740720" y="5084640"/>
            <a:ext cx="1403280" cy="17733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c6fa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УМК «Перспективная нача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основе создания комплекта учебников лежит Концепция, которая появилась в результате обобщения опыта комплектов  учебников  «Школа XXI века», «Гармония», а также комплектов  учебников по развивающим системам обучения Л.В. Занкова, Д.Б. Эльконина—В.В. Давы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ая идея УМК— оптимальное развитие каждого ребенка на основе педагогической поддержки его индивидуа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сновные принципы концеп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непрерывного общего развития каждо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целостности картины ми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учета индивидуальных возможностей и способностей шко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ы прочности и нагляд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ринцип охраны и укрепления психического и физического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отличительные  особенности УМ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аксимальное размещение методического аппарата, включая организационные формы работы, в корпусе самого учебник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спользование единой системы условных обозначений во всем УМ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истему перекрестных взаимных ссылок между учеб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УМК формирует умение поиска, передачи и хранения информации. В учебниках комплекта присутствуют ссылки на интернет-сайты, специально разработанные для работы с младшими школь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зволяет школьнику перейти в среднюю школу с большим багажом всех необходимых знаний для дальнейшего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0343361[1]"/>
          <p:cNvPicPr/>
          <p:nvPr/>
        </p:nvPicPr>
        <p:blipFill>
          <a:blip r:embed="rId1"/>
          <a:stretch/>
        </p:blipFill>
        <p:spPr>
          <a:xfrm>
            <a:off x="6732720" y="5229360"/>
            <a:ext cx="1942920" cy="162864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06:02:49Z</dcterms:created>
  <dc:creator>Nataly</dc:creator>
  <dc:description/>
  <dc:language>en-US</dc:language>
  <cp:lastModifiedBy>LEGION</cp:lastModifiedBy>
  <dcterms:modified xsi:type="dcterms:W3CDTF">2015-01-27T12:00:55Z</dcterms:modified>
  <cp:revision>7</cp:revision>
  <dc:subject/>
  <dc:title>Системы  обучения   в начальной школе</dc:title>
</cp:coreProperties>
</file>