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Bookman Old Styl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Bookman Old Styl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A6184-871E-4A45-AD91-6C4AEA5C0F21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обуч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в начальной шко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BE780-925C-42C1-BCE8-F637F67F48A7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Bookman Old Style"/>
              </a:rPr>
              <a:t>УМК «Классическая начальная школ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авторами учебников являются известные методисты и учёные, оказывающие серьёзное влияние на становление современного начального образования (Т.Г. Рамзаева, О.В. Джежелей, Л.И. Тикунова, Э.И. Александрова, В.С.Кузин и друг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дидактическую основу учебных пособий составляют классические принципы дидак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особенностью является органическое соединение традиционной методики с последними достижениями современной психологии и новейшими подходами к решению методических проблем, а также опора на педагогику сотрудни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авторы делают акцент на систему заданий проблемно-поискового харак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все учебники нацелены на развитие самостоятельности и в добывании знаний, и в оценке результатов собственн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книги содержат не только индивидуальные, но и коллективные задания, которые учат детей взаимодействовать друг с другом, отстаивать свою позицию, слушать и понимать товарищ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использование тетрадей на печатной основе позволяет учителю регулировать нагруз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опыт практической деятельности способствует формированию теоретических понятий, которые составляют фундамент успешного обучения не только в начальных классах, но и в дальнейш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E36BE-25A5-4449-8F18-8C5B0FFD8211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Bookman Old Style"/>
              </a:rPr>
              <a:t>УМК «Школа 2100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Bookman Old Style"/>
              </a:rPr>
              <a:t>(под ред. А.А. Леонтьева</a:t>
            </a:r>
            <a:r>
              <a:rPr b="1" lang="ru-RU" sz="2400" spc="-1" strike="noStrike">
                <a:solidFill>
                  <a:srgbClr val="0066ff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не просто комплект учебников, а система, котора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редполагает развивающее личностно ориентированное образование для младших школьник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главное преимущество учебно-методического комплекта заключается в глубокой преемственности и непрерывности образ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се учебники программы построены с учетом психологической специфики возрас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дети учатся действовать самостоятельно, правила и выводы не даются в готовом вид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эта программа направлена на развитие логического мышления, речи, воображения, памят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характерной особенностью этой образовательной программы является принцип минимакса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чебный материал предлагается ученикам по максимуму, а учащийся должен усвоить материал по минимуму стандарта. Таким образом, у каждого ребенка есть возможность взять столько, сколько он мож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DC006-5D2F-40A8-9421-D9AE5C5A1DF0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ff"/>
                </a:solidFill>
                <a:latin typeface="Bookman Old Style"/>
              </a:rPr>
              <a:t>УМК «Перспектива</a:t>
            </a:r>
            <a:r>
              <a:rPr b="1" lang="ru-RU" sz="2800" spc="-1" strike="noStrike">
                <a:solidFill>
                  <a:srgbClr val="cc6600"/>
                </a:solidFill>
                <a:latin typeface="Bookman Old Style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учебники комплекта одобрены и рекомендованы РАН-РАО, включены в серию «Академический школьный учебник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 комплекте реализована новая технология конструирования учебников комплекта, которая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улучшает и облегчает преподавание и усвоение предметного материала (единые методология, дизайн и система навигации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позволяет родителям стать активными участниками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образовательного процес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комплект предполагает дифференцированные задания для учеников с разным уровнем подготов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одержание школьных предметов раскрывается в культурно-историческом аспекте, что обеспечивает всесторонне развитие младшего школьн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методический аппарат книг тщательно продуман, что позволяет использовать этот комплект для индивидуальной работы родителей с ребенком дом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игровой и занимательный материалы пособи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оответствуют возрастным особенностя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ервоклассник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75E51-9430-4464-8DD6-34D556AF2243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cc"/>
                </a:solidFill>
                <a:latin typeface="Bookman Old Style"/>
              </a:rPr>
              <a:t>УМК по математике Б.П.Гейдма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cc"/>
                </a:solidFill>
                <a:latin typeface="Bookman Old Style"/>
              </a:rPr>
              <a:t>(издательство «Русское слово»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о всем параметрам соответствуют требованиям подготовки учащихся на конец обучения в начальной шко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удачная структура, прекрасная проработка каждого уро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системность подачи матери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разноуровневые задания, обеспечивающие комфорт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для всех участников образовательн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учителю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нет необходимости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одбирать материал для устного счёта, т.к. учебни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насыщен  разнообразными интересными задан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рисовать и чертить на доске, т.к. все чертеж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схемы, рисунки и т.д. представлены в учебн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уче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имеет возможность работать в тетради на печатной осно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с чёткой формулировкой всех зад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содержание задач близко и понятно детям, т.к. построено на основе сказ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роди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оурочное представление материала даёт возможность отслед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ошаговость проходимого материала (н-р, во время болезни ребёнка родители легко могут ему помочь в освоении материал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24182-1005-4624-ABCF-E4590B81F767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cc"/>
                </a:solidFill>
                <a:latin typeface="Bookman Old Style"/>
              </a:rPr>
              <a:t>Авторская программ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cc"/>
                </a:solidFill>
                <a:latin typeface="Bookman Old Style"/>
              </a:rPr>
              <a:t>курса «Литературное чтение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cc"/>
                </a:solidFill>
                <a:latin typeface="Bookman Old Style"/>
              </a:rPr>
              <a:t>(издательство «Русское слово»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cc"/>
                </a:solidFill>
                <a:latin typeface="Bookman Old Style"/>
              </a:rPr>
              <a:t>Г.С.Меркин, Б.Г.Меркин, С.А.Болото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рограмма рассчитана на четыре года обучения младших школьников с 1 по 4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рограмма для каждого года состоит из следующих разделов: «Круг произведений для чтения», «Читательские умения», «Литературоведческие понятия». Заканчивается программа разделом «Основные требования к знаниям, умениям и навыкам учащихся, оканчивающих начальную школу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отличительная особенность - введение в круг чтения младших школьников целостных литературных текстов, а также фрагментов отдельных эпических произве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связь с другими искусствами, работа с иллюстрациями, фотографиями, выполнение рисунков и иллюстраций к эпизодам произведения, художественное произведение – кино – мультиплик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формирование личности, воспитание чувства любви, внимания, уважения к членам семь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рограмма для 1–4 классов ориентирует учителя начальной школы на выполнение задач литературного образования и эстетического развития младших школьников в определенной системе, все элементы которой взаимосвязаны, логически взаимообусловлены и достаточно жестко структуриров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рограмма является звеном в системе общего среднего филологического образования учащихся с первого по девятый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учебники для 2,3,4 классов планируются к выпуску в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половине 2009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665B9-D73A-407E-B00C-B4B2FC23AF00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66ff"/>
                </a:solidFill>
                <a:uFillTx/>
                <a:latin typeface="Bookman Old Style"/>
              </a:rPr>
              <a:t>ТРАДИЦИОННА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«Школа Росс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«Начальная школа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XXI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ве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«Школа 21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«Гармон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«Классическая начальная школ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«Перспективная начальная школ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«Планета знани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«Перспектив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2E357-089A-4085-93A6-0ED9D8EFE9A4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cc0000"/>
                </a:solidFill>
                <a:uFillTx/>
                <a:latin typeface="Bookman Old Style"/>
              </a:rPr>
              <a:t>Развивающее обуч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Bookman Old Style"/>
              </a:rPr>
              <a:t>Дидактическая система Л.В. Занк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дидактический принцип – быстрое освоение материала, высокий уровень труд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ведущая роль принадлежит теоретическим знани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усвоенный материал закрепляется практическими      задан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делается ставка на самостоятельность учащегося, его творческое постижение матери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остижение понятий происходит в понимании системных взаимосвяз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EC366-AB62-4E51-9C89-9D972EF6EE42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Bookman Old Style"/>
              </a:rPr>
              <a:t>Развивающая система 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Bookman Old Style"/>
              </a:rPr>
              <a:t>Д.Б. Эльконина – В.В. Давыдов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самое яркое отличие – научная проработка проблемы безотметочного об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основной принцип – научить детей получать знания, искать их самостоятельно, а не заучивать школьные ист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делается упор не на результат – усвоенные знания, а на способы их пости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большое значение придаётся отработке коммуникативных навыков и работе в команде (паре, групп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8212C-48B6-4BA6-B014-BCB88341D906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c0000"/>
                </a:solidFill>
                <a:uFillTx/>
                <a:latin typeface="Bookman Old Style"/>
              </a:rPr>
              <a:t>Традиционная </a:t>
            </a:r>
            <a:br>
              <a:rPr sz="4000"/>
            </a:br>
            <a:r>
              <a:rPr b="1" i="1" lang="ru-RU" sz="4000" spc="-1" strike="noStrike" u="sng">
                <a:solidFill>
                  <a:srgbClr val="cc0000"/>
                </a:solidFill>
                <a:uFillTx/>
                <a:latin typeface="Bookman Old Style"/>
              </a:rPr>
              <a:t>система  обуч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Bookman Old Style"/>
              </a:rPr>
              <a:t>УМК «Школа Росси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хватывает все учебные предмет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включает завершённые линии по всем предметам начального образова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учебники комплект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рекомендованы МО и науки РФ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твечают требованиям действующего Государственного стандарта начального общего образовани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беспечивают преемственность с дошкольным и основным общим образование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является гибким инструментом с полным методическим обеспечение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учитывает изменения, предусмотренные </a:t>
            </a: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стандартом второго поколени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личностно- и ценностно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риентирован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беспечивает успешность ребёнка в школе и за её пределам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актикоориентирован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едусматривает формирование УУД (универсальных учебных действий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направлен на развитие умения детей общатьс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оддерживает совместную деятельность школы и семь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10D51-8E07-499D-BD2E-B1CA5A96FC1E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ff"/>
                </a:solidFill>
                <a:latin typeface="Bookman Old Style"/>
              </a:rPr>
              <a:t>УМК «Гармония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ключает в себя учебники и учебные пособия по основным предметам начального образования (с 2009 года планируется дополнить такими дисциплинами как английский язык, изобразительное искусство и музык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се учебники рекомендованы МО и науки Р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ключены в ФП на 2009/10 уч.г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главные задачи, решаемые  авторами комплект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разработка способов организации учебной деятельности младших школьнико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оздание комфортных условий для развития ребёнка в процессе усвоения знани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оответствие учебных программ требованиям начального образовательного стандар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УМК направлен н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формирование приёмов умственной деятельности (анализ, синтез, сравнение, аналогия и т.д.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амостоятельную деятельность учащихся в усвоении содержа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активное включение в познавательную деятельность приёмов наблюдения, выбора, преобразования и конструирова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опору на опыт ребён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концепция УМК соотносится с основными идеями развивающего обучения (с системой Л.В.Занкова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AA5E7-7824-41F5-9128-8CBF0CB7FD77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99"/>
                </a:solidFill>
                <a:latin typeface="Bookman Old Style"/>
              </a:rPr>
              <a:t>УМК «Начальная школа </a:t>
            </a:r>
            <a:r>
              <a:rPr b="1" lang="en-US" sz="1800" spc="-1" strike="noStrike">
                <a:solidFill>
                  <a:srgbClr val="ff3399"/>
                </a:solidFill>
                <a:latin typeface="Bookman Old Style"/>
              </a:rPr>
              <a:t>XXI</a:t>
            </a:r>
            <a:r>
              <a:rPr b="1" lang="ru-RU" sz="1800" spc="-1" strike="noStrike">
                <a:solidFill>
                  <a:srgbClr val="ff3399"/>
                </a:solidFill>
                <a:latin typeface="Bookman Old Style"/>
              </a:rPr>
              <a:t> век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99"/>
                </a:solidFill>
                <a:latin typeface="Bookman Old Style"/>
              </a:rPr>
              <a:t>(под ред. Н.Ф.Виноградовой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учебники</a:t>
            </a: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включены в ФП на 2009/10 уч.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УМК включает завершённые линии по основным предметам начально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серьёзное внимание уделено проблеме формирования учебной деятельности младшего школь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в комплекте есть параллельная программа «Учебная деятельнос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реализует основные идеи системы  развивающего об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направлен на обеспечение «мягкой» адаптации детей к новым для них условиям школьной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комплект реализует право ребенка на свою индивидуальность: дети поставлены в условия, когда могут самостоятельно добывать знания, применять их, размышлять, фантазировать, играть (предусмотрены специальные тетради «Учимся думать и фантазировать», «Учимся познавать окружающий мир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A817-0396-4E6A-B4E2-27B4390EA305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Bookman Old Style"/>
              </a:rPr>
              <a:t>УМК «Планета знаний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чебники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ключены в ФП на 2009/10 уч.г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К состоит из  учебников, рабочих тетрадей, дидактических и методических пособий по основным предметам начального образ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одержание предоставляет возможность учителю использовать разные формы и методы обуч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целью является создание образовательного пространства с разнообразием  видов учебной деятель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се учебники имеют единую систему заданий и единую маркировку, которая облегчает работу и школьника, и учите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К полностью реализует государственный образовательный стандар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для организации внеурочной деятельности предусмотрены специальные развороты проектной деятельности учащих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труктурирование учебного материала обеспечивает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балансированность репродуктивной,  исследовательской и творческой деятель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личностно ориентированное взаимодействи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зрослых с деть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5D94-45DD-41F6-9572-EAE9656BCB9E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Bookman Old Style"/>
              </a:rPr>
              <a:t>УМК «Перспективная начальная школ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в основе создания комплекта учебников лежит Концепция, которая появилась в результате обобщения опыта комплектов  учебников  «Школа XXI века», «Гармония», а также комплектов  учебников по развивающим системам обучения Л.В. Занкова, Д.Б. Эльконина—В.В. Давыдо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сновная идея УМК— оптимальное развитие каждого ребенка на основе педагогической поддержки его индивидуальнос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сновные принципы концепци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инцип непрерывного общего развития каждого ребенк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инцип целостности картины мир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инцип учета индивидуальных возможностей и способностей школьников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инципы прочности и наглядност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инцип охраны и укрепления психического и физического здоровья дете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отличительные  особенности УМК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максимальное размещение методического аппарата, включая организационные формы работы, в корпусе самого учебника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использование единой системы условных обозначений во всем УМК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систему перекрестных взаимных ссылок между учебникам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УМК формирует умение поиска, передачи и хранения информации. В учебниках комплекта присутствуют ссылки на интернет-сайты, специально разработанные для работы с младшими школьникам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озволяет школьнику перейти в среднюю школу с большим багажом всех необходимых знаний для дальнейшего обуч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FE838-6E79-488D-ABB9-7AA009A065E5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5CCD-ACAC-491C-A87F-7CCE33F97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631F-A984-48AF-8F17-2C8E31137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F351-5B12-499F-AD38-B599EB861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EEBB-C2A9-4BF0-82CF-B5BDCD0EE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C061-04AE-43CB-826A-939948A64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9056-6AF4-4805-B8C4-E69C8F772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60E6-2FA9-412C-B011-009566C7B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464F-200E-436C-AC38-E8132ECA9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8FB9-9991-4470-8249-C5AFC403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06F3-2A2B-40A1-80B8-9307200C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CC0C-7598-43DB-A591-84567E06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6F6F-4659-4F52-9E11-0AF1BA3A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EC7F7-4065-4629-9633-9EBE63B796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1332000" y="189000"/>
            <a:ext cx="6264360" cy="2808360"/>
          </a:xfrm>
          <a:prstGeom prst="rect">
            <a:avLst/>
          </a:prstGeom>
          <a:ln w="9360">
            <a:solidFill>
              <a:srgbClr val="cc0099"/>
            </a:solidFill>
            <a:miter/>
          </a:ln>
        </p:spPr>
      </p:pic>
      <p:sp>
        <p:nvSpPr>
          <p:cNvPr id="50" name="Oval 6"/>
          <p:cNvSpPr/>
          <p:nvPr/>
        </p:nvSpPr>
        <p:spPr>
          <a:xfrm>
            <a:off x="324000" y="2997360"/>
            <a:ext cx="8351640" cy="3671640"/>
          </a:xfrm>
          <a:prstGeom prst="ellipse">
            <a:avLst/>
          </a:prstGeom>
          <a:gradFill rotWithShape="0">
            <a:gsLst>
              <a:gs pos="0">
                <a:srgbClr val="477618"/>
              </a:gs>
              <a:gs pos="50000">
                <a:srgbClr val="99ff33"/>
              </a:gs>
              <a:gs pos="100000">
                <a:srgbClr val="477618"/>
              </a:gs>
            </a:gsLst>
            <a:lin ang="54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Bookman Old Style"/>
              </a:rPr>
              <a:t>Системы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Bookman Old Style"/>
              </a:rPr>
              <a:t>обучения 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0000ff"/>
                </a:solidFill>
                <a:latin typeface="Bookman Old Style"/>
              </a:rPr>
              <a:t>в начальной школе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df986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Bookman Old Style"/>
              </a:rPr>
              <a:t>УМК «Классическая начальная школ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авторами учебников являются известные методисты и учёные, оказывающие серьёзное влияние на становление современного начального образования (Т.Г. Рамзаева, О.В. Джежелей, Л.И. Тикунова, Э.И. Александрова, В.С.Кузин и друг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дидактическую основу учебных пособий составляют классические принципы дидак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особенностью является органическое соединение традиционной методики с последними достижениями современной психологии и новейшими подходами к решению методических проблем, а также опора на педагогику сотрудни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авторы делают акцент на систему заданий проблемно-поискового харак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се учебники нацелены на развитие самостоятельности и в добывании знаний, и в оценке результатов собствен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книги содержат не только индивидуальные, но и коллективные задания, которые учат детей взаимодействовать друг с другом, отстаивать свою позицию, слушать и понимать товарищ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использование тетрадей на печатной основе позволяет учителю регулировать нагруз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опыт практической деятельности способствует формированию теоретических понятий, которые составляют фундамент успешного обучения не только в начальных классах, но и в дальнейш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j0303377[1]"/>
          <p:cNvPicPr/>
          <p:nvPr/>
        </p:nvPicPr>
        <p:blipFill>
          <a:blip r:embed="rId1"/>
          <a:stretch/>
        </p:blipFill>
        <p:spPr>
          <a:xfrm>
            <a:off x="7093080" y="5516640"/>
            <a:ext cx="1638000" cy="134136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6da3a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Bookman Old Style"/>
              </a:rPr>
              <a:t>УМК «Школа 2100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Bookman Old Style"/>
              </a:rPr>
              <a:t>(под ред. А.А. Леонтьева</a:t>
            </a: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не просто комплект учебников, а система, котор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редполагает развивающее личностно ориентированное образование для младших школь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главное преимущество учебно-методического комплекта заключается в глубокой преемственности и непрерывности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се учебники программы построены с учетом психологической специфики возра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дети учатся действовать самостоятельно, правила и выводы не даются в готовом вид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эта программа направлена на развитие логического мышления, речи, воображения, памя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характерной особенностью этой образовательной программы является принцип минимакс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чебный материал предлагается ученикам по максимуму, а учащийся должен усвоить материал по минимуму стандарта. Таким образом, у каждого ребенка есть возможность взять столько, сколько он мо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j0234128[1]"/>
          <p:cNvPicPr/>
          <p:nvPr/>
        </p:nvPicPr>
        <p:blipFill>
          <a:blip r:embed="rId1"/>
          <a:stretch/>
        </p:blipFill>
        <p:spPr>
          <a:xfrm>
            <a:off x="7596360" y="0"/>
            <a:ext cx="1690560" cy="162864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f5996"/>
          </a:solidFill>
          <a:ln w="9360">
            <a:solidFill>
              <a:srgbClr val="ff33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ff"/>
                </a:solidFill>
                <a:latin typeface="Bookman Old Style"/>
              </a:rPr>
              <a:t>УМК «Перспектива</a:t>
            </a:r>
            <a:r>
              <a:rPr b="1" lang="ru-RU" sz="2800" spc="-1" strike="noStrike">
                <a:solidFill>
                  <a:srgbClr val="cc6600"/>
                </a:solidFill>
                <a:latin typeface="Bookman Old Style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учебники комплекта одобрены и рекомендованы РАН-РАО, включены в серию «Академический школьный учебн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 комплекте реализована новая технология конструирования учебников комплекта, котора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улучшает и облегчает преподавание и усвоение предметного материала (единые методология, дизайн и система навигаци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позволяет родителям стать активными участниками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образовательного проце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комплект предполагает дифференцированные задания для учеников с разным уровнем подготов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одержание школьных предметов раскрывается в культурно-историческом аспекте, что обеспечивает всесторонне развитие младшего школь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методический аппарат книг тщательно продуман, что позволяет использовать этот комплект для индивидуальной работы родителей с ребенком до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игровой и занимательный материалы пособ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оответствуют возрастным особенност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ервокласс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j0398139[1]"/>
          <p:cNvPicPr/>
          <p:nvPr/>
        </p:nvPicPr>
        <p:blipFill>
          <a:blip r:embed="rId1"/>
          <a:stretch/>
        </p:blipFill>
        <p:spPr>
          <a:xfrm>
            <a:off x="6588000" y="5013360"/>
            <a:ext cx="2376720" cy="184464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48778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cc"/>
                </a:solidFill>
                <a:latin typeface="Bookman Old Style"/>
              </a:rPr>
              <a:t>УМК по математике Б.П.Гейдм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cc"/>
                </a:solidFill>
                <a:latin typeface="Bookman Old Style"/>
              </a:rPr>
              <a:t>(издательство «Русское слово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о всем параметрам соответствуют требованиям подготовки учащихся на конец обучения в начальной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удачная структура, прекрасная проработка каждого урок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истемность подачи матери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разноуровневые задания, обеспечивающие комфорт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для всех участников образовательного проце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учителю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нет необходимости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одбирать материал для устного счёта, т.к. учебн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насыщен  разнообразными интересными задан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рисовать и чертить на доске, т.к. все чертеж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хемы, рисунки и т.д. представлены в учебн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уче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имеет возможность работать в тетради на печатной осн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 чёткой формулировкой всех зад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одержание задач близко и понятно детям, т.к. построено на основе сказ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роди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оурочное представление материала даёт возможность отслед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ошаговость проходимого материала (н-р, во время болезни ребёнка родители легко могут ему помочь в освоении материал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763640" y="4365720"/>
            <a:ext cx="2016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2771640" y="3789360"/>
            <a:ext cx="4680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96" name="Picture 11" descr="j0398305[1]"/>
          <p:cNvPicPr/>
          <p:nvPr/>
        </p:nvPicPr>
        <p:blipFill>
          <a:blip r:embed="rId1"/>
          <a:stretch/>
        </p:blipFill>
        <p:spPr>
          <a:xfrm>
            <a:off x="7380360" y="1628640"/>
            <a:ext cx="1763640" cy="247680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cecdb"/>
          </a:solidFill>
          <a:ln w="9360">
            <a:solidFill>
              <a:srgbClr val="cc00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Bookman Old Style"/>
              </a:rPr>
              <a:t>Авторская програм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Bookman Old Style"/>
              </a:rPr>
              <a:t>курса «Литературное чтени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Bookman Old Style"/>
              </a:rPr>
              <a:t>(издательство «Русское слово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Bookman Old Style"/>
              </a:rPr>
              <a:t>Г.С.Меркин, Б.Г.Меркин, С.А.Болот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ограмма рассчитана на четыре года обучения младших школьников с 1 по 4 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ограмма для каждого года состоит из следующих разделов: «Круг произведений для чтения», «Читательские умения», «Литературоведческие понятия». Заканчивается программа разделом «Основные требования к знаниям, умениям и навыкам учащихся, оканчивающих начальную школу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тличительная особенность - введение в круг чтения младших школьников целостных литературных текстов, а также фрагментов отдельных эпических произвед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связь с другими искусствами, работа с иллюстрациями, фотографиями, выполнение рисунков и иллюстраций к эпизодам произведения, художественное произведение – кино – мультиплик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формирование личности, воспитание чувства любви, внимания, уважения к членам семь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ограмма для 1–4 классов ориентирует учителя начальной школы на выполнение задач литературного образования и эстетического развития младших школьников в определенной системе, все элементы которой взаимосвязаны, логически взаимообусловлены и достаточно жестко структурирова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ограмма является звеном в системе общего среднего филологического образования учащихся с первого по девятый 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учебники для 2,3,4 классов планируются к выпуску в 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 половине 2009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j0280405[1]"/>
          <p:cNvPicPr/>
          <p:nvPr/>
        </p:nvPicPr>
        <p:blipFill>
          <a:blip r:embed="rId1"/>
          <a:stretch/>
        </p:blipFill>
        <p:spPr>
          <a:xfrm>
            <a:off x="0" y="0"/>
            <a:ext cx="1619280" cy="112536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492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uk-UA" sz="3200" spc="-1" strike="noStrike" u="sng">
              <a:solidFill>
                <a:srgbClr val="333399"/>
              </a:solidFill>
              <a:uFillTx/>
              <a:latin typeface="Bookman Old Styl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360" y="2491920"/>
            <a:ext cx="5003640" cy="4365720"/>
          </a:xfrm>
          <a:prstGeom prst="rect">
            <a:avLst/>
          </a:prstGeom>
          <a:solidFill>
            <a:srgbClr val="ff6600"/>
          </a:solidFill>
          <a:ln w="9360">
            <a:solidFill>
              <a:srgbClr val="cc33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66ff"/>
                </a:solidFill>
                <a:uFillTx/>
                <a:latin typeface="Bookman Old Style"/>
              </a:rPr>
              <a:t>ТРАДИЦИО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«Школа Росс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«Начальная школа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XXI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ве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«Школа 2100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«Гармо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«Классическая начальная школ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«Перспективная начальная школ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«Планета знани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«Перспекти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5003640" y="2492280"/>
            <a:ext cx="4140360" cy="4365720"/>
          </a:xfrm>
          <a:prstGeom prst="rect">
            <a:avLst/>
          </a:prstGeom>
          <a:solidFill>
            <a:srgbClr val="ffff66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66ff"/>
                </a:solidFill>
                <a:uFillTx/>
                <a:latin typeface="Bookman Old Style"/>
              </a:rPr>
              <a:t>РАЗВИВАЮЩАЯ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Дидактическая система Л.В. Занкова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Система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Д.Б. Эльконина-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В.В. Давыдова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5" name="Line 7"/>
          <p:cNvSpPr/>
          <p:nvPr/>
        </p:nvSpPr>
        <p:spPr>
          <a:xfrm flipH="1">
            <a:off x="3276360" y="1916280"/>
            <a:ext cx="115092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6" name="Line 8"/>
          <p:cNvSpPr/>
          <p:nvPr/>
        </p:nvSpPr>
        <p:spPr>
          <a:xfrm>
            <a:off x="4788000" y="1916280"/>
            <a:ext cx="122400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7" name="Oval 9"/>
          <p:cNvSpPr/>
          <p:nvPr/>
        </p:nvSpPr>
        <p:spPr>
          <a:xfrm>
            <a:off x="1187280" y="0"/>
            <a:ext cx="6769440" cy="2060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333399"/>
                </a:solidFill>
                <a:uFillTx/>
                <a:latin typeface="Bookman Old Style"/>
              </a:rPr>
              <a:t>Системы</a:t>
            </a:r>
            <a:br>
              <a:rPr sz="3200"/>
            </a:br>
            <a:r>
              <a:rPr b="1" i="1" lang="ru-RU" sz="3200" spc="-1" strike="noStrike" u="sng">
                <a:solidFill>
                  <a:srgbClr val="333399"/>
                </a:solidFill>
                <a:uFillTx/>
                <a:latin typeface="Bookman Old Style"/>
              </a:rPr>
              <a:t>обучения </a:t>
            </a:r>
            <a:br>
              <a:rPr sz="3200"/>
            </a:br>
            <a:r>
              <a:rPr b="1" i="1" lang="ru-RU" sz="3200" spc="-1" strike="noStrike" u="sng">
                <a:solidFill>
                  <a:srgbClr val="333399"/>
                </a:solidFill>
                <a:uFillTx/>
                <a:latin typeface="Bookman Old Style"/>
              </a:rPr>
              <a:t>в начальной школе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c0000"/>
                </a:solidFill>
                <a:uFillTx/>
                <a:latin typeface="Bookman Old Style"/>
              </a:rPr>
              <a:t>Развивающее обуч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Bookman Old Style"/>
              </a:rPr>
              <a:t>Дидактическая система Л.В. Занк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дидактический принцип – быстрое освоение материала, высокий уровень труд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ведущая роль принадлежит теоретическим знани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усвоенный материал закрепляется практическими      задан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делается ставка на самостоятельность учащегося, его творческое постижение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постижение понятий происходит в понимании системных взаимосвяз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7486560" y="3141720"/>
            <a:ext cx="1657440" cy="184788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89000"/>
          </a:xfrm>
          <a:prstGeom prst="rect">
            <a:avLst/>
          </a:prstGeom>
          <a:solidFill>
            <a:srgbClr val="bcf7a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Bookman Old Style"/>
              </a:rPr>
              <a:t>Развивающая система 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Bookman Old Style"/>
              </a:rPr>
              <a:t>Д.Б. Эльконина – В.В. Давыд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9144000" cy="4869000"/>
          </a:xfrm>
          <a:prstGeom prst="rect">
            <a:avLst/>
          </a:prstGeom>
          <a:solidFill>
            <a:srgbClr val="bcf7a7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самое яркое отличие – научная проработка проблемы безотметочного об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основной принцип – научить детей получать знания, искать их самостоятельно, а не заучивать школьные ист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делается упор не на результат – усвоенные знания, а на способы их пости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большое значение придаётся отработке коммуникативных навыков и работе в команде (паре, групп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j0396700[1]"/>
          <p:cNvPicPr/>
          <p:nvPr/>
        </p:nvPicPr>
        <p:blipFill>
          <a:blip r:embed="rId1"/>
          <a:stretch/>
        </p:blipFill>
        <p:spPr>
          <a:xfrm>
            <a:off x="324000" y="189000"/>
            <a:ext cx="1485720" cy="119376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84280"/>
          </a:xfrm>
          <a:prstGeom prst="rect">
            <a:avLst/>
          </a:prstGeom>
          <a:solidFill>
            <a:srgbClr val="f6c6a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c0000"/>
                </a:solidFill>
                <a:uFillTx/>
                <a:latin typeface="Bookman Old Style"/>
              </a:rPr>
              <a:t>Традиционная </a:t>
            </a:r>
            <a:br>
              <a:rPr sz="4000"/>
            </a:br>
            <a:r>
              <a:rPr b="1" i="1" lang="ru-RU" sz="4000" spc="-1" strike="noStrike" u="sng">
                <a:solidFill>
                  <a:srgbClr val="cc0000"/>
                </a:solidFill>
                <a:uFillTx/>
                <a:latin typeface="Bookman Old Style"/>
              </a:rPr>
              <a:t>система  об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solidFill>
            <a:srgbClr val="f6c6a8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Bookman Old Style"/>
              </a:rPr>
              <a:t>УМК «Школа Росс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хватывает все учебные предме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включает завершённые линии по всем предметам начального образ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учебники компл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рекомендованы МО и науки 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твечают требованиям действующего Государственного стандарта начального общего образова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беспечивают преемственность с дошкольным и основным общим образовани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является гибким инструментом с полным методическим обеспечени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учитывает изменения, предусмотренные </a:t>
            </a: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стандартом второго поколе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личностно- и ценностно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риентирова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беспечивает успешность ребёнка в школе и за её предела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актикоориентирова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едусматривает формирование УУД (универсальных учебных действий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направлен на развитие умения детей общатьс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оддерживает совместную деятельность школы и семь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j0232128[1]"/>
          <p:cNvPicPr/>
          <p:nvPr/>
        </p:nvPicPr>
        <p:blipFill>
          <a:blip r:embed="rId1"/>
          <a:stretch/>
        </p:blipFill>
        <p:spPr>
          <a:xfrm>
            <a:off x="7429680" y="5373720"/>
            <a:ext cx="1714320" cy="125712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eefba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ff"/>
                </a:solidFill>
                <a:latin typeface="Bookman Old Style"/>
              </a:rPr>
              <a:t>УМК «Гармо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solidFill>
            <a:srgbClr val="eefba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ключает в себя учебники и учебные пособия по основным предметам начального образования (с 2009 года планируется дополнить такими дисциплинами как английский язык, изобразительное искусство и музы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се учебники рекомендованы МО и науки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ключены в ФП на 2009/10 уч.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главные задачи, решаемые  авторами комплек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разработка способов организации учебной деятельности младших школь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оздание комфортных условий для развития ребёнка в процессе усвоения зна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оответствие учебных программ требованиям начального образовательного станда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УМК направлен 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формирование приёмов умственной деятельности (анализ, синтез, сравнение, аналогия и т.д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амостоятельную деятельность учащихся в усвоении содерж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активное включение в познавательную деятельность приёмов наблюдения, выбора, преобразования и конструир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опору на опыт ребё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концепция УМК соотносится с основными идеями развивающего обучения (с системой Л.В.Занков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j0398159[1]"/>
          <p:cNvPicPr/>
          <p:nvPr/>
        </p:nvPicPr>
        <p:blipFill>
          <a:blip r:embed="rId1"/>
          <a:stretch/>
        </p:blipFill>
        <p:spPr>
          <a:xfrm>
            <a:off x="7632720" y="1628640"/>
            <a:ext cx="1511280" cy="129564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3c1bb"/>
          </a:solidFill>
          <a:ln w="9360">
            <a:solidFill>
              <a:srgbClr val="ff33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Bookman Old Style"/>
              </a:rPr>
              <a:t>УМК «Начальная школа </a:t>
            </a:r>
            <a:r>
              <a:rPr b="1" lang="en-US" sz="2800" spc="-1" strike="noStrike">
                <a:solidFill>
                  <a:srgbClr val="ff3399"/>
                </a:solidFill>
                <a:latin typeface="Bookman Old Style"/>
              </a:rPr>
              <a:t>XXI</a:t>
            </a:r>
            <a:r>
              <a:rPr b="1" lang="ru-RU" sz="2800" spc="-1" strike="noStrike">
                <a:solidFill>
                  <a:srgbClr val="ff3399"/>
                </a:solidFill>
                <a:latin typeface="Bookman Old Style"/>
              </a:rPr>
              <a:t> ве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Bookman Old Style"/>
              </a:rPr>
              <a:t>(под ред. Н.Ф.Виноградово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учебники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ключены в ФП на 2009/10 уч.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УМК включает завершённые линии по основным предметам начального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ерьёзное внимание уделено проблеме формирования учебной деятельности младшего школь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 комплекте есть параллельная программа «Учебная деятельнос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реализует основные идеи системы  развивающего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направлен на обеспечение «мягкой» адаптации детей к новым для них условиям школьной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комплект реализует право ребенка на свою индивидуальность: дети поставлены в условия, когда могут самостоятельно добывать знания, применять их, размышлять, фантазировать, играть (предусмотрены специальные тетради «Учимся думать и фантазировать», «Учимся познавать окружающий мир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j0417332[1]"/>
          <p:cNvPicPr/>
          <p:nvPr/>
        </p:nvPicPr>
        <p:blipFill>
          <a:blip r:embed="rId1"/>
          <a:stretch/>
        </p:blipFill>
        <p:spPr>
          <a:xfrm>
            <a:off x="6443640" y="5003640"/>
            <a:ext cx="2209680" cy="185436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6d3f8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Bookman Old Style"/>
              </a:rPr>
              <a:t>УМК «Планета знани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чебники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ключены в ФП на 2009/10 уч.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К состоит из  учебников, рабочих тетрадей, дидактических и методических пособий по основным предметам начального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одержание предоставляет возможность учителю использовать разные формы и методы обу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целью является создание образовательного пространства с разнообразием  видов учебн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се учебники имеют единую систему заданий и единую маркировку, которая облегчает работу и школьника, и учи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К полностью реализует государственный образовательный станда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для организации внеурочной деятельности предусмотрены специальные развороты проектной деятельности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труктурирование учебного материала обеспечива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балансированность репродуктивной,  исследовательской и творческ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личностно ориентированное взаимодейств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зрослых с деть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j0232909[1]"/>
          <p:cNvPicPr/>
          <p:nvPr/>
        </p:nvPicPr>
        <p:blipFill>
          <a:blip r:embed="rId1"/>
          <a:stretch/>
        </p:blipFill>
        <p:spPr>
          <a:xfrm>
            <a:off x="7740720" y="5084640"/>
            <a:ext cx="1403280" cy="177336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5c6fa"/>
          </a:solidFill>
          <a:ln w="9360">
            <a:solidFill>
              <a:srgbClr val="660066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Bookman Old Style"/>
              </a:rPr>
              <a:t>УМК «Перспективная начальная школ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в основе создания комплекта учебников лежит Концепция, которая появилась в результате обобщения опыта комплектов  учебников  «Школа XXI века», «Гармония», а также комплектов  учебников по развивающим системам обучения Л.В. Занкова, Д.Б. Эльконина—В.В. Давыд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сновная идея УМК— оптимальное развитие каждого ребенка на основе педагогической поддержки его индивидуа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сновные принципы концепц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инцип непрерывного общего развития каждого ребен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инцип целостности картины мир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инцип учета индивидуальных возможностей и способностей школьник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инципы прочности и нагляд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инцип охраны и укрепления психического и физического здоровья де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отличительные  особенности УМК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максимальное размещение методического аппарата, включая организационные формы работы, в корпусе самого учебник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использование единой системы условных обозначений во всем УМК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систему перекрестных взаимных ссылок между учебника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УМК формирует умение поиска, передачи и хранения информации. В учебниках комплекта присутствуют ссылки на интернет-сайты, специально разработанные для работы с младшими школьни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озволяет школьнику перейти в среднюю школу с большим багажом всех необходимых знаний для дальнейшего обу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j0343361[1]"/>
          <p:cNvPicPr/>
          <p:nvPr/>
        </p:nvPicPr>
        <p:blipFill>
          <a:blip r:embed="rId1"/>
          <a:stretch/>
        </p:blipFill>
        <p:spPr>
          <a:xfrm>
            <a:off x="6732720" y="5229360"/>
            <a:ext cx="1942920" cy="162864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8T06:02:49Z</dcterms:created>
  <dc:creator>Nataly</dc:creator>
  <dc:description/>
  <dc:language>en-US</dc:language>
  <cp:lastModifiedBy>LEGION</cp:lastModifiedBy>
  <dcterms:modified xsi:type="dcterms:W3CDTF">2015-01-27T12:00:55Z</dcterms:modified>
  <cp:revision>7</cp:revision>
  <dc:subject/>
  <dc:title>Системы  обучения   в начальной школе</dc:title>
</cp:coreProperties>
</file>