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EEF6-0320-4C73-88FA-2D23482C10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E4C4-BF9A-4346-B5B6-F38139901D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39E9-A605-46B5-A1E0-20D6CA9F3C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A2E7-F277-421B-B46C-8725853439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567F-E942-46FC-BBE9-CA26CD9988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F6E4-C065-41A2-B676-CC6B7B486C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9678-19C4-47E1-AEDF-90FBA3A8A1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AD1A-3CE8-40B8-94FC-FB2637054B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8CF0-0C56-4454-80EB-12349DA73B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3A09-55A8-40F0-9218-4288DCE5C6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9004-4D22-4403-94A8-D39C5CBDFD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0545-937E-4742-A254-CF995A52E4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4694-2EE1-4BF6-9B80-8EEA28F494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AC96-040D-43A4-B9E7-153A8D584D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3D5-0EAE-41D1-91CB-8BECA44C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303-6854-4122-8D88-736A077B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3DF-3EF8-46E3-AEE9-1E09B0ED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B58-B658-4E62-A336-C0DB8C2F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3CF-0561-47E4-97E1-5F93AEB5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87F-C20C-41A0-A2B7-6AACBB33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585D-1169-423D-88F3-6DF8CC8F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B34-DFA1-4BEA-9D48-3C671969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6835-783F-4DB5-8E43-F7B172A6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416-A096-4706-A04B-ACF63D3F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4FB1-C0AC-47F6-A210-130191F1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331-8A7E-4031-B487-D3669905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7F0B-149F-4FFE-8915-278F6DBA1F6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D20B-9A61-46A4-A79C-E3FDA484EE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Развитие нравственных качеств ребёнка в младшем школьном возраст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0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«Нравственное воспитание детей – то мудрое ограничение. Ребёнок должен понять, что есть три вещи: можно, нельзя и надо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f497d"/>
                </a:solidFill>
                <a:latin typeface="Calibri"/>
              </a:rPr>
              <a:t>В.А. Сухомлин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5" descr="семейное восп..jpg"/>
          <p:cNvPicPr/>
          <p:nvPr/>
        </p:nvPicPr>
        <p:blipFill>
          <a:blip r:embed="rId1"/>
          <a:stretch/>
        </p:blipFill>
        <p:spPr>
          <a:xfrm>
            <a:off x="142920" y="4714920"/>
            <a:ext cx="2449440" cy="18907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5. Я плачу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т (ремнём)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естра не даёт смотреть телевизо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ругают, обижают – 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кого-то жалк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6. Я переживаю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страш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умирае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и папа долго на работ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т друзе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уходит (уезжает) мама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лачу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7. Я обижа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друг рассказывает мой секрет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жают, бьют – 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огда мама бьё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8. Мне стыдно, когд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не помогаю –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олучу двойк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ривля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ью пап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проигрыв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не не бывает стыд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9. Мне страшно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боюсь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войн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я ле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ама уходи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кто-то смотрит в ок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0. Я бо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еля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падаю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страшно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темно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когда остаюсь один дом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пугаю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1. Я злюсь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меня бь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ервничаю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, трогают - 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12. Я хочу драться, ког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обидят, бьют – 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меня дразня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а улице дерутс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никогда не хочу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4" descr="post-5450-1181480382.jpg"/>
          <p:cNvPicPr/>
          <p:nvPr/>
        </p:nvPicPr>
        <p:blipFill>
          <a:blip r:embed="rId1"/>
          <a:stretch/>
        </p:blipFill>
        <p:spPr>
          <a:xfrm>
            <a:off x="6559560" y="4714920"/>
            <a:ext cx="2228760" cy="17622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ты помочь человеку в бе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8, не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ударить намерен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0, нет – 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кого-нибудь незаслуженно обиде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1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шь ли сказать неправду о другом челове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1, нет – 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 ли быть честны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 – 4 нет – 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ть ли у тебя прозвищ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т – 5, да – 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ты к нему относишь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нравится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то тебя чаще обижае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и – 5 Никто – 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5" descr="литература.gif"/>
          <p:cNvPicPr/>
          <p:nvPr/>
        </p:nvPicPr>
        <p:blipFill>
          <a:blip r:embed="rId1"/>
          <a:stretch/>
        </p:blipFill>
        <p:spPr>
          <a:xfrm>
            <a:off x="6143760" y="4143240"/>
            <a:ext cx="2334960" cy="18147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коны нравственного воспитания в семь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1) Родители должны предъявлять единые требования к ребёнк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2)Основы трудолюбия должны закладываться с дет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3) Ребёнок нуждается в ласке, похвал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4) Уважительного отношения членов семьи друг к друг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5) В семье должно быть правильное и равномерное распределение материальных и моральных средств для де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ВЫВОД: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Если эти законы в семье пополняются, значит, ребёнок состоится как лично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5" descr="2.gif"/>
          <p:cNvPicPr/>
          <p:nvPr/>
        </p:nvPicPr>
        <p:blipFill>
          <a:blip r:embed="rId1"/>
          <a:stretch/>
        </p:blipFill>
        <p:spPr>
          <a:xfrm>
            <a:off x="3429000" y="2000160"/>
            <a:ext cx="1695600" cy="2247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любого ребёнка начинается в семье. Воспитание доброты, честности, справедливости, правдивости может быть в семье, где царит здоровая нравственная атмосфера, в которой не допускается лицемерие, ложь, нечестность и фальшь в отношения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равственность ребёнка возможна там, где нет лжи, где существует вера друг в друга, тепло и добро дома, где в случившимся с тобой несчастье тебя не обвиняют, а поддерживают. Но поддержка должна быть правдивая, честная, справедлива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снова нравственного воспитания – правдивость и объективность семьи, отсутствие у ребёнка боязни за то, что он сделал что-то не так. Ребёнок должен не бояться,  а стыдиться за свой плохой поступок, переживать из-за него, мучиться и страдать, чтобы подобное никогда не произошло с ним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12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воклассник Вова увидел у подъезда своего дома санки. Улучив момент, когда во дворе никого не было, он взял санки и принёс домой. Возвратившись с работы, мать спросила сына: «Откуда появились санки в квартире?» «Я их во дворе нашёл», - ответил без смущения Вов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ой должна быть реакция матери на ответ сын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Как бы вы поступил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2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785880"/>
            <a:ext cx="84009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ретьеклассник Миша возвратился домой в слезах, с окровавленными губами. «Кто тебя избил?» - спросила испуганная мама. «Валерка», - всхлипывая произнёс мальчик. Мама хорошо знала Валеру, он не раз играл у них в доме с Мишей. Но обида за побитого сына охватила её. Она выбежала на улицу, увидела Валеру среди мальчиков и, подбегая к детям, закричала: «Ах ты, негодяй! Что ты позволяешь себе бандитские выходки?!» «Он первым стал задираться», - пытался оправдаться Валера, убегая от матери Миши. Ребята, видевшие драку мальчишек, наперебой заговорили: «Ваш Миша первым полез!» «А как он Игорю нос разбил, вы забыли?» «Он сам виноват!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может отразиться на развитии нравственных качеств Володи, на отношении к нему сверстников поступок его матер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бы вы поступили в подобной ситуа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4.gif"/>
          <p:cNvPicPr/>
          <p:nvPr/>
        </p:nvPicPr>
        <p:blipFill>
          <a:blip r:embed="rId1"/>
          <a:srcRect l="0" t="0" r="9222" b="0"/>
          <a:stretch/>
        </p:blipFill>
        <p:spPr>
          <a:xfrm>
            <a:off x="7000920" y="4572000"/>
            <a:ext cx="1641600" cy="1838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туация 3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аня росла в семье болезненным ребёнком. Ей всегда отдавали самое лучшее из еды. Однажды, увидев выбегающую на улицу дочь с апельсином в руке, мать приказала: «Смотри, сама ешь, никому не давай!» Таня вышла на улицу и в присутствии подружек начала очищать апельсин. Девочки молча, наблюдали за ней. Одна из них не выдержала и попросила дольку. «Не дам, - отозвалась Таня. – У нас их мало, и мама только мне позволяет их есть». «Жадина», - сказала девочка. «Жадина – говядина» - закричали другие. Но Таня спокойно доела апельсин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иходилось ли вам наблюдать похожие ситуации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ава ли была мать, наказав дочери никому не давать апельсин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Какие отрицательные качества могут развиться у девочки в результате такого воспитания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ладший школьный возраст – время интенсивного приобретения ребёнком социальных знаний, которые включают в себя усвоение общественных норм и правил, а также способов действий в различных ситуациях. Именно в начальной школе дети учатся принимать в расчёт нюансы дружбы и авторитета, учитывать множество предписаний и прави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в этот период времени родителям стоит задуматься о том, насколько ваш ребёнок может уживаться в коллективе, каково ему среди детей, какое значение он имеет для коллектива и может ли коллектив обходиться без нег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жно присмотреться и прислушаться к ребёнку: что он говорит о школе, своих сверстниках, переживает ли он, если совершил какой-то неблаговидный поступок; радуется ли когда оказывается помощь другому человеку и способен ли сам кому-нибудь помоч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дачи воспит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 в этот период времен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в ребёнке нравственную ответствен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свои поступки, дела перед близкими, окружающими, обществ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оспитывать щедрость и бескорыст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гативное отношение к жадности и корыстолюб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 ребён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чувства удовлетворения о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того, что он дел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орошие де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иносит польз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лизким, окружающим, радует их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обрыми поступкам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ть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ыдержку, сдержанность и терпим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которым человеческим качеств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учить ребёнка понимать душевное состояние другого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его боль, тревоги, оказывать бескорыстную помощь и поддержку, быть чутким и внимательным, отзывчивым и сердеч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обудить у ребёнка потребность заботиться о друг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иносить им пользу, радоваться их успех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воспитывать у детей скромнос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негативное отношение к хвастовству, зазнайству, высокомер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родителе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785520"/>
            <a:ext cx="32860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юбимая сказка ребён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уш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лёша Попович и Тугарин зме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е народные сказки –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Любимый филь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эппи – длинный чуло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Человек – паук»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апины доч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мешари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Астерикс и Викинг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Железный человек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Ранетк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Любимая телепередач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Галилео» -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Танцы со звёздами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роси у Всезнамус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Спокойной ночи, малыш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Любимый геро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знай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нцес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унт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тме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ловек-паук -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жеки Ч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го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57440" y="428400"/>
            <a:ext cx="406692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 Любимая кни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циклопедии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олотой клю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ключения барона Мюнхаузе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ысяча и одна ноч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рамель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ючения Незнай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Любимая компьютерная игр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нк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Алик идёт в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уз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нк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Хотите оград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урного влияния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лохих компаний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адекватны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аркотиков, сигарет и спиртных напи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оизв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Хотите предостереч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обдуманных поступ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сего плохого, от опасности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пирт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тите обезопасить ребёнка о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и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ркот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грязнени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его плохого(многого)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вы пытаетесь это сдела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помощью бесед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ров из жизни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зъясняем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читаем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аем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ем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нкета детей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785880"/>
            <a:ext cx="40384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Я раду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упаю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«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со мной друг-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ветит солнце –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хожусь в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таюсь на роли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 в компьютер и телеф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ду гуля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Я сме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игр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бр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щекочут –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мешно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 друзь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не весе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ижу грязного мальч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720" y="713880"/>
            <a:ext cx="43574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Я веселю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на  дискоте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ень рождения, праздник -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ешаю шар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ядом д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цир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граю, гуляю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Я горжусь, ког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учаю хорошую оце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тпускают кататься с гор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ам чита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ня хвалят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делаю подел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могаю, спасаю кого-нибудь -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22M6.gif"/>
          <p:cNvPicPr/>
          <p:nvPr/>
        </p:nvPicPr>
        <p:blipFill>
          <a:blip r:embed="rId1"/>
          <a:stretch/>
        </p:blipFill>
        <p:spPr>
          <a:xfrm>
            <a:off x="7786800" y="1928880"/>
            <a:ext cx="1160280" cy="928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baby21.gif"/>
          <p:cNvPicPr/>
          <p:nvPr/>
        </p:nvPicPr>
        <p:blipFill>
          <a:blip r:embed="rId2"/>
          <a:stretch/>
        </p:blipFill>
        <p:spPr>
          <a:xfrm>
            <a:off x="5929200" y="5214960"/>
            <a:ext cx="1285920" cy="12477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1:36:40Z</dcterms:created>
  <dc:creator>Ольга</dc:creator>
  <dc:description/>
  <dc:language>en-US</dc:language>
  <cp:lastModifiedBy>LEGION</cp:lastModifiedBy>
  <dcterms:modified xsi:type="dcterms:W3CDTF">2015-01-27T12:01:26Z</dcterms:modified>
  <cp:revision>8</cp:revision>
  <dc:subject/>
  <dc:title>Развитие нравственных качеств ребёнка в младшем школьном возрасте</dc:title>
</cp:coreProperties>
</file>