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70F2-6943-4579-A102-8A8148642C1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 у младших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81A6-66D0-403C-9EBA-4CE628ADCB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Рукодвигательный фактор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Создание правильного графического образа сло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его запоми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8C18-0BB6-4CD6-9824-DA88C7AB95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Проговаривание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9bbb59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азвитие речевого аппарата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9bbb59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Многократное проговаривание вслух та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как надо пис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F28D-1E7F-427F-A0EA-7474DE0717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Комментирование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бъясняющее рассуждение в процессе записи слов, пред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7E2D-45C5-4C1B-AC0D-36A8C06CB2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Необходимым условием формирования полноценного и прочного орфографического навыка на начальном этапе является </a:t>
            </a:r>
            <a:r>
              <a:rPr b="1" lang="ru-RU" sz="12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которая заключается </a:t>
            </a: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в умении обнаруживать, видеть, замечать орфогра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   </a:t>
            </a: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и классифицировать их на основе опознавательных призна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EF59-CFCE-4AED-8EEC-881E5D60D4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7A17-9F4B-4F4B-A4D0-561F386854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entury Schoolbook"/>
              </a:rPr>
              <a:t>Актуальность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темы заключается в том, что первые шаги на пути познания родного языка всегда самые слож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От того, как будут сформированы азы орфографической грамотности на начальном этапе обучения во многом зависит дальнейшее успешное обучение любой школьной дисципл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9768-6BA1-459E-97CE-D4F57639E4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entury Schoolbook"/>
              </a:rPr>
              <a:t>Объектом исследования</a:t>
            </a:r>
            <a:r>
              <a:rPr b="0" lang="ru-RU" sz="14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является процесс обучения русскому языку младших школьников, направленный на 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повышение орфографической грамо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B7DF-C7A3-425C-B462-2704A156C8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entury Schoolbook"/>
              </a:rPr>
              <a:t>Предметом исслед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являются  методические приемы обучения орфографии русск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0AEF-D6BC-4883-9406-79BF2379D3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Цель работы</a:t>
            </a:r>
            <a:r>
              <a:rPr b="0" lang="ru-RU" sz="16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Schoolbook"/>
              </a:rPr>
              <a:t>представляет собой попытку выявить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 эффективные способы формирования орфографической зоркости;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создать систему орфографических упражнений для ее вырабо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F2B0-7FA1-4448-9E1E-70192675F9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entury Schoolbook"/>
              </a:rPr>
              <a:t>Пути решения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Увидеть орфограмму в сло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вид орфограммы, к какой теме относится, вспомнить прави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способ решения задачи в зависимости от типа (вида) орф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«шаги», ступени решения и их последовательность, т. е. составить алгоритм зада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ешить задачу, т.е. выполнить последовательные действия по алгорит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Написать слова в соответствии с решением задачи и сделать самопровер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4899-ADA0-458F-872E-CAF7265EF8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ФАКТОРЫ ОРФОГРАФИЧЕСКОЙ ЗОРКОСТИ, КАК ШАГ К  ГРАМОТНОМУ ПИСЬМ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30E7-8BC2-4DD6-A7CB-DCBE4D0C97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Зрительный фактор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Х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ро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ша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ро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а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ной!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лышны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песни птиц. Дятлы звонк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у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ча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по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лам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д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ре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ь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ев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р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а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шурша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ж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Они и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пи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Кругом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ц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у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ду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ы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ланды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34AE-02D8-414A-B9A8-F83E0C7839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Слуховой фактор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абота над развитием фонематического слух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1200" spc="-1" strike="noStrike">
                <a:solidFill>
                  <a:srgbClr val="c00000"/>
                </a:solidFill>
                <a:latin typeface="Century Schoolbook"/>
              </a:rPr>
              <a:t>(учить слушать и слышать то, что говорит учит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E839-4D70-4090-BC9F-D0A1FD6EB0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E56B-350F-4E9F-8A38-A1CCB100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B4A-99BD-4729-81AD-7C2BADD1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986-2E5C-46F1-B840-0594BA3B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DEB2-5E3F-4A0B-901F-C1132A62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65AC-7770-40F3-AAE9-B5A838BF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F2A6-63E0-493A-9317-38602E1D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138C-910D-477D-B561-FEA51760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7DB0-373B-49B5-8134-D4C746AD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A951-5B25-41FD-A658-16526CC6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5EE8-56AE-4AD3-AFAC-E9C15E6E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2A16-0612-4B86-8775-D7237674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0D0-9033-4A54-84DD-13BF4945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CA78-5BF6-4D63-87B5-E72DF07B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9CE2-4EA4-48C4-87F9-C03EC3A6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9BC4-F5FB-4DA0-839C-EC5D2F30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1780-0863-4C16-B3A8-FD448334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796C-9337-403F-B1E0-380B509F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3998A-B357-4169-9C7C-35FEDECB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BDDA1-AA4F-4F2B-8E09-90017555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42B5A-8B24-4C6C-8027-6934B53E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97B5A-6B81-4FBF-A223-A38E9855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CD330-035C-4050-A745-9164B0A5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7EE1-C803-498D-8295-4121F498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7F40F-9534-4A5D-A2CD-DAC1CC02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E7D1E-3CAA-4AE0-B049-9AD20CFE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E5C43-B694-4712-8FD5-DCFF46BA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68815-9B60-4884-A844-919F155B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3FFC3-F7C3-4D36-BCE6-4CE957BB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1468B-B13C-460F-A666-389AF33A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E0522-EB26-408D-B15E-342A1A05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AAB19-479D-408D-958C-7E7AAD28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CB6F8-FC78-4584-8BE0-2956168F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06CF3-D831-4A8C-96C6-8F1AE428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708-8D7E-46F2-A178-B276FEC0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33AEE-E9A0-4671-BE88-EA9AD643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21611-0D16-4384-A479-D1AC992F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EA181-3FE6-49FA-89E6-71E0C726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3177D-4B07-432C-80F0-C7BE0CA3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655C1-4D1B-488A-BC55-32053D02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CF5B9-0905-48D4-9C68-3080AEBA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69E5E-918E-4E7A-9E19-DF8E4452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C4C57-CDA0-4650-8EB7-09E745DE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65DE5-B86B-4935-A097-C2C87041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3AE6B-F9DF-4F41-8BCA-63B4FD14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AB4C-409F-471B-9DBB-B96F02F7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5002C-2803-42F6-88DA-2597F6F8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8D154-1538-41B2-B7F2-C76EFA8B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A1A58-25E1-48FA-A954-5E557324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40D80-683C-48C1-B7A8-2824257C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4FA02-5694-41D5-963E-080524FB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F514D-47E7-4996-AE5F-46619474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E7320-7C03-465B-BAFF-846B10CC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8845A-4DF3-4E7C-ADAE-CC043D70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4813C-7ED0-449C-893F-B7100621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2136E-97EA-4A88-B6F3-56FC8487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444-5F6A-4520-BDD5-42AB91D8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C8050-5E20-4131-A529-D988FD07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72C0B-6435-4ABB-8AF6-58369949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EBEE9-366D-4268-AC59-E82BB9BF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38FAF-147C-4582-8DDB-F3ED50C7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1193A-E14E-4F10-B0A9-1D3C373B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12A5D-CA02-4FA8-8C83-2FF23E6A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E78D3-3601-4179-9040-95002283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316C7-3167-4D76-8C8E-819D6FC1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00B89-ED24-49EB-89A6-D27BF4B5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7AA3D-6FF8-4A5C-875B-0C98251E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C3D-E37A-42AD-B20C-8B4441E0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F24F3-6C2A-45F6-B034-10224F0B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42088-AA8F-41D1-BDBC-75730D8A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714AC-565B-4422-A463-198B689F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596B4-7967-4953-9CC0-4EB507A6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BC9E1-D329-46EF-A7DE-580383A4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0D9F8-7D77-4FF9-AD60-79819E38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0025D-4EE4-48CB-B181-77395431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AA3AB-D06F-49A9-9A27-6A4BE9B1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CD54A-9B24-40B3-9DCA-F6D3F790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16114-156A-44D5-BA49-2DAF898D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845-F4DC-4579-B958-992A7B07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794CD-7716-4B03-ADE2-BCA79E6F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7769C-55C0-44FF-BDF8-7B4990F2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5981A-3A15-4EBC-87A2-79349ABC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7F3B1-0306-4A38-BE09-52D28F0B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16AF2-CA53-4714-8EBA-EC036912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D209-D064-4809-A3AF-E0551AF0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8C06-ECE1-4C65-B12C-7C48E01B916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1FEB-1C3E-4574-A52D-CD28D44EE89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59A8-CDC0-44A9-9762-CD6441D20F6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502A-3913-440D-8B86-F9CE1160D65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D27C-CE2B-4628-B3F4-3C36FEEB523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A5BF-BE58-4D2C-AB3D-788C87B52F0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8859-16F2-4A91-96EA-6F4A359DB47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70BC-9ED0-4A6E-B78E-122C18BFA4E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1033-EBAC-4A3A-BC27-C6BAA150FBE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0B99-2DA7-47E7-B3BE-E943A1047E6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605F-29B9-4E03-B105-290F409AC88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136B-F4A2-49AA-A7E3-304F468E24B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E666-5DC3-4936-89A4-4EC154493D5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AA3E-4FEF-45D2-A652-B254347AF66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 у младших школьников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57200" y="500040"/>
            <a:ext cx="8212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Рукодвигательный фактор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Создание правильного графического образа слова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его запомина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8211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Проговарив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c32d2e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Развитие речевого аппарата учащихся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c32d2e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Многократное проговаривание вслух так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как надо писать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8211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Комментиров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Объясняющее рассуждение в процессе записи слов, предложени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entury Schoolbook"/>
              </a:rPr>
              <a:t>Вывод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Необходимым условием формирования полноценного и прочного орфографического навыка на начальном этапе является </a:t>
            </a: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которая заключается </a:t>
            </a: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 умении обнаруживать, видеть, замечать орфограммы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   </a:t>
            </a: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и классифицировать их на основе опознавательных признаков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096920" indent="-1731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600" y="428760"/>
            <a:ext cx="74948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Актуальность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214280"/>
            <a:ext cx="7499520" cy="503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темы заключается в том, что первые шаги на пути познания родного языка всегда самые сложны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т того, как будут сформированы азы орфографической грамотности на начальном этапе обучения во многом зависит дальнейшее успешное обучение любой школьной дисциплин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428760"/>
            <a:ext cx="7499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Объектом исследования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999720"/>
            <a:ext cx="749952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является процесс обучения русскому языку младших школьников, направленный на </a:t>
            </a: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повышение орфографической грамотност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entury Schoolbook"/>
              </a:rPr>
              <a:t>Предметом исследования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являются  методические приемы обучения орфографии русского язык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499680"/>
            <a:ext cx="749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Цель работы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ставляет собой попытку выявить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 эффективные способы формирования орфографической зоркости;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создать систему орфографических упражнений для ее выработки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ff0000"/>
                </a:solidFill>
                <a:latin typeface="Century Schoolbook"/>
              </a:rPr>
              <a:t>Пути решения пробл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71400"/>
            <a:ext cx="74995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Увидеть орфограмму в слов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вид орфограммы, к какой теме относится, вспомнить правило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способ решения задачи в зависимости от типа (вида) орфограмм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«шаги», ступени решения и их последовательность, т. е. составить алгоритм задач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Решить задачу, т.е. выполнить последовательные действия по алгоритму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Написать слова в соответствии с решением задачи и сделать самопроверк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ff0000"/>
                </a:solidFill>
                <a:latin typeface="Century Schoolbook"/>
              </a:rPr>
              <a:t>ФАКТОРЫ ОРФОГРАФИЧЕСКОЙ ЗОРКОСТИ, КАК ШАГ К  ГРАМОТНОМУ ПИСЬМУ </a:t>
            </a:r>
            <a:br>
              <a:rPr sz="5300"/>
            </a:br>
            <a:endParaRPr b="0" lang="en-US" sz="5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5928840"/>
            <a:ext cx="7499520" cy="3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Зрительный фактор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но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Х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ро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ша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ро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а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ной!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лышны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песни птиц. Дятлы звонк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у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ча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по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лам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д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ре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ь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ев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р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а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шурша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ж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Они и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пи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Кругом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ц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у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ду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ы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ланды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50004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Слуховой фактор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928520"/>
            <a:ext cx="7499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Работа над развитием фонематического слуха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3600" spc="-1" strike="noStrike">
                <a:solidFill>
                  <a:srgbClr val="c00000"/>
                </a:solidFill>
                <a:latin typeface="Century Schoolbook"/>
              </a:rPr>
              <a:t>(учить слушать и слышать то, что говорит учитель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8:11:17Z</dcterms:created>
  <dc:creator>Admin</dc:creator>
  <dc:description/>
  <dc:language>en-US</dc:language>
  <cp:lastModifiedBy>LEGION</cp:lastModifiedBy>
  <dcterms:modified xsi:type="dcterms:W3CDTF">2015-01-27T12:01:53Z</dcterms:modified>
  <cp:revision>13</cp:revision>
  <dc:subject/>
  <dc:title>Развитие орфографической зоркости у младших школьников</dc:title>
</cp:coreProperties>
</file>