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F1B7-8224-4DA1-905B-373FBB575F0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entury Schoolbook"/>
              </a:rPr>
              <a:t>Развитие орфографической зоркости у младших шк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231D-8DE1-4B21-83C0-36FED2F7EB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i="1" lang="ru-RU" sz="1600" spc="-1" strike="noStrike">
                <a:solidFill>
                  <a:srgbClr val="ff0000"/>
                </a:solidFill>
                <a:latin typeface="Century Schoolbook"/>
              </a:rPr>
              <a:t>Рукодвигательный фактор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Создание правильного графического образа слов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его запоми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EE6F-AF0E-467D-8085-B83F65A898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ff0000"/>
                </a:solidFill>
                <a:latin typeface="Century Schoolbook"/>
              </a:rPr>
              <a:t>Проговаривание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9bbb59"/>
                </a:solidFill>
                <a:latin typeface="Century Schoolbook"/>
              </a:rPr>
              <a:t>*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Развитие речевого аппарата учащих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9bbb59"/>
                </a:solidFill>
                <a:latin typeface="Century Schoolbook"/>
              </a:rPr>
              <a:t>*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 Многократное проговаривание вслух так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как надо пис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0A98-631B-4C94-9387-8EE445A4F7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ff0000"/>
                </a:solidFill>
                <a:latin typeface="Century Schoolbook"/>
              </a:rPr>
              <a:t>Комментирование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Объясняющее рассуждение в процессе записи слов, пред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CF3A-AA9D-437F-9A97-61B6905F84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entury Schoolbook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Необходимым условием формирования полноценного и прочного орфографического навыка на начальном этапе является </a:t>
            </a:r>
            <a:r>
              <a:rPr b="1" lang="ru-RU" sz="1200" spc="-1" strike="noStrike">
                <a:solidFill>
                  <a:srgbClr val="ff0000"/>
                </a:solidFill>
                <a:latin typeface="Century Schoolbook"/>
              </a:rPr>
              <a:t>развитие орфографической зоркост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entury Schoolbook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которая заключается </a:t>
            </a:r>
            <a:r>
              <a:rPr b="1" lang="ru-RU" sz="1200" spc="-1" strike="noStrike">
                <a:solidFill>
                  <a:srgbClr val="00b0f0"/>
                </a:solidFill>
                <a:latin typeface="Century Schoolbook"/>
              </a:rPr>
              <a:t>в умении обнаруживать, видеть, замечать орфограм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f0"/>
                </a:solidFill>
                <a:latin typeface="Century Schoolbook"/>
              </a:rPr>
              <a:t>   </a:t>
            </a:r>
            <a:r>
              <a:rPr b="1" lang="ru-RU" sz="1200" spc="-1" strike="noStrike">
                <a:solidFill>
                  <a:srgbClr val="00b0f0"/>
                </a:solidFill>
                <a:latin typeface="Century Schoolbook"/>
              </a:rPr>
              <a:t>и классифицировать их на основе опознавательных призна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FD0D-1A62-4EBC-BC88-98A77621EA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Schoolbook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8426-7390-4620-811B-E162040F5A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Century Schoolbook"/>
              </a:rPr>
              <a:t>Актуальность</a:t>
            </a:r>
            <a:r>
              <a:rPr b="0" lang="ru-RU" sz="18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темы заключается в том, что первые шаги на пути познания родного языка всегда самые слож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От того, как будут сформированы азы орфографической грамотности на начальном этапе обучения во многом зависит дальнейшее успешное обучение любой школьной дисципли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03D9-CC91-45DB-86A3-F90511DB2C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Century Schoolbook"/>
              </a:rPr>
              <a:t>Объектом исследования</a:t>
            </a:r>
            <a:r>
              <a:rPr b="0" lang="ru-RU" sz="14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является процесс обучения русскому языку младших школьников, направленный на </a:t>
            </a:r>
            <a:r>
              <a:rPr b="0" lang="ru-RU" sz="1200" spc="-1" strike="noStrike">
                <a:solidFill>
                  <a:srgbClr val="7030a0"/>
                </a:solidFill>
                <a:latin typeface="Century Schoolbook"/>
              </a:rPr>
              <a:t>повышение орфографической грамо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CBB7-24FA-4C8C-AA02-A7F20F2D8F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Century Schoolbook"/>
              </a:rPr>
              <a:t>Предметом исслед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являются  методические приемы обучения орфографии русского язы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E3CD-A192-41DB-9C68-971901DA35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Century Schoolbook"/>
              </a:rPr>
              <a:t>Цель работы</a:t>
            </a:r>
            <a:r>
              <a:rPr b="0" lang="ru-RU" sz="16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Schoolbook"/>
              </a:rPr>
              <a:t>представляет собой попытку выявить: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ff0000"/>
                </a:solidFill>
                <a:latin typeface="Century Schoolbook"/>
              </a:rPr>
              <a:t>*</a:t>
            </a:r>
            <a:r>
              <a:rPr b="0" lang="ru-RU" sz="1200" spc="-1" strike="noStrike">
                <a:solidFill>
                  <a:srgbClr val="7030a0"/>
                </a:solidFill>
                <a:latin typeface="Century Schoolbook"/>
              </a:rPr>
              <a:t> эффективные способы формирования орфографической зоркости;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ff0000"/>
                </a:solidFill>
                <a:latin typeface="Century Schoolbook"/>
              </a:rPr>
              <a:t>*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200" spc="-1" strike="noStrike">
                <a:solidFill>
                  <a:srgbClr val="7030a0"/>
                </a:solidFill>
                <a:latin typeface="Century Schoolbook"/>
              </a:rPr>
              <a:t>создать систему орфографических упражнений для ее выработ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222A-92B7-451D-BEAE-EFBAC82EBA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entury Schoolbook"/>
              </a:rPr>
              <a:t>Пути решения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Увидеть орфограмму в сло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Определить вид орфограммы, к какой теме относится, вспомнить правил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Определить способ решения задачи в зависимости от типа (вида) орфограм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Определить «шаги», ступени решения и их последовательность, т. е. составить алгоритм задач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Решить задачу, т.е. выполнить последовательные действия по алгорит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Написать слова в соответствии с решением задачи и сделать самопровер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616B-A09F-4951-A85F-2774420707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entury Schoolbook"/>
              </a:rPr>
              <a:t>ФАКТОРЫ ОРФОГРАФИЧЕСКОЙ ЗОРКОСТИ, КАК ШАГ К  ГРАМОТНОМУ ПИСЬМУ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B35E-ED94-4275-8AD2-2CFE20E6C6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Century Schoolbook"/>
              </a:rPr>
              <a:t>Зрительный фактор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В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Х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оро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ша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ро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ща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в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сной!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Слышны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песни птиц. Дятлы звонк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о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сту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ча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т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по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ств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о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лам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д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рев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ь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ев.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В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тр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а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ве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шуршат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е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жи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.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Они и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щу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т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пи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щу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.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Кругом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цв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тут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ду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ши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стые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ланды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ши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7DF0-3C2F-43E8-8ABF-FF15AC0445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i="1" lang="ru-RU" sz="1600" spc="-1" strike="noStrike">
                <a:solidFill>
                  <a:srgbClr val="ff0000"/>
                </a:solidFill>
                <a:latin typeface="Century Schoolbook"/>
              </a:rPr>
              <a:t>Слуховой фактор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Работа над развитием фонематического слух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i="1" lang="ru-RU" sz="1200" spc="-1" strike="noStrike">
                <a:solidFill>
                  <a:srgbClr val="c00000"/>
                </a:solidFill>
                <a:latin typeface="Century Schoolbook"/>
              </a:rPr>
              <a:t>(учить слушать и слышать то, что говорит учите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BFEB-DB19-4FD3-BFCC-2D2668269F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8ADF-6618-4570-BC38-1F0C2421F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46E2-230C-4D62-99B5-2FBFFED7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124A-4708-4548-A33E-6845DBDF9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F19B-F173-4648-9BBA-A64F66581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B0DE-D354-48E6-9078-9BF78A20C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C9D0-0B10-4980-AB7F-67ECE13F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96B8-D5CA-471A-B32A-A60B45E9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5D75-35E7-44EF-A9BC-B16924E2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3F7B-D78F-4EE5-B3B7-0BAE101B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73DB-9DA1-4170-B9AC-2DCC9500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97EE-7B08-4244-9EBA-9307ACDC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017E-5C2F-4A45-84D6-DABD562D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5678-1E3B-4FEF-B355-44ECEAB2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56E6-7CF7-4D7E-937E-0A5902DF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BF3D-E6A8-421C-BA81-E653F2C7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F301-A8F6-4F06-99EB-6140C943D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6FF5-06BA-4D71-9212-470AEEB47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3083E-A054-4870-A193-478009BB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6C054-B350-4864-A2F4-D31B315B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49540-D7B1-46B3-8A0E-B2545277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5CA05-E376-45A3-A971-CFF65890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88BD4-6BF2-421A-98DE-0CD18D57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30F7-4FA0-4CCA-AC0F-88C988ED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5F2BA-2B0B-4AD9-B8E0-88D4F087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005BE-6C5E-4CC4-95A9-11D9ED53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55120-5F92-44D8-94EF-75AF2B9E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045E1-E078-4626-8523-A8CDECC1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21913-7E69-4BF2-A318-9E41BB1D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570A0-6397-43CB-8EF5-84282B79D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D0ACA-11A1-41B5-9971-DF0DAAB90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9E446-D787-4443-9711-04E5B153F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D6914-B0F1-471C-9B42-ACCE0DF8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A51AF-C908-4B49-AEC3-A51D0E5B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3300-F234-4D04-BC4C-81C9692C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32817-D6B3-4469-AE87-3C42A489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ED68B-C043-496E-95F5-8D6A795E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C33C2-3D6B-4E15-B66C-BF941575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52271-16FB-4175-B8D1-1F05445C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7B45F-3A19-4C0B-805A-7AA5C7E0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28A0E-282B-4D1D-BA2B-ED619341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0C9B2-75AA-4942-9885-13A4A68F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CFD8C-65FD-4772-BC0E-D3AF6F352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5A27E-F9EE-4703-AC53-F1EEF2A29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16D5E-2381-4739-A4D1-70575862F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F384-D2D5-4126-BC2F-7F045E46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B3B1A-CD0B-45E9-BDA4-832AF85D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48CFB-9EA4-4515-B7A9-07B83069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4933D-95EC-43D6-AD3E-8AB7A8B2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992BD-D3A4-4C93-A917-B2DFAB46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37EF2-B1D2-4129-8178-E201EF99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A1F03-C939-4ED4-9261-A498E978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05719-2360-4498-9C6E-DB6ADEA3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23685-50E2-4BCD-8E5B-FBB8B600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F5ACF-DEBD-4777-9697-2732F6E9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E4252-E0ED-44D3-8CDA-4C679D815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9D4C-9B52-4461-ACE7-41BB7611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02A9C-3AC2-478C-8384-16CE1436D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A59DF-F618-4779-B0ED-D3C30C28B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EC999-1012-4E24-B51F-DE3DC297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20797-1CFA-41FE-9AD5-47BFC6B5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C4F9E-FAC8-4FEA-ADE7-D8D6E85C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5B0B7-BC02-47F8-9906-EA657612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1DEAC-EC3C-4036-9397-782458A1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A4598-2C60-4E7D-A9EB-B25BAC01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A771E-1FAE-49AD-B707-1FADC51B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86D73-87DB-478D-9184-475C8044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5885-3587-47CD-84E9-1506674B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011B3-DB9C-49CD-9699-FCD5320F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64922-2249-4562-8E75-1DCB21F50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8C9EA-18C0-4676-88E1-F3B3712FF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A3D8B-E4DA-4090-BA81-BA65AED91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2ABAC-69CB-41AE-93D2-B76C7609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F8E45-96A3-45FA-894E-73783A73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C52E1-24FF-4310-B644-A4621235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EE156-2D98-48E4-9B7B-EFD5FC47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23A58-9268-4B2E-928A-43A9E74B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A76FE-1B14-429E-AAFC-62661BA5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8F1A-FF6D-4A7B-9724-7BD793E3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34F77-7DEE-4643-A5C6-27AAD2EB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86F7F-833D-46BF-846A-9BBBB992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D462F-5998-4662-A5D4-BFDBC48A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240DA-C32C-4130-A305-722F565E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75CF5-58E6-43F3-8346-1178103EF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6C52-C94A-48C7-BB71-E98FA6D6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5208-B975-4FA3-BD0A-753D50294806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90DB-AE3D-4357-BD2A-9018E56F6F1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A98A-0435-4F09-9A6E-1856C780A0F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B35B-322A-48F2-BC20-BC862E07930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687D-70DD-4D63-9ABA-1F1A4C276897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AF43-E00E-4554-A098-33A7FD95A12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61A3-A065-440A-96A0-C451301FDC00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2B91-2136-4BD6-96B3-6DFD441C904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B869-CBFD-411F-A796-E2876117A22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FBB9-306E-4CC5-9501-0F67CF8C77E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9BBE-D34F-49ED-952E-864273713147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6BFD-2CE2-4D26-B5F4-0E6B8EC2726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D81C-BC9E-4D50-874E-60F3DB8B3B6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27D1-2C5A-47F2-B508-DA473C46A29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41440" y="776160"/>
            <a:ext cx="8061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entury Schoolbook"/>
              </a:rPr>
              <a:t>Развитие орфографической зоркости у младших школьников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57200" y="500040"/>
            <a:ext cx="8212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Рукодвигательный фактор 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785960"/>
            <a:ext cx="749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Создание правильного графического образа слова,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его запоминани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42640" y="357120"/>
            <a:ext cx="821196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Проговаривание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356840"/>
            <a:ext cx="749952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c32d2e"/>
                </a:solidFill>
                <a:latin typeface="Century Schoolbook"/>
              </a:rPr>
              <a:t>*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Развитие речевого аппарата учащихся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c32d2e"/>
                </a:solidFill>
                <a:latin typeface="Century Schoolbook"/>
              </a:rPr>
              <a:t>*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 Многократное проговаривание вслух так,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как надо писать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42640" y="357120"/>
            <a:ext cx="821196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Комментирование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356840"/>
            <a:ext cx="749952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Объясняющее рассуждение в процессе записи слов, предложений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Century Schoolbook"/>
              </a:rPr>
              <a:t>Вывод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Необходимым условием формирования полноценного и прочного орфографического навыка на начальном этапе является </a:t>
            </a: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развитие орфографической зоркости,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которая заключается </a:t>
            </a:r>
            <a:r>
              <a:rPr b="1" lang="ru-RU" sz="3000" spc="-1" strike="noStrike">
                <a:solidFill>
                  <a:srgbClr val="00b0f0"/>
                </a:solidFill>
                <a:latin typeface="Century Schoolbook"/>
              </a:rPr>
              <a:t>в умении обнаруживать, видеть, замечать орфограммы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f0"/>
                </a:solidFill>
                <a:latin typeface="Century Schoolbook"/>
              </a:rPr>
              <a:t>   </a:t>
            </a:r>
            <a:r>
              <a:rPr b="1" lang="ru-RU" sz="3000" spc="-1" strike="noStrike">
                <a:solidFill>
                  <a:srgbClr val="00b0f0"/>
                </a:solidFill>
                <a:latin typeface="Century Schoolbook"/>
              </a:rPr>
              <a:t>и классифицировать их на основе опознавательных признаков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096920" indent="-17316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Schoolbook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600" y="428760"/>
            <a:ext cx="74948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Актуальность</a:t>
            </a:r>
            <a:r>
              <a:rPr b="0" lang="ru-RU" sz="40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214280"/>
            <a:ext cx="7499520" cy="503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темы заключается в том, что первые шаги на пути познания родного языка всегда самые сложные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От того, как будут сформированы азы орфографической грамотности на начальном этапе обучения во многом зависит дальнейшее успешное обучение любой школьной дисциплин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428760"/>
            <a:ext cx="749952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Объектом исследования</a:t>
            </a:r>
            <a:r>
              <a:rPr b="0" lang="ru-RU" sz="40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999720"/>
            <a:ext cx="749952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является процесс обучения русскому языку младших школьников, направленный на </a:t>
            </a:r>
            <a:r>
              <a:rPr b="0" lang="ru-RU" sz="4000" spc="-1" strike="noStrike">
                <a:solidFill>
                  <a:srgbClr val="7030a0"/>
                </a:solidFill>
                <a:latin typeface="Century Schoolbook"/>
              </a:rPr>
              <a:t>повышение орфографической грамотности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entury Schoolbook"/>
              </a:rPr>
              <a:t>Предметом исследования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642680"/>
            <a:ext cx="749952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являются  методические приемы обучения орфографии русского языка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499680"/>
            <a:ext cx="749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Цель работы</a:t>
            </a:r>
            <a:r>
              <a:rPr b="0" lang="ru-RU" sz="40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143000"/>
            <a:ext cx="7499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едставляет собой попытку выявить: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*</a:t>
            </a:r>
            <a:r>
              <a:rPr b="0" lang="ru-RU" sz="3600" spc="-1" strike="noStrike">
                <a:solidFill>
                  <a:srgbClr val="7030a0"/>
                </a:solidFill>
                <a:latin typeface="Century Schoolbook"/>
              </a:rPr>
              <a:t> эффективные способы формирования орфографической зоркости;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*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7030a0"/>
                </a:solidFill>
                <a:latin typeface="Century Schoolbook"/>
              </a:rPr>
              <a:t>создать систему орфографических упражнений для ее выработки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ff0000"/>
                </a:solidFill>
                <a:latin typeface="Century Schoolbook"/>
              </a:rPr>
              <a:t>Пути решения проблем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571400"/>
            <a:ext cx="749952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entury Schoolbook"/>
              </a:rPr>
              <a:t>Увидеть орфограмму в слове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entury Schoolbook"/>
              </a:rPr>
              <a:t>Определить вид орфограммы, к какой теме относится, вспомнить правило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entury Schoolbook"/>
              </a:rPr>
              <a:t>Определить способ решения задачи в зависимости от типа (вида) орфограммы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entury Schoolbook"/>
              </a:rPr>
              <a:t>Определить «шаги», ступени решения и их последовательность, т. е. составить алгоритм задачи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entury Schoolbook"/>
              </a:rPr>
              <a:t>Решить задачу, т.е. выполнить последовательные действия по алгоритму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entury Schoolbook"/>
              </a:rPr>
              <a:t>Написать слова в соответствии с решением задачи и сделать самопроверк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ff0000"/>
                </a:solidFill>
                <a:latin typeface="Century Schoolbook"/>
              </a:rPr>
              <a:t>ФАКТОРЫ ОРФОГРАФИЧЕСКОЙ ЗОРКОСТИ, КАК ШАГ К  ГРАМОТНОМУ ПИСЬМУ </a:t>
            </a:r>
            <a:br>
              <a:rPr sz="5300"/>
            </a:br>
            <a:endParaRPr b="0" lang="en-US" sz="5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5928840"/>
            <a:ext cx="7499520" cy="3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Зрительный фактор 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356840"/>
            <a:ext cx="749952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В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ной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Х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оро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ша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ро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ща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в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сной!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Слышны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песни птиц. Дятлы звонк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о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сту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ча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т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по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ств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о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лам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д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рев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ь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ев.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В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тр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а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ве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шуршат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е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жи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.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Они и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щу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т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пи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щу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.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Кругом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цв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тут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ду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ши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стые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ланды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ши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500040"/>
            <a:ext cx="7499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Слуховой фактор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928520"/>
            <a:ext cx="74995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Работа над развитием фонематического слуха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i="1" lang="ru-RU" sz="3600" spc="-1" strike="noStrike">
                <a:solidFill>
                  <a:srgbClr val="c00000"/>
                </a:solidFill>
                <a:latin typeface="Century Schoolbook"/>
              </a:rPr>
              <a:t>(учить слушать и слышать то, что говорит учитель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8:11:17Z</dcterms:created>
  <dc:creator>Admin</dc:creator>
  <dc:description/>
  <dc:language>en-US</dc:language>
  <cp:lastModifiedBy>LEGION</cp:lastModifiedBy>
  <dcterms:modified xsi:type="dcterms:W3CDTF">2015-01-27T12:01:53Z</dcterms:modified>
  <cp:revision>13</cp:revision>
  <dc:subject/>
  <dc:title>Развитие орфографической зоркости у младших школьников</dc:title>
</cp:coreProperties>
</file>