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8875-38BE-4E1A-8AA6-586B9268881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 у младших 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C4A4-75C7-4E57-9A03-0CD4F5037B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Рукодвигательный фактор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Создание правильного графического образа сло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его запоми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3930-95C1-4E3B-B019-4A9AF8943A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Проговаривание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9bbb59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Развитие речевого аппарата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9bbb59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Многократное проговаривание вслух та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как надо пис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B926-F6C9-470E-A83D-8D01A2D995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Комментирование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бъясняющее рассуждение в процессе записи слов, пред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705C-0DF6-4EB7-85C3-036072F37A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Необходимым условием формирования полноценного и прочного орфографического навыка на начальном этапе является </a:t>
            </a:r>
            <a:r>
              <a:rPr b="1" lang="ru-RU" sz="12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которая заключается </a:t>
            </a:r>
            <a:r>
              <a:rPr b="1" lang="ru-RU" sz="1200" spc="-1" strike="noStrike">
                <a:solidFill>
                  <a:srgbClr val="00b0f0"/>
                </a:solidFill>
                <a:latin typeface="Century Schoolbook"/>
              </a:rPr>
              <a:t>в умении обнаруживать, видеть, замечать орфограм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f0"/>
                </a:solidFill>
                <a:latin typeface="Century Schoolbook"/>
              </a:rPr>
              <a:t>   </a:t>
            </a:r>
            <a:r>
              <a:rPr b="1" lang="ru-RU" sz="1200" spc="-1" strike="noStrike">
                <a:solidFill>
                  <a:srgbClr val="00b0f0"/>
                </a:solidFill>
                <a:latin typeface="Century Schoolbook"/>
              </a:rPr>
              <a:t>и классифицировать их на основе опознавательных призна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97E5-14B4-4184-889E-67C8AC7546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Schoolbook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3EDC-1420-4540-B34C-5F9CEE31CA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entury Schoolbook"/>
              </a:rPr>
              <a:t>Актуальность</a:t>
            </a: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темы заключается в том, что первые шаги на пути познания родного языка всегда самые слож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От того, как будут сформированы азы орфографической грамотности на начальном этапе обучения во многом зависит дальнейшее успешное обучение любой школьной дисципл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1885-EAA8-4CF0-A138-4DD61E019E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Century Schoolbook"/>
              </a:rPr>
              <a:t>Объектом исследования</a:t>
            </a:r>
            <a:r>
              <a:rPr b="0" lang="ru-RU" sz="14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является процесс обучения русскому языку младших школьников, направленный на </a:t>
            </a: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повышение орфографической грамо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E550-8CBB-4CB8-9FA9-6613B744BB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Century Schoolbook"/>
              </a:rPr>
              <a:t>Предметом исслед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являются  методические приемы обучения орфографии русского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6826-F155-4180-8065-8EA7507FB4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Цель работы</a:t>
            </a:r>
            <a:r>
              <a:rPr b="0" lang="ru-RU" sz="16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Schoolbook"/>
              </a:rPr>
              <a:t>представляет собой попытку выявить: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 эффективные способы формирования орфографической зоркости;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создать систему орфографических упражнений для ее выработ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2113-F30D-47A7-9E7B-5F39389FCF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entury Schoolbook"/>
              </a:rPr>
              <a:t>Пути решения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Увидеть орфограмму в сло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пределить вид орфограммы, к какой теме относится, вспомнить прави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пределить способ решения задачи в зависимости от типа (вида) орфогр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пределить «шаги», ступени решения и их последовательность, т. е. составить алгоритм зада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Решить задачу, т.е. выполнить последовательные действия по алгорит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Написать слова в соответствии с решением задачи и сделать самопровер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993A-A3A3-44B6-A939-017214833D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ФАКТОРЫ ОРФОГРАФИЧЕСКОЙ ЗОРКОСТИ, КАК ШАГ К  ГРАМОТНОМУ ПИСЬМУ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5294-7D1D-4EDC-B313-4CAA6AD1D3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Зрительный фактор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Х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оро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ша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ро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ща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ной!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лышны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песни птиц. Дятлы звонк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ту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ча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по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т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лам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д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ре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ь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ев.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В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р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а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ве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шурша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жи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Они и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пи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Кругом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ц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у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ду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тые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ланды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C394-09AA-4809-9898-48678058B2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Слуховой фактор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Работа над развитием фонематического слух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1200" spc="-1" strike="noStrike">
                <a:solidFill>
                  <a:srgbClr val="c00000"/>
                </a:solidFill>
                <a:latin typeface="Century Schoolbook"/>
              </a:rPr>
              <a:t>(учить слушать и слышать то, что говорит учит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A415-D462-4647-B527-11FA4E517D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2682-23F4-4F3A-9A4B-08FD7580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A28B-36B5-41C7-9DA6-2434AA1D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739C-A2A5-48F6-9260-973499B8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549C-2767-4628-B259-51A7CF0D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7A48-0C35-4F21-9D1B-BD7722C3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B39C-508F-4431-ABE4-78F55CC4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7690-E7B0-435F-BC4E-1C7A0D30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84B1-EEC2-4BE6-B27B-5E3D4FF5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539B-9CFF-47C9-8435-7B17D270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6183-C802-4276-A397-57459F12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D5A4-E047-476E-9F29-EB50408D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158C-85B2-4B16-B406-42C400D9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20F2-507B-491B-9A75-25493F4C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CCE6-9B73-4E62-BFBA-D4A0AF26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DCE6-7A08-42F8-8338-0310CA77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2A6B-4537-4A76-9684-7158F309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3E98-14F6-4B52-B7AF-6BA7A68C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59333-B6E1-47BB-8859-6100E160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F16C6-B331-456D-BC7A-751B543D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56977-5E91-427C-AE4D-DB7D40FE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6DD8B-EE2C-4425-ADC9-365F00C9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37B82-7225-44BB-8E29-C0EF4970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12F9-5756-4ACA-9D78-B9B70742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5AF6C-9528-4939-BEBF-A185705A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C4F45-B0C6-4902-B47A-5A264BB1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D93D1-EE93-47F4-BE07-13977CC8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94E4B-C561-4C10-BD09-CE9BA850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0C005-C4F1-4AC8-9ECB-0B37BB0E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FEF0D-08A7-47E8-8DA2-712CA39C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4EEB0-B2EC-40E4-A15E-540885F0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43A3A-05B7-4D3D-AE17-3E920996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79ECA-9802-43FF-9632-5055109F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5F570-9C61-4102-A4DC-9DF19155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26FA-1AA0-4D0D-832C-3EACABA5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32592-7B8D-4A5F-9071-1BBFA02B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A6C64-FCBF-49C3-9FAA-82CBE1F0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6F9B3-C290-4EE2-8138-207E8A9B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F7FBA-BBC7-4721-B76F-7E22051D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CF6ED-97E7-4845-AF2C-C9FFBEFE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BBE3B-FB9D-438C-971A-9AED4F6A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51902-EE6E-4B2E-A70B-F527FF15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A619D-1FB1-40C9-86ED-BCEC57E1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18B5A-5FAD-44A5-B350-C3C315D0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DB4F0-5E95-46A7-912A-13505B94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651C-4C8D-4FF6-811F-411EB038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65355-3D9B-481E-8CBF-76DF2B68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BC8E9-28A8-447A-A86A-CE7BA22D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7743B-BA79-4786-818E-34D8FE50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9EAC8-4A10-4BA9-A1DE-E1F08FA9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2DEE6-D103-43F1-9234-A6359393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3DB2A-110B-4EA6-AE6D-3C849ECE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E5AF8-7339-41E4-A4F6-4B0BBF79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2E131-3B41-4B05-9380-7AFCE756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50DE1-5CED-4E02-9CB4-A5CD019F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0B1B4-4055-4DFE-901F-5B70A5CC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D0C3-6E19-445C-A9DA-E4B04124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C972A-808E-43BE-8995-4DF69DB7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FA071-F122-4C9D-85F7-F27DA063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AAC42-4316-4F41-8748-2E663638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F8B31-8A1F-4EA6-8C5C-6B985B6D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E9681-AD0E-473D-93AC-F2AE5633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0FC39-AD18-4703-B696-C985B93F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A319D-31C3-4021-B0F4-8098B572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BE984-9402-4FA1-8312-4D080B4D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A9608-0AFF-4018-9859-C6CB97FC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51A0E-F148-490C-B022-80225531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580A-8590-4A39-9616-03703815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94827-517F-40D5-94A5-600EE8A3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D39D7-579B-4A62-A3BE-A0EEA0D9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2DF6B-FECE-496C-9CCE-C79D4845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C7B2D-333C-499B-9193-024FDB01B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74B2A-4628-49FC-9670-D6DD1120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6E501-1AFC-4E1F-82A8-7DE99FEA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F289E-36FF-49FE-B39C-0F892DEA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6D582-F060-4B4D-9BB8-3B5A473B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D535B-FD42-4363-8193-C10530D7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87F50-03EC-4B87-BF8F-54FCB18C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CA56-C8D0-4934-A1A0-CA354053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1A07B-516B-4C4A-986E-FF670513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1D6D6-48CE-4363-9C95-D9745B5D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94502-AC5A-4241-A39E-8B23B789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09D36-196B-43F6-A9BB-F7548B93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93DF7-8E7A-40FE-91F2-55EBE372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0755-C5A8-4D4E-9FE5-85BF055A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9EE1-8410-43E5-8BC5-D3FBA429136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2FE9-2DBA-4311-BD67-30BADFEF5A7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A2BF-3CE3-4DE9-8F42-578EDB43B17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7744-D2B5-4805-A649-5A742E142E3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DC25-9723-4354-988D-28440E4B494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AB26-759E-46D9-8FEF-5C0E59AD633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BE69-2EB7-426F-AFB0-3E954DBBD95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9377-58EB-44D8-8A61-96267E3846A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0946-BD62-477D-B6F4-6016776B000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4262-E0AD-49CE-8C88-03C68E45F36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7E67-2C3B-40C7-B22C-0EE4502D616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30AA-7BC2-4F56-A167-B329EB293B6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50D5-E46E-4CF7-8C28-A9897AB2044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6667-7082-411F-B337-6694EAFDEBD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 у младших школьников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57200" y="500040"/>
            <a:ext cx="8212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Рукодвигательный фактор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785960"/>
            <a:ext cx="749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Создание правильного графического образа слова,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его запоминан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2640" y="357120"/>
            <a:ext cx="82119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Проговаривани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356840"/>
            <a:ext cx="749952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c32d2e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Развитие речевого аппарата учащихся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c32d2e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Многократное проговаривание вслух так,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как надо писать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2640" y="357120"/>
            <a:ext cx="82119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Комментировани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356840"/>
            <a:ext cx="749952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Объясняющее рассуждение в процессе записи слов, предложений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entury Schoolbook"/>
              </a:rPr>
              <a:t>Вывод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Необходимым условием формирования полноценного и прочного орфографического навыка на начальном этапе является </a:t>
            </a: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,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которая заключается </a:t>
            </a: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в умении обнаруживать, видеть, замечать орфограммы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   </a:t>
            </a: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и классифицировать их на основе опознавательных признаков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096920" indent="-1731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Schoolbook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600" y="428760"/>
            <a:ext cx="74948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Актуальность</a:t>
            </a:r>
            <a:r>
              <a:rPr b="0" lang="ru-RU" sz="40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214280"/>
            <a:ext cx="7499520" cy="503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темы заключается в том, что первые шаги на пути познания родного языка всегда самые сложные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От того, как будут сформированы азы орфографической грамотности на начальном этапе обучения во многом зависит дальнейшее успешное обучение любой школьной дисциплин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428760"/>
            <a:ext cx="74995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Объектом исследования</a:t>
            </a:r>
            <a:r>
              <a:rPr b="0" lang="ru-RU" sz="40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999720"/>
            <a:ext cx="749952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является процесс обучения русскому языку младших школьников, направленный на </a:t>
            </a:r>
            <a:r>
              <a:rPr b="0" lang="ru-RU" sz="4000" spc="-1" strike="noStrike">
                <a:solidFill>
                  <a:srgbClr val="7030a0"/>
                </a:solidFill>
                <a:latin typeface="Century Schoolbook"/>
              </a:rPr>
              <a:t>повышение орфографической грамотности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entury Schoolbook"/>
              </a:rPr>
              <a:t>Предметом исследования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642680"/>
            <a:ext cx="74995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являются  методические приемы обучения орфографии русского языка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499680"/>
            <a:ext cx="749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Цель работы</a:t>
            </a:r>
            <a:r>
              <a:rPr b="0" lang="ru-RU" sz="40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едставляет собой попытку выявить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7030a0"/>
                </a:solidFill>
                <a:latin typeface="Century Schoolbook"/>
              </a:rPr>
              <a:t> эффективные способы формирования орфографической зоркости;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Century Schoolbook"/>
              </a:rPr>
              <a:t>создать систему орфографических упражнений для ее выработки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ff0000"/>
                </a:solidFill>
                <a:latin typeface="Century Schoolbook"/>
              </a:rPr>
              <a:t>Пути решения пробле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571400"/>
            <a:ext cx="749952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Увидеть орфограмму в слове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Определить вид орфограммы, к какой теме относится, вспомнить правило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Определить способ решения задачи в зависимости от типа (вида) орфограммы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Определить «шаги», ступени решения и их последовательность, т. е. составить алгоритм задачи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Решить задачу, т.е. выполнить последовательные действия по алгоритму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Написать слова в соответствии с решением задачи и сделать самопроверк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ff0000"/>
                </a:solidFill>
                <a:latin typeface="Century Schoolbook"/>
              </a:rPr>
              <a:t>ФАКТОРЫ ОРФОГРАФИЧЕСКОЙ ЗОРКОСТИ, КАК ШАГ К  ГРАМОТНОМУ ПИСЬМУ </a:t>
            </a:r>
            <a:br>
              <a:rPr sz="5300"/>
            </a:br>
            <a:endParaRPr b="0" lang="en-US" sz="5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5928840"/>
            <a:ext cx="7499520" cy="3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Зрительный фактор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356840"/>
            <a:ext cx="749952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ной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Х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оро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ша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ро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ща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ной!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лышны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песни птиц. Дятлы звонк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ту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ча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по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т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лам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д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ре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ь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ев.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В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р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а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ве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шурша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жи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Они и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пи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Кругом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ц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у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ду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тые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ланды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500040"/>
            <a:ext cx="7499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Слуховой фактор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928520"/>
            <a:ext cx="7499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Работа над развитием фонематического слуха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3600" spc="-1" strike="noStrike">
                <a:solidFill>
                  <a:srgbClr val="c00000"/>
                </a:solidFill>
                <a:latin typeface="Century Schoolbook"/>
              </a:rPr>
              <a:t>(учить слушать и слышать то, что говорит учитель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8:11:17Z</dcterms:created>
  <dc:creator>Admin</dc:creator>
  <dc:description/>
  <dc:language>en-US</dc:language>
  <cp:lastModifiedBy>LEGION</cp:lastModifiedBy>
  <dcterms:modified xsi:type="dcterms:W3CDTF">2015-01-27T12:01:53Z</dcterms:modified>
  <cp:revision>13</cp:revision>
  <dc:subject/>
  <dc:title>Развитие орфографической зоркости у младших школьников</dc:title>
</cp:coreProperties>
</file>