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FB26-3755-421C-B034-9DFE2F6AECA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Развитие орфографической зоркости у младших 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B49E-82AB-4A60-B6FD-E560FFFA87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Рукодвигательный фактор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Создание правильного графического образа сло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его запоми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8043-C564-46DE-8B95-319E0CBE52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Проговаривание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9bbb59"/>
                </a:solidFill>
                <a:latin typeface="Century Schoolbook"/>
              </a:rPr>
              <a:t>*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Развитие речевого аппарата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9bbb59"/>
                </a:solidFill>
                <a:latin typeface="Century Schoolbook"/>
              </a:rPr>
              <a:t>*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 Многократное проговаривание вслух та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как надо пис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59BE-3283-4751-A6B2-78C9082586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Комментирование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Объясняющее рассуждение в процессе записи слов, пред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0052-059C-4519-A9A9-D2DC35788A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Необходимым условием формирования полноценного и прочного орфографического навыка на начальном этапе является </a:t>
            </a:r>
            <a:r>
              <a:rPr b="1" lang="ru-RU" sz="1200" spc="-1" strike="noStrike">
                <a:solidFill>
                  <a:srgbClr val="ff0000"/>
                </a:solidFill>
                <a:latin typeface="Century Schoolbook"/>
              </a:rPr>
              <a:t>развитие орфографической зорк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которая заключается </a:t>
            </a:r>
            <a:r>
              <a:rPr b="1" lang="ru-RU" sz="1200" spc="-1" strike="noStrike">
                <a:solidFill>
                  <a:srgbClr val="00b0f0"/>
                </a:solidFill>
                <a:latin typeface="Century Schoolbook"/>
              </a:rPr>
              <a:t>в умении обнаруживать, видеть, замечать орфограм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f0"/>
                </a:solidFill>
                <a:latin typeface="Century Schoolbook"/>
              </a:rPr>
              <a:t>   </a:t>
            </a:r>
            <a:r>
              <a:rPr b="1" lang="ru-RU" sz="1200" spc="-1" strike="noStrike">
                <a:solidFill>
                  <a:srgbClr val="00b0f0"/>
                </a:solidFill>
                <a:latin typeface="Century Schoolbook"/>
              </a:rPr>
              <a:t>и классифицировать их на основе опознавательных призна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7410-D54F-49D2-9760-EC93327771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Schoolbook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B2A8-E197-4BED-B378-97C2D1D534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entury Schoolbook"/>
              </a:rPr>
              <a:t>Актуальность</a:t>
            </a: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темы заключается в том, что первые шаги на пути познания родного языка всегда самые слож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От того, как будут сформированы азы орфографической грамотности на начальном этапе обучения во многом зависит дальнейшее успешное обучение любой школьной дисципл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449B-3E54-43EB-86B4-E0D1860C85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Century Schoolbook"/>
              </a:rPr>
              <a:t>Объектом исследования</a:t>
            </a:r>
            <a:r>
              <a:rPr b="0" lang="ru-RU" sz="14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является процесс обучения русскому языку младших школьников, направленный на </a:t>
            </a:r>
            <a:r>
              <a:rPr b="0" lang="ru-RU" sz="1200" spc="-1" strike="noStrike">
                <a:solidFill>
                  <a:srgbClr val="7030a0"/>
                </a:solidFill>
                <a:latin typeface="Century Schoolbook"/>
              </a:rPr>
              <a:t>повышение орфографической грамо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73AB-79C5-4818-80AB-2284B0EA05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Century Schoolbook"/>
              </a:rPr>
              <a:t>Предметом исслед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являются  методические приемы обучения орфографии русского я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785C-3F46-49BF-96B9-764A99DAF7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Цель работы</a:t>
            </a:r>
            <a:r>
              <a:rPr b="0" lang="ru-RU" sz="16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Schoolbook"/>
              </a:rPr>
              <a:t>представляет собой попытку выявить: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*</a:t>
            </a:r>
            <a:r>
              <a:rPr b="0" lang="ru-RU" sz="1200" spc="-1" strike="noStrike">
                <a:solidFill>
                  <a:srgbClr val="7030a0"/>
                </a:solidFill>
                <a:latin typeface="Century Schoolbook"/>
              </a:rPr>
              <a:t> эффективные способы формирования орфографической зоркости;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*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200" spc="-1" strike="noStrike">
                <a:solidFill>
                  <a:srgbClr val="7030a0"/>
                </a:solidFill>
                <a:latin typeface="Century Schoolbook"/>
              </a:rPr>
              <a:t>создать систему орфографических упражнений для ее выработ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45C9-7413-4E45-96C9-F1E276E079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entury Schoolbook"/>
              </a:rPr>
              <a:t>Пути решения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Увидеть орфограмму в сло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Определить вид орфограммы, к какой теме относится, вспомнить прави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Определить способ решения задачи в зависимости от типа (вида) орфогр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Определить «шаги», ступени решения и их последовательность, т. е. составить алгоритм зада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Решить задачу, т.е. выполнить последовательные действия по алгорит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Написать слова в соответствии с решением задачи и сделать самопровер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D86F-DD52-45D7-8F28-F0AC015C42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entury Schoolbook"/>
              </a:rPr>
              <a:t>ФАКТОРЫ ОРФОГРАФИЧЕСКОЙ ЗОРКОСТИ, КАК ШАГ К  ГРАМОТНОМУ ПИСЬМУ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481C-6220-42F6-BB2A-1037C58148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Зрительный фактор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Х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оро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ша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ро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ща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ной!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лышны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песни птиц. Дятлы звонк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о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ту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ча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т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по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т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о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лам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д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ре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ь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ев.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В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тр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а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ве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шуршат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жи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Они и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щу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т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пи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щу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Кругом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цв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тут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ду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ши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стые</a:t>
            </a:r>
            <a:r>
              <a:rPr b="0" i="1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ланды</a:t>
            </a:r>
            <a:r>
              <a:rPr b="0" i="1" lang="ru-RU" sz="1200" spc="-1" strike="noStrike">
                <a:solidFill>
                  <a:srgbClr val="00b050"/>
                </a:solidFill>
                <a:latin typeface="Century Schoolbook"/>
              </a:rPr>
              <a:t>ши</a:t>
            </a:r>
            <a:r>
              <a:rPr b="0" i="1" lang="ru-RU" sz="12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478A-774B-4918-BDCE-0B3A1735F2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ru-RU" sz="1600" spc="-1" strike="noStrike">
                <a:solidFill>
                  <a:srgbClr val="ff0000"/>
                </a:solidFill>
                <a:latin typeface="Century Schoolbook"/>
              </a:rPr>
              <a:t>Слуховой фактор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Century Schoolbook"/>
              </a:rPr>
              <a:t>Работа над развитием фонематического слух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1200" spc="-1" strike="noStrike">
                <a:solidFill>
                  <a:srgbClr val="c00000"/>
                </a:solidFill>
                <a:latin typeface="Century Schoolbook"/>
              </a:rPr>
              <a:t>(учить слушать и слышать то, что говорит учит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9BEF-1A48-42BA-9FDE-C21CBF8123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85A4-4324-4A4F-AB0F-11FABE68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2DC2-C5D8-438D-8CFE-0C930063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E131-0CA7-49D1-A8B0-ED002128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3312-1A6B-4F6B-98BD-21201EC6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31A3-CF12-4714-81D0-314A9293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4346-AB7F-4CE2-B5E9-27D72EC0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9E83-9DF4-4697-ABB2-6C8F72A7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1A8A-11EA-4A29-8A81-3A3108D9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5483-1487-4CD4-B3A6-558E311A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5524-DB2A-48D3-8870-9A443FAF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3E85-81AC-4CB6-9671-E5E6524B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0DC4-7FC4-49A6-9E7C-DDF11F2E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D61C-CBA1-49DB-AE65-99C3E12F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757A-088E-4AD1-A271-B245F5D4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DE40-2C57-4611-9B2D-3204DA2B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AB16-EDE5-4C55-B7F5-5846D506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3D71-5EAB-48AE-A3C9-B7C70769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909E2-9F80-453D-ACCA-1D73DBC1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7B337-141D-483B-BF1B-A6258988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8BDEB-2A01-437B-B152-ED84C7D8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D539F-3E2C-4D39-BF7C-8D03D916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DEF67-022B-4878-9F76-8275E478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1F2D-5C33-4979-A613-45619968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90C9D-B9B0-47BD-AFC8-12C6885F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A1652-F8BC-4233-8325-B0D2A83F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7ACEC-C487-4E1D-B664-CDCB610B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E99FB-A29E-47F3-AF84-EED65BEC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1FBBF-78E2-474B-8993-8DBF6D84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24C93-B7A2-4DCE-95C1-B0AF8C57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94073-59D0-4908-B94E-233A7032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2E516-51E9-4799-B923-4A658AAB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E792F-4508-4D7E-A4A2-BB714F3A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4FF06-0761-489F-B48C-D160EC6E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7A69-AD48-4E21-B7BF-50F7C253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2E66B-556C-44EE-9274-6E8763BC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52CF5-3F08-482E-B7D7-04191ED7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92D51-240E-4F10-8586-49372529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54E55-8CFB-4D21-BFA1-D9207938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144AB-5B9F-470E-8679-7B48E474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A97E6-B07D-4800-B457-D5DCD61B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9FBA8-30E4-4420-BDE6-3CBEC392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6B90C-11FF-4635-8237-F6D96AB3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3ED17-5F70-4660-99AF-B11C522C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71C3F-9D4A-4F88-9D18-CDBDB042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745C-487E-45F7-92E3-18F7063D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DF54B-84AC-4396-9560-F9508DC3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33D9A-6D4F-41B8-A842-1EE97E62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F503B-EE91-40E8-892A-AD4961B2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F0B64-73AE-4571-B5F8-22C8F11B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006D8-4B07-4553-9067-E17C6B8F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A74FA-A09E-47DD-920B-98FC05E0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42742-2883-436D-8E9C-DCF7F946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EEE24-2D4E-4BBF-8B39-E1945BE6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D97BF-4395-4778-BFB7-BEE6F053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3FDB9-A8EA-4E59-9EE4-DF9897DE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00EC-5473-4B03-A85C-3A7EB825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8FEF5-1A62-4265-A423-B52559DD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E179A-EE9E-4BAB-BC46-96B6E343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D11F5-9415-43BD-8669-B1291A85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B5642-A811-4AA3-A1C0-0831984D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DED84-ADCA-49E2-AEE1-8EDB276D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126A9-A34C-445A-BE02-69D4CE69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50668-2A43-4D7F-91C3-8D63A045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9919F-AB39-4C12-ABCE-FFB99B63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F850D-EFA3-4D5B-A619-70BDF17B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3B93F-5A49-4BA1-8283-69CDDD14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31DA-067F-49EC-B4AA-51B03EDA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6E183-1654-40A2-A996-D63D4E16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B0C34-D3C3-4AE6-A47D-E92A7888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1A207-9661-4BB2-A262-54EFCE73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86110-1226-4D71-824D-F25F7597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BED64-E2AF-4183-A50C-7C208BA5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27242-D3C8-4847-A83A-0FB3CB77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5C125-F504-4591-9674-20D55823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34122-69B6-44AA-99F1-D338EDFA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D8DB9-45F9-407B-95CF-DF56E315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EF8CB-FF33-45BD-AEEC-A8A7321F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5392-F541-47F8-AC0B-3EA67D9E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4F967-DA68-476C-8672-97E60C21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25D34-BE27-4848-AC81-8E2B6636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778D6-C8A4-4EA7-8CF5-85D550C1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1CE78-2622-4A0F-8A78-13A1816B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4AEB0-7C96-4005-8CA6-7D711D82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7B5A-C7E1-4BB4-A076-F89547D6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7FDE-B5A9-40FE-8A8F-F7EC1E5115D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11A3-6415-4260-A784-C951864B38F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D68F-AFB6-4154-A7E2-FB5E554D3B9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8335-F40E-4716-8B48-4842BD8F1BF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E27E-2F8A-47ED-A59B-EBAA38EBF81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F3A2-5301-4DDA-A863-FBB63B42483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780C-7D48-4893-BD54-E28FF09E853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D573-B075-4FC2-9186-8F830860A54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6265-0813-42FD-BCD7-C95BA13703B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12A1-1593-43E5-99F8-C504FCB31D4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6EF3-BC37-478A-A471-73C43F455DF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B328-CFAF-4080-8CC8-44DD50B774B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58FC-5AF0-4755-A319-78671D0AA82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3DDE-AF3B-43EE-ADB1-0FFA75655D2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entury Schoolbook"/>
              </a:rPr>
              <a:t>Развитие орфографической зоркости у младших школьников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57200" y="500040"/>
            <a:ext cx="82123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Рукодвигательный фактор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785960"/>
            <a:ext cx="749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Создание правильного графического образа слова,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его запоминан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2640" y="357120"/>
            <a:ext cx="82119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Проговаривани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356840"/>
            <a:ext cx="749952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c32d2e"/>
                </a:solidFill>
                <a:latin typeface="Century Schoolbook"/>
              </a:rPr>
              <a:t>*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Развитие речевого аппарата учащихся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c32d2e"/>
                </a:solidFill>
                <a:latin typeface="Century Schoolbook"/>
              </a:rPr>
              <a:t>*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 Многократное проговаривание вслух так,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как надо писать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2640" y="357120"/>
            <a:ext cx="82119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Комментировани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356840"/>
            <a:ext cx="749952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Объясняющее рассуждение в процессе записи слов, предложений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entury Schoolbook"/>
              </a:rPr>
              <a:t>Вывод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Необходимым условием формирования полноценного и прочного орфографического навыка на начальном этапе является </a:t>
            </a: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развитие орфографической зоркости,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которая заключается </a:t>
            </a: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в умении обнаруживать, видеть, замечать орфограммы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   </a:t>
            </a: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и классифицировать их на основе опознавательных признаков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096920" indent="-1731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 Schoolbook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600" y="428760"/>
            <a:ext cx="74948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Актуальность</a:t>
            </a:r>
            <a:r>
              <a:rPr b="0" lang="ru-RU" sz="40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214280"/>
            <a:ext cx="7499520" cy="503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темы заключается в том, что первые шаги на пути познания родного языка всегда самые сложные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От того, как будут сформированы азы орфографической грамотности на начальном этапе обучения во многом зависит дальнейшее успешное обучение любой школьной дисциплин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428760"/>
            <a:ext cx="74995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Объектом исследования</a:t>
            </a:r>
            <a:r>
              <a:rPr b="0" lang="ru-RU" sz="40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999720"/>
            <a:ext cx="749952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является процесс обучения русскому языку младших школьников, направленный на </a:t>
            </a:r>
            <a:r>
              <a:rPr b="0" lang="ru-RU" sz="4000" spc="-1" strike="noStrike">
                <a:solidFill>
                  <a:srgbClr val="7030a0"/>
                </a:solidFill>
                <a:latin typeface="Century Schoolbook"/>
              </a:rPr>
              <a:t>повышение орфографической грамотности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entury Schoolbook"/>
              </a:rPr>
              <a:t>Предметом исследования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642680"/>
            <a:ext cx="74995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являются  методические приемы обучения орфографии русского языка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499680"/>
            <a:ext cx="749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Цель работы</a:t>
            </a:r>
            <a:r>
              <a:rPr b="0" lang="ru-RU" sz="40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едставляет собой попытку выявить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*</a:t>
            </a:r>
            <a:r>
              <a:rPr b="0" lang="ru-RU" sz="3600" spc="-1" strike="noStrike">
                <a:solidFill>
                  <a:srgbClr val="7030a0"/>
                </a:solidFill>
                <a:latin typeface="Century Schoolbook"/>
              </a:rPr>
              <a:t> эффективные способы формирования орфографической зоркости;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Century Schoolbook"/>
              </a:rPr>
              <a:t>*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Century Schoolbook"/>
              </a:rPr>
              <a:t>создать систему орфографических упражнений для ее выработки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ff0000"/>
                </a:solidFill>
                <a:latin typeface="Century Schoolbook"/>
              </a:rPr>
              <a:t>Пути решения пробле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571400"/>
            <a:ext cx="749952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Увидеть орфограмму в слове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Определить вид орфограммы, к какой теме относится, вспомнить правило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Определить способ решения задачи в зависимости от типа (вида) орфограммы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Определить «шаги», ступени решения и их последовательность, т. е. составить алгоритм задачи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Решить задачу, т.е. выполнить последовательные действия по алгоритму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entury Schoolbook"/>
              </a:rPr>
              <a:t>Написать слова в соответствии с решением задачи и сделать самопроверк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ff0000"/>
                </a:solidFill>
                <a:latin typeface="Century Schoolbook"/>
              </a:rPr>
              <a:t>ФАКТОРЫ ОРФОГРАФИЧЕСКОЙ ЗОРКОСТИ, КАК ШАГ К  ГРАМОТНОМУ ПИСЬМУ </a:t>
            </a:r>
            <a:br>
              <a:rPr sz="5300"/>
            </a:br>
            <a:endParaRPr b="0" lang="en-US" sz="5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5928840"/>
            <a:ext cx="7499520" cy="3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Зрительный фактор 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356840"/>
            <a:ext cx="749952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с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ной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Х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оро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ша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ро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ща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ной!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лышны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песни птиц. Дятлы звонк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о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ту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ча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т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по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т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о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лам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д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ре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ь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ев.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В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тр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а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ве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шуршат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жи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Они и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щу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т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пи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щу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.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Кругом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цв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е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тут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ду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ши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стые</a:t>
            </a:r>
            <a:r>
              <a:rPr b="0" i="1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ланды</a:t>
            </a:r>
            <a:r>
              <a:rPr b="0" i="1" lang="ru-RU" sz="3600" spc="-1" strike="noStrike">
                <a:solidFill>
                  <a:srgbClr val="00b050"/>
                </a:solidFill>
                <a:latin typeface="Century Schoolbook"/>
              </a:rPr>
              <a:t>ши</a:t>
            </a:r>
            <a:r>
              <a:rPr b="0" i="1" lang="ru-RU" sz="36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500040"/>
            <a:ext cx="7499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entury Schoolbook"/>
              </a:rPr>
              <a:t>Слуховой фактор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928520"/>
            <a:ext cx="7499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3600" spc="-1" strike="noStrike">
                <a:solidFill>
                  <a:srgbClr val="0070c0"/>
                </a:solidFill>
                <a:latin typeface="Century Schoolbook"/>
              </a:rPr>
              <a:t>Работа над развитием фонематического слуха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i="1" lang="ru-RU" sz="3600" spc="-1" strike="noStrike">
                <a:solidFill>
                  <a:srgbClr val="c00000"/>
                </a:solidFill>
                <a:latin typeface="Century Schoolbook"/>
              </a:rPr>
              <a:t>(учить слушать и слышать то, что говорит учитель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8:11:17Z</dcterms:created>
  <dc:creator>Admin</dc:creator>
  <dc:description/>
  <dc:language>en-US</dc:language>
  <cp:lastModifiedBy>LEGION</cp:lastModifiedBy>
  <dcterms:modified xsi:type="dcterms:W3CDTF">2015-01-27T12:01:53Z</dcterms:modified>
  <cp:revision>13</cp:revision>
  <dc:subject/>
  <dc:title>Развитие орфографической зоркости у младших школьников</dc:title>
</cp:coreProperties>
</file>