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EE39-55CB-4A47-BD6A-EE272B0FF8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ности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даптации первоклассников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3BE5-15CD-4CD9-8F74-B790EAA518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1244-5DE4-4E26-A9A6-386748EF6B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сколько советов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9D96-AE8D-4FA5-A9D9-FE73CD03A7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3FEF-0B39-4AEC-8503-1E2596435B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28F0-B5E4-4ABB-8AC3-265D747336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E083-B24D-44D5-BD16-01ACB5AEAC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2912-00B3-42FD-A4C8-CC6F25BD73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Bookman Old Style"/>
              </a:rPr>
              <a:t>Эпигра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как если бы от эт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зави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Ваша жизнь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Кью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F28E-534F-4443-AF64-CFA0BFF681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2B28-07B2-40AD-87E6-C3B640B63D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Физи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B3E6-3EF3-4066-B868-96D7E4E278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369B-BB0E-47F3-AD3E-2203F2077E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заимоотношения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с ребенком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29C0-D0F0-44A6-B98B-31F6D140FD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Шкала Общ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4B68-F9A9-4171-A41B-EE8CC0A487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ила, которые помогут ребёнку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общ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1C20-F5D5-4FF7-8BDD-EB61F76304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 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4731-6E6E-4407-9E45-1B7E27CFC2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C6F-34D3-4016-9C3E-F8F0EDD3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5AA-0007-4FA9-BD47-2192DC02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4619F-619D-4F99-AE0A-14257113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EFC42-2637-420D-B0B2-D09D439E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00347-74F5-4A72-AEBD-B3FE4F09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3F8D9-E18F-4046-A4E1-6F2CEE85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67B44-A4B4-4C35-A30C-BE5D2589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AECE5-EBD0-4759-9E78-CFCEF7DF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D661E-1217-479C-8218-74FC5B6B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73C4F-ABA0-41C5-B31A-7A45BE03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4C382-EC7B-494F-93CE-94EBAF64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781-77B8-498F-B03D-7E589DD8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FEB-CFEA-42D0-AEE9-880E2EF9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64B6-B1B4-4B63-914B-148F5FAA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98C5-58D4-44A5-9683-1E5D0F07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C0F6-BCFA-4177-AF32-B8F3FEB2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A337-4579-429D-BEB7-BE368532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AE4A-BEF3-4455-87DB-C4019F73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0C69-4BFF-4837-9A93-51A1B3A7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BCF7-D7AD-4F98-AEFB-B621A2B1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B2F-714D-4D5A-BCBF-9A04A670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8B2A-E6FE-4149-A68F-0795E344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61A6-3001-4FDF-805B-C77F5196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B3D7-2A23-4B46-84B3-8A1A730E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F13F-994E-4FAA-A823-4A0AB2C0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51E0-6AC8-4645-AE5F-8AE90B48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DFB4-C0D0-49FA-96B5-2FD007C0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C447D-89FA-4F99-929F-5016EA9A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D45F5-CE5D-4395-90CD-1B242705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FDEFB-D2F6-4BAB-9BEA-1296EBF4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16F7C-CCD6-4B59-AA53-897DC0EA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904-D258-4780-B5B5-FC6C6BB9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64087-C2EC-44DF-AFED-8D988D01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1C4BA-8590-47B6-8983-4CF1F9F1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93708-BB4F-432E-AF7A-0A587F04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A3CE-1E7B-492B-B547-67951B18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5EF2C-E142-4EE1-A21D-4C7BF7F7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6C8DF-2A7C-4F67-BEDA-ADD73E87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6AA46-0274-43CD-9D07-B7C12A21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A73D-7FBB-4870-AB1A-66A7152B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0DDDA-41CA-4921-8A40-FBE6F908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12064-19B5-41A9-B4B8-5A106496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6DF-83E5-49F5-BC19-51822710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920D7-7BBE-4870-815A-E6885C63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39A50-669C-40D2-9B0D-2B04E3E0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28F11-E7FC-4B5F-AB51-725ED984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03ED8-5487-4FEC-B762-38F45A08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4445B-B3FF-4CA2-AF3E-A30F4D92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75AFA-CA86-4A3C-A1C6-702A9629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6F4AC-42D8-4E81-8C56-761145D7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4CDBC-F376-402F-BD33-ADA8FE80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A8DE6-573C-4278-8429-1A9C5DD2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7ED24-D773-4E6D-ACD7-3E35956A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9CE-BD5D-49FF-A237-5C90A3F1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E83DF-75C2-49C2-8C8E-5172E5A6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DD438-D102-4F2F-8743-0255B215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EBE79-3B96-4171-A07D-E99F005E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235A3-534A-44C1-936B-9A28FB5E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4ABB6-0EF5-4B4D-9CF6-5D42F0C9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27225-8E7F-4AB7-A76D-785138A7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3C645-7968-4F77-98B9-E9028FB5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1FAA5-D3A8-493E-9C1A-4B28A8E8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376B0-BDAA-4B3C-A436-AF34D3C7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9C05A-A283-42AC-8027-F3A40E6F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22B-AD41-47D3-9FDC-DE3457E6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DD7A9-E12C-499B-B310-4F769A28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39FE3-F694-4810-92FD-0E51B233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601E7-12DC-4C38-9569-50230623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46E7E-0E1B-46CE-8FFE-C196E7F9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BF1AC-EF15-45F6-A765-70C2E95E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FB14D-0780-4B46-8221-54B20F30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BEF10-1BCE-49A2-9980-66108E39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D3191-30EC-4FD0-9FE4-B6CB78FA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D5EB5-622E-48AE-ACFF-91B711B3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CF11D-04C5-449A-8336-34F33E14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0AD-7A78-4BE2-872B-1F8B2FA0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5DDC9-E64E-4E48-AE82-263CFE80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2C1C9-82D5-4174-81CD-7E5A65DA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7E3F1-D654-499B-9CB8-4211C94A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A6648-86BA-4791-B35C-8FA3BF38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36D45-17F4-41EE-A9F4-58CEFC48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A2A82-5C80-4E95-82B1-C8668DE8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A217A-E417-4654-9F7F-F2C35172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ADBCC-09E9-4176-BD41-351BAB24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21FD3-915D-4605-AED8-77A441EB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D20AE-7854-4CBA-9828-0A240A8F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AA1-FBC0-40C0-8796-E77447AF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BF5F2-0C4D-4323-B067-0481B254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B6C77-6B40-4651-A2E2-236ADE72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95310-BFF3-469D-A857-E6D6880D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05C06-5205-4EC7-960F-9BB10121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F7DE0-26E0-4986-836C-17CCA3B5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F891D-6080-43BF-88F2-330B5913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E7DF8-AEF0-4E20-8DCE-AE3C5E94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BFBD9-2790-4680-8CF6-49A845B4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05E3C-DA0A-4284-87A7-DAB20C47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10F01-D3AD-4B14-958D-C923DA1A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EF4-4CF0-4295-B203-8B8252FD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36493-9CE6-4DEF-B9C0-D700C3E4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0C725-843F-4ABD-893A-E6306009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8D951-87D7-402A-B370-4BC0AE74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BA85A-2B62-4252-9C75-BB1B0A53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7502F-C7EF-44DA-9AAD-43EF1DC5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B478A-CF45-49D5-B411-FB2E254D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35348-B1F3-401E-9A4A-AEBDE979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26569-D5DA-4B4E-983B-ED26BA63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F197D-F908-42AE-A063-AE8F19C3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CB8F9-D0F5-44EF-A50F-754BC999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DEB9-F532-4118-95A0-6385E8C6BCF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EA6D-E00A-4A2D-81F5-B6504D734A7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08AF-AAFA-4D4C-ACF1-C52F2425D17D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34FD-F4E2-4944-9B74-67E8EAE59A2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256D-7F36-4778-9939-BDA524988DB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DB55-2B9E-4C71-9436-61120FEDF4E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9F5B-96A2-4AD0-AF93-436D3C728E6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D810-93DA-42EE-91C4-6ED51074DD0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BCD6-83B0-47CB-BDA4-1F709D9A108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4014-F9DC-40AE-9F73-32E76E2E10B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EED4-613D-42DD-90E9-0593B5A331E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EAD5-128B-4743-AF9A-0A4051CA5B5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AEAE-70F2-45E3-B817-48D8AB0F0C4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67A1-CC2F-45AF-B123-9F9F0D878A0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7F8A-59B5-4DE3-8955-979B00C4D5B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A3B9-36D8-440E-9EE2-96DB594FC2B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E01D-B875-4035-ABF2-97F2E67F0C6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3CF3-9602-4178-9B7F-D95E1892F8E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84120" y="1000080"/>
            <a:ext cx="9077400" cy="507672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270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Спасибо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за внимание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15320" cy="858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как если бы от этого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зависела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Ваша жизнь…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.Кьюб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0012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95120" y="457200"/>
            <a:ext cx="9120240" cy="51148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35684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62080" y="457200"/>
            <a:ext cx="8862840" cy="9270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7140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7:04:19Z</dcterms:created>
  <dc:creator>Admin</dc:creator>
  <dc:description/>
  <dc:language>en-US</dc:language>
  <cp:lastModifiedBy>LEGION</cp:lastModifiedBy>
  <dcterms:modified xsi:type="dcterms:W3CDTF">2015-01-27T12:02:27Z</dcterms:modified>
  <cp:revision>19</cp:revision>
  <dc:subject/>
  <dc:title>Трудности адаптации первоклассников в школе</dc:title>
</cp:coreProperties>
</file>