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B2F3-F542-4448-B02D-5C9A4C6A12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ности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даптации первоклассников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D4E1-050C-456E-B7E8-E609196051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CDC6-FEE8-4CEC-ACFF-A512EA0F63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сколько советов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53DF-BF8A-4033-BE55-7514082932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411-8B3B-413A-8E4C-2BAB8765E6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1079-ECB5-4FBF-847F-357AE55A0E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D447-CDD4-4DC9-BE80-EB4E501437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2852-59BA-4A00-A2D9-60DA078EB8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Bookman Old Style"/>
              </a:rPr>
              <a:t>Эпигра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как если бы от э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зави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Ваша жизнь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Кью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5893-EB44-4F62-91EA-D62125F06A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AE3A-E113-4D23-AADA-B0A4982746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Физи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0AE6-2A84-409D-81CB-63E1B7FFD6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F003-A51C-419A-B61B-53ED958B7E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заимоотношения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с ребенком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BBD6-D0E3-4489-B1C4-CBA0B4346C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Шкала Общ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4FEC-BDDF-4829-A5FF-50ACE42DD9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а, которые помогут ребёнку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общ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B9FC-8E1D-4182-8F44-E694B26BB7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 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ECA2-7927-4099-8FC1-E5C73BA9B1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B92-E129-46CB-B8A3-9B8DA96F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FDD-0A17-45F1-BE8C-5A92A1D3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22AC0-007D-4EC1-8F0C-CADFBA9F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64B3C-365C-451B-A5B0-E12CD25E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8BFBE-AEE9-47D3-A07F-3C72BBD0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E8FB8-9B2D-4993-987B-D6CF284B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6F8D9-A1E7-4D0D-A505-EDBAA3BA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30D2F-BD1C-44CE-AC99-DBEEB485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891AB-0EE3-4A78-98DC-9F53DE6C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C4144-56DD-42A3-B430-D3FCB007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3AD18-CFBC-4B23-AFC4-B8D6770B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BFB-E0E5-499B-95FF-E4924417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99F-D544-4269-AEA8-2706C0C7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A1DE-D75C-4808-858D-58AA162E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7497-1205-46B0-970A-ACCFF234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E9CB-235E-4CC6-B182-AD28E21B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99FC-2D5E-4559-9B7F-6EAE28BC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0C3D-FBB5-4D52-BD6C-D3EC46AD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9D84-DF7D-4B92-B48B-167EDA02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971D-EAA6-4298-AE30-F364C036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090-8196-43B8-9D15-91369EC2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EB10-BF17-4FAB-AE23-0E9DA1FD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6E50-BDE5-49E0-A051-31C1DC9A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CA60-DE31-4679-89F2-CFFB9CB9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424C-AD68-4775-BC59-7E0371C2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C9EB-22CB-4D2D-92FF-2757C418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551D6-C259-451E-82DA-42242D02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AE55-FE2F-4313-80A8-6D0D510C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13EB-4399-4AA8-8FC2-9E79C08A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3599-C27F-44F8-A3BD-C34D227E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3CDA6-F40D-448D-89DF-F18F1331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E4A-8AD9-416E-99F6-FEA82191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8069-AE5E-4ACC-903D-F1B35D17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5404-7639-462E-81D7-9AF9BB32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2285-EA52-493E-BBDB-AD3D31FD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301B-85E1-4AC1-BBF4-06F86C59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A64F-A633-482C-9BCC-CD8045B3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C740C-C839-4B27-A5FA-09C1EE6E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AF85-3D37-4B08-86FE-2DDEC750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67AB5-4DB0-401F-953F-63B1F328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F43E2-436D-4D02-8F2F-2E49D2B0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E0A36-5FE3-4104-A6FA-FEA751E9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86B-35EE-4904-BCED-62C7D0FA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04EE2-F824-4240-9356-0F9E60F1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7180-C92D-4003-9A44-5C014AB7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4ACE5-D252-4019-90DF-B1D1D6D8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76289-E673-444E-9A68-FD200D95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9E858-7634-4C21-9C5B-7A365462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5B9C8-AA9C-4A42-89B0-D2C8DBF2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941E-E645-465E-8580-EE49CD28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87201-B8DB-4A69-BAB7-25241000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1EB90-40A9-4819-BAF2-B1D0437F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6B235-05F7-4E27-B782-E0198C2D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706-9BA9-4A65-A7C7-276F2B74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78F34-65B9-4989-A7ED-67C6D6EE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4EBDC-2294-458C-B48D-BFB1CAFA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5A653-ADA9-4FF7-84C8-39B5E347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34C39-48ED-4201-8A97-B8988BFD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4D221-7E02-428D-8546-832F169A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AD911-D0C7-4712-8939-03F6A78E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61CE4-1393-48D6-8C4D-42B398F5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8BDF4-5221-4D7B-A6F8-6AC8164C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CB1A1-A398-4CA9-9C0D-0081B5A7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A01C2-D691-4259-A01E-E93F3BAD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F81-C074-4F34-BB7C-3E20BDCD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EC7F2-5354-4A23-9AD8-84E9AC83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E28EA-CAEF-4647-9905-30CE57EE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54095-1DCA-45B6-A2C8-12702769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63E7C-7161-435C-9258-F321C999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8FCAA-857C-4204-B797-4A6C821C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A87F1-9211-420B-A849-1017C2A0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24C6A-AB55-48F9-B764-BF5A09D5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4E537-D3C8-4501-ACA3-7E7F0F6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8E340-6DCE-4E16-B667-598389D7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BBFE6-5A13-47E8-BD2E-60D1FC39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097-9FDC-4B48-8004-39502436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52D56-435A-4384-9C5D-CD4631EF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3399F-B797-4B49-8F82-C41A2649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316B-8E84-4082-BD52-79E14A48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52B98-FE5A-455D-9088-EC848B9E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3A0D3-2A69-456B-A427-8A09E59F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DCB5D-AC57-4F57-918E-BAB629F6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77894-E241-4C7D-B263-DDACB34C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D510B-5500-44C9-8072-A367A1E2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9ADC0-45A5-4D22-AC1D-E783D1EA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EE2D5-0F51-4D04-ABBD-9089F1EB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697-39D8-46B0-BE1A-093BE6E7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4B40F-2739-4B8E-9AF7-D56F0DF2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51C82-BA8B-4CA5-B385-B1CF682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48436-568F-456A-99DD-4861160C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ECA85-7820-41DF-ACE2-B382E813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45385-62A5-41C9-AE7B-FB231EC6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1706C-A1CF-44E2-AED1-9A286F2E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DD075-4D5D-45F3-B7E8-970E48DB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F635D-482C-48EF-8590-7FEA1503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5A5F1-2810-43A6-BB3B-C38B09A0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86CE6-1F98-435D-9A83-24250234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692-D483-4BCD-804D-FF4E853C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DDC2B-0CC9-4167-B1FB-A1FB90E8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208C6-6E1D-4DCB-97A6-923CB8F9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8811B-86A5-4B95-9BDB-A97B1346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7F5A0-CD00-4498-A856-0F4668DA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7DFDA-7D8C-4AB1-BC98-7658780F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4DB1D-6AA6-41E0-A4F6-B37F347A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26385-FBE8-421A-A084-AA7B76B1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08E70-C115-4705-9A50-E933BFE6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9C88D-020F-4762-B8DF-395D44AD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A4570-99B9-41A2-AB50-C9281EFA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578F-8AF8-47B8-8082-01B605B3220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B840-8EAE-46B6-B752-B44D238E1AA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A331-F72B-42C9-8FEB-2A55DA90AF3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9DA4-FEFA-457B-B145-2716E1323E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3DE6-FB17-4130-9410-1B151EE2133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6996-D80D-45B6-815E-78152FB0EA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3F1F-9C5E-4E23-84B5-B6FDB459586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B349-E86A-45C4-89BC-8EA95E6813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6973-AD63-48FC-9967-838FE834D66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1113-FCB6-4619-A09D-4CB5AF7B5B6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56BA-82A3-4968-88CA-FDF94C277F3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6CA7-0C16-4E0C-9828-38ED21FCFE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13C6-8BB7-4C8F-95D6-77FC5C801D3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2630-1450-4E52-BB13-C7B7EE44E4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37C4-B776-4E64-AF77-4768BD2E27C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E1E3-8DE6-407A-A58A-135E162992D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4D53-BBBA-4D6A-8485-63C364F6C14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AFD7-AE84-4DE9-B022-6BFDDAB3124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84120" y="1000080"/>
            <a:ext cx="9077400" cy="507672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Спасибо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15320" cy="858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как если бы от этог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зависела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Ваша жизнь…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.Кьюб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0012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9120240" cy="51148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35684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62080" y="457200"/>
            <a:ext cx="8862840" cy="927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7140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4:19Z</dcterms:created>
  <dc:creator>Admin</dc:creator>
  <dc:description/>
  <dc:language>en-US</dc:language>
  <cp:lastModifiedBy>LEGION</cp:lastModifiedBy>
  <dcterms:modified xsi:type="dcterms:W3CDTF">2015-01-27T12:02:27Z</dcterms:modified>
  <cp:revision>19</cp:revision>
  <dc:subject/>
  <dc:title>Трудности адаптации первоклассников в школе</dc:title>
</cp:coreProperties>
</file>