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7D67-877F-420D-8C88-5D1B41EC01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ности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даптации первоклассников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95E2-106B-4263-8739-FE6E2F0A9B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A056-0AEC-4BFF-BCE3-CF091717E0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сколько советов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1D08-12AA-4D1B-96DF-04CE422239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C3CC-15F2-4F87-9DAE-BF9A08E104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E51F-6452-4445-B48B-D243C9909F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34F7-0747-4CB2-A3CA-620D87BAD7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7DC2-8348-4457-9D20-ACC1CC5EB4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Bookman Old Style"/>
              </a:rPr>
              <a:t>Эпигра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как если бы от эт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зави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Ваша жизнь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Кью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7C5B-0137-4769-9275-A9EE362FE4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09CB-9EE4-416C-AAC9-3A2F0F8869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Физи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0D94-3483-4FFA-A21E-064E07D7EE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Bookman Old Style"/>
              </a:rPr>
              <a:t>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EDA6-174B-4570-8EE5-24BD957C47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заимоотношения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с ребенком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Bookman Old Style"/>
              </a:rPr>
              <a:t>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C076-2C5F-4F1B-8265-DAE565AAC7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Bookman Old Style"/>
              </a:rPr>
              <a:t>Шкала Общ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7954-8683-4B32-A89C-2F30B70C1D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ила, которые помогут ребёнку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общ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9EDE-8ECB-42E7-8393-48783F1570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 рекомендуемые фразы для общ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1172-727B-4D31-8FFE-AE763B0BA6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6DAD-C3AE-4C42-BCD9-9D2490BA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076-700B-43B2-B33B-7915E5F4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890C9-3F68-4634-883D-4FCA0834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0CE12-7387-4DEC-84BC-74411291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CC921-2526-4E32-856C-0E665692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F2462-0238-44AF-93FA-DFBE6B56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9329D-FFC8-47C3-A404-95F4C94B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CADFA-CDE5-4504-942C-B620719D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74488-8ACD-4586-A682-391B2319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95197-3038-4215-A959-337BBEFE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C7CFD-A2EB-4824-AAF7-DE87BA76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C92-55E4-4676-8F04-153AD001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B39-B841-4D06-A6F6-F0F3EAC4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3948-37C1-434F-877F-9FFF6CB9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CEA6-CE28-41ED-8E99-16AE2183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7925-B32C-41F5-A407-29B072C0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A2A8-FDFA-4A4B-84A3-0BF5D305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B401-6869-435B-8A68-2F06C481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7B42-138D-4DFD-AC46-680FE1CE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9CBE-E5D6-433A-BC32-7D9D24ED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BAD-A927-48CF-BC3C-A34704DF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0EC5-DF6D-48E6-B4E3-49742B9D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5FC8-435D-4CA9-BF04-5466626A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721D-B97D-4AA0-B965-47D8EF2E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D8A4-26C6-4B2C-A59F-E27D46E2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F0F1-258E-4A61-8F47-F9E65B5D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0CEBF-DC8E-4FF3-A6CA-BCB947BA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3993-6399-4121-9C87-E183D53A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C1304-7BB6-478C-886C-5737F892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8852D-6754-4300-A487-C4F72027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9D1E3-54E0-4A10-9A38-4BE70A2D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6A1B-D825-4984-8FB5-D28BDB12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F927-453F-4DB8-92C3-1ED48FDB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EE75B-9DEA-4373-8E54-2646474E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57AE4-6FD5-4EEA-905F-8B5556FD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E8AA7-05A6-4945-81F3-218B1E82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1BEC6-5F0F-4241-B2EE-0938133E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58A6-43A9-4DCF-A524-81362FA0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50BDB-757D-4B77-AC89-DB1F9FF0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DB8FC-7F89-45BB-AAC8-C32B6378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9BEFF-0D7E-47B5-AA0A-9727142C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F0552-9F49-4FDA-8FA4-26716060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53B-E1AF-4FC9-B1B6-8CFFB331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DC9B3-912E-4FDA-90BC-A15BA89E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76FD-F944-4B74-BF95-C5EB9827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18C35-6C0E-4092-8F52-E9997288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13C6E-55AB-49FF-9E53-A8CFE49C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8AC20-40B9-4023-9C94-38ED9546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B2E9D-8759-41D5-8912-75050AAE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71408-3E0C-4924-AC24-49804CA7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F1EC6-670C-439E-965E-9C8371FB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DD90B-53B6-4F8E-87C3-F06E4633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AAFC5-D86C-481A-82BA-E25EB497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1F4-3CE3-4169-A751-7ED9B289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849B2-FDA1-4CC8-B63B-C97AD606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66F0A-4DD0-4393-8170-63EF7401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B5AB5-30E2-4174-B104-FFC987F1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923B3-4D4F-4AEB-A9EC-38FFD871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D30B1-CD90-415B-AE9C-0A0CE352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D3F88-D158-4E87-8A77-3D326B7B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49E9C-6966-4252-9335-602C9B5A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2241D-8FBC-48E1-B0E6-DC74073B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83E8F-1A29-4CDE-ADFD-4E1D2264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66182-0BDC-41E9-AAC9-4F6DA32E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915-2BF1-4A81-A727-6E5FA648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F6758-4F7B-476A-B069-54249AED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BBCF7-176E-4662-9193-444B471C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F75F9-B334-4407-BC77-62084B21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0F240-0A02-4902-AF7A-5AD177AC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B4834-927A-46C9-9DBA-427BCD18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0B3D6-2038-49B4-99A1-F506F65D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E9166-3D82-4471-BE62-61E10A5D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DA7EC-BC67-42C2-A72E-6DA51792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575C9-8714-4F83-BD74-DD64DF2A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C2A0B-7469-4775-A0E2-8F80E630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654-B96F-47A5-8DA2-CBD33D8F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83418-63DF-49B6-90DA-40F8D6B7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2CAEC-8501-4A40-A829-6A190250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850A1-E08D-4AA4-B904-AEF19033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8CF1F-5005-4B5A-97CC-5581D294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1CBDD-FEF1-4F66-B240-7175D52B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75E16-5006-41A6-9A5A-FBA7C64A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803C3-DF46-401E-923D-CD82692E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A5B83-53E0-40EA-8F32-B9F1199F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17114-65F5-4489-A83E-465EEE80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6C41C-9C82-47A3-8AA8-0B79F45E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A23-B32C-487D-807E-49DC1166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60434-FC98-4DF7-9B28-384C6F68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0B266-2672-426E-ADC2-D996F560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CE99B-5EA1-4EF4-B21C-B7603E3D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FBFE1-6EF6-43D6-B03B-048632A9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54DC6-8ED4-40F1-A934-3C85611D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A805D-F3CF-4A56-987D-0F1BB581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060BE-3389-409F-8987-7720B73B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B7FE5-A137-4842-8E6B-CC5C8FD5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256C1-E04A-47E6-A3CF-E0A311C3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5F7C0-FC9F-4BBF-8DA2-667EC1BF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941-700A-4F32-8BA8-5D74EE80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05FB4-AAB8-41BE-AF03-F8938EB5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E4DF7-6BC6-43DC-B357-22FE2063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E68E1-BE9A-4D89-9F32-BEA09EF3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66AAB-9677-4731-B990-BCF2706B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46986-6895-4DC7-ACE4-45F03256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60149-A926-421F-8AF6-C8B5BEF3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C9638-BC41-4F81-A0A6-A95FC2C4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48413-E57F-4562-B2BD-DD90E4B6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E9E1C-F6D4-42F5-970B-4AE96C58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3B338-8268-40E0-8CB3-D07FC22E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4BBC-360F-4C4A-A387-A1FC2EA870E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C0C1-1C15-4FE6-ADC5-F03D71A0591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8DC6-618F-40B0-A739-424EA470E81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FDD2-1E76-4576-B31D-16DCFC48339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CD22-7561-4DC9-8093-CD16A4E06A3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C20C-9A29-4567-8A05-223C2BA9D5D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1817-C91D-4603-A5B8-CF7B74AAF60D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B113-FCD8-4122-8ADD-E3DACF0FB22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5715-1AA6-495A-B09F-22F3AEC63EF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BF65-C078-47D9-A6C0-ECFBA47A053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D228-75D4-4623-A012-1ABF3818FB0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66B6-E233-4AA1-991A-16FF7063B02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EB14-2A96-4F12-AA6C-A711F16DD66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8277-4169-47ED-A48E-CB90F4D667D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5EDA-5A55-413A-B913-DBBE6AF47A1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E831-6F33-4586-9B93-81F6324663A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76DF-973F-4EFA-B246-609118B2155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A2C4-9CBA-42A4-902F-AC0DBC394C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84120" y="1000080"/>
            <a:ext cx="9077400" cy="507672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270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785960"/>
            <a:ext cx="8686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бесполезны!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Спасибо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за внимание!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15320" cy="858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Штурмуйте каждую проблему с                       энтузиазмом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как если бы от этого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зависела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Bookman Old Style"/>
              </a:rPr>
              <a:t>Ваша жизнь…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Л.Кьюб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Условия 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Bookman Old Style"/>
              </a:rPr>
              <a:t>адаптации</a:t>
            </a:r>
            <a:endParaRPr b="0" lang="en-US" sz="6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Изменение режима дня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Необходимые игры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ая посадк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Правильное питани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Развитие двигательной актив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Bookman Old Style"/>
              </a:rPr>
              <a:t>Воспитание самостоятельности и ответствен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987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0012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сихологический климат в семь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оценк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Самоценность ребенка для родител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Формирование интереса к школ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Дружеское общение с одноклассникам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редоставление самосто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чет темперамента ребен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Организация контроля за учебо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Похвала за успехи и достиж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Моральное стимулирова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Развитие самоконтроля и самооцен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95120" y="457200"/>
            <a:ext cx="9120240" cy="51148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Положи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хвали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поощ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добря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целу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опереживае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лыб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восхищаемс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делаем подарк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Отрицательные эмоци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прекаем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унижа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бвиняем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сужд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твергаем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читаем нотации;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лишаем чего-то;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тавим в угол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35684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отнимай чужого, но и своё не отдава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просили – дай, пытаются отнять – защищай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ерись без причины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Зовут играть - иди, не зовут – спроси разрешения играть вместе, а это не стыдн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грай честно, не подводи своих товарищ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дразни никого, не выпрашивай ниче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Из-за отметок не плачь, есть вопросы к учителю – подойди, выясн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Старайся все делать вовремя, думай о хороших результатах. Они обязательно у тебя будут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Не жалуйся, не ябедничай, не наговаривай ни на кого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Будь во всем аккуратен: в учебе, в одежде, в отношения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чаще говори: «Давай дружить!», «Давай играть вместе!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62080" y="457200"/>
            <a:ext cx="8862840" cy="9270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7140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7:04:19Z</dcterms:created>
  <dc:creator>Admin</dc:creator>
  <dc:description/>
  <dc:language>en-US</dc:language>
  <cp:lastModifiedBy>LEGION</cp:lastModifiedBy>
  <dcterms:modified xsi:type="dcterms:W3CDTF">2015-01-27T12:02:27Z</dcterms:modified>
  <cp:revision>19</cp:revision>
  <dc:subject/>
  <dc:title>Трудности адаптации первоклассников в школе</dc:title>
</cp:coreProperties>
</file>