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4C74-7E47-4560-B83C-971CF17A2B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ности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даптации первоклассников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AD35-D3C4-4850-A0F0-C26701D7A5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ED89-0CA7-407B-BF91-773F6EFD9E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сколько советов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BB26-F8EE-44F5-B196-2CE7392E23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4F82-D344-40F8-B1DE-CA7EB195EA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3844-7F17-4D98-BFE7-CC27075AA7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9E39-A2E2-4BD9-9A49-9174EF980F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4470-FD77-420C-9D92-1530027BDF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Bookman Old Style"/>
              </a:rPr>
              <a:t>Эпигра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как если бы от эт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зави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Ваша жизнь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Кью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0CA4-B099-43EE-AA0F-629F9F4ECA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A10A-B027-4CBE-9B37-47FAD3F917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Физи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2283-FC88-4156-A878-294387EF45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DDFC-3E38-4648-A572-8542781DB3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заимоотношения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с ребенком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C1B6-9033-4F84-A8AC-8D15BA97A2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Шкала Общ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3047-D75E-4735-9440-AA9F9B91C9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ила, которые помогут ребёнку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общ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0448-0E5D-458F-9651-18019AF10A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 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B804-2A04-4730-9955-B4BBD4335F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19C-6395-4C7F-9929-BF111BD7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600-4407-48D8-8021-933C5469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03D74-810A-40F5-8263-2FF73303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0D942-9C1A-430C-B36E-E391805C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3B171-9D1E-4367-9E28-63C0477A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0F6F5-4DC3-4659-9B28-0DAFA5B9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76F65-8019-4383-A48E-B0236F50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AF1EB-9765-4F49-8BCD-AD08343E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8CA9C-CEB0-4822-844D-55D13D1B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32D44-9AB4-41B1-B7EA-A6F6AA6F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2D9F7-9051-4A70-958A-518DA8A4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C348-BF6A-467D-8573-572852C5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DA7-52DB-4D35-9C9C-BE848536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65F8-51BA-4076-8009-16A45F0F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5CB9-F521-4F68-BBDC-02166CC6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E420-1213-4BB5-8D09-25E8489B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2D2F-1A47-4114-BE19-030F2239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82C7-1272-435F-A2E2-7230F36B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4000-EF9F-4E88-93A0-2F0221D0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CDC0-29D7-492F-942A-0F3EC410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5E3-808F-4BE1-9E44-644ABFC1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9EF6-A95A-47B3-A814-33F85956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A849-1E4C-4503-9C8E-3B034691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08B0-E44E-47A0-9687-096F403E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3A1D-D4B5-42CF-8C97-74B0A3CF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CF72-DFBF-44CF-9B3A-989CE68D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8B02-82EC-4827-9450-B1A3FF32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CEC47-3EE5-4C9D-8C3A-3AEEBDFB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E8930-9D6C-45B2-B8EC-9A138270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A8B5F-D01B-47B4-B284-0854E0C1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E6A17-2FBF-49BA-95AD-7DC9DF29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766-1836-4DD6-B1A3-4409CF4D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F5519-F16A-4077-BD4C-2BA06E97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551C-23A9-401D-9D6E-F6F82823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FC9A8-DAAF-4B2F-A85D-25B9C504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1F5C-6A92-4E80-8DBC-30FDDAC8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326E9-06EE-4930-AAAB-BCBFE22F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2CD93-7330-48DD-9808-BC033D45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A33BF-9020-46C2-8DB2-C348F019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FD651-4FC6-4E93-ABB1-F1D1C7BB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2D660-F7B2-4059-B6DA-E3569F86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CA0EA-A133-4D4F-A1FD-5339EC20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F07A-3D6B-41EA-926A-699A8C64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9BDDD-9A51-4D9A-9EDB-50AF8419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81F70-F842-46B3-A78D-1F2D9772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3A078-6F41-47E1-B925-C194AD5B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F8CDB-16F9-4A80-AF9C-9453539C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3116C-6EA4-4CD7-8803-9C2D45A0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68047-BA49-4D1D-AA95-B7C88519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D060B-C001-4976-92DD-13A34CA7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F98E3-D947-40B0-B713-21D8A697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54F3C-1C77-47F2-ABE3-3B9C5BF5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AC119-E036-471C-9AFE-55E5E0FE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ABC-370E-4A75-AC84-69FE25DF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84F71-DA5D-46D3-B757-057287EC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E433F-2152-4CAD-87CE-4516476F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11C66-22A7-4C6C-B105-AAA7A1BB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D7B97-5FFC-4846-9D1E-2AE12CBD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2D1E4-BA1D-47C4-A9F7-14B37C06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3F05F-0ABB-4AA3-AD35-9E6298FA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EF030-3880-4823-AD27-B8794B83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D6AD2-D717-4538-96D3-3229380F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9D798-EEAC-4BA0-8F92-D28F0415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4A73D-0D94-4AB3-854C-442D737C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8FB-38FC-46E7-B235-BA37A027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749D9-AF4B-42B6-A3F8-86666856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26E97-7B87-4C69-96F0-EAE5587A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83DAE-5394-4AC0-B175-D2C64D6C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CC03B-12B1-4C65-8F1C-DAFA7C82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A721A-1D86-48A1-8E04-95A7C6D9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8D855-2D9B-4483-8E84-A4F61FA4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FF881-7F91-4F3A-9681-685AC1DF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D7808-0FDB-4015-BE94-479CB9E0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DAE74-D15E-456B-85F4-EB68AF94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25116-EB60-4673-A1F9-02689C9F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E87-7415-4170-9382-A7BFA761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BD8A3-387E-4A7B-92DA-F58B3695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6D41F-066F-4F3C-A6D0-8A5EDBC7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8CF97-4521-4D62-8237-8CCF0426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30390-FC65-459F-957C-9FE3CE09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D2FD6-712D-4D93-AD89-C313CC65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A5B65-AA41-4A88-B97D-F0FEC12B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ECF3E-25E2-4276-913D-A7EF79C9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E0131-7B3C-47F3-B323-3FD2AE09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FFA28-E93C-43FD-8BF3-13B31E1F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E6DBE-72E4-447A-9923-C470AB85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E49-36BC-4C6E-AC72-656EEBF3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A557A-6555-443A-A3D6-708909F4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F05FD-1A50-4C7E-80EF-A3907CCA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C4F23-FE2A-4991-931F-02469055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E5B4D-4C11-4620-831F-A053F0C2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5D864-7D17-439D-91F7-44EF6697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688E3-D8E7-4CB6-BD34-0A1C576B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E7E3B-AC0A-44B5-AFDE-3D49C0CD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17872-CD31-4D14-89DF-781C8D9F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2B9C5-3C4F-4275-B065-75F6F9E0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68109-5764-4C59-A6F1-E4E8C8F6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FE7-765E-4502-BEF6-A01D93D3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2230C-AD77-4B2A-83BB-DCA3B044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87995-473E-499C-B35C-4259E529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D8E2D-D82F-408F-A529-B8A0E172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1E292-F0F3-4D73-9A9F-508A7989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04584-93BE-41AD-9937-9489C01B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0F473-2CB7-4827-B93E-7881B633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8FF1E-B48B-4254-BC4A-132179AB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61F0D-A98D-421E-AD31-26B4AC64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D7890-A8B2-43A1-BB27-97767785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85A1A-9F0C-4B26-BFC8-7C6ABB4D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C099-25E0-43BD-979E-66619D7A3D2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EEA5-956C-4736-B32E-2F0CFB86B0B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FAB6-96F6-4CF6-814C-5CCCEBE018D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E2D9-3E34-405E-A13B-7EE4D2F0B19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6177-B597-470B-A60F-3A35C2C8A3C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EAED-57C7-4B34-B247-7A5D73DE363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9B9F-2127-4A94-AD98-10DDFEBE4EF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28CA-5A0C-4B6E-9E45-48E99A560E3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A6DC-36C8-4A05-BA99-32B37340ADF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451B-CC00-469B-9895-ACA08978C36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B8F6-BCA4-4B5E-9563-255B91C20B8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008A-CCF9-45E7-B602-189C24EBDBA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2208-C06F-47B8-9E6C-E8C9C61AF8C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0B21-16BB-4AFF-88A4-954330789B6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AE07-EA3A-4674-A423-7B720A41610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58A3-CF67-43A3-A9B6-127EE35A047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1845-0847-4C0E-B671-62C904C8CCA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554F-F6DA-42AD-B96C-B053EFE918F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84120" y="1000080"/>
            <a:ext cx="9077400" cy="507672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270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Спасибо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за внимание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15320" cy="858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как если бы от этого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зависела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Ваша жизнь…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.Кьюб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0012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95120" y="457200"/>
            <a:ext cx="9120240" cy="51148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35684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62080" y="457200"/>
            <a:ext cx="8862840" cy="9270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7140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7:04:19Z</dcterms:created>
  <dc:creator>Admin</dc:creator>
  <dc:description/>
  <dc:language>en-US</dc:language>
  <cp:lastModifiedBy>LEGION</cp:lastModifiedBy>
  <dcterms:modified xsi:type="dcterms:W3CDTF">2015-01-27T12:02:27Z</dcterms:modified>
  <cp:revision>19</cp:revision>
  <dc:subject/>
  <dc:title>Трудности адаптации первоклассников в школе</dc:title>
</cp:coreProperties>
</file>