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5B9E-9F0A-4E65-A5FB-AD77773225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формление кабинета начальных клас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 проекта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льцова Е.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5A07-BA8B-4E80-8AAA-8ADCDFE587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ветовая гамма классной ком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816C-8A75-4AB6-A9B0-13B4C50222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йдоды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E2C5-E7CA-4329-8AC2-24E2489563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4CAD-86F9-4202-BBD2-85EBAC5D8E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0767-7B9D-4A77-861A-FF5ED66C10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оль задней стены размещена секция, в которой находится методический материа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0250-3899-4164-BEF5-853F6B0EE2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ов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E9B3-CBE4-4C54-B5F8-FD135B70E2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еленый уго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240-ED66-4E9B-8004-55624B320C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зайн ш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CEE0-DD62-48BA-AF46-73F27C1000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7688-38AF-44DF-AC3E-C605E82B1A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орки Базарного // Народное образование. — 1990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: еженед. метод. газета. — 2004. — № 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360-440A-4DA5-BB4D-6C94758B20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CAF5-09DB-4309-B6B1-ED40E6D5C1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создать уютную, образовательную атмосферу в кабинете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F423-D5A6-4EAE-B329-106C2C1F98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оздание комфортной, образовательной   сре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вышение профессионализма и                   культуры труда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беспечение психологического благополучия и здоровья школь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истематизация дидактического и методического материа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влечение родителей в совместную работу, совершенствование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62C6-B1A4-4401-B4AF-310B21AEF1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0E5F-2E09-4C09-B446-87B5A2B409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от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7AE2-D941-4D5A-BD8C-DBA795F856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помещению и оборудованию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, часто болеющих ОРЗ, ангинами, простудными заболеван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рассаживать дальше от наружной ст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двухместных столов - не менее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столов и наружной продольной стеной - не менее 50-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оследних столов до стены (перегородки), противополо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й доске, - не менее 70см, от задней стены, являющейся наружной, - 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100см, а при наличии оборотных классов 12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демонстрационного стола до учебной доски - не менее 10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ервой парты до учебной доски - 2,4 - 2,7 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ьшая удаленность последнего места обучающегося о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доски – 86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нижнего края учебной доски над полом - 80-9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 видимости доски (от края доски длиной З м до серед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го места обучающегося за передним столом) должен быть не мен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 градусов для детей 6-7 лет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0A1B-DEBE-4BD7-BE14-C944548F34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бования к воздушно - тепловому режи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Фрамуги и форточки в учебных  помещениях должны функционировать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помещения проветриваются во время перемен, а рекреационные - во время ур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E2A8-E890-4A28-955C-1A0BE32FFF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естественному и искусственному освещ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н учебных помещений - светлые тона желтого, голубог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ого, бежевого, розов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бели (парты, столы, шкафы) - цвета натурального дере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ветло-зеле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лассных досок - темно-зеленый, темно-коричнев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верей, оконных рам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, не закрашивать оконные стек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ставлять на подоконниках цветы. Их размещают в перенос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чницах высотой 65-70 см от пола или подвесных кашпо в простенках окон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истку и мытье стекол проводить 2 раза в год (весной и осен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43EF-A838-4219-8081-511B240CCA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DEB-7A0C-4884-BD92-1E4BEDB3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327-D6B2-403B-B148-364DC865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0DC-F8E8-498D-8805-5B72BD70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E67-1D6C-465D-A6FB-1572F063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F25A4-A278-4F4A-85AA-411F2D78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A6921-27EE-4254-B0D0-D1194557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B0734-F2D9-4B38-9109-2758F40F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F644-23D0-4BA4-8B9D-568F0B4C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1AB13-8B1D-4745-9387-32780349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6D04C-4099-4486-8F64-45550BD6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2A38E-8B19-4D5A-B38B-373CF4F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95D-4F0A-46A0-BA8A-CE3C9623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5932A-1090-4BC4-8891-4EB0D791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B738-9373-4B01-A76A-37C2C23F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2C29B-410C-4B4D-83E6-36923C1F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1D50D-7007-4E33-9EFF-AD943F23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2D266-1E91-4A33-9989-B2260DE5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A34-706C-4261-8F7C-5D490B84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311-5429-434E-B3D1-F8CB8B4A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679-E98A-4142-AC58-4C4B7CE7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A26-C2C7-4884-99A0-B84BA007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932-758C-47FF-94D6-27861FB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440-9BEB-4DE1-8BB5-B39F5A3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BEC-F3B9-4945-8BDF-47C20F78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3081-7CFE-4101-859C-4B66F44B5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92D1-1A35-4710-9EB8-AB96E239C9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Оформление кабинета начальных классов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6720" y="4869000"/>
            <a:ext cx="388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ьцова Е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IMG_2998"/>
          <p:cNvPicPr/>
          <p:nvPr/>
        </p:nvPicPr>
        <p:blipFill>
          <a:blip r:embed="rId1"/>
          <a:stretch/>
        </p:blipFill>
        <p:spPr>
          <a:xfrm>
            <a:off x="1116000" y="256536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ветовая гамма классной комн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голо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Мойдоды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s000115_905544"/>
          <p:cNvPicPr/>
          <p:nvPr/>
        </p:nvPicPr>
        <p:blipFill>
          <a:blip r:embed="rId1"/>
          <a:stretch/>
        </p:blipFill>
        <p:spPr>
          <a:xfrm>
            <a:off x="6659640" y="3860640"/>
            <a:ext cx="174312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_2992"/>
          <p:cNvPicPr/>
          <p:nvPr/>
        </p:nvPicPr>
        <p:blipFill>
          <a:blip r:embed="rId1"/>
          <a:stretch/>
        </p:blipFill>
        <p:spPr>
          <a:xfrm>
            <a:off x="5724360" y="443700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окова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доль задней стены размещена секция, в которой находится методический материа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гровая з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еленый угол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изайн ш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езультат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торки Базарного // Народное образование. — 1990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психолог : еженед. метод. газета. — 2004. — № 4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ворческая 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1619280" y="1844640"/>
            <a:ext cx="602928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ш уютный уголок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16" descr="IMG_3010"/>
          <p:cNvPicPr/>
          <p:nvPr/>
        </p:nvPicPr>
        <p:blipFill>
          <a:blip r:embed="rId1"/>
          <a:stretch/>
        </p:blipFill>
        <p:spPr>
          <a:xfrm>
            <a:off x="3635280" y="3500280"/>
            <a:ext cx="4175280" cy="3132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создать уютную, образовательную атмосферу в кабинете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оздание комфортной, образовательной   сред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повышение профессионализма и                   культуры труда педагог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обеспечение психологического благополучия и здоровья школьник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истематизация дидактического и методического материа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вовлечение родителей в совместную работу, совершенствование сотруд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ни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одите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дминистрация шко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ннота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бования к помещению и оборудованию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тей, часто болеющих ОРЗ, ангинами, простудными заболеваниям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дует рассаживать дальше от наружной сте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двухместных столов - не менее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столов и наружной продольной стеной - не менее 50-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оследних столов до стены (перегородки), противополож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лассной доске, - не менее 70см, от задней стены, являющейся наружной, - н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ее 100см, а при наличии оборотных классов 12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демонстрационного стола до учебной доски - не менее 10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ервой парты до учебной доски - 2,4 - 2,7 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ьшая удаленность последнего места обучающегося о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бной доски – 86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ота нижнего края учебной доски над полом - 80-9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гол видимости доски (от края доски длиной З м до середи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йнего места обучающегося за передним столом) должен быть не мене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5 градусов для детей 6-7 лет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воздушно - тепловому режи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.. Фрамуги и форточки в учебных  помещениях должны функционировать в любое время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ые помещения проветриваются во время перемен, а рекреационные - во время ур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476280"/>
            <a:ext cx="7958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естественному и искусственному освещению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стен учебных помещений - светлые тона желтого, голубого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леного, бежевого, розовог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ебели (парты, столы, шкафы) - цвета натурального дере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ветло-зеле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классных досок - темно-зеленый, темно-коричнев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, оконных рам - бел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., не закрашивать оконные стекл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расставлять на подоконниках цветы. Их размещают в перенос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цветочницах высотой 65-70 см от пола или подвесных кашпо в простенках окон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истку и мытье стекол проводить 2 раза в год (весной и осенью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58:10Z</dcterms:created>
  <dc:creator>Юля</dc:creator>
  <dc:description/>
  <dc:language>en-US</dc:language>
  <cp:lastModifiedBy>LEGION</cp:lastModifiedBy>
  <dcterms:modified xsi:type="dcterms:W3CDTF">2015-01-27T12:03:03Z</dcterms:modified>
  <cp:revision>17</cp:revision>
  <dc:subject/>
  <dc:title>Проект  «Оформление кабинета начальных классов»</dc:title>
</cp:coreProperties>
</file>