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CBEE-E185-43B9-B46D-04302C1884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формление кабинета начальных класс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втор проекта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льцова Е.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9475-8B21-4F9D-9F12-D2B017C803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ветовая гамма классной комн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важнейших факторов, обеспечивающих эффективность работы кабинета, считается правильное использование цвета. Он является элементом создания психологического комфорта и средством эмоционально-эстетического воздействия на организм человека. Умело подобранный цвет вызывает удовлетворение, радость, уменьшает напряжение, снимает утомление нервной системы, оказывает благотворное воздействие на умственную и физическую деятельность. Вот почему влияние цвета на психическое состояние ребенка при организации пространства его жизнедеятельности должно учитываться непременно. Правильное цветовое оформление уравновешивает нервно-психическую возбудимость детей, на 12—17 % повышает производительность труда, способствует созданию нормального психофизиологического комфорта в класс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й продуктивности кабинета, окна которого выходят на юг, помогает добиться зона оптимальных цветов — спектр бледно-фиолетовых, зеленых и бежевых красок. Если есть панели, они должны находиться ниже уровня двери, это зрительно объединяет, дисциплинирует пространство. Двери окрашиваются в тот же цвет, что мебель или стены, но более насыщенного тона. Потолок и оконные рамы — белые. Роль светлой окраски немаловажна и в воспитании у детей аккуратности, бережного отношения к вещам, предметам. На окна, которые находятся на южной стороне, можно повесить жалюзи соответствующего цвета в виде арки, на подоконниках разместить вазоны с комнатными растениями. Высота цветка не должна превышать 15 см (требование СанПи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1AC7-4A8D-4162-BA21-934A9EDE98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йдоды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требованиям СанПиН по гигиеническому обучению и воспитанию учащихся в кабинете должен быть уголок Мойдодыра. Раковина устанавливается на высоте 0,6—0,7 м от по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CB8D-D7DB-4260-B0BF-CE5AB426D9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ня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 стена оборудуется классной доской длиной 2 м и высотой 1 м. У доски есть 2 створки, за которыми расположены наборное полотно и магнитная доска. Нижний край доски находится на высоте 85 см от пола. Коробка доски окрашивается в белый цвет (у нас обита сталью). Часть доски разлиновывается для письма. На верхней кромке доски укрепляются приспособления для подвешивания таблиц, репродукций картин и карт. Под доской устанавливаются ящики для пособий, таблиц. Над доской располагаются часы, чтобы дети на уроке ценили время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A1ED-27CE-4615-B8EE-4818085AF4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кова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ая стена кабинета оформляется постоянными экспозициями. Первая из них включает в себя символику России : флаг, герб, гимн. Ниже размещается стенд “Живу в России”. На нем изображена карта России с городами, реками и озерами. В углу стенда — кармашек, где помещаются материалы о замечательных исторических деятелях страны, городах, событиях, происходящих в государстве. Эта экспозиция способствует гражданско-патриотическому воспитанию учащихс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-стенд “Я + ТЫ = МЫ” поделена на три равных сектора, по цвету представляющие землю, воду, небо — три стихии, жизненно необходимые человеку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екторе, цель которого способствовать развитию у детей мышления, воображения, приобщать к процессу познания, побуждать к совместной поисковой деятельности, размещаются материалы “почемучкам”: олимпиадные задания по учебным предметам; рубрика “Это интересно”; материалы из детских энциклопедических изданий, журнал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тор “Узелок на память” содержит материалы о том, как развивать память, внимание, наблюдательность, памятки для решения задач, разных видов разбора слова, т. е. все, что помогает учащимся усваивать учебную программу по разным предмета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сектора “Начало мудрости” заключаются в оказании помощи по формированию эмоциональной заинтересованности, развитию эмоциональной сферы, самопознания и положительной самооценки учащихся. Там размещаются материалы по духовно-нравственному воспитанию: как жить в дружбе, прощать обиды, помогать людям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же, на боковой стене, только ниже, находит свое место экспозиция “Мир фантазий”. Ее цель — формирование творческих способностей к практическому и умственному экспериментированию, развитие эмоционально-ценностного отношения к художественным образам, развитие речи учащихся на лучших образцах детских работ. Здесь выставлены детские работы: рисунки, сочинения, изделия из пластилина, природного материала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 экспозиций, расположенных на боковой стене, — сменяемость не менее одного раза в неделю, участие и представительство детей не реже одного раза в месяц, что позволяет каждому ребенку проявлять свои способности, быть замеч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1DC4-0222-4A63-97AA-C428FCE1EA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няя стен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оль задней стены размещена секция, в которой находится методический материа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ой полке в центре секции целесообразно расположить с подсветкой аквариум с рыбками, комнатные цветы и подставку с календарем природы. Наблюдения за живой природой помогают учителю развивать у учащихся наблюдательность, формируют бережное отношение к природе. Аквариум с рыбками способствует релаксации даже самых возбудимых дет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полка — удобное место для размещения справочников, энциклопедий и других книг, объединенных общей темой “Я познаю мир”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етьей полке можно разместить материалы организационно-воспитательной работы “Наследники”, где ребята знакомятся с обязанностями дежурного, законами класса, правилами игр и т. д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полок отводится для поделок, выполненных детьми на уроках труда и на занятиях по интересам. Каждая работа подписан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кции имеются ящики, шкафы. Разделы секции, папки, коробки необходимо пронумеровать, сделать опись материалов и оборудования, имеющихся в кабинете. Если содержимое описи внести в компьютерный диск, каждый учитель сможет воспользоваться наглядным и дидактическим материалом, который у него, возможно, отсутству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шкафов можно разместить библиотеку класса. Верхнюю полку отвести под раздел «книги- справочники». На второй полке устроить “раскладушку” по внеклассному чтению. На ней размещать аннотации книг, которые советует прочитать учитель, памятку, как написать отзыв о книге, отзывы детей о прочитанных книгах, их рисунки-диафильмы, литературные викторины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C12F-FFF0-45FB-9CB7-A000201C66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ов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гровой зоне расположена мягкая мебель (диван и кресла), журнальный столик, детские игрушки и игры. Дети с удовольствием проводят время, беседуя и играя в игровой зоне на диване и в кресле. Некоторые из игрушек детей – большие яркие, вызывающие интерес детей, позволяющие детям ощутить комфорт и присутствие домашнего уюта, что важно, особенно при обучении первоклассник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E64C-61B4-43A1-80AC-973DD7978D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еленый уго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ассе много цветов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8D6A-9682-48D9-8217-A3436F512B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зайн ш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о по цветовому решению и по оформлению шторы на окнах. Дизайн штор создает легкость и приподнятость, что отражается на настроении находящихся в помещении. Выбор теплых коричневато-белых тонов штор определяет теплое ощущение пространства кабинета, что положительно сказывается на желании находиться в классе и детям и взросл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DCE6-E0D1-4944-A738-36B168A6B1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равильное оформление кабинета позволяет успешно организовать учебно – воспитательный процесс. Кабинет демонстрирует уважение к ребенку, заботу о нем и его здоровье, воспитывает уважение к собственному здоровью и здоровью других. Позволяет организовать воспитательный процесс, способствующий формированию доброжелательных отношений в коллективе детей, формированию положительной самооценки каждого ребенка, воспитывает патриотизм учащихся, культуру и чувство прекрасного.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BBDD-20C0-4925-BADC-6C8BAEBF6BD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педагогический контроль за организацией учебно-воспитательного процесса в начальных классах : метод. рекомендации / авт.-сост. К. С. Фарино, Л. Ф. Кузнецова, Н. Ф. Фарино и др. — Минск : Пачатковая школа, 2007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ПиН № 2.4.2.16-33-2006 Гигиенические требования к устройству, содержанию и организации учебно-воспитательного процесса общеобразовательных учреждени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орки Базарного // Народное образование. — 1990. — №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ов, А. М. Художественное оформление кабинета начальных классов // Начальная школа. — 1989. — №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: еженед. метод. газета. — 2004. — № 4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5F6B-3443-44E6-9815-BD18447E53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3FCA-FA24-4080-9EB9-38FD47B119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 создать уютную, образовательную атмосферу в кабинете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27C6-256F-446A-B437-8CADDE8C23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оздание комфортной, образовательной   сре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вышение профессионализма и                   культуры труда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беспечение психологического благополучия и здоровья школь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истематизация дидактического и методического материа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влечение родителей в совместную работу, совершенствование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F576-134B-44A9-8530-E8283DC17E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D5A8-9561-49FE-9302-8539C7B59BD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нот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кабинета — дело очень сложное, кропотливое, требующее терпения и времени. Это общий труд единомышленников: педагогов, родителей, учащихся. И сегодня уже никто из учителей не сомневается в том, что хорошо оформленный и оснащенный кабинет способствует позитивным переменам в организации учебно-воспитательного процесса. Работать в таком кабинете легче, потому что учитель имеет возможность значительно сократить время на подготовку урока, может больше внимания уделить методической и дидактической оснащенности обучения и воспитания, повышая тем самым свой профессионализм и культуру труд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астие родителей и школьников в создании кабинета укрепляет контакты семьи и школы, гарантирует сохранность оборудования, стимулирует инициативу учащихся в поддержании порядка, пополнении экспозиций и материалов кабинета, в результате чего кабинет становится их родным домо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5A50-3F71-426C-925F-C1E7B3EEEC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бования к помещению и оборудованию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ы (столы) расставляются в учебных помещениях по номерам: меньшие - ближе к доске, большие - дальше. Для детей с нарушениями слуха и зрения парты, независимо от их номера, ставятся первыми, причем обучающиеся с пониженной остротой зрения должны размещаться в первом ряду от о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, часто болеющих ОРЗ, ангинами, простудными заболеван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рассаживать дальше от наружной ст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рудовании учебных помещений соблюдаются следующие размеры проходов и расстояния между предметами оборудования в с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ами двухместных столов - не менее 6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ами столов и наружной продольной стеной - не менее 50- 6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ядом столов и внутренней продольной стеной  или шкафами, стоящими вдоль этой стены, - не менее 50-70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оследних столов до стены (перегородки), противополо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ой доске, - не менее 70см, от задней стены, являющейся наружной, - 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100см, а при наличии оборотных классов 12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демонстрационного стола до учебной доски - не менее 10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первой парты до учебной доски - 2,4 - 2,7 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ьшая удаленность последнего места обучающегося о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доски – 86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нижнего края учебной доски над полом - 80-90с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 видимости доски (от края доски длиной З м до серед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го места обучающегося за передним столом) должен быть не мен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 градусов для детей 6-7 лет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3109-9C9D-4A16-849A-DE7BA532BD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бования к воздушно - тепловому режи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Фрамуги и форточки в учебных  помещениях должны функционировать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помещения проветриваются во время перемен, а рекреационные - во время ур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ачала занятий и после их окончания необходимо осуществлять сквозное проветривание учебных, помещений. Длительность сквозного проветривания определяется погодными условиями. В теплые дни целесо­образно проводить занятия при открытых фрамугах и форт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4A10-98D8-46EE-AB87-A881AA192B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бования к естественному и искусственному освещ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делки учебных помещений используются отделочные материалы и краски, создающие матовую поверхность.... Следует использовать следующие цвета крас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н учебных помещений - светлые тона желтого, голубог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ого, бежевого, розов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бели (парты, столы, шкафы) - цвета натурального дере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светло-зеле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лассных досок - темно-зеленый, темно-коричнев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верей, оконных рам - бе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аксимального использования дневного света и равномерного освещения учебных помещений след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, не закрашивать оконные стек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ставлять на подоконниках цветы. Их размещают в перенос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чницах высотой 65-70 см от пола или подвесных кашпо в простенках окон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истку и мытье стекол проводить 2 раза в год (весной и осен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B798-F61D-496E-9744-041D456929F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EFD-8CBD-45BA-8BAC-B50E60BE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CF3-AE04-4B26-863B-EF8A6E3B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321-FC51-422D-BA21-1D350F7E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AF0-E7BF-47A4-9BD6-26AC21A9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12A95-4CF8-449A-B193-4B8A667E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71A54-FC5E-4252-94FA-87BAC688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F1F6F-A267-4B6F-A2A4-DB66526F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08689-8559-4BAE-8A32-0BEC7A41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34AD4-7206-4D36-8192-8B59BD77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432AE-175B-407F-B10D-75DBB2A6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6CF11-87E7-4C12-85E1-6E2609B0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74E-0CDB-446C-87F7-D2BD9CE6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44F30-2EDB-47E4-9BEC-66E636FA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7D3E2-3151-44D8-A396-8EF0CA46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EB32E-FE83-4DD1-A4EF-42E80810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C1401-ED62-40BC-AF37-3FCABFB5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DE17E-6BD1-491B-B69E-ED1D74E4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7EB-F55D-4A38-8D41-58657D58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1DA-0F5F-408F-B48D-D303DAD2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BEB-1EC6-41D3-A84B-694EACE2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6A3-5AAB-4976-86DC-B083D25C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3A3-523D-4F7B-9398-43CF8C08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A22B-3847-49DD-8A44-E1181185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20B-7C9F-4B20-9819-49CE842F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99E9-03D6-44E8-84EB-5A93084EC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D8F5-93EF-465A-B01E-A91B571793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ек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«Оформление кабинета начальных классов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76720" y="4869000"/>
            <a:ext cx="388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 проект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льцова Е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IMG_2998"/>
          <p:cNvPicPr/>
          <p:nvPr/>
        </p:nvPicPr>
        <p:blipFill>
          <a:blip r:embed="rId1"/>
          <a:stretch/>
        </p:blipFill>
        <p:spPr>
          <a:xfrm>
            <a:off x="1116000" y="256536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Цветовая гамма классной комна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им из важнейших факторов, обеспечивающих эффективность работы кабинета, считается правильное использование цвета. Он является элементом создания психологического комфорта и средством эмоционально-эстетического воздействия на организм человека. Умело подобранный цвет вызывает удовлетворение, радость, уменьшает напряжение, снимает утомление нервной системы, оказывает благотворное воздействие на умственную и физическую деятельность. Вот почему влияние цвета на психическое состояние ребенка при организации пространства его жизнедеятельности должно учитываться непременно. Правильное цветовое оформление уравновешивает нервно-психическую возбудимость детей, на 12—17 % повышает производительность труда, способствует созданию нормального психофизиологического комфорта в классе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абильной продуктивности кабинета, окна которого выходят на юг, помогает добиться зона оптимальных цветов — спектр бледно-фиолетовых, зеленых и бежевых красок. Если есть панели, они должны находиться ниже уровня двери, это зрительно объединяет, дисциплинирует пространство. Двери окрашиваются в тот же цвет, что мебель или стены, но более насыщенного тона. Потолок и оконные рамы — белые. Роль светлой окраски немаловажна и в воспитании у детей аккуратности, бережного отношения к вещам, предметам. На окна, которые находятся на южной стороне, можно повесить жалюзи соответствующего цвета в виде арки, на подоконниках разместить вазоны с комнатными растениями. Высота цветка не должна превышать 15 см (требование СанПиН)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голо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Мойдоды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гласно требованиям СанПиН по гигиеническому обучению и воспитанию учащихся в кабинете должен быть уголок Мойдодыра. Раковина устанавливается на высоте 0,6—0,7 м от пол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s000115_905544"/>
          <p:cNvPicPr/>
          <p:nvPr/>
        </p:nvPicPr>
        <p:blipFill>
          <a:blip r:embed="rId1"/>
          <a:stretch/>
        </p:blipFill>
        <p:spPr>
          <a:xfrm>
            <a:off x="6659640" y="3860640"/>
            <a:ext cx="1743120" cy="25146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ня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няя стена оборудуется классной доской длиной 2 м и высотой 1 м. У доски есть 2 створки, за которыми расположены наборное полотно и магнитная доска. Нижний край доски находится на высоте 85 см от пола. Коробка доски окрашивается в белый цвет (у нас обита сталью). Часть доски разлиновывается для письма. На верхней кромке доски укрепляются приспособления для подвешивания таблиц, репродукций картин и карт. Под доской устанавливаются ящики для пособий, таблиц. Над доской располагаются часы, чтобы дети на уроке ценили время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IMG_2992"/>
          <p:cNvPicPr/>
          <p:nvPr/>
        </p:nvPicPr>
        <p:blipFill>
          <a:blip r:embed="rId1"/>
          <a:stretch/>
        </p:blipFill>
        <p:spPr>
          <a:xfrm>
            <a:off x="5724360" y="4437000"/>
            <a:ext cx="2951280" cy="22129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Бокова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оковая стена кабинета оформляется постоянными экспозициями. Первая из них включает в себя символику России : флаг, герб, гимн. Ниже размещается стенд “Живу в России”. На нем изображена карта России с городами, реками и озерами. В углу стенда — кармашек, где помещаются материалы о замечательных исторических деятелях страны, городах, событиях, происходящих в государстве. Эта экспозиция способствует гражданско-патриотическому воспитанию учащихся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кспозиция-стенд “Я + ТЫ = МЫ” поделена на три равных сектора, по цвету представляющие землю, воду, небо — три стихии, жизненно необходимые человеку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первом секторе, цель которого способствовать развитию у детей мышления, воображения, приобщать к процессу познания, побуждать к совместной поисковой деятельности, размещаются материалы “почемучкам”: олимпиадные задания по учебным предметам; рубрика “Это интересно”; материалы из детских энциклопедических изданий, журналов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ектор “Узелок на память” содержит материалы о том, как развивать память, внимание, наблюдательность, памятки для решения задач, разных видов разбора слова, т. е. все, что помогает учащимся усваивать учебную программу по разным предметам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Цель сектора “Начало мудрости” заключаются в оказании помощи по формированию эмоциональной заинтересованности, развитию эмоциональной сферы, самопознания и положительной самооценки учащихся. Там размещаются материалы по духовно-нравственному воспитанию: как жить в дружбе, прощать обиды, помогать людям и т. д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десь же, на боковой стене, только ниже, находит свое место экспозиция “Мир фантазий”. Ее цель — формирование творческих способностей к практическому и умственному экспериментированию, развитие эмоционально-ценностного отношения к художественным образам, развитие речи учащихся на лучших образцах детских работ. Здесь выставлены детские работы: рисунки, сочинения, изделия из пластилина, природного материала и т. д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лавный принцип экспозиций, расположенных на боковой стене, — сменяемость не менее одного раза в неделю, участие и представительство детей не реже одного раза в месяц, что позволяет каждому ребенку проявлять свои способности, быть замече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няя стена клас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доль задней стены размещена секция, в которой находится методический материал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первой полке в центре секции целесообразно расположить с подсветкой аквариум с рыбками, комнатные цветы и подставку с календарем природы. Наблюдения за живой природой помогают учителю развивать у учащихся наблюдательность, формируют бережное отношение к природе. Аквариум с рыбками способствует релаксации даже самых возбудимых детей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торая полка — удобное место для размещения справочников, энциклопедий и других книг, объединенных общей темой “Я познаю мир”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 третьей полке можно разместить материалы организационно-воспитательной работы “Наследники”, где ребята знакомятся с обязанностями дежурного, законами класса, правилами игр и т. д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а из полок отводится для поделок, выполненных детьми на уроках труда и на занятиях по интересам. Каждая работа подписана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екции имеются ящики, шкафы. Разделы секции, папки, коробки необходимо пронумеровать, сделать опись материалов и оборудования, имеющихся в кабинете. Если содержимое описи внести в компьютерный диск, каждый учитель сможет воспользоваться наглядным и дидактическим материалом, который у него, возможно, отсутствует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одном из шкафов можно разместить библиотеку класса. Верхнюю полку отвести под раздел «книги- справочники». На второй полке устроить “раскладушку” по внеклассному чтению. На ней размещать аннотации книг, которые советует прочитать учитель, памятку, как написать отзыв о книге, отзывы детей о прочитанных книгах, их рисунки-диафильмы, литературные викторины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гровая з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гровой зоне расположена мягкая мебель (диван и кресла), журнальный столик, детские игрушки и игры. Дети с удовольствием проводят время, беседуя и играя в игровой зоне на диване и в кресле. Некоторые из игрушек детей – большие яркие, вызывающие интерес детей, позволяющие детям ощутить комфорт и присутствие домашнего уюта, что важно, особенно при обучении первоклассников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еленый угол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лассе много цветов, что позволяет воспитывать трудолюбие детей, ухаживающих за ними, любовь и уважение к природе, родному краю, Родине. Кроме того, позволяет усилить созданное уютное и комфортное учебное пространство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изайн што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тересно по цветовому решению и по оформлению шторы на окнах. Дизайн штор создает легкость и приподнятость, что отражается на настроении находящихся в помещении. Выбор теплых коричневато-белых тонов штор определяет теплое ощущение пространства кабинета, что положительно сказывается на желании находиться в классе и детям и взрослы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Результаты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правильное оформление кабинета позволяет успешно организовать учебно – воспитательный процесс. Кабинет демонстрирует уважение к ребенку, заботу о нем и его здоровье, воспитывает уважение к собственному здоровью и здоровью других. Позволяет организовать воспитательный процесс, способствующий формированию доброжелательных отношений в коллективе детей, формированию положительной самооценки каждого ребенка, воспитывает патриотизм учащихся, культуру и чувство прекрасного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формационные 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педагогический контроль за организацией учебно-воспитательного процесса в начальных классах : метод. рекомендации / авт.-сост. К. С. Фарино, Л. Ф. Кузнецова, Н. Ф. Фарино и др. — Минск : Пачатковая школа, 2007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ПиН № 2.4.2.16-33-2006 Гигиенические требования к устройству, содержанию и организации учебно-воспитательного процесса общеобразовательных учреждени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торки Базарного // Народное образование. — 1990. — № 5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лов, А. М. Художественное оформление кабинета начальных классов // Начальная школа. — 1989. — № 5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ьный психолог : еженед. метод. газета. — 2004. — № 4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ворческая те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13"/>
          <p:cNvSpPr txBox="1"/>
          <p:nvPr/>
        </p:nvSpPr>
        <p:spPr>
          <a:xfrm>
            <a:off x="1619280" y="1844640"/>
            <a:ext cx="6029280" cy="16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Наш уютный уголок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16" descr="IMG_3010"/>
          <p:cNvPicPr/>
          <p:nvPr/>
        </p:nvPicPr>
        <p:blipFill>
          <a:blip r:embed="rId1"/>
          <a:stretch/>
        </p:blipFill>
        <p:spPr>
          <a:xfrm>
            <a:off x="3635280" y="3500280"/>
            <a:ext cx="4175280" cy="3132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новополагающий вопро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 создать уютную, образовательную атмосферу в кабинете начальных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дач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создание комфортной, образовательной   сред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повышение профессионализма и                   культуры труда педагог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обеспечение психологического благополучия и здоровья школьник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систематизация дидактического и методического материал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 вовлечение родителей в совместную работу, совершенствование сотрудни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Участник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еник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одите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чите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дминистрация шко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Аннотац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Создание кабинета — дело очень сложное, кропотливое, требующее терпения и времени. Это общий труд единомышленников: педагогов, родителей, учащихся. И сегодня уже никто из учителей не сомневается в том, что хорошо оформленный и оснащенный кабинет способствует позитивным переменам в организации учебно-воспитательного процесса. Работать в таком кабинете легче, потому что учитель имеет возможность значительно сократить время на подготовку урока, может больше внимания уделить методической и дидактической оснащенности обучения и воспитания, повышая тем самым свой профессионализм и культуру труда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Участие родителей и школьников в создании кабинета укрепляет контакты семьи и школы, гарантирует сохранность оборудования, стимулирует инициативу учащихся в поддержании порядка, пополнении экспозиций и материалов кабинета, в результате чего кабинет становится их родным домом.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бования к помещению и оборудованию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рты (столы) расставляются в учебных помещениях по номерам: меньшие - ближе к доске, большие - дальше. Для детей с нарушениями слуха и зрения парты, независимо от их номера, ставятся первыми, причем обучающиеся с пониженной остротой зрения должны размещаться в первом ряду от око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тей, часто болеющих ОРЗ, ангинами, простудными заболеваниям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едует рассаживать дальше от наружной сте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 оборудовании учебных помещений соблюдаются следующие размеры проходов и расстояния между предметами оборудования в см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ами двухместных столов - не менее 6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ами столов и наружной продольной стеной - не менее 50- 6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жду рядом столов и внутренней продольной стеной  или шкафами, стоящими вдоль этой стены, - не менее 50-70 с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последних столов до стены (перегородки), противоположно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лассной доске, - не менее 70см, от задней стены, являющейся наружной, - н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нее 100см, а при наличии оборотных классов 12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демонстрационного стола до учебной доски - не менее 10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первой парты до учебной доски - 2,4 - 2,7 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ибольшая удаленность последнего места обучающегося от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ебной доски – 86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сота нижнего края учебной доски над полом - 80-90с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гол видимости доски (от края доски длиной З м до середины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йнего места обучающегося за передним столом) должен быть не мене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5 градусов для детей 6-7 лет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ребования к воздушно - тепловому режим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.. Фрамуги и форточки в учебных  помещениях должны функционировать в любое время г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ные помещения проветриваются во время перемен, а рекреационные - во время уро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 начала занятий и после их окончания необходимо осуществлять сквозное проветривание учебных, помещений. Длительность сквозного проветривания определяется погодными условиями. В теплые дни целесо­образно проводить занятия при открытых фрамугах и форто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7400" y="476280"/>
            <a:ext cx="79581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ребования к естественному и искусственному освещению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отделки учебных помещений используются отделочные материалы и краски, создающие матовую поверхность.... Следует использовать следующие цвета красок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стен учебных помещений - светлые тона желтого, голубого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еленого, бежевого, розового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ебели (парты, столы, шкафы) - цвета натурального дерев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ли светло-зелен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классных досок - темно-зеленый, темно-коричнев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дверей, оконных рам - бел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аксимального использования дневного света и равномерного освещения учебных помещений следу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., не закрашивать оконные стекл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 расставлять на подоконниках цветы. Их размещают в переносных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цветочницах высотой 65-70 см от пола или подвесных кашпо в простенках окон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истку и мытье стекол проводить 2 раза в год (весной и осенью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4:58:10Z</dcterms:created>
  <dc:creator>Юля</dc:creator>
  <dc:description/>
  <dc:language>en-US</dc:language>
  <cp:lastModifiedBy>LEGION</cp:lastModifiedBy>
  <dcterms:modified xsi:type="dcterms:W3CDTF">2015-01-27T12:03:03Z</dcterms:modified>
  <cp:revision>17</cp:revision>
  <dc:subject/>
  <dc:title>Проект  «Оформление кабинета начальных классов»</dc:title>
</cp:coreProperties>
</file>