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wmf" ContentType="image/x-wmf"/>
  <Override PartName="/ppt/media/image29.png" ContentType="image/png"/>
  <Override PartName="/ppt/media/image6.gif" ContentType="image/gif"/>
  <Override PartName="/ppt/media/image26.gif" ContentType="image/gif"/>
  <Override PartName="/ppt/media/image25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2.gif" ContentType="image/gif"/>
  <Override PartName="/ppt/media/image15.png" ContentType="image/png"/>
  <Override PartName="/ppt/media/image2.png" ContentType="image/png"/>
  <Override PartName="/ppt/media/image32.png" ContentType="image/png"/>
  <Override PartName="/ppt/media/image31.gif" ContentType="image/gif"/>
  <Override PartName="/ppt/media/image35.png" ContentType="image/png"/>
  <Override PartName="/ppt/media/image36.png" ContentType="image/png"/>
  <Override PartName="/ppt/media/image8.gif" ContentType="image/gif"/>
  <Override PartName="/ppt/media/image34.gif" ContentType="image/gif"/>
  <Override PartName="/ppt/media/image9.gif" ContentType="image/gif"/>
  <Override PartName="/ppt/media/image38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2.gif" ContentType="image/gif"/>
  <Override PartName="/ppt/media/image13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47.png" ContentType="image/png"/>
  <Override PartName="/ppt/media/image11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24.gif" ContentType="image/gif"/>
  <Override PartName="/ppt/media/image40.gif" ContentType="image/gif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3C9A-6A3C-4A42-AF15-2D251FFDB7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 проекта: учитель начальных классов МОУ ВСОШ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машева Ольга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63DB-116A-4F00-9F72-7654CB8C3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сследователь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енерировать иде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бирать лучшее ре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FA7D-FB4C-40E5-A640-17BB039FA0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оммуникатив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чать в процессе деятельн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FC8E-CDFA-42A6-8333-7CF2CDEEB6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Оценоч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ход,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деятельности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друг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1830-B022-4C4D-9E0A-D23F178E8F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Информ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существлять поиск  нуж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ть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ть информ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690B-EBC5-4BBC-8165-120881BE57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Презентационны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ть перед аудитор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 незапланированные вопро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различные средства нагляд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ировать артистически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278E-C9A3-40EE-A298-875100971C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Рефлексивны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чать на вопросы: «Чему я научился?», «Чему мне необходимо научиться?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о выбирать свою роль в коллективном де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A5EC-E26A-48FA-9C91-32D1731FE6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Менеджерские ум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ть проц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ть деятельность – время, рес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ть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ять обязанности при выполнении коллективного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DA50-3F5B-4E07-BF7E-6AE999480C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Критерии успеха работы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нут конечн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а активная команда участников проекта, способная продолжить работу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проекта может быть использован другим коллекти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о удовольствие от сам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BC13-4215-4D3B-9A72-CA5A618D69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66"/>
                </a:solidFill>
                <a:uFillTx/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едрение системы работы с одаренными детьми позволяет создать условия для успешной самореализации школьников, работать со </a:t>
            </a:r>
            <a:r>
              <a:rPr b="1" lang="ru-RU" sz="1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всем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детьми, добиваясь  максимального развития умений, навыков, познавательных способност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 подготовить выпускника, способного адаптироваться к меняющимся условиям, коммуникабельного и конкурентоспособ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283C-CF30-4A0D-A2D8-BC8E03BC19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Проект выполнен учащими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3 «Б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МОУ ВСОШ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1919"/>
                </a:solidFill>
                <a:latin typeface="Calibri"/>
              </a:rPr>
              <a:t>Учитель: Юмашева О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DDB7-4C6E-4DC4-9C3D-D1408BF58F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6AE0-F6B6-4F7E-82AC-47A1CCC07B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здание условий для пополнения активного словарного запаса учащихся пословицами и поговор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ремя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1 нед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Режим работ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Участие родителей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ощр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24F6-ED21-4993-9BD9-BDE8123EC5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рабочих групп и распределение  ро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сточников информации,                   постановка зада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критериев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7606-6046-4E86-8D47-17DF76F512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здают справочную странич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ют теоретический материал о пословицах и поговор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D22B-6C91-4AD2-A469-FDEC7A0C0D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бир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зд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казы, поясняющие смысл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249D-37A5-4647-8B3B-EABAAAEF9B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Соотнос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ую пословицу с иностра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4B9E-478D-42EE-96BB-2355D7136D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Придумыва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дания для иг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19E4-27B5-4E18-90FE-CEAC0D69CE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ащ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работают с информацией, анализируют и синтезируют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ют результат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чител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 и консультир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719F-3289-4020-82FC-39E7FDDC23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и выступают перед одноклассниками и ж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9DC7-E8E5-463C-B6AF-0E2146AD2D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Monotype Corsiva"/>
              </a:rPr>
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615B-C58D-4933-AF49-E0F2EB84DE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собенно важен поиск путей в подходе к развитию личности одаренно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рассуждая о системе работы с одаренными детьми, хотелось бы подчеркнуть мысль о работе с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тьми, то есть о максимальном развитии умений, навыков, познавательных спосо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E056-E594-4964-8687-EA5C8E768E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12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2c3f7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1B53-EDA3-4427-ABFC-39A199866D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57D7-0613-42DE-A8CA-6D06BD7515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54D2-645F-42FF-887D-853A2A5E98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1053-DC7D-4B29-9976-06675E165F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12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6922-8710-4652-B7A1-950DD2BAF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1100"/>
            </a:br>
            <a:r>
              <a:rPr b="1" lang="ru-RU" sz="11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A56E-D9DB-4BFC-BA5B-39E2ED4F6E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C92-BE03-49BB-827A-2945D074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369-C833-467D-9DC5-BA59A52B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841-590E-4050-A5FD-0F0AE7E0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71D-5797-4D2A-A8B3-40897035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0C19-8069-43E6-8D65-80E147A1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807-8C56-47A8-ADC4-DC396F27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544-4344-4F32-8740-A73854BF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2D69-0496-45FF-A713-3BA892C1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06C-2074-46E0-98F8-511AD3D1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97A-E8AF-4FF3-9C77-539A3745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887-DFC8-493E-A6AB-BFF7F503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CF9-F18F-4FBE-A364-CCAAD520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C31B-E6A9-49DA-BFC6-1F8489260FD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E060-6EB9-42A8-9EE6-1CE98953D1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24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6.gi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5.png"/><Relationship Id="rId3" Type="http://schemas.openxmlformats.org/officeDocument/2006/relationships/image" Target="../media/image34.gif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39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0.gi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2.png"/><Relationship Id="rId3" Type="http://schemas.openxmlformats.org/officeDocument/2006/relationships/image" Target="../media/image34.gif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4.png"/><Relationship Id="rId3" Type="http://schemas.openxmlformats.org/officeDocument/2006/relationships/image" Target="../media/image34.gif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7.png"/><Relationship Id="rId3" Type="http://schemas.openxmlformats.org/officeDocument/2006/relationships/image" Target="../media/image34.gif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7.png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-11160" y="4680"/>
            <a:ext cx="9155160" cy="6953400"/>
          </a:xfrm>
          <a:prstGeom prst="rect">
            <a:avLst/>
          </a:prstGeom>
          <a:ln w="0">
            <a:noFill/>
          </a:ln>
        </p:spPr>
      </p:pic>
      <p:grpSp>
        <p:nvGrpSpPr>
          <p:cNvPr id="49" name="Заголовок 1"/>
          <p:cNvGrpSpPr/>
          <p:nvPr/>
        </p:nvGrpSpPr>
        <p:grpSpPr>
          <a:xfrm>
            <a:off x="493560" y="590400"/>
            <a:ext cx="8150400" cy="3097440"/>
            <a:chOff x="493560" y="590400"/>
            <a:chExt cx="8150400" cy="3097440"/>
          </a:xfrm>
        </p:grpSpPr>
        <p:pic>
          <p:nvPicPr>
            <p:cNvPr id="5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493560" y="590400"/>
              <a:ext cx="815040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84360" y="765000"/>
              <a:ext cx="7772400" cy="27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Подзаголовок 2"/>
          <p:cNvGrpSpPr/>
          <p:nvPr/>
        </p:nvGrpSpPr>
        <p:grpSpPr>
          <a:xfrm>
            <a:off x="2077920" y="4340160"/>
            <a:ext cx="6780240" cy="2414520"/>
            <a:chOff x="2077920" y="4340160"/>
            <a:chExt cx="6780240" cy="2414520"/>
          </a:xfrm>
        </p:grpSpPr>
        <p:pic>
          <p:nvPicPr>
            <p:cNvPr id="53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2077920" y="4340160"/>
              <a:ext cx="6780240" cy="24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2268360" y="4508640"/>
              <a:ext cx="6400800" cy="20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Автор проекта: учитель начальных классов МОУ ВСОШ№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Юмашева Ольга Михайловн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Прямоугольник 3" descr=""/>
          <p:cNvPicPr/>
          <p:nvPr/>
        </p:nvPicPr>
        <p:blipFill>
          <a:blip r:embed="rId4"/>
          <a:stretch/>
        </p:blipFill>
        <p:spPr>
          <a:xfrm>
            <a:off x="828720" y="895320"/>
            <a:ext cx="7772400" cy="175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F:\Юмашева О.М\все для презентаций\книги\79966779.gif"/>
          <p:cNvPicPr/>
          <p:nvPr/>
        </p:nvPicPr>
        <p:blipFill>
          <a:blip r:embed="rId5"/>
          <a:stretch/>
        </p:blipFill>
        <p:spPr>
          <a:xfrm>
            <a:off x="179280" y="3468600"/>
            <a:ext cx="2808360" cy="266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0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сследователь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05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генерировать иде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выбирать лучшее решени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7" name="Picture 4" descr="n5"/>
          <p:cNvPicPr/>
          <p:nvPr/>
        </p:nvPicPr>
        <p:blipFill>
          <a:blip r:embed="rId4"/>
          <a:stretch/>
        </p:blipFill>
        <p:spPr>
          <a:xfrm>
            <a:off x="1859040" y="3284640"/>
            <a:ext cx="2209680" cy="2295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11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Коммуникатив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14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трудничать в процессе деятельности,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казывать помощь товарищам и принимать их помощь, следить за ходом совместной работы и направлять её в нужное русло, умение выходить из конфликтных ситуаци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9216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6" name="Picture 9" descr="F:\Юмашева О.М\все для презентаций\дети\aee36fd9ad4f343ebeb4c08bf03607ed.gif"/>
          <p:cNvPicPr/>
          <p:nvPr/>
        </p:nvPicPr>
        <p:blipFill>
          <a:blip r:embed="rId4"/>
          <a:stretch/>
        </p:blipFill>
        <p:spPr>
          <a:xfrm>
            <a:off x="3276720" y="4435560"/>
            <a:ext cx="2031840" cy="18604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9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Оценоч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23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ть ход, результа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воей деятельности и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ятельности других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5" name="Picture 9" descr="F:\Юмашева О.М\все для презентаций\дети\78756399111dbcdbfcf00793dbe37981.gif"/>
          <p:cNvPicPr/>
          <p:nvPr/>
        </p:nvPicPr>
        <p:blipFill>
          <a:blip r:embed="rId4"/>
          <a:stretch/>
        </p:blipFill>
        <p:spPr>
          <a:xfrm>
            <a:off x="3203640" y="3429000"/>
            <a:ext cx="3236760" cy="27687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8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29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Информ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32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осуществлять поиск  нужной информаци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труктурировать информацию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хранять информацию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4" name="Picture 10" descr="F:\Юмашева О.М\все для презентаций\дети\e4f38cfc086b201f1f1b56f8eea958c0.gif"/>
          <p:cNvPicPr/>
          <p:nvPr/>
        </p:nvPicPr>
        <p:blipFill>
          <a:blip r:embed="rId4"/>
          <a:stretch/>
        </p:blipFill>
        <p:spPr>
          <a:xfrm>
            <a:off x="3284640" y="4138560"/>
            <a:ext cx="3087720" cy="2371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7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3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Презентационны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41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ступать перед аудитори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 незапланированные вопро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Использовать различные средства наглядности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емонстрировать артистические возмож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" name="Picture 9" descr="F:\Юмашева О.М\все для презентаций\дети\b02cd14dd4800c96aa11403be0897470.gif"/>
          <p:cNvPicPr/>
          <p:nvPr/>
        </p:nvPicPr>
        <p:blipFill>
          <a:blip r:embed="rId4"/>
          <a:stretch/>
        </p:blipFill>
        <p:spPr>
          <a:xfrm>
            <a:off x="5508720" y="4118040"/>
            <a:ext cx="3235320" cy="20016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6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47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Рефлексивные</a:t>
              </a:r>
              <a:r>
                <a:rPr b="0" lang="ru-RU" sz="4400" spc="-1" strike="noStrike">
                  <a:solidFill>
                    <a:srgbClr val="000099"/>
                  </a:solidFill>
                  <a:latin typeface="Calibri"/>
                </a:rPr>
                <a:t> </a:t>
              </a:r>
              <a:r>
                <a:rPr b="1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0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твечать на вопросы: «Чему я научился?», «Чему мне необходимо научиться?»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Адекватно выбирать свою роль в коллективном деле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2" name="Picture 4" descr="chel13"/>
          <p:cNvPicPr/>
          <p:nvPr/>
        </p:nvPicPr>
        <p:blipFill>
          <a:blip r:embed="rId4"/>
          <a:stretch/>
        </p:blipFill>
        <p:spPr>
          <a:xfrm>
            <a:off x="6012000" y="3895560"/>
            <a:ext cx="2665440" cy="22212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5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5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 u="sng">
                  <a:solidFill>
                    <a:srgbClr val="000099"/>
                  </a:solidFill>
                  <a:uFillTx/>
                  <a:latin typeface="Calibri"/>
                </a:rPr>
                <a:t>Менеджерские умения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59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оектировать процесс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ланировать деятельность – время, ресурс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ринимать решения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аспределять обязанности при выполнении коллективного дел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Picture 6" descr="033"/>
          <p:cNvPicPr/>
          <p:nvPr/>
        </p:nvPicPr>
        <p:blipFill>
          <a:blip r:embed="rId4"/>
          <a:stretch/>
        </p:blipFill>
        <p:spPr>
          <a:xfrm>
            <a:off x="6300720" y="4006800"/>
            <a:ext cx="2158920" cy="1984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4" name="Заголовок 1"/>
          <p:cNvGrpSpPr/>
          <p:nvPr/>
        </p:nvGrpSpPr>
        <p:grpSpPr>
          <a:xfrm>
            <a:off x="176040" y="19080"/>
            <a:ext cx="8791920" cy="1803240"/>
            <a:chOff x="176040" y="19080"/>
            <a:chExt cx="8791920" cy="1803240"/>
          </a:xfrm>
        </p:grpSpPr>
        <p:pic>
          <p:nvPicPr>
            <p:cNvPr id="16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8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000099"/>
                  </a:solidFill>
                  <a:uFillTx/>
                  <a:latin typeface="Calibri"/>
                </a:rPr>
                <a:t>Критерии успеха работы над проектом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6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Достигнут конечный результа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здана активная команда участников проекта, способная продолжить работу в будуще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езультат проекта может быть использован другим коллективом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Получено удовольствие от самой деятельност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0" name="Picture 10" descr="F:\Юмашева О.М\все для презентаций\дети\d135e27346dd0d887990f290b31ccd98.gif"/>
          <p:cNvPicPr/>
          <p:nvPr/>
        </p:nvPicPr>
        <p:blipFill>
          <a:blip r:embed="rId4"/>
          <a:stretch/>
        </p:blipFill>
        <p:spPr>
          <a:xfrm flipH="1">
            <a:off x="7236000" y="4508640"/>
            <a:ext cx="1506240" cy="1742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F:\Юмашева О.М\все для презентаций\дети\c5da5491bdce7a447e3a5fe0c3d96e0d.gif"/>
          <p:cNvPicPr/>
          <p:nvPr/>
        </p:nvPicPr>
        <p:blipFill>
          <a:blip r:embed="rId5"/>
          <a:stretch/>
        </p:blipFill>
        <p:spPr>
          <a:xfrm>
            <a:off x="6875640" y="4218120"/>
            <a:ext cx="1029960" cy="87624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Заголовок 1"/>
          <p:cNvGrpSpPr/>
          <p:nvPr/>
        </p:nvGrpSpPr>
        <p:grpSpPr>
          <a:xfrm>
            <a:off x="176040" y="19080"/>
            <a:ext cx="8791920" cy="1700280"/>
            <a:chOff x="176040" y="19080"/>
            <a:chExt cx="8791920" cy="1700280"/>
          </a:xfrm>
        </p:grpSpPr>
        <p:pic>
          <p:nvPicPr>
            <p:cNvPr id="17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76040" y="19080"/>
              <a:ext cx="879192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 u="sng">
                  <a:solidFill>
                    <a:srgbClr val="003366"/>
                  </a:solidFill>
                  <a:uFillTx/>
                  <a:latin typeface="Calibri"/>
                </a:rPr>
                <a:t>ВЫВОД: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Объект 2"/>
          <p:cNvGrpSpPr/>
          <p:nvPr/>
        </p:nvGrpSpPr>
        <p:grpSpPr>
          <a:xfrm>
            <a:off x="176040" y="1347840"/>
            <a:ext cx="8791920" cy="5076720"/>
            <a:chOff x="176040" y="1347840"/>
            <a:chExt cx="8791920" cy="5076720"/>
          </a:xfrm>
        </p:grpSpPr>
        <p:pic>
          <p:nvPicPr>
            <p:cNvPr id="178" name="Объект 2" descr=""/>
            <p:cNvPicPr/>
            <p:nvPr/>
          </p:nvPicPr>
          <p:blipFill>
            <a:blip r:embed="rId3"/>
            <a:stretch/>
          </p:blipFill>
          <p:spPr>
            <a:xfrm>
              <a:off x="176040" y="1347840"/>
              <a:ext cx="8791920" cy="50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d6009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d60093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внедрение системы работы с одаренными детьми позволяет создать условия для успешной самореализации школьников, работать со </a:t>
              </a:r>
              <a:r>
                <a:rPr b="1" lang="ru-RU" sz="3000" spc="-1" strike="noStrike" u="sng">
                  <a:solidFill>
                    <a:srgbClr val="002060"/>
                  </a:solidFill>
                  <a:uFillTx/>
                  <a:latin typeface="Times New Roman"/>
                  <a:ea typeface="Times New Roman"/>
                </a:rPr>
                <a:t>всеми</a:t>
              </a: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 детьми, добиваясь  максимального развития умений, навыков, познавательных способностей,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51"/>
                </a:spcBef>
                <a:buClr>
                  <a:srgbClr val="00206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позволяет  подготовить выпускника, способного адаптироваться к меняющимся условиям, коммуникабельного и конкурентоспособного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0" name="Picture 9" descr="comp2"/>
          <p:cNvPicPr/>
          <p:nvPr/>
        </p:nvPicPr>
        <p:blipFill>
          <a:blip r:embed="rId4"/>
          <a:stretch/>
        </p:blipFill>
        <p:spPr>
          <a:xfrm>
            <a:off x="7419960" y="-171360"/>
            <a:ext cx="2209680" cy="2114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BS00554_"/>
          <p:cNvPicPr/>
          <p:nvPr/>
        </p:nvPicPr>
        <p:blipFill>
          <a:blip r:embed="rId5"/>
          <a:stretch/>
        </p:blipFill>
        <p:spPr>
          <a:xfrm>
            <a:off x="7164360" y="5148360"/>
            <a:ext cx="1959120" cy="17096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Заголовок 1"/>
          <p:cNvGrpSpPr/>
          <p:nvPr/>
        </p:nvGrpSpPr>
        <p:grpSpPr>
          <a:xfrm>
            <a:off x="396720" y="1865160"/>
            <a:ext cx="8356680" cy="2048040"/>
            <a:chOff x="396720" y="1865160"/>
            <a:chExt cx="8356680" cy="2048040"/>
          </a:xfrm>
        </p:grpSpPr>
        <p:pic>
          <p:nvPicPr>
            <p:cNvPr id="18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1865160"/>
              <a:ext cx="83566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85800" y="213372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Подзаголовок 2"/>
          <p:cNvGrpSpPr/>
          <p:nvPr/>
        </p:nvGrpSpPr>
        <p:grpSpPr>
          <a:xfrm>
            <a:off x="1090440" y="3633840"/>
            <a:ext cx="6963120" cy="2303280"/>
            <a:chOff x="1090440" y="3633840"/>
            <a:chExt cx="6963120" cy="2303280"/>
          </a:xfrm>
        </p:grpSpPr>
        <p:pic>
          <p:nvPicPr>
            <p:cNvPr id="188" name="Подзаголовок 2" descr=""/>
            <p:cNvPicPr/>
            <p:nvPr/>
          </p:nvPicPr>
          <p:blipFill>
            <a:blip r:embed="rId3"/>
            <a:stretch/>
          </p:blipFill>
          <p:spPr>
            <a:xfrm>
              <a:off x="1090440" y="3633840"/>
              <a:ext cx="696312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71600" y="388620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Проект выполнен учащими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3 «Б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МОУ ВСОШ №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1919"/>
                  </a:solidFill>
                  <a:latin typeface="Calibri"/>
                </a:rPr>
                <a:t>Учитель: Юмашева О.М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0" name="Picture 3" descr="E:\Юмашева О.М\все для презентаций\животные\4eee980b54b7908cb1b8489b79a37fee.gif"/>
          <p:cNvPicPr/>
          <p:nvPr/>
        </p:nvPicPr>
        <p:blipFill>
          <a:blip r:embed="rId4"/>
          <a:stretch/>
        </p:blipFill>
        <p:spPr>
          <a:xfrm>
            <a:off x="0" y="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E:\Юмашева О.М\все для презентаций\животные\4eee980b54b7908cb1b8489b79a37fee.gif"/>
          <p:cNvPicPr/>
          <p:nvPr/>
        </p:nvPicPr>
        <p:blipFill>
          <a:blip r:embed="rId5"/>
          <a:stretch/>
        </p:blipFill>
        <p:spPr>
          <a:xfrm flipH="1">
            <a:off x="6858000" y="0"/>
            <a:ext cx="2000160" cy="203688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" descr=""/>
          <p:cNvPicPr/>
          <p:nvPr/>
        </p:nvPicPr>
        <p:blipFill>
          <a:blip r:embed="rId6"/>
          <a:stretch/>
        </p:blipFill>
        <p:spPr>
          <a:xfrm>
            <a:off x="633240" y="2481120"/>
            <a:ext cx="7718760" cy="9273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туаль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блема работы с одаренными учащимися чрезвычайно актуальна для современного российского общества. К школе предъявляются сегодня высокие требования. А что значит для родителей и общества “хорошая школа”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школа, где хорошо учат по всем предметам, а по окончании дети легко поступают в вуз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этой школе должны преподавать высококвалифицированные и интеллигентные педагог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школе должны быть свои тради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Школа должна давать современное образовани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хорошей школе уважают личность ребенка, с ним занимаются не только на уроках, но и в системе дополнительного образов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менно поэтому так важно определить основные задачи и направления работы с одаренными детьми в системе дополнительного образов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F:\Юмашева О.М\все для презентаций\книги\books_72.gif"/>
          <p:cNvPicPr/>
          <p:nvPr/>
        </p:nvPicPr>
        <p:blipFill>
          <a:blip r:embed="rId2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6" name="Содержимое 2"/>
          <p:cNvGrpSpPr/>
          <p:nvPr/>
        </p:nvGrpSpPr>
        <p:grpSpPr>
          <a:xfrm>
            <a:off x="165240" y="426960"/>
            <a:ext cx="8813520" cy="5907240"/>
            <a:chOff x="165240" y="426960"/>
            <a:chExt cx="8813520" cy="5907240"/>
          </a:xfrm>
        </p:grpSpPr>
        <p:pic>
          <p:nvPicPr>
            <p:cNvPr id="19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426960"/>
              <a:ext cx="881352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57200" y="692280"/>
              <a:ext cx="822960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Цель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создание условий для пополнения активного словарного запаса учащихся пословицами и поговорками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Развитие познавательных интересов учащихся, умений самостоятельно конструировать свои знания и ориентироваться в информационном пространстве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Время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1 недел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Режим работы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внеурочное врем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3399"/>
                  </a:solidFill>
                  <a:latin typeface="Calibri"/>
                </a:rPr>
                <a:t>Участие родителей: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 поощряется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9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3" name="Содержимое 2"/>
          <p:cNvGrpSpPr/>
          <p:nvPr/>
        </p:nvGrpSpPr>
        <p:grpSpPr>
          <a:xfrm>
            <a:off x="165240" y="1335240"/>
            <a:ext cx="9789840" cy="5101920"/>
            <a:chOff x="165240" y="1335240"/>
            <a:chExt cx="9789840" cy="5101920"/>
          </a:xfrm>
        </p:grpSpPr>
        <p:pic>
          <p:nvPicPr>
            <p:cNvPr id="2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978984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темы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рабочих групп и распределение  ролей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пределение источников информации,                   постановка задач;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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выбор критериев оценк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2" descr=""/>
          <p:cNvPicPr/>
          <p:nvPr/>
        </p:nvPicPr>
        <p:blipFill>
          <a:blip r:embed="rId4"/>
          <a:stretch/>
        </p:blipFill>
        <p:spPr>
          <a:xfrm>
            <a:off x="590400" y="476280"/>
            <a:ext cx="7542360" cy="925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E:\Юмашева О.М\все для презентаций\животные\8m5.gif"/>
          <p:cNvPicPr/>
          <p:nvPr/>
        </p:nvPicPr>
        <p:blipFill>
          <a:blip r:embed="rId2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grpSp>
        <p:nvGrpSpPr>
          <p:cNvPr id="212" name="Объект 2"/>
          <p:cNvGrpSpPr/>
          <p:nvPr/>
        </p:nvGrpSpPr>
        <p:grpSpPr>
          <a:xfrm>
            <a:off x="295200" y="384120"/>
            <a:ext cx="8228880" cy="4524480"/>
            <a:chOff x="295200" y="384120"/>
            <a:chExt cx="8228880" cy="4524480"/>
          </a:xfrm>
        </p:grpSpPr>
        <p:cxnSp>
          <p:nvCxnSpPr>
            <p:cNvPr id="213" name="_s1028"/>
            <p:cNvCxnSpPr>
              <a:stCxn id="214" idx="0"/>
              <a:endCxn id="215" idx="2"/>
            </p:cNvCxnSpPr>
            <p:nvPr/>
          </p:nvCxnSpPr>
          <p:spPr>
            <a:xfrm flipH="1" flipV="1" rot="5400000">
              <a:off x="3423600" y="2112480"/>
              <a:ext cx="905400" cy="106704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1029"/>
            <p:cNvCxnSpPr>
              <a:stCxn id="217" idx="0"/>
              <a:endCxn id="215" idx="2"/>
            </p:cNvCxnSpPr>
            <p:nvPr/>
          </p:nvCxnSpPr>
          <p:spPr>
            <a:xfrm flipV="1" rot="16200000">
              <a:off x="5556960" y="1045080"/>
              <a:ext cx="905400" cy="320112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5" idx="2"/>
            </p:cNvCxnSpPr>
            <p:nvPr/>
          </p:nvCxnSpPr>
          <p:spPr>
            <a:xfrm flipV="1" rot="16200000">
              <a:off x="4489920" y="2112120"/>
              <a:ext cx="905400" cy="10674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1031"/>
            <p:cNvCxnSpPr>
              <a:stCxn id="221" idx="0"/>
              <a:endCxn id="215" idx="2"/>
            </p:cNvCxnSpPr>
            <p:nvPr/>
          </p:nvCxnSpPr>
          <p:spPr>
            <a:xfrm flipH="1" flipV="1" rot="5400000">
              <a:off x="2357640" y="1046520"/>
              <a:ext cx="905400" cy="3198600"/>
            </a:xfrm>
            <a:prstGeom prst="bentConnector3">
              <a:avLst>
                <a:gd name="adj1" fmla="val 119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5" name="_s1032"/>
            <p:cNvSpPr/>
            <p:nvPr/>
          </p:nvSpPr>
          <p:spPr>
            <a:xfrm>
              <a:off x="3495240" y="38412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труктура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ект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_s1033"/>
            <p:cNvSpPr/>
            <p:nvPr/>
          </p:nvSpPr>
          <p:spPr>
            <a:xfrm>
              <a:off x="29520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еоретики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_s1034"/>
            <p:cNvSpPr/>
            <p:nvPr/>
          </p:nvSpPr>
          <p:spPr>
            <a:xfrm>
              <a:off x="456228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следовател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_s1035"/>
            <p:cNvSpPr/>
            <p:nvPr/>
          </p:nvSpPr>
          <p:spPr>
            <a:xfrm>
              <a:off x="669564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атейник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_s1036"/>
            <p:cNvSpPr/>
            <p:nvPr/>
          </p:nvSpPr>
          <p:spPr>
            <a:xfrm>
              <a:off x="2428560" y="3098880"/>
              <a:ext cx="1828440" cy="1809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астер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лов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2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00"/>
                  </a:solidFill>
                  <a:uFillTx/>
                  <a:latin typeface="Calibri"/>
                </a:rPr>
                <a:t>Создают справочную страничку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обирают теоретический материал о пословицах и поговорка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1620720" y="401760"/>
            <a:ext cx="5827680" cy="927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3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бир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или </a:t>
              </a: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зд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рассказы, поясняющие смысл пословиц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6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516720" y="3933720"/>
            <a:ext cx="1738440" cy="173844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2" descr=""/>
          <p:cNvPicPr/>
          <p:nvPr/>
        </p:nvPicPr>
        <p:blipFill>
          <a:blip r:embed="rId4"/>
          <a:stretch/>
        </p:blipFill>
        <p:spPr>
          <a:xfrm>
            <a:off x="725400" y="317520"/>
            <a:ext cx="7766280" cy="1077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033"/>
          <p:cNvPicPr/>
          <p:nvPr/>
        </p:nvPicPr>
        <p:blipFill>
          <a:blip r:embed="rId5"/>
          <a:stretch/>
        </p:blipFill>
        <p:spPr>
          <a:xfrm>
            <a:off x="3635280" y="3068640"/>
            <a:ext cx="2367000" cy="2176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2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43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Соотносят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русскую пословицу с иностранно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5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116"/>
          <p:cNvPicPr/>
          <p:nvPr/>
        </p:nvPicPr>
        <p:blipFill>
          <a:blip r:embed="rId4"/>
          <a:stretch/>
        </p:blipFill>
        <p:spPr>
          <a:xfrm>
            <a:off x="3132000" y="3284640"/>
            <a:ext cx="2952720" cy="261936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" descr=""/>
          <p:cNvPicPr/>
          <p:nvPr/>
        </p:nvPicPr>
        <p:blipFill>
          <a:blip r:embed="rId5"/>
          <a:stretch/>
        </p:blipFill>
        <p:spPr>
          <a:xfrm>
            <a:off x="1103400" y="615960"/>
            <a:ext cx="7211880" cy="9381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Содержимое 2"/>
          <p:cNvGrpSpPr/>
          <p:nvPr/>
        </p:nvGrpSpPr>
        <p:grpSpPr>
          <a:xfrm>
            <a:off x="165240" y="1219320"/>
            <a:ext cx="8813520" cy="5102280"/>
            <a:chOff x="165240" y="1219320"/>
            <a:chExt cx="8813520" cy="5102280"/>
          </a:xfrm>
        </p:grpSpPr>
        <p:pic>
          <p:nvPicPr>
            <p:cNvPr id="252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219320"/>
              <a:ext cx="88135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48428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3366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66ff"/>
                  </a:solidFill>
                  <a:latin typeface="Calibri"/>
                </a:rPr>
                <a:t>Придумывают</a:t>
              </a: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задания для иг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2" descr=""/>
          <p:cNvPicPr/>
          <p:nvPr/>
        </p:nvPicPr>
        <p:blipFill>
          <a:blip r:embed="rId4"/>
          <a:stretch/>
        </p:blipFill>
        <p:spPr>
          <a:xfrm>
            <a:off x="1268280" y="476280"/>
            <a:ext cx="5894640" cy="9255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Содержимое 2"/>
          <p:cNvGrpSpPr/>
          <p:nvPr/>
        </p:nvGrpSpPr>
        <p:grpSpPr>
          <a:xfrm>
            <a:off x="-19080" y="1359000"/>
            <a:ext cx="8815320" cy="5108400"/>
            <a:chOff x="-19080" y="1359000"/>
            <a:chExt cx="8815320" cy="5108400"/>
          </a:xfrm>
        </p:grpSpPr>
        <p:pic>
          <p:nvPicPr>
            <p:cNvPr id="26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-19080" y="1359000"/>
              <a:ext cx="88153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72880" y="162864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ащиес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Самостоятельно работают с информацией, анализируют и синтезируют идеи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Оценивают результат работы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                                   </a:t>
              </a:r>
              <a:r>
                <a:rPr b="0" lang="ru-RU" sz="3200" spc="-1" strike="noStrike">
                  <a:solidFill>
                    <a:srgbClr val="ff6600"/>
                  </a:solidFill>
                  <a:latin typeface="Calibri"/>
                </a:rPr>
                <a:t>Учитель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Наблюдает и консультирует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2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2" descr=""/>
          <p:cNvPicPr/>
          <p:nvPr/>
        </p:nvPicPr>
        <p:blipFill>
          <a:blip r:embed="rId4"/>
          <a:stretch/>
        </p:blipFill>
        <p:spPr>
          <a:xfrm>
            <a:off x="1103400" y="401760"/>
            <a:ext cx="7149960" cy="92700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7" name="Содержимое 2"/>
          <p:cNvGrpSpPr/>
          <p:nvPr/>
        </p:nvGrpSpPr>
        <p:grpSpPr>
          <a:xfrm>
            <a:off x="165240" y="1335240"/>
            <a:ext cx="8813520" cy="5101920"/>
            <a:chOff x="165240" y="1335240"/>
            <a:chExt cx="8813520" cy="5101920"/>
          </a:xfrm>
        </p:grpSpPr>
        <p:pic>
          <p:nvPicPr>
            <p:cNvPr id="26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1335240"/>
              <a:ext cx="8813520" cy="51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</a:rPr>
                <a:t>Ученики выступают перед одноклассниками и жюр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4"/>
          <a:stretch/>
        </p:blipFill>
        <p:spPr>
          <a:xfrm>
            <a:off x="1090440" y="334800"/>
            <a:ext cx="6967800" cy="92088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2" descr="E:\Юмашева О.М\все для презентаций\фоны\foncv_riflcvetfiol.jpg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Содержимое 2"/>
          <p:cNvGrpSpPr/>
          <p:nvPr/>
        </p:nvGrpSpPr>
        <p:grpSpPr>
          <a:xfrm>
            <a:off x="165240" y="66600"/>
            <a:ext cx="8839080" cy="6297840"/>
            <a:chOff x="165240" y="66600"/>
            <a:chExt cx="8839080" cy="6297840"/>
          </a:xfrm>
        </p:grpSpPr>
        <p:pic>
          <p:nvPicPr>
            <p:cNvPr id="27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66600"/>
              <a:ext cx="8839080" cy="629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333360"/>
              <a:ext cx="822960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901"/>
                </a:spcBef>
                <a:buClr>
                  <a:srgbClr val="cc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c0000"/>
                  </a:solidFill>
                  <a:latin typeface="Monotype Corsiva"/>
                </a:rPr>
                <a:t>Будем  помнить, что мы, взрослые, должны быть для ребенка и плодородной почвой, и живительной влагой, и теплым солнышком, согревающим цветок детской души.  Именно тогда раскроются уникальные способности, данные каждому  ребенку от рождения.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8" name="Picture 3" descr="E:\Юмашева О.М\все для презентаций\животные\8m5.gif"/>
          <p:cNvPicPr/>
          <p:nvPr/>
        </p:nvPicPr>
        <p:blipFill>
          <a:blip r:embed="rId3"/>
          <a:stretch/>
        </p:blipFill>
        <p:spPr>
          <a:xfrm>
            <a:off x="6786720" y="4929120"/>
            <a:ext cx="1738080" cy="173844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Объект 2"/>
          <p:cNvGrpSpPr/>
          <p:nvPr/>
        </p:nvGrpSpPr>
        <p:grpSpPr>
          <a:xfrm>
            <a:off x="176040" y="219240"/>
            <a:ext cx="8791920" cy="6205320"/>
            <a:chOff x="176040" y="219240"/>
            <a:chExt cx="8791920" cy="6205320"/>
          </a:xfrm>
        </p:grpSpPr>
        <p:pic>
          <p:nvPicPr>
            <p:cNvPr id="65" name="Объект 2" descr=""/>
            <p:cNvPicPr/>
            <p:nvPr/>
          </p:nvPicPr>
          <p:blipFill>
            <a:blip r:embed="rId2"/>
            <a:stretch/>
          </p:blipFill>
          <p:spPr>
            <a:xfrm>
              <a:off x="176040" y="219240"/>
              <a:ext cx="8791920" cy="62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57200" y="476280"/>
              <a:ext cx="8229600" cy="56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3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Сегодня особенно важен поиск путей в подходе к развитию личности одаренного ребенка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Поэтому, рассуждая о системе работы с одаренными детьми, хотелось бы подчеркнуть мысль о работе со </a:t>
              </a:r>
              <a:r>
                <a:rPr b="1" lang="ru-RU" sz="3000" spc="-1" strike="noStrike" u="sng">
                  <a:solidFill>
                    <a:srgbClr val="000000"/>
                  </a:solidFill>
                  <a:uFillTx/>
                  <a:latin typeface="Calibri"/>
                </a:rPr>
                <a:t>всеми</a:t>
              </a: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 детьми, то есть о максимальном развитии умений, навыков, познавательных способностей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000000"/>
                  </a:solidFill>
                  <a:latin typeface="Calibri"/>
                </a:rPr>
                <a:t>Жизнь требует от школы подготовки выпускника, способного адаптироваться к меняющимся условиям, коммуникабельного и конкурентоспособного. Именно это имел в виду психолог и писатель Г.Томпсон, говоря: “Способности – объяснение вашего успеха”.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" name="Picture 5" descr="F:\Юмашева О.М\все для презентаций\книги\books_72.gif"/>
          <p:cNvPicPr/>
          <p:nvPr/>
        </p:nvPicPr>
        <p:blipFill>
          <a:blip r:embed="rId3"/>
          <a:stretch/>
        </p:blipFill>
        <p:spPr>
          <a:xfrm flipH="1">
            <a:off x="7486200" y="5688000"/>
            <a:ext cx="1320840" cy="10476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Основополагающий</a:t>
            </a:r>
            <a:r>
              <a:rPr b="1" i="1" lang="ru-RU" sz="44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Times New Roman"/>
              </a:rPr>
              <a:t>вопро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c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2c3f71"/>
                </a:solidFill>
                <a:latin typeface="Times New Roman"/>
              </a:rPr>
              <a:t>«Как построить работу с одаренными детьми, чтобы добиться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максимального развития умений, навыков, познавательных способностей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F:\Юмашева О.М\все для презентаций\книги\Photo 099.gif"/>
          <p:cNvPicPr/>
          <p:nvPr/>
        </p:nvPicPr>
        <p:blipFill>
          <a:blip r:embed="rId2"/>
          <a:stretch/>
        </p:blipFill>
        <p:spPr>
          <a:xfrm>
            <a:off x="5651640" y="3860640"/>
            <a:ext cx="292572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c3f71"/>
                </a:solidFill>
                <a:uFillTx/>
                <a:latin typeface="Calibri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Если создать оптимальные условия для раскрытия потенциальных возможностей ребенка,  при этом сохраняя целостность системы его обучения и воспитания, и комплексное воздействие на ребенка, то возможна творческая самореализация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F:\Юмашева О.М\все для презентаций\дети\618fa2b8e67a5dda335c15deb6186f09.gif"/>
          <p:cNvPicPr/>
          <p:nvPr/>
        </p:nvPicPr>
        <p:blipFill>
          <a:blip r:embed="rId2"/>
          <a:stretch/>
        </p:blipFill>
        <p:spPr>
          <a:xfrm>
            <a:off x="984240" y="4962600"/>
            <a:ext cx="2090880" cy="1895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333399"/>
                </a:solidFill>
                <a:uFillTx/>
                <a:latin typeface="Calibri"/>
              </a:rPr>
              <a:t>ЦЕЛЬ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беспечение  возможности творческой самореализации личности в различных вид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F:\Юмашева О.М\все для презентаций\дети\987a952c6565c030ea8aa84ec1e352a8.gif"/>
          <p:cNvPicPr/>
          <p:nvPr/>
        </p:nvPicPr>
        <p:blipFill>
          <a:blip r:embed="rId2"/>
          <a:stretch/>
        </p:blipFill>
        <p:spPr>
          <a:xfrm>
            <a:off x="2755800" y="3789360"/>
            <a:ext cx="3740400" cy="22003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003399"/>
                </a:solidFill>
                <a:uFillTx/>
                <a:latin typeface="Calibri"/>
              </a:rPr>
              <a:t>ЗАДАЧИ 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оздать систему внеурочной работы, дополнительного образования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Развить массовые, групповые и индивидуальные формы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Организовать систему исследовательской работы учащих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F:\Юмашева О.М\все для презентаций\дети\58528fab2fdc58cf9ef24c5d6756f225.gif"/>
          <p:cNvPicPr/>
          <p:nvPr/>
        </p:nvPicPr>
        <p:blipFill>
          <a:blip r:embed="rId2"/>
          <a:stretch/>
        </p:blipFill>
        <p:spPr>
          <a:xfrm>
            <a:off x="6659640" y="4876920"/>
            <a:ext cx="1944720" cy="19666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110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Calibri"/>
              </a:rPr>
              <a:t>Структура деятельности учителя и ученика при использовании метода</a:t>
            </a:r>
            <a:r>
              <a:rPr b="0" lang="ru-RU" sz="4000" spc="-1" strike="noStrike">
                <a:solidFill>
                  <a:srgbClr val="3366ff"/>
                </a:solidFill>
                <a:latin typeface="Calibri"/>
              </a:rPr>
              <a:t>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 цель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крывает новые 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спериментир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ирает пути 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бъект обу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сёт ответственность за сою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определять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комендует источники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вает возможные формы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действует прогнозированию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ёт условия для активности шк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тнёр уче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ает оценить полученный результат, выявить недостат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8" descr="F:\Юмашева О.М\все для презентаций\дети\8b1747ac230d8b3e41b4a1330d0f9b8e.gif"/>
          <p:cNvPicPr/>
          <p:nvPr/>
        </p:nvPicPr>
        <p:blipFill>
          <a:blip r:embed="rId2"/>
          <a:stretch/>
        </p:blipFill>
        <p:spPr>
          <a:xfrm>
            <a:off x="3203640" y="4869000"/>
            <a:ext cx="1623960" cy="1546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F:\Юмашева О.М\все для презентаций\фон\1680colourback_1014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тель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муникатив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ценоч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он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еджер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Группы умений,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на которые  проектная деятельность </a:t>
            </a:r>
            <a:br>
              <a:rPr sz="2500"/>
            </a:br>
            <a:r>
              <a:rPr b="1" lang="ru-RU" sz="2500" spc="-1" strike="noStrike" u="sng">
                <a:solidFill>
                  <a:srgbClr val="000099"/>
                </a:solidFill>
                <a:uFillTx/>
                <a:latin typeface="Calibri"/>
              </a:rPr>
              <a:t>оказывает наибольшее влияни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h-his"/>
          <p:cNvPicPr/>
          <p:nvPr/>
        </p:nvPicPr>
        <p:blipFill>
          <a:blip r:embed="rId2"/>
          <a:stretch/>
        </p:blipFill>
        <p:spPr>
          <a:xfrm>
            <a:off x="5292720" y="2421000"/>
            <a:ext cx="2879640" cy="2827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17:26:13Z</dcterms:created>
  <dc:creator>Yohoo</dc:creator>
  <dc:description/>
  <dc:language>en-US</dc:language>
  <cp:lastModifiedBy>LEGION</cp:lastModifiedBy>
  <dcterms:modified xsi:type="dcterms:W3CDTF">2015-01-27T12:04:11Z</dcterms:modified>
  <cp:revision>17</cp:revision>
  <dc:subject/>
  <dc:title>Презентация PowerPoint</dc:title>
</cp:coreProperties>
</file>