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wmf" ContentType="image/x-wmf"/>
  <Override PartName="/ppt/media/image29.png" ContentType="image/png"/>
  <Override PartName="/ppt/media/image6.gif" ContentType="image/gif"/>
  <Override PartName="/ppt/media/image26.gif" ContentType="image/gif"/>
  <Override PartName="/ppt/media/image25.gif" ContentType="image/gif"/>
  <Override PartName="/ppt/media/image21.gif" ContentType="image/gif"/>
  <Override PartName="/ppt/media/image14.png" ContentType="image/png"/>
  <Override PartName="/ppt/media/image19.gif" ContentType="image/gif"/>
  <Override PartName="/ppt/media/image23.png" ContentType="image/png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22.gif" ContentType="image/gif"/>
  <Override PartName="/ppt/media/image15.png" ContentType="image/png"/>
  <Override PartName="/ppt/media/image2.png" ContentType="image/png"/>
  <Override PartName="/ppt/media/image32.png" ContentType="image/png"/>
  <Override PartName="/ppt/media/image31.gif" ContentType="image/gif"/>
  <Override PartName="/ppt/media/image35.png" ContentType="image/png"/>
  <Override PartName="/ppt/media/image36.png" ContentType="image/png"/>
  <Override PartName="/ppt/media/image8.gif" ContentType="image/gif"/>
  <Override PartName="/ppt/media/image34.gif" ContentType="image/gif"/>
  <Override PartName="/ppt/media/image9.gif" ContentType="image/gif"/>
  <Override PartName="/ppt/media/image38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2.gif" ContentType="image/gif"/>
  <Override PartName="/ppt/media/image13.gif" ContentType="image/gif"/>
  <Override PartName="/ppt/media/image37.png" ContentType="image/png"/>
  <Override PartName="/ppt/media/image7.png" ContentType="image/png"/>
  <Override PartName="/ppt/media/image1.jpeg" ContentType="image/jpeg"/>
  <Override PartName="/ppt/media/image47.png" ContentType="image/png"/>
  <Override PartName="/ppt/media/image11.gif" ContentType="image/gif"/>
  <Override PartName="/ppt/media/image10.gif" ContentType="image/gif"/>
  <Override PartName="/ppt/media/image5.gif" ContentType="image/gif"/>
  <Override PartName="/ppt/media/image4.png" ContentType="image/png"/>
  <Override PartName="/ppt/media/image24.gif" ContentType="image/gif"/>
  <Override PartName="/ppt/media/image40.gif" ContentType="image/gif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CC2E-20D0-46CF-8783-0C50B71986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втор проекта: учитель начальных классов МОУ ВСОШ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Юмашева Ольга Михайл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77DB-847D-4462-BFE8-D11D96115B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Исследовательские у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енерировать иде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бирать лучшее реш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E403-FD33-42C3-987B-10EA3514BD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Коммуникативные у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трудничать в процессе деятельност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ывать помощь товарищам и принимать их помощь, следить за ходом совместной работы и направлять её в нужное русло, умение выходить из конфликтных ситу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630C-C61C-45CD-A81D-0BF11804B6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Оценочные у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вать ход, результ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й деятельности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и друг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0BEE-B45F-4E01-BB7E-EC4AFE41C6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Информационные у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 осуществлять поиск  нужн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ировать информац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ть информ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762B-404A-4910-A420-3804033453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Презентационные у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ть перед аудитори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чать на  незапланированные вопро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ть различные средства нагляд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нстрировать артистические возмож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A3E7-F244-40C4-8FBA-419107BECA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Рефлексивные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у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чать на вопросы: «Чему я научился?», «Чему мне необходимо научиться?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екватно выбирать свою роль в коллективном де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7215-53E8-44F7-9E9F-A5377D8107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Менеджерские у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ировать процес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ть деятельность – время, ресур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имать ре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ять обязанности при выполнении коллективного д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376F-B03F-4C9C-B084-70F370BD2E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Критерии успеха работы над проек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гнут конечный результ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а активная команда участников проекта, способная продолжить работу в будущ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 проекта может быть использован другим коллекти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о удовольствие от сам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C435-7EDA-418A-A6BD-4BAFF068DE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3366"/>
                </a:solidFill>
                <a:uFillTx/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недрение системы работы с одаренными детьми позволяет создать условия для успешной самореализации школьников, работать со </a:t>
            </a:r>
            <a:r>
              <a:rPr b="1" lang="ru-RU" sz="1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всеми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детьми, добиваясь  максимального развития умений, навыков, познавательных способносте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зволяет  подготовить выпускника, способного адаптироваться к меняющимся условиям, коммуникабельного и конкурентоспособ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3722-D760-4344-98CB-FC33E02161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91919"/>
                </a:solidFill>
                <a:latin typeface="Calibri"/>
              </a:rPr>
              <a:t>Проект выполнен учащими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91919"/>
                </a:solidFill>
                <a:latin typeface="Calibri"/>
              </a:rPr>
              <a:t>3 «Б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91919"/>
                </a:solidFill>
                <a:latin typeface="Calibri"/>
              </a:rPr>
              <a:t>МОУ ВСОШ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91919"/>
                </a:solidFill>
                <a:latin typeface="Calibri"/>
              </a:rPr>
              <a:t>Учитель: Юмашева О.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9B65-3758-48CB-9514-3B8E20BEA1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ь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работы с одаренными учащимися чрезвычайно актуальна для современного российского общества. К школе предъявляются сегодня высокие требования. А что значит для родителей и общества “хорошая школа”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школа, где хорошо учат по всем предметам, а по окончании дети легко поступают в вуз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й школе должны преподавать высококвалифицированные и интеллигентные педаго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коле должны быть свои тради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а должна давать современное образова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орошей школе уважают личность ребенка, с ним занимаются не только на уроках, но и в системе дополнительного образ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но поэтому так важно определить основные задачи и направления работы с одаренными детьми в системе дополнительно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B894-A2FA-4E92-A25B-ABCF2698FB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99"/>
                </a:solidFill>
                <a:latin typeface="Calibri"/>
              </a:rPr>
              <a:t>Цель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здание условий для пополнения активного словарного запаса учащихся пословицами и поговор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познавательных интересов учащихся, умений самостоятельно конструировать свои знания и ориентироваться в информационном простран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99"/>
                </a:solidFill>
                <a:latin typeface="Calibri"/>
              </a:rPr>
              <a:t>Время работы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1 нед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99"/>
                </a:solidFill>
                <a:latin typeface="Calibri"/>
              </a:rPr>
              <a:t>Режим работы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неурочно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99"/>
                </a:solidFill>
                <a:latin typeface="Calibri"/>
              </a:rPr>
              <a:t>Участие родителей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ощря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11D8-95D8-4E15-9AC8-801E2C61C1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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т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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рабочих групп и распределение  ро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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источников информации,                   постановка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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критериев оце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D347-CEC9-440D-B2EF-830DCCA189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здают справочную страничк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ирают теоретический материал о пословицах и поговор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6F79-377A-4C4B-B8F6-C047624970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Calibri"/>
              </a:rPr>
              <a:t>Собираю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lang="ru-RU" sz="1200" spc="-1" strike="noStrike">
                <a:solidFill>
                  <a:srgbClr val="3366ff"/>
                </a:solidFill>
                <a:latin typeface="Calibri"/>
              </a:rPr>
              <a:t>создаю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ссказы, поясняющие смысл послов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DC7E-E4D8-44F4-9B87-05990EBF0E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Calibri"/>
              </a:rPr>
              <a:t>Соотнося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ую пословицу с иностран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8318-F281-4EB5-9958-33F7A5975C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Calibri"/>
              </a:rPr>
              <a:t>Придумываю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дания для иг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FEAD-84E3-471E-8B23-B357DEBDCC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Учащие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 работают с информацией, анализируют и синтезируют иде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вают результат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Учите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людает и консультир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80BD-38A4-4528-9D79-F71EE6D3B4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ки выступают перед одноклассниками и жю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748B-3AF3-4303-80E7-679B4DFC05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Monotype Corsiva"/>
              </a:rPr>
              <a:t>Будем  помнить, что мы, взрослые, должны быть для ребенка и плодородной почвой, и живительной влагой, и теплым солнышком, согревающим цветок детской души.  Именно тогда раскроются уникальные способности, данные каждому  ребенку от ро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D0FA-9F49-4FC8-8A0E-ACB74A9193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особенно важен поиск путей в подходе к развитию личности одаренного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, рассуждая о системе работы с одаренными детьми, хотелось бы подчеркнуть мысль о работе с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се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етьми, то есть о максимальном развитии умений, навыков, познавательных способ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ь требует от школы подготовки выпускника, способного адаптироваться к меняющимся условиям, коммуникабельного и конкурентоспособного. Именно это имел в виду психолог и писатель Г.Томпсон, говоря: “Способности – объяснение вашего успеха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C752-2448-48E8-A769-3CA09E43EF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33399"/>
                </a:solidFill>
                <a:uFillTx/>
                <a:latin typeface="Times New Roman"/>
              </a:rPr>
              <a:t>Основополагающий</a:t>
            </a:r>
            <a:r>
              <a:rPr b="1" i="1" lang="ru-RU" sz="1200" spc="-1" strike="noStrike" u="sng">
                <a:solidFill>
                  <a:srgbClr val="333399"/>
                </a:solidFill>
                <a:uFillTx/>
                <a:latin typeface="Times New Roman"/>
              </a:rPr>
              <a:t> </a:t>
            </a:r>
            <a:r>
              <a:rPr b="1" lang="ru-RU" sz="1600" spc="-1" strike="noStrike" u="sng">
                <a:solidFill>
                  <a:srgbClr val="333399"/>
                </a:solidFill>
                <a:uFillTx/>
                <a:latin typeface="Times New Roman"/>
              </a:rPr>
              <a:t>вопро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2c3f7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2c3f71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2c3f71"/>
                </a:solidFill>
                <a:latin typeface="Times New Roman"/>
              </a:rPr>
              <a:t>«Как построить работу с одаренными детьми, чтобы добиться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максимального развития умений, навыков, познавательных способностей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</a:rPr>
              <a:t>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91D9-D426-40FB-B706-E00428F269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2c3f71"/>
                </a:solidFill>
                <a:uFillTx/>
                <a:latin typeface="Calibri"/>
              </a:rPr>
              <a:t>ГИПО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Если создать оптимальные условия для раскрытия потенциальных возможностей ребенка,  при этом сохраняя целостность системы его обучения и воспитания, и комплексное воздействие на ребенка, то возможна творческая самореализация личности в различных видах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0376-E843-4996-9BE6-B6D81ED2B3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333399"/>
                </a:solidFill>
                <a:uFillTx/>
                <a:latin typeface="Calibri"/>
              </a:rPr>
              <a:t>ЦЕЛЬ  ПРО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Обеспечение  возможности творческой самореализации личности в различных видах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D1A0-7A3B-4595-952D-6C390D481C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3399"/>
                </a:solidFill>
                <a:uFillTx/>
                <a:latin typeface="Calibri"/>
              </a:rPr>
              <a:t>ЗАДАЧИ  ПРО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Создать систему внеурочной работы, дополнительного образования учащих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Развить массовые, групповые и индивидуальные формы внеурочн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Организовать систему исследовательской работы учащих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444F-AD6A-484A-BFAE-B9E5C6053F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ff"/>
                </a:solidFill>
                <a:latin typeface="Calibri"/>
              </a:rPr>
              <a:t>Структура деятельности учителя и ученика при использовании метода</a:t>
            </a:r>
            <a:r>
              <a:rPr b="0" lang="ru-RU" sz="1200" spc="-1" strike="noStrike">
                <a:solidFill>
                  <a:srgbClr val="3366ff"/>
                </a:solidFill>
                <a:latin typeface="Calibri"/>
              </a:rPr>
              <a:t>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Calibri"/>
              </a:rPr>
              <a:t>Учени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 цель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вает новые 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ир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ирает пути 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ёт ответственность за сою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Calibri"/>
              </a:rPr>
              <a:t>Учите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могает определять 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ует источники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вает возможные формы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ует прогнозированию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ёт условия для активности шк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тнёр уче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гает оценить полученный результат, выявить недоста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3A7C-6E51-4798-9DA2-1152A57CF4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99"/>
                </a:solidFill>
                <a:uFillTx/>
                <a:latin typeface="Calibri"/>
              </a:rPr>
              <a:t>Группы умений, </a:t>
            </a:r>
            <a:br>
              <a:rPr sz="1100"/>
            </a:br>
            <a:r>
              <a:rPr b="1" lang="ru-RU" sz="1100" spc="-1" strike="noStrike" u="sng">
                <a:solidFill>
                  <a:srgbClr val="000099"/>
                </a:solidFill>
                <a:uFillTx/>
                <a:latin typeface="Calibri"/>
              </a:rPr>
              <a:t>на которые  проектная деятельность </a:t>
            </a:r>
            <a:br>
              <a:rPr sz="1100"/>
            </a:br>
            <a:r>
              <a:rPr b="1" lang="ru-RU" sz="1100" spc="-1" strike="noStrike" u="sng">
                <a:solidFill>
                  <a:srgbClr val="000099"/>
                </a:solidFill>
                <a:uFillTx/>
                <a:latin typeface="Calibri"/>
              </a:rPr>
              <a:t>оказывает наибольшее влияние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тельск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уника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оч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он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в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ер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4285-0F31-4591-9A52-9C7F66FC89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05D3-4E9E-445D-91BA-E0961EA02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BC8C-2FDF-4B76-A19E-1D9DBF4C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9BE1-D6B5-47A9-AD0F-BDD8EBA01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F905-044A-4222-929F-F32805837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754D-9F66-4528-A475-ED3AFC7A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37CD-5CA2-4ABA-8CD0-B1F8EC9A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99CA-E12E-4D68-9D13-6F492058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9551-9964-4482-AA68-4FE27AD0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70B0-5B87-4F4D-B012-AB7C68A4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F69C-D470-4056-90D3-37E1E91D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819E-CEBB-4587-9318-5CBF9270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BD60-4B61-40E0-859F-C3D7DD40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1133-39D7-491C-9613-EB2520B7281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E4CF-5896-43AF-B4CA-955F338C05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15.png"/><Relationship Id="rId4" Type="http://schemas.openxmlformats.org/officeDocument/2006/relationships/image" Target="../media/image24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26.gif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3.png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5.png"/><Relationship Id="rId3" Type="http://schemas.openxmlformats.org/officeDocument/2006/relationships/image" Target="../media/image34.gif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7.png"/><Relationship Id="rId3" Type="http://schemas.openxmlformats.org/officeDocument/2006/relationships/image" Target="../media/image34.gif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7.png"/><Relationship Id="rId3" Type="http://schemas.openxmlformats.org/officeDocument/2006/relationships/image" Target="../media/image34.gif"/><Relationship Id="rId4" Type="http://schemas.openxmlformats.org/officeDocument/2006/relationships/image" Target="../media/image39.pn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7.png"/><Relationship Id="rId3" Type="http://schemas.openxmlformats.org/officeDocument/2006/relationships/image" Target="../media/image34.gif"/><Relationship Id="rId4" Type="http://schemas.openxmlformats.org/officeDocument/2006/relationships/image" Target="../media/image40.gif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42.png"/><Relationship Id="rId3" Type="http://schemas.openxmlformats.org/officeDocument/2006/relationships/image" Target="../media/image34.gif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44.png"/><Relationship Id="rId3" Type="http://schemas.openxmlformats.org/officeDocument/2006/relationships/image" Target="../media/image34.gif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7.png"/><Relationship Id="rId3" Type="http://schemas.openxmlformats.org/officeDocument/2006/relationships/image" Target="../media/image34.gif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47.png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-11160" y="4680"/>
            <a:ext cx="9155160" cy="6953400"/>
          </a:xfrm>
          <a:prstGeom prst="rect">
            <a:avLst/>
          </a:prstGeom>
          <a:ln w="0">
            <a:noFill/>
          </a:ln>
        </p:spPr>
      </p:pic>
      <p:grpSp>
        <p:nvGrpSpPr>
          <p:cNvPr id="49" name="Заголовок 1"/>
          <p:cNvGrpSpPr/>
          <p:nvPr/>
        </p:nvGrpSpPr>
        <p:grpSpPr>
          <a:xfrm>
            <a:off x="493560" y="590400"/>
            <a:ext cx="8150400" cy="3097440"/>
            <a:chOff x="493560" y="590400"/>
            <a:chExt cx="8150400" cy="3097440"/>
          </a:xfrm>
        </p:grpSpPr>
        <p:pic>
          <p:nvPicPr>
            <p:cNvPr id="50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493560" y="590400"/>
              <a:ext cx="8150400" cy="309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84360" y="765000"/>
              <a:ext cx="7772400" cy="27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Подзаголовок 2"/>
          <p:cNvGrpSpPr/>
          <p:nvPr/>
        </p:nvGrpSpPr>
        <p:grpSpPr>
          <a:xfrm>
            <a:off x="2077920" y="4340160"/>
            <a:ext cx="6780240" cy="2414520"/>
            <a:chOff x="2077920" y="4340160"/>
            <a:chExt cx="6780240" cy="2414520"/>
          </a:xfrm>
        </p:grpSpPr>
        <p:pic>
          <p:nvPicPr>
            <p:cNvPr id="53" name="Подзаголовок 2" descr=""/>
            <p:cNvPicPr/>
            <p:nvPr/>
          </p:nvPicPr>
          <p:blipFill>
            <a:blip r:embed="rId3"/>
            <a:stretch/>
          </p:blipFill>
          <p:spPr>
            <a:xfrm>
              <a:off x="2077920" y="4340160"/>
              <a:ext cx="6780240" cy="24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2268360" y="4508640"/>
              <a:ext cx="6400800" cy="20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Автор проекта: учитель начальных классов МОУ ВСОШ№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Юмашева Ольга Михайловн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" name="Прямоугольник 3" descr=""/>
          <p:cNvPicPr/>
          <p:nvPr/>
        </p:nvPicPr>
        <p:blipFill>
          <a:blip r:embed="rId4"/>
          <a:stretch/>
        </p:blipFill>
        <p:spPr>
          <a:xfrm>
            <a:off x="828720" y="895320"/>
            <a:ext cx="7772400" cy="1755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F:\Юмашева О.М\все для презентаций\книги\79966779.gif"/>
          <p:cNvPicPr/>
          <p:nvPr/>
        </p:nvPicPr>
        <p:blipFill>
          <a:blip r:embed="rId5"/>
          <a:stretch/>
        </p:blipFill>
        <p:spPr>
          <a:xfrm>
            <a:off x="179280" y="3468600"/>
            <a:ext cx="2808360" cy="266544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1" name="Заголовок 1"/>
          <p:cNvGrpSpPr/>
          <p:nvPr/>
        </p:nvGrpSpPr>
        <p:grpSpPr>
          <a:xfrm>
            <a:off x="176040" y="19080"/>
            <a:ext cx="8791920" cy="1700280"/>
            <a:chOff x="176040" y="19080"/>
            <a:chExt cx="8791920" cy="1700280"/>
          </a:xfrm>
        </p:grpSpPr>
        <p:pic>
          <p:nvPicPr>
            <p:cNvPr id="102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 u="sng">
                  <a:solidFill>
                    <a:srgbClr val="000099"/>
                  </a:solidFill>
                  <a:uFillTx/>
                  <a:latin typeface="Calibri"/>
                </a:rPr>
                <a:t>Исследовательские умения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05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000000"/>
                  </a:solidFill>
                  <a:uFillTx/>
                  <a:latin typeface="Calibri"/>
                </a:rPr>
                <a:t>генерировать идеи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000000"/>
                  </a:solidFill>
                  <a:uFillTx/>
                  <a:latin typeface="Calibri"/>
                </a:rPr>
                <a:t>выбирать лучшее решение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7" name="Picture 4" descr="n5"/>
          <p:cNvPicPr/>
          <p:nvPr/>
        </p:nvPicPr>
        <p:blipFill>
          <a:blip r:embed="rId4"/>
          <a:stretch/>
        </p:blipFill>
        <p:spPr>
          <a:xfrm>
            <a:off x="1859040" y="3284640"/>
            <a:ext cx="2209680" cy="229536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0" name="Заголовок 1"/>
          <p:cNvGrpSpPr/>
          <p:nvPr/>
        </p:nvGrpSpPr>
        <p:grpSpPr>
          <a:xfrm>
            <a:off x="176040" y="19080"/>
            <a:ext cx="8791920" cy="1700280"/>
            <a:chOff x="176040" y="19080"/>
            <a:chExt cx="8791920" cy="1700280"/>
          </a:xfrm>
        </p:grpSpPr>
        <p:pic>
          <p:nvPicPr>
            <p:cNvPr id="111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 u="sng">
                  <a:solidFill>
                    <a:srgbClr val="000099"/>
                  </a:solidFill>
                  <a:uFillTx/>
                  <a:latin typeface="Calibri"/>
                </a:rPr>
                <a:t>Коммуникативные умения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14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отрудничать в процессе деятельности,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9216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оказывать помощь товарищам и принимать их помощь, следить за ходом совместной работы и направлять её в нужное русло, умение выходить из конфликтных ситуаций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9216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6" name="Picture 9" descr="F:\Юмашева О.М\все для презентаций\дети\aee36fd9ad4f343ebeb4c08bf03607ed.gif"/>
          <p:cNvPicPr/>
          <p:nvPr/>
        </p:nvPicPr>
        <p:blipFill>
          <a:blip r:embed="rId4"/>
          <a:stretch/>
        </p:blipFill>
        <p:spPr>
          <a:xfrm>
            <a:off x="3276720" y="4435560"/>
            <a:ext cx="2031840" cy="18604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9" name="Заголовок 1"/>
          <p:cNvGrpSpPr/>
          <p:nvPr/>
        </p:nvGrpSpPr>
        <p:grpSpPr>
          <a:xfrm>
            <a:off x="176040" y="19080"/>
            <a:ext cx="8791920" cy="1700280"/>
            <a:chOff x="176040" y="19080"/>
            <a:chExt cx="8791920" cy="1700280"/>
          </a:xfrm>
        </p:grpSpPr>
        <p:pic>
          <p:nvPicPr>
            <p:cNvPr id="120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 u="sng">
                  <a:solidFill>
                    <a:srgbClr val="000099"/>
                  </a:solidFill>
                  <a:uFillTx/>
                  <a:latin typeface="Calibri"/>
                </a:rPr>
                <a:t>Оценочные умения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23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Оценивать ход, результа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воей деятельности и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деятельности других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5" name="Picture 9" descr="F:\Юмашева О.М\все для презентаций\дети\78756399111dbcdbfcf00793dbe37981.gif"/>
          <p:cNvPicPr/>
          <p:nvPr/>
        </p:nvPicPr>
        <p:blipFill>
          <a:blip r:embed="rId4"/>
          <a:stretch/>
        </p:blipFill>
        <p:spPr>
          <a:xfrm>
            <a:off x="3203640" y="3429000"/>
            <a:ext cx="3236760" cy="276876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8" name="Заголовок 1"/>
          <p:cNvGrpSpPr/>
          <p:nvPr/>
        </p:nvGrpSpPr>
        <p:grpSpPr>
          <a:xfrm>
            <a:off x="176040" y="19080"/>
            <a:ext cx="8791920" cy="1700280"/>
            <a:chOff x="176040" y="19080"/>
            <a:chExt cx="8791920" cy="1700280"/>
          </a:xfrm>
        </p:grpSpPr>
        <p:pic>
          <p:nvPicPr>
            <p:cNvPr id="129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 u="sng">
                  <a:solidFill>
                    <a:srgbClr val="000099"/>
                  </a:solidFill>
                  <a:uFillTx/>
                  <a:latin typeface="Calibri"/>
                </a:rPr>
                <a:t>Информационные умения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32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амостоятельно осуществлять поиск  нужной информации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труктурировать информацию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охранять информацию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4" name="Picture 10" descr="F:\Юмашева О.М\все для презентаций\дети\e4f38cfc086b201f1f1b56f8eea958c0.gif"/>
          <p:cNvPicPr/>
          <p:nvPr/>
        </p:nvPicPr>
        <p:blipFill>
          <a:blip r:embed="rId4"/>
          <a:stretch/>
        </p:blipFill>
        <p:spPr>
          <a:xfrm>
            <a:off x="3284640" y="4138560"/>
            <a:ext cx="3087720" cy="23716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7" name="Заголовок 1"/>
          <p:cNvGrpSpPr/>
          <p:nvPr/>
        </p:nvGrpSpPr>
        <p:grpSpPr>
          <a:xfrm>
            <a:off x="176040" y="19080"/>
            <a:ext cx="8791920" cy="1700280"/>
            <a:chOff x="176040" y="19080"/>
            <a:chExt cx="8791920" cy="1700280"/>
          </a:xfrm>
        </p:grpSpPr>
        <p:pic>
          <p:nvPicPr>
            <p:cNvPr id="138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 u="sng">
                  <a:solidFill>
                    <a:srgbClr val="000099"/>
                  </a:solidFill>
                  <a:uFillTx/>
                  <a:latin typeface="Calibri"/>
                </a:rPr>
                <a:t>Презентационные умения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41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Выступать перед аудиторией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Отвечать на  незапланированные вопросы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Использовать различные средства наглядности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Демонстрировать артистические возможности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3" name="Picture 9" descr="F:\Юмашева О.М\все для презентаций\дети\b02cd14dd4800c96aa11403be0897470.gif"/>
          <p:cNvPicPr/>
          <p:nvPr/>
        </p:nvPicPr>
        <p:blipFill>
          <a:blip r:embed="rId4"/>
          <a:stretch/>
        </p:blipFill>
        <p:spPr>
          <a:xfrm>
            <a:off x="5508720" y="4118040"/>
            <a:ext cx="3235320" cy="20016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6" name="Заголовок 1"/>
          <p:cNvGrpSpPr/>
          <p:nvPr/>
        </p:nvGrpSpPr>
        <p:grpSpPr>
          <a:xfrm>
            <a:off x="176040" y="19080"/>
            <a:ext cx="8791920" cy="1700280"/>
            <a:chOff x="176040" y="19080"/>
            <a:chExt cx="8791920" cy="1700280"/>
          </a:xfrm>
        </p:grpSpPr>
        <p:pic>
          <p:nvPicPr>
            <p:cNvPr id="147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 u="sng">
                  <a:solidFill>
                    <a:srgbClr val="000099"/>
                  </a:solidFill>
                  <a:uFillTx/>
                  <a:latin typeface="Calibri"/>
                </a:rPr>
                <a:t>Рефлексивные</a:t>
              </a:r>
              <a:r>
                <a:rPr b="0" lang="ru-RU" sz="4400" spc="-1" strike="noStrike">
                  <a:solidFill>
                    <a:srgbClr val="000099"/>
                  </a:solidFill>
                  <a:latin typeface="Calibri"/>
                </a:rPr>
                <a:t> </a:t>
              </a:r>
              <a:r>
                <a:rPr b="1" lang="ru-RU" sz="4400" spc="-1" strike="noStrike" u="sng">
                  <a:solidFill>
                    <a:srgbClr val="000099"/>
                  </a:solidFill>
                  <a:uFillTx/>
                  <a:latin typeface="Calibri"/>
                </a:rPr>
                <a:t>умения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50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Отвечать на вопросы: «Чему я научился?», «Чему мне необходимо научиться?»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Адекватно выбирать свою роль в коллективном деле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2" name="Picture 4" descr="chel13"/>
          <p:cNvPicPr/>
          <p:nvPr/>
        </p:nvPicPr>
        <p:blipFill>
          <a:blip r:embed="rId4"/>
          <a:stretch/>
        </p:blipFill>
        <p:spPr>
          <a:xfrm>
            <a:off x="6012000" y="3895560"/>
            <a:ext cx="2665440" cy="222120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5" name="Заголовок 1"/>
          <p:cNvGrpSpPr/>
          <p:nvPr/>
        </p:nvGrpSpPr>
        <p:grpSpPr>
          <a:xfrm>
            <a:off x="176040" y="19080"/>
            <a:ext cx="8791920" cy="1700280"/>
            <a:chOff x="176040" y="19080"/>
            <a:chExt cx="8791920" cy="1700280"/>
          </a:xfrm>
        </p:grpSpPr>
        <p:pic>
          <p:nvPicPr>
            <p:cNvPr id="156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000099"/>
                  </a:solidFill>
                  <a:uFillTx/>
                  <a:latin typeface="Calibri"/>
                </a:rPr>
                <a:t>Менеджерские умения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59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Проектировать процесс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Планировать деятельность – время, ресурсы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Принимать решения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Распределять обязанности при выполнении коллективного дела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1" name="Picture 6" descr="033"/>
          <p:cNvPicPr/>
          <p:nvPr/>
        </p:nvPicPr>
        <p:blipFill>
          <a:blip r:embed="rId4"/>
          <a:stretch/>
        </p:blipFill>
        <p:spPr>
          <a:xfrm>
            <a:off x="6300720" y="4006800"/>
            <a:ext cx="2158920" cy="198432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4" name="Заголовок 1"/>
          <p:cNvGrpSpPr/>
          <p:nvPr/>
        </p:nvGrpSpPr>
        <p:grpSpPr>
          <a:xfrm>
            <a:off x="176040" y="19080"/>
            <a:ext cx="8791920" cy="1803240"/>
            <a:chOff x="176040" y="19080"/>
            <a:chExt cx="8791920" cy="1803240"/>
          </a:xfrm>
        </p:grpSpPr>
        <p:pic>
          <p:nvPicPr>
            <p:cNvPr id="165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8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 u="sng">
                  <a:solidFill>
                    <a:srgbClr val="000099"/>
                  </a:solidFill>
                  <a:uFillTx/>
                  <a:latin typeface="Calibri"/>
                </a:rPr>
                <a:t>Критерии успеха работы над проектом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68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Достигнут конечный результат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оздана активная команда участников проекта, способная продолжить работу в будущем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Результат проекта может быть использован другим коллективом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Получено удовольствие от самой деятельности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0" name="Picture 10" descr="F:\Юмашева О.М\все для презентаций\дети\d135e27346dd0d887990f290b31ccd98.gif"/>
          <p:cNvPicPr/>
          <p:nvPr/>
        </p:nvPicPr>
        <p:blipFill>
          <a:blip r:embed="rId4"/>
          <a:stretch/>
        </p:blipFill>
        <p:spPr>
          <a:xfrm flipH="1">
            <a:off x="7236000" y="4508640"/>
            <a:ext cx="1506240" cy="1742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F:\Юмашева О.М\все для презентаций\дети\c5da5491bdce7a447e3a5fe0c3d96e0d.gif"/>
          <p:cNvPicPr/>
          <p:nvPr/>
        </p:nvPicPr>
        <p:blipFill>
          <a:blip r:embed="rId5"/>
          <a:stretch/>
        </p:blipFill>
        <p:spPr>
          <a:xfrm>
            <a:off x="6875640" y="4218120"/>
            <a:ext cx="1029960" cy="87624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4" name="Заголовок 1"/>
          <p:cNvGrpSpPr/>
          <p:nvPr/>
        </p:nvGrpSpPr>
        <p:grpSpPr>
          <a:xfrm>
            <a:off x="176040" y="19080"/>
            <a:ext cx="8791920" cy="1700280"/>
            <a:chOff x="176040" y="19080"/>
            <a:chExt cx="8791920" cy="1700280"/>
          </a:xfrm>
        </p:grpSpPr>
        <p:pic>
          <p:nvPicPr>
            <p:cNvPr id="175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 u="sng">
                  <a:solidFill>
                    <a:srgbClr val="003366"/>
                  </a:solidFill>
                  <a:uFillTx/>
                  <a:latin typeface="Calibri"/>
                </a:rPr>
                <a:t>ВЫВОД: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7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78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buClr>
                  <a:srgbClr val="d6009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d60093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3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внедрение системы работы с одаренными детьми позволяет создать условия для успешной самореализации школьников, работать со </a:t>
              </a:r>
              <a:r>
                <a:rPr b="1" lang="ru-RU" sz="3000" spc="-1" strike="noStrike" u="sng">
                  <a:solidFill>
                    <a:srgbClr val="002060"/>
                  </a:solidFill>
                  <a:uFillTx/>
                  <a:latin typeface="Times New Roman"/>
                  <a:ea typeface="Times New Roman"/>
                </a:rPr>
                <a:t>всеми</a:t>
              </a:r>
              <a:r>
                <a:rPr b="1" lang="ru-RU" sz="3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 детьми, добиваясь  максимального развития умений, навыков, познавательных способностей,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buClr>
                  <a:srgbClr val="00206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позволяет  подготовить выпускника, способного адаптироваться к меняющимся условиям, коммуникабельного и конкурентоспособного.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0" name="Picture 9" descr="comp2"/>
          <p:cNvPicPr/>
          <p:nvPr/>
        </p:nvPicPr>
        <p:blipFill>
          <a:blip r:embed="rId4"/>
          <a:stretch/>
        </p:blipFill>
        <p:spPr>
          <a:xfrm>
            <a:off x="7419960" y="-171360"/>
            <a:ext cx="2209680" cy="2114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BS00554_"/>
          <p:cNvPicPr/>
          <p:nvPr/>
        </p:nvPicPr>
        <p:blipFill>
          <a:blip r:embed="rId5"/>
          <a:stretch/>
        </p:blipFill>
        <p:spPr>
          <a:xfrm>
            <a:off x="7164360" y="5148360"/>
            <a:ext cx="1959120" cy="170964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4" name="Заголовок 1"/>
          <p:cNvGrpSpPr/>
          <p:nvPr/>
        </p:nvGrpSpPr>
        <p:grpSpPr>
          <a:xfrm>
            <a:off x="396720" y="1865160"/>
            <a:ext cx="8356680" cy="2048040"/>
            <a:chOff x="396720" y="1865160"/>
            <a:chExt cx="8356680" cy="2048040"/>
          </a:xfrm>
        </p:grpSpPr>
        <p:pic>
          <p:nvPicPr>
            <p:cNvPr id="185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396720" y="1865160"/>
              <a:ext cx="835668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685800" y="2133720"/>
              <a:ext cx="777240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" name="Подзаголовок 2"/>
          <p:cNvGrpSpPr/>
          <p:nvPr/>
        </p:nvGrpSpPr>
        <p:grpSpPr>
          <a:xfrm>
            <a:off x="1090440" y="3633840"/>
            <a:ext cx="6963120" cy="2303280"/>
            <a:chOff x="1090440" y="3633840"/>
            <a:chExt cx="6963120" cy="2303280"/>
          </a:xfrm>
        </p:grpSpPr>
        <p:pic>
          <p:nvPicPr>
            <p:cNvPr id="188" name="Подзаголовок 2" descr=""/>
            <p:cNvPicPr/>
            <p:nvPr/>
          </p:nvPicPr>
          <p:blipFill>
            <a:blip r:embed="rId3"/>
            <a:stretch/>
          </p:blipFill>
          <p:spPr>
            <a:xfrm>
              <a:off x="1090440" y="3633840"/>
              <a:ext cx="6963120" cy="23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371600" y="3886200"/>
              <a:ext cx="64008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91919"/>
                  </a:solidFill>
                  <a:latin typeface="Calibri"/>
                </a:rPr>
                <a:t>Проект выполнен учащимися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91919"/>
                  </a:solidFill>
                  <a:latin typeface="Calibri"/>
                </a:rPr>
                <a:t>3 «Б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91919"/>
                  </a:solidFill>
                  <a:latin typeface="Calibri"/>
                </a:rPr>
                <a:t>МОУ ВСОШ №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91919"/>
                  </a:solidFill>
                  <a:latin typeface="Calibri"/>
                </a:rPr>
                <a:t>Учитель: Юмашева О.М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0" name="Picture 3" descr="E:\Юмашева О.М\все для презентаций\животные\4eee980b54b7908cb1b8489b79a37fee.gif"/>
          <p:cNvPicPr/>
          <p:nvPr/>
        </p:nvPicPr>
        <p:blipFill>
          <a:blip r:embed="rId4"/>
          <a:stretch/>
        </p:blipFill>
        <p:spPr>
          <a:xfrm>
            <a:off x="0" y="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E:\Юмашева О.М\все для презентаций\животные\4eee980b54b7908cb1b8489b79a37fee.gif"/>
          <p:cNvPicPr/>
          <p:nvPr/>
        </p:nvPicPr>
        <p:blipFill>
          <a:blip r:embed="rId5"/>
          <a:stretch/>
        </p:blipFill>
        <p:spPr>
          <a:xfrm flipH="1">
            <a:off x="6858000" y="0"/>
            <a:ext cx="2000160" cy="2036880"/>
          </a:xfrm>
          <a:prstGeom prst="rect">
            <a:avLst/>
          </a:prstGeom>
          <a:ln w="0">
            <a:noFill/>
          </a:ln>
        </p:spPr>
      </p:pic>
      <p:pic>
        <p:nvPicPr>
          <p:cNvPr id="192" name="Прямоугольник 1" descr=""/>
          <p:cNvPicPr/>
          <p:nvPr/>
        </p:nvPicPr>
        <p:blipFill>
          <a:blip r:embed="rId6"/>
          <a:stretch/>
        </p:blipFill>
        <p:spPr>
          <a:xfrm>
            <a:off x="633240" y="2481120"/>
            <a:ext cx="7718760" cy="92736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ктуальност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блема работы с одаренными учащимися чрезвычайно актуальна для современного российского общества. К школе предъявляются сегодня высокие требования. А что значит для родителей и общества “хорошая школа”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то школа, где хорошо учат по всем предметам, а по окончании дети легко поступают в вузы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этой школе должны преподавать высококвалифицированные и интеллигентные педагог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школе должны быть свои традици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Школа должна давать современное образовани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хорошей школе уважают личность ребенка, с ним занимаются не только на уроках, но и в системе дополнительного образовани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менно поэтому так важно определить основные задачи и направления работы с одаренными детьми в системе дополнительного образов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F:\Юмашева О.М\все для презентаций\книги\books_72.gif"/>
          <p:cNvPicPr/>
          <p:nvPr/>
        </p:nvPicPr>
        <p:blipFill>
          <a:blip r:embed="rId2"/>
          <a:stretch/>
        </p:blipFill>
        <p:spPr>
          <a:xfrm flipH="1">
            <a:off x="7486200" y="5688000"/>
            <a:ext cx="1320840" cy="10476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6" name="Содержимое 2"/>
          <p:cNvGrpSpPr/>
          <p:nvPr/>
        </p:nvGrpSpPr>
        <p:grpSpPr>
          <a:xfrm>
            <a:off x="165240" y="426960"/>
            <a:ext cx="8813520" cy="5907240"/>
            <a:chOff x="165240" y="426960"/>
            <a:chExt cx="8813520" cy="5907240"/>
          </a:xfrm>
        </p:grpSpPr>
        <p:pic>
          <p:nvPicPr>
            <p:cNvPr id="197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426960"/>
              <a:ext cx="8813520" cy="590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457200" y="692280"/>
              <a:ext cx="8229600" cy="532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99"/>
                  </a:solidFill>
                  <a:latin typeface="Calibri"/>
                </a:rPr>
                <a:t>Цель: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 создание условий для пополнения активного словарного запаса учащихся пословицами и поговорками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Развитие познавательных интересов учащихся, умений самостоятельно конструировать свои знания и ориентироваться в информационном пространстве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99"/>
                  </a:solidFill>
                  <a:latin typeface="Calibri"/>
                </a:rPr>
                <a:t>Время работы: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 1 неделя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99"/>
                  </a:solidFill>
                  <a:latin typeface="Calibri"/>
                </a:rPr>
                <a:t>Режим работы: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 внеурочное время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99"/>
                  </a:solidFill>
                  <a:latin typeface="Calibri"/>
                </a:rPr>
                <a:t>Участие родителей: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 поощряется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9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3" name="Содержимое 2"/>
          <p:cNvGrpSpPr/>
          <p:nvPr/>
        </p:nvGrpSpPr>
        <p:grpSpPr>
          <a:xfrm>
            <a:off x="165240" y="1335240"/>
            <a:ext cx="9789840" cy="5101920"/>
            <a:chOff x="165240" y="1335240"/>
            <a:chExt cx="9789840" cy="5101920"/>
          </a:xfrm>
        </p:grpSpPr>
        <p:pic>
          <p:nvPicPr>
            <p:cNvPr id="204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1335240"/>
              <a:ext cx="9789840" cy="51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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определение темы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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выбор рабочих групп и распределение  ролей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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определение источников информации,                   постановка задач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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выбор критериев оценки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6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pic>
        <p:nvPicPr>
          <p:cNvPr id="207" name="Прямоугольник 2" descr=""/>
          <p:cNvPicPr/>
          <p:nvPr/>
        </p:nvPicPr>
        <p:blipFill>
          <a:blip r:embed="rId4"/>
          <a:stretch/>
        </p:blipFill>
        <p:spPr>
          <a:xfrm>
            <a:off x="590400" y="476280"/>
            <a:ext cx="7542360" cy="92556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E:\Юмашева О.М\все для презентаций\животные\8m5.gif"/>
          <p:cNvPicPr/>
          <p:nvPr/>
        </p:nvPicPr>
        <p:blipFill>
          <a:blip r:embed="rId2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grpSp>
        <p:nvGrpSpPr>
          <p:cNvPr id="212" name="Объект 2"/>
          <p:cNvGrpSpPr/>
          <p:nvPr/>
        </p:nvGrpSpPr>
        <p:grpSpPr>
          <a:xfrm>
            <a:off x="295200" y="384120"/>
            <a:ext cx="8228880" cy="4524480"/>
            <a:chOff x="295200" y="384120"/>
            <a:chExt cx="8228880" cy="4524480"/>
          </a:xfrm>
        </p:grpSpPr>
        <p:cxnSp>
          <p:nvCxnSpPr>
            <p:cNvPr id="213" name="_s1028"/>
            <p:cNvCxnSpPr>
              <a:stCxn id="214" idx="0"/>
              <a:endCxn id="215" idx="2"/>
            </p:cNvCxnSpPr>
            <p:nvPr/>
          </p:nvCxnSpPr>
          <p:spPr>
            <a:xfrm flipH="1" flipV="1" rot="5400000">
              <a:off x="3423600" y="2112480"/>
              <a:ext cx="905400" cy="1067040"/>
            </a:xfrm>
            <a:prstGeom prst="bentConnector3">
              <a:avLst>
                <a:gd name="adj1" fmla="val 119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6" name="_s1029"/>
            <p:cNvCxnSpPr>
              <a:stCxn id="217" idx="0"/>
              <a:endCxn id="215" idx="2"/>
            </p:cNvCxnSpPr>
            <p:nvPr/>
          </p:nvCxnSpPr>
          <p:spPr>
            <a:xfrm flipV="1" rot="16200000">
              <a:off x="5556960" y="1045080"/>
              <a:ext cx="905400" cy="3201120"/>
            </a:xfrm>
            <a:prstGeom prst="bentConnector3">
              <a:avLst>
                <a:gd name="adj1" fmla="val 119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1030"/>
            <p:cNvCxnSpPr>
              <a:stCxn id="219" idx="0"/>
              <a:endCxn id="215" idx="2"/>
            </p:cNvCxnSpPr>
            <p:nvPr/>
          </p:nvCxnSpPr>
          <p:spPr>
            <a:xfrm flipV="1" rot="16200000">
              <a:off x="4489920" y="2112120"/>
              <a:ext cx="905400" cy="1067400"/>
            </a:xfrm>
            <a:prstGeom prst="bentConnector3">
              <a:avLst>
                <a:gd name="adj1" fmla="val 119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0" name="_s1031"/>
            <p:cNvCxnSpPr>
              <a:stCxn id="221" idx="0"/>
              <a:endCxn id="215" idx="2"/>
            </p:cNvCxnSpPr>
            <p:nvPr/>
          </p:nvCxnSpPr>
          <p:spPr>
            <a:xfrm flipH="1" flipV="1" rot="5400000">
              <a:off x="2357640" y="1046520"/>
              <a:ext cx="905400" cy="3198600"/>
            </a:xfrm>
            <a:prstGeom prst="bentConnector3">
              <a:avLst>
                <a:gd name="adj1" fmla="val 119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5" name="_s1032"/>
            <p:cNvSpPr/>
            <p:nvPr/>
          </p:nvSpPr>
          <p:spPr>
            <a:xfrm>
              <a:off x="3495240" y="384120"/>
              <a:ext cx="1828440" cy="18097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Структура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проект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_s1033"/>
            <p:cNvSpPr/>
            <p:nvPr/>
          </p:nvSpPr>
          <p:spPr>
            <a:xfrm>
              <a:off x="295200" y="3098880"/>
              <a:ext cx="1828440" cy="18097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Теоретики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_s1034"/>
            <p:cNvSpPr/>
            <p:nvPr/>
          </p:nvSpPr>
          <p:spPr>
            <a:xfrm>
              <a:off x="4562280" y="3098880"/>
              <a:ext cx="1828440" cy="18097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сследовател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_s1035"/>
            <p:cNvSpPr/>
            <p:nvPr/>
          </p:nvSpPr>
          <p:spPr>
            <a:xfrm>
              <a:off x="6695640" y="3098880"/>
              <a:ext cx="1828440" cy="18097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Затейник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_s1036"/>
            <p:cNvSpPr/>
            <p:nvPr/>
          </p:nvSpPr>
          <p:spPr>
            <a:xfrm>
              <a:off x="2428560" y="3098880"/>
              <a:ext cx="1828440" cy="18097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Мастера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лова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5" name="Содержимое 2"/>
          <p:cNvGrpSpPr/>
          <p:nvPr/>
        </p:nvGrpSpPr>
        <p:grpSpPr>
          <a:xfrm>
            <a:off x="165240" y="1335240"/>
            <a:ext cx="8813520" cy="5101920"/>
            <a:chOff x="165240" y="1335240"/>
            <a:chExt cx="8813520" cy="5101920"/>
          </a:xfrm>
        </p:grpSpPr>
        <p:pic>
          <p:nvPicPr>
            <p:cNvPr id="226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1335240"/>
              <a:ext cx="8813520" cy="51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000000"/>
                  </a:solidFill>
                  <a:uFillTx/>
                  <a:latin typeface="Calibri"/>
                </a:rPr>
                <a:t>Создают справочную страничку: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обирают теоретический материал о пословицах и поговорках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8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2" descr=""/>
          <p:cNvPicPr/>
          <p:nvPr/>
        </p:nvPicPr>
        <p:blipFill>
          <a:blip r:embed="rId4"/>
          <a:stretch/>
        </p:blipFill>
        <p:spPr>
          <a:xfrm>
            <a:off x="1620720" y="401760"/>
            <a:ext cx="5827680" cy="92700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3" name="Содержимое 2"/>
          <p:cNvGrpSpPr/>
          <p:nvPr/>
        </p:nvGrpSpPr>
        <p:grpSpPr>
          <a:xfrm>
            <a:off x="165240" y="1335240"/>
            <a:ext cx="8813520" cy="5101920"/>
            <a:chOff x="165240" y="1335240"/>
            <a:chExt cx="8813520" cy="5101920"/>
          </a:xfrm>
        </p:grpSpPr>
        <p:pic>
          <p:nvPicPr>
            <p:cNvPr id="234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1335240"/>
              <a:ext cx="8813520" cy="51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66ff"/>
                  </a:solidFill>
                  <a:latin typeface="Calibri"/>
                </a:rPr>
                <a:t>Собирают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или </a:t>
              </a:r>
              <a:r>
                <a:rPr b="0" lang="ru-RU" sz="3200" spc="-1" strike="noStrike">
                  <a:solidFill>
                    <a:srgbClr val="3366ff"/>
                  </a:solidFill>
                  <a:latin typeface="Calibri"/>
                </a:rPr>
                <a:t>создают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рассказы, поясняющие смысл пословиц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6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516720" y="3933720"/>
            <a:ext cx="1738440" cy="1738440"/>
          </a:xfrm>
          <a:prstGeom prst="rect">
            <a:avLst/>
          </a:prstGeom>
          <a:ln w="0">
            <a:noFill/>
          </a:ln>
        </p:spPr>
      </p:pic>
      <p:pic>
        <p:nvPicPr>
          <p:cNvPr id="237" name="Прямоугольник 2" descr=""/>
          <p:cNvPicPr/>
          <p:nvPr/>
        </p:nvPicPr>
        <p:blipFill>
          <a:blip r:embed="rId4"/>
          <a:stretch/>
        </p:blipFill>
        <p:spPr>
          <a:xfrm>
            <a:off x="725400" y="317520"/>
            <a:ext cx="7766280" cy="10778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033"/>
          <p:cNvPicPr/>
          <p:nvPr/>
        </p:nvPicPr>
        <p:blipFill>
          <a:blip r:embed="rId5"/>
          <a:stretch/>
        </p:blipFill>
        <p:spPr>
          <a:xfrm>
            <a:off x="3635280" y="3068640"/>
            <a:ext cx="2367000" cy="217656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42" name="Содержимое 2"/>
          <p:cNvGrpSpPr/>
          <p:nvPr/>
        </p:nvGrpSpPr>
        <p:grpSpPr>
          <a:xfrm>
            <a:off x="165240" y="1335240"/>
            <a:ext cx="8813520" cy="5101920"/>
            <a:chOff x="165240" y="1335240"/>
            <a:chExt cx="8813520" cy="5101920"/>
          </a:xfrm>
        </p:grpSpPr>
        <p:pic>
          <p:nvPicPr>
            <p:cNvPr id="243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1335240"/>
              <a:ext cx="8813520" cy="51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66ff"/>
                  </a:solidFill>
                  <a:latin typeface="Calibri"/>
                </a:rPr>
                <a:t>Соотносят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русскую пословицу с иностранной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45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116"/>
          <p:cNvPicPr/>
          <p:nvPr/>
        </p:nvPicPr>
        <p:blipFill>
          <a:blip r:embed="rId4"/>
          <a:stretch/>
        </p:blipFill>
        <p:spPr>
          <a:xfrm>
            <a:off x="3132000" y="3284640"/>
            <a:ext cx="2952720" cy="2619360"/>
          </a:xfrm>
          <a:prstGeom prst="rect">
            <a:avLst/>
          </a:prstGeom>
          <a:ln w="0">
            <a:noFill/>
          </a:ln>
        </p:spPr>
      </p:pic>
      <p:pic>
        <p:nvPicPr>
          <p:cNvPr id="247" name="Прямоугольник 2" descr=""/>
          <p:cNvPicPr/>
          <p:nvPr/>
        </p:nvPicPr>
        <p:blipFill>
          <a:blip r:embed="rId5"/>
          <a:stretch/>
        </p:blipFill>
        <p:spPr>
          <a:xfrm>
            <a:off x="1103400" y="615960"/>
            <a:ext cx="7211880" cy="93816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1" name="Содержимое 2"/>
          <p:cNvGrpSpPr/>
          <p:nvPr/>
        </p:nvGrpSpPr>
        <p:grpSpPr>
          <a:xfrm>
            <a:off x="165240" y="1219320"/>
            <a:ext cx="8813520" cy="5102280"/>
            <a:chOff x="165240" y="1219320"/>
            <a:chExt cx="8813520" cy="5102280"/>
          </a:xfrm>
        </p:grpSpPr>
        <p:pic>
          <p:nvPicPr>
            <p:cNvPr id="252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1219320"/>
              <a:ext cx="881352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5720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3366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66ff"/>
                  </a:solidFill>
                  <a:latin typeface="Calibri"/>
                </a:rPr>
                <a:t>Придумывают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задания для игр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4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2" descr=""/>
          <p:cNvPicPr/>
          <p:nvPr/>
        </p:nvPicPr>
        <p:blipFill>
          <a:blip r:embed="rId4"/>
          <a:stretch/>
        </p:blipFill>
        <p:spPr>
          <a:xfrm>
            <a:off x="1268280" y="476280"/>
            <a:ext cx="5894640" cy="92556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9" name="Содержимое 2"/>
          <p:cNvGrpSpPr/>
          <p:nvPr/>
        </p:nvGrpSpPr>
        <p:grpSpPr>
          <a:xfrm>
            <a:off x="-19080" y="1359000"/>
            <a:ext cx="8815320" cy="5108400"/>
            <a:chOff x="-19080" y="1359000"/>
            <a:chExt cx="8815320" cy="5108400"/>
          </a:xfrm>
        </p:grpSpPr>
        <p:pic>
          <p:nvPicPr>
            <p:cNvPr id="260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-19080" y="1359000"/>
              <a:ext cx="881532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272880" y="162864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6600"/>
                  </a:solidFill>
                  <a:latin typeface="Calibri"/>
                </a:rPr>
                <a:t>Учащиеся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амостоятельно работают с информацией, анализируют и синтезируют идеи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Оценивают результат работы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                                  </a:t>
              </a:r>
              <a:r>
                <a:rPr b="0" lang="ru-RU" sz="3200" spc="-1" strike="noStrike">
                  <a:solidFill>
                    <a:srgbClr val="ff6600"/>
                  </a:solidFill>
                  <a:latin typeface="Calibri"/>
                </a:rPr>
                <a:t>Учитель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Наблюдает и консультирует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2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pic>
        <p:nvPicPr>
          <p:cNvPr id="263" name="Прямоугольник 2" descr=""/>
          <p:cNvPicPr/>
          <p:nvPr/>
        </p:nvPicPr>
        <p:blipFill>
          <a:blip r:embed="rId4"/>
          <a:stretch/>
        </p:blipFill>
        <p:spPr>
          <a:xfrm>
            <a:off x="1103400" y="401760"/>
            <a:ext cx="7149960" cy="927000"/>
          </a:xfrm>
          <a:prstGeom prst="rect">
            <a:avLst/>
          </a:prstGeom>
          <a:ln w="0">
            <a:noFill/>
          </a:ln>
        </p:spPr>
      </p:pic>
      <p:sp>
        <p:nvSpPr>
          <p:cNvPr id="2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7" name="Содержимое 2"/>
          <p:cNvGrpSpPr/>
          <p:nvPr/>
        </p:nvGrpSpPr>
        <p:grpSpPr>
          <a:xfrm>
            <a:off x="165240" y="1335240"/>
            <a:ext cx="8813520" cy="5101920"/>
            <a:chOff x="165240" y="1335240"/>
            <a:chExt cx="8813520" cy="5101920"/>
          </a:xfrm>
        </p:grpSpPr>
        <p:pic>
          <p:nvPicPr>
            <p:cNvPr id="268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1335240"/>
              <a:ext cx="8813520" cy="51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Ученики выступают перед одноклассниками и жюри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0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pic>
        <p:nvPicPr>
          <p:cNvPr id="271" name="Прямоугольник 2" descr=""/>
          <p:cNvPicPr/>
          <p:nvPr/>
        </p:nvPicPr>
        <p:blipFill>
          <a:blip r:embed="rId4"/>
          <a:stretch/>
        </p:blipFill>
        <p:spPr>
          <a:xfrm>
            <a:off x="1090440" y="334800"/>
            <a:ext cx="6967800" cy="92088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5" name="Содержимое 2"/>
          <p:cNvGrpSpPr/>
          <p:nvPr/>
        </p:nvGrpSpPr>
        <p:grpSpPr>
          <a:xfrm>
            <a:off x="165240" y="66600"/>
            <a:ext cx="8839080" cy="6297840"/>
            <a:chOff x="165240" y="66600"/>
            <a:chExt cx="8839080" cy="6297840"/>
          </a:xfrm>
        </p:grpSpPr>
        <p:pic>
          <p:nvPicPr>
            <p:cNvPr id="276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66600"/>
              <a:ext cx="883908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457200" y="333360"/>
              <a:ext cx="8229600" cy="57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25000"/>
                </a:lnSpc>
                <a:spcBef>
                  <a:spcPts val="901"/>
                </a:spcBef>
                <a:buClr>
                  <a:srgbClr val="cc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cc0000"/>
                  </a:solidFill>
                  <a:latin typeface="Monotype Corsiva"/>
                </a:rPr>
                <a:t>Будем  помнить, что мы, взрослые, должны быть для ребенка и плодородной почвой, и живительной влагой, и теплым солнышком, согревающим цветок детской души.  Именно тогда раскроются уникальные способности, данные каждому  ребенку от рождения.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8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4" name="Объект 2"/>
          <p:cNvGrpSpPr/>
          <p:nvPr/>
        </p:nvGrpSpPr>
        <p:grpSpPr>
          <a:xfrm>
            <a:off x="176040" y="219240"/>
            <a:ext cx="8791920" cy="6205320"/>
            <a:chOff x="176040" y="219240"/>
            <a:chExt cx="8791920" cy="6205320"/>
          </a:xfrm>
        </p:grpSpPr>
        <p:pic>
          <p:nvPicPr>
            <p:cNvPr id="65" name="Объект 2" descr=""/>
            <p:cNvPicPr/>
            <p:nvPr/>
          </p:nvPicPr>
          <p:blipFill>
            <a:blip r:embed="rId2"/>
            <a:stretch/>
          </p:blipFill>
          <p:spPr>
            <a:xfrm>
              <a:off x="176040" y="219240"/>
              <a:ext cx="8791920" cy="62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457200" y="476280"/>
              <a:ext cx="8229600" cy="56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3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000" spc="-1" strike="noStrike">
                  <a:solidFill>
                    <a:srgbClr val="000000"/>
                  </a:solidFill>
                  <a:latin typeface="Calibri"/>
                </a:rPr>
                <a:t>Сегодня особенно важен поиск путей в подходе к развитию личности одаренного ребенка.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Calibri"/>
                </a:rPr>
                <a:t>Поэтому, рассуждая о системе работы с одаренными детьми, хотелось бы подчеркнуть мысль о работе со </a:t>
              </a:r>
              <a:r>
                <a:rPr b="1" lang="ru-RU" sz="3000" spc="-1" strike="noStrike" u="sng">
                  <a:solidFill>
                    <a:srgbClr val="000000"/>
                  </a:solidFill>
                  <a:uFillTx/>
                  <a:latin typeface="Calibri"/>
                </a:rPr>
                <a:t>всеми</a:t>
              </a:r>
              <a:r>
                <a:rPr b="0" lang="ru-RU" sz="3000" spc="-1" strike="noStrike">
                  <a:solidFill>
                    <a:srgbClr val="000000"/>
                  </a:solidFill>
                  <a:latin typeface="Calibri"/>
                </a:rPr>
                <a:t> детьми, то есть о максимальном развитии умений, навыков, познавательных способностей.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Calibri"/>
                </a:rPr>
                <a:t>Жизнь требует от школы подготовки выпускника, способного адаптироваться к меняющимся условиям, коммуникабельного и конкурентоспособного. Именно это имел в виду психолог и писатель Г.Томпсон, говоря: “Способности – объяснение вашего успеха”.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" name="Picture 5" descr="F:\Юмашева О.М\все для презентаций\книги\books_72.gif"/>
          <p:cNvPicPr/>
          <p:nvPr/>
        </p:nvPicPr>
        <p:blipFill>
          <a:blip r:embed="rId3"/>
          <a:stretch/>
        </p:blipFill>
        <p:spPr>
          <a:xfrm flipH="1">
            <a:off x="7486200" y="5688000"/>
            <a:ext cx="1320840" cy="10476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3399"/>
                </a:solidFill>
                <a:uFillTx/>
                <a:latin typeface="Times New Roman"/>
              </a:rPr>
              <a:t>Основополагающий</a:t>
            </a:r>
            <a:r>
              <a:rPr b="1" i="1" lang="ru-RU" sz="4400" spc="-1" strike="noStrike" u="sng">
                <a:solidFill>
                  <a:srgbClr val="333399"/>
                </a:solidFill>
                <a:uFillTx/>
                <a:latin typeface="Times New Roman"/>
              </a:rPr>
              <a:t> </a:t>
            </a:r>
            <a:r>
              <a:rPr b="1" lang="ru-RU" sz="4000" spc="-1" strike="noStrike" u="sng">
                <a:solidFill>
                  <a:srgbClr val="333399"/>
                </a:solidFill>
                <a:uFillTx/>
                <a:latin typeface="Times New Roman"/>
              </a:rPr>
              <a:t>вопро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3f71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2c3f71"/>
                </a:solidFill>
                <a:latin typeface="Times New Roman"/>
              </a:rPr>
              <a:t>«Как построить работу с одаренными детьми, чтобы добиться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максимального развития умений, навыков, познавательных способностей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F:\Юмашева О.М\все для презентаций\книги\Photo 099.gif"/>
          <p:cNvPicPr/>
          <p:nvPr/>
        </p:nvPicPr>
        <p:blipFill>
          <a:blip r:embed="rId2"/>
          <a:stretch/>
        </p:blipFill>
        <p:spPr>
          <a:xfrm>
            <a:off x="5651640" y="3860640"/>
            <a:ext cx="2925720" cy="220032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2c3f71"/>
                </a:solidFill>
                <a:uFillTx/>
                <a:latin typeface="Calibri"/>
              </a:rPr>
              <a:t>ГИПОТ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Если создать оптимальные условия для раскрытия потенциальных возможностей ребенка,  при этом сохраняя целостность системы его обучения и воспитания, и комплексное воздействие на ребенка, то возможна творческая самореализация личности в различных видах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F:\Юмашева О.М\все для презентаций\дети\618fa2b8e67a5dda335c15deb6186f09.gif"/>
          <p:cNvPicPr/>
          <p:nvPr/>
        </p:nvPicPr>
        <p:blipFill>
          <a:blip r:embed="rId2"/>
          <a:stretch/>
        </p:blipFill>
        <p:spPr>
          <a:xfrm>
            <a:off x="984240" y="4962600"/>
            <a:ext cx="2090880" cy="18954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ru-RU" sz="4400" spc="-1" strike="noStrike" u="sng">
                <a:solidFill>
                  <a:srgbClr val="333399"/>
                </a:solidFill>
                <a:uFillTx/>
                <a:latin typeface="Calibri"/>
              </a:rPr>
              <a:t>ЦЕЛЬ 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Обеспечение  возможности творческой самореализации личности в различных видах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F:\Юмашева О.М\все для презентаций\дети\987a952c6565c030ea8aa84ec1e352a8.gif"/>
          <p:cNvPicPr/>
          <p:nvPr/>
        </p:nvPicPr>
        <p:blipFill>
          <a:blip r:embed="rId2"/>
          <a:stretch/>
        </p:blipFill>
        <p:spPr>
          <a:xfrm>
            <a:off x="2755800" y="3789360"/>
            <a:ext cx="3740400" cy="22003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 u="sng">
                <a:solidFill>
                  <a:srgbClr val="003399"/>
                </a:solidFill>
                <a:uFillTx/>
                <a:latin typeface="Calibri"/>
              </a:rPr>
              <a:t>ЗАДАЧИ 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Создать систему внеурочной работы, дополнительного образования учащих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Развить массовые, групповые и индивидуальные формы внеурочной деятельн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Организовать систему исследовательской работы учащих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F:\Юмашева О.М\все для презентаций\дети\58528fab2fdc58cf9ef24c5d6756f225.gif"/>
          <p:cNvPicPr/>
          <p:nvPr/>
        </p:nvPicPr>
        <p:blipFill>
          <a:blip r:embed="rId2"/>
          <a:stretch/>
        </p:blipFill>
        <p:spPr>
          <a:xfrm>
            <a:off x="6659640" y="4876920"/>
            <a:ext cx="1944720" cy="196668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-9360"/>
            <a:ext cx="9144000" cy="7110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Calibri"/>
              </a:rPr>
              <a:t>Структура деятельности учителя и ученика при использовании метода</a:t>
            </a:r>
            <a:r>
              <a:rPr b="0" lang="ru-RU" sz="4000" spc="-1" strike="noStrike">
                <a:solidFill>
                  <a:srgbClr val="3366ff"/>
                </a:solidFill>
                <a:latin typeface="Calibri"/>
              </a:rPr>
              <a:t>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Calibri"/>
              </a:rPr>
              <a:t>Учен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яет цель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крывает новые зн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кспериментиру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бирает пути  реш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ктиве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бъект обуч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сёт ответственность за сою деятель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Calibri"/>
              </a:rPr>
              <a:t>Учит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могает определять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комендует источники информ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крывает возможные формы рабо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действует прогнозированию результа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ёт условия для активности школь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ртнёр уче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могает оценить полученный результат, выявить недостат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8" descr="F:\Юмашева О.М\все для презентаций\дети\8b1747ac230d8b3e41b4a1330d0f9b8e.gif"/>
          <p:cNvPicPr/>
          <p:nvPr/>
        </p:nvPicPr>
        <p:blipFill>
          <a:blip r:embed="rId2"/>
          <a:stretch/>
        </p:blipFill>
        <p:spPr>
          <a:xfrm>
            <a:off x="3203640" y="4869000"/>
            <a:ext cx="1623960" cy="15462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следователь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муникатив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ценоч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формацион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зентацион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флексив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неджерск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99"/>
                </a:solidFill>
                <a:uFillTx/>
                <a:latin typeface="Calibri"/>
              </a:rPr>
              <a:t>Группы умений, </a:t>
            </a:r>
            <a:br>
              <a:rPr sz="2500"/>
            </a:br>
            <a:r>
              <a:rPr b="1" lang="ru-RU" sz="2500" spc="-1" strike="noStrike" u="sng">
                <a:solidFill>
                  <a:srgbClr val="000099"/>
                </a:solidFill>
                <a:uFillTx/>
                <a:latin typeface="Calibri"/>
              </a:rPr>
              <a:t>на которые  проектная деятельность </a:t>
            </a:r>
            <a:br>
              <a:rPr sz="2500"/>
            </a:br>
            <a:r>
              <a:rPr b="1" lang="ru-RU" sz="2500" spc="-1" strike="noStrike" u="sng">
                <a:solidFill>
                  <a:srgbClr val="000099"/>
                </a:solidFill>
                <a:uFillTx/>
                <a:latin typeface="Calibri"/>
              </a:rPr>
              <a:t>оказывает наибольшее влияние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sh-his"/>
          <p:cNvPicPr/>
          <p:nvPr/>
        </p:nvPicPr>
        <p:blipFill>
          <a:blip r:embed="rId2"/>
          <a:stretch/>
        </p:blipFill>
        <p:spPr>
          <a:xfrm>
            <a:off x="5292720" y="2421000"/>
            <a:ext cx="2879640" cy="282744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17:26:13Z</dcterms:created>
  <dc:creator>Yohoo</dc:creator>
  <dc:description/>
  <dc:language>en-US</dc:language>
  <cp:lastModifiedBy>LEGION</cp:lastModifiedBy>
  <dcterms:modified xsi:type="dcterms:W3CDTF">2015-01-27T12:04:11Z</dcterms:modified>
  <cp:revision>17</cp:revision>
  <dc:subject/>
  <dc:title>Презентация PowerPoint</dc:title>
</cp:coreProperties>
</file>