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F206-2F21-4788-B250-A9264CC034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екоменд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по укрепл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Impact"/>
              </a:rPr>
              <a:t>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E72-4DB6-4249-8076-F498DCF377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БОСОХОЖДЕНИЕ</a:t>
            </a:r>
            <a:r>
              <a:rPr b="1" lang="en-US" sz="1200" spc="-1" strike="noStrike">
                <a:solidFill>
                  <a:srgbClr val="000000"/>
                </a:solidFill>
                <a:latin typeface="Arno Pro Light Display"/>
              </a:rPr>
              <a:t>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элемент закаливан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ин способ закалки – это 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прогулки бос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200" spc="-1" strike="noStrike">
                <a:solidFill>
                  <a:srgbClr val="0070c0"/>
                </a:solidFill>
                <a:latin typeface="Calibri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0856-3D92-4CFC-926D-D5BCDE411C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к предупредить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у ребенка должна быть сделана из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натуральных материал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внутри с твердым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супинатор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поднимающим внутренний край с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дошва детской обуви должна быть гибкой  и име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каблук (5-10 мм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искусственно поднимающий свод стопы, защищающий пятку от ушиб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увь должна соответствовать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размеру стопы, была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удобной при нос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весу обувь должна быть максимально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легкой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статочно жесткой, с хорошим зад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мните, длина следа должна быть </a:t>
            </a:r>
            <a:r>
              <a:rPr b="0" i="1" lang="ru-RU" sz="1200" spc="-1" strike="noStrike">
                <a:solidFill>
                  <a:srgbClr val="d60093"/>
                </a:solidFill>
                <a:latin typeface="Calibri"/>
              </a:rPr>
              <a:t>больше стоп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носочной части, припуск в 10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81E-0FB1-4935-9AF0-F286F2F4E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делать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ребенка плоскостоп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мплекс упражнений при плоскостоп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(лечебная гимнастик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Описание упражнений</a:t>
            </a:r>
            <a:r>
              <a:rPr b="0" lang="ru-RU" sz="1400" spc="-1" strike="noStrike">
                <a:solidFill>
                  <a:srgbClr val="cc0099"/>
                </a:solidFill>
                <a:latin typeface="Calibri"/>
              </a:rPr>
              <a:t>                                 </a:t>
            </a:r>
            <a:r>
              <a:rPr b="0" lang="ru-RU" sz="1400" spc="-1" strike="noStrike" u="sng">
                <a:solidFill>
                  <a:srgbClr val="cc0099"/>
                </a:solidFill>
                <a:uFillTx/>
                <a:latin typeface="Calibri"/>
              </a:rPr>
              <a:t> Кол-во повтор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одь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осках, руки вверх                                                </a:t>
            </a:r>
            <a:r>
              <a:rPr b="0" lang="ru-RU" sz="1200" spc="-1" strike="noStrike">
                <a:solidFill>
                  <a:srgbClr val="d60093"/>
                </a:solidFill>
                <a:latin typeface="Calibri"/>
              </a:rPr>
              <a:t>по 20-30 с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 пятках, руки на поя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 наружном своде стоп, пальцы согнуты, руки на поя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 мячом (теннисным) - зажать стопами, ходить на внешней стороне сто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Стоя на палке (обруче)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луприседания и приседания, руки вперед или в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ередвижение вдоль палки - ставить стопы вдоль или поперек палки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-4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Сто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 наружном своде стоп - поворот туловище лев –прав.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днимание на носках с упором на наружный свод стопы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"Лодочка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"Угол"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а на спине держать ноги под углом 45 гр.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4-6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Сид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гибание - разгибание пальцев стоп                             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ксимальное разведение и сведение пяток, не отрывая носков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5-20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 напряжением тянуть носки на себя, от себя  (колени прямые )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соединить стопы. Колени прямые  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 круговые движения стопами внутрь,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захватывание и приподнимание пальцами сто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а или мелкого предмета     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10-12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) захватывание и приподнимание стопам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а, колени прямые </a:t>
            </a: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                           6-8 ра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B8C-9694-4777-A34A-81319FC003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льза пл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58F-B8F9-4062-B083-5218944945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сформ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авильную осан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ая осанка не бывает врожденной, она начинает формир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ервых лет наш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ответственный период для фор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анк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 4 до 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учая вашего ребенка «правильно» держать свое т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забывайте при этом и про вашу осан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крепкого, достаточно развитого мышечного корсажа – мышечной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ая болезнь или хронические заболевания, ослабляющие орган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рах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оответствующая росту мебе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бная одежда и обу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92E4-AE87-4901-970A-737B3F536F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Как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проверить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осанку у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e5b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5b00"/>
                </a:solidFill>
                <a:latin typeface="Calibri"/>
              </a:rPr>
              <a:t>Следим за осанкой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2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2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AF8A-DE77-43C9-86BA-A6AAFDC80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расивые и здоро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ЗУ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alibri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2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A998-4BA2-4B58-A910-3D75ACCE65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Масс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десен щет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о утром звери встал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ки чистить побежал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миш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точкой из шиш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ка в рыжей шуб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е чистит зуб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е мыш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лые ежат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ый волк зубаст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зубки паст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ят поросе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мешной лосенок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автракали вкусно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нам почистить нужн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уки щёточку возьмё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ной пасты нанес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чистим осторожн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поранить дёсны можно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что? А по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ы мы ополоснё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понадобится кружка…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ыбнёмся-ка друг дружк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ли умело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зубки стали бе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235E-39E0-4559-9032-4F0A8D892E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5 правил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ервоклас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ажно сочетать игру и учебу. Учиться, играя – намного легче, ведь играть ребенок умеет очень хорошо. А учеба – это та сфера, где ребенок  первоклассник – нович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ибки и неудачи –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«Как хорошо написал, какой хороший мальчик!»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F436-4209-443C-B59A-A46A4F782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буждение — в 7 часов утр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чебные зан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тдыха — обязательно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е урок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—1 1/2 часа) и снова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ебывание на воздух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т 19 до 20 часов — ужин и свободные занятия.</a:t>
            </a: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иготовления ко с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708-244B-40E1-B0F5-3EB23BAB42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Физическое воспит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0e7"/>
                </a:solidFill>
                <a:latin typeface="Calibri"/>
              </a:rPr>
              <a:t>ребенка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2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1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значения показателей двигательной активности детей за полный день -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бъем 17 000 движ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интенсивность 55-65 движений в мину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980-98F0-4635-8290-B7F144A8E8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alibri"/>
              </a:rPr>
              <a:t>Режим дня до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200"/>
            </a:br>
            <a:r>
              <a:rPr b="0" lang="ru-RU" sz="1200" spc="-1" strike="noStrike">
                <a:solidFill>
                  <a:srgbClr val="ad0f69"/>
                </a:solidFill>
                <a:latin typeface="Calibri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774F-DEC4-46D5-B4F0-978615842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b770e"/>
                </a:solidFill>
                <a:latin typeface="Calibri"/>
              </a:rPr>
              <a:t>Компьют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Calibri"/>
              </a:rPr>
              <a:t>«за» </a:t>
            </a:r>
            <a:r>
              <a:rPr b="0" i="1" lang="ru-RU" sz="1200" spc="-1" strike="noStrike">
                <a:solidFill>
                  <a:srgbClr val="0b770e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роти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1859c"/>
                </a:solidFill>
                <a:latin typeface="Calibri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Calibri"/>
              </a:rPr>
              <a:t>«+»   Достоинства компьют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занятий на компьютере улучшаются память и внимание де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«-»   Недостатки компьюте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2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E11-0957-4B59-930A-1701DC1FEC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Прогулки – это ва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2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80"/>
                </a:solidFill>
                <a:latin typeface="Calibri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1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474-3D43-4F56-BC8E-181C387133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охранить зрение ребе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, чернику, бруснику, клюкву, петрушку, укроп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елефоне лучше забы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366-5346-4910-9A8F-7C7ECA4D2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Комплекс упражнений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623-B9D4-4EFB-A2CF-76E45BA892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Закаливание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 </a:t>
            </a:r>
            <a:r>
              <a:rPr b="0" lang="ru-RU" sz="1200" spc="-1" strike="noStrike">
                <a:solidFill>
                  <a:srgbClr val="cc0099"/>
                </a:solidFill>
                <a:latin typeface="Arno Pro Light Display"/>
              </a:rPr>
              <a:t>первый шаг на пути к здо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При закаливании детей следует придерживаться та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основных принципов</a:t>
            </a: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ь закаливающие процедуры систематичес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увеличивать время воздействия закаливающего фактора постепен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ть настроение ребенка и проводить процедуры в форме игр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ачинать закаливание в любом возраст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гда не выполнять процедуры, если малыш замер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каливаться всей семь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ливающие процед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ть с физическими упражн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ссаж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помещении, где находится ребе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гда не ку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B87D-3EB5-45DE-A437-1433E7629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no Pro Light Display"/>
              </a:rPr>
              <a:t>Способы закал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ый таз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Холодное полотенц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«Контрастный душ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ебенок боится воздействия холодн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уш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можно вначале поставить таз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лодной водой и сказ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А ну, давай с тобой по лужам побегаем!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от из теплой ванны - в холодный таз (или "под дождик"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B27C-5685-4185-93F7-32ECD4C10B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DC6-5539-4121-941D-8ACFC2F7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E71-F7D6-426F-A1B2-9DACBA46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11C-7CD0-4094-B24A-909EC7B3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E0EC-760C-4026-9823-AA20CDEC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E51-CB79-4B78-9840-36D2C7F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63E-D743-4D95-A36B-93084777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29A-6CE0-4408-A30F-6226544F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4B43-1471-4826-BF7F-649962AA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2A6-BB69-4068-ADB6-0FC17458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10B-CE26-4D9C-8EAD-5FAF89BB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B28-EFE7-4172-96B7-FAC1AAF2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7FF-950E-43DE-BB8A-B7ABA5A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D7D-E067-40B2-9BEF-4A2F01F40C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C944-94B4-4909-8056-78A4F6777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0" y="1285920"/>
            <a:ext cx="6589800" cy="29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142560"/>
            <a:ext cx="61722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портивная энциклопе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349360" y="4572000"/>
            <a:ext cx="2500560" cy="20271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291960"/>
            <a:ext cx="7967520" cy="18543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38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309760" y="3333600"/>
            <a:ext cx="506520" cy="5860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Прямоугольник 5" descr=""/>
          <p:cNvPicPr/>
          <p:nvPr/>
        </p:nvPicPr>
        <p:blipFill>
          <a:blip r:embed="rId1"/>
          <a:stretch/>
        </p:blipFill>
        <p:spPr>
          <a:xfrm>
            <a:off x="-1500120" y="109440"/>
            <a:ext cx="10302840" cy="2073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89640" cy="749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74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-1573200" y="201600"/>
            <a:ext cx="10302840" cy="2481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ru-RU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ru-RU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ru-RU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ru-RU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Прямоугольник 6" descr=""/>
          <p:cNvPicPr/>
          <p:nvPr/>
        </p:nvPicPr>
        <p:blipFill>
          <a:blip r:embed="rId1"/>
          <a:stretch/>
        </p:blipFill>
        <p:spPr>
          <a:xfrm>
            <a:off x="407880" y="-244440"/>
            <a:ext cx="5956560" cy="1457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96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1"/>
          <a:stretch/>
        </p:blipFill>
        <p:spPr>
          <a:xfrm>
            <a:off x="298440" y="-201600"/>
            <a:ext cx="6089760" cy="19018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рямоугольник 4" descr=""/>
          <p:cNvPicPr/>
          <p:nvPr/>
        </p:nvPicPr>
        <p:blipFill>
          <a:blip r:embed="rId1"/>
          <a:stretch/>
        </p:blipFill>
        <p:spPr>
          <a:xfrm>
            <a:off x="-285840" y="-12600"/>
            <a:ext cx="757080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ru-RU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ru-RU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4" descr=""/>
          <p:cNvPicPr/>
          <p:nvPr/>
        </p:nvPicPr>
        <p:blipFill>
          <a:blip r:embed="rId1"/>
          <a:stretch/>
        </p:blipFill>
        <p:spPr>
          <a:xfrm>
            <a:off x="212760" y="0"/>
            <a:ext cx="6553080" cy="1779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ru-RU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Прямоугольник 4" descr=""/>
          <p:cNvPicPr/>
          <p:nvPr/>
        </p:nvPicPr>
        <p:blipFill>
          <a:blip r:embed="rId1"/>
          <a:stretch/>
        </p:blipFill>
        <p:spPr>
          <a:xfrm>
            <a:off x="2163600" y="-165240"/>
            <a:ext cx="4932360" cy="2097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32" name="TextBox 6" descr=""/>
          <p:cNvPicPr/>
          <p:nvPr/>
        </p:nvPicPr>
        <p:blipFill>
          <a:blip r:embed="rId3"/>
          <a:stretch/>
        </p:blipFill>
        <p:spPr>
          <a:xfrm>
            <a:off x="92160" y="1616040"/>
            <a:ext cx="6924600" cy="35290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-317520" y="201600"/>
            <a:ext cx="7961400" cy="17985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ru-RU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208080"/>
            <a:ext cx="6919920" cy="1751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ru-RU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63960" cy="860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2400"/>
            <a:ext cx="6913440" cy="11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ru-RU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-36360"/>
            <a:ext cx="493236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ru-RU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96720" y="-115920"/>
            <a:ext cx="5888160" cy="112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341360" y="5721480"/>
            <a:ext cx="3743280" cy="28591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ru-RU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0" y="2428920"/>
            <a:ext cx="68580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 Северо-Западном регионе необходимо учитывать высокую влажность. 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-55440" y="-36360"/>
            <a:ext cx="6937200" cy="1047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-19080" y="-6516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4" descr=""/>
          <p:cNvPicPr/>
          <p:nvPr/>
        </p:nvPicPr>
        <p:blipFill>
          <a:blip r:embed="rId1"/>
          <a:stretch/>
        </p:blipFill>
        <p:spPr>
          <a:xfrm>
            <a:off x="-573120" y="152280"/>
            <a:ext cx="7967520" cy="12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-573120" y="-573120"/>
            <a:ext cx="8034480" cy="18954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-536400" y="189000"/>
            <a:ext cx="7967520" cy="1311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ram</dc:creator>
  <dc:description/>
  <dc:language>en-US</dc:language>
  <cp:lastModifiedBy>LEGION</cp:lastModifiedBy>
  <dcterms:modified xsi:type="dcterms:W3CDTF">2015-01-27T12:12:40Z</dcterms:modified>
  <cp:revision>209</cp:revision>
  <dc:subject/>
  <dc:title>Слайд 1</dc:title>
</cp:coreProperties>
</file>