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2.wmf" ContentType="image/x-wmf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48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32.jpeg" ContentType="image/jpeg"/>
  <Override PartName="/ppt/media/image20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3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58.wmf" ContentType="image/x-wmf"/>
  <Override PartName="/ppt/media/image60.png" ContentType="image/png"/>
  <Override PartName="/ppt/media/image67.wmf" ContentType="image/x-wmf"/>
  <Override PartName="/ppt/media/image10.png" ContentType="image/png"/>
  <Override PartName="/ppt/media/image65.wmf" ContentType="image/x-wmf"/>
  <Override PartName="/ppt/media/image25.png" ContentType="image/png"/>
  <Override PartName="/ppt/media/image19.jpeg" ContentType="image/jpeg"/>
  <Override PartName="/ppt/media/image62.png" ContentType="image/png"/>
  <Override PartName="/ppt/media/image26.png" ContentType="image/png"/>
  <Override PartName="/ppt/media/image66.wmf" ContentType="image/x-wmf"/>
  <Override PartName="/ppt/media/image23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61.wmf" ContentType="image/x-wmf"/>
  <Override PartName="/ppt/media/image21.wmf" ContentType="image/x-wmf"/>
  <Override PartName="/ppt/media/image64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11.png" ContentType="image/png"/>
  <Override PartName="/ppt/media/image63.jpeg" ContentType="image/jpeg"/>
  <Override PartName="/ppt/media/image51.wmf" ContentType="image/x-wmf"/>
  <Override PartName="/ppt/media/image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30.png" ContentType="image/png"/>
  <Override PartName="/ppt/media/image54.jpeg" ContentType="image/jpeg"/>
  <Override PartName="/ppt/media/image33.png" ContentType="image/png"/>
  <Override PartName="/ppt/media/image36.wmf" ContentType="image/x-wmf"/>
  <Override PartName="/ppt/media/image47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07ED-057B-4887-A194-19C4D7CC18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Рекоменд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родит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по укрепл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здоровья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CFCE-750C-4C52-9184-5DA4838229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БОСОХОЖДЕНИЕ</a:t>
            </a:r>
            <a:r>
              <a:rPr b="1" lang="en-US" sz="1200" spc="-1" strike="noStrike">
                <a:solidFill>
                  <a:srgbClr val="000000"/>
                </a:solidFill>
                <a:latin typeface="Arno Pro Light Display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элемент закаливания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ин способ закалки – это </a:t>
            </a: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прогулки боси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200" spc="-1" strike="noStrike">
                <a:solidFill>
                  <a:srgbClr val="0070c0"/>
                </a:solidFill>
                <a:latin typeface="Calibri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8A7C-8152-40E1-9457-23BBA5C246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СКОСТОП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к предупредить плоскостоп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вь у ребенка должна быть сделана из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натуральных материал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внутри с твердым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супинаторо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поднимающим внутренний край ст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дошва детской обуви должна быть гибкой  и иметь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каблук (5-10 мм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искусственно поднимающий свод стопы, защищающий пятку от ушиб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вь должна соответствовать фор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размеру стопы, была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удобной при нос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весу обувь должна быть максимально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легкой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статочно жесткой, с хорошим зад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мните, длина следа должна быть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больше стопы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носочной части, припуск в 10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5329-5D83-4D66-8537-4457FA27DA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делат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ребенка плоскостоп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мплекс упражнений при плоскостопи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лечебная гимнастик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0099"/>
                </a:solidFill>
                <a:uFillTx/>
                <a:latin typeface="Calibri"/>
              </a:rPr>
              <a:t>Описание упражнений</a:t>
            </a:r>
            <a:r>
              <a:rPr b="0" lang="ru-RU" sz="1400" spc="-1" strike="noStrike">
                <a:solidFill>
                  <a:srgbClr val="cc0099"/>
                </a:solidFill>
                <a:latin typeface="Calibri"/>
              </a:rPr>
              <a:t>                                 </a:t>
            </a:r>
            <a:r>
              <a:rPr b="0" lang="ru-RU" sz="1400" spc="-1" strike="noStrike" u="sng">
                <a:solidFill>
                  <a:srgbClr val="cc0099"/>
                </a:solidFill>
                <a:uFillTx/>
                <a:latin typeface="Calibri"/>
              </a:rPr>
              <a:t> Кол-во повтор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одь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осках, руки вверх                                                </a:t>
            </a:r>
            <a:r>
              <a:rPr b="0" lang="ru-RU" sz="1200" spc="-1" strike="noStrike">
                <a:solidFill>
                  <a:srgbClr val="d60093"/>
                </a:solidFill>
                <a:latin typeface="Calibri"/>
              </a:rPr>
              <a:t>по 20-30 с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 пятках, руки на поя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а наружном своде стоп, пальцы согнуты, руки на поя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 мячом (теннисным) - зажать стопами, ходить на внешней стороне сто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Стоя на палке (обруче)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луприседания и приседания, руки вперед или в стор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ередвижение вдоль палки - ставить стопы вдоль или поперек палки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3-4 р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Сто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а наружном своде стоп - поворот туловище лев –прав.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днимание на носках с упором на наружный свод стопы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"Лодочка"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4-6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"Угол"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 на спине держать ноги под углом 45 гр.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4-6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Сид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гибание - разгибание пальцев стоп 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5-20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аксимальное разведение и сведение пяток, не отрывая носков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5-20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 напряжением тянуть носки на себя, от себя  (колени прямые )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оединить стопы. Колени прямые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круговые движения стопами внутрь,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захватывание и приподнимание пальцами сто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а или мелкого предмета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) захватывание и приподнимание стопам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ча, колени прямые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                           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57F0-6B29-4577-9E1B-5229DE242A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Польза пла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1727-FDF1-4DF7-B56F-33FFC06622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 сформ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авильную осан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ая осанка не бывает врожденной, она начинает формиро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ервых лет наше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ответственный период для форм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анк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 4 до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учая вашего ребенка «правильно» держать свое т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забывайте при этом и про вашу оса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крепкого, достаточно развитого мышечного корсажа – мышечной сис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ая болезнь или хронические заболевания, ослабляющие орган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рах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оответствующая росту мебе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добная одежда и обу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D48F-580B-431D-91FF-48232D41D0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Как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проверить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осанку у ребе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e5b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5b00"/>
                </a:solidFill>
                <a:latin typeface="Calibri"/>
              </a:rPr>
              <a:t>Следим за осанкой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BC85-45AE-4C8C-AEED-9D2CF54960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Красивые и здоро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ЗУ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b770e"/>
                </a:solidFill>
                <a:latin typeface="Calibri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2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99E6-10D3-458C-A91A-FF947CCF82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Масс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десен щет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о утром звери встал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ки чистить побежал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зубки миш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точкой из шиш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ка в рыжей шуб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же чистит зуб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ые мышат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ые ежат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ый волк зубаст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зубки пасто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поросен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мешной лосенок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завтракали вкусно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нам почистить нужн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уки щёточку возьмём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ной пасты нанесё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чистим осторожн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ь поранить дёсны можно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отом что? А пот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мы ополоснё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 понадобится кружка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ыбнёмся-ка друг дружк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ли умело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зубки стали бе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E3B6-85B1-420C-BC51-F774EDD7F2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5 правил родителям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ервокласс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важно сочетать игру и учебу. Учиться, играя – намного легче, ведь играть ребенок умеет очень хорошо. А учеба – это та сфера, где ребенок  первоклассник – нович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ибки и неудачи –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«Как хорошо написал, какой хороший мальчик!»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496E-84FA-4DC0-8EDE-7591B45949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обуждение — в 7 часов утр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Учебные заня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отдыха — обязательное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ебывание на воздух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иготовление уро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—1 1/2 часа) и снова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ебывание на воздух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т 19 до 20 часов — ужин и свободные занятия.</a:t>
            </a: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иготовления ко с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3F77-3753-44DE-A538-D1E8242180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Физическое воспит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бенка 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значения показателей двигательной активности детей за полный день -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бъем 17 000 движ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интенсивность 55-65 движений в мину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A5B0-F61A-40BE-845D-258E8979A9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Calibri"/>
              </a:rPr>
              <a:t>Режим дня до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d0f69"/>
                </a:solidFill>
                <a:latin typeface="Calibri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200"/>
            </a:br>
            <a:r>
              <a:rPr b="0" lang="ru-RU" sz="1200" spc="-1" strike="noStrike">
                <a:solidFill>
                  <a:srgbClr val="ad0f69"/>
                </a:solidFill>
                <a:latin typeface="Calibri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748B-375B-4797-B145-2B50461DDF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b770e"/>
                </a:solidFill>
                <a:latin typeface="Calibri"/>
              </a:rPr>
              <a:t>Компьютер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46c0a"/>
                </a:solidFill>
                <a:latin typeface="Calibri"/>
              </a:rPr>
              <a:t>«за» </a:t>
            </a:r>
            <a:r>
              <a:rPr b="0" i="1" lang="ru-RU" sz="1200" spc="-1" strike="noStrike">
                <a:solidFill>
                  <a:srgbClr val="0b770e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проти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1859c"/>
                </a:solidFill>
                <a:latin typeface="Calibri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8000"/>
                </a:solidFill>
                <a:uFillTx/>
                <a:latin typeface="Calibri"/>
              </a:rPr>
              <a:t>«+»   Достоинства компьют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занятий на компьютере улучшаются память и внимание дет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«-»   Недостатки компьюте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8C60-AE0C-4C73-8B26-EF1FCE3B04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огулки – это важ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2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80"/>
                </a:solidFill>
                <a:latin typeface="Calibri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Северо-Западном регионе необходимо учитывать высокую влажность. 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44AF-CF45-4317-AA32-AC23D55CCC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сохранить зрение ребе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, чернику, бруснику, клюкву, петрушку, укроп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елефоне лучше забы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9814-6B55-4CFA-AC6C-2ABB11E74F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Комплекс упражнений дл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F2CB-28EE-4CFB-BD8C-B129D557B2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Закаливание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 </a:t>
            </a: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первый шаг на пути к здоро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При закаливании детей следует придерживаться та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основных принципов</a:t>
            </a: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ь закаливающие процедуры систематичес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увеличивать время воздействия закаливающего фактора постепен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ть настроение ребенка и проводить процедуры в форме игр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ачинать закаливание в любом возрас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не выполнять процедуры, если малыш замерз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закаливаться всей семь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ливающие процед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ть с физическими упражн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ссаж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в помещении, где находится ребено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икогда не ку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88BD-4236-4993-99F6-6BD88CF850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Способы закал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Холодный таз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Холодное полотенце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Контрастный душ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ебенок боится воздействия холод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уш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можно вначале поставить таз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олодной водой и сказ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А ну, давай с тобой по лужам побегаем!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от из теплой ванны - в холодный таз (или "под дождик"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A9E0-3F7C-4994-8772-AEEA317FF2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F1AD-C8C6-4106-8F0F-658C4E5D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0030-11A7-46F8-B278-86BA4FEE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7281-E051-4ACB-8D42-4AAA5F27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C08-8E96-4056-8D6F-23D4F62A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4C2-86ED-476E-B2C5-7C91035D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BCA-21E4-4FAB-B58D-27388DBF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C4B1-19B2-4ACC-AA2B-1D665FD3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7AE-0906-4D81-BF41-B96273B0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5D5-19CD-47C1-8131-65040B36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724-E822-411D-9DBA-F66C8787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C04-9450-495B-9814-98CF6B4F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EF99-0D25-40A8-804A-518478CA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F828-53D3-45D8-A5E2-1B0847C0313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15E3-BF79-4133-9489-078FEC345D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39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image" Target="../media/image39.wmf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39.wmf"/><Relationship Id="rId10" Type="http://schemas.openxmlformats.org/officeDocument/2006/relationships/image" Target="../media/image39.wmf"/><Relationship Id="rId11" Type="http://schemas.openxmlformats.org/officeDocument/2006/relationships/image" Target="../media/image39.wmf"/><Relationship Id="rId12" Type="http://schemas.openxmlformats.org/officeDocument/2006/relationships/image" Target="../media/image39.wmf"/><Relationship Id="rId13" Type="http://schemas.openxmlformats.org/officeDocument/2006/relationships/image" Target="../media/image39.wmf"/><Relationship Id="rId14" Type="http://schemas.openxmlformats.org/officeDocument/2006/relationships/image" Target="../media/image39.wmf"/><Relationship Id="rId15" Type="http://schemas.openxmlformats.org/officeDocument/2006/relationships/image" Target="../media/image39.wmf"/><Relationship Id="rId16" Type="http://schemas.openxmlformats.org/officeDocument/2006/relationships/image" Target="../media/image39.wmf"/><Relationship Id="rId17" Type="http://schemas.openxmlformats.org/officeDocument/2006/relationships/image" Target="../media/image39.wmf"/><Relationship Id="rId18" Type="http://schemas.openxmlformats.org/officeDocument/2006/relationships/image" Target="../media/image39.wmf"/><Relationship Id="rId19" Type="http://schemas.openxmlformats.org/officeDocument/2006/relationships/image" Target="../media/image39.wmf"/><Relationship Id="rId20" Type="http://schemas.openxmlformats.org/officeDocument/2006/relationships/image" Target="../media/image39.wmf"/><Relationship Id="rId21" Type="http://schemas.openxmlformats.org/officeDocument/2006/relationships/image" Target="../media/image39.wmf"/><Relationship Id="rId22" Type="http://schemas.openxmlformats.org/officeDocument/2006/relationships/image" Target="../media/image39.wmf"/><Relationship Id="rId23" Type="http://schemas.openxmlformats.org/officeDocument/2006/relationships/image" Target="../media/image39.wmf"/><Relationship Id="rId24" Type="http://schemas.openxmlformats.org/officeDocument/2006/relationships/image" Target="../media/image39.wmf"/><Relationship Id="rId25" Type="http://schemas.openxmlformats.org/officeDocument/2006/relationships/image" Target="../media/image39.wmf"/><Relationship Id="rId26" Type="http://schemas.openxmlformats.org/officeDocument/2006/relationships/image" Target="../media/image39.wmf"/><Relationship Id="rId27" Type="http://schemas.openxmlformats.org/officeDocument/2006/relationships/image" Target="../media/image40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lin ang="180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0" y="1285920"/>
            <a:ext cx="6589800" cy="29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екомендации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одителям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по укреплению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здоровья детей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142560"/>
            <a:ext cx="61722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портивная энциклопе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C:\Users\viki\AppData\Local\Microsoft\Windows\Temporary Internet Files\Content.IE5\RSWC3R1M\MCj04345990000[1].wmf"/>
          <p:cNvPicPr/>
          <p:nvPr/>
        </p:nvPicPr>
        <p:blipFill>
          <a:blip r:embed="rId1"/>
          <a:stretch/>
        </p:blipFill>
        <p:spPr>
          <a:xfrm>
            <a:off x="5599080" y="90360"/>
            <a:ext cx="973080" cy="133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Users\viki\AppData\Local\Microsoft\Windows\Temporary Internet Files\Content.IE5\QYIAUPJ1\MCj04360450000[1].wmf"/>
          <p:cNvPicPr/>
          <p:nvPr/>
        </p:nvPicPr>
        <p:blipFill>
          <a:blip r:embed="rId2"/>
          <a:stretch/>
        </p:blipFill>
        <p:spPr>
          <a:xfrm>
            <a:off x="60480" y="5786280"/>
            <a:ext cx="2797200" cy="2965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C:\Users\viki\AppData\Local\Microsoft\Windows\Temporary Internet Files\Content.IE5\5HM5BHCY\MCj04358390000[1].wmf"/>
          <p:cNvPicPr/>
          <p:nvPr/>
        </p:nvPicPr>
        <p:blipFill>
          <a:blip r:embed="rId3"/>
          <a:stretch/>
        </p:blipFill>
        <p:spPr>
          <a:xfrm>
            <a:off x="4214880" y="6143760"/>
            <a:ext cx="2585880" cy="25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C:\Users\viki\AppData\Local\Microsoft\Windows\Temporary Internet Files\Content.IE5\HT7649U9\MCj04283330000[1].wmf"/>
          <p:cNvPicPr/>
          <p:nvPr/>
        </p:nvPicPr>
        <p:blipFill>
          <a:blip r:embed="rId4"/>
          <a:stretch/>
        </p:blipFill>
        <p:spPr>
          <a:xfrm>
            <a:off x="2349360" y="4572000"/>
            <a:ext cx="2500560" cy="20271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291960"/>
            <a:ext cx="7967520" cy="18543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214200" y="3929040"/>
            <a:ext cx="6500880" cy="371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2"/>
          <p:cNvSpPr/>
          <p:nvPr/>
        </p:nvSpPr>
        <p:spPr>
          <a:xfrm>
            <a:off x="142920" y="1643040"/>
            <a:ext cx="6572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один способ закалки – это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прогулки босик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Группа 14"/>
          <p:cNvGrpSpPr/>
          <p:nvPr/>
        </p:nvGrpSpPr>
        <p:grpSpPr>
          <a:xfrm>
            <a:off x="210960" y="1429200"/>
            <a:ext cx="6504480" cy="504000"/>
            <a:chOff x="210960" y="1429200"/>
            <a:chExt cx="6504480" cy="504000"/>
          </a:xfrm>
        </p:grpSpPr>
        <p:pic>
          <p:nvPicPr>
            <p:cNvPr id="138" name="Picture 2" descr="C:\Users\viki\AppData\Local\Microsoft\Windows\Temporary Internet Files\Content.IE5\GMERIPU6\MCj04160140000[1].wmf"/>
            <p:cNvPicPr/>
            <p:nvPr/>
          </p:nvPicPr>
          <p:blipFill>
            <a:blip r:embed="rId2"/>
            <a:stretch/>
          </p:blipFill>
          <p:spPr>
            <a:xfrm rot="5015400">
              <a:off x="941040" y="149832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" descr="C:\Users\viki\AppData\Local\Microsoft\Windows\Temporary Internet Files\Content.IE5\GMERIPU6\MCj04160140000[1].wmf"/>
            <p:cNvPicPr/>
            <p:nvPr/>
          </p:nvPicPr>
          <p:blipFill>
            <a:blip r:embed="rId3"/>
            <a:stretch/>
          </p:blipFill>
          <p:spPr>
            <a:xfrm rot="5062200">
              <a:off x="1626840" y="1514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" descr="C:\Users\viki\AppData\Local\Microsoft\Windows\Temporary Internet Files\Content.IE5\GMERIPU6\MCj04160140000[1].wmf"/>
            <p:cNvPicPr/>
            <p:nvPr/>
          </p:nvPicPr>
          <p:blipFill>
            <a:blip r:embed="rId4"/>
            <a:stretch/>
          </p:blipFill>
          <p:spPr>
            <a:xfrm rot="4956000">
              <a:off x="234720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" descr="C:\Users\viki\AppData\Local\Microsoft\Windows\Temporary Internet Files\Content.IE5\GMERIPU6\MCj04160140000[1].wmf"/>
            <p:cNvPicPr/>
            <p:nvPr/>
          </p:nvPicPr>
          <p:blipFill>
            <a:blip r:embed="rId5"/>
            <a:stretch/>
          </p:blipFill>
          <p:spPr>
            <a:xfrm rot="4956000">
              <a:off x="313272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4956000">
              <a:off x="393840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4956000">
              <a:off x="472428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55814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62960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5015400">
              <a:off x="226800" y="1512720"/>
              <a:ext cx="39996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Picture 2" descr="C:\Users\viki\AppData\Local\Microsoft\Windows\Temporary Internet Files\Content.IE5\GMERIPU6\MCj04160140000[1].wmf"/>
          <p:cNvPicPr/>
          <p:nvPr/>
        </p:nvPicPr>
        <p:blipFill>
          <a:blip r:embed="rId11"/>
          <a:stretch/>
        </p:blipFill>
        <p:spPr>
          <a:xfrm flipH="1" rot="18748800">
            <a:off x="4508280" y="837072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viki\AppData\Local\Microsoft\Windows\Temporary Internet Files\Content.IE5\GMERIPU6\MCj04160140000[1].wmf"/>
          <p:cNvPicPr/>
          <p:nvPr/>
        </p:nvPicPr>
        <p:blipFill>
          <a:blip r:embed="rId12"/>
          <a:stretch/>
        </p:blipFill>
        <p:spPr>
          <a:xfrm flipH="1" rot="4527600">
            <a:off x="6116400" y="61164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viki\AppData\Local\Microsoft\Windows\Temporary Internet Files\Content.IE5\GMERIPU6\MCj04160140000[1].wmf"/>
          <p:cNvPicPr/>
          <p:nvPr/>
        </p:nvPicPr>
        <p:blipFill>
          <a:blip r:embed="rId13"/>
          <a:stretch/>
        </p:blipFill>
        <p:spPr>
          <a:xfrm flipH="1" rot="19780200">
            <a:off x="6100560" y="482292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viki\AppData\Local\Microsoft\Windows\Temporary Internet Files\Content.IE5\GMERIPU6\MCj04160140000[1].wmf"/>
          <p:cNvPicPr/>
          <p:nvPr/>
        </p:nvPicPr>
        <p:blipFill>
          <a:blip r:embed="rId14"/>
          <a:stretch/>
        </p:blipFill>
        <p:spPr>
          <a:xfrm flipH="1" rot="3929400">
            <a:off x="4988520" y="678384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Users\viki\AppData\Local\Microsoft\Windows\Temporary Internet Files\Content.IE5\GMERIPU6\MCj04160140000[1].wmf"/>
          <p:cNvPicPr/>
          <p:nvPr/>
        </p:nvPicPr>
        <p:blipFill>
          <a:blip r:embed="rId15"/>
          <a:stretch/>
        </p:blipFill>
        <p:spPr>
          <a:xfrm flipH="1" rot="17756400">
            <a:off x="5322600" y="846936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Users\viki\AppData\Local\Microsoft\Windows\Temporary Internet Files\Content.IE5\GMERIPU6\MCj04160140000[1].wmf"/>
          <p:cNvPicPr/>
          <p:nvPr/>
        </p:nvPicPr>
        <p:blipFill>
          <a:blip r:embed="rId16"/>
          <a:stretch/>
        </p:blipFill>
        <p:spPr>
          <a:xfrm flipH="1" rot="4482600">
            <a:off x="130320" y="862092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viki\AppData\Local\Microsoft\Windows\Temporary Internet Files\Content.IE5\GMERIPU6\MCj04160140000[1].wmf"/>
          <p:cNvPicPr/>
          <p:nvPr/>
        </p:nvPicPr>
        <p:blipFill>
          <a:blip r:embed="rId17"/>
          <a:stretch/>
        </p:blipFill>
        <p:spPr>
          <a:xfrm flipH="1" rot="16643400">
            <a:off x="594720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viki\AppData\Local\Microsoft\Windows\Temporary Internet Files\Content.IE5\GMERIPU6\MCj04160140000[1].wmf"/>
          <p:cNvPicPr/>
          <p:nvPr/>
        </p:nvPicPr>
        <p:blipFill>
          <a:blip r:embed="rId18"/>
          <a:stretch/>
        </p:blipFill>
        <p:spPr>
          <a:xfrm flipH="1" rot="16643400">
            <a:off x="51804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Users\viki\AppData\Local\Microsoft\Windows\Temporary Internet Files\Content.IE5\GMERIPU6\MCj04160140000[1].wmf"/>
          <p:cNvPicPr/>
          <p:nvPr/>
        </p:nvPicPr>
        <p:blipFill>
          <a:blip r:embed="rId19"/>
          <a:stretch/>
        </p:blipFill>
        <p:spPr>
          <a:xfrm flipH="1" rot="18199800">
            <a:off x="6144480" y="8674200"/>
            <a:ext cx="400320" cy="3906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5"/>
          <p:cNvSpPr/>
          <p:nvPr/>
        </p:nvSpPr>
        <p:spPr>
          <a:xfrm>
            <a:off x="214200" y="7358040"/>
            <a:ext cx="642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C:\Users\viki\AppData\Local\Microsoft\Windows\Temporary Internet Files\Content.IE5\GMERIPU6\MCj04160140000[1].wmf"/>
          <p:cNvPicPr/>
          <p:nvPr/>
        </p:nvPicPr>
        <p:blipFill>
          <a:blip r:embed="rId20"/>
          <a:stretch/>
        </p:blipFill>
        <p:spPr>
          <a:xfrm flipH="1" rot="19433400">
            <a:off x="6238800" y="41022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viki\AppData\Local\Microsoft\Windows\Temporary Internet Files\Content.IE5\GMERIPU6\MCj04160140000[1].wmf"/>
          <p:cNvPicPr/>
          <p:nvPr/>
        </p:nvPicPr>
        <p:blipFill>
          <a:blip r:embed="rId21"/>
          <a:stretch/>
        </p:blipFill>
        <p:spPr>
          <a:xfrm flipH="1" rot="18459000">
            <a:off x="5596200" y="3456720"/>
            <a:ext cx="400320" cy="388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viki\AppData\Local\Microsoft\Windows\Temporary Internet Files\Content.IE5\GMERIPU6\MCj04160140000[1].wmf"/>
          <p:cNvPicPr/>
          <p:nvPr/>
        </p:nvPicPr>
        <p:blipFill>
          <a:blip r:embed="rId22"/>
          <a:stretch/>
        </p:blipFill>
        <p:spPr>
          <a:xfrm flipH="1" rot="4482600">
            <a:off x="773280" y="834624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Users\viki\AppData\Local\Microsoft\Windows\Temporary Internet Files\Content.IE5\GMERIPU6\MCj04160140000[1].wmf"/>
          <p:cNvPicPr/>
          <p:nvPr/>
        </p:nvPicPr>
        <p:blipFill>
          <a:blip r:embed="rId23"/>
          <a:stretch/>
        </p:blipFill>
        <p:spPr>
          <a:xfrm flipH="1" rot="4480800">
            <a:off x="1540800" y="8192880"/>
            <a:ext cx="400680" cy="390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viki\AppData\Local\Microsoft\Windows\Temporary Internet Files\Content.IE5\GMERIPU6\MCj04160140000[1].wmf"/>
          <p:cNvPicPr/>
          <p:nvPr/>
        </p:nvPicPr>
        <p:blipFill>
          <a:blip r:embed="rId24"/>
          <a:stretch/>
        </p:blipFill>
        <p:spPr>
          <a:xfrm flipH="1" rot="18139200">
            <a:off x="4743720" y="34614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viki\AppData\Local\Microsoft\Windows\Temporary Internet Files\Content.IE5\GMERIPU6\MCj04160140000[1].wmf"/>
          <p:cNvPicPr/>
          <p:nvPr/>
        </p:nvPicPr>
        <p:blipFill>
          <a:blip r:embed="rId25"/>
          <a:stretch/>
        </p:blipFill>
        <p:spPr>
          <a:xfrm flipH="1" rot="17579400">
            <a:off x="390060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viki\AppData\Local\Microsoft\Windows\Temporary Internet Files\Content.IE5\GMERIPU6\MCj04160140000[1].wmf"/>
          <p:cNvPicPr/>
          <p:nvPr/>
        </p:nvPicPr>
        <p:blipFill>
          <a:blip r:embed="rId26"/>
          <a:stretch/>
        </p:blipFill>
        <p:spPr>
          <a:xfrm flipH="1" rot="17579400">
            <a:off x="305604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Users\viki\AppData\Local\Microsoft\Windows\Temporary Internet Files\Content.IE5\GMERIPU6\MCj04160140000[1].wmf"/>
          <p:cNvPicPr/>
          <p:nvPr/>
        </p:nvPicPr>
        <p:blipFill>
          <a:blip r:embed="rId27"/>
          <a:stretch/>
        </p:blipFill>
        <p:spPr>
          <a:xfrm>
            <a:off x="2309760" y="3333600"/>
            <a:ext cx="506520" cy="5860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Прямоугольник 5" descr=""/>
          <p:cNvPicPr/>
          <p:nvPr/>
        </p:nvPicPr>
        <p:blipFill>
          <a:blip r:embed="rId1"/>
          <a:stretch/>
        </p:blipFill>
        <p:spPr>
          <a:xfrm>
            <a:off x="-1500120" y="109440"/>
            <a:ext cx="10302840" cy="2073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0" y="7556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Прямоугольник 7" descr=""/>
          <p:cNvPicPr/>
          <p:nvPr/>
        </p:nvPicPr>
        <p:blipFill>
          <a:blip r:embed="rId2"/>
          <a:stretch/>
        </p:blipFill>
        <p:spPr>
          <a:xfrm>
            <a:off x="255600" y="1865160"/>
            <a:ext cx="6389640" cy="7495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285840" y="3000240"/>
            <a:ext cx="6357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у ребенка должна быть сделана из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натуральных материало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внутри с твердым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супинаторо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поднимающим внутренний край сто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дошва детской обуви должна быть гибкой  и име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каблук (5-10 мм)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искусственно поднимающий свод стопы, защищающий пятку от уши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C:\Users\viki\AppData\Local\Microsoft\Windows\Temporary Internet Files\Content.IE5\HT7649U9\MCBD10572_0000[1].wmf"/>
          <p:cNvPicPr/>
          <p:nvPr/>
        </p:nvPicPr>
        <p:blipFill>
          <a:blip r:embed="rId3"/>
          <a:stretch/>
        </p:blipFill>
        <p:spPr>
          <a:xfrm>
            <a:off x="285840" y="4552920"/>
            <a:ext cx="2598480" cy="230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viki\AppData\Local\Microsoft\Windows\Temporary Internet Files\Content.IE5\6NZXK4SD\MCj00903600000[1].wmf"/>
          <p:cNvPicPr/>
          <p:nvPr/>
        </p:nvPicPr>
        <p:blipFill>
          <a:blip r:embed="rId4"/>
          <a:stretch/>
        </p:blipFill>
        <p:spPr>
          <a:xfrm>
            <a:off x="0" y="2500200"/>
            <a:ext cx="6861240" cy="574920"/>
          </a:xfrm>
          <a:prstGeom prst="rect">
            <a:avLst/>
          </a:prstGeom>
          <a:ln w="0">
            <a:noFill/>
          </a:ln>
        </p:spPr>
      </p:pic>
      <p:grpSp>
        <p:nvGrpSpPr>
          <p:cNvPr id="173" name="Группа 14"/>
          <p:cNvGrpSpPr/>
          <p:nvPr/>
        </p:nvGrpSpPr>
        <p:grpSpPr>
          <a:xfrm>
            <a:off x="5456160" y="7997760"/>
            <a:ext cx="1285920" cy="1074960"/>
            <a:chOff x="5456160" y="7997760"/>
            <a:chExt cx="1285920" cy="1074960"/>
          </a:xfrm>
        </p:grpSpPr>
        <p:pic>
          <p:nvPicPr>
            <p:cNvPr id="174" name="Picture 3" descr="C:\Users\viki\AppData\Local\Microsoft\Windows\Temporary Internet Files\Content.IE5\YHBMSOS7\MCHH01678_0000[1].wmf"/>
            <p:cNvPicPr/>
            <p:nvPr/>
          </p:nvPicPr>
          <p:blipFill>
            <a:blip r:embed="rId5"/>
            <a:stretch/>
          </p:blipFill>
          <p:spPr>
            <a:xfrm>
              <a:off x="5956200" y="7997760"/>
              <a:ext cx="7858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3" descr="C:\Users\viki\AppData\Local\Microsoft\Windows\Temporary Internet Files\Content.IE5\YHBMSOS7\MCHH01678_0000[1].wmf"/>
            <p:cNvPicPr/>
            <p:nvPr/>
          </p:nvPicPr>
          <p:blipFill>
            <a:blip r:embed="rId6"/>
            <a:stretch/>
          </p:blipFill>
          <p:spPr>
            <a:xfrm flipH="1">
              <a:off x="5456160" y="8283600"/>
              <a:ext cx="86400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TextBox 16"/>
          <p:cNvSpPr/>
          <p:nvPr/>
        </p:nvSpPr>
        <p:spPr>
          <a:xfrm>
            <a:off x="2000160" y="4462560"/>
            <a:ext cx="542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должна соответствовать фор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размеру стопы, была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удобной при нос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3143160" y="571644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весу обувь должна быть максимально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легкой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статочно жесткой, с хорошим задн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мните, длина следа должна бы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больше стоп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носочной части, припуск в 10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8"/>
          <p:cNvSpPr/>
          <p:nvPr/>
        </p:nvSpPr>
        <p:spPr>
          <a:xfrm>
            <a:off x="1643040" y="7715160"/>
            <a:ext cx="5429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7"/>
          <p:cNvSpPr/>
          <p:nvPr/>
        </p:nvSpPr>
        <p:spPr>
          <a:xfrm>
            <a:off x="71280" y="729756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Прямоугольник 3" descr=""/>
          <p:cNvPicPr/>
          <p:nvPr/>
        </p:nvPicPr>
        <p:blipFill>
          <a:blip r:embed="rId1"/>
          <a:stretch/>
        </p:blipFill>
        <p:spPr>
          <a:xfrm>
            <a:off x="-1573200" y="201600"/>
            <a:ext cx="10302840" cy="2481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6"/>
          <p:cNvSpPr/>
          <p:nvPr/>
        </p:nvSpPr>
        <p:spPr>
          <a:xfrm>
            <a:off x="27000" y="2268360"/>
            <a:ext cx="685800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 упражнений при плоскостоп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лечебная гимнаст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Описание упражнений</a:t>
            </a:r>
            <a:r>
              <a:rPr b="0" lang="ru-RU" sz="1600" spc="-1" strike="noStrike">
                <a:solidFill>
                  <a:srgbClr val="cc0099"/>
                </a:solidFill>
                <a:latin typeface="Arial"/>
              </a:rPr>
              <a:t>                                 </a:t>
            </a: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 Кол-во повт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дьб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осках, руки вверх                                                </a:t>
            </a:r>
            <a:r>
              <a:rPr b="0" lang="ru-RU" sz="1400" spc="-1" strike="noStrike">
                <a:solidFill>
                  <a:srgbClr val="d60093"/>
                </a:solidFill>
                <a:latin typeface="Arial"/>
              </a:rPr>
              <a:t>по 20-30 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на пятках, руки на поя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на наружном своде стоп, пальцы согнуты, руки на поя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 мячом (теннисным) - зажать стопами, ходить на внешней стороне сто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тоя на палке (обруче)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олуприседания и приседания, руки вперед или в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ередвижение вдоль палки - ставить стопы вдоль или поперек палки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3-4 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то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 наружном своде стоп - поворот туловище лев –прав.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однимание на носках с упором на наружный свод стопы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"Лодочка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"Угол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спине держать ноги под углом 45 гр.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ид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сгибание - разгибание пальцев стоп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максимальное разведение и сведение пяток, не отрывая носков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с напряжением тянуть носки на себя, от себя  (колени прямые )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оединить стопы. Колени прямые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) круговые движения стопами внутрь,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) захватывание и приподнимание пальцами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андаша или мелкого предмета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) захватывание и приподнимание стопами ма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яча, колени прямые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                           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8" descr="art874_1.jpg"/>
          <p:cNvPicPr/>
          <p:nvPr/>
        </p:nvPicPr>
        <p:blipFill>
          <a:blip r:embed="rId2"/>
          <a:srcRect l="0" t="0" r="0" b="50008"/>
          <a:stretch/>
        </p:blipFill>
        <p:spPr>
          <a:xfrm>
            <a:off x="214200" y="1785960"/>
            <a:ext cx="1360440" cy="10000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9" descr="platy3.jpg"/>
          <p:cNvPicPr/>
          <p:nvPr/>
        </p:nvPicPr>
        <p:blipFill>
          <a:blip r:embed="rId3"/>
          <a:stretch/>
        </p:blipFill>
        <p:spPr>
          <a:xfrm>
            <a:off x="4572000" y="7542360"/>
            <a:ext cx="1952640" cy="13730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0" descr="art874_1.jpg"/>
          <p:cNvPicPr/>
          <p:nvPr/>
        </p:nvPicPr>
        <p:blipFill>
          <a:blip r:embed="rId4"/>
          <a:srcRect l="0" t="49539" r="0" b="0"/>
          <a:stretch/>
        </p:blipFill>
        <p:spPr>
          <a:xfrm>
            <a:off x="1643040" y="1214280"/>
            <a:ext cx="1360440" cy="10098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2857680" y="1214280"/>
            <a:ext cx="40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3429000" y="88362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тепени продольно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скостоп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4200" y="2785680"/>
            <a:ext cx="65296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Прямоугольник 6" descr=""/>
          <p:cNvPicPr/>
          <p:nvPr/>
        </p:nvPicPr>
        <p:blipFill>
          <a:blip r:embed="rId1"/>
          <a:stretch/>
        </p:blipFill>
        <p:spPr>
          <a:xfrm>
            <a:off x="407880" y="-244440"/>
            <a:ext cx="5956560" cy="1457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Users\viki\AppData\Local\Microsoft\Windows\Temporary Internet Files\Content.IE5\QYIAUPJ1\MCj02321440000[1].wmf"/>
          <p:cNvPicPr/>
          <p:nvPr/>
        </p:nvPicPr>
        <p:blipFill>
          <a:blip r:embed="rId2"/>
          <a:stretch/>
        </p:blipFill>
        <p:spPr>
          <a:xfrm>
            <a:off x="4786200" y="7122960"/>
            <a:ext cx="1857600" cy="20210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2"/>
          <p:cNvSpPr/>
          <p:nvPr/>
        </p:nvSpPr>
        <p:spPr>
          <a:xfrm>
            <a:off x="2357280" y="928800"/>
            <a:ext cx="4429440" cy="179748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C:\Users\viki\AppData\Local\Microsoft\Windows\Temporary Internet Files\Content.IE5\09MDLVTJ\MCj03433910000[1].wmf"/>
          <p:cNvPicPr/>
          <p:nvPr/>
        </p:nvPicPr>
        <p:blipFill>
          <a:blip r:embed="rId3"/>
          <a:srcRect l="0" t="9184" r="0" b="0"/>
          <a:stretch/>
        </p:blipFill>
        <p:spPr>
          <a:xfrm>
            <a:off x="214200" y="928800"/>
            <a:ext cx="2041560" cy="1785960"/>
          </a:xfrm>
          <a:prstGeom prst="rect">
            <a:avLst/>
          </a:prstGeom>
          <a:ln w="19080">
            <a:solidFill>
              <a:srgbClr val="00b0f0"/>
            </a:solidFill>
            <a:miter/>
          </a:ln>
        </p:spPr>
      </p:pic>
      <p:sp>
        <p:nvSpPr>
          <p:cNvPr id="196" name="TextBox 14"/>
          <p:cNvSpPr/>
          <p:nvPr/>
        </p:nvSpPr>
        <p:spPr>
          <a:xfrm>
            <a:off x="214200" y="66754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Регулярные занятия плаванием, способствуют укреплению нервной системы, крепче становится сон, улучшается аппетит, повышается общий тонус организма, совершенствуются движения, увеличивается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214200" y="1275840"/>
            <a:ext cx="692928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Прямоугольник 3" descr=""/>
          <p:cNvPicPr/>
          <p:nvPr/>
        </p:nvPicPr>
        <p:blipFill>
          <a:blip r:embed="rId1"/>
          <a:stretch/>
        </p:blipFill>
        <p:spPr>
          <a:xfrm>
            <a:off x="298440" y="-201600"/>
            <a:ext cx="6089760" cy="19018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6" descr="osanka2.gif"/>
          <p:cNvPicPr/>
          <p:nvPr/>
        </p:nvPicPr>
        <p:blipFill>
          <a:blip r:embed="rId2"/>
          <a:stretch/>
        </p:blipFill>
        <p:spPr>
          <a:xfrm>
            <a:off x="2571840" y="2838600"/>
            <a:ext cx="4214880" cy="17334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7"/>
          <p:cNvSpPr/>
          <p:nvPr/>
        </p:nvSpPr>
        <p:spPr>
          <a:xfrm>
            <a:off x="0" y="29289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ая осанка не бывает врожденной, она начинает формир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ервых лет наш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214200" y="435780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ее ответственный период для фор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анк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4 до 10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учая вашего ребенка «правильно» держать свое т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ывайте при этом и про вашу оса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142920" y="5486400"/>
            <a:ext cx="6643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крепкого, достаточно развитого мышечного корсажа – мышечн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ительная болезнь или хронические заболевания, ослабляющие орган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ствия рах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ответствующая росту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добная одежда и обув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142920" y="841680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осанку своего ребенка раз в пол года самостоятельно, не прибегая к помощи вр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0" descr="osanka3.jpg"/>
          <p:cNvPicPr/>
          <p:nvPr/>
        </p:nvPicPr>
        <p:blipFill>
          <a:blip r:embed="rId3"/>
          <a:stretch/>
        </p:blipFill>
        <p:spPr>
          <a:xfrm>
            <a:off x="4916520" y="7358040"/>
            <a:ext cx="1727280" cy="16970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Прямоугольник 4" descr=""/>
          <p:cNvPicPr/>
          <p:nvPr/>
        </p:nvPicPr>
        <p:blipFill>
          <a:blip r:embed="rId1"/>
          <a:stretch/>
        </p:blipFill>
        <p:spPr>
          <a:xfrm>
            <a:off x="-285840" y="-12600"/>
            <a:ext cx="7570800" cy="903240"/>
          </a:xfrm>
          <a:prstGeom prst="rect">
            <a:avLst/>
          </a:prstGeom>
          <a:ln w="0">
            <a:noFill/>
          </a:ln>
        </p:spPr>
      </p:pic>
      <p:pic>
        <p:nvPicPr>
          <p:cNvPr id="211" name="Содержимое 5" descr="556a4fba3e10.png"/>
          <p:cNvPicPr/>
          <p:nvPr/>
        </p:nvPicPr>
        <p:blipFill>
          <a:blip r:embed="rId2"/>
          <a:stretch/>
        </p:blipFill>
        <p:spPr>
          <a:xfrm>
            <a:off x="4321080" y="6477120"/>
            <a:ext cx="2536920" cy="26668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14200" y="1285920"/>
            <a:ext cx="6500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214200" y="6429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142920" y="2214720"/>
            <a:ext cx="664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9"/>
          <p:cNvSpPr/>
          <p:nvPr/>
        </p:nvSpPr>
        <p:spPr>
          <a:xfrm>
            <a:off x="2052000" y="514368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5b00"/>
                </a:solidFill>
                <a:latin typeface="Arial"/>
              </a:rPr>
              <a:t>Следим за осанкой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142920" y="5700600"/>
            <a:ext cx="5143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0"/>
            <a:ext cx="6553080" cy="17794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0" y="13572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71280" y="78724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8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0" y="4572000"/>
            <a:ext cx="678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C:\Users\viki\AppData\Local\Microsoft\Windows\Temporary Internet Files\Content.IE5\YN4VUU4O\MCj02812880000[1].wmf"/>
          <p:cNvPicPr/>
          <p:nvPr/>
        </p:nvPicPr>
        <p:blipFill>
          <a:blip r:embed="rId2"/>
          <a:stretch/>
        </p:blipFill>
        <p:spPr>
          <a:xfrm rot="21382800">
            <a:off x="4811400" y="2573280"/>
            <a:ext cx="1942920" cy="936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Users\viki\AppData\Local\Microsoft\Windows\Temporary Internet Files\Content.IE5\YHBMSOS7\MCj02329840000[1].wmf"/>
          <p:cNvPicPr/>
          <p:nvPr/>
        </p:nvPicPr>
        <p:blipFill>
          <a:blip r:embed="rId3"/>
          <a:stretch/>
        </p:blipFill>
        <p:spPr>
          <a:xfrm>
            <a:off x="357120" y="6000840"/>
            <a:ext cx="1166760" cy="18651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2"/>
          <p:cNvSpPr/>
          <p:nvPr/>
        </p:nvSpPr>
        <p:spPr>
          <a:xfrm>
            <a:off x="71280" y="2857680"/>
            <a:ext cx="50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770e"/>
                </a:solidFill>
                <a:latin typeface="Arial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71280" y="392904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1785960" y="592920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Прямоугольник 4" descr=""/>
          <p:cNvPicPr/>
          <p:nvPr/>
        </p:nvPicPr>
        <p:blipFill>
          <a:blip r:embed="rId1"/>
          <a:stretch/>
        </p:blipFill>
        <p:spPr>
          <a:xfrm>
            <a:off x="2163600" y="-165240"/>
            <a:ext cx="4932360" cy="2097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Users\viki\AppData\Local\Microsoft\Windows\Temporary Internet Files\Content.IE5\COU2X6RI\MCj03432950000[1].wmf"/>
          <p:cNvPicPr/>
          <p:nvPr/>
        </p:nvPicPr>
        <p:blipFill>
          <a:blip r:embed="rId2"/>
          <a:stretch/>
        </p:blipFill>
        <p:spPr>
          <a:xfrm>
            <a:off x="71280" y="71280"/>
            <a:ext cx="2340000" cy="1500480"/>
          </a:xfrm>
          <a:prstGeom prst="rect">
            <a:avLst/>
          </a:prstGeom>
          <a:ln w="0">
            <a:noFill/>
          </a:ln>
        </p:spPr>
      </p:pic>
      <p:pic>
        <p:nvPicPr>
          <p:cNvPr id="232" name="TextBox 6" descr=""/>
          <p:cNvPicPr/>
          <p:nvPr/>
        </p:nvPicPr>
        <p:blipFill>
          <a:blip r:embed="rId3"/>
          <a:stretch/>
        </p:blipFill>
        <p:spPr>
          <a:xfrm>
            <a:off x="92160" y="1616040"/>
            <a:ext cx="6924600" cy="35290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8" descr="03.jpg"/>
          <p:cNvPicPr/>
          <p:nvPr/>
        </p:nvPicPr>
        <p:blipFill>
          <a:blip r:embed="rId4"/>
          <a:stretch/>
        </p:blipFill>
        <p:spPr>
          <a:xfrm>
            <a:off x="1214280" y="5072040"/>
            <a:ext cx="4572000" cy="399096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Прямоугольник 4" descr=""/>
          <p:cNvPicPr/>
          <p:nvPr/>
        </p:nvPicPr>
        <p:blipFill>
          <a:blip r:embed="rId1"/>
          <a:stretch/>
        </p:blipFill>
        <p:spPr>
          <a:xfrm>
            <a:off x="-317520" y="201600"/>
            <a:ext cx="7961400" cy="17985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0" y="1285920"/>
            <a:ext cx="685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важно сочетать игру и учебу. Учиться, игр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много легче, ведь играть ребенок умеет очень хорошо. А уче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та сфера, где ребенок  первокласс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ич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неудач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хорошо написал, какой хороший мальчик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04640" y="8215200"/>
            <a:ext cx="631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0" descr="C:\Users\viki\AppData\Local\Microsoft\Windows\Temporary Internet Files\Content.IE5\M4P7N6CI\MCj04358410000[1].wmf"/>
          <p:cNvPicPr/>
          <p:nvPr/>
        </p:nvPicPr>
        <p:blipFill>
          <a:blip r:embed="rId2"/>
          <a:stretch/>
        </p:blipFill>
        <p:spPr>
          <a:xfrm flipH="1">
            <a:off x="4997520" y="5643720"/>
            <a:ext cx="1503360" cy="33573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9"/>
          <p:cNvSpPr/>
          <p:nvPr/>
        </p:nvSpPr>
        <p:spPr>
          <a:xfrm>
            <a:off x="71280" y="5929200"/>
            <a:ext cx="46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240" y="261720"/>
            <a:ext cx="6943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C:\Users\viki\AppData\Local\Microsoft\Windows\Temporary Internet Files\Content.IE5\16OLWOMK\MCj04357730000[1].wmf"/>
          <p:cNvPicPr/>
          <p:nvPr/>
        </p:nvPicPr>
        <p:blipFill>
          <a:blip r:embed="rId1"/>
          <a:stretch/>
        </p:blipFill>
        <p:spPr>
          <a:xfrm>
            <a:off x="5643720" y="71280"/>
            <a:ext cx="1143000" cy="2486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Users\viki\AppData\Local\Microsoft\Windows\Temporary Internet Files\Content.IE5\YN4VUU4O\MCj04357450000[1].wmf"/>
          <p:cNvPicPr/>
          <p:nvPr/>
        </p:nvPicPr>
        <p:blipFill>
          <a:blip r:embed="rId2"/>
          <a:stretch/>
        </p:blipFill>
        <p:spPr>
          <a:xfrm>
            <a:off x="71280" y="6705720"/>
            <a:ext cx="2025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6"/>
          <p:cNvSpPr/>
          <p:nvPr/>
        </p:nvSpPr>
        <p:spPr>
          <a:xfrm>
            <a:off x="71280" y="1500120"/>
            <a:ext cx="550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0" y="285768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обуждение — в 7 часов утр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0" y="4429080"/>
            <a:ext cx="685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Учебные занят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отдыха — обязательное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этого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е урок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—1 1/2 часа) и снова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От 19 до 20 часов — ужин и свободные занятия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я ко сн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2000160" y="6715080"/>
            <a:ext cx="4786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208080"/>
            <a:ext cx="6919920" cy="1751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0" y="1285920"/>
            <a:ext cx="6858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0" y="23572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2000160" y="3968640"/>
            <a:ext cx="4857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ие значения показателей двигательной активности детей за полный день -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объем 17 000 движ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интенсивность 55-65 движений в мину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8" descr=""/>
          <p:cNvPicPr/>
          <p:nvPr/>
        </p:nvPicPr>
        <p:blipFill>
          <a:blip r:embed="rId2"/>
          <a:stretch/>
        </p:blipFill>
        <p:spPr>
          <a:xfrm>
            <a:off x="2133720" y="3419640"/>
            <a:ext cx="4863960" cy="860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viki\AppData\Local\Microsoft\Windows\Temporary Internet Files\Content.IE5\COU2X6RI\MCj04370690000[1].png"/>
          <p:cNvPicPr/>
          <p:nvPr/>
        </p:nvPicPr>
        <p:blipFill>
          <a:blip r:embed="rId3"/>
          <a:stretch/>
        </p:blipFill>
        <p:spPr>
          <a:xfrm>
            <a:off x="71280" y="371484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viki\AppData\Local\Microsoft\Windows\Temporary Internet Files\Content.IE5\HT7649U9\MCj04370680000[1].png"/>
          <p:cNvPicPr/>
          <p:nvPr/>
        </p:nvPicPr>
        <p:blipFill>
          <a:blip r:embed="rId4"/>
          <a:stretch/>
        </p:blipFill>
        <p:spPr>
          <a:xfrm>
            <a:off x="142920" y="52149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viki\AppData\Local\Microsoft\Windows\Temporary Internet Files\Content.IE5\FNMA7AE2\MCj04370790000[1].png"/>
          <p:cNvPicPr/>
          <p:nvPr/>
        </p:nvPicPr>
        <p:blipFill>
          <a:blip r:embed="rId5"/>
          <a:stretch/>
        </p:blipFill>
        <p:spPr>
          <a:xfrm>
            <a:off x="5715000" y="3571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viki\AppData\Local\Microsoft\Windows\Temporary Internet Files\Content.IE5\MOVYDWVJ\MCj04370700000[1].png"/>
          <p:cNvPicPr/>
          <p:nvPr/>
        </p:nvPicPr>
        <p:blipFill>
          <a:blip r:embed="rId6"/>
          <a:stretch/>
        </p:blipFill>
        <p:spPr>
          <a:xfrm>
            <a:off x="620640" y="45133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viki\AppData\Local\Microsoft\Windows\Temporary Internet Files\Content.IE5\FNMA7AE2\MCj04370720000[1].png"/>
          <p:cNvPicPr/>
          <p:nvPr/>
        </p:nvPicPr>
        <p:blipFill>
          <a:blip r:embed="rId7"/>
          <a:stretch/>
        </p:blipFill>
        <p:spPr>
          <a:xfrm rot="2668800">
            <a:off x="102960" y="701496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Users\viki\AppData\Local\Microsoft\Windows\Temporary Internet Files\Content.IE5\RSWC3R1M\MCj04370710000[1].png"/>
          <p:cNvPicPr/>
          <p:nvPr/>
        </p:nvPicPr>
        <p:blipFill>
          <a:blip r:embed="rId8"/>
          <a:stretch/>
        </p:blipFill>
        <p:spPr>
          <a:xfrm>
            <a:off x="71280" y="6286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viki\AppData\Local\Microsoft\Windows\Temporary Internet Files\Content.IE5\M8TJYLUS\MCj04370760000[1].png"/>
          <p:cNvPicPr/>
          <p:nvPr/>
        </p:nvPicPr>
        <p:blipFill>
          <a:blip r:embed="rId9"/>
          <a:stretch/>
        </p:blipFill>
        <p:spPr>
          <a:xfrm>
            <a:off x="1143000" y="5857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:\Users\viki\AppData\Local\Microsoft\Windows\Temporary Internet Files\Content.IE5\YN4VUU4O\MCj04348700000[1].png"/>
          <p:cNvPicPr/>
          <p:nvPr/>
        </p:nvPicPr>
        <p:blipFill>
          <a:blip r:embed="rId10"/>
          <a:stretch/>
        </p:blipFill>
        <p:spPr>
          <a:xfrm>
            <a:off x="1214280" y="3643200"/>
            <a:ext cx="1214640" cy="1214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9"/>
          <p:cNvSpPr/>
          <p:nvPr/>
        </p:nvSpPr>
        <p:spPr>
          <a:xfrm>
            <a:off x="0" y="814392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изические упражнения только тогда приносят пользу, когда ими занимаются систематически. Родители обязаны ежедневно находить время для занятий физическими упражнениями со своими детьми и тщательно следить за их здоровьем, обращая внимание на внешний вид, настроение и самочувствие ребен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C:\Users\viki\AppData\Local\Microsoft\Windows\Temporary Internet Files\Content.IE5\5HM5BHCY\MCj04370470000[1].png"/>
          <p:cNvPicPr/>
          <p:nvPr/>
        </p:nvPicPr>
        <p:blipFill>
          <a:blip r:embed="rId11"/>
          <a:stretch/>
        </p:blipFill>
        <p:spPr>
          <a:xfrm>
            <a:off x="500040" y="571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C:\Users\viki\AppData\Local\Microsoft\Windows\Temporary Internet Files\Content.IE5\0DKC86KK\MCj04370460000[1].png"/>
          <p:cNvPicPr/>
          <p:nvPr/>
        </p:nvPicPr>
        <p:blipFill>
          <a:blip r:embed="rId12"/>
          <a:stretch/>
        </p:blipFill>
        <p:spPr>
          <a:xfrm rot="621000">
            <a:off x="1412640" y="65008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C:\Users\viki\AppData\Local\Microsoft\Windows\Temporary Internet Files\Content.IE5\GMERIPU6\MCj04370420000[1].png"/>
          <p:cNvPicPr/>
          <p:nvPr/>
        </p:nvPicPr>
        <p:blipFill>
          <a:blip r:embed="rId13"/>
          <a:stretch/>
        </p:blipFill>
        <p:spPr>
          <a:xfrm>
            <a:off x="1785960" y="757224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122400"/>
            <a:ext cx="6913440" cy="1128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viki\Pictures\141(1).jpg"/>
          <p:cNvPicPr/>
          <p:nvPr/>
        </p:nvPicPr>
        <p:blipFill>
          <a:blip r:embed="rId2"/>
          <a:stretch/>
        </p:blipFill>
        <p:spPr>
          <a:xfrm>
            <a:off x="4572000" y="635040"/>
            <a:ext cx="2143080" cy="179388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1280" y="642960"/>
            <a:ext cx="450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0" y="257184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600"/>
            </a:b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0" y="5715000"/>
            <a:ext cx="5000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:\Users\viki\AppData\Local\Microsoft\Windows\Temporary Internet Files\Content.IE5\6NZXK4SD\MCj04282850000[1].wmf"/>
          <p:cNvPicPr/>
          <p:nvPr/>
        </p:nvPicPr>
        <p:blipFill>
          <a:blip r:embed="rId3"/>
          <a:stretch/>
        </p:blipFill>
        <p:spPr>
          <a:xfrm>
            <a:off x="71280" y="3989520"/>
            <a:ext cx="1857600" cy="1582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9"/>
          <p:cNvSpPr/>
          <p:nvPr/>
        </p:nvSpPr>
        <p:spPr>
          <a:xfrm>
            <a:off x="2000160" y="3857760"/>
            <a:ext cx="4857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2071800" y="7572240"/>
            <a:ext cx="47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Users\viki\AppData\Local\Microsoft\Windows\Temporary Internet Files\Content.IE5\M8TJYLUS\MCj04381290000[1].wmf"/>
          <p:cNvPicPr/>
          <p:nvPr/>
        </p:nvPicPr>
        <p:blipFill>
          <a:blip r:embed="rId4"/>
          <a:stretch/>
        </p:blipFill>
        <p:spPr>
          <a:xfrm>
            <a:off x="4965840" y="5735520"/>
            <a:ext cx="1749240" cy="1622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viki\AppData\Local\Microsoft\Windows\Temporary Internet Files\Content.IE5\6NZXK4SD\MCj04300890000[1].wmf"/>
          <p:cNvPicPr/>
          <p:nvPr/>
        </p:nvPicPr>
        <p:blipFill>
          <a:blip r:embed="rId5"/>
          <a:stretch/>
        </p:blipFill>
        <p:spPr>
          <a:xfrm>
            <a:off x="214200" y="7537320"/>
            <a:ext cx="1797120" cy="16066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4" descr=""/>
          <p:cNvPicPr/>
          <p:nvPr/>
        </p:nvPicPr>
        <p:blipFill>
          <a:blip r:embed="rId1"/>
          <a:stretch/>
        </p:blipFill>
        <p:spPr>
          <a:xfrm>
            <a:off x="712800" y="-36360"/>
            <a:ext cx="4932360" cy="1536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0" y="2222640"/>
            <a:ext cx="678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+»   Достоинства компью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занятий на компьютере улучшаются память и внимание де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71280" y="7500960"/>
            <a:ext cx="4714920" cy="1465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C:\Users\viki\AppData\Local\Microsoft\Windows\Temporary Internet Files\Content.IE5\EOM03GJD\MCj04357310000[1].wmf"/>
          <p:cNvPicPr/>
          <p:nvPr/>
        </p:nvPicPr>
        <p:blipFill>
          <a:blip r:embed="rId2"/>
          <a:stretch/>
        </p:blipFill>
        <p:spPr>
          <a:xfrm>
            <a:off x="4987800" y="7124760"/>
            <a:ext cx="1798920" cy="1947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Users\viki\AppData\Local\Microsoft\Windows\Temporary Internet Files\Content.IE5\HT7649U9\MCj04315660000[1].png"/>
          <p:cNvPicPr/>
          <p:nvPr/>
        </p:nvPicPr>
        <p:blipFill>
          <a:blip r:embed="rId3"/>
          <a:stretch/>
        </p:blipFill>
        <p:spPr>
          <a:xfrm>
            <a:off x="5143680" y="0"/>
            <a:ext cx="1904760" cy="1917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71280" y="113652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1859c"/>
                </a:solidFill>
                <a:latin typeface="Arial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0" y="521496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00080" y="592128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b050"/>
                </a:solidFill>
                <a:uFillTx/>
                <a:latin typeface="Arial"/>
              </a:rPr>
              <a:t>«-»   Недостатки компьюте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396720" y="-115920"/>
            <a:ext cx="5888160" cy="112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viki\AppData\Local\Microsoft\Windows\Temporary Internet Files\Content.IE5\FNMA7AE2\MCj04120420000[1].wmf"/>
          <p:cNvPicPr/>
          <p:nvPr/>
        </p:nvPicPr>
        <p:blipFill>
          <a:blip r:embed="rId2"/>
          <a:stretch/>
        </p:blipFill>
        <p:spPr>
          <a:xfrm>
            <a:off x="1341360" y="5721480"/>
            <a:ext cx="3743280" cy="28591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0" y="64296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0" y="2428920"/>
            <a:ext cx="685800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Arial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в Северо-Западном регионе необходимо учитывать высокую влажность. 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0" y="848844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дя на место, дети должны отдохнуть или спокойно поиграть перед тем, как возвращаться обра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8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Прямоугольник 3" descr=""/>
          <p:cNvPicPr/>
          <p:nvPr/>
        </p:nvPicPr>
        <p:blipFill>
          <a:blip r:embed="rId1"/>
          <a:stretch/>
        </p:blipFill>
        <p:spPr>
          <a:xfrm>
            <a:off x="-55440" y="-36360"/>
            <a:ext cx="6937200" cy="10476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42920" y="714240"/>
            <a:ext cx="671508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чернику, бруснику, клюкв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петрушку, укроп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т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елефоне лучше забы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C:\Users\viki\AppData\Local\Microsoft\Windows\Temporary Internet Files\Content.IE5\HT7649U9\MCj04241780000[1].wmf"/>
          <p:cNvPicPr/>
          <p:nvPr/>
        </p:nvPicPr>
        <p:blipFill>
          <a:blip r:embed="rId2"/>
          <a:stretch/>
        </p:blipFill>
        <p:spPr>
          <a:xfrm>
            <a:off x="4272120" y="6429240"/>
            <a:ext cx="2300040" cy="2625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-19080" y="-6516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4" descr=""/>
          <p:cNvPicPr/>
          <p:nvPr/>
        </p:nvPicPr>
        <p:blipFill>
          <a:blip r:embed="rId1"/>
          <a:stretch/>
        </p:blipFill>
        <p:spPr>
          <a:xfrm>
            <a:off x="-573120" y="152280"/>
            <a:ext cx="7967520" cy="12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0" y="842652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Следите за своими глаз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Мир так прекрасен, особенно если мы его види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6" descr="i_033.png"/>
          <p:cNvPicPr/>
          <p:nvPr/>
        </p:nvPicPr>
        <p:blipFill>
          <a:blip r:embed="rId2"/>
          <a:stretch/>
        </p:blipFill>
        <p:spPr>
          <a:xfrm>
            <a:off x="142920" y="714240"/>
            <a:ext cx="1677960" cy="16430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0" y="2143080"/>
            <a:ext cx="685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1785960" y="857160"/>
            <a:ext cx="507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4" descr="item_2251.jpg"/>
          <p:cNvPicPr/>
          <p:nvPr/>
        </p:nvPicPr>
        <p:blipFill>
          <a:blip r:embed="rId3"/>
          <a:stretch/>
        </p:blipFill>
        <p:spPr>
          <a:xfrm>
            <a:off x="1700280" y="7469280"/>
            <a:ext cx="3585960" cy="9111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-573120"/>
            <a:ext cx="8034480" cy="18954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142920" y="121428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71280" y="2000160"/>
            <a:ext cx="6858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При закаливании детей следует придерживаться та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основных принципов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одить закаливающие процедуры систематическ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увеличивать время воздействия закаливающего фактора постепенн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ывать настроение ребенка и проводить процедуры в форме игры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ачинать закаливание в любом возраст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икогда не выполнять процедуры, если малыш замерз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закаливаться всей семь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каливающие процедур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четать с физическими упражн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 массаже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в помещении, где находится ребенок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икогда не кури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825720" y="6891480"/>
            <a:ext cx="2889360" cy="19666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Прямоугольник 3" descr=""/>
          <p:cNvPicPr/>
          <p:nvPr/>
        </p:nvPicPr>
        <p:blipFill>
          <a:blip r:embed="rId1"/>
          <a:stretch/>
        </p:blipFill>
        <p:spPr>
          <a:xfrm>
            <a:off x="-536400" y="189000"/>
            <a:ext cx="7967520" cy="13111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0" y="1612800"/>
            <a:ext cx="6858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ый таз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ое полотенц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5"/>
          <p:cNvSpPr/>
          <p:nvPr/>
        </p:nvSpPr>
        <p:spPr>
          <a:xfrm>
            <a:off x="0" y="6429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C:\Users\viki\AppData\Local\Microsoft\Windows\Temporary Internet Files\Content.IE5\RTPB4XQQ\MCj02321530000[1].wmf"/>
          <p:cNvPicPr/>
          <p:nvPr/>
        </p:nvPicPr>
        <p:blipFill>
          <a:blip r:embed="rId2"/>
          <a:stretch/>
        </p:blipFill>
        <p:spPr>
          <a:xfrm>
            <a:off x="3714840" y="535788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5"/>
          <p:cNvSpPr/>
          <p:nvPr/>
        </p:nvSpPr>
        <p:spPr>
          <a:xfrm>
            <a:off x="0" y="4714920"/>
            <a:ext cx="392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Контрастный ду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0" y="721512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ли ребенок боится воздействия хол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уш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о можно вначале поставить та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холодной водой и сказ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А ну, давай с тобой по лужам побегаем!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 из теплой ванны - в холодный таз (или "под дождик"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C:\Users\viki\AppData\Local\Microsoft\Windows\Temporary Internet Files\Content.IE5\COU2X6RI\MCj02904460000[1].wmf"/>
          <p:cNvPicPr/>
          <p:nvPr/>
        </p:nvPicPr>
        <p:blipFill>
          <a:blip r:embed="rId3"/>
          <a:stretch/>
        </p:blipFill>
        <p:spPr>
          <a:xfrm>
            <a:off x="5572080" y="4500720"/>
            <a:ext cx="1278000" cy="1214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38:58Z</dcterms:created>
  <dc:creator>ram</dc:creator>
  <dc:description/>
  <dc:language>en-US</dc:language>
  <cp:lastModifiedBy>LEGION</cp:lastModifiedBy>
  <dcterms:modified xsi:type="dcterms:W3CDTF">2015-01-27T12:12:40Z</dcterms:modified>
  <cp:revision>209</cp:revision>
  <dc:subject/>
  <dc:title>Слайд 1</dc:title>
</cp:coreProperties>
</file>