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2.wmf" ContentType="image/x-wmf"/>
  <Override PartName="/ppt/media/image56.png" ContentType="image/png"/>
  <Override PartName="/ppt/media/image1.wmf" ContentType="image/x-wmf"/>
  <Override PartName="/ppt/media/image55.png" ContentType="image/png"/>
  <Override PartName="/ppt/media/image53.png" ContentType="image/png"/>
  <Override PartName="/ppt/media/image52.png" ContentType="image/png"/>
  <Override PartName="/ppt/media/image48.jpeg" ContentType="image/jpeg"/>
  <Override PartName="/ppt/media/image35.png" ContentType="image/png"/>
  <Override PartName="/ppt/media/image5.png" ContentType="image/png"/>
  <Override PartName="/ppt/media/image17.png" ContentType="image/png"/>
  <Override PartName="/ppt/media/image32.jpeg" ContentType="image/jpeg"/>
  <Override PartName="/ppt/media/image20.wmf" ContentType="image/x-wmf"/>
  <Override PartName="/ppt/media/image4.wmf" ContentType="image/x-wmf"/>
  <Override PartName="/ppt/media/image34.wmf" ContentType="image/x-wmf"/>
  <Override PartName="/ppt/media/image27.wmf" ContentType="image/x-wmf"/>
  <Override PartName="/ppt/media/image3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58.wmf" ContentType="image/x-wmf"/>
  <Override PartName="/ppt/media/image60.png" ContentType="image/png"/>
  <Override PartName="/ppt/media/image67.wmf" ContentType="image/x-wmf"/>
  <Override PartName="/ppt/media/image10.png" ContentType="image/png"/>
  <Override PartName="/ppt/media/image65.wmf" ContentType="image/x-wmf"/>
  <Override PartName="/ppt/media/image25.png" ContentType="image/png"/>
  <Override PartName="/ppt/media/image19.jpeg" ContentType="image/jpeg"/>
  <Override PartName="/ppt/media/image62.png" ContentType="image/png"/>
  <Override PartName="/ppt/media/image26.png" ContentType="image/png"/>
  <Override PartName="/ppt/media/image66.wmf" ContentType="image/x-wmf"/>
  <Override PartName="/ppt/media/image23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61.wmf" ContentType="image/x-wmf"/>
  <Override PartName="/ppt/media/image21.wmf" ContentType="image/x-wmf"/>
  <Override PartName="/ppt/media/image64.png" ContentType="image/png"/>
  <Override PartName="/ppt/media/image50.wmf" ContentType="image/x-wmf"/>
  <Override PartName="/ppt/media/image28.png" ContentType="image/png"/>
  <Override PartName="/ppt/media/image18.png" ContentType="image/png"/>
  <Override PartName="/ppt/media/image6.png" ContentType="image/png"/>
  <Override PartName="/ppt/media/image29.wmf" ContentType="image/x-wmf"/>
  <Override PartName="/ppt/media/image31.png" ContentType="image/png"/>
  <Override PartName="/ppt/media/image11.png" ContentType="image/png"/>
  <Override PartName="/ppt/media/image63.jpeg" ContentType="image/jpeg"/>
  <Override PartName="/ppt/media/image51.wmf" ContentType="image/x-wmf"/>
  <Override PartName="/ppt/media/image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30.png" ContentType="image/png"/>
  <Override PartName="/ppt/media/image54.jpeg" ContentType="image/jpeg"/>
  <Override PartName="/ppt/media/image33.png" ContentType="image/png"/>
  <Override PartName="/ppt/media/image36.wmf" ContentType="image/x-wmf"/>
  <Override PartName="/ppt/media/image47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0482-C8D2-412A-B8DC-FCEE8CABE9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Рекоменд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родите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по укрепл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здоровья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E18B-DCC2-41D2-9F56-67169BB77B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БОСОХОЖДЕНИЕ</a:t>
            </a:r>
            <a:r>
              <a:rPr b="1" lang="en-US" sz="1200" spc="-1" strike="noStrike">
                <a:solidFill>
                  <a:srgbClr val="000000"/>
                </a:solidFill>
                <a:latin typeface="Arno Pro Light Display"/>
              </a:rPr>
              <a:t>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элемент закаливания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один способ закалки – это </a:t>
            </a: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прогулки боси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ждение босиком не только закаляет, но и стимулирует нервные окончания, находящиеся на стопе, положительно влияет на работу внутренних органов.  По мнению некоторых специалистов</a:t>
            </a:r>
            <a:r>
              <a:rPr b="0" i="1" lang="ru-RU" sz="1200" spc="-1" strike="noStrike">
                <a:solidFill>
                  <a:srgbClr val="0070c0"/>
                </a:solidFill>
                <a:latin typeface="Calibri"/>
              </a:rPr>
              <a:t>, подошвы ног – это своеобразный распределительный щит с 72 тыс. нервных окончаний, через который можно  подключиться  к любому органу – головному мозгу, легким и верхним дыхательным путям, печени и почкам, эндокринным железам и др. орган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и когда лучше заняться босохождени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Разумеется, зимой в холода начинать приучать ребенка к подобному не стоит, но весной или летом, малыш вполне может бегать босиком по полу дома, а еще лучше – по зеленой тра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Ребенок должен регулярно ходить босиком, настоящий закаливающий  эффект наступает лишь после длительных систематических трениров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Используйте специальные резиновые коврики с шиповым рифлением. Каждое утро начинайте зарядку с ходьбы босиком на таком коври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Полезно массировать стопы ног с помощью скалки или круглой палки, катая их подошвами по несколько минут в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 ходьбе босиком увеличивается интенсивная деятельность почти всех мышц, стимулируется кровообращение во всем организме, улучшается умственная деятельность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6FC0-D7F6-412C-870A-30FCD4C944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ОСКОСТОП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no Pro Caption"/>
              </a:rPr>
              <a:t>Окончательно стопа формируется у ребенка к 7-8 годам. Плоскостопие считается одним из самых распространенных заболеваний у  детей. Но родители часто не воспринимают это заболевание всерьез и это неправильная пози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ак предупредить плоскостоп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увь у ребенка должна быть сделана из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натуральных материал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внутри с твердым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супинаторо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поднимающим внутренний край ст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дошва детской обуви должна быть гибкой  и иметь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каблук (5-10 мм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искусственно поднимающий свод стопы, защищающий пятку от ушиб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увь должна соответствовать фор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 размеру стопы, была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удобной при носк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 не мешала естественному развитию ноги, не сдавливала стопу, нарушая кровообращение и вызывая потертост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 весу обувь должна быть максимально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легкой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статочно жесткой, с хорошим задн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мните, длина следа должна быть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больше стопы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носочной части, припуск в 10 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no Pro Smbd Caption"/>
              </a:rPr>
              <a:t>При определении размера обуви ребенка руководствуйтесь длиной стопы которая определяется расстоянием между наиболее выступающей точкой пятки и концом самого длинного паль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no Pro Smbd Caption"/>
              </a:rPr>
              <a:t>(первого или второг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8DD7-D5DA-494D-B8B1-3DF1D48255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делат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е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ребенка плоскостоп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Ваш ребёнок жалуется на усталость после прогулки и/или слишком быстро снашивает обувь, то, возможно, у него развивается плоскостоп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мплекс упражнений при плоскостопи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лечебная гимнастик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0099"/>
                </a:solidFill>
                <a:uFillTx/>
                <a:latin typeface="Calibri"/>
              </a:rPr>
              <a:t>Описание упражнений</a:t>
            </a:r>
            <a:r>
              <a:rPr b="0" lang="ru-RU" sz="1400" spc="-1" strike="noStrike">
                <a:solidFill>
                  <a:srgbClr val="cc0099"/>
                </a:solidFill>
                <a:latin typeface="Calibri"/>
              </a:rPr>
              <a:t>                                 </a:t>
            </a:r>
            <a:r>
              <a:rPr b="0" lang="ru-RU" sz="1400" spc="-1" strike="noStrike" u="sng">
                <a:solidFill>
                  <a:srgbClr val="cc0099"/>
                </a:solidFill>
                <a:uFillTx/>
                <a:latin typeface="Calibri"/>
              </a:rPr>
              <a:t> Кол-во повторо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одьб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осках, руки вверх                                                </a:t>
            </a:r>
            <a:r>
              <a:rPr b="0" lang="ru-RU" sz="1200" spc="-1" strike="noStrike">
                <a:solidFill>
                  <a:srgbClr val="d60093"/>
                </a:solidFill>
                <a:latin typeface="Calibri"/>
              </a:rPr>
              <a:t>по 20-30 с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а пятках, руки на поя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а наружном своде стоп, пальцы согнуты, руки на поя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с мячом (теннисным) - зажать стопами, ходить на внешней стороне сто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Стоя на палке (обруче)                            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6-8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луприседания и приседания, руки вперед или в стор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ередвижение вдоль палки - ставить стопы вдоль или поперек палки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3-4 р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Сто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а наружном своде стоп - поворот туловище лев –прав.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6-8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однимание на носках с упором на наружный свод стопы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"Лодочка"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а на животе одновременно поднять руки, голову, ноги и держать до 5-7 минут                                                   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4-6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 "Угол"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а на спине держать ноги под углом 45 гр.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4-6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Сид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гибание - разгибание пальцев стоп                             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5-20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максимальное разведение и сведение пяток, не отрывая носков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5-20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 напряжением тянуть носки на себя, от себя  (колени прямые )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соединить стопы. Колени прямые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 круговые движения стопами внутрь,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) захватывание и приподнимание пальцами сто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ндаша или мелкого предмета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) захватывание и приподнимание стопами мал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ча, колени прямые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                           6-8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8DB4-34B1-4338-B6A9-7424D3B14C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Польза пла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ннее плавание детей способствует быстрейшему их физическому и психомоторному развитию. При плавании кожа ребенка испытывает благотворное массирующее воздействие воды, в связи с чем улучшается кровообращение и укрепляется нервная сист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лучшает работу внутренних органов, развивает сердечно-сосудистую и дыхательную систему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условиях продолжительного пребывания в воде совершенствуются процессы терморегуляции. Происходит закаливание организма, растет  сопротивляемость неблагоприятным факторам внешней среды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лавание, является одним из лучших средств формирования правильной осанки ребенка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озированное плавание может быть полезно детям, склонным к простудным заболева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07BF-E705-47B3-81A6-CC8764A24A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 сформ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равильную осан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анка – это привычное положение тела человека. Она считается правильной, если человек держит голову прямо и свободно, плечи находятся на одном уровне, слегка опущены назад, корпус выпрямлен, живот подтянут, грудь слегка выступает вперед, колени выпрямл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ая осанка не бывает врожденной, она начинает формиров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ервых лет наше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ее ответственный период для форм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анк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 4 до 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учая вашего ребенка «правильно» держать свое тел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забывайте при этом и про вашу осан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6600"/>
                </a:solidFill>
                <a:uFillTx/>
                <a:latin typeface="Segoe Print"/>
              </a:rPr>
              <a:t>Причины формирования неправильной осанки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крепкого, достаточно развитого мышечного корсажа – мышечной сис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номерное развитие мышц спины, живота  и бедер, изменение тяги, определяющей вертикальное положение позвоночн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ая болезнь или хронические заболевания, ослабляющие орган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рах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оответствующая росту мебе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добная одежда и обу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0C8C-83C2-47F5-B4B0-AE3590075D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Как </a:t>
            </a: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проверить 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осанку у ребен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мотр вашего ребенка проводите в дневное время, при хорошем и равномерном освещ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йте и разденьте ребенка до трусиков, поставьте прямо, руки должны быть опущены вдоль туловища. Сами сядьте на стул на расстоянии 2-3 м и внимательно посмотрите на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метрично ли расположены уши, лопатки, талия, складки под ягодицами и сами ягодицы. Если они находятся на разной высоте, есть причина для беспокойств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сите ребенка достать руками до пола, выгнув спину. Проверьте, нет ли вдоль поясничных позвонков валиков, не торчат ли лопа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те на ребенка сбоку и проверьте, не сутулится ли он, попросите его наклонить голову вперед и, не поднимая головы, повернуть ее сначала в одну, затем в другую сторону. Убедитесь, что объем движений при этом одинаков и выполняются они без ограни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e5b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5b00"/>
                </a:solidFill>
                <a:latin typeface="Calibri"/>
              </a:rPr>
              <a:t>Следим за осанкой вмес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Покажите ребенку такой способ: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стать к стене, плотно прижавшись затылком, 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лопатками, ягодицами, икрами ног и пятками, подбородок слегка приподнять. Ребенок должен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зафиксировать в сознании 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мышечные ощущения при таком положении тела. Если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3-4 раза в день  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ребенок будет стараться удерживать такую позу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несколько секунд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, это благотворно отразится на его осанке.  Для формирования правильной осанки проводите с детьми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упражнения с предметами на голове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, балансирование, хождение по наклонной плос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9E0B-0EA9-4B31-B9D2-A21EE27D8F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Красивые и здоров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ЗУ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ая улыбка не только привлекает внимание, помогает в общении, но и говорит о том, что у вас здоровые, крепкие зубы. Когда люди жили в пещерах,  у них не было зубных щеток, но они все равно ухаживали за зубами, вытаскивали кусочки мяса маленькими палочками с острыми конц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b770e"/>
                </a:solidFill>
                <a:latin typeface="Calibri"/>
              </a:rPr>
              <a:t>Как только у ребенка появились молочные зубы, давайте ему после кормления кипяченную воду, а более старших детей приучайте полоскать рот после 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В 3 года подарите ребенку зубную щетку и приучите чистить зубы ежедневно утром и вечером после 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Зубы  необходимо чистить правильно, тщательно вычищать остатки пищи щеткой из самых труднодоступных  угол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Зубы нужно чистить не менее 3х минут. Передние зубы чистить по направлению вверх и вниз, затем задние зубы. Зубы всегда нужно чистить круговыми движ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йте обращать внимание на состояние зубов у детей в возрасте старше 2-3 лет, когда у них возникает кари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о к 10-12 годам молочные зубы у ребенка полностью заменяются на коренные, и заболеваемость кариесом снова возраст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b770e"/>
                </a:solidFill>
                <a:latin typeface="Comic Sans MS"/>
              </a:rPr>
              <a:t>Ухаживайте за своими зубами ежедневно, ешьте полезные продукты, посещайте стоматолога раз в полгода и тогда ваши зубки будут крепкими, а улыбка белоснежной </a:t>
            </a:r>
            <a:r>
              <a:rPr b="0" lang="ru-RU" sz="1200" spc="-1" strike="noStrike">
                <a:solidFill>
                  <a:srgbClr val="0b770e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B536-B605-4ACA-AA12-9A7E2FA0A6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Масса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десен щет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о утром звери встал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ки чистить побежал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ят зубки миш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точкой из шиш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ка в рыжей шуб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же чистит зуб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ые мышат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лые ежат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ый волк зубаст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ят зубки пасто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ят поросен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мешной лосенок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позавтракали вкусно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ы нам почистить нужн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уки щёточку возьмём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ной пасты нанесё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ы чистим осторожно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ь поранить дёсны можно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отом что? А пот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ы мы ополоснё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м понадобится кружка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ыбнёмся-ка друг дружк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ботали умело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и зубки стали бел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AA3F-6195-4154-AA40-3DECDA469F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5 правил родителям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ервокласс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даптация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й человек, оказавшись в непривычных условиях, ведет себя не естественно, привыкает, приспосабливается. Тоже происходит и с ребенком, поэтому в сентябре-октябре в его поведении могут появиться изменения. Вдруг ребенок может стать капризным, плаксивым, как будто снова стал маленьким и хочет, чтобы к нему относились как малыш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а-игр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важно сочетать игру и учебу. Учиться, играя – намного легче, ведь играть ребенок умеет очень хорошо. А учеба – это та сфера, где ребенок  первоклассник – нович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шибк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шибки и неудачи – это естественные вехи на пути обучения. Почему же мы, взрослые, часто относятся к ошибкам как к чему-то противоестественному , чего быть не должно. А ошибки лишь указывают на слабые места, которые требуют дополнительного внимания и все! Критикуя за ошибки, мы как бы не позволяем быть естественным вещам, относимся к ребенку так, как будто он уже должен все уметь, а не только уч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ценивать результаты, а не личность ребенк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и в жизни первоклассника зачастую болезненный вопрос. Ребенок через отношение к своим поступкам, результатам в учебе формирует отношение к себе. «Как хорошо написал, какой хороший мальчик!». Казалось бы, что здесь плохого? А если завтра напишет хуже, значит уже плохой? Конечно, нет, но ребенок рассудит именно так. Важно, чтобы в словах взрослых не смешивалось отношение к личности ребенка с отношением к его результатам в уч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кола – это авторитарная 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 где дисциплина и повиновение очень важный компонент в процессе обучения. Поэтому не следует ожидать что в школе вашего ребенка полюбят, будут заботиться, что там ему будет хорошо и весело, что там разовьются всевозможные способности ребенка, его творческий потенциал. У школы задачи другие – дать знания ребенку и сделать его способным жить в обществе, где есть определенные законы и ограничения, где люди – разные и по-разному могут относиться друг к друг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Школа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это как работа для взросл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только ребенок получает за свой тру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не деньги, а 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C987-2E1D-4F2C-8C10-5599D45A46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ОСОБЕННОСТИ ФИЗИЧЕСКОГО ВОСПИТАНИЯ ДЕТЕЙ ПРИ ПОСТУПЛЕНИИ ИХ В ШКОЛУ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еход ребенка от условий воспитания в семье к школе — переломный момент в его жизни. Школа предъявляет к детям ряд новых для них требований, связанных с систематическим обучением, с пребыванием в коллекти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школьников 1—2-х классов установлен следующий режим, разработанный Институтом физического воспитания и школьной гигиены Академии педагогических наук, утвержденный Управлением школ Министерства просвещения РСФС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обуждение — в 7 часов утр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ренняя гимнастика, закаливающие процедуры (обтирание, душ), уборка постели, умывание. В 7 часов 30 минут. ребенок садится завтрака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Учебные занят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коле продолжаются 4 часа. По приходе из школы — обед (13 часов — 13 часов 30 минут); отдых в течение часа (детям 7 лет полезно в это время спа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отдыха — обязательное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ебывание на воздух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прогулка, подвижные игры и развлечения, лыжи, коньки, санки и т. д. Для этого отводится время от 14 часов 30 минут до 16 ч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иготовление урок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—1 1/2 часа) и снова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ебывание на воздух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т 19 до 20 часов — ужин и свободные занятия.</a:t>
            </a: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иготовления ко сн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истка одежды, обуви, проветривание комнаты, вечерний туалет — 20 часов — 20 часов 30 минут, сон — с 20 часов 30 минут до 7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внимание следует уделять созданию гигиенических условий для домашних занятий, детей. Приготовление уроков требует усидчивой работы за столом, поэтому прежде всего необходимо позаботиться об организации места, где школьник готовит уро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здорового, физически хорошо развитого человека требует дружной совместной работы семьи и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0B33-6211-4AC9-98BA-4EC80E6C9D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Физическое воспит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ребенка в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лг родителей — укрепить здоровье ребенка в данный момент и обеспечить благоприятное развитие детского организма в будущем. Нормальное развитие и состояние здоровья обеспечивается созданием оптимальных условий, то есть организацией правильного реж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зическом воспитани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детей дошкольного возраста используются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физические упражне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ходьба, бег, упражнения в равновесии, метание, лазание, подвижные игры),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спортивные упражне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гигиенические фактор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режим дня, питание, сон и т. п.),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естественные силы природ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солнце, воздух и вод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ические упраж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Задания и объяснения должны быть ясными и четкими, давать их надо бодрым голосом" и тут же показывать все дви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я должны быть интересные, в них следует использовать хорошо запоминающиеся образные сравнения, например: «птичка», «кошка», «паровоз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сновной принцип, которого должны придерживаться родители, занимаясь физическими упражнениями с малышами,— изображать все в виде игры. Веселый тон, шутка, смех, активное участие взрослого всегда увлекают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повторений движений для дошкольников обычно колеблется от 2—3 до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осле наиболее трудных упражнений необходимо давать кратковременные паузы отдыха (30—60 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е значения показателей двигательной активности детей за полный день -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бъем 17 000 движ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интенсивность 55-65 движений в мину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EAE0-DB82-4682-BC64-D3DFE82B25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Calibri"/>
              </a:rPr>
              <a:t>Режим дня до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учая детей к определенному режиму, к выполнению гигиенических требований, мы создаем у них полезные для организма навыки и тем самым сохраняем их здоровь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вердый режим дня, установленный в соответствии с возрастными особенностями детей, — одно из существенных условий нормального физического развития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d0f69"/>
                </a:solidFill>
                <a:latin typeface="Calibri"/>
              </a:rPr>
              <a:t>Основное требование к режиму — это точность во времени и правильное чередование, смена одних видов деятельности другими.</a:t>
            </a:r>
            <a:br>
              <a:rPr sz="1200"/>
            </a:br>
            <a:r>
              <a:rPr b="0" lang="ru-RU" sz="1200" spc="-1" strike="noStrike">
                <a:solidFill>
                  <a:srgbClr val="ad0f69"/>
                </a:solidFill>
                <a:latin typeface="Calibri"/>
              </a:rPr>
              <a:t>Должно быть установлено время, когда ребенок ложится спать, встает, ест, гуляет, выполняет несложные, посильные для него обязанности. Время это необходимо точно соблю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Сон</a:t>
            </a:r>
            <a:r>
              <a:rPr b="0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во время сна ребенок получает полный отдых. Сон должен быть достаточно продолжительным: дети 3—4 лет спят 14 часов в сутки, 5—6 лет — 13 часов, 7—8 лет — 12 часов. Из этого времени необходимо, особенно для младших детей, выделить часа полтора для дневного сна. Дети должны ложиться не позднее 8—9 часов веч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Питание</a:t>
            </a:r>
            <a:r>
              <a:rPr b="0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получают питание 4—5 раз в день. Первая еда дается через полчаса, во всяком случае не позднее чем через час после пробуждения ребенка, а последняя — часа за полтора до сна. Между приемами пищи должны быть установлены промежутки в 3—4 часа, их надо строго соблюдать. Наиболее сытная еда дается в обед, менее сытная — на уж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Прогулк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ы точно ни соблюдалось время сна и еды, режим нельзя признать правильным, если в нем не предусмотрено время для прогулки. Чем больше времени дети проводят на открытом воздухе, тем они здоров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AE29-1211-43C6-A557-C897801531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b770e"/>
                </a:solidFill>
                <a:latin typeface="Calibri"/>
              </a:rPr>
              <a:t>Компьютер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46c0a"/>
                </a:solidFill>
                <a:latin typeface="Calibri"/>
              </a:rPr>
              <a:t>«за» </a:t>
            </a:r>
            <a:r>
              <a:rPr b="0" i="1" lang="ru-RU" sz="1200" spc="-1" strike="noStrike">
                <a:solidFill>
                  <a:srgbClr val="0b770e"/>
                </a:solidFill>
                <a:latin typeface="Calibri"/>
              </a:rPr>
              <a:t>и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«проти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1859c"/>
                </a:solidFill>
                <a:latin typeface="Calibri"/>
              </a:rPr>
              <a:t>Современные дети очень много общаются с телевидением, видео и компьютером. Если предыдущее поколение было поколением книг, то современное получает информацию через видео ря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8000"/>
                </a:solidFill>
                <a:uFillTx/>
                <a:latin typeface="Calibri"/>
              </a:rPr>
              <a:t>«+»   Достоинства компьюте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может помочь развитию у детей таких важнейших операций мышления как обобщение и классификац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занятий на компьютере улучшаются память и внимание дет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гре в компьютерные игры у детей раньше развивается знаковая функция сознания, которая лежит в основе абстрактного мышления (мышления без опоры на внешние предметы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игры имеют большое значение не только для развития интеллекта детей, но и для развития их моторики, для формирования координации зрительной и моторной функ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Детям 3-4 лет не стоит сидеть у компьютера больше 20 минут, а к 6-7 годам это время ежедневной игры можно увеличить до получа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«-»   Недостатки компьютер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Чрезмерное обращение с компьютером может привести </a:t>
            </a:r>
            <a:r>
              <a:rPr b="1" i="1" lang="ru-RU" sz="1200" spc="-1" strike="noStrike">
                <a:solidFill>
                  <a:srgbClr val="000000"/>
                </a:solidFill>
                <a:latin typeface="Candara"/>
              </a:rPr>
              <a:t>к ухудшению зрения ребенка</a:t>
            </a: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, а так же отрицательно </a:t>
            </a:r>
            <a:r>
              <a:rPr b="1" i="1" lang="ru-RU" sz="1200" spc="-1" strike="noStrike">
                <a:solidFill>
                  <a:srgbClr val="000000"/>
                </a:solidFill>
                <a:latin typeface="Candara"/>
              </a:rPr>
              <a:t>сказаться на его психическом здоровье</a:t>
            </a: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.  Особенно это </a:t>
            </a:r>
            <a:r>
              <a:rPr b="1" i="1" lang="ru-RU" sz="1200" spc="-1" strike="noStrike">
                <a:solidFill>
                  <a:srgbClr val="000000"/>
                </a:solidFill>
                <a:latin typeface="Candara"/>
              </a:rPr>
              <a:t>опасно для застенчивых детей</a:t>
            </a: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главное, нельзя уповать только на компьютер. Ребенок – маленький человек, он может формироваться и развиваться, только общаясь с людьми и живя в реальн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FA2A-EA70-4377-9286-EA173FE29A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огулки – это важ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должны проводить на свежем воздухе как можно больше времени, чтобы быть здоровыми и крепк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8080"/>
                </a:solidFill>
                <a:uFillTx/>
                <a:latin typeface="Calibri"/>
              </a:rPr>
              <a:t>В летнее врем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могут находится более 6 часов в день на улице, а в </a:t>
            </a:r>
            <a:r>
              <a:rPr b="0" lang="ru-RU" sz="1200" spc="-1" strike="noStrike" u="sng">
                <a:solidFill>
                  <a:srgbClr val="008080"/>
                </a:solidFill>
                <a:uFillTx/>
                <a:latin typeface="Calibri"/>
              </a:rPr>
              <a:t>осеннее и зимнее врем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должны быть на воздухе не менее 4 часов. Лучшее время для прогулок с детьми — между завтраком и обедом (2—2 1/2 часа) и после дневного сна, до ужина (1 1/2—2 часа). В сильные морозы длительность прогулок несколько сокращ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8080"/>
                </a:solidFill>
                <a:latin typeface="Calibri"/>
              </a:rPr>
              <a:t>Причиной отмены прогулки для здорового ребенка могут быть исключительные обстоятельства: проливной дождь, большой мороз с сильным ветром.</a:t>
            </a:r>
            <a:br>
              <a:rPr sz="11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пыте работы детских садов установлено, что дети дошкольного возраста, приученные к ежедневным прогулкам, могут гулять и при температуре 20—25° мороза, если нет сильного ветра и если они одеты соответственно погод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 Северо-Западном регионе необходимо учитывать высокую влажность. На прогулку в холодные зимние дни дети должны выходить в теплом пальто, шапке с наушниками, валенках и теплых варежках или перчат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Время от времени полезно совершать с детьми более длительные прогулки, постепенно увеличивая расстояние — для младших до 15—20 минут ходьбы, для более старших — до 30 минут, с небольшими остановками на 1—2 минуты во время пу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4553-FF4A-4180-AA04-0E49D961D1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сохранить зрение ребен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1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йтесь, чтобы малыш больше двигался, бегал, прыг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2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ключите в рацион полезные для глаз продукты: творог, кефир, отварную  морскую рыбу, морепродукты, говядину, морковь, капусту, чернику, бруснику, клюкву, петрушку, укроп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3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его осанкой - при «кривой» спине нарушается кровоснабжение головного мозга, которое и провоцирует проблемы со зрением. Запомните: расстояние между книгой и глазами должно быть не менее 25-30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4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е допускайте, чтобы ребенок подолгу сидел перед телевизором, а если уж сидит, то только строго напротив и не ближе трех мет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5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читать лежа и как можно меньше при искусственном освещ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6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е забывайте, что смотреть телевизор в темной комнате нежелательно.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7. 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школьник может играть на компьютере не более получаса в день,  после 7 лет - 1 час в день или два подхода по 40 мин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8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о игры на сотов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елефоне лучше забы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9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дневно делайте вмес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мнастику  глаз – преврат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у  процеду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влекательную игру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99AC-BAB7-4F3A-BD0E-0C17B6DB0C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Комплекс упражнений для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агаем специальный комплекс упражнений для глаз, который при регулярном выполнении может стать хорошей тренировкой и профилактикой для сохранения зрения. Упражнения лучше проводить в игровой форме, с любимыми игрушками ребенка, передвигая их вправо-влево, вверх-вниз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пражнения выполняются сидя, голова неподвижна, поза удобная, с максимальной амплитудой движения гл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мур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рыть глаза, сильно напрягая глазные мышцы, на счет 1 - 4, затем раскрыть глаза, расслабив мышцы глаз, посмотрев вдаль, на счет 1 - 6. Повторить 4 - 5 раз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лизко-далеко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смотреть на переносицу и задержать взор на сч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4. До усталости глаза доводить нельзя. Затем открыть глаза, посмотреть вдаль на счет 1 - 6. Повторить 4 - 5 раз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во-право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 - 4, затем посмотреть вдаль прямо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1 - 6. Аналогичным образом проводятся упражнения, но с фиксацией взгляда влево, вверх, вниз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 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агонал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еревести взгляд быстро по диагонали: направо вверх - налево вниз, потом прямо вдаль на счет 1 - 6; затем налево - вверх - направо - вниз и посмотреть вдаль на счет 1 - 6. Повторить 3 - 4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F17E-5BF9-401D-A1B8-D08B8B4D19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Arno Pro Light Display"/>
              </a:rPr>
              <a:t>Закаливание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Arno Pro Light Display"/>
              </a:rPr>
              <a:t> </a:t>
            </a:r>
            <a:r>
              <a:rPr b="0" lang="ru-RU" sz="1200" spc="-1" strike="noStrike">
                <a:solidFill>
                  <a:srgbClr val="cc0099"/>
                </a:solidFill>
                <a:latin typeface="Arno Pro Light Display"/>
              </a:rPr>
              <a:t>первый шаг на пути к здоро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каливание детей необходимо для того, чтобы повысить их устойчивость к воздействию низких и высоких температур воздуха и за счет этого предотвратить частые заболе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При закаливании детей следует придерживаться та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основных принципов</a:t>
            </a: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ь закаливающие процедуры систематичес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увеличивать время воздействия закаливающего фактора постепен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ть настроение ребенка и проводить процедуры в форме игр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начинать закаливание в любом возраст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гда не выполнять процедуры, если малыш замерз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избегать сильных раздражителей: продолжительного воздействия холодной воды или очень низких температур воздуха, а также перегревания на солнц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 подбирать одежду и обувь: они должна соответствовать температуре окружающего воздуха и быть из натуральных тканей и материал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закаливаться всей семь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ливающие процеду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ть с физическими упражн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ассаж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в помещении, где находится ребено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никогда не кур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DEB0-933A-410A-B83E-BE56B97E50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Способы закал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новные факторы закаливания - природные и доступные “Солнце. Воздух и Вода”. Начинать закаливание детей можно  с первого месяца жизни после осмотра малыша врачом-педиатром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«Холодный таз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ейте в таз холодную воду с температурой не выше +12С и облейте ступни ребенка, стоящего в ванне. Попросите ребенка потопать ножками, пока стекает вода. Отверстие для стока воды должно быть открытым. Промокните ноги полотенцем. В первый день продолжительность ходьбы  - 1 минута, ежедневно добавляйте по 1 минуте, доводя до 5 мин. Помните! Лучше проводить закаливание в течение 1 мин в хорошем настроении ребенка, чем 5 мин с каприз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«Холодное полотенце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ебенку не нравится обливание холодной водой, постелите в ванне полотенце, смоченное холодной водой (тем 12 С) Попросите ребенка потопать ножками (не стоять!) на нем в течение 1 мин (утром и на ночь). Вытрите ребенку ноги, не растирая, а промокая полотенц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«Контрастный душ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ок вечером купается в ванне. Пусть он согреется в теплой воде. А потом скажите ему: "Давай мы с тобой устроим холодный дождик или побегаем по лужам". Вы открываете холодную воду, и ребенок подставляет воде свои пяточки и ладош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ебенок боится воздействия холодн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уш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можно вначале поставить таз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холодной водой и сказ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А ну, давай с тобой по лужам побегаем!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от из теплой ванны - в холодный таз (или "под дождик"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отом - опять в ванну. И так не менее трех раз. После процедуры укутайте ребенка в теплую простыню не вытирая, а промокая воду, потом оденьте его для сна и положите в кр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F2EC-23EA-4F2B-A5A0-675E4695D1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66E4-59FC-4B0C-915F-80B3493E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CB63-2410-43FB-AA3D-B94E3A43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D660-4BDB-41EA-B4BA-7BA2C3A1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C15D-AAAD-4364-9C8E-3B96A12C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E29A-204B-4A98-BD1C-FD1CBAE9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9300-54B0-4DBB-B1C1-FD5610EE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BB52-A060-4419-8D7B-D28B6D6E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41B4-7E22-4094-96CB-6FC6F779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A33-6EF3-4DC7-82FE-068FF567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EF65-D225-41BE-8E78-59313824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23CE-5125-4814-AAF7-22C9EA23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93D8-71E6-4AFF-A58D-1B2EA5DD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C061-0B99-40B5-AB84-D44C5689B36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FDC3-3DCE-4313-B5B4-E8AEF31DE0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39.wmf"/><Relationship Id="rId4" Type="http://schemas.openxmlformats.org/officeDocument/2006/relationships/image" Target="../media/image39.wmf"/><Relationship Id="rId5" Type="http://schemas.openxmlformats.org/officeDocument/2006/relationships/image" Target="../media/image39.wmf"/><Relationship Id="rId6" Type="http://schemas.openxmlformats.org/officeDocument/2006/relationships/image" Target="../media/image39.wmf"/><Relationship Id="rId7" Type="http://schemas.openxmlformats.org/officeDocument/2006/relationships/image" Target="../media/image39.wmf"/><Relationship Id="rId8" Type="http://schemas.openxmlformats.org/officeDocument/2006/relationships/image" Target="../media/image39.wmf"/><Relationship Id="rId9" Type="http://schemas.openxmlformats.org/officeDocument/2006/relationships/image" Target="../media/image39.wmf"/><Relationship Id="rId10" Type="http://schemas.openxmlformats.org/officeDocument/2006/relationships/image" Target="../media/image39.wmf"/><Relationship Id="rId11" Type="http://schemas.openxmlformats.org/officeDocument/2006/relationships/image" Target="../media/image39.wmf"/><Relationship Id="rId12" Type="http://schemas.openxmlformats.org/officeDocument/2006/relationships/image" Target="../media/image39.wmf"/><Relationship Id="rId13" Type="http://schemas.openxmlformats.org/officeDocument/2006/relationships/image" Target="../media/image39.wmf"/><Relationship Id="rId14" Type="http://schemas.openxmlformats.org/officeDocument/2006/relationships/image" Target="../media/image39.wmf"/><Relationship Id="rId15" Type="http://schemas.openxmlformats.org/officeDocument/2006/relationships/image" Target="../media/image39.wmf"/><Relationship Id="rId16" Type="http://schemas.openxmlformats.org/officeDocument/2006/relationships/image" Target="../media/image39.wmf"/><Relationship Id="rId17" Type="http://schemas.openxmlformats.org/officeDocument/2006/relationships/image" Target="../media/image39.wmf"/><Relationship Id="rId18" Type="http://schemas.openxmlformats.org/officeDocument/2006/relationships/image" Target="../media/image39.wmf"/><Relationship Id="rId19" Type="http://schemas.openxmlformats.org/officeDocument/2006/relationships/image" Target="../media/image39.wmf"/><Relationship Id="rId20" Type="http://schemas.openxmlformats.org/officeDocument/2006/relationships/image" Target="../media/image39.wmf"/><Relationship Id="rId21" Type="http://schemas.openxmlformats.org/officeDocument/2006/relationships/image" Target="../media/image39.wmf"/><Relationship Id="rId22" Type="http://schemas.openxmlformats.org/officeDocument/2006/relationships/image" Target="../media/image39.wmf"/><Relationship Id="rId23" Type="http://schemas.openxmlformats.org/officeDocument/2006/relationships/image" Target="../media/image39.wmf"/><Relationship Id="rId24" Type="http://schemas.openxmlformats.org/officeDocument/2006/relationships/image" Target="../media/image39.wmf"/><Relationship Id="rId25" Type="http://schemas.openxmlformats.org/officeDocument/2006/relationships/image" Target="../media/image39.wmf"/><Relationship Id="rId26" Type="http://schemas.openxmlformats.org/officeDocument/2006/relationships/image" Target="../media/image39.wmf"/><Relationship Id="rId27" Type="http://schemas.openxmlformats.org/officeDocument/2006/relationships/image" Target="../media/image40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lin ang="180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0" y="1285920"/>
            <a:ext cx="6589800" cy="29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екомендации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одителям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по укреплению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здоровья детей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142560"/>
            <a:ext cx="61722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портивная энциклопед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C:\Users\viki\AppData\Local\Microsoft\Windows\Temporary Internet Files\Content.IE5\RSWC3R1M\MCj04345990000[1].wmf"/>
          <p:cNvPicPr/>
          <p:nvPr/>
        </p:nvPicPr>
        <p:blipFill>
          <a:blip r:embed="rId1"/>
          <a:stretch/>
        </p:blipFill>
        <p:spPr>
          <a:xfrm>
            <a:off x="5599080" y="90360"/>
            <a:ext cx="973080" cy="1338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:\Users\viki\AppData\Local\Microsoft\Windows\Temporary Internet Files\Content.IE5\QYIAUPJ1\MCj04360450000[1].wmf"/>
          <p:cNvPicPr/>
          <p:nvPr/>
        </p:nvPicPr>
        <p:blipFill>
          <a:blip r:embed="rId2"/>
          <a:stretch/>
        </p:blipFill>
        <p:spPr>
          <a:xfrm>
            <a:off x="60480" y="5786280"/>
            <a:ext cx="2797200" cy="2965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C:\Users\viki\AppData\Local\Microsoft\Windows\Temporary Internet Files\Content.IE5\5HM5BHCY\MCj04358390000[1].wmf"/>
          <p:cNvPicPr/>
          <p:nvPr/>
        </p:nvPicPr>
        <p:blipFill>
          <a:blip r:embed="rId3"/>
          <a:stretch/>
        </p:blipFill>
        <p:spPr>
          <a:xfrm>
            <a:off x="4214880" y="6143760"/>
            <a:ext cx="2585880" cy="2585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C:\Users\viki\AppData\Local\Microsoft\Windows\Temporary Internet Files\Content.IE5\HT7649U9\MCj04283330000[1].wmf"/>
          <p:cNvPicPr/>
          <p:nvPr/>
        </p:nvPicPr>
        <p:blipFill>
          <a:blip r:embed="rId4"/>
          <a:stretch/>
        </p:blipFill>
        <p:spPr>
          <a:xfrm>
            <a:off x="2349360" y="4572000"/>
            <a:ext cx="2500560" cy="20271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Прямоугольник 3" descr=""/>
          <p:cNvPicPr/>
          <p:nvPr/>
        </p:nvPicPr>
        <p:blipFill>
          <a:blip r:embed="rId1"/>
          <a:stretch/>
        </p:blipFill>
        <p:spPr>
          <a:xfrm>
            <a:off x="-573120" y="291960"/>
            <a:ext cx="7967520" cy="18543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5"/>
          <p:cNvSpPr/>
          <p:nvPr/>
        </p:nvSpPr>
        <p:spPr>
          <a:xfrm>
            <a:off x="214200" y="3929040"/>
            <a:ext cx="6500880" cy="371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и когда лучше заняться босохождение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азумеется, зимой в холода начинать приучать ребенка к подобному не стоит, но весной или летом, малыш вполне может бегать босиком по полу дома, а еще лучше – по зеленой трав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ебенок должен регулярно ходить босиком, настоящий закаливающий  эффект наступает лишь после длительных систематических трениров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Используйте специальные резиновые коврики с шиповым рифлением. Каждое утро начинайте зарядку с ходьбы босиком на таком коври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олезно массировать стопы ног с помощью скалки или круглой палки, катая их подошвами по несколько минут в де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2"/>
          <p:cNvSpPr/>
          <p:nvPr/>
        </p:nvSpPr>
        <p:spPr>
          <a:xfrm>
            <a:off x="142920" y="1643040"/>
            <a:ext cx="65721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один способ закалки – это </a:t>
            </a: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прогулки босик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ждение босиком не только закаляет, но и стимулирует нервные окончания, находящиеся на стопе, положительно влияет на работу внутренних органов.  По мнению некоторых специалистов</a:t>
            </a: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, подошвы ног – это своеобразный распределительный щит с 72 тыс. нервных окончаний, через который можно  подключиться  к любому органу – головному мозгу, легким и верхним дыхательным путям, печени и почкам, эндокринным железам и др. орган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Группа 14"/>
          <p:cNvGrpSpPr/>
          <p:nvPr/>
        </p:nvGrpSpPr>
        <p:grpSpPr>
          <a:xfrm>
            <a:off x="210960" y="1429200"/>
            <a:ext cx="6504480" cy="504000"/>
            <a:chOff x="210960" y="1429200"/>
            <a:chExt cx="6504480" cy="504000"/>
          </a:xfrm>
        </p:grpSpPr>
        <p:pic>
          <p:nvPicPr>
            <p:cNvPr id="138" name="Picture 2" descr="C:\Users\viki\AppData\Local\Microsoft\Windows\Temporary Internet Files\Content.IE5\GMERIPU6\MCj04160140000[1].wmf"/>
            <p:cNvPicPr/>
            <p:nvPr/>
          </p:nvPicPr>
          <p:blipFill>
            <a:blip r:embed="rId2"/>
            <a:stretch/>
          </p:blipFill>
          <p:spPr>
            <a:xfrm rot="5015400">
              <a:off x="941040" y="149832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2" descr="C:\Users\viki\AppData\Local\Microsoft\Windows\Temporary Internet Files\Content.IE5\GMERIPU6\MCj04160140000[1].wmf"/>
            <p:cNvPicPr/>
            <p:nvPr/>
          </p:nvPicPr>
          <p:blipFill>
            <a:blip r:embed="rId3"/>
            <a:stretch/>
          </p:blipFill>
          <p:spPr>
            <a:xfrm rot="5062200">
              <a:off x="1626840" y="151416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" descr="C:\Users\viki\AppData\Local\Microsoft\Windows\Temporary Internet Files\Content.IE5\GMERIPU6\MCj04160140000[1].wmf"/>
            <p:cNvPicPr/>
            <p:nvPr/>
          </p:nvPicPr>
          <p:blipFill>
            <a:blip r:embed="rId4"/>
            <a:stretch/>
          </p:blipFill>
          <p:spPr>
            <a:xfrm rot="4956000">
              <a:off x="234720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" descr="C:\Users\viki\AppData\Local\Microsoft\Windows\Temporary Internet Files\Content.IE5\GMERIPU6\MCj04160140000[1].wmf"/>
            <p:cNvPicPr/>
            <p:nvPr/>
          </p:nvPicPr>
          <p:blipFill>
            <a:blip r:embed="rId5"/>
            <a:stretch/>
          </p:blipFill>
          <p:spPr>
            <a:xfrm rot="4956000">
              <a:off x="313272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" descr="C:\Users\viki\AppData\Local\Microsoft\Windows\Temporary Internet Files\Content.IE5\GMERIPU6\MCj04160140000[1].wmf"/>
            <p:cNvPicPr/>
            <p:nvPr/>
          </p:nvPicPr>
          <p:blipFill>
            <a:blip r:embed="rId6"/>
            <a:stretch/>
          </p:blipFill>
          <p:spPr>
            <a:xfrm rot="4956000">
              <a:off x="393840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" descr="C:\Users\viki\AppData\Local\Microsoft\Windows\Temporary Internet Files\Content.IE5\GMERIPU6\MCj04160140000[1].wmf"/>
            <p:cNvPicPr/>
            <p:nvPr/>
          </p:nvPicPr>
          <p:blipFill>
            <a:blip r:embed="rId7"/>
            <a:stretch/>
          </p:blipFill>
          <p:spPr>
            <a:xfrm rot="4956000">
              <a:off x="472428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2" descr="C:\Users\viki\AppData\Local\Microsoft\Windows\Temporary Internet Files\Content.IE5\GMERIPU6\MCj04160140000[1].wmf"/>
            <p:cNvPicPr/>
            <p:nvPr/>
          </p:nvPicPr>
          <p:blipFill>
            <a:blip r:embed="rId8"/>
            <a:stretch/>
          </p:blipFill>
          <p:spPr>
            <a:xfrm rot="4956000">
              <a:off x="55814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2" descr="C:\Users\viki\AppData\Local\Microsoft\Windows\Temporary Internet Files\Content.IE5\GMERIPU6\MCj04160140000[1].wmf"/>
            <p:cNvPicPr/>
            <p:nvPr/>
          </p:nvPicPr>
          <p:blipFill>
            <a:blip r:embed="rId9"/>
            <a:stretch/>
          </p:blipFill>
          <p:spPr>
            <a:xfrm rot="4956000">
              <a:off x="62960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2" descr="C:\Users\viki\AppData\Local\Microsoft\Windows\Temporary Internet Files\Content.IE5\GMERIPU6\MCj04160140000[1].wmf"/>
            <p:cNvPicPr/>
            <p:nvPr/>
          </p:nvPicPr>
          <p:blipFill>
            <a:blip r:embed="rId10"/>
            <a:stretch/>
          </p:blipFill>
          <p:spPr>
            <a:xfrm rot="5015400">
              <a:off x="226800" y="1512720"/>
              <a:ext cx="399960" cy="39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Picture 2" descr="C:\Users\viki\AppData\Local\Microsoft\Windows\Temporary Internet Files\Content.IE5\GMERIPU6\MCj04160140000[1].wmf"/>
          <p:cNvPicPr/>
          <p:nvPr/>
        </p:nvPicPr>
        <p:blipFill>
          <a:blip r:embed="rId11"/>
          <a:stretch/>
        </p:blipFill>
        <p:spPr>
          <a:xfrm flipH="1" rot="18748800">
            <a:off x="4508280" y="837072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viki\AppData\Local\Microsoft\Windows\Temporary Internet Files\Content.IE5\GMERIPU6\MCj04160140000[1].wmf"/>
          <p:cNvPicPr/>
          <p:nvPr/>
        </p:nvPicPr>
        <p:blipFill>
          <a:blip r:embed="rId12"/>
          <a:stretch/>
        </p:blipFill>
        <p:spPr>
          <a:xfrm flipH="1" rot="4527600">
            <a:off x="6116400" y="61164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viki\AppData\Local\Microsoft\Windows\Temporary Internet Files\Content.IE5\GMERIPU6\MCj04160140000[1].wmf"/>
          <p:cNvPicPr/>
          <p:nvPr/>
        </p:nvPicPr>
        <p:blipFill>
          <a:blip r:embed="rId13"/>
          <a:stretch/>
        </p:blipFill>
        <p:spPr>
          <a:xfrm flipH="1" rot="19780200">
            <a:off x="6100560" y="482292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Users\viki\AppData\Local\Microsoft\Windows\Temporary Internet Files\Content.IE5\GMERIPU6\MCj04160140000[1].wmf"/>
          <p:cNvPicPr/>
          <p:nvPr/>
        </p:nvPicPr>
        <p:blipFill>
          <a:blip r:embed="rId14"/>
          <a:stretch/>
        </p:blipFill>
        <p:spPr>
          <a:xfrm flipH="1" rot="3929400">
            <a:off x="4988520" y="678384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C:\Users\viki\AppData\Local\Microsoft\Windows\Temporary Internet Files\Content.IE5\GMERIPU6\MCj04160140000[1].wmf"/>
          <p:cNvPicPr/>
          <p:nvPr/>
        </p:nvPicPr>
        <p:blipFill>
          <a:blip r:embed="rId15"/>
          <a:stretch/>
        </p:blipFill>
        <p:spPr>
          <a:xfrm flipH="1" rot="17756400">
            <a:off x="5322600" y="846936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Users\viki\AppData\Local\Microsoft\Windows\Temporary Internet Files\Content.IE5\GMERIPU6\MCj04160140000[1].wmf"/>
          <p:cNvPicPr/>
          <p:nvPr/>
        </p:nvPicPr>
        <p:blipFill>
          <a:blip r:embed="rId16"/>
          <a:stretch/>
        </p:blipFill>
        <p:spPr>
          <a:xfrm flipH="1" rot="4482600">
            <a:off x="130320" y="862092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Users\viki\AppData\Local\Microsoft\Windows\Temporary Internet Files\Content.IE5\GMERIPU6\MCj04160140000[1].wmf"/>
          <p:cNvPicPr/>
          <p:nvPr/>
        </p:nvPicPr>
        <p:blipFill>
          <a:blip r:embed="rId17"/>
          <a:stretch/>
        </p:blipFill>
        <p:spPr>
          <a:xfrm flipH="1" rot="16643400">
            <a:off x="594720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Users\viki\AppData\Local\Microsoft\Windows\Temporary Internet Files\Content.IE5\GMERIPU6\MCj04160140000[1].wmf"/>
          <p:cNvPicPr/>
          <p:nvPr/>
        </p:nvPicPr>
        <p:blipFill>
          <a:blip r:embed="rId18"/>
          <a:stretch/>
        </p:blipFill>
        <p:spPr>
          <a:xfrm flipH="1" rot="16643400">
            <a:off x="51804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C:\Users\viki\AppData\Local\Microsoft\Windows\Temporary Internet Files\Content.IE5\GMERIPU6\MCj04160140000[1].wmf"/>
          <p:cNvPicPr/>
          <p:nvPr/>
        </p:nvPicPr>
        <p:blipFill>
          <a:blip r:embed="rId19"/>
          <a:stretch/>
        </p:blipFill>
        <p:spPr>
          <a:xfrm flipH="1" rot="18199800">
            <a:off x="6144480" y="8674200"/>
            <a:ext cx="400320" cy="3906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5"/>
          <p:cNvSpPr/>
          <p:nvPr/>
        </p:nvSpPr>
        <p:spPr>
          <a:xfrm>
            <a:off x="214200" y="7358040"/>
            <a:ext cx="6429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 ходьбе босиком увеличивается интенсивная деятельность почти всех мышц, стимулируется кровообращение во всем организме, улучшается умственная деятельность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C:\Users\viki\AppData\Local\Microsoft\Windows\Temporary Internet Files\Content.IE5\GMERIPU6\MCj04160140000[1].wmf"/>
          <p:cNvPicPr/>
          <p:nvPr/>
        </p:nvPicPr>
        <p:blipFill>
          <a:blip r:embed="rId20"/>
          <a:stretch/>
        </p:blipFill>
        <p:spPr>
          <a:xfrm flipH="1" rot="19433400">
            <a:off x="6238800" y="41022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Users\viki\AppData\Local\Microsoft\Windows\Temporary Internet Files\Content.IE5\GMERIPU6\MCj04160140000[1].wmf"/>
          <p:cNvPicPr/>
          <p:nvPr/>
        </p:nvPicPr>
        <p:blipFill>
          <a:blip r:embed="rId21"/>
          <a:stretch/>
        </p:blipFill>
        <p:spPr>
          <a:xfrm flipH="1" rot="18459000">
            <a:off x="5596200" y="3456720"/>
            <a:ext cx="400320" cy="388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Users\viki\AppData\Local\Microsoft\Windows\Temporary Internet Files\Content.IE5\GMERIPU6\MCj04160140000[1].wmf"/>
          <p:cNvPicPr/>
          <p:nvPr/>
        </p:nvPicPr>
        <p:blipFill>
          <a:blip r:embed="rId22"/>
          <a:stretch/>
        </p:blipFill>
        <p:spPr>
          <a:xfrm flipH="1" rot="4482600">
            <a:off x="773280" y="834624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C:\Users\viki\AppData\Local\Microsoft\Windows\Temporary Internet Files\Content.IE5\GMERIPU6\MCj04160140000[1].wmf"/>
          <p:cNvPicPr/>
          <p:nvPr/>
        </p:nvPicPr>
        <p:blipFill>
          <a:blip r:embed="rId23"/>
          <a:stretch/>
        </p:blipFill>
        <p:spPr>
          <a:xfrm flipH="1" rot="4480800">
            <a:off x="1540800" y="8192880"/>
            <a:ext cx="400680" cy="390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Users\viki\AppData\Local\Microsoft\Windows\Temporary Internet Files\Content.IE5\GMERIPU6\MCj04160140000[1].wmf"/>
          <p:cNvPicPr/>
          <p:nvPr/>
        </p:nvPicPr>
        <p:blipFill>
          <a:blip r:embed="rId24"/>
          <a:stretch/>
        </p:blipFill>
        <p:spPr>
          <a:xfrm flipH="1" rot="18139200">
            <a:off x="4743720" y="34614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Users\viki\AppData\Local\Microsoft\Windows\Temporary Internet Files\Content.IE5\GMERIPU6\MCj04160140000[1].wmf"/>
          <p:cNvPicPr/>
          <p:nvPr/>
        </p:nvPicPr>
        <p:blipFill>
          <a:blip r:embed="rId25"/>
          <a:stretch/>
        </p:blipFill>
        <p:spPr>
          <a:xfrm flipH="1" rot="17579400">
            <a:off x="390060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C:\Users\viki\AppData\Local\Microsoft\Windows\Temporary Internet Files\Content.IE5\GMERIPU6\MCj04160140000[1].wmf"/>
          <p:cNvPicPr/>
          <p:nvPr/>
        </p:nvPicPr>
        <p:blipFill>
          <a:blip r:embed="rId26"/>
          <a:stretch/>
        </p:blipFill>
        <p:spPr>
          <a:xfrm flipH="1" rot="17579400">
            <a:off x="305604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Users\viki\AppData\Local\Microsoft\Windows\Temporary Internet Files\Content.IE5\GMERIPU6\MCj04160140000[1].wmf"/>
          <p:cNvPicPr/>
          <p:nvPr/>
        </p:nvPicPr>
        <p:blipFill>
          <a:blip r:embed="rId27"/>
          <a:stretch/>
        </p:blipFill>
        <p:spPr>
          <a:xfrm>
            <a:off x="2309760" y="3333600"/>
            <a:ext cx="506520" cy="5860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Прямоугольник 5" descr=""/>
          <p:cNvPicPr/>
          <p:nvPr/>
        </p:nvPicPr>
        <p:blipFill>
          <a:blip r:embed="rId1"/>
          <a:stretch/>
        </p:blipFill>
        <p:spPr>
          <a:xfrm>
            <a:off x="-1500120" y="109440"/>
            <a:ext cx="10302840" cy="20732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0" y="75564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no Pro Caption"/>
              </a:rPr>
              <a:t>Окончательно стопа формируется у ребенка к 7-8 годам. Плоскостопие считается одним из самых распространенных заболеваний у  детей. Но родители часто не воспринимают это заболевание всерьез и это неправильная пози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Прямоугольник 7" descr=""/>
          <p:cNvPicPr/>
          <p:nvPr/>
        </p:nvPicPr>
        <p:blipFill>
          <a:blip r:embed="rId2"/>
          <a:stretch/>
        </p:blipFill>
        <p:spPr>
          <a:xfrm>
            <a:off x="255600" y="1865160"/>
            <a:ext cx="6389640" cy="7495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285840" y="3000240"/>
            <a:ext cx="6357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вь у ребенка должна быть сделана из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натуральных материалов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внутри с твердым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супинаторо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поднимающим внутренний край сто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дошва детской обуви должна быть гибкой  и име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каблук (5-10 мм)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искусственно поднимающий свод стопы, защищающий пятку от ушиб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C:\Users\viki\AppData\Local\Microsoft\Windows\Temporary Internet Files\Content.IE5\HT7649U9\MCBD10572_0000[1].wmf"/>
          <p:cNvPicPr/>
          <p:nvPr/>
        </p:nvPicPr>
        <p:blipFill>
          <a:blip r:embed="rId3"/>
          <a:stretch/>
        </p:blipFill>
        <p:spPr>
          <a:xfrm>
            <a:off x="285840" y="4552920"/>
            <a:ext cx="2598480" cy="2305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:\Users\viki\AppData\Local\Microsoft\Windows\Temporary Internet Files\Content.IE5\6NZXK4SD\MCj00903600000[1].wmf"/>
          <p:cNvPicPr/>
          <p:nvPr/>
        </p:nvPicPr>
        <p:blipFill>
          <a:blip r:embed="rId4"/>
          <a:stretch/>
        </p:blipFill>
        <p:spPr>
          <a:xfrm>
            <a:off x="0" y="2500200"/>
            <a:ext cx="6861240" cy="574920"/>
          </a:xfrm>
          <a:prstGeom prst="rect">
            <a:avLst/>
          </a:prstGeom>
          <a:ln w="0">
            <a:noFill/>
          </a:ln>
        </p:spPr>
      </p:pic>
      <p:grpSp>
        <p:nvGrpSpPr>
          <p:cNvPr id="173" name="Группа 14"/>
          <p:cNvGrpSpPr/>
          <p:nvPr/>
        </p:nvGrpSpPr>
        <p:grpSpPr>
          <a:xfrm>
            <a:off x="5456160" y="7997760"/>
            <a:ext cx="1285920" cy="1074960"/>
            <a:chOff x="5456160" y="7997760"/>
            <a:chExt cx="1285920" cy="1074960"/>
          </a:xfrm>
        </p:grpSpPr>
        <p:pic>
          <p:nvPicPr>
            <p:cNvPr id="174" name="Picture 3" descr="C:\Users\viki\AppData\Local\Microsoft\Windows\Temporary Internet Files\Content.IE5\YHBMSOS7\MCHH01678_0000[1].wmf"/>
            <p:cNvPicPr/>
            <p:nvPr/>
          </p:nvPicPr>
          <p:blipFill>
            <a:blip r:embed="rId5"/>
            <a:stretch/>
          </p:blipFill>
          <p:spPr>
            <a:xfrm>
              <a:off x="5956200" y="7997760"/>
              <a:ext cx="78588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3" descr="C:\Users\viki\AppData\Local\Microsoft\Windows\Temporary Internet Files\Content.IE5\YHBMSOS7\MCHH01678_0000[1].wmf"/>
            <p:cNvPicPr/>
            <p:nvPr/>
          </p:nvPicPr>
          <p:blipFill>
            <a:blip r:embed="rId6"/>
            <a:stretch/>
          </p:blipFill>
          <p:spPr>
            <a:xfrm flipH="1">
              <a:off x="5456160" y="8283600"/>
              <a:ext cx="864000" cy="7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TextBox 16"/>
          <p:cNvSpPr/>
          <p:nvPr/>
        </p:nvSpPr>
        <p:spPr>
          <a:xfrm>
            <a:off x="2000160" y="4462560"/>
            <a:ext cx="542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вь должна соответствовать форм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размеру стопы, была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удобной при нос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не мешала естественному развитию ноги, не сдавливала стопу, нарушая кровообращение и вызывая потертост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3143160" y="5716440"/>
            <a:ext cx="3714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весу обувь должна быть максимально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легкой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остаточно жесткой, с хорошим задни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мните, длина следа должна бы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больше стопы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носочной части, припуск в 10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8"/>
          <p:cNvSpPr/>
          <p:nvPr/>
        </p:nvSpPr>
        <p:spPr>
          <a:xfrm>
            <a:off x="1643040" y="7715160"/>
            <a:ext cx="5429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7"/>
          <p:cNvSpPr/>
          <p:nvPr/>
        </p:nvSpPr>
        <p:spPr>
          <a:xfrm>
            <a:off x="71280" y="7297560"/>
            <a:ext cx="557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При определении размера обуви ребенка руководствуйтесь длиной стопы которая определяется расстоянием между наиболее выступающей точкой пятки и концом самого длинного паль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(первого или втор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Прямоугольник 3" descr=""/>
          <p:cNvPicPr/>
          <p:nvPr/>
        </p:nvPicPr>
        <p:blipFill>
          <a:blip r:embed="rId1"/>
          <a:stretch/>
        </p:blipFill>
        <p:spPr>
          <a:xfrm>
            <a:off x="-1573200" y="201600"/>
            <a:ext cx="10302840" cy="24811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6"/>
          <p:cNvSpPr/>
          <p:nvPr/>
        </p:nvSpPr>
        <p:spPr>
          <a:xfrm>
            <a:off x="27000" y="2268360"/>
            <a:ext cx="6858000" cy="65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 упражнений при плоскостоп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лечебная гимнасти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Описание упражнений</a:t>
            </a:r>
            <a:r>
              <a:rPr b="0" lang="ru-RU" sz="1600" spc="-1" strike="noStrike">
                <a:solidFill>
                  <a:srgbClr val="cc0099"/>
                </a:solidFill>
                <a:latin typeface="Arial"/>
              </a:rPr>
              <a:t>                                 </a:t>
            </a: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 Кол-во повто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дьб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носках, руки вверх                                                </a:t>
            </a:r>
            <a:r>
              <a:rPr b="0" lang="ru-RU" sz="1400" spc="-1" strike="noStrike">
                <a:solidFill>
                  <a:srgbClr val="d60093"/>
                </a:solidFill>
                <a:latin typeface="Arial"/>
              </a:rPr>
              <a:t>по 20-30 с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на пятках, руки на поя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на наружном своде стоп, пальцы согнуты, руки на пояс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 мячом (теннисным) - зажать стопами, ходить на внешней стороне сто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Стоя на палке (обруче)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полуприседания и приседания, руки вперед или в ст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ередвижение вдоль палки - ставить стопы вдоль или поперек палки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3-4 ра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Сто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на наружном своде стоп - поворот туловище лев –прав.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однимание на носках с упором на наружный свод стопы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"Лодочка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животе одновременно поднять руки, голову, ноги и держать до 5-7 минут                      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"Угол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спине держать ноги под углом 45 гр.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ид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сгибание - разгибание пальцев стоп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максимальное разведение и сведение пяток, не отрывая носков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с напряжением тянуть носки на себя, от себя  (колени прямые )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оединить стопы. Колени прямые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) круговые движения стопами внутрь,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) захватывание и приподнимание пальцами стоп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андаша или мелкого предмета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) захватывание и приподнимание стопами мал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яча, колени прямые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                           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8" descr="art874_1.jpg"/>
          <p:cNvPicPr/>
          <p:nvPr/>
        </p:nvPicPr>
        <p:blipFill>
          <a:blip r:embed="rId2"/>
          <a:srcRect l="0" t="0" r="0" b="50008"/>
          <a:stretch/>
        </p:blipFill>
        <p:spPr>
          <a:xfrm>
            <a:off x="214200" y="1785960"/>
            <a:ext cx="1360440" cy="100008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9" descr="platy3.jpg"/>
          <p:cNvPicPr/>
          <p:nvPr/>
        </p:nvPicPr>
        <p:blipFill>
          <a:blip r:embed="rId3"/>
          <a:stretch/>
        </p:blipFill>
        <p:spPr>
          <a:xfrm>
            <a:off x="4572000" y="7542360"/>
            <a:ext cx="1952640" cy="137304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0" descr="art874_1.jpg"/>
          <p:cNvPicPr/>
          <p:nvPr/>
        </p:nvPicPr>
        <p:blipFill>
          <a:blip r:embed="rId4"/>
          <a:srcRect l="0" t="49539" r="0" b="0"/>
          <a:stretch/>
        </p:blipFill>
        <p:spPr>
          <a:xfrm>
            <a:off x="1643040" y="1214280"/>
            <a:ext cx="1360440" cy="10098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7"/>
          <p:cNvSpPr/>
          <p:nvPr/>
        </p:nvSpPr>
        <p:spPr>
          <a:xfrm>
            <a:off x="2857680" y="1214280"/>
            <a:ext cx="40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Если Ваш ребёнок жалуется на усталость после прогулки и/или слишком быстро снашивает обувь, то, возможно, у него развивается плоскостоп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1"/>
          <p:cNvSpPr/>
          <p:nvPr/>
        </p:nvSpPr>
        <p:spPr>
          <a:xfrm>
            <a:off x="3429000" y="883620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тепени продольног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лоскостоп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4200" y="2785680"/>
            <a:ext cx="652968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Улучшает работу внутренних органов, развивает сердечно-сосудистую и дыхательную систему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В условиях продолжительного пребывания в воде совершенствуются процессы терморегуляции. Происходит закаливание организма, растет  сопротивляемость неблагоприятным факторам внешней сред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Плавание, является одним из лучших средств формирования правильной осанки ребенк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Дозированное плавание может быть полезно детям, склонным к простудным заболевания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Прямоугольник 6" descr=""/>
          <p:cNvPicPr/>
          <p:nvPr/>
        </p:nvPicPr>
        <p:blipFill>
          <a:blip r:embed="rId1"/>
          <a:stretch/>
        </p:blipFill>
        <p:spPr>
          <a:xfrm>
            <a:off x="407880" y="-244440"/>
            <a:ext cx="5956560" cy="1457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C:\Users\viki\AppData\Local\Microsoft\Windows\Temporary Internet Files\Content.IE5\QYIAUPJ1\MCj02321440000[1].wmf"/>
          <p:cNvPicPr/>
          <p:nvPr/>
        </p:nvPicPr>
        <p:blipFill>
          <a:blip r:embed="rId2"/>
          <a:stretch/>
        </p:blipFill>
        <p:spPr>
          <a:xfrm>
            <a:off x="4786200" y="7122960"/>
            <a:ext cx="1857600" cy="202104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2"/>
          <p:cNvSpPr/>
          <p:nvPr/>
        </p:nvSpPr>
        <p:spPr>
          <a:xfrm>
            <a:off x="2357280" y="928800"/>
            <a:ext cx="4429440" cy="1797480"/>
          </a:xfrm>
          <a:prstGeom prst="rect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ннее плавание детей способствует быстрейшему их физическому и психомоторному развитию. При плавании кожа ребенка испытывает благотворное массирующее воздействие воды, в связи с чем улучшается кровообращение и укрепляется нервная сист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C:\Users\viki\AppData\Local\Microsoft\Windows\Temporary Internet Files\Content.IE5\09MDLVTJ\MCj03433910000[1].wmf"/>
          <p:cNvPicPr/>
          <p:nvPr/>
        </p:nvPicPr>
        <p:blipFill>
          <a:blip r:embed="rId3"/>
          <a:srcRect l="0" t="9184" r="0" b="0"/>
          <a:stretch/>
        </p:blipFill>
        <p:spPr>
          <a:xfrm>
            <a:off x="214200" y="928800"/>
            <a:ext cx="2041560" cy="1785960"/>
          </a:xfrm>
          <a:prstGeom prst="rect">
            <a:avLst/>
          </a:prstGeom>
          <a:ln w="19080">
            <a:solidFill>
              <a:srgbClr val="00b0f0"/>
            </a:solidFill>
            <a:miter/>
          </a:ln>
        </p:spPr>
      </p:pic>
      <p:sp>
        <p:nvSpPr>
          <p:cNvPr id="196" name="TextBox 14"/>
          <p:cNvSpPr/>
          <p:nvPr/>
        </p:nvSpPr>
        <p:spPr>
          <a:xfrm>
            <a:off x="214200" y="667548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Регулярные занятия плаванием, способствуют укреплению нервной системы, крепче становится сон, улучшается аппетит, повышается общий тонус организма, совершенствуются движения, увеличивается выносл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214200" y="1275840"/>
            <a:ext cx="6929280" cy="17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санка – это привычное положение тела человека. Она считается правильной, если человек держит голову прямо и свободно, плечи находятся на одном уровне, слегка опущены назад, корпус выпрямлен, живот подтянут, грудь слегка выступает вперед, колени выпрямле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Прямоугольник 3" descr=""/>
          <p:cNvPicPr/>
          <p:nvPr/>
        </p:nvPicPr>
        <p:blipFill>
          <a:blip r:embed="rId1"/>
          <a:stretch/>
        </p:blipFill>
        <p:spPr>
          <a:xfrm>
            <a:off x="298440" y="-201600"/>
            <a:ext cx="6089760" cy="19018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6" descr="osanka2.gif"/>
          <p:cNvPicPr/>
          <p:nvPr/>
        </p:nvPicPr>
        <p:blipFill>
          <a:blip r:embed="rId2"/>
          <a:stretch/>
        </p:blipFill>
        <p:spPr>
          <a:xfrm>
            <a:off x="2571840" y="2838600"/>
            <a:ext cx="4214880" cy="1733400"/>
          </a:xfrm>
          <a:prstGeom prst="rect">
            <a:avLst/>
          </a:prstGeom>
          <a:ln w="0">
            <a:noFill/>
          </a:ln>
        </p:spPr>
      </p:pic>
      <p:sp>
        <p:nvSpPr>
          <p:cNvPr id="202" name="TextBox 7"/>
          <p:cNvSpPr/>
          <p:nvPr/>
        </p:nvSpPr>
        <p:spPr>
          <a:xfrm>
            <a:off x="0" y="2928960"/>
            <a:ext cx="32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ая осанка не бывает врожденной, она начинает формиров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ервых лет наше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214200" y="435780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иболее ответственный период для форм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анк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4 до 10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учая вашего ребенка «правильно» держать свое тел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забывайте при этом и про вашу оса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142920" y="5486400"/>
            <a:ext cx="6643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6600"/>
                </a:solidFill>
                <a:uFillTx/>
                <a:latin typeface="Segoe Print"/>
              </a:rPr>
              <a:t>Причины формирования неправильной осанки явля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крепкого, достаточно развитого мышечного корсажа – мышечной сист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равномерное развитие мышц спины, живота  и бедер, изменение тяги, определяющей вертикальное положение позвоночн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олжительная болезнь или хронические заболевания, ослабляющие организ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дствия рах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соответствующая росту меб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добная одежда и обув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142920" y="8416800"/>
            <a:ext cx="47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йте осанку своего ребенка раз в пол года самостоятельно, не прибегая к помощи вр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10" descr="osanka3.jpg"/>
          <p:cNvPicPr/>
          <p:nvPr/>
        </p:nvPicPr>
        <p:blipFill>
          <a:blip r:embed="rId3"/>
          <a:stretch/>
        </p:blipFill>
        <p:spPr>
          <a:xfrm>
            <a:off x="4916520" y="7358040"/>
            <a:ext cx="1727280" cy="16970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Прямоугольник 4" descr=""/>
          <p:cNvPicPr/>
          <p:nvPr/>
        </p:nvPicPr>
        <p:blipFill>
          <a:blip r:embed="rId1"/>
          <a:stretch/>
        </p:blipFill>
        <p:spPr>
          <a:xfrm>
            <a:off x="-285840" y="-12600"/>
            <a:ext cx="7570800" cy="903240"/>
          </a:xfrm>
          <a:prstGeom prst="rect">
            <a:avLst/>
          </a:prstGeom>
          <a:ln w="0">
            <a:noFill/>
          </a:ln>
        </p:spPr>
      </p:pic>
      <p:pic>
        <p:nvPicPr>
          <p:cNvPr id="211" name="Содержимое 5" descr="556a4fba3e10.png"/>
          <p:cNvPicPr/>
          <p:nvPr/>
        </p:nvPicPr>
        <p:blipFill>
          <a:blip r:embed="rId2"/>
          <a:stretch/>
        </p:blipFill>
        <p:spPr>
          <a:xfrm>
            <a:off x="4321080" y="6477120"/>
            <a:ext cx="2536920" cy="26668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214200" y="1285920"/>
            <a:ext cx="65008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йте и разденьте ребенка до трусиков, поставьте прямо, руки должны быть опущены вдоль туловища. Сами сядьте на стул на расстоянии 2-3 м и внимательно посмотрите на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214200" y="64296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смотр вашего ребенка проводите в дневное время, при хорошем и равномерном освещ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142920" y="2214720"/>
            <a:ext cx="6643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мметрично ли расположены уши, лопатки, талия, складки под ягодицами и сами ягодицы. Если они находятся на разной высоте, есть причина для беспокойств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просите ребенка достать руками до пола, выгнув спину. Проверьте, нет ли вдоль поясничных позвонков валиков, не торчат ли лопа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мотрите на ребенка сбоку и проверьте, не сутулится ли он, попросите его наклонить голову вперед и, не поднимая головы, повернуть ее сначала в одну, затем в другую сторону. Убедитесь, что объем движений при этом одинаков и выполняются они без ограни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9"/>
          <p:cNvSpPr/>
          <p:nvPr/>
        </p:nvSpPr>
        <p:spPr>
          <a:xfrm>
            <a:off x="2052000" y="5143680"/>
            <a:ext cx="46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5b00"/>
                </a:solidFill>
                <a:latin typeface="Arial"/>
              </a:rPr>
              <a:t>Следим за осанкой в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142920" y="5700600"/>
            <a:ext cx="5143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Покажите ребенку такой способ: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стать к стене, плотно прижавшись затылком,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лопатками, ягодицами, икрами ног и пятками, подбородок слегка приподнять. Ребенок должен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зафиксировать в сознании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мышечные ощущения при таком положении тела. Если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3-4 раза в день 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ребенок будет стараться удерживать такую позу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несколько секунд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, это благотворно отразится на его осанке.  Для формирования правильной осанки проводите с детьми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упражнения с предметами на голове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, балансирование, хождение по наклонн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Прямоугольник 4" descr=""/>
          <p:cNvPicPr/>
          <p:nvPr/>
        </p:nvPicPr>
        <p:blipFill>
          <a:blip r:embed="rId1"/>
          <a:stretch/>
        </p:blipFill>
        <p:spPr>
          <a:xfrm>
            <a:off x="212760" y="0"/>
            <a:ext cx="6553080" cy="17794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0" y="135720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ая улыбка не только привлекает внимание, помогает в общении, но и говорит о том, что у вас здоровые, крепкие зубы. Когда люди жили в пещерах,  у них не было зубных щеток, но они все равно ухаживали за зубами, вытаскивали кусочки мяса маленькими палочками с острыми кон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71280" y="787248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770e"/>
                </a:solidFill>
                <a:latin typeface="Comic Sans MS"/>
              </a:rPr>
              <a:t>Ухаживайте за своими зубами ежедневно, ешьте полезные продукты, посещайте стоматолога раз в полгода и тогда ваши зубки будут крепкими, а улыбка белоснежной </a:t>
            </a:r>
            <a:r>
              <a:rPr b="0" lang="ru-RU" sz="1800" spc="-1" strike="noStrike">
                <a:solidFill>
                  <a:srgbClr val="0b770e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0" y="4572000"/>
            <a:ext cx="678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Зубы  необходимо чистить правильно, тщательно вычищать остатки пищи щеткой из самых труднодоступных  угол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Зубы нужно чистить не менее 3х минут. Передние зубы чистить по направлению вверх и вниз, затем задние зубы. Зубы всегда нужно чистить круговыми движе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C:\Users\viki\AppData\Local\Microsoft\Windows\Temporary Internet Files\Content.IE5\YN4VUU4O\MCj02812880000[1].wmf"/>
          <p:cNvPicPr/>
          <p:nvPr/>
        </p:nvPicPr>
        <p:blipFill>
          <a:blip r:embed="rId2"/>
          <a:stretch/>
        </p:blipFill>
        <p:spPr>
          <a:xfrm rot="21382800">
            <a:off x="4811400" y="2573280"/>
            <a:ext cx="1942920" cy="936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Users\viki\AppData\Local\Microsoft\Windows\Temporary Internet Files\Content.IE5\YHBMSOS7\MCj02329840000[1].wmf"/>
          <p:cNvPicPr/>
          <p:nvPr/>
        </p:nvPicPr>
        <p:blipFill>
          <a:blip r:embed="rId3"/>
          <a:stretch/>
        </p:blipFill>
        <p:spPr>
          <a:xfrm>
            <a:off x="357120" y="6000840"/>
            <a:ext cx="1166760" cy="18651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2"/>
          <p:cNvSpPr/>
          <p:nvPr/>
        </p:nvSpPr>
        <p:spPr>
          <a:xfrm>
            <a:off x="71280" y="2857680"/>
            <a:ext cx="500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770e"/>
                </a:solidFill>
                <a:latin typeface="Arial"/>
              </a:rPr>
              <a:t>Как только у ребенка появились молочные зубы, давайте ему после кормления кипяченную воду, а более старших детей приучайте полоскать рот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71280" y="392904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В 3 года подарите ребенку зубную щетку и приучите чистить зубы ежедневно утром и вечером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6"/>
          <p:cNvSpPr/>
          <p:nvPr/>
        </p:nvSpPr>
        <p:spPr>
          <a:xfrm>
            <a:off x="1785960" y="5929200"/>
            <a:ext cx="5000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йте обращать внимание на состояние зубов у детей в возрасте старше 2-3 лет, когда у них возникает кари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о к 10-12 годам молочные зубы у ребенка полностью заменяются на коренные, и заболеваемость кариесом снова возраст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Прямоугольник 4" descr=""/>
          <p:cNvPicPr/>
          <p:nvPr/>
        </p:nvPicPr>
        <p:blipFill>
          <a:blip r:embed="rId1"/>
          <a:stretch/>
        </p:blipFill>
        <p:spPr>
          <a:xfrm>
            <a:off x="2163600" y="-165240"/>
            <a:ext cx="4932360" cy="2097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C:\Users\viki\AppData\Local\Microsoft\Windows\Temporary Internet Files\Content.IE5\COU2X6RI\MCj03432950000[1].wmf"/>
          <p:cNvPicPr/>
          <p:nvPr/>
        </p:nvPicPr>
        <p:blipFill>
          <a:blip r:embed="rId2"/>
          <a:stretch/>
        </p:blipFill>
        <p:spPr>
          <a:xfrm>
            <a:off x="71280" y="71280"/>
            <a:ext cx="2340000" cy="1500480"/>
          </a:xfrm>
          <a:prstGeom prst="rect">
            <a:avLst/>
          </a:prstGeom>
          <a:ln w="0">
            <a:noFill/>
          </a:ln>
        </p:spPr>
      </p:pic>
      <p:pic>
        <p:nvPicPr>
          <p:cNvPr id="232" name="TextBox 6" descr=""/>
          <p:cNvPicPr/>
          <p:nvPr/>
        </p:nvPicPr>
        <p:blipFill>
          <a:blip r:embed="rId3"/>
          <a:stretch/>
        </p:blipFill>
        <p:spPr>
          <a:xfrm>
            <a:off x="92160" y="1616040"/>
            <a:ext cx="6924600" cy="35290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8" descr="03.jpg"/>
          <p:cNvPicPr/>
          <p:nvPr/>
        </p:nvPicPr>
        <p:blipFill>
          <a:blip r:embed="rId4"/>
          <a:stretch/>
        </p:blipFill>
        <p:spPr>
          <a:xfrm>
            <a:off x="1214280" y="5072040"/>
            <a:ext cx="4572000" cy="3990960"/>
          </a:xfrm>
          <a:prstGeom prst="rect">
            <a:avLst/>
          </a:prstGeom>
          <a:ln w="28440">
            <a:solidFill>
              <a:srgbClr val="92d050"/>
            </a:solidFill>
            <a:miter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Прямоугольник 4" descr=""/>
          <p:cNvPicPr/>
          <p:nvPr/>
        </p:nvPicPr>
        <p:blipFill>
          <a:blip r:embed="rId1"/>
          <a:stretch/>
        </p:blipFill>
        <p:spPr>
          <a:xfrm>
            <a:off x="-317520" y="201600"/>
            <a:ext cx="7961400" cy="17985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6"/>
          <p:cNvSpPr/>
          <p:nvPr/>
        </p:nvSpPr>
        <p:spPr>
          <a:xfrm>
            <a:off x="0" y="1285920"/>
            <a:ext cx="6858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аптац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й человек, оказавшись в непривычных условиях, ведет себя не естественно, привыкает, приспосабливается. Тоже происходит и с ребенком, поэтому в сентябре-октябре в его поведении могут появиться изменения. Вдруг ребенок может стать капризным, плаксивым, как будто снова стал маленьким и хочет, чтобы к нему относились как малы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ба-игр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нь важно сочетать игру и учебу. Учиться, игр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много легче, ведь играть ребенок умеет очень хорошо. А учеб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та сфера, где ребенок  первоклассни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вич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шибк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шибки и неудач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естественные вехи на пути обучения. Почему же мы, взрослые, часто относятся к ошибкам как к чему-то противоестественному , чего быть не должно. А ошибки лишь указывают на слабые места, которые требуют дополнительного внимания и все! Критикуя за ошибки, мы как бы не позволяем быть естественным вещам, относимся к ребенку так, как будто он уже должен все уметь, а не только учи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ивать результаты, а не личность ребенк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и в жизни первоклассника зачастую болезненный вопрос. Ребенок через отношение к своим поступкам, результатам в учебе формирует отношение к себе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хорошо написал, какой хороший мальчик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Казалось бы, что здесь плохого? А если завтра напишет хуже, значит уже плохой? Конечно, нет, но ребенок рассудит именно так. Важно, чтобы в словах взрослых не смешивалось отношение к личности ребенка с отношением к его результатам в уч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404640" y="8215200"/>
            <a:ext cx="6310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Школа </a:t>
            </a: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это как работа для взросл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только ребенок получает за свой тру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не деньги, а 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0" descr="C:\Users\viki\AppData\Local\Microsoft\Windows\Temporary Internet Files\Content.IE5\M4P7N6CI\MCj04358410000[1].wmf"/>
          <p:cNvPicPr/>
          <p:nvPr/>
        </p:nvPicPr>
        <p:blipFill>
          <a:blip r:embed="rId2"/>
          <a:stretch/>
        </p:blipFill>
        <p:spPr>
          <a:xfrm flipH="1">
            <a:off x="4997520" y="5643720"/>
            <a:ext cx="1503360" cy="33573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9"/>
          <p:cNvSpPr/>
          <p:nvPr/>
        </p:nvSpPr>
        <p:spPr>
          <a:xfrm>
            <a:off x="71280" y="5929200"/>
            <a:ext cx="4643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кола – это авторитарная 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где дисциплина и повиновение очень важный компонент в процессе обучения. Поэтому не следует ожидать что в школе вашего ребенка полюбят, будут заботиться, что там ему будет хорошо и весело, что там разовьются всевозможные способности ребенка, его творческий потенциал. У школы задачи другие – дать знания ребенку и сделать его способным жить в обществе, где есть определенные законы и ограничения, где люди – разные и по-разному могут относиться друг к друг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240" y="261720"/>
            <a:ext cx="6943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ОСОБЕННОСТИ ФИЗИЧЕСКОГО ВОСПИТАНИЯ ДЕТЕЙ ПРИ ПОСТУПЛЕНИИ ИХ В ШКОЛ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2" descr="C:\Users\viki\AppData\Local\Microsoft\Windows\Temporary Internet Files\Content.IE5\16OLWOMK\MCj04357730000[1].wmf"/>
          <p:cNvPicPr/>
          <p:nvPr/>
        </p:nvPicPr>
        <p:blipFill>
          <a:blip r:embed="rId1"/>
          <a:stretch/>
        </p:blipFill>
        <p:spPr>
          <a:xfrm>
            <a:off x="5643720" y="71280"/>
            <a:ext cx="1143000" cy="2486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Users\viki\AppData\Local\Microsoft\Windows\Temporary Internet Files\Content.IE5\YN4VUU4O\MCj04357450000[1].wmf"/>
          <p:cNvPicPr/>
          <p:nvPr/>
        </p:nvPicPr>
        <p:blipFill>
          <a:blip r:embed="rId2"/>
          <a:stretch/>
        </p:blipFill>
        <p:spPr>
          <a:xfrm>
            <a:off x="71280" y="6705720"/>
            <a:ext cx="2025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6"/>
          <p:cNvSpPr/>
          <p:nvPr/>
        </p:nvSpPr>
        <p:spPr>
          <a:xfrm>
            <a:off x="71280" y="1500120"/>
            <a:ext cx="5500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реход ребенка от условий воспитания в семье к школе — переломный момент в его жизни. Школа предъявляет к детям ряд новых для них требований, связанных с систематическим обучением, с пребыванием в коллекти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0" y="285768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школьников 1—2-х классов установлен следующий режим, разработанный Институтом физического воспитания и школьной гигиены Академии педагогических наук, утвержденный Управлением школ Министерства просвещения РСФС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обуждение — в 7 часов утра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ренняя гимнастика, закаливающие процедуры (обтирание, душ), уборка постели, умывание. В 7 часов 30 минут. ребенок садится завтракать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0" y="4429080"/>
            <a:ext cx="6858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Учебные занят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школе продолжаются 4 часа. По приходе из школы — обед (13 часов — 13 часов 30 минут); отдых в течение часа (детям 7 лет полезно в это время спат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отдыха — обязательное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прогулка, подвижные игры и развлечения, лыжи, коньки, санки и т. д. Для этого отводится время от 14 часов 30 минут до 16 час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этого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иготовление уроко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—1 1/2 часа) и снова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От 19 до 20 часов — ужин и свободные занятия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иготовления ко сн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чистка одежды, обуви, проветривание комнаты, вечерний туалет — 20 часов — 20 часов 30 минут, сон — с 20 часов 30 минут до 7 ча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2000160" y="6715080"/>
            <a:ext cx="4786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ьшое внимание следует уделять созданию гигиенических условий для домашних занятий, детей. Приготовление уроков требует усидчивой работы за столом, поэтому прежде всего необходимо позаботиться об организации места, где школьник готовит уро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спитание здорового, физически хорошо развитого человека требует дружной совместной работы семьи и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Прямоугольник 4" descr=""/>
          <p:cNvPicPr/>
          <p:nvPr/>
        </p:nvPicPr>
        <p:blipFill>
          <a:blip r:embed="rId1"/>
          <a:stretch/>
        </p:blipFill>
        <p:spPr>
          <a:xfrm>
            <a:off x="-55440" y="-208080"/>
            <a:ext cx="6919920" cy="175104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0" y="1285920"/>
            <a:ext cx="6858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Долг родителей — укрепить здоровье ребенка в данный момент и обеспечить благоприятное развитие детского организма в будущем. Нормальное развитие и состояние здоровья обеспечивается созданием оптимальных условий, то есть организацией правильного режи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0" y="2357280"/>
            <a:ext cx="685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изическом воспитани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детей дошкольного возраста используются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физически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ходьба, бег, упражнения в равновесии, метание, лазание, подвижные игры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спортивны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гигиенические фактор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режим дня, питание, сон и т. п.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естественные силы природ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солнце, воздух и 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2000160" y="3968640"/>
            <a:ext cx="48578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Задания и объяснения должны быть ясными и четкими, давать их надо бодрым голосом" и тут же показывать все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ражнения должны быть интересные, в них следует использовать хорошо запоминающиеся образные сравнения, например: «птичка», «кошка», «паровоз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Основной принцип, которого должны придерживаться родители, занимаясь физическими упражнениями с малышами,— изображать все в виде игры. Веселый тон, шутка, смех, активное участие взрослого всегда увлекают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личество повторений движений для дошкольников обычно колеблется от 2—3 д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После наиболее трудных упражнений необходимо давать кратковременные паузы отдыха (30—60 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едние значения показателей двигательной активности детей за полный день -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объем 17 000 движен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интенсивность 55-65 движений в мину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8" descr=""/>
          <p:cNvPicPr/>
          <p:nvPr/>
        </p:nvPicPr>
        <p:blipFill>
          <a:blip r:embed="rId2"/>
          <a:stretch/>
        </p:blipFill>
        <p:spPr>
          <a:xfrm>
            <a:off x="2133720" y="3419640"/>
            <a:ext cx="4863960" cy="860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viki\AppData\Local\Microsoft\Windows\Temporary Internet Files\Content.IE5\COU2X6RI\MCj04370690000[1].png"/>
          <p:cNvPicPr/>
          <p:nvPr/>
        </p:nvPicPr>
        <p:blipFill>
          <a:blip r:embed="rId3"/>
          <a:stretch/>
        </p:blipFill>
        <p:spPr>
          <a:xfrm>
            <a:off x="71280" y="371484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viki\AppData\Local\Microsoft\Windows\Temporary Internet Files\Content.IE5\HT7649U9\MCj04370680000[1].png"/>
          <p:cNvPicPr/>
          <p:nvPr/>
        </p:nvPicPr>
        <p:blipFill>
          <a:blip r:embed="rId4"/>
          <a:stretch/>
        </p:blipFill>
        <p:spPr>
          <a:xfrm>
            <a:off x="142920" y="52149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viki\AppData\Local\Microsoft\Windows\Temporary Internet Files\Content.IE5\FNMA7AE2\MCj04370790000[1].png"/>
          <p:cNvPicPr/>
          <p:nvPr/>
        </p:nvPicPr>
        <p:blipFill>
          <a:blip r:embed="rId5"/>
          <a:stretch/>
        </p:blipFill>
        <p:spPr>
          <a:xfrm>
            <a:off x="5715000" y="3571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viki\AppData\Local\Microsoft\Windows\Temporary Internet Files\Content.IE5\MOVYDWVJ\MCj04370700000[1].png"/>
          <p:cNvPicPr/>
          <p:nvPr/>
        </p:nvPicPr>
        <p:blipFill>
          <a:blip r:embed="rId6"/>
          <a:stretch/>
        </p:blipFill>
        <p:spPr>
          <a:xfrm>
            <a:off x="620640" y="45133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:\Users\viki\AppData\Local\Microsoft\Windows\Temporary Internet Files\Content.IE5\FNMA7AE2\MCj04370720000[1].png"/>
          <p:cNvPicPr/>
          <p:nvPr/>
        </p:nvPicPr>
        <p:blipFill>
          <a:blip r:embed="rId7"/>
          <a:stretch/>
        </p:blipFill>
        <p:spPr>
          <a:xfrm rot="2668800">
            <a:off x="102960" y="701496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C:\Users\viki\AppData\Local\Microsoft\Windows\Temporary Internet Files\Content.IE5\RSWC3R1M\MCj04370710000[1].png"/>
          <p:cNvPicPr/>
          <p:nvPr/>
        </p:nvPicPr>
        <p:blipFill>
          <a:blip r:embed="rId8"/>
          <a:stretch/>
        </p:blipFill>
        <p:spPr>
          <a:xfrm>
            <a:off x="71280" y="628668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Users\viki\AppData\Local\Microsoft\Windows\Temporary Internet Files\Content.IE5\M8TJYLUS\MCj04370760000[1].png"/>
          <p:cNvPicPr/>
          <p:nvPr/>
        </p:nvPicPr>
        <p:blipFill>
          <a:blip r:embed="rId9"/>
          <a:stretch/>
        </p:blipFill>
        <p:spPr>
          <a:xfrm>
            <a:off x="1143000" y="58579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C:\Users\viki\AppData\Local\Microsoft\Windows\Temporary Internet Files\Content.IE5\YN4VUU4O\MCj04348700000[1].png"/>
          <p:cNvPicPr/>
          <p:nvPr/>
        </p:nvPicPr>
        <p:blipFill>
          <a:blip r:embed="rId10"/>
          <a:stretch/>
        </p:blipFill>
        <p:spPr>
          <a:xfrm>
            <a:off x="1214280" y="3643200"/>
            <a:ext cx="1214640" cy="1214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19"/>
          <p:cNvSpPr/>
          <p:nvPr/>
        </p:nvSpPr>
        <p:spPr>
          <a:xfrm>
            <a:off x="0" y="8143920"/>
            <a:ext cx="685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Физические упражнения только тогда приносят пользу, когда ими занимаются систематически. Родители обязаны ежедневно находить время для занятий физическими упражнениями со своими детьми и тщательно следить за их здоровьем, обращая внимание на внешний вид, настроение и самочувствие ребенк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C:\Users\viki\AppData\Local\Microsoft\Windows\Temporary Internet Files\Content.IE5\5HM5BHCY\MCj04370470000[1].png"/>
          <p:cNvPicPr/>
          <p:nvPr/>
        </p:nvPicPr>
        <p:blipFill>
          <a:blip r:embed="rId11"/>
          <a:stretch/>
        </p:blipFill>
        <p:spPr>
          <a:xfrm>
            <a:off x="500040" y="5716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C:\Users\viki\AppData\Local\Microsoft\Windows\Temporary Internet Files\Content.IE5\0DKC86KK\MCj04370460000[1].png"/>
          <p:cNvPicPr/>
          <p:nvPr/>
        </p:nvPicPr>
        <p:blipFill>
          <a:blip r:embed="rId12"/>
          <a:stretch/>
        </p:blipFill>
        <p:spPr>
          <a:xfrm rot="621000">
            <a:off x="1412640" y="650088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C:\Users\viki\AppData\Local\Microsoft\Windows\Temporary Internet Files\Content.IE5\GMERIPU6\MCj04370420000[1].png"/>
          <p:cNvPicPr/>
          <p:nvPr/>
        </p:nvPicPr>
        <p:blipFill>
          <a:blip r:embed="rId13"/>
          <a:stretch/>
        </p:blipFill>
        <p:spPr>
          <a:xfrm>
            <a:off x="1785960" y="757224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Прямоугольник 4" descr=""/>
          <p:cNvPicPr/>
          <p:nvPr/>
        </p:nvPicPr>
        <p:blipFill>
          <a:blip r:embed="rId1"/>
          <a:stretch/>
        </p:blipFill>
        <p:spPr>
          <a:xfrm>
            <a:off x="-55440" y="-122400"/>
            <a:ext cx="6913440" cy="1128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viki\Pictures\141(1).jpg"/>
          <p:cNvPicPr/>
          <p:nvPr/>
        </p:nvPicPr>
        <p:blipFill>
          <a:blip r:embed="rId2"/>
          <a:stretch/>
        </p:blipFill>
        <p:spPr>
          <a:xfrm>
            <a:off x="4572000" y="635040"/>
            <a:ext cx="2143080" cy="179388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71280" y="642960"/>
            <a:ext cx="4500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иучая детей к определенному режиму, к выполнению гигиенических требований, мы создаем у них полезные для организма навыки и тем самым сохраняем их здоровь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вердый режим дня, установленный в соответствии с возрастными особенностями детей, — одно из существенных условий нормального физического развития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0" y="257184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d0f69"/>
                </a:solidFill>
                <a:latin typeface="Arial"/>
              </a:rPr>
              <a:t>Основное требование к режиму — это точность во времени и правильное чередование, смена одних видов деятельности другими.</a:t>
            </a:r>
            <a:br>
              <a:rPr sz="1600"/>
            </a:br>
            <a:r>
              <a:rPr b="0" lang="ru-RU" sz="1600" spc="-1" strike="noStrike">
                <a:solidFill>
                  <a:srgbClr val="ad0f69"/>
                </a:solidFill>
                <a:latin typeface="Arial"/>
              </a:rPr>
              <a:t>Должно быть установлено время, когда ребенок ложится спать, встает, ест, гуляет, выполняет несложные, посильные для него обязанности. Время это необходимо точно соблюд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0" y="5715000"/>
            <a:ext cx="5000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итание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получают питание 4—5 раз в день. Первая еда дается через полчаса, во всяком случае не позднее чем через час после пробуждения ребенка, а последняя — часа за полтора до сна. Между приемами пищи должны быть установлены промежутки в 3—4 часа, их надо строго соблюдать. Наиболее сытная еда дается в обед, менее сытная — на уж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C:\Users\viki\AppData\Local\Microsoft\Windows\Temporary Internet Files\Content.IE5\6NZXK4SD\MCj04282850000[1].wmf"/>
          <p:cNvPicPr/>
          <p:nvPr/>
        </p:nvPicPr>
        <p:blipFill>
          <a:blip r:embed="rId3"/>
          <a:stretch/>
        </p:blipFill>
        <p:spPr>
          <a:xfrm>
            <a:off x="71280" y="3989520"/>
            <a:ext cx="1857600" cy="1582560"/>
          </a:xfrm>
          <a:prstGeom prst="rect">
            <a:avLst/>
          </a:prstGeom>
          <a:ln w="0">
            <a:noFill/>
          </a:ln>
        </p:spPr>
      </p:pic>
      <p:sp>
        <p:nvSpPr>
          <p:cNvPr id="82" name="TextBox 9"/>
          <p:cNvSpPr/>
          <p:nvPr/>
        </p:nvSpPr>
        <p:spPr>
          <a:xfrm>
            <a:off x="2000160" y="3857760"/>
            <a:ext cx="4857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Сон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лько во время сна ребенок получает полный отдых. Сон должен быть достаточно продолжительным: дети 3—4 лет спят 14 часов в сутки, 5—6 лет — 13 часов, 7—8 лет — 12 часов. Из этого времени необходимо, особенно для младших детей, выделить часа полтора для дневного сна. Дети должны ложиться не позднее 8—9 часов веч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2071800" y="7572240"/>
            <a:ext cx="4786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рогулки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бы точно ни соблюдалось время сна и еды, режим нельзя признать правильным, если в нем не предусмотрено время для прогулки. Чем больше времени дети проводят на открытом воздухе, тем они здоров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:\Users\viki\AppData\Local\Microsoft\Windows\Temporary Internet Files\Content.IE5\M8TJYLUS\MCj04381290000[1].wmf"/>
          <p:cNvPicPr/>
          <p:nvPr/>
        </p:nvPicPr>
        <p:blipFill>
          <a:blip r:embed="rId4"/>
          <a:stretch/>
        </p:blipFill>
        <p:spPr>
          <a:xfrm>
            <a:off x="4965840" y="5735520"/>
            <a:ext cx="1749240" cy="1622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Users\viki\AppData\Local\Microsoft\Windows\Temporary Internet Files\Content.IE5\6NZXK4SD\MCj04300890000[1].wmf"/>
          <p:cNvPicPr/>
          <p:nvPr/>
        </p:nvPicPr>
        <p:blipFill>
          <a:blip r:embed="rId5"/>
          <a:stretch/>
        </p:blipFill>
        <p:spPr>
          <a:xfrm>
            <a:off x="214200" y="7537320"/>
            <a:ext cx="1797120" cy="16066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4" descr=""/>
          <p:cNvPicPr/>
          <p:nvPr/>
        </p:nvPicPr>
        <p:blipFill>
          <a:blip r:embed="rId1"/>
          <a:stretch/>
        </p:blipFill>
        <p:spPr>
          <a:xfrm>
            <a:off x="712800" y="-36360"/>
            <a:ext cx="4932360" cy="15364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0" y="2222640"/>
            <a:ext cx="6786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«+»   Достоинства компьют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 может помочь развитию у детей таких важнейших операций мышления как обобщение и классификац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цессе занятий на компьютере улучшаются память и внимание дет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игре в компьютерные игры у детей раньше развивается знаковая функция сознания, которая лежит в основе абстрактного мышления (мышления без опоры на внешние предметы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ные игры имеют большое значение не только для развития интеллекта детей, но и для развития их моторики, для формирования координации зрительной и моторной функ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71280" y="7500960"/>
            <a:ext cx="4714920" cy="14655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 главное, нельзя уповать только на компьютер. Ребенок – маленький человек, он может формироваться и развиваться, только общаясь с людьми и живя в реальн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C:\Users\viki\AppData\Local\Microsoft\Windows\Temporary Internet Files\Content.IE5\EOM03GJD\MCj04357310000[1].wmf"/>
          <p:cNvPicPr/>
          <p:nvPr/>
        </p:nvPicPr>
        <p:blipFill>
          <a:blip r:embed="rId2"/>
          <a:stretch/>
        </p:blipFill>
        <p:spPr>
          <a:xfrm>
            <a:off x="4987800" y="7124760"/>
            <a:ext cx="1798920" cy="1947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C:\Users\viki\AppData\Local\Microsoft\Windows\Temporary Internet Files\Content.IE5\HT7649U9\MCj04315660000[1].png"/>
          <p:cNvPicPr/>
          <p:nvPr/>
        </p:nvPicPr>
        <p:blipFill>
          <a:blip r:embed="rId3"/>
          <a:stretch/>
        </p:blipFill>
        <p:spPr>
          <a:xfrm>
            <a:off x="5143680" y="0"/>
            <a:ext cx="1904760" cy="1917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9"/>
          <p:cNvSpPr/>
          <p:nvPr/>
        </p:nvSpPr>
        <p:spPr>
          <a:xfrm>
            <a:off x="71280" y="1136520"/>
            <a:ext cx="571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1859c"/>
                </a:solidFill>
                <a:latin typeface="Arial"/>
              </a:rPr>
              <a:t>Современные дети очень много общаются с телевидением, видео и компьютером. Если предыдущее поколение было поколением книг, то современное получает информацию через видео ря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0" y="521496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Детям 3-4 лет не стоит сидеть у компьютера больше 20 минут, а к 6-7 годам это время ежедневной игры можно увеличить до получа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00080" y="592128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b050"/>
                </a:solidFill>
                <a:uFillTx/>
                <a:latin typeface="Arial"/>
              </a:rPr>
              <a:t>«-»   Недостатки компьютер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Чрезмерное обращение с компьютером может привести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к ухудшению зрения ребенка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, а так же отрицательн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сказаться на его психическом здоровье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 Особенно эт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опасно для застенчивых детей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396720" y="-115920"/>
            <a:ext cx="5888160" cy="1127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Users\viki\AppData\Local\Microsoft\Windows\Temporary Internet Files\Content.IE5\FNMA7AE2\MCj04120420000[1].wmf"/>
          <p:cNvPicPr/>
          <p:nvPr/>
        </p:nvPicPr>
        <p:blipFill>
          <a:blip r:embed="rId2"/>
          <a:stretch/>
        </p:blipFill>
        <p:spPr>
          <a:xfrm>
            <a:off x="1341360" y="5721480"/>
            <a:ext cx="3743280" cy="28591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8"/>
          <p:cNvSpPr/>
          <p:nvPr/>
        </p:nvSpPr>
        <p:spPr>
          <a:xfrm>
            <a:off x="0" y="642960"/>
            <a:ext cx="685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проводить на свежем воздухе как можно больше времени, чтобы быть здоровыми и крепки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В лет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могут находится более 6 часов в день на улице, а в </a:t>
            </a: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осеннее и зим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быть на воздухе не менее 4 часов. Лучшее время для прогулок с детьми — между завтраком и обедом (2—2 1/2 часа) и после дневного сна, до ужина (1 1/2—2 часа). В сильные морозы длительность прогулок несколько сокращ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0" y="2428920"/>
            <a:ext cx="685800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Arial"/>
              </a:rPr>
              <a:t>Причиной отмены прогулки для здорового ребенка могут быть исключительные обстоятельства: проливной дождь, большой мороз с сильным ветро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опыте работы детских садов установлено, что дети дошкольного возраста, приученные к ежедневным прогулкам, могут гулять и при температуре 20—25° мороза, если нет сильного ветра и если они одеты соответственно погод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в Северо-Западном регионе необходимо учитывать высокую влажность. На прогулку в холодные зимние дни дети должны выходить в теплом пальто, шапке с наушниками, валенках и теплых варежках или перчат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Время от времени полезно совершать с детьми более длительные прогулки, постепенно увеличивая расстояние — для младших до 15—20 минут ходьбы, для более старших — до 30 минут, с небольшими остановками на 1—2 минуты во время пути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0" y="848844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идя на место, дети должны отдохнуть или спокойно поиграть перед тем, как возвращаться обрат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8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Прямоугольник 3" descr=""/>
          <p:cNvPicPr/>
          <p:nvPr/>
        </p:nvPicPr>
        <p:blipFill>
          <a:blip r:embed="rId1"/>
          <a:stretch/>
        </p:blipFill>
        <p:spPr>
          <a:xfrm>
            <a:off x="-55440" y="-36360"/>
            <a:ext cx="6937200" cy="10476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142920" y="714240"/>
            <a:ext cx="671508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1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райтесь, чтобы малыш больше двигался, бегал, прыга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2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Включите в рацион полезные для глаз продукты: творог, кефир, отварную  морскую рыбу, морепродукты, говядину, морковь, капуст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чернику, бруснику, клюкв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 петрушку, укроп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3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едите за его осанкой - при «кривой» спине нарушается кровоснабжение головного мозга, которое и провоцирует проблемы со зрением. Запомните: расстояние между книгой и глазами должно быть не менее 25-30 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4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Не допускайте, чтобы ребенок подолгу сидел перед телевизором, а если уж сидит, то только строго напротив и не ближе трех мет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5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читать лежа и как можно меньше при искусственном освещ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6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Не забывайте, что смотреть телевизор в темной комнате нежелательно.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7. Д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школьник может играть на компьютере не более получаса в день,  после 7 лет - 1 час в день или два подхода по 40 мину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8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Про игры на сотов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т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елефоне лучше забы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9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жедневно делайте вме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имнастику  глаз – преврат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у  процеду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увлекательную игру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C:\Users\viki\AppData\Local\Microsoft\Windows\Temporary Internet Files\Content.IE5\HT7649U9\MCj04241780000[1].wmf"/>
          <p:cNvPicPr/>
          <p:nvPr/>
        </p:nvPicPr>
        <p:blipFill>
          <a:blip r:embed="rId2"/>
          <a:stretch/>
        </p:blipFill>
        <p:spPr>
          <a:xfrm>
            <a:off x="4272120" y="6429240"/>
            <a:ext cx="2300040" cy="26258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-19080" y="-6516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Прямоугольник 4" descr=""/>
          <p:cNvPicPr/>
          <p:nvPr/>
        </p:nvPicPr>
        <p:blipFill>
          <a:blip r:embed="rId1"/>
          <a:stretch/>
        </p:blipFill>
        <p:spPr>
          <a:xfrm>
            <a:off x="-573120" y="152280"/>
            <a:ext cx="7967520" cy="1274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0" y="842652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</a:rPr>
              <a:t>Следите за своими глаз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</a:rPr>
              <a:t>Мир так прекрасен, особенно если мы его види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одержимое 6" descr="i_033.png"/>
          <p:cNvPicPr/>
          <p:nvPr/>
        </p:nvPicPr>
        <p:blipFill>
          <a:blip r:embed="rId2"/>
          <a:stretch/>
        </p:blipFill>
        <p:spPr>
          <a:xfrm>
            <a:off x="142920" y="714240"/>
            <a:ext cx="1677960" cy="16430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0" y="2143080"/>
            <a:ext cx="6858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Упражнения выполняются сидя, голова неподвижна, поза удобная, с максимальной амплитудой движения гл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Жмурк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Закрыть глаза, сильно напрягая глазные мышцы, на счет 1 - 4, затем раскрыть глаза, расслабив мышцы глаз, посмотрев вдаль, на счет 1 - 6. Повторить 4 - 5 ра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лизко-далеко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осмотреть на переносицу и задержать взор на сч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 - 4. До усталости глаза доводить нельзя. Затем открыть глаза, посмотреть вдаль на счет 1 - 6. Повторить 4 - 5 раз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ево-право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 - 4, затем посмотреть вдаль прямо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чет 1 - 6. Аналогичным образом проводятся упражнения, но с фиксацией взгляда влево, вверх, вни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иагонал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еревести взгляд быстро по диагонали: направо вверх - налево вниз, потом прямо вдаль на счет 1 - 6; затем налево - вверх - направо - вниз и посмотреть вдаль на счет 1 - 6. Повторить 3 - 4 ра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1785960" y="857160"/>
            <a:ext cx="507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лагаем специальный комплекс упражнений для глаз, который при регулярном выполнении может стать хорошей тренировкой и профилактикой для сохранения зрения. Упражнения лучше проводить в игровой форме, с любимыми игрушками ребенка, передвигая их вправо-влево, вверх-вниз.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4" descr="item_2251.jpg"/>
          <p:cNvPicPr/>
          <p:nvPr/>
        </p:nvPicPr>
        <p:blipFill>
          <a:blip r:embed="rId3"/>
          <a:stretch/>
        </p:blipFill>
        <p:spPr>
          <a:xfrm>
            <a:off x="1700280" y="7469280"/>
            <a:ext cx="3585960" cy="9111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3" descr=""/>
          <p:cNvPicPr/>
          <p:nvPr/>
        </p:nvPicPr>
        <p:blipFill>
          <a:blip r:embed="rId1"/>
          <a:stretch/>
        </p:blipFill>
        <p:spPr>
          <a:xfrm>
            <a:off x="-573120" y="-573120"/>
            <a:ext cx="8034480" cy="18954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5"/>
          <p:cNvSpPr/>
          <p:nvPr/>
        </p:nvSpPr>
        <p:spPr>
          <a:xfrm>
            <a:off x="142920" y="121428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каливание детей необходимо для того, чтобы повысить их устойчивость к воздействию низких и высоких температур воздуха и за счет этого предотвратить частые заболе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71280" y="2000160"/>
            <a:ext cx="6858000" cy="68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При закаливании детей следует придерживаться та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основных принципов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водить закаливающие процедуры систематическ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увеличивать время воздействия закаливающего фактора постепенно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итывать настроение ребенка и проводить процедуры в форме игры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начинать закаливание в любом возраст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икогда не выполнять процедуры, если малыш замерз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избегать сильных раздражителей: продолжительного воздействия холодной воды или очень низких температур воздуха, а также перегревания на солнц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авильно подбирать одежду и обувь: они должна соответствовать температуре окружающего воздуха и быть из натуральных тканей и материало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закаливаться всей семье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каливающие процедуры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четать с физическими упражнения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 массаже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в помещении, где находится ребенок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никогда не кури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4" descr="C:\Users\viki\AppData\Local\Microsoft\Windows\Temporary Internet Files\Content.IE5\6NZXK4SD\MCj04381630000[1].wmf"/>
          <p:cNvPicPr/>
          <p:nvPr/>
        </p:nvPicPr>
        <p:blipFill>
          <a:blip r:embed="rId2"/>
          <a:stretch/>
        </p:blipFill>
        <p:spPr>
          <a:xfrm>
            <a:off x="3825720" y="6891480"/>
            <a:ext cx="2889360" cy="19666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Прямоугольник 3" descr=""/>
          <p:cNvPicPr/>
          <p:nvPr/>
        </p:nvPicPr>
        <p:blipFill>
          <a:blip r:embed="rId1"/>
          <a:stretch/>
        </p:blipFill>
        <p:spPr>
          <a:xfrm>
            <a:off x="-536400" y="189000"/>
            <a:ext cx="7967520" cy="13111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5"/>
          <p:cNvSpPr/>
          <p:nvPr/>
        </p:nvSpPr>
        <p:spPr>
          <a:xfrm>
            <a:off x="0" y="1612800"/>
            <a:ext cx="6858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Холодный таз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ейте в таз холодную воду с температурой не выше +12С и облейте ступни ребенка, стоящего в ванне. Попросите ребенка потопать ножками, пока стекает вода. Отверстие для стока воды должно быть открытым. Промокните ноги полотенцем. В первый день продолжительность ходьбы  - 1 минута, ежедневно добавляйте по 1 минуте, доводя до 5 мин. Помните! Лучше проводить закаливание в течение 1 мин в хорошем настроении ребенка, чем 5 мин с каприз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Холодное полотенце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ребенку не нравится обливание холодной водой, постелите в ванне полотенце, смоченное холодной водой (тем 12 С) Попросите ребенка потопать ножками (не стоять!) на нем в течение 1 мин (утром и на ночь). Вытрите ребенку ноги, не растирая, а промокая полотенц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5"/>
          <p:cNvSpPr/>
          <p:nvPr/>
        </p:nvSpPr>
        <p:spPr>
          <a:xfrm>
            <a:off x="0" y="64296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новные факторы закаливания - природные и доступные “Солнце. Воздух и Вода”. Начинать закаливание детей можно  с первого месяца жизни после осмотра малыша врачом-педиатром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4" descr="C:\Users\viki\AppData\Local\Microsoft\Windows\Temporary Internet Files\Content.IE5\RTPB4XQQ\MCj02321530000[1].wmf"/>
          <p:cNvPicPr/>
          <p:nvPr/>
        </p:nvPicPr>
        <p:blipFill>
          <a:blip r:embed="rId2"/>
          <a:stretch/>
        </p:blipFill>
        <p:spPr>
          <a:xfrm>
            <a:off x="3714840" y="5357880"/>
            <a:ext cx="2911320" cy="28605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5"/>
          <p:cNvSpPr/>
          <p:nvPr/>
        </p:nvSpPr>
        <p:spPr>
          <a:xfrm>
            <a:off x="0" y="4714920"/>
            <a:ext cx="3929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Контрастный душ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енок вечером купается в ванне. Пусть он согреется в теплой воде. А потом скажите ему: "Давай мы с тобой устроим холодный дождик или побегаем по лужам". Вы открываете холодную воду, и ребенок подставляет воде свои пяточки и ладош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0" y="721512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сли ребенок боится воздействия холод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уш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то можно вначале поставить таз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холодной водой и сказ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А ну, давай с тобой по лужам побегаем!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от из теплой ванны - в холодный таз (или "под дождик"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потом - опять в ванну. И так не менее трех раз. После процедуры укутайте ребенка в теплую простыню не вытирая, а промокая воду, потом оденьте его для сна и положите в к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6" descr="C:\Users\viki\AppData\Local\Microsoft\Windows\Temporary Internet Files\Content.IE5\COU2X6RI\MCj02904460000[1].wmf"/>
          <p:cNvPicPr/>
          <p:nvPr/>
        </p:nvPicPr>
        <p:blipFill>
          <a:blip r:embed="rId3"/>
          <a:stretch/>
        </p:blipFill>
        <p:spPr>
          <a:xfrm>
            <a:off x="5572080" y="4500720"/>
            <a:ext cx="1278000" cy="12142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3:38:58Z</dcterms:created>
  <dc:creator>ram</dc:creator>
  <dc:description/>
  <dc:language>en-US</dc:language>
  <cp:lastModifiedBy>LEGION</cp:lastModifiedBy>
  <dcterms:modified xsi:type="dcterms:W3CDTF">2015-01-27T12:12:40Z</dcterms:modified>
  <cp:revision>209</cp:revision>
  <dc:subject/>
  <dc:title>Слайд 1</dc:title>
</cp:coreProperties>
</file>