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CA58-D978-4F42-9B0E-F4B63ED416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екоменд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по укрепл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здоровья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C782-ACB8-4656-8E2A-93680ACA33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БОСОХОЖДЕНИЕ</a:t>
            </a:r>
            <a:r>
              <a:rPr b="1" lang="en-US" sz="1200" spc="-1" strike="noStrike">
                <a:solidFill>
                  <a:srgbClr val="000000"/>
                </a:solidFill>
                <a:latin typeface="Arno Pro Light Display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элемент закаливан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ин способ закалки – это 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прогулки бос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767B-F759-4BE0-8B06-3AC2A42F03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к предупредить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у ребенка должна быть сделана из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натуральных материал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внутри с твердым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супинаторо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поднимающим внутренний край с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дошва детской обуви должна быть гибкой  и име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каблук (5-10 мм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искусственно поднимающий свод стопы, защищающий пятку от ушиб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должна соответствовать фор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размеру стопы, была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удобной при нос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весу обувь должна быть максимально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легкой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статочно жесткой, с хорошим зад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мните, длина следа должна бы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больше стоп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носочной части, припуск в 10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B4DD-CD3C-4E26-951B-A704695679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делат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ребенка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упражнений при плоскостопи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лечебная гимнастик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Описание упражнений</a:t>
            </a:r>
            <a:r>
              <a:rPr b="0" lang="ru-RU" sz="1400" spc="-1" strike="noStrike">
                <a:solidFill>
                  <a:srgbClr val="cc0099"/>
                </a:solidFill>
                <a:latin typeface="Calibri"/>
              </a:rPr>
              <a:t>                                 </a:t>
            </a: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 Кол-во повтор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дь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осках, руки вверх                                                </a:t>
            </a:r>
            <a:r>
              <a:rPr b="0" lang="ru-RU" sz="1200" spc="-1" strike="noStrike">
                <a:solidFill>
                  <a:srgbClr val="d60093"/>
                </a:solidFill>
                <a:latin typeface="Calibri"/>
              </a:rPr>
              <a:t>по 20-30 с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пятках, руки на поя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а наружном своде стоп, пальцы согнуты, руки на поя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 мячом (теннисным) - зажать стопами, ходить на внешней стороне сто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Стоя на палке (обруче)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уприседания и приседания, руки вперед или в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ередвижение вдоль палки - ставить стопы вдоль или поперек палки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-4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Сто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а наружном своде стоп - поворот туловище лев –прав.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днимание на носках с упором на наружный свод стопы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"Лодочка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"Угол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спине держать ноги под углом 45 гр.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Сид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гибание - разгибание пальцев стоп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ксимальное разведение и сведение пяток, не отрывая носков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 напряжением тянуть носки на себя, от себя  (колени прямые )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оединить стопы. Колени прямые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круговые движения стопами внутрь,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захватывание и приподнимание пальцами сто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а или мелкого предмета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) захватывание и приподнимание стопам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а, колени прямые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                           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2A9B-A67C-4CCD-911D-37BCBEB7F4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Польза пл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EF7B-36F7-46EA-B73E-9F11975200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сформ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авильную осан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ая осанка не бывает врожденной, она начинает формиро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вых лет наш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ответственный период для фор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анк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 4 до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учая вашего ребенка «правильно» держать свое т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забывайте при этом и про вашу оса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крепкого, достаточно развитого мышечного корсажа – мышечной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ая болезнь или хронические заболевания, ослабляющие орг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рах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оответствующая росту мебе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бная одежда и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31A5-0A90-49CA-BF0E-496DB94F36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Как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проверить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осанку у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e5b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5b00"/>
                </a:solidFill>
                <a:latin typeface="Calibri"/>
              </a:rPr>
              <a:t>Следим за осанкой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1921-6984-4CC9-A66F-44C5390434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Красивые и здор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ЗУ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alibri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2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0D89-6A2B-4ACA-BD44-66B197C235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Масс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десен щет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утром звери встал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ки чистить побежал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миш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точкой из шиш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а в рыжей шуб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е чистит зуб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е мыш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ые еж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й волк зубаст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паст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поросе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мешной лосено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завтракали вкусно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нам почистить нужн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уки щёточку возьмё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ной пасты нанес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чистим осторожн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поранить дёсны можно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что? А по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мы ополосн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понадобится кружка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ыбнёмся-ка друг дружк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ли умело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зубки стали бе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496E-2B99-41B1-88CB-4D531AF83B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5 правил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ервоклас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ажно сочетать игру и учебу. Учиться, играя – намного легче, ведь играть ребенок умеет очень хорошо. А учеба – это та сфера, где ребенок  первоклассник – нович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и и неудачи –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«Как хорошо написал, какой хороший мальчик!»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3C0B-F6FB-4131-84EB-DA4DECF193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обуждение — в 7 часов утр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чебные заня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тдыха — обязательное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е уро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—1 1/2 часа) и снова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т 19 до 20 часов — ужин и свободные занятия.</a:t>
            </a: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я ко с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1EDE-8C7A-483D-B99A-43E2F1E7BE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Физическое воспит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бенка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значения показателей двигательной активности детей за полный день -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бъем 17 000 движ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интенсивность 55-65 движений в мину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5A7B-DC6C-4C14-BF5D-EE69DD4060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Calibri"/>
              </a:rPr>
              <a:t>Режим дня до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200"/>
            </a:b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ACCB-8BDD-4B6E-8301-DFD3BB6F13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b770e"/>
                </a:solidFill>
                <a:latin typeface="Calibri"/>
              </a:rPr>
              <a:t>Компьют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Calibri"/>
              </a:rPr>
              <a:t>«за» </a:t>
            </a:r>
            <a:r>
              <a:rPr b="0" i="1" lang="ru-RU" sz="1200" spc="-1" strike="noStrike">
                <a:solidFill>
                  <a:srgbClr val="0b770e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роти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1859c"/>
                </a:solidFill>
                <a:latin typeface="Calibri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Calibri"/>
              </a:rPr>
              <a:t>«+»   Достоинства компьют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занятий на компьютере улучшаются память и внимание дет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«-»   Недостатки компьюте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69C0-3080-47B8-BAD1-5AE1E1F98D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гулки – это важ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80"/>
                </a:solidFill>
                <a:latin typeface="Calibri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26C5-AAF8-4DB8-AE2D-E076EE9AE2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охранить зрение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, чернику, бруснику, клюкву, петрушку, укроп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лефоне лучше забы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DCA6-D0CD-4D92-A29E-E9FF508CE6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Комплекс упражнений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F3D9-0FF4-49CE-AE2E-E78EC2A8C0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Закали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 </a:t>
            </a: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первый шаг на пути к здо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и закаливании детей следует придерживаться та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основных принципов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ь закаливающие процедуры систематичес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величивать время воздействия закаливающего фактора постеп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ть настроение ребенка и проводить процедуры в форме игр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ачинать закаливание в любом возра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выполнять процедуры, если малыш замерз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закаливаться всей семь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ливающие процед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ть с физическими упражн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ссаж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помещении, где находится ребено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икогда не ку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3DA0-6BB0-41F3-96F8-9FCB7F9EDA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Способы закал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ый таз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ое полотенц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Контрастный душ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ебенок боится воздействия холод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уш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можно вначале поставить таз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лодной водой и сказ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А ну, давай с тобой по лужам побегаем!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от из теплой ванны - в холодный таз (или "под дождик"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A6E7-A995-402B-8629-6A6780A6B2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1A0-CD68-473D-8B7F-5018A72A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D24-86C7-4AB2-93E0-F30614A2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BEA-F50C-43EE-8DFB-E7EEC7D9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CC3E-233B-492B-ADF1-31EA8793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6E2-96C1-4CF1-8EE4-91020509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0AB-6A92-4A42-9207-50398068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E01-E813-49ED-803A-90406021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607-E67F-48D1-9051-2A9C4C01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23F-DB5B-47CF-8B26-DE91DACE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59E-15DE-4C5C-8F07-58D95F9E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B54-E4F7-45F7-9E17-8848A8EF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C18-68EE-4A7F-8486-EE2CE886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DA6D-5E91-4B09-907C-8B3B39F084A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0BFE-092C-455C-B039-B2122A3E23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349360" y="4572000"/>
            <a:ext cx="2500560" cy="20271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291960"/>
            <a:ext cx="7967520" cy="18543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38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309760" y="3333600"/>
            <a:ext cx="506520" cy="5860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Прямоугольник 5" descr=""/>
          <p:cNvPicPr/>
          <p:nvPr/>
        </p:nvPicPr>
        <p:blipFill>
          <a:blip r:embed="rId1"/>
          <a:stretch/>
        </p:blipFill>
        <p:spPr>
          <a:xfrm>
            <a:off x="-1500120" y="109440"/>
            <a:ext cx="10302840" cy="2073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89640" cy="749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74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3" descr=""/>
          <p:cNvPicPr/>
          <p:nvPr/>
        </p:nvPicPr>
        <p:blipFill>
          <a:blip r:embed="rId1"/>
          <a:stretch/>
        </p:blipFill>
        <p:spPr>
          <a:xfrm>
            <a:off x="-1573200" y="201600"/>
            <a:ext cx="10302840" cy="2481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Прямоугольник 6" descr=""/>
          <p:cNvPicPr/>
          <p:nvPr/>
        </p:nvPicPr>
        <p:blipFill>
          <a:blip r:embed="rId1"/>
          <a:stretch/>
        </p:blipFill>
        <p:spPr>
          <a:xfrm>
            <a:off x="407880" y="-244440"/>
            <a:ext cx="5956560" cy="1457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96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Прямоугольник 3" descr=""/>
          <p:cNvPicPr/>
          <p:nvPr/>
        </p:nvPicPr>
        <p:blipFill>
          <a:blip r:embed="rId1"/>
          <a:stretch/>
        </p:blipFill>
        <p:spPr>
          <a:xfrm>
            <a:off x="298440" y="-201600"/>
            <a:ext cx="6089760" cy="19018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-12600"/>
            <a:ext cx="7570800" cy="90324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0"/>
            <a:ext cx="6553080" cy="17794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Прямоугольник 4" descr=""/>
          <p:cNvPicPr/>
          <p:nvPr/>
        </p:nvPicPr>
        <p:blipFill>
          <a:blip r:embed="rId1"/>
          <a:stretch/>
        </p:blipFill>
        <p:spPr>
          <a:xfrm>
            <a:off x="2163600" y="-165240"/>
            <a:ext cx="4932360" cy="2097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32" name="TextBox 6" descr=""/>
          <p:cNvPicPr/>
          <p:nvPr/>
        </p:nvPicPr>
        <p:blipFill>
          <a:blip r:embed="rId3"/>
          <a:stretch/>
        </p:blipFill>
        <p:spPr>
          <a:xfrm>
            <a:off x="92160" y="1616040"/>
            <a:ext cx="6924600" cy="35290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-317520" y="201600"/>
            <a:ext cx="7961400" cy="17985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208080"/>
            <a:ext cx="6919920" cy="1751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63960" cy="860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2400"/>
            <a:ext cx="6913440" cy="1128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-36360"/>
            <a:ext cx="4932360" cy="1536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396720" y="-115920"/>
            <a:ext cx="5888160" cy="112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341360" y="5721480"/>
            <a:ext cx="3743280" cy="28591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0" y="2428920"/>
            <a:ext cx="68580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3" descr=""/>
          <p:cNvPicPr/>
          <p:nvPr/>
        </p:nvPicPr>
        <p:blipFill>
          <a:blip r:embed="rId1"/>
          <a:stretch/>
        </p:blipFill>
        <p:spPr>
          <a:xfrm>
            <a:off x="-55440" y="-36360"/>
            <a:ext cx="6937200" cy="1047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-19080" y="-6516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4" descr=""/>
          <p:cNvPicPr/>
          <p:nvPr/>
        </p:nvPicPr>
        <p:blipFill>
          <a:blip r:embed="rId1"/>
          <a:stretch/>
        </p:blipFill>
        <p:spPr>
          <a:xfrm>
            <a:off x="-573120" y="152280"/>
            <a:ext cx="7967520" cy="12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-573120"/>
            <a:ext cx="8034480" cy="18954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3" descr=""/>
          <p:cNvPicPr/>
          <p:nvPr/>
        </p:nvPicPr>
        <p:blipFill>
          <a:blip r:embed="rId1"/>
          <a:stretch/>
        </p:blipFill>
        <p:spPr>
          <a:xfrm>
            <a:off x="-536400" y="189000"/>
            <a:ext cx="7967520" cy="1311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ram</dc:creator>
  <dc:description/>
  <dc:language>en-US</dc:language>
  <cp:lastModifiedBy>LEGION</cp:lastModifiedBy>
  <dcterms:modified xsi:type="dcterms:W3CDTF">2015-01-27T12:12:40Z</dcterms:modified>
  <cp:revision>209</cp:revision>
  <dc:subject/>
  <dc:title>Слайд 1</dc:title>
</cp:coreProperties>
</file>