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2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48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32.jpeg" ContentType="image/jpeg"/>
  <Override PartName="/ppt/media/image20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3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58.wmf" ContentType="image/x-wmf"/>
  <Override PartName="/ppt/media/image60.png" ContentType="image/png"/>
  <Override PartName="/ppt/media/image67.wmf" ContentType="image/x-wmf"/>
  <Override PartName="/ppt/media/image10.png" ContentType="image/png"/>
  <Override PartName="/ppt/media/image65.wmf" ContentType="image/x-wmf"/>
  <Override PartName="/ppt/media/image25.png" ContentType="image/png"/>
  <Override PartName="/ppt/media/image19.jpeg" ContentType="image/jpeg"/>
  <Override PartName="/ppt/media/image62.png" ContentType="image/png"/>
  <Override PartName="/ppt/media/image26.png" ContentType="image/png"/>
  <Override PartName="/ppt/media/image66.wmf" ContentType="image/x-wmf"/>
  <Override PartName="/ppt/media/image23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61.wmf" ContentType="image/x-wmf"/>
  <Override PartName="/ppt/media/image21.wmf" ContentType="image/x-wmf"/>
  <Override PartName="/ppt/media/image64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63.jpeg" ContentType="image/jpeg"/>
  <Override PartName="/ppt/media/image5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54.jpeg" ContentType="image/jpeg"/>
  <Override PartName="/ppt/media/image33.png" ContentType="image/png"/>
  <Override PartName="/ppt/media/image36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D04C-72E0-4D8C-A0C0-A2F6D60CE1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Рекоменд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родит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по укрепл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здоровья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F456-09AB-4E6E-A829-6B5C93AB5A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БОСОХОЖДЕНИЕ</a:t>
            </a:r>
            <a:r>
              <a:rPr b="1" lang="en-US" sz="1200" spc="-1" strike="noStrike">
                <a:solidFill>
                  <a:srgbClr val="000000"/>
                </a:solidFill>
                <a:latin typeface="Arno Pro Light Display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элемент закаливания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ин способ закалки – это </a:t>
            </a: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прогулки боси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200" spc="-1" strike="noStrike">
                <a:solidFill>
                  <a:srgbClr val="0070c0"/>
                </a:solidFill>
                <a:latin typeface="Calibri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4D8D-F181-46B9-978C-BF71BA0AB8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СКОСТОП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к предупредить плоскостоп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вь у ребенка должна быть сделана из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натуральных материал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внутри с твердым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супинаторо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поднимающим внутренний край ст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дошва детской обуви должна быть гибкой  и иметь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каблук (5-10 мм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искусственно поднимающий свод стопы, защищающий пятку от ушиб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вь должна соответствовать фор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размеру стопы, была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удобной при нос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весу обувь должна быть максимально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легкой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статочно жесткой, с хорошим зад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мните, длина следа должна быть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больше стопы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носочной части, припуск в 10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FF6F-D3F4-4076-B7FB-831806F31C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делат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ребенка плоскостоп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плекс упражнений при плоскостопи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лечебная гимнастик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0099"/>
                </a:solidFill>
                <a:uFillTx/>
                <a:latin typeface="Calibri"/>
              </a:rPr>
              <a:t>Описание упражнений</a:t>
            </a:r>
            <a:r>
              <a:rPr b="0" lang="ru-RU" sz="1400" spc="-1" strike="noStrike">
                <a:solidFill>
                  <a:srgbClr val="cc0099"/>
                </a:solidFill>
                <a:latin typeface="Calibri"/>
              </a:rPr>
              <a:t>                                 </a:t>
            </a:r>
            <a:r>
              <a:rPr b="0" lang="ru-RU" sz="1400" spc="-1" strike="noStrike" u="sng">
                <a:solidFill>
                  <a:srgbClr val="cc0099"/>
                </a:solidFill>
                <a:uFillTx/>
                <a:latin typeface="Calibri"/>
              </a:rPr>
              <a:t> Кол-во повтор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дь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осках, руки вверх                                                </a:t>
            </a:r>
            <a:r>
              <a:rPr b="0" lang="ru-RU" sz="1200" spc="-1" strike="noStrike">
                <a:solidFill>
                  <a:srgbClr val="d60093"/>
                </a:solidFill>
                <a:latin typeface="Calibri"/>
              </a:rPr>
              <a:t>по 20-30 с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 пятках, руки на поя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а наружном своде стоп, пальцы согнуты, руки на поя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 мячом (теннисным) - зажать стопами, ходить на внешней стороне сто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Стоя на палке (обруче)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луприседания и приседания, руки вперед или в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ередвижение вдоль палки - ставить стопы вдоль или поперек палки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3-4 р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Сто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а наружном своде стоп - поворот туловище лев –прав.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днимание на носках с упором на наружный свод стопы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"Лодочка"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4-6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"Угол"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 на спине держать ноги под углом 45 гр.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4-6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Сид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гибание - разгибание пальцев стоп 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5-20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аксимальное разведение и сведение пяток, не отрывая носков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5-20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 напряжением тянуть носки на себя, от себя  (колени прямые )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оединить стопы. Колени прямые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круговые движения стопами внутрь,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захватывание и приподнимание пальцами сто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а или мелкого предмета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) захватывание и приподнимание стопам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ча, колени прямые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                           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6B7A-2223-4AF7-9034-098599D78D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Польза пла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9565-9705-4D9E-925B-3F0A2E9195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сформ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авильную осан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ая осанка не бывает врожденной, она начинает формиро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ервых лет наше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ответственный период для форм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анк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 4 до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учая вашего ребенка «правильно» держать свое т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забывайте при этом и про вашу оса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крепкого, достаточно развитого мышечного корсажа – мышечной сис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ая болезнь или хронические заболевания, ослабляющие орган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рах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оответствующая росту мебе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добная одежда и обу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AA15-F2D3-4CEB-8623-20E164C36F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Как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проверить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осанку у ребе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e5b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5b00"/>
                </a:solidFill>
                <a:latin typeface="Calibri"/>
              </a:rPr>
              <a:t>Следим за осанкой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5049-046C-4C6D-B977-2F46E99692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Красивые и здоро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ЗУ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770e"/>
                </a:solidFill>
                <a:latin typeface="Calibri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2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BFF5-3F60-4160-9CF7-FA54FE6843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Масс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десен щет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о утром звери встал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ки чистить побежал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зубки миш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точкой из шиш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ка в рыжей шуб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же чистит зуб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ые мышат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ые ежат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ый волк зубаст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зубки паст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поросен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мешной лосенок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завтракали вкусно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нам почистить нужн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уки щёточку возьмё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ной пасты нанесё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чистим осторожн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ь поранить дёсны можно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отом что? А пот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мы ополоснё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понадобится кружка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ыбнёмся-ка друг дружк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ли умело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зубки стали бе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4A23-6AAB-4336-AC90-030921145A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5 правил родителям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ервокласс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важно сочетать игру и учебу. Учиться, играя – намного легче, ведь играть ребенок умеет очень хорошо. А учеба – это та сфера, где ребенок  первоклассник – нович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и и неудачи –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«Как хорошо написал, какой хороший мальчик!»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C1AC-E131-4630-BA52-4A88D04098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обуждение — в 7 часов утр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Учебные заня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тдыха — обязательное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ебывание на воздух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иготовление уро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—1 1/2 часа) и снова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ебывание на воздух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т 19 до 20 часов — ужин и свободные занятия.</a:t>
            </a: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иготовления ко с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33A1-8BDD-4D7B-AC41-9FCB5A2A37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Физическое воспит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бенка 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значения показателей двигательной активности детей за полный день -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бъем 17 000 движ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интенсивность 55-65 движений в мину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5F60-E172-4B03-AC3F-A6BA0662A5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Calibri"/>
              </a:rPr>
              <a:t>Режим дня до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d0f69"/>
                </a:solidFill>
                <a:latin typeface="Calibri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200"/>
            </a:br>
            <a:r>
              <a:rPr b="0" lang="ru-RU" sz="1200" spc="-1" strike="noStrike">
                <a:solidFill>
                  <a:srgbClr val="ad0f69"/>
                </a:solidFill>
                <a:latin typeface="Calibri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FD9B-1CEF-42D3-9014-3EDBA27754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b770e"/>
                </a:solidFill>
                <a:latin typeface="Calibri"/>
              </a:rPr>
              <a:t>Компьютер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46c0a"/>
                </a:solidFill>
                <a:latin typeface="Calibri"/>
              </a:rPr>
              <a:t>«за» </a:t>
            </a:r>
            <a:r>
              <a:rPr b="0" i="1" lang="ru-RU" sz="1200" spc="-1" strike="noStrike">
                <a:solidFill>
                  <a:srgbClr val="0b770e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проти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1859c"/>
                </a:solidFill>
                <a:latin typeface="Calibri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8000"/>
                </a:solidFill>
                <a:uFillTx/>
                <a:latin typeface="Calibri"/>
              </a:rPr>
              <a:t>«+»   Достоинства компьют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занятий на компьютере улучшаются память и внимание дет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«-»   Недостатки компьюте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BFB7-B016-4679-9CD4-EB306A8413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огулки – это важ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2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80"/>
                </a:solidFill>
                <a:latin typeface="Calibri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Северо-Западном регионе необходимо учитывать высокую влажность. 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F6C7-D44F-43D1-B07F-EAABF5E7F1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сохранить зрение ребе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, чернику, бруснику, клюкву, петрушку, укроп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елефоне лучше забы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1364-1853-49B0-A59E-0C96FB5A38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Комплекс упражнений дл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DD4E-73AA-4524-85C1-FF24CEA33F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Закаливание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 </a:t>
            </a: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первый шаг на пути к здоро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и закаливании детей следует придерживаться та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основных принципов</a:t>
            </a: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ь закаливающие процедуры систематичес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увеличивать время воздействия закаливающего фактора постепен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ть настроение ребенка и проводить процедуры в форме игр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ачинать закаливание в любом возрас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выполнять процедуры, если малыш замерз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закаливаться всей семь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ливающие процед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ть с физическими упражн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ссаж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в помещении, где находится ребено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икогда не ку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6242-FB43-485C-87A4-E7B44CA61A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Способы закал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Холодный таз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Холодное полотенце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Контрастный душ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ебенок боится воздействия холод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уш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можно вначале поставить таз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олодной водой и сказ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А ну, давай с тобой по лужам побегаем!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от из теплой ванны - в холодный таз (или "под дождик"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FE3C-9E90-43E3-A2FD-3DA41E75AA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30D-9EF5-43BE-BEB4-C4A9D88F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52B-ED1E-425B-8EB1-ADF48D22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17F-98C9-4024-A751-D81520B1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72B-1589-406C-965C-517076F9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75E-37BD-482C-9467-80505E29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77B-33BD-48D0-98E7-BD9CA2F2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35E-C41E-492A-B9D4-76C6DB38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803-52F5-4EA7-AF4D-5FE9AEC2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FC87-0C08-48C4-80C6-B10269F2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C50-2F69-4217-B8AA-00B618DF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84A-9FAF-4C4E-934B-8B8B9312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DDB-B06D-456D-9489-A7550B79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66E4-ABE6-4A0D-9799-5AA2EB6D285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7BA2-3D27-40DF-A9C7-B78189E3DD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39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39.wmf"/><Relationship Id="rId10" Type="http://schemas.openxmlformats.org/officeDocument/2006/relationships/image" Target="../media/image39.wmf"/><Relationship Id="rId11" Type="http://schemas.openxmlformats.org/officeDocument/2006/relationships/image" Target="../media/image39.wmf"/><Relationship Id="rId12" Type="http://schemas.openxmlformats.org/officeDocument/2006/relationships/image" Target="../media/image39.wmf"/><Relationship Id="rId13" Type="http://schemas.openxmlformats.org/officeDocument/2006/relationships/image" Target="../media/image39.wmf"/><Relationship Id="rId14" Type="http://schemas.openxmlformats.org/officeDocument/2006/relationships/image" Target="../media/image39.wmf"/><Relationship Id="rId15" Type="http://schemas.openxmlformats.org/officeDocument/2006/relationships/image" Target="../media/image39.wmf"/><Relationship Id="rId16" Type="http://schemas.openxmlformats.org/officeDocument/2006/relationships/image" Target="../media/image39.wmf"/><Relationship Id="rId17" Type="http://schemas.openxmlformats.org/officeDocument/2006/relationships/image" Target="../media/image39.wmf"/><Relationship Id="rId18" Type="http://schemas.openxmlformats.org/officeDocument/2006/relationships/image" Target="../media/image39.wmf"/><Relationship Id="rId19" Type="http://schemas.openxmlformats.org/officeDocument/2006/relationships/image" Target="../media/image39.wmf"/><Relationship Id="rId20" Type="http://schemas.openxmlformats.org/officeDocument/2006/relationships/image" Target="../media/image39.wmf"/><Relationship Id="rId21" Type="http://schemas.openxmlformats.org/officeDocument/2006/relationships/image" Target="../media/image39.wmf"/><Relationship Id="rId22" Type="http://schemas.openxmlformats.org/officeDocument/2006/relationships/image" Target="../media/image39.wmf"/><Relationship Id="rId23" Type="http://schemas.openxmlformats.org/officeDocument/2006/relationships/image" Target="../media/image39.wmf"/><Relationship Id="rId24" Type="http://schemas.openxmlformats.org/officeDocument/2006/relationships/image" Target="../media/image39.wmf"/><Relationship Id="rId25" Type="http://schemas.openxmlformats.org/officeDocument/2006/relationships/image" Target="../media/image39.wmf"/><Relationship Id="rId26" Type="http://schemas.openxmlformats.org/officeDocument/2006/relationships/image" Target="../media/image39.wmf"/><Relationship Id="rId27" Type="http://schemas.openxmlformats.org/officeDocument/2006/relationships/image" Target="../media/image40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0" y="1285920"/>
            <a:ext cx="658980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142560"/>
            <a:ext cx="61722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портивная энцикло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60480" y="5786280"/>
            <a:ext cx="2797200" cy="296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214880" y="61437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>
            <a:off x="2349360" y="4572000"/>
            <a:ext cx="2500560" cy="20271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291960"/>
            <a:ext cx="7967520" cy="18543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один способ закалки – эт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рогулки боси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138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309760" y="3333600"/>
            <a:ext cx="506520" cy="5860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Прямоугольник 5" descr=""/>
          <p:cNvPicPr/>
          <p:nvPr/>
        </p:nvPicPr>
        <p:blipFill>
          <a:blip r:embed="rId1"/>
          <a:stretch/>
        </p:blipFill>
        <p:spPr>
          <a:xfrm>
            <a:off x="-1500120" y="109440"/>
            <a:ext cx="10302840" cy="2073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Прямоугольник 7" descr=""/>
          <p:cNvPicPr/>
          <p:nvPr/>
        </p:nvPicPr>
        <p:blipFill>
          <a:blip r:embed="rId2"/>
          <a:stretch/>
        </p:blipFill>
        <p:spPr>
          <a:xfrm>
            <a:off x="255600" y="1865160"/>
            <a:ext cx="6389640" cy="7495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у ребенка должна быть сделана из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натуральных материал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внутри с твердым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супинаторо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ошва детской обуви должна быть гибкой  и име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каблук (5-10 мм)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73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74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размеру стопы, была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удобной при нос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Прямоугольник 3" descr=""/>
          <p:cNvPicPr/>
          <p:nvPr/>
        </p:nvPicPr>
        <p:blipFill>
          <a:blip r:embed="rId1"/>
          <a:stretch/>
        </p:blipFill>
        <p:spPr>
          <a:xfrm>
            <a:off x="-1573200" y="201600"/>
            <a:ext cx="10302840" cy="2481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ru-RU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епени продольно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Прямоугольник 6" descr=""/>
          <p:cNvPicPr/>
          <p:nvPr/>
        </p:nvPicPr>
        <p:blipFill>
          <a:blip r:embed="rId1"/>
          <a:stretch/>
        </p:blipFill>
        <p:spPr>
          <a:xfrm>
            <a:off x="407880" y="-244440"/>
            <a:ext cx="5956560" cy="1457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96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Прямоугольник 3" descr=""/>
          <p:cNvPicPr/>
          <p:nvPr/>
        </p:nvPicPr>
        <p:blipFill>
          <a:blip r:embed="rId1"/>
          <a:stretch/>
        </p:blipFill>
        <p:spPr>
          <a:xfrm>
            <a:off x="298440" y="-201600"/>
            <a:ext cx="6089760" cy="19018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ан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Прямоугольник 4" descr=""/>
          <p:cNvPicPr/>
          <p:nvPr/>
        </p:nvPicPr>
        <p:blipFill>
          <a:blip r:embed="rId1"/>
          <a:stretch/>
        </p:blipFill>
        <p:spPr>
          <a:xfrm>
            <a:off x="-285840" y="-12600"/>
            <a:ext cx="7570800" cy="90324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5" descr="556a4fba3e10.png"/>
          <p:cNvPicPr/>
          <p:nvPr/>
        </p:nvPicPr>
        <p:blipFill>
          <a:blip r:embed="rId2"/>
          <a:stretch/>
        </p:blipFill>
        <p:spPr>
          <a:xfrm>
            <a:off x="4321080" y="6477120"/>
            <a:ext cx="2536920" cy="26668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142920" y="2214720"/>
            <a:ext cx="66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2052000" y="514368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142920" y="5700600"/>
            <a:ext cx="514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0"/>
            <a:ext cx="6553080" cy="17794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770e"/>
                </a:solidFill>
                <a:latin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Прямоугольник 4" descr=""/>
          <p:cNvPicPr/>
          <p:nvPr/>
        </p:nvPicPr>
        <p:blipFill>
          <a:blip r:embed="rId1"/>
          <a:stretch/>
        </p:blipFill>
        <p:spPr>
          <a:xfrm>
            <a:off x="2163600" y="-165240"/>
            <a:ext cx="4932360" cy="2097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232" name="TextBox 6" descr=""/>
          <p:cNvPicPr/>
          <p:nvPr/>
        </p:nvPicPr>
        <p:blipFill>
          <a:blip r:embed="rId3"/>
          <a:stretch/>
        </p:blipFill>
        <p:spPr>
          <a:xfrm>
            <a:off x="92160" y="1616040"/>
            <a:ext cx="6924600" cy="35290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8" descr="03.jpg"/>
          <p:cNvPicPr/>
          <p:nvPr/>
        </p:nvPicPr>
        <p:blipFill>
          <a:blip r:embed="rId4"/>
          <a:stretch/>
        </p:blipFill>
        <p:spPr>
          <a:xfrm>
            <a:off x="1214280" y="5072040"/>
            <a:ext cx="4572000" cy="39909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-317520" y="201600"/>
            <a:ext cx="7961400" cy="17985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важно сочетать игру и учебу. Учиться, игр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много легче, ведь играть ребенок умеет очень хорошо. А уче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та сфера, где ребенок  первокласс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неудач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хорошо написал, какой хороший мальчик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0" descr="C:\Users\viki\AppData\Local\Microsoft\Windows\Temporary Internet Files\Content.IE5\M4P7N6CI\MCj04358410000[1].wmf"/>
          <p:cNvPicPr/>
          <p:nvPr/>
        </p:nvPicPr>
        <p:blipFill>
          <a:blip r:embed="rId2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712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обуждение — в 7 часов утр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Учебн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отдыха — обязательно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этого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е урок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—1 1/2 часа) и снова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я ко сн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208080"/>
            <a:ext cx="6919920" cy="1751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объем 17 000 движ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8" descr=""/>
          <p:cNvPicPr/>
          <p:nvPr/>
        </p:nvPicPr>
        <p:blipFill>
          <a:blip r:embed="rId2"/>
          <a:stretch/>
        </p:blipFill>
        <p:spPr>
          <a:xfrm>
            <a:off x="2133720" y="3419640"/>
            <a:ext cx="4863960" cy="860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viki\AppData\Local\Microsoft\Windows\Temporary Internet Files\Content.IE5\FNMA7AE2\MCj04370790000[1].png"/>
          <p:cNvPicPr/>
          <p:nvPr/>
        </p:nvPicPr>
        <p:blipFill>
          <a:blip r:embed="rId5"/>
          <a:stretch/>
        </p:blipFill>
        <p:spPr>
          <a:xfrm>
            <a:off x="5715000" y="357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viki\AppData\Local\Microsoft\Windows\Temporary Internet Files\Content.IE5\MOVYDWVJ\MCj04370700000[1].png"/>
          <p:cNvPicPr/>
          <p:nvPr/>
        </p:nvPicPr>
        <p:blipFill>
          <a:blip r:embed="rId6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viki\AppData\Local\Microsoft\Windows\Temporary Internet Files\Content.IE5\FNMA7AE2\MCj04370720000[1].png"/>
          <p:cNvPicPr/>
          <p:nvPr/>
        </p:nvPicPr>
        <p:blipFill>
          <a:blip r:embed="rId7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Users\viki\AppData\Local\Microsoft\Windows\Temporary Internet Files\Content.IE5\RSWC3R1M\MCj04370710000[1].png"/>
          <p:cNvPicPr/>
          <p:nvPr/>
        </p:nvPicPr>
        <p:blipFill>
          <a:blip r:embed="rId8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viki\AppData\Local\Microsoft\Windows\Temporary Internet Files\Content.IE5\M8TJYLUS\MCj04370760000[1].png"/>
          <p:cNvPicPr/>
          <p:nvPr/>
        </p:nvPicPr>
        <p:blipFill>
          <a:blip r:embed="rId9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Users\viki\AppData\Local\Microsoft\Windows\Temporary Internet Files\Content.IE5\YN4VUU4O\MCj04348700000[1].png"/>
          <p:cNvPicPr/>
          <p:nvPr/>
        </p:nvPicPr>
        <p:blipFill>
          <a:blip r:embed="rId10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C:\Users\viki\AppData\Local\Microsoft\Windows\Temporary Internet Files\Content.IE5\5HM5BHCY\MCj04370470000[1].png"/>
          <p:cNvPicPr/>
          <p:nvPr/>
        </p:nvPicPr>
        <p:blipFill>
          <a:blip r:embed="rId11"/>
          <a:stretch/>
        </p:blipFill>
        <p:spPr>
          <a:xfrm>
            <a:off x="500040" y="571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C:\Users\viki\AppData\Local\Microsoft\Windows\Temporary Internet Files\Content.IE5\0DKC86KK\MCj04370460000[1].png"/>
          <p:cNvPicPr/>
          <p:nvPr/>
        </p:nvPicPr>
        <p:blipFill>
          <a:blip r:embed="rId12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C:\Users\viki\AppData\Local\Microsoft\Windows\Temporary Internet Files\Content.IE5\GMERIPU6\MCj04370420000[1].png"/>
          <p:cNvPicPr/>
          <p:nvPr/>
        </p:nvPicPr>
        <p:blipFill>
          <a:blip r:embed="rId13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122400"/>
            <a:ext cx="6913440" cy="1128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viki\Pictures\141(1).jpg"/>
          <p:cNvPicPr/>
          <p:nvPr/>
        </p:nvPicPr>
        <p:blipFill>
          <a:blip r:embed="rId2"/>
          <a:stretch/>
        </p:blipFill>
        <p:spPr>
          <a:xfrm>
            <a:off x="4572000" y="635040"/>
            <a:ext cx="2143080" cy="179388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Users\viki\AppData\Local\Microsoft\Windows\Temporary Internet Files\Content.IE5\6NZXK4SD\MCj04282850000[1].wmf"/>
          <p:cNvPicPr/>
          <p:nvPr/>
        </p:nvPicPr>
        <p:blipFill>
          <a:blip r:embed="rId3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Users\viki\AppData\Local\Microsoft\Windows\Temporary Internet Files\Content.IE5\M8TJYLUS\MCj04381290000[1].wmf"/>
          <p:cNvPicPr/>
          <p:nvPr/>
        </p:nvPicPr>
        <p:blipFill>
          <a:blip r:embed="rId4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viki\AppData\Local\Microsoft\Windows\Temporary Internet Files\Content.IE5\6NZXK4SD\MCj04300890000[1].wmf"/>
          <p:cNvPicPr/>
          <p:nvPr/>
        </p:nvPicPr>
        <p:blipFill>
          <a:blip r:embed="rId5"/>
          <a:stretch/>
        </p:blipFill>
        <p:spPr>
          <a:xfrm>
            <a:off x="214200" y="7537320"/>
            <a:ext cx="1797120" cy="16066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-36360"/>
            <a:ext cx="4932360" cy="1536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143680" y="0"/>
            <a:ext cx="1904760" cy="1917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1859c"/>
                </a:solidFill>
                <a:latin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b050"/>
                </a:solidFill>
                <a:uFillTx/>
                <a:latin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396720" y="-115920"/>
            <a:ext cx="5888160" cy="112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1341360" y="5721480"/>
            <a:ext cx="3743280" cy="28591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0" y="2428920"/>
            <a:ext cx="685800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в Северо-Западном регионе необходимо учитывать высокую влажность. 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0" y="84884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Прямоугольник 3" descr=""/>
          <p:cNvPicPr/>
          <p:nvPr/>
        </p:nvPicPr>
        <p:blipFill>
          <a:blip r:embed="rId1"/>
          <a:stretch/>
        </p:blipFill>
        <p:spPr>
          <a:xfrm>
            <a:off x="-55440" y="-36360"/>
            <a:ext cx="6937200" cy="1047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чернику, бруснику, клюкв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т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-19080" y="-6516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4" descr=""/>
          <p:cNvPicPr/>
          <p:nvPr/>
        </p:nvPicPr>
        <p:blipFill>
          <a:blip r:embed="rId1"/>
          <a:stretch/>
        </p:blipFill>
        <p:spPr>
          <a:xfrm>
            <a:off x="-573120" y="152280"/>
            <a:ext cx="7967520" cy="12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6" descr="i_033.png"/>
          <p:cNvPicPr/>
          <p:nvPr/>
        </p:nvPicPr>
        <p:blipFill>
          <a:blip r:embed="rId2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-573120"/>
            <a:ext cx="8034480" cy="18954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основных принципов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увеличивать время воздействия закаливающего фактора постепенн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Прямоугольник 3" descr=""/>
          <p:cNvPicPr/>
          <p:nvPr/>
        </p:nvPicPr>
        <p:blipFill>
          <a:blip r:embed="rId1"/>
          <a:stretch/>
        </p:blipFill>
        <p:spPr>
          <a:xfrm>
            <a:off x="-536400" y="189000"/>
            <a:ext cx="7967520" cy="13111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уш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38:58Z</dcterms:created>
  <dc:creator>ram</dc:creator>
  <dc:description/>
  <dc:language>en-US</dc:language>
  <cp:lastModifiedBy>LEGION</cp:lastModifiedBy>
  <dcterms:modified xsi:type="dcterms:W3CDTF">2015-01-27T12:12:40Z</dcterms:modified>
  <cp:revision>209</cp:revision>
  <dc:subject/>
  <dc:title>Слайд 1</dc:title>
</cp:coreProperties>
</file>