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73F-DA18-431C-B338-64014DDF71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Технология подготовк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проведения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классного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05CC-5B6C-48A8-9B30-30E693F98D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деятельность по подготовк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AB75-4358-45B6-AD1A-107DAA279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совместно с другими организаторами сценарного плана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6AA6-8B19-43BE-84C3-86A762B750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час может проводиться 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го собр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а 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ого часа (час классного руководител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 или тематической л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иг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F80B-0DBC-4EF1-8111-36DEA5F0F8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распределяется и планируется классным руководителем и обучающими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BBC9-3F9F-4780-B8CF-9BD41ABEEB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082B-9660-46F1-82F5-2AC950EF8C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FA11-6572-47EB-BD7F-5AB2168505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74BB-37BC-480B-8A7D-CA2F166A9C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2E86-D78C-499C-BEF3-A53985AD60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, для каждого часа день и время опреде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 рекомендуется классный час проводить в субботу, лучше в первой половин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9F3A-62F7-408A-B971-E2C3605D6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 должен иметь план проведения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ка классного часа, да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оспитате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овед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ое слово учи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по классному час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ли реализовать воспитатель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61BF-10CC-4995-9AA4-33738C4C0E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есть форма прямого общения воспитателя со своими воспитанник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. П. Саз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4D06-E7E6-4D9A-A65E-F4BF4DFFBD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ы классных ча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диспуты, обсуждения, беседы, лекции, конференции, устный жур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релищно-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скур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зднич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гров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010D-DFE5-4E1E-95FE-61186F6719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лись воспитательные задачи в ходе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рганизация работы с учащимися - индивидуальная, групповая или фронтальная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тивность и инициативность ребя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распределение поручений при подготовке к классному ч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заимоотношения учитель - ученики (тон, манера обращ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4532-65CF-4BED-ACAB-31F1F93A71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дисципл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внешность учащихся, по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продолжительность классного часа (от 30 до 45 мин., экскурсия - 1 час 20 мин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) связь с жизнью, нагляд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4204-388E-4C91-88BD-C2217F98D3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классного часа. Что да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качества пр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вижение новых задач для дальнейшей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предложения заместителя директора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A951-1879-4FF2-AE1C-4A852CD6B2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Е. Щуркова,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С. Финданиеви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A109-E439-4CF6-8543-CE1D038B70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Л. И. Маленко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3694-4634-40D2-9EEA-4F4D35A2BF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гибкая по своему составу и структуре форма воспитательн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A455-0556-4A81-93BD-060A693577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E7F7-9E93-44D7-8EAD-9A8E8D8F8E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сознания обучающихся знаниями о природе, обществе,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B173-4050-40D5-B6C8-02D6C4754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41DF-FAB1-42DD-9907-C8AD6725FB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темы классного часа и генерирование идей по его подготовке и прове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1851-2DBF-4045-B92E-41D74A5B0E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5E4-4790-4517-B138-1DD1B285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1BA-45CF-4962-BF3B-B928B844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488-FFA8-46F4-945F-714F0824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8FC-F141-4F9A-BF09-11093ECB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5607-D9C4-4D43-B781-7B59A307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BDF9-ED85-4D6F-BAE5-B64EA97D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945A-E59C-4BD0-88E9-B5B4EDB5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A47A-55A5-4E0D-8D4C-D2451003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7656-5536-41AC-BE02-3AD94F87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645A-C5C7-4E46-A3E7-EC29827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1E1F-39BE-4B11-9197-3584AF49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57E-F9D7-4463-AAE0-E0DFD1DD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C774-D7F9-49A1-9A5B-7A218CD7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EC6D-AE33-447C-9715-A886250E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B795-43EC-4FA6-9379-D7A962A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27D-28D9-4DAC-880D-5E6D8AC0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2302-8272-457E-B977-5694D998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970-701D-46B4-9EEA-5BBE047F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91C-1DFD-4422-94D0-A803D0A1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E11-E024-4D25-9530-A6A7BC8F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BCE-A0A0-4C55-865A-46D9AB6B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314-756E-49A5-A7EB-4C246D7D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90B-B388-4DEB-8EAC-6A84666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470-2135-4A9D-B4FD-0D0EA00E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FC10-FA35-4E65-961C-D65E210EB4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33DA-FBA4-43D8-8D79-5AA7CE7820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765840" cy="42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Технология подготовк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проведения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классного часа</a:t>
            </a:r>
            <a:endParaRPr b="0" lang="en-US" sz="6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и групповая деятельность по подготовк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совместно с другими организаторами сценарного плана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548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 может проводиться  в фор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ого собр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а об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го часа (час классного руководител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 или тематической л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о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спределяется и планируется классным руководителем и обучающими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сть, для каждого часа день и время опреде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 рекомендуется классный час проводить в субботу, лучше в первой половине не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ный руководитель должен иметь план проведения классного ча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ка классного часа, д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воспитате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ительное слово учите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 по классному час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ось ли реализовать воспитательные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83628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ассный час есть форма прямого общения воспитателя со своими воспитанника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. П. Саз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Формы классных час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испуты, обсуждения, беседы, лекции, конференции, устный жур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релищно-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зднич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о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е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шались воспитательные задачи в ходе классного ч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зация работы с учащимися - индивидуальная, групповая или фронт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ктивность и инициативность ребя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аспределение поручений при подготовке к классному ч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заимоотношения учитель - ученики (тон, манера обращ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дисцип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 внешность учащихся, по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) продолжительность классного часа (от 30 до 45 мин., экскурсия - 1 час 20 мин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) связь с жизнью, нагляд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 классного часа. Что д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качества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вижение новых задач для дальнейше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и предложения заместителя директора по воспитательной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Е. Щурков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С. Финдан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. И. Мал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лассный час -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гибкая по своему составу и структуре форма воспитательного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гащение сознания обучающихся знаниями о природе, обществе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ение темы классного часа и генерирование идей по его подготовке и провед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7:46:15Z</dcterms:created>
  <dc:creator>xxx</dc:creator>
  <dc:description/>
  <dc:language>en-US</dc:language>
  <cp:lastModifiedBy>LEGION</cp:lastModifiedBy>
  <dcterms:modified xsi:type="dcterms:W3CDTF">2015-01-27T12:13:20Z</dcterms:modified>
  <cp:revision>10</cp:revision>
  <dc:subject/>
  <dc:title>Технология подготовки  и  проведения  классного часа</dc:title>
</cp:coreProperties>
</file>