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C0B0-5AE0-4338-B816-6FF9F9A71D9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Arial Unicode MS"/>
              </a:rPr>
              <a:t>Технология подготовки </a:t>
            </a:r>
            <a:br>
              <a:rPr sz="1200"/>
            </a:br>
            <a:r>
              <a:rPr b="1" lang="ru-RU" sz="1200" spc="-1" strike="noStrike">
                <a:solidFill>
                  <a:srgbClr val="eeece1"/>
                </a:solidFill>
                <a:latin typeface="Arial Unicode MS"/>
              </a:rPr>
              <a:t>и </a:t>
            </a:r>
            <a:br>
              <a:rPr sz="1200"/>
            </a:br>
            <a:r>
              <a:rPr b="1" lang="ru-RU" sz="1200" spc="-1" strike="noStrike">
                <a:solidFill>
                  <a:srgbClr val="eeece1"/>
                </a:solidFill>
                <a:latin typeface="Arial Unicode MS"/>
              </a:rPr>
              <a:t>проведения </a:t>
            </a:r>
            <a:br>
              <a:rPr sz="1200"/>
            </a:br>
            <a:r>
              <a:rPr b="1" lang="ru-RU" sz="1200" spc="-1" strike="noStrike">
                <a:solidFill>
                  <a:srgbClr val="eeece1"/>
                </a:solidFill>
                <a:latin typeface="Arial Unicode MS"/>
              </a:rPr>
              <a:t>классного ча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3FC5-ED99-4509-89B2-E1D5269F09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хнологические аспекты  организации классного час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цели, содержания, формы, даты и места проведения классного часа, формирование сообщества его организат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ая и групповая деятельность по подготовке классного ча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B4F7-E9A2-4512-8BBE-2FFAE40F2D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хнологические аспекты  организации классного час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совместно с другими организаторами сценарного плана классного ча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классного ча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и оценка результативности классного часа и деятельности по его подготовке и провед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A0F6-C580-4340-90F2-C11EDC8079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онные рекоменд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лассный час может проводиться  в форм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ого собр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а об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ного часа (час классного руководителя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ии или тематической ле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ой иг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D12C-15CC-4ED7-ABF5-2B28550A4B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онные рекоменд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распределяется и планируется классным руководителем и обучающими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 экстренное классное собрание или замена одной формы проведения классного часа другой по тем или иным причи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562E-9F81-4979-B6D6-639F327A9A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онные рекоменд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ыбора темы и содержания классного часа классному руководителю необходимо учитывать возрастные особенности обучающихся, помнить об их нравственных представлениях, интересах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0F63-FA02-4D34-A778-0AF7BB1A2C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веты по организации классного ча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классных часов следует строить так, чтобы постепенно переходить от «предметной» информации к ее оценке, от общих оценок к развернутым сужден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учитывать психологические особенности восприятия материала обучающимися, следить за вниманием и при его снижении использовать интересные по содержанию факты или поставить «острый» вопрос, использовать музыкальную паузу, сменить вид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251A-7024-428F-8EBD-9C7FB33EDA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веты по организации классного ча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обсуждения поставленных вопросов классный руководитель должен быть очень внимателен к выступлениям обучающихся, вносить нужные коррективы, ставить дополнительные наводящие вопросы, акцентировать внимание на важных моментах, размышлять вместе с детьми и помочь им найти правильное решение нравственно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9CDB-60A0-4B01-96F6-BE1E87233D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веты по организации классного ча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ый час или лучше его назвать «час общения» играет большую роль в жизни обучающихся, если он задуман интересно и удачно провед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BB31-9CBE-4EEE-BE5C-02E67ECFBD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ребования к классному час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сть, для каждого часа день и время определе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 рекомендуется классный час проводить в субботу, лучше в первой половине не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130D-8169-4907-ADA5-D8103DF859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ебования к классному час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лассный руководитель должен иметь план проведения классного ча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ка классного часа, да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воспитатель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ь провед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ляд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ительное слово учител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по классному час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ось ли реализовать воспитательные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8B32-F99B-4866-BDBE-EF32D3E177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Классный час есть форма прямого общения воспитателя со своими воспитанникам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. П. Саз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6ABD-4B6B-4423-9C5D-1F3A9E441A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ормы классных ча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говорны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диспуты, обсуждения, беседы, лекции, конференции, устный журн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релищно-разговорны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кскур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здничн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 знаменательным датам. Можно соединять параллели, вечера, дискотеки (объединенные классные ча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гров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ые ча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C7E0-50BA-43E3-A21E-0039ED9272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хема анализа классного ча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посещения, цепь посещения, тема классного часа, форма проведения .   классного часа и цель поставленная учи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ешались воспитательные задачи в ходе классного ча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рганизация работы с учащимися - индивидуальная, групповая или фронтальная раб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активность и инициативность ребя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распределение поручений при подготовке к классному час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взаимоотношения учитель - ученики (тон, манера обращ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6776-1F8A-4AC0-8D86-89061E7E14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хема анализа классного час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 дисципли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) внешность учащихся, поме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) продолжительность классного часа (от 30 до 45 мин., экскурсия - 1 час 20 мин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) направленность классного часа (каждое мероприятие - должно соответствовать задачам школы на данный период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) связь с жизнью, нагляд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BBD7-979A-4159-A4E7-68ADA52DB2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хема анализа классного час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классного часа. Что дал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качества пр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вижение новых задач для дальнейшей рабо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нравственных чув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и предложения заместителя директора по воспитательной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5E0F-54E8-4DF2-99C2-1B73AB56C7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Классный час можно назвать специально организованной ценностно-ориентационной деятельностью, способствующей формированию у школьников системы отношений к окружающему мир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Н.Е. Щуркова,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Н.С. Финданиевич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FCEE-4430-4C59-A9C2-2789975267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Классный час. В нашем понимании это не какая-то определенная форма работы, а час классного руководител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Л. И. Маленко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CC2B-DFE5-4FA3-B1A6-F89DF80C77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ый час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гибкая по своему составу и структуре форма воспитательного взаимо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форма общения классного руководителя и его воспитанников, приоритетную роль в организации которой играет педаг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287F-EEF2-4600-92CF-9B4C74FD65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е задачи, решаемые благодаря классному ча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условий становления и проявления субъектности и индивидуальности обучающегося, его творческих спосо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2CE1-7248-4830-9740-FF821FD5E9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е задачи, решаемые благодаря классному ча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гащение сознания обучающихся знаниями о природе, обществе, челов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эмоционально-чувствительной сферы и ценностных отношений личности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A82C-F782-4353-ACAF-8107B1DC35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е задачи, решаемые благодаря классному ча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воение детьми знаний, умений и навыков познавательной и практико-созидате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классного коллектива как благоприятной среды для развития и жизнедеятельности школь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2548-3A95-464F-AF27-D1B17EDEB3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хнологические аспекты  организации классного час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едагогом совместно с обучающимися и их родителями тематики классных часов на новый учебный г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чнение темы классного часа и генерирование идей по его подготовке и проведен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68AC-26FE-4B83-BA52-100AAB6B36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6EBE-F9EF-46DA-8FFD-1F57D24B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0C47-C9F7-4E0B-A516-3E6B42FC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69B4-8AD6-42B4-93A8-FB52C191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1205-28E1-4B19-9F61-072C09A8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EEEF-4336-40D3-8E45-4E7B14781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718D-C18A-440B-839D-BB2AE39A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ED1D-5273-4272-A510-7E503709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6EEA-21D2-4719-9303-11971B8B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6FD7-39C2-4829-8174-F4423B4D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D62E-1492-41E1-A0F8-D8B09C5C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9715-1FB7-439F-B167-2B661E5C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A515-3938-41B5-AD0E-06E723CA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8393-1C28-436B-87D3-83EB7189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B002-85C0-4C48-AC0F-7A51DBDD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5F4A-EDC6-4181-8853-FFF43C5C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A4E5-499E-4E96-BF8F-8863C0E9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F380-7ECA-4045-97ED-8C92587E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6442-474A-43BF-A9D8-EAA7B83C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B90E-C163-477C-9303-3509B367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28D4-0F5A-40A4-93DD-5DD5B79D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C155-C6CC-445D-B040-60CF7B7D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7D11-9F1A-4587-92A6-382A1C43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0917-BE5F-410B-B516-0081C00D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88BA-7298-4FB9-809E-B0C3471A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6861-9857-41B6-81BD-9DFE93CBBDC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5135-5420-4658-B927-D4BCB2A996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765840" cy="421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5331e"/>
                </a:solidFill>
                <a:latin typeface="Arial Unicode MS"/>
              </a:rPr>
              <a:t>Технология подготовки </a:t>
            </a:r>
            <a:br>
              <a:rPr sz="6000"/>
            </a:br>
            <a:r>
              <a:rPr b="1" lang="ru-RU" sz="6000" spc="-1" strike="noStrike">
                <a:solidFill>
                  <a:srgbClr val="15331e"/>
                </a:solidFill>
                <a:latin typeface="Arial Unicode MS"/>
              </a:rPr>
              <a:t>и </a:t>
            </a:r>
            <a:br>
              <a:rPr sz="6000"/>
            </a:br>
            <a:r>
              <a:rPr b="1" lang="ru-RU" sz="6000" spc="-1" strike="noStrike">
                <a:solidFill>
                  <a:srgbClr val="15331e"/>
                </a:solidFill>
                <a:latin typeface="Arial Unicode MS"/>
              </a:rPr>
              <a:t>проведения </a:t>
            </a:r>
            <a:br>
              <a:rPr sz="6000"/>
            </a:br>
            <a:r>
              <a:rPr b="1" lang="ru-RU" sz="6000" spc="-1" strike="noStrike">
                <a:solidFill>
                  <a:srgbClr val="15331e"/>
                </a:solidFill>
                <a:latin typeface="Arial Unicode MS"/>
              </a:rPr>
              <a:t>классного часа</a:t>
            </a:r>
            <a:endParaRPr b="0" lang="en-US" sz="6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ехнологические аспекты  организации классного часа: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 цели, содержания, формы, даты и места проведения классного часа, формирование сообщества его организато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ая и групповая деятельность по подготовке классного ча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ехнологические аспекты  организации классного часа: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совместно с другими организаторами сценарного плана классного ча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ние классного ча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и оценка результативности классного часа и деятельности по его подготовке и провед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Организационные рекомендации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54848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лассный час может проводиться  в форм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ного собр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а общ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ного часа (час классного руководителя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курсии или тематической ле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овой иг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Организационные рекомендации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распределяется и планируется классным руководителем и обучающими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можно экстренное классное собрание или замена одной формы проведения классного часа другой по тем или иным причи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Организационные рекомендации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выбора темы и содержания классного часа классному руководителю необходимо учитывать возрастные особенности обучающихся, помнить об их нравственных представлениях, интересах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классных часов следует строить так, чтобы постепенно переходить от «предметной» информации к ее оценке, от общих оценок к развернутым су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учитывать психологические особенности восприятия материала обучающимися, следить за вниманием и при его снижении использовать интересные по содержанию факты или поставить «острый» вопрос, использовать музыкальную паузу, сменить вид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оцессе обсуждения поставленных вопросов классный руководитель должен быть очень внимателен к выступлениям обучающихся, вносить нужные коррективы, ставить дополнительные наводящие вопросы, акцентировать внимание на важных моментах, размышлять вместе с детьми и помочь им найти правильное решение нравственной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ный час или лучше его назвать «час общения» играет большую роль в жизни обучающихся, если он задуман интересно и удачно провед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ребования к классному часу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бильность, для каждого часа день и время определе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 рекомендуется классный час проводить в субботу, лучше в первой половине нед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ребования к классному часу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7386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ный руководитель должен иметь план проведения классного час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тика классного часа, да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воспитатель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довательность провед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гляд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лючительное слово учител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ы по классному час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алось ли реализовать воспитательные ц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8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63520" y="836280"/>
            <a:ext cx="73864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лассный час есть форма прямого общения воспитателя со своими воспитанниками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. П. Саз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Формы классных часо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1341000"/>
            <a:ext cx="7386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азговор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диспуты, обсуждения, беседы, лекции, конференции, устный журн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релищно-разговор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кскур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аздничн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 знаменательным датам. Можно соединять параллели, вечера, дискотеки (объединенные классные час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гров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ные ча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хема анализа классного часа.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413000"/>
            <a:ext cx="7386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 посещения, цепь посещения, тема классного часа, форма проведения .   классного часа и цель поставленная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решались воспитательные задачи в ходе классного ча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организация работы с учащимися - индивидуальная, групповая или фронтальная раб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активность и инициативность ребя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распределение поручений при подготовке к классному час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взаимоотношения учитель - ученики (тон, манера обращ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хема анализа классного часа.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413000"/>
            <a:ext cx="7386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) дисципл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) внешность учащихся, помещ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) продолжительность классного часа (от 30 до 45 мин., экскурсия - 1 час 20 мин.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) направленность классного часа (каждое мероприятие - должно соответствовать задачам школы на данный период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) связь с жизнью, нагляд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хема анализа классного часа.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3520" y="1413000"/>
            <a:ext cx="7386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 классного часа. Что да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ка качества про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вижение новых задач для дальнейшей раб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нравственных чув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ы и предложения заместителя директора по воспитательной раб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63520" y="404280"/>
            <a:ext cx="7386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Классный час можно назвать специально организованной ценностно-ориентационной деятельностью, способствующей формированию у школьников системы отношений к окружающему мир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.Е. Щуркова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.С. Финдани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63520" y="404280"/>
            <a:ext cx="7386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Классный час. В нашем понимании это не какая-то определенная форма работы, а час классного руководител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. И. Мален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Классный час - 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гибкая по своему составу и структуре форма воспитательного взаимо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форма общения классного руководителя и его воспитанников, приоритетную роль в организации которой играет педаг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7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605a"/>
                </a:solidFill>
                <a:latin typeface="Arial"/>
              </a:rPr>
              <a:t>Педагогические задачи, решаемые благодаря классному часу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2276280"/>
            <a:ext cx="738648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условий становления и проявления субъектности и индивидуальности обучающегося, его творческих способ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605a"/>
                </a:solidFill>
                <a:latin typeface="Arial"/>
              </a:rPr>
              <a:t>Педагогические задачи, решаемые благодаря классному часу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гащение сознания обучающихся знаниями о природе, обществе, челов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эмоционально-чувствительной сферы и ценностных отношений личности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605a"/>
                </a:solidFill>
                <a:latin typeface="Arial"/>
              </a:rPr>
              <a:t>Педагогические задачи, решаемые благодаря классному часу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воение детьми знаний, умений и навыков познавательной и практико-созидатель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классного коллектива как благоприятной среды для развития и жизнедеятельности школь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ехнологические аспекты  организации классного часа: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педагогом совместно с обучающимися и их родителями тематики классных часов на новый учебный г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очнение темы классного часа и генерирование идей по его подготовке и проведен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07:46:15Z</dcterms:created>
  <dc:creator>xxx</dc:creator>
  <dc:description/>
  <dc:language>en-US</dc:language>
  <cp:lastModifiedBy>LEGION</cp:lastModifiedBy>
  <dcterms:modified xsi:type="dcterms:W3CDTF">2015-01-27T12:13:20Z</dcterms:modified>
  <cp:revision>10</cp:revision>
  <dc:subject/>
  <dc:title>Технология подготовки  и  проведения  классного часа</dc:title>
</cp:coreProperties>
</file>