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A447-BA8F-4632-9D5C-8F3DC12C1B9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Arial Unicode MS"/>
              </a:rPr>
              <a:t>Технология подготовки </a:t>
            </a:r>
            <a:br>
              <a:rPr sz="1200"/>
            </a:br>
            <a:r>
              <a:rPr b="1" lang="ru-RU" sz="1200" spc="-1" strike="noStrike">
                <a:solidFill>
                  <a:srgbClr val="eeece1"/>
                </a:solidFill>
                <a:latin typeface="Arial Unicode MS"/>
              </a:rPr>
              <a:t>и </a:t>
            </a:r>
            <a:br>
              <a:rPr sz="1200"/>
            </a:br>
            <a:r>
              <a:rPr b="1" lang="ru-RU" sz="1200" spc="-1" strike="noStrike">
                <a:solidFill>
                  <a:srgbClr val="eeece1"/>
                </a:solidFill>
                <a:latin typeface="Arial Unicode MS"/>
              </a:rPr>
              <a:t>проведения </a:t>
            </a:r>
            <a:br>
              <a:rPr sz="1200"/>
            </a:br>
            <a:r>
              <a:rPr b="1" lang="ru-RU" sz="1200" spc="-1" strike="noStrike">
                <a:solidFill>
                  <a:srgbClr val="eeece1"/>
                </a:solidFill>
                <a:latin typeface="Arial Unicode MS"/>
              </a:rPr>
              <a:t>классного ча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20FD1-68E1-4FD7-89CF-1DE9F9D1E31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ехнологические аспекты  организации классного час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 цели, содержания, формы, даты и места проведения классного часа, формирование сообщества его организато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ая и групповая деятельность по подготовке классного ча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FC0CA-1B80-4F3F-9305-4832BC9144E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ехнологические аспекты  организации классного час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совместно с другими организаторами сценарного плана классного ча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дение классного ча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и оценка результативности классного часа и деятельности по его подготовке и провед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A2184-61E7-4E56-B213-991F4AB634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рганизационные рекомендац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лассный час может проводиться  в форм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ного собра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а общ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ательного часа (час классного руководителя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курсии или тематической лек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овой игр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05D62-062D-45D3-85A8-FB017C5354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рганизационные рекомендац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я распределяется и планируется классным руководителем и обучающими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 экстренное классное собрание или замена одной формы проведения классного часа другой по тем или иным причин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BD7C3-0805-4C36-AF85-F7D1694927E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рганизационные рекомендац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выбора темы и содержания классного часа классному руководителю необходимо учитывать возрастные особенности обучающихся, помнить об их нравственных представлениях, интересах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0DDBE-84A1-40C2-966D-A63011C2166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веты по организации классного ча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классных часов следует строить так, чтобы постепенно переходить от «предметной» информации к ее оценке, от общих оценок к развернутым сужден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учитывать психологические особенности восприятия материала обучающимися, следить за вниманием и при его снижении использовать интересные по содержанию факты или поставить «острый» вопрос, использовать музыкальную паузу, сменить вид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43EA8-8B98-4EF9-A9A3-D25FC69EAE9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оветы по организации классного час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цессе обсуждения поставленных вопросов классный руководитель должен быть очень внимателен к выступлениям обучающихся, вносить нужные коррективы, ставить дополнительные наводящие вопросы, акцентировать внимание на важных моментах, размышлять вместе с детьми и помочь им найти правильное решение нравственной пробл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778B3-4C4F-46D1-AE5E-EC87C49122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оветы по организации классного час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ный час или лучше его назвать «час общения» играет большую роль в жизни обучающихся, если он задуман интересно и удачно провед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D88F0-A54C-4697-9637-4FFD7294480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ребования к классному час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бильность, для каждого часа день и время определе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 рекомендуется классный час проводить в субботу, лучше в первой половине нед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E3522-D1D8-4C1C-8714-B0BD504880B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Требования к классному час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лассный руководитель должен иметь план проведения классного ча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тика классного часа, дат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воспитательна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овательность проведе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гляднос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ительное слово учител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 по классному часу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алось ли реализовать воспитательные ц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D1BF9-F1BB-4245-BADB-E34F047F4F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«Классный час есть форма прямого общения воспитателя со своими воспитанникам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. П. Саз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7169B-A9CA-4683-8ABE-F3FDBE856D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Формы классных час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зговорные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диспуты, обсуждения, беседы, лекции, конференции, устный журна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релищно-разговорные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кскур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аздничны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 знаменательным датам. Можно соединять параллели, вечера, дискотеки (объединенные классные ча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гровы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ные ча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961AD-8812-4612-81DC-EA589E4D25C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хема анализа классного час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а посещения, цепь посещения, тема классного часа, форма проведения .   классного часа и цель поставленная учите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решались воспитательные задачи в ходе классного ча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организация работы с учащимися - индивидуальная, групповая или фронтальная рабо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активность и инициативность ребя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распределение поручений при подготовке к классному час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взаимоотношения учитель - ученики (тон, манера обращен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79C85-E5BE-4340-B342-91FEE3E3A6B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хема анализа классного час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) дисциплин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) внешность учащихся, помещ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) продолжительность классного часа (от 30 до 45 мин., экскурсия - 1 час 20 мин.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) направленность классного часа (каждое мероприятие - должно соответствовать задачам школы на данный период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) связь с жизнью, нагляд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1243E-5EB8-4EF7-80DF-54E1FD6041C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хема анализа классного час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 классного часа. Что дал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качества про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вижение новых задач для дальнейшей рабо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ание нравственных чув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 и предложения заместителя директора по воспитательной рабо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4A3D2-6467-4877-8BD4-98CF435344B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«Классный час можно назвать специально организованной ценностно-ориентационной деятельностью, способствующей формированию у школьников системы отношений к окружающему миру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Н.Е. Щуркова,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Н.С. Финданиевич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48C18-A699-43A8-B4DB-0182ABD7367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«Классный час. В нашем понимании это не какая-то определенная форма работы, а час классного руководител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Л. И. Маленков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685F9-B969-4B51-B750-1BDCED67B33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ный час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гибкая по своему составу и структуре форма воспитательного взаимодейств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форма общения классного руководителя и его воспитанников, приоритетную роль в организации которой играет педаго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1B5DA-BFD6-4857-9BFB-87395EDAEB1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дагогические задачи, решаемые благодаря классному час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условий становления и проявления субъектности и индивидуальности обучающегося, его творческих способ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BFC3C-8230-4468-B900-16DBCC6B391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дагогические задачи, решаемые благодаря классному час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гащение сознания обучающихся знаниями о природе, обществе, челове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эмоционально-чувствительной сферы и ценностных отношений личности ребе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0B803-50CB-4805-9E90-A6C514BC3FE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дагогические задачи, решаемые благодаря классному час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воение детьми знаний, умений и навыков познавательной и практико-созидатель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классного коллектива как благоприятной среды для развития и жизнедеятельности школь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CCFB1-B10F-4474-8439-ECD86AAF45B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ехнологические аспекты  организации классного час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педагогом совместно с обучающимися и их родителями тематики классных часов на новый учебный го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очнение темы классного часа и генерирование идей по его подготовке и проведен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507A5-1164-46FD-9B75-82982B3F952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9696-8933-41FD-8322-9911E535E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F9C3-EBFE-4C66-AFE3-30308B6E1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56D6-98ED-4BE2-A1B7-7362D7B11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CCCC-9C8B-4D18-A440-E69B17990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C467C-A6FF-4DC8-8EA5-D4621C720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DFE28-83E8-412E-BF3B-EE6B68A94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AAF22-D40B-45D0-951C-3030697AC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E8BB2-9F0D-49E7-BADB-C0DE2F6DC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6EEB3-110B-4E9A-8A1F-C2DD65762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FDE35-7D8B-4610-93EA-E8B61E08D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94E80-D785-46BD-B03D-4F5AEA7F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122C-8106-4621-9604-02374B250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123BF-7147-4D34-B745-07C4B6B4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9F899-EF70-4BCD-B518-ECD68E2D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8DDE9-E523-43E9-8473-2518858F9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EEE7D-C2F2-4617-A50B-F047B60E6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40733-DB02-4827-A61D-58D5A2FBA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67E7-AE19-418D-B5B2-D29914E81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0D68-4BBF-49B0-80BA-74A7FAEE0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89DF-3568-4107-A325-9BF3E5184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319B-5E20-409B-A057-70A10AB1A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17EC-5D0E-46C6-B0BF-6711B325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C065-FCB1-4F6A-ABD5-D6A0BF4D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0F37-0056-484B-8C9C-8EB70138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ba89e"/>
                </a:gs>
                <a:gs pos="50000">
                  <a:srgbClr val="a4c6ba"/>
                </a:gs>
                <a:gs pos="100000">
                  <a:srgbClr val="8ba8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23a"/>
                </a:gs>
                <a:gs pos="50000">
                  <a:srgbClr val="558f7d"/>
                </a:gs>
                <a:gs pos="100000">
                  <a:srgbClr val="2742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FF898-B19F-4C9F-9091-7301A69682F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ba89e"/>
                </a:gs>
                <a:gs pos="50000">
                  <a:srgbClr val="a4c6ba"/>
                </a:gs>
                <a:gs pos="100000">
                  <a:srgbClr val="8ba8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23a"/>
                </a:gs>
                <a:gs pos="50000">
                  <a:srgbClr val="558f7d"/>
                </a:gs>
                <a:gs pos="100000">
                  <a:srgbClr val="2742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2853E-87FD-4145-9E5C-F9350ABDBCD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765840" cy="421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5331e"/>
                </a:solidFill>
                <a:latin typeface="Arial Unicode MS"/>
              </a:rPr>
              <a:t>Технология подготовки </a:t>
            </a:r>
            <a:br>
              <a:rPr sz="6000"/>
            </a:br>
            <a:r>
              <a:rPr b="1" lang="ru-RU" sz="6000" spc="-1" strike="noStrike">
                <a:solidFill>
                  <a:srgbClr val="15331e"/>
                </a:solidFill>
                <a:latin typeface="Arial Unicode MS"/>
              </a:rPr>
              <a:t>и </a:t>
            </a:r>
            <a:br>
              <a:rPr sz="6000"/>
            </a:br>
            <a:r>
              <a:rPr b="1" lang="ru-RU" sz="6000" spc="-1" strike="noStrike">
                <a:solidFill>
                  <a:srgbClr val="15331e"/>
                </a:solidFill>
                <a:latin typeface="Arial Unicode MS"/>
              </a:rPr>
              <a:t>проведения </a:t>
            </a:r>
            <a:br>
              <a:rPr sz="6000"/>
            </a:br>
            <a:r>
              <a:rPr b="1" lang="ru-RU" sz="6000" spc="-1" strike="noStrike">
                <a:solidFill>
                  <a:srgbClr val="15331e"/>
                </a:solidFill>
                <a:latin typeface="Arial Unicode MS"/>
              </a:rPr>
              <a:t>классного часа</a:t>
            </a:r>
            <a:endParaRPr b="0" lang="en-US" sz="6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Технологические аспекты  организации классного часа: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бор цели, содержания, формы, даты и места проведения классного часа, формирование сообщества его организатор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дивидуальная и групповая деятельность по подготовке классного час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Технологические аспекты  организации классного часа: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ление совместно с другими организаторами сценарного плана классного час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дение классного час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из и оценка результативности классного часа и деятельности по его подготовке и проведе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Организационные рекомендации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520" y="1598400"/>
            <a:ext cx="7548480" cy="41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лассный час может проводиться  в форм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ного собран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са общ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итательного часа (час классного руководителя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скурсии или тематической лек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ловой иг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Организационные рекомендации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ремя распределяется и планируется классным руководителем и обучающимис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можно экстренное классное собрание или замена одной формы проведения классного часа другой по тем или иным причин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Организационные рекомендации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выбора темы и содержания классного часа классному руководителю необходимо учитывать возрастные особенности обучающихся, помнить об их нравственных представлениях, интересах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Советы по организации классного часа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ание классных часов следует строить так, чтобы постепенно переходить от «предметной» информации к ее оценке, от общих оценок к развернутым сужде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о учитывать психологические особенности восприятия материала обучающимися, следить за вниманием и при его снижении использовать интересные по содержанию факты или поставить «острый» вопрос, использовать музыкальную паузу, сменить вид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8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Советы по организации классного часа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63520" y="1598400"/>
            <a:ext cx="7386480" cy="41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роцессе обсуждения поставленных вопросов классный руководитель должен быть очень внимателен к выступлениям обучающихся, вносить нужные коррективы, ставить дополнительные наводящие вопросы, акцентировать внимание на важных моментах, размышлять вместе с детьми и помочь им найти правильное решение нравственной пробл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Советы по организации классного часа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ный час или лучше его назвать «час общения» играет большую роль в жизни обучающихся, если он задуман интересно и удачно провед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Требования к классному часу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бильность, для каждого часа день и время определен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 рекомендуется классный час проводить в субботу, лучше в первой половине неде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Требования к классному часу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63520" y="1268280"/>
            <a:ext cx="738648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Классный руководитель должен иметь план проведения классного час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атика классного часа, дат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ь воспитательна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едовательность проведен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глядн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лючительное слово учител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воды по классному час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алось ли реализовать воспитательные ц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8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8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8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8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4" dur="8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" dur="8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8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3" dur="8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8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2" dur="8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80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4" dur="80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80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263520" y="836280"/>
            <a:ext cx="738648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Классный час есть форма прямого общения воспитателя со своими воспитанниками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. П. Сазо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Формы классных часов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63520" y="1341000"/>
            <a:ext cx="7386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Разговорные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диспуты, обсуждения, беседы, лекции, конференции, устный журн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Зрелищно-разговорные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экскур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аздничны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к знаменательным датам. Можно соединять параллели, вечера, дискотеки (объединенные классные час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Игровы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ассные час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Схема анализа классного часа.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63520" y="1413000"/>
            <a:ext cx="73864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та посещения, цепь посещения, тема классного часа, форма проведения .   классного часа и цель поставленная учител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решались воспитательные задачи в ходе классного ча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организация работы с учащимися - индивидуальная, групповая или фронтальная рабо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активность и инициативность ребя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распределение поручений при подготовке к классному час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взаимоотношения учитель - ученики (тон, манера обращен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Схема анализа классного часа.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63520" y="1413000"/>
            <a:ext cx="738648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) дисциплин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) внешность учащихся, помещ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) продолжительность классного часа (от 30 до 45 мин., экскурсия - 1 час 20 мин.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) направленность классного часа (каждое мероприятие - должно соответствовать задачам школы на данный период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) связь с жизнью, нагляднос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Схема анализа классного часа.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63520" y="1413000"/>
            <a:ext cx="73864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зультат классного часа. Что дал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ценка качества прове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движение новых задач для дальнейшей рабо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итание нравственных чув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воды и предложения заместителя директора по воспитательной раб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263520" y="404280"/>
            <a:ext cx="738648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Классный час можно назвать специально организованной ценностно-ориентационной деятельностью, способствующей формированию у школьников системы отношений к окружающему миру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.Е. Щуркова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.С. Финдани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263520" y="404280"/>
            <a:ext cx="738648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Классный час. В нашем понимании это не какая-то определенная форма работы, а час классного руководителя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Л. И. Мален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0605a"/>
                </a:solidFill>
                <a:latin typeface="Arial"/>
              </a:rPr>
              <a:t>Классный час - 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 гибкая по своему составу и структуре форма воспитательного взаимодейств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 форма общения классного руководителя и его воспитанников, приоритетную роль в организации которой играет педаго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176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0605a"/>
                </a:solidFill>
                <a:latin typeface="Arial"/>
              </a:rPr>
              <a:t>Педагогические задачи, решаемые благодаря классному часу</a:t>
            </a:r>
            <a:endParaRPr b="0" lang="en-US" sz="32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2276280"/>
            <a:ext cx="7386480" cy="38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ние условий становления и проявления субъектности и индивидуальности обучающегося, его творческих способн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8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0605a"/>
                </a:solidFill>
                <a:latin typeface="Arial"/>
              </a:rPr>
              <a:t>Педагогические задачи, решаемые благодаря классному часу</a:t>
            </a:r>
            <a:endParaRPr b="0" lang="en-US" sz="32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огащение сознания обучающихся знаниями о природе, обществе, челове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ование эмоционально-чувствительной сферы и ценностных отношений личности ребен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8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8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0605a"/>
                </a:solidFill>
                <a:latin typeface="Arial"/>
              </a:rPr>
              <a:t>Педагогические задачи, решаемые благодаря классному часу</a:t>
            </a:r>
            <a:endParaRPr b="0" lang="en-US" sz="32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воение детьми знаний, умений и навыков познавательной и практико-созидательно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ование классного коллектива как благоприятной среды для развития и жизнедеятельности школь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8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8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Технологические аспекты  организации классного часа: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ление педагогом совместно с обучающимися и их родителями тематики классных часов на новый учебный го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точнение темы классного часа и генерирование идей по его подготовке и проведени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0T07:46:15Z</dcterms:created>
  <dc:creator>xxx</dc:creator>
  <dc:description/>
  <dc:language>en-US</dc:language>
  <cp:lastModifiedBy>LEGION</cp:lastModifiedBy>
  <dcterms:modified xsi:type="dcterms:W3CDTF">2015-01-27T12:13:20Z</dcterms:modified>
  <cp:revision>10</cp:revision>
  <dc:subject/>
  <dc:title>Технология подготовки  и  проведения  классного часа</dc:title>
</cp:coreProperties>
</file>