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C84D-0154-4414-9747-0E1236CC16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детки собирали для ежика разноцветные листики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и складывали их в коробочки по цвету.</a:t>
            </a:r>
            <a:r>
              <a:rPr b="1" lang="ru-RU" sz="6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7F41-70DC-4F63-AC71-38EA62C9FD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район больших и район маленьких домиков. В каждом районе есть улицы разного цвета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мики имеют разную форму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Сережа ищет прямоугольный домик в районе маленьких домиков, на красной улиц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Катюша зашла в гости к кротику. И говорит всем деткам: 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отик живет в квадратном домик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синей улиц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районе маленьких домиков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! Четырехлетки с интересом гуляют по такому городу, выделяю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делом, сразу три свойства фигур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 с трудом дается некоторым первоклашкам в программе 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Школа 2100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!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72C8-B2B1-46FE-9517-42D97BF403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7A0A-5FE9-472C-930B-CDCC97B60D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утешествии дети попали к домику фокусника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до сначала расколдоват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его, а потом постучаться.Например: первая фигурка должна быть треугольной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ой, маленькой и толстой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 вот вторая – круглая, красная, не толстая и не маленькая. Значит, мы будем искать красный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большой, тонкий круг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мечательно, когда помогает смекалка! Теперь можно посмотреть и фокусы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1902-E45A-4057-ABAB-6C1611F386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манды анализировали чертеж замка, подбирали необходимые кирпичик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ала та команда, у которой замок был построен быстро и правильно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4570-D7F6-41F2-8C35-5504AC6FA6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лесу переполох! Лиса, волк и медведь никак не могут поделить подарки деда Мороз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ед Мороз сказал взять лисе все маленькие подарки, медведю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се толстые, а волку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кругл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о вот беда, есть подарки и круглые и маленькие одновременно. Их должна взять и лиса и волк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есть подарки и круглые, и маленькие, и толстые! Ими могут играть все звери вме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и пересекающихся обруча (ленточки, веревочки) помогли нам разобраться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ыясни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где чьи подарки, кто чем может пользоваться на правах совместной собственности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0066-A4B7-4000-81A3-5A4BFBA1AF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«Развивалки" на х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1. Чаще считайте вместе с малышом все, чем вы пользуетесь в обыденной жизни: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колько стульев стоит возле обеденного стола, сколько пар носок вы положили в стиральную машину, сколько картошек надо почистить, чтобы приготовить ужин. Пересчитывайте ступеньки в подъезде, окна в квартире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,  - дети любят счит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2. Измеряйте разные вещи – дома или на улиц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оими ладошками или ступнями.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Помните мультик про 38 попугаев – отличный повод пересмотреть его и проверить,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кой рост у мамы или папы, сколько ладошек «поместится» в любимом див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оберите несколько пустых коробок из-под обуви или подарков. Лучше всего делать это после дня рождения или Нового Года. Коробки можно купить и специально для этой цели: они не так дорого стоят. Желательно чтобы они укладывались друг в друга как матрешки. Разложите крышки отдельно, а коробки – отдельно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просите подобрать крышку к каждому контейнеру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Чем младше ребенок, тем меньше должно быть коробок. Двухлетний малыш с удовольствием повозится с 4-5 коробками, а вот 10 для него будет слишком м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43D9-3148-431A-9427-64E07B20F2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4. Купите «липкие» цифры из пенки, наклейте их на пустой контейнер – от 0 до 5.  Соберите разнообразные предметы: одну маленькую машинку или куклу, две больших пуговицы, три бусины, четыре ореха, пять прищепок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просите разложить их в контейнеры в соответствии с номером на крыш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Сделайте карточки с цифрами из картона и наждачной бумаги или бархата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ведите пальчиком малыша по этим цифрам и назовите их. Попросите показать вам 3, 2, 1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Теперь вытащите одну из карточек из коробки наугад и  предложите ребенку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нести столько предметов, сколько изображено на его карточке.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 Особенно интересно получить карточку с нулем, ведь ничто не сравнится с личным открытие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Охота на геометрические фигуры. Предложите малышу поиграть в охоту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усть он попробует найти что-нибудь похожее на круг и показать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вам. А теперь квадрат или прямоугольник. Играть в эту игру можно по дороге в детский с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зложите на столе ложку, вилку и тарелку особым образом. Попросите малыша повторить вашу композицию.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 Когда у него будет хорошо получаться, поставьте какой-нибудь экран между вами и малышом или сядьте спиной друг к другу. Предложите ему разложить свои предметы, а затем объяснить вам, как он это сделал. Вы должны повторить его действия, следуя лишь устным инструкциям. Тоже неплохая игра для того, чтобы занять время ожидания приема в поликли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00EC-B135-43CA-A7A1-BFBC2CD3B7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8.Когда малыш или малышка купается, выдайте ему набор разнообразных чашек – мерных чашек, пластиковых кувшинчиков, воронок, разноцветных стаканчиков. Пусть переливает воду на здоровье. Поговорите о том,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де воды больше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По Пиаже, это возраст интересных открытий для родителей. Налейте воду в два одинаковых стаканчика и спросите кроху, одинаково ли воды в обоих сосудах? А теперь перелейте воду из одного стаканчика в  высокий и тонкий стакан, а воду из другого стаканчика – в широкий и низкий стакан. Спросите, где больше? Скорее всего, ответ будет любопы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Поиграйте с ребенком в магазин. Купите игрушечные деньги или нарисуйте их сами. Рубли можно брать из экономических игр, вроде «Менеджер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Чаще готовьте еду вместе с малышом. Показывайте, как вы готовите то или иное блюдо, сколько продуктов берет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 Используйте мерные чашки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, покажите, что для блинов нужно взять вот столько муки и вот столько сахар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A7E0-40E3-473F-93E3-E3E598F8B1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ЛБД  -       логические блоки З. Дьене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развитие логического мышления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6B8F-EB71-465C-9EF6-9CF3851CD9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Логические блоки Дьенеша представляют собой набор из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48 геометрических фигур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) четырех форм (круг, треугольник, квадрат, прямоугольник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б) четырех цветов (красный, синий, желтый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) двух размеров (большой, маленьк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г) двух видов толщины (толстый, тонки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Каждая геометрическая фигура характеризуется четырьмя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формой, цветом, размером,толщи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наборе нет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ни одной одинаковой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5717-5776-415A-B243-808D249A7F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 многих играх с логическим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ами используются карточ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 символами свойст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мство ребенка с символам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важная ступенька в освоении всей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вой культуры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грамоты математически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имволов, программирования и т.д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чках условно обозначен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а блоков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(</a:t>
            </a:r>
            <a:r>
              <a:rPr b="1" lang="ru-RU" sz="900" spc="-1" strike="noStrike">
                <a:solidFill>
                  <a:srgbClr val="ff0000"/>
                </a:solidFill>
                <a:latin typeface="Verdana"/>
                <a:ea typeface="Times New Roman"/>
              </a:rPr>
              <a:t>цвет, форма, размер, толщина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го 11 карточек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+ 11 карточе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отрицанием свойств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 </a:t>
            </a:r>
            <a:r>
              <a:rPr b="1" lang="ru-RU" sz="9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 красный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A113-5B9B-4287-AE7F-09E297C8B8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знакомить с формой, цветом, размером, толщиной объект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ространственные представления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логическое мышление, представление о множестве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и над множествами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(сравнение, разбиение, классификация, абстрагирование, кодиро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декодирование информации)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воить элементарные навыки алгоритмической культуры мышле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умения выявлять свойства в объектах, называть их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общать объекты по их свойствам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ъяснять сходства и различия объектов, обосновывать свои рассуждения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ознавательные процессы, мыслительные операци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спитывать самостоятельность, инициативу, настойчивост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достижении цел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творческие способности, воображение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фантазию, способности к моделированию и конструированию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речь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пешно овладеть основами математики и информатик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A420-49EA-4E70-A08E-8D8656FE24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 игры и игровые упражнения можно разделит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</a:t>
            </a:r>
            <a:r>
              <a:rPr b="1" lang="ru-RU" sz="1000" spc="-1" strike="noStrike">
                <a:solidFill>
                  <a:srgbClr val="ff0000"/>
                </a:solidFill>
                <a:latin typeface="Verdana"/>
                <a:ea typeface="Times New Roman"/>
              </a:rPr>
              <a:t>4 группы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постепенным усложнением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выявлять и абстрагировать свой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сравнивать предметы по их свойствам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действий классификации и обобщения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способности к логическим действиям 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ям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84807"/>
                </a:solidFill>
                <a:latin typeface="Calibri"/>
              </a:rPr>
              <a:t>Все игры и упражнения, за исключением четвёртой группы (логические), не адресуются конкретному возраст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6466-1986-43BF-B3CF-CADF0967A3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а замком может быть что угодно: сюрприз, вход в комнату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рога на прогулку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…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Ребенок должен открыть замок: догадаться, на какую кнопку нажать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объяснить, почему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Тут лишняя красная фигура. Потому что эти обе желтые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жимаем на красную фигурку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B609-5385-4C2D-AA82-EAACFB6A54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0000"/>
                </a:solidFill>
                <a:latin typeface="Verdana"/>
                <a:ea typeface="Times New Roman"/>
              </a:rPr>
              <a:t>1 вариан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Кладоискатель отворачивается, ведущий под одним из блоков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ячет клад. Кладоискатель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ищет его, называя раз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личные свойства блоков. Если малыш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ходит клад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то забирает его себе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под одним из блоков прячет новый клад.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Ведущий вначал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сам выполняет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роль кладоискателя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пока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зывает, как вести поиск клада. Называет различны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блоков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, ведущий спрашивает: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Клад под синим блоко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, 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—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отвечает ребенок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желт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асн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больши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угл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ывает тот, кто найдет больше кладов. При повторении игры блоки меняют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увеличивается их количество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AA67-9244-4989-9C59-F9510926E9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едущий говори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щенок спрятался под красным, большим кру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Можно карточками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символами написать письм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D4B7-ABFE-413A-87E1-680F4B674C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897-B5C6-4401-A998-5E5CF0A5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B0A-455A-4592-A1A6-02F9F1D1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7A7FA-7D8B-4637-B483-881948E7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AEC76-7FEC-4ED4-93FB-18E2CB38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85EE9-C04D-421C-928D-860871B7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01470-B73D-496B-816C-DC2F20B8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8E578-7BC0-411B-9BC5-15FB1821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7F1BD-5424-4867-9C6E-3D97A32C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27FE9-BD6E-4B88-A34C-0FCC6DF3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E16BA-71BC-438F-87F8-9D337B55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D6006-D86F-4730-A887-F5FADC19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00C-A06C-4991-805E-95B9D5BD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3C2C-A76B-433B-B26C-23D22B8B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CFFE-6A9C-4AE7-9A3D-FDF00289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B383-1D04-44C8-9A89-DAD6AD5C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D1E5-B391-4CAC-A185-D4F518E4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D49E-F810-4B72-9013-62B47D26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C4D5-C333-4A30-9DD0-350D6849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D51F-8F82-4171-983C-95E82EEA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F7A8-2373-483F-81F7-4447C5D4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ECB-E022-424A-AE1C-240D33B3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64AE-3930-4B28-8DEF-1A34916B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CF2F-9763-4224-AE12-EC608025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803E-0197-4B99-96F2-DC0F82C1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9831-0B75-4E36-9966-F7D546B5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6693-61C7-4815-B27A-4A2D3058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AB7EF-8FD3-4508-A8B5-809F46F4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BCA8E-DFCC-4B03-97F2-32E296B5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15162-A086-4D91-8D01-1722404E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3B421-310A-4740-81C1-3CBBF984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7FF28-443B-4D95-A693-CDC19365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1AB-C628-4ABA-9ADC-66A055C2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A38B7-279A-49A8-91AE-141084E4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2733D-303B-4F94-A466-A07B773F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370FA-A057-4F5F-BE44-3B52DC07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07BBE-3456-473E-8CA4-CCF797F4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C8355-B111-46ED-94E1-195A0573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1B7E5-31D0-4B1B-8FDE-74128EB3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C8671-F75E-4358-84DB-76B8CF92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E61E5-FFB0-4ECC-8095-619F7153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82F99-0110-4B92-BFA0-F4A70AFE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CEE1A-AFD4-476D-8396-F15A4444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F3A4-CE3C-4FCC-A0CF-6A9C67E4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7EF64-5352-40D8-9177-DAF5EA02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9E6A2-74B7-4EAE-981B-7397903A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2489D-2F63-41D7-A0F0-013D6982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48C99-EF2A-4E0C-A507-30D6B0D8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72341-5AEE-4401-A4D3-46A52224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68B14-7DA6-488C-A193-490FEDBC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FE8DA-1BDE-48D6-82D0-97BD9569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7BB70-D138-4957-BEB2-CBA58DD6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71A2A-4CE2-43F8-9228-F7D90B4C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3EEF5-D7D8-486F-8489-B1435F3C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330B-D7BE-402D-B6AB-E9CE9E8D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1D4D9-E51F-4AC9-9384-1CB43D42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69969-82C5-455A-90DF-F5658B4C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5A526-E766-4BA2-9584-10762F54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6CEC7-7BC0-4F4C-8CFC-D104CE4A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717B5-9546-44D1-81D6-38CBC31B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4EB89-602A-4026-B0C7-E1B55B12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AEE7B-EAF5-4D6C-9D8E-94497DBD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3519E-CF6A-4206-8A88-C3B0FC6E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557CD-0D1D-49E0-B8F5-C7798ACD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198E5-2815-4CAA-A49C-DCDF3D1F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1D81-357A-4829-AFCF-D01CE6E7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B1BCD-6416-4ED8-A974-4A8ECCC3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DAFE7-9CAD-44C2-BB99-782829D4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5D00C-2971-475E-8C97-5602AFCE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7606E-F186-48A8-8A9C-E771E9FF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E15B1-FEEF-46CB-B319-CDE80C3C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57873-2AB9-48D1-98B8-B8AFE90C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AEA2E-90F5-48A2-9DBC-D186BC19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9AF11-A78B-4022-BFE0-39071DAB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18C88-AEF0-4769-87E7-BB5E2D87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A7856-C273-48E1-89E8-F28C6F41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6B10-E10E-4C6B-8277-BE8EF8A3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EFD52-469C-450B-A9A8-43129F52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1D60B-CB5D-4300-A38E-0914792A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89EF9-E630-4887-9E88-5817D5A7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32C9F-2A34-42EB-AADB-67E0D397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D9CE6-AF26-4229-885C-FC5AE5FA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D2BA4-AA7C-4407-9411-C5274970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0137E-1669-41FD-952C-11E867F2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48210-16A3-4F03-87F4-148B957E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7BC45-F663-488D-A781-8772EA34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912D7-B314-4469-8902-5E4954CC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243-E1F6-4250-8A3D-6573C74D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C5AA7-A601-4ADD-8019-637C19AE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80576-A610-406E-89E4-033CF8A2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54182-7E39-49F6-B4E3-EC32E188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BB56F-D363-426E-81A7-B18FAEFC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20405-E208-4E13-B57F-A35DC17D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2C936-3599-4D2F-A624-7A82CB88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D4587-22FB-4FEA-9B40-522752A6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0E24B-3482-4C80-BDA4-53720AA1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29D2C-7F9C-40E7-8920-6865189D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98831-2FA4-47BB-A15F-92E5256F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FA40-9E35-435C-83A5-6C4B56E8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4ED99-AD71-4E18-A536-BF4A03DD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E03F2-C3D7-40DD-B5FD-0C13C535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178AB-13F5-4BB2-8C12-24C2C93C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F769E-1582-4923-B286-2F6F9D91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4D0C9-8FBF-49A1-A025-477912DB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8F6CA-70FE-4153-8A48-D6311AD0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628FC-93AA-403C-92A6-9FD058EF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A3FEE-5A37-40D9-B0D9-6C00EA12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7AC02-3882-48D8-BA6E-A393B713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9ED0D-1695-4FD5-952B-D42C5D46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1946-BA8F-4D87-924B-F6A0A0EDF25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C5E3-E6D4-456C-9ACD-7363EFAC57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DA83-A4EF-49C1-8B8C-730D1535161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D170-ECB8-4FEE-83D6-E6436D3A1F4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95D3-6B69-4BD1-A009-C31FFB59709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1AB7-7660-45AB-A61E-1AF5AB6CA88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26A4-70C8-4FC8-8DDE-4AD13D43CAF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F0F3-A24E-477F-BFB8-32EB9F77713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50D7-D69F-49E1-AD23-62E38D72AC3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225360"/>
            <a:ext cx="8431200" cy="63277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520" y="714240"/>
            <a:ext cx="8334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8" name="Рисунок 5" descr="1208207092_index_2.jpg"/>
          <p:cNvPicPr/>
          <p:nvPr/>
        </p:nvPicPr>
        <p:blipFill>
          <a:blip r:embed="rId2"/>
          <a:stretch/>
        </p:blipFill>
        <p:spPr>
          <a:xfrm>
            <a:off x="5486400" y="2992320"/>
            <a:ext cx="3029040" cy="396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9680" y="5785920"/>
            <a:ext cx="8286840" cy="107172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2" descr="C:\Documents and Settings\86091\Мои документы\Мои рисунки\logo.gif"/>
          <p:cNvPicPr/>
          <p:nvPr/>
        </p:nvPicPr>
        <p:blipFill>
          <a:blip r:embed="rId3"/>
          <a:stretch/>
        </p:blipFill>
        <p:spPr>
          <a:xfrm>
            <a:off x="428760" y="3214800"/>
            <a:ext cx="3857400" cy="2131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Documents and Settings\86091\Мои документы\Мои рисунки\LogicheskieIgry120120.gif"/>
          <p:cNvPicPr/>
          <p:nvPr/>
        </p:nvPicPr>
        <p:blipFill>
          <a:blip r:embed="rId4"/>
          <a:stretch/>
        </p:blipFill>
        <p:spPr>
          <a:xfrm>
            <a:off x="3643200" y="307188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Documents and Settings\86091\Мои документы\Мои рисунки\IP75PCAFTYWARCA0SC40VCA3E1SDMCA3ZZNH2CAPPSKNBCAZI7ZAPCAB614J9CAMZ0BUJCA8U6ZHSCA01L1CFCA016QDQCAPAVJJWCAPJ2W6BCAQ9HCXICAG22YOMCAQNLWDECALJAHB1CAF8LVI5CAD35FJO.jpg"/>
          <p:cNvPicPr/>
          <p:nvPr/>
        </p:nvPicPr>
        <p:blipFill>
          <a:blip r:embed="rId5"/>
          <a:stretch/>
        </p:blipFill>
        <p:spPr>
          <a:xfrm>
            <a:off x="2428920" y="428616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"/>
          <p:cNvSpPr/>
          <p:nvPr/>
        </p:nvSpPr>
        <p:spPr>
          <a:xfrm>
            <a:off x="481320" y="6480"/>
            <a:ext cx="677952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ДБЕРИ ПО ЦВЕТУ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Малышей двух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четырех лет хорошо учить классифик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(Цвет, форма, величина, толщин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Рисунок 2" descr="http://www.u-mama.ru/img/news/00001_1057.jpg"/>
          <p:cNvPicPr/>
          <p:nvPr/>
        </p:nvPicPr>
        <p:blipFill>
          <a:blip r:embed="rId1"/>
          <a:stretch/>
        </p:blipFill>
        <p:spPr>
          <a:xfrm>
            <a:off x="642960" y="2143080"/>
            <a:ext cx="7929720" cy="22147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2"/>
          <p:cNvSpPr/>
          <p:nvPr/>
        </p:nvSpPr>
        <p:spPr>
          <a:xfrm>
            <a:off x="496440" y="30600"/>
            <a:ext cx="75492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детки собирали для ежика разноцветные лис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 складывали их в коробочки по цвету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394560" y="3960"/>
            <a:ext cx="71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ГОРОД ГЕОМЕТРИЧЕСКИХ ФИГУР</a:t>
            </a:r>
            <a:r>
              <a:rPr b="1" lang="ru-RU" sz="1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Малыши прибыли в гости к Микки </a:t>
            </a:r>
            <a:r>
              <a:rPr b="0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Маусу! Посмотрите, какой это город фигу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2" descr="http://www.u-mama.ru/img/news/00001_1056.jpg"/>
          <p:cNvPicPr/>
          <p:nvPr/>
        </p:nvPicPr>
        <p:blipFill>
          <a:blip r:embed="rId1"/>
          <a:stretch/>
        </p:blipFill>
        <p:spPr>
          <a:xfrm>
            <a:off x="357120" y="1571760"/>
            <a:ext cx="8429760" cy="278604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527400" y="38880"/>
            <a:ext cx="8081280" cy="62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район больших и район маленьких домиков. В каждом районе есть улицы разного цв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мики имеют разную фо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Сережа ищет прямоугольный домик в районе маленьких домиков, на красной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Катюша зашла в гости к кротику. И говорит всем деткам: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отик живет в квадратном доми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синей улиц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районе маленьких домиков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! Четырехлетки с интересом гуляют по такому городу, выделя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делом, сразу три свойства фигу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 с трудом дается некоторым первоклашкам в программе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Школа 2100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"/>
          <p:cNvSpPr/>
          <p:nvPr/>
        </p:nvSpPr>
        <p:spPr>
          <a:xfrm>
            <a:off x="495720" y="3240"/>
            <a:ext cx="6552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АВТОТРАССА (ПОСТРОЙ ДОРОЖКУ)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еред ребенком табличк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равило построения дорожки</a:t>
            </a:r>
            <a:r>
              <a:rPr b="0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2" descr="http://www.u-mama.ru/img/news/00001_1058.jpg"/>
          <p:cNvPicPr/>
          <p:nvPr/>
        </p:nvPicPr>
        <p:blipFill>
          <a:blip r:embed="rId1"/>
          <a:stretch/>
        </p:blipFill>
        <p:spPr>
          <a:xfrm>
            <a:off x="6000840" y="1000080"/>
            <a:ext cx="2100240" cy="1714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"/>
          <p:cNvSpPr/>
          <p:nvPr/>
        </p:nvSpPr>
        <p:spPr>
          <a:xfrm>
            <a:off x="393120" y="15120"/>
            <a:ext cx="521136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Он строит дорожку по правилу: чередует блоки с учетом цв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 формы: сначала красный, потом квадратный, затем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ый, и треугольный. Малыш учится выделять свойство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бстрагироваться от других признаков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поддержания интереса детей хорошо предлагать различные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гровые и практические задачи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мы строили дорожку до коробки с сюрпризом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еребирались по мостику через речку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выкладывали дорожку из льдинок во дворце Снежной Королевы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бы помочь убежать Каю и Герд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542880" y="27720"/>
            <a:ext cx="7870680" cy="36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на этом занятии ребята попали в болото. Строят крепкий мостик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собой блоки должны быть похожи по двум признакам. Например: фигуры обе синие и толсты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Рисунок 5" descr="http://www.u-mama.ru/img/news/00001_1059.jpg"/>
          <p:cNvPicPr/>
          <p:nvPr/>
        </p:nvPicPr>
        <p:blipFill>
          <a:blip r:embed="rId2"/>
          <a:stretch/>
        </p:blipFill>
        <p:spPr>
          <a:xfrm>
            <a:off x="642960" y="3714840"/>
            <a:ext cx="7715160" cy="2233440"/>
          </a:xfrm>
          <a:prstGeom prst="rect">
            <a:avLst/>
          </a:prstGeom>
          <a:ln w="0">
            <a:noFill/>
          </a:ln>
        </p:spPr>
      </p:pic>
      <p:sp>
        <p:nvSpPr>
          <p:cNvPr id="45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0" y="9720"/>
            <a:ext cx="10380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игры и упражнения с блоками, которые предназначе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арших дошкольников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ни помогут разв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у детей умения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бивать множества на классы по совместимым свойств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вить умение производить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логические операци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умения с помощью этих операций строить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авильные высказыва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кодировать и декодировать информацию о свойствах предметов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1000" y="77760"/>
            <a:ext cx="782964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Verdana"/>
                <a:ea typeface="Times New Roman"/>
              </a:rPr>
              <a:t>ЗАГАДКИ БЕЗ СЛОВ</a:t>
            </a:r>
            <a:r>
              <a:rPr b="1" lang="ru-RU" sz="11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Мы поможем ребенку научиться расшифровывать (декодировать) информа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 наличии или отсутствии определенных свойств у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 их знаково-символическим обозначени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Рисунок 3" descr="http://www.u-mama.ru/img/news/00001_1060.jpg"/>
          <p:cNvPicPr/>
          <p:nvPr/>
        </p:nvPicPr>
        <p:blipFill>
          <a:blip r:embed="rId1"/>
          <a:stretch/>
        </p:blipFill>
        <p:spPr>
          <a:xfrm>
            <a:off x="1285920" y="3000240"/>
            <a:ext cx="6786360" cy="18147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3"/>
          <p:cNvSpPr/>
          <p:nvPr/>
        </p:nvSpPr>
        <p:spPr>
          <a:xfrm>
            <a:off x="363960" y="300240"/>
            <a:ext cx="82076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утешествии дети попали к домику фокус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до сначала расколдо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его, а потом постучаться.Например: первая фигурка должна быть треуголь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ой, маленькой и толс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т вторая – круглая, красная, не толстая и не маленькая. Значит, мы будем искать крас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, тонкий к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мечательно, когда помогает смекалка! Теперь можно посмотреть и фокус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"/>
          <p:cNvSpPr/>
          <p:nvPr/>
        </p:nvSpPr>
        <p:spPr>
          <a:xfrm>
            <a:off x="465480" y="6120"/>
            <a:ext cx="6293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старшей группе мы устроили конкурсную игровую програм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естики - нолик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дно из заданий командам было -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стройка замка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2" descr="http://www.u-mama.ru/img/news/00001_1061.jpg"/>
          <p:cNvPicPr/>
          <p:nvPr/>
        </p:nvPicPr>
        <p:blipFill>
          <a:blip r:embed="rId1"/>
          <a:stretch/>
        </p:blipFill>
        <p:spPr>
          <a:xfrm>
            <a:off x="928800" y="1357200"/>
            <a:ext cx="7215120" cy="188604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2"/>
          <p:cNvSpPr/>
          <p:nvPr/>
        </p:nvSpPr>
        <p:spPr>
          <a:xfrm>
            <a:off x="0" y="22680"/>
            <a:ext cx="871524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манды анализировали чертеж замка, подбирали необходимые кирпич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ала та команда, у которой замок был построен быстро и правильн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"/>
          <p:cNvSpPr/>
          <p:nvPr/>
        </p:nvSpPr>
        <p:spPr>
          <a:xfrm>
            <a:off x="453960" y="2880"/>
            <a:ext cx="7381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ДЕЛИ БЛОК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гра научит разбивать множество по двум, трем совместимым свойств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оизводить логические операци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е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Рисунок 2" descr="http://www.u-mama.ru/img/news/00001_1062.jpg"/>
          <p:cNvPicPr/>
          <p:nvPr/>
        </p:nvPicPr>
        <p:blipFill>
          <a:blip r:embed="rId1"/>
          <a:stretch/>
        </p:blipFill>
        <p:spPr>
          <a:xfrm>
            <a:off x="4000680" y="857160"/>
            <a:ext cx="4071600" cy="32860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"/>
          <p:cNvSpPr/>
          <p:nvPr/>
        </p:nvSpPr>
        <p:spPr>
          <a:xfrm>
            <a:off x="573120" y="29880"/>
            <a:ext cx="8071920" cy="53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лесу переполох! Лиса, волк и медведь никак не могут поделить подарки деда Мороз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Дед Мороз сказал взять лисе все маленькие подарки, медведю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се толстые, а волку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кругл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Но вот беда, есть подарки и круглые и маленькие одновременно. Их должна взять и лиса и вол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есть подарки и круглые, и маленькие, и толстые! Ими могут играть все звери в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и пересекающихся обруча (ленточки, веревочки) помогли нам разобраться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ыясни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где чьи подарки, кто чем может пользоваться на правах совместной собственност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1"/>
          <p:cNvSpPr/>
          <p:nvPr/>
        </p:nvSpPr>
        <p:spPr>
          <a:xfrm>
            <a:off x="714240" y="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Arial"/>
              </a:rPr>
              <a:t>«Развивалки" на х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2"/>
          <p:cNvSpPr/>
          <p:nvPr/>
        </p:nvSpPr>
        <p:spPr>
          <a:xfrm>
            <a:off x="285840" y="50004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1. Чаще считайте вместе с малышом все, чем вы пользуетесь в обыденной жизни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стульев стоит возле обеденного стола, сколько пар носок вы положили в стиральную машину, сколько картошек надо почистить, чтобы приготовить ужин. Пересчитывайте ступеньки в подъезде, окна в квартире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,  - дети любят счит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3"/>
          <p:cNvSpPr/>
          <p:nvPr/>
        </p:nvSpPr>
        <p:spPr>
          <a:xfrm>
            <a:off x="357120" y="2286000"/>
            <a:ext cx="821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2. Измеряйте разные вещи – дома или на улиц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ими ладошками или ступнями.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Помните мультик про 38 попугаев – отличный повод пересмотреть его и проверить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рост у мамы или папы, сколько ладошек «поместится» в любимом див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оберите несколько пустых коробок из-под обуви или подарков. Лучше всего делать это после дня рождения или Нового Года. Коробки можно купить и специально для этой цели: они не так дорого стоят. Желательно чтобы они укладывались друг в друга как матрешки. Разложите крышки отдельно, а коробки – отдельно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росите подобрать крышку к каждому контейнеру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Чем младше ребенок, тем меньше должно быть коробок. Двухлетний малыш с удовольствием повозится с 4-5 коробками, а вот 10 для него будет слишком м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Місце для нижнього колонтитула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1"/>
          <p:cNvSpPr/>
          <p:nvPr/>
        </p:nvSpPr>
        <p:spPr>
          <a:xfrm>
            <a:off x="214200" y="428760"/>
            <a:ext cx="8715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4. Купите «липкие» цифры из пенки, наклейте их на пустой контейнер – от 0 до 5.  Соберите разнообразные предметы: одну маленькую машинку или куклу, две больших пуговицы, три бусины, четыре ореха, пять прищепок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росите разложить их в контейнеры в соответствии с номером на крыш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Сделайте карточки с цифрами из картона и наждачной бумаги или бархата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ведите пальчиком малыша по этим цифрам и назовите их. Попросите показать вам 3, 2, 1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Теперь вытащите одну из карточек из коробки наугад и  предложите ребенк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ести столько предметов, сколько изображено на его карточке.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 Особенно интересно получить карточку с нулем, ведь ничто не сравнится с личным открытие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Охота на геометрические фигуры. Предложите малышу поиграть в охоту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ь он попробует найти что-нибудь похожее на круг и показать </a:t>
            </a: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вам. А теперь квадрат или прямоугольник. Играть в эту игру можно по дороге в детск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ожите на столе ложку, вилку и тарелку особым образом. Попросите малыша повторить вашу композицию.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 Когда у него будет хорошо получаться, поставьте какой-нибудь экран между вами и малышом или сядьте спиной друг к другу. Предложите ему разложить свои предметы, а затем объяснить вам, как он это сделал. Вы должны повторить его действия, следуя лишь устным инструкциям. Тоже неплохая игра для того, чтобы занять время ожидания приема в поликли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1"/>
          <p:cNvSpPr/>
          <p:nvPr/>
        </p:nvSpPr>
        <p:spPr>
          <a:xfrm>
            <a:off x="428760" y="357120"/>
            <a:ext cx="8501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8.Когда малыш или малышка купается, выдайте ему набор разнообразных чашек – мерных чашек, пластиковых кувшинчиков, воронок, разноцветных стаканчиков. Пусть переливает воду на здоровье. Поговорите о т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де воды больше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По Пиаже, это возраст интересных открытий для родителей. Налейте воду в два одинаковых стаканчика и спросите кроху, одинаково ли воды в обоих сосудах? А теперь перелейте воду из одного стаканчика в  высокий и тонкий стакан, а воду из другого стаканчика – в широкий и низкий стакан. Спросите, где больше? Скорее всего, ответ будет любопы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Поиграйте с ребенком в магазин. Купите игрушечные деньги или нарисуйте их сами. Рубли можно брать из экономических игр, вроде «Менедже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Чаще готовьте еду вместе с малышом. Показывайте, как вы готовите то или иное блюдо, сколько продуктов берет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Используйте мерные чашки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, покажите, что для блинов нужно взять вот столько муки и вот столько сахара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2"/>
          <p:cNvSpPr/>
          <p:nvPr/>
        </p:nvSpPr>
        <p:spPr>
          <a:xfrm>
            <a:off x="1143000" y="785880"/>
            <a:ext cx="742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ЛБД  -       логические блоки З. Дьене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91581f"/>
                </a:solidFill>
                <a:latin typeface="Arial"/>
              </a:rPr>
              <a:t>развитие логического мышления</a:t>
            </a: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4" descr="http://www.u-mama.ru/img/news/00001_1051.jpg"/>
          <p:cNvPicPr/>
          <p:nvPr/>
        </p:nvPicPr>
        <p:blipFill>
          <a:blip r:embed="rId1"/>
          <a:stretch/>
        </p:blipFill>
        <p:spPr>
          <a:xfrm>
            <a:off x="1785960" y="1857240"/>
            <a:ext cx="6072120" cy="414360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1"/>
          <p:cNvSpPr/>
          <p:nvPr/>
        </p:nvSpPr>
        <p:spPr>
          <a:xfrm>
            <a:off x="-40147920" y="-428760"/>
            <a:ext cx="1828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ие блоки Дьенеша представляют соб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 из 48 геометрических фигу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четырех форм (круг, треугольник, квадра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ик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четырех цветов (красный, синий, желты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двух размеров (большой, маленьк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двух видов толщины (толстый, тонк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ая геометрическая фиг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изуется четырьмя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ой, цветом, размером, толщ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боре нет ни одной одинаковой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428760" y="720360"/>
            <a:ext cx="821520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Логические блоки Дьенеша представляют собой набор из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48 геометрических фигур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а) четырех форм (круг, треугольник, квадрат, прямоугольник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б) четырех цветов (красный, синий, желты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) двух размеров (большой, маленьк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г) двух видов толщины (толстый, тонк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Каждая геометрическая фигура характеризуется четырьмя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формой, цветом, размером,толщ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наборе нет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ни одной одинаковой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4"/>
          <p:cNvSpPr/>
          <p:nvPr/>
        </p:nvSpPr>
        <p:spPr>
          <a:xfrm>
            <a:off x="371880" y="27720"/>
            <a:ext cx="4364280" cy="52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 многих играх с логически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ами используются карточ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 символами свой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мство ребенка с симво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важная ступенька в освоении вс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вой культур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грамоты математиче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имволов, программирования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чках условно обознач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а бло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цвет, форма, размер, толщина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го 11 карт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+ 11 карточ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отрицанием свойст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 красный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5" descr="http://www.u-mama.ru/img/news/00001_1052.jpg"/>
          <p:cNvPicPr/>
          <p:nvPr/>
        </p:nvPicPr>
        <p:blipFill>
          <a:blip r:embed="rId1"/>
          <a:stretch/>
        </p:blipFill>
        <p:spPr>
          <a:xfrm>
            <a:off x="5072040" y="1214280"/>
            <a:ext cx="342900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"/>
          <p:cNvSpPr/>
          <p:nvPr/>
        </p:nvSpPr>
        <p:spPr>
          <a:xfrm flipV="1" rot="10800000">
            <a:off x="3935520" y="713880"/>
            <a:ext cx="12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 – 1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0" y="-949320"/>
            <a:ext cx="8643960" cy="73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знакомить с формой, цветом, размером, толщиной объек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ространственные предста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логическое мышление, представление о множеств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и над множеств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(сравнение, разбиение, классификация, абстрагирование, код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декодирование информаци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воить элементарные навыки алгоритмической культуры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умения выявлять свойства в объектах, называть и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общать объекты по их свойств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ъяснять сходства и различия объектов, обосновывать свои рассу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ознавательные процессы, мыслительные оп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спитывать самостоятельность, инициативу, настойчив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достижении ц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творческие способности, воображ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фантазию, способности к моделированию и конструир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пешно овладеть основами математики и информа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280080" y="82440"/>
            <a:ext cx="819324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 игры и игровые упражнения можно раздел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4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постепенным усложн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выявлять и абстрагировать свой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сравнивать предметы по их свойств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действий классификации и обоб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способности к логическим действия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ям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2"/>
          <p:cNvSpPr/>
          <p:nvPr/>
        </p:nvSpPr>
        <p:spPr>
          <a:xfrm>
            <a:off x="2286000" y="2828880"/>
            <a:ext cx="45720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Arial"/>
              </a:rPr>
              <a:t>Все игры и упражнения, за исключением четвёртой группы (логические), не адресуются конкретному возра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1" descr="http://www.u-mama.ru/img/news/00001_1053.jpg"/>
          <p:cNvPicPr/>
          <p:nvPr/>
        </p:nvPicPr>
        <p:blipFill>
          <a:blip r:embed="rId1"/>
          <a:stretch/>
        </p:blipFill>
        <p:spPr>
          <a:xfrm>
            <a:off x="3629160" y="2457360"/>
            <a:ext cx="1885680" cy="19432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"/>
          <p:cNvSpPr/>
          <p:nvPr/>
        </p:nvSpPr>
        <p:spPr>
          <a:xfrm>
            <a:off x="506880" y="8280"/>
            <a:ext cx="694404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ДОВЫЙ ЗАМОК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ил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ЕТИЙ ЛИШНИЙ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нку выкладываются 3 фигур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Две можно объединить по какому-то свойству, одн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лишня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518400" y="32760"/>
            <a:ext cx="6781320" cy="59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а замком может быть что угодно: сюрприз, вход в комнат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рога на прогулку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…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Ребенок должен открыть замок: догадаться, на какую кнопку наж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объяснить, поч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ут лишняя красная фигура. Потому что эти обе желт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жимаем на красную фигурк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http://www.u-mama.ru/img/news/00001_1054.jpg"/>
          <p:cNvPicPr/>
          <p:nvPr/>
        </p:nvPicPr>
        <p:blipFill>
          <a:blip r:embed="rId1"/>
          <a:stretch/>
        </p:blipFill>
        <p:spPr>
          <a:xfrm>
            <a:off x="5643720" y="2357280"/>
            <a:ext cx="2857320" cy="21052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"/>
          <p:cNvSpPr/>
          <p:nvPr/>
        </p:nvSpPr>
        <p:spPr>
          <a:xfrm>
            <a:off x="525240" y="8280"/>
            <a:ext cx="659340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ЙДИ КЛАД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 или 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КУДА СПРЯТАЛСЯ ЩЕНОК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еред ребенком лежат 8 блоков, спрятана моне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 картинк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ще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0" y="-2310120"/>
            <a:ext cx="6523200" cy="84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Verdana"/>
                <a:ea typeface="Times New Roman"/>
              </a:rPr>
              <a:t>1 вариан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Кладоискатель отворачивается, ведущий под одним из блоко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ячет клад. Кладоиска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щет его, называя раз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личные свойства блоков. Если малы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ходит клад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то забирает его себе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под одним из блоков прячет новый клад.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Ведущий внача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сам выполняе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роль кладоискател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пока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зывает, как вести поиск клада. Называет различ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блок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, ведущий спрашив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Клад под синим блоко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, 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—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отвечает ребено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желт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асн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больши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угл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ывает тот, кто найдет больше кладов. При повторении игры блоки меняю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увеличивается их количество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556920" y="11520"/>
            <a:ext cx="576468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2 вари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едущий говори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щенок спрятался под красным, большим круг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Можно карточками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символами написать письм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Рисунок 2" descr="http://www.u-mama.ru/img/news/00001_1055.jpg"/>
          <p:cNvPicPr/>
          <p:nvPr/>
        </p:nvPicPr>
        <p:blipFill>
          <a:blip r:embed="rId1"/>
          <a:stretch/>
        </p:blipFill>
        <p:spPr>
          <a:xfrm>
            <a:off x="714240" y="2500200"/>
            <a:ext cx="7643880" cy="271476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2:46:08Z</dcterms:created>
  <dc:creator>86091</dc:creator>
  <dc:description/>
  <dc:language>en-US</dc:language>
  <cp:lastModifiedBy>LEGION</cp:lastModifiedBy>
  <dcterms:modified xsi:type="dcterms:W3CDTF">2015-01-27T12:14:58Z</dcterms:modified>
  <cp:revision>29</cp:revision>
  <dc:subject/>
  <dc:title>Слайд 1</dc:title>
</cp:coreProperties>
</file>