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F36F-C6BD-4B22-BD56-B51F8DAB13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детки собирали для ежика разноцветные листики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и складывали их в коробочки по цвету.</a:t>
            </a:r>
            <a:r>
              <a:rPr b="1" lang="ru-RU" sz="6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CFF8-817F-4DA5-9210-CE9C30CD47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Есть район больших и район маленьких домиков. В каждом районе есть улицы разного цвета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мики имеют разную форму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Сережа ищет прямоугольный домик в районе маленьких домиков, на красной улице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Катюша зашла в гости к кротику. И говорит всем деткам: 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Кротик живет в квадратном домик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синей улиц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в районе маленьких домиков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! Четырехлетки с интересом гуляют по такому городу, выделяют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между делом, сразу три свойства фигур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Что с трудом дается некоторым первоклашкам в программе 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Школа 2100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!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36B3-6627-456D-ACA0-85666FE1CF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DEFC-D8B3-4959-A182-9907A22F6B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</a:t>
            </a:r>
            <a:r>
              <a:rPr b="1" lang="ru-RU" sz="9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путешествии дети попали к домику фокусника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до сначала расколдоват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его, а потом постучаться.Например: первая фигурка должна быть треугольной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желтой, маленькой и толстой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 вот вторая – круглая, красная, не толстая и не маленькая. Значит, мы будем искать красный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большой, тонкий круг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мечательно, когда помогает смекалка! Теперь можно посмотреть и фокусы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0645-C67D-41BD-BB6A-6B051F63AF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Команды анализировали чертеж замка, подбирали необходимые кирпичик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ала та команда, у которой замок был построен быстро и правильно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BFF1-02F5-4FEE-B1A0-9CE1A8447C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лесу переполох! Лиса, волк и медведь никак не могут поделить подарки деда Мороз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Дед Мороз сказал взять лисе все маленькие подарки, медведю </a:t>
            </a:r>
            <a:r>
              <a:rPr b="1" lang="ru-RU" sz="2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се толстые, а волку </a:t>
            </a:r>
            <a:r>
              <a:rPr b="1" lang="ru-RU" sz="2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кругл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о вот беда, есть подарки и круглые и маленькие одновременно. Их должна взять и лиса и волк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есть подарки и круглые, и маленькие, и толстые! Ими могут играть все звери вмес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Три пересекающихся обруча (ленточки, веревочки) помогли нам разобраться </a:t>
            </a:r>
            <a:r>
              <a:rPr b="1" lang="ru-RU" sz="2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ыясни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где чьи подарки, кто чем может пользоваться на правах совместной собственности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7479-FED9-47CC-A2BC-C5D3F4F951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4807"/>
                </a:solidFill>
                <a:latin typeface="Calibri"/>
              </a:rPr>
              <a:t>«Развивалки" на х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4807"/>
                </a:solidFill>
                <a:latin typeface="Calibri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1. Чаще считайте вместе с малышом все, чем вы пользуетесь в обыденной жизни: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колько стульев стоит возле обеденного стола, сколько пар носок вы положили в стиральную машину, сколько картошек надо почистить, чтобы приготовить ужин. Пересчитывайте ступеньки в подъезде, окна в квартире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,  - дети любят счит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2. Измеряйте разные вещи – дома или на улице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воими ладошками или ступнями.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Помните мультик про 38 попугаев – отличный повод пересмотреть его и проверить,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акой рост у мамы или папы, сколько ладошек «поместится» в любимом див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оберите несколько пустых коробок из-под обуви или подарков. Лучше всего делать это после дня рождения или Нового Года. Коробки можно купить и специально для этой цели: они не так дорого стоят. Желательно чтобы они укладывались друг в друга как матрешки. Разложите крышки отдельно, а коробки – отдельно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просите подобрать крышку к каждому контейнеру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. Чем младше ребенок, тем меньше должно быть коробок. Двухлетний малыш с удовольствием повозится с 4-5 коробками, а вот 10 для него будет слишком м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CDE2-46A4-4D86-82AA-B1BA7EA761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4. Купите «липкие» цифры из пенки, наклейте их на пустой контейнер – от 0 до 5.  Соберите разнообразные предметы: одну маленькую машинку или куклу, две больших пуговицы, три бусины, четыре ореха, пять прищепок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просите разложить их в контейнеры в соответствии с номером на крыш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Сделайте карточки с цифрами из картона и наждачной бумаги или бархата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оведите пальчиком малыша по этим цифрам и назовите их. Попросите показать вам 3, 2, 1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. Теперь вытащите одну из карточек из коробки наугад и  предложите ребенку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инести столько предметов, сколько изображено на его карточке.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 Особенно интересно получить карточку с нулем, ведь ничто не сравнится с личным открытие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Охота на геометрические фигуры. Предложите малышу поиграть в охоту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усть он попробует найти что-нибудь похожее на круг и показать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вам. А теперь квадрат или прямоугольник. Играть в эту игру можно по дороге в детский с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зложите на столе ложку, вилку и тарелку особым образом. Попросите малыша повторить вашу композицию.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 Когда у него будет хорошо получаться, поставьте какой-нибудь экран между вами и малышом или сядьте спиной друг к другу. Предложите ему разложить свои предметы, а затем объяснить вам, как он это сделал. Вы должны повторить его действия, следуя лишь устным инструкциям. Тоже неплохая игра для того, чтобы занять время ожидания приема в поликлин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AD75-E17D-432E-9FA8-774DFB89AF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8.Когда малыш или малышка купается, выдайте ему набор разнообразных чашек – мерных чашек, пластиковых кувшинчиков, воронок, разноцветных стаканчиков. Пусть переливает воду на здоровье. Поговорите о том,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де воды больше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. По Пиаже, это возраст интересных открытий для родителей. Налейте воду в два одинаковых стаканчика и спросите кроху, одинаково ли воды в обоих сосудах? А теперь перелейте воду из одного стаканчика в  высокий и тонкий стакан, а воду из другого стаканчика – в широкий и низкий стакан. Спросите, где больше? Скорее всего, ответ будет любопы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Поиграйте с ребенком в магазин. Купите игрушечные деньги или нарисуйте их сами. Рубли можно брать из экономических игр, вроде «Менеджер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Чаще готовьте еду вместе с малышом. Показывайте, как вы готовите то или иное блюдо, сколько продуктов берете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 Используйте мерные чашки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, покажите, что для блинов нужно взять вот столько муки и вот столько сахара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05A4-1530-4623-B229-F831BB9D07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ЛБД  -       логические блоки З. Дьене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развитие логического мышления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C1C2-D03C-4D99-A8E4-CDA476B2AF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Логические блоки Дьенеша представляют собой набор из 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48 геометрических фигур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а) четырех форм (круг, треугольник, квадрат, прямоугольник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б) четырех цветов (красный, синий, желтый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) двух размеров (большой, маленьк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г) двух видов толщины (толстый, тонки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Каждая геометрическая фигура характеризуется четырьмя признак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формой, цветом, размером,толщи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наборе нет 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ни одной одинаковой 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0402-9BDC-41DD-B215-B2C341DD5D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 многих играх с логическим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ами используются карточ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 символами свойст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мство ребенка с символам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важная ступенька в освоении всей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вой культуры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грамоты математических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имволов, программирования и т.д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карточках условно обозначен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а блоков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(</a:t>
            </a:r>
            <a:r>
              <a:rPr b="1" lang="ru-RU" sz="900" spc="-1" strike="noStrike">
                <a:solidFill>
                  <a:srgbClr val="ff0000"/>
                </a:solidFill>
                <a:latin typeface="Verdana"/>
                <a:ea typeface="Times New Roman"/>
              </a:rPr>
              <a:t>цвет, форма, размер, толщина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го 11 карточек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+ 11 карточе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отрицанием свойств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 </a:t>
            </a:r>
            <a:r>
              <a:rPr b="1" lang="ru-RU" sz="900" spc="-1" strike="noStrike">
                <a:solidFill>
                  <a:srgbClr val="ff0000"/>
                </a:solidFill>
                <a:latin typeface="Verdana"/>
                <a:ea typeface="Times New Roman"/>
              </a:rPr>
              <a:t>Не красный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9D7B-F10B-4612-BE09-4EDE35AD50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знакомить с формой, цветом, размером, толщиной объект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ространственные представления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логическое мышление, представление о множестве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и над множествами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(сравнение, разбиение, классификация, абстрагирование, кодиро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декодирование информации)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воить элементарные навыки алгоритмической культуры мышле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00"/>
              </a:spcBef>
              <a:buClr>
                <a:srgbClr val="603b1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умения выявлять свойства в объектах, называть их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00"/>
              </a:spcBef>
              <a:buClr>
                <a:srgbClr val="603b1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общать объекты по их свойствам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00"/>
              </a:spcBef>
              <a:buClr>
                <a:srgbClr val="603b1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ъяснять сходства и различия объектов, обосновывать свои рассуждения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ознавательные процессы, мыслительные операци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спитывать самостоятельность, инициативу, настойчивость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достижении цел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творческие способности, воображение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фантазию, способности к моделированию и конструированию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речь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пешно овладеть основами математики и информатик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6B8F-F333-4440-9782-778A8BDD69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 игры и игровые упражнения можно разделить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</a:t>
            </a:r>
            <a:r>
              <a:rPr b="1" lang="ru-RU" sz="1000" spc="-1" strike="noStrike">
                <a:solidFill>
                  <a:srgbClr val="ff0000"/>
                </a:solidFill>
                <a:latin typeface="Verdana"/>
                <a:ea typeface="Times New Roman"/>
              </a:rPr>
              <a:t>4 группы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постепенным усложнением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выявлять и абстрагировать свой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сравнивать предметы по их свойствам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действий классификации и обобщения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способности к логическим действиям 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ям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84807"/>
                </a:solidFill>
                <a:latin typeface="Calibri"/>
              </a:rPr>
              <a:t>Все игры и упражнения, за исключением четвёртой группы (логические), не адресуются конкретному возрасту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2130-5919-4D87-ADFE-A91F899DEC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За замком может быть что угодно: сюрприз, вход в комнату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рога на прогулку</a:t>
            </a:r>
            <a:r>
              <a:rPr b="1" lang="ru-RU" sz="900" spc="-1" strike="noStrike">
                <a:solidFill>
                  <a:srgbClr val="603b14"/>
                </a:solidFill>
                <a:latin typeface="Calibri"/>
                <a:ea typeface="Times New Roman"/>
              </a:rPr>
              <a:t>…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Ребенок должен открыть замок: догадаться, на какую кнопку нажать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объяснить, почему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</a:t>
            </a:r>
            <a:r>
              <a:rPr b="1" lang="ru-RU" sz="9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Тут лишняя красная фигура. Потому что эти обе желтые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жимаем на красную фигурку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A923-C886-4FE8-9D38-3250108052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ff0000"/>
                </a:solidFill>
                <a:latin typeface="Verdana"/>
                <a:ea typeface="Times New Roman"/>
              </a:rPr>
              <a:t>1 вариант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Кладоискатель отворачивается, ведущий под одним из блоков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ячет клад. Кладоискатель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ищет его, называя раз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личные свойства блоков. Если малыш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ходит клад,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то забирает его себе,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под одним из блоков прячет новый клад.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Ведущий вначал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сам выполняет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роль кладоискателя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пока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зывает, как вести поиск клада. Называет различны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блоков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, ведущий спрашивает: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Клад под синим блоко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, 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—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отвечает ребенок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желты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асны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больши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углы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ывает тот, кто найдет больше кладов. При повторении игры блоки меняют,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увеличивается их количество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A426-DCE5-4404-96FE-2A9A9A6502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2 вари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едущий говори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щенок спрятался под красным, большим кру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Можно карточками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символами написать письм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3CD8-0A9C-4BD3-B628-E1AB0E118E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9414-B603-47FC-96F6-384C5526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823F-8255-4D4A-92BB-460A5C28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4380D-C838-4287-A185-C13FD0BF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942E0-5088-4990-992D-6B7151D6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5952A-02D8-473A-B1D8-6CBF00FF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CACAE-1DAB-49D0-97EE-FBA9CA3F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C35E4-D0C4-4FD1-BA6D-F0274818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0C011-A1EA-41C7-92EE-926C4553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D166C-82FE-49E1-909D-01809C73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879C3-C2D9-4C30-8E2A-B961C7AE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E7EF7-C2F0-4502-9A13-D421F666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7F63-8D20-4F5E-BD69-47FCD2AB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929E-19C2-44AB-842F-8A28B0D4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6117-3F4E-4372-9E8D-1BBA8572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4AE3-6B0D-4B6E-9C4C-7CFFD7F8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55E7-E5F0-43C6-8512-D3C676CC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3BCD-3DAF-463B-879B-ADF0ED39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B96D-720D-4694-B10E-0FE53278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46FA-285B-4933-BC63-EB6DEE98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A9DE-9169-43C6-8836-08656430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8766-715B-474C-9863-D1E70214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EF6E-032F-45A5-A74D-C7DAF947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ED57-460B-4141-867B-6D67D671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5B6E-4FFD-46F1-9120-B7E4A5AC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C25D-92FF-4B13-BEFA-CD6A3713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48C2-1242-4818-9452-8101C548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49BCF-D358-42CA-A8ED-074BB47C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F12A1-5BD0-4916-BC85-AEA64E34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593A8-C71B-4D61-8DC8-0E740B91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D7CF5-67BE-41E2-8A72-D67D863F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A561D-A275-48D1-A638-E7D8E091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62CD-17E0-49ED-9294-3BDE24B8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D12F1-CE9A-46CA-A01E-E0C7EB64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95390-EF4A-41D4-BA46-BD5A1697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75091-B4BB-4C6B-8C3C-E5F7773C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7B061-BADC-40BD-B619-11F91584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125AD-A742-43EC-8D26-49E15BB4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C455B-F486-4F1B-83E7-4A58C58A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A6FF6-7EFA-4534-B4CA-AE27C147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03504-D572-49B1-8735-E42E964E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D6F27-4261-4C95-830A-4A26C532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7F3DE-8A18-4DA2-96AF-729FBAB7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881A-E1DB-4B10-8E11-702A7546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B7A8F-0C77-4A5B-BD4F-2E606BB3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323B0-12F2-46F1-A715-A0F41A23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A2B97-0770-4A7A-9293-C1FD2E49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CE6DF-2ADA-4471-AF37-FB60A928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14868-13E7-4084-A79B-17986E0E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D79AA-928C-4D9A-8085-0AE6C34F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73625-8D4E-4412-8E93-DB17AAE8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CFF0A-C2E8-4683-89B3-95DA3C11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0BFE8-ECB6-410A-B3D3-74759D2B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8FC6C-5152-49A2-992B-F90A2187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9173-4D48-466C-BBD4-69BD56A0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3179B-E513-492E-8715-57E4F991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267F4-3EB4-4E74-A548-7D8347A0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5E6E1-FF57-4E22-9CD0-C7B45F81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727F3-6174-43C9-A9DF-19DA9AB7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7729A-7BA5-4517-8991-BFA10728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8FED5-E184-4808-8C05-0779103C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8AEEE-CE7D-4216-AAE3-A099BF0E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D52A5-57D9-43FB-8EA9-C991BD5D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7F6F6-E1C7-4473-9A6A-AB4ACB6F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77BAD-21DB-4B10-8EED-CEB5E203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8FC9-5194-4503-8E6A-A6129BC7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1A984-0368-4679-AA95-12858BC3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BC824-06B6-4028-9C23-5C33C436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AEAD6-6620-4471-A55D-DF56981B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C3FD2-8610-486D-9E3B-078D18B5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ACFB4-AE04-4D89-ADE9-56935275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3FAB0-B20C-4455-B137-285858DB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EC0D2-3675-47DA-848F-9186EA7A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8F6AF-FCCF-42AC-A556-61538C6D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88BB8-D47A-4260-9D10-5D1656F0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E72AB-F58F-4C15-B5BB-82F17B51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220D-C3B6-42DE-BC98-4CADCF45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F1FFE-E8AE-4B01-ADA3-2D617186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9F045-FA99-4B03-A98A-081BAA84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E92F7-9ABC-4DC1-AC41-E0C6EA14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AFA05-3CF9-4B15-B68B-E32473F6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45F24-82B6-4DAA-AD3B-2EA0B02F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2F414-4B36-456B-81FD-E818BCE2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B1D92-9AA1-4EEB-9943-416AC4A4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5FBC5-0104-4509-B5F4-F84C06CE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C59B5-E5D4-41A2-978A-084B4FFD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9F5B6-6DC0-4A55-AFE2-AD779B5C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F757-74A7-43E6-A703-36802B7D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884B6-9670-4942-967A-D7F3A675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C2B46-0F00-4742-B962-00797710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198A5-59AC-4D04-810F-35AFE94C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EE2F4-F4CB-43F5-9DDD-F4A7C31C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B3176-4E2A-4C01-8EF2-0FC6B74B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645AA-A2A8-47E0-B95C-B1585767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14E30-0725-4574-8877-CFA2F632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B3776-9A80-42C1-809D-F8500314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E76F0-7EB7-4017-9D4D-A3721E88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0EDDD-7147-4C1E-A934-6E3FD045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9EDB-99AA-461D-807D-333B3E92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FF852-DB34-43A7-8BD4-FF7ED03B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7CBA3-1C12-40BF-938C-95C0C42A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F8CA1-8DF6-4FD7-BC41-19A8AAE3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A55C8-D333-4A82-B862-298F8E1F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9ED90-FB72-4595-95AD-950507ED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35BA9-3ECF-437B-8891-71CE6739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E17C9-222D-46EB-BD8A-339015FB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8D778-2BC1-4B4B-81BA-B05FE8B9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AAEA7-E9CC-4E1E-BD91-E8AB02E0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B06F7-CDBB-4FE1-A8A5-F00B2F32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49A1-892B-42F2-9444-A74D42FEB31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2B67-6099-44A1-81A1-189F3462407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5262-841A-4769-882C-D7445774C94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835B-DDE2-44AC-B869-8F592BB64C1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2E13-AF69-4A8B-B197-F129CC09509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FCA1-5D4D-4D0E-8295-15B3BBB91D4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77B6-B73D-4F6D-81BB-30DE9F6F75C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029D-EBD7-450F-8E9B-27EAC1F8033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8EFD-FFEA-4C26-9C3B-88055C01FA3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Прямоугольник 1" descr=""/>
          <p:cNvPicPr/>
          <p:nvPr/>
        </p:nvPicPr>
        <p:blipFill>
          <a:blip r:embed="rId1"/>
          <a:stretch/>
        </p:blipFill>
        <p:spPr>
          <a:xfrm>
            <a:off x="500040" y="225360"/>
            <a:ext cx="8431200" cy="63277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520" y="714240"/>
            <a:ext cx="8334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8" name="Рисунок 5" descr="1208207092_index_2.jpg"/>
          <p:cNvPicPr/>
          <p:nvPr/>
        </p:nvPicPr>
        <p:blipFill>
          <a:blip r:embed="rId2"/>
          <a:stretch/>
        </p:blipFill>
        <p:spPr>
          <a:xfrm>
            <a:off x="5486400" y="2992320"/>
            <a:ext cx="3029040" cy="3969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9680" y="5785920"/>
            <a:ext cx="8286840" cy="107172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2" descr="C:\Documents and Settings\86091\Мои документы\Мои рисунки\logo.gif"/>
          <p:cNvPicPr/>
          <p:nvPr/>
        </p:nvPicPr>
        <p:blipFill>
          <a:blip r:embed="rId3"/>
          <a:stretch/>
        </p:blipFill>
        <p:spPr>
          <a:xfrm>
            <a:off x="428760" y="3214800"/>
            <a:ext cx="3857400" cy="2131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C:\Documents and Settings\86091\Мои документы\Мои рисунки\LogicheskieIgry120120.gif"/>
          <p:cNvPicPr/>
          <p:nvPr/>
        </p:nvPicPr>
        <p:blipFill>
          <a:blip r:embed="rId4"/>
          <a:stretch/>
        </p:blipFill>
        <p:spPr>
          <a:xfrm>
            <a:off x="3643200" y="307188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Documents and Settings\86091\Мои документы\Мои рисунки\IP75PCAFTYWARCA0SC40VCA3E1SDMCA3ZZNH2CAPPSKNBCAZI7ZAPCAB614J9CAMZ0BUJCA8U6ZHSCA01L1CFCA016QDQCAPAVJJWCAPJ2W6BCAQ9HCXICAG22YOMCAQNLWDECALJAHB1CAF8LVI5CAD35FJO.jpg"/>
          <p:cNvPicPr/>
          <p:nvPr/>
        </p:nvPicPr>
        <p:blipFill>
          <a:blip r:embed="rId5"/>
          <a:stretch/>
        </p:blipFill>
        <p:spPr>
          <a:xfrm>
            <a:off x="2428920" y="4286160"/>
            <a:ext cx="1523880" cy="152424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"/>
          <p:cNvSpPr/>
          <p:nvPr/>
        </p:nvSpPr>
        <p:spPr>
          <a:xfrm>
            <a:off x="481320" y="6480"/>
            <a:ext cx="677952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ДБЕРИ ПО ЦВЕТУ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Малышей двух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четырех лет хорошо учить классифик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(Цвет, форма, величина, толщин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Рисунок 2" descr="http://www.u-mama.ru/img/news/00001_1057.jpg"/>
          <p:cNvPicPr/>
          <p:nvPr/>
        </p:nvPicPr>
        <p:blipFill>
          <a:blip r:embed="rId1"/>
          <a:stretch/>
        </p:blipFill>
        <p:spPr>
          <a:xfrm>
            <a:off x="642960" y="2143080"/>
            <a:ext cx="7929720" cy="221472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2"/>
          <p:cNvSpPr/>
          <p:nvPr/>
        </p:nvSpPr>
        <p:spPr>
          <a:xfrm>
            <a:off x="496440" y="30600"/>
            <a:ext cx="75492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детки собирали для ежика разноцветные лист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и складывали их в коробочки по цвету.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394560" y="3960"/>
            <a:ext cx="719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ГОРОД ГЕОМЕТРИЧЕСКИХ ФИГУР</a:t>
            </a:r>
            <a:r>
              <a:rPr b="1" lang="ru-RU" sz="18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Малыши прибыли в гости к Микки </a:t>
            </a:r>
            <a:r>
              <a:rPr b="0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Маусу! Посмотрите, какой это город фигур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2" descr="http://www.u-mama.ru/img/news/00001_1056.jpg"/>
          <p:cNvPicPr/>
          <p:nvPr/>
        </p:nvPicPr>
        <p:blipFill>
          <a:blip r:embed="rId1"/>
          <a:stretch/>
        </p:blipFill>
        <p:spPr>
          <a:xfrm>
            <a:off x="357120" y="1571760"/>
            <a:ext cx="8429760" cy="278604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2"/>
          <p:cNvSpPr/>
          <p:nvPr/>
        </p:nvSpPr>
        <p:spPr>
          <a:xfrm>
            <a:off x="527400" y="38880"/>
            <a:ext cx="8081280" cy="62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Есть район больших и район маленьких домиков. В каждом районе есть улицы разного цв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мики имеют разную фор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Сережа ищет прямоугольный домик в районе маленьких домиков, на красной ули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Катюша зашла в гости к кротику. И говорит всем деткам: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Кротик живет в квадратном доми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синей улиц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 районе маленьких домиков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! Четырехлетки с интересом гуляют по такому городу, выделя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между делом, сразу три свойства фигу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Что с трудом дается некоторым первоклашкам в программе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Школа 2100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"/>
          <p:cNvSpPr/>
          <p:nvPr/>
        </p:nvSpPr>
        <p:spPr>
          <a:xfrm>
            <a:off x="495720" y="3240"/>
            <a:ext cx="6552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АВТОТРАССА (ПОСТРОЙ ДОРОЖКУ)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Перед ребенком табличка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правило построения дорожки</a:t>
            </a:r>
            <a:r>
              <a:rPr b="0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Рисунок 2" descr="http://www.u-mama.ru/img/news/00001_1058.jpg"/>
          <p:cNvPicPr/>
          <p:nvPr/>
        </p:nvPicPr>
        <p:blipFill>
          <a:blip r:embed="rId1"/>
          <a:stretch/>
        </p:blipFill>
        <p:spPr>
          <a:xfrm>
            <a:off x="6000840" y="1000080"/>
            <a:ext cx="2100240" cy="17146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"/>
          <p:cNvSpPr/>
          <p:nvPr/>
        </p:nvSpPr>
        <p:spPr>
          <a:xfrm>
            <a:off x="393120" y="15120"/>
            <a:ext cx="5211360" cy="29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Он строит дорожку по правилу: чередует блоки с учетом цвет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ли формы: сначала красный, потом квадратный, затем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желтый, и треугольный. Малыш учится выделять свойство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абстрагироваться от других признаков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поддержания интереса детей хорошо предлагать различные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гровые и практические задачи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мы строили дорожку до коробки с сюрпризом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еребирались по мостику через речку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выкладывали дорожку из льдинок во дворце Снежной Королевы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чтобы помочь убежать Каю и Герд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542880" y="27720"/>
            <a:ext cx="7870680" cy="36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на этом занятии ребята попали в болото. Строят крепкий мостик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Между собой блоки должны быть похожи по двум признакам. Например: фигуры обе синие и толсты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Рисунок 5" descr="http://www.u-mama.ru/img/news/00001_1059.jpg"/>
          <p:cNvPicPr/>
          <p:nvPr/>
        </p:nvPicPr>
        <p:blipFill>
          <a:blip r:embed="rId2"/>
          <a:stretch/>
        </p:blipFill>
        <p:spPr>
          <a:xfrm>
            <a:off x="642960" y="3714840"/>
            <a:ext cx="7715160" cy="2233440"/>
          </a:xfrm>
          <a:prstGeom prst="rect">
            <a:avLst/>
          </a:prstGeom>
          <a:ln w="0">
            <a:noFill/>
          </a:ln>
        </p:spPr>
      </p:pic>
      <p:sp>
        <p:nvSpPr>
          <p:cNvPr id="453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0" y="9720"/>
            <a:ext cx="10380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Есть игры и упражнения с блоками, которые предназначе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старших дошкольников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Они помогут разв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у детей умения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разбивать множества на классы по совместимым свойства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развить умение производить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логические операци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н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или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умения с помощью этих операций строить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авильные высказыван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кодировать и декодировать информацию о свойствах предметов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1000" y="77760"/>
            <a:ext cx="782964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Verdana"/>
                <a:ea typeface="Times New Roman"/>
              </a:rPr>
              <a:t>ЗАГАДКИ БЕЗ СЛОВ</a:t>
            </a:r>
            <a:r>
              <a:rPr b="1" lang="ru-RU" sz="11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Мы поможем ребенку научиться расшифровывать (декодировать) информац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о наличии или отсутствии определенных свойств у предм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 их знаково-символическим обозначени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Рисунок 3" descr="http://www.u-mama.ru/img/news/00001_1060.jpg"/>
          <p:cNvPicPr/>
          <p:nvPr/>
        </p:nvPicPr>
        <p:blipFill>
          <a:blip r:embed="rId1"/>
          <a:stretch/>
        </p:blipFill>
        <p:spPr>
          <a:xfrm>
            <a:off x="1285920" y="3000240"/>
            <a:ext cx="6786360" cy="181476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3"/>
          <p:cNvSpPr/>
          <p:nvPr/>
        </p:nvSpPr>
        <p:spPr>
          <a:xfrm>
            <a:off x="363960" y="300240"/>
            <a:ext cx="820764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путешествии дети попали к домику фокусни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до сначала расколдо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его, а потом постучаться.Например: первая фигурка должна быть треугольн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желтой, маленькой и толст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от вторая – круглая, красная, не толстая и не маленькая. Значит, мы будем искать крас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ой, тонкий кру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мечательно, когда помогает смекалка! Теперь можно посмотреть и фокус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"/>
          <p:cNvSpPr/>
          <p:nvPr/>
        </p:nvSpPr>
        <p:spPr>
          <a:xfrm>
            <a:off x="465480" y="6120"/>
            <a:ext cx="62935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 старшей группе мы устроили конкурсную игровую программ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Крестики - нолики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Одно из заданий командам было -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стройка замка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Рисунок 2" descr="http://www.u-mama.ru/img/news/00001_1061.jpg"/>
          <p:cNvPicPr/>
          <p:nvPr/>
        </p:nvPicPr>
        <p:blipFill>
          <a:blip r:embed="rId1"/>
          <a:stretch/>
        </p:blipFill>
        <p:spPr>
          <a:xfrm>
            <a:off x="928800" y="1357200"/>
            <a:ext cx="7215120" cy="188604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2"/>
          <p:cNvSpPr/>
          <p:nvPr/>
        </p:nvSpPr>
        <p:spPr>
          <a:xfrm>
            <a:off x="0" y="22680"/>
            <a:ext cx="871524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Команды анализировали чертеж замка, подбирали необходимые кирпич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ала та команда, у которой замок был построен быстро и правильн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"/>
          <p:cNvSpPr/>
          <p:nvPr/>
        </p:nvSpPr>
        <p:spPr>
          <a:xfrm>
            <a:off x="453960" y="2880"/>
            <a:ext cx="7381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РАЗДЕЛИ БЛОКИ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гра научит разбивать множество по двум, трем совместимым свойства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оизводить логические операции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е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ли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Рисунок 2" descr="http://www.u-mama.ru/img/news/00001_1062.jpg"/>
          <p:cNvPicPr/>
          <p:nvPr/>
        </p:nvPicPr>
        <p:blipFill>
          <a:blip r:embed="rId1"/>
          <a:stretch/>
        </p:blipFill>
        <p:spPr>
          <a:xfrm>
            <a:off x="4000680" y="857160"/>
            <a:ext cx="4071600" cy="32860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2"/>
          <p:cNvSpPr/>
          <p:nvPr/>
        </p:nvSpPr>
        <p:spPr>
          <a:xfrm>
            <a:off x="573120" y="29880"/>
            <a:ext cx="8071920" cy="53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лесу переполох! Лиса, волк и медведь никак не могут поделить подарки деда Мороз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Дед Мороз сказал взять лисе все маленькие подарки, медведю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се толстые, а волку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кругл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Но вот беда, есть подарки и круглые и маленькие одновременно. Их должна взять и лиса и вол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есть подарки и круглые, и маленькие, и толстые! Ими могут играть все звери вм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Три пересекающихся обруча (ленточки, веревочки) помогли нам разобраться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ыяснит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где чьи подарки, кто чем может пользоваться на правах совместной собственност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Прямоугольник 1"/>
          <p:cNvSpPr/>
          <p:nvPr/>
        </p:nvSpPr>
        <p:spPr>
          <a:xfrm>
            <a:off x="714240" y="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Arial"/>
              </a:rPr>
              <a:t>«Развивалки" на х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2"/>
          <p:cNvSpPr/>
          <p:nvPr/>
        </p:nvSpPr>
        <p:spPr>
          <a:xfrm>
            <a:off x="285840" y="500040"/>
            <a:ext cx="84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1. Чаще считайте вместе с малышом все, чем вы пользуетесь в обыденной жизни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колько стульев стоит возле обеденного стола, сколько пар носок вы положили в стиральную машину, сколько картошек надо почистить, чтобы приготовить ужин. Пересчитывайте ступеньки в подъезде, окна в квартире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,  - дети любят счит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3"/>
          <p:cNvSpPr/>
          <p:nvPr/>
        </p:nvSpPr>
        <p:spPr>
          <a:xfrm>
            <a:off x="357120" y="2286000"/>
            <a:ext cx="8215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2. Измеряйте разные вещи – дома или на улиц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ими ладошками или ступнями.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Помните мультик про 38 попугаев – отличный повод пересмотреть его и проверить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ой рост у мамы или папы, сколько ладошек «поместится» в любимом див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С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оберите несколько пустых коробок из-под обуви или подарков. Лучше всего делать это после дня рождения или Нового Года. Коробки можно купить и специально для этой цели: они не так дорого стоят. Желательно чтобы они укладывались друг в друга как матрешки. Разложите крышки отдельно, а коробки – отдельно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просите подобрать крышку к каждому контейнеру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. Чем младше ребенок, тем меньше должно быть коробок. Двухлетний малыш с удовольствием повозится с 4-5 коробками, а вот 10 для него будет слишком мн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Місце для нижнього колонтитула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Прямоугольник 1"/>
          <p:cNvSpPr/>
          <p:nvPr/>
        </p:nvSpPr>
        <p:spPr>
          <a:xfrm>
            <a:off x="214200" y="428760"/>
            <a:ext cx="87156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4. Купите «липкие» цифры из пенки, наклейте их на пустой контейнер – от 0 до 5.  Соберите разнообразные предметы: одну маленькую машинку или куклу, две больших пуговицы, три бусины, четыре ореха, пять прищепок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просите разложить их в контейнеры в соответствии с номером на крыш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Сделайте карточки с цифрами из картона и наждачной бумаги или бархата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ведите пальчиком малыша по этим цифрам и назовите их. Попросите показать вам 3, 2, 1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. Теперь вытащите одну из карточек из коробки наугад и  предложите ребенк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ести столько предметов, сколько изображено на его карточке.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 Особенно интересно получить карточку с нулем, ведь ничто не сравнится с личным открытие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1581f"/>
                </a:solidFill>
                <a:latin typeface="Arial"/>
              </a:rPr>
              <a:t>Охота на геометрические фигуры. Предложите малышу поиграть в охоту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сть он попробует найти что-нибудь похожее на круг и показать </a:t>
            </a:r>
            <a:r>
              <a:rPr b="1" lang="ru-RU" sz="1800" spc="-1" strike="noStrike">
                <a:solidFill>
                  <a:srgbClr val="91581f"/>
                </a:solidFill>
                <a:latin typeface="Arial"/>
              </a:rPr>
              <a:t>вам. А теперь квадрат или прямоугольник. Играть в эту игру можно по дороге в детский с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1581f"/>
                </a:solidFill>
                <a:latin typeface="Arial"/>
              </a:rPr>
              <a:t>7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ложите на столе ложку, вилку и тарелку особым образом. Попросите малыша повторить вашу композицию.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 Когда у него будет хорошо получаться, поставьте какой-нибудь экран между вами и малышом или сядьте спиной друг к другу. Предложите ему разложить свои предметы, а затем объяснить вам, как он это сделал. Вы должны повторить его действия, следуя лишь устным инструкциям. Тоже неплохая игра для того, чтобы занять время ожидания приема в поликли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Прямоугольник 1"/>
          <p:cNvSpPr/>
          <p:nvPr/>
        </p:nvSpPr>
        <p:spPr>
          <a:xfrm>
            <a:off x="428760" y="357120"/>
            <a:ext cx="8501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8.Когда малыш или малышка купается, выдайте ему набор разнообразных чашек – мерных чашек, пластиковых кувшинчиков, воронок, разноцветных стаканчиков. Пусть переливает воду на здоровье. Поговорите о том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де воды больше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. По Пиаже, это возраст интересных открытий для родителей. Налейте воду в два одинаковых стаканчика и спросите кроху, одинаково ли воды в обоих сосудах? А теперь перелейте воду из одного стаканчика в  высокий и тонкий стакан, а воду из другого стаканчика – в широкий и низкий стакан. Спросите, где больше? Скорее всего, ответ будет любопы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9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Поиграйте с ребенком в магазин. Купите игрушечные деньги или нарисуйте их сами. Рубли можно брать из экономических игр, вроде «Менеджер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10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Чаще готовьте еду вместе с малышом. Показывайте, как вы готовите то или иное блюдо, сколько продуктов берет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Используйте мерные чашки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, покажите, что для блинов нужно взять вот столько муки и вот столько сахара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2"/>
          <p:cNvSpPr/>
          <p:nvPr/>
        </p:nvSpPr>
        <p:spPr>
          <a:xfrm>
            <a:off x="1143000" y="785880"/>
            <a:ext cx="742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581f"/>
                </a:solidFill>
                <a:latin typeface="Arial"/>
              </a:rPr>
              <a:t>ЛБД  -       логические блоки З. Дьене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581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91581f"/>
                </a:solidFill>
                <a:latin typeface="Arial"/>
              </a:rPr>
              <a:t>развитие логического мышления</a:t>
            </a:r>
            <a:r>
              <a:rPr b="1" lang="ru-RU" sz="2400" spc="-1" strike="noStrike">
                <a:solidFill>
                  <a:srgbClr val="91581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Рисунок 4" descr="http://www.u-mama.ru/img/news/00001_1051.jpg"/>
          <p:cNvPicPr/>
          <p:nvPr/>
        </p:nvPicPr>
        <p:blipFill>
          <a:blip r:embed="rId1"/>
          <a:stretch/>
        </p:blipFill>
        <p:spPr>
          <a:xfrm>
            <a:off x="1785960" y="1857240"/>
            <a:ext cx="6072120" cy="414360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11"/>
          <p:cNvSpPr/>
          <p:nvPr/>
        </p:nvSpPr>
        <p:spPr>
          <a:xfrm>
            <a:off x="-40147920" y="-428760"/>
            <a:ext cx="18288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ические блоки Дьенеша представляют соб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ор из 48 геометрических фигу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четырех форм (круг, треугольник, квадра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угольник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четырех цветов (красный, синий, желтый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двух размеров (большой, маленьк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двух видов толщины (толстый, тонки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ая геометрическая фиг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изуется четырьмя признак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ой, цветом, размером, толщи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боре нет ни одной одинаковой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428760" y="720360"/>
            <a:ext cx="821520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Логические блоки Дьенеша представляют собой набор из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48 геометрических фигур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а) четырех форм (круг, треугольник, квадрат, прямоугольник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б) четырех цветов (красный, синий, желтый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в) двух размеров (большой, маленьк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г) двух видов толщины (толстый, тонки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Каждая геометрическая фигура характеризуется четырьмя признак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формой, цветом, размером,толщи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наборе нет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ни одной одинаковой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4"/>
          <p:cNvSpPr/>
          <p:nvPr/>
        </p:nvSpPr>
        <p:spPr>
          <a:xfrm>
            <a:off x="371880" y="27720"/>
            <a:ext cx="4364280" cy="52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 многих играх с логически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ами используются карточ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 символами свой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мство ребенка с символ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важная ступенька в освоении вс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вой культур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грамоты математическ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имволов, программирования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карточках условно обозначе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а блок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(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цвет, форма, размер, толщина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го 11 карточ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+ 11 карточ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отрицанием свойст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Не красный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Рисунок 5" descr="http://www.u-mama.ru/img/news/00001_1052.jpg"/>
          <p:cNvPicPr/>
          <p:nvPr/>
        </p:nvPicPr>
        <p:blipFill>
          <a:blip r:embed="rId1"/>
          <a:stretch/>
        </p:blipFill>
        <p:spPr>
          <a:xfrm>
            <a:off x="5072040" y="1214280"/>
            <a:ext cx="3429000" cy="5143680"/>
          </a:xfrm>
          <a:prstGeom prst="rect">
            <a:avLst/>
          </a:prstGeom>
          <a:ln w="0">
            <a:noFill/>
          </a:ln>
        </p:spPr>
      </p:pic>
      <p:sp>
        <p:nvSpPr>
          <p:cNvPr id="42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1"/>
          <p:cNvSpPr/>
          <p:nvPr/>
        </p:nvSpPr>
        <p:spPr>
          <a:xfrm flipV="1" rot="10800000">
            <a:off x="3935520" y="713880"/>
            <a:ext cx="127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 – 10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"/>
          <p:cNvSpPr/>
          <p:nvPr/>
        </p:nvSpPr>
        <p:spPr>
          <a:xfrm>
            <a:off x="0" y="-949320"/>
            <a:ext cx="8643960" cy="73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знакомить с формой, цветом, размером, толщиной объек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ространственные представ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логическое мышление, представление о множеств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и над множеств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(сравнение, разбиение, классификация, абстрагирование, код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декодирование информации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воить элементарные навыки алгоритмической культуры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умения выявлять свойства в объектах, называть и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общать объекты по их свойства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ъяснять сходства и различия объектов, обосновывать свои рассужд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ознавательные процессы, мыслительные опер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спитывать самостоятельность, инициативу, настойчив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достижении ц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творческие способности, воображ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фантазию, способности к моделированию и конструирова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реч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пешно овладеть основами математики и информа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"/>
          <p:cNvSpPr/>
          <p:nvPr/>
        </p:nvSpPr>
        <p:spPr>
          <a:xfrm>
            <a:off x="280080" y="82440"/>
            <a:ext cx="819324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 игры и игровые упражнения можно раздел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4 груп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постепенным усложнени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выявлять и абстрагировать свой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сравнивать предметы по их свойств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действий классификации и обобщ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способности к логическим действиям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ям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2"/>
          <p:cNvSpPr/>
          <p:nvPr/>
        </p:nvSpPr>
        <p:spPr>
          <a:xfrm>
            <a:off x="2286000" y="2828880"/>
            <a:ext cx="457200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Arial"/>
              </a:rPr>
              <a:t>Все игры и упражнения, за исключением четвёртой группы (логические), не адресуются конкретному возра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Рисунок 1" descr="http://www.u-mama.ru/img/news/00001_1053.jpg"/>
          <p:cNvPicPr/>
          <p:nvPr/>
        </p:nvPicPr>
        <p:blipFill>
          <a:blip r:embed="rId1"/>
          <a:stretch/>
        </p:blipFill>
        <p:spPr>
          <a:xfrm>
            <a:off x="3629160" y="2457360"/>
            <a:ext cx="1885680" cy="19432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"/>
          <p:cNvSpPr/>
          <p:nvPr/>
        </p:nvSpPr>
        <p:spPr>
          <a:xfrm>
            <a:off x="506880" y="8280"/>
            <a:ext cx="6944040" cy="17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КОДОВЫЙ ЗАМОК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или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ТРЕТИЙ ЛИШНИЙ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картонку выкладываются 3 фигур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Две можно объединить по какому-то свойству, одна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лишня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518400" y="32760"/>
            <a:ext cx="6781320" cy="59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За замком может быть что угодно: сюрприз, вход в комнату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рога на прогулку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…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Ребенок должен открыть замок: догадаться, на какую кнопку наж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объяснить, поче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Тут лишняя красная фигура. Потому что эти обе желт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жимаем на красную фигурку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Рисунок 1" descr="http://www.u-mama.ru/img/news/00001_1054.jpg"/>
          <p:cNvPicPr/>
          <p:nvPr/>
        </p:nvPicPr>
        <p:blipFill>
          <a:blip r:embed="rId1"/>
          <a:stretch/>
        </p:blipFill>
        <p:spPr>
          <a:xfrm>
            <a:off x="5643720" y="2357280"/>
            <a:ext cx="2857320" cy="210528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1"/>
          <p:cNvSpPr/>
          <p:nvPr/>
        </p:nvSpPr>
        <p:spPr>
          <a:xfrm>
            <a:off x="525240" y="8280"/>
            <a:ext cx="6593400" cy="17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ЙДИ КЛАД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 или 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КУДА СПРЯТАЛСЯ ЩЕНОК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Перед ребенком лежат 8 блоков, спрятана моне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или картинка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ще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0" y="-2310120"/>
            <a:ext cx="6523200" cy="84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Verdana"/>
                <a:ea typeface="Times New Roman"/>
              </a:rPr>
              <a:t>1 вариан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Кладоискатель отворачивается, ведущий под одним из блоков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ячет клад. Кладоискат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щет его, называя раз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личные свойства блоков. Если малы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ходит клад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то забирает его себе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под одним из блоков прячет новый клад.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Ведущий вначал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сам выполняе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роль кладоискател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пока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зывает, как вести поиск клада. Называет различны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блок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, ведущий спрашивает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Клад под синим блоко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, 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—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отвечает ребенок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желты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асны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больши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углы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ывает тот, кто найдет больше кладов. При повторении игры блоки меняют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увеличивается их количество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"/>
          <p:cNvSpPr/>
          <p:nvPr/>
        </p:nvSpPr>
        <p:spPr>
          <a:xfrm>
            <a:off x="556920" y="11520"/>
            <a:ext cx="576468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2 вари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Ведущий говори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щенок спрятался под красным, большим круг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Можно карточками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символами написать письмо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Рисунок 2" descr="http://www.u-mama.ru/img/news/00001_1055.jpg"/>
          <p:cNvPicPr/>
          <p:nvPr/>
        </p:nvPicPr>
        <p:blipFill>
          <a:blip r:embed="rId1"/>
          <a:stretch/>
        </p:blipFill>
        <p:spPr>
          <a:xfrm>
            <a:off x="714240" y="2500200"/>
            <a:ext cx="7643880" cy="271476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2:46:08Z</dcterms:created>
  <dc:creator>86091</dc:creator>
  <dc:description/>
  <dc:language>en-US</dc:language>
  <cp:lastModifiedBy>LEGION</cp:lastModifiedBy>
  <dcterms:modified xsi:type="dcterms:W3CDTF">2015-01-27T12:14:58Z</dcterms:modified>
  <cp:revision>29</cp:revision>
  <dc:subject/>
  <dc:title>Слайд 1</dc:title>
</cp:coreProperties>
</file>