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0092-ECDB-4525-90A9-0B7123E62F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этом занятии детки собирали для ежика разноцветные листики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и складывали их в коробочки по цвету.</a:t>
            </a:r>
            <a:r>
              <a:rPr b="1" lang="ru-RU" sz="6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D8AA-6D07-436A-99DE-2A502959E5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Есть район больших и район маленьких домиков. В каждом районе есть улицы разного цвета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омики имеют разную форму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Сережа ищет прямоугольный домик в районе маленьких домиков, на красной улице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Катюша зашла в гости к кротику. И говорит всем деткам: 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Кротик живет в квадратном домик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синей улиц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в районе маленьких домиков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! Четырехлетки с интересом гуляют по такому городу, выделяют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между делом, сразу три свойства фигур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Что с трудом дается некоторым первоклашкам в программе 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Школа 2100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!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3DCA-6690-4A85-9287-5C2C5CDD4F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23EF-F186-40DC-8F06-6811A8B78F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этом занятии </a:t>
            </a:r>
            <a:r>
              <a:rPr b="1" lang="ru-RU" sz="9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путешествии дети попали к домику фокусника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до сначала расколдоват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его, а потом постучаться.Например: первая фигурка должна быть треугольной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желтой, маленькой и толстой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 вот вторая – круглая, красная, не толстая и не маленькая. Значит, мы будем искать красный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большой, тонкий круг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мечательно, когда помогает смекалка! Теперь можно посмотреть и фокусы!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2996-347B-4869-BBF5-B92BBF3C9A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Команды анализировали чертеж замка, подбирали необходимые кирпичик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Выиграла та команда, у которой замок был построен быстро и правильно!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B5D1-D3AE-44EE-9064-8B49AAA360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лесу переполох! Лиса, волк и медведь никак не могут поделить подарки деда Мороз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Дед Мороз сказал взять лисе все маленькие подарки, медведю </a:t>
            </a:r>
            <a:r>
              <a:rPr b="1" lang="ru-RU" sz="2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все толстые, а волку </a:t>
            </a:r>
            <a:r>
              <a:rPr b="1" lang="ru-RU" sz="2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кругл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о вот беда, есть подарки и круглые и маленькие одновременно. Их должна взять и лиса и волк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есть подарки и круглые, и маленькие, и толстые! Ими могут играть все звери вмес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Три пересекающихся обруча (ленточки, веревочки) помогли нам разобраться </a:t>
            </a:r>
            <a:r>
              <a:rPr b="1" lang="ru-RU" sz="2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выяснит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где чьи подарки, кто чем может пользоваться на правах совместной собственности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65CB-BC66-4817-B1C4-A76CDCEF29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4807"/>
                </a:solidFill>
                <a:latin typeface="Calibri"/>
              </a:rPr>
              <a:t>«Развивалки" на х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4807"/>
                </a:solidFill>
                <a:latin typeface="Calibri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1. Чаще считайте вместе с малышом все, чем вы пользуетесь в обыденной жизни: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колько стульев стоит возле обеденного стола, сколько пар носок вы положили в стиральную машину, сколько картошек надо почистить, чтобы приготовить ужин. Пересчитывайте ступеньки в подъезде, окна в квартире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,  - дети любят счит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2. Измеряйте разные вещи – дома или на улице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воими ладошками или ступнями. 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Помните мультик про 38 попугаев – отличный повод пересмотреть его и проверить,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акой рост у мамы или папы, сколько ладошек «поместится» в любимом див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оберите несколько пустых коробок из-под обуви или подарков. Лучше всего делать это после дня рождения или Нового Года. Коробки можно купить и специально для этой цели: они не так дорого стоят. Желательно чтобы они укладывались друг в друга как матрешки. Разложите крышки отдельно, а коробки – отдельно.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просите подобрать крышку к каждому контейнеру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. Чем младше ребенок, тем меньше должно быть коробок. Двухлетний малыш с удовольствием повозится с 4-5 коробками, а вот 10 для него будет слишком м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D063-827A-4BE4-A70E-1BFACF0091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4. Купите «липкие» цифры из пенки, наклейте их на пустой контейнер – от 0 до 5.  Соберите разнообразные предметы: одну маленькую машинку или куклу, две больших пуговицы, три бусины, четыре ореха, пять прищепок.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просите разложить их в контейнеры в соответствии с номером на крыш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Сделайте карточки с цифрами из картона и наждачной бумаги или бархата.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оведите пальчиком малыша по этим цифрам и назовите их. Попросите показать вам 3, 2, 1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. Теперь вытащите одну из карточек из коробки наугад и  предложите ребенку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инести столько предметов, сколько изображено на его карточке.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 Особенно интересно получить карточку с нулем, ведь ничто не сравнится с личным открытием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Охота на геометрические фигуры. Предложите малышу поиграть в охоту.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усть он попробует найти что-нибудь похожее на круг и показать 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вам. А теперь квадрат или прямоугольник. Играть в эту игру можно по дороге в детский с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азложите на столе ложку, вилку и тарелку особым образом. Попросите малыша повторить вашу композицию.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 Когда у него будет хорошо получаться, поставьте какой-нибудь экран между вами и малышом или сядьте спиной друг к другу. Предложите ему разложить свои предметы, а затем объяснить вам, как он это сделал. Вы должны повторить его действия, следуя лишь устным инструкциям. Тоже неплохая игра для того, чтобы занять время ожидания приема в поликлин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6BD9-6FF2-49C9-B4C0-B3C909541E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8.Когда малыш или малышка купается, выдайте ему набор разнообразных чашек – мерных чашек, пластиковых кувшинчиков, воронок, разноцветных стаканчиков. Пусть переливает воду на здоровье. Поговорите о том,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где воды больше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. По Пиаже, это возраст интересных открытий для родителей. Налейте воду в два одинаковых стаканчика и спросите кроху, одинаково ли воды в обоих сосудах? А теперь перелейте воду из одного стаканчика в  высокий и тонкий стакан, а воду из другого стаканчика – в широкий и низкий стакан. Спросите, где больше? Скорее всего, ответ будет любопыт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9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Поиграйте с ребенком в магазин. Купите игрушечные деньги или нарисуйте их сами. Рубли можно брать из экономических игр, вроде «Менеджер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10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Чаще готовьте еду вместе с малышом. Показывайте, как вы готовите то или иное блюдо, сколько продуктов берете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 Используйте мерные чашки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, покажите, что для блинов нужно взять вот столько муки и вот столько сахара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5CE5-8DF1-40CF-B36F-51B7F1524A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ЛБД  -       логические блоки З. Дьене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развитие логического мышления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E7FC-CDFD-460C-B8B7-90007D011B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Логические блоки Дьенеша представляют собой набор из </a:t>
            </a:r>
            <a:r>
              <a:rPr b="1" lang="ru-RU" sz="1200" spc="-1" strike="noStrike">
                <a:solidFill>
                  <a:srgbClr val="ff0000"/>
                </a:solidFill>
                <a:latin typeface="Verdana"/>
                <a:ea typeface="Times New Roman"/>
              </a:rPr>
              <a:t>48 геометрических фигур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а) четырех форм (круг, треугольник, квадрат, прямоугольник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б) четырех цветов (красный, синий, желтый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) двух размеров (большой, маленьк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г) двух видов толщины (толстый, тонкий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Каждая геометрическая фигура характеризуется четырьмя признакам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  <a:ea typeface="Times New Roman"/>
              </a:rPr>
              <a:t>формой, цветом, размером,толщи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наборе нет </a:t>
            </a:r>
            <a:r>
              <a:rPr b="1" lang="ru-RU" sz="1200" spc="-1" strike="noStrike">
                <a:solidFill>
                  <a:srgbClr val="ff0000"/>
                </a:solidFill>
                <a:latin typeface="Verdana"/>
                <a:ea typeface="Times New Roman"/>
              </a:rPr>
              <a:t>ни одной одинаковой 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фиг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94C4-5AFA-4C08-8539-C17CBF7C73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   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Во многих играх с логическим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фигурами используются карточк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 символами свойств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 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Знакомство ребенка с символам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 важная ступенька в освоении всей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знаковой культуры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грамоты математических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имволов, программирования и т.д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карточках условно обозначен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а блоков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(</a:t>
            </a:r>
            <a:r>
              <a:rPr b="1" lang="ru-RU" sz="900" spc="-1" strike="noStrike">
                <a:solidFill>
                  <a:srgbClr val="ff0000"/>
                </a:solidFill>
                <a:latin typeface="Verdana"/>
                <a:ea typeface="Times New Roman"/>
              </a:rPr>
              <a:t>цвет, форма, размер, толщина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Всего 11 карточек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    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+ 11 карточе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 отрицанием свойств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: </a:t>
            </a:r>
            <a:r>
              <a:rPr b="1" lang="ru-RU" sz="900" spc="-1" strike="noStrike">
                <a:solidFill>
                  <a:srgbClr val="ff0000"/>
                </a:solidFill>
                <a:latin typeface="Verdana"/>
                <a:ea typeface="Times New Roman"/>
              </a:rPr>
              <a:t>Не красный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D692-D0BD-4FC6-B716-7250671C49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знакомить с формой, цветом, размером, толщиной объектов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 Развивать пространственные представления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логическое мышление, представление о множестве,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операции над множествами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(сравнение, разбиение, классификация, абстрагирование, кодировани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декодирование информации)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Усвоить элементарные навыки алгоритмической культуры мышлен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00"/>
              </a:spcBef>
              <a:buClr>
                <a:srgbClr val="603b1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умения выявлять свойства в объектах, называть их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00"/>
              </a:spcBef>
              <a:buClr>
                <a:srgbClr val="603b1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обобщать объекты по их свойствам,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00"/>
              </a:spcBef>
              <a:buClr>
                <a:srgbClr val="603b1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объяснять сходства и различия объектов, обосновывать свои рассуждения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 Развивать познавательные процессы, мыслительные операци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Воспитывать самостоятельность, инициативу, настойчивость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достижении цел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творческие способности, воображение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фантазию, способности к моделированию и конструированию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речь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Успешно овладеть основами математики и информатик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318E-D0E5-4A82-A12A-B22F6EFB85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Все игры и игровые упражнения можно разделить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</a:t>
            </a:r>
            <a:r>
              <a:rPr b="1" lang="ru-RU" sz="1000" spc="-1" strike="noStrike">
                <a:solidFill>
                  <a:srgbClr val="ff0000"/>
                </a:solidFill>
                <a:latin typeface="Verdana"/>
                <a:ea typeface="Times New Roman"/>
              </a:rPr>
              <a:t>4 группы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с постепенным усложнением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74"/>
              </a:spcBef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умений выявлять и абстрагировать свой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74"/>
              </a:spcBef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умений сравнивать предметы по их свойствам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74"/>
              </a:spcBef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действий классификации и обобщения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74"/>
              </a:spcBef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способности к логическим действиям 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   </a:t>
            </a: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операциям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84807"/>
                </a:solidFill>
                <a:latin typeface="Calibri"/>
              </a:rPr>
              <a:t>Все игры и упражнения, за исключением четвёртой группы (логические), не адресуются конкретному возрасту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B1E6-FDE5-4C57-B32C-4EED76D7E2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За замком может быть что угодно: сюрприз, вход в комнату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дорога на прогулку</a:t>
            </a:r>
            <a:r>
              <a:rPr b="1" lang="ru-RU" sz="900" spc="-1" strike="noStrike">
                <a:solidFill>
                  <a:srgbClr val="603b14"/>
                </a:solidFill>
                <a:latin typeface="Calibri"/>
                <a:ea typeface="Times New Roman"/>
              </a:rPr>
              <a:t>…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Ребенок должен открыть замок: догадаться, на какую кнопку нажать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объяснить, почему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:</a:t>
            </a:r>
            <a:r>
              <a:rPr b="1" lang="ru-RU" sz="9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Тут лишняя красная фигура. Потому что эти обе желтые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жимаем на красную фигурку!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F7E1-CC3F-4761-B0C0-BC290B4224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ff0000"/>
                </a:solidFill>
                <a:latin typeface="Verdana"/>
                <a:ea typeface="Times New Roman"/>
              </a:rPr>
              <a:t>1 вариант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Кладоискатель отворачивается, ведущий под одним из блоков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прячет клад. Кладоискатель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ищет его, называя раз</a:t>
            </a:r>
            <a:r>
              <a:rPr b="1" lang="ru-RU" sz="500" spc="-1" strike="noStrike">
                <a:solidFill>
                  <a:srgbClr val="603b14"/>
                </a:solidFill>
                <a:latin typeface="Calibri"/>
                <a:ea typeface="Times New Roman"/>
              </a:rPr>
              <a:t>­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личные свойства блоков. Если малыш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ходит клад,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то забирает его себе,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под одним из блоков прячет новый клад.</a:t>
            </a:r>
            <a:r>
              <a:rPr b="1" lang="ru-RU" sz="5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Ведущий вначал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сам выполняет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роль кладоискателя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пока</a:t>
            </a:r>
            <a:r>
              <a:rPr b="1" lang="ru-RU" sz="500" spc="-1" strike="noStrike">
                <a:solidFill>
                  <a:srgbClr val="603b14"/>
                </a:solidFill>
                <a:latin typeface="Calibri"/>
                <a:ea typeface="Times New Roman"/>
              </a:rPr>
              <a:t>­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зывает, как вести поиск клада. Называет различны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 блоков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, ведущий спрашивает: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Клад под синим блоко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Нет, </a:t>
            </a:r>
            <a:r>
              <a:rPr b="1" lang="ru-RU" sz="500" spc="-1" strike="noStrike">
                <a:solidFill>
                  <a:srgbClr val="603b14"/>
                </a:solidFill>
                <a:latin typeface="Calibri"/>
                <a:ea typeface="Times New Roman"/>
              </a:rPr>
              <a:t>—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отвечает ребенок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желты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Нет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красны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больши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круглы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Выигрывает тот, кто найдет больше кладов. При повторении игры блоки меняют,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увеличивается их количество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DBC9-F690-424A-A7D9-92F41DD075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  <a:ea typeface="Times New Roman"/>
              </a:rPr>
              <a:t>2 вари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едущий говори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щенок спрятался под красным, большим кру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Можно карточками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символами написать письм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5760-7D37-43F0-B527-DEECD61FE1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8543-3BAF-4285-A925-3A0D59A25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D758-AA9A-4453-9B12-0C576965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CCE06-9E02-4832-BC80-F120B2A8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644A3-C4D3-4552-9824-F88AF542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01BC2-D51D-45AA-948D-7FF49711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AB995-1013-4055-9651-A170E4DD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B9B31-6D21-4FAB-85DB-F771BEAF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A4D06-0B5F-416D-ABC8-419CFA3F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9A6C7-FC0F-4DDE-9556-85200C32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DE07B-5673-401F-97AE-10973FD26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A1687-2D54-4C30-9836-8E8C3136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DF02-B06D-450D-B453-F3814E522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3471-66F6-47BE-B114-D38F605E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B412-0C92-49B0-9060-2FD5EA8C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D00D-ACB6-4BE9-81C5-29A6817F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6FD7-E1B5-426B-B4A4-5FAF9AC9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1805-CDC1-4209-BC55-F35853E5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70CF-B21C-42B4-9367-619DBC7F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6239-9E8E-455F-B8CE-596E80A3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8BD1-E2B2-4BAB-9BF0-C2D66058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3932-28CF-4B08-8AC7-34946407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8C46-2AD7-4E65-8704-2E77D8FB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B7BB-2945-4E52-8FA6-43BE8FBF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7FAE-DAB0-453C-99A6-5F1C8DFC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5686-48BC-484C-B0ED-8D862DFD8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408F-BBBB-4E88-9DCE-F16BF273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A7A75-07EB-45C6-B2B2-F891359A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5D322-4C9C-4BB1-86D1-0E1C7C2B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4E22A-4F93-492D-9B72-4E78E5D5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FC4B5-B11A-47D8-8FC7-0E65D410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EDC4B-0CB8-44EC-84F4-95583668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E0B2-7C59-456F-B4B3-6842F3DA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19973-8C60-473D-9F0B-809A7116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892AB-0F70-41C0-9239-B3DBF1FC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90BE1-0B06-4A0E-ACF5-B509FAFB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AFB86-2E21-4E1B-B044-F65CF952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8D2AE-C571-4F53-996C-1768C708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3ED30-63AB-4E8E-B916-CB66A03C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E3544-82DD-4B84-A0C4-AB052A4A8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F59B2-8379-45ED-AB66-A036A96C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2EC9C-F335-4917-A478-FDF7A1D4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F2390-BBE3-4F4F-A71B-719AD433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94AF-FCCE-4465-9876-64B030E8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181B3-BD69-4147-8578-88ABA41D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9D4E6-2AFC-4F93-A831-8C2DD8AD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92C47-BB3F-411F-80FA-2D5C3498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AAF9F-91A7-4876-807F-B0FF5D26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89970-8C20-4334-BC6B-505BCAF8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0C09D-10B9-4E4F-9B08-5F91C6E4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665EC-F7D4-477F-BC78-D92987C6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3C35F-DE41-4630-B232-C02F4029E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9280A-C9C1-4D89-A568-39743A0C3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40150-F355-4D27-85C2-94616984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E919-73A6-4F01-A453-D7281607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37A4D-24D9-45FB-98FF-AEA091C7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C75C0-3C3B-4B51-864B-657C52C2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A4DD1-B494-4D53-B5A9-A75668B0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1A5FA-B109-446B-B6F0-66FB178D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11F7A-F175-4534-9F48-43C979AE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DB9DE-F1A8-4E9B-85FE-C5A1CA83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52888-9BEA-43A4-AF15-10C961FD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3491E-D311-4FF5-B216-FB4B5FB5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3CCD4-1362-4FEC-A3F4-1C2BFD6D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DF41A-265C-4540-90B4-F48DBEE7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F215-9D44-469B-98D1-EE971200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13927-372D-4613-9856-88F8425D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69B62-3674-4553-AB80-14CB3B5CB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1C49C-D303-4889-96E5-4029EABD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A5474-B132-4704-8569-645F52AD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9C155-6169-41D9-ABF5-E482BB67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19507-8779-4400-A529-6917E62D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EF89B-61F9-4B82-ADC1-99A1CA54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CE596-870C-401E-82F4-15AEA453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15E6F-713F-43CA-B64B-85F029A3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15C0F-1A8B-4417-BADD-D564746F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4CC8-7206-422F-8622-E27E6E07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6BDBE-DD6A-4B3E-87BA-03D3171B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FABF2-CAF6-4C25-8274-5F2BBA88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C2CD0-1C57-408A-8F25-4D3973CC1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15DBE-77EA-4D06-919F-C53BE99B6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32CE0-4CCF-4F12-AC53-725A97CB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5E24F-55B6-4C88-B705-1C1D4243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65080-13F0-4682-BE08-3CB87CE8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C0174-3169-4BFD-809F-7A07B83A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94DEC-C9F9-4591-9898-4F634E68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12495-2CA7-40D6-9D0B-35B724DA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E7B5-DE9D-4887-9B98-E00D5FD9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84CB8-25BC-4D44-A69A-B98EF6C0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7969C-7A44-4621-945B-09AD244B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E65C8-4294-4471-B5E1-D3DD6790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9FDD6-96BE-4A8E-B750-946F3114C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2390F-7CB3-40D1-A91B-0953DD62F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9B769-EEA9-465D-8B5A-61F1F26F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01A67-D888-422D-A8AC-0C2D69B0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B93A8-DD2F-4313-B4F2-FF231661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02367-ADCE-4551-9719-ABAFDE00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03C08-B1CE-445E-9EB8-5F301449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9B3D-0B2D-4F4B-B053-C00ED256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392CE-3E03-440A-8502-7C66064B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650E2-776A-4290-96B7-BB5717B3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C3292-BBDC-4E3D-B52A-B7473DBA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BA792-89F9-40C6-BDDB-A438D5AB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806C6-73B7-4458-9F9B-9E4A3433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04AA3-9CEA-4CAC-85A0-046FD7E9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43046-B772-45FC-8A43-D867BF25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BF160-4432-42C4-B6AA-5740EE2A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10169-DBB6-4FCB-9FCE-958AFBCE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1ED73-36AD-43A7-A990-3C5B95C1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691F-019C-43BD-B44B-86F12A44661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8FFE-F5D1-4648-B0F0-828D57AD471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DAAB-13B5-43C5-A32F-D2AD4EE92E9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64A2-D54B-4486-9ECD-62382DCBF9A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6E5A-AFEC-42F8-B1AB-1123D28B62B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9F55-592E-48F8-B4E1-763734FD03E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2DEB-7C6E-467C-9975-E9992A4A351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0E39-2E11-41A5-BE07-C32D0592046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0BF3-905A-4863-807B-55F52B6436F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Прямоугольник 1" descr=""/>
          <p:cNvPicPr/>
          <p:nvPr/>
        </p:nvPicPr>
        <p:blipFill>
          <a:blip r:embed="rId1"/>
          <a:stretch/>
        </p:blipFill>
        <p:spPr>
          <a:xfrm>
            <a:off x="500040" y="225360"/>
            <a:ext cx="8431200" cy="63277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520" y="714240"/>
            <a:ext cx="8334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8" name="Рисунок 5" descr="1208207092_index_2.jpg"/>
          <p:cNvPicPr/>
          <p:nvPr/>
        </p:nvPicPr>
        <p:blipFill>
          <a:blip r:embed="rId2"/>
          <a:stretch/>
        </p:blipFill>
        <p:spPr>
          <a:xfrm>
            <a:off x="5486400" y="2992320"/>
            <a:ext cx="3029040" cy="39690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9680" y="5785920"/>
            <a:ext cx="8286840" cy="107172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icture 2" descr="C:\Documents and Settings\86091\Мои документы\Мои рисунки\logo.gif"/>
          <p:cNvPicPr/>
          <p:nvPr/>
        </p:nvPicPr>
        <p:blipFill>
          <a:blip r:embed="rId3"/>
          <a:stretch/>
        </p:blipFill>
        <p:spPr>
          <a:xfrm>
            <a:off x="428760" y="3214800"/>
            <a:ext cx="3857400" cy="21319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C:\Documents and Settings\86091\Мои документы\Мои рисунки\LogicheskieIgry120120.gif"/>
          <p:cNvPicPr/>
          <p:nvPr/>
        </p:nvPicPr>
        <p:blipFill>
          <a:blip r:embed="rId4"/>
          <a:stretch/>
        </p:blipFill>
        <p:spPr>
          <a:xfrm>
            <a:off x="3643200" y="307188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Documents and Settings\86091\Мои документы\Мои рисунки\IP75PCAFTYWARCA0SC40VCA3E1SDMCA3ZZNH2CAPPSKNBCAZI7ZAPCAB614J9CAMZ0BUJCA8U6ZHSCA01L1CFCA016QDQCAPAVJJWCAPJ2W6BCAQ9HCXICAG22YOMCAQNLWDECALJAHB1CAF8LVI5CAD35FJO.jpg"/>
          <p:cNvPicPr/>
          <p:nvPr/>
        </p:nvPicPr>
        <p:blipFill>
          <a:blip r:embed="rId5"/>
          <a:stretch/>
        </p:blipFill>
        <p:spPr>
          <a:xfrm>
            <a:off x="2428920" y="4286160"/>
            <a:ext cx="1523880" cy="1524240"/>
          </a:xfrm>
          <a:prstGeom prst="rect">
            <a:avLst/>
          </a:prstGeom>
          <a:ln w="0">
            <a:noFill/>
          </a:ln>
        </p:spPr>
      </p:pic>
      <p:sp>
        <p:nvSpPr>
          <p:cNvPr id="413" name="Місце для нижнього колонтитула 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"/>
          <p:cNvSpPr/>
          <p:nvPr/>
        </p:nvSpPr>
        <p:spPr>
          <a:xfrm>
            <a:off x="481320" y="6480"/>
            <a:ext cx="6779520" cy="14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ДБЕРИ ПО ЦВЕТУ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Малышей двух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четырех лет хорошо учить классифик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(Цвет, форма, величина, толщин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Рисунок 2" descr="http://www.u-mama.ru/img/news/00001_1057.jpg"/>
          <p:cNvPicPr/>
          <p:nvPr/>
        </p:nvPicPr>
        <p:blipFill>
          <a:blip r:embed="rId1"/>
          <a:stretch/>
        </p:blipFill>
        <p:spPr>
          <a:xfrm>
            <a:off x="642960" y="2143080"/>
            <a:ext cx="7929720" cy="221472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2"/>
          <p:cNvSpPr/>
          <p:nvPr/>
        </p:nvSpPr>
        <p:spPr>
          <a:xfrm>
            <a:off x="496440" y="30600"/>
            <a:ext cx="754920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этом занятии детки собирали для ежика разноцветные лист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и складывали их в коробочки по цвету.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"/>
          <p:cNvSpPr/>
          <p:nvPr/>
        </p:nvSpPr>
        <p:spPr>
          <a:xfrm>
            <a:off x="394560" y="3960"/>
            <a:ext cx="7198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ГОРОД ГЕОМЕТРИЧЕСКИХ ФИГУР</a:t>
            </a:r>
            <a:r>
              <a:rPr b="1" lang="ru-RU" sz="18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Малыши прибыли в гости к Микки </a:t>
            </a:r>
            <a:r>
              <a:rPr b="0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Маусу! Посмотрите, какой это город фигур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Рисунок 2" descr="http://www.u-mama.ru/img/news/00001_1056.jpg"/>
          <p:cNvPicPr/>
          <p:nvPr/>
        </p:nvPicPr>
        <p:blipFill>
          <a:blip r:embed="rId1"/>
          <a:stretch/>
        </p:blipFill>
        <p:spPr>
          <a:xfrm>
            <a:off x="357120" y="1571760"/>
            <a:ext cx="8429760" cy="278604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2"/>
          <p:cNvSpPr/>
          <p:nvPr/>
        </p:nvSpPr>
        <p:spPr>
          <a:xfrm>
            <a:off x="527400" y="38880"/>
            <a:ext cx="8081280" cy="62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Есть район больших и район маленьких домиков. В каждом районе есть улицы разного цв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Домики имеют разную фор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Сережа ищет прямоугольный домик в районе маленьких домиков, на красной ули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Катюша зашла в гости к кротику. И говорит всем деткам: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Кротик живет в квадратном доми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синей улиц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 районе маленьких домиков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! Четырехлетки с интересом гуляют по такому городу, выделя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между делом, сразу три свойства фигу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Что с трудом дается некоторым первоклашкам в программе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Школа 2100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1"/>
          <p:cNvSpPr/>
          <p:nvPr/>
        </p:nvSpPr>
        <p:spPr>
          <a:xfrm>
            <a:off x="495720" y="3240"/>
            <a:ext cx="6552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АВТОТРАССА (ПОСТРОЙ ДОРОЖКУ)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Перед ребенком табличка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правило построения дорожки</a:t>
            </a:r>
            <a:r>
              <a:rPr b="0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Рисунок 2" descr="http://www.u-mama.ru/img/news/00001_1058.jpg"/>
          <p:cNvPicPr/>
          <p:nvPr/>
        </p:nvPicPr>
        <p:blipFill>
          <a:blip r:embed="rId1"/>
          <a:stretch/>
        </p:blipFill>
        <p:spPr>
          <a:xfrm>
            <a:off x="6000840" y="1000080"/>
            <a:ext cx="2100240" cy="17146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2"/>
          <p:cNvSpPr/>
          <p:nvPr/>
        </p:nvSpPr>
        <p:spPr>
          <a:xfrm>
            <a:off x="393120" y="15120"/>
            <a:ext cx="5211360" cy="29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Он строит дорожку по правилу: чередует блоки с учетом цвет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или формы: сначала красный, потом квадратный, затем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желтый, и треугольный. Малыш учится выделять свойство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абстрагироваться от других признаков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поддержания интереса детей хорошо предлагать различные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игровые и практические задачи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мы строили дорожку до коробки с сюрпризом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еребирались по мостику через речку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выкладывали дорожку из льдинок во дворце Снежной Королевы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чтобы помочь убежать Каю и Герд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542880" y="27720"/>
            <a:ext cx="7870680" cy="36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на этом занятии ребята попали в болото. Строят крепкий мостик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Между собой блоки должны быть похожи по двум признакам. Например: фигуры обе синие и толсты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Рисунок 5" descr="http://www.u-mama.ru/img/news/00001_1059.jpg"/>
          <p:cNvPicPr/>
          <p:nvPr/>
        </p:nvPicPr>
        <p:blipFill>
          <a:blip r:embed="rId2"/>
          <a:stretch/>
        </p:blipFill>
        <p:spPr>
          <a:xfrm>
            <a:off x="642960" y="3714840"/>
            <a:ext cx="7715160" cy="2233440"/>
          </a:xfrm>
          <a:prstGeom prst="rect">
            <a:avLst/>
          </a:prstGeom>
          <a:ln w="0">
            <a:noFill/>
          </a:ln>
        </p:spPr>
      </p:pic>
      <p:sp>
        <p:nvSpPr>
          <p:cNvPr id="453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"/>
          <p:cNvSpPr/>
          <p:nvPr/>
        </p:nvSpPr>
        <p:spPr>
          <a:xfrm>
            <a:off x="0" y="9720"/>
            <a:ext cx="103806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Есть игры и упражнения с блоками, которые предназначе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старших дошкольников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Они помогут разв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у детей умения 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разбивать множества на классы по совместимым свойства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развить умение производить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логические операции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не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и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или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умения с помощью этих операций строить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правильные высказыван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кодировать и декодировать информацию о свойствах предметов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531000" y="77760"/>
            <a:ext cx="7829640" cy="30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Verdana"/>
                <a:ea typeface="Times New Roman"/>
              </a:rPr>
              <a:t>ЗАГАДКИ БЕЗ СЛОВ</a:t>
            </a:r>
            <a:r>
              <a:rPr b="1" lang="ru-RU" sz="11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Мы поможем ребенку научиться расшифровывать (декодировать) информац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о наличии или отсутствии определенных свойств у предме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 их знаково-символическим обозначени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Рисунок 3" descr="http://www.u-mama.ru/img/news/00001_1060.jpg"/>
          <p:cNvPicPr/>
          <p:nvPr/>
        </p:nvPicPr>
        <p:blipFill>
          <a:blip r:embed="rId1"/>
          <a:stretch/>
        </p:blipFill>
        <p:spPr>
          <a:xfrm>
            <a:off x="1285920" y="3000240"/>
            <a:ext cx="6786360" cy="181476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3"/>
          <p:cNvSpPr/>
          <p:nvPr/>
        </p:nvSpPr>
        <p:spPr>
          <a:xfrm>
            <a:off x="363960" y="300240"/>
            <a:ext cx="8207640" cy="69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этом занятии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путешествии дети попали к домику фокусни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до сначала расколдов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его, а потом постучаться.Например: первая фигурка должна быть треугольно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желтой, маленькой и толст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от вторая – круглая, красная, не толстая и не маленькая. Значит, мы будем искать красны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ой, тонкий кру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мечательно, когда помогает смекалка! Теперь можно посмотреть и фокусы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1"/>
          <p:cNvSpPr/>
          <p:nvPr/>
        </p:nvSpPr>
        <p:spPr>
          <a:xfrm>
            <a:off x="465480" y="6120"/>
            <a:ext cx="62935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В старшей группе мы устроили конкурсную игровую программ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Крестики - нолики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Одно из заданий командам было -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стройка замка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Рисунок 2" descr="http://www.u-mama.ru/img/news/00001_1061.jpg"/>
          <p:cNvPicPr/>
          <p:nvPr/>
        </p:nvPicPr>
        <p:blipFill>
          <a:blip r:embed="rId1"/>
          <a:stretch/>
        </p:blipFill>
        <p:spPr>
          <a:xfrm>
            <a:off x="928800" y="1357200"/>
            <a:ext cx="7215120" cy="188604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2"/>
          <p:cNvSpPr/>
          <p:nvPr/>
        </p:nvSpPr>
        <p:spPr>
          <a:xfrm>
            <a:off x="0" y="22680"/>
            <a:ext cx="8715240" cy="40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Команды анализировали чертеж замка, подбирали необходимые кирпич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Выиграла та команда, у которой замок был построен быстро и правильно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1"/>
          <p:cNvSpPr/>
          <p:nvPr/>
        </p:nvSpPr>
        <p:spPr>
          <a:xfrm>
            <a:off x="453960" y="2880"/>
            <a:ext cx="73818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РАЗДЕЛИ БЛОКИ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Игра научит разбивать множество по двум, трем совместимым свойства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производить логические операции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е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,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и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,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или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Рисунок 2" descr="http://www.u-mama.ru/img/news/00001_1062.jpg"/>
          <p:cNvPicPr/>
          <p:nvPr/>
        </p:nvPicPr>
        <p:blipFill>
          <a:blip r:embed="rId1"/>
          <a:stretch/>
        </p:blipFill>
        <p:spPr>
          <a:xfrm>
            <a:off x="4000680" y="857160"/>
            <a:ext cx="4071600" cy="32860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2"/>
          <p:cNvSpPr/>
          <p:nvPr/>
        </p:nvSpPr>
        <p:spPr>
          <a:xfrm>
            <a:off x="573120" y="29880"/>
            <a:ext cx="8071920" cy="53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лесу переполох! Лиса, волк и медведь никак не могут поделить подарки деда Мороз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Дед Мороз сказал взять лисе все маленькие подарки, медведю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все толстые, а волку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кругл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Но вот беда, есть подарки и круглые и маленькие одновременно. Их должна взять и лиса и волк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есть подарки и круглые, и маленькие, и толстые! Ими могут играть все звери вме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Три пересекающихся обруча (ленточки, веревочки) помогли нам разобраться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выяснит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где чьи подарки, кто чем может пользоваться на правах совместной собственност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Прямоугольник 1"/>
          <p:cNvSpPr/>
          <p:nvPr/>
        </p:nvSpPr>
        <p:spPr>
          <a:xfrm>
            <a:off x="714240" y="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Arial"/>
              </a:rPr>
              <a:t>«Развивалки" на х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2"/>
          <p:cNvSpPr/>
          <p:nvPr/>
        </p:nvSpPr>
        <p:spPr>
          <a:xfrm>
            <a:off x="285840" y="500040"/>
            <a:ext cx="84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1. Чаще считайте вместе с малышом все, чем вы пользуетесь в обыденной жизни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колько стульев стоит возле обеденного стола, сколько пар носок вы положили в стиральную машину, сколько картошек надо почистить, чтобы приготовить ужин. Пересчитывайте ступеньки в подъезде, окна в квартире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,  - дети любят счит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3"/>
          <p:cNvSpPr/>
          <p:nvPr/>
        </p:nvSpPr>
        <p:spPr>
          <a:xfrm>
            <a:off x="357120" y="2286000"/>
            <a:ext cx="8215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2. Измеряйте разные вещи – дома или на улиц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ими ладошками или ступнями. 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Помните мультик про 38 попугаев – отличный повод пересмотреть его и проверить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ой рост у мамы или папы, сколько ладошек «поместится» в любимом див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С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оберите несколько пустых коробок из-под обуви или подарков. Лучше всего делать это после дня рождения или Нового Года. Коробки можно купить и специально для этой цели: они не так дорого стоят. Желательно чтобы они укладывались друг в друга как матрешки. Разложите крышки отдельно, а коробки – отдельно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просите подобрать крышку к каждому контейнеру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. Чем младше ребенок, тем меньше должно быть коробок. Двухлетний малыш с удовольствием повозится с 4-5 коробками, а вот 10 для него будет слишком мн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Місце для нижнього колонтитула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Прямоугольник 1"/>
          <p:cNvSpPr/>
          <p:nvPr/>
        </p:nvSpPr>
        <p:spPr>
          <a:xfrm>
            <a:off x="214200" y="428760"/>
            <a:ext cx="87156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4. Купите «липкие» цифры из пенки, наклейте их на пустой контейнер – от 0 до 5.  Соберите разнообразные предметы: одну маленькую машинку или куклу, две больших пуговицы, три бусины, четыре ореха, пять прищепок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просите разложить их в контейнеры в соответствии с номером на крыш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Сделайте карточки с цифрами из картона и наждачной бумаги или бархата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ведите пальчиком малыша по этим цифрам и назовите их. Попросите показать вам 3, 2, 1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. Теперь вытащите одну из карточек из коробки наугад и  предложите ребенк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ести столько предметов, сколько изображено на его карточке.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 Особенно интересно получить карточку с нулем, ведь ничто не сравнится с личным открытие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1581f"/>
                </a:solidFill>
                <a:latin typeface="Arial"/>
              </a:rPr>
              <a:t>Охота на геометрические фигуры. Предложите малышу поиграть в охоту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усть он попробует найти что-нибудь похожее на круг и показать </a:t>
            </a:r>
            <a:r>
              <a:rPr b="1" lang="ru-RU" sz="1800" spc="-1" strike="noStrike">
                <a:solidFill>
                  <a:srgbClr val="91581f"/>
                </a:solidFill>
                <a:latin typeface="Arial"/>
              </a:rPr>
              <a:t>вам. А теперь квадрат или прямоугольник. Играть в эту игру можно по дороге в детский с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1581f"/>
                </a:solidFill>
                <a:latin typeface="Arial"/>
              </a:rPr>
              <a:t>7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ложите на столе ложку, вилку и тарелку особым образом. Попросите малыша повторить вашу композицию.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 Когда у него будет хорошо получаться, поставьте какой-нибудь экран между вами и малышом или сядьте спиной друг к другу. Предложите ему разложить свои предметы, а затем объяснить вам, как он это сделал. Вы должны повторить его действия, следуя лишь устным инструкциям. Тоже неплохая игра для того, чтобы занять время ожидания приема в поликлин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Прямоугольник 1"/>
          <p:cNvSpPr/>
          <p:nvPr/>
        </p:nvSpPr>
        <p:spPr>
          <a:xfrm>
            <a:off x="428760" y="357120"/>
            <a:ext cx="85010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8.Когда малыш или малышка купается, выдайте ему набор разнообразных чашек – мерных чашек, пластиковых кувшинчиков, воронок, разноцветных стаканчиков. Пусть переливает воду на здоровье. Поговорите о том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де воды больше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. По Пиаже, это возраст интересных открытий для родителей. Налейте воду в два одинаковых стаканчика и спросите кроху, одинаково ли воды в обоих сосудах? А теперь перелейте воду из одного стаканчика в  высокий и тонкий стакан, а воду из другого стаканчика – в широкий и низкий стакан. Спросите, где больше? Скорее всего, ответ будет любопыт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9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Поиграйте с ребенком в магазин. Купите игрушечные деньги или нарисуйте их сами. Рубли можно брать из экономических игр, вроде «Менеджер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10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Чаще готовьте еду вместе с малышом. Показывайте, как вы готовите то или иное блюдо, сколько продуктов берете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 Используйте мерные чашки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, покажите, что для блинов нужно взять вот столько муки и вот столько сахара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2"/>
          <p:cNvSpPr/>
          <p:nvPr/>
        </p:nvSpPr>
        <p:spPr>
          <a:xfrm>
            <a:off x="1143000" y="785880"/>
            <a:ext cx="742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581f"/>
                </a:solidFill>
                <a:latin typeface="Arial"/>
              </a:rPr>
              <a:t>ЛБД  -       логические блоки З. Дьене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581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91581f"/>
                </a:solidFill>
                <a:latin typeface="Arial"/>
              </a:rPr>
              <a:t>развитие логического мышления</a:t>
            </a:r>
            <a:r>
              <a:rPr b="1" lang="ru-RU" sz="2400" spc="-1" strike="noStrike">
                <a:solidFill>
                  <a:srgbClr val="91581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Рисунок 4" descr="http://www.u-mama.ru/img/news/00001_1051.jpg"/>
          <p:cNvPicPr/>
          <p:nvPr/>
        </p:nvPicPr>
        <p:blipFill>
          <a:blip r:embed="rId1"/>
          <a:stretch/>
        </p:blipFill>
        <p:spPr>
          <a:xfrm>
            <a:off x="1785960" y="1857240"/>
            <a:ext cx="6072120" cy="414360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11"/>
          <p:cNvSpPr/>
          <p:nvPr/>
        </p:nvSpPr>
        <p:spPr>
          <a:xfrm>
            <a:off x="-40147920" y="-428760"/>
            <a:ext cx="18288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гические блоки Дьенеша представляют соб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ор из 48 геометрических фигу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четырех форм (круг, треугольник, квадра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угольник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четырех цветов (красный, синий, желтый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двух размеров (большой, маленьк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двух видов толщины (толстый, тонки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ждая геометрическая фигу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изуется четырьмя признак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ой, цветом, размером, толщи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боре нет ни одной одинаковой 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2"/>
          <p:cNvSpPr/>
          <p:nvPr/>
        </p:nvSpPr>
        <p:spPr>
          <a:xfrm>
            <a:off x="428760" y="720360"/>
            <a:ext cx="821520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Логические блоки Дьенеша представляют собой набор из 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48 геометрических фигур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а) четырех форм (круг, треугольник, квадрат, прямоугольник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б) четырех цветов (красный, синий, желтый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в) двух размеров (большой, маленьк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г) двух видов толщины (толстый, тонки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Каждая геометрическая фигура характеризуется четырьмя признак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формой, цветом, размером,толщи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наборе нет 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ни одной одинаковой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4"/>
          <p:cNvSpPr/>
          <p:nvPr/>
        </p:nvSpPr>
        <p:spPr>
          <a:xfrm>
            <a:off x="371880" y="27720"/>
            <a:ext cx="4364280" cy="52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   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Во многих играх с логически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фигурами используются карточ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 символами свой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 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Знакомство ребенка с символ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 важная ступенька в освоении вс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знаковой культур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грамоты математическ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имволов, программирования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карточках условно обозначе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а блок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(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цвет, форма, размер, толщина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Всего 11 карточ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+ 11 карточ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 отрицанием свойст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: 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Не красный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Рисунок 5" descr="http://www.u-mama.ru/img/news/00001_1052.jpg"/>
          <p:cNvPicPr/>
          <p:nvPr/>
        </p:nvPicPr>
        <p:blipFill>
          <a:blip r:embed="rId1"/>
          <a:stretch/>
        </p:blipFill>
        <p:spPr>
          <a:xfrm>
            <a:off x="5072040" y="1214280"/>
            <a:ext cx="3429000" cy="5143680"/>
          </a:xfrm>
          <a:prstGeom prst="rect">
            <a:avLst/>
          </a:prstGeom>
          <a:ln w="0">
            <a:noFill/>
          </a:ln>
        </p:spPr>
      </p:pic>
      <p:sp>
        <p:nvSpPr>
          <p:cNvPr id="42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Прямоугольник 1"/>
          <p:cNvSpPr/>
          <p:nvPr/>
        </p:nvSpPr>
        <p:spPr>
          <a:xfrm flipV="1" rot="10800000">
            <a:off x="3935520" y="713880"/>
            <a:ext cx="127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 – 10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"/>
          <p:cNvSpPr/>
          <p:nvPr/>
        </p:nvSpPr>
        <p:spPr>
          <a:xfrm>
            <a:off x="0" y="-949320"/>
            <a:ext cx="8643960" cy="73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знакомить с формой, цветом, размером, толщиной объек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 Развивать пространственные представл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логическое мышление, представление о множеств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операции над множеств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(сравнение, разбиение, классификация, абстрагирование, код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декодирование информации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Усвоить элементарные навыки алгоритмической культуры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умения выявлять свойства в объектах, называть и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обобщать объекты по их свойства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объяснять сходства и различия объектов, обосновывать свои рассужд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 Развивать познавательные процессы, мыслительные опер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Воспитывать самостоятельность, инициативу, настойчив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достижении ц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творческие способности, воображен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фантазию, способности к моделированию и конструирован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реч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Успешно овладеть основами математики и информат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1"/>
          <p:cNvSpPr/>
          <p:nvPr/>
        </p:nvSpPr>
        <p:spPr>
          <a:xfrm>
            <a:off x="280080" y="82440"/>
            <a:ext cx="819324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Все игры и игровые упражнения можно раздел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4 групп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с постепенным усложнени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умений выявлять и абстрагировать свой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умений сравнивать предметы по их свойств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действий классификации и обобщ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способности к логическим действиям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операциям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2"/>
          <p:cNvSpPr/>
          <p:nvPr/>
        </p:nvSpPr>
        <p:spPr>
          <a:xfrm>
            <a:off x="2286000" y="2828880"/>
            <a:ext cx="457200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3b14"/>
                </a:solidFill>
                <a:latin typeface="Arial"/>
              </a:rPr>
              <a:t>Все игры и упражнения, за исключением четвёртой группы (логические), не адресуются конкретному возра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Рисунок 1" descr="http://www.u-mama.ru/img/news/00001_1053.jpg"/>
          <p:cNvPicPr/>
          <p:nvPr/>
        </p:nvPicPr>
        <p:blipFill>
          <a:blip r:embed="rId1"/>
          <a:stretch/>
        </p:blipFill>
        <p:spPr>
          <a:xfrm>
            <a:off x="3629160" y="2457360"/>
            <a:ext cx="1885680" cy="19432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1"/>
          <p:cNvSpPr/>
          <p:nvPr/>
        </p:nvSpPr>
        <p:spPr>
          <a:xfrm>
            <a:off x="506880" y="8280"/>
            <a:ext cx="6944040" cy="17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КОДОВЫЙ ЗАМОК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или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ТРЕТИЙ ЛИШНИЙ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картонку выкладываются 3 фигур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Две можно объединить по какому-то свойству, одна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лишня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518400" y="32760"/>
            <a:ext cx="6781320" cy="59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За замком может быть что угодно: сюрприз, вход в комнату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дорога на прогулку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…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Ребенок должен открыть замок: догадаться, на какую кнопку наж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объяснить, поче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: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Тут лишняя красная фигура. Потому что эти обе желт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жимаем на красную фигурку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Рисунок 1" descr="http://www.u-mama.ru/img/news/00001_1054.jpg"/>
          <p:cNvPicPr/>
          <p:nvPr/>
        </p:nvPicPr>
        <p:blipFill>
          <a:blip r:embed="rId1"/>
          <a:stretch/>
        </p:blipFill>
        <p:spPr>
          <a:xfrm>
            <a:off x="5643720" y="2357280"/>
            <a:ext cx="2857320" cy="210528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1"/>
          <p:cNvSpPr/>
          <p:nvPr/>
        </p:nvSpPr>
        <p:spPr>
          <a:xfrm>
            <a:off x="525240" y="8280"/>
            <a:ext cx="6593400" cy="17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ЙДИ КЛАД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 или 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КУДА СПРЯТАЛСЯ ЩЕНОК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Перед ребенком лежат 8 блоков, спрятана монет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или картинка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щен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"/>
          <p:cNvSpPr/>
          <p:nvPr/>
        </p:nvSpPr>
        <p:spPr>
          <a:xfrm>
            <a:off x="0" y="-2310120"/>
            <a:ext cx="6523200" cy="84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Verdana"/>
                <a:ea typeface="Times New Roman"/>
              </a:rPr>
              <a:t>1 вариан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Кладоискатель отворачивается, ведущий под одним из блоков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прячет клад. Кладоискател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ищет его, называя раз</a:t>
            </a: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­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личные свойства блоков. Если малы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ходит клад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то забирает его себе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под одним из блоков прячет новый клад.</a:t>
            </a: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Ведущий вначал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сам выполняе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роль кладоискателя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пока</a:t>
            </a: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­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зывает, как вести поиск клада. Называет различны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 блок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, ведущий спрашивает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Клад под синим блоко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Нет, </a:t>
            </a: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—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отвечает ребенок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желты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Не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красны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больши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круглы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Выигрывает тот, кто найдет больше кладов. При повторении игры блоки меняют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увеличивается их количество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"/>
          <p:cNvSpPr/>
          <p:nvPr/>
        </p:nvSpPr>
        <p:spPr>
          <a:xfrm>
            <a:off x="556920" y="11520"/>
            <a:ext cx="576468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2 вариа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Ведущий говори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щенок спрятался под красным, большим круг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Можно карточками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символами написать письмо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Рисунок 2" descr="http://www.u-mama.ru/img/news/00001_1055.jpg"/>
          <p:cNvPicPr/>
          <p:nvPr/>
        </p:nvPicPr>
        <p:blipFill>
          <a:blip r:embed="rId1"/>
          <a:stretch/>
        </p:blipFill>
        <p:spPr>
          <a:xfrm>
            <a:off x="714240" y="2500200"/>
            <a:ext cx="7643880" cy="2714760"/>
          </a:xfrm>
          <a:prstGeom prst="rect">
            <a:avLst/>
          </a:prstGeom>
          <a:ln w="0">
            <a:noFill/>
          </a:ln>
        </p:spPr>
      </p:pic>
      <p:sp>
        <p:nvSpPr>
          <p:cNvPr id="439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2:46:08Z</dcterms:created>
  <dc:creator>86091</dc:creator>
  <dc:description/>
  <dc:language>en-US</dc:language>
  <cp:lastModifiedBy>LEGION</cp:lastModifiedBy>
  <dcterms:modified xsi:type="dcterms:W3CDTF">2015-01-27T12:14:58Z</dcterms:modified>
  <cp:revision>29</cp:revision>
  <dc:subject/>
  <dc:title>Слайд 1</dc:title>
</cp:coreProperties>
</file>