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557B-EEE3-4369-9306-CD702A1DAA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75DA-3B94-4FAD-B847-9530E525F9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CD8C-3A16-445C-AD75-1ED9D26D4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1B2D-9AB8-40CC-AB80-C14F9DB68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ольшой, тонкий круг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мечательно, когда помогает смекалка! Теперь можно посмотреть и фокусы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EFC7-0A63-48C3-8D39-99A54A6E07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570C-25B5-4514-8237-C45C7B265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B4CC-5601-4AF4-9B10-75F0D75A88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«Развивалки" на х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. Чаще считайте вместе с малышом все, чем вы пользуетесь в обыденной жизни: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  - дети любят счит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2. Измеряйте разные вещи – дома или на улиц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оими ладошками или ступнями.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мните мультик про 38 попугаев – отличный повод пересмотреть его и проверить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кой рост у мамы или папы, сколько ладошек «поместится» в любимом ди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подобрать крышку к каждому контейнеру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9025-1A18-45BE-A92E-8EE09B9809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разложить их в контейнеры в соответствии с номером на крыш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Сделайте карточки с цифрами из картона и наждачной бумаги или бархата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Теперь вытащите одну из карточек из коробки наугад и  предложите ребенку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нести столько предметов, сколько изображено на его карточке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Охота на геометрические фигуры. Предложите малышу поиграть в охоту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усть он попробует найти что-нибудь похожее на круг и показать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8E38-E6DB-4773-ADD6-9AF17818E7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де воды больш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 Используйте мерные чашки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 покажите, что для блинов нужно взять вот столько муки и вот столько сахар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0C8B-EBCD-429F-91B8-0E287475A5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ЛБД  -       логические блоки З. Дьене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азвитие логического мышления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0268-276A-457D-8646-F5F6481C3F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E25A-9DD0-430A-A3EE-534BCBC42D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7DE6-FE74-44EE-BC0D-D198518C3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5CC7-FA87-4044-9A3B-CEFB1B471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0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84807"/>
                </a:solidFill>
                <a:latin typeface="Calibri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8421-DD75-4C24-B307-2FE667F78C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BB1A-1E82-4912-9C8A-3B78CB2C33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2B82-014F-45F2-A3AC-289B09E6BA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C186-DEFD-43CF-9757-C9E8025CA2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AE1-1A09-47FE-90EF-49042623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909-62BA-4D9E-920C-1170CA74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74187-B798-4204-B300-A118DBBC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C3410-264E-4058-842F-E3402402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30B85-C288-4E5F-A94F-8F656A14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5D856-DEC5-4792-91A0-6E6EC479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92821-410F-41A4-A153-6DBB8906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B1929-AEB3-4C33-86BA-A0EA3A56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DB7FE-69D2-4683-B5F6-B4E15035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64B2A-A41C-4662-AF48-22EC32A8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77B94-2009-437F-A0A8-D0028F66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AEB-72F6-410F-ACBA-C1638632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74B-0DE7-4B53-9F5D-646A827E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05F0-F964-4D51-8D20-A5F76216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BFD7-47E5-458E-9A95-9AF71FCC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36BA-C95F-4835-A315-9828EFAD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A7AD-7257-488C-8F23-FA82DA36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7170-21DA-4C95-B11B-119202F1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696F-0FE2-436D-9EB2-4F140AEA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8A3D-E292-44F2-AF22-B2A1B22E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227-AB02-40E9-B599-1F316B14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3C23-5840-4880-AE69-944B9499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0F55-DFE3-4918-BEF7-5A49BCF5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9628-06F3-4F54-9B9C-9D792454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C226-BA4B-4CE6-8DEA-881948B0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3617-E0B0-45E5-BBD2-43C3675A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97D1-2255-445E-95D5-8474DAC8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6A98-27A0-484F-9DDB-D95D2842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3FEF-905A-44D3-ACB1-1EBE8726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8D2A1-FBEB-4620-B720-09123CC6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7B2FB-78CB-4753-A8AA-B13E437E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4EC-2689-453F-919F-41B700C5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430E-2EB8-427C-8E3E-09473B11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AA2BF-754F-42B8-A1BC-ED0C4171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53AF9-5D34-4E40-A365-766AFD94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3F7B6-4D0C-4002-8ECC-07682CBD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1989B-DBDC-4871-BA44-E9899E66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7711D-1D3C-4ADF-A5BA-4DD2036F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DA722-905C-43DA-9DD6-990500DB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ECE5D-6C16-42EB-80C0-9FE1C31F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8577A-3D41-46E2-8BC6-5F663328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116EA-CE30-498E-9168-C24A69E8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B7F-00C2-4A6F-856A-2A6E7D83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7D2AA-CCC2-4651-A1EC-DF4416DD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24362-1DC3-4C66-A3D8-892852DA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0F0C3-2519-4F8D-8908-964F9DC9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7F858-15BD-4003-AC02-DC14C575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A943F-0302-4A62-9198-A7755DD3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DD4FE-A03A-4CEF-8CB6-C2E2B721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EAB73-6C50-4090-A8B1-DA90AC21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3BC82-8C01-449E-9093-1B06F186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049C3-16B3-4559-B168-9B4FC6D5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50601-4161-41B6-A8E9-A686BCE8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02C-31E5-4BC1-BBE3-BDDE1F30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BC392-3EF5-4499-B270-4FFDC5F4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DE3D3-1B63-4E6D-95D8-4D51C033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E7437-27D0-44CB-99CA-03260F42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2E220-B2EE-464F-8BDA-1EB8E2B9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EC0DB-D836-47D6-AE58-85C51A60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850C4-B179-4883-B24F-DAB92F1C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2DBC8-FAFC-4532-AFE0-8F68B73A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358F7-8C16-4F66-BE88-5DD83B2A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82F2F-0ABA-4AEF-B847-4F3FED74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6DF04-6368-452D-A71F-CA073F2D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0473-3BBC-4A60-9705-F53CF390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804B8-CD9B-4141-8BFB-52B94955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A77A7-F2C2-4C6A-AEB8-007F0A1C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DC58A-7953-446A-B7D6-B7704B75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2FCA2-31D2-4286-B34C-4E7A64E0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98399-DB98-4833-8E2D-F032804C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1AD82-6052-4468-B565-41F4F051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44423-47D7-41A7-8B91-B4C5493F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89B1D-584E-4333-BD9F-FA35943A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BAF8A-C46F-42F0-B12F-2480BA28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E2E4B-F37B-4101-A725-67104BC7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02E-CDA9-4D3F-9A1E-ED5C0FE0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74B37-B2DE-4592-9F81-D49D6FB0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35EB7-92BD-4532-A97F-EED35850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BBA5A-5233-4508-9B24-13E4B7BB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982DC-E9FD-4D4F-A6AE-B30556C3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0480A-E8F8-42D9-B00B-5ADFB3D0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AEE13-6BBD-415D-A19C-A377D040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53CBD-F8FE-47F9-9A73-DAEF99B7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B2207-E515-418A-832B-CBB5EAD5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35A42-5384-412B-9AB0-D7B66DDB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F0138-3AEF-4C1F-B335-CBBF7CF5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994-0496-4C44-B513-6ECD02BC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56588-B64C-4550-AF9E-BC70CEA3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029D4-4E68-4ACA-8AD1-EAE25541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055D0-B9DD-40AC-8442-8B067001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9934F-33CD-4F30-9B91-2768B4A3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8D314-AE74-4A26-9F2B-513574E0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646AB-1BCA-4FCD-90AF-A9D7322F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02320-F93F-4AB0-AA64-88A3CBA7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35A48-17B7-46AD-B150-FD11060E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87BE4-3BD6-4661-86B0-6629BFF4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D54D0-F927-41B9-B5FA-FC3133A8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5C7-EECA-4547-9AB5-23D10A69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681B7-1F2C-431A-A467-2171C75B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EF021-15A9-4ED1-94F5-07418BC3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FEE3B-9F8B-4E30-9F64-201677C8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29736-9BB0-4456-BC50-D693B777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6E16F-0902-4D70-A264-DDC5B7CF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BAF32-46CC-43B5-810D-C6573768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60240-79EC-4628-AD4D-6920D35D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8568E-A9B7-4BAF-B1E4-064F99AF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8BD0E-77A3-4E3A-BFFF-2CDB6011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7354E-8ACD-431D-A4AD-965F23F4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1E74-5CD4-42AF-A3DA-B747029063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EB44-7D90-4D5D-ACC2-D19B575DECA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EDC0-4C96-461F-9E71-33533480B05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F72A-2E17-4044-BCD2-1DB71A7BFA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CB50-41F4-4C67-8E61-64B65AC86D1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C3B9-9BD5-4187-88DC-590E44759FE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441D-578D-48BC-A8D1-88C302CA181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A343-FF8D-4534-BAEF-E00677C0963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4628-25C2-46DF-BA2B-3EB4686042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225360"/>
            <a:ext cx="8431200" cy="63277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520" y="714240"/>
            <a:ext cx="8334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8" name="Рисунок 5" descr="1208207092_index_2.jpg"/>
          <p:cNvPicPr/>
          <p:nvPr/>
        </p:nvPicPr>
        <p:blipFill>
          <a:blip r:embed="rId2"/>
          <a:stretch/>
        </p:blipFill>
        <p:spPr>
          <a:xfrm>
            <a:off x="5486400" y="2992320"/>
            <a:ext cx="3029040" cy="396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9680" y="5785920"/>
            <a:ext cx="8286840" cy="107172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C:\Documents and Settings\86091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428760" y="3214800"/>
            <a:ext cx="3857400" cy="2131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Documents and Settings\86091\Мои документы\Мои рисунки\LogicheskieIgry120120.gif"/>
          <p:cNvPicPr/>
          <p:nvPr/>
        </p:nvPicPr>
        <p:blipFill>
          <a:blip r:embed="rId4"/>
          <a:stretch/>
        </p:blipFill>
        <p:spPr>
          <a:xfrm>
            <a:off x="3643200" y="30718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Documents and Settings\86091\Мои документы\Мои рисунки\IP75PCAFTYWARCA0SC40VCA3E1SDMCA3ZZNH2CAPPSKNBCAZI7ZAPCAB614J9CAMZ0BUJCA8U6ZHSCA01L1CFCA016QDQCAPAVJJWCAPJ2W6BCAQ9HCXICAG22YOMCAQNLWDECALJAHB1CAF8LVI5CAD35FJO.jpg"/>
          <p:cNvPicPr/>
          <p:nvPr/>
        </p:nvPicPr>
        <p:blipFill>
          <a:blip r:embed="rId5"/>
          <a:stretch/>
        </p:blipFill>
        <p:spPr>
          <a:xfrm>
            <a:off x="2428920" y="428616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481320" y="6480"/>
            <a:ext cx="677952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ДБЕРИ ПО ЦВЕТУ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ей двух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четырех лет хорошо учить классифик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Цвет, форма, величина, толщи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Рисунок 2" descr="http://www.u-mama.ru/img/news/00001_1057.jpg"/>
          <p:cNvPicPr/>
          <p:nvPr/>
        </p:nvPicPr>
        <p:blipFill>
          <a:blip r:embed="rId1"/>
          <a:stretch/>
        </p:blipFill>
        <p:spPr>
          <a:xfrm>
            <a:off x="642960" y="2143080"/>
            <a:ext cx="7929720" cy="22147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"/>
          <p:cNvSpPr/>
          <p:nvPr/>
        </p:nvSpPr>
        <p:spPr>
          <a:xfrm>
            <a:off x="496440" y="30600"/>
            <a:ext cx="75492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394560" y="3960"/>
            <a:ext cx="71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ОРОД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и прибыли в гости к Микки </a:t>
            </a:r>
            <a:r>
              <a:rPr b="0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Маусу! Посмотрите, какой это город фигу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2" descr="http://www.u-mama.ru/img/news/00001_1056.jpg"/>
          <p:cNvPicPr/>
          <p:nvPr/>
        </p:nvPicPr>
        <p:blipFill>
          <a:blip r:embed="rId1"/>
          <a:stretch/>
        </p:blipFill>
        <p:spPr>
          <a:xfrm>
            <a:off x="357120" y="1571760"/>
            <a:ext cx="8429760" cy="27860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527400" y="38880"/>
            <a:ext cx="8081280" cy="62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495720" y="3240"/>
            <a:ext cx="6552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АВТОТРАССА (ПОСТРОЙ ДОРОЖКУ)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таблич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равило построения дорожки</a:t>
            </a:r>
            <a:r>
              <a:rPr b="0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2" descr="http://www.u-mama.ru/img/news/00001_1058.jpg"/>
          <p:cNvPicPr/>
          <p:nvPr/>
        </p:nvPicPr>
        <p:blipFill>
          <a:blip r:embed="rId1"/>
          <a:stretch/>
        </p:blipFill>
        <p:spPr>
          <a:xfrm>
            <a:off x="6000840" y="1000080"/>
            <a:ext cx="2100240" cy="1714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393120" y="15120"/>
            <a:ext cx="521136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 строит дорожку по правилу: чередует блоки с учетом ц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формы: сначала красный, потом квадратный, зате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ый, и треугольный. Малыш учится выделять свойство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бстрагироваться от других признаков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поддержания интереса детей хорошо предлагать различны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овые и практические задачи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мы строили дорожку до коробки с сюрпризо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еребирались по мостику через речку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выкладывали дорожку из льдинок во дворце Снежной Королевы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бы помочь убежать Каю и Герд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42880" y="27720"/>
            <a:ext cx="7870680" cy="36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на этом занятии ребята попали в болото. Строят крепкий мостик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собой блоки должны быть похожи по двум признакам. Например: фигуры обе синие и толсты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5" descr="http://www.u-mama.ru/img/news/00001_1059.jpg"/>
          <p:cNvPicPr/>
          <p:nvPr/>
        </p:nvPicPr>
        <p:blipFill>
          <a:blip r:embed="rId2"/>
          <a:stretch/>
        </p:blipFill>
        <p:spPr>
          <a:xfrm>
            <a:off x="642960" y="3714840"/>
            <a:ext cx="7715160" cy="223344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0" y="9720"/>
            <a:ext cx="10380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игры и упражнения с блоками, которые предназнач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арших дошкольник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и помогут разв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у детей умени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бивать множества на классы по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вить умение производить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гические операци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умения с помощью этих операций строить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авильные высказыв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кодировать и декодировать информацию о свойствах предмет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1000" y="77760"/>
            <a:ext cx="782964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ЗАГАДКИ БЕЗ СЛОВ</a:t>
            </a:r>
            <a:r>
              <a:rPr b="1" lang="ru-RU" sz="11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ы поможем ребенку научиться расшифровывать (декодировать) информа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 наличии или отсутствии определенных свойств у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 их знаково-символическим обозначени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3" descr="http://www.u-mama.ru/img/news/00001_1060.jpg"/>
          <p:cNvPicPr/>
          <p:nvPr/>
        </p:nvPicPr>
        <p:blipFill>
          <a:blip r:embed="rId1"/>
          <a:stretch/>
        </p:blipFill>
        <p:spPr>
          <a:xfrm>
            <a:off x="1285920" y="3000240"/>
            <a:ext cx="6786360" cy="1814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3"/>
          <p:cNvSpPr/>
          <p:nvPr/>
        </p:nvSpPr>
        <p:spPr>
          <a:xfrm>
            <a:off x="363960" y="300240"/>
            <a:ext cx="82076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, тонкий к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ечательно, когда помогает смекалка! Теперь можно посмотреть и фокус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"/>
          <p:cNvSpPr/>
          <p:nvPr/>
        </p:nvSpPr>
        <p:spPr>
          <a:xfrm>
            <a:off x="465480" y="6120"/>
            <a:ext cx="6293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старшей группе мы устроили конкурсную игровую програм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естики - нолик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дно из заданий командам было -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стройка замка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http://www.u-mama.ru/img/news/00001_1061.jpg"/>
          <p:cNvPicPr/>
          <p:nvPr/>
        </p:nvPicPr>
        <p:blipFill>
          <a:blip r:embed="rId1"/>
          <a:stretch/>
        </p:blipFill>
        <p:spPr>
          <a:xfrm>
            <a:off x="928800" y="1357200"/>
            <a:ext cx="7215120" cy="18860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2"/>
          <p:cNvSpPr/>
          <p:nvPr/>
        </p:nvSpPr>
        <p:spPr>
          <a:xfrm>
            <a:off x="0" y="22680"/>
            <a:ext cx="871524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"/>
          <p:cNvSpPr/>
          <p:nvPr/>
        </p:nvSpPr>
        <p:spPr>
          <a:xfrm>
            <a:off x="453960" y="2880"/>
            <a:ext cx="7381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ДЕЛИ БЛОК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а научит разбивать множество по двум, трем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оизводить логические операц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Рисунок 2" descr="http://www.u-mama.ru/img/news/00001_1062.jpg"/>
          <p:cNvPicPr/>
          <p:nvPr/>
        </p:nvPicPr>
        <p:blipFill>
          <a:blip r:embed="rId1"/>
          <a:stretch/>
        </p:blipFill>
        <p:spPr>
          <a:xfrm>
            <a:off x="4000680" y="857160"/>
            <a:ext cx="4071600" cy="32860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3120" y="29880"/>
            <a:ext cx="807192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1"/>
          <p:cNvSpPr/>
          <p:nvPr/>
        </p:nvSpPr>
        <p:spPr>
          <a:xfrm>
            <a:off x="714240" y="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«Развивалки" на х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"/>
          <p:cNvSpPr/>
          <p:nvPr/>
        </p:nvSpPr>
        <p:spPr>
          <a:xfrm>
            <a:off x="285840" y="50004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. Чаще считайте вместе с малышом все, чем вы пользуетесь в обыденной жизни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  - дети любят счит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3"/>
          <p:cNvSpPr/>
          <p:nvPr/>
        </p:nvSpPr>
        <p:spPr>
          <a:xfrm>
            <a:off x="357120" y="228600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2. Измеряйте разные вещи – дома или на улиц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ими ладошками или ступнями.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мните мультик про 38 попугаев – отличный повод пересмотреть его и проверить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ост у мамы или папы, сколько ладошек «поместится» в любимом див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подобрать крышку к каждому контейнеру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1"/>
          <p:cNvSpPr/>
          <p:nvPr/>
        </p:nvSpPr>
        <p:spPr>
          <a:xfrm>
            <a:off x="214200" y="428760"/>
            <a:ext cx="8715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разложить их в контейнеры в соответствии с номером на крыш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Сделайте карточки с цифрами из картона и наждачной бумаги или бархата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Теперь вытащите одну из карточек из коробки наугад и  предложите ребен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ести столько предметов, сколько изображено на его карточке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Охота на геометрические фигуры. Предложите малышу поиграть в охоту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ь он попробует найти что-нибудь похожее на круг и показать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1"/>
          <p:cNvSpPr/>
          <p:nvPr/>
        </p:nvSpPr>
        <p:spPr>
          <a:xfrm>
            <a:off x="428760" y="357120"/>
            <a:ext cx="8501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де воды больш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Используйте мерные чашки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 покажите, что для блинов нужно взять вот столько муки и вот столько сахар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2"/>
          <p:cNvSpPr/>
          <p:nvPr/>
        </p:nvSpPr>
        <p:spPr>
          <a:xfrm>
            <a:off x="1143000" y="785880"/>
            <a:ext cx="74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ЛБД  -       логические блоки З. Дьене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91581f"/>
                </a:solidFill>
                <a:latin typeface="Arial"/>
              </a:rPr>
              <a:t>развитие логического мышления</a:t>
            </a: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4" descr="http://www.u-mama.ru/img/news/00001_1051.jpg"/>
          <p:cNvPicPr/>
          <p:nvPr/>
        </p:nvPicPr>
        <p:blipFill>
          <a:blip r:embed="rId1"/>
          <a:stretch/>
        </p:blipFill>
        <p:spPr>
          <a:xfrm>
            <a:off x="1785960" y="1857240"/>
            <a:ext cx="6072120" cy="414360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1"/>
          <p:cNvSpPr/>
          <p:nvPr/>
        </p:nvSpPr>
        <p:spPr>
          <a:xfrm>
            <a:off x="-40147920" y="-428760"/>
            <a:ext cx="182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ие блоки Дьенеша представляют соб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из 48 геометрических фигу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четырех форм (круг, треугольник, квадр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ая геометрическая фиг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ой, цветом, размером, 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боре нет ни одной одинаковой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428760" y="720360"/>
            <a:ext cx="82152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4"/>
          <p:cNvSpPr/>
          <p:nvPr/>
        </p:nvSpPr>
        <p:spPr>
          <a:xfrm>
            <a:off x="371880" y="27720"/>
            <a:ext cx="4364280" cy="52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5" descr="http://www.u-mama.ru/img/news/00001_1052.jpg"/>
          <p:cNvPicPr/>
          <p:nvPr/>
        </p:nvPicPr>
        <p:blipFill>
          <a:blip r:embed="rId1"/>
          <a:stretch/>
        </p:blipFill>
        <p:spPr>
          <a:xfrm>
            <a:off x="5072040" y="1214280"/>
            <a:ext cx="342900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 flipV="1" rot="10800000">
            <a:off x="3935520" y="713880"/>
            <a:ext cx="12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 – 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0" y="-949320"/>
            <a:ext cx="864396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280080" y="82440"/>
            <a:ext cx="819324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2"/>
          <p:cNvSpPr/>
          <p:nvPr/>
        </p:nvSpPr>
        <p:spPr>
          <a:xfrm>
            <a:off x="2286000" y="2828880"/>
            <a:ext cx="45720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Arial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1" descr="http://www.u-mama.ru/img/news/00001_1053.jpg"/>
          <p:cNvPicPr/>
          <p:nvPr/>
        </p:nvPicPr>
        <p:blipFill>
          <a:blip r:embed="rId1"/>
          <a:stretch/>
        </p:blipFill>
        <p:spPr>
          <a:xfrm>
            <a:off x="3629160" y="2457360"/>
            <a:ext cx="1885680" cy="19432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>
            <a:off x="506880" y="8280"/>
            <a:ext cx="694404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ДОВЫЙ ЗАМОК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ЕТИЙ ЛИШНИЙ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нку выкладываются 3 фигур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Две можно объединить по какому-то свойству, одн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лишня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518400" y="32760"/>
            <a:ext cx="6781320" cy="59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http://www.u-mama.ru/img/news/00001_1054.jpg"/>
          <p:cNvPicPr/>
          <p:nvPr/>
        </p:nvPicPr>
        <p:blipFill>
          <a:blip r:embed="rId1"/>
          <a:stretch/>
        </p:blipFill>
        <p:spPr>
          <a:xfrm>
            <a:off x="5643720" y="2357280"/>
            <a:ext cx="2857320" cy="21052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525240" y="8280"/>
            <a:ext cx="659340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ЙДИ КЛАД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КУДА СПРЯТАЛСЯ ЩЕНОК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лежат 8 блоков, спрятана моне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картин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щ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0" y="-2310120"/>
            <a:ext cx="6523200" cy="84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556920" y="11520"/>
            <a:ext cx="576468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2" descr="http://www.u-mama.ru/img/news/00001_1055.jpg"/>
          <p:cNvPicPr/>
          <p:nvPr/>
        </p:nvPicPr>
        <p:blipFill>
          <a:blip r:embed="rId1"/>
          <a:stretch/>
        </p:blipFill>
        <p:spPr>
          <a:xfrm>
            <a:off x="714240" y="2500200"/>
            <a:ext cx="7643880" cy="27147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2:46:08Z</dcterms:created>
  <dc:creator>86091</dc:creator>
  <dc:description/>
  <dc:language>en-US</dc:language>
  <cp:lastModifiedBy>LEGION</cp:lastModifiedBy>
  <dcterms:modified xsi:type="dcterms:W3CDTF">2015-01-27T12:14:58Z</dcterms:modified>
  <cp:revision>29</cp:revision>
  <dc:subject/>
  <dc:title>Слайд 1</dc:title>
</cp:coreProperties>
</file>