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4A8F-3C9F-4E65-BDA3-4C26080049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детки собирали для ежика разноцветные листики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и складывали их в коробочки по цвету.</a:t>
            </a:r>
            <a:r>
              <a:rPr b="1" lang="ru-RU" sz="6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B5FE-1CF5-40D6-A8BD-36496EF767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район больших и район маленьких домиков. В каждом районе есть улицы разного цвета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мики имеют разную форму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Сережа ищет прямоугольный домик в районе маленьких домиков, на красной улиц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Катюша зашла в гости к кротику. И говорит всем деткам: 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отик живет в квадратном домик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синей улиц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районе маленьких домиков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! Четырехлетки с интересом гуляют по такому городу, выделяю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делом, сразу три свойства фигур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 с трудом дается некоторым первоклашкам в программе 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Школа 2100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!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490B-84ED-4BA4-9C98-9612101796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B20D-F170-470C-8CB9-D92D1CC9CC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утешествии дети попали к домику фокусника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до сначала расколдоват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его, а потом постучаться.Например: первая фигурка должна быть треугольной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ой, маленькой и толстой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 вот вторая – круглая, красная, не толстая и не маленькая. Значит, мы будем искать красный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большой, тонкий круг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мечательно, когда помогает смекалка! Теперь можно посмотреть и фокусы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6683-D2E3-47AA-94B4-E5363188B0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манды анализировали чертеж замка, подбирали необходимые кирпичик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ала та команда, у которой замок был построен быстро и правильно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DFA1-1253-4B0C-95F6-06421B3E87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лесу переполох! Лиса, волк и медведь никак не могут поделить подарки деда Мороз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ед Мороз сказал взять лисе все маленькие подарки, медведю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се толстые, а волку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кругл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о вот беда, есть подарки и круглые и маленькие одновременно. Их должна взять и лиса и волк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есть подарки и круглые, и маленькие, и толстые! Ими могут играть все звери вмес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и пересекающихся обруча (ленточки, веревочки) помогли нам разобраться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ыясни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где чьи подарки, кто чем может пользоваться на правах совместной собственности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5DAF-7DC7-407E-9908-97F8941607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4807"/>
                </a:solidFill>
                <a:latin typeface="Calibri"/>
              </a:rPr>
              <a:t>«Развивалки" на х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4807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1. Чаще считайте вместе с малышом все, чем вы пользуетесь в обыденной жизни: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колько стульев стоит возле обеденного стола, сколько пар носок вы положили в стиральную машину, сколько картошек надо почистить, чтобы приготовить ужин. Пересчитывайте ступеньки в подъезде, окна в квартире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,  - дети любят счит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2. Измеряйте разные вещи – дома или на улиц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оими ладошками или ступнями.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Помните мультик про 38 попугаев – отличный повод пересмотреть его и проверить,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акой рост у мамы или папы, сколько ладошек «поместится» в любимом див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оберите несколько пустых коробок из-под обуви или подарков. Лучше всего делать это после дня рождения или Нового Года. Коробки можно купить и специально для этой цели: они не так дорого стоят. Желательно чтобы они укладывались друг в друга как матрешки. Разложите крышки отдельно, а коробки – отдельно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просите подобрать крышку к каждому контейнеру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Чем младше ребенок, тем меньше должно быть коробок. Двухлетний малыш с удовольствием повозится с 4-5 коробками, а вот 10 для него будет слишком м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5605-B498-4F3E-AC0B-3DE0B54E6E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4. Купите «липкие» цифры из пенки, наклейте их на пустой контейнер – от 0 до 5.  Соберите разнообразные предметы: одну маленькую машинку или куклу, две больших пуговицы, три бусины, четыре ореха, пять прищепок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просите разложить их в контейнеры в соответствии с номером на крыш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Сделайте карточки с цифрами из картона и наждачной бумаги или бархата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оведите пальчиком малыша по этим цифрам и назовите их. Попросите показать вам 3, 2, 1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Теперь вытащите одну из карточек из коробки наугад и  предложите ребенку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инести столько предметов, сколько изображено на его карточке.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 Особенно интересно получить карточку с нулем, ведь ничто не сравнится с личным открытие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Охота на геометрические фигуры. Предложите малышу поиграть в охоту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усть он попробует найти что-нибудь похожее на круг и показать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вам. А теперь квадрат или прямоугольник. Играть в эту игру можно по дороге в детский с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зложите на столе ложку, вилку и тарелку особым образом. Попросите малыша повторить вашу композицию.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 Когда у него будет хорошо получаться, поставьте какой-нибудь экран между вами и малышом или сядьте спиной друг к другу. Предложите ему разложить свои предметы, а затем объяснить вам, как он это сделал. Вы должны повторить его действия, следуя лишь устным инструкциям. Тоже неплохая игра для того, чтобы занять время ожидания приема в поликли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1BD3-B5C2-4B5D-889C-6FEA07B0ED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8.Когда малыш или малышка купается, выдайте ему набор разнообразных чашек – мерных чашек, пластиковых кувшинчиков, воронок, разноцветных стаканчиков. Пусть переливает воду на здоровье. Поговорите о том,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де воды больше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По Пиаже, это возраст интересных открытий для родителей. Налейте воду в два одинаковых стаканчика и спросите кроху, одинаково ли воды в обоих сосудах? А теперь перелейте воду из одного стаканчика в  высокий и тонкий стакан, а воду из другого стаканчика – в широкий и низкий стакан. Спросите, где больше? Скорее всего, ответ будет любопы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Поиграйте с ребенком в магазин. Купите игрушечные деньги или нарисуйте их сами. Рубли можно брать из экономических игр, вроде «Менеджер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Чаще готовьте еду вместе с малышом. Показывайте, как вы готовите то или иное блюдо, сколько продуктов берете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 Используйте мерные чашки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, покажите, что для блинов нужно взять вот столько муки и вот столько сахар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5E32-0CD2-4311-BF9C-EB2F158869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ЛБД  -       логические блоки З. Дьене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развитие логического мышления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7729-C277-43D1-8911-3702481EC3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Логические блоки Дьенеша представляют собой набор из 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48 геометрических фигур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) четырех форм (круг, треугольник, квадрат, прямоугольник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б) четырех цветов (красный, синий, желтый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) двух размеров (большой, маленьк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г) двух видов толщины (толстый, тонки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Каждая геометрическая фигура характеризуется четырьмя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формой, цветом, размером,толщи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наборе нет 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ни одной одинаковой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F82E-3B7E-48C0-874B-E4D2B35507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 многих играх с логическим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ами используются карточ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 символами свойст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мство ребенка с символам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важная ступенька в освоении всей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вой культуры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грамоты математически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имволов, программирования и т.д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чках условно обозначен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а блоков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(</a:t>
            </a:r>
            <a:r>
              <a:rPr b="1" lang="ru-RU" sz="900" spc="-1" strike="noStrike">
                <a:solidFill>
                  <a:srgbClr val="ff0000"/>
                </a:solidFill>
                <a:latin typeface="Verdana"/>
                <a:ea typeface="Times New Roman"/>
              </a:rPr>
              <a:t>цвет, форма, размер, толщина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го 11 карточек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+ 11 карточе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отрицанием свойств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 </a:t>
            </a:r>
            <a:r>
              <a:rPr b="1" lang="ru-RU" sz="9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 красный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4D59-5791-4833-A014-7785DFCB49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знакомить с формой, цветом, размером, толщиной объект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ространственные представления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логическое мышление, представление о множестве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и над множествами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(сравнение, разбиение, классификация, абстрагирование, кодиро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декодирование информации)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воить элементарные навыки алгоритмической культуры мышле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умения выявлять свойства в объектах, называть их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общать объекты по их свойствам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ъяснять сходства и различия объектов, обосновывать свои рассуждения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ознавательные процессы, мыслительные операци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спитывать самостоятельность, инициативу, настойчивост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достижении цел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творческие способности, воображение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фантазию, способности к моделированию и конструированию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речь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пешно овладеть основами математики и информатик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AA31-B237-4C96-94E2-89C98D4D61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 игры и игровые упражнения можно разделить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</a:t>
            </a:r>
            <a:r>
              <a:rPr b="1" lang="ru-RU" sz="1000" spc="-1" strike="noStrike">
                <a:solidFill>
                  <a:srgbClr val="ff0000"/>
                </a:solidFill>
                <a:latin typeface="Verdana"/>
                <a:ea typeface="Times New Roman"/>
              </a:rPr>
              <a:t>4 группы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постепенным усложнением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выявлять и абстрагировать свой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сравнивать предметы по их свойствам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действий классификации и обобщения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способности к логическим действиям 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ям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84807"/>
                </a:solidFill>
                <a:latin typeface="Calibri"/>
              </a:rPr>
              <a:t>Все игры и упражнения, за исключением четвёртой группы (логические), не адресуются конкретному возраст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061B-D303-4D05-B220-79EA5275F2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а замком может быть что угодно: сюрприз, вход в комнату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рога на прогулку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…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Ребенок должен открыть замок: догадаться, на какую кнопку нажать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объяснить, почему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Тут лишняя красная фигура. Потому что эти обе желтые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жимаем на красную фигурку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9879-3714-48B9-BC7B-2D5EAE6638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0000"/>
                </a:solidFill>
                <a:latin typeface="Verdana"/>
                <a:ea typeface="Times New Roman"/>
              </a:rPr>
              <a:t>1 вариан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Кладоискатель отворачивается, ведущий под одним из блоков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ячет клад. Кладоискатель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ищет его, называя раз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личные свойства блоков. Если малыш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ходит клад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то забирает его себе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под одним из блоков прячет новый клад.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Ведущий вначал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сам выполняет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роль кладоискателя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пока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зывает, как вести поиск клада. Называет различны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блоков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, ведущий спрашивает: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Клад под синим блоко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, 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—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отвечает ребенок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желт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асн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больши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угл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ывает тот, кто найдет больше кладов. При повторении игры блоки меняют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увеличивается их количество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8738-0C19-4A96-82AB-DBBDFC5070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едущий говори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щенок спрятался под красным, большим кру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Можно карточками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символами написать письм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903B-BE5E-40BE-9983-9E19338B2E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2B61-9917-4C08-A74E-65A758D7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D077-90E8-4F25-BA81-D2C1ACD1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7B8DA-E18A-43C1-87C3-6D8189C3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C77E0-E341-4FC5-B65C-67AE7F1B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86176-CDC0-4E11-832E-D2E9DEA7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936B6-38C8-47FF-B655-D40E6B36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07CD7-B9F4-454A-94AB-07307CB7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C22A3-508D-4827-8A2C-F0255F67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2BEE5-11BA-4DE1-A9AD-E653D465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0E988-3F48-4442-9BD5-DE7654D3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C850C-091A-4564-A3CD-79082443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CE5B-F91B-4E7E-96F8-7CA2EB4B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172-62B7-4B11-AC9C-43238244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26C0-6878-4052-9302-05E84B81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CB9E-227F-4ABC-A2BA-2F4069B5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6B57-2276-4071-88E0-ED5B5A71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CD8C-72D0-4883-BBD4-400F3D2A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8559-272B-4B90-A1B4-AB150FBB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4B3A-02EE-4018-8077-C41BF0A3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8D59-01D6-477F-93E8-B3C2555A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F030-2208-49F5-AE22-F60A9584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C3A6-1B4C-423F-B0F1-EF68553B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D99F-D7F4-4980-A021-F00E949D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AE3E-BDF9-4344-A2FB-C84E468B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C0BF-5E89-4ED0-A14C-82D7BA54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00B9-A827-46F9-BEF9-EC1BD719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52A56-CA2B-4632-9608-D706EE03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26CE9-BE43-45A2-9D76-D0241F76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854FA-1211-45D5-8403-206249A3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DCFCC-10A3-4E62-81CA-2F495ACA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2F221-FDF4-4E5B-BA7B-7B81CC7F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AD3-E2FD-4248-99E6-77764468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E0A54-C87C-48A2-82D8-7990C099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CFB5D-FC33-448F-BE9F-D4539776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8DC47-B848-4951-8A35-84C8798C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A0748-2759-4EF8-AC50-0748150A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484B2-971A-45BA-A645-B47AB95D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82FB8-8366-488D-8F13-3AD7973B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9710F-1B6A-470B-BDE0-1BB08300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70051-F757-4F2C-90CE-5D4D6FEA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F3C38-C91A-4BFE-ABA8-97DCF50D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92C3A-2F38-4B38-9534-570CE075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8E65-B016-4031-B0F8-1AC1725B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1B349-AD0F-4C2F-B980-1475F474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6D7EE-E124-4B73-A566-7664E604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D3887-E5EF-4F4B-AA22-9B806BD3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52F08-5E30-42E0-A2D4-79E822A0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9E102-BD5D-4E9E-868C-000AD297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B6435-0B2B-4D64-AAB5-1CCE172C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5ACDC-676A-4656-9A04-AAA92311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3CAD9-41C8-4396-A8C1-6BCBC864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0BC45-4F65-4525-A250-5FA18C96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5D760-6295-47C7-8E6B-35ED1D69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F485-6122-4853-8C61-20C11042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99730-BC61-4A56-957C-D91FD3AE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228A6-3412-4961-B9C6-505226B8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8E56A-7E61-4763-94D0-04B2EB07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E078E-6EE4-4617-BEFE-230018D9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78DDF-00BC-41FA-9D19-6A7CBF69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62182-68D0-4BC2-B315-827863C8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9E9C9-3707-4F94-ABDD-A6D519B0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0043B-D2D1-4BD1-B05F-DD47FFEB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5FB50-3087-4ACE-AAC1-C8324EEF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CF31F-3618-48DE-ADC2-03DB3A6E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2611-01E6-44B6-AAB9-A5CDAF3D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02BCB-4F15-4879-8088-FC9AE521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DF775-F20C-446D-A322-196D78DA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05A6F-2504-4E87-BE01-BDCF69BD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A015D-8677-452C-9D2A-87DF275C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D8022-1B99-45D1-A744-C9993E09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7716B-6C73-40A1-80CC-997AF294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6F197-1E83-4BF4-B05E-528FED8A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1B2D1-D376-4956-A903-7035D198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F079C-9020-47F5-B70F-44998669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E39C5-DA06-456B-9742-CDE768B7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A844-7AB5-4655-B8A9-0AC6DD3D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52E1A-36EA-445F-85DC-B871CE69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F5AFF-2434-4A19-BE56-FDD8E5CE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2CFC0-2B23-496E-BC30-640F8564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13C66-E2A9-41F0-A2A7-DEC57881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210B1-6AB5-491F-8011-1CDB196D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DCEE7-F28A-4B9D-A4C0-18D3966F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D0978-6419-45E7-83D6-21CDBE2D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4D4CF-26D6-4AA5-A74C-AF502973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4D18A-C872-4545-85C1-6BF3EC98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0E146-ED60-40D3-8162-13F73F78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255-B546-4F41-9ABC-AE5FD2B1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17422-0ABB-43ED-9273-1CF44FAF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D51DF-7CA5-4CBD-85FB-0A3958F7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5E339-0D48-43C2-B356-B57537C8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558D2-19AB-474D-AF7E-93B6B946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84329-E77D-4142-A34E-D0FA5D96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C9489-2964-4536-8B5E-A01445F9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469DF-96D6-41EB-9E6F-5BBBC941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8A5B3-AB6F-4D0D-A0ED-4EA6A68B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07F6F-A33F-48E6-8190-13688FBB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FFBAE-9D07-4A7C-8470-437FA2A3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9070-F47A-4CA1-B251-C3E2C108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E96B4-A976-4227-A0FF-881726DE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3C26D-675F-4F72-A07D-8A9981AE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A378F-66F8-4672-B7F5-8E6E796C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62589-B0CD-4578-86B3-EF2420DB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3452F-1A3E-4AF0-9D5C-DDC4BA23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24318-75BA-4439-AEDA-CC9FA5A6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85A42-106E-4F51-AEA7-38D59A99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2DD1D-1C5F-4698-A4A2-01E82167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17500-E77B-4C1D-884A-33250517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86567-500F-42DC-A35C-ACD2D66C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6984-5935-4906-BDD6-FFE74EE7B07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58E1-C572-42E7-A898-AA27281A468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6FAA-E1C1-4CEE-8F32-4EB3E229759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68C9-8395-435D-9300-59BBAA5381D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50F3-02C9-4877-9433-048585C9846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E601-F6C4-4668-9165-A97F99FB5C4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01F4-554B-4E3F-868C-19CF81CD9AE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B70E-3A97-43C6-8438-C79855A2A11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E1F9-6FAC-47AB-9366-E4203365ECE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225360"/>
            <a:ext cx="8431200" cy="63277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520" y="714240"/>
            <a:ext cx="8334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8" name="Рисунок 5" descr="1208207092_index_2.jpg"/>
          <p:cNvPicPr/>
          <p:nvPr/>
        </p:nvPicPr>
        <p:blipFill>
          <a:blip r:embed="rId2"/>
          <a:stretch/>
        </p:blipFill>
        <p:spPr>
          <a:xfrm>
            <a:off x="5486400" y="2992320"/>
            <a:ext cx="3029040" cy="3969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9680" y="5785920"/>
            <a:ext cx="8286840" cy="107172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2" descr="C:\Documents and Settings\86091\Мои документы\Мои рисунки\logo.gif"/>
          <p:cNvPicPr/>
          <p:nvPr/>
        </p:nvPicPr>
        <p:blipFill>
          <a:blip r:embed="rId3"/>
          <a:stretch/>
        </p:blipFill>
        <p:spPr>
          <a:xfrm>
            <a:off x="428760" y="3214800"/>
            <a:ext cx="3857400" cy="2131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C:\Documents and Settings\86091\Мои документы\Мои рисунки\LogicheskieIgry120120.gif"/>
          <p:cNvPicPr/>
          <p:nvPr/>
        </p:nvPicPr>
        <p:blipFill>
          <a:blip r:embed="rId4"/>
          <a:stretch/>
        </p:blipFill>
        <p:spPr>
          <a:xfrm>
            <a:off x="3643200" y="307188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Documents and Settings\86091\Мои документы\Мои рисунки\IP75PCAFTYWARCA0SC40VCA3E1SDMCA3ZZNH2CAPPSKNBCAZI7ZAPCAB614J9CAMZ0BUJCA8U6ZHSCA01L1CFCA016QDQCAPAVJJWCAPJ2W6BCAQ9HCXICAG22YOMCAQNLWDECALJAHB1CAF8LVI5CAD35FJO.jpg"/>
          <p:cNvPicPr/>
          <p:nvPr/>
        </p:nvPicPr>
        <p:blipFill>
          <a:blip r:embed="rId5"/>
          <a:stretch/>
        </p:blipFill>
        <p:spPr>
          <a:xfrm>
            <a:off x="2428920" y="428616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"/>
          <p:cNvSpPr/>
          <p:nvPr/>
        </p:nvSpPr>
        <p:spPr>
          <a:xfrm>
            <a:off x="481320" y="6480"/>
            <a:ext cx="677952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ДБЕРИ ПО ЦВЕТУ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Малышей двух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четырех лет хорошо учить классифик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(Цвет, форма, величина, толщин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Рисунок 2" descr="http://www.u-mama.ru/img/news/00001_1057.jpg"/>
          <p:cNvPicPr/>
          <p:nvPr/>
        </p:nvPicPr>
        <p:blipFill>
          <a:blip r:embed="rId1"/>
          <a:stretch/>
        </p:blipFill>
        <p:spPr>
          <a:xfrm>
            <a:off x="642960" y="2143080"/>
            <a:ext cx="7929720" cy="22147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2"/>
          <p:cNvSpPr/>
          <p:nvPr/>
        </p:nvSpPr>
        <p:spPr>
          <a:xfrm>
            <a:off x="496440" y="30600"/>
            <a:ext cx="75492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детки собирали для ежика разноцветные лис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 складывали их в коробочки по цвету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394560" y="3960"/>
            <a:ext cx="71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ГОРОД ГЕОМЕТРИЧЕСКИХ ФИГУР</a:t>
            </a:r>
            <a:r>
              <a:rPr b="1" lang="ru-RU" sz="1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Малыши прибыли в гости к Микки </a:t>
            </a:r>
            <a:r>
              <a:rPr b="0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Маусу! Посмотрите, какой это город фигу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2" descr="http://www.u-mama.ru/img/news/00001_1056.jpg"/>
          <p:cNvPicPr/>
          <p:nvPr/>
        </p:nvPicPr>
        <p:blipFill>
          <a:blip r:embed="rId1"/>
          <a:stretch/>
        </p:blipFill>
        <p:spPr>
          <a:xfrm>
            <a:off x="357120" y="1571760"/>
            <a:ext cx="8429760" cy="278604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"/>
          <p:cNvSpPr/>
          <p:nvPr/>
        </p:nvSpPr>
        <p:spPr>
          <a:xfrm>
            <a:off x="527400" y="38880"/>
            <a:ext cx="8081280" cy="62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район больших и район маленьких домиков. В каждом районе есть улицы разного цв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мики имеют разную фо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Сережа ищет прямоугольный домик в районе маленьких домиков, на красной ули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Катюша зашла в гости к кротику. И говорит всем деткам: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отик живет в квадратном доми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синей улиц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районе маленьких домиков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! Четырехлетки с интересом гуляют по такому городу, выделя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делом, сразу три свойства фигу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 с трудом дается некоторым первоклашкам в программе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Школа 2100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"/>
          <p:cNvSpPr/>
          <p:nvPr/>
        </p:nvSpPr>
        <p:spPr>
          <a:xfrm>
            <a:off x="495720" y="3240"/>
            <a:ext cx="6552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АВТОТРАССА (ПОСТРОЙ ДОРОЖКУ)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еред ребенком табличк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равило построения дорожки</a:t>
            </a:r>
            <a:r>
              <a:rPr b="0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Рисунок 2" descr="http://www.u-mama.ru/img/news/00001_1058.jpg"/>
          <p:cNvPicPr/>
          <p:nvPr/>
        </p:nvPicPr>
        <p:blipFill>
          <a:blip r:embed="rId1"/>
          <a:stretch/>
        </p:blipFill>
        <p:spPr>
          <a:xfrm>
            <a:off x="6000840" y="1000080"/>
            <a:ext cx="2100240" cy="17146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"/>
          <p:cNvSpPr/>
          <p:nvPr/>
        </p:nvSpPr>
        <p:spPr>
          <a:xfrm>
            <a:off x="393120" y="15120"/>
            <a:ext cx="521136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Он строит дорожку по правилу: чередует блоки с учетом цв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 формы: сначала красный, потом квадратный, затем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ый, и треугольный. Малыш учится выделять свойство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бстрагироваться от других признаков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поддержания интереса детей хорошо предлагать различные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гровые и практические задачи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мы строили дорожку до коробки с сюрпризом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еребирались по мостику через речку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выкладывали дорожку из льдинок во дворце Снежной Королевы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бы помочь убежать Каю и Герд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542880" y="27720"/>
            <a:ext cx="7870680" cy="36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на этом занятии ребята попали в болото. Строят крепкий мостик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собой блоки должны быть похожи по двум признакам. Например: фигуры обе синие и толсты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Рисунок 5" descr="http://www.u-mama.ru/img/news/00001_1059.jpg"/>
          <p:cNvPicPr/>
          <p:nvPr/>
        </p:nvPicPr>
        <p:blipFill>
          <a:blip r:embed="rId2"/>
          <a:stretch/>
        </p:blipFill>
        <p:spPr>
          <a:xfrm>
            <a:off x="642960" y="3714840"/>
            <a:ext cx="7715160" cy="2233440"/>
          </a:xfrm>
          <a:prstGeom prst="rect">
            <a:avLst/>
          </a:prstGeom>
          <a:ln w="0">
            <a:noFill/>
          </a:ln>
        </p:spPr>
      </p:pic>
      <p:sp>
        <p:nvSpPr>
          <p:cNvPr id="45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0" y="9720"/>
            <a:ext cx="10380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игры и упражнения с блоками, которые предназначе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арших дошкольников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ни помогут разв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у детей умения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бивать множества на классы по совместимым свойств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вить умение производить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логические операци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или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умения с помощью этих операций строить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авильные высказыва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кодировать и декодировать информацию о свойствах предметов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1000" y="77760"/>
            <a:ext cx="782964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Verdana"/>
                <a:ea typeface="Times New Roman"/>
              </a:rPr>
              <a:t>ЗАГАДКИ БЕЗ СЛОВ</a:t>
            </a:r>
            <a:r>
              <a:rPr b="1" lang="ru-RU" sz="11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Мы поможем ребенку научиться расшифровывать (декодировать) информац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 наличии или отсутствии определенных свойств у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 их знаково-символическим обозначени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Рисунок 3" descr="http://www.u-mama.ru/img/news/00001_1060.jpg"/>
          <p:cNvPicPr/>
          <p:nvPr/>
        </p:nvPicPr>
        <p:blipFill>
          <a:blip r:embed="rId1"/>
          <a:stretch/>
        </p:blipFill>
        <p:spPr>
          <a:xfrm>
            <a:off x="1285920" y="3000240"/>
            <a:ext cx="6786360" cy="181476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3"/>
          <p:cNvSpPr/>
          <p:nvPr/>
        </p:nvSpPr>
        <p:spPr>
          <a:xfrm>
            <a:off x="363960" y="300240"/>
            <a:ext cx="82076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утешествии дети попали к домику фокусн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до сначала расколдо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его, а потом постучаться.Например: первая фигурка должна быть треуголь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ой, маленькой и толст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т вторая – круглая, красная, не толстая и не маленькая. Значит, мы будем искать крас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й, тонкий кр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мечательно, когда помогает смекалка! Теперь можно посмотреть и фокус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"/>
          <p:cNvSpPr/>
          <p:nvPr/>
        </p:nvSpPr>
        <p:spPr>
          <a:xfrm>
            <a:off x="465480" y="6120"/>
            <a:ext cx="62935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старшей группе мы устроили конкурсную игровую програм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естики - нолик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дно из заданий командам было -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стройка замка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2" descr="http://www.u-mama.ru/img/news/00001_1061.jpg"/>
          <p:cNvPicPr/>
          <p:nvPr/>
        </p:nvPicPr>
        <p:blipFill>
          <a:blip r:embed="rId1"/>
          <a:stretch/>
        </p:blipFill>
        <p:spPr>
          <a:xfrm>
            <a:off x="928800" y="1357200"/>
            <a:ext cx="7215120" cy="188604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2"/>
          <p:cNvSpPr/>
          <p:nvPr/>
        </p:nvSpPr>
        <p:spPr>
          <a:xfrm>
            <a:off x="0" y="22680"/>
            <a:ext cx="871524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манды анализировали чертеж замка, подбирали необходимые кирпич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ала та команда, у которой замок был построен быстро и правильн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"/>
          <p:cNvSpPr/>
          <p:nvPr/>
        </p:nvSpPr>
        <p:spPr>
          <a:xfrm>
            <a:off x="453960" y="2880"/>
            <a:ext cx="7381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ДЕЛИ БЛОКИ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гра научит разбивать множество по двум, трем совместимым свойств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оизводить логические операци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е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Рисунок 2" descr="http://www.u-mama.ru/img/news/00001_1062.jpg"/>
          <p:cNvPicPr/>
          <p:nvPr/>
        </p:nvPicPr>
        <p:blipFill>
          <a:blip r:embed="rId1"/>
          <a:stretch/>
        </p:blipFill>
        <p:spPr>
          <a:xfrm>
            <a:off x="4000680" y="857160"/>
            <a:ext cx="4071600" cy="32860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2"/>
          <p:cNvSpPr/>
          <p:nvPr/>
        </p:nvSpPr>
        <p:spPr>
          <a:xfrm>
            <a:off x="573120" y="29880"/>
            <a:ext cx="8071920" cy="53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лесу переполох! Лиса, волк и медведь никак не могут поделить подарки деда Мороз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Дед Мороз сказал взять лисе все маленькие подарки, медведю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се толстые, а волку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кругл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Но вот беда, есть подарки и круглые и маленькие одновременно. Их должна взять и лиса и вол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есть подарки и круглые, и маленькие, и толстые! Ими могут играть все звери в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и пересекающихся обруча (ленточки, веревочки) помогли нам разобраться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ыясни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где чьи подарки, кто чем может пользоваться на правах совместной собственност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оугольник 1"/>
          <p:cNvSpPr/>
          <p:nvPr/>
        </p:nvSpPr>
        <p:spPr>
          <a:xfrm>
            <a:off x="714240" y="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Arial"/>
              </a:rPr>
              <a:t>«Развивалки" на х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2"/>
          <p:cNvSpPr/>
          <p:nvPr/>
        </p:nvSpPr>
        <p:spPr>
          <a:xfrm>
            <a:off x="285840" y="500040"/>
            <a:ext cx="84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1. Чаще считайте вместе с малышом все, чем вы пользуетесь в обыденной жизни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олько стульев стоит возле обеденного стола, сколько пар носок вы положили в стиральную машину, сколько картошек надо почистить, чтобы приготовить ужин. Пересчитывайте ступеньки в подъезде, окна в квартире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,  - дети любят счит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3"/>
          <p:cNvSpPr/>
          <p:nvPr/>
        </p:nvSpPr>
        <p:spPr>
          <a:xfrm>
            <a:off x="357120" y="2286000"/>
            <a:ext cx="821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2. Измеряйте разные вещи – дома или на улиц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ими ладошками или ступнями.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Помните мультик про 38 попугаев – отличный повод пересмотреть его и проверить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рост у мамы или папы, сколько ладошек «поместится» в любимом див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оберите несколько пустых коробок из-под обуви или подарков. Лучше всего делать это после дня рождения или Нового Года. Коробки можно купить и специально для этой цели: они не так дорого стоят. Желательно чтобы они укладывались друг в друга как матрешки. Разложите крышки отдельно, а коробки – отдельно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просите подобрать крышку к каждому контейнеру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Чем младше ребенок, тем меньше должно быть коробок. Двухлетний малыш с удовольствием повозится с 4-5 коробками, а вот 10 для него будет слишком м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Місце для нижнього колонтитула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Прямоугольник 1"/>
          <p:cNvSpPr/>
          <p:nvPr/>
        </p:nvSpPr>
        <p:spPr>
          <a:xfrm>
            <a:off x="214200" y="428760"/>
            <a:ext cx="8715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4. Купите «липкие» цифры из пенки, наклейте их на пустой контейнер – от 0 до 5.  Соберите разнообразные предметы: одну маленькую машинку или куклу, две больших пуговицы, три бусины, четыре ореха, пять прищепок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просите разложить их в контейнеры в соответствии с номером на крыш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Сделайте карточки с цифрами из картона и наждачной бумаги или бархата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ведите пальчиком малыша по этим цифрам и назовите их. Попросите показать вам 3, 2, 1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Теперь вытащите одну из карточек из коробки наугад и  предложите ребенк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ести столько предметов, сколько изображено на его карточке.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 Особенно интересно получить карточку с нулем, ведь ничто не сравнится с личным открытие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Охота на геометрические фигуры. Предложите малышу поиграть в охоту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ь он попробует найти что-нибудь похожее на круг и показать </a:t>
            </a: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вам. А теперь квадрат или прямоугольник. Играть в эту игру можно по дороге в детский 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ожите на столе ложку, вилку и тарелку особым образом. Попросите малыша повторить вашу композицию.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 Когда у него будет хорошо получаться, поставьте какой-нибудь экран между вами и малышом или сядьте спиной друг к другу. Предложите ему разложить свои предметы, а затем объяснить вам, как он это сделал. Вы должны повторить его действия, следуя лишь устным инструкциям. Тоже неплохая игра для того, чтобы занять время ожидания приема в поликли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оугольник 1"/>
          <p:cNvSpPr/>
          <p:nvPr/>
        </p:nvSpPr>
        <p:spPr>
          <a:xfrm>
            <a:off x="428760" y="357120"/>
            <a:ext cx="8501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8.Когда малыш или малышка купается, выдайте ему набор разнообразных чашек – мерных чашек, пластиковых кувшинчиков, воронок, разноцветных стаканчиков. Пусть переливает воду на здоровье. Поговорите о т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де воды больше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По Пиаже, это возраст интересных открытий для родителей. Налейте воду в два одинаковых стаканчика и спросите кроху, одинаково ли воды в обоих сосудах? А теперь перелейте воду из одного стаканчика в  высокий и тонкий стакан, а воду из другого стаканчика – в широкий и низкий стакан. Спросите, где больше? Скорее всего, ответ будет любопы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Поиграйте с ребенком в магазин. Купите игрушечные деньги или нарисуйте их сами. Рубли можно брать из экономических игр, вроде «Менеджер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Чаще готовьте еду вместе с малышом. Показывайте, как вы готовите то или иное блюдо, сколько продуктов берет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Используйте мерные чашки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, покажите, что для блинов нужно взять вот столько муки и вот столько сахара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2"/>
          <p:cNvSpPr/>
          <p:nvPr/>
        </p:nvSpPr>
        <p:spPr>
          <a:xfrm>
            <a:off x="1143000" y="785880"/>
            <a:ext cx="742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ЛБД  -       логические блоки З. Дьене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91581f"/>
                </a:solidFill>
                <a:latin typeface="Arial"/>
              </a:rPr>
              <a:t>развитие логического мышления</a:t>
            </a: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Рисунок 4" descr="http://www.u-mama.ru/img/news/00001_1051.jpg"/>
          <p:cNvPicPr/>
          <p:nvPr/>
        </p:nvPicPr>
        <p:blipFill>
          <a:blip r:embed="rId1"/>
          <a:stretch/>
        </p:blipFill>
        <p:spPr>
          <a:xfrm>
            <a:off x="1785960" y="1857240"/>
            <a:ext cx="6072120" cy="414360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1"/>
          <p:cNvSpPr/>
          <p:nvPr/>
        </p:nvSpPr>
        <p:spPr>
          <a:xfrm>
            <a:off x="-40147920" y="-428760"/>
            <a:ext cx="1828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ие блоки Дьенеша представляют соб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ор из 48 геометрических фигу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четырех форм (круг, треугольник, квадра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угольник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четырех цветов (красный, синий, желты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двух размеров (большой, маленьк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двух видов толщины (толстый, тонки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ая геометрическая фиг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изуется четырьмя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ой, цветом, размером, толщи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боре нет ни одной одинаковой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428760" y="720360"/>
            <a:ext cx="821520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Логические блоки Дьенеша представляют собой набор из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48 геометрических фигур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а) четырех форм (круг, треугольник, квадрат, прямоугольник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б) четырех цветов (красный, синий, желты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) двух размеров (большой, маленьк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г) двух видов толщины (толстый, тонки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Каждая геометрическая фигура характеризуется четырьмя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формой, цветом, размером,толщи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наборе нет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ни одной одинаковой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4"/>
          <p:cNvSpPr/>
          <p:nvPr/>
        </p:nvSpPr>
        <p:spPr>
          <a:xfrm>
            <a:off x="371880" y="27720"/>
            <a:ext cx="4364280" cy="52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 многих играх с логически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ами используются карточ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 символами свой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мство ребенка с симво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важная ступенька в освоении вс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вой культур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грамоты математиче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имволов, программирования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чках условно обозначе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а бло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цвет, форма, размер, толщина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го 11 карто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+ 11 карточ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отрицанием свойст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 красный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Рисунок 5" descr="http://www.u-mama.ru/img/news/00001_1052.jpg"/>
          <p:cNvPicPr/>
          <p:nvPr/>
        </p:nvPicPr>
        <p:blipFill>
          <a:blip r:embed="rId1"/>
          <a:stretch/>
        </p:blipFill>
        <p:spPr>
          <a:xfrm>
            <a:off x="5072040" y="1214280"/>
            <a:ext cx="3429000" cy="514368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1"/>
          <p:cNvSpPr/>
          <p:nvPr/>
        </p:nvSpPr>
        <p:spPr>
          <a:xfrm flipV="1" rot="10800000">
            <a:off x="3935520" y="713880"/>
            <a:ext cx="127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 – 1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0" y="-949320"/>
            <a:ext cx="8643960" cy="73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знакомить с формой, цветом, размером, толщиной объек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ространственные представ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логическое мышление, представление о множеств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и над множеств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(сравнение, разбиение, классификация, абстрагирование, код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декодирование информации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воить элементарные навыки алгоритмической культуры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умения выявлять свойства в объектах, называть и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общать объекты по их свойств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ъяснять сходства и различия объектов, обосновывать свои рассуж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ознавательные процессы, мыслительные опер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спитывать самостоятельность, инициативу, настойчив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достижении ц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творческие способности, воображ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фантазию, способности к моделированию и конструирова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реч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пешно овладеть основами математики и информа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"/>
          <p:cNvSpPr/>
          <p:nvPr/>
        </p:nvSpPr>
        <p:spPr>
          <a:xfrm>
            <a:off x="280080" y="82440"/>
            <a:ext cx="819324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 игры и игровые упражнения можно раздел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4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постепенным усложне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выявлять и абстрагировать свой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сравнивать предметы по их свойств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действий классификации и обоб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способности к логическим действиям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ям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2"/>
          <p:cNvSpPr/>
          <p:nvPr/>
        </p:nvSpPr>
        <p:spPr>
          <a:xfrm>
            <a:off x="2286000" y="2828880"/>
            <a:ext cx="45720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Arial"/>
              </a:rPr>
              <a:t>Все игры и упражнения, за исключением четвёртой группы (логические), не адресуются конкретному возра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1" descr="http://www.u-mama.ru/img/news/00001_1053.jpg"/>
          <p:cNvPicPr/>
          <p:nvPr/>
        </p:nvPicPr>
        <p:blipFill>
          <a:blip r:embed="rId1"/>
          <a:stretch/>
        </p:blipFill>
        <p:spPr>
          <a:xfrm>
            <a:off x="3629160" y="2457360"/>
            <a:ext cx="1885680" cy="19432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"/>
          <p:cNvSpPr/>
          <p:nvPr/>
        </p:nvSpPr>
        <p:spPr>
          <a:xfrm>
            <a:off x="506880" y="8280"/>
            <a:ext cx="6944040" cy="17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ДОВЫЙ ЗАМОК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ил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ЕТИЙ ЛИШНИЙ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нку выкладываются 3 фигур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Две можно объединить по какому-то свойству, одн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лишня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518400" y="32760"/>
            <a:ext cx="6781320" cy="59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а замком может быть что угодно: сюрприз, вход в комнат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рога на прогулку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…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Ребенок должен открыть замок: догадаться, на какую кнопку наж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объяснить, поче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ут лишняя красная фигура. Потому что эти обе желт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жимаем на красную фигурк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1" descr="http://www.u-mama.ru/img/news/00001_1054.jpg"/>
          <p:cNvPicPr/>
          <p:nvPr/>
        </p:nvPicPr>
        <p:blipFill>
          <a:blip r:embed="rId1"/>
          <a:stretch/>
        </p:blipFill>
        <p:spPr>
          <a:xfrm>
            <a:off x="5643720" y="2357280"/>
            <a:ext cx="2857320" cy="21052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"/>
          <p:cNvSpPr/>
          <p:nvPr/>
        </p:nvSpPr>
        <p:spPr>
          <a:xfrm>
            <a:off x="525240" y="8280"/>
            <a:ext cx="659340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ЙДИ КЛАД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 или 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КУДА СПРЯТАЛСЯ ЩЕНОК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еред ребенком лежат 8 блоков, спрятана моне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 картинк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ще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0" y="-2310120"/>
            <a:ext cx="6523200" cy="84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Verdana"/>
                <a:ea typeface="Times New Roman"/>
              </a:rPr>
              <a:t>1 вариан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Кладоискатель отворачивается, ведущий под одним из блоко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ячет клад. Кладоиска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щет его, называя раз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личные свойства блоков. Если малы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ходит клад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то забирает его себе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под одним из блоков прячет новый клад.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Ведущий вначал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сам выполняе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роль кладоискател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пока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зывает, как вести поиск клада. Называет различ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блок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, ведущий спрашивает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Клад под синим блоко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, 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—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отвечает ребенок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желт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асн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больши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угл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ывает тот, кто найдет больше кладов. При повторении игры блоки меняю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увеличивается их количество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556920" y="11520"/>
            <a:ext cx="576468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2 вари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едущий говори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щенок спрятался под красным, большим круг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Можно карточками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символами написать письм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Рисунок 2" descr="http://www.u-mama.ru/img/news/00001_1055.jpg"/>
          <p:cNvPicPr/>
          <p:nvPr/>
        </p:nvPicPr>
        <p:blipFill>
          <a:blip r:embed="rId1"/>
          <a:stretch/>
        </p:blipFill>
        <p:spPr>
          <a:xfrm>
            <a:off x="714240" y="2500200"/>
            <a:ext cx="7643880" cy="271476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2:46:08Z</dcterms:created>
  <dc:creator>86091</dc:creator>
  <dc:description/>
  <dc:language>en-US</dc:language>
  <cp:lastModifiedBy>LEGION</cp:lastModifiedBy>
  <dcterms:modified xsi:type="dcterms:W3CDTF">2015-01-27T12:14:58Z</dcterms:modified>
  <cp:revision>29</cp:revision>
  <dc:subject/>
  <dc:title>Слайд 1</dc:title>
</cp:coreProperties>
</file>