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B58B-0C11-445C-B516-435A9552571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ниторинг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образова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1BB5-BB5B-41FE-A269-8A85DA8E3E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иды мониторин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уровням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школь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район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областной (региональный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федераль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3D51-6F9E-4D55-8B64-EE53CB0E9B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азличия между мониторингом и исследование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ладая признаками эмпирического исследования,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ониторинг имеет следующие существенные отлич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чина возникнов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отсутствие качественной информации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(причина любого научного исследования – осознание недостаточности имеющихся знаний для удовлетворительного описания какого-либо явления)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C1DF-9254-429F-8615-B02FFDD942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ег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зультат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ценны в ограниченный период времени: чем выше динамика развития системы, тем короче период ценности дан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научное исследование предполагает минимизацию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личества показателе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для мониторинга важен более широкий выбо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EE64-8007-4260-958D-1C5F8600BF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мониторинг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лизок к наблюдению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он не предполагает на этапе проведения вмешательства в функционирование сист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мониторинг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имеет целью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одтверждение или опровержение гипотез, хотя в результате могут быть получены данные, имеющие научную ц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3796-478A-4674-93B7-E065B6DFF6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рганизация мониторин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нципы мониторин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Объективность информации: процесс мониторинга должен опираться на объективные, максимально формализованные и легко проверяемые да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Сравнимость данных: мониторинг предполагает не только констатацию состояния системы, но и изучение ее изменений. Возможность для сравнения появляется только тогда, когда изучается один и тот же объект на основе одинаковых показ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B666-0554-4778-A77C-0E710B06E1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нципы мониторин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декватность: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полагает изучение системы с учетом изменяющихся внешних условий (на соответствие и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рогностичность: получение данных, позволяющих прогнозировать будущее системы, возможные изменения в путях достижения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ринцип целевого назначения: получение необходимой и достаточной информации, исходя из обозначенной цели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D99A-6AB5-4387-AE51-450F1D017A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рганизация мониторин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акторы и условия проведения мониторин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чество инструментар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контролируемый фактор; общеметодологические требования к инструменту – валидность, надежность, удобство использования, соответствие целям обследования, корректность статистических процедур, стандартизированность, апробированность и т.д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5378-3E50-4D1B-813F-2F7A160EF4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фессионализм и подготовленность специалисто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контролируемый фактор; процесс измерения разбивается на несколько этапов: создание инструментария, измерения, интерпретация результатов, подготовка рекомендаций, которые могут использовать специалис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зменение экспертов в процессе измер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контролируемый при определенных условиях фактор; причина изменений – научение, появление опыта, согласование позиций, когда мнение одного, более авторитетного эксперта начинает смещать оценки друг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CA39-188C-4748-9236-36B8D1B341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татистическая регресс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искажение результатов в процессе обслед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циклич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неконтролируемый, но учитываемый фактор; социальные процессы имеют ярко выраженный циклический характер, что необходимо учитыв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тбор испытуемы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арианты отбора и формирование экспериментальных групп – один из центральных факторов, контроль за которым позволяет не только выровнять оценки, но и решить проблему распространения результатов обследования на более широкую аудитор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7073-EAC8-4F63-A6CE-7A2CB69519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рушение в информационных потока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объект измерения может обладать информацией, специальное знакомство с которой при измерении не предполагается, или часть этой информации отсутствует, или владение информацией недостаточн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личные мотивации участников в естественных условия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часто оказывается, что одни и те же действия в ситуациях управления осуществляются с неодинаковыми цел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ффект повторного измер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если какое-то задание уже выполнялось, это скажется на его повторении. Вопрос в том, при каких условиях можно считать такие влияния достаточно малыми с точки зрения их воздействия на конечный результ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A3F7-E6CB-4361-9235-F02761BE0C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пределение понятия «мониторинг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сбора, обработки, хранения и распространения информации об образовательной системе или отдельных ее элементах, ориентированная на информационное обеспечение управления, которая позволяет судить о состоянии объекта в любой момент времени и может обеспечить прогноз его развития (А.Н. Майоров, Т.А. Степанова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E359-9602-4698-B34C-E452780FCF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зменение группы под влиянием отношений окружающих, вызванных экспериментальным влияние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 экспериментальных условиях люди начинают оценивать  свое положение относительно тех, кто в такие условия не попал. Если эти оценки активно поддерживаются окружением, то у представителей группы начинает вырабатываться иная система оцени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рупповая фальсификация результато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респонденты договариваются, какие оценки будут дав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BB30-AD30-41A5-A6E0-33536EAF55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зменение группы в процессе эксперимент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изменения могут иметь как случайный, так и системный характер; они могут быть естественными и спровоцированн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стественное развити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 процессе эксперимента происходит естественное развитие как всей группы, так и ее отдельных членов; чем меньше дети, тем динамика их развития больш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циально-территориальные особенности групп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ыбирая, например, в качестве единицы измерения класс, чтобы не получить смещенных оценок и иметь возможность для корректного сравнения, необходимо учитывать его социально-демографические характерис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2053-08FF-4874-8C93-B2362B0AD6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ные события для разных групп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различные воздействия в межэкспериментальный период могут вызвать различные смещения оцен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личия во внутренней жизни групп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существуют объективные закономерности жизни группы, связанные с ее морфологией и определяющие качественные изменения, различные в каждом конкретном случа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личия в скорости протекания внутригрупповых процессо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экспериментальное или управленческое воздействие на группы могут дать одинаковый эффект, но скорость их проявления может быть разной. Существует реальная опасность зафиксировать отсутствие эффекта, хотя он просто еще не проявил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5819-686B-4A2A-B162-7FC994BF35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словия, вызывающие реакцию на эксперимен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реальные изменения, наблюдаемые в условиях и вне эксперимента, могут оказаться неэквивалентн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терференция воздейств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озникает тогда, когда один и тот же испытуеый подвергается различным воздействиям, разнесенным по време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инергиз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 случае совместного проявления некоторых воздействий, одно из которых может иметь естественный, а другое экспериментальный (отслеживаемый) характер, эффект может превзойти предполагаемые и вероятные эффекты каждого из них. Существует опасность восприятия эксперимента как неудавшего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8076-9540-4380-8265-8CB7764D88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мпенсатор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один эффект может компенсировать другой: два или несколько воздействий, проявляясь одновременно, могут скомпенсировать эффект, который вызывается иными событиями. Например, повышение субъективных оценок уровня удовлетворенности заработной платой при наличии дополнительных возможностей для твор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548C-7995-4628-82E5-4B3723AB4F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рганизационно-правовые основы мониторинга в О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ожение о службе мониторинга (задачи, направления, содержание деятельности службы, права и обязанности членов, формы отчета, сроки предоставления) – утверждается на педсове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 о составе службы мониторинга на текущий учебный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ъекты мониторинговой оценки зафиксированы в годовом плане, программе развития, образовательной програм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4DDB-5CC2-4BFF-9757-F0826848BF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ритерии эффективности мониторинга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.Г.Горб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этически выдержана и не нарушает личностных прав субъектов образователь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способствует конкретизации личностных и групповых целей образовательной деятельности ДО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рректно заданы норм и стандарты мониторинговой оц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помогает лучше оценивать уровень профессиональной подготовки и определять наиболее эффективные пути профессионального совершенствования педаг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мотивирует индивида к повышению своего профессионального уровня и стимулирует личностное само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B7D2-4D04-441C-845D-8A737E9E61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ритерии эффективности мониторинга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.Г.Горб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способствует конструктивному диалогу между участниками образователь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создает условия для рационального разрешения проблем, возникающих в профессиональной групп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носит неагрессивный характер и в достаточной степени доступна всем субъектам образователь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способствует повышению культуры 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помогает оценить качество реализации в образовательном процессе требований Государственного образовательного станда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E7C4-FBB3-48A4-B4AF-E31DC432CD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ческая карта монитор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рмативно-установоч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алитико-диагност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гност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ятельностно-технолог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межуточно-диагност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тогово-диагност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о-метод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D4D7-D4B9-45B2-A4D2-88ED06C8DE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феры применения мониторин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областям примен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 экологии, биологии, медицине, экономике, бизнесе, в промышленности и образован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средствам провед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дагогический, психологический, социологический, медицинский, демографический мониторин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способам сбора информа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 гр. – непосредственное описание объектов без каких-либо измен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 гр.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посредственное физическое измерение параметров объе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 гр. – параметры объекта измеряются с использованием хорошо разработанных и общепринятых критериев или индикат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 гр. – измерение проводится опосредованно, с привлечением технологий научного исследования, использованием особо оговоренных систем критериев и показ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1D8E-F2A6-4B71-8397-AC76601D67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истемы мониторинга в образован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-я гр. – накопление и структуризация информации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#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мониторинг законодательной базы управления образованием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-я гр. – мониторинг развития знаний уч-ся ( модель «цель – результат» и учет характеристик процесса обучения; объект – знания ученика, по которым допускаются выводы о ситуации в учебной групп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F19E-E338-407B-865E-409F729916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иды мониторин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целя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формацион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предполагает структуризацию, накопление, распространение информации 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редусматривает специально организованного обследования на этапе сбора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азов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ыявляет проблемы и опасности до того, как они будут осознаны в сфере управ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FF6F-721E-4094-9946-C5F6218344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блем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позволяет исследовать закономерности процессов, степени опасностей, типологию проблем, известных и насущных с точки зрения у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правленческ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ставит целью отслеживать и оценивать эффективность, последствия и вторичные эффекты принятых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1FE2-0355-4BED-AA0F-AC70C45540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иды мониторин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основаниям экспертиз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инамическ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основанием для экспертизы служат данные о динамике развития объекта, явления или показате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курент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ыбираются результаты идентичного обследования других образовательных сист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равнитель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 качестве основания выступают результаты идентичного обследования одной или двух систем более высокого уровн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B1E6-14FA-463A-BD0F-BEAD484BDC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мплекс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используется несколько оснований для экспертиз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езосновн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предметом анализа являются результаты, полученные в одном исследовании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акой способ не может быть корректным, но существует, порождая массу ошибок и недоразум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1075-16DE-43F9-A4CE-5A63CC1C35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A3E52-CE5C-4BE3-944E-E816CD24C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990FF-A5C6-4100-94F7-6B32D412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66387-A9E1-4C7E-97CC-5C223DBEA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A37D6-5749-41C6-846B-25B010D60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F870-AEBE-4338-839F-1BB92105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AADC-BD66-4024-89EC-5FCEB554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19A5-62E9-42D4-8E07-75DAABB0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4FFF-6C55-46D2-94C7-A584320F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435E-A51B-4A11-BAF6-071A2CA3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64E9-F963-4DB4-8B9F-2E462E60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1132-7FBE-4BE5-81AD-23572D74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AD89D-6E16-42DB-B864-975D9018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7D71-696B-4D8B-A7DC-220D9F2B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4DED-05CC-43D8-B7FA-B35A22BA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C146-3277-424F-9C66-83BC76D2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4E76-4ACA-44E4-89EA-F3C50B5D1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3E11-C8E9-4CBB-B457-4360328CE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075F0-F724-4AF1-80D5-7F3787DB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FFE0F-B69C-4BB7-8F90-240458FB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B788F-51D6-4615-91BB-9F3CC9A0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1BCF2-103A-47E3-9FC8-C9577E9E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7B153-8F6A-4691-9F36-F5F19E69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E7DF6-3212-4E90-A139-62867928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97BFC-7DE7-40E9-93E3-B1B607EC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EEC2-CE7B-4178-9D49-EDE7441AC0A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8913-4C82-4173-BAC8-1B2B9B0B03C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Мониторинг </a:t>
            </a:r>
            <a:br>
              <a:rPr sz="5000"/>
            </a:b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в образовании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ды мониторин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уровням управ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школь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райо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областной (региональный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федераль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9152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зличия между мониторингом и исследова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ладая признаками эмпирического исследования,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ониторинг имеет следующие существенные отлич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ичина возникнове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отсутствие качественной информаци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причина любого научного исследования – осознание недостаточности имеющихся знаний для удовлетворительного описания какого-либо явлени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его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ценны в ограниченный период времени: чем выше динамика развития системы, тем короче период ценности данны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научное исследование предполагает минимизацию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личества показателе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для мониторинга важен более широкий выбо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мониторинг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близок к наблюдению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он не предполагает на этапе проведения вмешательства в функционирование систе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мониторинг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 имеет целью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одтверждение или опровержение гипотез, хотя в результате могут быть получены данные, имеющие научную цен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рганизация мониторин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нципы мониторин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Объективность информации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сс мониторинга должен опираться на объективные, максимально формализованные и легко проверяемые дан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Сравнимость данных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ниторинг предполагает не только констатацию состояния системы, но и изучение ее изменений. Возможность для сравнения появляется только тогда, когда изучается один и тот же объект на основе одинаковых показа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нципы мониторин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декватность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лагает изучение системы с учетом изменяющихся внешних условий (на соответствие и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Прогностичность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чение данных, позволяющих прогнозировать будущее системы, возможные изменения в путях достижения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Принцип целевого назначения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чение необходимой и достаточной информации, исходя из обозначенной цели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рганизация мониторин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акторы и условия проведения мониторин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ачество инструментар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ируемый фактор; общеметодологические требования к инструменту – валидность, надежность, удобство использования, соответствие целям обследования, корректность статистических процедур, стандартизированность, апробированность и т.д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87854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офессионализм и подготовленность специалист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тролируемый фактор; процесс измерения разбивается на несколько этапов: создание инструментария, измерения, интерпретация результатов, подготовка рекомендаций, которые могут использовать специалис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зменение экспертов в процессе измере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тролируемый при определенных условиях фактор; причина изменений – научение, появление опыта, согласование позиций, когда мнение одного, более авторитетного эксперта начинает смещать оценки други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0920" y="549360"/>
            <a:ext cx="86421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атистическая регресс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кажение результатов в процессе обслед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цикличнос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контролируемый, но учитываемый фактор; социальные процессы имеют ярко выраженный циклический характер, что необходимо учитыва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тбор испытуем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ы отбора и формирование экспериментальных групп – один из центральных факторов, контроль за которым позволяет не только выровнять оценки, но и решить проблему распространения результатов обследования на более широкую аудитор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рушение в информационных потока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ъект измерения может обладать информацией, специальное знакомство с которой при измерении не предполагается, или часть этой информации отсутствует, или владение информацией недостаточ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зличные мотивации участников в естественных условия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о оказывается, что одни и те же действия в ситуациях управления осуществляются с неодинаковыми цел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эффект повторного измере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какое-то задание уже выполнялось, это скажется на его повторении. Вопрос в том, при каких условиях можно считать такие влияния достаточно малыми с точки зрения их воздействия на конечный результ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628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еление понятия «мониторинг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стема сбора, обработки, хранения и распространения информации об образовательной системе или отдельных ее элементах, ориентированная на информационное обеспечение управления, которая позволяет судить о состоянии объекта в любой момент времени и может обеспечить прогноз его развития (А.Н. Майоров, Т.А. Степанова и д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4216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зменение группы под влиянием отношений окружающих, вызванных экспериментальным влияние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экспериментальных условиях люди начинают оценивать  свое положение относительно тех, кто в такие условия не попал. Если эти оценки активно поддерживаются окружением, то у представителей группы начинает вырабатываться иная система оцени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рупповая фальсификация результат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спонденты договариваются, какие оценки будут дава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713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зменение группы в процессе эксперимент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ия могут иметь как случайный, так и системный характер; они могут быть естественными и спровоцированны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естественное развит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роцессе эксперимента происходит естественное развитие как всей группы, так и ее отдельных членов; чем меньше дети, тем динамика их развития больш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циально-территориальные особенности групп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ирая, например, в качестве единицы измерения класс, чтобы не получить смещенных оценок и иметь возможность для корректного сравнения, необходимо учитывать его социально-демографические характерист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зные события для разных групп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азличные воздействия в межэкспериментальный период могут вызвать различные смещения оцен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зличия во внутренней жизни групп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ществуют объективные закономерности жизни группы, связанные с ее морфологией и определяющие качественные изменения, различные в каждом конкретном случа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зличия в скорости протекания внутригрупповых процесс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периментальное или управленческое воздействие на группы могут дать одинаковый эффект, но скорость их проявления может быть разной. Существует реальная опасность зафиксировать отсутствие эффекта, хотя он просто еще не проявил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8920" y="476280"/>
            <a:ext cx="8713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словия, вызывающие реакцию на эксперимен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альные изменения, наблюдаемые в условиях и вне эксперимента, могут оказаться неэквивалентны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нтерференция воздействи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никает тогда, когда один и тот же испытуеый подвергается различным воздействиям, разнесенным по време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инергиз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лучае совместного проявления некоторых воздействий, одно из которых может иметь естественный, а другое экспериментальный (отслеживаемый) характер, эффект может превзойти предполагаемые и вероятные эффекты каждого из них. Существует опасность восприятия эксперимента как неудавшего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000" y="765000"/>
            <a:ext cx="8218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мпенсаторнос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ин эффект может компенсировать другой: два или несколько воздействий, проявляясь одновременно, могут скомпенсировать эффект, который вызывается иными событиями. Например, повышение субъективных оценок уровня удовлетворенности заработной платой при наличии дополнительных возможностей для твор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3628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рганизационно-правовые основы мониторинга в О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ожение о службе мониторинга (задачи, направления, содержание деятельности службы, права и обязанности членов, формы отчета, сроки предоставления) – утверждается на педсове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каз о составе службы мониторинга на текущий учебный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кты мониторинговой оценки зафиксированы в годовом плане, программе развития, образовательной програм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итерии эффективности мониторинга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Г.Горб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этически выдержана и не нарушает личностных прав субъектов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способствует конкретизации личностных и групповых целей образовательной деятельности Д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ректно заданы норм и стандарты мониторинговой оце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помогает лучше оценивать уровень профессиональной подготовки и определять наиболее эффективные пути профессионального совершенствования 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мотивирует индивида к повышению своего профессионального уровня и стимулирует личностное само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итерии эффективности мониторинга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Г.Горб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способствует конструктивному диалогу между участниками образовате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создает условия для рационального разрешения проблем, возникающих в профессиональной груп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носит неагрессивный характер и в достаточной степени доступна всем субъектам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способствует повышению культуры 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помогает оценить качество реализации в образовательном процессе требований Государственного образовательного станда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хнологическая карта мониторин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5075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рмативно-установочны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алитико-диагност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гност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ятельностно-технолог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межуточно-диагност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тогово-диагност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учно-метод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феры применения мониторин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3628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 областям примен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в экологии, биологии, медицине, экономике, бизнесе, в промышленности и образовани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 средствам провед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дагогический, психологический, социологический, медицинский, демографический мониторин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 способам сбора информац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гр. – непосредственное описание объектов без каких-либо изменен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гр.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осредственное физическое измерение параметров объек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гр. – параметры объекта измеряются с использованием хорошо разработанных и общепринятых критериев или индикато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гр. – измерение проводится опосредованно, с привлечением технологий научного исследования, использованием особо оговоренных систем критериев и показа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3628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истемы мониторинга в образов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-я гр. – накопление и структуризация информации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мониторинг законодательной базы управления образованием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-я гр. – мониторинг развития знаний уч-ся ( модель «цель – результат» и учет характеристик процесса обучения; объект – знания ученика, по которым допускаются выводы о ситуации в учебной групп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-я гр. – построены по модели «вход – выход» ( в качестве входа – характеристики ученика, на выходе – эффект влияния школы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-я гр. – системы мониторинга на уровне ОУ (попытка оценить эффективность той или иной технологии обучения, выделить факторы, влияющие на качество обучения, найти примеры связи квалификации педагога и результатов преподавания и т.д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ды мониторин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целя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нформационны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предполагает структуризацию, накопление, распространение информации 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редусматривает специально организованного обследования на этапе сбора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базовы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выявляет проблемы и опасности до того, как они будут осознаны в сфере управл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облемны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позволяет исследовать закономерности процессов, степени опасностей, типологию проблем, известных и насущных с точки зрения управл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правленчески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ставит целью отслеживать и оценивать эффективность, последствия и вторичные эффекты принятых ре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ды мониторин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основаниям экспертиз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динамически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основанием для экспертизы служат данные о динамике развития объекта, явления или показате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онкурентны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выбираются результаты идентичного обследования других образовательных сист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равнительны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в качестве основания выступают результаты идентичного обследования одной или двух систем более высокого уровн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мплексны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используется несколько оснований для экспертиз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безосновно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предметом анализа являются результаты, полученные в одном исследовании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акой способ не может быть корректным, но существует, порождая массу ошибок и недоразум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2T12:59:49Z</dcterms:created>
  <dc:creator>Чистякова Л.А.</dc:creator>
  <dc:description/>
  <dc:language>en-US</dc:language>
  <cp:lastModifiedBy>LEGION</cp:lastModifiedBy>
  <dcterms:modified xsi:type="dcterms:W3CDTF">2015-01-27T12:15:50Z</dcterms:modified>
  <cp:revision>12</cp:revision>
  <dc:subject/>
  <dc:title>Мониторинг  в образовании </dc:title>
</cp:coreProperties>
</file>