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176B-494B-441E-B769-F5F0E06904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6E13-5B33-4917-B820-A72E3969F9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уровням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школь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йо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ластной (региональны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едера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3F7D-6245-4519-AC79-B67757DEB7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личия между мониторингом и исследовани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ладая признаками эмпирического исследовани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ниторинг имеет следующие существенные отлич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а возникнов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тсутствие качественной информации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BB04-B147-4F96-930F-679D3B32EC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е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е исследование предполагает минимизаци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а показате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ля мониторинга важен более широкий выб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1CB8-3419-4130-A5D3-4B330E6BAF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лизок к наблюден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не предполагает на этапе проведения вмешательства в функционирование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ет цел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AAC7-EDDF-4CC4-9C2C-F14FF22578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ъективность информации: процесс мониторинга должен опираться на объективные, максимально формализованные и легко проверяемые д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равнимость данных: 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D4CE-F0B0-4823-8CC2-2AE757AD2B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екватность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гностичность: получение данных, позволяющих прогнозировать будущее системы, возможные изменения в путях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инцип целевого назначения: получение необходимой и достаточной информации, исходя из обозначенной цел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DDB0-67D1-478C-AE77-61F3F0E297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акторы и условия проведения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о инструментар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A7B8-C756-4CBA-BA9C-3DF931201F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изм и подготовленность специалис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экспертов в процессе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8F43-E8AD-4CF9-8BE6-671A4528F8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тистическая регресс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кажение результатов в процессе об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ик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бор испытуем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ED9F-4DB2-441F-BAC4-1C1B0A6270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в информационных поток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ные мотивации участников в естественных условия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часто оказывается, что одни и те же действия в ситуациях управления осуществляются с неодинаковыми ц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ффект повторного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8C4A-C261-484F-802C-8AE7C486A0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нятия «мониторинг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AD05-822A-46C9-801D-9ED655C270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рупповая фальсификация результа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спонденты договариваются, какие оценки будут да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F455-FDA3-4503-A03D-B8E67F9E58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в процессе эксперимен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тественное развит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о-территориальные особенности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606E-A9F6-4773-9154-4ED022225B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ные события для разных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азличные воздействия в межэкспериментальный период могут вызвать различные смещения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о внутренней жизни групп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 скорости протекания внутригрупповых процес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AF0C-43BE-4739-9168-C57D83316C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словия, вызывающие реакцию на эксперим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альные изменения, наблюдаемые в условиях и вне эксперимента, могут оказаться неэквивалент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терференция воздейств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озникает тогда, когда один и тот же испытуеый подвергается различным воздействиям, разнесенным по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ергиз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798F-C5E4-4909-A916-137700009C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енсатор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87E6-F055-4544-A9A2-86298AFE30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-правовые основы мониторинга в 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о составе службы мониторинга на текущий учебны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A5B9-D1F1-4BAF-850C-8248B3A314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ректно заданы норм и стандарты мониторингов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32ED-84CB-4F4C-91E7-4D0B5D680E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повышению культуры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EF89-EF91-4C15-B8B8-FE5CA9A77B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арт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ативно-установоч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к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но-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тогов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метод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0B7F-F0B4-4108-AA41-5A183B9033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феры применен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областям примен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редствам прове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пособам сбора информ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гр. – непосредственное описание объектов без каких-либо изме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гр.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посредственное физическое измерение параметров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0D81-BAB7-48D5-AB4A-736B6F8D40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стемы мониторинга в образован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я гр. – накопление и структуризация информации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мониторинг законодательной базы управления образовани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D456-5F5F-49F1-9C9C-7B68812DEA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цел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полагает структуризацию, накопление, распространение информации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редусматривает специально организованного обследования на этапе сбора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азо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являет проблемы и опасности до того, как они будут осознаны в сфере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D060-BCF5-4496-AEC4-9E7C5FF152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влен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720D-55E1-480E-BBCC-FCFA5CD2B8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снованиям эксперти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нами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курент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ются результаты идентичного обследования других образователь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итель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1A14-310F-43D5-80B5-E76724C26E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пользуется несколько оснований для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снов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метом анализа являются результаты, полученные в одном исследовании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96C0-E751-4846-92C8-467C6A3160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9343-A75C-47BC-B71F-4E854119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B713-C49A-4ADA-A141-D6D5F134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CA4C-5564-4D47-B31D-DFB789AB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E771-D013-4DF4-AAFA-AB6E6904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BAD6-FDD2-4001-98A4-89C40EF2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440B-059C-47AE-A8CC-9FEF000E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48EC-89FD-4947-8466-9FEE8010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6B12-D778-465F-9C19-24B5139D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B6CE-5139-4388-A33B-A679D602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60C0-3F7E-4D4F-BE33-9EC8FAC3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0733-17F1-47D6-9296-5A095732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BA8F-D6E6-40C3-B3A4-A5D02D27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7799-5C12-4E55-9B5E-124A5E2F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400D-FE66-4957-B027-BD5CB6DA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6F7C-2B63-4D48-94A1-C25F9B66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7695-0B81-40B1-AFB2-CEE012E1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8BF0-C114-4379-8300-2BA07457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8782-FF68-42C2-95C3-45E08D05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0A9C-3CD1-4AA2-BF18-46F718EE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079E-32BE-42C0-A24A-384358EA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A716-B370-4758-8F46-EBBE8450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F93F-E487-4049-84BE-1FAD7F12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916B-C695-462D-BDD5-9BC234F3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0A2F-B3F3-4F0B-BCFE-230BAA89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6BAB-8E9B-4464-8204-40E70BEB01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F349-F069-4D60-8C09-F8B0DD661A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ониторинг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 образовании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ровням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шко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й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ластной (региональны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федера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личия между мониторингом и исследов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дая признаками эмпирического исследования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ниторинг имеет следующие существенные отлич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чина возникнов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тсутствие качественной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г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учное исследование предполагает минимизацию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а показател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ля мониторинга важен более широкий вы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лизок к наблюдени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н не предполагает на этапе проведения вмешательства в функционирование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имеет цель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ъективность информаци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мониторинга должен опираться на объективные, максимально формализованные и легко проверяемые 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равнимость данных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екватность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огностичнос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данных, позволяющих прогнозировать будущее системы, возможные изменения в путях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инцип целевого на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необходимой и достаточной информации, исходя из обозначенной цел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торы и условия провед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чество инструментар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изм и подготовленность специалис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экспертов в процессе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тистическая регресс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ажение результатов в процессе об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иклич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бор испытуем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ушение в информационных потока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ные мотивации участников в естественных условия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оказывается, что одни и те же действия в ситуациях управления осуществляются с неодинаковыми ц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ффект повторного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понятия «мониторинг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овая фальсификация результа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понденты договариваются, какие оценки будут да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в процессе эксперимен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ое развит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циально-территориальные особенности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ные события для разных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личные воздействия в межэкспериментальный период могут вызвать различные смещения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о внутренней жизни групп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 скорости протекания внутригрупповых процес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словия, вызывающие реакцию на эксперимен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е изменения, наблюдаемые в условиях и вне эксперимента, могут оказаться неэквивалент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ференция воздейств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тогда, когда один и тот же испытуеый подвергается различным воздействиям, разнесенным по време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нергиз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енсатор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62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зационно-правовые основы мониторинга в 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аз о составе службы мониторинга на текущий учебны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тно заданы норм и стандарты мониторинговой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повышению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ческая карта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о-установоч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к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но-технолог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межуточн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огов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-метод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еры примен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362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областям приме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редствам провед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пособам сбора 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р. – непосредственное описание объектов без каких-либо измен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средственное физическое измерение параметров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ы мониторинга в образ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я гр. – накопление и структуризация информаци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ониторинг законодательной базы управления образование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-я гр. – построены по модели «вход – выход» ( в качестве входа – характеристики ученика, на выходе – эффект влияния школ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-я гр. – системы мониторинга на уровне ОУ (попытка оценить эффективность той или иной технологии обучения, выделить факторы, влияющие на качество обучения, найти примеры связи квалификации педагога и результатов преподавания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цел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полагает структуризацию, накопление, распространение информации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едусматривает специально организованного обследования на этапе с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азов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выявляет проблемы и опасности до того, как они будут осознаны в сфере упра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блем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правленческ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нованиям эксперти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курент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ыбираются результаты идентичного обследования других образовательных сис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лекс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используется несколько оснований для эксперти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зоснов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метом анализа являются результаты, полученные в одном исследовани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2:59:49Z</dcterms:created>
  <dc:creator>Чистякова Л.А.</dc:creator>
  <dc:description/>
  <dc:language>en-US</dc:language>
  <cp:lastModifiedBy>LEGION</cp:lastModifiedBy>
  <dcterms:modified xsi:type="dcterms:W3CDTF">2015-01-27T12:15:50Z</dcterms:modified>
  <cp:revision>12</cp:revision>
  <dc:subject/>
  <dc:title>Мониторинг  в образовании </dc:title>
</cp:coreProperties>
</file>