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9D7CB-24C6-46DA-BC19-D401BA4B1FC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ниторинг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образован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6FD24-B2C6-4CBB-A2D4-A381C23481F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иды мониторинг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уровням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школьны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районны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областной (региональный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федераль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7ABF-D7ED-4755-AF16-8FE4C966D3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азличия между мониторингом и исследование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ладая признаками эмпирического исследования,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мониторинг имеет следующие существенные отлич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чина возникнове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отсутствие качественной информации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(причина любого научного исследования – осознание недостаточности имеющихся знаний для удовлетворительного описания какого-либо явления)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9D89-848B-43BC-A5C5-B68DEC4A3C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его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зультат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ценны в ограниченный период времени: чем выше динамика развития системы, тем короче период ценности данны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научное исследование предполагает минимизацию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личества показателе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для мониторинга важен более широкий выбо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E4C4C-FCB1-4009-9B3B-DB181E53EB6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мониторинг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близок к наблюдению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он не предполагает на этапе проведения вмешательства в функционирование систе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мониторинг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е имеет целью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подтверждение или опровержение гипотез, хотя в результате могут быть получены данные, имеющие научную цен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20658-5583-4B13-9442-A5B1861D080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рганизация мониторин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нципы мониторин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Объективность информации: процесс мониторинга должен опираться на объективные, максимально формализованные и легко проверяемые дан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Сравнимость данных: мониторинг предполагает не только констатацию состояния системы, но и изучение ее изменений. Возможность для сравнения появляется только тогда, когда изучается один и тот же объект на основе одинаковых показа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012FE-9CB4-4616-8831-1EC4EB1912E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нципы мониторин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декватность: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полагает изучение системы с учетом изменяющихся внешних условий (на соответствие и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Прогностичность: получение данных, позволяющих прогнозировать будущее системы, возможные изменения в путях достижения ц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Принцип целевого назначения: получение необходимой и достаточной информации, исходя из обозначенной цели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2CB2E-5150-41AE-9D36-5DCA9A33188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рганизация мониторин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Факторы и условия проведения мониторинг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ачество инструментар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контролируемый фактор; общеметодологические требования к инструменту – валидность, надежность, удобство использования, соответствие целям обследования, корректность статистических процедур, стандартизированность, апробированность и т.д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A0917-AB78-4B93-B50D-5059252B8C9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фессионализм и подготовленность специалистов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контролируемый фактор; процесс измерения разбивается на несколько этапов: создание инструментария, измерения, интерпретация результатов, подготовка рекомендаций, которые могут использовать специалис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зменение экспертов в процессе измере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контролируемый при определенных условиях фактор; причина изменений – научение, появление опыта, согласование позиций, когда мнение одного, более авторитетного эксперта начинает смещать оценки други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DBCF6-9D45-471F-B68A-BB7C3E26A79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татистическая регресс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искажение результатов в процессе обслед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цикличнос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неконтролируемый, но учитываемый фактор; социальные процессы имеют ярко выраженный циклический характер, что необходимо учитыва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тбор испытуемых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варианты отбора и формирование экспериментальных групп – один из центральных факторов, контроль за которым позволяет не только выровнять оценки, но и решить проблему распространения результатов обследования на более широкую аудитор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64B09-292C-4A2C-A611-924A23440A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рушение в информационных потоках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объект измерения может обладать информацией, специальное знакомство с которой при измерении не предполагается, или часть этой информации отсутствует, или владение информацией недостаточн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зличные мотивации участников в естественных условиях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часто оказывается, что одни и те же действия в ситуациях управления осуществляются с неодинаковыми целя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эффект повторного измере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если какое-то задание уже выполнялось, это скажется на его повторении. Вопрос в том, при каких условиях можно считать такие влияния достаточно малыми с точки зрения их воздействия на конечный результа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7136A-CB2B-4BE3-A0BF-98FABFCB2CA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пределение понятия «мониторинг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 сбора, обработки, хранения и распространения информации об образовательной системе или отдельных ее элементах, ориентированная на информационное обеспечение управления, которая позволяет судить о состоянии объекта в любой момент времени и может обеспечить прогноз его развития (А.Н. Майоров, Т.А. Степанова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F99EE-E7D3-4496-9694-AAAF4B7A68B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зменение группы под влиянием отношений окружающих, вызванных экспериментальным влияние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в экспериментальных условиях люди начинают оценивать  свое положение относительно тех, кто в такие условия не попал. Если эти оценки активно поддерживаются окружением, то у представителей группы начинает вырабатываться иная система оцени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групповая фальсификация результатов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респонденты договариваются, какие оценки будут дава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641D0-7985-4ED5-82F8-D700A2A0E68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зменение группы в процессе эксперимент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изменения могут иметь как случайный, так и системный характер; они могут быть естественными и спровоцированны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естественное развити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в процессе эксперимента происходит естественное развитие как всей группы, так и ее отдельных членов; чем меньше дети, тем динамика их развития больш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циально-территориальные особенности групп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выбирая, например, в качестве единицы измерения класс, чтобы не получить смещенных оценок и иметь возможность для корректного сравнения, необходимо учитывать его социально-демографические характерист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420F0-287A-463F-87E8-24CBE7BAEC1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зные события для разных групп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различные воздействия в межэкспериментальный период могут вызвать различные смещения оцен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зличия во внутренней жизни групп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существуют объективные закономерности жизни группы, связанные с ее морфологией и определяющие качественные изменения, различные в каждом конкретном случа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зличия в скорости протекания внутригрупповых процессов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экспериментальное или управленческое воздействие на группы могут дать одинаковый эффект, но скорость их проявления может быть разной. Существует реальная опасность зафиксировать отсутствие эффекта, хотя он просто еще не проявил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1932E-0AE5-4692-A78D-1D0D3E880E8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словия, вызывающие реакцию на эксперимент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реальные изменения, наблюдаемые в условиях и вне эксперимента, могут оказаться неэквивалентны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нтерференция воздействи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возникает тогда, когда один и тот же испытуеый подвергается различным воздействиям, разнесенным по време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инергиз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в случае совместного проявления некоторых воздействий, одно из которых может иметь естественный, а другое экспериментальный (отслеживаемый) характер, эффект может превзойти предполагаемые и вероятные эффекты каждого из них. Существует опасность восприятия эксперимента как неудавшего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3C4AE-DAB8-4B65-A854-49A2FE0F8AC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мпенсаторнос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один эффект может компенсировать другой: два или несколько воздействий, проявляясь одновременно, могут скомпенсировать эффект, который вызывается иными событиями. Например, повышение субъективных оценок уровня удовлетворенности заработной платой при наличии дополнительных возможностей для твор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EEA99-1DC9-4E70-A65E-A8670BF3BD2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рганизационно-правовые основы мониторинга в О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ложение о службе мониторинга (задачи, направления, содержание деятельности службы, права и обязанности членов, формы отчета, сроки предоставления) – утверждается на педсове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каз о составе службы мониторинга на текущий учебный 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ъекты мониторинговой оценки зафиксированы в годовом плане, программе развития, образовательной програм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96629-4A93-4906-A55A-2E457135060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ритерии эффективности мониторинга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.Г.Горб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я этически выдержана и не нарушает личностных прав субъектов образовательн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я способствует конкретизации личностных и групповых целей образовательной деятельности ДО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рректно заданы норм и стандарты мониторинговой оце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я помогает лучше оценивать уровень профессиональной подготовки и определять наиболее эффективные пути профессионального совершенствования педаг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я мотивирует индивида к повышению своего профессионального уровня и стимулирует личностное саморазви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A83A-7803-4204-9D71-64ECAC3E91C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ритерии эффективности мониторинга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.Г.Горб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я способствует конструктивному диалогу между участниками образовательн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я создает условия для рационального разрешения проблем, возникающих в профессиональной групп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я носит неагрессивный характер и в достаточной степени доступна всем субъектам образовательн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я способствует повышению культуры об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я помогает оценить качество реализации в образовательном процессе требований Государственного образовательного стандар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426AE-72EA-45D0-B72B-CF20EA6854E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ческая карта монитори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ормативно-установочны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налитико-диагностически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гностически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ятельностно-технологически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межуточно-диагностически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тогово-диагностически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учно-методически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146EC-FC21-4FCA-A055-8241A71A4D9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феры применения мониторин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 областям примене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в экологии, биологии, медицине, экономике, бизнесе, в промышленности и образовани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 средствам проведе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дагогический, психологический, социологический, медицинский, демографический мониторин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 способам сбора информаци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 гр. – непосредственное описание объектов без каких-либо измене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 гр. 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посредственное физическое измерение параметров объек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 гр. – параметры объекта измеряются с использованием хорошо разработанных и общепринятых критериев или индикато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 гр. – измерение проводится опосредованно, с привлечением технологий научного исследования, использованием особо оговоренных систем критериев и показа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21AB6-9D8E-4830-8490-F6A86C5C858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истемы мониторинга в образован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-я гр. – накопление и структуризация информации (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#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мониторинг законодательной базы управления образованием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-я гр. – мониторинг развития знаний уч-ся ( модель «цель – результат» и учет характеристик процесса обучения; объект – знания ученика, по которым допускаются выводы о ситуации в учебной группе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A2224-218D-412D-8E4F-0B5FA845011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иды мониторинг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целям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нформационны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предполагает структуризацию, накопление, распространение информации и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предусматривает специально организованного обследования на этапе сбора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базовы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выявляет проблемы и опасности до того, как они будут осознаны в сфере управл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8AF75-945E-4058-89FB-BD4A23040BA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блемны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позволяет исследовать закономерности процессов, степени опасностей, типологию проблем, известных и насущных с точки зрения управ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правленчески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ставит целью отслеживать и оценивать эффективность, последствия и вторичные эффекты принятых ре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868E0-7D30-498F-9FEB-167B007E451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иды мониторин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основаниям экспертиз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инамически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основанием для экспертизы служат данные о динамике развития объекта, явления или показател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нкурентны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выбираются результаты идентичного обследования других образовательных сист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равнительны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в качестве основания выступают результаты идентичного обследования одной или двух систем более высокого уровн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FA81B-EC35-47C2-8036-EA9758C96E6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мплексны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используется несколько оснований для экспертиз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безосновно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предметом анализа являются результаты, полученные в одном исследовании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акой способ не может быть корректным, но существует, порождая массу ошибок и недоразум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3BC5C-B4CD-44ED-98F6-1952C79E93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E58D7-8560-43C0-A55C-68B9C45D9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6B083-2EB3-4C33-B53A-69D0B0EF7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AF78E-75BC-4254-AF07-731773080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B28A3-A501-4C45-BDBC-77FE7F0AF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8759B-5576-4604-9221-5283327B3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F53A7-9578-4B06-85E6-7F9EBDFBF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B7262-952B-4187-B907-AD91AEB39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FFB86-6952-4D5B-A31F-B8AB31557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98172-DB4F-4B3B-9BE8-533231A03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A5165-196F-4627-86C5-D52C333C3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7D5B4-588D-489D-B4AC-366A3631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FC44C-8704-4851-993A-5F0C992F0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E95AC-19FC-4A83-873E-6D1ADEB9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AA3D3-630B-4893-9478-62F5437E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11FDD-26CF-4024-B0BC-847809EF9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41A0F-23B8-4A00-8F57-04D3EF051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85F9D-85C5-4A4C-9753-42F4F7325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911EF-6A01-4EAC-845C-108042940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91C20-4E7A-44ED-A544-48C02092E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D902E-75AD-40CB-983A-B36EA8D50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F753A-CA3B-4C6A-BBA5-17D6E5F6F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A9990-2F8B-4C0F-BAED-517E4EC1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0CA59-16F1-4ED7-AD95-EF58214C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A0263-0FE2-40F8-B29B-A8E2886C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E7137-387F-4367-8E19-35E707C039B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3DCD5-001C-4F8B-81B0-2EA9BD137A2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Мониторинг </a:t>
            </a:r>
            <a:br>
              <a:rPr sz="5000"/>
            </a:b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в образовании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иды мониторин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 уровням управ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школь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райо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областной (региональный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федераль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9152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зличия между мониторингом и исследован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8435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ладая признаками эмпирического исследования,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ониторинг имеет следующие существенные отлич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ичина возникновени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отсутствие качественной информаци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причина любого научного исследования – осознание недостаточности имеющихся знаний для удовлетворительного описания какого-либо явления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его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езультат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ценны в ограниченный период времени: чем выше динамика развития системы, тем короче период ценности данны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научное исследование предполагает минимизацию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оличества показателе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для мониторинга важен более широкий выбор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мониторинг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близок к наблюдению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он не предполагает на этапе проведения вмешательства в функционирование систе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мониторинг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е имеет целью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подтверждение или опровержение гипотез, хотя в результате могут быть получены данные, имеющие научную цен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рганизация мониторин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нципы мониторин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Объективность информации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цесс мониторинга должен опираться на объективные, максимально формализованные и легко проверяемые дан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Сравнимость данных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ниторинг предполагает не только констатацию состояния системы, но и изучение ее изменений. Возможность для сравнения появляется только тогда, когда изучается один и тот же объект на основе одинаковых показа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нципы мониторин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декватность: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олагает изучение системы с учетом изменяющихся внешних условий (на соответствие и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Прогностичность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учение данных, позволяющих прогнозировать будущее системы, возможные изменения в путях достижения ц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Принцип целевого назначения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учение необходимой и достаточной информации, исходя из обозначенной цели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рганизация мониторин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акторы и условия проведения мониторин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ачество инструментари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тролируемый фактор; общеметодологические требования к инструменту – валидность, надежность, удобство использования, соответствие целям обследования, корректность статистических процедур, стандартизированность, апробированность и т.д.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79280" y="476280"/>
            <a:ext cx="878544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офессионализм и подготовленность специалисто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тролируемый фактор; процесс измерения разбивается на несколько этапов: создание инструментария, измерения, интерпретация результатов, подготовка рекомендаций, которые могут использовать специалис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зменение экспертов в процессе измерени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тролируемый при определенных условиях фактор; причина изменений – научение, появление опыта, согласование позиций, когда мнение одного, более авторитетного эксперта начинает смещать оценки други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50920" y="549360"/>
            <a:ext cx="864216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татистическая регресси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кажение результатов в процессе обслед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цикличност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контролируемый, но учитываемый фактор; социальные процессы имеют ярко выраженный циклический характер, что необходимо учитыва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тбор испытуемы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рианты отбора и формирование экспериментальных групп – один из центральных факторов, контроль за которым позволяет не только выровнять оценки, но и решить проблему распространения результатов обследования на более широкую аудитор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арушение в информационных потока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ъект измерения может обладать информацией, специальное знакомство с которой при измерении не предполагается, или часть этой информации отсутствует, или владение информацией недостаточн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азличные мотивации участников в естественных условия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то оказывается, что одни и те же действия в ситуациях управления осуществляются с неодинаковыми целя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эффект повторного измерени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какое-то задание уже выполнялось, это скажется на его повторении. Вопрос в том, при каких условиях можно считать такие влияния достаточно малыми с точки зрения их воздействия на конечный результ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3628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ределение понятия «мониторинг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истема сбора, обработки, хранения и распространения информации об образовательной системе или отдельных ее элементах, ориентированная на информационное обеспечение управления, которая позволяет судить о состоянии объекта в любой момент времени и может обеспечить прогноз его развития (А.Н. Майоров, Т.А. Степанова и др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4216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зменение группы под влиянием отношений окружающих, вызванных экспериментальным влияние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экспериментальных условиях люди начинают оценивать  свое положение относительно тех, кто в такие условия не попал. Если эти оценки активно поддерживаются окружением, то у представителей группы начинает вырабатываться иная система оцени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групповая фальсификация результато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спонденты договариваются, какие оценки будут дава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250560" y="476280"/>
            <a:ext cx="87138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зменение группы в процессе эксперимент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менения могут иметь как случайный, так и системный характер; они могут быть естественными и спровоцированны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естественное развити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процессе эксперимента происходит естественное развитие как всей группы, так и ее отдельных членов; чем меньше дети, тем динамика их развития больш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оциально-территориальные особенности групп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бирая, например, в качестве единицы измерения класс, чтобы не получить смещенных оценок и иметь возможность для корректного сравнения, необходимо учитывать его социально-демографические характерист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64072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азные события для разных групп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различные воздействия в межэкспериментальный период могут вызвать различные смещения оцено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азличия во внутренней жизни групп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ществуют объективные закономерности жизни группы, связанные с ее морфологией и определяющие качественные изменения, различные в каждом конкретном случа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азличия в скорости протекания внутригрупповых процессо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спериментальное или управленческое воздействие на группы могут дать одинаковый эффект, но скорость их проявления может быть разной. Существует реальная опасность зафиксировать отсутствие эффекта, хотя он просто еще не проявил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78920" y="476280"/>
            <a:ext cx="87138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условия, вызывающие реакцию на эксперимент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альные изменения, наблюдаемые в условиях и вне эксперимента, могут оказаться неэквивалентны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нтерференция воздействи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никает тогда, когда один и тот же испытуеый подвергается различным воздействиям, разнесенным по времен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инергиз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случае совместного проявления некоторых воздействий, одно из которых может иметь естественный, а другое экспериментальный (отслеживаемый) характер, эффект может превзойти предполагаемые и вероятные эффекты каждого из них. Существует опасность восприятия эксперимента как неудавшего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68000" y="765000"/>
            <a:ext cx="8218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омпенсаторност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ин эффект может компенсировать другой: два или несколько воздействий, проявляясь одновременно, могут скомпенсировать эффект, который вызывается иными событиями. Например, повышение субъективных оценок уровня удовлетворенности заработной платой при наличии дополнительных возможностей для творч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3628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рганизационно-правовые основы мониторинга в О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6421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ожение о службе мониторинга (задачи, направления, содержание деятельности службы, права и обязанности членов, формы отчета, сроки предоставления) – утверждается на педсове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каз о составе службы мониторинга на текущий учебный г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ъекты мониторинговой оценки зафиксированы в годовом плане, программе развития, образовательной програм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итерии эффективности мониторинга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.Г.Горб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ция этически выдержана и не нарушает личностных прав субъектов образовательного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ция способствует конкретизации личностных и групповых целей образовательной деятельности ДО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ректно заданы норм и стандарты мониторинговой оце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ция помогает лучше оценивать уровень профессиональной подготовки и определять наиболее эффективные пути профессионального совершенствования педаго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ция мотивирует индивида к повышению своего профессионального уровня и стимулирует личностное саморазви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ритерии эффективности мониторинга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.Г.Горб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ция способствует конструктивному диалогу между участниками образователь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ция создает условия для рационального разрешения проблем, возникающих в профессиональной груп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ция носит неагрессивный характер и в достаточной степени доступна всем субъектам образовательного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ция способствует повышению культуры об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ция помогает оценить качество реализации в образовательном процессе требований Государственного образовательного стандар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хнологическая карта мониторин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5075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рмативно-установочный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налитико-диагностический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гностический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ятельностно-технологический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межуточно-диагностический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тогово-диагностический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учно-методический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феры применения мониторин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3628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 областям применен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в экологии, биологии, медицине, экономике, бизнесе, в промышленности и образовани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 средствам проведен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дагогический, психологический, социологический, медицинский, демографический мониторинг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 способам сбора информаци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гр. – непосредственное описание объектов без каких-либо изменени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 гр.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посредственное физическое измерение параметров объек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 гр. – параметры объекта измеряются с использованием хорошо разработанных и общепринятых критериев или индикатор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 гр. – измерение проводится опосредованно, с привлечением технологий научного исследования, использованием особо оговоренных систем критериев и показа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3628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истемы мониторинга в образова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-я гр. – накопление и структуризация информации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мониторинг законодательной базы управления образованием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-я гр. – мониторинг развития знаний уч-ся ( модель «цель – результат» и учет характеристик процесса обучения; объект – знания ученика, по которым допускаются выводы о ситуации в учебной группе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-я гр. – построены по модели «вход – выход» ( в качестве входа – характеристики ученика, на выходе – эффект влияния школы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-я гр. – системы мониторинга на уровне ОУ (попытка оценить эффективность той или иной технологии обучения, выделить факторы, влияющие на качество обучения, найти примеры связи квалификации педагога и результатов преподавания и т.д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иды мониторин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42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 целям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нформационны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предполагает структуризацию, накопление, распространение информации и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предусматривает специально организованного обследования на этапе сбора информ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базовы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выявляет проблемы и опасности до того, как они будут осознаны в сфере управл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23640" y="475920"/>
            <a:ext cx="85690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облемны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позволяет исследовать закономерности процессов, степени опасностей, типологию проблем, известных и насущных с точки зрения управл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управленчески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ставит целью отслеживать и оценивать эффективность, последствия и вторичные эффекты принятых реш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иды мониторин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основаниям экспертиз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динамически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 основанием для экспертизы служат данные о динамике развития объекта, явления или показател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конкурентны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 выбираются результаты идентичного обследования других образовательных систе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равнительны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 в качестве основания выступают результаты идентичного обследования одной или двух систем более высокого уровн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омплексны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используется несколько оснований для экспертиз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безосновно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предметом анализа являются результаты, полученные в одном исследовании.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акой способ не может быть корректным, но существует, порождая массу ошибок и недоразум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2T12:59:49Z</dcterms:created>
  <dc:creator>Чистякова Л.А.</dc:creator>
  <dc:description/>
  <dc:language>en-US</dc:language>
  <cp:lastModifiedBy>LEGION</cp:lastModifiedBy>
  <dcterms:modified xsi:type="dcterms:W3CDTF">2015-01-27T12:15:50Z</dcterms:modified>
  <cp:revision>12</cp:revision>
  <dc:subject/>
  <dc:title>Мониторинг  в образовании </dc:title>
</cp:coreProperties>
</file>