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DBD86-C55D-4747-A750-A49B10200D6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ниторинг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образован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F5FC1-B034-4699-AEB3-4848F21D495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иды мониторинг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уровням у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школьны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районны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областной (региональный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федераль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C1AFE-0952-495E-B31E-984FCCA98E7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Различия между мониторингом и исследование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ладая признаками эмпирического исследования,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мониторинг имеет следующие существенные отлич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чина возникновен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отсутствие качественной информации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(причина любого научного исследования – осознание недостаточности имеющихся знаний для удовлетворительного описания какого-либо явления)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B21B9-6334-4ECA-8FCA-9EC327CA9F1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его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зультат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ценны в ограниченный период времени: чем выше динамика развития системы, тем короче период ценности данны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научное исследование предполагает минимизацию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личества показателе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для мониторинга важен более широкий выбо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A6B78-A9FC-43D1-A96D-B031D580FDD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мониторинг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близок к наблюдению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он не предполагает на этапе проведения вмешательства в функционирование систе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мониторинг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е имеет целью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подтверждение или опровержение гипотез, хотя в результате могут быть получены данные, имеющие научную цен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0E45E-8BCA-497F-B216-DEDDA06F54F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рганизация мониторин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нципы мониторин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Объективность информации: процесс мониторинга должен опираться на объективные, максимально формализованные и легко проверяемые дан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Сравнимость данных: мониторинг предполагает не только констатацию состояния системы, но и изучение ее изменений. Возможность для сравнения появляется только тогда, когда изучается один и тот же объект на основе одинаковых показа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9CCE4-3A14-4AEB-A0E1-1D1359DB227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нципы мониторин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декватность: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полагает изучение системы с учетом изменяющихся внешних условий (на соответствие и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Прогностичность: получение данных, позволяющих прогнозировать будущее системы, возможные изменения в путях достижения ц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Принцип целевого назначения: получение необходимой и достаточной информации, исходя из обозначенной цели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EBA9D-03C2-48BF-BA93-DF47A3F8D2F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рганизация мониторин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Факторы и условия проведения мониторинг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ачество инструментар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контролируемый фактор; общеметодологические требования к инструменту – валидность, надежность, удобство использования, соответствие целям обследования, корректность статистических процедур, стандартизированность, апробированность и т.д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24BB5-EF19-44F9-87E0-D5AA300649C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фессионализм и подготовленность специалистов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контролируемый фактор; процесс измерения разбивается на несколько этапов: создание инструментария, измерения, интерпретация результатов, подготовка рекомендаций, которые могут использовать специалис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зменение экспертов в процессе измерен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контролируемый при определенных условиях фактор; причина изменений – научение, появление опыта, согласование позиций, когда мнение одного, более авторитетного эксперта начинает смещать оценки други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A7543-436A-4571-BD67-7E908E6F98D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татистическая регресс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искажение результатов в процессе обслед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цикличнос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неконтролируемый, но учитываемый фактор; социальные процессы имеют ярко выраженный циклический характер, что необходимо учитыва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тбор испытуемых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варианты отбора и формирование экспериментальных групп – один из центральных факторов, контроль за которым позволяет не только выровнять оценки, но и решить проблему распространения результатов обследования на более широкую аудитор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9AFE3-A339-4775-B312-0FE1799268C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рушение в информационных потоках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объект измерения может обладать информацией, специальное знакомство с которой при измерении не предполагается, или часть этой информации отсутствует, или владение информацией недостаточн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зличные мотивации участников в естественных условиях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часто оказывается, что одни и те же действия в ситуациях управления осуществляются с неодинаковыми целя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эффект повторного измерен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если какое-то задание уже выполнялось, это скажется на его повторении. Вопрос в том, при каких условиях можно считать такие влияния достаточно малыми с точки зрения их воздействия на конечный результа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CFC59-1893-43CF-B9A1-488EA5D3E7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пределение понятия «мониторинг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 сбора, обработки, хранения и распространения информации об образовательной системе или отдельных ее элементах, ориентированная на информационное обеспечение управления, которая позволяет судить о состоянии объекта в любой момент времени и может обеспечить прогноз его развития (А.Н. Майоров, Т.А. Степанова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3B6E2-36D5-4AEE-B1EA-586BE0F741C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зменение группы под влиянием отношений окружающих, вызванных экспериментальным влияние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в экспериментальных условиях люди начинают оценивать  свое положение относительно тех, кто в такие условия не попал. Если эти оценки активно поддерживаются окружением, то у представителей группы начинает вырабатываться иная система оцени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групповая фальсификация результатов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респонденты договариваются, какие оценки будут дава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36290-C42D-4173-8B16-E3126AFE594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зменение группы в процессе эксперимент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изменения могут иметь как случайный, так и системный характер; они могут быть естественными и спровоцированны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естественное развитие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в процессе эксперимента происходит естественное развитие как всей группы, так и ее отдельных членов; чем меньше дети, тем динамика их развития больш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циально-территориальные особенности групп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выбирая, например, в качестве единицы измерения класс, чтобы не получить смещенных оценок и иметь возможность для корректного сравнения, необходимо учитывать его социально-демографические характерист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8318B-9FE1-4DFF-A914-F5C22EBFE51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зные события для разных групп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различные воздействия в межэкспериментальный период могут вызвать различные смещения оцен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зличия во внутренней жизни групп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существуют объективные закономерности жизни группы, связанные с ее морфологией и определяющие качественные изменения, различные в каждом конкретном случа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зличия в скорости протекания внутригрупповых процессов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экспериментальное или управленческое воздействие на группы могут дать одинаковый эффект, но скорость их проявления может быть разной. Существует реальная опасность зафиксировать отсутствие эффекта, хотя он просто еще не проявил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DDF34-8243-4E03-80A8-192FDA2360F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словия, вызывающие реакцию на эксперимент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реальные изменения, наблюдаемые в условиях и вне эксперимента, могут оказаться неэквивалентны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нтерференция воздействи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возникает тогда, когда один и тот же испытуеый подвергается различным воздействиям, разнесенным по времен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инергиз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в случае совместного проявления некоторых воздействий, одно из которых может иметь естественный, а другое экспериментальный (отслеживаемый) характер, эффект может превзойти предполагаемые и вероятные эффекты каждого из них. Существует опасность восприятия эксперимента как неудавшего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E36D9-3380-482D-A832-6C4B37300EF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мпенсаторнос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один эффект может компенсировать другой: два или несколько воздействий, проявляясь одновременно, могут скомпенсировать эффект, который вызывается иными событиями. Например, повышение субъективных оценок уровня удовлетворенности заработной платой при наличии дополнительных возможностей для твор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93E28-3F12-4D53-84C9-9D78E47A9F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рганизационно-правовые основы мониторинга в О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ложение о службе мониторинга (задачи, направления, содержание деятельности службы, права и обязанности членов, формы отчета, сроки предоставления) – утверждается на педсове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каз о составе службы мониторинга на текущий учебный 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ъекты мониторинговой оценки зафиксированы в годовом плане, программе развития, образовательной програм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7DE83-642D-4180-A3DC-81292F8DC4C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ритерии эффективности мониторинга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.Г.Горб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я этически выдержана и не нарушает личностных прав субъектов образовательн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я способствует конкретизации личностных и групповых целей образовательной деятельности ДО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рректно заданы норм и стандарты мониторинговой оце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я помогает лучше оценивать уровень профессиональной подготовки и определять наиболее эффективные пути профессионального совершенствования педаг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я мотивирует индивида к повышению своего профессионального уровня и стимулирует личностное саморазви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B65D-40F7-4FCB-9235-07FE1D8853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ритерии эффективности мониторинга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.Г.Горб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я способствует конструктивному диалогу между участниками образовательн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я создает условия для рационального разрешения проблем, возникающих в профессиональной групп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я носит неагрессивный характер и в достаточной степени доступна всем субъектам образовательн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я способствует повышению культуры об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я помогает оценить качество реализации в образовательном процессе требований Государственного образовательного стандар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061BC-5183-4627-80A6-E876F31465E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ческая карта монитори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ормативно-установочны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налитико-диагностически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гностически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ятельностно-технологически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межуточно-диагностически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тогово-диагностически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учно-методически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07A3D-3C7D-4097-BB9D-E2B321F5012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феры применения мониторин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 областям применен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в экологии, биологии, медицине, экономике, бизнесе, в промышленности и образовани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 средствам проведен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дагогический, психологический, социологический, медицинский, демографический мониторин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 способам сбора информаци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 гр. – непосредственное описание объектов без каких-либо измене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 гр. 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посредственное физическое измерение параметров объек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 гр. – параметры объекта измеряются с использованием хорошо разработанных и общепринятых критериев или индикато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 гр. – измерение проводится опосредованно, с привлечением технологий научного исследования, использованием особо оговоренных систем критериев и показа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2F372-255D-4451-A835-F13059B9C1C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истемы мониторинга в образован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-я гр. – накопление и структуризация информации (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#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мониторинг законодательной базы управления образованием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-я гр. – мониторинг развития знаний уч-ся ( модель «цель – результат» и учет характеристик процесса обучения; объект – знания ученика, по которым допускаются выводы о ситуации в учебной группе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FCBF9-9A6E-469F-8C8E-534724A1064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иды мониторинг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целям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нформационны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предполагает структуризацию, накопление, распространение информации и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е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предусматривает специально организованного обследования на этапе сбора 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базовы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выявляет проблемы и опасности до того, как они будут осознаны в сфере управл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C8AF1-9F87-43E8-A838-14630BD7E09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блемны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позволяет исследовать закономерности процессов, степени опасностей, типологию проблем, известных и насущных с точки зрения управ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правленчески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ставит целью отслеживать и оценивать эффективность, последствия и вторичные эффекты принятых ре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B41D0-E002-49D3-B711-23ABFD8E411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иды мониторин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основаниям экспертиз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инамически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основанием для экспертизы служат данные о динамике развития объекта, явления или показател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нкурентны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выбираются результаты идентичного обследования других образовательных сист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равнительны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в качестве основания выступают результаты идентичного обследования одной или двух систем более высокого уровн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91A6E-4E50-4FE9-A25F-9037959FC66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мплексны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используется несколько оснований для экспертиз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безосновно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предметом анализа являются результаты, полученные в одном исследовании.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акой способ не может быть корректным, но существует, порождая массу ошибок и недоразум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84479-6B53-412E-8C36-DF2BB917DF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D83B1-2F49-4513-BF46-34A379138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AD3F8-57FE-4C45-8A65-02DB12309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7926D-371A-4A91-99EF-02744438E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A116F-8C62-4E23-A4ED-29B324045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43ED9-46AF-4FE4-8525-A94CFEE00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E6F41-0F20-4C49-8CAD-9B020010E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73861-63A3-4D4E-9FCA-77B3700EE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AD512-6B70-4257-B7A3-B1D74E3F8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CFD21-F438-48AC-AB0B-782CA6C8C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FA48E-9686-4B96-B857-FD7287EDD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CD53B-0779-45C9-9499-97502901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AF7DA-AF41-4313-8F94-47C3D61E3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D6B72-3D4A-448E-A2BD-CF1E0218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D42AF-9D2F-4E47-80B6-C1B06ABD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3E43D-1F15-4B0F-91DC-E5B1415C2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7EA1E-D7B0-4B53-8359-C32A60E8B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85D48-BB0B-4D1E-8F1B-C184F5169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75542-C698-482A-BD39-EF7DC7315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EF872-B8D1-454A-B7AD-A67922B03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5FC3D-DAC6-444D-A333-F5DF87FB4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A09E2-3BE2-4C82-BB3A-838F17013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18C7A-1FD5-4FED-BF2D-28FC9CFD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50AFD-156E-41C8-9640-9753E063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45A3A-3FE4-4800-88DE-9E1EEDB9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D2387-B073-4BD5-AC88-2E56BC12776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5C994-97F9-4DB4-8EDF-CDC06B94332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Мониторинг </a:t>
            </a:r>
            <a:br>
              <a:rPr sz="5000"/>
            </a:b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в образовании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иды мониторин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 уровням управ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школь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райо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областной (региональный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федераль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9152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зличия между мониторингом и исследован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8435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ладая признаками эмпирического исследования,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ониторинг имеет следующие существенные отлич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ричина возникновени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отсутствие качественной информаци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причина любого научного исследования – осознание недостаточности имеющихся знаний для удовлетворительного описания какого-либо явления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его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результат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ценны в ограниченный период времени: чем выше динамика развития системы, тем короче период ценности данны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научное исследование предполагает минимизацию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оличества показателе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для мониторинга важен более широкий выбор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мониторинг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близок к наблюдению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он не предполагает на этапе проведения вмешательства в функционирование систем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мониторинг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е имеет целью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подтверждение или опровержение гипотез, хотя в результате могут быть получены данные, имеющие научную цен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рганизация мониторин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нципы мониторин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Объективность информации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цесс мониторинга должен опираться на объективные, максимально формализованные и легко проверяемые дан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Сравнимость данных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ниторинг предполагает не только констатацию состояния системы, но и изучение ее изменений. Возможность для сравнения появляется только тогда, когда изучается один и тот же объект на основе одинаковых показа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нципы мониторин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декватность: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олагает изучение системы с учетом изменяющихся внешних условий (на соответствие и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Прогностичность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учение данных, позволяющих прогнозировать будущее системы, возможные изменения в путях достижения ц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Принцип целевого назначения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учение необходимой и достаточной информации, исходя из обозначенной цели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рганизация мониторин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акторы и условия проведения мониторин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ачество инструментари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тролируемый фактор; общеметодологические требования к инструменту – валидность, надежность, удобство использования, соответствие целям обследования, корректность статистических процедур, стандартизированность, апробированность и т.д.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79280" y="476280"/>
            <a:ext cx="878544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рофессионализм и подготовленность специалисто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тролируемый фактор; процесс измерения разбивается на несколько этапов: создание инструментария, измерения, интерпретация результатов, подготовка рекомендаций, которые могут использовать специалис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изменение экспертов в процессе измерени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тролируемый при определенных условиях фактор; причина изменений – научение, появление опыта, согласование позиций, когда мнение одного, более авторитетного эксперта начинает смещать оценки други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50920" y="549360"/>
            <a:ext cx="864216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татистическая регресси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кажение результатов в процессе обслед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цикличность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контролируемый, но учитываемый фактор; социальные процессы имеют ярко выраженный циклический характер, что необходимо учитыва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тбор испытуемы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рианты отбора и формирование экспериментальных групп – один из центральных факторов, контроль за которым позволяет не только выровнять оценки, но и решить проблему распространения результатов обследования на более широкую аудитор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арушение в информационных потока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ъект измерения может обладать информацией, специальное знакомство с которой при измерении не предполагается, или часть этой информации отсутствует, или владение информацией недостаточн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различные мотивации участников в естественных условия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сто оказывается, что одни и те же действия в ситуациях управления осуществляются с неодинаковыми целя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эффект повторного измерени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какое-то задание уже выполнялось, это скажется на его повторении. Вопрос в том, при каких условиях можно считать такие влияния достаточно малыми с точки зрения их воздействия на конечный результ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3628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ределение понятия «мониторинг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истема сбора, обработки, хранения и распространения информации об образовательной системе или отдельных ее элементах, ориентированная на информационное обеспечение управления, которая позволяет судить о состоянии объекта в любой момент времени и может обеспечить прогноз его развития (А.Н. Майоров, Т.А. Степанова и др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4216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изменение группы под влиянием отношений окружающих, вызванных экспериментальным влияние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экспериментальных условиях люди начинают оценивать  свое положение относительно тех, кто в такие условия не попал. Если эти оценки активно поддерживаются окружением, то у представителей группы начинает вырабатываться иная система оцени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групповая фальсификация результато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спонденты договариваются, какие оценки будут дава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250560" y="476280"/>
            <a:ext cx="87138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изменение группы в процессе эксперимент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менения могут иметь как случайный, так и системный характер; они могут быть естественными и спровоцированны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естественное развити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процессе эксперимента происходит естественное развитие как всей группы, так и ее отдельных членов; чем меньше дети, тем динамика их развития больш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оциально-территориальные особенности групп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бирая, например, в качестве единицы измерения класс, чтобы не получить смещенных оценок и иметь возможность для корректного сравнения, необходимо учитывать его социально-демографические характерист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64072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разные события для разных групп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различные воздействия в межэкспериментальный период могут вызвать различные смещения оцено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различия во внутренней жизни групп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ществуют объективные закономерности жизни группы, связанные с ее морфологией и определяющие качественные изменения, различные в каждом конкретном случа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различия в скорости протекания внутригрупповых процессо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спериментальное или управленческое воздействие на группы могут дать одинаковый эффект, но скорость их проявления может быть разной. Существует реальная опасность зафиксировать отсутствие эффекта, хотя он просто еще не проявил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78920" y="476280"/>
            <a:ext cx="87138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условия, вызывающие реакцию на эксперимент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альные изменения, наблюдаемые в условиях и вне эксперимента, могут оказаться неэквивалентны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интерференция воздействи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никает тогда, когда один и тот же испытуеый подвергается различным воздействиям, разнесенным по времен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инергиз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случае совместного проявления некоторых воздействий, одно из которых может иметь естественный, а другое экспериментальный (отслеживаемый) характер, эффект может превзойти предполагаемые и вероятные эффекты каждого из них. Существует опасность восприятия эксперимента как неудавшего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68000" y="765000"/>
            <a:ext cx="82184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омпенсаторность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ин эффект может компенсировать другой: два или несколько воздействий, проявляясь одновременно, могут скомпенсировать эффект, который вызывается иными событиями. Например, повышение субъективных оценок уровня удовлетворенности заработной платой при наличии дополнительных возможностей для творч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3628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рганизационно-правовые основы мониторинга в О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6421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ожение о службе мониторинга (задачи, направления, содержание деятельности службы, права и обязанности членов, формы отчета, сроки предоставления) – утверждается на педсове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каз о составе службы мониторинга на текущий учебный г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ъекты мониторинговой оценки зафиксированы в годовом плане, программе развития, образовательной програм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итерии эффективности мониторинга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.Г.Горб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формация этически выдержана и не нарушает личностных прав субъектов образовательного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формация способствует конкретизации личностных и групповых целей образовательной деятельности ДО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ректно заданы норм и стандарты мониторинговой оце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формация помогает лучше оценивать уровень профессиональной подготовки и определять наиболее эффективные пути профессионального совершенствования педаго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формация мотивирует индивида к повышению своего профессионального уровня и стимулирует личностное саморазви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ритерии эффективности мониторинга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.Г.Горб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формация способствует конструктивному диалогу между участниками образователь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формация создает условия для рационального разрешения проблем, возникающих в профессиональной груп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формация носит неагрессивный характер и в достаточной степени доступна всем субъектам образовательного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формация способствует повышению культуры об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формация помогает оценить качество реализации в образовательном процессе требований Государственного образовательного стандар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хнологическая карта мониторин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50752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рмативно-установочный эт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налитико-диагностический эт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гностический эт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ятельностно-технологический эт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межуточно-диагностический эт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тогово-диагностический эт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учно-методический эт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феры применения мониторин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3628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 областям применен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в экологии, биологии, медицине, экономике, бизнесе, в промышленности и образовани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 средствам проведен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дагогический, психологический, социологический, медицинский, демографический мониторинг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 способам сбора информаци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гр. – непосредственное описание объектов без каких-либо изменени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 гр.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посредственное физическое измерение параметров объек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 гр. – параметры объекта измеряются с использованием хорошо разработанных и общепринятых критериев или индикатор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 гр. – измерение проводится опосредованно, с привлечением технологий научного исследования, использованием особо оговоренных систем критериев и показа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3628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истемы мониторинга в образова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-я гр. – накопление и структуризация информации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мониторинг законодательной базы управления образованием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-я гр. – мониторинг развития знаний уч-ся ( модель «цель – результат» и учет характеристик процесса обучения; объект – знания ученика, по которым допускаются выводы о ситуации в учебной группе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-я гр. – построены по модели «вход – выход» ( в качестве входа – характеристики ученика, на выходе – эффект влияния школы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-я гр. – системы мониторинга на уровне ОУ (попытка оценить эффективность той или иной технологии обучения, выделить факторы, влияющие на качество обучения, найти примеры связи квалификации педагога и результатов преподавания и т.д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иды мониторин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42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 целям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информационны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предполагает структуризацию, накопление, распространение информации и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предусматривает специально организованного обследования на этапе сбора информ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базовы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выявляет проблемы и опасности до того, как они будут осознаны в сфере управле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23640" y="475920"/>
            <a:ext cx="85690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роблемны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позволяет исследовать закономерности процессов, степени опасностей, типологию проблем, известных и насущных с точки зрения управл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управленчески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ставит целью отслеживать и оценивать эффективность, последствия и вторичные эффекты принятых реш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иды мониторин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основаниям экспертиз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динамически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 основанием для экспертизы служат данные о динамике развития объекта, явления или показател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конкурентны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 выбираются результаты идентичного обследования других образовательных систе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равнительны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 в качестве основания выступают результаты идентичного обследования одной или двух систем более высокого уровн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омплексны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используется несколько оснований для экспертиз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безосновно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предметом анализа являются результаты, полученные в одном исследовании.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акой способ не может быть корректным, но существует, порождая массу ошибок и недоразум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2T12:59:49Z</dcterms:created>
  <dc:creator>Чистякова Л.А.</dc:creator>
  <dc:description/>
  <dc:language>en-US</dc:language>
  <cp:lastModifiedBy>LEGION</cp:lastModifiedBy>
  <dcterms:modified xsi:type="dcterms:W3CDTF">2015-01-27T12:15:50Z</dcterms:modified>
  <cp:revision>12</cp:revision>
  <dc:subject/>
  <dc:title>Мониторинг  в образовании </dc:title>
</cp:coreProperties>
</file>