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4.gif" ContentType="image/gif"/>
  <Override PartName="/ppt/media/image9.gif" ContentType="image/gif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11.gif" ContentType="image/gif"/>
  <Override PartName="/ppt/media/image6.png" ContentType="image/png"/>
  <Override PartName="/ppt/media/image5.jpeg" ContentType="image/jpeg"/>
  <Override PartName="/ppt/media/image7.gif" ContentType="image/gif"/>
  <Override PartName="/ppt/media/image12.gif" ContentType="image/gif"/>
  <Override PartName="/ppt/media/image8.gif" ContentType="image/gif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C689-F436-4661-90F4-476829C625EC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чь младших школьников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пути её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3C77-13D8-4D76-9BDC-07BB944872BD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ная реч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иал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разгово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чно не полностью развернута, ситуативна, в ней многое не высказывается, а подразумев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нол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высказывание одного челове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ует подготовки, рассчитана на определённую аудитор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253C-09B5-49F5-A867-FB93F1E2D8EF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Различные виды монологических высказыван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І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Репродуктивные высказы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(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пересказы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ІІ Продуктивные высказы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(развернутый устный ответ, сообщение, «слово» о писателе, рассказ о произведении искусства, речь экскурсовода, стихи, самостоятельно сочинённые рассказы, сказ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631B-5BA0-4F5F-9779-93E384E77650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ные направления работы по развитию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Устной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над пониманием тек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сказы художественного тек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бщ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исьменной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евник чита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зыв о кни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нотация на книг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2FBB-6AB0-4AEC-A7D3-F8478AAC3D56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ересказы художественного текст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дробный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раткий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жаты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ыборочный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тбор фрагмен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 одну тем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. пересказ с изменением лица рассказчик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E5D2-06D1-4F24-91C0-8BF820803F79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ребования, предъявляемые к речи учеников младших классов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сность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зительность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ость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атство языковых сред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ность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гичность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ельность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4214-E9AE-4446-852E-4D03E724C51A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орма ведения (примерная) дневни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Автор. Заглав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ремя прочтения кни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сновные герои произ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печатления, вызванные книг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Строки, которые особенно понравил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9DF3-5F56-4977-9CD1-5424017FB7D2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отзыва о книг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Автор, название, жанр кни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ому, по-вашему, будет интересна книг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ремя и место действия книги. О чём о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сновные персонажи кни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Как начинается книг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Каков конфликт? Проблем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Чем интересна книга в цел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Какой эпизод особенно показался интересны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Кто из героев понравился больше?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Какое впечатление произвел стиль авто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Ваше читательское мнение, мысли о книг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A93B-E63F-433B-86C0-B9E76BF9CB7D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ыпускник начальной школы должен уме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ать виды переск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ить текст на смысловые части и составлять простой план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нему рассказывать произ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ть тему. Объяснять развитие событий в тек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ходить главную мысль произведения и соотносить её с заглав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ывать героев (их поступки, характер), своё отношение к прочитанн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2EF4-AB7A-4CD2-85F2-389B15A48F7B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ля ребёнка хорошая речь – залог успешного обучения и развития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«Язык не может быть плохим или хорошим…Ведь язык – это только зеркало. То самое зеркало, на которое глупо пенять.»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.Довлатов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A3DA-75ED-4484-9FD7-DA5B6410623A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развитие речи школьников – низкий показатель духовной культуры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95A0-730D-4E4F-84A5-EBABA8745B08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о протекающий в течение всей жизни человека процесс овладения речью и её механизмами в непосредственной взаимосвязи с духовным становлением личности, обогащением её внутреннего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4EF5-4355-4473-9B6A-97A497E68BDA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сновная цель уроков литературного чт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чь ребенку стать читателем: подвести к осознанию богатого мира отечественной и зарубежной детской литературы как искусства художественного слова; обогатить читательский опы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4957-9C0D-4AAA-866D-30E8138EBA49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дачи уроков литературного чте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ть умения «видеть» слово в тексте, наблюдать за его знач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ть, почему данное слово отобрал писатель, как оно характеризует геро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личать переносное образное значен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ь использовать в собственной речи меткие слова и выра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чать пониманию тек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ть навыки выразительного чтения, культуры речи, твор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0607-00DA-4B8F-8AD2-D42279011B02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и приё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н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пре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содержания и 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зительное чт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аматизация произ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ие 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бразительн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овые приё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сьм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азличные формы устной реч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8861-94F0-4C15-9177-348ACD888E76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ru-RU" sz="1100" spc="-1" strike="noStrike">
                <a:solidFill>
                  <a:srgbClr val="ff0000"/>
                </a:solidFill>
                <a:latin typeface="Calibri"/>
              </a:rPr>
              <a:t>Различные формы устной речи </a:t>
            </a:r>
            <a:br>
              <a:rPr sz="1100"/>
            </a:b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высказы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льные характери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ск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зывы на книг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нот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3E1E-789F-425E-84D3-A9893E34AA57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чь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 общения люде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редством язы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чевое общение организует совместную деятельность людей, способствует познанию друг друга, является существенным фактором в развитии межличност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FF31-C5E1-4C69-AA3A-CD29F0E02FB6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ечь тесно связана с другими психическими процесс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рият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мин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роизвед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ы речево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 (устн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яя (письменн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72DC-CFC9-4BBF-B3EC-6223094EE8E8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31F1-B358-45C8-8F7A-7C61603B5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55CB-E919-49B7-80E3-448F22EA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2D61-F108-42F5-B2E7-789E53708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25E3-7E83-49B4-8D44-1D61EC45D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CC91-F012-49BE-AD54-19BAB0AE5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76D0-01A8-4A75-BB91-74C07A63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D7B2-CE86-4766-893F-A9A3ECBE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5BBD7-337C-47EE-9EA7-344428CA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831B-B3DB-4D0E-9809-575644CB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88AB8-41E1-487F-B897-901C2240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A5760-C3F3-4A74-BA2C-B2FEFB41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502E-0184-4AF8-A946-52E084A1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2DE9-1ED2-4DF0-94FF-2AAC19ED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1AA9-5D64-4B14-AC68-39349354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B72D-C6D4-4937-B09B-E5B3D558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558A-99DB-4422-911B-2A808BDD4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B680-E074-4070-AD64-714698D43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6AF7-7942-4812-B681-B4FEBCFC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746D-5542-4955-8901-E2D1BC50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0470-3080-4A41-BE9B-6A5DD27B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721C-D323-4637-BECB-4E4D3A93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811C-2954-4035-A3ED-8448394C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F0B4-0489-43BD-82B6-757503BB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0237-CC9E-4A2D-96F3-A7732782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B044-F7BF-4F9A-847A-F946C37D974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1A58-9198-4F0D-B726-DA68C8A74AB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Речь младших школьников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и пути её развит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i-main-pic" descr="Картинка 4 из 103"/>
          <p:cNvPicPr/>
          <p:nvPr/>
        </p:nvPicPr>
        <p:blipFill>
          <a:blip r:embed="rId1"/>
          <a:stretch/>
        </p:blipFill>
        <p:spPr>
          <a:xfrm>
            <a:off x="4788000" y="2852640"/>
            <a:ext cx="4048200" cy="360072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Устная реч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Диалог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(разговор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ычно не полностью развернута, ситуативна, в ней многое не высказывается, а подразумеваетс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Монолог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(высказывание одного человека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Требует подготовки, рассчитана на определённую аудиторию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Verdana"/>
              </a:rPr>
              <a:t>Различные виды монологических высказываний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  <a:ea typeface="Arial"/>
              </a:rPr>
              <a:t>І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Arial"/>
              </a:rPr>
              <a:t>.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  <a:ea typeface="Arial"/>
              </a:rPr>
              <a:t>Репродуктивные высказывания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3000" spc="-1" strike="noStrike">
                <a:solidFill>
                  <a:srgbClr val="ff0000"/>
                </a:solidFill>
                <a:latin typeface="Verdana"/>
                <a:ea typeface="Arial"/>
              </a:rPr>
              <a:t>(</a:t>
            </a:r>
            <a:r>
              <a:rPr b="1" lang="ru-RU" sz="3000" spc="-1" strike="noStrike">
                <a:solidFill>
                  <a:srgbClr val="ff0000"/>
                </a:solidFill>
                <a:latin typeface="Verdana"/>
                <a:ea typeface="Arial"/>
              </a:rPr>
              <a:t>пересказы</a:t>
            </a:r>
            <a:r>
              <a:rPr b="0" lang="ru-RU" sz="3000" spc="-1" strike="noStrike">
                <a:solidFill>
                  <a:srgbClr val="ff0000"/>
                </a:solidFill>
                <a:latin typeface="Verdana"/>
                <a:ea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  <a:ea typeface="Arial"/>
              </a:rPr>
              <a:t>ІІ Продуктивные высказывания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Arial"/>
              </a:rPr>
              <a:t> (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развернутый устный ответ, сообщение, «слово» о писателе, рассказ о произведении искусства, речь экскурсовода, стихи, самостоятельно сочинённые рассказы, сказки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ые направления работы по развитию 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6699"/>
                </a:solidFill>
                <a:latin typeface="Verdana"/>
              </a:rPr>
              <a:t>Устной реч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Работа над пониманием текст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ересказы художественного текст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ообщения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6699"/>
                </a:solidFill>
                <a:latin typeface="Verdana"/>
              </a:rPr>
              <a:t>Письменной реч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невник читател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тзыв о книг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ннотация на книг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Picture 6" descr="аним"/>
          <p:cNvPicPr/>
          <p:nvPr/>
        </p:nvPicPr>
        <p:blipFill>
          <a:blip r:embed="rId1"/>
          <a:stretch/>
        </p:blipFill>
        <p:spPr>
          <a:xfrm>
            <a:off x="5003640" y="4311720"/>
            <a:ext cx="2521080" cy="189072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Пересказы художественного текста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. подробный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. краткий (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сжатый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. выборочный (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отбор фрагментов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на одну тему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. пересказ с изменением лица рассказчик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Picture 4" descr="аним"/>
          <p:cNvPicPr/>
          <p:nvPr/>
        </p:nvPicPr>
        <p:blipFill>
          <a:blip r:embed="rId1"/>
          <a:stretch/>
        </p:blipFill>
        <p:spPr>
          <a:xfrm>
            <a:off x="6156360" y="3933720"/>
            <a:ext cx="2160720" cy="259092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Требования, предъявляемые к речи учеников младших классов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Ясность реч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разительность реч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авильность реч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огатство языковых средст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очность реч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Логичность реч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держательность реч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аним"/>
          <p:cNvPicPr/>
          <p:nvPr/>
        </p:nvPicPr>
        <p:blipFill>
          <a:blip r:embed="rId1"/>
          <a:stretch/>
        </p:blipFill>
        <p:spPr>
          <a:xfrm>
            <a:off x="5940360" y="3716280"/>
            <a:ext cx="2592360" cy="151308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Форма ведения (примерная) дневни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.Автор. Заглавие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2. Время прочтения книг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3. Тем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4. Основные герои произведен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5. Впечатления, вызванные книгой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6. Строки, которые особенно понравилис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лан отзыва о книге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. Автор, название, жанр книг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2. Кому, по-вашему, будет интересна книга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3. Время и место действия книги. О чём она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4. Основные персонажи книг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5. Как начинается книга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6. Каков конфликт? Проблема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7. Чем интересна книга в целом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8. Какой эпизод особенно показался интересным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9. Кто из героев понравился больше? Почему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0. Какое впечатление произвел стиль автора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1. Ваше читательское мнение, мысли о книге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ыпускник начальной школы должен уме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различать виды пересказ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елить текст на смысловые части и составлять простой план,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о нему рассказывать произведение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Определять тему. Объяснять развитие событий в тексте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находить главную мысль произведения и соотносить её с заглавием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Описывать героев (их поступки, характер), своё отношение к прочитанному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4" descr="читающая девочка"/>
          <p:cNvPicPr/>
          <p:nvPr/>
        </p:nvPicPr>
        <p:blipFill>
          <a:blip r:embed="rId1"/>
          <a:stretch/>
        </p:blipFill>
        <p:spPr>
          <a:xfrm>
            <a:off x="7308720" y="3933720"/>
            <a:ext cx="1468440" cy="244800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1187280" y="2262240"/>
            <a:ext cx="7274160" cy="38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илучший источник обогащения словаря – живое общение, речь, устная и письменная, литература: слово в тексте всегда как бы высвечивается семантически и художественн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ля ребёнка хорошая речь – залог успешного обучения и развит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«Язык не может быть плохим или хорошим…Ведь язык – это только зеркало. То самое зеркало, на которое глупо пенять.»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С.Довлатов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6"/>
          <p:cNvSpPr txBox="1"/>
          <p:nvPr/>
        </p:nvSpPr>
        <p:spPr>
          <a:xfrm>
            <a:off x="755640" y="476280"/>
            <a:ext cx="7772400" cy="14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Учите ребёнк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        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рассказывать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pic>
        <p:nvPicPr>
          <p:cNvPr id="163" name="Picture 7" descr="Sample11"/>
          <p:cNvPicPr/>
          <p:nvPr/>
        </p:nvPicPr>
        <p:blipFill>
          <a:blip r:embed="rId1"/>
          <a:stretch/>
        </p:blipFill>
        <p:spPr>
          <a:xfrm>
            <a:off x="1835280" y="1968480"/>
            <a:ext cx="6265800" cy="4700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аним"/>
          <p:cNvPicPr/>
          <p:nvPr/>
        </p:nvPicPr>
        <p:blipFill>
          <a:blip r:embed="rId2"/>
          <a:stretch/>
        </p:blipFill>
        <p:spPr>
          <a:xfrm flipH="1">
            <a:off x="703440" y="981000"/>
            <a:ext cx="799920" cy="122400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03280" y="836640"/>
            <a:ext cx="5111640" cy="13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облема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доразвитие речи школьников – низкий показатель духовной культуры личнос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i-main-pic" descr="Картинка 53 из 103"/>
          <p:cNvPicPr/>
          <p:nvPr/>
        </p:nvPicPr>
        <p:blipFill>
          <a:blip r:embed="rId1"/>
          <a:stretch/>
        </p:blipFill>
        <p:spPr>
          <a:xfrm>
            <a:off x="539640" y="0"/>
            <a:ext cx="2400480" cy="233352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Развитие реч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71640" y="2636640"/>
            <a:ext cx="64008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оянно протекающий в течение всей жизни человека процесс овладения речью и её механизмами в непосредственной взаимосвязи с духовным становлением личности, обогащением её внутреннего мир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6" descr="профессор в очках"/>
          <p:cNvPicPr/>
          <p:nvPr/>
        </p:nvPicPr>
        <p:blipFill>
          <a:blip r:embed="rId1"/>
          <a:stretch/>
        </p:blipFill>
        <p:spPr>
          <a:xfrm>
            <a:off x="7164360" y="438480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1191269140_c4121"/>
          <p:cNvPicPr/>
          <p:nvPr/>
        </p:nvPicPr>
        <p:blipFill>
          <a:blip r:embed="rId1"/>
          <a:stretch/>
        </p:blipFill>
        <p:spPr>
          <a:xfrm>
            <a:off x="6877080" y="2492280"/>
            <a:ext cx="2011320" cy="35924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ая цель уроков литературного чтения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мочь ребенку стать читателем: подвести к осознанию богатого мира отечественной и зарубежной детской литературы как искусства художественного слова; обогатить читательский опы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Задачи уроков литературного чтения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азвивать умения «видеть» слово в тексте, наблюдать за его значением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нимать, почему данное слово отобрал писатель, как оно характеризует геро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Различать переносное образное значение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Учить использовать в собственной речи меткие слова и выражен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бучать пониманию текст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азвивать навыки выразительного чтения, культуры речи, творчеств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Методы и приёмы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омментировани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нтерпретац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нализ содержания и форм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ыразительное чтени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раматизация произведен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актические действ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зобразительная деятельност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гровые приём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исьм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Verdana"/>
              </a:rPr>
              <a:t>Различные формы устной речи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Verdana"/>
              </a:rPr>
              <a:t>Различные формы устной речи </a:t>
            </a:r>
            <a:br>
              <a:rPr sz="2500"/>
            </a:br>
            <a:r>
              <a:rPr b="1" lang="ru-RU" sz="3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ставление высказывани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писа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равнительные характеристик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ересказ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тзывы на книг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ннотации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4" descr="книги"/>
          <p:cNvPicPr/>
          <p:nvPr/>
        </p:nvPicPr>
        <p:blipFill>
          <a:blip r:embed="rId1"/>
          <a:stretch/>
        </p:blipFill>
        <p:spPr>
          <a:xfrm>
            <a:off x="5651640" y="3529080"/>
            <a:ext cx="2881080" cy="269568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917120" cy="22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Речь-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форма общения людей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осредством язык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258560" y="3068280"/>
            <a:ext cx="6697800" cy="25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чевое общение организует совместную деятельность людей, способствует познанию друг друга, является существенным фактором в развитии межличностных отнош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5" descr="дети танцуют"/>
          <p:cNvPicPr/>
          <p:nvPr/>
        </p:nvPicPr>
        <p:blipFill>
          <a:blip r:embed="rId1"/>
          <a:stretch/>
        </p:blipFill>
        <p:spPr>
          <a:xfrm>
            <a:off x="6540480" y="4437000"/>
            <a:ext cx="1409760" cy="172872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Речь тесно связана с другими психическими процессами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осприятие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Запоминание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оспроизведением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71600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Виды речевой деятельност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нешняя (устная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нутренняя (письменная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10" descr="анимация шапка магистра"/>
          <p:cNvPicPr/>
          <p:nvPr/>
        </p:nvPicPr>
        <p:blipFill>
          <a:blip r:embed="rId1"/>
          <a:stretch/>
        </p:blipFill>
        <p:spPr>
          <a:xfrm>
            <a:off x="1116000" y="549360"/>
            <a:ext cx="1905120" cy="971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анимация шапка магистра"/>
          <p:cNvPicPr/>
          <p:nvPr/>
        </p:nvPicPr>
        <p:blipFill>
          <a:blip r:embed="rId2"/>
          <a:stretch/>
        </p:blipFill>
        <p:spPr>
          <a:xfrm>
            <a:off x="5867280" y="549360"/>
            <a:ext cx="1905120" cy="9716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0:35:24Z</dcterms:created>
  <dc:creator>1</dc:creator>
  <dc:description/>
  <dc:language>en-US</dc:language>
  <cp:lastModifiedBy>LEGION</cp:lastModifiedBy>
  <dcterms:modified xsi:type="dcterms:W3CDTF">2015-01-27T12:16:24Z</dcterms:modified>
  <cp:revision>5</cp:revision>
  <dc:subject/>
  <dc:title> Речь младших школьников  и пути её развития</dc:title>
</cp:coreProperties>
</file>