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14.gif" ContentType="image/gif"/>
  <Override PartName="/ppt/media/image9.gif" ContentType="image/gif"/>
  <Override PartName="/ppt/media/image1.png" ContentType="image/png"/>
  <Override PartName="/ppt/media/image2.jpeg" ContentType="image/jpeg"/>
  <Override PartName="/ppt/media/image3.png" ContentType="image/png"/>
  <Override PartName="/ppt/media/image4.gif" ContentType="image/gif"/>
  <Override PartName="/ppt/media/image11.gif" ContentType="image/gif"/>
  <Override PartName="/ppt/media/image6.png" ContentType="image/png"/>
  <Override PartName="/ppt/media/image5.jpeg" ContentType="image/jpeg"/>
  <Override PartName="/ppt/media/image7.gif" ContentType="image/gif"/>
  <Override PartName="/ppt/media/image12.gif" ContentType="image/gif"/>
  <Override PartName="/ppt/media/image8.gif" ContentType="image/gif"/>
  <Override PartName="/ppt/media/image10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FB007-31F5-49D2-B82E-7D0D675332D0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ечь младших школьников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 пути её разви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737CA-A036-4B0D-943F-A5CE231FF553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тная реч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Диалог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разговор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ычно не полностью развернута, ситуативна, в ней многое не высказывается, а подразумевает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Монолог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высказывание одного человек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ебует подготовки, рассчитана на определённую аудитори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15356-7472-4AFF-8AC9-4455432576E8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Calibri"/>
              </a:rPr>
              <a:t>Различные виды монологических высказываний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І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.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Репродуктивные высказыван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ru-RU" sz="1200" spc="-1" strike="noStrike">
                <a:solidFill>
                  <a:srgbClr val="ff0000"/>
                </a:solidFill>
                <a:latin typeface="Calibri"/>
                <a:ea typeface="Arial"/>
              </a:rPr>
              <a:t>(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  <a:ea typeface="Arial"/>
              </a:rPr>
              <a:t>пересказы</a:t>
            </a:r>
            <a:r>
              <a:rPr b="0" lang="ru-RU" sz="1200" spc="-1" strike="noStrike">
                <a:solidFill>
                  <a:srgbClr val="ff0000"/>
                </a:solidFill>
                <a:latin typeface="Calibri"/>
                <a:ea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ІІ Продуктивные высказыван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 (развернутый устный ответ, сообщение, «слово» о писателе, рассказ о произведении искусства, речь экскурсовода, стихи, самостоятельно сочинённые рассказы, сказк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AA986-ECCC-48D1-8CBF-B60998623694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сновные направления работы по развитию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Устной реч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та над пониманием текс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сказы художественного текс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обще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Письменной реч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невник читател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зыв о книг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нотация на книг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3C2AE-B951-4642-A289-27FB2ED05372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Пересказы художественного текста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подробный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краткий (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сжатый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выборочный (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отбор фрагмент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                            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на одну тему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. пересказ с изменением лица рассказчик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8D2E3-46DE-4154-9CF3-429BE964212F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Требования, предъявляемые к речи учеников младших классов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сность реч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разительность реч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ильность реч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гатство языковых средст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чность реч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огичность реч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держательность реч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9AE79-16B4-473D-8765-A29DC2387BEB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Форма ведения (примерная) дневник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Автор. Заглави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Время прочтения книг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Те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Основные герои произвед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Впечатления, вызванные книг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 Строки, которые особенно понравилис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F45BE-D544-4667-AC55-513D02A78632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н отзыва о книг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Автор, название, жанр книг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Кому, по-вашему, будет интересна книг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Время и место действия книги. О чём он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Основные персонажи книг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Как начинается книг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 Каков конфликт? Проблем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. Чем интересна книга в целом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. Какой эпизод особенно показался интересным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. Кто из героев понравился больше? Почему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. Какое впечатление произвел стиль автор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1. Ваше читательское мнение, мысли о книг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41DFA-D4B9-48E0-8483-2AA4001F4967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Выпускник начальной школы должен уметь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личать виды переска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лить текст на смысловые части и составлять простой план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нему рассказывать произвед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ять тему. Объяснять развитие событий в текст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ходить главную мысль произведения и соотносить её с заглави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исывать героев (их поступки, характер), своё отношение к прочитанном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ABE1D-656D-4621-805D-1264C83C2153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Для ребёнка хорошая речь – залог успешного обучения и развития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«Язык не может быть плохим или хорошим…Ведь язык – это только зеркало. То самое зеркало, на которое глупо пенять.»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С.Довлатов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78C83-0F5F-4884-82D2-35DF82234B42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блем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доразвитие речи школьников – низкий показатель духовной культуры лич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CA009-038D-4B87-9B92-EC353BC69C95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витие реч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тоянно протекающий в течение всей жизни человека процесс овладения речью и её механизмами в непосредственной взаимосвязи с духовным становлением личности, обогащением её внутреннего ми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0AB59-933D-4BF8-9D0C-6193386EDEB6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Основная цель уроков литературного чтени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мочь ребенку стать читателем: подвести к осознанию богатого мира отечественной и зарубежной детской литературы как искусства художественного слова; обогатить читательский опы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79319-FFAB-4F65-8E1E-D48082741418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адачи уроков литературного чтения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вивать умения «видеть» слово в тексте, наблюдать за его значени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имать, почему данное слово отобрал писатель, как оно характеризует геро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Различать переносное образное значение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ить использовать в собственной речи меткие слова и выраж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учать пониманию текс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вивать навыки выразительного чтения, культуры речи, творче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C7BF7-6CB6-4D7B-A5A1-FB5C96DB7177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и приём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ментиро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терпрет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ализ содержания и фор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разительное чт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раматизация произвед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ктические действ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образительная деятель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гровые приё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исьм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Различные формы устной реч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399B4-F8DB-4812-B931-FA086FC423BB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r>
              <a:rPr b="1" lang="ru-RU" sz="1100" spc="-1" strike="noStrike">
                <a:solidFill>
                  <a:srgbClr val="ff0000"/>
                </a:solidFill>
                <a:latin typeface="Calibri"/>
              </a:rPr>
              <a:t>Различные формы устной речи </a:t>
            </a:r>
            <a:br>
              <a:rPr sz="1100"/>
            </a:br>
            <a:r>
              <a:rPr b="1" lang="ru-RU" sz="14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авление высказыва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ис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авнительные характерист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сказ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зывы на книг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нотац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B4535-7F27-4DC1-9BBD-5A7C6DEE68DE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чь-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а общения людей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редством язы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чевое общение организует совместную деятельность людей, способствует познанию друг друга, является существенным фактором в развитии межличностных отнош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2BB83-BBCE-4213-BCD4-18A98AD15972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Речь тесно связана с другими психическими процессам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сприяти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поминани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спроизведени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иды речевой деятельност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ешняя (устна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утренняя (письменна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50C78-6B15-4EEC-95F2-9F3A206EBE5D}" type="slidenum">
              <a:rPr b="0" lang="uk-UA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28ED3-84A9-4A41-B68E-0C402E0979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5A1B2-DBC9-4821-95E3-A185BF86D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43065-386F-4363-90FE-F1F5B4B47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AA68A-8BCA-4535-A471-DE1A386F9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8F797-7B66-42BA-A993-4792848F9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CB61A-D4BC-48C5-AC32-DA9AF493F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F6923-E53E-4EDD-8D05-8D28C2442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FB8DA-882D-473F-BAB9-BE8C5A69F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64636-A30C-4A19-A079-1BB7CFD9F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EC791-0202-4CC5-A1D5-56AE29375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F9B0F-A1D3-4A57-A54C-3A493A562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723B6-671F-4941-B14F-080D79CCB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3C998-6349-434F-81B5-C889303DE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91222-0C88-4D58-BD47-AFCDB3D01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3AB71-05D9-4D8E-8619-ABB9DEFE1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C9C2B-E118-41C1-839C-153315228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B9754-2B89-4DE9-8608-BDE7DD947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8D39E-8E9C-4740-9833-933D8D075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312DA-A655-43A8-ADD1-9159AF3CF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65C3E-26ED-4DAB-A321-D21BEEBF0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0D466-81ED-43C2-8A6C-3BF1690E9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8D327-A15F-4A20-87A7-30F170EAF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D2298-27FD-4D05-84AC-20FD16058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0D2B0-A551-47A0-AB1D-20C530C1B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0F635-E74E-4746-9C22-F047475938E2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E9E5C-7B69-4987-9C00-F89AA369DC44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900" spc="-1" strike="noStrike">
                <a:solidFill>
                  <a:srgbClr val="000000"/>
                </a:solidFill>
                <a:latin typeface="Verdana"/>
              </a:rPr>
              <a:t>Речь младших школьников </a:t>
            </a:r>
            <a:br>
              <a:rPr sz="2900"/>
            </a:br>
            <a:r>
              <a:rPr b="1" lang="ru-RU" sz="2900" spc="-1" strike="noStrike">
                <a:solidFill>
                  <a:srgbClr val="000000"/>
                </a:solidFill>
                <a:latin typeface="Verdana"/>
              </a:rPr>
              <a:t>и пути её развития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3" name="i-main-pic" descr="Картинка 4 из 103"/>
          <p:cNvPicPr/>
          <p:nvPr/>
        </p:nvPicPr>
        <p:blipFill>
          <a:blip r:embed="rId1"/>
          <a:stretch/>
        </p:blipFill>
        <p:spPr>
          <a:xfrm>
            <a:off x="4788000" y="2852640"/>
            <a:ext cx="4048200" cy="3600720"/>
          </a:xfrm>
          <a:prstGeom prst="rect">
            <a:avLst/>
          </a:prstGeom>
          <a:ln w="0">
            <a:noFill/>
          </a:ln>
        </p:spPr>
      </p:pic>
      <p:sp>
        <p:nvSpPr>
          <p:cNvPr id="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Устная речь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39261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Verdana"/>
              </a:rPr>
              <a:t>Диалог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(разговор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Обычно не полностью развернута, ситуативна, в ней многое не высказывается, а подразумевается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41480" y="1752480"/>
            <a:ext cx="39258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Verdana"/>
              </a:rPr>
              <a:t>Монолог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 (высказывание одного человека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Требует подготовки, рассчитана на определённую аудиторию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400" spc="-1" strike="noStrike">
                <a:solidFill>
                  <a:srgbClr val="000000"/>
                </a:solidFill>
                <a:latin typeface="Verdana"/>
              </a:rPr>
              <a:t>Различные виды монологических высказываний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Verdana"/>
                <a:ea typeface="Arial"/>
              </a:rPr>
              <a:t>І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  <a:ea typeface="Arial"/>
              </a:rPr>
              <a:t>. </a:t>
            </a:r>
            <a:r>
              <a:rPr b="1" lang="ru-RU" sz="3000" spc="-1" strike="noStrike">
                <a:solidFill>
                  <a:srgbClr val="000000"/>
                </a:solidFill>
                <a:latin typeface="Verdana"/>
                <a:ea typeface="Arial"/>
              </a:rPr>
              <a:t>Репродуктивные высказывания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ru-RU" sz="3000" spc="-1" strike="noStrike">
                <a:solidFill>
                  <a:srgbClr val="ff0000"/>
                </a:solidFill>
                <a:latin typeface="Verdana"/>
                <a:ea typeface="Arial"/>
              </a:rPr>
              <a:t>(</a:t>
            </a:r>
            <a:r>
              <a:rPr b="1" lang="ru-RU" sz="3000" spc="-1" strike="noStrike">
                <a:solidFill>
                  <a:srgbClr val="ff0000"/>
                </a:solidFill>
                <a:latin typeface="Verdana"/>
                <a:ea typeface="Arial"/>
              </a:rPr>
              <a:t>пересказы</a:t>
            </a:r>
            <a:r>
              <a:rPr b="0" lang="ru-RU" sz="3000" spc="-1" strike="noStrike">
                <a:solidFill>
                  <a:srgbClr val="ff0000"/>
                </a:solidFill>
                <a:latin typeface="Verdana"/>
                <a:ea typeface="Arial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Verdana"/>
                <a:ea typeface="Arial"/>
              </a:rPr>
              <a:t>ІІ Продуктивные высказывания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  <a:ea typeface="Arial"/>
              </a:rPr>
              <a:t> (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  <a:ea typeface="Arial"/>
              </a:rPr>
              <a:t>развернутый устный ответ, сообщение, «слово» о писателе, рассказ о произведении искусства, речь экскурсовода, стихи, самостоятельно сочинённые рассказы, сказки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Основные направления работы по развитию  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39261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36699"/>
                </a:solidFill>
                <a:latin typeface="Verdana"/>
              </a:rPr>
              <a:t>Устной речи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3352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49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Работа над пониманием текста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49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Пересказы художественного текста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49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Сообщения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1480" y="1752480"/>
            <a:ext cx="39258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336699"/>
                </a:solidFill>
                <a:latin typeface="Verdana"/>
              </a:rPr>
              <a:t>Письменной речи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3352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49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Дневник читателя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49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Отзыв о книге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533520" indent="-533520">
              <a:spcBef>
                <a:spcPts val="649"/>
              </a:spcBef>
              <a:buClr>
                <a:srgbClr val="cc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Аннотация на книгу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8" name="Picture 6" descr="аним"/>
          <p:cNvPicPr/>
          <p:nvPr/>
        </p:nvPicPr>
        <p:blipFill>
          <a:blip r:embed="rId1"/>
          <a:stretch/>
        </p:blipFill>
        <p:spPr>
          <a:xfrm>
            <a:off x="5003640" y="4311720"/>
            <a:ext cx="2521080" cy="1890720"/>
          </a:xfrm>
          <a:prstGeom prst="rect">
            <a:avLst/>
          </a:prstGeom>
          <a:ln w="0">
            <a:noFill/>
          </a:ln>
        </p:spPr>
      </p:pic>
      <p:sp>
        <p:nvSpPr>
          <p:cNvPr id="13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Пересказы художественного текста: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1. подробный 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2. краткий (</a:t>
            </a:r>
            <a:r>
              <a:rPr b="0" i="1" lang="ru-RU" sz="3000" spc="-1" strike="noStrike">
                <a:solidFill>
                  <a:srgbClr val="000000"/>
                </a:solidFill>
                <a:latin typeface="Verdana"/>
              </a:rPr>
              <a:t>сжатый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3. выборочный (</a:t>
            </a:r>
            <a:r>
              <a:rPr b="0" i="1" lang="ru-RU" sz="3000" spc="-1" strike="noStrike">
                <a:solidFill>
                  <a:srgbClr val="000000"/>
                </a:solidFill>
                <a:latin typeface="Verdana"/>
              </a:rPr>
              <a:t>отбор фрагментов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Verdana"/>
              </a:rPr>
              <a:t>                              </a:t>
            </a:r>
            <a:r>
              <a:rPr b="0" i="1" lang="ru-RU" sz="3000" spc="-1" strike="noStrike">
                <a:solidFill>
                  <a:srgbClr val="000000"/>
                </a:solidFill>
                <a:latin typeface="Verdana"/>
              </a:rPr>
              <a:t>на одну тему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. пересказ с изменением лица рассказчика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2" name="Picture 4" descr="аним"/>
          <p:cNvPicPr/>
          <p:nvPr/>
        </p:nvPicPr>
        <p:blipFill>
          <a:blip r:embed="rId1"/>
          <a:stretch/>
        </p:blipFill>
        <p:spPr>
          <a:xfrm>
            <a:off x="6156360" y="3933720"/>
            <a:ext cx="2160720" cy="2590920"/>
          </a:xfrm>
          <a:prstGeom prst="rect">
            <a:avLst/>
          </a:prstGeom>
          <a:ln w="0">
            <a:noFill/>
          </a:ln>
        </p:spPr>
      </p:pic>
      <p:sp>
        <p:nvSpPr>
          <p:cNvPr id="14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Требования, предъявляемые к речи учеников младших классов: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Ясность речи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Выразительность речи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Правильность речи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Богатство языковых средств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Точность речи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Логичность речи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Содержательность речи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6" name="Picture 4" descr="аним"/>
          <p:cNvPicPr/>
          <p:nvPr/>
        </p:nvPicPr>
        <p:blipFill>
          <a:blip r:embed="rId1"/>
          <a:stretch/>
        </p:blipFill>
        <p:spPr>
          <a:xfrm>
            <a:off x="5940360" y="3716280"/>
            <a:ext cx="2592360" cy="1513080"/>
          </a:xfrm>
          <a:prstGeom prst="rect">
            <a:avLst/>
          </a:prstGeom>
          <a:ln w="0">
            <a:noFill/>
          </a:ln>
        </p:spPr>
      </p:pic>
      <p:sp>
        <p:nvSpPr>
          <p:cNvPr id="14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Форма ведения (примерная) дневника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1.Автор. Заглавие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2. Время прочтения книги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3. Тема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4. Основные герои произведения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5. Впечатления, вызванные книгой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6. Строки, которые особенно понравились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План отзыва о книге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1. Автор, название, жанр книги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2. Кому, по-вашему, будет интересна книга?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3. Время и место действия книги. О чём она?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4. Основные персонажи книги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5. Как начинается книга?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6. Каков конфликт? Проблема?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7. Чем интересна книга в целом?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8. Какой эпизод особенно показался интересным?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9. Кто из героев понравился больше? Почему?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10. Какое впечатление произвел стиль автора?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Verdana"/>
              </a:rPr>
              <a:t>11. Ваше читательское мнение, мысли о книге?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ыпускник начальной школы должен уме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различать виды пересказа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Делить текст на смысловые части и составлять простой план,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по нему рассказывать произведение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Определять тему. Объяснять развитие событий в тексте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находить главную мысль произведения и соотносить её с заглавием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Описывать героев (их поступки, характер), своё отношение к прочитанному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6" name="Picture 4" descr="читающая девочка"/>
          <p:cNvPicPr/>
          <p:nvPr/>
        </p:nvPicPr>
        <p:blipFill>
          <a:blip r:embed="rId1"/>
          <a:stretch/>
        </p:blipFill>
        <p:spPr>
          <a:xfrm>
            <a:off x="7308720" y="3933720"/>
            <a:ext cx="1468440" cy="2448000"/>
          </a:xfrm>
          <a:prstGeom prst="rect">
            <a:avLst/>
          </a:prstGeom>
          <a:ln w="0">
            <a:noFill/>
          </a:ln>
        </p:spPr>
      </p:pic>
      <p:sp>
        <p:nvSpPr>
          <p:cNvPr id="1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6"/>
          <p:cNvSpPr/>
          <p:nvPr/>
        </p:nvSpPr>
        <p:spPr>
          <a:xfrm>
            <a:off x="1187280" y="2262240"/>
            <a:ext cx="7274160" cy="38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Наилучший источник обогащения словаря – живое общение, речь, устная и письменная, литература: слово в тексте всегда как бы высвечивается семантически и художественно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Для ребёнка хорошая речь – залог успешного обучения и развити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3366"/>
                </a:solidFill>
                <a:latin typeface="Verdana"/>
              </a:rPr>
              <a:t>«Язык не может быть плохим или хорошим…Ведь язык – это только зеркало. То самое зеркало, на которое глупо пенять.»</a:t>
            </a:r>
            <a:r>
              <a:rPr b="0" lang="ru-RU" sz="17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0" lang="ru-RU" sz="1300" spc="-1" strike="noStrike">
                <a:solidFill>
                  <a:srgbClr val="000000"/>
                </a:solidFill>
                <a:latin typeface="Verdana"/>
              </a:rPr>
              <a:t>С.Довлатов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WordArt 6"/>
          <p:cNvSpPr txBox="1"/>
          <p:nvPr/>
        </p:nvSpPr>
        <p:spPr>
          <a:xfrm>
            <a:off x="755640" y="476280"/>
            <a:ext cx="7772400" cy="146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latin typeface="Arial"/>
              </a:rPr>
              <a:t>Учите ребёнка 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8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latin typeface="Arial"/>
              </a:rPr>
              <a:t>         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latin typeface="Arial"/>
              </a:rPr>
              <a:t>рассказывать!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80"/>
              </a:solidFill>
              <a:latin typeface="Arial"/>
              <a:ea typeface="Arial"/>
            </a:endParaRPr>
          </a:p>
        </p:txBody>
      </p:sp>
      <p:pic>
        <p:nvPicPr>
          <p:cNvPr id="163" name="Picture 7" descr="Sample11"/>
          <p:cNvPicPr/>
          <p:nvPr/>
        </p:nvPicPr>
        <p:blipFill>
          <a:blip r:embed="rId1"/>
          <a:stretch/>
        </p:blipFill>
        <p:spPr>
          <a:xfrm>
            <a:off x="1835280" y="1968480"/>
            <a:ext cx="6265800" cy="47005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8" descr="аним"/>
          <p:cNvPicPr/>
          <p:nvPr/>
        </p:nvPicPr>
        <p:blipFill>
          <a:blip r:embed="rId2"/>
          <a:stretch/>
        </p:blipFill>
        <p:spPr>
          <a:xfrm flipH="1">
            <a:off x="703440" y="981000"/>
            <a:ext cx="799920" cy="1224000"/>
          </a:xfrm>
          <a:prstGeom prst="rect">
            <a:avLst/>
          </a:prstGeom>
          <a:ln w="0">
            <a:noFill/>
          </a:ln>
        </p:spPr>
      </p:pic>
      <p:sp>
        <p:nvSpPr>
          <p:cNvPr id="1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203280" y="836640"/>
            <a:ext cx="5111640" cy="13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Проблема: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едоразвитие речи школьников – низкий показатель духовной культуры личности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7" name="i-main-pic" descr="Картинка 53 из 103"/>
          <p:cNvPicPr/>
          <p:nvPr/>
        </p:nvPicPr>
        <p:blipFill>
          <a:blip r:embed="rId1"/>
          <a:stretch/>
        </p:blipFill>
        <p:spPr>
          <a:xfrm>
            <a:off x="539640" y="0"/>
            <a:ext cx="2400480" cy="2333520"/>
          </a:xfrm>
          <a:prstGeom prst="rect">
            <a:avLst/>
          </a:prstGeom>
          <a:ln w="0">
            <a:noFill/>
          </a:ln>
        </p:spPr>
      </p:pic>
      <p:sp>
        <p:nvSpPr>
          <p:cNvPr id="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11280" y="691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Развитие речи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971640" y="2636640"/>
            <a:ext cx="6400800" cy="338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стоянно протекающий в течение всей жизни человека процесс овладения речью и её механизмами в непосредственной взаимосвязи с духовным становлением личности, обогащением её внутреннего мира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1" name="Picture 6" descr="профессор в очках"/>
          <p:cNvPicPr/>
          <p:nvPr/>
        </p:nvPicPr>
        <p:blipFill>
          <a:blip r:embed="rId1"/>
          <a:stretch/>
        </p:blipFill>
        <p:spPr>
          <a:xfrm>
            <a:off x="7164360" y="4384800"/>
            <a:ext cx="1295280" cy="1295280"/>
          </a:xfrm>
          <a:prstGeom prst="rect">
            <a:avLst/>
          </a:prstGeom>
          <a:ln w="0">
            <a:noFill/>
          </a:ln>
        </p:spPr>
      </p:pic>
      <p:sp>
        <p:nvSpPr>
          <p:cNvPr id="1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4" descr="1191269140_c4121"/>
          <p:cNvPicPr/>
          <p:nvPr/>
        </p:nvPicPr>
        <p:blipFill>
          <a:blip r:embed="rId1"/>
          <a:stretch/>
        </p:blipFill>
        <p:spPr>
          <a:xfrm>
            <a:off x="6877080" y="2492280"/>
            <a:ext cx="2011320" cy="359244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Основная цель уроков литературного чтения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8000" y="169992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Помочь ребенку стать читателем: подвести к осознанию богатого мира отечественной и зарубежной детской литературы как искусства художественного слова; обогатить читательский опы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Задачи уроков литературного чтения: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39261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Развивать умения «видеть» слово в тексте, наблюдать за его значением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Понимать, почему данное слово отобрал писатель, как оно характеризует героя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Различать переносное образное значение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41480" y="1752480"/>
            <a:ext cx="39258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Учить использовать в собственной речи меткие слова и выражения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Обучать пониманию текста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55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Verdana"/>
              </a:rPr>
              <a:t>Развивать навыки выразительного чтения, культуры речи, творчества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Verdana"/>
              </a:rPr>
              <a:t>Методы и приёмы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66640" y="1752480"/>
            <a:ext cx="39261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Комментирование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Интерпретация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Анализ содержания и формы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Выразительное чтение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Драматизация произведения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41480" y="1752480"/>
            <a:ext cx="39258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Практические действия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Изобразительная деятельность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Игровые приёмы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Письмо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0000"/>
                </a:solidFill>
                <a:latin typeface="Verdana"/>
              </a:rPr>
              <a:t>Различные формы устной речи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r>
              <a:rPr b="1" lang="ru-RU" sz="2500" spc="-1" strike="noStrike">
                <a:solidFill>
                  <a:srgbClr val="ff0000"/>
                </a:solidFill>
                <a:latin typeface="Verdana"/>
              </a:rPr>
              <a:t>Различные формы устной речи </a:t>
            </a:r>
            <a:br>
              <a:rPr sz="2500"/>
            </a:br>
            <a:r>
              <a:rPr b="1" lang="ru-RU" sz="34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Составление высказываний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Описания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Сравнительные характеристики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Пересказы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Отзывы на книгу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Аннотации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7" name="Picture 4" descr="книги"/>
          <p:cNvPicPr/>
          <p:nvPr/>
        </p:nvPicPr>
        <p:blipFill>
          <a:blip r:embed="rId1"/>
          <a:stretch/>
        </p:blipFill>
        <p:spPr>
          <a:xfrm>
            <a:off x="5651640" y="3529080"/>
            <a:ext cx="2881080" cy="2695680"/>
          </a:xfrm>
          <a:prstGeom prst="rect">
            <a:avLst/>
          </a:prstGeom>
          <a:ln w="0">
            <a:noFill/>
          </a:ln>
        </p:spPr>
      </p:pic>
      <p:sp>
        <p:nvSpPr>
          <p:cNvPr id="11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7917120" cy="2232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Речь-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форма общения людей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посредством языка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1258560" y="3068280"/>
            <a:ext cx="6697800" cy="257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ечевое общение организует совместную деятельность людей, способствует познанию друг друга, является существенным фактором в развитии межличностных отношений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1" name="Picture 5" descr="дети танцуют"/>
          <p:cNvPicPr/>
          <p:nvPr/>
        </p:nvPicPr>
        <p:blipFill>
          <a:blip r:embed="rId1"/>
          <a:stretch/>
        </p:blipFill>
        <p:spPr>
          <a:xfrm>
            <a:off x="6540480" y="4437000"/>
            <a:ext cx="1409760" cy="1728720"/>
          </a:xfrm>
          <a:prstGeom prst="rect">
            <a:avLst/>
          </a:prstGeom>
          <a:ln w="0">
            <a:noFill/>
          </a:ln>
        </p:spPr>
      </p:pic>
      <p:sp>
        <p:nvSpPr>
          <p:cNvPr id="1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Verdana"/>
              </a:rPr>
              <a:t>Речь тесно связана с другими психическими процессами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Восприятием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Запоминанием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Воспроизведением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716000" y="162864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Verdana"/>
              </a:rPr>
              <a:t>Виды речевой деятельности</a:t>
            </a: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Внешняя (устная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ctr">
              <a:spcBef>
                <a:spcPts val="64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Внутренняя (письменная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5" name="Picture 10" descr="анимация шапка магистра"/>
          <p:cNvPicPr/>
          <p:nvPr/>
        </p:nvPicPr>
        <p:blipFill>
          <a:blip r:embed="rId1"/>
          <a:stretch/>
        </p:blipFill>
        <p:spPr>
          <a:xfrm>
            <a:off x="1116000" y="549360"/>
            <a:ext cx="1905120" cy="9716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3" descr="анимация шапка магистра"/>
          <p:cNvPicPr/>
          <p:nvPr/>
        </p:nvPicPr>
        <p:blipFill>
          <a:blip r:embed="rId2"/>
          <a:stretch/>
        </p:blipFill>
        <p:spPr>
          <a:xfrm>
            <a:off x="5867280" y="549360"/>
            <a:ext cx="1905120" cy="971640"/>
          </a:xfrm>
          <a:prstGeom prst="rect">
            <a:avLst/>
          </a:prstGeom>
          <a:ln w="0">
            <a:noFill/>
          </a:ln>
        </p:spPr>
      </p:pic>
      <p:sp>
        <p:nvSpPr>
          <p:cNvPr id="1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27T10:35:24Z</dcterms:created>
  <dc:creator>1</dc:creator>
  <dc:description/>
  <dc:language>en-US</dc:language>
  <cp:lastModifiedBy>LEGION</cp:lastModifiedBy>
  <dcterms:modified xsi:type="dcterms:W3CDTF">2015-01-27T12:16:24Z</dcterms:modified>
  <cp:revision>5</cp:revision>
  <dc:subject/>
  <dc:title> Речь младших школьников  и пути её развития</dc:title>
</cp:coreProperties>
</file>