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.wmf" ContentType="image/x-wmf"/>
  <Override PartName="/ppt/media/image52.jpeg" ContentType="image/jpeg"/>
  <Override PartName="/ppt/media/image28.jpeg" ContentType="image/jpeg"/>
  <Override PartName="/ppt/media/image51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8.jpeg" ContentType="image/jpeg"/>
  <Override PartName="/ppt/media/image1.png" ContentType="image/png"/>
  <Override PartName="/ppt/media/image23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4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5.wmf" ContentType="image/x-wmf"/>
  <Override PartName="/ppt/media/image19.jpeg" ContentType="image/jpeg"/>
  <Override PartName="/ppt/media/image42.jpeg" ContentType="image/jpeg"/>
  <Override PartName="/ppt/media/image11.png" ContentType="image/png"/>
  <Override PartName="/ppt/media/image6.wmf" ContentType="image/x-wmf"/>
  <Override PartName="/ppt/media/image47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17.wmf" ContentType="image/x-wmf"/>
  <Override PartName="/ppt/media/image22.jpeg" ContentType="image/jpeg"/>
  <Override PartName="/ppt/media/image9.png" ContentType="image/png"/>
  <Override PartName="/ppt/media/image46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56.jpeg" ContentType="image/jpeg"/>
  <Override PartName="/ppt/media/image36.jpeg" ContentType="image/jpeg"/>
  <Override PartName="/ppt/media/image58.jpeg" ContentType="image/jpeg"/>
  <Override PartName="/ppt/media/image57.wmf" ContentType="image/x-wmf"/>
  <Override PartName="/ppt/media/image32.jpeg" ContentType="image/jpeg"/>
  <Override PartName="/ppt/media/image31.jpeg" ContentType="image/jpeg"/>
  <Override PartName="/ppt/media/image30.jpeg" ContentType="image/jpeg"/>
  <Override PartName="/ppt/media/image49.wmf" ContentType="image/x-wmf"/>
  <Override PartName="/ppt/media/image12.wmf" ContentType="image/x-wmf"/>
  <Override PartName="/ppt/media/image41.wmf" ContentType="image/x-wmf"/>
  <Override PartName="/ppt/media/image39.jpeg" ContentType="image/jpeg"/>
  <Override PartName="/ppt/media/image8.png" ContentType="image/png"/>
  <Override PartName="/ppt/media/image14.jpeg" ContentType="image/jpeg"/>
  <Override PartName="/ppt/media/image45.jpeg" ContentType="image/jpeg"/>
  <Override PartName="/ppt/media/image16.wmf" ContentType="image/x-wmf"/>
  <Override PartName="/ppt/media/image3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8F66E2-FF8A-4FE1-A641-476D29A25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000000"/>
                </a:solidFill>
                <a:latin typeface="Arial"/>
              </a:rPr>
              <a:t>МКОУ «Кулунская оош»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Comic Sans MS"/>
              </a:rPr>
              <a:t>« Я выбираю спорт как альтернативу пагубным привычка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9DA7C6-8B44-469F-AD0F-4C68B9E7355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о спо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2C4243-B70B-4980-93A0-6A2667C6508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с «Одеть лыжн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C7A095-A74B-4F4D-8521-9DBC8215269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ЯЧ И СКАКА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88319F-63AA-48A5-9894-918274F52BB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рт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BC48FB-57CC-49FD-BAC9-3FF21242F62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ртивная  аэроб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9FC935-438B-4109-9F37-F9C572D9A1C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выбираю спорт как альтернативу пагубным привычка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72E6E5-D75D-4053-B00B-A69E0509740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тч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В одной далекой стране жил мудрец, на многие вопросы он знал ответы, и сотни людей приходили к нему за советом и помощью. В той же стране жил молодой человек, который, совсем недавно был еще ребенком и только начинал свой жизненный путь. Но он-то думал, что все уже знает, многое умеет, и чужих советов слушать ему не надо. Решил он провести мудреца – поймал бабочку, зажал её между ладонями и спросил мудреца: «Что у меня в руках – живое или неживое?» Если мудрец ответил бы «живое», он сильнее сдавил бы руки, бабочка бы умерла, и мудрец оказался бы не прав, а если мудрец ответил бы "неживое", молодой человек разжал бы руки, бабочка выпорхнула, а мудрец снова был бы не прав. Но когда молодой человек подошел к мудрецу и задал свой вопрос, старый человек внимательно посмотрел на него и сказал: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«Все в твоих руках»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тносительно здоровья каждого можно сказать: «Все в твоих руках…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B636EE-3AF1-4D08-944A-AA8BE7165EF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доровье – это драгоценность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 притом единственная, рад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торой действительно стоит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е только не жалеть времени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ил, трудов и всяких благ но и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жертвовать ради него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частицей самой жизни, поскольку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жизнь без него становиться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нестерпимой и унизительной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М. Монтень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391409-3B22-4D40-AA86-72CAEA5ED01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по акции </a:t>
            </a:r>
            <a:br>
              <a:rPr sz="105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Я выбираю спорт, как альтернативу пагубным привычкам»</a:t>
            </a:r>
            <a:br>
              <a:rPr sz="105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1CA884-2AEF-44E0-8B1B-6675C548E9E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931340-33CA-4E42-8B1B-14B43D7FAE84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выбираю спортивную виктор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C892B7-01ED-4575-A94A-D6F3BFB8EB2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выбираю спортив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47F96C-7D33-46CB-B104-836D7892443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ашечный турн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D1378B-A230-4AF6-9C48-952580DC93C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с рисунков и плак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2508EF-1C94-42A6-BFE9-BE40EF0ABDE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559-981E-4176-B180-2902788E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1B4B-B1D5-4613-8832-2BECE188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5182-9D87-4683-AC54-EB5BF00B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1C5-374F-462F-9EA6-AC77B658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7261-3130-465C-90BA-E322B0EC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E6C7-85B2-456A-B429-E3C4FC0C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6410-21F0-4272-8794-A327B2AB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5B92-038A-4D70-8555-B63E1A1B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1C58-57B8-40CA-B8C6-7EAA4FF0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D65D-09F1-4518-8D27-BAB68487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FD3C-EE1D-4D11-9472-8053D5F7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407-F559-45BE-8E61-8A14C5AF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4771-B006-4F6C-B280-AB5F995A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013F-6AF7-452B-A1AE-91A3FF75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4075-AE96-4638-81D6-D74F4492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37AD-AA28-41D0-B0F0-F6E995AE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8586-7D3E-45DA-A8A7-3C9528FA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893F-F893-4104-9EAC-51E596D9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8742-F981-4B88-AD6F-F4DE2840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F801-DB07-4895-AC10-88A34F1D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308-9DEB-45C3-8E0F-85F0729D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695F-7C47-4BAB-A64A-BA952665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6C11-1825-4EEC-B3CD-92AAD503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243E-17DF-4926-9550-F27C947C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3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C83B5D-8718-4D8A-BB02-DD1AD78E009A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F525D9-1320-426F-B7D5-59A9ED4CD1D8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2.wmf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7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040" cy="13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 cap="all">
                <a:solidFill>
                  <a:srgbClr val="4e3b30"/>
                </a:solidFill>
                <a:latin typeface="Franklin Gothic Medium"/>
              </a:rPr>
              <a:t>МКОУ «Кулунская оош»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1571760"/>
            <a:ext cx="9143640" cy="3928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2a2003"/>
                </a:solidFill>
                <a:latin typeface="Comic Sans MS"/>
              </a:rPr>
              <a:t>Акц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chemeClr val="accent6">
                    <a:lumMod val="50000"/>
                  </a:schemeClr>
                </a:solidFill>
                <a:latin typeface="Comic Sans MS"/>
              </a:rPr>
              <a:t>« Я выбираю спорт как альтернативу пагубным привычка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000803_1055_5842_vnvv"/>
          <p:cNvPicPr/>
          <p:nvPr/>
        </p:nvPicPr>
        <p:blipFill>
          <a:blip r:embed="rId1"/>
          <a:stretch/>
        </p:blipFill>
        <p:spPr>
          <a:xfrm>
            <a:off x="380880" y="4908600"/>
            <a:ext cx="1190160" cy="1949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000803_1077_3437_vnvv"/>
          <p:cNvPicPr/>
          <p:nvPr/>
        </p:nvPicPr>
        <p:blipFill>
          <a:blip r:embed="rId2"/>
          <a:stretch/>
        </p:blipFill>
        <p:spPr>
          <a:xfrm>
            <a:off x="0" y="1112400"/>
            <a:ext cx="1856880" cy="1735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000803_1077_3807_vnvv"/>
          <p:cNvPicPr/>
          <p:nvPr/>
        </p:nvPicPr>
        <p:blipFill>
          <a:blip r:embed="rId3"/>
          <a:stretch/>
        </p:blipFill>
        <p:spPr>
          <a:xfrm>
            <a:off x="7605720" y="1143000"/>
            <a:ext cx="1537920" cy="2130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000803_1079_3621_vuvv"/>
          <p:cNvPicPr/>
          <p:nvPr/>
        </p:nvPicPr>
        <p:blipFill>
          <a:blip r:embed="rId4"/>
          <a:stretch/>
        </p:blipFill>
        <p:spPr>
          <a:xfrm>
            <a:off x="6643800" y="4643280"/>
            <a:ext cx="2257200" cy="2067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3"/>
          <p:cNvSpPr>
            <a:spLocks noGrp="1"/>
          </p:cNvSpPr>
          <p:nvPr>
            <p:ph type="ftr" idx="1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3785760" cy="2839320"/>
          </a:xfrm>
          <a:prstGeom prst="rect">
            <a:avLst/>
          </a:prstGeom>
          <a:ln w="9525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5000760" y="1071720"/>
            <a:ext cx="3809520" cy="2857320"/>
          </a:xfrm>
          <a:prstGeom prst="rect">
            <a:avLst/>
          </a:prstGeom>
          <a:ln w="9525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571320" y="4071960"/>
            <a:ext cx="3714480" cy="2785680"/>
          </a:xfrm>
          <a:prstGeom prst="rect">
            <a:avLst/>
          </a:prstGeom>
          <a:ln w="9525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4"/>
          <a:stretch/>
        </p:blipFill>
        <p:spPr>
          <a:xfrm>
            <a:off x="4929120" y="4125600"/>
            <a:ext cx="3642840" cy="2732040"/>
          </a:xfrm>
          <a:prstGeom prst="rect">
            <a:avLst/>
          </a:prstGeom>
          <a:ln w="9525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ftr" idx="1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Всё о спорте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4266720" cy="3200040"/>
          </a:xfrm>
          <a:prstGeom prst="rect">
            <a:avLst/>
          </a:prstGeom>
          <a:ln w="9525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357800" y="3268440"/>
            <a:ext cx="4785840" cy="358920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2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Конкурс «Одеть лыжника»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3314160" cy="248580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214200" y="3643200"/>
            <a:ext cx="4285800" cy="3214440"/>
          </a:xfrm>
          <a:prstGeom prst="rect">
            <a:avLst/>
          </a:prstGeom>
          <a:ln w="9525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3"/>
          <a:stretch/>
        </p:blipFill>
        <p:spPr>
          <a:xfrm>
            <a:off x="4643280" y="3643200"/>
            <a:ext cx="4285800" cy="3214440"/>
          </a:xfrm>
          <a:prstGeom prst="rect">
            <a:avLst/>
          </a:prstGeom>
          <a:ln w="9525">
            <a:noFill/>
          </a:ln>
        </p:spPr>
      </p:pic>
      <p:pic>
        <p:nvPicPr>
          <p:cNvPr id="156" name="Picture 9" descr=""/>
          <p:cNvPicPr/>
          <p:nvPr/>
        </p:nvPicPr>
        <p:blipFill>
          <a:blip r:embed="rId4"/>
          <a:stretch/>
        </p:blipFill>
        <p:spPr>
          <a:xfrm>
            <a:off x="5072040" y="1071720"/>
            <a:ext cx="3426480" cy="2569680"/>
          </a:xfrm>
          <a:prstGeom prst="rect">
            <a:avLst/>
          </a:prstGeom>
          <a:ln w="9525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ftr" idx="2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МЯЧ И СКАКАЛ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000803_1077_3526_vnvv"/>
          <p:cNvPicPr/>
          <p:nvPr/>
        </p:nvPicPr>
        <p:blipFill>
          <a:blip r:embed="rId1"/>
          <a:stretch/>
        </p:blipFill>
        <p:spPr>
          <a:xfrm>
            <a:off x="142920" y="0"/>
            <a:ext cx="905040" cy="1213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5172120" y="1214280"/>
            <a:ext cx="3238200" cy="2428560"/>
          </a:xfrm>
          <a:prstGeom prst="rect">
            <a:avLst/>
          </a:prstGeom>
          <a:ln w="9525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3"/>
          <a:stretch/>
        </p:blipFill>
        <p:spPr>
          <a:xfrm>
            <a:off x="785880" y="3786120"/>
            <a:ext cx="3285720" cy="2464200"/>
          </a:xfrm>
          <a:prstGeom prst="rect">
            <a:avLst/>
          </a:prstGeom>
          <a:ln w="9525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4"/>
          <a:stretch/>
        </p:blipFill>
        <p:spPr>
          <a:xfrm>
            <a:off x="785880" y="1285920"/>
            <a:ext cx="3238200" cy="2428560"/>
          </a:xfrm>
          <a:prstGeom prst="rect">
            <a:avLst/>
          </a:prstGeom>
          <a:ln w="9525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5"/>
          <a:stretch/>
        </p:blipFill>
        <p:spPr>
          <a:xfrm>
            <a:off x="5214960" y="3929040"/>
            <a:ext cx="3214440" cy="2410560"/>
          </a:xfrm>
          <a:prstGeom prst="rect">
            <a:avLst/>
          </a:prstGeom>
          <a:ln w="9525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ftr" idx="2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дартс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3790440" cy="2842920"/>
          </a:xfrm>
          <a:prstGeom prst="rect">
            <a:avLst/>
          </a:prstGeom>
          <a:ln w="9525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4572000" y="1285920"/>
            <a:ext cx="3714480" cy="2785680"/>
          </a:xfrm>
          <a:prstGeom prst="rect">
            <a:avLst/>
          </a:prstGeom>
          <a:ln w="9525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2928960" y="4227480"/>
            <a:ext cx="3507120" cy="2630160"/>
          </a:xfrm>
          <a:prstGeom prst="rect">
            <a:avLst/>
          </a:prstGeom>
          <a:ln w="9525">
            <a:noFill/>
          </a:ln>
        </p:spPr>
      </p:pic>
      <p:sp>
        <p:nvSpPr>
          <p:cNvPr id="169" name="PlaceHolder 2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4e3b30"/>
                </a:solidFill>
                <a:latin typeface="Franklin Gothic Medium"/>
              </a:rPr>
              <a:t>Спортивная  аэроби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000803_1077_3446_vnvv"/>
          <p:cNvPicPr/>
          <p:nvPr/>
        </p:nvPicPr>
        <p:blipFill>
          <a:blip r:embed="rId1"/>
          <a:stretch/>
        </p:blipFill>
        <p:spPr>
          <a:xfrm>
            <a:off x="3357720" y="2643120"/>
            <a:ext cx="2280960" cy="2356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142920" y="1357200"/>
            <a:ext cx="3221280" cy="2415960"/>
          </a:xfrm>
          <a:prstGeom prst="rect">
            <a:avLst/>
          </a:prstGeom>
          <a:ln w="9525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5643720" y="1428840"/>
            <a:ext cx="3214440" cy="2410560"/>
          </a:xfrm>
          <a:prstGeom prst="rect">
            <a:avLst/>
          </a:prstGeom>
          <a:ln w="9525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4"/>
          <a:stretch/>
        </p:blipFill>
        <p:spPr>
          <a:xfrm>
            <a:off x="214200" y="4143240"/>
            <a:ext cx="3212640" cy="2409480"/>
          </a:xfrm>
          <a:prstGeom prst="rect">
            <a:avLst/>
          </a:prstGeom>
          <a:ln w="9525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5"/>
          <a:stretch/>
        </p:blipFill>
        <p:spPr>
          <a:xfrm>
            <a:off x="5572080" y="4071960"/>
            <a:ext cx="3411720" cy="2558880"/>
          </a:xfrm>
          <a:prstGeom prst="rect">
            <a:avLst/>
          </a:prstGeom>
          <a:ln w="9525">
            <a:noFill/>
          </a:ln>
        </p:spPr>
      </p:pic>
      <p:sp>
        <p:nvSpPr>
          <p:cNvPr id="176" name="PlaceHolder 2"/>
          <p:cNvSpPr>
            <a:spLocks noGrp="1"/>
          </p:cNvSpPr>
          <p:nvPr>
            <p:ph type="ftr" idx="2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«</a:t>
            </a:r>
            <a:r>
              <a:rPr b="1" lang="ru-RU" sz="2400" spc="-1" strike="noStrike" cap="all">
                <a:solidFill>
                  <a:srgbClr val="4e3b30"/>
                </a:solidFill>
                <a:latin typeface="Franklin Gothic Medium"/>
              </a:rPr>
              <a:t>Я выбираю спорт как альтернативу пагубным привычкам»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3642840" cy="2732040"/>
          </a:xfrm>
          <a:prstGeom prst="rect">
            <a:avLst/>
          </a:prstGeom>
          <a:ln w="9525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4500720" y="1392840"/>
            <a:ext cx="3649680" cy="2737440"/>
          </a:xfrm>
          <a:prstGeom prst="rect">
            <a:avLst/>
          </a:prstGeom>
          <a:ln w="9525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2214720" y="3657600"/>
            <a:ext cx="4266720" cy="3200040"/>
          </a:xfrm>
          <a:prstGeom prst="rect">
            <a:avLst/>
          </a:prstGeom>
          <a:ln w="9525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ftr" idx="2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000803_1055_6324_vnvv"/>
          <p:cNvPicPr/>
          <p:nvPr/>
        </p:nvPicPr>
        <p:blipFill>
          <a:blip r:embed="rId1"/>
          <a:stretch/>
        </p:blipFill>
        <p:spPr>
          <a:xfrm>
            <a:off x="4000320" y="2571840"/>
            <a:ext cx="2549160" cy="4026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6357960" y="5143680"/>
            <a:ext cx="1371240" cy="15235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4857840" y="5715000"/>
            <a:ext cx="1447560" cy="91404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7772400" y="5643720"/>
            <a:ext cx="1371240" cy="10663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000803_1055_5842_vnvv"/>
          <p:cNvPicPr/>
          <p:nvPr/>
        </p:nvPicPr>
        <p:blipFill>
          <a:blip r:embed="rId2"/>
          <a:stretch/>
        </p:blipFill>
        <p:spPr>
          <a:xfrm>
            <a:off x="6357960" y="2786040"/>
            <a:ext cx="1412640" cy="2312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357120" y="357120"/>
            <a:ext cx="4093200" cy="3069720"/>
          </a:xfrm>
          <a:prstGeom prst="rect">
            <a:avLst/>
          </a:prstGeom>
          <a:ln w="9525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 cap="all">
                <a:solidFill>
                  <a:srgbClr val="4e3b30"/>
                </a:solidFill>
                <a:latin typeface="Franklin Gothic Medium"/>
              </a:rPr>
              <a:t>Притча.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714240" y="1500120"/>
            <a:ext cx="81435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271e18"/>
                </a:solidFill>
                <a:latin typeface="Comic Sans MS"/>
              </a:rPr>
              <a:t>В одной далекой стране жил мудрец, на многие вопросы он знал ответы, и сотни людей приходили к нему за советом и помощью. В той же стране жил молодой человек, который, совсем недавно был еще ребенком и только начинал свой жизненный путь. Но он-то думал, что все уже знает, многое умеет, и чужих советов слушать ему не надо. Решил он провести мудреца – поймал бабочку, зажал её между ладонями и спросил мудреца: «Что у меня в руках – живое или неживое?» Если мудрец ответил бы «живое», он сильнее сдавил бы руки, бабочка бы умерла, и мудрец оказался бы не прав, а если мудрец ответил бы "неживое", молодой человек разжал бы руки, бабочка выпорхнула, а мудрец снова был бы не прав. Но когда молодой человек подошел к мудрецу и задал свой вопрос, старый человек внимательно посмотрел на него и сказал: </a:t>
            </a:r>
            <a:r>
              <a:rPr b="1" i="1" lang="ru-RU" sz="2000" spc="-1" strike="noStrike">
                <a:solidFill>
                  <a:srgbClr val="271e18"/>
                </a:solidFill>
                <a:latin typeface="Comic Sans MS"/>
              </a:rPr>
              <a:t>«Все в твоих руках»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271e18"/>
                </a:solidFill>
                <a:latin typeface="Comic Sans MS"/>
              </a:rPr>
              <a:t>Относительно здоровья каждого можно сказать: «Все в твоих руках…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ftr" idx="2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240" cy="59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Здоровье – это драгоценность,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И притом единственная, ради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Которой действительно стоит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Не только не жалеть времени,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Сил, трудов и всяких благ но и 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пожертвовать ради него 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частицей самой жизни, поскольку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жизнь без него становиться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 нестерпимой и унизительной.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                                                   </a:t>
            </a:r>
            <a:r>
              <a:rPr b="1" i="1" lang="ru-RU" sz="2000" spc="-1" strike="noStrike" cap="all">
                <a:solidFill>
                  <a:srgbClr val="4e3b30"/>
                </a:solidFill>
                <a:latin typeface="Franklin Gothic Medium"/>
              </a:rPr>
              <a:t>М. Монтень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по акции 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«Я выбираю спорт, как альтернативу пагубным привычкам»</a:t>
            </a:r>
            <a:br>
              <a:rPr sz="28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Таблица 3"/>
          <p:cNvGraphicFramePr/>
          <p:nvPr/>
        </p:nvGraphicFramePr>
        <p:xfrm>
          <a:off x="428760" y="1357200"/>
          <a:ext cx="8286480" cy="5357520"/>
        </p:xfrm>
        <a:graphic>
          <a:graphicData uri="http://schemas.openxmlformats.org/drawingml/2006/table">
            <a:tbl>
              <a:tblPr/>
              <a:tblGrid>
                <a:gridCol w="1262520"/>
                <a:gridCol w="794520"/>
                <a:gridCol w="950400"/>
                <a:gridCol w="1592640"/>
                <a:gridCol w="1727280"/>
                <a:gridCol w="1958040"/>
              </a:tblGrid>
              <a:tr h="129708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-г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-хся в н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я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хся,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вших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А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обучаю-щихся, регулярно занимающихся физкультурой, спорт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064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ОУ «Кулунская ООШ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ая мастерская- газета «Я выбираю спорт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букл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мараф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презент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PlaceHolder 2"/>
          <p:cNvSpPr>
            <a:spLocks noGrp="1"/>
          </p:cNvSpPr>
          <p:nvPr>
            <p:ph type="ftr" idx="1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686440" cy="29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Хочешь быть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 здоровым, сильным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Молодым красивым, стильным,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С атлетической фигурой?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Занимайся физкультурой.</a:t>
            </a:r>
            <a:br>
              <a:rPr sz="1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000803_1055_6316_vnvv"/>
          <p:cNvPicPr/>
          <p:nvPr/>
        </p:nvPicPr>
        <p:blipFill>
          <a:blip r:embed="rId1"/>
          <a:stretch/>
        </p:blipFill>
        <p:spPr>
          <a:xfrm>
            <a:off x="571320" y="2503440"/>
            <a:ext cx="2142720" cy="4103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928880" y="4000680"/>
            <a:ext cx="1999800" cy="2666520"/>
          </a:xfrm>
          <a:prstGeom prst="rect">
            <a:avLst/>
          </a:prstGeom>
          <a:ln w="9525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7000920" y="4071960"/>
            <a:ext cx="1999800" cy="2666520"/>
          </a:xfrm>
          <a:prstGeom prst="rect">
            <a:avLst/>
          </a:prstGeom>
          <a:ln w="9525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3929040" y="4419720"/>
            <a:ext cx="3071520" cy="2252160"/>
          </a:xfrm>
          <a:prstGeom prst="rect">
            <a:avLst/>
          </a:prstGeom>
          <a:ln w="9525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5"/>
          <a:stretch/>
        </p:blipFill>
        <p:spPr>
          <a:xfrm>
            <a:off x="3929040" y="2500200"/>
            <a:ext cx="3080880" cy="231084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6"/>
          <a:stretch/>
        </p:blipFill>
        <p:spPr>
          <a:xfrm>
            <a:off x="7000920" y="1405080"/>
            <a:ext cx="1999800" cy="2666520"/>
          </a:xfrm>
          <a:prstGeom prst="rect">
            <a:avLst/>
          </a:prstGeom>
          <a:ln w="9525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ftr" idx="1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Я выбираю спортивную викторину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0803_1077_9956_vnvv"/>
          <p:cNvPicPr/>
          <p:nvPr/>
        </p:nvPicPr>
        <p:blipFill>
          <a:blip r:embed="rId1"/>
          <a:stretch/>
        </p:blipFill>
        <p:spPr>
          <a:xfrm>
            <a:off x="5072040" y="1214280"/>
            <a:ext cx="2161800" cy="253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3785760" cy="2839320"/>
          </a:xfrm>
          <a:prstGeom prst="rect">
            <a:avLst/>
          </a:prstGeom>
          <a:ln w="9525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5000760" y="3714840"/>
            <a:ext cx="3855600" cy="2891520"/>
          </a:xfrm>
          <a:prstGeom prst="rect">
            <a:avLst/>
          </a:prstGeom>
          <a:ln w="9525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4"/>
          <a:stretch/>
        </p:blipFill>
        <p:spPr>
          <a:xfrm>
            <a:off x="285840" y="4071960"/>
            <a:ext cx="3714480" cy="2785680"/>
          </a:xfrm>
          <a:prstGeom prst="rect">
            <a:avLst/>
          </a:prstGeom>
          <a:ln w="9525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Я выбираю спортивные игры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000803_1055_5843_vnvv"/>
          <p:cNvPicPr/>
          <p:nvPr/>
        </p:nvPicPr>
        <p:blipFill>
          <a:blip r:embed="rId1"/>
          <a:stretch/>
        </p:blipFill>
        <p:spPr>
          <a:xfrm>
            <a:off x="6715080" y="4500720"/>
            <a:ext cx="1832400" cy="1847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000803_1055_6007_vnvv"/>
          <p:cNvPicPr/>
          <p:nvPr/>
        </p:nvPicPr>
        <p:blipFill>
          <a:blip r:embed="rId2"/>
          <a:stretch/>
        </p:blipFill>
        <p:spPr>
          <a:xfrm>
            <a:off x="0" y="4429080"/>
            <a:ext cx="1788840" cy="173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3"/>
          <a:stretch/>
        </p:blipFill>
        <p:spPr>
          <a:xfrm>
            <a:off x="214200" y="1285920"/>
            <a:ext cx="3284280" cy="2463120"/>
          </a:xfrm>
          <a:prstGeom prst="rect">
            <a:avLst/>
          </a:prstGeom>
          <a:ln w="9525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4"/>
          <a:stretch/>
        </p:blipFill>
        <p:spPr>
          <a:xfrm>
            <a:off x="4643280" y="1285920"/>
            <a:ext cx="3285720" cy="2464200"/>
          </a:xfrm>
          <a:prstGeom prst="rect">
            <a:avLst/>
          </a:prstGeom>
          <a:ln w="9525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5"/>
          <a:stretch/>
        </p:blipFill>
        <p:spPr>
          <a:xfrm>
            <a:off x="2357280" y="3929040"/>
            <a:ext cx="3602160" cy="2701440"/>
          </a:xfrm>
          <a:prstGeom prst="rect">
            <a:avLst/>
          </a:prstGeom>
          <a:ln w="9525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ftr" idx="1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85840" y="500040"/>
            <a:ext cx="3981240" cy="2985840"/>
          </a:xfrm>
          <a:prstGeom prst="rect">
            <a:avLst/>
          </a:prstGeom>
          <a:ln w="9525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4857840" y="500040"/>
            <a:ext cx="3888000" cy="2916000"/>
          </a:xfrm>
          <a:prstGeom prst="rect">
            <a:avLst/>
          </a:prstGeom>
          <a:ln w="9525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285840" y="3643200"/>
            <a:ext cx="4046040" cy="3034440"/>
          </a:xfrm>
          <a:prstGeom prst="rect">
            <a:avLst/>
          </a:prstGeom>
          <a:ln w="9525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4"/>
          <a:stretch/>
        </p:blipFill>
        <p:spPr>
          <a:xfrm>
            <a:off x="4857840" y="3571920"/>
            <a:ext cx="3998520" cy="2998800"/>
          </a:xfrm>
          <a:prstGeom prst="rect">
            <a:avLst/>
          </a:prstGeom>
          <a:ln w="9525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ftr" idx="1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Шашечный турнир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71320" y="1214280"/>
            <a:ext cx="3498480" cy="2623680"/>
          </a:xfrm>
          <a:prstGeom prst="rect">
            <a:avLst/>
          </a:prstGeom>
          <a:ln w="9525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643280" y="1143000"/>
            <a:ext cx="3571560" cy="2678400"/>
          </a:xfrm>
          <a:prstGeom prst="rect">
            <a:avLst/>
          </a:prstGeom>
          <a:ln w="9525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571320" y="4000680"/>
            <a:ext cx="3569760" cy="267732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4643280" y="4000680"/>
            <a:ext cx="3642840" cy="2732040"/>
          </a:xfrm>
          <a:prstGeom prst="rect">
            <a:avLst/>
          </a:prstGeom>
          <a:ln w="9525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Конкурс рисунков и плакатов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3571560" cy="2678400"/>
          </a:xfrm>
          <a:prstGeom prst="rect">
            <a:avLst/>
          </a:prstGeom>
          <a:ln w="9525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4357800" y="3143160"/>
            <a:ext cx="4266720" cy="3200040"/>
          </a:xfrm>
          <a:prstGeom prst="rect">
            <a:avLst/>
          </a:prstGeom>
          <a:ln w="9525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ftr" idx="1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232</TotalTime>
  <Application>LibreOffice/7.4.7.2$Linux_X86_64 LibreOffice_project/40$Build-2</Application>
  <AppVersion>15.0000</AppVersion>
  <Words>573</Words>
  <Paragraphs>9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8:24:23Z</dcterms:created>
  <dc:creator>Горшкова</dc:creator>
  <dc:description/>
  <dc:language>en-US</dc:language>
  <cp:lastModifiedBy>LEGION</cp:lastModifiedBy>
  <dcterms:modified xsi:type="dcterms:W3CDTF">2015-01-27T12:18:11Z</dcterms:modified>
  <cp:revision>30</cp:revision>
  <dc:subject/>
  <dc:title>МОУ Поздняковская СО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5</vt:r8>
  </property>
  <property fmtid="{D5CDD505-2E9C-101B-9397-08002B2CF9AE}" pid="3" name="PresentationFormat">
    <vt:lpwstr>Екран (4:3)</vt:lpwstr>
  </property>
  <property fmtid="{D5CDD505-2E9C-101B-9397-08002B2CF9AE}" pid="4" name="Slides">
    <vt:r8>18</vt:r8>
  </property>
</Properties>
</file>