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52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5.wmf" ContentType="image/x-wmf"/>
  <Override PartName="/ppt/media/image19.jpeg" ContentType="image/jpeg"/>
  <Override PartName="/ppt/media/image42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46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6.jpeg" ContentType="image/jpeg"/>
  <Override PartName="/ppt/media/image58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49.wmf" ContentType="image/x-wmf"/>
  <Override PartName="/ppt/media/image12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45.jpeg" ContentType="image/jpeg"/>
  <Override PartName="/ppt/media/image16.wmf" ContentType="image/x-wmf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2D8BBD-B716-42A8-9B66-832ED7D4E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МКОУ «Кулунская оош»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D6A29C-47DA-490C-BA35-09137DFD3FD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о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594272-EBB8-4E9C-9AC7-D14E2E542D1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«Одеть лыж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F355ED-9234-4D13-B0D7-84DFF322231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Ч И СКАК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873251-2613-438B-8C70-DDF2756D265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143EF0-4CBF-45EF-94F3-A1FC8DB9D09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ая  аэроб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25EC1C-790F-4F12-8FCD-CBE3AA56261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CF04CA-7B69-4233-A4A9-95FD150A877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«Все в твоих руках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4A0EE4-E752-4F96-940C-DEA98900267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доровье – это драгоценность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 притом единственная, рад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торой действительно стоит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только не жалеть времени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л, трудов и всяких благ но 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жертвовать ради него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ицей самой жизни, поскольку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знь без него становиться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естерпимой и унизительной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. Монтень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9970D5-ED25-4CAF-93F3-078BEACC0CB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105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105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92456A-A8F7-4785-ACE1-12654BE382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2DE679-3180-48D4-9A3C-BA60741A89D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ую викто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0FF278-CFAA-45D4-AD6A-898B1CD0DA5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D9C672-DCC2-4FCE-A316-C50C2496A56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шечный турн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C4E7C1-82C6-4F14-AE28-58BCD733A7A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рисунков и пла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DBF8E6-66D8-426D-9FF4-3FD0D9EFF36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7A0-972D-4DE6-84AC-D56A2A9F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B42-63E7-4F5A-A8CF-282BFD2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EB8-A4BC-47FF-9C25-CF20BA65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0B3-9C91-4FEF-9DAD-B2E6FE6C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85DF-2F77-4E37-91E9-12B1CE1A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A821-58FB-484F-BFC0-C28E364F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9400-B40D-4ADF-AD78-C70495A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D42C-F3A5-4ABD-A403-7A336D1E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9EB5-4E12-4AA6-A044-E3301253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8875-55CD-4861-A4B8-4C89A17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A035-C2C0-4C12-ADAC-68EC30D6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A97-2B0A-4135-A903-AB47E419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FD22-5A7F-44F1-ADE5-5AE7B3A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63D6-0BD7-4FDD-8422-B659F7C0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F17C-1F13-4776-8D48-3032F523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0748-30AE-4BC6-B2F7-A659B071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E510-C52C-48E8-9266-CB8878B4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60F-B39D-42DC-B580-72935F67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AA8-FEC4-4C27-8426-143F2BD4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945-759A-4695-84F7-C2867205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575-1FC6-4280-9C59-C7C2D5DE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8D2-6F52-4936-B857-13246D2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5CF-EBCA-41F3-9B33-832C51D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885-4465-4C97-B730-CBDC5B95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121C2A-7ED7-404E-9C81-EA3D1F27D2B6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22BD21-1D70-4DDA-902E-B7649805AF42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2.wmf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МКОУ «Кулунская оош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3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2a2003"/>
                </a:solidFill>
                <a:latin typeface="Comic Sans MS"/>
              </a:rPr>
              <a:t>Ак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0803_1055_5842_vnvv"/>
          <p:cNvPicPr/>
          <p:nvPr/>
        </p:nvPicPr>
        <p:blipFill>
          <a:blip r:embed="rId1"/>
          <a:stretch/>
        </p:blipFill>
        <p:spPr>
          <a:xfrm>
            <a:off x="380880" y="4908600"/>
            <a:ext cx="1190160" cy="19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0803_1077_3437_vnvv"/>
          <p:cNvPicPr/>
          <p:nvPr/>
        </p:nvPicPr>
        <p:blipFill>
          <a:blip r:embed="rId2"/>
          <a:stretch/>
        </p:blipFill>
        <p:spPr>
          <a:xfrm>
            <a:off x="0" y="1112400"/>
            <a:ext cx="18568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00803_1077_3807_vnvv"/>
          <p:cNvPicPr/>
          <p:nvPr/>
        </p:nvPicPr>
        <p:blipFill>
          <a:blip r:embed="rId3"/>
          <a:stretch/>
        </p:blipFill>
        <p:spPr>
          <a:xfrm>
            <a:off x="7605720" y="1143000"/>
            <a:ext cx="1537920" cy="213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0803_1079_3621_vuvv"/>
          <p:cNvPicPr/>
          <p:nvPr/>
        </p:nvPicPr>
        <p:blipFill>
          <a:blip r:embed="rId4"/>
          <a:stretch/>
        </p:blipFill>
        <p:spPr>
          <a:xfrm>
            <a:off x="6643800" y="4643280"/>
            <a:ext cx="2257200" cy="2067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ftr" idx="1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71320" y="407196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4929120" y="412560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ftr" idx="1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сё о спорт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357800" y="3268440"/>
            <a:ext cx="4785840" cy="358920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«Одеть лыжник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314160" cy="248580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64328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072040" y="1071720"/>
            <a:ext cx="3426480" cy="2569680"/>
          </a:xfrm>
          <a:prstGeom prst="rect">
            <a:avLst/>
          </a:prstGeom>
          <a:ln w="9525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МЯЧ И СКАКАЛ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000803_1077_3526_vnvv"/>
          <p:cNvPicPr/>
          <p:nvPr/>
        </p:nvPicPr>
        <p:blipFill>
          <a:blip r:embed="rId1"/>
          <a:stretch/>
        </p:blipFill>
        <p:spPr>
          <a:xfrm>
            <a:off x="142920" y="0"/>
            <a:ext cx="905040" cy="121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172120" y="121428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785880" y="12859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5214960" y="3929040"/>
            <a:ext cx="3214440" cy="2410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артс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790440" cy="28429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572000" y="128592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2928960" y="4227480"/>
            <a:ext cx="3507120" cy="26301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Franklin Gothic Medium"/>
              </a:rPr>
              <a:t>Спортивная  аэроби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0803_1077_3446_vnvv"/>
          <p:cNvPicPr/>
          <p:nvPr/>
        </p:nvPicPr>
        <p:blipFill>
          <a:blip r:embed="rId1"/>
          <a:stretch/>
        </p:blipFill>
        <p:spPr>
          <a:xfrm>
            <a:off x="3357720" y="2643120"/>
            <a:ext cx="2280960" cy="235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42920" y="1357200"/>
            <a:ext cx="3221280" cy="24159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643720" y="1428840"/>
            <a:ext cx="3214440" cy="24105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212640" cy="240948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572080" y="4071960"/>
            <a:ext cx="3411720" cy="25588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«</a:t>
            </a: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Я выбираю спорт как альтернативу пагубным привычкам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3642840" cy="27320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500720" y="1392840"/>
            <a:ext cx="3649680" cy="27374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214720" y="365760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803_1055_6324_vnvv"/>
          <p:cNvPicPr/>
          <p:nvPr/>
        </p:nvPicPr>
        <p:blipFill>
          <a:blip r:embed="rId1"/>
          <a:stretch/>
        </p:blipFill>
        <p:spPr>
          <a:xfrm>
            <a:off x="4000320" y="2571840"/>
            <a:ext cx="2549160" cy="40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357960" y="5143680"/>
            <a:ext cx="1371240" cy="1523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857840" y="5715000"/>
            <a:ext cx="1447560" cy="9140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772400" y="5643720"/>
            <a:ext cx="1371240" cy="1066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000803_1055_5842_vnvv"/>
          <p:cNvPicPr/>
          <p:nvPr/>
        </p:nvPicPr>
        <p:blipFill>
          <a:blip r:embed="rId2"/>
          <a:stretch/>
        </p:blipFill>
        <p:spPr>
          <a:xfrm>
            <a:off x="6357960" y="2786040"/>
            <a:ext cx="1412640" cy="2312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57120" y="357120"/>
            <a:ext cx="4093200" cy="3069720"/>
          </a:xfrm>
          <a:prstGeom prst="rect">
            <a:avLst/>
          </a:prstGeom>
          <a:ln w="9525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Medium"/>
              </a:rPr>
              <a:t>Притча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714240" y="1500120"/>
            <a:ext cx="81435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2000" spc="-1" strike="noStrike">
                <a:solidFill>
                  <a:srgbClr val="271e18"/>
                </a:solidFill>
                <a:latin typeface="Comic Sans MS"/>
              </a:rPr>
              <a:t>«Все в твоих руках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240" cy="59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Здоровье – это драгоценность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И притом единственная, ради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Которой действительно стоит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Не только не жалеть времени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Сил, трудов и всяких благ но и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пожертвовать ради него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частицей самой жизни, поскольку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жизнь без него становиться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нестерпимой и унизительной.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              </a:t>
            </a:r>
            <a:r>
              <a:rPr b="1" i="1" lang="ru-RU" sz="2000" spc="-1" strike="noStrike" cap="all">
                <a:solidFill>
                  <a:srgbClr val="4e3b30"/>
                </a:solidFill>
                <a:latin typeface="Franklin Gothic Medium"/>
              </a:rPr>
              <a:t>М. Монтень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28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3"/>
          <p:cNvGraphicFramePr/>
          <p:nvPr/>
        </p:nvGraphicFramePr>
        <p:xfrm>
          <a:off x="428760" y="1357200"/>
          <a:ext cx="8286480" cy="5357520"/>
        </p:xfrm>
        <a:graphic>
          <a:graphicData uri="http://schemas.openxmlformats.org/drawingml/2006/table">
            <a:tbl>
              <a:tblPr/>
              <a:tblGrid>
                <a:gridCol w="1262520"/>
                <a:gridCol w="794520"/>
                <a:gridCol w="950400"/>
                <a:gridCol w="1592640"/>
                <a:gridCol w="1727280"/>
                <a:gridCol w="1958040"/>
              </a:tblGrid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-г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хся в 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вши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учаю-щихся, регулярно занимающихся физкультурой, спор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6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ОУ «Кулунская О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мастерская- газета «Я выбираю спор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букл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мараф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4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Хочешь быть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 здоровым, сильным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Молодым красивым, стильным,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С атлетической фигурой?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Занимайся физкультурой.</a:t>
            </a:r>
            <a:br>
              <a:rPr sz="1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803_1055_6316_vnvv"/>
          <p:cNvPicPr/>
          <p:nvPr/>
        </p:nvPicPr>
        <p:blipFill>
          <a:blip r:embed="rId1"/>
          <a:stretch/>
        </p:blipFill>
        <p:spPr>
          <a:xfrm>
            <a:off x="571320" y="2503440"/>
            <a:ext cx="214272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928880" y="400068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407196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929040" y="4419720"/>
            <a:ext cx="3071520" cy="22521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5"/>
          <a:stretch/>
        </p:blipFill>
        <p:spPr>
          <a:xfrm>
            <a:off x="3929040" y="2500200"/>
            <a:ext cx="3080880" cy="2310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7000920" y="1405080"/>
            <a:ext cx="1999800" cy="2666520"/>
          </a:xfrm>
          <a:prstGeom prst="rect">
            <a:avLst/>
          </a:prstGeom>
          <a:ln w="9525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ftr" idx="1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ую викторин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803_1077_9956_vnvv"/>
          <p:cNvPicPr/>
          <p:nvPr/>
        </p:nvPicPr>
        <p:blipFill>
          <a:blip r:embed="rId1"/>
          <a:stretch/>
        </p:blipFill>
        <p:spPr>
          <a:xfrm>
            <a:off x="5072040" y="1214280"/>
            <a:ext cx="2161800" cy="253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760" y="3714840"/>
            <a:ext cx="3855600" cy="289152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3714480" cy="2785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ые иг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00803_1055_5843_vnvv"/>
          <p:cNvPicPr/>
          <p:nvPr/>
        </p:nvPicPr>
        <p:blipFill>
          <a:blip r:embed="rId1"/>
          <a:stretch/>
        </p:blipFill>
        <p:spPr>
          <a:xfrm>
            <a:off x="6715080" y="4500720"/>
            <a:ext cx="1832400" cy="18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55_6007_vnvv"/>
          <p:cNvPicPr/>
          <p:nvPr/>
        </p:nvPicPr>
        <p:blipFill>
          <a:blip r:embed="rId2"/>
          <a:stretch/>
        </p:blipFill>
        <p:spPr>
          <a:xfrm>
            <a:off x="0" y="4429080"/>
            <a:ext cx="1788840" cy="173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284280" cy="246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2357280" y="3929040"/>
            <a:ext cx="3602160" cy="27014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981240" cy="298584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888000" cy="291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4046040" cy="30344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998520" cy="2998800"/>
          </a:xfrm>
          <a:prstGeom prst="rect">
            <a:avLst/>
          </a:prstGeom>
          <a:ln w="9525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ftr" idx="1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Шашечный турнир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1320" y="1214280"/>
            <a:ext cx="3498480" cy="26236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71320" y="4000680"/>
            <a:ext cx="3569760" cy="267732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рисунков и плакато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2</TotalTime>
  <Application>LibreOffice/7.4.7.2$Linux_X86_64 LibreOffice_project/40$Build-2</Application>
  <AppVersion>15.0000</AppVersion>
  <Words>573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4:23Z</dcterms:created>
  <dc:creator>Горшкова</dc:creator>
  <dc:description/>
  <dc:language>en-US</dc:language>
  <cp:lastModifiedBy>LEGION</cp:lastModifiedBy>
  <dcterms:modified xsi:type="dcterms:W3CDTF">2015-01-27T12:18:11Z</dcterms:modified>
  <cp:revision>30</cp:revision>
  <dc:subject/>
  <dc:title>МОУ Поздняковская СО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</Properties>
</file>