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52.jpeg" ContentType="image/jpeg"/>
  <Override PartName="/ppt/media/image28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4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5.wmf" ContentType="image/x-wmf"/>
  <Override PartName="/ppt/media/image19.jpeg" ContentType="image/jpeg"/>
  <Override PartName="/ppt/media/image42.jpeg" ContentType="image/jpeg"/>
  <Override PartName="/ppt/media/image11.png" ContentType="image/png"/>
  <Override PartName="/ppt/media/image6.wmf" ContentType="image/x-wmf"/>
  <Override PartName="/ppt/media/image47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17.wmf" ContentType="image/x-wmf"/>
  <Override PartName="/ppt/media/image22.jpeg" ContentType="image/jpeg"/>
  <Override PartName="/ppt/media/image9.png" ContentType="image/png"/>
  <Override PartName="/ppt/media/image46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56.jpeg" ContentType="image/jpeg"/>
  <Override PartName="/ppt/media/image36.jpeg" ContentType="image/jpeg"/>
  <Override PartName="/ppt/media/image58.jpeg" ContentType="image/jpeg"/>
  <Override PartName="/ppt/media/image57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49.wmf" ContentType="image/x-wmf"/>
  <Override PartName="/ppt/media/image12.wmf" ContentType="image/x-wmf"/>
  <Override PartName="/ppt/media/image41.wmf" ContentType="image/x-wmf"/>
  <Override PartName="/ppt/media/image39.jpeg" ContentType="image/jpeg"/>
  <Override PartName="/ppt/media/image8.png" ContentType="image/png"/>
  <Override PartName="/ppt/media/image14.jpeg" ContentType="image/jpeg"/>
  <Override PartName="/ppt/media/image45.jpeg" ContentType="image/jpeg"/>
  <Override PartName="/ppt/media/image16.wmf" ContentType="image/x-wmf"/>
  <Override PartName="/ppt/media/image3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387277-BBA3-4618-A0EC-B1E2A95E1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МКОУ «Кулунская оош»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13A0D2-0ACC-4F5F-8D2E-39D9821CBE7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о спо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CAE20E-861C-4ED7-823B-03372A907DE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«Одеть лыж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F77980-20D1-4DBF-85DE-BF52190977D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ЯЧ И СКАК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4B2D92-1200-4B8B-A449-A1272D6E723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рт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1F0445-FA40-43E4-A82E-8EE352883F0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ртивная  аэроб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F2C525-F9D4-4A7D-9086-042A196C97C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4F1B98-B645-4484-8D7E-C109B228735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ч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«Все в твоих руках»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B0CFD5-671C-4B30-9EAA-35284AB8AE0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доровье – это драгоценность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 притом единственная, рад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торой действительно стоит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е только не жалеть времени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ил, трудов и всяких благ но 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жертвовать ради него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тицей самой жизни, поскольку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жизнь без него становиться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естерпимой и унизительной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М. Монтень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10F157-8D67-4CD9-B045-DF89D95B2DD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105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105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6FC5EF-455C-4525-962A-CE6C7B34B69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DB442E-A460-40A5-A7F9-F1152D9E7ED8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ую виктор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15732E-DF27-4790-A728-A5B1A1C603B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18CEAE-0AB6-48B0-95AE-3DA889D5D0E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шечный турн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C64FC2-79EC-4EE3-95CF-8963CB1D26C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рисунков и плак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275E1E-50BF-472B-8E23-2C4A3A70543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920-0F68-47B8-8500-0815EB9F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FC0-B72A-4D69-B518-4FC1D9E4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31F-06B8-483E-BEB3-9D9874BD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1EF-EB6A-48D0-99CC-EAF0178B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13A7-E959-4411-B2CB-A0882ADA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755E-CDCF-4CAF-B011-89AF11D0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3BA3-0A81-490C-8D3B-1C7ACD2A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815F-250D-4A21-87AA-CCCBAB78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4F35-4BCF-4337-A8BD-4D851C7B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0A32-63AB-4324-9870-BC405C31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C9E4-EFB7-43D8-BC24-A95E77AD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739-2772-4616-B66A-1A50B3DB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E4A0-C1F3-4CA9-A8EC-C01090FD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4919-6010-4B0F-9A18-7FEE04CF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8936-58A2-4C95-BE31-1C397648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0B1E-C64D-4411-A7F3-CB277C45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E64A-620B-4157-A312-686E640D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156-4606-4E07-BFA3-E9E2527D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CDB-3143-4467-B1A9-F404DE6D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F84-1C43-44FC-A772-8C650932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CBA-4996-4878-B189-BA3B12F1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86A-4CCD-4A62-B8A7-339F945B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147-3ED0-4534-8CC1-6DDE71EF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5FE-C85C-4ABC-8142-B6A86BA6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1514FB-BA7F-4ADC-9320-BA80B623F1EC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875FCF-C979-4772-AC5E-C7B66E4F22ED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2.wmf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7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040" cy="13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4e3b30"/>
                </a:solidFill>
                <a:latin typeface="Franklin Gothic Medium"/>
              </a:rPr>
              <a:t>МКОУ «Кулунская оош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1571760"/>
            <a:ext cx="9143640" cy="392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2a2003"/>
                </a:solidFill>
                <a:latin typeface="Comic Sans MS"/>
              </a:rPr>
              <a:t>Акц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000803_1055_5842_vnvv"/>
          <p:cNvPicPr/>
          <p:nvPr/>
        </p:nvPicPr>
        <p:blipFill>
          <a:blip r:embed="rId1"/>
          <a:stretch/>
        </p:blipFill>
        <p:spPr>
          <a:xfrm>
            <a:off x="380880" y="4908600"/>
            <a:ext cx="1190160" cy="1949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000803_1077_3437_vnvv"/>
          <p:cNvPicPr/>
          <p:nvPr/>
        </p:nvPicPr>
        <p:blipFill>
          <a:blip r:embed="rId2"/>
          <a:stretch/>
        </p:blipFill>
        <p:spPr>
          <a:xfrm>
            <a:off x="0" y="1112400"/>
            <a:ext cx="1856880" cy="173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000803_1077_3807_vnvv"/>
          <p:cNvPicPr/>
          <p:nvPr/>
        </p:nvPicPr>
        <p:blipFill>
          <a:blip r:embed="rId3"/>
          <a:stretch/>
        </p:blipFill>
        <p:spPr>
          <a:xfrm>
            <a:off x="7605720" y="1143000"/>
            <a:ext cx="1537920" cy="2130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000803_1079_3621_vuvv"/>
          <p:cNvPicPr/>
          <p:nvPr/>
        </p:nvPicPr>
        <p:blipFill>
          <a:blip r:embed="rId4"/>
          <a:stretch/>
        </p:blipFill>
        <p:spPr>
          <a:xfrm>
            <a:off x="6643800" y="4643280"/>
            <a:ext cx="2257200" cy="2067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3"/>
          <p:cNvSpPr>
            <a:spLocks noGrp="1"/>
          </p:cNvSpPr>
          <p:nvPr>
            <p:ph type="ftr" idx="1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5000760" y="1071720"/>
            <a:ext cx="38095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571320" y="407196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4"/>
          <a:stretch/>
        </p:blipFill>
        <p:spPr>
          <a:xfrm>
            <a:off x="4929120" y="412560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ftr" idx="1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Всё о спорте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4266720" cy="320004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357800" y="3268440"/>
            <a:ext cx="4785840" cy="358920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«Одеть лыжника»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314160" cy="248580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464328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5072040" y="1071720"/>
            <a:ext cx="3426480" cy="2569680"/>
          </a:xfrm>
          <a:prstGeom prst="rect">
            <a:avLst/>
          </a:prstGeom>
          <a:ln w="9525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ftr" idx="2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МЯЧ И СКАКАЛ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000803_1077_3526_vnvv"/>
          <p:cNvPicPr/>
          <p:nvPr/>
        </p:nvPicPr>
        <p:blipFill>
          <a:blip r:embed="rId1"/>
          <a:stretch/>
        </p:blipFill>
        <p:spPr>
          <a:xfrm>
            <a:off x="142920" y="0"/>
            <a:ext cx="905040" cy="121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5172120" y="121428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785880" y="37861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4"/>
          <a:stretch/>
        </p:blipFill>
        <p:spPr>
          <a:xfrm>
            <a:off x="785880" y="128592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5214960" y="3929040"/>
            <a:ext cx="3214440" cy="2410560"/>
          </a:xfrm>
          <a:prstGeom prst="rect">
            <a:avLst/>
          </a:prstGeom>
          <a:ln w="9525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ftr" idx="2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дартс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3790440" cy="2842920"/>
          </a:xfrm>
          <a:prstGeom prst="rect">
            <a:avLst/>
          </a:prstGeom>
          <a:ln w="9525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572000" y="128592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2928960" y="4227480"/>
            <a:ext cx="3507120" cy="2630160"/>
          </a:xfrm>
          <a:prstGeom prst="rect">
            <a:avLst/>
          </a:prstGeom>
          <a:ln w="9525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4e3b30"/>
                </a:solidFill>
                <a:latin typeface="Franklin Gothic Medium"/>
              </a:rPr>
              <a:t>Спортивная  аэроби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000803_1077_3446_vnvv"/>
          <p:cNvPicPr/>
          <p:nvPr/>
        </p:nvPicPr>
        <p:blipFill>
          <a:blip r:embed="rId1"/>
          <a:stretch/>
        </p:blipFill>
        <p:spPr>
          <a:xfrm>
            <a:off x="3357720" y="2643120"/>
            <a:ext cx="2280960" cy="235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42920" y="1357200"/>
            <a:ext cx="3221280" cy="241596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5643720" y="1428840"/>
            <a:ext cx="3214440" cy="241056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4"/>
          <a:stretch/>
        </p:blipFill>
        <p:spPr>
          <a:xfrm>
            <a:off x="214200" y="4143240"/>
            <a:ext cx="3212640" cy="240948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5572080" y="4071960"/>
            <a:ext cx="3411720" cy="2558880"/>
          </a:xfrm>
          <a:prstGeom prst="rect">
            <a:avLst/>
          </a:prstGeom>
          <a:ln w="9525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«</a:t>
            </a:r>
            <a:r>
              <a:rPr b="1" lang="ru-RU" sz="2400" spc="-1" strike="noStrike" cap="all">
                <a:solidFill>
                  <a:srgbClr val="4e3b30"/>
                </a:solidFill>
                <a:latin typeface="Franklin Gothic Medium"/>
              </a:rPr>
              <a:t>Я выбираю спорт как альтернативу пагубным привычкам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3642840" cy="273204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4500720" y="1392840"/>
            <a:ext cx="3649680" cy="273744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2214720" y="365760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ftr" idx="2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000803_1055_6324_vnvv"/>
          <p:cNvPicPr/>
          <p:nvPr/>
        </p:nvPicPr>
        <p:blipFill>
          <a:blip r:embed="rId1"/>
          <a:stretch/>
        </p:blipFill>
        <p:spPr>
          <a:xfrm>
            <a:off x="4000320" y="2571840"/>
            <a:ext cx="2549160" cy="4026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357960" y="5143680"/>
            <a:ext cx="1371240" cy="15235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4857840" y="5715000"/>
            <a:ext cx="1447560" cy="91404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7772400" y="5643720"/>
            <a:ext cx="1371240" cy="10663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000803_1055_5842_vnvv"/>
          <p:cNvPicPr/>
          <p:nvPr/>
        </p:nvPicPr>
        <p:blipFill>
          <a:blip r:embed="rId2"/>
          <a:stretch/>
        </p:blipFill>
        <p:spPr>
          <a:xfrm>
            <a:off x="6357960" y="2786040"/>
            <a:ext cx="1412640" cy="2312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357120" y="357120"/>
            <a:ext cx="4093200" cy="3069720"/>
          </a:xfrm>
          <a:prstGeom prst="rect">
            <a:avLst/>
          </a:prstGeom>
          <a:ln w="9525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Franklin Gothic Medium"/>
              </a:rPr>
              <a:t>Притча.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714240" y="1500120"/>
            <a:ext cx="81435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2000" spc="-1" strike="noStrike">
                <a:solidFill>
                  <a:srgbClr val="271e18"/>
                </a:solidFill>
                <a:latin typeface="Comic Sans MS"/>
              </a:rPr>
              <a:t>«Все в твоих руках»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240" cy="59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Здоровье – это драгоценность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И притом единственная, ради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Которой действительно стоит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Не только не жалеть времени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Сил, трудов и всяких благ но и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пожертвовать ради него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частицей самой жизни, поскольку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жизнь без него становиться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нестерпимой и унизительной.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                                                  </a:t>
            </a:r>
            <a:r>
              <a:rPr b="1" i="1" lang="ru-RU" sz="2000" spc="-1" strike="noStrike" cap="all">
                <a:solidFill>
                  <a:srgbClr val="4e3b30"/>
                </a:solidFill>
                <a:latin typeface="Franklin Gothic Medium"/>
              </a:rPr>
              <a:t>М. Монтень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28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Таблица 3"/>
          <p:cNvGraphicFramePr/>
          <p:nvPr/>
        </p:nvGraphicFramePr>
        <p:xfrm>
          <a:off x="428760" y="1357200"/>
          <a:ext cx="8286480" cy="5357520"/>
        </p:xfrm>
        <a:graphic>
          <a:graphicData uri="http://schemas.openxmlformats.org/drawingml/2006/table">
            <a:tbl>
              <a:tblPr/>
              <a:tblGrid>
                <a:gridCol w="1262520"/>
                <a:gridCol w="794520"/>
                <a:gridCol w="950400"/>
                <a:gridCol w="1592640"/>
                <a:gridCol w="1727280"/>
                <a:gridCol w="1958040"/>
              </a:tblGrid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-г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-хся в н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,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вших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обучаю-щихся, регулярно занимающихся физкультурой, спорт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064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ОУ «Кулунская ООШ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мастерская- газета «Я выбираю спорт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букл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мараф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езен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2"/>
          <p:cNvSpPr>
            <a:spLocks noGrp="1"/>
          </p:cNvSpPr>
          <p:nvPr>
            <p:ph type="ftr" idx="1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686440" cy="29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Хочешь быть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 здоровым, сильным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Молодым красивым, стильным,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С атлетической фигурой?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Занимайся физкультурой.</a:t>
            </a:r>
            <a:br>
              <a:rPr sz="1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803_1055_6316_vnvv"/>
          <p:cNvPicPr/>
          <p:nvPr/>
        </p:nvPicPr>
        <p:blipFill>
          <a:blip r:embed="rId1"/>
          <a:stretch/>
        </p:blipFill>
        <p:spPr>
          <a:xfrm>
            <a:off x="571320" y="2503440"/>
            <a:ext cx="2142720" cy="410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928880" y="400068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7000920" y="407196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3929040" y="4419720"/>
            <a:ext cx="3071520" cy="225216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5"/>
          <a:stretch/>
        </p:blipFill>
        <p:spPr>
          <a:xfrm>
            <a:off x="3929040" y="2500200"/>
            <a:ext cx="3080880" cy="231084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6"/>
          <a:stretch/>
        </p:blipFill>
        <p:spPr>
          <a:xfrm>
            <a:off x="7000920" y="1405080"/>
            <a:ext cx="1999800" cy="2666520"/>
          </a:xfrm>
          <a:prstGeom prst="rect">
            <a:avLst/>
          </a:prstGeom>
          <a:ln w="9525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ftr" idx="1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ую викторину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803_1077_9956_vnvv"/>
          <p:cNvPicPr/>
          <p:nvPr/>
        </p:nvPicPr>
        <p:blipFill>
          <a:blip r:embed="rId1"/>
          <a:stretch/>
        </p:blipFill>
        <p:spPr>
          <a:xfrm>
            <a:off x="5072040" y="1214280"/>
            <a:ext cx="2161800" cy="253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5000760" y="3714840"/>
            <a:ext cx="3855600" cy="2891520"/>
          </a:xfrm>
          <a:prstGeom prst="rect">
            <a:avLst/>
          </a:prstGeom>
          <a:ln w="9525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4"/>
          <a:stretch/>
        </p:blipFill>
        <p:spPr>
          <a:xfrm>
            <a:off x="285840" y="4071960"/>
            <a:ext cx="3714480" cy="2785680"/>
          </a:xfrm>
          <a:prstGeom prst="rect">
            <a:avLst/>
          </a:prstGeom>
          <a:ln w="9525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ые игр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000803_1055_5843_vnvv"/>
          <p:cNvPicPr/>
          <p:nvPr/>
        </p:nvPicPr>
        <p:blipFill>
          <a:blip r:embed="rId1"/>
          <a:stretch/>
        </p:blipFill>
        <p:spPr>
          <a:xfrm>
            <a:off x="6715080" y="4500720"/>
            <a:ext cx="1832400" cy="184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000803_1055_6007_vnvv"/>
          <p:cNvPicPr/>
          <p:nvPr/>
        </p:nvPicPr>
        <p:blipFill>
          <a:blip r:embed="rId2"/>
          <a:stretch/>
        </p:blipFill>
        <p:spPr>
          <a:xfrm>
            <a:off x="0" y="4429080"/>
            <a:ext cx="1788840" cy="173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3284280" cy="246312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4"/>
          <a:stretch/>
        </p:blipFill>
        <p:spPr>
          <a:xfrm>
            <a:off x="4643280" y="12859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5"/>
          <a:stretch/>
        </p:blipFill>
        <p:spPr>
          <a:xfrm>
            <a:off x="2357280" y="3929040"/>
            <a:ext cx="3602160" cy="2701440"/>
          </a:xfrm>
          <a:prstGeom prst="rect">
            <a:avLst/>
          </a:prstGeom>
          <a:ln w="9525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ftr" idx="1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3981240" cy="298584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857840" y="500040"/>
            <a:ext cx="3888000" cy="291600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4046040" cy="3034440"/>
          </a:xfrm>
          <a:prstGeom prst="rect">
            <a:avLst/>
          </a:prstGeom>
          <a:ln w="9525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998520" cy="2998800"/>
          </a:xfrm>
          <a:prstGeom prst="rect">
            <a:avLst/>
          </a:prstGeom>
          <a:ln w="9525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ftr" idx="1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Шашечный турнир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71320" y="1214280"/>
            <a:ext cx="3498480" cy="2623680"/>
          </a:xfrm>
          <a:prstGeom prst="rect">
            <a:avLst/>
          </a:prstGeom>
          <a:ln w="9525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643280" y="11430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571320" y="4000680"/>
            <a:ext cx="3569760" cy="267732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4643280" y="400068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рисунков и плакатов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ftr" idx="1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32</TotalTime>
  <Application>LibreOffice/7.4.7.2$Linux_X86_64 LibreOffice_project/40$Build-2</Application>
  <AppVersion>15.0000</AppVersion>
  <Words>573</Words>
  <Paragraphs>9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8:24:23Z</dcterms:created>
  <dc:creator>Горшкова</dc:creator>
  <dc:description/>
  <dc:language>en-US</dc:language>
  <cp:lastModifiedBy>LEGION</cp:lastModifiedBy>
  <dcterms:modified xsi:type="dcterms:W3CDTF">2015-01-27T12:18:11Z</dcterms:modified>
  <cp:revision>30</cp:revision>
  <dc:subject/>
  <dc:title>МОУ Поздняковская СО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</Properties>
</file>