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52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4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5.wmf" ContentType="image/x-wmf"/>
  <Override PartName="/ppt/media/image19.jpeg" ContentType="image/jpeg"/>
  <Override PartName="/ppt/media/image42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46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6.jpeg" ContentType="image/jpeg"/>
  <Override PartName="/ppt/media/image58.jpeg" ContentType="image/jpeg"/>
  <Override PartName="/ppt/media/image57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49.wmf" ContentType="image/x-wmf"/>
  <Override PartName="/ppt/media/image12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45.jpeg" ContentType="image/jpeg"/>
  <Override PartName="/ppt/media/image16.wmf" ContentType="image/x-wmf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124954-FA0B-4CCD-879E-5974D4AC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МКОУ «Кулунская оош»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60730A-C80C-4C63-BEED-5538202CD7F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о 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E2B214-253D-49E0-9EB5-EBA21BF2E1B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«Одеть лыж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2A4A69-BE03-4783-88DC-F45C6025D1B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Ч И СКАК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139BEA-CE5E-4BE4-A759-6D1C25E18D5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т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42756C-76BD-4DE2-A5D3-60237CCD411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ая  аэроб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F41A49-12BE-4FC9-BB64-79CBEAFA59F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06F9F7-485B-4997-9D77-717C5CEDA0D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«Все в твоих руках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E3B861-E9DD-4B49-AECD-E432384D8B2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доровье – это драгоценность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 притом единственная, рад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торой действительно стоит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е только не жалеть времени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л, трудов и всяких благ но 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жертвовать ради него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ицей самой жизни, поскольку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знь без него становиться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естерпимой и унизительной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. Монтень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3D5D6B-B7FD-47DA-9DA7-AF881837ACD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105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105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21C8CB-A701-48B9-8FC1-768688B2D78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DA5555-9433-4FB3-BE38-624F5A4BD87C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ую виктор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6B4C28-1CC7-4F94-9309-7A38B786799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372785-7321-46DD-AA35-B7CB2781557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шечный турн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84189D-3404-4742-B919-B343A2BB287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рисунков и плак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CB4DC3-7195-4B54-80E2-A6EF8442AF2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6BC-A863-4ED9-8A3E-9340E367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E55-5280-4292-A8B9-1911D204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7C4-0229-4591-99B7-A413E7AF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0EC-571D-43D4-8B51-2FC30028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05F5-8E6D-40BE-A835-4D66BD15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0B70-21AA-4E18-A7EF-74085807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B99B-675A-461B-8588-39D3158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4B1C-35AA-4A1B-897B-BED9FC93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BB1A-5235-4161-B571-52EB5683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79E9-2F32-483F-9ECE-106997C7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D50F-B5B5-4FAB-9A8D-E87A31E0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482-6322-49C2-97F4-10DF943F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F73-C29B-48C9-8DD2-8C9EEA41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C8E0-0F33-4780-A196-83DD452D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5720-FD4D-4085-BBE6-4E0AA51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5C13-49BC-4AFE-ADEB-BA9298FC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DDD1-5EF0-483D-8F10-BAA469B7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3C7-A058-434C-97ED-B89A3EA1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098-BE0C-46EA-B95B-C71DF51C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B80-4DD5-42FC-8B2F-0968E55F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059-5071-4C26-90B7-32FED15D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FEC-FA91-4C45-9EE6-71EED63B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A28-78F2-47B7-B6D0-FB4FF2D9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761-A728-4A4D-8FE7-F7E6848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B15707-3092-4B43-B7D0-13E2AA66522E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EB91E1-11D5-49B1-9701-D11A02703226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2.wmf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0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МКОУ «Кулунская оош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3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2a2003"/>
                </a:solidFill>
                <a:latin typeface="Comic Sans MS"/>
              </a:rPr>
              <a:t>Ак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00803_1055_5842_vnvv"/>
          <p:cNvPicPr/>
          <p:nvPr/>
        </p:nvPicPr>
        <p:blipFill>
          <a:blip r:embed="rId1"/>
          <a:stretch/>
        </p:blipFill>
        <p:spPr>
          <a:xfrm>
            <a:off x="380880" y="4908600"/>
            <a:ext cx="1190160" cy="19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0803_1077_3437_vnvv"/>
          <p:cNvPicPr/>
          <p:nvPr/>
        </p:nvPicPr>
        <p:blipFill>
          <a:blip r:embed="rId2"/>
          <a:stretch/>
        </p:blipFill>
        <p:spPr>
          <a:xfrm>
            <a:off x="0" y="1112400"/>
            <a:ext cx="18568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00803_1077_3807_vnvv"/>
          <p:cNvPicPr/>
          <p:nvPr/>
        </p:nvPicPr>
        <p:blipFill>
          <a:blip r:embed="rId3"/>
          <a:stretch/>
        </p:blipFill>
        <p:spPr>
          <a:xfrm>
            <a:off x="7605720" y="1143000"/>
            <a:ext cx="1537920" cy="213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000803_1079_3621_vuvv"/>
          <p:cNvPicPr/>
          <p:nvPr/>
        </p:nvPicPr>
        <p:blipFill>
          <a:blip r:embed="rId4"/>
          <a:stretch/>
        </p:blipFill>
        <p:spPr>
          <a:xfrm>
            <a:off x="6643800" y="4643280"/>
            <a:ext cx="2257200" cy="2067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ftr" idx="1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000760" y="107172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71320" y="407196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4929120" y="412560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ftr" idx="1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Всё о спорт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357800" y="3268440"/>
            <a:ext cx="4785840" cy="358920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«Одеть лыжника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314160" cy="248580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64328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5072040" y="1071720"/>
            <a:ext cx="3426480" cy="2569680"/>
          </a:xfrm>
          <a:prstGeom prst="rect">
            <a:avLst/>
          </a:prstGeom>
          <a:ln w="9525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МЯЧ И СКАКАЛ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000803_1077_3526_vnvv"/>
          <p:cNvPicPr/>
          <p:nvPr/>
        </p:nvPicPr>
        <p:blipFill>
          <a:blip r:embed="rId1"/>
          <a:stretch/>
        </p:blipFill>
        <p:spPr>
          <a:xfrm>
            <a:off x="142920" y="0"/>
            <a:ext cx="905040" cy="121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172120" y="121428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4"/>
          <a:stretch/>
        </p:blipFill>
        <p:spPr>
          <a:xfrm>
            <a:off x="785880" y="12859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5214960" y="3929040"/>
            <a:ext cx="3214440" cy="2410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дартс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790440" cy="28429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572000" y="128592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2928960" y="4227480"/>
            <a:ext cx="3507120" cy="26301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Franklin Gothic Medium"/>
              </a:rPr>
              <a:t>Спортивная  аэроби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00803_1077_3446_vnvv"/>
          <p:cNvPicPr/>
          <p:nvPr/>
        </p:nvPicPr>
        <p:blipFill>
          <a:blip r:embed="rId1"/>
          <a:stretch/>
        </p:blipFill>
        <p:spPr>
          <a:xfrm>
            <a:off x="3357720" y="2643120"/>
            <a:ext cx="2280960" cy="235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42920" y="1357200"/>
            <a:ext cx="3221280" cy="24159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643720" y="1428840"/>
            <a:ext cx="3214440" cy="24105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212640" cy="240948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5572080" y="4071960"/>
            <a:ext cx="3411720" cy="255888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«</a:t>
            </a: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Я выбираю спорт как альтернативу пагубным привычкам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3642840" cy="273204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500720" y="1392840"/>
            <a:ext cx="3649680" cy="27374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214720" y="365760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803_1055_6324_vnvv"/>
          <p:cNvPicPr/>
          <p:nvPr/>
        </p:nvPicPr>
        <p:blipFill>
          <a:blip r:embed="rId1"/>
          <a:stretch/>
        </p:blipFill>
        <p:spPr>
          <a:xfrm>
            <a:off x="4000320" y="2571840"/>
            <a:ext cx="2549160" cy="40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357960" y="5143680"/>
            <a:ext cx="1371240" cy="1523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857840" y="5715000"/>
            <a:ext cx="1447560" cy="9140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772400" y="5643720"/>
            <a:ext cx="1371240" cy="1066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000803_1055_5842_vnvv"/>
          <p:cNvPicPr/>
          <p:nvPr/>
        </p:nvPicPr>
        <p:blipFill>
          <a:blip r:embed="rId2"/>
          <a:stretch/>
        </p:blipFill>
        <p:spPr>
          <a:xfrm>
            <a:off x="6357960" y="2786040"/>
            <a:ext cx="1412640" cy="2312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57120" y="357120"/>
            <a:ext cx="4093200" cy="3069720"/>
          </a:xfrm>
          <a:prstGeom prst="rect">
            <a:avLst/>
          </a:prstGeom>
          <a:ln w="9525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Franklin Gothic Medium"/>
              </a:rPr>
              <a:t>Притча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714240" y="1500120"/>
            <a:ext cx="81435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2000" spc="-1" strike="noStrike">
                <a:solidFill>
                  <a:srgbClr val="271e18"/>
                </a:solidFill>
                <a:latin typeface="Comic Sans MS"/>
              </a:rPr>
              <a:t>«Все в твоих руках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240" cy="59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Здоровье – это драгоценность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И притом единственная, ради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Которой действительно стоит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Не только не жалеть времени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Сил, трудов и всяких благ но и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пожертвовать ради него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частицей самой жизни, поскольку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жизнь без него становиться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нестерпимой и унизительной.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                                                  </a:t>
            </a:r>
            <a:r>
              <a:rPr b="1" i="1" lang="ru-RU" sz="2000" spc="-1" strike="noStrike" cap="all">
                <a:solidFill>
                  <a:srgbClr val="4e3b30"/>
                </a:solidFill>
                <a:latin typeface="Franklin Gothic Medium"/>
              </a:rPr>
              <a:t>М. Монтень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28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3"/>
          <p:cNvGraphicFramePr/>
          <p:nvPr/>
        </p:nvGraphicFramePr>
        <p:xfrm>
          <a:off x="428760" y="1357200"/>
          <a:ext cx="8286480" cy="5357520"/>
        </p:xfrm>
        <a:graphic>
          <a:graphicData uri="http://schemas.openxmlformats.org/drawingml/2006/table">
            <a:tbl>
              <a:tblPr/>
              <a:tblGrid>
                <a:gridCol w="1262520"/>
                <a:gridCol w="794520"/>
                <a:gridCol w="950400"/>
                <a:gridCol w="1592640"/>
                <a:gridCol w="1727280"/>
                <a:gridCol w="1958040"/>
              </a:tblGrid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-г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хся в 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,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вши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учаю-щихся, регулярно занимающихся физкультурой, спорт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6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ОУ «Кулунская ООШ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мастерская- газета «Я выбираю спор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букл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мараф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2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4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Хочешь быть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 здоровым, сильным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Молодым красивым, стильным,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С атлетической фигурой?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Занимайся физкультурой.</a:t>
            </a:r>
            <a:br>
              <a:rPr sz="1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803_1055_6316_vnvv"/>
          <p:cNvPicPr/>
          <p:nvPr/>
        </p:nvPicPr>
        <p:blipFill>
          <a:blip r:embed="rId1"/>
          <a:stretch/>
        </p:blipFill>
        <p:spPr>
          <a:xfrm>
            <a:off x="571320" y="2503440"/>
            <a:ext cx="214272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928880" y="400068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0920" y="407196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929040" y="4419720"/>
            <a:ext cx="3071520" cy="22521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5"/>
          <a:stretch/>
        </p:blipFill>
        <p:spPr>
          <a:xfrm>
            <a:off x="3929040" y="2500200"/>
            <a:ext cx="3080880" cy="2310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7000920" y="1405080"/>
            <a:ext cx="1999800" cy="2666520"/>
          </a:xfrm>
          <a:prstGeom prst="rect">
            <a:avLst/>
          </a:prstGeom>
          <a:ln w="9525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ftr" idx="1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ую викторин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803_1077_9956_vnvv"/>
          <p:cNvPicPr/>
          <p:nvPr/>
        </p:nvPicPr>
        <p:blipFill>
          <a:blip r:embed="rId1"/>
          <a:stretch/>
        </p:blipFill>
        <p:spPr>
          <a:xfrm>
            <a:off x="5072040" y="1214280"/>
            <a:ext cx="2161800" cy="253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760" y="3714840"/>
            <a:ext cx="3855600" cy="289152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285840" y="4071960"/>
            <a:ext cx="3714480" cy="278568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ые иг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000803_1055_5843_vnvv"/>
          <p:cNvPicPr/>
          <p:nvPr/>
        </p:nvPicPr>
        <p:blipFill>
          <a:blip r:embed="rId1"/>
          <a:stretch/>
        </p:blipFill>
        <p:spPr>
          <a:xfrm>
            <a:off x="6715080" y="4500720"/>
            <a:ext cx="1832400" cy="18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55_6007_vnvv"/>
          <p:cNvPicPr/>
          <p:nvPr/>
        </p:nvPicPr>
        <p:blipFill>
          <a:blip r:embed="rId2"/>
          <a:stretch/>
        </p:blipFill>
        <p:spPr>
          <a:xfrm>
            <a:off x="0" y="4429080"/>
            <a:ext cx="1788840" cy="173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284280" cy="246312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2357280" y="3929040"/>
            <a:ext cx="3602160" cy="2701440"/>
          </a:xfrm>
          <a:prstGeom prst="rect">
            <a:avLst/>
          </a:prstGeom>
          <a:ln w="9525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981240" cy="298584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57840" y="500040"/>
            <a:ext cx="3888000" cy="291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4046040" cy="30344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998520" cy="2998800"/>
          </a:xfrm>
          <a:prstGeom prst="rect">
            <a:avLst/>
          </a:prstGeom>
          <a:ln w="9525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ftr" idx="1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Шашечный турнир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71320" y="1214280"/>
            <a:ext cx="3498480" cy="262368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71320" y="4000680"/>
            <a:ext cx="3569760" cy="267732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рисунков и плакато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32</TotalTime>
  <Application>LibreOffice/7.4.7.2$Linux_X86_64 LibreOffice_project/40$Build-2</Application>
  <AppVersion>15.0000</AppVersion>
  <Words>573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4:23Z</dcterms:created>
  <dc:creator>Горшкова</dc:creator>
  <dc:description/>
  <dc:language>en-US</dc:language>
  <cp:lastModifiedBy>LEGION</cp:lastModifiedBy>
  <dcterms:modified xsi:type="dcterms:W3CDTF">2015-01-27T12:18:11Z</dcterms:modified>
  <cp:revision>30</cp:revision>
  <dc:subject/>
  <dc:title>МОУ Поздняковская СО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</Properties>
</file>