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A68F-8636-4A18-B45D-2611BDC83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младших 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чмасова С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73AB-79C0-4CA9-A937-13E3E5E15C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едущая педагогическая иде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0B3D-7AEC-4225-B986-BE512DD467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опы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качества знаний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обретение навыка самостоятельно организовывать свою учебную деятель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ктивизация творческой и познавательной активности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положительных личностных качеств учен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й потребности в ведении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ный педагогический опыт считаю актуальным и результа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7345-5AEC-4EC5-95DF-CE90AFBE49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1C8C-4762-4850-919D-973F1E39C3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F37D-F9DC-4C21-B6D5-7BCB6CF693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ворческие способ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ческие способ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385D-9C45-4C9B-8AF4-22352764C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B5AA-20B4-42E4-A37D-3AB5035BB4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7C1E-51C1-44CB-991D-54295801FA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человека можно представить в виде дере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E092-7418-44CC-B16A-CF9B515A51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ловия эффективного развития творческих способностей младших 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технологии развития твор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01B0-5FEA-469E-A53C-05E4BFA503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3022-F149-4EB3-B050-96E85DAF60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 стимулирования творческих спосо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лагоприятной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желательность со стороны учителя, его отказ от критики в адрес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е высказывания оригинальных и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озможностей для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личного примера творческого подхода  к решению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етям возможности активно задавать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DCB5-D47C-4069-BCC9-6ED0B0791F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786-0C1C-40E7-AF61-3A070D7A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B16-3191-49CF-A0D8-762F4C40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F7E-663D-404E-A295-466B2E70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556-BED8-4A51-ACE2-BB9E0D9F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0B4A-5CEE-4271-A3A2-2D2F9D22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957F-C7EF-46EE-BDCA-0776AA24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A4FD-7B16-425F-A926-5D4FC64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8CA3-F87C-4F53-94FA-F6FFA67E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7623-4850-4E8F-9DF5-28687B4A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144-FF47-4570-8119-5BF8CAC7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198F-7CF7-4A27-A39A-5203095D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654-12C3-43DB-9A89-1F4F0AD2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F02C-2B36-4458-BB3B-9564B4C7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E334-DCDF-4CE6-85B6-2C6853CD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C140-1984-4204-BC48-79C85515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2FD3-9979-4103-A426-7297DC83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D04B-6161-47F3-AEFD-621D6ECB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C8457-FCE6-4F8A-B3A4-454E9281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ED85A-F8DC-4663-87FA-6EFDDE77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FC6CE-DB32-42AA-8B73-49B29B4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2CA10-DE3F-4C56-8E04-44DDD98D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F35C4-EB59-42B2-9F45-A4ACA484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294-ADB8-447D-ABD7-F1D6E878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E83F4-5C1A-4422-B910-85363C8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31033-C380-453D-AD18-B5D6CFAF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E81F5-3991-44E2-A05A-100D9BAB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30AE8-A3BA-4167-8E7C-738656D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C2E53-3678-4495-AECC-33EBC17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D5690-BB32-4D7D-BC3C-7F08E88D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95C89-E6E6-44FC-858A-06E87274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C143-6778-4A8C-853F-4485BA89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A1D5-1D43-42F8-BDB7-67E0BD84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06E1-BCD8-4AD4-A280-61741EC8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F31-F2D5-4DFF-8827-58FC802E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F8BF-51BC-4711-9FF6-DB162F20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8B3B-FE6C-43BB-A579-100E1E24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7088-780F-4FD3-9D19-2105156F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B49A6-B356-4A54-B0A3-1E06EDB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DB21-A7C3-47B5-BB11-0B35C151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E059D-A317-4F15-B766-209BB880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73EE-C376-45DA-B73D-F579354F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2754C-4F45-42DF-8ABA-BCB3489B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210B7-2AA8-47D4-9FB2-3C7CDBF1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A80BA-B504-4343-BB45-F7807B0A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B65-BF6E-496B-B994-A42AB8D3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90DE5-B2CD-4075-AE17-5AF752FB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5897A-2B0F-447D-89F7-CDAE1388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5D7E4-2DE2-476F-A89A-A0FD6A4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02F2F-B1A0-4263-9803-5F5146EC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C1A7C-4ABC-4B67-9945-43A6F40C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273AF-87D0-41F1-BFA1-9118FAF1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C5517-5956-43A4-9516-76F355DD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EDEFC-8BE8-4364-9FE5-A1057292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A0FA3-B0E0-4F5E-A057-07006FEA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5A835-F278-4D8D-8A79-DDFB8052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644-D03B-431A-88FA-D1DA8DCE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EDC6D-7A25-4501-9982-A2BB21AD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ABF20-B088-4DE8-A4DA-3341BA43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F9526-C115-4E77-8038-A094C753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BD8CB-84FD-4A34-9D42-EC62915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1B680-CF88-433D-AD7E-E0920FD2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9D7CB-23E9-4BDC-8B6B-44950730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B0602-BACF-4C04-8D7F-77120E1F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C4BA0-CF26-4DCB-B150-36C5039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D47AE-D768-427A-93BD-479D0ED6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D7636-267F-4F51-8077-2C185A81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31B-D1CA-4A11-81E4-F1A11FAA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3325D-CEBA-416D-ADB4-72CCB80E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9C289-B008-48FC-88BA-7138758D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890F3-B31D-4683-B83D-BB3565AD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4B553-3C61-440F-9D80-95232C69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837DE8-9960-44C5-B0B1-DE772CD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91734-95A3-47EA-BF47-801A1E27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1EB7F-24A2-4A37-827F-0D7EBFB2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96BE7-6A3E-4F1A-98CF-4646520A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BBB33-5C44-4423-8A5C-F746C799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7A3CD-F0E8-4AFA-831E-B09620A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721-ECCA-468A-82E5-D6D49982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910B0-EF42-4195-B9B4-6ADC462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80DB2-7C90-4718-A2ED-0F039E0A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D7248-30CF-4DDE-8F23-187188F0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2109C-4BDF-4C81-8DDE-A7769AB3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DC2C8-BFD9-4433-9AD1-7D456D41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CF9-5309-44FE-A588-BB874205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991-AAB2-4E6A-BF8B-5956DA0E7B66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BA13-C0A6-4BD4-91AD-B7F1B2EC22F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84D0-8B71-42E4-B9FF-8F886B55F0C0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2863-21B5-435F-9F0F-4BF603F9B7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7FB7-1562-4C3E-941D-285F97503428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31C2-07FD-4AC9-94D5-0CC8D385FC3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e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e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F7DB-47D4-4C6D-98E2-A1AF73E82FA4}" type="datetime">
              <a:rPr b="0" lang="ru-RU" sz="1200" spc="-1" strike="noStrike">
                <a:solidFill>
                  <a:srgbClr val="dedee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ED9A-9F68-4588-B531-D2AD65B61E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597A-ADAC-49C5-A3D7-55BBCC02E399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DAC1-CBAE-49B4-A48F-3AC1DF128A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A09E-E657-45BE-A43C-2F07C64B41A1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A312-9EF5-4DDD-A1D5-060F84999E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0F36-0402-4F1B-9D65-D5BE19E73F85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B3DA-056F-4E59-A9C1-27365C917D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676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Century Schoolbook"/>
              </a:rPr>
              <a:t>РАЗВИТИЕ ТВОРЧЕСКИХ СПОСОБНОСТЕЙ МЛАДШИХ ШКОЛЬНИКОВ</a:t>
            </a:r>
            <a:endParaRPr b="0" lang="en-US" sz="4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143320" y="5157720"/>
            <a:ext cx="38192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Кучмасова С.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255600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Е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03030"/>
                </a:solidFill>
                <a:uFillTx/>
                <a:latin typeface="Century Schoolbook"/>
              </a:rPr>
              <a:t>ВЕДУЩАЯ ПЕДАГОГИЧЕСКАЯ ИДЕЯ</a:t>
            </a:r>
            <a:br>
              <a:rPr sz="3000"/>
            </a:b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РЕЗУЛЬТАТИВНОСТЬ ОПЫТ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вышение качества знаний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риобретение навыка самостоятельно организовывать свою учебную деятельнос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ктивизация творческой и познавательной активности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положительных личностных качеств учени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осознанной потребности в ведени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ный педагогический опыт считаю актуальным и результатив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7547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8920" y="1196640"/>
            <a:ext cx="67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667692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АКТУАЛЬНОСТЬ И ПЕРСПЕКТИВНОСТЬ ОПЫТА 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ЧТО ТАКОЕ ТВОРЧЕСКИЕ СПОСОБНОСТИ?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4920" y="2276280"/>
            <a:ext cx="82803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ворческие способност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КОНЦЕП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773360"/>
            <a:ext cx="82803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0240" y="115920"/>
            <a:ext cx="8002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СПОСОБНОСТИ ЧЕЛОВЕКА МОЖНО ПРЕДСТАВИТЬ В ВИДЕ ДЕРЕВ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9040" cy="4815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4716360" y="1773360"/>
            <a:ext cx="39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рн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родные задатк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вол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щие способно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тв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, в том числе и твор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468360" y="595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м больше ветвей, тем дерево мощней, пышней и ветвистее его кро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  </a:t>
            </a:r>
            <a:r>
              <a:rPr b="0" lang="ru-RU" sz="2700" spc="-1" strike="noStrike">
                <a:solidFill>
                  <a:srgbClr val="303030"/>
                </a:solidFill>
                <a:latin typeface="Century Schoolbook"/>
              </a:rPr>
              <a:t>УСЛОВИЯ ЭФФЕКТИВНОГО РАЗВИТИЯ ТВОРЧЕСКИХ СПОСОБНОСТЕЙ МЛАДШИХ ШКОЛЬНИКОВ.</a:t>
            </a:r>
            <a:endParaRPr b="0" lang="en-US" sz="27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920" y="1844640"/>
            <a:ext cx="785016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ются технологии развития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4920" y="25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181400" cy="3057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2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5608800" y="51436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уши развес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299960" y="522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заруби себе на нос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СПОСОБЫ  СТИМУЛИРОВАНИЯ ТВОРЧЕСКИХ СПОСОБНОСТЕЙ</a:t>
            </a:r>
            <a:endParaRPr b="0" lang="en-US" sz="24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благоприятной атмосфер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рожелательность со стороны учителя, его отказ от критики в адрес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ощрение высказывания оригинальных ид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возможностей для практ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личного примера творческого подхода  к решению проб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ение детям возможности активно задавать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3:13:40Z</dcterms:created>
  <dc:creator>Admin</dc:creator>
  <dc:description/>
  <dc:language>en-US</dc:language>
  <cp:lastModifiedBy>LEGION</cp:lastModifiedBy>
  <dcterms:modified xsi:type="dcterms:W3CDTF">2015-01-27T13:38:05Z</dcterms:modified>
  <cp:revision>29</cp:revision>
  <dc:subject/>
  <dc:title>Развитие творческих способностей младших школьников</dc:title>
</cp:coreProperties>
</file>