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8AED-EF2F-4D92-9A82-52F13CC5A6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младших школь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чмасова С.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FAD6-FE3B-46C3-B676-02E99E1964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едущая педагогическая иде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ети способны – такова моя ведущая педагогическая идея. В связи с этим особое внимание уделяю созданию условий для развития творческого потенциала каждого ученика. Я считаю, что необходимо учитывать физиологические особенности ребенка, различный уровень обучаемости, готовности к участию в творческой деятельности. В связи с этим я сосредотачиваю внимание на подборе разноуровневых творческих заданий для каждого уче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5E8D-13BF-4999-9634-0E3A6BF776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ость опы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вышение качества знаний уча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обретение навыка самостоятельно организовывать свою учебную деятель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ктивизация творческой и познавательной активности уча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ние положительных личностных качеств учен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ние осознанной потребности в ведении здорового образа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ный педагогический опыт считаю актуальным и результати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8EAB-A330-4843-9478-21A5402C4D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учащихся зависит от эффективности используемых учителем методов и приёмов и того, насколько творчески он подходит к данной пробл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видов и форм творческих заданий позволило достичь определенного уровня в развитии творческих способностей, который оказался посильным для каждого ученик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тическая работа по развитию творческих способностей дает следующие результаты: дети вырастают любознательными, активными, умеющими учиться, настоящими мечтателями и фантазерами, людьми, способными видеть чудо в привычных вещах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е творчество детей помогает прочнее усваивать и запоминать теоретические сведения. Легче решается проблема мотивации, дети сами проявляют желание творить. Важным моментом является то, что творческие работы привлекают внимание всех детей, здесь они открываются с положительной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89F9-89C3-4846-94DE-ACD6271A99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ктуальность и перспективность опы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В душе каждого ребенка есть невидимые струны. Если тронуть их умелой рукой, они красиво зазвуча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А. Сухомл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F531-68CE-4AF6-9A98-708C3B8ADD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ворческие способ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ворческие способнос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это индивидуальные психологические особенности ребенка, которые не зависят от умственных способностей и проявляются в детской фантазии, воображении, особом видении мира, своей точке зрения на окружающую действи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0599-36B1-46F6-ADC4-285D2A07F1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-  важнейшая задача начального образования, ведь этот процесс пронизывает все этапы развития личности ребенка, пробуждает инициативу и самостоятельность принимаемых решений,  привычку к свободному самовыражению, уверенность в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смотреть на современное состояние образования в России, то можно увидеть, что оно характеризуется качественными изменениями в области содержания, которое направлено на развитие творческих способностей личности ребенка. Актуальность и перспективность работы в данном направлении определяется тем, в какой мере учебно-воспитательный процесс обеспечивает развитие творческих способностей каждого ученика, формирует творческую личность, готовит его к творческой познавательной и обще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30B3-64CD-4040-B306-747587C99B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образие моего опыта заключается в определении  учащегося главной действующей фигурой учебно – воспитательного процесса, реализации  проблем творческого развития личности, разработке  педагогических технологий, целью которых не является накопление знаний и умений, а постоянное обогащение творческим опытом и формированием  механизма самоорганизации каждого уче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DBB8-A8D3-4661-9467-CF6D3C3924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 человека можно представить в виде дере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C210-E7B3-4EF8-94B7-F597614A50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словия эффективного развития творческих способностей младших школьн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ются ситуации выбора, процесс обучения включает задания, которые выполняются с учетом вообра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ся сотворчество в детском коллективе с целого проявления  и развития творческих способностей кажд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технологии развития творческого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AC62-98AF-408C-A199-9A45EEFB7F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ках мы пишем и сочинения-сказки о частях речи и небольшие рассказы с использованием фразеологических оборотов и крылатых выражений, 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6BE2-E142-4572-A2A7-CDDF36668B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 стимулирования творческих спосо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благоприятной атм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желательность со стороны учителя, его отказ от критики в адрес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гащение окружающей среды ребенка самыми разнообразными новыми для него предметами и стимулами с целью развития его любозна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ощрение высказывания оригинальных и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возможностей для прак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личного примера творческого подхода  к решению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детям возможности активно задавать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6C02-5410-4056-9A64-EAF91D12E1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CA3-2AD5-472F-AA41-85861EB6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8BA-3CA0-424A-9C9E-21BCB87F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5D0F-B9FE-4D2D-B042-EF20811E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4BC-715B-4F34-8957-5C031ABC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C0C9-7DF5-4975-853B-E2293263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A0A4-E8E8-4243-9F91-6E63BD93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A1F4-A26F-4B5A-8641-13146B2D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E0CF-BC17-4EC9-A125-12CD6516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E2DD-70CF-43A6-B6CF-B4E65CE8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BB28-A597-4280-8554-F1D6DBFA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E303-7952-49D0-AF9D-C4BE7816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48C0-170B-449A-8389-D9F5660E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8C2F-80C3-40E6-91AC-BDDA1957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7829-DCE3-4B79-867A-DEB87E72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319E-9AC4-4C6F-912B-E30130D7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E000-127D-4F53-B2FD-F1F58954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E418-771A-4FBE-AEBF-78984477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422FA-D688-42F8-94FF-49B1F58C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65125-09FB-437C-92D6-A1453E46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0DD6E-9945-4FC7-A83D-BEB85083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5AA65-6D43-4A0C-8677-3DAE43F5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33E3E9-B55F-429F-B120-1F929464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3C9-A346-47C9-A25E-24168274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1673E-BCB5-48B9-B601-F723CDB7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08780-CF3D-47FC-8EA2-D8ED081D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6931E-E841-42FD-83F3-887647BE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D0318-09A6-4539-AF4E-5F5A3380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5AD2C-356D-4BA1-A18E-8B9DDDBE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51952-5E70-407D-A16E-D95684B3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208EF-4D18-495F-A56F-9CC1281A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D0BF7-FC41-4FD6-A206-B24B0625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220B1-777A-4E21-B70F-A90B412A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2CE19-33D1-4B27-82BE-E218ED12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21B9-C9C8-4DFD-90F3-F5F4B556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1774F-D550-482E-81EA-9C38B544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D3583-6752-416F-BBF5-50167C47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99E9C-3DD5-4EA4-876A-9785E6A6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F937A-AF9A-460C-A0EE-8208A39A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C48DF-22FE-4591-B8C7-7552996D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1E948-55EE-4D65-9020-DF116716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3E41B-CF57-44BB-A214-863849C8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CCE67-6392-4A7E-A0CC-08B0EEE1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C7F72-FE2B-42D8-90AB-84450DEB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43EEC7-3874-485A-B16F-1A53E301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3878-E6C4-40EF-8365-BEB0A37A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6AA9CB-AAD2-4D33-89C2-BF4741C5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33E031-9337-4296-807B-0957E6C9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56E35D-ADD3-48F1-BC7B-6E7CE574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74317B-6935-4844-94FB-70F2470C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90C38C-EFB0-4EE3-9532-1AA465F2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5145E7-7B13-4A81-8A7B-F06827F2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18C15D-D9A5-4FF9-B2A3-AC3875FF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D99A2-DB8A-4544-AFF0-DCEED692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D38AFF-A768-4E9C-84A7-16C41534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2F2B7A-0A00-439B-926B-AB7116E3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925-1442-4F0B-8178-5F4F6922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933E7D-67AB-4DDC-BD7F-3CA446CE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3E0C37-3E6B-404A-979C-10DEE3D3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5233A-8E70-4240-A4BB-64226A25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C78155-E571-49C0-8943-BDB072CA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BA1253-53F6-446F-B4C1-23A624F3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ED83DA-1069-46FF-AC7E-0FAE2263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D8ACCD-31F4-4C8B-AE45-93DD5C66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0F15F4-2D91-4FB4-9D13-EFD224DB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177903-9BF9-4F1F-A081-526CEB31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170F24-18C5-465E-BAA6-A42DEBA8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C50-D410-40E3-AF30-AAF5F780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B072F5-EEAC-482B-A77A-C9A5CF6D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45568F-6308-46CD-A466-236F3FA6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6B912-0B3E-4363-87F9-CF865F77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1D20AF-2149-4757-BB4B-555A6DEE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C35344-B31F-4C22-957B-82576C5A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CFD7D8-0B86-4173-A73A-A4E11FF4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632023-2135-40B2-BD87-B3B7C13C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71C38B-BC5B-4D9A-8DF6-6CF7425E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39944D-C3A3-4C0F-AEF5-3442D0F0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D39085-3DA5-41FF-ADFC-6DA438D2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81D-C3B8-4F85-A802-358BD849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7666E6-35D0-4757-A33D-C439FA36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6A765E-0D95-4D01-ADDF-EF22AB03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78EEC3-5C8C-42D9-9D54-C53F3FEC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731C83-CDCD-4669-B9E0-1B7EA1B2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A95641-8D1A-4781-8DAB-EAE5159B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2C8-8ECB-43C3-BEFC-3D378AB9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40C0-5458-4BCB-A8AE-D6263548CA0C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AD51-4ED3-417E-BAFF-89BFAA2A3B0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1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1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5C0C-FC31-48F5-946D-F612F26DBA5A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77D5-7B00-4221-BAC7-96FDD55C167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9076-372A-44A3-98C1-68026908D41F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D16C-DC9F-463E-8AC3-D5914E2EEE5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1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1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dee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edee0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edee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DD71-3F97-4A26-BDBB-6E5729E4FD66}" type="datetime">
              <a:rPr b="0" lang="ru-RU" sz="1200" spc="-1" strike="noStrike">
                <a:solidFill>
                  <a:srgbClr val="dedee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dee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edee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560E-048F-40AC-86D4-57E70F9E129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72A0-BFA1-4E65-A283-96F107188651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E627-2D30-4901-A51D-D358CDCCCDC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3EBF-7F78-4F1C-8375-B8011E785E7E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5003-7B5E-490C-8599-8452C6DBA2B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B6E3-E0AE-4C6A-8573-29C32E9820E4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12C9-5F61-41FC-8F88-FB092861EDE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834920" y="1700280"/>
            <a:ext cx="6769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Century Schoolbook"/>
              </a:rPr>
              <a:t>РАЗВИТИЕ ТВОРЧЕСКИХ СПОСОБНОСТЕЙ МЛАДШИХ ШКОЛЬНИКОВ</a:t>
            </a:r>
            <a:endParaRPr b="0" lang="en-US" sz="4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5143320" y="5157720"/>
            <a:ext cx="38192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Century Schoolbook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Century Schoolbook"/>
              </a:rPr>
              <a:t>Кучмасова С.А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Century Schoolbook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2556000" y="333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БОУ ЕСОШ №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4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303030"/>
                </a:solidFill>
                <a:uFillTx/>
                <a:latin typeface="Century Schoolbook"/>
              </a:rPr>
              <a:t>ВЕДУЩАЯ ПЕДАГОГИЧЕСКАЯ ИДЕЯ</a:t>
            </a:r>
            <a:br>
              <a:rPr sz="3000"/>
            </a:b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 дети способны – такова моя ведущая педагогическая идея. В связи с этим особое внимание уделяю созданию условий для развития творческого потенциала каждого ученика. Я считаю, что необходимо учитывать физиологические особенности ребенка, различный уровень обучаемости, готовности к участию в творческой деятельности. В связи с этим я сосредотачиваю внимание на подборе разноуровневых творческих заданий для каждого уче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РЕЗУЛЬТАТИВНОСТЬ ОПЫТА: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повышение качества знаний учащихся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приобретение навыка самостоятельно организовывать свою учебную деятельность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активизация творческой и познавательной активности учащихся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формирование положительных личностных качеств ученик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формирование осознанной потребности в ведении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еденный педагогический опыт считаю актуальным и результативны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75476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ЗАКЛЮЧЕНИЕ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78920" y="1196640"/>
            <a:ext cx="67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Развитие творческих способностей учащихся зависит от эффективности используемых учителем методов и приёмов и того, насколько творчески он подходит к данной проблем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спользование различных видов и форм творческих заданий позволило достичь определенного уровня в развитии творческих способностей, который оказался посильным для каждого ученика.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истематическая работа по развитию творческих способностей дает следующие результаты: дети вырастают любознательными, активными, умеющими учиться, настоящими мечтателями и фантазерами, людьми, способными видеть чудо в привычных вещах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бственное творчество детей помогает прочнее усваивать и запоминать теоретические сведения. Легче решается проблема мотивации, дети сами проявляют желание творить. Важным моментом является то, что творческие работы привлекают внимание всех детей, здесь они открываются с положительной сторон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6676920" y="40464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АКТУАЛЬНОСТЬ И ПЕРСПЕКТИВНОСТЬ ОПЫТА 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«В душе каждого ребенка есть невидимые струны. Если тронуть их умелой рукой, они красиво зазвучат»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В.А. Сухомлински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ЧТО ТАКОЕ ТВОРЧЕСКИЕ СПОСОБНОСТИ?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94920" y="2276280"/>
            <a:ext cx="828036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Творческие способност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 это индивидуальные психологические особенности ребенка, которые не зависят от умственных способностей и проявляются в детской фантазии, воображении, особом видении мира, своей точке зрения на окружающую действи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91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АКТУАЛЬНОСТЬ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звитие творческих способностей -  важнейшая задача начального образования, ведь этот процесс пронизывает все этапы развития личности ребенка, пробуждает инициативу и самостоятельность принимаемых решений,  привычку к свободному самовыражению, уверенность в себ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Если посмотреть на современное состояние образования в России, то можно увидеть, что оно характеризуется качественными изменениями в области содержания, которое направлено на развитие творческих способностей личности ребенка. Актуальность и перспективность работы в данном направлении определяется тем, в какой мере учебно-воспитательный процесс обеспечивает развитие творческих способностей каждого ученика, формирует творческую личность, готовит его к творческой познавательной и общественной деятельност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КОНЦЕПТУАЛЬНОСТЬ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000" y="1773360"/>
            <a:ext cx="828036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воеобразие моего опыта заключается в определении  учащегося главной действующей фигурой учебно – воспитательного процесса, реализации  проблем творческого развития личности, разработке  педагогических технологий, целью которых не является накопление знаний и умений, а постоянное обогащение творческим опытом и формированием  механизма самоорганизации каждого ученик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0240" y="115920"/>
            <a:ext cx="80024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СПОСОБНОСТИ ЧЕЛОВЕКА МОЖНО ПРЕДСТАВИТЬ В ВИДЕ ДЕРЕВА: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3929040" cy="481500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3"/>
          <p:cNvSpPr/>
          <p:nvPr/>
        </p:nvSpPr>
        <p:spPr>
          <a:xfrm>
            <a:off x="4716360" y="1773360"/>
            <a:ext cx="395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орни —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родные задатки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вол —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бщие способности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етви —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пециальные способности, в том числе и творчес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5"/>
          <p:cNvSpPr/>
          <p:nvPr/>
        </p:nvSpPr>
        <p:spPr>
          <a:xfrm>
            <a:off x="468360" y="5950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Чем больше ветвей, тем дерево мощней, пышней и ветвистее его кро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  </a:t>
            </a:r>
            <a:r>
              <a:rPr b="0" lang="ru-RU" sz="2700" spc="-1" strike="noStrike">
                <a:solidFill>
                  <a:srgbClr val="303030"/>
                </a:solidFill>
                <a:latin typeface="Century Schoolbook"/>
              </a:rPr>
              <a:t>УСЛОВИЯ ЭФФЕКТИВНОГО РАЗВИТИЯ ТВОРЧЕСКИХ СПОСОБНОСТЕЙ МЛАДШИХ ШКОЛЬНИКОВ.</a:t>
            </a:r>
            <a:endParaRPr b="0" lang="en-US" sz="27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50920" y="1844640"/>
            <a:ext cx="785016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здаются ситуации выбора, процесс обучения включает задания, которые выполняются с учетом воображе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рганизуется сотворчество в детском коллективе с целого проявления  и развития творческих способностей каждог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уются технологии развития творческого мыш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94920" y="259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уроках мы пишем и сочинения-сказки о частях речи и небольшие рассказы с использованием фразеологических оборотов и крылатых выражений, например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4181400" cy="30574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882960" cy="28810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3"/>
          <p:cNvSpPr/>
          <p:nvPr/>
        </p:nvSpPr>
        <p:spPr>
          <a:xfrm>
            <a:off x="5608800" y="514368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«уши развеси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4"/>
          <p:cNvSpPr/>
          <p:nvPr/>
        </p:nvSpPr>
        <p:spPr>
          <a:xfrm>
            <a:off x="1299960" y="522936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«заруби себе на нос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6850"/>
                            </p:stCondLst>
                            <p:childTnLst>
                              <p:par>
                                <p:cTn id="1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8850"/>
                            </p:stCondLst>
                            <p:childTnLst>
                              <p:par>
                                <p:cTn id="1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Century Schoolbook"/>
              </a:rPr>
              <a:t>СПОСОБЫ  СТИМУЛИРОВАНИЯ ТВОРЧЕСКИХ СПОСОБНОСТЕЙ</a:t>
            </a:r>
            <a:endParaRPr b="0" lang="en-US" sz="24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075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еспечение благоприятной атмосфер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брожелательность со стороны учителя, его отказ от критики в адрес ребен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гащение окружающей среды ребенка самыми разнообразными новыми для него предметами и стимулами с целью развития его любознательност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ощрение высказывания оригинальных иде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еспечение возможностей для практик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ование личного примера творческого подхода  к решению пробле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дставление детям возможности активно задавать вопрос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03:13:40Z</dcterms:created>
  <dc:creator>Admin</dc:creator>
  <dc:description/>
  <dc:language>en-US</dc:language>
  <cp:lastModifiedBy>LEGION</cp:lastModifiedBy>
  <dcterms:modified xsi:type="dcterms:W3CDTF">2015-01-27T13:38:05Z</dcterms:modified>
  <cp:revision>29</cp:revision>
  <dc:subject/>
  <dc:title>Развитие творческих способностей младших школьников</dc:title>
</cp:coreProperties>
</file>