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6701-A0E0-461E-AE74-B47D0AFA2F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младших школь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чмасова С.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2CBB-2247-4C3E-BDC3-61718EEE7D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едущая педагогическая иде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ети способны – такова моя ведущая педагогическая идея. В связи с этим особое внимание уделяю созданию условий для развития творческого потенциала каждого ученика. Я считаю, что необходимо учитывать физиологические особенности ребенка, различный уровень обучаемости, готовности к участию в творческой деятельности. В связи с этим я сосредотачиваю внимание на подборе разноуровневых творческих заданий для каждого уче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9332-F241-4BF0-8C2B-F9413C6672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ость опы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вышение качества знаний уча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обретение навыка самостоятельно организовывать свою учебную деятель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ктивизация творческой и познавательной активности учащих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ние положительных личностных качеств учен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ние осознанной потребности в ведении здорового образа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ный педагогический опыт считаю актуальным и результати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1736-5FA2-4356-9946-D84422E5F5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учащихся зависит от эффективности используемых учителем методов и приёмов и того, насколько творчески он подходит к данной пробл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видов и форм творческих заданий позволило достичь определенного уровня в развитии творческих способностей, который оказался посильным для каждого ученик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тическая работа по развитию творческих способностей дает следующие результаты: дети вырастают любознательными, активными, умеющими учиться, настоящими мечтателями и фантазерами, людьми, способными видеть чудо в привычных вещах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е творчество детей помогает прочнее усваивать и запоминать теоретические сведения. Легче решается проблема мотивации, дети сами проявляют желание творить. Важным моментом является то, что творческие работы привлекают внимание всех детей, здесь они открываются с положительной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253E-8775-4628-9286-6FCE5B65DF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ктуальность и перспективность опы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В душе каждого ребенка есть невидимые струны. Если тронуть их умелой рукой, они красиво зазвуча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А. Сухомл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2F32-1AD5-4A37-BC97-CBED1DDB7A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ворческие способ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ворческие способнос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это индивидуальные психологические особенности ребенка, которые не зависят от умственных способностей и проявляются в детской фантазии, воображении, особом видении мира, своей точке зрения на окружающую действи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06EF-8AD7-4EA7-9397-EC5A3DE50F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творческих способностей -  важнейшая задача начального образования, ведь этот процесс пронизывает все этапы развития личности ребенка, пробуждает инициативу и самостоятельность принимаемых решений,  привычку к свободному самовыражению, уверенность в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смотреть на современное состояние образования в России, то можно увидеть, что оно характеризуется качественными изменениями в области содержания, которое направлено на развитие творческих способностей личности ребенка. Актуальность и перспективность работы в данном направлении определяется тем, в какой мере учебно-воспитательный процесс обеспечивает развитие творческих способностей каждого ученика, формирует творческую личность, готовит его к творческой познавательной и обще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0F3A-B421-4C56-B129-287E927AFE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образие моего опыта заключается в определении  учащегося главной действующей фигурой учебно – воспитательного процесса, реализации  проблем творческого развития личности, разработке  педагогических технологий, целью которых не является накопление знаний и умений, а постоянное обогащение творческим опытом и формированием  механизма самоорганизации каждого уче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462B-8103-448D-AB00-1E416C55A0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 человека можно представить в виде дере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E779-67BB-473B-8AA3-0A581F831A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словия эффективного развития творческих способностей младших школьн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ются ситуации выбора, процесс обучения включает задания, которые выполняются с учетом вообра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ся сотворчество в детском коллективе с целого проявления  и развития творческих способностей кажд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технологии развития творческого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2422-589A-4BAC-8864-576FF73F10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ках мы пишем и сочинения-сказки о частях речи и небольшие рассказы с использованием фразеологических оборотов и крылатых выражений, 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4ED4-30FE-4C9B-BB03-D0BE89E0DC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 стимулирования творческих спосо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благоприятной атм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желательность со стороны учителя, его отказ от критики в адрес ребе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гащение окружающей среды ребенка самыми разнообразными новыми для него предметами и стимулами с целью развития его любозна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ощрение высказывания оригинальных и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возможностей для прак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личного примера творческого подхода  к решению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детям возможности активно задавать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9276-D2A2-4C80-BEA1-E908ACF193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F632-FB57-44E6-8468-99859C10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BC6-E858-47B0-90B5-9F77C0AA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CA58-963A-4D41-B801-1EBA0476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432F-C107-4A47-9BF9-0D7C0BC4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AA4E-4FC8-45C1-8D34-35301706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DE9D-39E6-4E0C-AE8E-D7597B18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A2DB-6859-4DB8-9F3E-88DEDF66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3F09-AC3C-4246-B763-0482B280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E65D-1C7A-4078-82A0-91A5251C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4D72-DF64-487C-8A3F-96CB7541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F39E-0489-4F73-A358-D38D3823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86A-58CF-4378-AD1A-37101659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F85B-4305-44D9-9479-B3AAED85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CA66-60B0-41F9-8376-3C08E8EC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61A9-40B5-4371-935C-844F8FBC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FFC4-6643-4C5B-97DA-941541D2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88C2-C0D9-477E-8174-4C4ADD14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3EB37-4CAF-498F-BEF6-D394ABD2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4869DA-2109-4AFA-B6F5-AF877730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1A77D-185D-4284-8443-D380899B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02847-49D3-4041-8AEE-7403368A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40A95-7A96-493C-B395-0D7CFC36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F533-341E-48DB-A641-878F9910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15E9C-6B10-4944-97C4-7A6A236D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DD0B90-CDB9-487B-9B96-0DB88C0F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91CD1-9B95-45D6-A142-F584A30E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03E19-F368-4376-964E-F5E13E91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0BC52-F26A-485E-859A-F1C6DA10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D65BB-E6D8-4E7A-8F67-9A30077C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1EEC9-2EDF-4BC4-99B1-22F0A358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E850A-2E68-4EB5-BE42-18B5EA46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587A4-F23E-43DD-B24A-ED84CD88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9BBE1-9B3A-4310-946D-A68CF91C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8891-B180-434A-9C8D-74327348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3AEDA-BF60-4682-9CA3-68595904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613CF-B15D-44B1-A3E9-D44E235A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4EF6A-3052-4FC7-825D-41B537F8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8964E-2F49-4709-816F-C7A29E2F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82A04-C8BE-4D05-AC05-6C9B1BF4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41089-97F4-4234-9E66-0275C111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CE8AD-8FA4-4ADB-820F-BB05F723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BE349-BE9E-4A02-811B-1425E10D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33230-0CB0-477D-92A6-4D5FD5EE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9912A6-563F-45CB-8597-54EEA0FA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0AF-EF8A-4BAA-BB9D-FE3DF398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E3002D-76B3-4FB7-A5C9-17F2B8EF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31D4E0-5031-46F1-A2CB-79F6D160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889F1A-C595-423B-BEA2-B400C865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298B55-5F82-4296-83CB-4653A7AE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43874B-BBA5-40E4-8B20-FFFB6EF9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F872B8-15E6-41C9-A9F5-5C948820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363DB-F415-4094-B5F3-90242C6D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29E0ED-F255-41A8-B162-86F2CB40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B251D3-D2E2-4552-A534-6DA6B7DA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14D5F2-5810-4100-991D-26B3FB89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5385-C39D-4509-91D1-4E181EB6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93E326-F48F-4DAF-AF8F-EF3642A5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0BC569-CCB2-4B3B-8FDC-9B89B041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C87934-7508-45F8-88C4-7C079F4C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832212-6C0C-4FBD-9D3D-E35F91A8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3A0216-3034-4D60-89A3-5881F4C0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197770-3C40-4ADB-B691-03B3D8D5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505394-242D-4011-A1DA-77D6CD9B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A3D24B-4BC8-47E3-964B-08C711EC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082EC5-EAC3-4692-97D4-C67D202F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884F9F-1949-4270-954F-28AEA5A3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BAB-770B-4C20-A952-D4766776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ECFA90-20A2-4A38-A2BF-F3657E2E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6BAA0D-9599-4D8F-A5E0-09E5B722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98A198-EE8F-40F6-B990-ECDCDE15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48A4F6-85FE-4EE7-93CA-A8B1ACBF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9B6DDC-DB0F-4506-BC2C-08C382F6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3ED403-52AB-423E-B240-151EA0FA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C928CF-C080-49AE-AC86-40B57C93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72786D-CA3F-4FC4-B8C3-95E6DE1D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4B1091-5307-4C06-BFBD-92D44C34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C707A8-BAC7-4FA1-9453-F0B3BD8D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319-016F-4ADB-9407-FA2983AD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D74A24-9DC4-4299-8317-B3D29968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54360D-96EB-4901-8B7A-F793D4D6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DB7C1D-A494-4AD3-95DC-E2CA9140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AE78BC-4F47-4030-A039-1B188D73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84C56D-727C-406E-86AD-68A18D1E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F47-03D0-4CED-89D6-18922DAF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EBEB-DC4D-4378-814A-D8CF74B35B51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CA56-4D13-4C70-98A1-0A074C11FD4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1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1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3CEF-71F4-4DC9-89E9-CC09FBE265E5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3A21-5794-458C-AA3E-3CC671424EA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5941-E803-4F7B-929D-DCAA818C552F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B550-8F03-4F52-8626-8381D6B9E95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1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1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dee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edee0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edee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8513-D138-444F-ACC9-4E9C4D4A3357}" type="datetime">
              <a:rPr b="0" lang="ru-RU" sz="1200" spc="-1" strike="noStrike">
                <a:solidFill>
                  <a:srgbClr val="dedee0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dee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edee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9FC8-6B39-4D9F-84A2-1911804987A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0D69-6FED-40D9-A52D-14AA7748852D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B62F-2CE0-4F46-8792-BA3742AB905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B756-4A42-4BCB-B2E9-30751A81FAE5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817C-DF1C-494A-BEBB-9DEFA51F059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03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80101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cb6b4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B71B-08A0-497E-B4E7-40CF27CD91C0}" type="datetime">
              <a:rPr b="0" lang="ru-RU" sz="1200" spc="-1" strike="noStrike">
                <a:solidFill>
                  <a:srgbClr val="303030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B582-B2CE-4E79-A969-F9C434068D3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0303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834920" y="1700280"/>
            <a:ext cx="6769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Century Schoolbook"/>
              </a:rPr>
              <a:t>РАЗВИТИЕ ТВОРЧЕСКИХ СПОСОБНОСТЕЙ МЛАДШИХ ШКОЛЬНИКОВ</a:t>
            </a:r>
            <a:endParaRPr b="0" lang="en-US" sz="4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5143320" y="5157720"/>
            <a:ext cx="38192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Century Schoolbook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Century Schoolbook"/>
              </a:rPr>
              <a:t>Кучмасова С.А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3030"/>
                </a:solidFill>
                <a:latin typeface="Century Schoolbook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2556000" y="333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БОУ ЕСОШ №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4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303030"/>
                </a:solidFill>
                <a:uFillTx/>
                <a:latin typeface="Century Schoolbook"/>
              </a:rPr>
              <a:t>ВЕДУЩАЯ ПЕДАГОГИЧЕСКАЯ ИДЕЯ</a:t>
            </a:r>
            <a:br>
              <a:rPr sz="3000"/>
            </a:b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 дети способны – такова моя ведущая педагогическая идея. В связи с этим особое внимание уделяю созданию условий для развития творческого потенциала каждого ученика. Я считаю, что необходимо учитывать физиологические особенности ребенка, различный уровень обучаемости, готовности к участию в творческой деятельности. В связи с этим я сосредотачиваю внимание на подборе разноуровневых творческих заданий для каждого уче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РЕЗУЛЬТАТИВНОСТЬ ОПЫТА: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повышение качества знаний учащихся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приобретение навыка самостоятельно организовывать свою учебную деятельность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активизация творческой и познавательной активности учащихся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формирование положительных личностных качеств ученик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формирование осознанной потребности в ведении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еденный педагогический опыт считаю актуальным и результативны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75476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ЗАКЛЮЧЕНИЕ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78920" y="1196640"/>
            <a:ext cx="67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Развитие творческих способностей учащихся зависит от эффективности используемых учителем методов и приёмов и того, насколько творчески он подходит к данной проблем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Использование различных видов и форм творческих заданий позволило достичь определенного уровня в развитии творческих способностей, который оказался посильным для каждого ученика.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истематическая работа по развитию творческих способностей дает следующие результаты: дети вырастают любознательными, активными, умеющими учиться, настоящими мечтателями и фантазерами, людьми, способными видеть чудо в привычных вещах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бственное творчество детей помогает прочнее усваивать и запоминать теоретические сведения. Легче решается проблема мотивации, дети сами проявляют желание творить. Важным моментом является то, что творческие работы привлекают внимание всех детей, здесь они открываются с положительной сторон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6676920" y="40464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АКТУАЛЬНОСТЬ И ПЕРСПЕКТИВНОСТЬ ОПЫТА 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«В душе каждого ребенка есть невидимые струны. Если тронуть их умелой рукой, они красиво зазвучат»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В.А. Сухомлински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ЧТО ТАКОЕ ТВОРЧЕСКИЕ СПОСОБНОСТИ?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94920" y="2276280"/>
            <a:ext cx="828036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Творческие способност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 это индивидуальные психологические особенности ребенка, которые не зависят от умственных способностей и проявляются в детской фантазии, воображении, особом видении мира, своей точке зрения на окружающую действи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91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АКТУАЛЬНОСТЬ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звитие творческих способностей -  важнейшая задача начального образования, ведь этот процесс пронизывает все этапы развития личности ребенка, пробуждает инициативу и самостоятельность принимаемых решений,  привычку к свободному самовыражению, уверенность в себ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Если посмотреть на современное состояние образования в России, то можно увидеть, что оно характеризуется качественными изменениями в области содержания, которое направлено на развитие творческих способностей личности ребенка. Актуальность и перспективность работы в данном направлении определяется тем, в какой мере учебно-воспитательный процесс обеспечивает развитие творческих способностей каждого ученика, формирует творческую личность, готовит его к творческой познавательной и общественной деятельност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КОНЦЕПТУАЛЬНОСТЬ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000" y="1773360"/>
            <a:ext cx="828036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воеобразие моего опыта заключается в определении  учащегося главной действующей фигурой учебно – воспитательного процесса, реализации  проблем творческого развития личности, разработке  педагогических технологий, целью которых не является накопление знаний и умений, а постоянное обогащение творческим опытом и формированием  механизма самоорганизации каждого ученик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0240" y="115920"/>
            <a:ext cx="80024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СПОСОБНОСТИ ЧЕЛОВЕКА МОЖНО ПРЕДСТАВИТЬ В ВИДЕ ДЕРЕВА:</a:t>
            </a:r>
            <a:endParaRPr b="0" lang="en-US" sz="3000" spc="-1" strike="noStrike">
              <a:solidFill>
                <a:srgbClr val="303030"/>
              </a:solidFill>
              <a:latin typeface="Century Schoolbook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3929040" cy="481500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3"/>
          <p:cNvSpPr/>
          <p:nvPr/>
        </p:nvSpPr>
        <p:spPr>
          <a:xfrm>
            <a:off x="4716360" y="1773360"/>
            <a:ext cx="395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орни —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родные задатки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вол —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бщие способности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етви —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пециальные способности, в том числе и творчес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5"/>
          <p:cNvSpPr/>
          <p:nvPr/>
        </p:nvSpPr>
        <p:spPr>
          <a:xfrm>
            <a:off x="468360" y="5950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Чем больше ветвей, тем дерево мощней, пышней и ветвистее его кро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03030"/>
                </a:solidFill>
                <a:latin typeface="Century Schoolbook"/>
              </a:rPr>
              <a:t>  </a:t>
            </a:r>
            <a:r>
              <a:rPr b="0" lang="ru-RU" sz="2700" spc="-1" strike="noStrike">
                <a:solidFill>
                  <a:srgbClr val="303030"/>
                </a:solidFill>
                <a:latin typeface="Century Schoolbook"/>
              </a:rPr>
              <a:t>УСЛОВИЯ ЭФФЕКТИВНОГО РАЗВИТИЯ ТВОРЧЕСКИХ СПОСОБНОСТЕЙ МЛАДШИХ ШКОЛЬНИКОВ.</a:t>
            </a:r>
            <a:endParaRPr b="0" lang="en-US" sz="27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50920" y="1844640"/>
            <a:ext cx="785016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здаются ситуации выбора, процесс обучения включает задания, которые выполняются с учетом воображе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рганизуется сотворчество в детском коллективе с целого проявления  и развития творческих способностей каждог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уются технологии развития творческого мыш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94920" y="259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уроках мы пишем и сочинения-сказки о частях речи и небольшие рассказы с использованием фразеологических оборотов и крылатых выражений, например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08000" y="2060640"/>
            <a:ext cx="4181400" cy="30574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882960" cy="28810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3"/>
          <p:cNvSpPr/>
          <p:nvPr/>
        </p:nvSpPr>
        <p:spPr>
          <a:xfrm>
            <a:off x="5608800" y="514368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«уши развеси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4"/>
          <p:cNvSpPr/>
          <p:nvPr/>
        </p:nvSpPr>
        <p:spPr>
          <a:xfrm>
            <a:off x="1299960" y="522936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«заруби себе на нос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6850"/>
                            </p:stCondLst>
                            <p:childTnLst>
                              <p:par>
                                <p:cTn id="1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8850"/>
                            </p:stCondLst>
                            <p:childTnLst>
                              <p:par>
                                <p:cTn id="1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303030"/>
                </a:solidFill>
                <a:latin typeface="Century Schoolbook"/>
              </a:rPr>
              <a:t>СПОСОБЫ  СТИМУЛИРОВАНИЯ ТВОРЧЕСКИХ СПОСОБНОСТЕЙ</a:t>
            </a:r>
            <a:endParaRPr b="0" lang="en-US" sz="2400" spc="-1" strike="noStrike">
              <a:solidFill>
                <a:srgbClr val="303030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075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еспечение благоприятной атмосфер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брожелательность со стороны учителя, его отказ от критики в адрес ребен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гащение окружающей среды ребенка самыми разнообразными новыми для него предметами и стимулами с целью развития его любознательност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ощрение высказывания оригинальных иде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еспечение возможностей для практик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ование личного примера творческого подхода  к решению пробле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дставление детям возможности активно задавать вопрос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03030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03:13:40Z</dcterms:created>
  <dc:creator>Admin</dc:creator>
  <dc:description/>
  <dc:language>en-US</dc:language>
  <cp:lastModifiedBy>LEGION</cp:lastModifiedBy>
  <dcterms:modified xsi:type="dcterms:W3CDTF">2015-01-27T13:38:05Z</dcterms:modified>
  <cp:revision>29</cp:revision>
  <dc:subject/>
  <dc:title>Развитие творческих способностей младших школьников</dc:title>
</cp:coreProperties>
</file>