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03030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5B7D1-FD30-4238-9F93-F61460FB1B5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витие творческих способностей младших школьник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л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чмасова С.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начальных клас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1F6C1-601B-452D-A1E7-5E9066F83F8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едущая педагогическая иде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дети способны – такова моя ведущая педагогическая идея. В связи с этим особое внимание уделяю созданию условий для развития творческого потенциала каждого ученика. Я считаю, что необходимо учитывать физиологические особенности ребенка, различный уровень обучаемости, готовности к участию в творческой деятельности. В связи с этим я сосредотачиваю внимание на подборе разноуровневых творческих заданий для каждого учен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C004B-9CEC-4C17-BBCC-A0D104E2618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ивность опы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вышение качества знаний учащихс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иобретение навыка самостоятельно организовывать свою учебную деятельност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активизация творческой и познавательной активности учащихс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формирование положительных личностных качеств учени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формирование осознанной потребности в ведении здорового образа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денный педагогический опыт считаю актуальным и результатив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120B5-6B7C-4BC8-836B-DA477E23F00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витие творческих способностей учащихся зависит от эффективности используемых учителем методов и приёмов и того, насколько творчески он подходит к данной пробле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различных видов и форм творческих заданий позволило достичь определенного уровня в развитии творческих способностей, который оказался посильным для каждого ученика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атическая работа по развитию творческих способностей дает следующие результаты: дети вырастают любознательными, активными, умеющими учиться, настоящими мечтателями и фантазерами, людьми, способными видеть чудо в привычных вещах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ственное творчество детей помогает прочнее усваивать и запоминать теоретические сведения. Легче решается проблема мотивации, дети сами проявляют желание творить. Важным моментом является то, что творческие работы привлекают внимание всех детей, здесь они открываются с положительной сторо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FFDA2-825F-432E-A0BD-A70A80FE926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Актуальность и перспективность опы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«В душе каждого ребенка есть невидимые струны. Если тронуть их умелой рукой, они красиво зазвучат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.А. Сухомлин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02CB2-52D6-4AAA-9C14-688983A24E4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творческие способност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Творческие способност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это индивидуальные психологические особенности ребенка, которые не зависят от умственных способностей и проявляются в детской фантазии, воображении, особом видении мира, своей точке зрения на окружающую действитель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0ACD3-E4F4-48A4-BC87-3F9A8EB82E1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у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творческих способностей -  важнейшая задача начального образования, ведь этот процесс пронизывает все этапы развития личности ребенка, пробуждает инициативу и самостоятельность принимаемых решений,  привычку к свободному самовыражению, уверенность в себ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посмотреть на современное состояние образования в России, то можно увидеть, что оно характеризуется качественными изменениями в области содержания, которое направлено на развитие творческих способностей личности ребенка. Актуальность и перспективность работы в данном направлении определяется тем, в какой мере учебно-воспитательный процесс обеспечивает развитие творческих способностей каждого ученика, формирует творческую личность, готовит его к творческой познавательной и обществен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09A46-B435-4908-B597-54104AD15F4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пту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еобразие моего опыта заключается в определении  учащегося главной действующей фигурой учебно – воспитательного процесса, реализации  проблем творческого развития личности, разработке  педагогических технологий, целью которых не является накопление знаний и умений, а постоянное обогащение творческим опытом и формированием  механизма самоорганизации каждого учен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042A4-7ACA-41A0-821E-E8A7824A6CA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ости человека можно представить в виде дере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85C68-FEDC-41F5-8C5B-30F4D16AA06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словия эффективного развития творческих способностей младших школьнико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ются ситуации выбора, процесс обучения включает задания, которые выполняются с учетом воображ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уется сотворчество в детском коллективе с целого проявления  и развития творческих способностей каждо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ются технологии развития творческого мыш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8293A-36B1-4ACF-8700-A658A23B9C9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уроках мы пишем и сочинения-сказки о частях речи и небольшие рассказы с использованием фразеологических оборотов и крылатых выражений, наприме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FFAC3-9EBB-4222-83DD-12D2E82D168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ы  стимулирования творческих способнос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благоприятной атмосфе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рожелательность со стороны учителя, его отказ от критики в адрес ребен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гащение окружающей среды ребенка самыми разнообразными новыми для него предметами и стимулами с целью развития его любозна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ощрение высказывания оригинальных ид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возможностей для практ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личного примера творческого подхода  к решению пробл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ение детям возможности активно задавать вопро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A71ED-D109-41CC-BB42-F754EC5E89A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A477-554F-4E6A-9E65-9671581EC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37BF-4B49-4335-A139-A20146E30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D4CD-9C19-4CFD-9CAC-5AB3AE3C7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B993-27AB-4C32-B570-37BB827C7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597C4-4A32-4411-94DE-8FF70C1E5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D4D7A-C696-4D25-BA61-CDCAFDA52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90A9E-818B-4246-848D-B4FD0F7D0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B8882-E0A1-413D-8843-7EC086832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8E853-DF44-4DEF-AFB2-2BD828167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3A473-9A36-4ADE-B637-09CC35EAF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3E300-4B26-461F-A44F-A1FAEDA7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F7BA-90C6-4550-8105-D9B36AF42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76731-28AF-492D-A907-75DBF526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D32C5-7EA1-443C-B8C5-658283E7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2319A-3EE2-4D2E-936E-5FDA0DD56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50998-03D1-488C-81E8-8EB8DAFAC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B3279-E0B8-4BD1-80D4-98391E14B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3AA1D8-39C9-4FE8-8C2D-253FB9A45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30CB02-D3C6-4256-975B-6643D017E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49216B-62F7-406C-9488-126934870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6F20CA-2F26-44FC-ABBB-AC191F7D2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432602-5909-4BFB-AD5A-5EBEAFD97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41AD-116E-4411-A1E7-30B0891D2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F065B6-C45F-40E1-B0BA-207F3D00C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4855DD-55E0-4D01-B56F-8E14F9A1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FA1C92-156C-4EB5-9D34-AE084B669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5C9246-46C8-42E1-82CF-3246750B3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FD6F1E-8A44-4328-996D-A6FE44D5B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8504E7-1711-4BDB-A91B-31E2E981C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2F2A7E-6E6E-475B-87A1-B2477C7D7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FFB8C-5FC3-4B92-A128-345630508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84722-2CA7-498E-89BC-64C61A8C5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B4ED3-8FAE-4A8C-836E-BA76412B6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CA2E-941A-4B05-B57C-1F4242C60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D5B2E-F62C-426E-ACDC-1C193BBE9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DC4C1-70E2-4157-A6AC-380DFA776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F68AB-1F04-4853-8196-A5A56FDEB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0864D-FAD9-46BC-B7B6-E4BDFA90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A42B3-1E37-435F-B910-74814F240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AE72E-B48C-4F32-B014-48E89CF1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38E0F-3952-429D-B8B7-A8D087699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40E4E-B3EB-419D-B387-55EEE7351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DA7B8-8D09-42A0-8F65-EA70C8C94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814194-8568-47AE-9C1B-BBC858890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D625-E3E1-4727-B2BC-901B1C56A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6AA281-CD67-4796-875A-0CE28515B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DECF3D-9A23-42CA-99A5-EDC2F5B4D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3EB38C-0B8F-486B-A962-9A6F94E64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CAB80B-6043-4A70-AE6B-6BA088DBA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49146C-702F-4326-909C-FAB816EB7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D647F5-6ADE-4A53-BD91-A82884B4D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65560A-D7EA-4925-9AD4-1AB818EB5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03FE50-BF79-42E3-B2E0-225D9FC4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C95A8D-6D36-452B-9E65-A3377CDAB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0D84FC-92F4-49F1-96B3-0653D1B0E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2CE4-FDB5-45C6-8530-A90501BAD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8D0176-C403-4598-B3A3-283604C9C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EE792E-CFD6-4516-A388-36C9BC56D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69842B-40F4-4FF2-B2D7-7A7CF19E8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17B9BF-4A8E-4C32-A048-4406E2266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138EEB-9D57-47AD-BF23-526F71955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7C2392-2200-4637-A769-53F46DBE4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ED4F5A-A938-4DFE-9B87-0835E235F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59CA08-DDE1-49FF-94A4-EDAAC9B92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5F9D46-E42E-4C51-99E9-4D6C26284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51148F-25A4-43A1-AD6B-1A82DE437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8A74-2DD0-494A-B18C-A458C2A1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52BE4B-331A-4DE9-80C4-2D9D77117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51CAE4-A43F-4D84-845E-4C5EE164E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0C4EF2-BE2D-46A0-A27F-0A99A87ED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95CF68-7EC1-4367-AD26-EAF4B4FB3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FBD9FF-6E2E-4641-9A90-FEC8BA95C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26DCE9-0CC0-40E9-AD13-8BCA06364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96F7AD-AE14-4121-B891-223695A9B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8E54E6-3682-43AA-B7A9-D92538129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6976AB-2848-4EA8-8EF8-929CA06DC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D1A006-D0E1-4D9A-9C93-8DADABA4A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434D-2C77-47BE-9754-5C319E0F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4B9A37-1CF1-40D4-9149-3325CC98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24DB3F-42EA-40AF-BEBF-34DC6458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262556-E86A-4F83-9ACA-0AAEB9889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7CC0D8-0BF4-4A19-993C-F3B10A175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C2D951-76D6-4E6F-BF56-E9D3E72A3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5659-BCF3-4837-B472-FECB52D59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3aa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0303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ad01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980101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3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cb6b4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303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03F6B-3A11-48BD-B041-D832E8D327F9}" type="datetime">
              <a:rPr b="0" lang="ru-RU" sz="1200" spc="-1" strike="noStrike">
                <a:solidFill>
                  <a:srgbClr val="303030"/>
                </a:solidFill>
                <a:latin typeface="Century School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03030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3aa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9DFE9-AFF8-48F5-A0FB-9F4281E52D8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d3aaaa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e3cbcb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e3cbc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1e7e7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d3aaaa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1e7e7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d3aaaa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d3aaaa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0303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ad01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980101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3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cb6b4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303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8F9B8-DBC0-492A-86A9-B37654B3B619}" type="datetime">
              <a:rPr b="0" lang="ru-RU" sz="1200" spc="-1" strike="noStrike">
                <a:solidFill>
                  <a:srgbClr val="303030"/>
                </a:solidFill>
                <a:latin typeface="Century School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03030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AA1DF-D203-4B2F-8B3C-1CCBD56E39C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3aa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3aa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0303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ad01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980101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3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cb6b4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303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56E4B-8887-488E-B9A0-9C4D92540DC8}" type="datetime">
              <a:rPr b="0" lang="ru-RU" sz="1200" spc="-1" strike="noStrike">
                <a:solidFill>
                  <a:srgbClr val="303030"/>
                </a:solidFill>
                <a:latin typeface="Century School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E211B-FC35-4450-B411-1C230B218ED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03030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d3aaaa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e3cbcb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e3cbc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1e7e7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d3aaaa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1e7e7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d3aaaa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d3aaaa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edee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edee0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ad01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980101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3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cb6b4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edee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FEBDB-D869-4BEE-96B7-6CAB692EFAD4}" type="datetime">
              <a:rPr b="0" lang="ru-RU" sz="1200" spc="-1" strike="noStrike">
                <a:solidFill>
                  <a:srgbClr val="dedee0"/>
                </a:solidFill>
                <a:latin typeface="Century Schoolbook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edee0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edee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554A0-AD3D-415A-8272-456DCE3C137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3aa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3aa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0303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ad01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980101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3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cb6b4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303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CDA14-EA8D-4C2F-896E-94D9C71BAD4E}" type="datetime">
              <a:rPr b="0" lang="ru-RU" sz="1200" spc="-1" strike="noStrike">
                <a:solidFill>
                  <a:srgbClr val="303030"/>
                </a:solidFill>
                <a:latin typeface="Century School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4A7AB-659D-4F02-9FD0-36FA54EEF0D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03030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3aa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3aa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0303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ad01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980101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3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cb6b4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303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DE1B8-0884-41B6-A22E-BF7695E6C5FC}" type="datetime">
              <a:rPr b="0" lang="ru-RU" sz="1200" spc="-1" strike="noStrike">
                <a:solidFill>
                  <a:srgbClr val="303030"/>
                </a:solidFill>
                <a:latin typeface="Century School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7F5AF-7063-4D61-94AF-21C146D6B33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03030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3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0303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ad01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980101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3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cb6b4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303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66F41-1596-484A-BF92-83C4C66F5F8C}" type="datetime">
              <a:rPr b="0" lang="ru-RU" sz="1200" spc="-1" strike="noStrike">
                <a:solidFill>
                  <a:srgbClr val="303030"/>
                </a:solidFill>
                <a:latin typeface="Century School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80734-E6D4-43C1-81A2-B80D24286D7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03030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834920" y="1700280"/>
            <a:ext cx="67690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03030"/>
                </a:solidFill>
                <a:latin typeface="Century Schoolbook"/>
              </a:rPr>
              <a:t>РАЗВИТИЕ ТВОРЧЕСКИХ СПОСОБНОСТЕЙ МЛАДШИХ ШКОЛЬНИКОВ</a:t>
            </a:r>
            <a:endParaRPr b="0" lang="en-US" sz="4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5143320" y="5157720"/>
            <a:ext cx="381924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03030"/>
                </a:solidFill>
                <a:latin typeface="Century Schoolbook"/>
              </a:rPr>
              <a:t>Выполнила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03030"/>
                </a:solidFill>
                <a:latin typeface="Century Schoolbook"/>
              </a:rPr>
              <a:t>Кучмасова С.А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03030"/>
                </a:solidFill>
                <a:latin typeface="Century Schoolbook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Прямоугольник 3"/>
          <p:cNvSpPr/>
          <p:nvPr/>
        </p:nvSpPr>
        <p:spPr>
          <a:xfrm>
            <a:off x="2556000" y="3333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МБОУ ЕСОШ №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Місце для нижнього колонтитула 4"/>
          <p:cNvSpPr/>
          <p:nvPr/>
        </p:nvSpPr>
        <p:spPr>
          <a:xfrm rot="5400000">
            <a:off x="707652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303030"/>
                </a:solidFill>
                <a:uFillTx/>
                <a:latin typeface="Century Schoolbook"/>
              </a:rPr>
              <a:t>ВЕДУЩАЯ ПЕДАГОГИЧЕСКАЯ ИДЕЯ</a:t>
            </a:r>
            <a:br>
              <a:rPr sz="3000"/>
            </a:b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се дети способны – такова моя ведущая педагогическая идея. В связи с этим особое внимание уделяю созданию условий для развития творческого потенциала каждого ученика. Я считаю, что необходимо учитывать физиологические особенности ребенка, различный уровень обучаемости, готовности к участию в творческой деятельности. В связи с этим я сосредотачиваю внимание на подборе разноуровневых творческих заданий для каждого ученик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Місце для нижнього колонтитула 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03030"/>
                </a:solidFill>
                <a:latin typeface="Century Schoolbook"/>
              </a:rPr>
              <a:t>РЕЗУЛЬТАТИВНОСТЬ ОПЫТА:</a:t>
            </a: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повышение качества знаний учащихся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приобретение навыка самостоятельно организовывать свою учебную деятельность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активизация творческой и познавательной активности учащихся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формирование положительных личностных качеств ученика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формирование осознанной потребности в ведении здорового образа жизн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оведенный педагогический опыт считаю актуальным и результативны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Місце для нижнього колонтитула 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754760" cy="76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03030"/>
                </a:solidFill>
                <a:latin typeface="Century Schoolbook"/>
              </a:rPr>
              <a:t>ЗАКЛЮЧЕНИЕ</a:t>
            </a: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178920" y="1196640"/>
            <a:ext cx="67690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Развитие творческих способностей учащихся зависит от эффективности используемых учителем методов и приёмов и того, насколько творчески он подходит к данной проблеме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Использование различных видов и форм творческих заданий позволило достичь определенного уровня в развитии творческих способностей, который оказался посильным для каждого ученика.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Систематическая работа по развитию творческих способностей дает следующие результаты: дети вырастают любознательными, активными, умеющими учиться, настоящими мечтателями и фантазерами, людьми, способными видеть чудо в привычных вещах.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обственное творчество детей помогает прочнее усваивать и запоминать теоретические сведения. Легче решается проблема мотивации, дети сами проявляют желание творить. Важным моментом является то, что творческие работы привлекают внимание всех детей, здесь они открываются с положительной стороны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9" name="Picture 2" descr=""/>
          <p:cNvPicPr/>
          <p:nvPr/>
        </p:nvPicPr>
        <p:blipFill>
          <a:blip r:embed="rId1"/>
          <a:stretch/>
        </p:blipFill>
        <p:spPr>
          <a:xfrm>
            <a:off x="6676920" y="40464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400" name="Місце для нижнього колонтитула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8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3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entury Schoolbook"/>
              </a:rPr>
              <a:t>АКТУАЛЬНОСТЬ И ПЕРСПЕКТИВНОСТЬ ОПЫТА </a:t>
            </a: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1" i="1" lang="ru-RU" sz="4000" spc="-1" strike="noStrike">
                <a:solidFill>
                  <a:srgbClr val="000000"/>
                </a:solidFill>
                <a:latin typeface="Century Schoolbook"/>
              </a:rPr>
              <a:t>«В душе каждого ребенка есть невидимые струны. Если тронуть их умелой рукой, они красиво зазвучат».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Schoolbook"/>
              </a:rPr>
              <a:t>В.А. Сухомлинский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Місце для нижнього колонтитула 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03030"/>
                </a:solidFill>
                <a:latin typeface="Century Schoolbook"/>
              </a:rPr>
              <a:t>ЧТО ТАКОЕ ТВОРЧЕСКИЕ СПОСОБНОСТИ?</a:t>
            </a: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94920" y="2276280"/>
            <a:ext cx="828036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Творческие способности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- это индивидуальные психологические особенности ребенка, которые не зависят от умственных способностей и проявляются в детской фантазии, воображении, особом видении мира, своей точке зрения на окружающую действительность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Місце для нижнього колонтитула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7991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03030"/>
                </a:solidFill>
                <a:latin typeface="Century Schoolbook"/>
              </a:rPr>
              <a:t>АКТУАЛЬНОСТЬ</a:t>
            </a: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600200"/>
            <a:ext cx="807552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Развитие творческих способностей -  важнейшая задача начального образования, ведь этот процесс пронизывает все этапы развития личности ребенка, пробуждает инициативу и самостоятельность принимаемых решений,  привычку к свободному самовыражению, уверенность в себе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Если посмотреть на современное состояние образования в России, то можно увидеть, что оно характеризуется качественными изменениями в области содержания, которое направлено на развитие творческих способностей личности ребенка. Актуальность и перспективность работы в данном направлении определяется тем, в какой мере учебно-воспитательный процесс обеспечивает развитие творческих способностей каждого ученика, формирует творческую личность, готовит его к творческой познавательной и общественной деятельности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0" name="Місце для нижнього колонтитула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03030"/>
                </a:solidFill>
                <a:latin typeface="Century Schoolbook"/>
              </a:rPr>
              <a:t>КОНЦЕПТУАЛЬНОСТЬ</a:t>
            </a: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68000" y="1773360"/>
            <a:ext cx="8280360" cy="47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Своеобразие моего опыта заключается в определении  учащегося главной действующей фигурой учебно – воспитательного процесса, реализации  проблем творческого развития личности, разработке  педагогических технологий, целью которых не является накопление знаний и умений, а постоянное обогащение творческим опытом и формированием  механизма самоорганизации каждого ученика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Місце для нижнього колонтитула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90240" y="115920"/>
            <a:ext cx="800244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03030"/>
                </a:solidFill>
                <a:latin typeface="Century Schoolbook"/>
              </a:rPr>
              <a:t>СПОСОБНОСТИ ЧЕЛОВЕКА МОЖНО ПРЕДСТАВИТЬ В ВИДЕ ДЕРЕВА:</a:t>
            </a: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pic>
        <p:nvPicPr>
          <p:cNvPr id="375" name="Picture 2" descr=""/>
          <p:cNvPicPr/>
          <p:nvPr/>
        </p:nvPicPr>
        <p:blipFill>
          <a:blip r:embed="rId1"/>
          <a:stretch/>
        </p:blipFill>
        <p:spPr>
          <a:xfrm>
            <a:off x="785880" y="1500120"/>
            <a:ext cx="3929040" cy="4815000"/>
          </a:xfrm>
          <a:prstGeom prst="rect">
            <a:avLst/>
          </a:prstGeom>
          <a:ln w="0">
            <a:noFill/>
          </a:ln>
        </p:spPr>
      </p:pic>
      <p:sp>
        <p:nvSpPr>
          <p:cNvPr id="376" name="Прямоугольник 3"/>
          <p:cNvSpPr/>
          <p:nvPr/>
        </p:nvSpPr>
        <p:spPr>
          <a:xfrm>
            <a:off x="4716360" y="1773360"/>
            <a:ext cx="3959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•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корни —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риродные задатки челове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•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ствол —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общие способности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•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ветви —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специальные способности, в том числе и творческ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Прямоугольник 5"/>
          <p:cNvSpPr/>
          <p:nvPr/>
        </p:nvSpPr>
        <p:spPr>
          <a:xfrm>
            <a:off x="468360" y="59500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Чем больше ветвей, тем дерево мощней, пышней и ветвистее его крон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Місце для нижнього колонтитула 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9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03030"/>
                </a:solidFill>
                <a:latin typeface="Century Schoolbook"/>
              </a:rPr>
              <a:t>  </a:t>
            </a:r>
            <a:r>
              <a:rPr b="0" lang="ru-RU" sz="2700" spc="-1" strike="noStrike">
                <a:solidFill>
                  <a:srgbClr val="303030"/>
                </a:solidFill>
                <a:latin typeface="Century Schoolbook"/>
              </a:rPr>
              <a:t>УСЛОВИЯ ЭФФЕКТИВНОГО РАЗВИТИЯ ТВОРЧЕСКИХ СПОСОБНОСТЕЙ МЛАДШИХ ШКОЛЬНИКОВ.</a:t>
            </a:r>
            <a:endParaRPr b="0" lang="en-US" sz="27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250920" y="1844640"/>
            <a:ext cx="7850160" cy="35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оздаются ситуации выбора, процесс обучения включает задания, которые выполняются с учетом воображения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рганизуется сотворчество в детском коллективе с целого проявления  и развития творческих способностей каждого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спользуются технологии развития творческого мышле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Місце для нижнього колонтитула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9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394920" y="259920"/>
            <a:ext cx="8280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 уроках мы пишем и сочинения-сказки о частях речи и небольшие рассказы с использованием фразеологических оборотов и крылатых выражений, например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3" name="Picture 2" descr=""/>
          <p:cNvPicPr/>
          <p:nvPr/>
        </p:nvPicPr>
        <p:blipFill>
          <a:blip r:embed="rId1"/>
          <a:stretch/>
        </p:blipFill>
        <p:spPr>
          <a:xfrm>
            <a:off x="108000" y="2060640"/>
            <a:ext cx="4181400" cy="30574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3" descr=""/>
          <p:cNvPicPr/>
          <p:nvPr/>
        </p:nvPicPr>
        <p:blipFill>
          <a:blip r:embed="rId2"/>
          <a:stretch/>
        </p:blipFill>
        <p:spPr>
          <a:xfrm>
            <a:off x="4859280" y="2060640"/>
            <a:ext cx="3882960" cy="2881080"/>
          </a:xfrm>
          <a:prstGeom prst="rect">
            <a:avLst/>
          </a:prstGeom>
          <a:ln w="0">
            <a:noFill/>
          </a:ln>
        </p:spPr>
      </p:pic>
      <p:sp>
        <p:nvSpPr>
          <p:cNvPr id="385" name="Прямоугольник 3"/>
          <p:cNvSpPr/>
          <p:nvPr/>
        </p:nvSpPr>
        <p:spPr>
          <a:xfrm>
            <a:off x="5608800" y="5143680"/>
            <a:ext cx="21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 Schoolbook"/>
              </a:rPr>
              <a:t>«уши развесит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Прямоугольник 4"/>
          <p:cNvSpPr/>
          <p:nvPr/>
        </p:nvSpPr>
        <p:spPr>
          <a:xfrm>
            <a:off x="1299960" y="5229360"/>
            <a:ext cx="26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 Schoolbook"/>
              </a:rPr>
              <a:t>«заруби себе на нос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6850"/>
                            </p:stCondLst>
                            <p:childTnLst>
                              <p:par>
                                <p:cTn id="13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2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5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8850"/>
                            </p:stCondLst>
                            <p:childTnLst>
                              <p:par>
                                <p:cTn id="13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9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2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303030"/>
                </a:solidFill>
                <a:latin typeface="Century Schoolbook"/>
              </a:rPr>
              <a:t>СПОСОБЫ  СТИМУЛИРОВАНИЯ ТВОРЧЕСКИХ СПОСОБНОСТЕЙ</a:t>
            </a:r>
            <a:endParaRPr b="0" lang="en-US" sz="24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599840"/>
            <a:ext cx="80755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беспечение благоприятной атмосферы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оброжелательность со стороны учителя, его отказ от критики в адрес ребенка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богащение окружающей среды ребенка самыми разнообразными новыми для него предметами и стимулами с целью развития его любознательности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ощрение высказывания оригинальных идей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беспечение возможностей для практики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спользование личного примера творческого подхода  к решению проблем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едставление детям возможности активно задавать вопрос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Місце для нижнього колонтитула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9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4T03:13:40Z</dcterms:created>
  <dc:creator>Admin</dc:creator>
  <dc:description/>
  <dc:language>en-US</dc:language>
  <cp:lastModifiedBy>LEGION</cp:lastModifiedBy>
  <dcterms:modified xsi:type="dcterms:W3CDTF">2015-01-27T13:38:05Z</dcterms:modified>
  <cp:revision>29</cp:revision>
  <dc:subject/>
  <dc:title>Развитие творческих способностей младших школьников</dc:title>
</cp:coreProperties>
</file>