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94CF-7CF6-48E9-ACEF-F39B2CDB6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атрализованная деятельность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им образом, театр помогает ребенку развиваться всесторон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EFF0-2FD6-45D7-BCF0-590F0AB22C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артистических способностей детей через театра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ABEC-D857-4ADA-8DA3-9D4D05377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6106-55F1-463B-8F75-FBE874BD04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начение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формировать правильную модель поведения в современном мир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сить общую культуру ребенка, приобщать к духовным ценнос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элементарные представления о видах теа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вает навыки публичного выступления и творческого содруж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DDC1-8BA0-4713-BC8C-4DFC6DFE8D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AEB-A022-4338-9B1A-4FA2592C2F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922B-4933-4C00-811D-CBA037073E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76092"/>
                </a:solidFill>
                <a:latin typeface="Calibri"/>
              </a:rPr>
              <a:t>     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040E-F7D9-411A-9A22-DF9294CAC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ь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тмопл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ценировка песен, попевок, хоров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еа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аматизация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теа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EB42-65A9-4D78-9158-EA21D90A46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театра в детском са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ба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оль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на фланелеграф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нижка-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пяти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ма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ручных т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ьчиковый теневой театр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«живых» тене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гнитный теат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рионеточ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518-1BB6-4147-AF30-3F42A4A4B8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B06-59D9-4018-A5E7-B0B723BD5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:развитие творческой активности дошкольник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программа Н.Ф.Сорокиной и Л.Г.Миланович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атр – творчество – дет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хем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C7E-61BF-4EE4-9541-90AC981602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A31-D04A-4B2D-B5E7-2A85BEFD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7D7-894B-42F4-B3A7-6298FAA9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571-82A7-4010-BFF4-799D02FE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1B5-DB8F-4946-BBDD-2CD672DF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B605-7DBE-42FF-A283-0CB6674A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AB92-2CA5-43F4-8928-2D5ABB7B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AE41-761C-4822-8187-B3A9A8FD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A5E6-7A35-4587-A2AF-20DAB8DF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1145-B762-409A-A6F1-0FCDA48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1670-B5AF-425B-B756-9D2D652C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40D7-B60F-478C-BA92-4AEA81C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32A-0D77-4FA2-B362-B3BDF58B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8ADE-07C5-413C-93A8-DBDCE668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5F88-0C8A-48F3-8D92-8D2C3A5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88A1-8B39-4ACB-9670-0C8139F8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36A-1A7B-4952-B369-9ECDFE79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16D2-4D76-437A-A337-DD8C10EF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1E8-DFA6-47E5-863B-0F4F1613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39F-FA12-471A-8F3B-E452FE27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CDE-4E8F-4BC1-BE7B-5E0E21E3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39A-DD2E-4EB8-BAED-9261C831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62E-61BD-4AB3-AE18-F77FF05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CE2-D02F-4194-AAC9-224EADB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A61-CA93-4842-9506-09FF11E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D129-697A-4CE0-BED2-7E7CF00D76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226-872E-43F1-8445-992BFE3744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12" name="_s1028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9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0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2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6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7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9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1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4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LEGION</cp:lastModifiedBy>
  <dcterms:modified xsi:type="dcterms:W3CDTF">2015-01-27T13:3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