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C274-7E23-4595-8818-8D7915C64A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3E57-33CF-4B6D-AB35-6BE23C6B1C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ая деятельность-уч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психотехнические игры,пси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а,микро-трени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педагогов и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4FBB-C869-43BF-B7E0-1B69968B46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м экпертных оценок определение ст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 педагога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ликация и импликация успешных стратегий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поведения в нестандартных ситу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личностн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агрессивными,  гиперактивными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педагогов получению обратной связи и проведению рефлек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диагностика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AFB7-8A1A-4158-9AA5-BC12A1BA0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консультирование при при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в шко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консультации по вопросам воспитания и развит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просов родителей к психологу, проверка их на обосн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ночная дипломатия при возникновении ко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и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 консуль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35ED-7018-4727-B22A-4F669E7A9A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A2C-5DAC-4B12-9630-8CBA789A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207-628D-4F6F-846F-9F65A71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A00-F27E-4322-BE11-CE564B2A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9BD-991B-4A41-9744-8AF9FBC5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17DB-19D5-41BB-A419-403C28C6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DEC2-DA9C-4CEB-8101-081606FA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7A8E-73F6-4ABD-A151-B34FE993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11A0-C1EE-4978-A8FC-87D85507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8B99-0209-488E-B421-4903D39F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5BFC-C0AE-4710-AA37-4B017F1D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E93B-AA69-41F9-9AAD-58F195A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F19-B639-491E-871E-FB34A22D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B015-39F5-47D8-A2ED-C57031E9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27F8-48D0-4DE8-9736-047E0B95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DC29-7020-464C-87F3-BF3BFD37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6A21-9891-422E-9675-556653D3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00EC-6F6E-4D20-B4CD-355BAB81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A79-312D-470C-8663-32704939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F6B-FE95-4F1C-9F4E-457A9DA9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E65-CAFD-4559-8344-5C322C50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3DB-71A3-4761-9A23-70E05770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397-6E7D-492A-9E4A-CDD10FB3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E5A-4342-4C35-A116-0E6E2CF6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75C-BBAE-4FF3-BE1F-B9BD028F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4D65-EA9F-419D-9C22-45045CF26E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58A-BCAC-439C-B58A-413787005F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68360" y="3141720"/>
            <a:ext cx="5381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образования №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ЮНЕС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561960" y="260280"/>
            <a:ext cx="17287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94320" y="260280"/>
            <a:ext cx="17560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638520" y="26028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38520" y="75096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21000" y="4557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 flipV="1">
            <a:off x="5176800" y="455760"/>
            <a:ext cx="89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421000" y="554040"/>
            <a:ext cx="115236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H="1">
            <a:off x="5113440" y="554040"/>
            <a:ext cx="10252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2870280" y="1338120"/>
            <a:ext cx="301140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 – психолого -логопедиче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61960" y="1239840"/>
            <a:ext cx="1409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метод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458040" y="1239840"/>
            <a:ext cx="19238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ерск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2099880" y="1533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5945040" y="1533600"/>
            <a:ext cx="38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2100240" y="750960"/>
            <a:ext cx="1090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 flipV="1">
            <a:off x="5624640" y="750960"/>
            <a:ext cx="89856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33440" y="2023920"/>
            <a:ext cx="22431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 и средн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138720" y="2023920"/>
            <a:ext cx="23702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H="1">
            <a:off x="2421000" y="1730520"/>
            <a:ext cx="3189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5945040" y="1730520"/>
            <a:ext cx="3207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84360" y="2565360"/>
            <a:ext cx="16668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5148360" y="2637000"/>
            <a:ext cx="1595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419960" y="2611440"/>
            <a:ext cx="1216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95280" y="3200400"/>
            <a:ext cx="10080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908000" y="2997360"/>
            <a:ext cx="17766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940360" y="3200400"/>
            <a:ext cx="28256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523880" y="231768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945720" y="3003480"/>
            <a:ext cx="1285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2124000" y="2924280"/>
            <a:ext cx="200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586560" y="2317680"/>
            <a:ext cx="14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V="1">
            <a:off x="8061480" y="29052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020000" y="234936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2"/>
          <p:cNvSpPr/>
          <p:nvPr/>
        </p:nvSpPr>
        <p:spPr>
          <a:xfrm>
            <a:off x="3216240" y="5746680"/>
            <a:ext cx="23655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3"/>
          <p:cNvSpPr/>
          <p:nvPr/>
        </p:nvSpPr>
        <p:spPr>
          <a:xfrm>
            <a:off x="3216240" y="6041880"/>
            <a:ext cx="2371680" cy="2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4"/>
          <p:cNvSpPr/>
          <p:nvPr/>
        </p:nvSpPr>
        <p:spPr>
          <a:xfrm>
            <a:off x="900000" y="3500280"/>
            <a:ext cx="2592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5"/>
          <p:cNvSpPr/>
          <p:nvPr/>
        </p:nvSpPr>
        <p:spPr>
          <a:xfrm flipH="1">
            <a:off x="4788000" y="3500280"/>
            <a:ext cx="172872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9"/>
          <p:cNvSpPr/>
          <p:nvPr/>
        </p:nvSpPr>
        <p:spPr>
          <a:xfrm>
            <a:off x="2700360" y="3500280"/>
            <a:ext cx="1800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0" descr="IMG_0834"/>
          <p:cNvPicPr/>
          <p:nvPr/>
        </p:nvPicPr>
        <p:blipFill>
          <a:blip r:embed="rId1"/>
          <a:stretch/>
        </p:blipFill>
        <p:spPr>
          <a:xfrm>
            <a:off x="644364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3" descr="DSC01961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1974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468360" y="115920"/>
          <a:ext cx="9144000" cy="79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920"/>
                    <a:ext cx="9144000" cy="79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етей начальной школ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деятельность-уч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:психотехнические игры,псих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,микро-трен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ирование педагогов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дагог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м экпертных оценок определение сти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я педагог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ликация и импликация успешных стратегий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 в не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личностн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агрессивными,  гиперактив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едагогов получению обратной связи и проведению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агностика 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 родите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при при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по вопросам воспитания и развит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запросов родителей к психологу, проверка их на 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ночная дипломатия при возникновении ко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ное  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31:45Z</dcterms:created>
  <dc:creator>Марина</dc:creator>
  <dc:description/>
  <dc:language>en-US</dc:language>
  <cp:lastModifiedBy>LEGION</cp:lastModifiedBy>
  <dcterms:modified xsi:type="dcterms:W3CDTF">2015-01-27T13:39:56Z</dcterms:modified>
  <cp:revision>42</cp:revision>
  <dc:subject/>
  <dc:title>Презентация психологической службы</dc:title>
</cp:coreProperties>
</file>