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4BA9-6C55-425C-865A-4259A85E49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71A2-D8C5-46BE-ADED-51849612C5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ей начально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ая деятельность-уч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психотехнические игры,пси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настика,микро-трени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педагогов и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гностический минимум по исследованию «школьного конвей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B3CF-16CB-4427-A8D0-FDC2E7885A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м экпертных оценок определение ст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 педагога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ликация и импликация успешных стратегий педаг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поведения в нестандартных ситу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личностного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агрессивными,  гиперактивными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ение педагогов получению обратной связи и проведению рефлек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диагностика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8E7C-E139-43F8-B669-A1BD2B9B76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сопровождени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консультирование при прие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в шко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взаимодействия с дет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нги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ые консультации по вопросам воспитания и развит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просов родителей к психологу, проверка их на обосн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ночная дипломатия при возникновении ко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и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ое  консуль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2F25-A6D0-44E3-889F-05E131F6D2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90C-8F81-43C8-BE0C-56EFCB39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A6B-64D7-4344-A243-BD88D1AA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939-B057-4779-ADA0-2632C0A1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56AF-5602-46BA-BEFF-4318C243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9F15-47E7-459D-8182-218A331A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71FB-FF88-4621-91A1-5436FC24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DE0F-FBF4-4F5E-A99A-1CC3FA25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51CA-C305-4E06-A5BA-7151D45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FD89-9551-4BD0-8F8B-A8A73DA1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AAA7-8E7D-4195-BEFB-E06F47D2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46CE-77D8-49F7-8B8B-A136EAA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42B-A73E-4D43-AFF6-186BAE92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9D2-49F4-49A1-A93C-37484EF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CF05-094A-4630-8670-043E3080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FE6E-3F76-483E-A806-8208C1A1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2D0D-ECDE-4AFD-BB94-D64732EC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321-7174-4619-9C14-000D5F4F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335-C969-4648-8B52-176021C1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718-CE30-4596-8556-9945C8E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0F1-4A0B-4A58-B77C-F0BC760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A442-E941-467F-A705-D8A95D83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742-BD3A-45A3-8124-B4C6260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80A-B27C-4B44-84E8-5869DF21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7C6-7C1A-42CF-A7DF-88C23404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CDA0-E083-4251-A129-AA6D6240D1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56E9-5680-41E6-8432-6A2CF3D6B3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e4005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одель психологической службы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68360" y="3141720"/>
            <a:ext cx="53816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тр образования №1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циирован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ЮНЕС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561960" y="260280"/>
            <a:ext cx="17287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394320" y="260280"/>
            <a:ext cx="17560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ультировани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638520" y="26028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638520" y="750960"/>
            <a:ext cx="14097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2421000" y="4557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 flipV="1">
            <a:off x="5176800" y="455760"/>
            <a:ext cx="898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2421000" y="554040"/>
            <a:ext cx="115236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H="1">
            <a:off x="5113440" y="554040"/>
            <a:ext cx="10252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2870280" y="1338120"/>
            <a:ext cx="3011400" cy="8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 – психолого -логопедическая сл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561960" y="1239840"/>
            <a:ext cx="140976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метод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458040" y="1239840"/>
            <a:ext cx="19238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ерская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"/>
          <p:cNvSpPr/>
          <p:nvPr/>
        </p:nvSpPr>
        <p:spPr>
          <a:xfrm flipH="1">
            <a:off x="2099880" y="153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5945040" y="1533600"/>
            <a:ext cx="38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 flipH="1" flipV="1">
            <a:off x="2100240" y="750960"/>
            <a:ext cx="1090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 flipV="1">
            <a:off x="5624640" y="750960"/>
            <a:ext cx="89856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33440" y="2023920"/>
            <a:ext cx="224316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 и средн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138720" y="2023920"/>
            <a:ext cx="23702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кла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 flipH="1">
            <a:off x="2421000" y="1730520"/>
            <a:ext cx="3189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5945040" y="1730520"/>
            <a:ext cx="32076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684360" y="2565360"/>
            <a:ext cx="16668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5148360" y="2637000"/>
            <a:ext cx="1595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ий миним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7419960" y="2611440"/>
            <a:ext cx="121608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395280" y="3200400"/>
            <a:ext cx="100800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1908000" y="2997360"/>
            <a:ext cx="1776600" cy="29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5940360" y="3200400"/>
            <a:ext cx="2825640" cy="29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ори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1"/>
          <p:cNvSpPr/>
          <p:nvPr/>
        </p:nvSpPr>
        <p:spPr>
          <a:xfrm>
            <a:off x="1523880" y="23176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2"/>
          <p:cNvSpPr/>
          <p:nvPr/>
        </p:nvSpPr>
        <p:spPr>
          <a:xfrm flipH="1">
            <a:off x="945720" y="3003480"/>
            <a:ext cx="128520" cy="9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3"/>
          <p:cNvSpPr/>
          <p:nvPr/>
        </p:nvSpPr>
        <p:spPr>
          <a:xfrm>
            <a:off x="2124000" y="2924280"/>
            <a:ext cx="200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4"/>
          <p:cNvSpPr/>
          <p:nvPr/>
        </p:nvSpPr>
        <p:spPr>
          <a:xfrm>
            <a:off x="6586560" y="2317680"/>
            <a:ext cx="14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5"/>
          <p:cNvSpPr/>
          <p:nvPr/>
        </p:nvSpPr>
        <p:spPr>
          <a:xfrm flipV="1">
            <a:off x="8061480" y="29052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6"/>
          <p:cNvSpPr/>
          <p:nvPr/>
        </p:nvSpPr>
        <p:spPr>
          <a:xfrm>
            <a:off x="7020000" y="2349360"/>
            <a:ext cx="73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2"/>
          <p:cNvSpPr/>
          <p:nvPr/>
        </p:nvSpPr>
        <p:spPr>
          <a:xfrm>
            <a:off x="3216240" y="5746680"/>
            <a:ext cx="236556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3"/>
          <p:cNvSpPr/>
          <p:nvPr/>
        </p:nvSpPr>
        <p:spPr>
          <a:xfrm>
            <a:off x="3216240" y="6041880"/>
            <a:ext cx="2371680" cy="26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4"/>
          <p:cNvSpPr/>
          <p:nvPr/>
        </p:nvSpPr>
        <p:spPr>
          <a:xfrm>
            <a:off x="900000" y="3500280"/>
            <a:ext cx="2592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5"/>
          <p:cNvSpPr/>
          <p:nvPr/>
        </p:nvSpPr>
        <p:spPr>
          <a:xfrm flipH="1">
            <a:off x="4788000" y="3500280"/>
            <a:ext cx="172872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9"/>
          <p:cNvSpPr/>
          <p:nvPr/>
        </p:nvSpPr>
        <p:spPr>
          <a:xfrm>
            <a:off x="2700360" y="3500280"/>
            <a:ext cx="180036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50" descr="IMG_0834"/>
          <p:cNvPicPr/>
          <p:nvPr/>
        </p:nvPicPr>
        <p:blipFill>
          <a:blip r:embed="rId1"/>
          <a:stretch/>
        </p:blipFill>
        <p:spPr>
          <a:xfrm>
            <a:off x="6443640" y="4724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3" descr="DSC01961"/>
          <p:cNvPicPr/>
          <p:nvPr/>
        </p:nvPicPr>
        <p:blipFill>
          <a:blip r:embed="rId2"/>
          <a:stretch/>
        </p:blipFill>
        <p:spPr>
          <a:xfrm>
            <a:off x="3348000" y="3357720"/>
            <a:ext cx="2879640" cy="1974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468360" y="115920"/>
          <a:ext cx="9144000" cy="79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920"/>
                    <a:ext cx="9144000" cy="79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етей начальной школ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деятельность-уче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 развивающая деятельность с учетом репрезентативных систем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:психотехнические игры,псих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мнастика,микро-тренин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ирование педагогов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ностический минимум по исследованию «школьного конвей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</a:t>
            </a:r>
            <a:br>
              <a:rPr sz="3600"/>
            </a:b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едагогов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м экпертных оценок определение сти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одействия педагога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ликация и импликация успешных стратегий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рование поведения в нестандартных ситуа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личностн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агрессивными,  гиперактивными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коммуник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педагогов получению обратной связи и проведению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диагностика 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ратегия сопровождения родителе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при при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бенка в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взаимодействия с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нинги об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упповые консультации по вопросам воспитания и развития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запросов родителей к психологу, проверка их на обосн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ночная дипломатия при возникновении кон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ное  консуль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31:45Z</dcterms:created>
  <dc:creator>Марина</dc:creator>
  <dc:description/>
  <dc:language>en-US</dc:language>
  <cp:lastModifiedBy>LEGION</cp:lastModifiedBy>
  <dcterms:modified xsi:type="dcterms:W3CDTF">2015-01-27T13:39:56Z</dcterms:modified>
  <cp:revision>42</cp:revision>
  <dc:subject/>
  <dc:title>Презентация психологической службы</dc:title>
</cp:coreProperties>
</file>