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3879-05C5-4AA3-8507-7893487ACAC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одель психологической служ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F795-564A-451A-BFF1-1030541A5C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сопровож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ей начально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ая деятельность-учеб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ческий минимум по исследованию «школьного конвей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 и групповая развивающая деятельность с учетом репрезентативных систем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:психотехнические игры,псих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мнастика,микро-тренин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ирование педагогов и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ческий минимум по исследованию «школьного конвей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9D2A-B404-44D0-9295-E5D3C65CF7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сопровож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м экпертных оценок определение ст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действия педагога с дет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ликация и импликация успешных стратегий педаг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 поведения в нестандартных ситуац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личностного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взаимодействия с агрессивными,  гиперактивными дет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коммуник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ение педагогов получению обратной связи и проведению рефлек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диагностика С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30B3-CBA2-4A5F-A421-8027838A45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сопровождени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консультирование при при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ка в шко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взаимодействия с дет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ые консультации по вопросам воспитания и развития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запросов родителей к психологу, проверка их на обоснова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ночная дипломатия при возникновении кон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и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 консуль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CACF-0B04-4D48-8184-B42AF79883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0294-E0AB-4A0E-B414-D025E29F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5F02-43FA-49CF-A55A-DBD6AEAC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27C0-C003-4C80-9459-A529FE52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E8BE-0CA7-4EE3-A713-25488F07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7B0B-2795-4593-963C-288B42E0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D75D-9675-4567-8BD0-9E384554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F81C-EB09-4AF8-A61A-B816EFE4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D465-B903-427C-8BE8-FAD01A19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4CBE-FCD3-45F1-BF64-0882C1E7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DBC9-951F-4804-8078-3F98EBC3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7558-C42F-4CDD-92AA-A1EC4D65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6FA9-F342-429D-8AE6-519AACF1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D0B9-5A73-44CC-9128-7FAF8F5C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2756-D7CE-4827-9DD7-6CB69440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6006-2739-4187-80F6-BC1C4B7C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19BF-7254-4358-AD53-E35A1726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9D87-8332-4F25-B890-3DDCDF2C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7B5F-460B-4793-B967-5E511B62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78F2-D740-465F-B5DF-84C7E09E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41F-1568-4DCB-B37E-6CD1C091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85A4-E7D0-4464-8BC7-2385C11F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FBB3-D2A3-464E-BDAB-FA7FDECD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5F88-70F8-4555-AA76-0BB68176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2AD7-A0CB-40A0-A021-B73ACB6D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B26C-75F2-49F2-9B6A-2AB62D676B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9501-6281-4680-BA7A-AACD4D999B3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e4005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одель психологической службы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268360" y="3141720"/>
            <a:ext cx="53816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тр образования №14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социирова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ЮНЕС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561960" y="260280"/>
            <a:ext cx="172872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ирование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394320" y="260280"/>
            <a:ext cx="175608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ирование педаг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638520" y="260280"/>
            <a:ext cx="14097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638520" y="750960"/>
            <a:ext cx="14097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2421000" y="4557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 flipH="1" flipV="1">
            <a:off x="5176800" y="455760"/>
            <a:ext cx="898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2421000" y="554040"/>
            <a:ext cx="115236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 flipH="1">
            <a:off x="5113440" y="554040"/>
            <a:ext cx="102528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2870280" y="1338120"/>
            <a:ext cx="3011400" cy="8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ко – психолого -логопедическая сл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561960" y="1239840"/>
            <a:ext cx="1409760" cy="4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метод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458040" y="1239840"/>
            <a:ext cx="192384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етчерская рабо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 flipH="1">
            <a:off x="2099880" y="153360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5945040" y="1533600"/>
            <a:ext cx="385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 flipH="1" flipV="1">
            <a:off x="2100240" y="750960"/>
            <a:ext cx="109080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0"/>
          <p:cNvSpPr/>
          <p:nvPr/>
        </p:nvSpPr>
        <p:spPr>
          <a:xfrm flipV="1">
            <a:off x="5624640" y="750960"/>
            <a:ext cx="89856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433440" y="2023920"/>
            <a:ext cx="22431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ые и средние кла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6138720" y="2023920"/>
            <a:ext cx="237024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ие кла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3"/>
          <p:cNvSpPr/>
          <p:nvPr/>
        </p:nvSpPr>
        <p:spPr>
          <a:xfrm flipH="1">
            <a:off x="2421000" y="1730520"/>
            <a:ext cx="3189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4"/>
          <p:cNvSpPr/>
          <p:nvPr/>
        </p:nvSpPr>
        <p:spPr>
          <a:xfrm>
            <a:off x="5945040" y="1730520"/>
            <a:ext cx="3207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684360" y="2565360"/>
            <a:ext cx="16668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ий миниму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5148360" y="2637000"/>
            <a:ext cx="1595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ий миниму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7419960" y="2611440"/>
            <a:ext cx="121608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395280" y="3200400"/>
            <a:ext cx="10080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1908000" y="2997360"/>
            <a:ext cx="1776600" cy="29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вающ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0"/>
          <p:cNvSpPr/>
          <p:nvPr/>
        </p:nvSpPr>
        <p:spPr>
          <a:xfrm>
            <a:off x="5940360" y="3200400"/>
            <a:ext cx="282564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ори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1"/>
          <p:cNvSpPr/>
          <p:nvPr/>
        </p:nvSpPr>
        <p:spPr>
          <a:xfrm>
            <a:off x="1523880" y="2317680"/>
            <a:ext cx="180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2"/>
          <p:cNvSpPr/>
          <p:nvPr/>
        </p:nvSpPr>
        <p:spPr>
          <a:xfrm flipH="1">
            <a:off x="945720" y="3003480"/>
            <a:ext cx="128520" cy="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3"/>
          <p:cNvSpPr/>
          <p:nvPr/>
        </p:nvSpPr>
        <p:spPr>
          <a:xfrm>
            <a:off x="2124000" y="2924280"/>
            <a:ext cx="20016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4"/>
          <p:cNvSpPr/>
          <p:nvPr/>
        </p:nvSpPr>
        <p:spPr>
          <a:xfrm>
            <a:off x="6586560" y="2317680"/>
            <a:ext cx="144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5"/>
          <p:cNvSpPr/>
          <p:nvPr/>
        </p:nvSpPr>
        <p:spPr>
          <a:xfrm flipV="1">
            <a:off x="8061480" y="29052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6"/>
          <p:cNvSpPr/>
          <p:nvPr/>
        </p:nvSpPr>
        <p:spPr>
          <a:xfrm>
            <a:off x="7020000" y="2349360"/>
            <a:ext cx="73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2"/>
          <p:cNvSpPr/>
          <p:nvPr/>
        </p:nvSpPr>
        <p:spPr>
          <a:xfrm>
            <a:off x="3216240" y="5746680"/>
            <a:ext cx="236556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3"/>
          <p:cNvSpPr/>
          <p:nvPr/>
        </p:nvSpPr>
        <p:spPr>
          <a:xfrm>
            <a:off x="3216240" y="6041880"/>
            <a:ext cx="2371680" cy="26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4"/>
          <p:cNvSpPr/>
          <p:nvPr/>
        </p:nvSpPr>
        <p:spPr>
          <a:xfrm>
            <a:off x="900000" y="3500280"/>
            <a:ext cx="259236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5"/>
          <p:cNvSpPr/>
          <p:nvPr/>
        </p:nvSpPr>
        <p:spPr>
          <a:xfrm flipH="1">
            <a:off x="4788000" y="3500280"/>
            <a:ext cx="172872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49"/>
          <p:cNvSpPr/>
          <p:nvPr/>
        </p:nvSpPr>
        <p:spPr>
          <a:xfrm>
            <a:off x="2700360" y="3500280"/>
            <a:ext cx="180036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50" descr="IMG_0834"/>
          <p:cNvPicPr/>
          <p:nvPr/>
        </p:nvPicPr>
        <p:blipFill>
          <a:blip r:embed="rId1"/>
          <a:stretch/>
        </p:blipFill>
        <p:spPr>
          <a:xfrm>
            <a:off x="6443640" y="4724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3" descr="DSC01961"/>
          <p:cNvPicPr/>
          <p:nvPr/>
        </p:nvPicPr>
        <p:blipFill>
          <a:blip r:embed="rId2"/>
          <a:stretch/>
        </p:blipFill>
        <p:spPr>
          <a:xfrm>
            <a:off x="3348000" y="3357720"/>
            <a:ext cx="2879640" cy="1974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2"/>
          <p:cNvGraphicFramePr/>
          <p:nvPr/>
        </p:nvGraphicFramePr>
        <p:xfrm>
          <a:off x="468360" y="115920"/>
          <a:ext cx="9144000" cy="792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5920"/>
                    <a:ext cx="9144000" cy="79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ратегия сопровождения</a:t>
            </a:r>
            <a:br>
              <a:rPr sz="3600"/>
            </a:b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детей начальной школ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щая деятельность-учеб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ческий минимум по исследованию «школьного конвейе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ая и групповая развивающая деятельность с учетом репрезентативных систем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:психотехнические игры,псих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мнастика,микро-тренин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льтирование педагогов и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ческий минимум по исследованию «школьного конвейе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ратегия сопровождения</a:t>
            </a:r>
            <a:br>
              <a:rPr sz="3600"/>
            </a:b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дагог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ом экпертных оценок определение сти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я педагога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ликация и импликация успешных стратегий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ирование поведения в нестандартных ситуа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личностного 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взаимодействия с агрессивными,  гиперактивными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коммуник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педагогов получению обратной связи и проведению рефлек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диагностика С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ратегия сопровождения родителе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ое консультирование при при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ка в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взаимодействия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об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овые консультации по вопросам воспитания и развития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запросов родителей к психологу, проверка их на обоснова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ночная дипломатия при возникновении кон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и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йное  консуль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31:45Z</dcterms:created>
  <dc:creator>Марина</dc:creator>
  <dc:description/>
  <dc:language>en-US</dc:language>
  <cp:lastModifiedBy>LEGION</cp:lastModifiedBy>
  <dcterms:modified xsi:type="dcterms:W3CDTF">2015-01-27T13:39:56Z</dcterms:modified>
  <cp:revision>42</cp:revision>
  <dc:subject/>
  <dc:title>Презентация психологической службы</dc:title>
</cp:coreProperties>
</file>