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24BB-EFE0-40BE-B753-190279B5F6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одель психологической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907F-6B06-4D50-8E1A-D85C018040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й начально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ая деятельность-уч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ческий минимум по исследованию «школьного конвей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 развивающая деятельность с учетом репрезентативных систем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психотехнические игры,псих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а,микро-трени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педагогов и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ческий минимум по исследованию «школьного конвей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051F-1D11-4F00-AA7A-CD62DA6AC5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м экпертных оценок определение ст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я педагога с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ликация и импликация успешных стратегий педаг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поведения в нестандартных ситу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личностн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взаимодействия с агрессивными,  гиперактивными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педагогов получению обратной связи и проведению рефлек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диагностика С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A782-E2A1-44A0-9DE0-A2E6E61257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консультирование при при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 в шко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взаимодействия с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ые консультации по вопросам воспитания и развития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запросов родителей к психологу, проверка их на обосн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ночная дипломатия при возникновении кон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и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 консуль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5A08-D9C8-4601-984B-B1FC4CB31C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395-AFA8-4FEB-8642-E5A37460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605-15E5-4BC8-981B-22DB29BD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170-4371-4E54-8289-6E5255E3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5C2-41A0-4138-AB55-6600B773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1DF0-FE10-47E4-8166-9D07DB54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03E2-6112-4B1D-AFF3-2FB00520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9AC3-E215-4483-BF68-8D67657C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2276-BC5B-40E5-9762-9BB74586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079D-8259-4C97-BEA9-6C09B0F6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9C66-4D88-4A9C-B4CC-E9961252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FC08-771F-45D8-A402-5CF3AD12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5EE-2AFB-43BD-8193-A527F635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EC5E-6837-42A2-9C7A-5BA30FE2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6977-703C-4C38-9934-D22A0F92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8A89-29CD-4ACC-9DA3-5AEA509B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6B8B-7A76-4F03-B25C-09168BCD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C1C7-BC37-407D-9398-4C17C3A4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8FF-714B-4502-B8E4-5196981F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D3A-C579-4743-9A45-CD033841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9B0-02D7-4A54-BFDE-0C7975C0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CFA-C38C-4804-96E5-4F947A15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802-1FF4-480C-A15A-D40E0C38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041-AA1D-4DCA-BDFA-5252E9F8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0F6-CBD8-468D-9FF0-D4669AC3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8710-F68F-4AEE-AF56-54ED236332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9859-BBFA-44EA-9D54-FB9B605114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e4005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одель психологической службы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68360" y="3141720"/>
            <a:ext cx="53816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 образования №1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ирова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ЮНЕС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561960" y="260280"/>
            <a:ext cx="17287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394320" y="260280"/>
            <a:ext cx="17560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638520" y="260280"/>
            <a:ext cx="14097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638520" y="750960"/>
            <a:ext cx="14097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2421000" y="4557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H="1" flipV="1">
            <a:off x="5176800" y="455760"/>
            <a:ext cx="89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2421000" y="554040"/>
            <a:ext cx="115236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 flipH="1">
            <a:off x="5113440" y="554040"/>
            <a:ext cx="102528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2870280" y="1338120"/>
            <a:ext cx="3011400" cy="8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ко – психолого -логопедическ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61960" y="1239840"/>
            <a:ext cx="14097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метод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458040" y="1239840"/>
            <a:ext cx="192384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ерская рабо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H="1">
            <a:off x="2099880" y="153360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5945040" y="1533600"/>
            <a:ext cx="38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 flipH="1" flipV="1">
            <a:off x="2100240" y="750960"/>
            <a:ext cx="109080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 flipV="1">
            <a:off x="5624640" y="750960"/>
            <a:ext cx="89856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433440" y="2023920"/>
            <a:ext cx="22431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ые и средние кл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138720" y="2023920"/>
            <a:ext cx="23702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ие кл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 flipH="1">
            <a:off x="2421000" y="1730520"/>
            <a:ext cx="3189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5945040" y="1730520"/>
            <a:ext cx="3207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684360" y="2565360"/>
            <a:ext cx="16668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ий миним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5148360" y="2637000"/>
            <a:ext cx="1595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ий миним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7419960" y="2611440"/>
            <a:ext cx="12160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95280" y="3200400"/>
            <a:ext cx="10080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1908000" y="2997360"/>
            <a:ext cx="177660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5940360" y="3200400"/>
            <a:ext cx="28256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ори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1523880" y="2317680"/>
            <a:ext cx="18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 flipH="1">
            <a:off x="945720" y="3003480"/>
            <a:ext cx="12852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>
            <a:off x="2124000" y="2924280"/>
            <a:ext cx="2001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6586560" y="2317680"/>
            <a:ext cx="144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5"/>
          <p:cNvSpPr/>
          <p:nvPr/>
        </p:nvSpPr>
        <p:spPr>
          <a:xfrm flipV="1">
            <a:off x="8061480" y="29052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7020000" y="2349360"/>
            <a:ext cx="73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2"/>
          <p:cNvSpPr/>
          <p:nvPr/>
        </p:nvSpPr>
        <p:spPr>
          <a:xfrm>
            <a:off x="3216240" y="5746680"/>
            <a:ext cx="23655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3"/>
          <p:cNvSpPr/>
          <p:nvPr/>
        </p:nvSpPr>
        <p:spPr>
          <a:xfrm>
            <a:off x="3216240" y="6041880"/>
            <a:ext cx="2371680" cy="26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4"/>
          <p:cNvSpPr/>
          <p:nvPr/>
        </p:nvSpPr>
        <p:spPr>
          <a:xfrm>
            <a:off x="900000" y="3500280"/>
            <a:ext cx="259236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5"/>
          <p:cNvSpPr/>
          <p:nvPr/>
        </p:nvSpPr>
        <p:spPr>
          <a:xfrm flipH="1">
            <a:off x="4788000" y="3500280"/>
            <a:ext cx="172872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9"/>
          <p:cNvSpPr/>
          <p:nvPr/>
        </p:nvSpPr>
        <p:spPr>
          <a:xfrm>
            <a:off x="2700360" y="3500280"/>
            <a:ext cx="180036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0" descr="IMG_0834"/>
          <p:cNvPicPr/>
          <p:nvPr/>
        </p:nvPicPr>
        <p:blipFill>
          <a:blip r:embed="rId1"/>
          <a:stretch/>
        </p:blipFill>
        <p:spPr>
          <a:xfrm>
            <a:off x="6443640" y="4724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3" descr="DSC01961"/>
          <p:cNvPicPr/>
          <p:nvPr/>
        </p:nvPicPr>
        <p:blipFill>
          <a:blip r:embed="rId2"/>
          <a:stretch/>
        </p:blipFill>
        <p:spPr>
          <a:xfrm>
            <a:off x="3348000" y="3357720"/>
            <a:ext cx="2879640" cy="1974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2"/>
          <p:cNvGraphicFramePr/>
          <p:nvPr/>
        </p:nvGraphicFramePr>
        <p:xfrm>
          <a:off x="468360" y="115920"/>
          <a:ext cx="9144000" cy="792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920"/>
                    <a:ext cx="9144000" cy="79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етей начальной школ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щая деятельность-уче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й минимум по исследованию «школьного конвей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 развивающая деятельность с учетом репрезентативных систем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:психотехнические игры,псих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,микро-тренин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ирование педагогов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й минимум по исследованию «школьного конвей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дагог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ом экпертных оценок определение сти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я педагога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ликация и импликация успешных стратегий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рование поведения в нестандартных ситу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личностн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взаимодействия с агрессивными,  гиперактивными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педагогов получению обратной связи и проведению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диагностика 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 родителе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е консультирование при при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ка в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взаимодействия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овые консультации по вопросам воспитания и развития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запросов родителей к психологу, проверка их на обосн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ночная дипломатия при возникновении кон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и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йное  консуль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31:45Z</dcterms:created>
  <dc:creator>Марина</dc:creator>
  <dc:description/>
  <dc:language>en-US</dc:language>
  <cp:lastModifiedBy>LEGION</cp:lastModifiedBy>
  <dcterms:modified xsi:type="dcterms:W3CDTF">2015-01-27T13:39:56Z</dcterms:modified>
  <cp:revision>42</cp:revision>
  <dc:subject/>
  <dc:title>Презентация психологической службы</dc:title>
</cp:coreProperties>
</file>