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61B8-7F64-4736-AF8A-680BCFAD2A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ЩАТЬСЯ С ПОДРОСТ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DD45-C49F-427F-A31A-EE36A91F00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ИЕ ПОДРОС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ОЧУЕТ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ТРЕБУЕТ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ОГУЛИВАЕТ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ХАМИТ ВЗРОСЛ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УГРОЖАЕТ СУИЦИ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92D7-67AF-4176-9079-83826CC823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ИЧНЫЕ ОШИБК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АЖАЙТЕ РЕБЁНКА ПОД ДОМАШНИЙ АР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БЕЙТЕ И НЕ КРИЧ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ЗАПРЕШАЙТЕ ИГРАТЬ В КОМПЬЮ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9E77-4F82-493D-9732-D42326ED41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ШЕБНЫЕ ФРАЗ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ЙТЕ ПРЕДЛОЖЕНИЯ С МЕСТОИМЕНИЯ «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ВМЕСТО «ТЫ ДОЛЖЕН» ГОВОРИТЕ:  «МНЕ БЫ ХОТЕЛОС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ЕРЕД КРИТИКОЙ ПОХВА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41DD-2429-428B-A649-8B776F5CE2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Т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икасайтесь к подростку как можно чаще - берите за руку, обнимайте, гладьте по гол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Ребёнок будет чувствовать себя любимым и станет меньше бунт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5CA6-1B63-46F0-A9B9-B616CFBA63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БЕРИТЕСЬ ТЕРП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ИЗУЧИТЕ, КАК ВЕСТИ СЕБЯ В СЛОЖНЫХ СИТУА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ТЕРЯЙТЕ КОНТАКТА С БУНТАРЁ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E2AA-3936-40DE-AE9A-8BFBA2899A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ХОВ ВАМ В ОБЩЕНИИ С ПОДРОСТК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A2C2-4A9F-4384-BDE3-1D03746385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70F-C6A7-4713-9F0F-7AB77F06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EF5-3A35-4EF4-A92D-A361A6CE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6DC-ACD8-4ACB-B6B3-624673A5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192-EA6A-4F7B-AFAD-C14BAB00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ECE-F5A1-410D-A0DA-673F46D1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71F-97E5-439D-879D-C5A5286C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5C8-67ED-4F69-80A1-2E000E04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101-AD77-4BD6-93DE-F39A7042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A0D-CED7-4BEB-BFF0-6C14E1B8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82F-C433-4373-9B98-48502EB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972-927E-472F-A9A5-BEFF7CC8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2DB-EC69-408A-952B-1EF02BDE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8052-EADC-4214-85DD-C04EA45A41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79966779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КАК ОБЩАТЬСЯ 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ПОДРОСТК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799667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73360"/>
            <a:ext cx="199548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ВЕДЕНИЕ ПОДРОС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НОЧУЕТ Д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ТРЕБУЕТ ДЕНЕ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ПРОГУЛИВАЕТ ШКОЛ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ХАМИТ ВЗРОСЛ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УГРОЖАЕТ СУИЦИД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ТИПИЧНЫЕ ОШИБКИ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ДИТЕЛ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САЖАЙТЕ РЕБЁНКА ПОД ДОМАШНИЙ АР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БЕЙТЕ И НЕ КРИЧ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ЗАПРЕШАЙТЕ ИГРАТЬ В КОМПЬЮ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ЛШЕБНЫЕ ФРАЗЫ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ЛЯ РОДИТЕЛ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ЧИНАЙТЕ ПРЕДЛОЖЕНИЯ С МЕСТОИМЕНИЯ «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ВМЕСТО «ТЫ ДОЛЖЕН» ГОВОРИТЕ:  «МНЕ БЫ ХОТЕЛОС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ЕРЕД КРИТИКОЙ ПОХВАЛИТ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51470012"/>
          <p:cNvPicPr/>
          <p:nvPr/>
        </p:nvPicPr>
        <p:blipFill>
          <a:blip r:embed="rId1"/>
          <a:stretch/>
        </p:blipFill>
        <p:spPr>
          <a:xfrm flipH="1">
            <a:off x="6732360" y="5373720"/>
            <a:ext cx="194292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СТАТИ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рикасайтесь к подростку как можно чаще - берите за руку, обнимайте, гладьте по голов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Ребёнок будет чувствовать себя любимым и станет меньше бунто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ОВЕТ РОДИТЕЛЯ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БЕРИТЕСЬ ТЕРП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ИЗУЧИТЕ, КАК ВЕСТИ СЕБЯ В СЛОЖНЫХ СИТУ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ТЕРЯЙТЕ КОНТАКТА С БУНТАРЁ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61444841"/>
          <p:cNvPicPr/>
          <p:nvPr/>
        </p:nvPicPr>
        <p:blipFill>
          <a:blip r:embed="rId1"/>
          <a:stretch/>
        </p:blipFill>
        <p:spPr>
          <a:xfrm flipH="1">
            <a:off x="4298760" y="5045040"/>
            <a:ext cx="1352520" cy="12636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СПЕХОВ ВАМ В ОБЩЕНИИ С ПОДРОСТКАМИ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106"/>
          <p:cNvPicPr/>
          <p:nvPr/>
        </p:nvPicPr>
        <p:blipFill>
          <a:blip r:embed="rId1"/>
          <a:stretch/>
        </p:blipFill>
        <p:spPr>
          <a:xfrm>
            <a:off x="6861240" y="4842000"/>
            <a:ext cx="152568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51470012"/>
          <p:cNvPicPr/>
          <p:nvPr/>
        </p:nvPicPr>
        <p:blipFill>
          <a:blip r:embed="rId2"/>
          <a:stretch/>
        </p:blipFill>
        <p:spPr>
          <a:xfrm>
            <a:off x="1258920" y="3292560"/>
            <a:ext cx="3163680" cy="25779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9:58:24Z</dcterms:created>
  <dc:creator>Admin</dc:creator>
  <dc:description/>
  <dc:language>en-US</dc:language>
  <cp:lastModifiedBy>LEGION</cp:lastModifiedBy>
  <dcterms:modified xsi:type="dcterms:W3CDTF">2015-01-27T14:00:22Z</dcterms:modified>
  <cp:revision>6</cp:revision>
  <dc:subject/>
  <dc:title>КАК ОБЩАТЬСЯ С ПОДРОСТКОМ</dc:title>
</cp:coreProperties>
</file>