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5EFA-D6C2-4B20-A427-BFBBEA53B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ЩАТЬСЯ С ПОДРОСТ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CA87-FD06-49A5-B579-FCAEE6F25D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ИЕ ПОДРОС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ОЧУЕТ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ТРЕБУЕТ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ОГУЛИВАЕТ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ХАМИТ ВЗРОС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УГРОЖАЕТ СУИЦИ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96DF-096E-4DD9-AF11-E179830F4E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ИЧНЫЕ ОШИБ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АЖАЙТЕ РЕБЁНКА ПОД ДОМАШНИЙ АР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БЕЙТЕ И НЕ КРИЧ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ЗАПРЕШАЙТЕ ИГРАТЬ В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0D33-F627-4683-B1D8-BDB7B1BED5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ЫЕ ФРАЗ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ЙТЕ ПРЕДЛОЖЕНИЯ С МЕСТОИМЕНИЯ «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МЕСТО «ТЫ ДОЛЖЕН» ГОВОРИТЕ:  «МНЕ БЫ ХОТЕЛОС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ЕРЕД КРИТИКОЙ ПОХВА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7148-08A6-4170-AD59-16721804D3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икасайтесь к подростку как можно чаще - берите за руку, обнимайте, гладьте по гол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Ребёнок будет чувствовать себя любимым и станет меньше бунт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F47A-DDCA-415B-8C0D-64FBFE079D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ЕРИТЕСЬ ТЕРП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ИЗУЧИТЕ, КАК ВЕСТИ СЕБЯ В СЛОЖНЫХ СИТУА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ТЕРЯЙТЕ КОНТАКТА С БУНТАРЁ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C634-ED3D-4135-A458-C2861A9C41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ХОВ ВАМ В ОБЩЕНИИ С ПОДРОСТК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EC05-A343-4356-BFEF-A5525DCBEB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F26-64E2-4C1D-8ABC-7CB53227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77D-45F0-4F56-B2C9-34A00E53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BA5-359D-4958-9FBC-87961BAF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A2B-900E-4DB8-AA0E-C20F04D6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1AA-28A8-4272-B518-4DCA5907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F7B-1B1B-4048-95E9-8AAA680B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716-BA6B-4822-9B0B-FBAD9235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049-F484-41BC-8FC9-6F38663A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425-4DE7-4406-BDAD-EEC833DB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37F-69F8-4E6B-9FD5-026008AE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6F5-C24A-4447-8B79-6ECA1F7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E88-E272-4308-B435-91E68DAF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423F-63D6-47BD-81ED-A6F64A928C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79966779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79966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51470012"/>
          <p:cNvPicPr/>
          <p:nvPr/>
        </p:nvPicPr>
        <p:blipFill>
          <a:blip r:embed="rId1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1444841"/>
          <p:cNvPicPr/>
          <p:nvPr/>
        </p:nvPicPr>
        <p:blipFill>
          <a:blip r:embed="rId1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06"/>
          <p:cNvPicPr/>
          <p:nvPr/>
        </p:nvPicPr>
        <p:blipFill>
          <a:blip r:embed="rId1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1470012"/>
          <p:cNvPicPr/>
          <p:nvPr/>
        </p:nvPicPr>
        <p:blipFill>
          <a:blip r:embed="rId2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LEGION</cp:lastModifiedBy>
  <dcterms:modified xsi:type="dcterms:W3CDTF">2015-01-27T14:00:22Z</dcterms:modified>
  <cp:revision>6</cp:revision>
  <dc:subject/>
  <dc:title>КАК ОБЩАТЬСЯ С ПОДРОСТКОМ</dc:title>
</cp:coreProperties>
</file>