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36A0-58C8-4AC3-A433-2139DCFA8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ЩАТЬСЯ С ПОДРОСТ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C6D9-1368-4C81-98CA-C8B1733BC6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ЕДЕНИЕ ПОДРОС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ОЧУЕТ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ТРЕБУЕТ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ОГУЛИВАЕТ ШК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ХАМИТ ВЗРОСЛ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УГРОЖАЕТ СУИЦИ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9A17-5C47-48FF-9752-EF16015BCB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ПИЧНЫЕ ОШИБК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АЖАЙТЕ РЕБЁНКА ПОД ДОМАШНИЙ АР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БЕЙТЕ И НЕ КРИЧ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ЗАПРЕШАЙТЕ ИГРАТЬ В КОМПЬЮ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956F-37B7-4A40-AA6B-CD22E2147A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ЛШЕБНЫЕ ФРАЗ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ЙТЕ ПРЕДЛОЖЕНИЯ С МЕСТОИМЕНИЯ «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ВМЕСТО «ТЫ ДОЛЖЕН» ГОВОРИТЕ:  «МНЕ БЫ ХОТЕЛОС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ЕРЕД КРИТИКОЙ ПОХВАЛИТ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3B5B-AE86-4A03-B90C-CDFF957DEE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СТА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икасайтесь к подростку как можно чаще - берите за руку, обнимайте, гладьте по гол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Ребёнок будет чувствовать себя любимым и станет меньше бунто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275D-5631-4D78-902D-42323723C2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БЕРИТЕСЬ ТЕРП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ИЗУЧИТЕ, КАК ВЕСТИ СЕБЯ В СЛОЖНЫХ СИТУА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ТЕРЯЙТЕ КОНТАКТА С БУНТАРЁ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9FCB-B0CE-4AD3-822F-2630331E4A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ХОВ ВАМ В ОБЩЕНИИ С ПОДРОСТК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7BA0-1C1E-4A5F-A109-812B29E24A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A5D-D821-4EDC-9AA7-EFEDD691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9E8-0B43-49CF-A23E-4AA8C77B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ECB-9087-4B25-96A2-12C7C6A1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3CB-05B3-44C9-997C-BD930976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6EE-1110-43D9-9478-85A39077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F49-40F6-4AA0-ADC8-2A49D806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4FE-2B59-4E62-956C-A270DEF2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247-DF12-4EDC-A84A-2A920AA3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F78-4717-48A2-AF56-C5C97E07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3A6-353F-488C-AB7E-DBAE97F7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3A1-5E00-48F1-9C88-7EFBE8AC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316-14E9-4F26-865D-F3CBD03E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C932-EBA8-4EF0-AB3F-5E16411F83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79966779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КАК ОБЩАТЬСЯ С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ПОДРОСТКО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799667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573360"/>
            <a:ext cx="199548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ВЕДЕНИЕ ПОДРОСТ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77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Е НОЧУЕТ ДО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ТРЕБУЕТ ДЕНЕ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ПРОГУЛИВАЕТ ШКОЛ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ХАМИТ ВЗРОСЛЫ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УГРОЖАЕТ СУИЦИД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ТИПИЧНЫЕ ОШИБКИ</a:t>
            </a:r>
            <a:br>
              <a:rPr sz="4800"/>
            </a:b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РОДИТЕЛЕЙ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Е САЖАЙТЕ РЕБЁНКА ПОД ДОМАШНИЙ АРЕС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БЕЙТЕ И НЕ КРИЧ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ЗАПРЕШАЙТЕ ИГРАТЬ В КОМПЬЮ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ОЛШЕБНЫЕ ФРАЗЫ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ДЛЯ РОДИТЕЛ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008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ЧИНАЙТЕ ПРЕДЛОЖЕНИЯ С МЕСТОИМЕНИЯ «Я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ВМЕСТО «ТЫ ДОЛЖЕН» ГОВОРИТЕ:  «МНЕ БЫ ХОТЕЛОСЬ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ЕРЕД КРИТИКОЙ ПОХВАЛИТ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51470012"/>
          <p:cNvPicPr/>
          <p:nvPr/>
        </p:nvPicPr>
        <p:blipFill>
          <a:blip r:embed="rId1"/>
          <a:stretch/>
        </p:blipFill>
        <p:spPr>
          <a:xfrm flipH="1">
            <a:off x="6732360" y="5373720"/>
            <a:ext cx="194292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КСТАТИ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рикасайтесь к подростку как можно чаще - берите за руку, обнимайте, гладьте по голов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Ребёнок будет чувствовать себя любимым и станет меньше бунтов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СОВЕТ РОДИТЕЛЯ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БЕРИТЕСЬ ТЕРПЕНИ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ИЗУЧИТЕ, КАК ВЕСТИ СЕБЯ В СЛОЖНЫХ СИТУАЦИЯ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ТЕРЯЙТЕ КОНТАКТА С БУНТАРЁ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61444841"/>
          <p:cNvPicPr/>
          <p:nvPr/>
        </p:nvPicPr>
        <p:blipFill>
          <a:blip r:embed="rId1"/>
          <a:stretch/>
        </p:blipFill>
        <p:spPr>
          <a:xfrm flipH="1">
            <a:off x="4298760" y="5045040"/>
            <a:ext cx="1352520" cy="12636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41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СПАСИБО ЗА ВНИМАНИЕ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!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СПЕХОВ ВАМ В ОБЩЕНИИ С ПОДРОСТКАМИ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106"/>
          <p:cNvPicPr/>
          <p:nvPr/>
        </p:nvPicPr>
        <p:blipFill>
          <a:blip r:embed="rId1"/>
          <a:stretch/>
        </p:blipFill>
        <p:spPr>
          <a:xfrm>
            <a:off x="6861240" y="4842000"/>
            <a:ext cx="152568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51470012"/>
          <p:cNvPicPr/>
          <p:nvPr/>
        </p:nvPicPr>
        <p:blipFill>
          <a:blip r:embed="rId2"/>
          <a:stretch/>
        </p:blipFill>
        <p:spPr>
          <a:xfrm>
            <a:off x="1258920" y="3292560"/>
            <a:ext cx="3163680" cy="25779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09:58:24Z</dcterms:created>
  <dc:creator>Admin</dc:creator>
  <dc:description/>
  <dc:language>en-US</dc:language>
  <cp:lastModifiedBy>LEGION</cp:lastModifiedBy>
  <dcterms:modified xsi:type="dcterms:W3CDTF">2015-01-27T14:00:22Z</dcterms:modified>
  <cp:revision>6</cp:revision>
  <dc:subject/>
  <dc:title>КАК ОБЩАТЬСЯ С ПОДРОСТКОМ</dc:title>
</cp:coreProperties>
</file>