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4A391-2133-46FE-A2EA-D59369B87D2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БЩАТЬСЯ С ПОДРОСТ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2FDCC-39E2-4C5C-9F95-C54D5B859049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ОВЕДЕНИЕ ПОДРОСТ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НОЧУЕТ ДО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ТРЕБУЕТ ДЕНЕ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ПРОГУЛИВАЕТ ШКО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ХАМИТ ВЗРОСЛЫ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УГРОЖАЕТ СУИЦИД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903CE-6708-432B-9884-825412D928E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ИПИЧНЫЕ ОШИБК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РОДИТЕЛ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Е САЖАЙТЕ РЕБЁНКА ПОД ДОМАШНИЙ АРЕ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НЕ БЕЙТЕ И НЕ КРИЧИ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НЕ ЗАПРЕШАЙТЕ ИГРАТЬ В КОМПЬЮ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7324-BD69-4941-B24C-3506470526C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ОЛШЕБНЫЕ ФРАЗЫ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ЛЯ РОД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ЧИНАЙТЕ ПРЕДЛОЖЕНИЯ С МЕСТОИМЕНИЯ «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ВМЕСТО «ТЫ ДОЛЖЕН» ГОВОРИТЕ:  «МНЕ БЫ ХОТЕЛОСЬ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ПЕРЕД КРИТИКОЙ ПОХВАЛИТЕ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5E842-4104-43C0-A3B8-0DE72230C0D7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СТАТИ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Прикасайтесь к подростку как можно чаще - берите за руку, обнимайте, гладьте по голо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Ребёнок будет чувствовать себя любимым и станет меньше бунто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E594-68E7-4375-865F-F58EF4BED33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СОВЕТ РОДИТЕЛЯ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БЕРИТЕСЬ ТЕРП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ИЗУЧИТЕ, КАК ВЕСТИ СЕБЯ В СЛОЖНЫХ СИТУАЦИ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*НЕ ТЕРЯЙТЕ КОНТАКТА С БУНТАРЁМ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067F9-5F2F-450D-A3CC-C3ED8DCAF7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!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ПЕХОВ ВАМ В ОБЩЕНИИ С ПОДРОСТКАМИ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AEB9-E7B4-4683-9138-90D07059ECF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EC3B-7A18-48C3-B33D-7142FBED9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0142-15F9-437F-8215-C3C3EF52E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D6CC-EBD1-4C3F-9769-596A2FC76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29F9-75C3-4090-A52C-EA0AA3B95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66F2-E2C1-4C08-BD6F-40DFD6E9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2BB4-CDE7-4DC8-8960-30F316252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BE6F-92B9-4800-B2E1-E7D1755D9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0BF8-11CD-47D7-8E28-F1F7152E2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A2A02-3831-4893-8075-05F83CBDA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9028-978F-4BEA-8F35-9C41CD92E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7887-46C7-42BF-B44B-BDC0D7981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87A4-0860-4340-B066-D749EFEE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DD55-F787-45E7-859E-8BF41F60444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klub-drug.ru/wp-content/uploads/2011/04/79966779.gif" TargetMode="Externa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e5ffff"/>
                </a:solidFill>
                <a:latin typeface="Tahoma"/>
              </a:rPr>
              <a:t>КАК ОБЩАТЬСЯ С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</a:t>
            </a:r>
            <a:r>
              <a:rPr b="0" lang="ru-RU" sz="5400" spc="-1" strike="noStrike">
                <a:solidFill>
                  <a:srgbClr val="e5ffff"/>
                </a:solidFill>
                <a:latin typeface="Tahoma"/>
              </a:rPr>
              <a:t>ПОДРОСТКОМ</a:t>
            </a:r>
            <a:endParaRPr b="0" lang="en-US" sz="5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49" name="Picture 4" descr="7996677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76720" y="3573360"/>
            <a:ext cx="1995480" cy="216072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" dur="2000" fill="hold"/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ПОВЕДЕНИЕ ПОДРОСТКА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774072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НЕ НОЧУЕТ ДОМ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ТРЕБУЕТ ДЕНЕГ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ПРОГУЛИВАЕТ ШКОЛУ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ХАМИТ ВЗРОСЛЫ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*УГРОЖАЕТ СУИЦИДОМ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ТИПИЧНЫЕ ОШИБКИ</a:t>
            </a:r>
            <a:br>
              <a:rPr sz="4800"/>
            </a:b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РОДИТЕЛЕЙ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Е САЖАЙТЕ РЕБЁНКА ПОД ДОМАШНИЙ АРЕС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НЕ БЕЙТЕ И НЕ КРИЧИТ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НЕ ЗАПРЕШАЙТЕ ИГРАТЬ В КОМПЬЮТЕР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ВОЛШЕБНЫЕ ФРАЗЫ</a:t>
            </a:r>
            <a:br>
              <a:rPr sz="4400"/>
            </a:b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ДЛЯ РОДИТЕЛЕЙ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30088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НАЧИНАЙТЕ ПРЕДЛОЖЕНИЯ С МЕСТОИМЕНИЯ «Я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ВМЕСТО «ТЫ ДОЛЖЕН» ГОВОРИТЕ:  «МНЕ БЫ ХОТЕЛОСЬ»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ПЕРЕД КРИТИКОЙ ПОХВАЛИТЕ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9" name="Picture 4" descr="51470012"/>
          <p:cNvPicPr/>
          <p:nvPr/>
        </p:nvPicPr>
        <p:blipFill>
          <a:blip r:embed="rId1"/>
          <a:stretch/>
        </p:blipFill>
        <p:spPr>
          <a:xfrm flipH="1">
            <a:off x="6732360" y="5373720"/>
            <a:ext cx="1942920" cy="148428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КСТАТИ!</a:t>
            </a:r>
            <a:endParaRPr b="0" lang="en-US" sz="4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Прикасайтесь к подростку как можно чаще - берите за руку, обнимайте, гладьте по голове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*Ребёнок будет чувствовать себя любимым и станет меньше бунтовать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ffff"/>
                </a:solidFill>
                <a:latin typeface="Tahoma"/>
              </a:rPr>
              <a:t>СОВЕТ РОДИТЕЛЯМ</a:t>
            </a: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НАБЕРИТЕСЬ ТЕРПЕНИЯ,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ИЗУЧИТЕ, КАК ВЕСТИ СЕБЯ В СЛОЖНЫХ СИТУАЦИЯХ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*НЕ ТЕРЯЙТЕ КОНТАКТА С БУНТАРЁМ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6" name="Picture 4" descr="61444841"/>
          <p:cNvPicPr/>
          <p:nvPr/>
        </p:nvPicPr>
        <p:blipFill>
          <a:blip r:embed="rId1"/>
          <a:stretch/>
        </p:blipFill>
        <p:spPr>
          <a:xfrm flipH="1">
            <a:off x="4298760" y="5045040"/>
            <a:ext cx="1352520" cy="126360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ll dir="d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0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416720" cy="151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ffff"/>
                </a:solidFill>
                <a:latin typeface="Tahoma"/>
              </a:rPr>
              <a:t>СПАСИБО ЗА ВНИМАНИЕ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!</a:t>
            </a:r>
            <a:br>
              <a:rPr sz="4000"/>
            </a:b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УСПЕХОВ ВАМ В ОБЩЕНИИ С ПОДРОСТКАМИ!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9" name="Picture 4" descr="106"/>
          <p:cNvPicPr/>
          <p:nvPr/>
        </p:nvPicPr>
        <p:blipFill>
          <a:blip r:embed="rId1"/>
          <a:stretch/>
        </p:blipFill>
        <p:spPr>
          <a:xfrm>
            <a:off x="6861240" y="4842000"/>
            <a:ext cx="1525680" cy="11206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51470012"/>
          <p:cNvPicPr/>
          <p:nvPr/>
        </p:nvPicPr>
        <p:blipFill>
          <a:blip r:embed="rId2"/>
          <a:stretch/>
        </p:blipFill>
        <p:spPr>
          <a:xfrm>
            <a:off x="1258920" y="3292560"/>
            <a:ext cx="3163680" cy="25779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30T09:58:24Z</dcterms:created>
  <dc:creator>Admin</dc:creator>
  <dc:description/>
  <dc:language>en-US</dc:language>
  <cp:lastModifiedBy>LEGION</cp:lastModifiedBy>
  <dcterms:modified xsi:type="dcterms:W3CDTF">2015-01-27T14:00:22Z</dcterms:modified>
  <cp:revision>6</cp:revision>
  <dc:subject/>
  <dc:title>КАК ОБЩАТЬСЯ С ПОДРОСТКОМ</dc:title>
</cp:coreProperties>
</file>