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7AC2-9114-45CE-A195-066A8A6E82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ЩАТЬСЯ С ПОДРОСТ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D8A6-59AE-468F-A09B-EC3390614D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ИЕ ПОДРОС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ОЧУЕТ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ТРЕБУЕТ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ОГУЛИВАЕТ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ХАМИТ ВЗРОСЛ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УГРОЖАЕТ СУИЦИ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66A1-48A7-43EB-B112-F9241FDCD9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ИЧНЫЕ ОШИБК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АЖАЙТЕ РЕБЁНКА ПОД ДОМАШНИЙ АР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БЕЙТЕ И НЕ КРИЧ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ЗАПРЕШАЙТЕ ИГРАТЬ В КОМПЬЮ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7D16-61DD-40F5-8EEB-3E43056358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ШЕБНЫЕ ФРАЗ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ЙТЕ ПРЕДЛОЖЕНИЯ С МЕСТОИМЕНИЯ «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ВМЕСТО «ТЫ ДОЛЖЕН» ГОВОРИТЕ:  «МНЕ БЫ ХОТЕЛОС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ЕРЕД КРИТИКОЙ ПОХВА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6611-18AA-406D-9442-DCEF31F7B8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Т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икасайтесь к подростку как можно чаще - берите за руку, обнимайте, гладьте по гол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Ребёнок будет чувствовать себя любимым и станет меньше бунт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8634-7FE1-4127-AB15-BF622E3D6A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БЕРИТЕСЬ ТЕРП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ИЗУЧИТЕ, КАК ВЕСТИ СЕБЯ В СЛОЖНЫХ СИТУА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ТЕРЯЙТЕ КОНТАКТА С БУНТАРЁ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1D37-1F18-4BC5-ABC1-D1BFD2648F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ХОВ ВАМ В ОБЩЕНИИ С ПОДРОСТК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E534-8A4B-449D-8A6E-BDA73DBE45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396B-5633-4611-AFA3-F14FDF8A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F76-A7CF-46C1-AE12-035302AF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EC1-BBFE-4E1C-A7E6-0C51367A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C75-820D-4CF2-8576-AAEDBD7F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FCC-1ED6-4C70-B0DC-C4DF4F98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8A1-BC2F-46D0-AACD-CCE207D9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C91-829C-4932-8715-B056FC4D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664-7521-45CD-BECC-11140A9E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89D-0253-4FBC-8ED2-FC9F971F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8AF-6B69-4E2E-A83A-6EDBCC19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B18-8020-443A-BA22-5A6CD5E8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31A-A640-4B0C-B8EA-A5A18E98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4AAE-FFB4-47CB-9440-EA66E96E6B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79966779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КАК ОБЩАТЬСЯ 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ПОДРОСТК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799667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73360"/>
            <a:ext cx="199548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ВЕДЕНИЕ ПОДРОС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НОЧУЕТ Д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ТРЕБУЕТ ДЕНЕ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ПРОГУЛИВАЕТ ШКОЛ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ХАМИТ ВЗРОСЛ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УГРОЖАЕТ СУИЦИД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ТИПИЧНЫЕ ОШИБКИ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ДИТЕЛ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САЖАЙТЕ РЕБЁНКА ПОД ДОМАШНИЙ АР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БЕЙТЕ И НЕ КРИЧ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ЗАПРЕШАЙТЕ ИГРАТЬ В КОМПЬЮ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ЛШЕБНЫЕ ФРАЗЫ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ЛЯ РОДИТЕЛ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ЧИНАЙТЕ ПРЕДЛОЖЕНИЯ С МЕСТОИМЕНИЯ «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ВМЕСТО «ТЫ ДОЛЖЕН» ГОВОРИТЕ:  «МНЕ БЫ ХОТЕЛОС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ЕРЕД КРИТИКОЙ ПОХВАЛИТ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51470012"/>
          <p:cNvPicPr/>
          <p:nvPr/>
        </p:nvPicPr>
        <p:blipFill>
          <a:blip r:embed="rId1"/>
          <a:stretch/>
        </p:blipFill>
        <p:spPr>
          <a:xfrm flipH="1">
            <a:off x="6732360" y="5373720"/>
            <a:ext cx="194292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СТАТИ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рикасайтесь к подростку как можно чаще - берите за руку, обнимайте, гладьте по голов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Ребёнок будет чувствовать себя любимым и станет меньше бунто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ОВЕТ РОДИТЕЛЯ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БЕРИТЕСЬ ТЕРП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ИЗУЧИТЕ, КАК ВЕСТИ СЕБЯ В СЛОЖНЫХ СИТУ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ТЕРЯЙТЕ КОНТАКТА С БУНТАРЁ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61444841"/>
          <p:cNvPicPr/>
          <p:nvPr/>
        </p:nvPicPr>
        <p:blipFill>
          <a:blip r:embed="rId1"/>
          <a:stretch/>
        </p:blipFill>
        <p:spPr>
          <a:xfrm flipH="1">
            <a:off x="4298760" y="5045040"/>
            <a:ext cx="1352520" cy="12636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СПЕХОВ ВАМ В ОБЩЕНИИ С ПОДРОСТКАМИ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106"/>
          <p:cNvPicPr/>
          <p:nvPr/>
        </p:nvPicPr>
        <p:blipFill>
          <a:blip r:embed="rId1"/>
          <a:stretch/>
        </p:blipFill>
        <p:spPr>
          <a:xfrm>
            <a:off x="6861240" y="4842000"/>
            <a:ext cx="152568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51470012"/>
          <p:cNvPicPr/>
          <p:nvPr/>
        </p:nvPicPr>
        <p:blipFill>
          <a:blip r:embed="rId2"/>
          <a:stretch/>
        </p:blipFill>
        <p:spPr>
          <a:xfrm>
            <a:off x="1258920" y="3292560"/>
            <a:ext cx="3163680" cy="25779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9:58:24Z</dcterms:created>
  <dc:creator>Admin</dc:creator>
  <dc:description/>
  <dc:language>en-US</dc:language>
  <cp:lastModifiedBy>LEGION</cp:lastModifiedBy>
  <dcterms:modified xsi:type="dcterms:W3CDTF">2015-01-27T14:00:22Z</dcterms:modified>
  <cp:revision>6</cp:revision>
  <dc:subject/>
  <dc:title>КАК ОБЩАТЬСЯ С ПОДРОСТКОМ</dc:title>
</cp:coreProperties>
</file>