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8.jpeg" ContentType="image/jpeg"/>
  <Override PartName="/ppt/media/image11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 type="dt" idx="4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8" name="PlaceHolder 5"/>
          <p:cNvSpPr>
            <a:spLocks noGrp="1"/>
          </p:cNvSpPr>
          <p:nvPr>
            <p:ph type="ftr" idx="4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PlaceHolder 6"/>
          <p:cNvSpPr>
            <a:spLocks noGrp="1"/>
          </p:cNvSpPr>
          <p:nvPr>
            <p:ph type="sldNum" idx="4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FD7F0-0F8B-4968-8A31-64070CEF3ED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веты родителям будущих первоклассн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AF4AB-9184-4AE8-8A33-4C9C139F672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Impact"/>
              </a:rPr>
              <a:t>Учебники для 1 кла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F2729-0A2A-4102-B1FC-9737B82D64E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Impact"/>
              </a:rPr>
              <a:t>Прописи и рабочие тетрад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3B313-A870-4F6E-963E-25F058CBE28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держивайте в ребенке его стремление стать школьником. Ваша искренняя заинтересованность в его школьных делах и заботах, серьезное отношение к его первым достижениям и возможным трудностям помогут первокласснику подтвердить значимость его нового положения и деятельности. Обсудите с ребенком те правила и нормы, с которыми он встретится школе. Объясните их необходимость и целесообраз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8F043-0536-405F-ABDE-EE9E556C753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ш ребенок придет в школу, чтобы учиться. Когда человек учится, у него может что-то не сразу получиться, это естественно. Ребенок имеет право на ошиб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C3052-59E4-4443-839F-0367790864F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ьте вместе с будущим первоклассником распорядок дня, следите за его соблюдени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87521-FEEA-471A-A920-D6C4F358E33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пропускайте трудности, возможные у ребенка на начальном этапе овладения учебными навыками. Если у будущего первоклассника, например, есть  логопедические проблемы, постарайтесь справиться с ними до школы или на первом году обуч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8DB40-4AD2-42C0-AEEC-DDFADD2D25C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держите будущего первоклассника в его желании добиться успеха. В каждой работе обязательно найдите, за что можно было его похвалить. Помните, похвала  и эмоциональная поддержка («Молодец!», «Ты так хорошо справился!») способны заметно повысить интеллектуальные достижения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C7268-2778-4B0D-B021-4BE5E34E67E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вас что-то будет беспокоить в поведении ребенка, его учебных делах, не стесняйтесь обращаться за советом и консультацией к учител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BF55B-5E12-4DD4-B2B9-FE42BC3BEBF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поступлением в школу в жизни вашего ребенка появится человек более авторитетный, чем вы. Это учитель. Уважайте мнение ребенка о своем педагог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7DFB3-0A56-45F7-BD76-5FF7C301D53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ние –это нелегкий и ответственный труд. Поступление в школу существенно меняет жизнь ребенка, но не должно лишать её многообразия, радости, игры. У первоклассника должно оставаться достаточно времени для игровых занят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4D778-39DE-404B-AD69-E300CEBA855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2154-BDBF-4FF5-98A4-1C0C5ED93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4616-0B68-4D8B-B59C-BB004642A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7244E7-A1CC-4D1C-AD03-ADC02217C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B67A64-8DAE-455B-AE99-6DE233F0E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4E3691-DC33-4B2E-9A99-F2B914C37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53B0AE-69D3-47A1-BF9F-36018FC6D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C64F84-22F6-4001-B8E3-81EF13F43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3AD11C-B014-491B-BFAA-443852110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29E8EE-50ED-43BD-9C50-9DD9F8C12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4C1B6A-B5C1-4D02-B806-C82E7F03C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76AC6B-EED3-48F6-BD98-3CE75B8A0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8717DB-4D6C-41E3-A625-0869C0FEF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2DD7-C2B0-4BC7-84C6-16901654A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AFD92D-1618-48AF-9601-E16DCAC07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DB3649-F1BF-4749-8B54-5E4567248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4A5840-E8A1-4D32-9723-69D7B70A3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BA7804-4860-447C-9EC0-098736134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15F476-5D4F-4BFE-9EF7-B216DDE79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A0879C-C5BD-47A9-B4ED-26C833F4B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A09438-6FE0-4082-9616-C4ADE21FE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0AEEA9-6C18-44AF-935F-01DCBFD10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C977A9-8DD3-4EA4-9E41-1D9D7B7EE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061F83-68B4-452A-9A73-518E26F39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473C-A8EC-455D-A200-C1FBD615D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CC70AF-AA22-4E6B-94C1-A66DACAD8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9AF245-1D68-4F72-8F6B-744FAE3DE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476F6E-64C2-4CFB-8DB4-BF4C878B5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19BB49-BB59-43E4-B6A1-2F63F1C3F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587B33-F241-42E6-BD04-DC21FB506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3472E0-B455-44AE-986E-11ABF8D07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27E607-6D3C-4E8A-89C5-4AEB069E1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54309F-37EA-4213-B6CB-C30ED9922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91EE77-064A-4927-8AE3-AA229DE96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9E21A8-6C97-47C1-94C5-698ECA4FA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9D321-2687-4F26-BCD5-0E3B3B0F2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705293-359B-44DA-B6E5-79E98790F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8F9708-A240-455D-8F92-98EC14106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998D8C-55A0-430F-8847-433A74985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30CF9F-9376-4908-B7A0-522A24853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8B436D-4856-4B1E-801D-DC98AF50E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782AD7-01AC-4263-96F9-ACA813C14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C197BF-3B5B-43D8-9F38-E400DC428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26C2F3-DEDE-4ACF-9500-3161CD784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8B076F-5D68-4484-A08F-3D3EBFB68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5D7AB4-7630-4BD9-9EAE-A0D64D91F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9C9F7-511E-48C2-BC98-69D73DA5C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A869FE-832F-49BF-A87C-0B06726F3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F91ADF-ABBD-4E8C-9701-F0907CA7B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F67554-7C5F-4EAE-8B4E-53A17494A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B5D2D7-855E-4A3F-88B4-9ADE47340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5A3D6C-81B2-45E0-9277-10B2E6A20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E31AD6-7B6D-4A53-BF02-676101B40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4BE8E8-5390-4B73-B158-1DAD831C0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625A1D-47E6-4B4E-A653-48157D10C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FC689C-8833-42B2-8DAB-E7045BFEB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2DA983-9412-43E2-A6CB-95D0CA7CB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3E4A9-F4CD-452A-92F0-A340AA172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37CB7C-6979-4408-84B7-7A4D054F5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6CA09E-3C81-4F34-819A-378D95DAB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9D9A4E-D2D3-4198-94AC-871321731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FD4B6B-58DE-4F6C-9826-CFD730C30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22FB62-53EB-4B89-8645-14E730CFC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E3F5ED-5818-42CC-B8B0-8A3BC3590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BDE63A-5AE9-4F2A-86B5-FB2903DCE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361A57-8220-4678-B5CB-F08C0E9D6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A3F18B-F4F9-499C-852A-91BFE5361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3CDD79C-A7B5-4B9C-9687-ECAB10706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E187D-B494-4989-89A7-B698B62C9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11D3A7-1501-4ECF-8AA4-02665187E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852E45-BB8A-4B6E-AD95-A137A2020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0BE9B70-9036-4773-8DC1-23182D69E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8E0CCD-7AED-425F-B0E4-37A3B8865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7355DBD-E756-431B-86DB-C0B5738FD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489EEC-1893-4D9F-B828-9D87912B4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8ED59CF-646B-43DA-922A-477EFAA8A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3B55A7-4B2C-4EF0-96B0-EF4DFEAFE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CA55BCC-B7CD-4113-8C54-D9BCE6C7C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EFF80-918A-48B4-B2A2-3BFB8B51B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64C8A-251C-4F94-8C70-0C75B2298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0E239-EF93-4634-89FA-EB36C579C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576E-44C7-4D65-9A2F-E833F4234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EACEE-3E98-4835-8C12-A3B4C786D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AAD14-0C5F-4966-A6F0-9AE22EBDE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144D8-AC41-45E9-A9A2-11053FFE1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D148C-8CBF-4A84-935A-7CC561A76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25503-0CA5-47CB-AD76-DEF611220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945FDF-58BC-4E71-9095-F47763725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B23AC7-5A1F-4468-AEB0-CF8612252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73B8A7-A387-43F5-8C7B-B51A64557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1B7AA0-EC99-4CCA-A6B9-D2917C7A3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1F8174-C5E2-4C3A-9470-1EDD58C77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30F7-7110-497C-8DEE-C1170C01E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D94EF4-E8F0-49F1-B2B0-93B7AD6BA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5B4B1B-1918-4D9E-B6D0-1F696212C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CC828E-BC74-41B2-B00B-E7AE51A3D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6B37AE-1FD1-4D04-8D39-4E9290478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127275-9A94-48CC-AD7F-768DF492F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DC584F-CBC6-4DBC-BF18-D5F855820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CE232E-98A2-4917-A1F6-F8BEB75BB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D6200B-247A-4C05-8EE9-3898E6102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18AD27-E74A-4B71-B673-3B1A0B23A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15868C-A895-44E5-B74F-6294E9466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4BEE-98E3-445D-B504-6B2D5BD35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EADCE5-3E61-4623-893E-A1BA06F28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9FE975-72A8-4F87-A50F-C6DCDFEB3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3F3E1A-D81B-4B5E-A28F-CC16ED03D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AAF798-2C89-41D5-B4BC-C84CD0AE6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CB39F2-AEA0-4282-AAD1-9B303228E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14448F-9568-4F63-B81E-6D130D0AA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F1C53F-D72F-4DAA-924D-C0113EB45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A99CF7-95C2-4038-8821-2BA766529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CE2BAB-B5F1-483E-9734-F4D9843B2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6BCE16-226A-4879-9660-1E9DE8EAB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E3B6-AB9B-4024-9464-0AB345ABD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524433-47AC-471D-A659-FDB3B8D67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FA9252-DDBF-4BEB-8BBA-423242E09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91F9A5-72E0-4E0D-93EE-C1C81DB7B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ADCFB4-B729-4F07-94E8-9250C3839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DA6936-4ACB-4D89-B660-9BB425B23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A41047-9D45-45F1-97EC-EB5F571F1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5438AF-8061-45AF-82C1-C2533ADA2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32760D-FC37-4B14-A415-F43216049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2F7CBD-C60A-46FA-BF3A-6E515EB08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94F403-6100-4BDA-ABC0-E4F7000C0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2238-E778-4EF3-B894-08477D77A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B2111D-4473-40ED-A87C-98A100390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FCC085-258D-4569-8233-89CAF591D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17BF70-16D2-4AB8-8462-3557E8B3C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77317B-AEC9-4428-BE83-C10D5F6A2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A62F6A-F1DE-4326-BC6C-C264316C4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C13677-EC08-4BC7-B7A3-593D6EE12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EC61E5-1860-4B90-9447-DFC5AD377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F31DD2-BF92-4780-8E98-A02F5A7AF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6AC493-AC8E-4D15-80C9-3B055C454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1B7B68-BFDD-4A44-B3CA-F53E48BA8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364B-25DD-4123-9DCF-20E768442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C22F21-32A9-48E4-8D6B-69B4061C5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966284-78BF-4A66-99C6-1A839FD9C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739AED-D29A-4620-87EA-2B951EB29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67794C-606A-45B2-B437-AFF2607AB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A415A7-0832-4E5D-8677-06ADE5105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21C266-0D0F-4DB2-9AF1-6F72881F0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665236-6192-4142-BB50-DD028C155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93D873-7E38-4832-A3BD-419AE4094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F795DA-69A1-4A02-9775-1175A8B09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39359E-BDE8-42EB-A35E-E973EC999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732B-60FD-4DD8-AC4A-FB5F695A6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5958B5-E911-48A7-8454-A96D0EA0A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993A1D-A32B-4395-A3ED-5515161EA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062DAB-20AA-427E-96F2-8B2475860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B5AEC6-78AD-4040-A4ED-D76B39D94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135ADF-7B26-4940-9B23-C4A6A849B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EB2D59-9593-4E67-BFD5-34C4315D2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A20563-D7CE-48CB-B0D2-823FEE7C1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1967AB-9684-4DDB-B91B-80AAFDA2B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5EF0A6-2E22-4BAA-B60A-62D2923D6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5F7194-8E5D-4136-A75F-7E7F37BC8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102A-B111-4A5B-8240-59E23FCD3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AD2C5B-FB4B-458A-81F7-C46DF2B57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6B253B-81AA-4AB6-8BE2-026833AC5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706AE2-52AC-48A1-8CC0-1FA254377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E9A2CC-ACB0-40D1-972F-DA8E4D069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4FBDD5-6B6F-44A2-BBA7-330AD6894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399B3B-3F77-45C4-A9C7-DA3BD3130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206D8D-21A6-4C25-B6AC-4C25EB39E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144F01-717B-4211-949B-CAFE774F8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7BE773-1876-4539-855F-85294D157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D5115D-95CC-44F0-8E1F-F60487B2F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A872F-5F58-4381-805D-9F29445D5D3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54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955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56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957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8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9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0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1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2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3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68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969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0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1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2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3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4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5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6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7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8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9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0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1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2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3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4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5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6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87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988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9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0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1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2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3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4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5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6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7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8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9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0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1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2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3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4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05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006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7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8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9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0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1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2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13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014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5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6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7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A180D-6214-4274-8AF7-F35F00569F8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60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61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62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63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4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5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6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7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8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9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0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1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2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3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74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075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6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7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8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9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0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1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2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3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4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5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6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7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8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9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0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1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2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93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094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5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6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7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8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9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0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1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2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3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4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5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6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7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8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9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0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11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112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3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4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5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6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7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8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19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120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1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2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3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2387A-E16E-4B51-A95D-77A312AC039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66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167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68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169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0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1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2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3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4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5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6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7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8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9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181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2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3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4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5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6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7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8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9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0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1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2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3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4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5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6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7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8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99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200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1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2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3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4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5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6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7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8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9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0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1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2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3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4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5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6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17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218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9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0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1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2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3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4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225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226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7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8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9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ED659-8498-4010-9391-4901AED16F7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72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273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74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275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6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7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8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9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0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1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2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3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4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5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86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87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8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9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0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1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2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3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4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5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6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7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8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9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0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1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2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3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4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05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306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7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8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9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0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1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2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3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4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5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6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7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8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9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0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1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2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23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324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5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6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7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8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9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0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331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332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33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34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35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8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9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986F6-5445-4929-902A-10A760A55ED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78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379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80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381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2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3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4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5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6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7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8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9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0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1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2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393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4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5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6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7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8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9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0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1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2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3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4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5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6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7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8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9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0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11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12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3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4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5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6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7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8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9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0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1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2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3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4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5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6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7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8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29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430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1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2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3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4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5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6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437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438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9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0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1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4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5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B00AE-47B1-46FD-BF12-C77166C0A0F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9715F-4419-42B6-BEE8-70739392F88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2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13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14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215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26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227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45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246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3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264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71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272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3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4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5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64674-58D0-4D53-9647-0592A4C3F01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8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319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20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321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2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333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51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2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9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370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77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378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9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0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1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88D05-ADC8-4552-ACA8-7F01E1C490A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4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425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26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27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38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439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57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458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75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476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83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484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5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6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7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8CEB9-83F7-436A-AA40-7E3A658C3C8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0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531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32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533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44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545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4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63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564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1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82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89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590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1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2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3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F93DA-6A8C-4FC0-8B5C-3722C3B059C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6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637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38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639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50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651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69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670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87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688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95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96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7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8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9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06B3D-4B79-4D87-A000-9FC9D043476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42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743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44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745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6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7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8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9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0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1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2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3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4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5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56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757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8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9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0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1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2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3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5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6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7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75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776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0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1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93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794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01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802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3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4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5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515AF-7EB7-4AE2-A4C8-16CE71F490A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8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849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50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851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62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863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81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882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99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900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907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908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9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0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1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27816-D73D-4156-8E13-4039BF9CABB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73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slideLayout" Target="../slideLayouts/slideLayout73.xml"/><Relationship Id="rId10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571680" y="1285920"/>
            <a:ext cx="7772400" cy="3573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ecff"/>
                </a:solidFill>
                <a:latin typeface="Arial"/>
              </a:rPr>
              <a:t>Советы родителям будущих первоклассников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Impact"/>
              </a:rPr>
              <a:t>Учебники для 1 класс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516" name="Picture 4" descr="b-04-0001-01"/>
          <p:cNvPicPr/>
          <p:nvPr/>
        </p:nvPicPr>
        <p:blipFill>
          <a:blip r:embed="rId1"/>
          <a:stretch/>
        </p:blipFill>
        <p:spPr>
          <a:xfrm>
            <a:off x="1384200" y="1616040"/>
            <a:ext cx="1803600" cy="2266920"/>
          </a:xfrm>
          <a:prstGeom prst="rect">
            <a:avLst/>
          </a:prstGeom>
          <a:ln w="0">
            <a:noFill/>
          </a:ln>
        </p:spPr>
      </p:pic>
      <p:pic>
        <p:nvPicPr>
          <p:cNvPr id="1517" name="Picture 3" descr="b-06-0010-01"/>
          <p:cNvPicPr/>
          <p:nvPr/>
        </p:nvPicPr>
        <p:blipFill>
          <a:blip r:embed="rId2"/>
          <a:stretch/>
        </p:blipFill>
        <p:spPr>
          <a:xfrm>
            <a:off x="5742000" y="1616040"/>
            <a:ext cx="1731960" cy="2163960"/>
          </a:xfrm>
          <a:prstGeom prst="rect">
            <a:avLst/>
          </a:prstGeom>
          <a:ln w="0">
            <a:noFill/>
          </a:ln>
        </p:spPr>
      </p:pic>
      <p:pic>
        <p:nvPicPr>
          <p:cNvPr id="1518" name="Picture 2" descr="b-07-0019-01"/>
          <p:cNvPicPr/>
          <p:nvPr/>
        </p:nvPicPr>
        <p:blipFill>
          <a:blip r:embed="rId3"/>
          <a:stretch/>
        </p:blipFill>
        <p:spPr>
          <a:xfrm>
            <a:off x="1457280" y="4260960"/>
            <a:ext cx="1730520" cy="2182680"/>
          </a:xfrm>
          <a:prstGeom prst="rect">
            <a:avLst/>
          </a:prstGeom>
          <a:ln w="0">
            <a:noFill/>
          </a:ln>
        </p:spPr>
      </p:pic>
      <p:pic>
        <p:nvPicPr>
          <p:cNvPr id="1519" name="Picture 1" descr="b-08-0015-01"/>
          <p:cNvPicPr/>
          <p:nvPr/>
        </p:nvPicPr>
        <p:blipFill>
          <a:blip r:embed="rId4"/>
          <a:stretch/>
        </p:blipFill>
        <p:spPr>
          <a:xfrm>
            <a:off x="5742000" y="4260960"/>
            <a:ext cx="1658880" cy="2116080"/>
          </a:xfrm>
          <a:prstGeom prst="rect">
            <a:avLst/>
          </a:prstGeom>
          <a:ln w="0">
            <a:noFill/>
          </a:ln>
        </p:spPr>
      </p:pic>
      <p:sp>
        <p:nvSpPr>
          <p:cNvPr id="1520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1" name="Rectangle 6"/>
          <p:cNvSpPr/>
          <p:nvPr/>
        </p:nvSpPr>
        <p:spPr>
          <a:xfrm>
            <a:off x="4838040" y="2049120"/>
            <a:ext cx="38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2" name="Rectangle 7"/>
          <p:cNvSpPr/>
          <p:nvPr/>
        </p:nvSpPr>
        <p:spPr>
          <a:xfrm>
            <a:off x="0" y="38768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3" name="Rectangle 8"/>
          <p:cNvSpPr/>
          <p:nvPr/>
        </p:nvSpPr>
        <p:spPr>
          <a:xfrm>
            <a:off x="4804560" y="590652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4" name="Рисунок 10" descr="b-05-0036-06.jpg"/>
          <p:cNvPicPr/>
          <p:nvPr/>
        </p:nvPicPr>
        <p:blipFill>
          <a:blip r:embed="rId5"/>
          <a:stretch/>
        </p:blipFill>
        <p:spPr>
          <a:xfrm>
            <a:off x="3597120" y="2475000"/>
            <a:ext cx="1876680" cy="2421000"/>
          </a:xfrm>
          <a:prstGeom prst="rect">
            <a:avLst/>
          </a:prstGeom>
          <a:ln w="0">
            <a:noFill/>
          </a:ln>
        </p:spPr>
      </p:pic>
      <p:sp>
        <p:nvSpPr>
          <p:cNvPr id="1525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6" name="Picture 1" descr="http://30wbask-s11.edusite.ru/images/propis-4.jpg"/>
          <p:cNvPicPr/>
          <p:nvPr/>
        </p:nvPicPr>
        <p:blipFill>
          <a:blip r:embed="rId1"/>
          <a:stretch/>
        </p:blipFill>
        <p:spPr>
          <a:xfrm>
            <a:off x="3529080" y="1762200"/>
            <a:ext cx="1519200" cy="2071440"/>
          </a:xfrm>
          <a:prstGeom prst="rect">
            <a:avLst/>
          </a:prstGeom>
          <a:ln w="0">
            <a:noFill/>
          </a:ln>
        </p:spPr>
      </p:pic>
      <p:pic>
        <p:nvPicPr>
          <p:cNvPr id="1527" name="Picture 2" descr="http://30wbask-s11.edusite.ru/images/propis-2.jpg"/>
          <p:cNvPicPr/>
          <p:nvPr/>
        </p:nvPicPr>
        <p:blipFill>
          <a:blip r:embed="rId2"/>
          <a:stretch/>
        </p:blipFill>
        <p:spPr>
          <a:xfrm>
            <a:off x="2457360" y="1328760"/>
            <a:ext cx="1517760" cy="2120760"/>
          </a:xfrm>
          <a:prstGeom prst="rect">
            <a:avLst/>
          </a:prstGeom>
          <a:ln w="0">
            <a:noFill/>
          </a:ln>
        </p:spPr>
      </p:pic>
      <p:pic>
        <p:nvPicPr>
          <p:cNvPr id="1528" name="Picture 3" descr="http://30wbask-s11.edusite.ru/images/small.jpg"/>
          <p:cNvPicPr/>
          <p:nvPr/>
        </p:nvPicPr>
        <p:blipFill>
          <a:blip r:embed="rId3"/>
          <a:stretch/>
        </p:blipFill>
        <p:spPr>
          <a:xfrm>
            <a:off x="1243080" y="1828800"/>
            <a:ext cx="1530360" cy="2090880"/>
          </a:xfrm>
          <a:prstGeom prst="rect">
            <a:avLst/>
          </a:prstGeom>
          <a:ln w="0">
            <a:noFill/>
          </a:ln>
        </p:spPr>
      </p:pic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Impact"/>
              </a:rPr>
              <a:t>Прописи и рабочие тетради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530" name=""/>
          <p:cNvGraphicFramePr/>
          <p:nvPr/>
        </p:nvGraphicFramePr>
        <p:xfrm>
          <a:off x="1523880" y="3324240"/>
          <a:ext cx="6096240" cy="20952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209520"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0" lang="ru-RU" sz="900" spc="-1" strike="noStrike">
                          <a:solidFill>
                            <a:srgbClr val="666666"/>
                          </a:solidFill>
                          <a:latin typeface="Arial"/>
                          <a:ea typeface="Times New Roman"/>
                        </a:rPr>
                        <a:t> 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0" lang="ru-RU" sz="900" spc="-1" strike="noStrike">
                          <a:solidFill>
                            <a:srgbClr val="666666"/>
                          </a:solidFill>
                          <a:latin typeface="Arial"/>
                          <a:ea typeface="Times New Roman"/>
                        </a:rPr>
                        <a:t> 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31" name="Picture 4" descr="http://30wbask-s11.edusite.ru/images/propis-1.jpg"/>
          <p:cNvPicPr/>
          <p:nvPr/>
        </p:nvPicPr>
        <p:blipFill>
          <a:blip r:embed="rId4"/>
          <a:stretch/>
        </p:blipFill>
        <p:spPr>
          <a:xfrm>
            <a:off x="311040" y="3187800"/>
            <a:ext cx="1548000" cy="209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32" name=""/>
          <p:cNvGraphicFramePr/>
          <p:nvPr/>
        </p:nvGraphicFramePr>
        <p:xfrm>
          <a:off x="1523880" y="3324240"/>
          <a:ext cx="6096240" cy="20952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209520"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 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33" name="Picture 6" descr="http://30wbask-s11.edusite.ru/images/tetrad-pomatem.jpg"/>
          <p:cNvPicPr/>
          <p:nvPr/>
        </p:nvPicPr>
        <p:blipFill>
          <a:blip r:embed="rId5"/>
          <a:stretch/>
        </p:blipFill>
        <p:spPr>
          <a:xfrm>
            <a:off x="7102440" y="1762200"/>
            <a:ext cx="1371600" cy="1852560"/>
          </a:xfrm>
          <a:prstGeom prst="rect">
            <a:avLst/>
          </a:prstGeom>
          <a:ln w="0">
            <a:noFill/>
          </a:ln>
        </p:spPr>
      </p:pic>
      <p:pic>
        <p:nvPicPr>
          <p:cNvPr id="1534" name="Picture 5" descr="b-07-0048-03"/>
          <p:cNvPicPr/>
          <p:nvPr/>
        </p:nvPicPr>
        <p:blipFill>
          <a:blip r:embed="rId6"/>
          <a:stretch/>
        </p:blipFill>
        <p:spPr>
          <a:xfrm>
            <a:off x="6242040" y="1474920"/>
            <a:ext cx="1305000" cy="1828800"/>
          </a:xfrm>
          <a:prstGeom prst="rect">
            <a:avLst/>
          </a:prstGeom>
          <a:ln w="0">
            <a:noFill/>
          </a:ln>
        </p:spPr>
      </p:pic>
      <p:pic>
        <p:nvPicPr>
          <p:cNvPr id="1535" name="Рисунок 10" descr="b-05-0023-04.jpg"/>
          <p:cNvPicPr/>
          <p:nvPr/>
        </p:nvPicPr>
        <p:blipFill>
          <a:blip r:embed="rId7"/>
          <a:stretch/>
        </p:blipFill>
        <p:spPr>
          <a:xfrm>
            <a:off x="2597040" y="3902040"/>
            <a:ext cx="2108160" cy="2730600"/>
          </a:xfrm>
          <a:prstGeom prst="rect">
            <a:avLst/>
          </a:prstGeom>
          <a:ln w="0">
            <a:noFill/>
          </a:ln>
        </p:spPr>
      </p:pic>
      <p:pic>
        <p:nvPicPr>
          <p:cNvPr id="1536" name="Рисунок 11" descr="b-08-0015-01.jpg"/>
          <p:cNvPicPr/>
          <p:nvPr/>
        </p:nvPicPr>
        <p:blipFill>
          <a:blip r:embed="rId8"/>
          <a:stretch/>
        </p:blipFill>
        <p:spPr>
          <a:xfrm>
            <a:off x="5095800" y="3975120"/>
            <a:ext cx="2133720" cy="2730600"/>
          </a:xfrm>
          <a:prstGeom prst="rect">
            <a:avLst/>
          </a:prstGeom>
          <a:ln w="0">
            <a:noFill/>
          </a:ln>
        </p:spPr>
      </p:pic>
      <p:sp>
        <p:nvSpPr>
          <p:cNvPr id="1537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/>
          </p:nvPr>
        </p:nvSpPr>
        <p:spPr>
          <a:xfrm>
            <a:off x="42876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ддерживайте в ребенке его стремление стать школьником. Ваша искренняя заинтересованность в его школьных делах и заботах, серьезное отношение к его первым достижениям и возможным трудностям помогут первокласснику подтвердить значимость его нового положения и деятельности. Обсудите с ребенком те правила и нормы, с которыми он встретится школе. Объясните их необходимость и целесообразност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4000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/>
          </p:nvPr>
        </p:nvSpPr>
        <p:spPr>
          <a:xfrm>
            <a:off x="500040" y="14288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аш ребенок придет в школу, чтобы учиться. Когда человек учится, у него может что-то не сразу получиться, это естественно. Ребенок имеет право на ошибк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5" name="Picture 6" descr="images 2"/>
          <p:cNvPicPr/>
          <p:nvPr/>
        </p:nvPicPr>
        <p:blipFill>
          <a:blip r:embed="rId1"/>
          <a:stretch/>
        </p:blipFill>
        <p:spPr>
          <a:xfrm>
            <a:off x="5429160" y="235728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14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ставьте вместе с будущим первоклассником распорядок дня, следите за его соблюдение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8" name="Picture 6" descr="3"/>
          <p:cNvPicPr/>
          <p:nvPr/>
        </p:nvPicPr>
        <p:blipFill>
          <a:blip r:embed="rId1"/>
          <a:stretch/>
        </p:blipFill>
        <p:spPr>
          <a:xfrm>
            <a:off x="5286240" y="2286000"/>
            <a:ext cx="2857680" cy="2152800"/>
          </a:xfrm>
          <a:prstGeom prst="rect">
            <a:avLst/>
          </a:prstGeom>
          <a:ln w="0">
            <a:noFill/>
          </a:ln>
        </p:spPr>
      </p:pic>
      <p:sp>
        <p:nvSpPr>
          <p:cNvPr id="14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PlaceHolder 1"/>
          <p:cNvSpPr>
            <a:spLocks noGrp="1"/>
          </p:cNvSpPr>
          <p:nvPr>
            <p:ph/>
          </p:nvPr>
        </p:nvSpPr>
        <p:spPr>
          <a:xfrm>
            <a:off x="3132000" y="1628640"/>
            <a:ext cx="601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е пропускайте трудности, возможные у ребенка на начальном этапе овладения учебными навыками. Если у будущего первоклассника, например, есть  логопедические проблемы, постарайтесь справиться с ними до школы или на первом году обуч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1" name="Picture 6" descr="images"/>
          <p:cNvPicPr/>
          <p:nvPr/>
        </p:nvPicPr>
        <p:blipFill>
          <a:blip r:embed="rId1"/>
          <a:stretch/>
        </p:blipFill>
        <p:spPr>
          <a:xfrm>
            <a:off x="285840" y="2928960"/>
            <a:ext cx="2857320" cy="1485720"/>
          </a:xfrm>
          <a:prstGeom prst="rect">
            <a:avLst/>
          </a:prstGeom>
          <a:ln w="0">
            <a:noFill/>
          </a:ln>
        </p:spPr>
      </p:pic>
      <p:sp>
        <p:nvSpPr>
          <p:cNvPr id="15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/>
          </p:nvPr>
        </p:nvSpPr>
        <p:spPr>
          <a:xfrm>
            <a:off x="-360" y="260280"/>
            <a:ext cx="61196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ддержите будущего первоклассника в его желании добиться успеха. В каждой работе обязательно найдите, за что можно было его похвалить. Помните, похвала  и эмоциональная поддержка («Молодец!», «Ты так хорошо справился!») способны заметно повысить интеллектуальные достижения челове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4" name="Picture 6" descr="5"/>
          <p:cNvPicPr/>
          <p:nvPr/>
        </p:nvPicPr>
        <p:blipFill>
          <a:blip r:embed="rId1"/>
          <a:stretch/>
        </p:blipFill>
        <p:spPr>
          <a:xfrm>
            <a:off x="5929200" y="350028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15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PlaceHolder 1"/>
          <p:cNvSpPr>
            <a:spLocks noGrp="1"/>
          </p:cNvSpPr>
          <p:nvPr>
            <p:ph/>
          </p:nvPr>
        </p:nvSpPr>
        <p:spPr>
          <a:xfrm>
            <a:off x="4308480" y="1844280"/>
            <a:ext cx="48355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Если вас что-то будет беспокоить в поведении ребенка, его учебных делах, не стесняйтесь обращаться за советом и консультацией к учителю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7" name="Picture 6" descr="63laundes_kak_vlubit"/>
          <p:cNvPicPr/>
          <p:nvPr/>
        </p:nvPicPr>
        <p:blipFill>
          <a:blip r:embed="rId1"/>
          <a:stretch/>
        </p:blipFill>
        <p:spPr>
          <a:xfrm>
            <a:off x="1000080" y="2571840"/>
            <a:ext cx="2857680" cy="1886040"/>
          </a:xfrm>
          <a:prstGeom prst="rect">
            <a:avLst/>
          </a:prstGeom>
          <a:ln w="0">
            <a:noFill/>
          </a:ln>
        </p:spPr>
      </p:pic>
      <p:sp>
        <p:nvSpPr>
          <p:cNvPr id="15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/>
          </p:nvPr>
        </p:nvSpPr>
        <p:spPr>
          <a:xfrm>
            <a:off x="4642920" y="157176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 поступлением в школу в жизни вашего ребенка появится человек более авторитетный, чем вы. Это учитель. Уважайте мнение ребенка о своем педагог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0" name="Picture 6" descr="7"/>
          <p:cNvPicPr/>
          <p:nvPr/>
        </p:nvPicPr>
        <p:blipFill>
          <a:blip r:embed="rId1"/>
          <a:stretch/>
        </p:blipFill>
        <p:spPr>
          <a:xfrm>
            <a:off x="1000080" y="2357280"/>
            <a:ext cx="2857680" cy="2705400"/>
          </a:xfrm>
          <a:prstGeom prst="rect">
            <a:avLst/>
          </a:prstGeom>
          <a:ln w="0">
            <a:noFill/>
          </a:ln>
        </p:spPr>
      </p:pic>
      <p:sp>
        <p:nvSpPr>
          <p:cNvPr id="15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/>
          </p:nvPr>
        </p:nvSpPr>
        <p:spPr>
          <a:xfrm>
            <a:off x="3780000" y="1285560"/>
            <a:ext cx="53640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чение –это нелегкий и ответственный труд. Поступление в школу существенно меняет жизнь ребенка, но не должно лишать её многообразия, радости, игры. У первоклассника должно оставаться достаточно времени для игровых заняти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3" name="Рисунок 3" descr="IMG_0392.JPG"/>
          <p:cNvPicPr/>
          <p:nvPr/>
        </p:nvPicPr>
        <p:blipFill>
          <a:blip r:embed="rId1"/>
          <a:stretch/>
        </p:blipFill>
        <p:spPr>
          <a:xfrm>
            <a:off x="214200" y="2000160"/>
            <a:ext cx="3810240" cy="2857680"/>
          </a:xfrm>
          <a:prstGeom prst="rect">
            <a:avLst/>
          </a:prstGeom>
          <a:ln w="0">
            <a:noFill/>
          </a:ln>
        </p:spPr>
      </p:pic>
      <p:sp>
        <p:nvSpPr>
          <p:cNvPr id="15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5T08:09:45Z</dcterms:created>
  <dc:creator>СОШ №3</dc:creator>
  <dc:description/>
  <dc:language>en-US</dc:language>
  <cp:lastModifiedBy>LEGION</cp:lastModifiedBy>
  <dcterms:modified xsi:type="dcterms:W3CDTF">2015-01-27T13:41:37Z</dcterms:modified>
  <cp:revision>17</cp:revision>
  <dc:subject/>
  <dc:title>Советы родителям будущих первоклассников.</dc:title>
</cp:coreProperties>
</file>