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798E-82B5-480D-B720-3208BFB1AF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еты родителям будущих первокласс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1A18-0DB8-475F-97FA-E05AEFA1A7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Учебники для 1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47F1-DCAF-4C3C-8D68-98359CF26F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Прописи и рабочие тетра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0F08-1919-46E8-B4C3-AC5880475B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вайте в ребенке его стремление стать школьником. Ваша искренняя заинтересованность в его школьных делах и заботах, серьезное отношение к его первым достижениям и возможным трудностям помогут первокласснику подтвердить значимость его нового положения и деятельности. Обсудите с ребенком те правила и нормы, с которыми он встретится школе. Объясните их необходимость и целесообраз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572E-5C43-4A0B-BAA6-7E19E5E1DB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 ребенок придет в школу, чтобы учиться. Когда человек учится, у него может что-то не сразу получиться, это естественно. Ребенок имеет право на ошиб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07A2-F265-44C9-BBDC-23257AF49B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вместе с будущим первоклассником распорядок дня, следите за его соблю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46F2-6B32-47E8-97CB-31EE1C6270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опускайте трудности, возможные у ребенка на начальном этапе овладения учебными навыками. Если у будущего первоклассника, например, есть  логопедические проблемы, постарайтесь справиться с ними до школы или на первом году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C340-4A5D-45EA-9FF5-1D83FB49DC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те будущего первоклассника в его желании добиться успеха. В каждой работе обязательно найдите, за что можно было его похвалить. Помните, похвала  и эмоциональная поддержка («Молодец!», «Ты так хорошо справился!») способны заметно повысить интеллектуальные достиже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B99F-F882-4FFD-BFF2-327248B21B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ас что-то будет беспокоить в поведении ребенка, его учебных делах, не стесняйтесь обращаться за советом и консультацией к учит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3BA4-874E-409F-A0A5-549A2E69B9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ступлением в школу в жизни вашего ребенка появится человек более авторитетный, чем вы. Это учитель. Уважайте мнение ребенка о своем педаго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3419-25AA-4B14-85D6-A049BCB9EA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е –это нелегкий и ответственный труд. Поступление в школу существенно меняет жизнь ребенка, но не должно лишать её многообразия, радости, игры. У первоклассника должно оставаться достаточно времени для игровых зан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7B09-D406-49E3-83D8-8C93F0A6D6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C9D-C675-42E7-80C8-641FC926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FAF0-2491-43F4-A332-07448DFF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D1FEE-E234-4DFB-A846-432A20F3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8C074-95E5-478A-B6A2-69FB387F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D2A67-3B3C-40AE-8901-719FC855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9757C-6AA8-4759-9B87-5E3887AA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3EA72-DB52-4184-AD36-0DC115B1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998C7-5DA5-4F19-B542-AC206060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A252B-8362-4D18-A905-64ED972B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D0BF4-2115-4607-8ACA-D0947CEC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CA66A-5781-4B0D-9B56-BAE01E47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961EC-913D-4575-A91C-55315116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2963-37DF-41AB-B637-65BFB0D0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CCD58-0A42-4C69-91C2-B3435BD1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256F6-87C1-4EAC-ADCE-0017C7BF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8B873-F322-464F-99A4-FCAE0B0E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0A71F-4AEA-4D6D-90FA-5DA1602C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E244A-C7CC-4A70-A6C3-7CE2A085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6B9AD-A0AF-4010-8A7A-B3452E3C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AEE1D-6C63-4FE5-9B29-1E80A872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99461-4C29-4107-A47D-54B12216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D0323-A144-4D92-9295-36065AC0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ABE37-938D-4955-9BFD-5C98687F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36C0-240E-4B7B-BE78-16D0B202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7FEE9-65D0-4717-950D-914A8E5F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9B1C5-8359-4843-824F-08D860DC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C74A7-1791-47DD-9C96-9B02A96E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BC25A-4392-48D8-8ED3-1E59D9F6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FEFFB-51E9-4B2F-B081-8A69B193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7A80D-A2B4-4F41-A396-28661309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410D0-25F5-40C4-8E6E-465B667F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1A42D-C2B2-4759-89C3-29E38C8E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8FB6C-EBCF-47FA-8546-A0E77761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9B3C3-167F-454C-A39B-2A950782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79E5-EB35-4B44-A55E-F1EAFD37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B6E50-06A3-48F4-996A-6C0A58A5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3E214-4D05-4FC6-B70B-DD820660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C3E6F-CD86-4892-81DC-5F278DD3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A3750-7B68-4AEB-B5CA-4542B872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C752C-5F3C-4B7D-B304-526A35CF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B5E6D-4A12-4007-81A1-08520CF7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D38C7-B7B5-4AA5-9D0E-358E4029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9CDC9-0E72-4216-8DED-3519876F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B5FD1-55A8-40EA-9062-B4945FF5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C2BE5-96C3-4084-B9FE-5F5FAB62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2C4F-18A1-4FC7-A3DB-D84E04E7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1F8CF-1B41-443B-B3E9-712CDC93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0EFC1-0FAC-493E-A58F-F1880777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28947-C0D1-4619-B4B3-DF857D47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A245A-D2C8-4865-8FC4-C1F44B85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0F4F5-ABB2-4012-BC3A-2DF4E49D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3859BC-22B8-43AB-A70E-AF0608A4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CE342-CFEC-47B0-9B20-68A8534C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B434C-6BFD-4740-8486-C6B5B8E8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42F4CD-E0B4-40E0-8CEA-CA9BA1FE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E57B0D-27FA-4D27-B8BE-C641786E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7B30-2716-40E5-96C0-FC85EC02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24220-FEA6-466F-9C50-2537F8CE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ABF9AB-DE99-4A3F-979A-C33B0FD6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9ABF6B-8B3D-46E5-B0C8-5A37865E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26747C-74DB-4E7C-B342-932C91E4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1FFEF7-5AF0-479E-9EC6-18057E0A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5D1CB0-3136-4801-9610-05FBC570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F504F-707D-4BE7-8DBD-3A46845B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40A565-FBAB-431A-BFE0-C2902246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CAFD89-1BC7-4565-8BA9-CE3547DB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59B896-784E-4B76-B7AD-8A76926A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071D-9C49-42B3-9A6B-F5A22518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3F5FDC-903C-4DAC-9B89-4E03F9EA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4FAA4A-3F11-46F2-8086-E845785B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968B86-17C0-4B51-A19A-F7548B8F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141422-7CED-44DA-9C3B-21FB1DA3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37CE4C-E67A-453B-BC70-3D0B8A64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353F26-FD6C-406C-86CC-F6DD6442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6A0257-4D62-44F9-B55F-BFCD83AF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0E7A42-45D1-46DA-8E20-302104F0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30A849-0D7D-49B8-82FB-562AD8B1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F808-0D24-4CFB-8192-89B772EE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3B0C-5ACC-4014-8318-1790013A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2803-01F1-47A8-924C-76EB40E6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D4C8-8AD7-4CC3-B638-F2B0F5F1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CB4F-9860-4820-B741-F3287A71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CC9F-09B0-4E32-BEC1-7582A3BA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B189-1646-45E9-BB35-D9C68BEB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F9CE-E552-4824-9334-26C69C01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231B-2CC2-4F5B-849B-1A662915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E1938-555F-45D3-AC9C-422F9FD9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AF68F-359C-4568-8EEF-8DA6B76B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746B5-9371-4B52-9C9C-6DD6C5AC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34058-6236-41D8-877B-7FD8A3AF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EACF4-7806-4C3F-A8DF-9C32E8BD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95A-8482-44C1-8E17-71698102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A4A65-6450-4FE6-A5FE-00BB69CC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C73D7-5FFA-450C-B03B-4907AD31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53809-FD0F-4391-902C-D2527742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2CF5D-42AA-4FCD-9FD2-2AA337CB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A923B-0B53-4C0C-A70B-3B851D5D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BAD62-3FB9-411F-84FF-4F9777DD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3C64E-1476-4F82-98D4-C9FE849F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0CA4D-230A-45A2-B63E-7A936A90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8EE48-6A56-4412-BB2F-60666A48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19B5A-F7D0-4AC5-9638-7759910E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A0C7-451C-441E-A94D-8E378D09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0BDAD-3D30-419C-8843-98AF4B57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D889F-571B-471A-98ED-4EDB736A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C9A14-EFD1-4D1A-A52B-6316E52C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C4881-397E-4BB7-A16F-56F93D99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A898F-F18D-4AFF-8595-AF1B6131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47E2E-8CC8-4445-91F2-93E5ACE4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0B756-1A02-4A5F-B11E-2D119EF5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2B2A1-6EB8-400F-B224-0E8B1D2F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F17DB-1212-41F8-887C-92EE5F3A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37165-6436-49BD-811C-CCCFA80C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14CF-7105-4B76-8961-1589FE0B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709DE-49C5-4D50-82C3-5AE96969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E6993-7BB8-454F-8520-4C2260E8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6C435-B97D-414A-B79D-28ED4AB3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E9450-24E7-4DDF-80EC-FA3B3A67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BE8A7-27EB-4129-85E9-6AA99428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A4772-FFC4-4E8C-A931-5D1E8774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EE0F1-4AFD-4281-ABF2-90694116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FD805-2EDF-4FE9-B372-0D1A2F96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34BF5-2D6D-4215-987E-62A7E8CF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8FF43-4788-41C7-9126-C0D0ABAE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7229-2EB3-458A-8C24-9CC9E09B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3F015-217F-4459-BC4A-C8CF05B0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549D7-DDF5-4949-A207-D8EAFC47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312B8-2126-46EE-9DDB-ECAB4EC7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D46E8-6C6F-4513-96C2-942A49AD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9A05C-A29B-4652-B5B1-0088EEAE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55CF9-6AFC-4867-AB85-54EA96D3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1FEB2-3650-4D91-A1B3-7069EE52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E1914-C343-42A6-96FB-DD574D69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4B7A5-A7C8-40C7-AE84-3055FD7D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7670A-5B5C-4A27-B8F7-3ABC5AB0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16AF-0B8E-427C-A3B0-4DADEF80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4DBE5-C748-43FA-8523-14A87922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EDA86-9FFE-40E4-94E1-46F82370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D7CC2-3551-4F39-ABD3-C4B79D86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33C6A-42B7-43E9-84B7-A79E9FAA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2BEC3-C275-4A83-96C6-E91688DC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ACA20-C603-4897-ACAD-0C7E25BC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7C78D-721F-4332-8B04-3781BBC8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100B2-24DA-49A1-BEA8-D3051993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22795-5EB5-4036-86AD-B593B74A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C81DB-B92F-429D-AD52-4005D291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4065-DF75-43E6-9867-8484B7A3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A05C4-A49A-4374-BA25-EA19D4E1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11429-3478-459C-B541-9D33E646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45A6B-34E3-4CAB-B640-0562D40A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4F342-83FB-4440-8CE4-37B146C1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10D27-87B7-4D23-850C-F17C4BCE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DC2FB-8223-4996-9721-8DCF5C15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F1469-D494-421C-9ACC-B6BDE79E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AA827-E129-48F8-A303-F13F473F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5A7EB-7897-4D7B-AE84-5D65C901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EAE55-45D8-4619-8C35-69EE0839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76E2-147A-4A57-A43B-7DDD4265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11444-D89E-41EC-BC16-330F4509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C1E7E-AE5C-4EB9-B1F7-11CD66A3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154EE-BDEB-4BD7-8A7B-F54803AD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2CE4D-5D6F-40D4-AD41-013BAE2E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5898E-E813-4478-9AA1-AB37367B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89F54-8D42-4D27-9503-882F77C8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37BA9-621E-4E2E-86BB-4361DA5A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250B0-10CE-4073-9212-8D48B790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2B626-C77E-41E8-9160-1878912C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C51FD-1AD7-4216-8894-06EF743D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F9F3-6A80-48AF-9278-0254CD921A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5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5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6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8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0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18C0-E30B-4CA8-BE8C-29C7742E86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6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7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9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1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2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DB84-2AE1-4F66-B245-4ED1555E72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6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6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6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8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0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21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2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8C46-42CF-481B-91B5-BB5848CBFB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7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7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8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0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2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3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3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8869-F609-494F-97E7-F740553E1E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37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38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9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3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3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A4D5-69AE-42E6-A04A-242D67D2E23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2F08-0370-48AF-95A2-89772F1EBA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910F-482D-4BAC-A152-F89D9AD4BE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800E-640A-4AED-9E82-F012D03E20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A17D-AE03-471A-80FE-120D14C7A1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3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4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6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8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9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FEE0-AAFD-4D4F-AAF7-60A6EF8765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3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3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5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7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8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9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9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3226-8AAE-41F3-8B4B-E2343C711A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3842-B578-4326-A407-21B1FE0280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6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8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0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618B-073E-46A5-A3FD-893B0D2918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71680" y="1285920"/>
            <a:ext cx="7772400" cy="35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Советы родителям будущих первоклассников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Impact"/>
              </a:rPr>
              <a:t>Учебники для 1 класс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16" name="Picture 4" descr="b-04-0001-01"/>
          <p:cNvPicPr/>
          <p:nvPr/>
        </p:nvPicPr>
        <p:blipFill>
          <a:blip r:embed="rId1"/>
          <a:stretch/>
        </p:blipFill>
        <p:spPr>
          <a:xfrm>
            <a:off x="1384200" y="1616040"/>
            <a:ext cx="1803600" cy="2266920"/>
          </a:xfrm>
          <a:prstGeom prst="rect">
            <a:avLst/>
          </a:prstGeom>
          <a:ln w="0">
            <a:noFill/>
          </a:ln>
        </p:spPr>
      </p:pic>
      <p:pic>
        <p:nvPicPr>
          <p:cNvPr id="1517" name="Picture 3" descr="b-06-0010-01"/>
          <p:cNvPicPr/>
          <p:nvPr/>
        </p:nvPicPr>
        <p:blipFill>
          <a:blip r:embed="rId2"/>
          <a:stretch/>
        </p:blipFill>
        <p:spPr>
          <a:xfrm>
            <a:off x="5742000" y="1616040"/>
            <a:ext cx="1731960" cy="2163960"/>
          </a:xfrm>
          <a:prstGeom prst="rect">
            <a:avLst/>
          </a:prstGeom>
          <a:ln w="0">
            <a:noFill/>
          </a:ln>
        </p:spPr>
      </p:pic>
      <p:pic>
        <p:nvPicPr>
          <p:cNvPr id="1518" name="Picture 2" descr="b-07-0019-01"/>
          <p:cNvPicPr/>
          <p:nvPr/>
        </p:nvPicPr>
        <p:blipFill>
          <a:blip r:embed="rId3"/>
          <a:stretch/>
        </p:blipFill>
        <p:spPr>
          <a:xfrm>
            <a:off x="1457280" y="4260960"/>
            <a:ext cx="1730520" cy="2182680"/>
          </a:xfrm>
          <a:prstGeom prst="rect">
            <a:avLst/>
          </a:prstGeom>
          <a:ln w="0">
            <a:noFill/>
          </a:ln>
        </p:spPr>
      </p:pic>
      <p:pic>
        <p:nvPicPr>
          <p:cNvPr id="1519" name="Picture 1" descr="b-08-0015-01"/>
          <p:cNvPicPr/>
          <p:nvPr/>
        </p:nvPicPr>
        <p:blipFill>
          <a:blip r:embed="rId4"/>
          <a:stretch/>
        </p:blipFill>
        <p:spPr>
          <a:xfrm>
            <a:off x="5742000" y="4260960"/>
            <a:ext cx="1658880" cy="2116080"/>
          </a:xfrm>
          <a:prstGeom prst="rect">
            <a:avLst/>
          </a:prstGeom>
          <a:ln w="0">
            <a:noFill/>
          </a:ln>
        </p:spPr>
      </p:pic>
      <p:sp>
        <p:nvSpPr>
          <p:cNvPr id="152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Rectangle 6"/>
          <p:cNvSpPr/>
          <p:nvPr/>
        </p:nvSpPr>
        <p:spPr>
          <a:xfrm>
            <a:off x="4838040" y="2049120"/>
            <a:ext cx="38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Rectangle 7"/>
          <p:cNvSpPr/>
          <p:nvPr/>
        </p:nvSpPr>
        <p:spPr>
          <a:xfrm>
            <a:off x="0" y="387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Rectangle 8"/>
          <p:cNvSpPr/>
          <p:nvPr/>
        </p:nvSpPr>
        <p:spPr>
          <a:xfrm>
            <a:off x="4804560" y="590652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4" name="Рисунок 10" descr="b-05-0036-06.jpg"/>
          <p:cNvPicPr/>
          <p:nvPr/>
        </p:nvPicPr>
        <p:blipFill>
          <a:blip r:embed="rId5"/>
          <a:stretch/>
        </p:blipFill>
        <p:spPr>
          <a:xfrm>
            <a:off x="3597120" y="2475000"/>
            <a:ext cx="1876680" cy="2421000"/>
          </a:xfrm>
          <a:prstGeom prst="rect">
            <a:avLst/>
          </a:prstGeom>
          <a:ln w="0">
            <a:noFill/>
          </a:ln>
        </p:spPr>
      </p:pic>
      <p:sp>
        <p:nvSpPr>
          <p:cNvPr id="152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Picture 1" descr="http://30wbask-s11.edusite.ru/images/propis-4.jpg"/>
          <p:cNvPicPr/>
          <p:nvPr/>
        </p:nvPicPr>
        <p:blipFill>
          <a:blip r:embed="rId1"/>
          <a:stretch/>
        </p:blipFill>
        <p:spPr>
          <a:xfrm>
            <a:off x="3529080" y="1762200"/>
            <a:ext cx="1519200" cy="207144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2" descr="http://30wbask-s11.edusite.ru/images/propis-2.jpg"/>
          <p:cNvPicPr/>
          <p:nvPr/>
        </p:nvPicPr>
        <p:blipFill>
          <a:blip r:embed="rId2"/>
          <a:stretch/>
        </p:blipFill>
        <p:spPr>
          <a:xfrm>
            <a:off x="2457360" y="1328760"/>
            <a:ext cx="1517760" cy="212076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3" descr="http://30wbask-s11.edusite.ru/images/small.jpg"/>
          <p:cNvPicPr/>
          <p:nvPr/>
        </p:nvPicPr>
        <p:blipFill>
          <a:blip r:embed="rId3"/>
          <a:stretch/>
        </p:blipFill>
        <p:spPr>
          <a:xfrm>
            <a:off x="1243080" y="1828800"/>
            <a:ext cx="1530360" cy="2090880"/>
          </a:xfrm>
          <a:prstGeom prst="rect">
            <a:avLst/>
          </a:prstGeom>
          <a:ln w="0">
            <a:noFill/>
          </a:ln>
        </p:spPr>
      </p:pic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Impact"/>
              </a:rPr>
              <a:t>Прописи и рабочие тетрад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1523880" y="3324240"/>
          <a:ext cx="6096240" cy="209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209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666666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666666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1" name="Picture 4" descr="http://30wbask-s11.edusite.ru/images/propis-1.jpg"/>
          <p:cNvPicPr/>
          <p:nvPr/>
        </p:nvPicPr>
        <p:blipFill>
          <a:blip r:embed="rId4"/>
          <a:stretch/>
        </p:blipFill>
        <p:spPr>
          <a:xfrm>
            <a:off x="311040" y="3187800"/>
            <a:ext cx="1548000" cy="20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2" name=""/>
          <p:cNvGraphicFramePr/>
          <p:nvPr/>
        </p:nvGraphicFramePr>
        <p:xfrm>
          <a:off x="1523880" y="3324240"/>
          <a:ext cx="6096240" cy="2095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9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3" name="Picture 6" descr="http://30wbask-s11.edusite.ru/images/tetrad-pomatem.jpg"/>
          <p:cNvPicPr/>
          <p:nvPr/>
        </p:nvPicPr>
        <p:blipFill>
          <a:blip r:embed="rId5"/>
          <a:stretch/>
        </p:blipFill>
        <p:spPr>
          <a:xfrm>
            <a:off x="7102440" y="1762200"/>
            <a:ext cx="1371600" cy="1852560"/>
          </a:xfrm>
          <a:prstGeom prst="rect">
            <a:avLst/>
          </a:prstGeom>
          <a:ln w="0">
            <a:noFill/>
          </a:ln>
        </p:spPr>
      </p:pic>
      <p:pic>
        <p:nvPicPr>
          <p:cNvPr id="1534" name="Picture 5" descr="b-07-0048-03"/>
          <p:cNvPicPr/>
          <p:nvPr/>
        </p:nvPicPr>
        <p:blipFill>
          <a:blip r:embed="rId6"/>
          <a:stretch/>
        </p:blipFill>
        <p:spPr>
          <a:xfrm>
            <a:off x="6242040" y="1474920"/>
            <a:ext cx="1305000" cy="1828800"/>
          </a:xfrm>
          <a:prstGeom prst="rect">
            <a:avLst/>
          </a:prstGeom>
          <a:ln w="0">
            <a:noFill/>
          </a:ln>
        </p:spPr>
      </p:pic>
      <p:pic>
        <p:nvPicPr>
          <p:cNvPr id="1535" name="Рисунок 10" descr="b-05-0023-04.jpg"/>
          <p:cNvPicPr/>
          <p:nvPr/>
        </p:nvPicPr>
        <p:blipFill>
          <a:blip r:embed="rId7"/>
          <a:stretch/>
        </p:blipFill>
        <p:spPr>
          <a:xfrm>
            <a:off x="2597040" y="3902040"/>
            <a:ext cx="2108160" cy="2730600"/>
          </a:xfrm>
          <a:prstGeom prst="rect">
            <a:avLst/>
          </a:prstGeom>
          <a:ln w="0">
            <a:noFill/>
          </a:ln>
        </p:spPr>
      </p:pic>
      <p:pic>
        <p:nvPicPr>
          <p:cNvPr id="1536" name="Рисунок 11" descr="b-08-0015-01.jpg"/>
          <p:cNvPicPr/>
          <p:nvPr/>
        </p:nvPicPr>
        <p:blipFill>
          <a:blip r:embed="rId8"/>
          <a:stretch/>
        </p:blipFill>
        <p:spPr>
          <a:xfrm>
            <a:off x="5095800" y="3975120"/>
            <a:ext cx="2133720" cy="2730600"/>
          </a:xfrm>
          <a:prstGeom prst="rect">
            <a:avLst/>
          </a:prstGeom>
          <a:ln w="0">
            <a:noFill/>
          </a:ln>
        </p:spPr>
      </p:pic>
      <p:sp>
        <p:nvSpPr>
          <p:cNvPr id="153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держивайте в ребенке его стремление стать школьником. Ваша искренняя заинтересованность в его школьных делах и заботах, серьезное отношение к его первым достижениям и возможным трудностям помогут первокласснику подтвердить значимость его нового положения и деятельности. Обсудите с ребенком те правила и нормы, с которыми он встретится школе. Объясните их необходимость и целесообраз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/>
          </p:nvPr>
        </p:nvSpPr>
        <p:spPr>
          <a:xfrm>
            <a:off x="500040" y="1428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ш ребенок придет в школу, чтобы учиться. Когда человек учится, у него может что-то не сразу получиться, это естественно. Ребенок имеет право на ошиб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5" name="Picture 6" descr="images 2"/>
          <p:cNvPicPr/>
          <p:nvPr/>
        </p:nvPicPr>
        <p:blipFill>
          <a:blip r:embed="rId1"/>
          <a:stretch/>
        </p:blipFill>
        <p:spPr>
          <a:xfrm>
            <a:off x="5429160" y="23572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ьте вместе с будущим первоклассником распорядок дня, следите за его соблюд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8" name="Picture 6" descr="3"/>
          <p:cNvPicPr/>
          <p:nvPr/>
        </p:nvPicPr>
        <p:blipFill>
          <a:blip r:embed="rId1"/>
          <a:stretch/>
        </p:blipFill>
        <p:spPr>
          <a:xfrm>
            <a:off x="5286240" y="2286000"/>
            <a:ext cx="2857680" cy="2152800"/>
          </a:xfrm>
          <a:prstGeom prst="rect">
            <a:avLst/>
          </a:prstGeom>
          <a:ln w="0">
            <a:noFill/>
          </a:ln>
        </p:spPr>
      </p:pic>
      <p:sp>
        <p:nvSpPr>
          <p:cNvPr id="14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/>
          </p:nvPr>
        </p:nvSpPr>
        <p:spPr>
          <a:xfrm>
            <a:off x="3132000" y="1628640"/>
            <a:ext cx="60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пропускайте трудности, возможные у ребенка на начальном этапе овладения учебными навыками. Если у будущего первоклассника, например, есть  логопедические проблемы, постарайтесь справиться с ними до школы или на первом году обу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1" name="Picture 6" descr="images"/>
          <p:cNvPicPr/>
          <p:nvPr/>
        </p:nvPicPr>
        <p:blipFill>
          <a:blip r:embed="rId1"/>
          <a:stretch/>
        </p:blipFill>
        <p:spPr>
          <a:xfrm>
            <a:off x="285840" y="2928960"/>
            <a:ext cx="2857320" cy="1485720"/>
          </a:xfrm>
          <a:prstGeom prst="rect">
            <a:avLst/>
          </a:prstGeom>
          <a:ln w="0">
            <a:noFill/>
          </a:ln>
        </p:spPr>
      </p:pic>
      <p:sp>
        <p:nvSpPr>
          <p:cNvPr id="1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6119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держите будущего первоклассника в его желании добиться успеха. В каждой работе обязательно найдите, за что можно было его похвалить. Помните, похвала  и эмоциональная поддержка («Молодец!», «Ты так хорошо справился!») способны заметно повысить интеллектуальные достижения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4" name="Picture 6" descr="5"/>
          <p:cNvPicPr/>
          <p:nvPr/>
        </p:nvPicPr>
        <p:blipFill>
          <a:blip r:embed="rId1"/>
          <a:stretch/>
        </p:blipFill>
        <p:spPr>
          <a:xfrm>
            <a:off x="5929200" y="35002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/>
          </p:nvPr>
        </p:nvSpPr>
        <p:spPr>
          <a:xfrm>
            <a:off x="4308480" y="1844280"/>
            <a:ext cx="4835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ас что-то будет беспокоить в поведении ребенка, его учебных делах, не стесняйтесь обращаться за советом и консультацией к учител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7" name="Picture 6" descr="63laundes_kak_vlubit"/>
          <p:cNvPicPr/>
          <p:nvPr/>
        </p:nvPicPr>
        <p:blipFill>
          <a:blip r:embed="rId1"/>
          <a:stretch/>
        </p:blipFill>
        <p:spPr>
          <a:xfrm>
            <a:off x="1000080" y="2571840"/>
            <a:ext cx="2857680" cy="1886040"/>
          </a:xfrm>
          <a:prstGeom prst="rect">
            <a:avLst/>
          </a:prstGeom>
          <a:ln w="0">
            <a:noFill/>
          </a:ln>
        </p:spPr>
      </p:pic>
      <p:sp>
        <p:nvSpPr>
          <p:cNvPr id="15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/>
          </p:nvPr>
        </p:nvSpPr>
        <p:spPr>
          <a:xfrm>
            <a:off x="4642920" y="15717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поступлением в школу в жизни вашего ребенка появится человек более авторитетный, чем вы. Это учитель. Уважайте мнение ребенка о своем педаго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0" name="Picture 6" descr="7"/>
          <p:cNvPicPr/>
          <p:nvPr/>
        </p:nvPicPr>
        <p:blipFill>
          <a:blip r:embed="rId1"/>
          <a:stretch/>
        </p:blipFill>
        <p:spPr>
          <a:xfrm>
            <a:off x="1000080" y="2357280"/>
            <a:ext cx="2857680" cy="2705400"/>
          </a:xfrm>
          <a:prstGeom prst="rect">
            <a:avLst/>
          </a:prstGeom>
          <a:ln w="0">
            <a:noFill/>
          </a:ln>
        </p:spPr>
      </p:pic>
      <p:sp>
        <p:nvSpPr>
          <p:cNvPr id="15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/>
          </p:nvPr>
        </p:nvSpPr>
        <p:spPr>
          <a:xfrm>
            <a:off x="3780000" y="1285560"/>
            <a:ext cx="536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 –это нелегкий и ответственный труд. Поступление в школу существенно меняет жизнь ребенка, но не должно лишать её многообразия, радости, игры. У первоклассника должно оставаться достаточно времени для игровых занят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3" name="Рисунок 3" descr="IMG_0392.JPG"/>
          <p:cNvPicPr/>
          <p:nvPr/>
        </p:nvPicPr>
        <p:blipFill>
          <a:blip r:embed="rId1"/>
          <a:stretch/>
        </p:blipFill>
        <p:spPr>
          <a:xfrm>
            <a:off x="214200" y="200016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8:09:45Z</dcterms:created>
  <dc:creator>СОШ №3</dc:creator>
  <dc:description/>
  <dc:language>en-US</dc:language>
  <cp:lastModifiedBy>LEGION</cp:lastModifiedBy>
  <dcterms:modified xsi:type="dcterms:W3CDTF">2015-01-27T13:41:37Z</dcterms:modified>
  <cp:revision>17</cp:revision>
  <dc:subject/>
  <dc:title>Советы родителям будущих первоклассников.</dc:title>
</cp:coreProperties>
</file>