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B3B1-5341-40F7-8DA0-B51825C2AA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 будущих первокласс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99C9-5316-4983-940D-ECC8B0D203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чебники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22F3-6967-4C9C-882F-9AB0F0F842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рописи и рабочие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E717-4BCF-4B7D-9489-005C098F3B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4235-D026-4F7F-A381-63D7423D5D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DA63-6223-479F-AE9C-90D442A4CF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4725-3C26-40C2-ABC0-868F822EBF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75E9-C9DC-4BA7-A6C7-772F019536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75FA-A057-4240-8B61-335BB8CB85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7FF6-A364-45D6-9204-8580D01876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002D-70D8-40FE-9F30-BD006742DB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3641-C9DF-4512-BED8-8E5FF09953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E3D-CD06-4833-8BF0-B071491A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85A-93F6-4965-AD44-3677C24B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F9BAA-8DDD-462B-9570-1D79ED3B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63E7F-732B-4FA5-BE4D-09FBC858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8A957-473E-4A17-889B-394DE989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3AB54-414E-4F13-8BD3-6DA76492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9E738-7F35-408D-A7FF-ABE7B750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A7FB9-EBDE-43B8-9219-60CFD4CD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88B68-3F3A-4E72-84C0-4F99DF88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C0FBE-8437-477A-9659-0A3BCEA0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9F7EC-4ADC-4B54-99EE-76F0532F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C9273-451C-4707-BA43-45099771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E99-61E7-4855-B3DB-A0A2375B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E7574-FA94-4E9E-ADE3-79F36101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D010C-2DF8-4729-ABC0-35837A13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2BCB9-42D4-4526-B321-87DD3EF0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D5DAB-944B-4FBA-BDBA-055B1D08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FDABC-ADC2-42F1-BC9F-DE655E38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EF0D3-43F7-4EE3-8E7C-0F50358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15AA5-20C3-4A8C-A5FE-C7730C03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F3A5A-E52B-48AF-AF06-E43AF718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F9CD1-D6A7-4ADB-B008-9695BAC4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21E32-1D5B-4197-9799-64807F8F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C10-6673-47E0-8BA5-38385336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06EEF-2321-4F72-A7CA-A19D6DCB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62AA6-9F6A-461B-A800-AF5819C0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64140-CAC2-4190-8AA6-EC2CDDFA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99CE4-8458-4EBC-AA44-E75FEAF4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A4EB3-E55C-45C9-963D-7A749EA4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4D747-037C-41C8-A2C5-BFEBDACB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CA197-8323-4A2D-B35F-D2FA5B4B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BF49B-F625-47B9-BCE9-9F9CDEB5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E33BB-C3F8-414E-89EA-B25F84D3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B960A-F2EA-4B05-87F6-C8DF3783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04A2-BBD4-445F-9EE5-35A9C6FB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A505F-2051-4B7B-B4B8-C2828973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49882-EB7F-421E-B323-9EFBB29B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EEB27-B5B0-442C-B65E-B98F6FE2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12642-AEAB-4015-A7E3-446417EC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F63E5-207B-44E6-A6CC-CF02D063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1D6F0-12AD-403F-86B4-02104B41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F5024-9C2E-4349-B8E9-FB608D69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47CF6-66CF-457C-AAE7-F4925FF8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DAF73-DF9F-4693-81A9-3026772D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BF66E-F083-4CD5-BFDA-F2A95004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63C1-EF30-4626-A111-A50152AC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91B58-DD61-4AA8-84CC-CA9B84C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9BD4B-DAF5-49AD-9240-CD2770D0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68ED1-7537-4124-BA4A-14676FD7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D88B0-CF7A-40DD-A25B-86036B7F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1ABA9-B581-45CF-9B80-7C572F66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364AF-002A-4969-8B60-26F0E11A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2C479-723B-4085-892A-FE6B0514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12BED-0B35-4A0C-B657-33C883E6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91E8B-4858-4B9F-A32B-87CAD97E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F345A-A83A-4845-A91D-D05862B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001F-A83F-4A98-9AD0-8B63A9EA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9F834-ECF6-4EE5-A5CD-2817BBB6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3A661-B551-4C4E-A965-A3C14D62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B7B95-7598-4835-A71E-5881CCF2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A8C97-BFC1-4F89-9284-765A0403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474D1-DF3C-4289-9DE5-952B909F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F4BDE-E09E-4324-940F-79D11536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B30E5-9019-45D4-9838-2D2528DC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1C634-C88A-4873-B2F2-D48F4B3C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BABF4-4B39-4CEC-964B-DCB5F7FB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E4437-AAD4-4A2E-959C-8FA5D379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A842-9B9B-4FEA-946A-F30EE42A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DACD1-BE82-4C9F-89BE-ABCE1BE1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5E9C3-B176-4AD0-A0CD-98C7833C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F847C-01BD-49B4-9456-F26DB6B3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FC047-B145-4169-8339-7917A2CB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F02E7-C808-44CE-AF75-4DBAFD52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3E8F1-CCB5-4163-A099-EB3EAA5B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541016-7D27-4501-A84F-42B3ABC5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8C1BC-EE45-4EC3-BF0E-AC398210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BF5F4-CADC-43B1-8E7A-62D20ECD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0138-0B03-4CDE-A895-4B52430F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BF3E-76DB-4426-9D8A-BB6E3715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FE07-ABF2-499B-BA44-CF6C8288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F10-AFCC-4D6B-9FFB-27441658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9E2D-7240-43A1-B105-EC1FB504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4A22-EF74-4F0C-B6DD-7F7C4700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F9DA-B0DC-489B-AC8D-9DF81669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FC2E-8A0A-4904-B319-5DACC109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0EC2-799E-43C1-A1F5-AA77159B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A829-5709-4E63-9FB1-2F76018F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8B34-E6DC-438E-ACC7-47A0BE6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91B1D-4D8E-4431-8F98-D05D2C00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4793-EF21-4837-94BB-55161E85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5EBE-5501-4040-95C0-151D6DED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8F6-3444-4A2C-9C6A-D770A97B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B51F-A455-47D9-9C2F-EDF6E067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A1F7-EE77-48BF-A9A9-CBCA0352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A851-ED00-4696-8A27-8B9A2BBF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F0F1-D5C3-4496-9E99-70D2BB9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2D534-D812-40F4-A1E0-9D2EAD93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4749-5224-4CF2-B168-307ED6B7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7685-05D8-4E74-B10B-2F7724F9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2982B-D889-4929-B8C5-5222617A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E533-9229-4BB2-8973-02D776E1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B451-B883-4068-ABD7-57FEF1E8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104-A4CB-4671-9F94-AB0EBBBF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846C-2647-42CE-BBE5-1AE70FC1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3495-AA02-463C-BD06-F18C7DF1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C65FD-0001-47AB-9BEF-29CE3309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61C58-ACD6-4B1B-AD80-99BED0B2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9CB8F-C3FC-438D-BAF2-1F63B4DC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D934-1C03-4EC3-B9F3-BFE67F40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DC12-B84E-4784-9FED-CAB236B7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A0C61-D7F3-4409-AF94-6E4AE35E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6655-0EE8-48F5-8DA1-3155133D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C879D-36C6-4AE1-9433-300F32E6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6D6-E6E2-4811-86EB-4CBC0905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F558E-AA79-4064-898B-C71B5E1F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ECAE-33E9-49F2-AA86-B9E124B6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F7797-D023-4AE3-9368-F7E390AE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74BC8-F641-4E1A-A939-2FBEBA57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41D79-4A30-44B6-AEE1-2FDB84AA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1AF89-492D-4500-9BA1-9EDAF04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3F9A5-019E-4744-B2E5-B6DDC70E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D7BC9-5DCF-4E77-869F-0FCEF5CC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4F50D-82F9-44F8-947D-A4B24F8A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F78F3-C453-42B4-987E-2FC539FA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B67-BBCC-4B14-962C-8416FB8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9659-0508-4F2A-AF8F-F12C51A4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28457-3349-4340-8F5B-A6CF1FAC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CC5CE-35C5-421A-90CC-66C33ECD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9D36B-9210-4C08-8CF1-9EFD9E10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285E1-05DD-44F3-B458-A4C142E0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836FF-2DCB-4F43-8D34-0FFDB545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50573-E536-4764-B8AF-3687823C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27256-1718-4DFD-B2ED-E04BAF34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B757E-EB70-48BE-BE62-E72D7BE9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075BE-D9F3-4B2A-8213-831BE2DF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6D2-18F2-422F-AFD3-141D34A9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BFA2E-2523-47B7-952D-36292DC0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0319-E588-4565-8908-BF946F54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C0F1F-B8D6-4507-A646-3AF246FD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896A1-7B32-441E-B70F-B7CF196C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688C-5661-4EE3-988D-C0536DAD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D670-7A3C-473A-8728-CF7734B8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C3B62-3902-48E8-B902-1618B6A9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1B8AC-D416-4EF1-B3C4-F45290A7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D4B4E-2A8D-4EB8-A237-FFFAD6F4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9CC1C-B6CF-43FA-B8DF-35B1A0DE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366-318E-47E2-95D5-2A3079E1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50933-7B4B-4EBB-B511-DF147CFD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237B-8025-43DD-8936-464BB26B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80052-6114-4C1E-A8CD-4C273B22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6250F-4380-41A7-AEDD-6BE9C10E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E964B-227B-42F2-BCBA-06F9C31B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A671B-1959-44A0-BF9D-B8289C1D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A33D8-3D4A-42C7-870B-1EB1528A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6AC65-7C3D-4275-AD45-09E12CDB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96864-8FD8-441C-97B2-12358388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205F5-9000-4E17-B0B5-CE3D9D71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844-3707-4646-BF48-A034CAC9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AC914-504F-4155-9121-B46CD965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D111B-17AE-45D8-AB4A-06596151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AF333-E274-4A4B-8AD1-E460DF4E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B1AFF-F79C-469A-837E-5782DA37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8309E-9A5E-432E-970E-5B6A744C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FDC01-365E-44B5-8CF9-A5DA2683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312C1-3399-496C-B6A1-DE2717D4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1C900-0EE0-43C8-8826-2C1C0BBB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4E6AC-EC17-48BC-8357-EA430A3D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B3628-1D0E-42E5-8927-F5903C58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351B-43E9-43A7-AC9E-548C9CF145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85B0-F864-4ACB-9B77-2A6AC32EA1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DDF8-3020-4EBA-B952-7793AF147E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DEE4-D092-4658-B378-E76A613746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0930-68F5-4C3C-986F-42A62E406F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F336-622E-4791-A5E5-DA7C6A6B2F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7AF5-CE7F-4A0F-BD09-1CBA1313E2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7BBA-75B9-44F3-9240-C9DE3E35DA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6F17-4873-47B1-86DF-BF6B5B7138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7FE7-9D23-46E1-8300-4315B018E8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B74B-B28D-4F81-9D22-5B55B08874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0CF0-510D-42F7-925D-D6AFF6F99F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BC2B-D97D-4ED9-B258-88A6001EC7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3CC3-62CD-4F5C-A631-C2E7C2AE32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71680" y="128592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Советы родителям будущих первокласснико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Учебники для 1 клас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16" name="Picture 4" descr="b-04-0001-01"/>
          <p:cNvPicPr/>
          <p:nvPr/>
        </p:nvPicPr>
        <p:blipFill>
          <a:blip r:embed="rId1"/>
          <a:stretch/>
        </p:blipFill>
        <p:spPr>
          <a:xfrm>
            <a:off x="1384200" y="1616040"/>
            <a:ext cx="1803600" cy="226692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3" descr="b-06-0010-01"/>
          <p:cNvPicPr/>
          <p:nvPr/>
        </p:nvPicPr>
        <p:blipFill>
          <a:blip r:embed="rId2"/>
          <a:stretch/>
        </p:blipFill>
        <p:spPr>
          <a:xfrm>
            <a:off x="5742000" y="1616040"/>
            <a:ext cx="1731960" cy="216396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" descr="b-07-0019-01"/>
          <p:cNvPicPr/>
          <p:nvPr/>
        </p:nvPicPr>
        <p:blipFill>
          <a:blip r:embed="rId3"/>
          <a:stretch/>
        </p:blipFill>
        <p:spPr>
          <a:xfrm>
            <a:off x="1457280" y="4260960"/>
            <a:ext cx="1730520" cy="21826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b-08-0015-01"/>
          <p:cNvPicPr/>
          <p:nvPr/>
        </p:nvPicPr>
        <p:blipFill>
          <a:blip r:embed="rId4"/>
          <a:stretch/>
        </p:blipFill>
        <p:spPr>
          <a:xfrm>
            <a:off x="5742000" y="4260960"/>
            <a:ext cx="1658880" cy="2116080"/>
          </a:xfrm>
          <a:prstGeom prst="rect">
            <a:avLst/>
          </a:prstGeom>
          <a:ln w="0">
            <a:noFill/>
          </a:ln>
        </p:spPr>
      </p:pic>
      <p:sp>
        <p:nvSpPr>
          <p:cNvPr id="1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6"/>
          <p:cNvSpPr/>
          <p:nvPr/>
        </p:nvSpPr>
        <p:spPr>
          <a:xfrm>
            <a:off x="4838040" y="2049120"/>
            <a:ext cx="38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8"/>
          <p:cNvSpPr/>
          <p:nvPr/>
        </p:nvSpPr>
        <p:spPr>
          <a:xfrm>
            <a:off x="4804560" y="59065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4" name="Рисунок 10" descr="b-05-0036-06.jpg"/>
          <p:cNvPicPr/>
          <p:nvPr/>
        </p:nvPicPr>
        <p:blipFill>
          <a:blip r:embed="rId5"/>
          <a:stretch/>
        </p:blipFill>
        <p:spPr>
          <a:xfrm>
            <a:off x="3597120" y="2475000"/>
            <a:ext cx="1876680" cy="2421000"/>
          </a:xfrm>
          <a:prstGeom prst="rect">
            <a:avLst/>
          </a:prstGeom>
          <a:ln w="0">
            <a:noFill/>
          </a:ln>
        </p:spPr>
      </p:pic>
      <p:sp>
        <p:nvSpPr>
          <p:cNvPr id="15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1" descr="http://30wbask-s11.edusite.ru/images/propis-4.jpg"/>
          <p:cNvPicPr/>
          <p:nvPr/>
        </p:nvPicPr>
        <p:blipFill>
          <a:blip r:embed="rId1"/>
          <a:stretch/>
        </p:blipFill>
        <p:spPr>
          <a:xfrm>
            <a:off x="3529080" y="1762200"/>
            <a:ext cx="1519200" cy="20714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2" descr="http://30wbask-s11.edusite.ru/images/propis-2.jpg"/>
          <p:cNvPicPr/>
          <p:nvPr/>
        </p:nvPicPr>
        <p:blipFill>
          <a:blip r:embed="rId2"/>
          <a:stretch/>
        </p:blipFill>
        <p:spPr>
          <a:xfrm>
            <a:off x="2457360" y="1328760"/>
            <a:ext cx="1517760" cy="21207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3" descr="http://30wbask-s11.edusite.ru/images/small.jpg"/>
          <p:cNvPicPr/>
          <p:nvPr/>
        </p:nvPicPr>
        <p:blipFill>
          <a:blip r:embed="rId3"/>
          <a:stretch/>
        </p:blipFill>
        <p:spPr>
          <a:xfrm>
            <a:off x="1243080" y="1828800"/>
            <a:ext cx="1530360" cy="2090880"/>
          </a:xfrm>
          <a:prstGeom prst="rect">
            <a:avLst/>
          </a:prstGeom>
          <a:ln w="0">
            <a:noFill/>
          </a:ln>
        </p:spPr>
      </p:pic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Прописи и рабочие тетра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1" name="Picture 4" descr="http://30wbask-s11.edusite.ru/images/propis-1.jpg"/>
          <p:cNvPicPr/>
          <p:nvPr/>
        </p:nvPicPr>
        <p:blipFill>
          <a:blip r:embed="rId4"/>
          <a:stretch/>
        </p:blipFill>
        <p:spPr>
          <a:xfrm>
            <a:off x="311040" y="3187800"/>
            <a:ext cx="154800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2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3" name="Picture 6" descr="http://30wbask-s11.edusite.ru/images/tetrad-pomatem.jpg"/>
          <p:cNvPicPr/>
          <p:nvPr/>
        </p:nvPicPr>
        <p:blipFill>
          <a:blip r:embed="rId5"/>
          <a:stretch/>
        </p:blipFill>
        <p:spPr>
          <a:xfrm>
            <a:off x="7102440" y="1762200"/>
            <a:ext cx="1371600" cy="185256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5" descr="b-07-0048-03"/>
          <p:cNvPicPr/>
          <p:nvPr/>
        </p:nvPicPr>
        <p:blipFill>
          <a:blip r:embed="rId6"/>
          <a:stretch/>
        </p:blipFill>
        <p:spPr>
          <a:xfrm>
            <a:off x="6242040" y="1474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35" name="Рисунок 10" descr="b-05-0023-04.jpg"/>
          <p:cNvPicPr/>
          <p:nvPr/>
        </p:nvPicPr>
        <p:blipFill>
          <a:blip r:embed="rId7"/>
          <a:stretch/>
        </p:blipFill>
        <p:spPr>
          <a:xfrm>
            <a:off x="2597040" y="3902040"/>
            <a:ext cx="2108160" cy="2730600"/>
          </a:xfrm>
          <a:prstGeom prst="rect">
            <a:avLst/>
          </a:prstGeom>
          <a:ln w="0">
            <a:noFill/>
          </a:ln>
        </p:spPr>
      </p:pic>
      <p:pic>
        <p:nvPicPr>
          <p:cNvPr id="1536" name="Рисунок 11" descr="b-08-0015-01.jpg"/>
          <p:cNvPicPr/>
          <p:nvPr/>
        </p:nvPicPr>
        <p:blipFill>
          <a:blip r:embed="rId8"/>
          <a:stretch/>
        </p:blipFill>
        <p:spPr>
          <a:xfrm>
            <a:off x="5095800" y="3975120"/>
            <a:ext cx="2133720" cy="2730600"/>
          </a:xfrm>
          <a:prstGeom prst="rect">
            <a:avLst/>
          </a:prstGeom>
          <a:ln w="0">
            <a:noFill/>
          </a:ln>
        </p:spPr>
      </p:pic>
      <p:sp>
        <p:nvSpPr>
          <p:cNvPr id="153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5" name="Picture 6" descr="images 2"/>
          <p:cNvPicPr/>
          <p:nvPr/>
        </p:nvPicPr>
        <p:blipFill>
          <a:blip r:embed="rId1"/>
          <a:stretch/>
        </p:blipFill>
        <p:spPr>
          <a:xfrm>
            <a:off x="5429160" y="2357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8" name="Picture 6" descr="3"/>
          <p:cNvPicPr/>
          <p:nvPr/>
        </p:nvPicPr>
        <p:blipFill>
          <a:blip r:embed="rId1"/>
          <a:stretch/>
        </p:blipFill>
        <p:spPr>
          <a:xfrm>
            <a:off x="5286240" y="2286000"/>
            <a:ext cx="2857680" cy="2152800"/>
          </a:xfrm>
          <a:prstGeom prst="rect">
            <a:avLst/>
          </a:prstGeom>
          <a:ln w="0">
            <a:noFill/>
          </a:ln>
        </p:spPr>
      </p:pic>
      <p:sp>
        <p:nvSpPr>
          <p:cNvPr id="1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/>
          </p:nvPr>
        </p:nvSpPr>
        <p:spPr>
          <a:xfrm>
            <a:off x="3132000" y="162864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1" name="Picture 6" descr="images"/>
          <p:cNvPicPr/>
          <p:nvPr/>
        </p:nvPicPr>
        <p:blipFill>
          <a:blip r:embed="rId1"/>
          <a:stretch/>
        </p:blipFill>
        <p:spPr>
          <a:xfrm>
            <a:off x="285840" y="2928960"/>
            <a:ext cx="2857320" cy="1485720"/>
          </a:xfrm>
          <a:prstGeom prst="rect">
            <a:avLst/>
          </a:prstGeom>
          <a:ln w="0">
            <a:noFill/>
          </a:ln>
        </p:spPr>
      </p:pic>
      <p:sp>
        <p:nvSpPr>
          <p:cNvPr id="1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611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4" name="Picture 6" descr="5"/>
          <p:cNvPicPr/>
          <p:nvPr/>
        </p:nvPicPr>
        <p:blipFill>
          <a:blip r:embed="rId1"/>
          <a:stretch/>
        </p:blipFill>
        <p:spPr>
          <a:xfrm>
            <a:off x="5929200" y="3500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/>
          </p:nvPr>
        </p:nvSpPr>
        <p:spPr>
          <a:xfrm>
            <a:off x="4308480" y="1844280"/>
            <a:ext cx="4835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7" name="Picture 6" descr="63laundes_kak_vlubit"/>
          <p:cNvPicPr/>
          <p:nvPr/>
        </p:nvPicPr>
        <p:blipFill>
          <a:blip r:embed="rId1"/>
          <a:stretch/>
        </p:blipFill>
        <p:spPr>
          <a:xfrm>
            <a:off x="1000080" y="2571840"/>
            <a:ext cx="2857680" cy="1886040"/>
          </a:xfrm>
          <a:prstGeom prst="rect">
            <a:avLst/>
          </a:prstGeom>
          <a:ln w="0">
            <a:noFill/>
          </a:ln>
        </p:spPr>
      </p:pic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/>
          </p:nvPr>
        </p:nvSpPr>
        <p:spPr>
          <a:xfrm>
            <a:off x="464292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0" name="Picture 6" descr="7"/>
          <p:cNvPicPr/>
          <p:nvPr/>
        </p:nvPicPr>
        <p:blipFill>
          <a:blip r:embed="rId1"/>
          <a:stretch/>
        </p:blipFill>
        <p:spPr>
          <a:xfrm>
            <a:off x="1000080" y="2357280"/>
            <a:ext cx="2857680" cy="2705400"/>
          </a:xfrm>
          <a:prstGeom prst="rect">
            <a:avLst/>
          </a:prstGeom>
          <a:ln w="0">
            <a:noFill/>
          </a:ln>
        </p:spPr>
      </p:pic>
      <p:sp>
        <p:nvSpPr>
          <p:cNvPr id="1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3780000" y="1285560"/>
            <a:ext cx="536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3" name="Рисунок 3" descr="IMG_0392.JPG"/>
          <p:cNvPicPr/>
          <p:nvPr/>
        </p:nvPicPr>
        <p:blipFill>
          <a:blip r:embed="rId1"/>
          <a:stretch/>
        </p:blipFill>
        <p:spPr>
          <a:xfrm>
            <a:off x="214200" y="20001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8:09:45Z</dcterms:created>
  <dc:creator>СОШ №3</dc:creator>
  <dc:description/>
  <dc:language>en-US</dc:language>
  <cp:lastModifiedBy>LEGION</cp:lastModifiedBy>
  <dcterms:modified xsi:type="dcterms:W3CDTF">2015-01-27T13:41:37Z</dcterms:modified>
  <cp:revision>17</cp:revision>
  <dc:subject/>
  <dc:title>Советы родителям будущих первоклассников.</dc:title>
</cp:coreProperties>
</file>