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ADCF-E6C8-4F86-868B-47168C8D17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 будущих первокласс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857C-6E73-4A7D-BEC9-9C5416BD78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чебники для 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B3A6-2159-42A4-9EDC-FF207B8694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рописи и рабочие тет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29B9-14AC-4446-B638-121074D051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й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Обсудите с ребенком те правила и нормы, с которыми он встретится школе. Объясните их необходим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4922-801A-4CA9-9C8F-C74097F741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ребенок придет в школу, чтобы учиться. Когда человек учится, у него может что-то не сразу получиться, это естественно. Ребенок имеет право на ошиб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4C5A-D431-4A24-8B7D-0D71C21E0A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4503-0F4B-4D71-856D-61D2ED656F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опускайте трудности, возможные у ребенка на начальном этапе овладения учебными навыками. 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588A-009C-43C2-AD7C-24D8DCE35F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те будущего первоклассника в его желании добиться успеха. В каждой работе обязательно найдите, за что можно было его похвалить. Помните, похвала 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5AAB-5E69-4323-A943-3A28DD4DC3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D460-F9C6-4C2A-ABC2-3FE8DEB631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ступлением в школу в жизни вашего ребенка появится человек более авторитетный, чем вы. Это учитель. Уважайте мнение ребенка о своем педаг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0646-1DC1-4215-96A5-2C1563B4A0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–это нелегкий и ответственный труд. Поступление в школу существенно меняет жизнь ребенка, но не должно лишать её многообразия, радости, игры. У первоклассника должно оставаться достаточно времени для игровых за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8ED3-39FF-4BA2-A889-14196EA9E6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2EB-813F-4EBA-8A03-AEAE58DF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5A3-005F-4E67-850C-09618FC9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01312-9A1A-4330-AC96-2F6C0111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E8BC6-F342-4BE7-93E6-787550C9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A071B-4DD5-402C-B6C6-0D868EC7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B0FFF-0B91-42EE-9677-737E4EC7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CABC3-3D35-42F2-B5F0-0DE24903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98A37-6AD2-4400-B2FC-96C7B70F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63E52-51E2-4E1E-8115-0AA2F6E6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77B50-FF71-4AE7-A9A8-10E8E01F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A99CB-33C8-4B14-AA5A-CABDE508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EFA2C-0281-47C3-8FBD-142A9295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57A-28A5-4D7F-839C-F8ED5DB8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99A33-F1A4-4334-A691-6BE4FF80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E3D73-BF0D-4159-BE0F-2B48321E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2BE91-17DE-44E5-B22A-034D6F5D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E456D-9463-457F-AFE4-62C780E2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24AF3-5BBC-4692-A1D4-C68C217C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68B89-71E6-40F5-97E2-B67F2D12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DA9E0-4359-4B8B-B2E5-6DB66CA7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1AF01-201E-4284-A548-5730B7EF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BE538-B476-450C-ACCC-7BDE7548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6E1B8-437F-420D-A79C-E303420E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3B4-AEC8-40E3-AE43-BF52D0BC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BA42A-0D16-4F32-AE7C-92C661A7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84999-72A0-43C6-B7B9-FFF8677D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7F884-0259-40DB-A86F-F8C9F0F4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865E6-A38A-4407-AC3D-90034EBD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12272-6BF1-497C-AC38-F268BBE9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AD329-40AC-4605-918C-30D3ED94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15D92-3810-4588-8273-1987DA33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756A3-7C73-4F7B-A31C-FA6D78A0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B2A5F-5E03-4CAA-A1EF-2ADEE89E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FCAC3-EDC2-4475-8C20-FBC10AC4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CC3A-35B2-4EE3-9913-F13900C9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206BB-357A-4C08-AD5B-B583EA9D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8EDE1-8E62-4754-A108-A4C7054A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005DE-F6B2-4B63-9FAE-F4D360A6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2CDA3-E2D5-47E8-804F-1DE7B0B5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39247-5009-46B0-ADD2-3FF7F739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FF9CF-93E3-42A1-BB50-5943CBE2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8E1F9-CD94-4AF8-B37E-079A84B7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B036F-9B54-4ED4-87F5-D6DE4631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21DC9-28C6-4D15-A56A-E717733C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B9EA9-EC14-4287-9C6D-B09CC638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2E49-E607-4E1D-94C5-CEEBAA6D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78622-763A-4264-885B-C5365193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997C4-1833-4948-8CB2-A36A5B2A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39810-8250-449F-A3B8-258A906C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E929F-F8D7-4A3E-9E37-B0A104C2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387FB-0DE7-4467-ACBB-4DCFCB84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CADE1-A65B-44FF-A457-286BEBA7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A83DD-B4C6-4A80-9B1B-8EE2401D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4D7C7-BC45-406E-B8A1-B532419D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3A325-6821-47A3-BB35-79E00130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AD620-22D3-4375-88D0-A723840E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4325-B61C-42A0-9AA9-66FE1F74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8474C-7552-4AB0-8915-2277E2B2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0600F-A02C-4345-9BF1-B39BFE2D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511BF-1656-4092-8495-5A92F034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93F79-D418-47EF-A2DD-38DFD67D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DB623-152F-4806-9FE3-639F6ECC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77392-096F-4BE9-95CD-791FF659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807F02-3C9E-46C9-BF1E-D16D2BC0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B4045-BBAD-49F1-82B2-3F58E07A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0E945-691E-4587-BA8E-65C62B24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6416C-1346-4814-9BEB-DEE5C955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F630-C840-418E-8E6F-75EE8806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C5E12-6B5D-4BCE-AAF0-4C46CDB5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FED98-31E5-49BC-B78B-C82F470F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90DD3-9F5B-4889-8201-881E04E8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E10EA-205B-43C0-9AD5-B1216FEF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7A75A-7FB9-4ABF-9588-1E4DA3E7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5BA47-111B-49D4-B83A-822C48FF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83D33-2826-4BD9-9262-44A3EC74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2376E-BFC0-4E1A-B7F3-39678292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2AD38-402D-4180-82BD-D37102A3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DCB3-A55C-489C-8DF3-3131D74D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7EE3-3A40-4784-9E82-6AD401CA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CE16-6CFD-4A93-9BC3-C74CD673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B14-7A29-455D-BDF2-ADFFAF1B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5902-367F-43AE-8662-F12F97C8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3182-3F5C-4311-8C02-CA4D4293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1487-0934-4F73-B278-3AA713AF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F639-090C-4FD0-A655-483BBAB7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B0B1-A1B9-41C1-B94E-CF38AC4E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77953-E538-4844-9A43-89079D86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3D50-B491-4193-9618-A1AA4B37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35A0-DD44-4F98-AC4B-38EBC01C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2F2D-AFC1-4AAE-8EB9-07524690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426AE-5F34-4CEA-A5AB-D25264C0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B6D-6473-4B8B-9572-FEBE81B5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5A1A6-9CA2-4152-B602-22FF0B9B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92F55-7942-41C2-B6E7-92D46074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3CF8A-26AE-4199-9943-BC80DF65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A7794-6C08-4AA0-B564-F8A76991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4903C-6CED-464F-B7B9-B6FEC5F9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2A21F-5DFD-4B42-A356-F269E31D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2AC6-F03B-4550-9109-3B08C0DB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95572-0C2E-472A-87E9-F0401240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9E82D-D2AC-4F46-B64A-A7F8CA83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66829-2C5A-45A2-96F1-7268D629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B2E5-34F4-456C-9ECC-CD35B3F9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E1A4-703B-4508-A361-3CAE7F94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65D14-F286-4DE1-8B34-1B47B974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1D13E-E523-4C5C-932F-046C2F97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5A8DC-13E6-497D-97AD-167279EB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8AEEF-2A8E-4B90-A2D8-8A8ED1F2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FE75A-9526-44DE-8085-684CF1BB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8A1CE-9AED-4653-9730-A08FF2D9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2DE60-E4EE-4C78-AC01-16E99E8B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A8D37-766F-4CDB-BDC5-428937CE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B5C68-1B19-44DE-B2AB-38E2FD3E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A71-707C-4D6F-BF31-C57ED6DA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14926-F683-436A-AA24-FA30CDED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5C943-9577-4DF3-920F-14B96EA3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F6BAE-C0E5-4BBF-A880-A2FFDD02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906AA-0935-4130-8470-4A81D2BB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56CB8-DE2A-4A71-8C03-EE7C42CC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BDB5E-C41D-4CFC-BA6C-3990F50C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2C563-EA87-4420-8701-E667F76F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FA214-DF77-4C15-BA98-852B0DD9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307A4-B972-4E4B-A87B-4664A655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33BFD-3020-4176-A518-A6DC1F8C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8334-7600-4712-9683-8F7719E2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82CAB-8992-422E-9F67-8BAF2BEE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EEF2B-5BF7-4052-AF2D-9154DA07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FB9AE-4AEB-4848-98F4-9786BA97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62BEC-31E6-4EA6-8B2E-CCC1DD12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CDD4A-F684-48D2-AE73-6475BBB4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10A38-519A-410E-8F39-5CE43534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8D6D2-2131-42FE-A3C6-D23F7DCF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72931-5192-43BE-9B37-31E5C32B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70CFF-AEC7-4C95-A1B8-B5B48AC5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CD2F0-7A94-4FC2-A3FE-163DBE40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80C-353B-4807-BA87-307E2AA4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4DCAE-015C-4337-8456-3B5E7DDC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48552-3B28-4844-A8C4-D6E466D6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3221F-F451-4311-BA79-ED57DCE3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7AEC4-DA64-4234-94C7-3A1585D1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802B9-CEE7-4E97-9A13-F0E0E1D3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36286-EBA1-4F3E-AA92-EB6CD833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CB36B-D227-40F0-B7EF-AFC9E000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ED74A-9FAC-484C-A145-AEF3C051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B1546-3E13-4F9B-A1D7-CDA2823A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0CECD-B3B5-4943-80C4-6CC5D5CF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747-AC27-430D-A450-D2FE011F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1CA86-AB24-4071-BB41-8A3EF8BB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7CEC5-BA91-4544-B374-7EEEB53B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51DDA-5BC5-40C7-8FB4-36D92838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9BEA9-D900-4743-87F1-16489EB9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51995-A02D-4039-B967-96276CE0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BB890-E635-4855-97BE-07D9DC32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3BEBB-99B7-4BF9-8A29-B817415F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40022-FD79-4286-8B73-35C26BD1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FA984-365A-471B-800C-7F8ED92D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CF285-FEA7-4207-8257-C97E3300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2DB-98B9-4889-80DA-5F417C16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DBC75-B184-4E19-BA86-01A76104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9ABE2-69A6-4978-A68C-92AEBBF4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D67E3-F4B0-48F0-A81F-104A9D76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48B3F-6D18-42D4-B600-CF2FE125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EF3FB-56EE-4BC9-82C9-2BC16B2F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CC867-9E63-4FC2-8B9E-EC06785F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C2CFB-633B-4FF0-8D56-0942CD99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FCA78-3BA3-495D-809E-48211C7D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9E870-DFAA-4A52-95A9-2259271A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0540A-29BF-41D2-A9BA-B546A3B5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0D19-749F-40FA-AD02-C3258B9EDD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6C24-A51D-4898-9FA2-8A52606244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72AC-AEE7-4318-A0E2-C07914D0EC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3D23-6D48-4523-8A13-04B90A0390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88A8-57BF-4AEA-9902-7F0F993572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7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8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9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3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3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A7C6-B3F9-48D3-A385-43E0703F50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24D7-3A4A-4B4A-AD25-A73A7F72A1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DBA6-F6A9-4317-BE25-557DFC43B1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FFC1-B3F9-4B91-A8E1-BE915244A0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9D33-4A3E-4F08-BAEE-E1D6804488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EE79-C5A1-4801-80C3-1500307581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C8E6-AE23-41F4-9D23-F91A09D304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FD02-B1DF-48B9-91E4-53C0BA0567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868B-2068-491E-9050-424CCA63DE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71680" y="1285920"/>
            <a:ext cx="7772400" cy="35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Советы родителям будущих первоклассников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Impact"/>
              </a:rPr>
              <a:t>Учебники для 1 класс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16" name="Picture 4" descr="b-04-0001-01"/>
          <p:cNvPicPr/>
          <p:nvPr/>
        </p:nvPicPr>
        <p:blipFill>
          <a:blip r:embed="rId1"/>
          <a:stretch/>
        </p:blipFill>
        <p:spPr>
          <a:xfrm>
            <a:off x="1384200" y="1616040"/>
            <a:ext cx="1803600" cy="226692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3" descr="b-06-0010-01"/>
          <p:cNvPicPr/>
          <p:nvPr/>
        </p:nvPicPr>
        <p:blipFill>
          <a:blip r:embed="rId2"/>
          <a:stretch/>
        </p:blipFill>
        <p:spPr>
          <a:xfrm>
            <a:off x="5742000" y="1616040"/>
            <a:ext cx="1731960" cy="216396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2" descr="b-07-0019-01"/>
          <p:cNvPicPr/>
          <p:nvPr/>
        </p:nvPicPr>
        <p:blipFill>
          <a:blip r:embed="rId3"/>
          <a:stretch/>
        </p:blipFill>
        <p:spPr>
          <a:xfrm>
            <a:off x="1457280" y="4260960"/>
            <a:ext cx="1730520" cy="218268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1" descr="b-08-0015-01"/>
          <p:cNvPicPr/>
          <p:nvPr/>
        </p:nvPicPr>
        <p:blipFill>
          <a:blip r:embed="rId4"/>
          <a:stretch/>
        </p:blipFill>
        <p:spPr>
          <a:xfrm>
            <a:off x="5742000" y="4260960"/>
            <a:ext cx="1658880" cy="2116080"/>
          </a:xfrm>
          <a:prstGeom prst="rect">
            <a:avLst/>
          </a:prstGeom>
          <a:ln w="0">
            <a:noFill/>
          </a:ln>
        </p:spPr>
      </p:pic>
      <p:sp>
        <p:nvSpPr>
          <p:cNvPr id="15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Rectangle 6"/>
          <p:cNvSpPr/>
          <p:nvPr/>
        </p:nvSpPr>
        <p:spPr>
          <a:xfrm>
            <a:off x="4838040" y="2049120"/>
            <a:ext cx="38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7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Rectangle 8"/>
          <p:cNvSpPr/>
          <p:nvPr/>
        </p:nvSpPr>
        <p:spPr>
          <a:xfrm>
            <a:off x="4804560" y="59065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4" name="Рисунок 10" descr="b-05-0036-06.jpg"/>
          <p:cNvPicPr/>
          <p:nvPr/>
        </p:nvPicPr>
        <p:blipFill>
          <a:blip r:embed="rId5"/>
          <a:stretch/>
        </p:blipFill>
        <p:spPr>
          <a:xfrm>
            <a:off x="3597120" y="2475000"/>
            <a:ext cx="1876680" cy="2421000"/>
          </a:xfrm>
          <a:prstGeom prst="rect">
            <a:avLst/>
          </a:prstGeom>
          <a:ln w="0">
            <a:noFill/>
          </a:ln>
        </p:spPr>
      </p:pic>
      <p:sp>
        <p:nvSpPr>
          <p:cNvPr id="15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1" descr="http://30wbask-s11.edusite.ru/images/propis-4.jpg"/>
          <p:cNvPicPr/>
          <p:nvPr/>
        </p:nvPicPr>
        <p:blipFill>
          <a:blip r:embed="rId1"/>
          <a:stretch/>
        </p:blipFill>
        <p:spPr>
          <a:xfrm>
            <a:off x="3529080" y="1762200"/>
            <a:ext cx="1519200" cy="207144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2" descr="http://30wbask-s11.edusite.ru/images/propis-2.jpg"/>
          <p:cNvPicPr/>
          <p:nvPr/>
        </p:nvPicPr>
        <p:blipFill>
          <a:blip r:embed="rId2"/>
          <a:stretch/>
        </p:blipFill>
        <p:spPr>
          <a:xfrm>
            <a:off x="2457360" y="1328760"/>
            <a:ext cx="1517760" cy="21207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3" descr="http://30wbask-s11.edusite.ru/images/small.jpg"/>
          <p:cNvPicPr/>
          <p:nvPr/>
        </p:nvPicPr>
        <p:blipFill>
          <a:blip r:embed="rId3"/>
          <a:stretch/>
        </p:blipFill>
        <p:spPr>
          <a:xfrm>
            <a:off x="1243080" y="1828800"/>
            <a:ext cx="1530360" cy="2090880"/>
          </a:xfrm>
          <a:prstGeom prst="rect">
            <a:avLst/>
          </a:prstGeom>
          <a:ln w="0">
            <a:noFill/>
          </a:ln>
        </p:spPr>
      </p:pic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Impact"/>
              </a:rPr>
              <a:t>Прописи и рабочие тетрад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1523880" y="3324240"/>
          <a:ext cx="6096240" cy="209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1" name="Picture 4" descr="http://30wbask-s11.edusite.ru/images/propis-1.jpg"/>
          <p:cNvPicPr/>
          <p:nvPr/>
        </p:nvPicPr>
        <p:blipFill>
          <a:blip r:embed="rId4"/>
          <a:stretch/>
        </p:blipFill>
        <p:spPr>
          <a:xfrm>
            <a:off x="311040" y="3187800"/>
            <a:ext cx="1548000" cy="20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2" name=""/>
          <p:cNvGraphicFramePr/>
          <p:nvPr/>
        </p:nvGraphicFramePr>
        <p:xfrm>
          <a:off x="1523880" y="3324240"/>
          <a:ext cx="6096240" cy="209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3" name="Picture 6" descr="http://30wbask-s11.edusite.ru/images/tetrad-pomatem.jpg"/>
          <p:cNvPicPr/>
          <p:nvPr/>
        </p:nvPicPr>
        <p:blipFill>
          <a:blip r:embed="rId5"/>
          <a:stretch/>
        </p:blipFill>
        <p:spPr>
          <a:xfrm>
            <a:off x="7102440" y="1762200"/>
            <a:ext cx="1371600" cy="185256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5" descr="b-07-0048-03"/>
          <p:cNvPicPr/>
          <p:nvPr/>
        </p:nvPicPr>
        <p:blipFill>
          <a:blip r:embed="rId6"/>
          <a:stretch/>
        </p:blipFill>
        <p:spPr>
          <a:xfrm>
            <a:off x="6242040" y="1474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535" name="Рисунок 10" descr="b-05-0023-04.jpg"/>
          <p:cNvPicPr/>
          <p:nvPr/>
        </p:nvPicPr>
        <p:blipFill>
          <a:blip r:embed="rId7"/>
          <a:stretch/>
        </p:blipFill>
        <p:spPr>
          <a:xfrm>
            <a:off x="2597040" y="3902040"/>
            <a:ext cx="2108160" cy="2730600"/>
          </a:xfrm>
          <a:prstGeom prst="rect">
            <a:avLst/>
          </a:prstGeom>
          <a:ln w="0">
            <a:noFill/>
          </a:ln>
        </p:spPr>
      </p:pic>
      <p:pic>
        <p:nvPicPr>
          <p:cNvPr id="1536" name="Рисунок 11" descr="b-08-0015-01.jpg"/>
          <p:cNvPicPr/>
          <p:nvPr/>
        </p:nvPicPr>
        <p:blipFill>
          <a:blip r:embed="rId8"/>
          <a:stretch/>
        </p:blipFill>
        <p:spPr>
          <a:xfrm>
            <a:off x="5095800" y="3975120"/>
            <a:ext cx="2133720" cy="2730600"/>
          </a:xfrm>
          <a:prstGeom prst="rect">
            <a:avLst/>
          </a:prstGeom>
          <a:ln w="0">
            <a:noFill/>
          </a:ln>
        </p:spPr>
      </p:pic>
      <p:sp>
        <p:nvSpPr>
          <p:cNvPr id="153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вай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Обсудите с ребенком те правила и нормы, с которыми он встретится школе. Объясните их необходимость и целесообраз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ш ребенок придет в школу, чтобы учиться. Когда человек учится, у него может что-то не сразу получиться, это естественно. Ребенок имеет право на ошиб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5" name="Picture 6" descr="images 2"/>
          <p:cNvPicPr/>
          <p:nvPr/>
        </p:nvPicPr>
        <p:blipFill>
          <a:blip r:embed="rId1"/>
          <a:stretch/>
        </p:blipFill>
        <p:spPr>
          <a:xfrm>
            <a:off x="5429160" y="2357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8" name="Picture 6" descr="3"/>
          <p:cNvPicPr/>
          <p:nvPr/>
        </p:nvPicPr>
        <p:blipFill>
          <a:blip r:embed="rId1"/>
          <a:stretch/>
        </p:blipFill>
        <p:spPr>
          <a:xfrm>
            <a:off x="5286240" y="2286000"/>
            <a:ext cx="2857680" cy="2152800"/>
          </a:xfrm>
          <a:prstGeom prst="rect">
            <a:avLst/>
          </a:prstGeom>
          <a:ln w="0">
            <a:noFill/>
          </a:ln>
        </p:spPr>
      </p:pic>
      <p:sp>
        <p:nvSpPr>
          <p:cNvPr id="1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/>
          </p:nvPr>
        </p:nvSpPr>
        <p:spPr>
          <a:xfrm>
            <a:off x="3132000" y="1628640"/>
            <a:ext cx="60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опускайте трудности, возможные у ребенка на начальном этапе овладения учебными навыками. 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1" name="Picture 6" descr="images"/>
          <p:cNvPicPr/>
          <p:nvPr/>
        </p:nvPicPr>
        <p:blipFill>
          <a:blip r:embed="rId1"/>
          <a:stretch/>
        </p:blipFill>
        <p:spPr>
          <a:xfrm>
            <a:off x="285840" y="2928960"/>
            <a:ext cx="2857320" cy="1485720"/>
          </a:xfrm>
          <a:prstGeom prst="rect">
            <a:avLst/>
          </a:prstGeom>
          <a:ln w="0">
            <a:noFill/>
          </a:ln>
        </p:spPr>
      </p:pic>
      <p:sp>
        <p:nvSpPr>
          <p:cNvPr id="1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6119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те будущего первоклассника в его желании добиться успеха. В каждой работе обязательно найдите, за что можно было его похвалить. Помните, похвала 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4" name="Picture 6" descr="5"/>
          <p:cNvPicPr/>
          <p:nvPr/>
        </p:nvPicPr>
        <p:blipFill>
          <a:blip r:embed="rId1"/>
          <a:stretch/>
        </p:blipFill>
        <p:spPr>
          <a:xfrm>
            <a:off x="5929200" y="3500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/>
          </p:nvPr>
        </p:nvSpPr>
        <p:spPr>
          <a:xfrm>
            <a:off x="4308480" y="1844280"/>
            <a:ext cx="4835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7" name="Picture 6" descr="63laundes_kak_vlubit"/>
          <p:cNvPicPr/>
          <p:nvPr/>
        </p:nvPicPr>
        <p:blipFill>
          <a:blip r:embed="rId1"/>
          <a:stretch/>
        </p:blipFill>
        <p:spPr>
          <a:xfrm>
            <a:off x="1000080" y="2571840"/>
            <a:ext cx="2857680" cy="1886040"/>
          </a:xfrm>
          <a:prstGeom prst="rect">
            <a:avLst/>
          </a:prstGeom>
          <a:ln w="0">
            <a:noFill/>
          </a:ln>
        </p:spPr>
      </p:pic>
      <p:sp>
        <p:nvSpPr>
          <p:cNvPr id="15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/>
          </p:nvPr>
        </p:nvSpPr>
        <p:spPr>
          <a:xfrm>
            <a:off x="464292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поступлением в школу в жизни вашего ребенка появится человек более авторитетный, чем вы. Это учитель. Уважайте мнение ребенка о своем педаго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0" name="Picture 6" descr="7"/>
          <p:cNvPicPr/>
          <p:nvPr/>
        </p:nvPicPr>
        <p:blipFill>
          <a:blip r:embed="rId1"/>
          <a:stretch/>
        </p:blipFill>
        <p:spPr>
          <a:xfrm>
            <a:off x="1000080" y="2357280"/>
            <a:ext cx="2857680" cy="2705400"/>
          </a:xfrm>
          <a:prstGeom prst="rect">
            <a:avLst/>
          </a:prstGeom>
          <a:ln w="0">
            <a:noFill/>
          </a:ln>
        </p:spPr>
      </p:pic>
      <p:sp>
        <p:nvSpPr>
          <p:cNvPr id="1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3780000" y="1285560"/>
            <a:ext cx="536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–это нелегкий и ответственный труд. Поступление в школу существенно меняет жизнь ребенка, но не должно лишать её многообразия, радости, игры. У первоклассника должно оставаться достаточно времени для игровых зан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3" name="Рисунок 3" descr="IMG_0392.JPG"/>
          <p:cNvPicPr/>
          <p:nvPr/>
        </p:nvPicPr>
        <p:blipFill>
          <a:blip r:embed="rId1"/>
          <a:stretch/>
        </p:blipFill>
        <p:spPr>
          <a:xfrm>
            <a:off x="214200" y="20001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8:09:45Z</dcterms:created>
  <dc:creator>СОШ №3</dc:creator>
  <dc:description/>
  <dc:language>en-US</dc:language>
  <cp:lastModifiedBy>LEGION</cp:lastModifiedBy>
  <dcterms:modified xsi:type="dcterms:W3CDTF">2015-01-27T13:41:37Z</dcterms:modified>
  <cp:revision>17</cp:revision>
  <dc:subject/>
  <dc:title>Советы родителям будущих первоклассников.</dc:title>
</cp:coreProperties>
</file>