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F282-F48B-4C7F-AF70-E236F71A58D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еты родителям будущих первоклассн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D3A0-7A0F-4204-AB9C-883AE2629A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Учебники для 1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4055-DCB5-40C4-A007-1A95CBC168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Прописи и рабочие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2552-3C9F-48D9-BCB8-59E45F151CF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F671-1AFD-4F29-93A4-4A54292F27C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A387-DC80-4200-B218-D66A5C11EEA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4287-62D0-4CEE-836B-E78D1F56E6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BE34-2D59-4B4A-A698-75056AA342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38B7-C795-4395-9221-773E4629EB3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8054-2285-4D39-8737-3E6E7971BE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D7D0-CB79-4BB0-9635-19713DAA4C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0A4D-65CC-42E8-9125-87FAD5BCE7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7284-6206-4527-AE48-7107AA1C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3D7-FD11-4639-B74F-57D338A8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A390A-F175-464D-9570-BFC74A30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E8879-5057-4C97-B352-861F973A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0AF35B-E314-4FE8-89C5-5D30C0D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AFF40-F137-429E-9750-687982A8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4DB60B-4D23-4E63-88FE-94F0864B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A1AD1-0AA1-4ABF-8384-1B66CAD8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3C8663-E012-4E02-8689-0F363C96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2AA34-F696-45C7-94D8-FB4693AA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28B9E-251A-4FA8-A8F2-1F39C213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E7FAE-E2A4-4D6E-8A66-37AEB9F8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D59-5DE0-4570-A6B3-7380C73F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5B1C2-6F35-44FD-945C-91AA7C02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6186B-7E01-4E23-8BAB-58ED9A0F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3AB905-BCE7-447B-99E3-D8A067C8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99A80-F1CA-42F2-B53D-73BE76A2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3FE1A-319B-4BF7-A510-E04FA04A5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21BA8-DF57-4B8C-ACE7-12A0CFAD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02F38-8EFA-49EF-ABDD-401D0D64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908FD-99A3-4C7B-8EF9-D4A9CC85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5559E-9F6A-40C7-BE35-F5FAD924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36FAD-7580-48D6-81B1-246B9C25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007E-CFA4-45D1-8A0B-73905BC6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48032C-14B1-417E-916A-81AABDE82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5E230D-E65A-46CC-BF84-94250075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186A1-944B-4BFF-B541-9488DEFF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47EC67-1A3E-4D5D-8107-6A4FC5C8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D33B9-2291-4562-AF9B-A144F9B4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066D4-8C18-40BA-A9BD-689E9935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72B57-E647-4EE2-A244-9C8147E4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C2F26-585E-4DED-B15C-3E6181EE5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F45B2B-3A73-4DFC-B6AB-C50F5D03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70D46-8654-4348-AF6E-F45A112F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0A91-6570-4DA1-9CE8-CD4255BF5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B6225-8446-4D18-B4C9-53D82DAD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C4E0C-3CFA-4F69-8164-F662B330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749C10-3A5F-4970-8570-15BABAD5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3E4C2-87B7-47D8-91FA-95F2012C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CF924-48DC-4B20-84CC-5A75DBAD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681EA-A9D1-4E5E-9B31-7F829E3B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B753F-0241-4C55-9595-A5602065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C66BF-DCD4-40C0-913C-D329488B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67BA5-4CB0-4AA1-B93D-18A066920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7E9EB-06C3-4631-ABA4-9673E5EF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38B1-A87D-4FF2-89E2-68C86F77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8BB75-D72C-4EF6-B53E-1772A2DE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6A165-A687-4E71-8C26-35C269EC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BCF10-745D-441D-968D-C556012D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27393-EE3A-43E9-9142-B7C80530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99508-D20A-4E1C-9724-0AE5B555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AF07B7-DFAD-4B88-8CAA-AA91997D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F1960-A42F-479A-A465-2426E22FC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295F6-ED14-4DA6-98C0-EFEC80AF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F05A58-4077-4CCC-8DD4-584C9836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51584-C3C6-4EA7-8C3A-7F2095F5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2659D-F2F6-47BE-9099-EE50AAF1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1A230-2F70-40D3-9F70-D3A8D1EA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D6B8CD-DE5C-4C73-93F2-E0C80DBE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181A37-A5DE-45F3-85F7-F96C5A31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A01A06-F8E8-4009-B557-9F98865F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DF24E1-F83B-404A-AAD3-AA7F22CAD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2F158-6AA6-47AA-B463-01AE732A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4F8696-4A07-4D7E-BDE1-D6387E762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484972-D9F1-4E0A-84D0-8E579477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DA715-E4F0-42B1-B10B-D749B5E3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3FE6A-D7B4-4573-B3D5-23E2B16F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2D19-5FEE-4CF8-84D8-4EF47427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789A69-718C-42D9-B709-31C77D50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FBCF92-27C5-4E7C-949A-EB38A7BA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3CECF8-6DF3-4AAA-9BE7-6A2874DB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E2E340-51AF-4886-A353-5C4B363C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688CC3-C862-4084-923B-953FD201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395097-3FFF-4594-9EBB-51142553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2C4E5-2CB8-487D-A2B4-3CAA20AD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E7137-FB01-4B60-BE91-85C5E455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508121-6171-4FDF-A047-45EE7BCC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6C98-844F-4E6D-8A79-05ED96BE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FA5A-33F5-456A-8D53-A6672916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8155-C675-41B2-8333-62D4D737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455-8C0B-4F84-AF86-B88D554C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594F-F815-465C-A315-F2EE30B35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A5A3-52EA-4B65-83CC-D3887808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4A9E-BC16-4852-A6AB-E91D7BEB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9BA3-6E97-42BD-8DCB-FB1C4EDE9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461F0-EF17-415F-817D-8AF27862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2FCF-F8CE-4E5C-AECE-52B7B63D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9493D-8C5D-4FB9-B735-2FA2269B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D05B-EA63-438C-A735-07FB10FC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B3C8E-913F-43AA-8F5A-3BA4459A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137D-284C-4C5A-AD9D-88F03FA0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8D05-F07C-41C5-9DD5-1FD8C6F4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1AF17-EA33-4041-A56D-2F2C9845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4596B-B1DD-4AA7-A7EF-61550CF4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739F3-6B39-438A-9487-29E58EC4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21CB-F1A7-4D5F-9334-D890A17E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90BE-7470-4E1A-B8F1-4B5EEFE7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9EB2-7A63-4B4E-8A28-66CBBDA0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E61EC-4756-44F4-A43A-98FC913D2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93AFC-E3F7-44DA-A09A-A6DF52B89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3D512-7034-4C57-8C54-9B90AE55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4B34-D577-44D9-B10A-7C7C490B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8D4-0260-46D0-9E4E-57FBAA25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27506-585E-4607-93F4-14A0223A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E0BA0-899E-41D7-A878-47D186CF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BF020-B9FC-4701-B025-849D750E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31EB9-31CD-4DF8-99DE-FCEEC152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23313-81A7-4FF1-B8DE-D4F69F61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F4E27-488C-41E9-A13B-FA7BB1A7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B0144-4577-4677-A3E9-32BA8679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D48F6-816A-49D1-8482-A9F8FB22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97C4C-EA97-4668-947D-059F5D57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A8B5F-1CDC-4FEE-8BFE-0D0E2F33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CE8-00D6-4B6B-8C46-3C6A87BB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F6DF-45E7-4B6F-9387-E1C5D5E30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3C529-5193-4178-B9CD-211F5AB8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59053-66F3-461D-870E-C6CB8AA1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B8B68-CD8B-4428-881B-60D5EFE7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8DA3B-7604-4F5E-B287-D3D84C64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A5F55-3D76-43F6-AB31-0572652E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E0FA5-8866-48D9-A7D7-7156C1B3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4C3C4-24C6-43D4-B06A-C06748BE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9A1E6-63AE-4CD8-B6A8-43081753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01485-8B78-46F1-8D9F-855E5E7B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32D-7D49-4DB1-A7E5-1E91A77B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469E2-37F7-470C-B7CA-39727B1F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9AE81-7946-497A-8E8A-B6F906F9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4385-8585-4A82-9E34-62F42955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7F40B-14CE-4808-B673-82E31BCC2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BE3D8-0868-41EC-B068-8B6D02431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8AA2D-FEBE-4D6F-907C-B3589505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4605D-FD56-4B1E-80C7-D866C235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A30CD-5F63-49BF-A4A8-59884817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16807-8F85-4616-8ACB-2B1D6C84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9D201-0749-4FA3-A85B-30146AAF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227-DF9B-4031-8BCC-6DD8143D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B6C6B-09FE-4006-B275-5E784FBB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28FBE-18E0-478D-BD75-2BDCF7ABD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A59B2-DE3A-476C-A2F7-602FC2C22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1565F-13F4-4212-A825-77191590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87DE1-D59C-441A-A4DD-6617BB59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1435E-2BCE-4CF5-93E2-ADC5865F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B50D1-3941-46CE-9F0E-E5043DDE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B5256-E4E9-4D66-86FD-8DEE71DD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AAE21-E7AB-41C7-8B9E-94ECD456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BB4D5-A976-487B-B014-53EAA219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99D4-7AFF-4310-B32E-024F6ECD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F2429-B0B0-484F-BB8E-B3551486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891A2-32A5-459E-9960-6DC59E19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60325-AC52-48A1-B7CB-AE668EF1C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71DA0-015E-4398-8610-FB043A48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27A0C-72C2-4EEB-B18C-438236AE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D4B68-0A98-4644-A1A3-1984EEE9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29A7B-BDD6-49C4-B4E8-A439FA89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E17AC-5B67-4D01-9930-416E6E75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75ECB-BA5F-43DB-B95B-42889519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F81ED-28EC-4876-BDE5-C914FA1B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00BC-7C9F-48BA-B7E9-02ABB068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8E7B9-08EF-4792-A14C-93BA6C35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9F929-7ED1-467B-B88C-2E43D8A0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D7BB4-A082-418F-8FA9-AD84D816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A9FA5-4790-4C0B-A8BE-6381AC8B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ADFDC8-2BAD-4754-AA9E-A5905563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349C7-950D-406C-B7EB-F632FD9D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057AA-3C8A-4CCF-9E1C-51FA0BE5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9568C-29B1-496D-BB7D-32C11ED68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BCEA3-DC51-49A1-B56D-B8CC2278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0D8A3-B1E0-426E-A518-F55C799A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8200-5C39-4269-9F08-0ED25A9A89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95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5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6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96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8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98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0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0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AE73-94C8-44DD-8630-08A6AE9880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6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6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07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09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11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2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0030-15F4-4CA6-8129-09655CA9D75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16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16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18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0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1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21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22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3E3E-6B2C-4C60-A36B-D85C0A92E4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7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7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8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0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2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3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3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9AD7-6A77-49BA-ADE4-C276756634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7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8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9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1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3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3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3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2BB0-E536-471A-B628-F6E1C842A03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8E5B-EF42-460C-8E9C-74CA84A9A2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179A-D82E-44B8-B34F-4D1DD1A393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1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2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33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37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7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37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4867-BEB8-412A-B64B-092B8C06FE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5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6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7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9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7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8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5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6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3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84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899E-19E8-484C-BEAA-0B4B52D05C7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0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31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2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33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45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64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2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9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90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17A8-7C6F-4CD7-A52C-6487FC4007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637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8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639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651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670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688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95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96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5148-FD3F-49AF-B1F1-7626CE5A90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4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74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5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7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79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0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80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DE1E-93BB-4AF0-B0C5-13B177C0F0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849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0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851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2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863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81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82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99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00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07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908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632E-3AD6-4582-80C5-23D4CC6599D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73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71680" y="128592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Советы родителям будущих первоклассников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Учебники для 1 класс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16" name="Picture 4" descr="b-04-0001-01"/>
          <p:cNvPicPr/>
          <p:nvPr/>
        </p:nvPicPr>
        <p:blipFill>
          <a:blip r:embed="rId1"/>
          <a:stretch/>
        </p:blipFill>
        <p:spPr>
          <a:xfrm>
            <a:off x="1384200" y="1616040"/>
            <a:ext cx="1803600" cy="226692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3" descr="b-06-0010-01"/>
          <p:cNvPicPr/>
          <p:nvPr/>
        </p:nvPicPr>
        <p:blipFill>
          <a:blip r:embed="rId2"/>
          <a:stretch/>
        </p:blipFill>
        <p:spPr>
          <a:xfrm>
            <a:off x="5742000" y="1616040"/>
            <a:ext cx="1731960" cy="216396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2" descr="b-07-0019-01"/>
          <p:cNvPicPr/>
          <p:nvPr/>
        </p:nvPicPr>
        <p:blipFill>
          <a:blip r:embed="rId3"/>
          <a:stretch/>
        </p:blipFill>
        <p:spPr>
          <a:xfrm>
            <a:off x="1457280" y="4260960"/>
            <a:ext cx="1730520" cy="21826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b-08-0015-01"/>
          <p:cNvPicPr/>
          <p:nvPr/>
        </p:nvPicPr>
        <p:blipFill>
          <a:blip r:embed="rId4"/>
          <a:stretch/>
        </p:blipFill>
        <p:spPr>
          <a:xfrm>
            <a:off x="5742000" y="4260960"/>
            <a:ext cx="1658880" cy="2116080"/>
          </a:xfrm>
          <a:prstGeom prst="rect">
            <a:avLst/>
          </a:prstGeom>
          <a:ln w="0">
            <a:noFill/>
          </a:ln>
        </p:spPr>
      </p:pic>
      <p:sp>
        <p:nvSpPr>
          <p:cNvPr id="152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1" name="Rectangle 6"/>
          <p:cNvSpPr/>
          <p:nvPr/>
        </p:nvSpPr>
        <p:spPr>
          <a:xfrm>
            <a:off x="4838040" y="2049120"/>
            <a:ext cx="38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Rectangle 7"/>
          <p:cNvSpPr/>
          <p:nvPr/>
        </p:nvSpPr>
        <p:spPr>
          <a:xfrm>
            <a:off x="0" y="38768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3" name="Rectangle 8"/>
          <p:cNvSpPr/>
          <p:nvPr/>
        </p:nvSpPr>
        <p:spPr>
          <a:xfrm>
            <a:off x="4804560" y="590652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4" name="Рисунок 10" descr="b-05-0036-06.jpg"/>
          <p:cNvPicPr/>
          <p:nvPr/>
        </p:nvPicPr>
        <p:blipFill>
          <a:blip r:embed="rId5"/>
          <a:stretch/>
        </p:blipFill>
        <p:spPr>
          <a:xfrm>
            <a:off x="3597120" y="2475000"/>
            <a:ext cx="1876680" cy="2421000"/>
          </a:xfrm>
          <a:prstGeom prst="rect">
            <a:avLst/>
          </a:prstGeom>
          <a:ln w="0">
            <a:noFill/>
          </a:ln>
        </p:spPr>
      </p:pic>
      <p:sp>
        <p:nvSpPr>
          <p:cNvPr id="1525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1" descr="http://30wbask-s11.edusite.ru/images/propis-4.jpg"/>
          <p:cNvPicPr/>
          <p:nvPr/>
        </p:nvPicPr>
        <p:blipFill>
          <a:blip r:embed="rId1"/>
          <a:stretch/>
        </p:blipFill>
        <p:spPr>
          <a:xfrm>
            <a:off x="3529080" y="1762200"/>
            <a:ext cx="1519200" cy="207144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2" descr="http://30wbask-s11.edusite.ru/images/propis-2.jpg"/>
          <p:cNvPicPr/>
          <p:nvPr/>
        </p:nvPicPr>
        <p:blipFill>
          <a:blip r:embed="rId2"/>
          <a:stretch/>
        </p:blipFill>
        <p:spPr>
          <a:xfrm>
            <a:off x="2457360" y="1328760"/>
            <a:ext cx="1517760" cy="21207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3" descr="http://30wbask-s11.edusite.ru/images/small.jpg"/>
          <p:cNvPicPr/>
          <p:nvPr/>
        </p:nvPicPr>
        <p:blipFill>
          <a:blip r:embed="rId3"/>
          <a:stretch/>
        </p:blipFill>
        <p:spPr>
          <a:xfrm>
            <a:off x="1243080" y="1828800"/>
            <a:ext cx="1530360" cy="2090880"/>
          </a:xfrm>
          <a:prstGeom prst="rect">
            <a:avLst/>
          </a:prstGeom>
          <a:ln w="0">
            <a:noFill/>
          </a:ln>
        </p:spPr>
      </p:pic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Impact"/>
              </a:rPr>
              <a:t>Прописи и рабочие тетрад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ru-RU" sz="900" spc="-1" strike="noStrike">
                          <a:solidFill>
                            <a:srgbClr val="666666"/>
                          </a:solidFill>
                          <a:latin typeface="Arial"/>
                          <a:ea typeface="Times New Roman"/>
                        </a:rPr>
                        <a:t> 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1" name="Picture 4" descr="http://30wbask-s11.edusite.ru/images/propis-1.jpg"/>
          <p:cNvPicPr/>
          <p:nvPr/>
        </p:nvPicPr>
        <p:blipFill>
          <a:blip r:embed="rId4"/>
          <a:stretch/>
        </p:blipFill>
        <p:spPr>
          <a:xfrm>
            <a:off x="311040" y="3187800"/>
            <a:ext cx="1548000" cy="20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2" name=""/>
          <p:cNvGraphicFramePr/>
          <p:nvPr/>
        </p:nvGraphicFramePr>
        <p:xfrm>
          <a:off x="1523880" y="3324240"/>
          <a:ext cx="6096240" cy="2095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2095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3" name="Picture 6" descr="http://30wbask-s11.edusite.ru/images/tetrad-pomatem.jpg"/>
          <p:cNvPicPr/>
          <p:nvPr/>
        </p:nvPicPr>
        <p:blipFill>
          <a:blip r:embed="rId5"/>
          <a:stretch/>
        </p:blipFill>
        <p:spPr>
          <a:xfrm>
            <a:off x="7102440" y="1762200"/>
            <a:ext cx="1371600" cy="1852560"/>
          </a:xfrm>
          <a:prstGeom prst="rect">
            <a:avLst/>
          </a:prstGeom>
          <a:ln w="0">
            <a:noFill/>
          </a:ln>
        </p:spPr>
      </p:pic>
      <p:pic>
        <p:nvPicPr>
          <p:cNvPr id="1534" name="Picture 5" descr="b-07-0048-03"/>
          <p:cNvPicPr/>
          <p:nvPr/>
        </p:nvPicPr>
        <p:blipFill>
          <a:blip r:embed="rId6"/>
          <a:stretch/>
        </p:blipFill>
        <p:spPr>
          <a:xfrm>
            <a:off x="6242040" y="147492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1535" name="Рисунок 10" descr="b-05-0023-04.jpg"/>
          <p:cNvPicPr/>
          <p:nvPr/>
        </p:nvPicPr>
        <p:blipFill>
          <a:blip r:embed="rId7"/>
          <a:stretch/>
        </p:blipFill>
        <p:spPr>
          <a:xfrm>
            <a:off x="2597040" y="3902040"/>
            <a:ext cx="2108160" cy="2730600"/>
          </a:xfrm>
          <a:prstGeom prst="rect">
            <a:avLst/>
          </a:prstGeom>
          <a:ln w="0">
            <a:noFill/>
          </a:ln>
        </p:spPr>
      </p:pic>
      <p:pic>
        <p:nvPicPr>
          <p:cNvPr id="1536" name="Рисунок 11" descr="b-08-0015-01.jpg"/>
          <p:cNvPicPr/>
          <p:nvPr/>
        </p:nvPicPr>
        <p:blipFill>
          <a:blip r:embed="rId8"/>
          <a:stretch/>
        </p:blipFill>
        <p:spPr>
          <a:xfrm>
            <a:off x="5095800" y="3975120"/>
            <a:ext cx="2133720" cy="2730600"/>
          </a:xfrm>
          <a:prstGeom prst="rect">
            <a:avLst/>
          </a:prstGeom>
          <a:ln w="0">
            <a:noFill/>
          </a:ln>
        </p:spPr>
      </p:pic>
      <p:sp>
        <p:nvSpPr>
          <p:cNvPr id="153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/>
          </p:nvPr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вайте в ребенке его стремление стать школьником. Ваша искренняя заинтересованность в его школьных делах и заботах, серьезное отношение к его первым достижениям и возможным трудностям помогут первокласснику подтвердить значимость его нового положения и деятельности. Обсудите с ребенком те правила и нормы, с которыми он встретится школе. Объясните их необходимость и целесообраз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4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/>
          </p:nvPr>
        </p:nvSpPr>
        <p:spPr>
          <a:xfrm>
            <a:off x="50004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ш ребенок придет в школу, чтобы учиться. Когда человек учится, у него может что-то не сразу получиться, это естественно. Ребенок имеет право на ошиб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5" name="Picture 6" descr="images 2"/>
          <p:cNvPicPr/>
          <p:nvPr/>
        </p:nvPicPr>
        <p:blipFill>
          <a:blip r:embed="rId1"/>
          <a:stretch/>
        </p:blipFill>
        <p:spPr>
          <a:xfrm>
            <a:off x="5429160" y="2357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4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/>
          </p:nvPr>
        </p:nvSpPr>
        <p:spPr>
          <a:xfrm>
            <a:off x="428760" y="178596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авьте вместе с будущим первоклассником распорядок дня, следите за его соблюдени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8" name="Picture 6" descr="3"/>
          <p:cNvPicPr/>
          <p:nvPr/>
        </p:nvPicPr>
        <p:blipFill>
          <a:blip r:embed="rId1"/>
          <a:stretch/>
        </p:blipFill>
        <p:spPr>
          <a:xfrm>
            <a:off x="5286240" y="2286000"/>
            <a:ext cx="2857680" cy="2152800"/>
          </a:xfrm>
          <a:prstGeom prst="rect">
            <a:avLst/>
          </a:prstGeom>
          <a:ln w="0">
            <a:noFill/>
          </a:ln>
        </p:spPr>
      </p:pic>
      <p:sp>
        <p:nvSpPr>
          <p:cNvPr id="14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/>
          </p:nvPr>
        </p:nvSpPr>
        <p:spPr>
          <a:xfrm>
            <a:off x="3132000" y="1628640"/>
            <a:ext cx="60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пропускайте трудности, возможные у ребенка на начальном этапе овладения учебными навыками. Если у будущего первоклассника, например, есть  логопедические проблемы, постарайтесь справиться с ними до школы или на первом году обуч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1" name="Picture 6" descr="images"/>
          <p:cNvPicPr/>
          <p:nvPr/>
        </p:nvPicPr>
        <p:blipFill>
          <a:blip r:embed="rId1"/>
          <a:stretch/>
        </p:blipFill>
        <p:spPr>
          <a:xfrm>
            <a:off x="285840" y="2928960"/>
            <a:ext cx="2857320" cy="1485720"/>
          </a:xfrm>
          <a:prstGeom prst="rect">
            <a:avLst/>
          </a:prstGeom>
          <a:ln w="0">
            <a:noFill/>
          </a:ln>
        </p:spPr>
      </p:pic>
      <p:sp>
        <p:nvSpPr>
          <p:cNvPr id="15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6119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держите будущего первоклассника в его желании добиться успеха. В каждой работе обязательно найдите, за что можно было его похвалить. Помните, похвала  и эмоциональная поддержка («Молодец!», «Ты так хорошо справился!») способны заметно повысить интеллектуальные достижения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4" name="Picture 6" descr="5"/>
          <p:cNvPicPr/>
          <p:nvPr/>
        </p:nvPicPr>
        <p:blipFill>
          <a:blip r:embed="rId1"/>
          <a:stretch/>
        </p:blipFill>
        <p:spPr>
          <a:xfrm>
            <a:off x="5929200" y="350028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/>
          </p:nvPr>
        </p:nvSpPr>
        <p:spPr>
          <a:xfrm>
            <a:off x="4308480" y="1844280"/>
            <a:ext cx="48355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ас что-то будет беспокоить в поведении ребенка, его учебных делах, не стесняйтесь обращаться за советом и консультацией к учител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7" name="Picture 6" descr="63laundes_kak_vlubit"/>
          <p:cNvPicPr/>
          <p:nvPr/>
        </p:nvPicPr>
        <p:blipFill>
          <a:blip r:embed="rId1"/>
          <a:stretch/>
        </p:blipFill>
        <p:spPr>
          <a:xfrm>
            <a:off x="1000080" y="2571840"/>
            <a:ext cx="2857680" cy="1886040"/>
          </a:xfrm>
          <a:prstGeom prst="rect">
            <a:avLst/>
          </a:prstGeom>
          <a:ln w="0">
            <a:noFill/>
          </a:ln>
        </p:spPr>
      </p:pic>
      <p:sp>
        <p:nvSpPr>
          <p:cNvPr id="15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/>
          </p:nvPr>
        </p:nvSpPr>
        <p:spPr>
          <a:xfrm>
            <a:off x="4642920" y="15717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поступлением в школу в жизни вашего ребенка появится человек более авторитетный, чем вы. Это учитель. Уважайте мнение ребенка о своем педагог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0" name="Picture 6" descr="7"/>
          <p:cNvPicPr/>
          <p:nvPr/>
        </p:nvPicPr>
        <p:blipFill>
          <a:blip r:embed="rId1"/>
          <a:stretch/>
        </p:blipFill>
        <p:spPr>
          <a:xfrm>
            <a:off x="1000080" y="2357280"/>
            <a:ext cx="2857680" cy="2705400"/>
          </a:xfrm>
          <a:prstGeom prst="rect">
            <a:avLst/>
          </a:prstGeom>
          <a:ln w="0">
            <a:noFill/>
          </a:ln>
        </p:spPr>
      </p:pic>
      <p:sp>
        <p:nvSpPr>
          <p:cNvPr id="15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3780000" y="1285560"/>
            <a:ext cx="536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–это нелегкий и ответственный труд. Поступление в школу существенно меняет жизнь ребенка, но не должно лишать её многообразия, радости, игры. У первоклассника должно оставаться достаточно времени для игровых занят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3" name="Рисунок 3" descr="IMG_0392.JPG"/>
          <p:cNvPicPr/>
          <p:nvPr/>
        </p:nvPicPr>
        <p:blipFill>
          <a:blip r:embed="rId1"/>
          <a:stretch/>
        </p:blipFill>
        <p:spPr>
          <a:xfrm>
            <a:off x="214200" y="200016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15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08:09:45Z</dcterms:created>
  <dc:creator>СОШ №3</dc:creator>
  <dc:description/>
  <dc:language>en-US</dc:language>
  <cp:lastModifiedBy>LEGION</cp:lastModifiedBy>
  <dcterms:modified xsi:type="dcterms:W3CDTF">2015-01-27T13:41:37Z</dcterms:modified>
  <cp:revision>17</cp:revision>
  <dc:subject/>
  <dc:title>Советы родителям будущих первоклассников.</dc:title>
</cp:coreProperties>
</file>