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8.jpeg" ContentType="image/jpeg"/>
  <Override PartName="/ppt/media/image11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4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13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PlaceHolder 2"/>
          <p:cNvSpPr>
            <a:spLocks noGrp="1"/>
          </p:cNvSpPr>
          <p:nvPr>
            <p:ph type="dt" idx="4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8" name="PlaceHolder 5"/>
          <p:cNvSpPr>
            <a:spLocks noGrp="1"/>
          </p:cNvSpPr>
          <p:nvPr>
            <p:ph type="ftr" idx="4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PlaceHolder 6"/>
          <p:cNvSpPr>
            <a:spLocks noGrp="1"/>
          </p:cNvSpPr>
          <p:nvPr>
            <p:ph type="sldNum" idx="4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329DB-5923-494D-A0DD-9C06AEF67D5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оветы родителям будущих первоклассни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25E84-108D-462D-8159-9F39131CDE2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Impact"/>
              </a:rPr>
              <a:t>Учебники для 1 клас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2E0D3-658B-4E28-9C16-90DE6F1FF95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Impact"/>
              </a:rPr>
              <a:t>Прописи и рабочие тетрад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3AD01-529F-4B01-9DAD-9BBA95B4270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держивайте в ребенке его стремление стать школьником. Ваша искренняя заинтересованность в его школьных делах и заботах, серьезное отношение к его первым достижениям и возможным трудностям помогут первокласснику подтвердить значимость его нового положения и деятельности. Обсудите с ребенком те правила и нормы, с которыми он встретится школе. Объясните их необходимость и целесообразн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6FB25-B2B4-42DB-9CBF-91181FF11E5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ш ребенок придет в школу, чтобы учиться. Когда человек учится, у него может что-то не сразу получиться, это естественно. Ребенок имеет право на ошибк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A00F1-CEAB-4CB7-86AB-E396C9C7503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авьте вместе с будущим первоклассником распорядок дня, следите за его соблюдени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037CF-A5F5-4394-A620-B08F0ECFE64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пропускайте трудности, возможные у ребенка на начальном этапе овладения учебными навыками. Если у будущего первоклассника, например, есть  логопедические проблемы, постарайтесь справиться с ними до школы или на первом году обуч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94469-E46C-4C5B-B319-9C03D3E8789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держите будущего первоклассника в его желании добиться успеха. В каждой работе обязательно найдите, за что можно было его похвалить. Помните, похвала  и эмоциональная поддержка («Молодец!», «Ты так хорошо справился!») способны заметно повысить интеллектуальные достижения челове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B8F32-10AF-41B5-99C4-1849FE33A36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вас что-то будет беспокоить в поведении ребенка, его учебных делах, не стесняйтесь обращаться за советом и консультацией к учител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82C90-E306-4B0F-BC29-216F6426E56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поступлением в школу в жизни вашего ребенка появится человек более авторитетный, чем вы. Это учитель. Уважайте мнение ребенка о своем педагог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B7BD9-988A-49C6-9B96-4A1EBE567C3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ение –это нелегкий и ответственный труд. Поступление в школу существенно меняет жизнь ребенка, но не должно лишать её многообразия, радости, игры. У первоклассника должно оставаться достаточно времени для игровых занят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D19F2-42B2-43FC-9055-9D2E8476105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4B8EA-E5E0-4571-8E1A-43BCE095B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82C79-C108-4863-A00B-391997150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4DAB1E-C5B7-4C07-8D0F-EF5EF10CC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8273BC-7A4F-4EFA-A241-A84B4D115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89B552-EF14-4EA0-A176-E6FC5D439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5FCD0F-DF1B-4EC4-B558-2AE99858B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19B954-B42E-4669-8D9C-AF5D14E63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A10B89-6F7F-4D92-B8C2-24CCBACDD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55770A-B6BD-40EE-86A3-50E415D69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E03CA0-1634-430E-9046-CA12F3726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2B2EB7-0B0D-4CF5-B41E-F4FD3FD77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9F385D-1A4B-47C5-8BD9-549E2F8B3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99985-D5BF-43CC-B1C7-576BB6D4B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EA0A58-148B-4415-8A28-4D69D3B5A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804784-A3C2-42F1-8ECD-DC52F4CBF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163648-1076-4C0C-BE3E-FEF5F51F2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3BE79E-F5CB-467A-8688-7F87A033B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BDEF9B-3651-4BCD-A9BF-2B27051D7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C39C4C-450E-4BB8-912A-CC9D6D6E1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9AF851-DA45-489D-BB60-2619DA52A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B4357B-B1AD-4693-BDE7-AC0FACAE9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FE162C-FD6B-4E59-A7CD-E295F45EF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3BFF33-AF12-4162-B59C-AF61008D7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EABB7-2641-45EF-AA16-87F574642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BBC7EC-B108-4D87-B95F-743E02599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9579A2-8EB2-41A7-B24F-371CFE322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60014C-E578-423D-8426-915278DBA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3DC2CB-CC9C-43B4-832E-A1B8BAD4F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E7301A-F3D4-4CF2-A5FB-CA3467129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97BEF2-68CC-44DF-AF65-9930074EE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80B846-8A40-42D0-BDB2-F7510D8F1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6376C0-008C-4C81-B26D-A9FC1519A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CEFBF4-211C-46F6-B1D9-8C91D5A8B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77EEAE-A7C1-4BB0-AFD8-298C9D375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F5657-180C-4914-A7E8-7EFF3AA54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35192C-53D8-432D-8FB0-0E509D772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B25077-8DB0-4F72-BB3C-5A1008BEE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589955-5DDE-46C5-A78B-A06283B30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FB5D06-1B6A-4CEB-ACB5-3FC52150F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A7096B-756B-4F72-9171-287994978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4B0EB9-DD38-4361-A5F8-DAD8E61CE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4CC373-134A-4A02-B2BC-91EA675B8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019FF6-F5E5-4C6A-8777-D696185FF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38EBB5-11C8-4870-A49D-4AE387E92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83A890-360E-47F4-9F3B-F712059E9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53994-A0AF-427A-BE1E-0BBF612E9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553326-875E-4692-9B94-4F5BF9305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C52B98-06B6-49F6-BDE5-DD3B98588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CAFD96-287D-4CCB-91E8-826594BD4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BE8D4E-AAC0-4F19-BD86-969A9AB51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D1DF4C-1C68-4135-97A7-1DB4CF974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DBAE793-3FF1-4245-92B0-0EA843C3C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2A6BD66-7E6D-4698-B48A-96C6923C5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536FBA6-31BE-4BCA-AE96-FE9C83C9A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E3D20A5-7699-427D-848A-036635F5C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307076F-9DCC-4140-AE6D-709FB5766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0575B-11BA-4F77-BDE8-7C40E05FF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98E793A-13F8-47A7-A28D-D096EB4C9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A8FBD9C-B337-4DFD-91B3-49F57DF2E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43224C7-1B38-414A-8581-1C0878A97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614F9DD-C355-4098-91F8-ACB825141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395F66C-70B3-4F6C-AB27-3665DC1C3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EAB70B2-42E0-4B3E-A7E1-8EBD57C4D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8698F01-7DE9-40F5-98C7-3B4897202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8B592A7-A2D3-4C20-9F63-3E735B224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811C1E7-3FF5-40AD-9709-77E5BE657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D21EA16-6A16-45BA-8B88-8F3A842B3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FBDE4-E63D-49B1-8DDF-504265DFF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2144217-CC22-4F53-820E-BD0FBA655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C19CEEA-EA36-4FCF-94BF-1203C0B10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925678F-15FB-4F69-BA0F-12CBE8036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486F27F-36A7-48C3-A88D-271276382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284F31C-B6FD-48F2-ADBC-A66C55ED3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DFF6E55-AB2A-458D-BE3B-598BB2982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CDBCCC1-6A01-4929-AB8B-7B931839B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FD97264-D4B2-4637-AE7B-6B9083BB0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9F6B481-BB67-4C36-85F2-0937174E4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E094E-301D-4877-A904-C8AA3473E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0C031-3A77-4430-B145-C5E00DCA1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3EAD4-E5B6-4490-BC1B-CDB1FABEC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0B2F1-B887-409E-BD49-CE9E1F178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D5BAE-800F-40B4-B636-3E334AE1F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ED4D1-6268-48BF-BC59-22A989A5F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F8C74-C892-46D6-9587-C0FF0F3BF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9F709-EBB1-4743-926C-33AAFCD01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7F6AF-ABBD-4D77-8437-8C183437B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61A7FD-8E80-4216-9D5C-0899CD6F5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FB91CF-4481-4A96-8170-4414DD53A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B351AF-3241-4787-8CA6-EAA69F599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38A952-0C9D-4E08-8D83-0BEDE9B76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28CF73-1F07-4BBD-BD1A-0490282CE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017DD-D9E5-4ADC-8A58-182D50254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51565A-D331-4F63-BB35-CB9262BBE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D504D0-E786-4F01-BD27-B69FE04BF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0D2098-1FEF-407E-87B9-63A166765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5F3E77-E4BE-4A68-914D-DFA7F4063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F71D92-337B-4AD8-A244-CEE85D5DC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8A60DB-AFD7-4D6A-B074-EB7B3FBF2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4A4095-6BD7-4153-B279-97444B2DF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913597-4CBC-4DB5-B753-2636CAD19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4A5A10-0957-4409-B6CD-5076D49AF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A40A81-5586-4E6E-BA03-C8CAA60B5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E1531-3A29-45BF-9CB0-13D8CD910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9F05D5-28B8-416A-93AE-4562AD1F5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5CAD86-65DC-43A7-81BA-7329FCA15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85C51C-C619-484A-9EE4-B29F101C4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6BF02A-F2DE-40D3-99C6-E17932A1E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DEC115-8C5E-49D5-B532-19A080902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C7D5A5-D130-46F2-A675-07534B62C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040972-EDBF-46A4-AABC-03030C66E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FA54F2-CAE4-45B6-8384-BE340E4F9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CBBDB9-46D8-4075-A76F-6310889A7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DA2FA5-9B5E-4F01-921B-11D6AC3D6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09563-0BD6-4594-A685-0BE494E95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06F861-23C1-4D52-89B6-04ED0B2AC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0F9D64-148F-420E-BEA3-A789BC32A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C3DDFE-BE96-4C58-BBE7-513ABC167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CECF5F-E4CE-482C-8653-4A517A8E0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F5F106-BB3A-4A51-BB3A-8394501E8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F2278E-7231-4BEE-912B-A64397152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0E4D94-95BF-4966-A6F5-462A1F657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78BD68-C453-4D3D-B478-BA0557173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8D8364-076F-4B13-A7AA-5B9482191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556601-2F26-4364-A411-3C3C10579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EC096-9B5A-4AFC-877A-31A1E891F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7A9102-AEDB-4C2E-93C5-DF73E5A4B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028E7F-9877-4D53-9DCB-8BE6FEFF0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11866E-7454-42D1-B3F4-2793E8B03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21DC29-DE06-4286-9ABB-25E023FA9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447A94-539A-4712-973E-1D60F3873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39C3C3-4BDD-4C87-8159-EFCFD55FA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ECA8EB-71B5-4E60-B18D-43085CC99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12BDAF-8A65-459D-A8B3-02564E514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FF4839-7988-4C03-B375-8D41ED777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B3864B-E6F9-491B-BC3D-F0C9A4EEE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D0045-FE1A-4BDD-B67B-3BAB2FFF2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CD0E00-56D3-483C-9797-618677164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2BC1F7-82C0-4FD9-9A7C-3F094D7D5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FFDA7C-F292-4364-A45E-ED48BC0C0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D814BA-B240-404A-9EE5-2BB2D7564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1F062A-8346-47D1-938C-DE531AB91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4DAD4D-BD88-4C97-80A9-CBDD20EA4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66474C-8C93-468C-9DBA-F74A643C0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2386FD-9BEF-4080-8CFF-B7D9DC3D2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F67BFD-635F-4F65-9511-2F8F97421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EEA331-82FB-44BD-A18E-6BDC65E51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748BC-D7A3-498B-BC15-2F6C10657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FABE69-14FA-4FAB-BF94-159DC37F6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B136D3-518D-4DE7-9D53-DE63F725D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34CE26-E052-463A-A66F-EB1D58F1F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427C1E-4DF4-41F3-A6A5-AD466CB48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DAB723-910C-4BE3-B0B6-E5E37E0D2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312AAA-E32B-4664-8146-AEB18B329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9E94C2-FC95-4BA6-AF96-795487220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04F079-24D9-4358-98EE-CD437D64B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95F067-7A74-4D42-B458-DB2BFA81B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840B7A-35FA-4474-84AB-BDCB9F477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EF5D1-C46B-4B5E-98F0-5BC4386DC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BBD318-3C7C-4AE5-B727-3FB27FD95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C3020E-1C09-4E7B-B85E-E13A22D40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D4691F-A4F0-400F-B1BB-5E6BB6FDB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4AE844-F218-4E43-B78B-CBCBF6086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DE0321-1F65-450C-9FBE-69B6ACEBB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6094CF-0A89-4AA6-8AA0-96F5444F8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04EC2F-951C-411A-A4F9-9B56DAB85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E52229-E2EE-4BA5-9829-F50BB6B1F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B9FC7A-14DB-42C6-A76A-614FAA399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70C3F8-8D27-4C2C-94FE-44B68ECA8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81201-C3DD-4662-98E9-C799201B115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54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955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56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957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8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9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0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1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2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3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4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5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6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7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68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969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0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1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2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3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4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5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6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7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8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9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0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1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2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3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4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5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6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87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988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9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0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1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2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3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4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5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6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7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8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9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0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1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2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3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4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05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006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7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8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9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0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1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2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013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014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15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16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17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7747D-0DD5-4DE6-9967-2A98B04B8EB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60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61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62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63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4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5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6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7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8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9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0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1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2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3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74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075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6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7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8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9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0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1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2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3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4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5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6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7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8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9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0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1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2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93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094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5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6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7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8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9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0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1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2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3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4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5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6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7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8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9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0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11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112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3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4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5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6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7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8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19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120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21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22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23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7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69530-B902-4D26-9855-6427F05B058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66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167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68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169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0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1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2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3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4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5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6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7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8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9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80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181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2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3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4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5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6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7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8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9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0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1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2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3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4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5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6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7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8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99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200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1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2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3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4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5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6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7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8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9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0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1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2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3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4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5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6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17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218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9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0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1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2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3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4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225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226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7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8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9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2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3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6CCE1-CA02-4A72-859E-CE43EC5D418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72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273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74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275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6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7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8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9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0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1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2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3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4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5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86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87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8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9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0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1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2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3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4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5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6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7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8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9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0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1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2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3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4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05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306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7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8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9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0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1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2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3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4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5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6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7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8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9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0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1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2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23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324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5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6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7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8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9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0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331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332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33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34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35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8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9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A28A7-7F81-4904-BC2C-03B7B63E4FE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78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379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80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381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2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3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4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5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6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7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8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9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0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1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2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393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4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5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6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7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8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9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0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1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2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3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4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5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6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7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8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9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0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411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12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3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4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5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6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7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8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9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0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1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2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3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4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5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6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7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8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429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430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1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2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3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4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5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6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437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438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39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40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41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4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5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61291-8792-459A-9677-8063929988E8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D118A-C03A-4AA8-9D19-7229479970B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2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13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14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215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26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227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45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246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63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264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71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272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3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4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5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85C09-9625-442D-8C71-562DC362C24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8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319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20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321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32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333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5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6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51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2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69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370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77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378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9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0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1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E7102-0F54-4A5A-BABE-7AE70686EC6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4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425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26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27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8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9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0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1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3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4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5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6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7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38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439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0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1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2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3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4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5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6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9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0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1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2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3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4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5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6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57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458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0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75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476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83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484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5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6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7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53B71-94C9-4FB2-894E-52B1F3482F8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0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531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32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533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9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1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2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3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44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545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6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7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8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9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0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1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2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3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4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5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6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7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8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9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0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1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2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63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564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5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6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7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8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9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0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1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2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3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4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5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81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82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8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89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590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1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2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3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E0A99-36FD-4666-BC74-3AD08FD7D7B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36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637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38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639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50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651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2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4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8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69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670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87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688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95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96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7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8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9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993E8-D6D7-4A81-929C-F53D5D66C05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42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743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44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745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6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7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8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9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0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1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2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3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4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5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56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757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8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9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0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1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2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3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4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5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6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7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75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776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0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1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93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794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801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802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3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4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5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4C1C1-4418-4ECE-8BEA-0C655C2D807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8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849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50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851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62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863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7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8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9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0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3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8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9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0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81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882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3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4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5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6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9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0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1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2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3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4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5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6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7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8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99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900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1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2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3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4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5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6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907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908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9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0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1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5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45C66-7F61-49FD-92E8-21139C80034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73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image" Target="../media/image21.png"/><Relationship Id="rId9" Type="http://schemas.openxmlformats.org/officeDocument/2006/relationships/slideLayout" Target="../slideLayouts/slideLayout73.xml"/><Relationship Id="rId10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PlaceHolder 1"/>
          <p:cNvSpPr>
            <a:spLocks noGrp="1"/>
          </p:cNvSpPr>
          <p:nvPr>
            <p:ph type="title"/>
          </p:nvPr>
        </p:nvSpPr>
        <p:spPr>
          <a:xfrm>
            <a:off x="571680" y="1285920"/>
            <a:ext cx="7772400" cy="3573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ecff"/>
                </a:solidFill>
                <a:latin typeface="Arial"/>
              </a:rPr>
              <a:t>Советы родителям будущих первоклассников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5000">
    <p:circl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Impact"/>
              </a:rPr>
              <a:t>Учебники для 1 класса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516" name="Picture 4" descr="b-04-0001-01"/>
          <p:cNvPicPr/>
          <p:nvPr/>
        </p:nvPicPr>
        <p:blipFill>
          <a:blip r:embed="rId1"/>
          <a:stretch/>
        </p:blipFill>
        <p:spPr>
          <a:xfrm>
            <a:off x="1384200" y="1616040"/>
            <a:ext cx="1803600" cy="2266920"/>
          </a:xfrm>
          <a:prstGeom prst="rect">
            <a:avLst/>
          </a:prstGeom>
          <a:ln w="0">
            <a:noFill/>
          </a:ln>
        </p:spPr>
      </p:pic>
      <p:pic>
        <p:nvPicPr>
          <p:cNvPr id="1517" name="Picture 3" descr="b-06-0010-01"/>
          <p:cNvPicPr/>
          <p:nvPr/>
        </p:nvPicPr>
        <p:blipFill>
          <a:blip r:embed="rId2"/>
          <a:stretch/>
        </p:blipFill>
        <p:spPr>
          <a:xfrm>
            <a:off x="5742000" y="1616040"/>
            <a:ext cx="1731960" cy="2163960"/>
          </a:xfrm>
          <a:prstGeom prst="rect">
            <a:avLst/>
          </a:prstGeom>
          <a:ln w="0">
            <a:noFill/>
          </a:ln>
        </p:spPr>
      </p:pic>
      <p:pic>
        <p:nvPicPr>
          <p:cNvPr id="1518" name="Picture 2" descr="b-07-0019-01"/>
          <p:cNvPicPr/>
          <p:nvPr/>
        </p:nvPicPr>
        <p:blipFill>
          <a:blip r:embed="rId3"/>
          <a:stretch/>
        </p:blipFill>
        <p:spPr>
          <a:xfrm>
            <a:off x="1457280" y="4260960"/>
            <a:ext cx="1730520" cy="2182680"/>
          </a:xfrm>
          <a:prstGeom prst="rect">
            <a:avLst/>
          </a:prstGeom>
          <a:ln w="0">
            <a:noFill/>
          </a:ln>
        </p:spPr>
      </p:pic>
      <p:pic>
        <p:nvPicPr>
          <p:cNvPr id="1519" name="Picture 1" descr="b-08-0015-01"/>
          <p:cNvPicPr/>
          <p:nvPr/>
        </p:nvPicPr>
        <p:blipFill>
          <a:blip r:embed="rId4"/>
          <a:stretch/>
        </p:blipFill>
        <p:spPr>
          <a:xfrm>
            <a:off x="5742000" y="4260960"/>
            <a:ext cx="1658880" cy="2116080"/>
          </a:xfrm>
          <a:prstGeom prst="rect">
            <a:avLst/>
          </a:prstGeom>
          <a:ln w="0">
            <a:noFill/>
          </a:ln>
        </p:spPr>
      </p:pic>
      <p:sp>
        <p:nvSpPr>
          <p:cNvPr id="1520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1" name="Rectangle 6"/>
          <p:cNvSpPr/>
          <p:nvPr/>
        </p:nvSpPr>
        <p:spPr>
          <a:xfrm>
            <a:off x="4838040" y="2049120"/>
            <a:ext cx="38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Verdana"/>
                <a:ea typeface="Times New Roman"/>
              </a:rPr>
              <a:t>  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2" name="Rectangle 7"/>
          <p:cNvSpPr/>
          <p:nvPr/>
        </p:nvSpPr>
        <p:spPr>
          <a:xfrm>
            <a:off x="0" y="38768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3" name="Rectangle 8"/>
          <p:cNvSpPr/>
          <p:nvPr/>
        </p:nvSpPr>
        <p:spPr>
          <a:xfrm>
            <a:off x="4804560" y="5906520"/>
            <a:ext cx="44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Verdana"/>
                <a:ea typeface="Times New Roman"/>
              </a:rPr>
              <a:t>    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4" name="Рисунок 10" descr="b-05-0036-06.jpg"/>
          <p:cNvPicPr/>
          <p:nvPr/>
        </p:nvPicPr>
        <p:blipFill>
          <a:blip r:embed="rId5"/>
          <a:stretch/>
        </p:blipFill>
        <p:spPr>
          <a:xfrm>
            <a:off x="3597120" y="2475000"/>
            <a:ext cx="1876680" cy="2421000"/>
          </a:xfrm>
          <a:prstGeom prst="rect">
            <a:avLst/>
          </a:prstGeom>
          <a:ln w="0">
            <a:noFill/>
          </a:ln>
        </p:spPr>
      </p:pic>
      <p:sp>
        <p:nvSpPr>
          <p:cNvPr id="1525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5000">
    <p:circl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6" name="Picture 1" descr="http://30wbask-s11.edusite.ru/images/propis-4.jpg"/>
          <p:cNvPicPr/>
          <p:nvPr/>
        </p:nvPicPr>
        <p:blipFill>
          <a:blip r:embed="rId1"/>
          <a:stretch/>
        </p:blipFill>
        <p:spPr>
          <a:xfrm>
            <a:off x="3529080" y="1762200"/>
            <a:ext cx="1519200" cy="2071440"/>
          </a:xfrm>
          <a:prstGeom prst="rect">
            <a:avLst/>
          </a:prstGeom>
          <a:ln w="0">
            <a:noFill/>
          </a:ln>
        </p:spPr>
      </p:pic>
      <p:pic>
        <p:nvPicPr>
          <p:cNvPr id="1527" name="Picture 2" descr="http://30wbask-s11.edusite.ru/images/propis-2.jpg"/>
          <p:cNvPicPr/>
          <p:nvPr/>
        </p:nvPicPr>
        <p:blipFill>
          <a:blip r:embed="rId2"/>
          <a:stretch/>
        </p:blipFill>
        <p:spPr>
          <a:xfrm>
            <a:off x="2457360" y="1328760"/>
            <a:ext cx="1517760" cy="2120760"/>
          </a:xfrm>
          <a:prstGeom prst="rect">
            <a:avLst/>
          </a:prstGeom>
          <a:ln w="0">
            <a:noFill/>
          </a:ln>
        </p:spPr>
      </p:pic>
      <p:pic>
        <p:nvPicPr>
          <p:cNvPr id="1528" name="Picture 3" descr="http://30wbask-s11.edusite.ru/images/small.jpg"/>
          <p:cNvPicPr/>
          <p:nvPr/>
        </p:nvPicPr>
        <p:blipFill>
          <a:blip r:embed="rId3"/>
          <a:stretch/>
        </p:blipFill>
        <p:spPr>
          <a:xfrm>
            <a:off x="1243080" y="1828800"/>
            <a:ext cx="1530360" cy="2090880"/>
          </a:xfrm>
          <a:prstGeom prst="rect">
            <a:avLst/>
          </a:prstGeom>
          <a:ln w="0">
            <a:noFill/>
          </a:ln>
        </p:spPr>
      </p:pic>
      <p:sp>
        <p:nvSpPr>
          <p:cNvPr id="15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Impact"/>
              </a:rPr>
              <a:t>Прописи и рабочие тетради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1530" name=""/>
          <p:cNvGraphicFramePr/>
          <p:nvPr/>
        </p:nvGraphicFramePr>
        <p:xfrm>
          <a:off x="1523880" y="3324240"/>
          <a:ext cx="6096240" cy="209520"/>
        </p:xfrm>
        <a:graphic>
          <a:graphicData uri="http://schemas.openxmlformats.org/drawingml/2006/table">
            <a:tbl>
              <a:tblPr/>
              <a:tblGrid>
                <a:gridCol w="1524240"/>
                <a:gridCol w="1523880"/>
                <a:gridCol w="1523880"/>
                <a:gridCol w="1524240"/>
              </a:tblGrid>
              <a:tr h="209520"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 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r>
                        <a:rPr b="0" lang="ru-RU" sz="900" spc="-1" strike="noStrike">
                          <a:solidFill>
                            <a:srgbClr val="666666"/>
                          </a:solidFill>
                          <a:latin typeface="Arial"/>
                          <a:ea typeface="Times New Roman"/>
                        </a:rPr>
                        <a:t>  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r>
                        <a:rPr b="0" lang="ru-RU" sz="900" spc="-1" strike="noStrike">
                          <a:solidFill>
                            <a:srgbClr val="666666"/>
                          </a:solidFill>
                          <a:latin typeface="Arial"/>
                          <a:ea typeface="Times New Roman"/>
                        </a:rPr>
                        <a:t>  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531" name="Picture 4" descr="http://30wbask-s11.edusite.ru/images/propis-1.jpg"/>
          <p:cNvPicPr/>
          <p:nvPr/>
        </p:nvPicPr>
        <p:blipFill>
          <a:blip r:embed="rId4"/>
          <a:stretch/>
        </p:blipFill>
        <p:spPr>
          <a:xfrm>
            <a:off x="311040" y="3187800"/>
            <a:ext cx="1548000" cy="2097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32" name=""/>
          <p:cNvGraphicFramePr/>
          <p:nvPr/>
        </p:nvGraphicFramePr>
        <p:xfrm>
          <a:off x="1523880" y="3324240"/>
          <a:ext cx="6096240" cy="209520"/>
        </p:xfrm>
        <a:graphic>
          <a:graphicData uri="http://schemas.openxmlformats.org/drawingml/2006/table">
            <a:tbl>
              <a:tblPr/>
              <a:tblGrid>
                <a:gridCol w="3048120"/>
                <a:gridCol w="3048120"/>
              </a:tblGrid>
              <a:tr h="209520"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 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533" name="Picture 6" descr="http://30wbask-s11.edusite.ru/images/tetrad-pomatem.jpg"/>
          <p:cNvPicPr/>
          <p:nvPr/>
        </p:nvPicPr>
        <p:blipFill>
          <a:blip r:embed="rId5"/>
          <a:stretch/>
        </p:blipFill>
        <p:spPr>
          <a:xfrm>
            <a:off x="7102440" y="1762200"/>
            <a:ext cx="1371600" cy="1852560"/>
          </a:xfrm>
          <a:prstGeom prst="rect">
            <a:avLst/>
          </a:prstGeom>
          <a:ln w="0">
            <a:noFill/>
          </a:ln>
        </p:spPr>
      </p:pic>
      <p:pic>
        <p:nvPicPr>
          <p:cNvPr id="1534" name="Picture 5" descr="b-07-0048-03"/>
          <p:cNvPicPr/>
          <p:nvPr/>
        </p:nvPicPr>
        <p:blipFill>
          <a:blip r:embed="rId6"/>
          <a:stretch/>
        </p:blipFill>
        <p:spPr>
          <a:xfrm>
            <a:off x="6242040" y="1474920"/>
            <a:ext cx="1305000" cy="1828800"/>
          </a:xfrm>
          <a:prstGeom prst="rect">
            <a:avLst/>
          </a:prstGeom>
          <a:ln w="0">
            <a:noFill/>
          </a:ln>
        </p:spPr>
      </p:pic>
      <p:pic>
        <p:nvPicPr>
          <p:cNvPr id="1535" name="Рисунок 10" descr="b-05-0023-04.jpg"/>
          <p:cNvPicPr/>
          <p:nvPr/>
        </p:nvPicPr>
        <p:blipFill>
          <a:blip r:embed="rId7"/>
          <a:stretch/>
        </p:blipFill>
        <p:spPr>
          <a:xfrm>
            <a:off x="2597040" y="3902040"/>
            <a:ext cx="2108160" cy="2730600"/>
          </a:xfrm>
          <a:prstGeom prst="rect">
            <a:avLst/>
          </a:prstGeom>
          <a:ln w="0">
            <a:noFill/>
          </a:ln>
        </p:spPr>
      </p:pic>
      <p:pic>
        <p:nvPicPr>
          <p:cNvPr id="1536" name="Рисунок 11" descr="b-08-0015-01.jpg"/>
          <p:cNvPicPr/>
          <p:nvPr/>
        </p:nvPicPr>
        <p:blipFill>
          <a:blip r:embed="rId8"/>
          <a:stretch/>
        </p:blipFill>
        <p:spPr>
          <a:xfrm>
            <a:off x="5095800" y="3975120"/>
            <a:ext cx="2133720" cy="2730600"/>
          </a:xfrm>
          <a:prstGeom prst="rect">
            <a:avLst/>
          </a:prstGeom>
          <a:ln w="0">
            <a:noFill/>
          </a:ln>
        </p:spPr>
      </p:pic>
      <p:sp>
        <p:nvSpPr>
          <p:cNvPr id="1537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5000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/>
          </p:nvPr>
        </p:nvSpPr>
        <p:spPr>
          <a:xfrm>
            <a:off x="428760" y="1285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ддерживайте в ребенке его стремление стать школьником. Ваша искренняя заинтересованность в его школьных делах и заботах, серьезное отношение к его первым достижениям и возможным трудностям помогут первокласснику подтвердить значимость его нового положения и деятельности. Обсудите с ребенком те правила и нормы, с которыми он встретится школе. Объясните их необходимость и целесообразность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4000"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/>
          </p:nvPr>
        </p:nvSpPr>
        <p:spPr>
          <a:xfrm>
            <a:off x="500040" y="14288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аш ребенок придет в школу, чтобы учиться. Когда человек учится, у него может что-то не сразу получиться, это естественно. Ребенок имеет право на ошибк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5" name="Picture 6" descr="images 2"/>
          <p:cNvPicPr/>
          <p:nvPr/>
        </p:nvPicPr>
        <p:blipFill>
          <a:blip r:embed="rId1"/>
          <a:stretch/>
        </p:blipFill>
        <p:spPr>
          <a:xfrm>
            <a:off x="5429160" y="2357280"/>
            <a:ext cx="2857680" cy="2857680"/>
          </a:xfrm>
          <a:prstGeom prst="rect">
            <a:avLst/>
          </a:prstGeom>
          <a:ln w="0">
            <a:noFill/>
          </a:ln>
        </p:spPr>
      </p:pic>
      <p:sp>
        <p:nvSpPr>
          <p:cNvPr id="14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5000"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7" name="PlaceHolder 1"/>
          <p:cNvSpPr>
            <a:spLocks noGrp="1"/>
          </p:cNvSpPr>
          <p:nvPr>
            <p:ph/>
          </p:nvPr>
        </p:nvSpPr>
        <p:spPr>
          <a:xfrm>
            <a:off x="428760" y="1785960"/>
            <a:ext cx="40384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оставьте вместе с будущим первоклассником распорядок дня, следите за его соблюдение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8" name="Picture 6" descr="3"/>
          <p:cNvPicPr/>
          <p:nvPr/>
        </p:nvPicPr>
        <p:blipFill>
          <a:blip r:embed="rId1"/>
          <a:stretch/>
        </p:blipFill>
        <p:spPr>
          <a:xfrm>
            <a:off x="5286240" y="2286000"/>
            <a:ext cx="2857680" cy="2152800"/>
          </a:xfrm>
          <a:prstGeom prst="rect">
            <a:avLst/>
          </a:prstGeom>
          <a:ln w="0">
            <a:noFill/>
          </a:ln>
        </p:spPr>
      </p:pic>
      <p:sp>
        <p:nvSpPr>
          <p:cNvPr id="14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5000"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0" name="PlaceHolder 1"/>
          <p:cNvSpPr>
            <a:spLocks noGrp="1"/>
          </p:cNvSpPr>
          <p:nvPr>
            <p:ph/>
          </p:nvPr>
        </p:nvSpPr>
        <p:spPr>
          <a:xfrm>
            <a:off x="3132000" y="1628640"/>
            <a:ext cx="601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е пропускайте трудности, возможные у ребенка на начальном этапе овладения учебными навыками. Если у будущего первоклассника, например, есть  логопедические проблемы, постарайтесь справиться с ними до школы или на первом году обуче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1" name="Picture 6" descr="images"/>
          <p:cNvPicPr/>
          <p:nvPr/>
        </p:nvPicPr>
        <p:blipFill>
          <a:blip r:embed="rId1"/>
          <a:stretch/>
        </p:blipFill>
        <p:spPr>
          <a:xfrm>
            <a:off x="285840" y="2928960"/>
            <a:ext cx="2857320" cy="1485720"/>
          </a:xfrm>
          <a:prstGeom prst="rect">
            <a:avLst/>
          </a:prstGeom>
          <a:ln w="0">
            <a:noFill/>
          </a:ln>
        </p:spPr>
      </p:pic>
      <p:sp>
        <p:nvSpPr>
          <p:cNvPr id="15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5000">
    <p:circl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PlaceHolder 1"/>
          <p:cNvSpPr>
            <a:spLocks noGrp="1"/>
          </p:cNvSpPr>
          <p:nvPr>
            <p:ph/>
          </p:nvPr>
        </p:nvSpPr>
        <p:spPr>
          <a:xfrm>
            <a:off x="-360" y="260280"/>
            <a:ext cx="61196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ддержите будущего первоклассника в его желании добиться успеха. В каждой работе обязательно найдите, за что можно было его похвалить. Помните, похвала  и эмоциональная поддержка («Молодец!», «Ты так хорошо справился!») способны заметно повысить интеллектуальные достижения человек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4" name="Picture 6" descr="5"/>
          <p:cNvPicPr/>
          <p:nvPr/>
        </p:nvPicPr>
        <p:blipFill>
          <a:blip r:embed="rId1"/>
          <a:stretch/>
        </p:blipFill>
        <p:spPr>
          <a:xfrm>
            <a:off x="5929200" y="3500280"/>
            <a:ext cx="2857680" cy="2857680"/>
          </a:xfrm>
          <a:prstGeom prst="rect">
            <a:avLst/>
          </a:prstGeom>
          <a:ln w="0">
            <a:noFill/>
          </a:ln>
        </p:spPr>
      </p:pic>
      <p:sp>
        <p:nvSpPr>
          <p:cNvPr id="15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5000"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6" name="PlaceHolder 1"/>
          <p:cNvSpPr>
            <a:spLocks noGrp="1"/>
          </p:cNvSpPr>
          <p:nvPr>
            <p:ph/>
          </p:nvPr>
        </p:nvSpPr>
        <p:spPr>
          <a:xfrm>
            <a:off x="4308480" y="1844280"/>
            <a:ext cx="483552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Если вас что-то будет беспокоить в поведении ребенка, его учебных делах, не стесняйтесь обращаться за советом и консультацией к учителю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7" name="Picture 6" descr="63laundes_kak_vlubit"/>
          <p:cNvPicPr/>
          <p:nvPr/>
        </p:nvPicPr>
        <p:blipFill>
          <a:blip r:embed="rId1"/>
          <a:stretch/>
        </p:blipFill>
        <p:spPr>
          <a:xfrm>
            <a:off x="1000080" y="2571840"/>
            <a:ext cx="2857680" cy="1886040"/>
          </a:xfrm>
          <a:prstGeom prst="rect">
            <a:avLst/>
          </a:prstGeom>
          <a:ln w="0">
            <a:noFill/>
          </a:ln>
        </p:spPr>
      </p:pic>
      <p:sp>
        <p:nvSpPr>
          <p:cNvPr id="150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5000">
    <p:circl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PlaceHolder 1"/>
          <p:cNvSpPr>
            <a:spLocks noGrp="1"/>
          </p:cNvSpPr>
          <p:nvPr>
            <p:ph/>
          </p:nvPr>
        </p:nvSpPr>
        <p:spPr>
          <a:xfrm>
            <a:off x="4642920" y="157176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 поступлением в школу в жизни вашего ребенка появится человек более авторитетный, чем вы. Это учитель. Уважайте мнение ребенка о своем педагог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0" name="Picture 6" descr="7"/>
          <p:cNvPicPr/>
          <p:nvPr/>
        </p:nvPicPr>
        <p:blipFill>
          <a:blip r:embed="rId1"/>
          <a:stretch/>
        </p:blipFill>
        <p:spPr>
          <a:xfrm>
            <a:off x="1000080" y="2357280"/>
            <a:ext cx="2857680" cy="2705400"/>
          </a:xfrm>
          <a:prstGeom prst="rect">
            <a:avLst/>
          </a:prstGeom>
          <a:ln w="0">
            <a:noFill/>
          </a:ln>
        </p:spPr>
      </p:pic>
      <p:sp>
        <p:nvSpPr>
          <p:cNvPr id="151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5000">
    <p:circl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PlaceHolder 1"/>
          <p:cNvSpPr>
            <a:spLocks noGrp="1"/>
          </p:cNvSpPr>
          <p:nvPr>
            <p:ph/>
          </p:nvPr>
        </p:nvSpPr>
        <p:spPr>
          <a:xfrm>
            <a:off x="3780000" y="1285560"/>
            <a:ext cx="536400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чение –это нелегкий и ответственный труд. Поступление в школу существенно меняет жизнь ребенка, но не должно лишать её многообразия, радости, игры. У первоклассника должно оставаться достаточно времени для игровых заняти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3" name="Рисунок 3" descr="IMG_0392.JPG"/>
          <p:cNvPicPr/>
          <p:nvPr/>
        </p:nvPicPr>
        <p:blipFill>
          <a:blip r:embed="rId1"/>
          <a:stretch/>
        </p:blipFill>
        <p:spPr>
          <a:xfrm>
            <a:off x="214200" y="2000160"/>
            <a:ext cx="3810240" cy="2857680"/>
          </a:xfrm>
          <a:prstGeom prst="rect">
            <a:avLst/>
          </a:prstGeom>
          <a:ln w="0">
            <a:noFill/>
          </a:ln>
        </p:spPr>
      </p:pic>
      <p:sp>
        <p:nvSpPr>
          <p:cNvPr id="15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5000"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5T08:09:45Z</dcterms:created>
  <dc:creator>СОШ №3</dc:creator>
  <dc:description/>
  <dc:language>en-US</dc:language>
  <cp:lastModifiedBy>LEGION</cp:lastModifiedBy>
  <dcterms:modified xsi:type="dcterms:W3CDTF">2015-01-27T13:41:37Z</dcterms:modified>
  <cp:revision>17</cp:revision>
  <dc:subject/>
  <dc:title>Советы родителям будущих первоклассников.</dc:title>
</cp:coreProperties>
</file>