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7EBA-BCCA-4AF8-AD2B-7306800F8D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1292"/>
                </a:solidFill>
                <a:latin typeface="Calibri"/>
              </a:rPr>
              <a:t>Внедрение ФГОС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едагогический сов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B4B8-CEBC-45BC-A0BB-C03D6FBFF3B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танд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3390-7382-477D-B9B6-7139F19EC1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Требования к </a:t>
            </a:r>
            <a:r>
              <a:rPr b="0" lang="ru-RU" sz="1100" spc="-1" strike="noStrike" u="sng">
                <a:solidFill>
                  <a:srgbClr val="ff0000"/>
                </a:solidFill>
                <a:uFillTx/>
                <a:latin typeface="Calibri"/>
              </a:rPr>
              <a:t>результатам</a:t>
            </a: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 освоения </a:t>
            </a:r>
            <a:br>
              <a:rPr sz="1100"/>
            </a:b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основной образовательной программы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Личнос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готовность и способность к само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отивация к обучению и п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енностно-смысловые устан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оциальные компетенции, личност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Мета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ниверсальные учебные дей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знав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пыт деятельности специфической для данной предметной об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истема основополагающих элементов научного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5FDC-6EC9-46E1-AD3E-0AD8BCA59AD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  <a:ea typeface="Arial"/>
              </a:rPr>
              <a:t>Универсальные учебные действ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вокупность способов действия учащегося, обеспечивающих его способность к самостоятельному усвоению новых знаний, включая организацию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5166-FC13-48EE-BA0D-735C01E4EB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ичност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Регуля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87F5-6D04-4DAD-9865-74AE48D6BF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Познаватель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щеучебные, включ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-предметны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Коммуник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26F5-108C-4A09-BC26-E45D2F59769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9900"/>
                </a:solidFill>
                <a:latin typeface="Calibri"/>
              </a:rPr>
              <a:t>Фрагмент тематического план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вездное небо – великая книга природ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р. 16-21, Т. стр. 7-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 такое созвезди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определить направление сторон горизонта по Полярной звезд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чему ученый назвал  звездное небо   Великой книгой     Природы?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ебесные тела, планета, Млечный путь, созвездие, астроном, названия созвезд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ть название созвездий; уметь пользоваться атласом-определителем и находи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озвездия на звездной карте и в ночном неб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ланировать свои действия в соответствии с поставленной задачей, в сотрудничестве с учителем ставить новые учебные задач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е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ладеть полученной информацией и строить монологическое высказыв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вышение самооценки учен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4196-BBC4-4E4B-8E3E-97AAD3BB40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ФГОС  повлечет за собой изменения в БУП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4596-DE53-46CB-96C0-66A9BEDBE5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Переход от «догоняющ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к «опережающей» модели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606D-56DE-4C77-B725-61FC7EE52B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Личност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Внутренняя позиция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декватная мотивация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иентация на моральные нормы и их выпол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особность к моральной децен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C6F-A135-4ABD-AFB2-72E32FCB6B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Регуля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ние всеми типами учеб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ланировать реализацию учебной цели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Контролировать и оценивать свои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D45D-7346-4313-A883-D782977FC1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- социальная норма, обще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оговор между семьей, обществом 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78B6-5AC5-4B18-90A1-0B1F2274F9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Познаватель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Использовать знаково-символ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ть действием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Коммуника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Учитывать позицию собесе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ганизовывать и осуществлять сотрудничество с учителем и сверс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ередава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524E-07DB-4CD2-A297-70710C5F1D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Выж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е самый си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и не самый ум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а тот, 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учше всех отклик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а происходящ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Calibri"/>
              </a:rPr>
              <a:t>                                                 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Чарльз Дар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асибо за сотрудничеств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BD96-3785-4C35-82D1-B265DB039A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жны получать удовл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фессион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 учителя!</a:t>
            </a:r>
            <a:r>
              <a:rPr b="0" lang="ru-RU" sz="1200" spc="-1" strike="noStrike">
                <a:solidFill>
                  <a:srgbClr val="502652"/>
                </a:solidFill>
                <a:latin typeface="Calibri"/>
              </a:rPr>
              <a:t>(отличие стандартов второго поко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B553-A3EA-451A-A4E4-D66B181AEB2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7202-4ED4-4CD7-BB62-F8936A45CC4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8472-2E09-4E8D-9E58-76774F85A5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еятельности во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педагогическая задач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и организация условий, инициирующих ученическое дей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 основе реализации стандарта –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истемно – деятельностный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ход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вным деятел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лжен быть РЕБЁ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1123-C1A6-4AD6-902F-D1C97DEF22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Требования к структуре основ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образовательно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110D-AC46-4E1B-B4EC-057CB6DFF6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Требования к структуре </a:t>
            </a:r>
            <a:br>
              <a:rPr sz="2400"/>
            </a:b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основной образовательно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Зафиксированы требования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количеству и наименованию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(всего-9), в том числе к учебному плану общеобразовательного учре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минимальному и максимальному количеству учебных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часов за 4 года (2 904 - 3 210 ча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держанию каждого из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отношению частей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основной общеобразовательной  программы (80/20% для первой сту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рганизации внеуроч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D9DD-FD87-496A-ACDE-663FD22C842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Требования к структур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основная образовательная программа –целостный докум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ланируемые результаты освоения основной образовательной  програ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учебный пла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формирования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ы  учебных предме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духовно-нравственного развития, воспит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формирования культуры  здорового и безопасного образа жиз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коррекционной работы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система оценки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достижения 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неурочная деятельность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время, отводимое на внеурочную деятельность, составляе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до 1350 часов 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(учебные занятия: не менее 2904 ч. и не более 3210 ч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36EA-1B80-4723-ABF7-D510017921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08BF-6523-40D7-A99A-D3497C15FC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Основные трудности педагогических работников   </a:t>
            </a:r>
            <a:br>
              <a:rPr sz="1200"/>
            </a:b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на этапе введения ФГ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8D4-80CB-43BD-89BF-2E84CDEB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04C-05B2-4E56-A417-6496F4D6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5A6-AFF1-48A7-9242-992CEA7E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63E-834F-4335-A840-25AD7A6C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89F3F-8DAA-4BBC-8EEB-4FC3F7B5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9FD1D-2364-492C-9D8D-C1515321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5132A-23D8-4B76-AE03-029B3CBF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29A64-C32E-4F5A-8F0A-5F2D0A9B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987C2-F3B1-40C8-9CDF-6DB241AE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8A4B-4308-4CE9-8FD2-1DA8F2D4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94F8E-C051-4BA4-9DC7-81E1193C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7A6-3DD5-4D46-852E-AE4ECF0C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A79ED-FE2C-440E-B77B-588216E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0215A-0711-4235-B7C1-BBBE3640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27A17-0A00-4112-8CD4-6509DBE3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F565A-95E5-4AA0-9E5B-0ABFB8B0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75372-58BD-4850-8D59-309D9596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95414-4381-4045-A379-AFC2DA4F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AE71-6A6F-4E4A-90C8-AED80292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00BE-90C2-4725-A50B-E0F7E193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2C79-58C7-44D5-A9B8-87242E40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2C58-DD1A-490A-85B6-67F7793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C17-B60D-4CF4-998C-868E664B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D7AF-C784-44F2-89E4-4C4B5333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2EDE-B4CB-4221-9CCF-F7520F25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957F1-0E08-4C9F-A027-41305C6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36FB-FFBF-40B4-BA80-44489B1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23B8-4EB2-4DDB-998E-B9FBD7F0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24C7-A110-4B90-AFED-E1B4F586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D9A8-8673-4353-BB75-3FF6DE5F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43E54-9197-4A4F-A419-1B513455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2DEB1-ADD6-4A80-BF68-C714894B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AA0F7-FBF1-4056-92C2-4CBAF9B1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17C-8530-469F-8731-9E000E09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71092-5F2F-4D28-A51A-B51C076A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02ECE-8DE1-40AC-A5D2-AB919892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8FD22-E4FA-4AC7-944A-44914DAB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0B706D-17B7-427B-9C80-B5987631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4FCEE-BDCE-4B97-999D-76251698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50F38-EE39-413F-8D18-AB785A4D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8A165-3F19-43BA-8C11-3D4A5A54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86C24-C269-4659-8376-B00FCD6E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30B41-B101-47F8-8C3F-83163F7F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785-368C-47E5-8B63-F421988D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AEC-F1AB-46C4-89C5-E5FA08C3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023-EEEC-4749-8A86-2B56A129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336-07E6-4D3F-B738-62AB97DA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7BC-49C0-422A-8DBA-D55D00DC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FF71-18AB-43EF-9E6C-9D76C3518AD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C59B-A03A-4D4D-B32A-84F5FD232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AACA-01D2-4A7D-AC22-13BFA303A56B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B6B8-DAE3-4865-A467-1B43EE2F17A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A218-6D87-4E25-A483-5F2E06CD29E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1536-178D-460B-A880-1E9D080840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99E8-35A8-44DD-A9F7-67369D8DC20F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AEC5-3603-4CD8-A3AE-12D70683086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1292"/>
                </a:solidFill>
                <a:latin typeface="Arial Black"/>
              </a:rPr>
              <a:t>Внедрение ФГОС в начальной школ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46280" y="4316400"/>
            <a:ext cx="4819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дагогический 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Стандарт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5215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Требования к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результатам</a:t>
            </a: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 освоения </a:t>
            </a:r>
            <a:br>
              <a:rPr sz="1800"/>
            </a:b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основной образовательной программы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Личнос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готовность и способность к саморазвит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мотивация к обучению и позн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ценностно-смысловые установ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оциальные компетенции, личност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Мета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универсальные учебные действ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знав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гуля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пыт деятельности специфической для данной предмет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истема основополагающих элементов научного 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542880" y="907920"/>
            <a:ext cx="8229600" cy="55054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4"/>
          <p:cNvSpPr txBox="1"/>
          <p:nvPr/>
        </p:nvSpPr>
        <p:spPr>
          <a:xfrm>
            <a:off x="914400" y="8380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b7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b7"/>
              </a:solidFill>
              <a:latin typeface="Arial"/>
              <a:ea typeface="Arial"/>
            </a:endParaRPr>
          </a:p>
        </p:txBody>
      </p:sp>
      <p:pic>
        <p:nvPicPr>
          <p:cNvPr id="269" name="Picture 4" descr="D:\анимашки\дети\комп.gif"/>
          <p:cNvPicPr/>
          <p:nvPr/>
        </p:nvPicPr>
        <p:blipFill>
          <a:blip r:embed="rId2"/>
          <a:stretch/>
        </p:blipFill>
        <p:spPr>
          <a:xfrm>
            <a:off x="6156360" y="429264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Регулятив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4424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Познавательные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бщеучебные, включ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ьно-предметные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66"/>
                </a:solidFill>
                <a:uFillTx/>
                <a:latin typeface="Arial"/>
              </a:rPr>
              <a:t>Коммуникативны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9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Фрагмент тематического планирования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00040" y="2000160"/>
          <a:ext cx="8358120" cy="4206960"/>
        </p:xfrm>
        <a:graphic>
          <a:graphicData uri="http://schemas.openxmlformats.org/drawingml/2006/table">
            <a:tbl>
              <a:tblPr/>
              <a:tblGrid>
                <a:gridCol w="452520"/>
                <a:gridCol w="1495440"/>
                <a:gridCol w="1454040"/>
                <a:gridCol w="1198440"/>
                <a:gridCol w="1022400"/>
                <a:gridCol w="1711440"/>
                <a:gridCol w="1023840"/>
              </a:tblGrid>
              <a:tr h="4206960"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 Blac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вездное небо – великая книга прир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тр. 16-21, Т. стр. 7-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Что такое созвезди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Как определить направление сторон горизонта по Полярной звезд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чему ученый назвал  звездное небо   Великой книгой     Природы?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Небесные тела, планета, Млечный путь, созвездие, астроном, названия созвезд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нать название созвездий; уметь пользоваться атласом-определителем и находи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озвездия на звездной карте и в ночном небе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Регуля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ланировать свои действия в соответствии с поставленной задачей, в сотрудничестве с учителем ставить новые учебные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Познавательные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Коммуника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ладеть полученной информацией и строить монологическое высказы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вышение самооценки уче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00040" y="1000080"/>
          <a:ext cx="8286840" cy="978120"/>
        </p:xfrm>
        <a:graphic>
          <a:graphicData uri="http://schemas.openxmlformats.org/drawingml/2006/table">
            <a:tbl>
              <a:tblPr/>
              <a:tblGrid>
                <a:gridCol w="449280"/>
                <a:gridCol w="1482840"/>
                <a:gridCol w="1441440"/>
                <a:gridCol w="1187280"/>
                <a:gridCol w="1014480"/>
                <a:gridCol w="1697040"/>
                <a:gridCol w="1014480"/>
              </a:tblGrid>
              <a:tr h="4201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Тема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страницы учебника, тетра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шаемые пробл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ланируемые результа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в соответствии с ФГ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онят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редме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Личностн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3851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Arial Black"/>
              </a:rPr>
              <a:t>ФГОС  повлечет за собой изменения в БУП</a:t>
            </a:r>
            <a:r>
              <a:rPr b="1" lang="ru-RU" sz="3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1844640"/>
            <a:ext cx="84582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противолежащими углами 5"/>
          <p:cNvSpPr/>
          <p:nvPr/>
        </p:nvSpPr>
        <p:spPr>
          <a:xfrm>
            <a:off x="228600" y="1268280"/>
            <a:ext cx="8763120" cy="432000"/>
          </a:xfrm>
          <a:prstGeom prst="pi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азисный учебный план – Базисный образователь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33"/>
                </a:solidFill>
                <a:latin typeface="Arial Black"/>
              </a:rPr>
              <a:t>Стандарты обеспечивают</a:t>
            </a:r>
            <a:endParaRPr b="1" lang="en-US" sz="5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Переход от «догоняющей»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к «опережающей» модели образова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D:\Мама\анимашки\дети\6e512718eb4ddfdeb3be803fc4e3f797.gif"/>
          <p:cNvPicPr/>
          <p:nvPr/>
        </p:nvPicPr>
        <p:blipFill>
          <a:blip r:embed="rId1"/>
          <a:stretch/>
        </p:blipFill>
        <p:spPr>
          <a:xfrm>
            <a:off x="7358040" y="11430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D:\Мама\анимашки\дети\28.gif"/>
          <p:cNvPicPr/>
          <p:nvPr/>
        </p:nvPicPr>
        <p:blipFill>
          <a:blip r:embed="rId2"/>
          <a:stretch/>
        </p:blipFill>
        <p:spPr>
          <a:xfrm>
            <a:off x="4643280" y="3929040"/>
            <a:ext cx="2786400" cy="27464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Личност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Внутренняя позиция шк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декватная мотивация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иентация на моральные нормы и их выпол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пособность к моральной децент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946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Регуля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ние всеми типами учебных дей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ланировать реализацию учебной цели 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онтролировать и оценивать свои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3840" y="1213920"/>
            <a:ext cx="8758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тандарты - социальная норма, обществ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договор между семьей, обществом и государ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AG00315_"/>
          <p:cNvPicPr/>
          <p:nvPr/>
        </p:nvPicPr>
        <p:blipFill>
          <a:blip r:embed="rId1"/>
          <a:stretch/>
        </p:blipFill>
        <p:spPr>
          <a:xfrm>
            <a:off x="3000240" y="292896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4357800" y="18572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4572000" y="5214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ятно 2 8"/>
          <p:cNvSpPr/>
          <p:nvPr/>
        </p:nvSpPr>
        <p:spPr>
          <a:xfrm rot="21540000">
            <a:off x="-183960" y="3032280"/>
            <a:ext cx="3718080" cy="3792240"/>
          </a:xfrm>
          <a:prstGeom prst="irregularSeal2">
            <a:avLst/>
          </a:prstGeom>
          <a:solidFill>
            <a:srgbClr val="00ffcc"/>
          </a:solidFill>
          <a:ln w="255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чност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циаль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фессиональ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Облако 9"/>
          <p:cNvSpPr/>
          <p:nvPr/>
        </p:nvSpPr>
        <p:spPr>
          <a:xfrm rot="660000">
            <a:off x="4430520" y="2595600"/>
            <a:ext cx="4493880" cy="1942920"/>
          </a:xfrm>
          <a:prstGeom prst="pie">
            <a:avLst/>
          </a:prstGeom>
          <a:solidFill>
            <a:srgbClr val="66ccff"/>
          </a:solidFill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опасность и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Овал 10"/>
          <p:cNvSpPr/>
          <p:nvPr/>
        </p:nvSpPr>
        <p:spPr>
          <a:xfrm>
            <a:off x="4714920" y="5214960"/>
            <a:ext cx="4286160" cy="164304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Georgia"/>
              </a:rPr>
              <a:t>ГОСУДАР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Национальное един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Безопас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человеческого потенц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Конкурентоспособ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Прямая со стрелкой 11"/>
          <p:cNvCxnSpPr/>
          <p:nvPr/>
        </p:nvCxnSpPr>
        <p:spPr>
          <a:xfrm>
            <a:off x="4416480" y="4611960"/>
            <a:ext cx="952920" cy="991080"/>
          </a:xfrm>
          <a:prstGeom prst="straightConnector1">
            <a:avLst/>
          </a:prstGeom>
          <a:ln w="38160">
            <a:solidFill>
              <a:srgbClr val="004d00"/>
            </a:solidFill>
            <a:miter/>
            <a:tailEnd len="med" type="arrow" w="med"/>
          </a:ln>
        </p:spPr>
      </p:cxnSp>
      <p:cxnSp>
        <p:nvCxnSpPr>
          <p:cNvPr id="212" name="Прямая со стрелкой 13"/>
          <p:cNvCxnSpPr/>
          <p:nvPr/>
        </p:nvCxnSpPr>
        <p:spPr>
          <a:xfrm flipH="1">
            <a:off x="2315160" y="3315960"/>
            <a:ext cx="1013040" cy="296280"/>
          </a:xfrm>
          <a:prstGeom prst="straightConnector1">
            <a:avLst/>
          </a:prstGeom>
          <a:ln w="38160">
            <a:solidFill>
              <a:srgbClr val="66ccff"/>
            </a:solidFill>
            <a:miter/>
            <a:tailEnd len="med" type="arrow" w="med"/>
          </a:ln>
        </p:spPr>
      </p:cxnSp>
      <p:cxnSp>
        <p:nvCxnSpPr>
          <p:cNvPr id="213" name="Прямая со стрелкой 18"/>
          <p:cNvCxnSpPr/>
          <p:nvPr/>
        </p:nvCxnSpPr>
        <p:spPr>
          <a:xfrm flipV="1">
            <a:off x="4286160" y="3857400"/>
            <a:ext cx="858240" cy="429120"/>
          </a:xfrm>
          <a:prstGeom prst="straightConnector1">
            <a:avLst/>
          </a:prstGeom>
          <a:ln w="38160">
            <a:solidFill>
              <a:srgbClr val="e0ff85"/>
            </a:solidFill>
            <a:miter/>
            <a:tailEnd len="med" type="arrow" w="med"/>
          </a:ln>
        </p:spPr>
      </p:cxn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Познаватель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Использовать знаково-символически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ть действием модел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Коммуника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Учитывать позицию собесе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ганизовывать и осуществлять сотрудничество с учителем и сверстни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едавать информ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FGOS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421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Выжи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е самый си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и не самый ум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а тот, к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учше всех отклик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а происходящие изме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Чарльз Дарв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968720" cy="344952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62080" y="1316160"/>
            <a:ext cx="8040600" cy="2165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K:\анимашки\погода\88.gif"/>
          <p:cNvPicPr/>
          <p:nvPr/>
        </p:nvPicPr>
        <p:blipFill>
          <a:blip r:embed="rId2"/>
          <a:stretch/>
        </p:blipFill>
        <p:spPr>
          <a:xfrm>
            <a:off x="5143680" y="2357280"/>
            <a:ext cx="3571560" cy="328644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26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ети </a:t>
            </a:r>
            <a:r>
              <a:rPr b="0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должны</a:t>
            </a: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 получать удовлетворение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–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фессиональная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задача учителя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!</a:t>
            </a:r>
            <a:r>
              <a:rPr b="1" lang="ru-RU" sz="3600" spc="-1" strike="noStrike">
                <a:solidFill>
                  <a:srgbClr val="502652"/>
                </a:solidFill>
                <a:latin typeface="Arial Black"/>
              </a:rPr>
              <a:t>(отличие стандартов второго поколения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" name="Picture 2" descr="D:\Мама\анимашки\дети\уснул.gif"/>
          <p:cNvPicPr/>
          <p:nvPr/>
        </p:nvPicPr>
        <p:blipFill>
          <a:blip r:embed="rId1"/>
          <a:stretch/>
        </p:blipFill>
        <p:spPr>
          <a:xfrm>
            <a:off x="285840" y="36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D:\Мама\анимашки\дети\9ca9fd62ccc9c889e8d891d4a07831b3.gif"/>
          <p:cNvPicPr/>
          <p:nvPr/>
        </p:nvPicPr>
        <p:blipFill>
          <a:blip r:embed="rId2"/>
          <a:stretch/>
        </p:blipFill>
        <p:spPr>
          <a:xfrm>
            <a:off x="5286240" y="3589200"/>
            <a:ext cx="3400560" cy="3073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015560"/>
            <a:ext cx="914400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еш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дмет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ятельности в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утренню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ая педагогическая задач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здание и организация условий, инициирующих ученическое дей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12000" y="36450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3384720" y="364500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755640" y="37162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8000"/>
            </a:solidFill>
            <a:miter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0" y="5985000"/>
            <a:ext cx="9144000" cy="87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971640" y="3141720"/>
            <a:ext cx="774072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642680"/>
            <a:ext cx="8001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В основе реализации стандарта –</a:t>
            </a:r>
            <a:r>
              <a:rPr b="1" lang="ru-RU" sz="37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системно – деятельностный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подход</a:t>
            </a:r>
            <a:br>
              <a:rPr sz="3700"/>
            </a:br>
            <a:endParaRPr b="1" lang="en-US" sz="3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55640" y="3860280"/>
            <a:ext cx="6229080" cy="22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лавным деятелем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лжен быть РЕБЁ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1858884"/>
          <p:cNvPicPr/>
          <p:nvPr/>
        </p:nvPicPr>
        <p:blipFill>
          <a:blip r:embed="rId1"/>
          <a:stretch/>
        </p:blipFill>
        <p:spPr>
          <a:xfrm>
            <a:off x="324000" y="5013360"/>
            <a:ext cx="1738080" cy="13161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1B3A-3772-4E01-A37A-2459D7BCB9F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228600" y="357120"/>
            <a:ext cx="8640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Требования к структуре основ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26"/>
          <p:cNvSpPr/>
          <p:nvPr/>
        </p:nvSpPr>
        <p:spPr>
          <a:xfrm>
            <a:off x="250920" y="1371600"/>
            <a:ext cx="8642160" cy="133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2f4d"/>
                </a:solidFill>
                <a:latin typeface="Georgia"/>
              </a:rPr>
              <a:t>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 rot="5400000">
            <a:off x="252000" y="299736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73080" y="4005360"/>
            <a:ext cx="1114200" cy="1655640"/>
          </a:xfrm>
          <a:custGeom>
            <a:avLst/>
            <a:gdLst>
              <a:gd name="textAreaLeft" fmla="*/ 54360 w 1114200"/>
              <a:gd name="textAreaRight" fmla="*/ 1059840 w 11142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93">
                <a:moveTo>
                  <a:pt x="3600" y="0"/>
                </a:moveTo>
                <a:arcTo wR="3600" hR="3600" stAng="16200000" swAng="-5400000"/>
                <a:lnTo>
                  <a:pt x="0" y="28493"/>
                </a:lnTo>
                <a:arcTo wR="3600" hR="3600" stAng="10800000" swAng="-5400000"/>
                <a:lnTo>
                  <a:pt x="18000" y="32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иру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езульта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3492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здоров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б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жиз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05360"/>
            <a:ext cx="936720" cy="165564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655640"/>
              <a:gd name="textAreaBottom" fmla="*/ 1609920 h 1655640"/>
            </a:gdLst>
            <a:ahLst/>
            <a:rect l="textAreaLeft" t="textAreaTop" r="textAreaRight" b="textAreaBottom"/>
            <a:pathLst>
              <a:path w="21600" h="38171">
                <a:moveTo>
                  <a:pt x="3600" y="0"/>
                </a:moveTo>
                <a:arcTo wR="3600" hR="3600" stAng="16200000" swAng="-5400000"/>
                <a:lnTo>
                  <a:pt x="0" y="34571"/>
                </a:lnTo>
                <a:arcTo wR="3600" hR="3600" stAng="10800000" swAng="-5400000"/>
                <a:lnTo>
                  <a:pt x="18000" y="38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чеб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4716360" y="4005360"/>
            <a:ext cx="1116000" cy="165564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41">
                <a:moveTo>
                  <a:pt x="3600" y="0"/>
                </a:moveTo>
                <a:arcTo wR="3600" hR="3600" stAng="16200000" swAng="-5400000"/>
                <a:lnTo>
                  <a:pt x="0" y="28441"/>
                </a:lnTo>
                <a:arcTo wR="3600" hR="3600" stAng="10800000" swAng="-5400000"/>
                <a:lnTo>
                  <a:pt x="18000" y="32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У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26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дух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нравствен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воспит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40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едмет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694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коррекцион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7"/>
          <p:cNvSpPr/>
          <p:nvPr/>
        </p:nvSpPr>
        <p:spPr>
          <a:xfrm rot="5400000">
            <a:off x="1404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7"/>
          <p:cNvSpPr/>
          <p:nvPr/>
        </p:nvSpPr>
        <p:spPr>
          <a:xfrm rot="5400000">
            <a:off x="2339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7"/>
          <p:cNvSpPr/>
          <p:nvPr/>
        </p:nvSpPr>
        <p:spPr>
          <a:xfrm rot="5400000">
            <a:off x="334800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7"/>
          <p:cNvSpPr/>
          <p:nvPr/>
        </p:nvSpPr>
        <p:spPr>
          <a:xfrm rot="5400000">
            <a:off x="4571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7"/>
          <p:cNvSpPr/>
          <p:nvPr/>
        </p:nvSpPr>
        <p:spPr>
          <a:xfrm rot="5400000">
            <a:off x="5795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 rot="5400000">
            <a:off x="702144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 rot="5400000">
            <a:off x="8100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8172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цен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50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Требования к структуре </a:t>
            </a:r>
            <a:br>
              <a:rPr sz="3600"/>
            </a:b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основной образовательной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программы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256500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фиксированы требования 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количеству и наименованию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(всего-9), в том числе к учебному плану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минимальному и максимальному количеству учебных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часов за 4 года (2 904 - 3 210 час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держанию каждого из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отношению частей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основной общеобразовательной  программы (80/20% для первой ступен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рганизации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1583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Требования к структуре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7120" y="155700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новная образовательная программа –целостны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ланируемые результаты освоения основной образовательной 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учеб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формировани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ы  учебных предме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духовно-нравственного развития,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формирования культуры  здорового и безопасного образа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коррекционной работы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истема оценки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достижения планируемых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неурочная деятельность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ремя, отводимое на внеурочную деятельность, составля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 1350 часов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учебные занятия: не менее 2904 ч. и не более 3210 ч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110664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Основные трудности педагогических работников   </a:t>
            </a:r>
            <a:br>
              <a:rPr sz="2400"/>
            </a:b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 на этапе введения ФГОС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58920" y="1143000"/>
            <a:ext cx="8785080" cy="5357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5ec9e"/>
              </a:gs>
              <a:gs pos="100000">
                <a:srgbClr val="ecf8e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41:38Z</dcterms:created>
  <dc:creator>1</dc:creator>
  <dc:description/>
  <dc:language>en-US</dc:language>
  <cp:lastModifiedBy>LEGION</cp:lastModifiedBy>
  <dcterms:modified xsi:type="dcterms:W3CDTF">2015-01-27T13:42:25Z</dcterms:modified>
  <cp:revision>12</cp:revision>
  <dc:subject/>
  <dc:title>Слайд 1</dc:title>
</cp:coreProperties>
</file>