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11.png" ContentType="image/png"/>
  <Override PartName="/ppt/media/image3.gif" ContentType="image/gif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519E-7A08-4B26-94D3-0169E02B45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1292"/>
                </a:solidFill>
                <a:latin typeface="Calibri"/>
              </a:rPr>
              <a:t>Внедрение ФГОС в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едагогический совет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1B46-497D-4FA2-BAE8-862422A2E1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танда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DECA-AC03-4A03-B935-559B0622C55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Требования к </a:t>
            </a:r>
            <a:r>
              <a:rPr b="0" lang="ru-RU" sz="1100" spc="-1" strike="noStrike" u="sng">
                <a:solidFill>
                  <a:srgbClr val="ff0000"/>
                </a:solidFill>
                <a:uFillTx/>
                <a:latin typeface="Calibri"/>
              </a:rPr>
              <a:t>результатам</a:t>
            </a: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 освоения </a:t>
            </a:r>
            <a:br>
              <a:rPr sz="1100"/>
            </a:br>
            <a:r>
              <a:rPr b="0" lang="ru-RU" sz="1100" spc="-1" strike="noStrike">
                <a:solidFill>
                  <a:srgbClr val="4f81bd"/>
                </a:solidFill>
                <a:latin typeface="Calibri"/>
              </a:rPr>
              <a:t>основной образовательной программы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Личнос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9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готовность и способность к само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отивация к обучению и позн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енностно-смысловые устано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оциальные компетенции, личност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Мета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ниверсальные учебные действ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знава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редме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пыт деятельности специфической для данной предметной обл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истема основополагающих элементов научного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AF85-E191-427B-9D87-C193D8D3AFF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  <a:ea typeface="Arial"/>
              </a:rPr>
              <a:t>Универсальные учебные действ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окупность способов действия учащегося, обеспечивающих его способность к самостоятельному усвоению новых знаний, включая организацию эт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DEDC-FFAC-4CCD-B91E-48A84FA46EE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ичност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Регуля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9184-A3B0-4CFC-A4CC-6AB586C58DA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Виды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Познавательные</a:t>
            </a: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щеучебные, включа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ециально-предметны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c00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Calibri"/>
              </a:rPr>
              <a:t>Коммуник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17C8-E14B-4D49-9FD0-FEAC561CF0D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9900"/>
                </a:solidFill>
                <a:latin typeface="Calibri"/>
              </a:rPr>
              <a:t>Фрагмент тематического планирован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вездное небо – великая книга природ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р. 16-21, Т. стр. 7-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Что такое созвезди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определить направление сторон горизонта по Полярной звезде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чему ученый назвал  звездное небо   Великой книгой     Природы?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ебесные тела, планета, Млечный путь, созвездие, астроном, названия созвезд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знать название созвездий; уметь пользоваться атласом-определителем и находит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озвездия на звездной карте и в ночном неб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ланировать свои действия в соответствии с поставленной задачей, в сотрудничестве с учителем ставить новые учебные задач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ые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ладеть полученной информацией и строить монологическое высказыв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вышение самооценки учен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8C34-6167-4A90-B803-F273AC8F716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Calibri"/>
              </a:rPr>
              <a:t>ФГОС  повлечет за собой изменения в БУ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6B40-3E35-464D-BB93-3B9C64FB36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Переход от «догоняющ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Monotype Corsiva"/>
              </a:rPr>
              <a:t>к «опережающей» модели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F210-6E59-4045-879F-77C1018E8C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Личност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Внутренняя позиция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декватная мотивация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иентация на моральные нормы и их выпо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пособность к моральной децен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C280-7E13-4B97-AFF2-E9A9CFAE9AB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Регуля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ние всеми типами учеб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ланировать реализацию учебной цели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Контролировать и оценивать свои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C0B8-6B79-4EA7-915B-7B4C9177DD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тандарты - социальная норма, обществе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договор между семьей, обществом и государ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B88E-BF68-4479-97F6-8225E1255DC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У выпускника начальной школы должны быть сформирова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Познаватель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Использовать знаково-символ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владеть действием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3366"/>
                </a:solidFill>
                <a:latin typeface="Calibri"/>
              </a:rPr>
              <a:t>Коммуникативные 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Учитывать позицию собесе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Организовывать и осуществлять сотрудничество с учителем и сверст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ередава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80B6-16D3-47B3-A7C4-B380F145AB2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Выж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е самый си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и не самый умны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а тот, к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лучше всех отклик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на происходящие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cc0066"/>
                </a:solidFill>
                <a:latin typeface="Calibri"/>
              </a:rPr>
              <a:t>                                                 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Чарльз Дар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асибо за сотрудничеств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845-0A62-4636-A397-F01B2FD0BD3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олжны получать удовлетворен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фессион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дача учителя!</a:t>
            </a:r>
            <a:r>
              <a:rPr b="0" lang="ru-RU" sz="1200" spc="-1" strike="noStrike">
                <a:solidFill>
                  <a:srgbClr val="502652"/>
                </a:solidFill>
                <a:latin typeface="Calibri"/>
              </a:rPr>
              <a:t>(отличие стандартов второго поко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E945-6840-421A-9C43-84AC235839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2412-AE17-4F72-9098-DCDF057544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48DE-7D3D-4A02-8560-438F859D811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н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еятельности во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сновная педагогическая задач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создание и организация условий, инициирующих ученическое 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 основе реализации стандарта –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истемно – деятельностный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одход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Главным деятел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лжен быть РЕБЁ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6485-030D-4E0A-9B3F-F991CCF26D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Требования к структуре основ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32f4d"/>
                </a:solidFill>
                <a:latin typeface="Calibri"/>
              </a:rPr>
              <a:t>образовательно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D07C-C772-498F-8DCD-9B037B7474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40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Требования к структуре </a:t>
            </a:r>
            <a:br>
              <a:rPr sz="2400"/>
            </a:b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основной образовательно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4f81bd"/>
                </a:solidFill>
                <a:latin typeface="Calibri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Зафиксированы требования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количеству и наименованию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(всего-9), в том числе к учебному плану общеобразовательного учре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минимальному и максимальному количеству учебных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часов за 4 года (2 904 - 3 210 час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6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держанию каждого из разделов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c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соотношению частей</a:t>
            </a: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 основной общеобразовательной  программы (80/20% для первой сту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cc0066"/>
                </a:solidFill>
                <a:latin typeface="Calibri"/>
              </a:rPr>
              <a:t>организации внеуроч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F222-7782-4324-955F-6C263784372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4f81bd"/>
                </a:solidFill>
                <a:latin typeface="Calibri"/>
              </a:rPr>
              <a:t>Требования к структур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основная образовательная программа –целостный докумен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ланируемые результаты освоения основной образовательной  програм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учебный пла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формирования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УУ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ы  учебных предме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духовно-нравственного развития, воспит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формирования культуры  здорового и безопасного образа жизн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программа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 коррекционной работы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173160">
              <a:lnSpc>
                <a:spcPct val="60000"/>
              </a:lnSpc>
              <a:spcBef>
                <a:spcPts val="524"/>
              </a:spcBef>
              <a:buClr>
                <a:srgbClr val="00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система оценки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 достижения 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89000">
              <a:lnSpc>
                <a:spcPct val="60000"/>
              </a:lnSpc>
              <a:spcBef>
                <a:spcPts val="52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неурочная деятельность </a:t>
            </a:r>
            <a:r>
              <a:rPr b="1" lang="ru-RU" sz="1400" spc="-1" strike="noStrike">
                <a:solidFill>
                  <a:srgbClr val="003399"/>
                </a:solidFill>
                <a:latin typeface="Calibri"/>
              </a:rPr>
              <a:t>время, отводимое на внеурочную деятельность, составляет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до 1350 часов </a:t>
            </a:r>
            <a:r>
              <a:rPr b="0" lang="ru-RU" sz="1400" spc="-1" strike="noStrike">
                <a:solidFill>
                  <a:srgbClr val="003399"/>
                </a:solidFill>
                <a:latin typeface="Calibri"/>
              </a:rPr>
              <a:t>(учебные занятия: не менее 2904 ч. и не более 3210 ч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EA95-12F9-4849-8788-D2BDDB6FCD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744-4416-4DF2-8641-6D8852540F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Основные трудности педагогических работников   </a:t>
            </a:r>
            <a:br>
              <a:rPr sz="1200"/>
            </a:br>
            <a:r>
              <a:rPr b="0" lang="ru-RU" sz="1200" spc="-1" strike="noStrike">
                <a:solidFill>
                  <a:srgbClr val="cc0066"/>
                </a:solidFill>
                <a:latin typeface="Calibri"/>
              </a:rPr>
              <a:t> на этапе введения ФГ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314-E7A9-4F5E-9DFE-42F2BEE3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D00-D3E3-488E-ADB6-D15704032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624-F7B8-40F4-868A-D5E04043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088-AF49-462D-A760-0F34805B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30F35-7965-4165-BA42-D2EA655A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878F4-508C-4797-9771-4EE79B49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B8B91-1D62-481E-8306-7575DAB6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79FA0-D494-42DB-9EAD-6A028AB4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78BC3-2DC5-4829-8BF3-EC434CFC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CA975-0B07-4846-BC6A-F6B832B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A1215-2D13-416E-B7F9-A452BA3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20C-1557-4F94-9A55-FC56D769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1E57F-5ABC-40EE-8D7E-A3FAC0F8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2426E-D5B2-4295-B586-6777E451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F7458-EDD5-44FD-AEA1-EB65E1A8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EED34-5BBE-445F-B903-60D89372A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55844-3070-434F-96BB-4571AA20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4F04-C629-4D9B-8082-7C9181B6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1AAD-B0FB-493D-B814-D22B7216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393FD-41BF-49FC-B8DE-5280B8AE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A9184-18AB-44A4-8EE4-932220E5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0E6F-A26B-4C5C-8441-7076D0C0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4A1-81CC-4D93-9597-12046BB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CBB6-419D-4EBF-AF8F-E5D02B3F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376C-B6B0-4250-9D0C-15346C9C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D2770-2F4B-4D3C-9326-87ECE73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D396-8DC6-45A9-AB18-07B95FA6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8972A-8951-4303-B83C-BDE97937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A2A8-CBF5-4451-BCCF-51FCD595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6885E-A96E-44EE-AA9F-DFA2636F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22BE4-A5BF-443D-AF04-53C9E69F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8F678-89BA-4865-8E68-2EAC3875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842E2-3AA1-47CA-BE2A-3BF733A1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F09-59C5-4416-B3AF-9B1FFC6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056571-CB04-4919-9DAC-D1C58410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1E15B6-6749-4644-BFBC-BE5947EA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1570C-6F1E-4443-B756-BD0A6671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41A609-6633-44C8-865F-65FDC62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257CE-17E2-43D1-8787-CE857F6E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7F4A42-803D-4FBC-BC43-7449C45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5ECB0-DE50-4A43-A6A0-8B7F5BFF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A710B-60CC-463D-B4D1-295195B6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2352F2-369C-41E2-AF4E-715A6132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F62-468A-4323-9FE6-9F52D8B7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5D84-0E36-406E-927C-BE90367E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42F-2E14-4CCB-A0F5-8F337E39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DBB-9158-42E8-9658-34DC61AC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4D1D-CB31-4E38-A620-A18F9EA6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4081-712C-4A66-82AF-681254DB270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FA2F-B915-44B1-8783-D473768F3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0962-A03D-4EF2-99E9-2942CBF029A2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DC0A-95C4-4D6D-A84E-6A11E5AE0B5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524F-8A4C-4F26-8C43-643EFCAD1F6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B908-B2A2-4788-98C7-FACF500CF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af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6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7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8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C2D0-0877-4D67-88B7-28B86B54A94D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E36-9518-4EA5-A5A1-9F60970F4C4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71292"/>
                </a:solidFill>
                <a:latin typeface="Arial Black"/>
              </a:rPr>
              <a:t>Внедрение ФГОС в начальной школе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46280" y="4316400"/>
            <a:ext cx="48196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дагогический сов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Стандарт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3640" y="1356840"/>
            <a:ext cx="852156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«На ступени начального общего образования должно быть осуществлено формирование основ умения учиться и способности к организации своей деятельности – умение принимать, сохранять цели и следовать им в учебной деятельности, планировать свою деятельность, осуществлять ее контроль и оценку, взаимодействовать с педагогом и сверстниками в учебном процессе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32968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Требования к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результатам</a:t>
            </a: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 освоения </a:t>
            </a:r>
            <a:br>
              <a:rPr sz="1800"/>
            </a:br>
            <a:r>
              <a:rPr b="0" lang="ru-RU" sz="1800" spc="-1" strike="noStrike">
                <a:solidFill>
                  <a:srgbClr val="99cc00"/>
                </a:solidFill>
                <a:latin typeface="Arial Black"/>
              </a:rPr>
              <a:t>основной образовательной программы</a:t>
            </a:r>
            <a:br>
              <a:rPr sz="1800"/>
            </a:b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Личнос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готовность и способность к саморазвит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ценностно-смысловые устан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Мета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универсальные учебные действи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знав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егуля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Arial"/>
              </a:rPr>
              <a:t>Предмет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пыт деятельности специфической для данной предметной об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истема основополагающих элементов научного зн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99ff6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20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2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2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542880" y="907920"/>
            <a:ext cx="8229600" cy="55054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4"/>
          <p:cNvSpPr txBox="1"/>
          <p:nvPr/>
        </p:nvSpPr>
        <p:spPr>
          <a:xfrm>
            <a:off x="914400" y="838080"/>
            <a:ext cx="7543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b7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b7"/>
              </a:solidFill>
              <a:latin typeface="Arial"/>
              <a:ea typeface="Arial"/>
            </a:endParaRPr>
          </a:p>
        </p:txBody>
      </p:sp>
      <p:pic>
        <p:nvPicPr>
          <p:cNvPr id="269" name="Picture 4" descr="D:\анимашки\дети\комп.gif"/>
          <p:cNvPicPr/>
          <p:nvPr/>
        </p:nvPicPr>
        <p:blipFill>
          <a:blip r:embed="rId2"/>
          <a:stretch/>
        </p:blipFill>
        <p:spPr>
          <a:xfrm>
            <a:off x="6156360" y="429264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ичностные</a:t>
            </a:r>
            <a:r>
              <a:rPr b="0" lang="ru-RU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жизненное, личностное, профессиональное самоопределение, умение соотносить поступки и события с принятыми этическими принципами), а также ориентация в социальных ролях и межличностных отнош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Регулятивны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действия, обеспечивающие организацию учащимися своей учебной деятельности (целеполагание, планирование, прогнозирование результатов деятельности, коррекция, оценк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4424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 Black"/>
              </a:rPr>
              <a:t>Виды универсальных учебных действи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66"/>
                </a:solidFill>
                <a:uFillTx/>
                <a:latin typeface="Arial"/>
              </a:rPr>
              <a:t>Познавательные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общеучебные, включ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циально-предметные действ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определяющиеся содержанием конкретной дисциплины (постановка и решение проблем и т.д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c0066"/>
                </a:solidFill>
                <a:uFillTx/>
                <a:latin typeface="Arial"/>
              </a:rPr>
              <a:t>Коммуникативные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– социальная компетентность, учет позиции других людей, умение слушать, участвовать в коллективном обсуждении проблем, планирование учебного сотрудничества с учителей и сверстниками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99ff66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244080"/>
            <a:ext cx="79423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 Black"/>
              </a:rPr>
              <a:t>Фрагмент тематического планирования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00040" y="2000160"/>
          <a:ext cx="8358120" cy="4206960"/>
        </p:xfrm>
        <a:graphic>
          <a:graphicData uri="http://schemas.openxmlformats.org/drawingml/2006/table">
            <a:tbl>
              <a:tblPr/>
              <a:tblGrid>
                <a:gridCol w="452520"/>
                <a:gridCol w="1495440"/>
                <a:gridCol w="1454040"/>
                <a:gridCol w="1198440"/>
                <a:gridCol w="1022400"/>
                <a:gridCol w="1711440"/>
                <a:gridCol w="1023840"/>
              </a:tblGrid>
              <a:tr h="4206960">
                <a:tc>
                  <a:txBody>
                    <a:bodyPr lIns="47520" rIns="47520" tIns="0" bIns="0" anchor="t">
                      <a:noAutofit/>
                    </a:bodyPr>
                    <a:p>
                      <a:pPr marL="343080" indent="-343080" algn="ctr">
                        <a:lnSpc>
                          <a:spcPct val="115000"/>
                        </a:lnSpc>
                        <a:buClr>
                          <a:srgbClr val="ffffff"/>
                        </a:buClr>
                        <a:buFont typeface="Arial Black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вездное небо – великая книга прир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тр. 16-21, Т. стр. 7-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Что такое созвезди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Как определить направление сторон горизонта по Полярной звезде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чему ученый назвал  звездное небо   Великой книгой     Природы?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Небесные тела, планета, Млечный путь, созвездие, астроном, названия созвезд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знать название созвездий; уметь пользоваться атласом-определителем и находи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созвездия на звездной карте и в ночном небе;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Регуля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ланировать свои действия в соответствии с поставленной задачей, в сотрудничестве с учителем ставить новые учебные зада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Познавательные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ыделять существенную информацию из текстов разных видов, строить рассуждения в форме связи простых суждений об объекте и его стро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660033"/>
                          </a:solidFill>
                          <a:uFillTx/>
                          <a:latin typeface="Calibri"/>
                          <a:ea typeface="Times New Roman"/>
                        </a:rPr>
                        <a:t>Коммуникатив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Владеть полученной информацией и строить монологическое высказы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660033"/>
                          </a:solidFill>
                          <a:latin typeface="Calibri"/>
                          <a:ea typeface="Times New Roman"/>
                        </a:rPr>
                        <a:t>Повышение самооценки учен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500040" y="1000080"/>
          <a:ext cx="8286840" cy="978120"/>
        </p:xfrm>
        <a:graphic>
          <a:graphicData uri="http://schemas.openxmlformats.org/drawingml/2006/table">
            <a:tbl>
              <a:tblPr/>
              <a:tblGrid>
                <a:gridCol w="449280"/>
                <a:gridCol w="1482840"/>
                <a:gridCol w="1441440"/>
                <a:gridCol w="1187280"/>
                <a:gridCol w="1014480"/>
                <a:gridCol w="1697040"/>
                <a:gridCol w="1014480"/>
              </a:tblGrid>
              <a:tr h="42012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Тема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страницы учебника, тетрад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шаемые проблем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ланируемые результа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(в соответствии с ФГОС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онят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Предмет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cc0066"/>
                          </a:solidFill>
                          <a:latin typeface="Calibri"/>
                          <a:ea typeface="Times New Roman"/>
                        </a:rPr>
                        <a:t>Личностн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3851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00"/>
                </a:solidFill>
                <a:latin typeface="Arial Black"/>
              </a:rPr>
              <a:t>ФГОС  повлечет за собой изменения в БУП</a:t>
            </a:r>
            <a:r>
              <a:rPr b="1" lang="ru-RU" sz="3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1844640"/>
            <a:ext cx="84582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урочная деятельность как важная составная часть содержания образования, увеличивающая его вариативность и адаптивность к интересам, потребностям и способностям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аждом классе школы предполагается выделить в среднем по 10 часов в неделю на внеурочную деятельность – спортивно-оздоровительную, познавательную и исследовательскую, художественно-эстетическую, трудовую и т.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Прямоугольник с двумя скругленными противолежащими углами 5"/>
          <p:cNvSpPr/>
          <p:nvPr/>
        </p:nvSpPr>
        <p:spPr>
          <a:xfrm>
            <a:off x="228600" y="1268280"/>
            <a:ext cx="8763120" cy="432000"/>
          </a:xfrm>
          <a:prstGeom prst="pie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Базисный учебный план – Базисный образователь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33"/>
                </a:solidFill>
                <a:latin typeface="Arial Black"/>
              </a:rPr>
              <a:t>Стандарты обеспечивают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Переход от «догоняющей»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cc00"/>
                </a:solidFill>
                <a:latin typeface="Monotype Corsiva"/>
              </a:rPr>
              <a:t>к «опережающей» модели образова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2" descr="D:\Мама\анимашки\дети\6e512718eb4ddfdeb3be803fc4e3f797.gif"/>
          <p:cNvPicPr/>
          <p:nvPr/>
        </p:nvPicPr>
        <p:blipFill>
          <a:blip r:embed="rId1"/>
          <a:stretch/>
        </p:blipFill>
        <p:spPr>
          <a:xfrm>
            <a:off x="7358040" y="1143000"/>
            <a:ext cx="1571760" cy="181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D:\Мама\анимашки\дети\28.gif"/>
          <p:cNvPicPr/>
          <p:nvPr/>
        </p:nvPicPr>
        <p:blipFill>
          <a:blip r:embed="rId2"/>
          <a:stretch/>
        </p:blipFill>
        <p:spPr>
          <a:xfrm>
            <a:off x="4643280" y="3929040"/>
            <a:ext cx="2786400" cy="274644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Личност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Внутренняя позиция школь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декватная мотивация учеб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иентация на моральные нормы и их выполн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пособность к моральной децент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5946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Регуля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ние всеми типами учебных действ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ланировать реализацию учебной цели и 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онтролировать и оценивать свои действ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Новые подходы к определению  стратегических целей стандарт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3840" y="1213920"/>
            <a:ext cx="8758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Стандарты - социальная норма, обществен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договор между семьей, обществом и государств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AG00315_"/>
          <p:cNvPicPr/>
          <p:nvPr/>
        </p:nvPicPr>
        <p:blipFill>
          <a:blip r:embed="rId1"/>
          <a:stretch/>
        </p:blipFill>
        <p:spPr>
          <a:xfrm>
            <a:off x="3000240" y="2928960"/>
            <a:ext cx="1828800" cy="20574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9"/>
          <p:cNvSpPr/>
          <p:nvPr/>
        </p:nvSpPr>
        <p:spPr>
          <a:xfrm>
            <a:off x="4357800" y="18572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0"/>
          <p:cNvSpPr/>
          <p:nvPr/>
        </p:nvSpPr>
        <p:spPr>
          <a:xfrm>
            <a:off x="4572000" y="521496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ятно 2 8"/>
          <p:cNvSpPr/>
          <p:nvPr/>
        </p:nvSpPr>
        <p:spPr>
          <a:xfrm rot="21540000">
            <a:off x="-183960" y="3032280"/>
            <a:ext cx="3718080" cy="3792240"/>
          </a:xfrm>
          <a:prstGeom prst="irregularSeal2">
            <a:avLst/>
          </a:prstGeom>
          <a:solidFill>
            <a:srgbClr val="00ffcc"/>
          </a:solidFill>
          <a:ln w="255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ЕМЬ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Личност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оциальная 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рофессиональна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успеш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Облако 9"/>
          <p:cNvSpPr/>
          <p:nvPr/>
        </p:nvSpPr>
        <p:spPr>
          <a:xfrm rot="660000">
            <a:off x="4430520" y="2595600"/>
            <a:ext cx="4493880" cy="1942920"/>
          </a:xfrm>
          <a:prstGeom prst="pie">
            <a:avLst/>
          </a:prstGeom>
          <a:solidFill>
            <a:srgbClr val="66ccff"/>
          </a:solidFill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Овал 10"/>
          <p:cNvSpPr/>
          <p:nvPr/>
        </p:nvSpPr>
        <p:spPr>
          <a:xfrm>
            <a:off x="4714920" y="5214960"/>
            <a:ext cx="4286160" cy="1643040"/>
          </a:xfrm>
          <a:prstGeom prst="ellipse">
            <a:avLst/>
          </a:prstGeom>
          <a:solidFill>
            <a:srgbClr val="cc99ff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00"/>
                </a:solidFill>
                <a:uFillTx/>
                <a:latin typeface="Georgia"/>
              </a:rPr>
              <a:t>ГОСУДАР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Национальное един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Безопасн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Развитие человеческого потенциал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Конкурентоспособ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1" name="Прямая со стрелкой 11"/>
          <p:cNvCxnSpPr/>
          <p:nvPr/>
        </p:nvCxnSpPr>
        <p:spPr>
          <a:xfrm>
            <a:off x="4416480" y="4611960"/>
            <a:ext cx="952920" cy="991080"/>
          </a:xfrm>
          <a:prstGeom prst="straightConnector1">
            <a:avLst/>
          </a:prstGeom>
          <a:ln w="38160">
            <a:solidFill>
              <a:srgbClr val="004d00"/>
            </a:solidFill>
            <a:miter/>
            <a:tailEnd len="med" type="arrow" w="med"/>
          </a:ln>
        </p:spPr>
      </p:cxnSp>
      <p:cxnSp>
        <p:nvCxnSpPr>
          <p:cNvPr id="212" name="Прямая со стрелкой 13"/>
          <p:cNvCxnSpPr/>
          <p:nvPr/>
        </p:nvCxnSpPr>
        <p:spPr>
          <a:xfrm flipH="1">
            <a:off x="2315160" y="3315960"/>
            <a:ext cx="1013040" cy="296280"/>
          </a:xfrm>
          <a:prstGeom prst="straightConnector1">
            <a:avLst/>
          </a:prstGeom>
          <a:ln w="38160">
            <a:solidFill>
              <a:srgbClr val="66ccff"/>
            </a:solidFill>
            <a:miter/>
            <a:tailEnd len="med" type="arrow" w="med"/>
          </a:ln>
        </p:spPr>
      </p:cxnSp>
      <p:cxnSp>
        <p:nvCxnSpPr>
          <p:cNvPr id="213" name="Прямая со стрелкой 18"/>
          <p:cNvCxnSpPr/>
          <p:nvPr/>
        </p:nvCxnSpPr>
        <p:spPr>
          <a:xfrm flipV="1">
            <a:off x="4286160" y="3857400"/>
            <a:ext cx="858240" cy="429120"/>
          </a:xfrm>
          <a:prstGeom prst="straightConnector1">
            <a:avLst/>
          </a:prstGeom>
          <a:ln w="38160">
            <a:solidFill>
              <a:srgbClr val="e0ff85"/>
            </a:solidFill>
            <a:miter/>
            <a:tailEnd len="med" type="arrow" w="med"/>
          </a:ln>
        </p:spPr>
      </p:cxn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 Black"/>
              </a:rPr>
              <a:t>У выпускника начальной школы должны быть сформирован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46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Познаватель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Использовать знаково-символические сред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владеть действием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66"/>
                </a:solidFill>
                <a:latin typeface="Arial"/>
              </a:rPr>
              <a:t>Коммуникативные У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Учитывать позицию собесе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Организовывать и осуществлять сотрудничество с учителем и сверстни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ередавать информ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4" descr="FGOS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68664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932000" y="333000"/>
            <a:ext cx="421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Выжив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е самый силь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и не самый ум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а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лучше всех отклика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на происходящие измен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Чарльз Дар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836640"/>
            <a:ext cx="4968720" cy="344952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62080" y="1316160"/>
            <a:ext cx="8040600" cy="2165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K:\анимашки\погода\88.gif"/>
          <p:cNvPicPr/>
          <p:nvPr/>
        </p:nvPicPr>
        <p:blipFill>
          <a:blip r:embed="rId2"/>
          <a:stretch/>
        </p:blipFill>
        <p:spPr>
          <a:xfrm>
            <a:off x="5143680" y="2357280"/>
            <a:ext cx="3571560" cy="328644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26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Дети </a:t>
            </a:r>
            <a:r>
              <a:rPr b="0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должны</a:t>
            </a:r>
            <a:r>
              <a:rPr b="1" lang="ru-RU" sz="3600" spc="-1" strike="noStrike" u="sng">
                <a:solidFill>
                  <a:srgbClr val="ffffb7"/>
                </a:solidFill>
                <a:uFillTx/>
                <a:latin typeface="Arial Black"/>
              </a:rPr>
              <a:t> получать удовлетворение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–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рофессиональная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задача учителя</a:t>
            </a: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!</a:t>
            </a:r>
            <a:r>
              <a:rPr b="1" lang="ru-RU" sz="3600" spc="-1" strike="noStrike">
                <a:solidFill>
                  <a:srgbClr val="502652"/>
                </a:solidFill>
                <a:latin typeface="Arial Black"/>
              </a:rPr>
              <a:t>(отличие стандартов второго поколения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16" name="Picture 2" descr="D:\Мама\анимашки\дети\уснул.gif"/>
          <p:cNvPicPr/>
          <p:nvPr/>
        </p:nvPicPr>
        <p:blipFill>
          <a:blip r:embed="rId1"/>
          <a:stretch/>
        </p:blipFill>
        <p:spPr>
          <a:xfrm>
            <a:off x="285840" y="3643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D:\Мама\анимашки\дети\9ca9fd62ccc9c889e8d891d4a07831b3.gif"/>
          <p:cNvPicPr/>
          <p:nvPr/>
        </p:nvPicPr>
        <p:blipFill>
          <a:blip r:embed="rId2"/>
          <a:stretch/>
        </p:blipFill>
        <p:spPr>
          <a:xfrm>
            <a:off x="5286240" y="3589200"/>
            <a:ext cx="3400560" cy="30736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1015560"/>
            <a:ext cx="914400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ой результат – развитие личности на основе деятельности по преобразованию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еш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едмет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ятельности в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нутренню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ная педагогическая задач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здание и организация условий, инициирующих ученическое дей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12000" y="36450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у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3384720" y="3645000"/>
            <a:ext cx="233964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Ради ч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755640" y="37162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Чему учи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50920" y="260280"/>
            <a:ext cx="8712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8000"/>
            </a:solidFill>
            <a:miter/>
          </a:ln>
          <a:effectLst>
            <a:outerShdw dist="107932" dir="2700000" blurRad="0" rotWithShape="0">
              <a:srgbClr val="00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стемно-деятельностный подх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0" y="5985000"/>
            <a:ext cx="9144000" cy="87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292929"/>
                </a:solidFill>
                <a:latin typeface="Arial"/>
              </a:rPr>
              <a:t>формирование универсальных способов действ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971640" y="3141720"/>
            <a:ext cx="7740720" cy="4316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Georgia"/>
              </a:rPr>
              <a:t>Вектор смещения акцентов нового стандар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8001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В основе реализации стандарта –</a:t>
            </a:r>
            <a:r>
              <a:rPr b="1" lang="ru-RU" sz="3700" spc="-1" strike="noStrike">
                <a:solidFill>
                  <a:srgbClr val="ffff00"/>
                </a:solidFill>
                <a:latin typeface="Arial Black"/>
              </a:rPr>
              <a:t>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системно – деятельностный </a:t>
            </a:r>
            <a:br>
              <a:rPr sz="3700"/>
            </a:br>
            <a:r>
              <a:rPr b="0" lang="ru-RU" sz="3700" spc="-1" strike="noStrike">
                <a:solidFill>
                  <a:srgbClr val="ffff00"/>
                </a:solidFill>
                <a:latin typeface="Arial Black"/>
              </a:rPr>
              <a:t>подход</a:t>
            </a:r>
            <a:br>
              <a:rPr sz="3700"/>
            </a:br>
            <a:endParaRPr b="1" lang="en-US" sz="3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55640" y="3860280"/>
            <a:ext cx="6229080" cy="22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Главным деятелем на ур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олжен быть РЕБ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1858884"/>
          <p:cNvPicPr/>
          <p:nvPr/>
        </p:nvPicPr>
        <p:blipFill>
          <a:blip r:embed="rId1"/>
          <a:stretch/>
        </p:blipFill>
        <p:spPr>
          <a:xfrm>
            <a:off x="324000" y="5013360"/>
            <a:ext cx="1738080" cy="13161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ADA-87A8-4280-87B1-5F4F14892061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3"/>
          <p:cNvSpPr/>
          <p:nvPr/>
        </p:nvSpPr>
        <p:spPr>
          <a:xfrm>
            <a:off x="228600" y="357120"/>
            <a:ext cx="86407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Требования к структуре основ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32f4d"/>
                </a:solidFill>
                <a:latin typeface="Arial"/>
              </a:rPr>
              <a:t>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26"/>
          <p:cNvSpPr/>
          <p:nvPr/>
        </p:nvSpPr>
        <p:spPr>
          <a:xfrm>
            <a:off x="250920" y="1371600"/>
            <a:ext cx="8642160" cy="133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2f4d"/>
                </a:solidFill>
                <a:latin typeface="Georgia"/>
              </a:rPr>
              <a:t>ТРЕБ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7"/>
          <p:cNvSpPr/>
          <p:nvPr/>
        </p:nvSpPr>
        <p:spPr>
          <a:xfrm rot="5400000">
            <a:off x="252000" y="2997360"/>
            <a:ext cx="719280" cy="576000"/>
          </a:xfrm>
          <a:custGeom>
            <a:avLst/>
            <a:gdLst>
              <a:gd name="textAreaLeft" fmla="*/ 112320 w 719280"/>
              <a:gd name="textAreaRight" fmla="*/ 629640 w 71928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080" y="4005360"/>
            <a:ext cx="1114200" cy="1655640"/>
          </a:xfrm>
          <a:custGeom>
            <a:avLst/>
            <a:gdLst>
              <a:gd name="textAreaLeft" fmla="*/ 54360 w 1114200"/>
              <a:gd name="textAreaRight" fmla="*/ 1059840 w 11142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93">
                <a:moveTo>
                  <a:pt x="3600" y="0"/>
                </a:moveTo>
                <a:arcTo wR="3600" hR="3600" stAng="16200000" swAng="-5400000"/>
                <a:lnTo>
                  <a:pt x="0" y="28493"/>
                </a:lnTo>
                <a:arcTo wR="3600" hR="3600" stAng="10800000" swAng="-5400000"/>
                <a:lnTo>
                  <a:pt x="18000" y="320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ируем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езульта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3492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здоров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б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жиз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05360"/>
            <a:ext cx="936720" cy="1655640"/>
          </a:xfrm>
          <a:custGeom>
            <a:avLst/>
            <a:gdLst>
              <a:gd name="textAreaLeft" fmla="*/ 45720 w 936720"/>
              <a:gd name="textAreaRight" fmla="*/ 891000 w 936720"/>
              <a:gd name="textAreaTop" fmla="*/ 45720 h 1655640"/>
              <a:gd name="textAreaBottom" fmla="*/ 1609920 h 1655640"/>
            </a:gdLst>
            <a:ahLst/>
            <a:rect l="textAreaLeft" t="textAreaTop" r="textAreaRight" b="textAreaBottom"/>
            <a:pathLst>
              <a:path w="21600" h="38171">
                <a:moveTo>
                  <a:pt x="3600" y="0"/>
                </a:moveTo>
                <a:arcTo wR="3600" hR="3600" stAng="16200000" swAng="-5400000"/>
                <a:lnTo>
                  <a:pt x="0" y="34571"/>
                </a:lnTo>
                <a:arcTo wR="3600" hR="3600" stAng="10800000" swAng="-5400000"/>
                <a:lnTo>
                  <a:pt x="18000" y="38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чеб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4716360" y="4005360"/>
            <a:ext cx="1116000" cy="1655640"/>
          </a:xfrm>
          <a:custGeom>
            <a:avLst/>
            <a:gdLst>
              <a:gd name="textAreaLeft" fmla="*/ 54360 w 1116000"/>
              <a:gd name="textAreaRight" fmla="*/ 1061640 w 1116000"/>
              <a:gd name="textAreaTop" fmla="*/ 54360 h 1655640"/>
              <a:gd name="textAreaBottom" fmla="*/ 1601280 h 1655640"/>
            </a:gdLst>
            <a:ahLst/>
            <a:rect l="textAreaLeft" t="textAreaTop" r="textAreaRight" b="textAreaBottom"/>
            <a:pathLst>
              <a:path w="21600" h="32041">
                <a:moveTo>
                  <a:pt x="3600" y="0"/>
                </a:moveTo>
                <a:arcTo wR="3600" hR="3600" stAng="16200000" swAng="-5400000"/>
                <a:lnTo>
                  <a:pt x="0" y="28441"/>
                </a:lnTo>
                <a:arcTo wR="3600" hR="3600" stAng="10800000" swAng="-5400000"/>
                <a:lnTo>
                  <a:pt x="18000" y="320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УУ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26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дух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нравственн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воспит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5940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948360" y="4005360"/>
            <a:ext cx="1079640" cy="165564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655640"/>
              <a:gd name="textAreaBottom" fmla="*/ 1603080 h 1655640"/>
            </a:gdLst>
            <a:ahLst/>
            <a:rect l="textAreaLeft" t="textAreaTop" r="textAreaRight" b="textAreaBottom"/>
            <a:pathLst>
              <a:path w="21600" h="33120">
                <a:moveTo>
                  <a:pt x="3600" y="0"/>
                </a:moveTo>
                <a:arcTo wR="3600" hR="3600" stAng="16200000" swAng="-5400000"/>
                <a:lnTo>
                  <a:pt x="0" y="29520"/>
                </a:lnTo>
                <a:arcTo wR="3600" hR="3600" stAng="10800000" swAng="-5400000"/>
                <a:lnTo>
                  <a:pt x="18000" y="331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Програм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коррекцион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7"/>
          <p:cNvSpPr/>
          <p:nvPr/>
        </p:nvSpPr>
        <p:spPr>
          <a:xfrm rot="5400000">
            <a:off x="1404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7"/>
          <p:cNvSpPr/>
          <p:nvPr/>
        </p:nvSpPr>
        <p:spPr>
          <a:xfrm rot="5400000">
            <a:off x="2339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7"/>
          <p:cNvSpPr/>
          <p:nvPr/>
        </p:nvSpPr>
        <p:spPr>
          <a:xfrm rot="5400000">
            <a:off x="334800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7"/>
          <p:cNvSpPr/>
          <p:nvPr/>
        </p:nvSpPr>
        <p:spPr>
          <a:xfrm rot="5400000">
            <a:off x="4571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7"/>
          <p:cNvSpPr/>
          <p:nvPr/>
        </p:nvSpPr>
        <p:spPr>
          <a:xfrm rot="5400000">
            <a:off x="579564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 rot="5400000">
            <a:off x="7021440" y="2995560"/>
            <a:ext cx="718920" cy="57600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7"/>
          <p:cNvSpPr/>
          <p:nvPr/>
        </p:nvSpPr>
        <p:spPr>
          <a:xfrm rot="5400000">
            <a:off x="8100720" y="2995560"/>
            <a:ext cx="718920" cy="576360"/>
          </a:xfrm>
          <a:custGeom>
            <a:avLst/>
            <a:gdLst>
              <a:gd name="textAreaLeft" fmla="*/ 112320 w 718920"/>
              <a:gd name="textAreaRight" fmla="*/ 629280 w 718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8172360" y="4005360"/>
            <a:ext cx="863640" cy="165564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655640"/>
              <a:gd name="textAreaBottom" fmla="*/ 1613520 h 1655640"/>
            </a:gdLst>
            <a:ahLst/>
            <a:rect l="textAreaLeft" t="textAreaTop" r="textAreaRight" b="textAreaBottom"/>
            <a:pathLst>
              <a:path w="21600" h="41400">
                <a:moveTo>
                  <a:pt x="3600" y="0"/>
                </a:moveTo>
                <a:arcTo wR="3600" hR="3600" stAng="16200000" swAng="-5400000"/>
                <a:lnTo>
                  <a:pt x="0" y="37800"/>
                </a:lnTo>
                <a:arcTo wR="3600" hR="3600" stAng="10800000" swAng="-5400000"/>
                <a:lnTo>
                  <a:pt x="18000" y="41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Систе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32f4d"/>
                </a:solidFill>
                <a:latin typeface="Arial"/>
              </a:rPr>
              <a:t>оцен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385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50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Требования к структуре </a:t>
            </a:r>
            <a:br>
              <a:rPr sz="3600"/>
            </a:b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основной образовательной</a:t>
            </a:r>
            <a:r>
              <a:rPr b="0" lang="ru-RU" sz="3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cc00"/>
                </a:solidFill>
                <a:latin typeface="Arial Black"/>
              </a:rPr>
              <a:t>программы 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2565000"/>
            <a:ext cx="822960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Зафиксированы требования 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количеству и наименованию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(всего-9), в том числе к учебному плану общеобразовательного учреж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минимальному и максимальному количеству учебных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часов за 4 года (2 904 - 3 210 час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держанию каждого из разделов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соотношению частей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основной общеобразовательной  программы (80/20% для первой ступени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c0066"/>
                </a:solidFill>
                <a:latin typeface="Arial"/>
              </a:rPr>
              <a:t>организации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1583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 </a:t>
            </a:r>
            <a:r>
              <a:rPr b="0" lang="ru-RU" sz="4200" spc="-1" strike="noStrike">
                <a:solidFill>
                  <a:srgbClr val="99cc00"/>
                </a:solidFill>
                <a:latin typeface="Arial Black"/>
              </a:rPr>
              <a:t>Требования к структуре</a:t>
            </a:r>
            <a:endParaRPr b="1" lang="en-US" sz="4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7120" y="1557000"/>
            <a:ext cx="8786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новная образовательная программа –целостный докуме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ояснительная запис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ланируемые результаты освоения основной образовательной  програм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учебный пл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формирования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УУ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ы  учебных предме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духовно-нравственного развития, воспит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формирования культуры  здорового и безопасного образа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программа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коррекционной работы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66760" indent="-1731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система оценки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 достижения планируемых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1890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неурочная деятельность 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время, отводимое на внеурочную деятельность, составля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до 1350 часов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учебные занятия: не менее 2904 ч. и не более 3210 ч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3352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10480" cy="1106640"/>
          </a:xfrm>
          <a:prstGeom prst="rect">
            <a:avLst/>
          </a:prstGeom>
          <a:gradFill rotWithShape="0">
            <a:gsLst>
              <a:gs pos="0">
                <a:srgbClr val="83d3ff"/>
              </a:gs>
              <a:gs pos="100000">
                <a:srgbClr val="dbf0ff"/>
              </a:gs>
            </a:gsLst>
            <a:lin ang="81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Основные трудности педагогических работников   </a:t>
            </a:r>
            <a:br>
              <a:rPr sz="2400"/>
            </a:br>
            <a:r>
              <a:rPr b="1" lang="ru-RU" sz="2400" spc="-1" strike="noStrike">
                <a:solidFill>
                  <a:srgbClr val="cc0066"/>
                </a:solidFill>
                <a:latin typeface="Arial Black"/>
              </a:rPr>
              <a:t> на этапе введения ФГОС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358920" y="1143000"/>
            <a:ext cx="8785080" cy="5357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c5ec9e"/>
              </a:gs>
              <a:gs pos="100000">
                <a:srgbClr val="ecf8e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прощенное понимание сущности и технологии реализ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истемно - деятельностного подхо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ложившаяся за предыдущие  годы устойчив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ка проведения урока;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готовности руководителей ОУ и педагогических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 планированию и  организации образовательного процесса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ачальной школе в соответствии с требованиями ФГО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традиционный подход руководителей ОУ к анализу урока и стрем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держиваться старых подходов к оценке деятельности учител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инципиальная новизна вопросов инструментальн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етодического обеспечения достижения и оценки планируем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результатов (личностных, метапредметных и предметных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опыта  разработки разделов ОО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тсутствие методических рекомендаций авторов УМ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2:41:38Z</dcterms:created>
  <dc:creator>1</dc:creator>
  <dc:description/>
  <dc:language>en-US</dc:language>
  <cp:lastModifiedBy>LEGION</cp:lastModifiedBy>
  <dcterms:modified xsi:type="dcterms:W3CDTF">2015-01-27T13:42:25Z</dcterms:modified>
  <cp:revision>12</cp:revision>
  <dc:subject/>
  <dc:title>Слайд 1</dc:title>
</cp:coreProperties>
</file>