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4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7974-A1E2-4FDC-898C-EF7C2B0669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1292"/>
                </a:solidFill>
                <a:latin typeface="Calibri"/>
              </a:rPr>
              <a:t>Внедрение ФГОС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педагогический сов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F892-594B-4AED-A3AF-2FE2EE6624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танда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«На ступени начального общего образования должно быть осуществлено формирование основ умения учиться и способности к организации своей деятельности – умение принимать, сохранять цели и следовать им в учебной деятельности, планировать свою деятельность, осуществлять ее контроль и оценку, взаимодействовать с педагогом и сверстниками в учебном процесс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A670-F957-4538-9B60-D23FE339BD9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Требования к </a:t>
            </a:r>
            <a:r>
              <a:rPr b="0" lang="ru-RU" sz="1100" spc="-1" strike="noStrike" u="sng">
                <a:solidFill>
                  <a:srgbClr val="ff0000"/>
                </a:solidFill>
                <a:uFillTx/>
                <a:latin typeface="Calibri"/>
              </a:rPr>
              <a:t>результатам</a:t>
            </a: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 освоения </a:t>
            </a:r>
            <a:br>
              <a:rPr sz="1100"/>
            </a:b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основной образовательной программы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Личнос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готовность и способность к само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мотивация к обучению и п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ценностно-смысловые устано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оциальные компетенции, личност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Метапредме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ниверсальные учебные действ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знав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редме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пыт деятельности специфической для данной предметной обл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истема основополагающих элементов научного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5BF5-6C7C-4CE3-BDAC-1D118FD690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  <a:ea typeface="Arial"/>
              </a:rPr>
              <a:t>Универсальные учебные действ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вокупность способов действия учащегося, обеспечивающих его способность к самостоятельному усвоению новых знаний, включая организацию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E440-D476-46DC-AE63-86015C4B82A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Calibri"/>
              </a:rPr>
              <a:t>Виды универсальных учебных дейст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Личностные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жизненное, личностное, профессиональное самоопределение, умение соотносить поступки и события с принятыми этическими принципами), а также ориентация в социальных ролях и межличностны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Регуля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ействия, обеспечивающие организацию учащимися своей учебной деятельности (целеполагание, планирование, прогнозирование результатов деятельности, коррекция, оцен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2F82-2E3C-4479-8DE5-459DB9EABF8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Calibri"/>
              </a:rPr>
              <a:t>Виды универсальных учебных действ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Calibri"/>
              </a:rPr>
              <a:t>Познавательные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щеучебные, включ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-предметные 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ределяющиеся содержанием конкретной дисциплины (постановка и решение проблем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Calibri"/>
              </a:rPr>
              <a:t>Коммуник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циальная компетентность, учет позиции других людей, умение слушать, участвовать в коллективном обсуждении проблем, планирование учебного сотрудничества с учителей и сверст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AC10-4EF6-4C71-B14E-5B904B2906E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9900"/>
                </a:solidFill>
                <a:latin typeface="Calibri"/>
              </a:rPr>
              <a:t>Фрагмент тематического планиров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вездное небо – великая книга природ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р. 16-21, Т. стр. 7-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то такое созвездие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к определить направление сторон горизонта по Полярной звезде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чему ученый назвал  звездное небо   Великой книгой     Природы?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ебесные тела, планета, Млечный путь, созвездие, астроном, названия созвезд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ть название созвездий; уметь пользоваться атласом-определителем и находи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озвездия на звездной карте и в ночном небе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Регулятив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ланировать свои действия в соответствии с поставленной задачей, в сотрудничестве с учителем ставить новые учебные задач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ознавательные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делять существенную информацию из текстов разных видов, строить рассуждения в форме связи простых суждений об объекте и его строен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Коммуникатив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ладеть полученной информацией и строить монологическое высказыв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вышение самооценки учен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BA45-3A45-4E17-B40A-902DF166DE3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Calibri"/>
              </a:rPr>
              <a:t>ФГОС  повлечет за собой изменения в БУП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урочная деятельность как важная составная часть содержания образования, увеличивающая его вариативность и адаптивность к интересам, потребностям и способностям шк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ждом классе школы предполагается выделить в среднем по 10 часов в неделю на внеурочную деятельность – спортивно-оздоровительную, познавательную и исследовательскую, художественно-эстетическую, трудовую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CDB5-4AD3-4068-A5DA-F3382523BB9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тандарты обеспе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Monotype Corsiva"/>
              </a:rPr>
              <a:t>Переход от «догоняющ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Monotype Corsiva"/>
              </a:rPr>
              <a:t>к «опережающей» модели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9F33-EEE0-4BE4-A30E-5B37B8F4CFA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Личност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Внутренняя позиция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декватная мотивация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риентация на моральные нормы и их выпол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пособность к моральной децен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22C1-A969-49B4-999C-7478D2448FE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Регулятив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владение всеми типами учеб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ланировать реализацию учебной цели и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Контролировать и оценивать свои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F614-2719-4D2A-A874-A15EED6055E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Новые подходы к определению  стратегических целей стандар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тандарты - социальная норма, обще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договор между семьей, обществом и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CF4E-A4DA-43F6-B0AE-1EC7BA5A5B0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Познаватель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Использовать знаково-символ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владеть действием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Коммуникатив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Учитывать позицию собесед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рганизовывать и осуществлять сотрудничество с учителем и сверст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ередавать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45BD-AAE5-4531-8197-6BADBA6C6E5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Выж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не самый силь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и не самый ум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а тот, к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лучше всех отклик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на происходящие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Calibri"/>
              </a:rPr>
              <a:t>                                                                      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Чарльз Дар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пасибо за сотрудничество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D069-8D10-4881-B6E9-5A67BFA2939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лжны получать удовл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фессион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дача учителя!</a:t>
            </a:r>
            <a:r>
              <a:rPr b="0" lang="ru-RU" sz="1200" spc="-1" strike="noStrike">
                <a:solidFill>
                  <a:srgbClr val="502652"/>
                </a:solidFill>
                <a:latin typeface="Calibri"/>
              </a:rPr>
              <a:t>(отличие стандартов второго поко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D52B-3789-40CA-861F-3FD72B68954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B431-40BC-44E9-B8E5-0D1D24751F9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571C-4391-436B-AC19-6BE76D26CFF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й результат – развитие личности на основе деятельности по преобразованию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еятельности во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сновная педагогическая задач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оздание и организация условий, инициирующих ученическое действ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 основе реализации стандарта –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истемно – деятельностный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одход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авным деятелем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лжен быть РЕБЁ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CACC-5913-46B4-A2D5-B33F222D50C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32f4d"/>
                </a:solidFill>
                <a:latin typeface="Calibri"/>
              </a:rPr>
              <a:t>Требования к структуре основ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32f4d"/>
                </a:solidFill>
                <a:latin typeface="Calibri"/>
              </a:rPr>
              <a:t>образовательно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1174-FBD3-4538-BE24-75010706DB1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Требования к структуре </a:t>
            </a:r>
            <a:br>
              <a:rPr sz="2400"/>
            </a:b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основной образовательно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Зафиксированы требования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количеству и наименованию разделов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(всего-9), в том числе к учебному плану общеобразовательного учреж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минимальному и максимальному количеству учебных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часов за 4 года (2 904 - 3 210 час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содержанию каждого из разделов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соотношению частей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основной общеобразовательной  программы (80/20% для первой ступен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рганизации внеуроч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0FD1-292C-455E-9AD7-C873F50120F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3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4f81bd"/>
                </a:solidFill>
                <a:latin typeface="Calibri"/>
              </a:rPr>
              <a:t>Требования к структур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89000">
              <a:lnSpc>
                <a:spcPct val="60000"/>
              </a:lnSpc>
              <a:spcBef>
                <a:spcPts val="52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основная образовательная программа –целостный докумен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ояснительная запис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ланируемые результаты освоения основной образовательной  програм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учебный пла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 формирования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ы  учебных предме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 духовно-нравственного развития, воспит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формирования культуры  здорового и безопасного образа жиз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 коррекционной работы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система оценки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достижения планируемых результа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89000">
              <a:lnSpc>
                <a:spcPct val="60000"/>
              </a:lnSpc>
              <a:spcBef>
                <a:spcPts val="52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внеурочная деятельность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время, отводимое на внеурочную деятельность, составляет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до 1350 часов 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(учебные занятия: не менее 2904 ч. и не более 3210 ч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4CAE-5188-4435-A3A5-A0501CB53B1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7D78-719D-4732-B659-5DEEC91CDA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Основные трудности педагогических работников   </a:t>
            </a:r>
            <a:br>
              <a:rPr sz="1200"/>
            </a:b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на этапе введения ФГ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прощенное понимание сущности и технологии ре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истемно - деятельностного подх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жившаяся за предыдущие  годы устойчи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ка проведения урока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готовности руководителей ОУ и педагогических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планированию и  организации образовательного процесса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чальной школе в соответствии с требованиями ФГО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радиционный подход руководителей ОУ к анализу урока и стре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держиваться старых подходов к оценке деятельности учи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нципиальная новизна вопросов инструменталь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ческого обеспечения достижения и оценки планируем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зультатов (личностных, метапредметных и предметных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опыта  разработки разделов ОО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методических рекомендаций авторов УМ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D9E-1F21-4463-996F-3DAD213E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410-A0D2-4946-9494-0664D85D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A23-C5E2-4AE5-AE67-59AA599A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88B-52CC-406F-8A15-83F821DF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A2F93-8805-4C70-8090-7E719878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744F4-C504-4534-A453-F3EAD439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73E49-E780-40F5-B5BA-3D21834E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3A331-B15D-4D39-A7B0-68876C93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97497-EA47-4C9B-A0AE-70D737CD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AE775-8E4E-4C78-95A9-BF104F65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3A7E5-8B6F-4936-AEC9-63D8D109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D7D-0379-4562-B016-F7840CB4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8CEED-1180-4E03-82F1-C54A6E55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D9595-A4D4-472C-AE19-90FD0034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CE4B4-9DE8-46D0-8D06-794D0315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1B6A2-C999-4697-AACF-DFAD22F5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19984-E199-4153-B0E5-3902930F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AA022-0C53-4D53-9AD1-C9889EAE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EC7A4-E812-4898-B2C6-0E860309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34E9A-29EE-405C-BA03-BADB2D44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599AD-49BE-4B0C-A9C1-ADE42F07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6E49-31D2-474F-9DEF-A4235EDE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7B3-A2C7-40EA-988F-FA019DBC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11769-A9C4-49D5-A15D-DA67F4E7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2D869-5B8D-4B28-93DF-1A038A6C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CB4F-B23B-40A4-A3D2-10637E8E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7A078-1F9E-4CE1-9772-879051F5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D5A95-F67B-4064-B18B-AFC5C8C3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D9A4E-7096-4BDD-B404-D00D2111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0F22-F9B3-475F-835C-9D971421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85FB1D-242F-4EAE-9B4C-188AA0D5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09CBB-C3CD-4969-8B56-1A8A438A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005E6-76F9-4229-AC62-4D73C637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0D8B-11E7-4077-8C11-1C54FF4A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94E325-D453-417A-B67F-00771997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F5B8CD-AE56-489B-B32F-93FEE4BE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1FD2EC-8EE0-4C92-809B-9D16B1D3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A93ED-FB85-48E7-88E4-ED2123AD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2CA35-D53A-424C-880A-F3922E95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06A1F-0521-43BF-BD66-2A1C7BA6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A8E479-14C8-4D5A-8487-AA3037F4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6B4CCC-E50A-4668-B270-0A112905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F55411-7D61-42CB-AFC1-3992EAAB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4282-469E-422E-8690-506F2FEC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833-66AF-4173-92F8-72346A40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D34C-2444-430B-9419-D611D857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812-AF54-41CB-85F1-7C2C0D53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79A-8902-4F55-BA7D-2CE14FC0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5EEF-209D-4808-A73B-C33F43494B9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C202-8B07-402E-A11F-A546B4F631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a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4B00-C03F-454D-8E98-D6B49491F8F8}" type="datetime">
              <a:rPr b="0" lang="ru-RU" sz="800" spc="-1" strike="noStrike">
                <a:solidFill>
                  <a:srgbClr val="438086"/>
                </a:solidFill>
                <a:latin typeface="Arial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43C7-2377-4D30-A64B-8B9C73451EB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70C2-74A3-4832-8C66-4D826E4D510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C5C5-8CCC-4818-AB49-BBA8616B9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a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7737-22CC-44CC-9595-CEC33F6BBFE6}" type="datetime">
              <a:rPr b="0" lang="ru-RU" sz="800" spc="-1" strike="noStrike">
                <a:solidFill>
                  <a:srgbClr val="438086"/>
                </a:solidFill>
                <a:latin typeface="Arial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3F29-32A7-4CC0-8505-08A8F7CF2FF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71292"/>
                </a:solidFill>
                <a:latin typeface="Arial Black"/>
              </a:rPr>
              <a:t>Внедрение ФГОС в начальной школе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46280" y="4316400"/>
            <a:ext cx="48196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дагогический со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Стандарт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3640" y="1356840"/>
            <a:ext cx="85215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«На ступени начального общего образования должно быть осуществлено формирование основ умения учиться и способности к организации своей деятельности – умение принимать, сохранять цели и следовать им в учебной деятельности, планировать свою деятельность, осуществлять ее контроль и оценку, взаимодействовать с педагогом и сверстниками в учебном процесс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3296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Требования к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 Black"/>
              </a:rPr>
              <a:t>результатам</a:t>
            </a: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 освоения </a:t>
            </a:r>
            <a:br>
              <a:rPr sz="1800"/>
            </a:b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основной образовательной программы</a:t>
            </a: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Личнос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готовность и способность к саморазвит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мотивация к обучению и позн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ценностно-смысловые установ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оциальные компетенции, личностны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Метапредм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универсальные учебные действ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ознава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егуля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Предм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опыт деятельности специфической для данной предметной об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истема основополагающих элементов научного 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20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542880" y="907920"/>
            <a:ext cx="8229600" cy="5505480"/>
          </a:xfrm>
          <a:prstGeom prst="rect">
            <a:avLst/>
          </a:prstGeom>
          <a:ln w="0">
            <a:noFill/>
          </a:ln>
        </p:spPr>
      </p:pic>
      <p:sp>
        <p:nvSpPr>
          <p:cNvPr id="268" name="WordArt 4"/>
          <p:cNvSpPr txBox="1"/>
          <p:nvPr/>
        </p:nvSpPr>
        <p:spPr>
          <a:xfrm>
            <a:off x="914400" y="838080"/>
            <a:ext cx="7543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b7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b7"/>
              </a:solidFill>
              <a:latin typeface="Arial"/>
              <a:ea typeface="Arial"/>
            </a:endParaRPr>
          </a:p>
        </p:txBody>
      </p:sp>
      <p:pic>
        <p:nvPicPr>
          <p:cNvPr id="269" name="Picture 4" descr="D:\анимашки\дети\комп.gif"/>
          <p:cNvPicPr/>
          <p:nvPr/>
        </p:nvPicPr>
        <p:blipFill>
          <a:blip r:embed="rId2"/>
          <a:stretch/>
        </p:blipFill>
        <p:spPr>
          <a:xfrm>
            <a:off x="6156360" y="4292640"/>
            <a:ext cx="2365200" cy="236520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Виды универсальных учебных 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Личностные</a:t>
            </a: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жизненное, личностное, профессиональное самоопределение, умение соотносить поступки и события с принятыми этическими принципами), а также ориентация в социальных ролях и межличностных отнош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Регулятив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действия, обеспечивающие организацию учащимися своей учебной деятельности (целеполагание, планирование, прогнозирование результатов деятельности, коррекция, оцен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44240"/>
            <a:ext cx="8385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Виды универсальных учебных 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66"/>
                </a:solidFill>
                <a:uFillTx/>
                <a:latin typeface="Arial"/>
              </a:rPr>
              <a:t>Познавательные</a:t>
            </a: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бщеучебные, включ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ьно-предметные дейст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пределяющиеся содержанием конкретной дисциплины (постановка и решение проблем и т.д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c0066"/>
                </a:solidFill>
                <a:uFillTx/>
                <a:latin typeface="Arial"/>
              </a:rPr>
              <a:t>Коммуникативные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социальная компетентность, учет позиции других людей, умение слушать, участвовать в коллективном обсуждении проблем, планирование учебного сотрудничества с учителей и сверстника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244080"/>
            <a:ext cx="79423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</a:rPr>
              <a:t>Фрагмент тематического планирования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00040" y="2000160"/>
          <a:ext cx="8358120" cy="4206960"/>
        </p:xfrm>
        <a:graphic>
          <a:graphicData uri="http://schemas.openxmlformats.org/drawingml/2006/table">
            <a:tbl>
              <a:tblPr/>
              <a:tblGrid>
                <a:gridCol w="452520"/>
                <a:gridCol w="1495440"/>
                <a:gridCol w="1454040"/>
                <a:gridCol w="1198440"/>
                <a:gridCol w="1022400"/>
                <a:gridCol w="1711440"/>
                <a:gridCol w="1023840"/>
              </a:tblGrid>
              <a:tr h="4206960">
                <a:tc>
                  <a:txBody>
                    <a:bodyPr lIns="47520" rIns="4752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 Blac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Звездное небо – великая книга прир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Стр. 16-21, Т. стр. 7-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Что такое созвезди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Как определить направление сторон горизонта по Полярной звезд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очему ученый назвал  звездное небо   Великой книгой     Природы?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Небесные тела, планета, Млечный путь, созвездие, астроном, названия созвезд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знать название созвездий; уметь пользоваться атласом-определителем и находи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созвездия на звездной карте и в ночном небе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Регуля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ланировать свои действия в соответствии с поставленной задачей, в сотрудничестве с учителем ставить новые учебные зада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Познавательные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Выделять существенную информацию из текстов разных видов, строить рассуждения в форме связи простых суждений об объекте и его строе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Коммуника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Владеть полученной информацией и строить монологическое высказы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овышение самооценки учен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00040" y="1000080"/>
          <a:ext cx="8286840" cy="978120"/>
        </p:xfrm>
        <a:graphic>
          <a:graphicData uri="http://schemas.openxmlformats.org/drawingml/2006/table">
            <a:tbl>
              <a:tblPr/>
              <a:tblGrid>
                <a:gridCol w="449280"/>
                <a:gridCol w="1482840"/>
                <a:gridCol w="1441440"/>
                <a:gridCol w="1187280"/>
                <a:gridCol w="1014480"/>
                <a:gridCol w="1697040"/>
                <a:gridCol w="1014480"/>
              </a:tblGrid>
              <a:tr h="4201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Тема ур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(страницы учебника, тетрад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Решаемые пробл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ланируемые результат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(в соответствии с ФГО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0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онят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редмет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У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Личностные 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3851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Arial Black"/>
              </a:rPr>
              <a:t>ФГОС  повлечет за собой изменения в БУП</a:t>
            </a:r>
            <a:r>
              <a:rPr b="1" lang="ru-RU" sz="3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1844640"/>
            <a:ext cx="84582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урочная деятельность как важная составная часть содержания образования, увеличивающая его вариативность и адаптивность к интересам, потребностям и способностям школь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ждом классе школы предполагается выделить в среднем по 10 часов в неделю на внеурочную деятельность – спортивно-оздоровительную, познавательную и исследовательскую, художественно-эстетическую, трудовую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с двумя скругленными противолежащими углами 5"/>
          <p:cNvSpPr/>
          <p:nvPr/>
        </p:nvSpPr>
        <p:spPr>
          <a:xfrm>
            <a:off x="228600" y="1268280"/>
            <a:ext cx="8763120" cy="432000"/>
          </a:xfrm>
          <a:prstGeom prst="pi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азисный учебный план – Базисный образовательный пл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33"/>
                </a:solidFill>
                <a:latin typeface="Arial Black"/>
              </a:rPr>
              <a:t>Стандарты обеспечивают</a:t>
            </a:r>
            <a:endParaRPr b="1" lang="en-US" sz="5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Monotype Corsiva"/>
              </a:rPr>
              <a:t>Переход от «догоняющей»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Monotype Corsiva"/>
              </a:rPr>
              <a:t>к «опережающей» модели образован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D:\Мама\анимашки\дети\6e512718eb4ddfdeb3be803fc4e3f797.gif"/>
          <p:cNvPicPr/>
          <p:nvPr/>
        </p:nvPicPr>
        <p:blipFill>
          <a:blip r:embed="rId1"/>
          <a:stretch/>
        </p:blipFill>
        <p:spPr>
          <a:xfrm>
            <a:off x="7358040" y="1143000"/>
            <a:ext cx="1571760" cy="1816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D:\Мама\анимашки\дети\28.gif"/>
          <p:cNvPicPr/>
          <p:nvPr/>
        </p:nvPicPr>
        <p:blipFill>
          <a:blip r:embed="rId2"/>
          <a:stretch/>
        </p:blipFill>
        <p:spPr>
          <a:xfrm>
            <a:off x="4643280" y="3929040"/>
            <a:ext cx="2786400" cy="27464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946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Личност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Внутренняя позиция шк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декватная мотивация учеб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риентация на моральные нормы и их выпол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пособность к моральной децент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9464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Регулятив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владение всеми типами учебных дейст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ланировать реализацию учебной цели и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онтролировать и оценивать свои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Новые подходы к определению  стратегических целей стандарт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13840" y="1213920"/>
            <a:ext cx="8758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Стандарты - социальная норма, обществе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договор между семьей, обществом и государств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AG00315_"/>
          <p:cNvPicPr/>
          <p:nvPr/>
        </p:nvPicPr>
        <p:blipFill>
          <a:blip r:embed="rId1"/>
          <a:stretch/>
        </p:blipFill>
        <p:spPr>
          <a:xfrm>
            <a:off x="3000240" y="292896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9"/>
          <p:cNvSpPr/>
          <p:nvPr/>
        </p:nvSpPr>
        <p:spPr>
          <a:xfrm>
            <a:off x="4357800" y="18572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0"/>
          <p:cNvSpPr/>
          <p:nvPr/>
        </p:nvSpPr>
        <p:spPr>
          <a:xfrm>
            <a:off x="4572000" y="521496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ятно 2 8"/>
          <p:cNvSpPr/>
          <p:nvPr/>
        </p:nvSpPr>
        <p:spPr>
          <a:xfrm rot="21540000">
            <a:off x="-183960" y="3032280"/>
            <a:ext cx="3718080" cy="3792240"/>
          </a:xfrm>
          <a:prstGeom prst="irregularSeal2">
            <a:avLst/>
          </a:prstGeom>
          <a:solidFill>
            <a:srgbClr val="00ffcc"/>
          </a:solidFill>
          <a:ln w="255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ЕМ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чностная 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циальная 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фессиональн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Облако 9"/>
          <p:cNvSpPr/>
          <p:nvPr/>
        </p:nvSpPr>
        <p:spPr>
          <a:xfrm rot="660000">
            <a:off x="4430520" y="2595600"/>
            <a:ext cx="4493880" cy="1942920"/>
          </a:xfrm>
          <a:prstGeom prst="pie">
            <a:avLst/>
          </a:prstGeom>
          <a:solidFill>
            <a:srgbClr val="66ccff"/>
          </a:solidFill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опасность и здоров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и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ая справедлив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о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Овал 10"/>
          <p:cNvSpPr/>
          <p:nvPr/>
        </p:nvSpPr>
        <p:spPr>
          <a:xfrm>
            <a:off x="4714920" y="5214960"/>
            <a:ext cx="4286160" cy="164304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Georgia"/>
              </a:rPr>
              <a:t>ГОСУДАР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Национальное един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Безопасно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Развитие человеческого потенциа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Конкурентоспособ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Прямая со стрелкой 11"/>
          <p:cNvCxnSpPr/>
          <p:nvPr/>
        </p:nvCxnSpPr>
        <p:spPr>
          <a:xfrm>
            <a:off x="4416480" y="4611960"/>
            <a:ext cx="952920" cy="991080"/>
          </a:xfrm>
          <a:prstGeom prst="straightConnector1">
            <a:avLst/>
          </a:prstGeom>
          <a:ln w="38160">
            <a:solidFill>
              <a:srgbClr val="004d00"/>
            </a:solidFill>
            <a:miter/>
            <a:tailEnd len="med" type="arrow" w="med"/>
          </a:ln>
        </p:spPr>
      </p:cxnSp>
      <p:cxnSp>
        <p:nvCxnSpPr>
          <p:cNvPr id="212" name="Прямая со стрелкой 13"/>
          <p:cNvCxnSpPr/>
          <p:nvPr/>
        </p:nvCxnSpPr>
        <p:spPr>
          <a:xfrm flipH="1">
            <a:off x="2315160" y="3315960"/>
            <a:ext cx="1013040" cy="296280"/>
          </a:xfrm>
          <a:prstGeom prst="straightConnector1">
            <a:avLst/>
          </a:prstGeom>
          <a:ln w="38160">
            <a:solidFill>
              <a:srgbClr val="66ccff"/>
            </a:solidFill>
            <a:miter/>
            <a:tailEnd len="med" type="arrow" w="med"/>
          </a:ln>
        </p:spPr>
      </p:cxnSp>
      <p:cxnSp>
        <p:nvCxnSpPr>
          <p:cNvPr id="213" name="Прямая со стрелкой 18"/>
          <p:cNvCxnSpPr/>
          <p:nvPr/>
        </p:nvCxnSpPr>
        <p:spPr>
          <a:xfrm flipV="1">
            <a:off x="4286160" y="3857400"/>
            <a:ext cx="858240" cy="429120"/>
          </a:xfrm>
          <a:prstGeom prst="straightConnector1">
            <a:avLst/>
          </a:prstGeom>
          <a:ln w="38160">
            <a:solidFill>
              <a:srgbClr val="e0ff85"/>
            </a:solidFill>
            <a:miter/>
            <a:tailEnd len="med" type="arrow" w="med"/>
          </a:ln>
        </p:spPr>
      </p:cxnSp>
      <p:sp>
        <p:nvSpPr>
          <p:cNvPr id="2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946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Познаватель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Использовать знаково-символические 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владеть действием модел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Коммуникатив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Учитывать позицию собесед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рганизовывать и осуществлять сотрудничество с учителем и сверстни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редавать информац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FGOS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68664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932000" y="333000"/>
            <a:ext cx="4211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Выжив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не самый силь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и не самый ум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а тот, к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лучше всех отклик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на происходящие изме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Чарльз Дарв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4968720" cy="344952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262080" y="1316160"/>
            <a:ext cx="8040600" cy="2165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" descr="K:\анимашки\погода\88.gif"/>
          <p:cNvPicPr/>
          <p:nvPr/>
        </p:nvPicPr>
        <p:blipFill>
          <a:blip r:embed="rId2"/>
          <a:stretch/>
        </p:blipFill>
        <p:spPr>
          <a:xfrm>
            <a:off x="5143680" y="2357280"/>
            <a:ext cx="3571560" cy="328644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26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Дети </a:t>
            </a:r>
            <a:r>
              <a:rPr b="0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должны</a:t>
            </a:r>
            <a:r>
              <a:rPr b="1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 получать удовлетворение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–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рофессиональная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задача учителя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!</a:t>
            </a:r>
            <a:r>
              <a:rPr b="1" lang="ru-RU" sz="3600" spc="-1" strike="noStrike">
                <a:solidFill>
                  <a:srgbClr val="502652"/>
                </a:solidFill>
                <a:latin typeface="Arial Black"/>
              </a:rPr>
              <a:t>(отличие стандартов второго поколения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6" name="Picture 2" descr="D:\Мама\анимашки\дети\уснул.gif"/>
          <p:cNvPicPr/>
          <p:nvPr/>
        </p:nvPicPr>
        <p:blipFill>
          <a:blip r:embed="rId1"/>
          <a:stretch/>
        </p:blipFill>
        <p:spPr>
          <a:xfrm>
            <a:off x="285840" y="3643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D:\Мама\анимашки\дети\9ca9fd62ccc9c889e8d891d4a07831b3.gif"/>
          <p:cNvPicPr/>
          <p:nvPr/>
        </p:nvPicPr>
        <p:blipFill>
          <a:blip r:embed="rId2"/>
          <a:stretch/>
        </p:blipFill>
        <p:spPr>
          <a:xfrm>
            <a:off x="5286240" y="3589200"/>
            <a:ext cx="3400560" cy="30736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1015560"/>
            <a:ext cx="914400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ой результат – развитие личности на основе деятельности по преобразованию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неш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едмет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ятельности во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нутренню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ная педагогическая задач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здание и организация условий, инициирующих ученическое дейст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6012000" y="364500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3384720" y="3645000"/>
            <a:ext cx="233964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5"/>
          <p:cNvSpPr/>
          <p:nvPr/>
        </p:nvSpPr>
        <p:spPr>
          <a:xfrm>
            <a:off x="755640" y="371628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50920" y="260280"/>
            <a:ext cx="87120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008000"/>
            </a:solidFill>
            <a:miter/>
          </a:ln>
          <a:effectLst>
            <a:outerShdw dist="107932" dir="27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стемно-деятельностный подх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0" y="5985000"/>
            <a:ext cx="9144000" cy="87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92929"/>
                </a:solidFill>
                <a:latin typeface="Arial"/>
              </a:rPr>
              <a:t>формирование универсальных способов действий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971640" y="3141720"/>
            <a:ext cx="7740720" cy="43164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Georgia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1642680"/>
            <a:ext cx="8001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В основе реализации стандарта –</a:t>
            </a:r>
            <a:r>
              <a:rPr b="1" lang="ru-RU" sz="37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3700"/>
            </a:b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системно – деятельностный </a:t>
            </a:r>
            <a:br>
              <a:rPr sz="3700"/>
            </a:b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подход</a:t>
            </a:r>
            <a:br>
              <a:rPr sz="3700"/>
            </a:br>
            <a:endParaRPr b="1" lang="en-US" sz="3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55640" y="3860280"/>
            <a:ext cx="6229080" cy="22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лавным деятелем на уро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лжен быть РЕБЁ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1858884"/>
          <p:cNvPicPr/>
          <p:nvPr/>
        </p:nvPicPr>
        <p:blipFill>
          <a:blip r:embed="rId1"/>
          <a:stretch/>
        </p:blipFill>
        <p:spPr>
          <a:xfrm>
            <a:off x="324000" y="5013360"/>
            <a:ext cx="1738080" cy="13161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2879-5C2E-4B14-A669-BF781191589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3"/>
          <p:cNvSpPr/>
          <p:nvPr/>
        </p:nvSpPr>
        <p:spPr>
          <a:xfrm>
            <a:off x="228600" y="357120"/>
            <a:ext cx="8640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2f4d"/>
                </a:solidFill>
                <a:latin typeface="Arial"/>
              </a:rPr>
              <a:t>Требования к структуре основ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2f4d"/>
                </a:solidFill>
                <a:latin typeface="Arial"/>
              </a:rPr>
              <a:t>образовательной 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26"/>
          <p:cNvSpPr/>
          <p:nvPr/>
        </p:nvSpPr>
        <p:spPr>
          <a:xfrm>
            <a:off x="250920" y="1371600"/>
            <a:ext cx="8642160" cy="133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2f4d"/>
                </a:solidFill>
                <a:latin typeface="Georgia"/>
              </a:rPr>
              <a:t>ТРЕБ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27"/>
          <p:cNvSpPr/>
          <p:nvPr/>
        </p:nvSpPr>
        <p:spPr>
          <a:xfrm rot="5400000">
            <a:off x="252000" y="2997360"/>
            <a:ext cx="719280" cy="57600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73080" y="4005360"/>
            <a:ext cx="1114200" cy="1655640"/>
          </a:xfrm>
          <a:custGeom>
            <a:avLst/>
            <a:gdLst>
              <a:gd name="textAreaLeft" fmla="*/ 54360 w 1114200"/>
              <a:gd name="textAreaRight" fmla="*/ 1059840 w 1114200"/>
              <a:gd name="textAreaTop" fmla="*/ 54360 h 1655640"/>
              <a:gd name="textAreaBottom" fmla="*/ 1601280 h 1655640"/>
            </a:gdLst>
            <a:ahLst/>
            <a:rect l="textAreaLeft" t="textAreaTop" r="textAreaRight" b="textAreaBottom"/>
            <a:pathLst>
              <a:path w="21600" h="32093">
                <a:moveTo>
                  <a:pt x="3600" y="0"/>
                </a:moveTo>
                <a:arcTo wR="3600" hR="3600" stAng="16200000" swAng="-5400000"/>
                <a:lnTo>
                  <a:pt x="0" y="28493"/>
                </a:lnTo>
                <a:arcTo wR="3600" hR="3600" stAng="10800000" swAng="-5400000"/>
                <a:lnTo>
                  <a:pt x="18000" y="320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ланиру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езульта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3492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здоров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обр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жиз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05360"/>
            <a:ext cx="936720" cy="165564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1655640"/>
              <a:gd name="textAreaBottom" fmla="*/ 1609920 h 1655640"/>
            </a:gdLst>
            <a:ahLst/>
            <a:rect l="textAreaLeft" t="textAreaTop" r="textAreaRight" b="textAreaBottom"/>
            <a:pathLst>
              <a:path w="21600" h="38171">
                <a:moveTo>
                  <a:pt x="3600" y="0"/>
                </a:moveTo>
                <a:arcTo wR="3600" hR="3600" stAng="16200000" swAng="-5400000"/>
                <a:lnTo>
                  <a:pt x="0" y="34571"/>
                </a:lnTo>
                <a:arcTo wR="3600" hR="3600" stAng="10800000" swAng="-5400000"/>
                <a:lnTo>
                  <a:pt x="18000" y="38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Учеб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4716360" y="4005360"/>
            <a:ext cx="1116000" cy="165564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655640"/>
              <a:gd name="textAreaBottom" fmla="*/ 1601280 h 1655640"/>
            </a:gdLst>
            <a:ahLst/>
            <a:rect l="textAreaLeft" t="textAreaTop" r="textAreaRight" b="textAreaBottom"/>
            <a:pathLst>
              <a:path w="21600" h="32041">
                <a:moveTo>
                  <a:pt x="3600" y="0"/>
                </a:moveTo>
                <a:arcTo wR="3600" hR="3600" stAng="16200000" swAng="-5400000"/>
                <a:lnTo>
                  <a:pt x="0" y="28441"/>
                </a:lnTo>
                <a:arcTo wR="3600" hR="3600" stAng="10800000" swAng="-5400000"/>
                <a:lnTo>
                  <a:pt x="18000" y="320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азви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УУ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268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духов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нравствен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воспит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40360" y="4005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едмет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6948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коррекцион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аб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7"/>
          <p:cNvSpPr/>
          <p:nvPr/>
        </p:nvSpPr>
        <p:spPr>
          <a:xfrm rot="5400000">
            <a:off x="1404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7"/>
          <p:cNvSpPr/>
          <p:nvPr/>
        </p:nvSpPr>
        <p:spPr>
          <a:xfrm rot="5400000">
            <a:off x="2339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27"/>
          <p:cNvSpPr/>
          <p:nvPr/>
        </p:nvSpPr>
        <p:spPr>
          <a:xfrm rot="5400000">
            <a:off x="334800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7"/>
          <p:cNvSpPr/>
          <p:nvPr/>
        </p:nvSpPr>
        <p:spPr>
          <a:xfrm rot="5400000">
            <a:off x="4571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7"/>
          <p:cNvSpPr/>
          <p:nvPr/>
        </p:nvSpPr>
        <p:spPr>
          <a:xfrm rot="5400000">
            <a:off x="5795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 rot="5400000">
            <a:off x="702144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7"/>
          <p:cNvSpPr/>
          <p:nvPr/>
        </p:nvSpPr>
        <p:spPr>
          <a:xfrm rot="5400000">
            <a:off x="8100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8172360" y="4005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Систе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оцен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385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50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Требования к структуре </a:t>
            </a:r>
            <a:br>
              <a:rPr sz="3600"/>
            </a:b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основной образовательной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программы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0040" y="2565000"/>
            <a:ext cx="8229600" cy="38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фиксированы требования 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количеству и наименованию разделов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(всего-9), в том числе к учебному плану общеобразовательного учреж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минимальному и максимальному количеству учебных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часов за 4 года (2 904 - 3 210 час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содержанию каждого из разделов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соотношению частей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основной общеобразовательной  программы (80/20% для первой ступен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рганизации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1583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42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0" lang="ru-RU" sz="4200" spc="-1" strike="noStrike">
                <a:solidFill>
                  <a:srgbClr val="99cc00"/>
                </a:solidFill>
                <a:latin typeface="Arial Black"/>
              </a:rPr>
              <a:t>Требования к структуре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57120" y="1557000"/>
            <a:ext cx="8786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0360" indent="-1890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новная образовательная программа –целостный доку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ояснительная запи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ланируемые результаты освоения основной образовательной 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учебный пл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 формирования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У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ы  учебных предме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духовно-нравственного развития, восп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формирования культуры  здорового и безопасного образа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коррекционной работы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истема оценки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достижения планируемых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1890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неурочная деятельность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время, отводимое на внеурочную деятельность, составля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 1350 часов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учебные занятия: не менее 2904 ч. и не более 3210 ч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110664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 Black"/>
              </a:rPr>
              <a:t>Основные трудности педагогических работников   </a:t>
            </a:r>
            <a:br>
              <a:rPr sz="2400"/>
            </a:br>
            <a:r>
              <a:rPr b="1" lang="ru-RU" sz="2400" spc="-1" strike="noStrike">
                <a:solidFill>
                  <a:srgbClr val="cc0066"/>
                </a:solidFill>
                <a:latin typeface="Arial Black"/>
              </a:rPr>
              <a:t> на этапе введения ФГОС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358920" y="1143000"/>
            <a:ext cx="8785080" cy="5357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5ec9e"/>
              </a:gs>
              <a:gs pos="100000">
                <a:srgbClr val="ecf8e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прощенное понимание сущности и технологии реализ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истемно - деятельностного подхо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жившаяся за предыдущие  годы устойчив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ка проведения урока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готовности руководителей ОУ и педагогических работ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планированию и  организации образовательного процесса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чальной школе в соответствии с требованиями ФГОС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радиционный подход руководителей ОУ к анализу урока и стрем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держиваться старых подходов к оценке деятельности учи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нципиальная новизна вопросов инструменталь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ческого обеспечения достижения и оценки планируем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зультатов (личностных, метапредметных и предметных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опыта  разработки разделов ОО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методических рекомендаций авторов УМ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2:41:38Z</dcterms:created>
  <dc:creator>1</dc:creator>
  <dc:description/>
  <dc:language>en-US</dc:language>
  <cp:lastModifiedBy>LEGION</cp:lastModifiedBy>
  <dcterms:modified xsi:type="dcterms:W3CDTF">2015-01-27T13:42:25Z</dcterms:modified>
  <cp:revision>12</cp:revision>
  <dc:subject/>
  <dc:title>Слайд 1</dc:title>
</cp:coreProperties>
</file>