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4E9C-B1CA-4E49-9759-33AFFC968A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1292"/>
                </a:solidFill>
                <a:latin typeface="Calibri"/>
              </a:rPr>
              <a:t>Внедрение ФГОС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едагогический сов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C074-B21A-4482-8D37-D881094185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танд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CAC5-FD68-4AE9-BF26-9E053AD1D4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Требования к </a:t>
            </a:r>
            <a:r>
              <a:rPr b="0" lang="ru-RU" sz="1100" spc="-1" strike="noStrike" u="sng">
                <a:solidFill>
                  <a:srgbClr val="ff0000"/>
                </a:solidFill>
                <a:uFillTx/>
                <a:latin typeface="Calibri"/>
              </a:rPr>
              <a:t>результатам</a:t>
            </a: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 освоения </a:t>
            </a:r>
            <a:br>
              <a:rPr sz="1100"/>
            </a:b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основной образовательной программы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Личнос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готовность и способность к само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отивация к обучению и п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енностно-смысловые устан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оциальные компетенции, личност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Мета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ниверсальные учебные дей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знав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пыт деятельности специфической для данной предметной об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истема основополагающих элементов научного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C577-1214-4731-96F8-2D3AE7EDDA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  <a:ea typeface="Arial"/>
              </a:rPr>
              <a:t>Универсальные учебные действ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окупность способов действия учащегося, обеспечивающих его способность к самостоятельному усвоению новых знаний, включая организацию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C6FD-D65A-4FA2-A567-B526818B00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ичност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Регуля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152F-8F45-4B79-A37B-4ADA61689F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Познаватель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щеучебные, включ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-предметны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Коммуник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A0C2-33CB-4D86-8A23-07F2309A95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9900"/>
                </a:solidFill>
                <a:latin typeface="Calibri"/>
              </a:rPr>
              <a:t>Фрагмент тематического план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– великая книга природ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р. 16-21, Т. стр. 7-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 такое созвезди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определить направление сторон горизонта по Полярной звезд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чему ученый назвал  звездное небо   Великой книгой     Природы?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ебесные тела, планета, Млечный путь, созвездие, астроном, названия созвезд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ть название созвездий; уметь пользоваться атласом-определителем и находи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озвездия на звездной карте и в ночном неб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анировать свои действия в соответствии с поставленной задачей, в сотрудничестве с учителем ставить новые учебные задач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ладеть полученной информацией и строить монологическое высказыв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вышение самооценки учен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2B94-EEB3-4F07-B0F4-22FDA48403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ФГОС  повлечет за собой изменения в БУ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29FD-7BAB-44EA-B182-0808969AE2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Переход от «догоняющ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к «опережающей» модели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C57C-11AA-4080-814D-F876D282AD2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Личност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Внутренняя позиция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декватная мотивация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иентация на моральные нормы и их выпо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особность к моральной децен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4882-B981-4DB6-A058-2A9E32508F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Регуля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ние всеми типами учеб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ланировать реализацию учебной цели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Контролировать и оценивать свои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C2C-262D-4388-ABB8-0C177E51483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- социальная норма, обще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оговор между семьей, обществом 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8828-20DF-469C-B36A-40AE4652CC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Познаватель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Использовать знаково-символ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ть действием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Коммуника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Учитывать позицию собесе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ганизовывать и осуществлять сотрудничество с учителем и сверс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ередава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5100-F01D-43C9-AA43-D0768D56C0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Выж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е самый си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и не самый ум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а тот, 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учше всех отклик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а происходящ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Calibri"/>
              </a:rPr>
              <a:t>                                                 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Чарльз Дар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асибо за сотрудничеств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471F-9D31-4783-AE02-15D136AC94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жны получать удовл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фессион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 учителя!</a:t>
            </a:r>
            <a:r>
              <a:rPr b="0" lang="ru-RU" sz="1200" spc="-1" strike="noStrike">
                <a:solidFill>
                  <a:srgbClr val="502652"/>
                </a:solidFill>
                <a:latin typeface="Calibri"/>
              </a:rPr>
              <a:t>(отличие стандартов второго поко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B6C6-159B-4BA9-BCC1-B5785AF26FD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7955-F741-45D1-A025-03A12ADE62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BCE4-FF68-4AF0-A7A3-5E88879A3F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еятельности во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педагогическая задач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и организация условий, инициирующих ученическое 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 основе реализации стандарта –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истемно – деятельностный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ход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вным деятел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лжен быть РЕБЁ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8740-6184-4034-A480-A56825513FD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Требования к структуре основ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образовательно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314E-E0EC-4F40-A333-92FB82422A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ебования к структуре </a:t>
            </a: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основной образовательно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Зафиксированы требования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количеству и наименованию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(всего-9), в том числе к учебному плану общеобразовательного учре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минимальному и максимальному количеству учебных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часов за 4 года (2 904 - 3 210 ча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держанию каждого из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отношению частей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основной общеобразовательной  программы (80/20% для первой сту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рганизации внеуроч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A9AD-D19C-47AD-BE66-BDA185786C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Требования к структур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основная образовательная программа –целостный доку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ланируемые результаты освоения основной образовательной  програ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учебный пл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формирования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ы  учебных предме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духовно-нравственного развития, воспит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формирования культуры  здорового и безопасного образа жиз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коррекционной работы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система оценки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достижения 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неурочная деятельность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время, отводимое на внеурочную деятельность, составляе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до 1350 часов 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(учебные занятия: не менее 2904 ч. и не более 3210 ч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BD0-C375-422A-ABEA-739AEA69B8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C2C2-207F-4D61-8C2F-28D594062B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Основные трудности педагогических работников   </a:t>
            </a:r>
            <a:br>
              <a:rPr sz="1200"/>
            </a:b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на этапе введения ФГ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A0E-0C56-4C13-97AE-6703B994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1D3-8DBD-420F-9E95-4A5ED76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58E-00A3-4647-9360-47E735E9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452-0793-4CE0-9A68-8A5B0F42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075FE-E77B-463C-9D2B-722D61B0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BAC7D-BEE8-4AB7-831E-9C100F0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C74F7-8330-4F22-BDDF-D8776B0C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E71A3-C3A6-463F-8200-BF975519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5087-8A55-4F2E-940E-20029095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F8D5B-B9F4-4385-B933-8F225E6C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B00C9-D122-487B-9FAF-9BD681D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2C6-DDC9-49FA-B420-D2F89066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5C48E-8D88-4CD2-9C29-22D93E77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C18CC-7DF3-4DCF-A559-813BABCF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6D0F6-80B6-4752-8E38-066AA6EE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CC5CA-4661-41AA-82DF-3C4D14B9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1E781-0071-481B-A642-4BFE6C6A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9B65-5449-40EF-BE52-2F5309D0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193EC-912B-48D7-80F8-E2AED092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8128-7FFA-400D-A25C-F7A68167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9B61-13A2-4EA3-BD9B-F368E5BE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47F5-696B-4895-B55A-EA24D56F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7D4-429F-4F73-804B-5AEE1893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9641-F88D-46A9-B703-D02D20FB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3321-BBFF-47E5-A7D2-EAB113EB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35E1-B773-490F-98B5-D637AFC1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465F-10EE-41C3-89C7-97CD67A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C4A0-7AE4-44BA-A13F-30461D5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4B71-6493-4455-97E6-B4F3C656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322C-B8DB-4884-8983-73DDF7F8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AFBC0-C103-4CAF-A663-FF06A810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0794B-7B98-428A-8B90-B9ABD9F5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C9050-08AF-4D2E-982E-6E8B5217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C1C-9386-42AE-8F49-6FBF7CE6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0AA40-0E83-43D7-A690-CB1BE564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3F7E8-5AD4-4978-A230-E73FD0FF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1122C-D9B3-4D9A-988C-659CD524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FC6B4-A798-4E84-A888-C1B0A27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F5859-8BFB-4962-8508-CCEA8303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E1EF9-B682-466E-B512-0B6705A3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8DDD6-C362-44DA-82DF-992A0DBA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97F27-A588-4691-8866-032FE9E0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4EBE8-798C-4D3E-AD46-22E47E5E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218-6C93-4EEC-9E60-6D234A5C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DB0-4D10-42A5-8F96-DB8659CA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99E-5F0F-47E2-90C2-2862252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EEC-ACB7-4B66-BA4D-0565C4AF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C07-314B-484A-95A0-28E4276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466E-01F2-4AC3-8E0D-7A136D5F3CA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35F1-32F0-40A9-A272-16B10AC8B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008C-47BF-49A5-8DAC-B4A1C6DCB8F5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4368-5D32-48B9-B411-A54590B5E98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E788-D397-439F-9DEF-6395CEF59E1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2216-84D5-4611-B876-D27CF1279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24DF-FA1C-4166-ACE1-D6CDE35DFD48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1418-BBB4-46BA-BECD-20FAE87D714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1292"/>
                </a:solidFill>
                <a:latin typeface="Arial Black"/>
              </a:rPr>
              <a:t>Внедрение ФГОС в начальной школ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46280" y="4316400"/>
            <a:ext cx="4819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ически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Стандар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521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Требования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результатам</a:t>
            </a: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 освоения </a:t>
            </a:r>
            <a:br>
              <a:rPr sz="1800"/>
            </a:b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основной образовательной программы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Лично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готовность и способность к саморазвит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нностно-смысловые устано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та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ниверсальные учебные 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пыт деятельности специфической для данной предмет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истема основополагающих элементов научного 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542880" y="907920"/>
            <a:ext cx="8229600" cy="55054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4"/>
          <p:cNvSpPr txBox="1"/>
          <p:nvPr/>
        </p:nvSpPr>
        <p:spPr>
          <a:xfrm>
            <a:off x="914400" y="8380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"/>
              <a:ea typeface="Arial"/>
            </a:endParaRPr>
          </a:p>
        </p:txBody>
      </p:sp>
      <p:pic>
        <p:nvPicPr>
          <p:cNvPr id="269" name="Picture 4" descr="D:\анимашки\дети\комп.gif"/>
          <p:cNvPicPr/>
          <p:nvPr/>
        </p:nvPicPr>
        <p:blipFill>
          <a:blip r:embed="rId2"/>
          <a:stretch/>
        </p:blipFill>
        <p:spPr>
          <a:xfrm>
            <a:off x="6156360" y="429264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егулятив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4424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Познавательные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щеучебные, включ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ьно-предметные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66"/>
                </a:solidFill>
                <a:uFillTx/>
                <a:latin typeface="Arial"/>
              </a:rPr>
              <a:t>Коммуникативны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9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Фрагмент тематического планирова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00040" y="2000160"/>
          <a:ext cx="8358120" cy="4206960"/>
        </p:xfrm>
        <a:graphic>
          <a:graphicData uri="http://schemas.openxmlformats.org/drawingml/2006/table">
            <a:tbl>
              <a:tblPr/>
              <a:tblGrid>
                <a:gridCol w="452520"/>
                <a:gridCol w="1495440"/>
                <a:gridCol w="1454040"/>
                <a:gridCol w="1198440"/>
                <a:gridCol w="1022400"/>
                <a:gridCol w="1711440"/>
                <a:gridCol w="1023840"/>
              </a:tblGrid>
              <a:tr h="4206960"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 Blac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вездное небо – великая книга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тр. 16-21, Т. стр. 7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Что такое созвезди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Как определить направление сторон горизонта по Полярной звезд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чему ученый назвал  звездное небо   Великой книгой     Природы?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Небесные тела, планета, Млечный путь, созвездие, астроном, названия созвезд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нать название созвездий; уметь пользоваться атласом-определителем и наход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озвездия на звездной карте и в ночном небе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ланировать свои действия в соответствии с поставленной задачей, в сотрудничестве с учителем ставить новые учебные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Познавательные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Коммуника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ладеть полученной информацией и строить монологическое высказы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вышение самооценки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00040" y="1000080"/>
          <a:ext cx="8286840" cy="978120"/>
        </p:xfrm>
        <a:graphic>
          <a:graphicData uri="http://schemas.openxmlformats.org/drawingml/2006/table">
            <a:tbl>
              <a:tblPr/>
              <a:tblGrid>
                <a:gridCol w="449280"/>
                <a:gridCol w="1482840"/>
                <a:gridCol w="1441440"/>
                <a:gridCol w="1187280"/>
                <a:gridCol w="1014480"/>
                <a:gridCol w="1697040"/>
                <a:gridCol w="1014480"/>
              </a:tblGrid>
              <a:tr h="420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Тема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страницы учебника, тетра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шаемые пробл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ланиру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в соответствии с ФГ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онят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редме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Личностн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3851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Arial Black"/>
              </a:rPr>
              <a:t>ФГОС  повлечет за собой изменения в БУП</a:t>
            </a:r>
            <a:r>
              <a:rPr b="1" lang="ru-RU" sz="3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640"/>
            <a:ext cx="84582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5"/>
          <p:cNvSpPr/>
          <p:nvPr/>
        </p:nvSpPr>
        <p:spPr>
          <a:xfrm>
            <a:off x="228600" y="1268280"/>
            <a:ext cx="8763120" cy="432000"/>
          </a:xfrm>
          <a:prstGeom prst="pi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азисный учебный план – Базисный образователь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33"/>
                </a:solidFill>
                <a:latin typeface="Arial Black"/>
              </a:rPr>
              <a:t>Стандарты обеспечивают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Переход от «догоняющей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к «опережающей» модели образова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D:\Мама\анимашки\дети\6e512718eb4ddfdeb3be803fc4e3f797.gif"/>
          <p:cNvPicPr/>
          <p:nvPr/>
        </p:nvPicPr>
        <p:blipFill>
          <a:blip r:embed="rId1"/>
          <a:stretch/>
        </p:blipFill>
        <p:spPr>
          <a:xfrm>
            <a:off x="7358040" y="11430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D:\Мама\анимашки\дети\28.gif"/>
          <p:cNvPicPr/>
          <p:nvPr/>
        </p:nvPicPr>
        <p:blipFill>
          <a:blip r:embed="rId2"/>
          <a:stretch/>
        </p:blipFill>
        <p:spPr>
          <a:xfrm>
            <a:off x="4643280" y="3929040"/>
            <a:ext cx="2786400" cy="27464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Личност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нутренняя позиция шк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декватная мотивация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иентация на моральные нормы и их выпол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пособность к моральной децен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Регуля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ние всеми типами учебных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ланировать реализацию учебной 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онтролировать и оценивать свои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3840" y="1213920"/>
            <a:ext cx="8758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андарты - социальная норма, обществ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говор между семьей, обществом и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AG00315_"/>
          <p:cNvPicPr/>
          <p:nvPr/>
        </p:nvPicPr>
        <p:blipFill>
          <a:blip r:embed="rId1"/>
          <a:stretch/>
        </p:blipFill>
        <p:spPr>
          <a:xfrm>
            <a:off x="3000240" y="292896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357800" y="1857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4572000" y="5214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ятно 2 8"/>
          <p:cNvSpPr/>
          <p:nvPr/>
        </p:nvSpPr>
        <p:spPr>
          <a:xfrm rot="21540000">
            <a:off x="-183960" y="3032280"/>
            <a:ext cx="3718080" cy="3792240"/>
          </a:xfrm>
          <a:prstGeom prst="irregularSeal2">
            <a:avLst/>
          </a:prstGeom>
          <a:solidFill>
            <a:srgbClr val="00ffcc"/>
          </a:solidFill>
          <a:ln w="255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чност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циаль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ессиональ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Облако 9"/>
          <p:cNvSpPr/>
          <p:nvPr/>
        </p:nvSpPr>
        <p:spPr>
          <a:xfrm rot="660000">
            <a:off x="4430520" y="2595600"/>
            <a:ext cx="4493880" cy="1942920"/>
          </a:xfrm>
          <a:prstGeom prst="pie">
            <a:avLst/>
          </a:prstGeom>
          <a:solidFill>
            <a:srgbClr val="66ccff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10"/>
          <p:cNvSpPr/>
          <p:nvPr/>
        </p:nvSpPr>
        <p:spPr>
          <a:xfrm>
            <a:off x="4714920" y="5214960"/>
            <a:ext cx="4286160" cy="164304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Georgia"/>
              </a:rPr>
              <a:t>ГОСУДА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Национальное един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Безопас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человеческого потенц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Конкурентоспособ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Прямая со стрелкой 11"/>
          <p:cNvCxnSpPr/>
          <p:nvPr/>
        </p:nvCxnSpPr>
        <p:spPr>
          <a:xfrm>
            <a:off x="4416480" y="4611960"/>
            <a:ext cx="952920" cy="991080"/>
          </a:xfrm>
          <a:prstGeom prst="straightConnector1">
            <a:avLst/>
          </a:prstGeom>
          <a:ln w="38160">
            <a:solidFill>
              <a:srgbClr val="004d00"/>
            </a:solidFill>
            <a:miter/>
            <a:tailEnd len="med" type="arrow" w="med"/>
          </a:ln>
        </p:spPr>
      </p:cxnSp>
      <p:cxnSp>
        <p:nvCxnSpPr>
          <p:cNvPr id="212" name="Прямая со стрелкой 13"/>
          <p:cNvCxnSpPr/>
          <p:nvPr/>
        </p:nvCxnSpPr>
        <p:spPr>
          <a:xfrm flipH="1">
            <a:off x="2315160" y="3315960"/>
            <a:ext cx="1013040" cy="29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213" name="Прямая со стрелкой 18"/>
          <p:cNvCxnSpPr/>
          <p:nvPr/>
        </p:nvCxnSpPr>
        <p:spPr>
          <a:xfrm flipV="1">
            <a:off x="4286160" y="3857400"/>
            <a:ext cx="858240" cy="429120"/>
          </a:xfrm>
          <a:prstGeom prst="straightConnector1">
            <a:avLst/>
          </a:prstGeom>
          <a:ln w="38160">
            <a:solidFill>
              <a:srgbClr val="e0ff85"/>
            </a:solidFill>
            <a:miter/>
            <a:tailEnd len="med" type="arrow" w="med"/>
          </a:ln>
        </p:spPr>
      </p:cxn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Познаватель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спользовать знаково-символическ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ть действием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Коммуника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читывать позицию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ганизовывать и осуществлять сотрудничество с учителем и сверстн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давать информ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FGOS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Выжи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е самый си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 не самый ум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а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учше всех отклик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а происходящие изме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Чарльз Дарв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968720" cy="344952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62080" y="1316160"/>
            <a:ext cx="8040600" cy="2165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K:\анимашки\погода\88.gif"/>
          <p:cNvPicPr/>
          <p:nvPr/>
        </p:nvPicPr>
        <p:blipFill>
          <a:blip r:embed="rId2"/>
          <a:stretch/>
        </p:blipFill>
        <p:spPr>
          <a:xfrm>
            <a:off x="5143680" y="2357280"/>
            <a:ext cx="3571560" cy="328644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26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ети </a:t>
            </a: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должны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 получать удовлетворение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–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фессиональная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дача учителя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!</a:t>
            </a:r>
            <a:r>
              <a:rPr b="1" lang="ru-RU" sz="3600" spc="-1" strike="noStrike">
                <a:solidFill>
                  <a:srgbClr val="502652"/>
                </a:solidFill>
                <a:latin typeface="Arial Black"/>
              </a:rPr>
              <a:t>(отличие стандартов второго поколения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Picture 2" descr="D:\Мама\анимашки\дети\уснул.gif"/>
          <p:cNvPicPr/>
          <p:nvPr/>
        </p:nvPicPr>
        <p:blipFill>
          <a:blip r:embed="rId1"/>
          <a:stretch/>
        </p:blipFill>
        <p:spPr>
          <a:xfrm>
            <a:off x="285840" y="36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Мама\анимашки\дети\9ca9fd62ccc9c889e8d891d4a07831b3.gif"/>
          <p:cNvPicPr/>
          <p:nvPr/>
        </p:nvPicPr>
        <p:blipFill>
          <a:blip r:embed="rId2"/>
          <a:stretch/>
        </p:blipFill>
        <p:spPr>
          <a:xfrm>
            <a:off x="5286240" y="3589200"/>
            <a:ext cx="3400560" cy="3073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015560"/>
            <a:ext cx="91440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еш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мет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ятельности в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утренню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здание и организация условий, инициирующих ученическое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12000" y="3645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3384720" y="3645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755640" y="37162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8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0" y="5985000"/>
            <a:ext cx="914400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971640" y="3141720"/>
            <a:ext cx="774072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8001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В основе реализации стандарта –</a:t>
            </a: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системно – деятельностный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подход</a:t>
            </a:r>
            <a:br>
              <a:rPr sz="3700"/>
            </a:br>
            <a:endParaRPr b="1" lang="en-US" sz="3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55640" y="3860280"/>
            <a:ext cx="622908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вным деятелем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лжен быть РЕБ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858884"/>
          <p:cNvPicPr/>
          <p:nvPr/>
        </p:nvPicPr>
        <p:blipFill>
          <a:blip r:embed="rId1"/>
          <a:stretch/>
        </p:blipFill>
        <p:spPr>
          <a:xfrm>
            <a:off x="324000" y="5013360"/>
            <a:ext cx="1738080" cy="13161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941D-3052-4D84-8397-E64E9488047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228600" y="35712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Требования к структуре осн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250920" y="1371600"/>
            <a:ext cx="8642160" cy="133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2f4d"/>
                </a:solidFill>
                <a:latin typeface="Georgia"/>
              </a:rPr>
              <a:t>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 rot="5400000">
            <a:off x="252000" y="299736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080" y="4005360"/>
            <a:ext cx="1114200" cy="1655640"/>
          </a:xfrm>
          <a:custGeom>
            <a:avLst/>
            <a:gdLst>
              <a:gd name="textAreaLeft" fmla="*/ 54360 w 1114200"/>
              <a:gd name="textAreaRight" fmla="*/ 1059840 w 11142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93">
                <a:moveTo>
                  <a:pt x="3600" y="0"/>
                </a:moveTo>
                <a:arcTo wR="3600" hR="3600" stAng="16200000" swAng="-5400000"/>
                <a:lnTo>
                  <a:pt x="0" y="28493"/>
                </a:lnTo>
                <a:arcTo wR="3600" hR="3600" stAng="10800000" swAng="-5400000"/>
                <a:lnTo>
                  <a:pt x="18000" y="3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иру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езульта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492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здоров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жиз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05360"/>
            <a:ext cx="936720" cy="165564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655640"/>
              <a:gd name="textAreaBottom" fmla="*/ 1609920 h 1655640"/>
            </a:gdLst>
            <a:ahLst/>
            <a:rect l="textAreaLeft" t="textAreaTop" r="textAreaRight" b="textAreaBottom"/>
            <a:pathLst>
              <a:path w="21600" h="38171">
                <a:moveTo>
                  <a:pt x="3600" y="0"/>
                </a:moveTo>
                <a:arcTo wR="3600" hR="3600" stAng="16200000" swAng="-5400000"/>
                <a:lnTo>
                  <a:pt x="0" y="34571"/>
                </a:lnTo>
                <a:arcTo wR="3600" hR="3600" stAng="10800000" swAng="-5400000"/>
                <a:lnTo>
                  <a:pt x="18000" y="38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чеб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716360" y="4005360"/>
            <a:ext cx="1116000" cy="165564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41">
                <a:moveTo>
                  <a:pt x="3600" y="0"/>
                </a:moveTo>
                <a:arcTo wR="3600" hR="3600" stAng="16200000" swAng="-5400000"/>
                <a:lnTo>
                  <a:pt x="0" y="28441"/>
                </a:lnTo>
                <a:arcTo wR="3600" hR="3600" stAng="10800000" swAng="-5400000"/>
                <a:lnTo>
                  <a:pt x="18000" y="3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У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26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дух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нравстве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40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94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коррекцион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7"/>
          <p:cNvSpPr/>
          <p:nvPr/>
        </p:nvSpPr>
        <p:spPr>
          <a:xfrm rot="5400000">
            <a:off x="1404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7"/>
          <p:cNvSpPr/>
          <p:nvPr/>
        </p:nvSpPr>
        <p:spPr>
          <a:xfrm rot="5400000">
            <a:off x="2339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7"/>
          <p:cNvSpPr/>
          <p:nvPr/>
        </p:nvSpPr>
        <p:spPr>
          <a:xfrm rot="5400000">
            <a:off x="334800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 rot="5400000">
            <a:off x="4571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rot="5400000">
            <a:off x="5795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5400000">
            <a:off x="702144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 rot="5400000">
            <a:off x="8100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8172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цен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0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Требования к структуре </a:t>
            </a:r>
            <a:br>
              <a:rPr sz="3600"/>
            </a:b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основной образовательной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программ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256500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личеству и наименованию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минимальному и максимальному количеству учебных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часов за 4 года (2 904 - 3 210 час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держанию каждого из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отношению частей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основной общеобразовательной  программы (80/20% для первой ступен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рганизации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58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Требования к структур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7120" y="15570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новная образовательная программа –целостны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ланируемые результаты освоения основной образовательной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учеб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формирова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ы  учебн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духовно-нравственного развития,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формирования культуры  здорового и безопасн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коррекционной работы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истема оценки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достижения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неурочная деятельнос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, отводимое на внеурочную деятельность, составля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 1350 часов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учебные занятия: не менее 2904 ч. и не более 3210 ч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110664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Основные трудности педагогических работников   </a:t>
            </a: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 на этапе введения ФГОС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58920" y="1143000"/>
            <a:ext cx="8785080" cy="5357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5ec9e"/>
              </a:gs>
              <a:gs pos="100000">
                <a:srgbClr val="ecf8e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41:38Z</dcterms:created>
  <dc:creator>1</dc:creator>
  <dc:description/>
  <dc:language>en-US</dc:language>
  <cp:lastModifiedBy>LEGION</cp:lastModifiedBy>
  <dcterms:modified xsi:type="dcterms:W3CDTF">2015-01-27T13:42:25Z</dcterms:modified>
  <cp:revision>12</cp:revision>
  <dc:subject/>
  <dc:title>Слайд 1</dc:title>
</cp:coreProperties>
</file>