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18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53694-0173-4E34-B33E-31056AD3DE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BB641-048C-4703-BE4A-BB124CDAE7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Century Schoolbook"/>
              </a:rPr>
              <a:t>ТЕМА: МЕТОДИКА ИСПОЛЬЗОВАНИЯ ИКТ НА УРОКАХ ОКРУЖАЮЩЕ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A2DAC-6F54-472D-A080-5143D3FE62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F6704-9D6A-4857-B8C9-A9195C5522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Часть 1 Обитател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одить примеры тел и веществ, твердых тел, жидкостей и газов, действий эне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ПС «Кирилл и Мефодий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ислять особенности хвойных и цветковых растений; животных, гриб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69016-02AF-4BDA-9AF8-05C4776A2B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Часть 2 Моё Оте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оду определять век, место события в прошл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активные те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ать друг от друга времена Древней Руси, Московского государства, Российской империи, Советской России и СССР, современной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активные плакаты, к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29070-DF8A-4334-A963-F650BD25E9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94811-A669-4CE3-9281-2784393019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И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5178D-470F-4ADD-B851-0D1B30DC21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ИКТ для реализации ФГОС второ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ржки из ФГОС второ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УМК Школа 2100 для реализации ФГ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Лебедевой Л.А. для реализации ФГОС второго поколения с помощью современных образовательных технологий (И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ирать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материал и задания учебника, нацеленные на 1-ю линию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энциклопед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59A67-7B42-4D05-897B-89846F9BD1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Личностные метапредметные и предметные результаты освоения учебного предм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10CC0-6CEA-4EAF-AF0E-ABE11D7C6D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 пост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 жизненные ситу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 определять и высказывать правила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бор, какой поступок соверш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D3328-95AA-4AF3-B755-8FFFAE52AF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Метапредме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6CA84-02E2-409F-BF6E-AA324E340A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Регулятивные УУ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формулировать цели ур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план решения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по плану, сверять действия с цел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DA984-0034-4950-AAEC-5C34221CF4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Познавательные УУ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иентироваться в своей системе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ирать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энциклопед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ывать новые 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батывать полученную информа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ртуальные экскур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разовывать информацию из одной формы в другу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мио-проек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927F6-99DC-4C6B-8256-23D139ED28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Предме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-я линия развития – уметь объяснять м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-я линия развития – уметь определять своё отношение к мир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371FC-7228-4466-BD87-DD8239F00A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4A82-CFBC-4591-84B3-BB989AC5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B03E-5029-4C14-9FA3-52A443A2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37717-F918-42E0-AD34-1802FB55EC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C762F-0226-406D-BD93-1483868E5A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EDA0D-2BC2-483F-B3EF-B30C362C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174A3-A1D1-43FE-BE40-226B947C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E0495-CCA4-49F3-A632-3AF37DFA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47A71-5F43-48B5-80ED-4274E77D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F642F-6E69-4279-9E7E-2B0D7E6B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1A8E8-B90E-406B-A405-C1E9BD78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F8162-8319-442B-ABD9-A75BFCCC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9F484-B14C-463B-8401-16107C62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5CF68-A8D3-4F59-A503-9F602EEB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3DBCF-234B-48DA-80E0-17F96EDD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F4671-637D-4187-95BB-E34AD602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DF595-DFC2-4812-98EB-409947DBD1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34A1-22D9-4130-B2E0-44E9351290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E149-A9D2-4805-8B87-08F22B1C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C7D8-59BD-4E38-B482-1E5920FA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A9A6-FEFB-43C5-92B0-8604785C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A3EE-34FE-4532-9084-B7A8CEE2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4BCD6-7321-4F28-BC96-42B8D8E4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DC60-A8D0-4C2D-B4FC-86236D63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569F-052A-495B-BF54-FF493DB4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F49D-0F34-4DCB-98C0-5690BF94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B84D-669E-4484-AA05-6D2510D1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F942-67D6-40BE-9D26-BC155A5A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1185-366C-4C99-BC8E-330577DA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11A3-778F-4B72-8DDE-D23FD0479E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74869-3345-4C73-BD61-7B9076D092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93F9A-B56A-4281-ABC4-A2C9A326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1FA26-AAC0-4755-A203-79D08343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26CB-9D29-4889-B941-D2B803AA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5436C-875E-4EF2-BCBC-9B772B54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45DF3-93DE-46CE-BC9F-2402C02E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7377F-FFC0-4D8C-B838-BB728C75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7ACFE-B353-433B-9C13-BEE43A19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EDDCA-1DA2-408F-8D68-5290437B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E12BD-8039-4A39-8A4A-848B5393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6190F-08E7-4F32-8F97-1E5A67EE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FFF05-35A7-4F57-9D81-B36FE675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92663-8D16-4667-99C7-2168C5EF28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FA5281-0020-49FE-94F0-4C8A5DAA7E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68E6-0973-4445-B307-54625407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FC50A1-7AE0-4266-8C61-F24051DD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794043-A8F1-47A3-B23B-AC93D9B8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98E605-C717-44B7-8B33-56524D2E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AC6B2-0F7A-4958-B2A7-6286D2E2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B54862-9649-4F48-BEA3-DA215DC0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4FCEE0-CA16-4FC2-8D5F-268E03BE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9AD26-A13C-4A30-976A-AAD0A638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AB486A-BFD6-4DB7-97C2-692275B6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BE05BD-A05F-4B28-9EF7-8A62F646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0CF432-B270-41AF-8B69-C87B3ADB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6535-5ABD-4C04-AA5B-F8F06745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2D3928-A369-42A3-A92C-C1F3237A6F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24B22-053F-4E6B-9E2A-FF5F12D844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A4E12-686B-4B5F-93C5-1A29FC50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2CEAA-1522-48E5-88A3-21AA3909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7E10-9CB1-403C-B597-1310B452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6386D-848B-4346-AC18-23D83272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F4E7C-22BB-4A0A-AC0E-9C47C745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7BEA9-BC01-4458-8B37-C89F13FE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B6C2C-61F2-4ABE-A003-069B1CBE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45DE4-C62B-48F0-A9B8-B975A42D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931E1-1B66-4509-9789-B070E136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35919-7E26-4813-B50C-6DD5EF30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B765F-AA2C-4488-B223-2B7857D1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4D498-809F-47C7-A1A3-6D05D4F5B5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9CF533-434A-48D6-B7DB-71B9146988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F68F4-A8FB-40D4-9D24-A3E001B9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CB489-32E5-4C0C-8A16-5430699D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BFCB15-4B8F-4313-B805-2D8C94CE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45C1D-04F6-439C-8370-C31F1923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AAD50-F0DB-4A69-80F5-09D9873F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7822BB-8278-42D4-8513-880E6778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40C6-EBB8-43AC-8885-4EF8D420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87148-A0A3-4013-BC63-0B1DEA9C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4DC43-FC91-488B-9769-6D5405FC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57088B-35E0-4EE8-B759-A7D99CE2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B2F83-1791-44DE-9EDB-36676882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86B5D-E2C0-4803-83AD-2D40A2AE21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070FC-5BFA-4A35-9546-3B4DFC7D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267B6-F606-4C50-A486-F0C12B04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1521A4-F1F9-4151-A044-24B10DC5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0E37E-201C-40A9-8C6D-335D892D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DCFF3F-F7CB-4A2D-9921-C63803A6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CC067-E795-4985-BEA4-F6AA4548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DBC180-D471-45C5-9E9D-7301A3ED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F7232-4EB0-4CED-A14A-CABF9D9E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81FAB-E062-4BA6-81A6-75B0BD81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68B97B-A183-4EC6-8D44-67B4F7F2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8AB3E-D741-48B6-B679-EEFC4C45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DD565-4369-49BD-B8C1-B053C053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FF20D-FFAB-4C44-A548-AD621917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06.1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228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83016-944B-44A8-AD65-14DE0D2A50C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560" y="22212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7976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160" y="4928760"/>
            <a:ext cx="606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33D9B0-5DF1-4590-A339-1C31A89EB31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09D911-9694-41DB-85A0-871A88271C5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120" y="21744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7976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8760"/>
            <a:ext cx="6062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C9E987-740E-4129-959C-7918E45E981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1E53CF-362C-4197-8E07-E971257E692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190E9F-AA60-4088-BE09-785183F19E0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0FBAC8-CA41-48C6-9764-D5B2177BF50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5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06.1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6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7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902EC8-3A7F-4DB4-B7F6-160A4A5F95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2" name="Text Box 1"/>
          <p:cNvSpPr/>
          <p:nvPr/>
        </p:nvSpPr>
        <p:spPr>
          <a:xfrm>
            <a:off x="1357200" y="3071880"/>
            <a:ext cx="6500880" cy="1500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1000080" y="2858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ГОУ «Средняя общеобразовательная школа № 619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город 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2071800" y="514368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Лебедева Любовь Александ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357200" y="2286000"/>
            <a:ext cx="6858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ТЕМА: МЕТОДИКА ИСПОЛЬЗОВАНИЯ ИКТ НА УРОКАХ ОКРУЖАЮЩЕГО МИР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786040" y="6286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1" name="Text Box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Часть 1 Обитатели земл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588B1-B9E0-46F7-87A3-2022FA9BED7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143000" y="1357200"/>
          <a:ext cx="6715080" cy="5072040"/>
        </p:xfrm>
        <a:graphic>
          <a:graphicData uri="http://schemas.openxmlformats.org/drawingml/2006/table">
            <a:tbl>
              <a:tblPr/>
              <a:tblGrid>
                <a:gridCol w="3357720"/>
                <a:gridCol w="3357360"/>
              </a:tblGrid>
              <a:tr h="267336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риводить примеры тел и веществ, твердых тел, жидкостей и газов, действий энер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ПС «Кирилл и Мефоди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</a:tr>
              <a:tr h="23986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еречислять особенности хвойных и цветковых растений; животных, гриб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74" name="Picture 8" descr=""/>
          <p:cNvPicPr/>
          <p:nvPr/>
        </p:nvPicPr>
        <p:blipFill>
          <a:blip r:embed="rId2"/>
          <a:stretch/>
        </p:blipFill>
        <p:spPr>
          <a:xfrm>
            <a:off x="4786200" y="2009880"/>
            <a:ext cx="2643480" cy="1979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"/>
          <p:cNvPicPr/>
          <p:nvPr/>
        </p:nvPicPr>
        <p:blipFill>
          <a:blip r:embed="rId3"/>
          <a:stretch/>
        </p:blipFill>
        <p:spPr>
          <a:xfrm>
            <a:off x="4357800" y="4143240"/>
            <a:ext cx="1476360" cy="1714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" descr=""/>
          <p:cNvPicPr/>
          <p:nvPr/>
        </p:nvPicPr>
        <p:blipFill>
          <a:blip r:embed="rId4"/>
          <a:stretch/>
        </p:blipFill>
        <p:spPr>
          <a:xfrm>
            <a:off x="5786280" y="3835440"/>
            <a:ext cx="2157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8" name="Text Box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Часть 2 Моё Отечест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A9222-D561-4963-B009-F6685CA6D4A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143000" y="1428840"/>
          <a:ext cx="6643800" cy="4930560"/>
        </p:xfrm>
        <a:graphic>
          <a:graphicData uri="http://schemas.openxmlformats.org/drawingml/2006/table">
            <a:tbl>
              <a:tblPr/>
              <a:tblGrid>
                <a:gridCol w="3322800"/>
                <a:gridCol w="3321000"/>
              </a:tblGrid>
              <a:tr h="24652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о году определять век, место события в прошлом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ade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Интерактивные тес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adeb">
                        <a:alpha val="70000"/>
                      </a:srgbClr>
                    </a:solidFill>
                  </a:tcPr>
                </a:tc>
              </a:tr>
              <a:tr h="24652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Отличать друг от друга времена Древней Руси, Московского государства, Российской империи, Советской России и СССР, современной Росс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Интерактивные плакаты, кар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81" name="Picture 8" descr=""/>
          <p:cNvPicPr/>
          <p:nvPr/>
        </p:nvPicPr>
        <p:blipFill>
          <a:blip r:embed="rId2"/>
          <a:stretch/>
        </p:blipFill>
        <p:spPr>
          <a:xfrm>
            <a:off x="4786200" y="4572000"/>
            <a:ext cx="2643480" cy="1797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"/>
          <p:cNvPicPr/>
          <p:nvPr/>
        </p:nvPicPr>
        <p:blipFill>
          <a:blip r:embed="rId3"/>
          <a:stretch/>
        </p:blipFill>
        <p:spPr>
          <a:xfrm>
            <a:off x="4857840" y="1785960"/>
            <a:ext cx="2643120" cy="21146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"/>
          <p:cNvPicPr/>
          <p:nvPr/>
        </p:nvPicPr>
        <p:blipFill>
          <a:blip r:embed="rId4"/>
          <a:stretch/>
        </p:blipFill>
        <p:spPr>
          <a:xfrm>
            <a:off x="2000160" y="2428920"/>
            <a:ext cx="171468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5" name="Text Box 1"/>
          <p:cNvSpPr/>
          <p:nvPr/>
        </p:nvSpPr>
        <p:spPr>
          <a:xfrm>
            <a:off x="1357200" y="1996920"/>
            <a:ext cx="7467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D6DAB-AB2E-430A-9213-102B106E5AD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9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DC6AD-60F8-4C02-96F4-077C735D33E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1071720" y="2714760"/>
            <a:ext cx="2261880" cy="17859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1357200" y="15001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Arial"/>
              </a:rPr>
              <a:t>ИК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357720" y="2571840"/>
            <a:ext cx="785520" cy="2071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>
              <a:alpha val="81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6" descr=""/>
          <p:cNvPicPr/>
          <p:nvPr/>
        </p:nvPicPr>
        <p:blipFill>
          <a:blip r:embed="rId3"/>
          <a:stretch/>
        </p:blipFill>
        <p:spPr>
          <a:xfrm>
            <a:off x="4143240" y="2143080"/>
            <a:ext cx="3794400" cy="27860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7"/>
          <p:cNvSpPr/>
          <p:nvPr/>
        </p:nvSpPr>
        <p:spPr>
          <a:xfrm>
            <a:off x="4505400" y="3341520"/>
            <a:ext cx="1810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6" name="Text Box 1"/>
          <p:cNvSpPr/>
          <p:nvPr/>
        </p:nvSpPr>
        <p:spPr>
          <a:xfrm>
            <a:off x="571680" y="214200"/>
            <a:ext cx="7972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Использование ИКТ для реализации ФГОС второго покол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67091-294D-43A1-A0D1-DD9F0350EA7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928800" y="1800360"/>
          <a:ext cx="7215120" cy="4440240"/>
        </p:xfrm>
        <a:graphic>
          <a:graphicData uri="http://schemas.openxmlformats.org/drawingml/2006/table">
            <a:tbl>
              <a:tblPr/>
              <a:tblGrid>
                <a:gridCol w="1700280"/>
                <a:gridCol w="2190600"/>
                <a:gridCol w="3324240"/>
              </a:tblGrid>
              <a:tr h="2466720"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держки из ФГОС второго поко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ложения УМК Школа 2100 для реализации ФГО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ложения Лебедевой Л.А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я реализации ФГОС второго поколения с помощью современных образовательных технологий (ИК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97352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бирать источники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чебный материал и задания учебни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нацеленные на 1-ю линию разви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онные энциклопе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pic>
        <p:nvPicPr>
          <p:cNvPr id="419" name="Picture 10" descr=""/>
          <p:cNvPicPr/>
          <p:nvPr/>
        </p:nvPicPr>
        <p:blipFill>
          <a:blip r:embed="rId2"/>
          <a:stretch/>
        </p:blipFill>
        <p:spPr>
          <a:xfrm>
            <a:off x="5786280" y="4929120"/>
            <a:ext cx="1482840" cy="11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1" name="Text Box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D8A60-81CF-44C3-BE5E-089B0514C8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000080" y="357120"/>
            <a:ext cx="70722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Личностные метапредметные и предметные результаты освоения учебного предм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5857920" cy="4705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5" name="Text Box 1"/>
          <p:cNvSpPr/>
          <p:nvPr/>
        </p:nvSpPr>
        <p:spPr>
          <a:xfrm>
            <a:off x="457200" y="274680"/>
            <a:ext cx="7467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Личнос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CB7EF-E2F0-4F6C-B2FE-55D21BB5BB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1357200" y="1214280"/>
            <a:ext cx="600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 поступ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 жизненные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 определять и высказывать правила 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бор, какой поступок соверш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357200" y="3714840"/>
          <a:ext cx="6429600" cy="2647800"/>
        </p:xfrm>
        <a:graphic>
          <a:graphicData uri="http://schemas.openxmlformats.org/drawingml/2006/table">
            <a:tbl>
              <a:tblPr/>
              <a:tblGrid>
                <a:gridCol w="1857600"/>
                <a:gridCol w="2214360"/>
                <a:gridCol w="2357640"/>
              </a:tblGrid>
              <a:tr h="699840"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зентаци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wer Poi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офраг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о из жизни кла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94796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pic>
        <p:nvPicPr>
          <p:cNvPr id="429" name="Picture 8" descr=""/>
          <p:cNvPicPr/>
          <p:nvPr/>
        </p:nvPicPr>
        <p:blipFill>
          <a:blip r:embed="rId2"/>
          <a:stretch/>
        </p:blipFill>
        <p:spPr>
          <a:xfrm>
            <a:off x="1500120" y="45007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"/>
          <p:cNvPicPr/>
          <p:nvPr/>
        </p:nvPicPr>
        <p:blipFill>
          <a:blip r:embed="rId3"/>
          <a:stretch/>
        </p:blipFill>
        <p:spPr>
          <a:xfrm>
            <a:off x="3286080" y="4572000"/>
            <a:ext cx="1928880" cy="16160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"/>
          <p:cNvPicPr/>
          <p:nvPr/>
        </p:nvPicPr>
        <p:blipFill>
          <a:blip r:embed="rId4"/>
          <a:stretch/>
        </p:blipFill>
        <p:spPr>
          <a:xfrm>
            <a:off x="5500800" y="4572000"/>
            <a:ext cx="20700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3" name="Rectangle 1"/>
          <p:cNvSpPr/>
          <p:nvPr/>
        </p:nvSpPr>
        <p:spPr>
          <a:xfrm>
            <a:off x="4714920" y="2071800"/>
            <a:ext cx="385776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571680" y="2071800"/>
            <a:ext cx="385740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714240" y="285840"/>
            <a:ext cx="7467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Метапредме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58CD5-9E0F-475C-943C-EDB2AB6E7AE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785880" y="2071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Регулятивные 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4786200" y="207180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Познавательные 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7" descr=""/>
          <p:cNvPicPr/>
          <p:nvPr/>
        </p:nvPicPr>
        <p:blipFill>
          <a:blip r:embed="rId2"/>
          <a:stretch/>
        </p:blipFill>
        <p:spPr>
          <a:xfrm>
            <a:off x="2357280" y="3071880"/>
            <a:ext cx="4067280" cy="328608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8"/>
          <p:cNvSpPr/>
          <p:nvPr/>
        </p:nvSpPr>
        <p:spPr>
          <a:xfrm>
            <a:off x="1143000" y="1428840"/>
            <a:ext cx="2925720" cy="512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4429080" y="1428840"/>
            <a:ext cx="2925720" cy="512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43" name="Text Box 1"/>
          <p:cNvSpPr/>
          <p:nvPr/>
        </p:nvSpPr>
        <p:spPr>
          <a:xfrm>
            <a:off x="2214720" y="428760"/>
            <a:ext cx="5257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Регулятивные УУ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1071720" y="1357200"/>
            <a:ext cx="482904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формулировать цели у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план решения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по плану, сверять действия с цел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F6628-DF25-45BF-9951-764FFA96A95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5786280" y="2857680"/>
            <a:ext cx="2214720" cy="1979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500720" y="3786120"/>
            <a:ext cx="2822400" cy="203364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1428840" y="4429080"/>
            <a:ext cx="292896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4"/>
          <a:stretch/>
        </p:blipFill>
        <p:spPr>
          <a:xfrm>
            <a:off x="3143160" y="5000760"/>
            <a:ext cx="114948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1" name="Text Box 1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Познавательные УУ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0E257-F66E-4B33-8240-40588EB8B7A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4280" y="857160"/>
          <a:ext cx="6715440" cy="5649840"/>
        </p:xfrm>
        <a:graphic>
          <a:graphicData uri="http://schemas.openxmlformats.org/drawingml/2006/table">
            <a:tbl>
              <a:tblPr/>
              <a:tblGrid>
                <a:gridCol w="2928960"/>
                <a:gridCol w="3786480"/>
              </a:tblGrid>
              <a:tr h="214308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аться в своей системе зн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бирать источники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онные энциклопе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</a:tr>
              <a:tr h="198612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ть новые зн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рабатывать полученную информац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туальные экскур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  <a:tr h="152064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ывать информацию из одной формы в другу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мио-проект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n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454" name="Picture 10" descr=""/>
          <p:cNvPicPr/>
          <p:nvPr/>
        </p:nvPicPr>
        <p:blipFill>
          <a:blip r:embed="rId2"/>
          <a:stretch/>
        </p:blipFill>
        <p:spPr>
          <a:xfrm>
            <a:off x="5286240" y="1285920"/>
            <a:ext cx="2000520" cy="1601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"/>
          <p:cNvPicPr/>
          <p:nvPr/>
        </p:nvPicPr>
        <p:blipFill>
          <a:blip r:embed="rId3"/>
          <a:stretch/>
        </p:blipFill>
        <p:spPr>
          <a:xfrm>
            <a:off x="5357880" y="3357720"/>
            <a:ext cx="1982880" cy="15858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2"/>
          <p:cNvSpPr/>
          <p:nvPr/>
        </p:nvSpPr>
        <p:spPr>
          <a:xfrm>
            <a:off x="5357880" y="5500800"/>
            <a:ext cx="19288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3" descr=""/>
          <p:cNvPicPr/>
          <p:nvPr/>
        </p:nvPicPr>
        <p:blipFill>
          <a:blip r:embed="rId4"/>
          <a:stretch/>
        </p:blipFill>
        <p:spPr>
          <a:xfrm>
            <a:off x="6072120" y="5857920"/>
            <a:ext cx="7286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9" name="Rectangle 1"/>
          <p:cNvSpPr/>
          <p:nvPr/>
        </p:nvSpPr>
        <p:spPr>
          <a:xfrm>
            <a:off x="642960" y="2071800"/>
            <a:ext cx="357192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4500720" y="2071800"/>
            <a:ext cx="371448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Предме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35202-1902-4570-922C-BB96DEA2606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57120" y="2071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Обитатели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357800" y="20718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Моё Оте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1143000" y="292896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-я линия развития – уметь объяснять 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1214280" y="343296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-я линия развития – уметь определять своё отношение к ми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1357200" y="1357200"/>
            <a:ext cx="2925720" cy="513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0"/>
          <p:cNvSpPr/>
          <p:nvPr/>
        </p:nvSpPr>
        <p:spPr>
          <a:xfrm>
            <a:off x="4786200" y="1357200"/>
            <a:ext cx="2925720" cy="513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11" descr=""/>
          <p:cNvPicPr/>
          <p:nvPr/>
        </p:nvPicPr>
        <p:blipFill>
          <a:blip r:embed="rId2"/>
          <a:stretch/>
        </p:blipFill>
        <p:spPr>
          <a:xfrm>
            <a:off x="2857680" y="4500720"/>
            <a:ext cx="2714400" cy="217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6:54:24Z</dcterms:created>
  <dc:creator>Admin</dc:creator>
  <dc:description/>
  <dc:language>en-US</dc:language>
  <cp:lastModifiedBy>LEGION</cp:lastModifiedBy>
  <dcterms:modified xsi:type="dcterms:W3CDTF">2015-01-27T13:43:57Z</dcterms:modified>
  <cp:revision>82</cp:revision>
  <dc:subject/>
  <dc:title>В стране невыученных уроков</dc:title>
</cp:coreProperties>
</file>