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dt" idx="18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1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91CA5-190C-4790-AC30-0EA6B2B346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03E46-3F76-4E38-A357-37EE3140A1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575f6d"/>
                </a:solidFill>
                <a:latin typeface="Century Schoolbook"/>
              </a:rPr>
              <a:t>ТЕМА: МЕТОДИКА ИСПОЛЬЗОВАНИЯ ИКТ НА УРОКАХ ОКРУЖАЮЩЕГО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DCEC7-833B-473E-BCAC-A77342C063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B8AE6-AD71-4F6F-896B-91C2DEDC67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Century Schoolbook"/>
              </a:rPr>
              <a:t>Часть 1 Обитатели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одить примеры тел и веществ, твердых тел, жидкостей и газов, действий энер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ПС «Кирилл и Мефодий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числять особенности хвойных и цветковых растений; животных, гриб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A2EC9-C06A-403A-BDA5-109A8814FD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Century Schoolbook"/>
              </a:rPr>
              <a:t>Часть 2 Моё Отеч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году определять век, место события в прошл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рактивные тес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личать друг от друга времена Древней Руси, Московского государства, Российской империи, Советской России и СССР, современной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рактивные плакаты, кар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AB30A-CB64-47A8-9820-EBCFAB550F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C8B09-5594-49A7-8D91-05B603DB73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И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3883E-DAFC-4EC2-BE27-F5FF425E4B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ИКТ для реализации ФГОС второго поко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ржки из ФГОС второго поко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я УМК Школа 2100 для реализации ФГ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я Лебедевой Л.А. для реализации ФГОС второго поколения с помощью современных образовательных технологий (ИК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ирать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ый материал и задания учебника, нацеленные на 1-ю линию 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ые энциклопед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16394-2778-4C49-93A4-3B29412D6D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Schoolbook"/>
              </a:rPr>
              <a:t>Личностные метапредметные и предметные результаты освоения учебного предм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987B8-293A-4DEF-A7D1-B56C86AAA6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Schoolbook"/>
              </a:rPr>
              <a:t>Личностные результ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ять поступ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ть жизненные ситу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 определять и высказывать правила пове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 выбор, какой поступок соверши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272FE-17FD-4C75-A325-35DDB66EA2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Schoolbook"/>
              </a:rPr>
              <a:t>Метапредметные результ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B2C83-13B8-4897-8B4F-1E498147B1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Schoolbook"/>
              </a:rPr>
              <a:t>Регулятивные УУ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формулировать цели ур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ть план решения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по плану, сверять действия с цел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0B660-F0DF-4BB4-AF5A-87325DD38D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Century Schoolbook"/>
              </a:rPr>
              <a:t>Познавательные УУ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иентироваться в своей системе зн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ирать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ые энциклопед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бывать новые 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батывать полученную информа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ртуальные экскур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образовывать информацию из одной формы в другу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мио-проек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4F23F-7C86-46DC-9EDB-C0764AEF1A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Century Schoolbook"/>
              </a:rPr>
              <a:t>Предметные результ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1-я линия развития – уметь объяснять ми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2-я линия развития – уметь определять своё отношение к мир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791EC-D764-45B4-8E02-51A5408905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81E99-0EDE-447D-893F-FFC1F273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7F658-6A1D-4F74-A251-52A28A1F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BE988-7E58-4752-935E-39FFF780C8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A455D-1D64-4FD4-8AE9-4E45D8DFCF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E0D76-E36D-4C4B-BD89-B84C4E2A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A78B9-509A-49F7-AAD0-D69A6DC9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A80E3-B472-448D-A88A-EA6651A1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75294-6F43-4B86-9465-906F96E4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67282-0D1A-4053-9528-325578A5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C2266-417C-42D2-BC14-63B84987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91869-5790-4272-9A58-30E89C52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C9510-FF90-4DC8-8680-FE078F50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0AD89-F328-48FC-901B-BA1C36B3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6A83B-1019-4663-B5C1-06926C3F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D420E-B719-4734-9CBA-B5EF18AE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B6018-5929-4B75-9AB5-E0A79C253C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4942-C99B-4B96-AEE6-CCA6A160F5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DD1C-05E2-4BDB-A635-22B3E316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165F-423D-4850-B4BA-68845923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D63E-BEB6-4CBF-911D-94C4A1C5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EA8F-9ECF-4949-BFB4-34B4D01B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F8202-D87B-47F8-A671-6356E8E3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2771-947F-4FA9-A66A-F71E1FC9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6E8A-0C39-43FC-814A-246B7A80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897D-7059-4268-A706-6116F14E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48C7-90E1-4886-987D-FC812D59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622D-4E5C-46F4-8CC5-EF14468B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4F1A-FA8E-446F-8C61-7E8B209D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15E7-40EB-47DF-AC07-354D5EA7C4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6E2427-302C-41D3-ACE9-4A25FA68C2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37F83-8682-4FB7-BBC1-7E8CBF5D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2D1F5-7E2D-4350-9E5B-37A52555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CC0A3-B602-4F5B-9F86-E483B399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A0A39E-56D0-4B8D-899A-4CA60122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87AD8B-8545-4E7D-A122-E1409BEC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8166D-73A1-45BB-9E75-BBDED284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772145-A5A2-4F32-9270-2CFA2C04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302A2E-E801-4C42-92E9-8670548D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139172-961B-425A-81E7-B091A22A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85FEF-817C-4E5D-9B6C-7843D9E0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871B8-B641-4AB2-80A2-5CBAD864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E620F7-204D-44B5-9C39-9FA6240864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B39537-1CB5-433E-9AF6-F64F89E9FA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9FCC5-367C-44EC-BE43-90221B9A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63DE26-F3AD-4978-9143-81E23869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ED8A5B-FC5B-4B9F-9B12-671145FA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B1A8C6-88B2-4949-9BA0-4B3A88DD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6BA729-0B5A-48A2-9BA7-787ED435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3D6EED-7448-4DCF-9F94-8BAC320D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0CA181-59BA-464F-81E4-8CE00C4A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3367F2-82B7-469C-90EF-E776B2A5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50ED70-A021-4B0E-B59D-C75A46CC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559929-0111-42EC-8938-3CBEBAEC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9544F8-0958-4CC7-9EE8-16AE246C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430C4-F644-4437-BF44-F971E828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FF778D-D4C8-4417-8D28-63A3BFE167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B1C1D-4F11-49EF-958D-F348627A68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80A58-1AD4-48F5-9852-5FE78A91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A1EC5-4681-49D7-AFA2-970C251F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1ECFC-E7FF-4DE9-BDB5-286A2B07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AAE4C-FCEC-468D-988E-D692B215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FCC8B-1BAE-46DB-98F7-EFDB16AF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6AC79-5A84-4911-946D-CA20A9DB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47106-E51A-4760-BF8D-253FDA62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AF02E-C232-4355-BB76-366D97C9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57DCD-06A6-4AE2-B449-EF2F0666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A1EC9-FBD9-4707-9A55-138D3C96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E6F74-D729-4B26-87A0-F36E377D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F4EF7-7E06-4169-9388-C42D126833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F458D7-061E-4B69-A216-5FB1E625DD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AE36AE-E3D9-4E98-BE06-8579272C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A81C98-C569-4417-A4CD-3C378D0E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77E33D-3CE4-40B5-9B67-B7C94308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D83A91-5E93-4CD8-8A2A-3F83AE9A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644723-85C9-49D1-A8AE-C43157E8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010205-A2CD-4586-A972-313D768B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7595A-88FC-409C-BFA1-34369A47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34C180-5810-47BE-B13E-D6653171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A6C0EB-D501-45E3-A6BD-0B279DF7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0F1080-B1E7-4182-BB11-5EF06110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758C75-7383-4A98-A54C-5AA5E568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966F0D-BCF2-4338-AC3E-86E1D95215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DB0F0F-4410-4FB8-8E65-4ECC451C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A7E306-B27E-4EE3-A76B-E623245A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2ED319-C29C-4C2F-BF86-3052B024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362B70-DDCA-4E44-990D-64D98545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A4C8FC-ED0D-4780-8782-AAF05708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22399-700C-420A-906A-D143051A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6D3378-D780-4078-8C55-EE533F04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9A1727-B2FE-4235-BD56-EBBB1C3F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88E708-CAAC-4A3E-A0D9-33D3CBF2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7B0A28-B15B-480E-B292-C71350D7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36D666-DAE2-44CD-A3F1-37529689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F9B0B4-94D1-4246-B0D0-EC64E55F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4C75C3-1D59-47F7-995C-C47D239B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06.12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6992280" y="37353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213A0-2C33-4FCD-9241-32E42E9E4CF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9097560" y="222120"/>
            <a:ext cx="228276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07976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1325160" y="4928760"/>
            <a:ext cx="6066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53B1F6-B4C0-46CA-8743-8FCC86C339C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CEFC7A-3918-413B-9C92-972D68CC6C9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9096120" y="217440"/>
            <a:ext cx="228276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07976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1339920" y="4928760"/>
            <a:ext cx="6062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9E45BA-9145-4F4E-874E-8AA7FB80273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9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0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CB2E8C-302F-4158-A67E-7F47ACB9C5E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1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B4A3AE-2B44-4E53-BEF6-C082A13408C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4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84C23B-3BF2-45F8-B485-731B217F2ED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15"/>
          </p:nvPr>
        </p:nvSpPr>
        <p:spPr>
          <a:xfrm>
            <a:off x="45684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06.1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16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17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AE481BA-7320-49B8-A66E-E70E2223C1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02" name="Text Box 1"/>
          <p:cNvSpPr/>
          <p:nvPr/>
        </p:nvSpPr>
        <p:spPr>
          <a:xfrm>
            <a:off x="1357200" y="3071880"/>
            <a:ext cx="6500880" cy="15001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1000080" y="2858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ГОУ «Средняя общеобразовательная школа № 619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город Санкт-Петер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2071800" y="514368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Лебедева Любовь Александр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1857600" cy="18572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357200" y="2286000"/>
            <a:ext cx="68580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ТЕМА: МЕТОДИКА ИСПОЛЬЗОВАНИЯ ИКТ НА УРОКАХ ОКРУЖАЮЩЕГО МИР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786040" y="62866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1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71" name="Text Box 1"/>
          <p:cNvSpPr/>
          <p:nvPr/>
        </p:nvSpPr>
        <p:spPr>
          <a:xfrm>
            <a:off x="457200" y="274680"/>
            <a:ext cx="74674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6165d"/>
                </a:solidFill>
                <a:latin typeface="Century Schoolbook"/>
              </a:rPr>
              <a:t>Часть 1 Обитатели земл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D70C5-12BC-4F40-8C23-35E2F85B0D6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143000" y="1357200"/>
          <a:ext cx="6715080" cy="5072040"/>
        </p:xfrm>
        <a:graphic>
          <a:graphicData uri="http://schemas.openxmlformats.org/drawingml/2006/table">
            <a:tbl>
              <a:tblPr/>
              <a:tblGrid>
                <a:gridCol w="3357720"/>
                <a:gridCol w="3357360"/>
              </a:tblGrid>
              <a:tr h="267336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Приводить примеры тел и веществ, твердых тел, жидкостей и газов, действий энер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f4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ППС «Кирилл и Мефодий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f4">
                        <a:alpha val="70000"/>
                      </a:srgbClr>
                    </a:solidFill>
                  </a:tcPr>
                </a:tc>
              </a:tr>
              <a:tr h="239868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Перечислять особенности хвойных и цветковых растений; животных, гриб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74" name="Picture 8" descr=""/>
          <p:cNvPicPr/>
          <p:nvPr/>
        </p:nvPicPr>
        <p:blipFill>
          <a:blip r:embed="rId2"/>
          <a:stretch/>
        </p:blipFill>
        <p:spPr>
          <a:xfrm>
            <a:off x="4786200" y="2009880"/>
            <a:ext cx="2643480" cy="19796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9" descr=""/>
          <p:cNvPicPr/>
          <p:nvPr/>
        </p:nvPicPr>
        <p:blipFill>
          <a:blip r:embed="rId3"/>
          <a:stretch/>
        </p:blipFill>
        <p:spPr>
          <a:xfrm>
            <a:off x="4357800" y="4143240"/>
            <a:ext cx="1476360" cy="17146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0" descr=""/>
          <p:cNvPicPr/>
          <p:nvPr/>
        </p:nvPicPr>
        <p:blipFill>
          <a:blip r:embed="rId4"/>
          <a:stretch/>
        </p:blipFill>
        <p:spPr>
          <a:xfrm>
            <a:off x="5786280" y="3835440"/>
            <a:ext cx="215748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78" name="Text Box 1"/>
          <p:cNvSpPr/>
          <p:nvPr/>
        </p:nvSpPr>
        <p:spPr>
          <a:xfrm>
            <a:off x="457200" y="274680"/>
            <a:ext cx="74674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6165d"/>
                </a:solidFill>
                <a:latin typeface="Century Schoolbook"/>
              </a:rPr>
              <a:t>Часть 2 Моё Отечеств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8B1B0-32C9-4630-9FE4-E53458B5011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1143000" y="1428840"/>
          <a:ext cx="6643800" cy="4930560"/>
        </p:xfrm>
        <a:graphic>
          <a:graphicData uri="http://schemas.openxmlformats.org/drawingml/2006/table">
            <a:tbl>
              <a:tblPr/>
              <a:tblGrid>
                <a:gridCol w="3322800"/>
                <a:gridCol w="3321000"/>
              </a:tblGrid>
              <a:tr h="246528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По году определять век, место события в прошлом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dadeb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Интерактивные тес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dadeb">
                        <a:alpha val="70000"/>
                      </a:srgbClr>
                    </a:solidFill>
                  </a:tcPr>
                </a:tc>
              </a:tr>
              <a:tr h="246528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Отличать друг от друга времена Древней Руси, Московского государства, Российской империи, Советской России и СССР, современной Росси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Интерактивные плакаты, кар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81" name="Picture 8" descr=""/>
          <p:cNvPicPr/>
          <p:nvPr/>
        </p:nvPicPr>
        <p:blipFill>
          <a:blip r:embed="rId2"/>
          <a:stretch/>
        </p:blipFill>
        <p:spPr>
          <a:xfrm>
            <a:off x="4786200" y="4572000"/>
            <a:ext cx="2643480" cy="17971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9" descr=""/>
          <p:cNvPicPr/>
          <p:nvPr/>
        </p:nvPicPr>
        <p:blipFill>
          <a:blip r:embed="rId3"/>
          <a:stretch/>
        </p:blipFill>
        <p:spPr>
          <a:xfrm>
            <a:off x="4857840" y="1785960"/>
            <a:ext cx="2643120" cy="21146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0" descr=""/>
          <p:cNvPicPr/>
          <p:nvPr/>
        </p:nvPicPr>
        <p:blipFill>
          <a:blip r:embed="rId4"/>
          <a:stretch/>
        </p:blipFill>
        <p:spPr>
          <a:xfrm>
            <a:off x="2000160" y="2428920"/>
            <a:ext cx="1714680" cy="13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85" name="Text Box 1"/>
          <p:cNvSpPr/>
          <p:nvPr/>
        </p:nvSpPr>
        <p:spPr>
          <a:xfrm>
            <a:off x="1357200" y="1996920"/>
            <a:ext cx="74678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575f6d"/>
                </a:solidFill>
                <a:latin typeface="Century Schoolbook"/>
              </a:rPr>
              <a:t>СПАСИБО ЗА ВНИМАНИЕ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A4A0F-6942-4161-A216-E3277B61175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1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09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5A9BE-FA23-4228-AED0-63664642BBF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1071720" y="2714760"/>
            <a:ext cx="2261880" cy="17859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1357200" y="1500120"/>
            <a:ext cx="23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Arial"/>
              </a:rPr>
              <a:t>ИКТ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5"/>
          <p:cNvSpPr/>
          <p:nvPr/>
        </p:nvSpPr>
        <p:spPr>
          <a:xfrm>
            <a:off x="3357720" y="2571840"/>
            <a:ext cx="785520" cy="2071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99">
              <a:alpha val="81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6" descr=""/>
          <p:cNvPicPr/>
          <p:nvPr/>
        </p:nvPicPr>
        <p:blipFill>
          <a:blip r:embed="rId3"/>
          <a:stretch/>
        </p:blipFill>
        <p:spPr>
          <a:xfrm>
            <a:off x="4143240" y="2143080"/>
            <a:ext cx="3794400" cy="278604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7"/>
          <p:cNvSpPr/>
          <p:nvPr/>
        </p:nvSpPr>
        <p:spPr>
          <a:xfrm>
            <a:off x="4505400" y="3341520"/>
            <a:ext cx="1810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6" name="Text Box 1"/>
          <p:cNvSpPr/>
          <p:nvPr/>
        </p:nvSpPr>
        <p:spPr>
          <a:xfrm>
            <a:off x="571680" y="214200"/>
            <a:ext cx="7972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Использование ИКТ для реализации ФГОС второго поколе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37956-6DE0-4316-990B-D82BDB16189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928800" y="1800360"/>
          <a:ext cx="7215120" cy="4440240"/>
        </p:xfrm>
        <a:graphic>
          <a:graphicData uri="http://schemas.openxmlformats.org/drawingml/2006/table">
            <a:tbl>
              <a:tblPr/>
              <a:tblGrid>
                <a:gridCol w="1700280"/>
                <a:gridCol w="2190600"/>
                <a:gridCol w="3324240"/>
              </a:tblGrid>
              <a:tr h="2466720"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ыдержки из ФГОС второго поко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едложения УМК Школа 2100 для реализации ФГО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едложения Лебедевой Л.А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я реализации ФГОС второго поколения с помощью современных образовательных технологий (ИКТ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1973520"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тбирать источники информ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чебный материал и задания учебник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нацеленные на 1-ю линию разви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Электронные энциклопед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pic>
        <p:nvPicPr>
          <p:cNvPr id="419" name="Picture 10" descr=""/>
          <p:cNvPicPr/>
          <p:nvPr/>
        </p:nvPicPr>
        <p:blipFill>
          <a:blip r:embed="rId2"/>
          <a:stretch/>
        </p:blipFill>
        <p:spPr>
          <a:xfrm>
            <a:off x="5786280" y="4929120"/>
            <a:ext cx="1482840" cy="11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21" name="Text Box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501AE-CC6C-49E2-853B-AA850B9028C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1000080" y="357120"/>
            <a:ext cx="70722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Личностные метапредметные и предметные результаты освоения учебного предме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3" descr=""/>
          <p:cNvPicPr/>
          <p:nvPr/>
        </p:nvPicPr>
        <p:blipFill>
          <a:blip r:embed="rId2"/>
          <a:stretch/>
        </p:blipFill>
        <p:spPr>
          <a:xfrm>
            <a:off x="1643040" y="1643040"/>
            <a:ext cx="5857920" cy="4705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25" name="Text Box 1"/>
          <p:cNvSpPr/>
          <p:nvPr/>
        </p:nvSpPr>
        <p:spPr>
          <a:xfrm>
            <a:off x="457200" y="274680"/>
            <a:ext cx="74674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Личностные результа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CBA6B-8D94-4E86-B35C-AB33CB9F805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1357200" y="1214280"/>
            <a:ext cx="6000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ять поступ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ть жизненные ситу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 определять и высказывать правила пове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 выбор, какой поступок соверш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357200" y="3714840"/>
          <a:ext cx="6429600" cy="2647800"/>
        </p:xfrm>
        <a:graphic>
          <a:graphicData uri="http://schemas.openxmlformats.org/drawingml/2006/table">
            <a:tbl>
              <a:tblPr/>
              <a:tblGrid>
                <a:gridCol w="1857600"/>
                <a:gridCol w="2214360"/>
                <a:gridCol w="2357640"/>
              </a:tblGrid>
              <a:tr h="699840"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езентации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ower Poi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деофрагм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део из жизни клас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1947960"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pic>
        <p:nvPicPr>
          <p:cNvPr id="429" name="Picture 8" descr=""/>
          <p:cNvPicPr/>
          <p:nvPr/>
        </p:nvPicPr>
        <p:blipFill>
          <a:blip r:embed="rId2"/>
          <a:stretch/>
        </p:blipFill>
        <p:spPr>
          <a:xfrm>
            <a:off x="1500120" y="45007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"/>
          <p:cNvPicPr/>
          <p:nvPr/>
        </p:nvPicPr>
        <p:blipFill>
          <a:blip r:embed="rId3"/>
          <a:stretch/>
        </p:blipFill>
        <p:spPr>
          <a:xfrm>
            <a:off x="3286080" y="4572000"/>
            <a:ext cx="1928880" cy="16160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"/>
          <p:cNvPicPr/>
          <p:nvPr/>
        </p:nvPicPr>
        <p:blipFill>
          <a:blip r:embed="rId4"/>
          <a:stretch/>
        </p:blipFill>
        <p:spPr>
          <a:xfrm>
            <a:off x="5500800" y="4572000"/>
            <a:ext cx="207000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33" name="Rectangle 1"/>
          <p:cNvSpPr/>
          <p:nvPr/>
        </p:nvSpPr>
        <p:spPr>
          <a:xfrm>
            <a:off x="4714920" y="2071800"/>
            <a:ext cx="3857760" cy="57132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571680" y="2071800"/>
            <a:ext cx="3857400" cy="57132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714240" y="285840"/>
            <a:ext cx="74678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Метапредметные результа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2DAC4-E795-4B16-9CB0-17FF9CDC4E6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785880" y="207180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Регулятивные УУ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4786200" y="207180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Познавательные УУ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7" descr=""/>
          <p:cNvPicPr/>
          <p:nvPr/>
        </p:nvPicPr>
        <p:blipFill>
          <a:blip r:embed="rId2"/>
          <a:stretch/>
        </p:blipFill>
        <p:spPr>
          <a:xfrm>
            <a:off x="2357280" y="3071880"/>
            <a:ext cx="4067280" cy="3286080"/>
          </a:xfrm>
          <a:prstGeom prst="rect">
            <a:avLst/>
          </a:prstGeom>
          <a:ln w="0">
            <a:noFill/>
          </a:ln>
        </p:spPr>
      </p:pic>
      <p:sp>
        <p:nvSpPr>
          <p:cNvPr id="440" name="AutoShape 8"/>
          <p:cNvSpPr/>
          <p:nvPr/>
        </p:nvSpPr>
        <p:spPr>
          <a:xfrm>
            <a:off x="1143000" y="1428840"/>
            <a:ext cx="2925720" cy="512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c0ed"/>
              </a:gs>
              <a:gs pos="100000">
                <a:srgbClr val="e4eafa"/>
              </a:gs>
            </a:gsLst>
            <a:lin ang="5400000"/>
          </a:gradFill>
          <a:ln w="10080">
            <a:solidFill>
              <a:srgbClr val="aebad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9"/>
          <p:cNvSpPr/>
          <p:nvPr/>
        </p:nvSpPr>
        <p:spPr>
          <a:xfrm>
            <a:off x="4429080" y="1428840"/>
            <a:ext cx="2925720" cy="512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c0ed"/>
              </a:gs>
              <a:gs pos="100000">
                <a:srgbClr val="e4eafa"/>
              </a:gs>
            </a:gsLst>
            <a:lin ang="5400000"/>
          </a:gradFill>
          <a:ln w="10080">
            <a:solidFill>
              <a:srgbClr val="aebad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43" name="Text Box 1"/>
          <p:cNvSpPr/>
          <p:nvPr/>
        </p:nvSpPr>
        <p:spPr>
          <a:xfrm>
            <a:off x="2214720" y="428760"/>
            <a:ext cx="5257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Регулятивные УУ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2"/>
          <p:cNvSpPr/>
          <p:nvPr/>
        </p:nvSpPr>
        <p:spPr>
          <a:xfrm>
            <a:off x="1071720" y="1357200"/>
            <a:ext cx="482904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Arial"/>
              <a:buChar char="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формулировать цели ур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Arial"/>
              <a:buChar char="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ть план решения пробл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Arial"/>
              <a:buChar char="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по плану, сверять действия с цел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8E847-5A31-40A8-9B1A-B47E5E663B4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5786280" y="2857680"/>
            <a:ext cx="2214720" cy="1979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3"/>
          <a:stretch/>
        </p:blipFill>
        <p:spPr>
          <a:xfrm>
            <a:off x="4500720" y="3786120"/>
            <a:ext cx="2822400" cy="203364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6"/>
          <p:cNvSpPr/>
          <p:nvPr/>
        </p:nvSpPr>
        <p:spPr>
          <a:xfrm>
            <a:off x="1428840" y="4429080"/>
            <a:ext cx="2928960" cy="164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лан ур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7" descr=""/>
          <p:cNvPicPr/>
          <p:nvPr/>
        </p:nvPicPr>
        <p:blipFill>
          <a:blip r:embed="rId4"/>
          <a:stretch/>
        </p:blipFill>
        <p:spPr>
          <a:xfrm>
            <a:off x="3143160" y="5000760"/>
            <a:ext cx="1149480" cy="10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51" name="Text Box 1"/>
          <p:cNvSpPr/>
          <p:nvPr/>
        </p:nvSpPr>
        <p:spPr>
          <a:xfrm>
            <a:off x="45720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6165d"/>
                </a:solidFill>
                <a:latin typeface="Century Schoolbook"/>
              </a:rPr>
              <a:t>Познавательные УУ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AC568-B916-478B-B646-A339355688E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214280" y="857160"/>
          <a:ext cx="6715440" cy="5649840"/>
        </p:xfrm>
        <a:graphic>
          <a:graphicData uri="http://schemas.openxmlformats.org/drawingml/2006/table">
            <a:tbl>
              <a:tblPr/>
              <a:tblGrid>
                <a:gridCol w="2928960"/>
                <a:gridCol w="3786480"/>
              </a:tblGrid>
              <a:tr h="2143080">
                <a:tc>
                  <a:txBody>
                    <a:bodyPr lIns="90000" rIns="90000" tIns="1105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ироваться в своей системе зна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бирать источники информ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f4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Электронные энциклопед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f4">
                        <a:alpha val="70000"/>
                      </a:srgbClr>
                    </a:solidFill>
                  </a:tcPr>
                </a:tc>
              </a:tr>
              <a:tr h="1986120">
                <a:tc>
                  <a:txBody>
                    <a:bodyPr lIns="90000" rIns="90000" tIns="1105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ывать новые зн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рабатывать полученную информаци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ртуальные экскурс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</a:tr>
              <a:tr h="1520640">
                <a:tc>
                  <a:txBody>
                    <a:bodyPr lIns="90000" rIns="90000" tIns="1105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разовывать информацию из одной формы в другу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имио-проект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n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pic>
        <p:nvPicPr>
          <p:cNvPr id="454" name="Picture 10" descr=""/>
          <p:cNvPicPr/>
          <p:nvPr/>
        </p:nvPicPr>
        <p:blipFill>
          <a:blip r:embed="rId2"/>
          <a:stretch/>
        </p:blipFill>
        <p:spPr>
          <a:xfrm>
            <a:off x="5286240" y="1285920"/>
            <a:ext cx="2000520" cy="16016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1" descr=""/>
          <p:cNvPicPr/>
          <p:nvPr/>
        </p:nvPicPr>
        <p:blipFill>
          <a:blip r:embed="rId3"/>
          <a:stretch/>
        </p:blipFill>
        <p:spPr>
          <a:xfrm>
            <a:off x="5357880" y="3357720"/>
            <a:ext cx="1982880" cy="158580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2"/>
          <p:cNvSpPr/>
          <p:nvPr/>
        </p:nvSpPr>
        <p:spPr>
          <a:xfrm>
            <a:off x="5357880" y="5500800"/>
            <a:ext cx="192888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лан ур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13" descr=""/>
          <p:cNvPicPr/>
          <p:nvPr/>
        </p:nvPicPr>
        <p:blipFill>
          <a:blip r:embed="rId4"/>
          <a:stretch/>
        </p:blipFill>
        <p:spPr>
          <a:xfrm>
            <a:off x="6072120" y="5857920"/>
            <a:ext cx="72864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59" name="Rectangle 1"/>
          <p:cNvSpPr/>
          <p:nvPr/>
        </p:nvSpPr>
        <p:spPr>
          <a:xfrm>
            <a:off x="642960" y="2071800"/>
            <a:ext cx="3571920" cy="57132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4500720" y="2071800"/>
            <a:ext cx="3714480" cy="57132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45720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6165d"/>
                </a:solidFill>
                <a:latin typeface="Century Schoolbook"/>
              </a:rPr>
              <a:t>Предметные результа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E3651-686F-4A15-A05B-3154C4F1A54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357120" y="207180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Обитатели зем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4357800" y="2071800"/>
            <a:ext cx="38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Моё Отече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1143000" y="2928960"/>
            <a:ext cx="62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1-я линия развития – уметь объяснять м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1214280" y="3432960"/>
            <a:ext cx="63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2-я линия развития – уметь определять своё отношение к ми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9"/>
          <p:cNvSpPr/>
          <p:nvPr/>
        </p:nvSpPr>
        <p:spPr>
          <a:xfrm>
            <a:off x="1357200" y="1357200"/>
            <a:ext cx="2925720" cy="5130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c0ed"/>
              </a:gs>
              <a:gs pos="100000">
                <a:srgbClr val="e4eafa"/>
              </a:gs>
            </a:gsLst>
            <a:lin ang="5400000"/>
          </a:gradFill>
          <a:ln w="10080">
            <a:solidFill>
              <a:srgbClr val="aebad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10"/>
          <p:cNvSpPr/>
          <p:nvPr/>
        </p:nvSpPr>
        <p:spPr>
          <a:xfrm>
            <a:off x="4786200" y="1357200"/>
            <a:ext cx="2925720" cy="5130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c0ed"/>
              </a:gs>
              <a:gs pos="100000">
                <a:srgbClr val="e4eafa"/>
              </a:gs>
            </a:gsLst>
            <a:lin ang="5400000"/>
          </a:gradFill>
          <a:ln w="10080">
            <a:solidFill>
              <a:srgbClr val="aebad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11" descr=""/>
          <p:cNvPicPr/>
          <p:nvPr/>
        </p:nvPicPr>
        <p:blipFill>
          <a:blip r:embed="rId2"/>
          <a:stretch/>
        </p:blipFill>
        <p:spPr>
          <a:xfrm>
            <a:off x="2857680" y="4500720"/>
            <a:ext cx="2714400" cy="2171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16:54:24Z</dcterms:created>
  <dc:creator>Admin</dc:creator>
  <dc:description/>
  <dc:language>en-US</dc:language>
  <cp:lastModifiedBy>LEGION</cp:lastModifiedBy>
  <dcterms:modified xsi:type="dcterms:W3CDTF">2015-01-27T13:43:57Z</dcterms:modified>
  <cp:revision>82</cp:revision>
  <dc:subject/>
  <dc:title>В стране невыученных уроков</dc:title>
</cp:coreProperties>
</file>