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8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E36BF-540C-4D3C-96DD-38511D8E42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6996C-C1FC-4B26-876C-916030BA46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7B07E-60A1-4A6D-9A47-34FDFF0A94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A6E52-2BE1-4C6F-9494-D94972678E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одить примеры тел и веществ, твердых тел, жидкостей и газов, действий э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ПС «Кирилл и Мефодий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ислять особенности хвойных и цветковых растений; животных, гри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322E1-C0C8-483B-A746-3F60E860DF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оду определять век, место события в прошл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те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плакаты, к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AED30-3249-458A-8AB6-DE5A704E1E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2EDE9-1082-4CCA-B452-8E1C3EDD2E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2321B-E867-40A3-9944-B2145E2602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ИКТ для реализации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ржки из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УМК Школа 2100 для реализации ФГ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Лебедевой Л.А. для реализации ФГОС второго поколения с помощью современных образовательных технологий (И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материал и задания учебника, нацеленные на 1-ю линию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3EC15-A722-45E4-BA79-6609F9D946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8AA60-24B0-43FC-A405-30ACCE6332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E8B12-C70C-45A0-9010-9203D05510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9F28B-4D61-4544-9CC3-BDD754722A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D6E73-61FB-4134-94BE-1B2BF59755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ентироваться в своей системе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вать новые 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батывать полученную информа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ртуальные экскур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разовывать информацию из одной формы в другу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мио-проек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1BADA-07B9-4A47-A691-0A97D5C0F2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9237-8280-44DF-AA89-795677BE6C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4B61-7F69-4A07-82DA-3742178A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9604-46C3-479D-9811-CD18C1DA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1EAB-0305-42C3-96EB-11FA7870DD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C9CA6-01EC-494B-A6C6-C67570B9A1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1E50F-B794-4D1B-A267-354FB0BA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CBF04-14E0-4E4B-A7A1-52732B2D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DF3C4-8F59-4846-A512-1B0E8834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A7623-A3A0-4629-A53A-A6F39F8F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995B4-0B4D-44C5-B4BB-3F800C85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F758E-31AE-4FBE-8212-DEF5B76F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BB9F-F67B-470E-9581-CC6B3403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7EAD2-D47A-4E1A-A523-AD9FE2C0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4A805-C993-4CC3-94F7-7C071622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0139C-3D7E-44D3-87E6-563BAC4E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9EEF5-A5F9-4581-8A9B-5B7CDD4B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41C81-2F37-49F8-8F27-4E698FD679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B5D8-D4BD-40C4-93D5-F9523276DF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5190-114F-4E7F-86F6-172CF37E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995D-0848-476C-AA7C-7700E666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185A-BD16-463F-8499-271E992B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2BFE-0DA4-4411-80CD-B1158045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A67C-E72C-46C4-9CE1-5B48515B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15C0-1A64-417A-98AF-7DDB816F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55C0-60D1-48D3-8580-B95C5A48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E27B-BE3C-4A05-A1E8-B0C5FA3A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CCFF-87D9-434B-9D02-A686A8C3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B380-B37D-432E-8CF6-948FFF7D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7646-AE73-4EDB-BE40-B86D066C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317A-E2EC-4402-878E-3D05D102A8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E0E27-4445-451F-9EFE-DB23E9FE73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DE0DF-377D-4CD9-A4E2-CAB088F9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98F75-7CAC-4492-823E-554F8F3D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B56D-5F5A-4AB2-B61D-7A887063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C5A94-5B73-42E3-9E8F-3A40455C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1CC22-D7EE-49D1-9EDB-910C52D5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A50F4-C3B0-4F07-8BD2-1CF07D66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68A1F-6BA4-4D5D-8BFA-18F7640F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BD7AE-0AC7-4D7D-9684-313CFE13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4A519-7A86-49D2-A912-7F6ED1E5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513AB-F3A8-49CB-86A5-EBDDA1DD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144D9-09C4-4875-9EEA-0CFF5CD0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24B90-DD14-4FB7-A4CE-FB07922022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A8D3E-D734-4CE7-A2B7-EF6FFFB6C2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E7F2-212D-4DC7-BA2D-768CEE1F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5E1CE5-6054-406A-83BA-00FB2A8C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407F6-F3CE-4F4F-948D-F68FE2F4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E6CF4B-7D49-40CD-8B28-FAC4D81F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3967F-4907-4685-809A-4F93802A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DA6D2-BB95-4265-A784-40ECCB83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78244-9EA0-480B-B077-90D88041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25AD6-E48D-4870-9D8B-64A654A3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5750C5-547D-4856-ADF6-AE482683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01A243-F330-4A85-8E8F-1AFC45A2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638F1-0A66-4516-BAF9-F690A421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B38F-9AFC-4524-A4EB-6AE15134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854E8E-1FB9-4BF3-9D32-E742B8FDF4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51B7D-8514-4F57-8295-D1B9720EA0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874D8-FAFB-4F46-85E9-BFAF0BC1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4F82D-343C-4EBC-A621-0CF3A821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515F6-800F-4097-96A9-718B376D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EE3DD-77FA-43C4-A405-C229FA41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BDE28-181E-4E9D-B1D0-82E35BDD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9C499-1CAA-445A-8D54-569EDC95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C17D-795A-42D1-BEAD-93E82C7F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0C34-DF93-4DD5-9344-7F817CB7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13DA-5444-4761-8A99-A62F1D09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9B76-FB60-4503-83E9-6EB815D7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FE56-7633-45FF-9291-50088747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797F7-F63A-4515-9809-E7E7DE43D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980C7-5424-4D95-A230-3540BDE105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31E95-D56E-4390-9647-3A927826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5F91F-753A-4954-A4BB-294078CC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F46D5-62AC-4C03-8814-BC6EE50B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ECE8B-CE39-4E84-B76F-3EF9B554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91E7A-BADC-48FB-837D-E88BD004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4609D-986E-4B69-8A19-AFAF9E54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D0C8-FB84-401D-B8B4-F2E8AC13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EE397-906F-48CA-AFA3-6369B611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C986C-814F-48BA-85F7-262E557C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69F88-B2D5-4968-BF54-53091BA2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E119F-2D20-4E6D-8A89-3C5E0A94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C3989-5125-4C8D-95A1-3BCDD1B979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662CD-426A-440C-A584-FD9D08F6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03699-92B5-45F7-BE71-B6BF2E4E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1C1A4-F384-459C-BDBC-A6327B38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BDB0A-C95B-40B0-8573-242DB8A5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32D10C-6807-437B-873E-6B2DA857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93C5C-582C-4DCC-918D-816DB8B5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72A30E-98E6-4326-8046-9C173139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B2184-9737-4F7F-8679-58CA85B9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A3852-0340-4D93-BFBF-DC4E4E88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48DE9-56CB-42CF-A779-9A7A581A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36CE3-80A9-483E-933A-58C3B7A3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2FED9B-ADAB-4933-BF42-5886CC09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7BABB6-AE07-4647-BD6C-D9D7909A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6.1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228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AE62D-F902-4E74-8315-3E1CE9836A7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560" y="22212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976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6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706B0A-C63C-4ACD-A78C-04E4CFD0DA9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703769-DC8A-414D-BFC3-6978ADF3EC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120" y="21744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7976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8760"/>
            <a:ext cx="6062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4A45E4-BE93-4C18-A6F8-1707685355F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C1A381-70C9-4F40-91C3-5541CF2EA18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0341ED-BE3A-4088-BA95-AC5895B8B62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6FD24B-3CDC-4573-82AA-F025D23FBC6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5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06.1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68923E-1FA3-4C6D-A576-74AD3D5683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2" name="Text Box 1"/>
          <p:cNvSpPr/>
          <p:nvPr/>
        </p:nvSpPr>
        <p:spPr>
          <a:xfrm>
            <a:off x="1357200" y="3071880"/>
            <a:ext cx="6500880" cy="1500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1000080" y="2858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У «Средняя общеобразовательная школа № 61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род 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2071800" y="51436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Лебедева Любовь Александ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357200" y="2286000"/>
            <a:ext cx="6858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786040" y="6286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1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3AE99-906B-411D-80FE-26CED73E99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143000" y="1357200"/>
          <a:ext cx="6715080" cy="5072040"/>
        </p:xfrm>
        <a:graphic>
          <a:graphicData uri="http://schemas.openxmlformats.org/drawingml/2006/table">
            <a:tbl>
              <a:tblPr/>
              <a:tblGrid>
                <a:gridCol w="3357720"/>
                <a:gridCol w="3357360"/>
              </a:tblGrid>
              <a:tr h="267336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риводить примеры тел и веществ, твердых тел, жидкостей и газов, действий энер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ПС «Кирилл и Мефоди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23986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еречислять особенности хвойных и цветковых растений; животных, гриб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74" name="Picture 8" descr=""/>
          <p:cNvPicPr/>
          <p:nvPr/>
        </p:nvPicPr>
        <p:blipFill>
          <a:blip r:embed="rId2"/>
          <a:stretch/>
        </p:blipFill>
        <p:spPr>
          <a:xfrm>
            <a:off x="4786200" y="200988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"/>
          <p:cNvPicPr/>
          <p:nvPr/>
        </p:nvPicPr>
        <p:blipFill>
          <a:blip r:embed="rId3"/>
          <a:stretch/>
        </p:blipFill>
        <p:spPr>
          <a:xfrm>
            <a:off x="4357800" y="4143240"/>
            <a:ext cx="1476360" cy="1714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"/>
          <p:cNvPicPr/>
          <p:nvPr/>
        </p:nvPicPr>
        <p:blipFill>
          <a:blip r:embed="rId4"/>
          <a:stretch/>
        </p:blipFill>
        <p:spPr>
          <a:xfrm>
            <a:off x="5786280" y="3835440"/>
            <a:ext cx="2157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8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39197-BD28-4E98-B477-BF13FB980E5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143000" y="1428840"/>
          <a:ext cx="6643800" cy="4930560"/>
        </p:xfrm>
        <a:graphic>
          <a:graphicData uri="http://schemas.openxmlformats.org/drawingml/2006/table">
            <a:tbl>
              <a:tblPr/>
              <a:tblGrid>
                <a:gridCol w="3322800"/>
                <a:gridCol w="3321000"/>
              </a:tblGrid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о году определять век, место события в прошло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тес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</a:tr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плакаты, ка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81" name="Picture 8" descr=""/>
          <p:cNvPicPr/>
          <p:nvPr/>
        </p:nvPicPr>
        <p:blipFill>
          <a:blip r:embed="rId2"/>
          <a:stretch/>
        </p:blipFill>
        <p:spPr>
          <a:xfrm>
            <a:off x="4786200" y="4572000"/>
            <a:ext cx="2643480" cy="1797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"/>
          <p:cNvPicPr/>
          <p:nvPr/>
        </p:nvPicPr>
        <p:blipFill>
          <a:blip r:embed="rId3"/>
          <a:stretch/>
        </p:blipFill>
        <p:spPr>
          <a:xfrm>
            <a:off x="4857840" y="1785960"/>
            <a:ext cx="2643120" cy="2114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"/>
          <p:cNvPicPr/>
          <p:nvPr/>
        </p:nvPicPr>
        <p:blipFill>
          <a:blip r:embed="rId4"/>
          <a:stretch/>
        </p:blipFill>
        <p:spPr>
          <a:xfrm>
            <a:off x="2000160" y="2428920"/>
            <a:ext cx="17146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5" name="Text Box 1"/>
          <p:cNvSpPr/>
          <p:nvPr/>
        </p:nvSpPr>
        <p:spPr>
          <a:xfrm>
            <a:off x="1357200" y="1996920"/>
            <a:ext cx="7467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0A942-B06F-4484-A8A7-E0264E1C84D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D9168-A6AA-457A-BBAF-36042853BF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1071720" y="2714760"/>
            <a:ext cx="2261880" cy="17859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1357200" y="15001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Arial"/>
              </a:rPr>
              <a:t>ИК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357720" y="2571840"/>
            <a:ext cx="785520" cy="2071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>
              <a:alpha val="81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6" descr=""/>
          <p:cNvPicPr/>
          <p:nvPr/>
        </p:nvPicPr>
        <p:blipFill>
          <a:blip r:embed="rId3"/>
          <a:stretch/>
        </p:blipFill>
        <p:spPr>
          <a:xfrm>
            <a:off x="4143240" y="2143080"/>
            <a:ext cx="3794400" cy="27860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7"/>
          <p:cNvSpPr/>
          <p:nvPr/>
        </p:nvSpPr>
        <p:spPr>
          <a:xfrm>
            <a:off x="4505400" y="3341520"/>
            <a:ext cx="181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Text Box 1"/>
          <p:cNvSpPr/>
          <p:nvPr/>
        </p:nvSpPr>
        <p:spPr>
          <a:xfrm>
            <a:off x="571680" y="214200"/>
            <a:ext cx="797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Использование ИКТ для реализации ФГОС второго покол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5BCA7-36CC-4F69-9A75-6F6660F2FFB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928800" y="1800360"/>
          <a:ext cx="7215120" cy="4440240"/>
        </p:xfrm>
        <a:graphic>
          <a:graphicData uri="http://schemas.openxmlformats.org/drawingml/2006/table">
            <a:tbl>
              <a:tblPr/>
              <a:tblGrid>
                <a:gridCol w="1700280"/>
                <a:gridCol w="2190600"/>
                <a:gridCol w="3324240"/>
              </a:tblGrid>
              <a:tr h="246672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держки из ФГОС второго поко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УМК Школа 2100 для реализации ФГ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Лебедевой Л.А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я реализации ФГОС второго поколения с помощью современных образовательных технологий (ИК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7352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ебный материал и задания учебн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нацеленные на 1-ю линию разви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19" name="Picture 10" descr=""/>
          <p:cNvPicPr/>
          <p:nvPr/>
        </p:nvPicPr>
        <p:blipFill>
          <a:blip r:embed="rId2"/>
          <a:stretch/>
        </p:blipFill>
        <p:spPr>
          <a:xfrm>
            <a:off x="5786280" y="4929120"/>
            <a:ext cx="1482840" cy="11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1" name="Text Box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51831-616D-4A0E-914C-8B0023CEE85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000080" y="357120"/>
            <a:ext cx="70722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5857920" cy="4705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5" name="Text Box 1"/>
          <p:cNvSpPr/>
          <p:nvPr/>
        </p:nvSpPr>
        <p:spPr>
          <a:xfrm>
            <a:off x="457200" y="274680"/>
            <a:ext cx="7467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224CE-DC15-497C-8CB1-2607E9B4927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1357200" y="1214280"/>
            <a:ext cx="600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357200" y="3714840"/>
          <a:ext cx="6429600" cy="2647800"/>
        </p:xfrm>
        <a:graphic>
          <a:graphicData uri="http://schemas.openxmlformats.org/drawingml/2006/table">
            <a:tbl>
              <a:tblPr/>
              <a:tblGrid>
                <a:gridCol w="1857600"/>
                <a:gridCol w="2214360"/>
                <a:gridCol w="2357640"/>
              </a:tblGrid>
              <a:tr h="69984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зентаци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wer Po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фраг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 из жизни кл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4796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29" name="Picture 8" descr=""/>
          <p:cNvPicPr/>
          <p:nvPr/>
        </p:nvPicPr>
        <p:blipFill>
          <a:blip r:embed="rId2"/>
          <a:stretch/>
        </p:blipFill>
        <p:spPr>
          <a:xfrm>
            <a:off x="1500120" y="45007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3286080" y="4572000"/>
            <a:ext cx="1928880" cy="1616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"/>
          <p:cNvPicPr/>
          <p:nvPr/>
        </p:nvPicPr>
        <p:blipFill>
          <a:blip r:embed="rId4"/>
          <a:stretch/>
        </p:blipFill>
        <p:spPr>
          <a:xfrm>
            <a:off x="5500800" y="4572000"/>
            <a:ext cx="20700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3" name="Rectangle 1"/>
          <p:cNvSpPr/>
          <p:nvPr/>
        </p:nvSpPr>
        <p:spPr>
          <a:xfrm>
            <a:off x="4714920" y="2071800"/>
            <a:ext cx="385776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571680" y="2071800"/>
            <a:ext cx="385740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714240" y="285840"/>
            <a:ext cx="7467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F0EE2-9EA6-4BB8-BA72-7436EC24A71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78588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4786200" y="20718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Познаватель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2"/>
          <a:stretch/>
        </p:blipFill>
        <p:spPr>
          <a:xfrm>
            <a:off x="2357280" y="3071880"/>
            <a:ext cx="4067280" cy="328608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8"/>
          <p:cNvSpPr/>
          <p:nvPr/>
        </p:nvSpPr>
        <p:spPr>
          <a:xfrm>
            <a:off x="114300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442908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43" name="Text Box 1"/>
          <p:cNvSpPr/>
          <p:nvPr/>
        </p:nvSpPr>
        <p:spPr>
          <a:xfrm>
            <a:off x="2214720" y="428760"/>
            <a:ext cx="5257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071720" y="1357200"/>
            <a:ext cx="48290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4C676-867F-44BA-B9D8-97BA9E995A5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5786280" y="2857680"/>
            <a:ext cx="2214720" cy="1979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500720" y="3786120"/>
            <a:ext cx="2822400" cy="203364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1428840" y="4429080"/>
            <a:ext cx="292896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3143160" y="5000760"/>
            <a:ext cx="11494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1" name="Text Box 1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1306A-E463-46D3-925B-9F4B64B3BD5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4280" y="857160"/>
          <a:ext cx="6715440" cy="5649840"/>
        </p:xfrm>
        <a:graphic>
          <a:graphicData uri="http://schemas.openxmlformats.org/drawingml/2006/table">
            <a:tbl>
              <a:tblPr/>
              <a:tblGrid>
                <a:gridCol w="2928960"/>
                <a:gridCol w="3786480"/>
              </a:tblGrid>
              <a:tr h="214308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аться в своей системе зн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198612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ть новые зн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рабатывать полученную информац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туальные экскур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  <a:tr h="152064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ывать информацию из одной формы в другу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мио-проект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n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454" name="Picture 10" descr=""/>
          <p:cNvPicPr/>
          <p:nvPr/>
        </p:nvPicPr>
        <p:blipFill>
          <a:blip r:embed="rId2"/>
          <a:stretch/>
        </p:blipFill>
        <p:spPr>
          <a:xfrm>
            <a:off x="5286240" y="1285920"/>
            <a:ext cx="2000520" cy="1601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"/>
          <p:cNvPicPr/>
          <p:nvPr/>
        </p:nvPicPr>
        <p:blipFill>
          <a:blip r:embed="rId3"/>
          <a:stretch/>
        </p:blipFill>
        <p:spPr>
          <a:xfrm>
            <a:off x="5357880" y="3357720"/>
            <a:ext cx="1982880" cy="15858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2"/>
          <p:cNvSpPr/>
          <p:nvPr/>
        </p:nvSpPr>
        <p:spPr>
          <a:xfrm>
            <a:off x="5357880" y="5500800"/>
            <a:ext cx="19288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3" descr=""/>
          <p:cNvPicPr/>
          <p:nvPr/>
        </p:nvPicPr>
        <p:blipFill>
          <a:blip r:embed="rId4"/>
          <a:stretch/>
        </p:blipFill>
        <p:spPr>
          <a:xfrm>
            <a:off x="6072120" y="5857920"/>
            <a:ext cx="7286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9" name="Rectangle 1"/>
          <p:cNvSpPr/>
          <p:nvPr/>
        </p:nvSpPr>
        <p:spPr>
          <a:xfrm>
            <a:off x="642960" y="2071800"/>
            <a:ext cx="357192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4500720" y="2071800"/>
            <a:ext cx="371448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0EA6F-F637-40A4-AF22-5CAC6137E39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5712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Обитатели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357800" y="20718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Моё Оте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1143000" y="292896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1214280" y="343296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1357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4786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1" descr=""/>
          <p:cNvPicPr/>
          <p:nvPr/>
        </p:nvPicPr>
        <p:blipFill>
          <a:blip r:embed="rId2"/>
          <a:stretch/>
        </p:blipFill>
        <p:spPr>
          <a:xfrm>
            <a:off x="2857680" y="4500720"/>
            <a:ext cx="2714400" cy="217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6:54:24Z</dcterms:created>
  <dc:creator>Admin</dc:creator>
  <dc:description/>
  <dc:language>en-US</dc:language>
  <cp:lastModifiedBy>LEGION</cp:lastModifiedBy>
  <dcterms:modified xsi:type="dcterms:W3CDTF">2015-01-27T13:43:57Z</dcterms:modified>
  <cp:revision>82</cp:revision>
  <dc:subject/>
  <dc:title>В стране невыученных уроков</dc:title>
</cp:coreProperties>
</file>