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190E2-4CF6-43F6-9B97-6673E531E1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9A936-A0F1-408C-84A1-1DC6EE1116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C5578-66D3-4578-BA51-C38218F4A0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43A69-0A93-4CC0-BCF7-844EEA64AA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одить примеры тел и веществ, твердых тел, жидкостей и газов, действий э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ПС «Кирилл и Мефодий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ять особенности хвойных и цветковых растений; животных, гри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5981C-DA5D-49EF-9743-0C9D7C51AE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оду определять век, место события в прош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те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плакаты, к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77E08-9C92-45CA-B257-38A872990E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87754-920F-4B7B-9076-7AEAAF90FF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D95AA-3787-419D-9E22-CB7EE4128E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для реализации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ржки из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УМК Школа 2100 для реализации ФГ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Лебедевой Л.А. для реализации ФГОС второго поколения с помощью современных образовательных технологий (И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материал и задания учебника, нацеленные на 1-ю линию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0B657-8FC3-477E-A23F-175496FA53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B38E0-1BEA-4499-A1E7-968BB494B9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42F9E-8BA1-496A-826B-90165347F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FF0B2-A42B-4CA7-B545-53BCBD7B7B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1EF54-CC36-4194-88F0-3B57419C08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ироваться в своей системе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вать новые 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батывать полученную информа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ртуальные экскур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разовывать информацию из одной формы в друг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мио-проек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F8A55-D292-48E3-A865-C3431DE74F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F3AB-E617-486E-982E-0C089A32D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FDDC-52A0-47DD-B41C-B928E0B2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AA54-AE5A-4146-8F62-FADB4DD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3090-AA4E-4C6C-9029-C3DE843C50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0B744-1E9A-43F1-87CC-5E91E3EDB7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68405-187E-44DA-BF23-33BA7046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E7F6A-349B-4925-A449-9B044163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95A31-FDF9-4472-9611-7C681432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5DCD6-65B1-4155-8249-4E8AE2E5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8611F-A6D2-4BF7-B362-18F8C697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0E6A4-16E1-4A21-A098-38E820D3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C075-9092-4F19-8DE4-17BF0921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C4F23-0728-4264-B651-8BE7F4E8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EF4D5-B4ED-4791-A84E-30C3BC90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45327-B991-4B6F-8C38-620C1E4E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BA19A-43E0-42EE-8794-B5E70426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4AFEC-347A-40B5-A696-B8A7BBF84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7449-532C-4B77-BF83-8A555FC3E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60FD-285B-4CE3-804F-036A919B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ED5B-7AE9-4F8E-AAA0-925120D4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9878-BC7B-46C9-8F0D-F8BFA6C2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9A99-B5FA-4DDB-B4BF-F6BBA19C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E7DE-02EB-4575-9221-1BCABAD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BB80-54DF-4725-B0B4-0E7288D4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8820-2489-4479-851A-A997AB56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749E-687A-4161-B79B-090C395D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E38C-32FE-4981-84DF-76577E9C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9781-832F-4CFE-BB0A-BB0447F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4247-DEAB-4D47-9D80-FEE9342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45BA-F4A0-460F-A91E-0B9A505B59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C068A-E0C3-4FE5-8422-659C10F6C9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186D0-1766-46E8-B700-4C253BD8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8F42C-EFDF-4144-9606-F718A39B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B1BC-B882-4E53-A7BC-4F314623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46230-56C8-48FB-A655-35ED3E0F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2CC01-29D2-47B2-B64B-4DEEE6A4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82216-1071-47FA-88B6-32114D5C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CDE06-6353-43BD-9B08-99BD287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F6F60-A112-4F99-A3EE-5F17B4DC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09469-3BAC-419D-9972-5CCF7FF3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65A9B-3E4A-4F67-B0D1-EE1D6378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FF76D-52BD-4D5B-9BB1-2CE25858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FC51F-433D-4EEF-A304-30E530122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D93F9-049D-44BC-88E6-1D25AB6C46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609B-BC0E-42AD-9AC7-8A05B980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E1542-43CE-45BF-8961-76CDACC8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06D024-D361-4BC3-9093-C855F258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90D8E-4E12-47FC-BCB8-32091837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D23B4-B016-4BD2-9B5E-821E53ED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64A10-3F84-4F80-ACD5-5E7216EE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0158D0-E224-4C3E-BA21-EEE00308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5E1B8-3EE9-4661-9F4B-94D9BDA5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DE305-7962-4E07-B016-1DF25F6A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DCE88-1754-456F-A2DD-B8ECE04A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89279F-2890-4317-B612-C5DF2F5B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0FE3-2327-4662-BEB5-31FD9EB3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AE966-FC77-4C61-B9CF-97B2084FEC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5306-DCBA-48FC-9196-7BBB836A1B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6D86-AC05-491B-8605-341952BC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C8F1-FD76-45C9-A76E-3DCDE038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0BC1-7A77-4038-B741-88DD9B66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BE9D-2998-4776-B9B7-5D1B8930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398F-F5BB-4CB5-9E9B-1E6AF55A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B012-A4A0-49A7-9782-F6DA93E7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2325F-1F19-40F6-B51A-B4A42048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99DA-6AED-4CF8-9AD0-229389B5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74DF-9AD7-47DD-97A6-A4232EF0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1BC2-2B78-4ABF-8533-29107599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6166E-36B9-430F-ACF8-45244501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9F2D8-480D-4188-924C-63FEA78030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37BDA-1B23-426D-AEE9-BA34679FA3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0D1C4-CFE7-45E6-ABB3-76EBE0D2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415A8-A3B3-4051-9E92-FCFA3509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1EC50-91E5-4016-AF88-3EB653FB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4EC7E-8578-4490-BD1F-A7ED3F01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9EC17-B5DE-467B-8854-A9720C23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EC255-7334-4FBD-BDFE-84A43417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A007-9720-4C31-987F-64B6759F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46414-206C-4552-8512-CF048D0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D5832-BFAE-4D40-BB14-C514457A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F27B3-A131-4FCD-B617-CE62088F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8540B-CE11-4A6C-BF10-152AAE75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8ACF2-7C07-4C7B-A486-43EB04CC57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5BA9A-551A-442F-8663-24DA5835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68AC8-0622-43AC-B72D-BDBC16E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1C1F9-8AA1-4090-9B17-D5E0638B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78C13-5859-4AD3-898C-37FA8AAC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D77E2-4BB7-4A40-8444-658B8BB0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C13A5-4F93-4ABD-A16E-84A43EAA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C5346-667D-40A3-867C-EDA54775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A756F-24A7-4B68-9AFA-393C666E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C47C4-CE58-4A45-ADFE-3335F14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366D0-B071-46D6-9A79-EEF2B20F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FD6D0-77A5-44E8-9E67-F3A57639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413C0-A98F-4997-A799-40492ADC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45BF0-9C6A-4DBB-A2A1-13ED7F9E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22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F8461-72BB-4B8F-AE29-A7E7001C1F2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8E7624-DA90-405B-87BF-698C48EED9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37716C-5D5D-4E91-B9B9-97DCC3B5FDD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B765A7-F2BE-4C0F-9C18-6A4F3883958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0EBC0C-21AA-47F0-8A71-452DDBAEA4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22B112-1316-4B2E-AC32-90EF01A668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D04E2A-5B82-4AE0-BADF-7DA1AD31F2E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06.1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E1C545-5B09-491A-8F36-83C52B420E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2" name="Text Box 1"/>
          <p:cNvSpPr/>
          <p:nvPr/>
        </p:nvSpPr>
        <p:spPr>
          <a:xfrm>
            <a:off x="1357200" y="3071880"/>
            <a:ext cx="6500880" cy="1500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000080" y="2858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У «Средняя общеобразовательная школа № 61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род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071800" y="51436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Лебедева Любовь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357200" y="2286000"/>
            <a:ext cx="6858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786040" y="6286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1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03D7B-69D8-4631-B5AC-19C362801E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1357200"/>
          <a:ext cx="6715080" cy="5072040"/>
        </p:xfrm>
        <a:graphic>
          <a:graphicData uri="http://schemas.openxmlformats.org/drawingml/2006/table">
            <a:tbl>
              <a:tblPr/>
              <a:tblGrid>
                <a:gridCol w="3357720"/>
                <a:gridCol w="3357360"/>
              </a:tblGrid>
              <a:tr h="267336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риводить примеры тел и веществ, твердых тел, жидкостей и газов, действий эн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ПС «Кирилл и Мефод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23986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еречислять особенности хвойных и цветковых растений; животных, гри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4786200" y="200988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476360" cy="1714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"/>
          <p:cNvPicPr/>
          <p:nvPr/>
        </p:nvPicPr>
        <p:blipFill>
          <a:blip r:embed="rId4"/>
          <a:stretch/>
        </p:blipFill>
        <p:spPr>
          <a:xfrm>
            <a:off x="5786280" y="3835440"/>
            <a:ext cx="2157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8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D4A72-44ED-4A35-92AD-113DB7D1C3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143000" y="1428840"/>
          <a:ext cx="6643800" cy="4930560"/>
        </p:xfrm>
        <a:graphic>
          <a:graphicData uri="http://schemas.openxmlformats.org/drawingml/2006/table">
            <a:tbl>
              <a:tblPr/>
              <a:tblGrid>
                <a:gridCol w="3322800"/>
                <a:gridCol w="3321000"/>
              </a:tblGrid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о году определять век, место события в прошл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тес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</a:tr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плакаты, ка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81" name="Picture 8" descr=""/>
          <p:cNvPicPr/>
          <p:nvPr/>
        </p:nvPicPr>
        <p:blipFill>
          <a:blip r:embed="rId2"/>
          <a:stretch/>
        </p:blipFill>
        <p:spPr>
          <a:xfrm>
            <a:off x="4786200" y="4572000"/>
            <a:ext cx="2643480" cy="1797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"/>
          <p:cNvPicPr/>
          <p:nvPr/>
        </p:nvPicPr>
        <p:blipFill>
          <a:blip r:embed="rId4"/>
          <a:stretch/>
        </p:blipFill>
        <p:spPr>
          <a:xfrm>
            <a:off x="2000160" y="2428920"/>
            <a:ext cx="17146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5" name="Text Box 1"/>
          <p:cNvSpPr/>
          <p:nvPr/>
        </p:nvSpPr>
        <p:spPr>
          <a:xfrm>
            <a:off x="1357200" y="1996920"/>
            <a:ext cx="7467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9DBE1-A892-40A6-AA37-D9A85B03F4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A1B2A-4D7F-4A1F-AD1A-E2A750BC3A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2261880" cy="17859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1357200" y="15001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"/>
              </a:rPr>
              <a:t>ИК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357720" y="2571840"/>
            <a:ext cx="785520" cy="20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>
              <a:alpha val="81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3"/>
          <a:stretch/>
        </p:blipFill>
        <p:spPr>
          <a:xfrm>
            <a:off x="4143240" y="2143080"/>
            <a:ext cx="379440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7"/>
          <p:cNvSpPr/>
          <p:nvPr/>
        </p:nvSpPr>
        <p:spPr>
          <a:xfrm>
            <a:off x="4505400" y="3341520"/>
            <a:ext cx="181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Text Box 1"/>
          <p:cNvSpPr/>
          <p:nvPr/>
        </p:nvSpPr>
        <p:spPr>
          <a:xfrm>
            <a:off x="571680" y="214200"/>
            <a:ext cx="79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Использование ИКТ для реализации ФГОС второго поко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141FD-11D1-4000-BEAD-C2D3A89C84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928800" y="1800360"/>
          <a:ext cx="7215120" cy="4440240"/>
        </p:xfrm>
        <a:graphic>
          <a:graphicData uri="http://schemas.openxmlformats.org/drawingml/2006/table">
            <a:tbl>
              <a:tblPr/>
              <a:tblGrid>
                <a:gridCol w="1700280"/>
                <a:gridCol w="2190600"/>
                <a:gridCol w="3324240"/>
              </a:tblGrid>
              <a:tr h="246672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держки из ФГОС второго поко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УМК Школа 2100 для реализации ФГ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Лебедевой Л.А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я реализации ФГОС второго поколения с помощью современных образовательных технологий (ИК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7352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ебный материал и задания учебн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нацеленные на 1-ю линию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10" descr=""/>
          <p:cNvPicPr/>
          <p:nvPr/>
        </p:nvPicPr>
        <p:blipFill>
          <a:blip r:embed="rId2"/>
          <a:stretch/>
        </p:blipFill>
        <p:spPr>
          <a:xfrm>
            <a:off x="5786280" y="4929120"/>
            <a:ext cx="148284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1" name="Text Box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ACB67-5B07-4D76-B0F4-976BEED97D3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000080" y="357120"/>
            <a:ext cx="7072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857920" cy="4705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5" name="Text Box 1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BCBE8-B250-4165-AD68-5907288A90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57200" y="1214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57200" y="3714840"/>
          <a:ext cx="6429600" cy="2647800"/>
        </p:xfrm>
        <a:graphic>
          <a:graphicData uri="http://schemas.openxmlformats.org/drawingml/2006/table">
            <a:tbl>
              <a:tblPr/>
              <a:tblGrid>
                <a:gridCol w="1857600"/>
                <a:gridCol w="2214360"/>
                <a:gridCol w="2357640"/>
              </a:tblGrid>
              <a:tr h="69984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зентаци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wer Po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фраг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 из жизни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479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1500120" y="4500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3286080" y="4572000"/>
            <a:ext cx="1928880" cy="1616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"/>
          <p:cNvPicPr/>
          <p:nvPr/>
        </p:nvPicPr>
        <p:blipFill>
          <a:blip r:embed="rId4"/>
          <a:stretch/>
        </p:blipFill>
        <p:spPr>
          <a:xfrm>
            <a:off x="5500800" y="4572000"/>
            <a:ext cx="20700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Rectangle 1"/>
          <p:cNvSpPr/>
          <p:nvPr/>
        </p:nvSpPr>
        <p:spPr>
          <a:xfrm>
            <a:off x="4714920" y="2071800"/>
            <a:ext cx="385776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571680" y="2071800"/>
            <a:ext cx="385740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14240" y="285840"/>
            <a:ext cx="7467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EEC37-AEFA-4319-A2F0-AC22AC397A8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78588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786200" y="2071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2357280" y="3071880"/>
            <a:ext cx="4067280" cy="32860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>
            <a:off x="114300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442908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3" name="Text Box 1"/>
          <p:cNvSpPr/>
          <p:nvPr/>
        </p:nvSpPr>
        <p:spPr>
          <a:xfrm>
            <a:off x="2214720" y="428760"/>
            <a:ext cx="52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71720" y="1357200"/>
            <a:ext cx="48290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B45FD-F9B8-40E7-B215-B7DE837D69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214720" cy="197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500720" y="3786120"/>
            <a:ext cx="2822400" cy="2033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428840" y="4429080"/>
            <a:ext cx="292896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3143160" y="5000760"/>
            <a:ext cx="11494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1" name="Text Box 1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92273-16FB-4826-8B18-5676AF1F85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4280" y="857160"/>
          <a:ext cx="6715440" cy="5649840"/>
        </p:xfrm>
        <a:graphic>
          <a:graphicData uri="http://schemas.openxmlformats.org/drawingml/2006/table">
            <a:tbl>
              <a:tblPr/>
              <a:tblGrid>
                <a:gridCol w="2928960"/>
                <a:gridCol w="3786480"/>
              </a:tblGrid>
              <a:tr h="214308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своей системе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198612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ть новые зн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батывать полученную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ые 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  <a:tr h="152064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ывать информацию из одной формы в другу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мио-проек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n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54" name="Picture 10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2000520" cy="1601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3"/>
          <a:stretch/>
        </p:blipFill>
        <p:spPr>
          <a:xfrm>
            <a:off x="5357880" y="3357720"/>
            <a:ext cx="1982880" cy="1585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2"/>
          <p:cNvSpPr/>
          <p:nvPr/>
        </p:nvSpPr>
        <p:spPr>
          <a:xfrm>
            <a:off x="5357880" y="5500800"/>
            <a:ext cx="19288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3" descr=""/>
          <p:cNvPicPr/>
          <p:nvPr/>
        </p:nvPicPr>
        <p:blipFill>
          <a:blip r:embed="rId4"/>
          <a:stretch/>
        </p:blipFill>
        <p:spPr>
          <a:xfrm>
            <a:off x="6072120" y="5857920"/>
            <a:ext cx="728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9" name="Rectangle 1"/>
          <p:cNvSpPr/>
          <p:nvPr/>
        </p:nvSpPr>
        <p:spPr>
          <a:xfrm>
            <a:off x="642960" y="2071800"/>
            <a:ext cx="357192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00720" y="2071800"/>
            <a:ext cx="371448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9645E-15B0-4BCD-B746-ACA5F0FA9D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712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Обитатели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357800" y="20718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Моё Оте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143000" y="29289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1214280" y="3432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357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4786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2"/>
          <a:stretch/>
        </p:blipFill>
        <p:spPr>
          <a:xfrm>
            <a:off x="2857680" y="4500720"/>
            <a:ext cx="27144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6:54:24Z</dcterms:created>
  <dc:creator>Admin</dc:creator>
  <dc:description/>
  <dc:language>en-US</dc:language>
  <cp:lastModifiedBy>LEGION</cp:lastModifiedBy>
  <dcterms:modified xsi:type="dcterms:W3CDTF">2015-01-27T13:43:57Z</dcterms:modified>
  <cp:revision>82</cp:revision>
  <dc:subject/>
  <dc:title>В стране невыученных уроков</dc:title>
</cp:coreProperties>
</file>