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2BFA-F64E-4F52-B959-E80532F223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Правовая норма. Источник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9B07-F8B4-4A62-9455-533B780AA9C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понят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основными правовыми норм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источник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752A-2971-4670-852E-9A275B4BA44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универсальный регулятор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вая нор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ипотеза, диспозиция, санк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C2E3-EEA3-4292-8784-B9DD6AC27BF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испол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рованность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33F2-149C-4300-9C25-EB2DB04187C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ормативные акты,   прецеденты, правовые обычаи и правовые до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7558-2609-4AD8-B3C1-F36A04CD704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ового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и соблюд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правовая культура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FE39-16B4-476A-AD71-9F102573F93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395-A250-46CA-A647-4AA97EDD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C19-35B6-409D-AF48-B74ED05F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1E8-BD62-406B-95D1-8E29366F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8D5-88FB-4E98-A740-2686D864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1D40-B649-4B8E-90D2-5BB3D770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3316-645E-4E76-BDE4-23F55094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9313-6849-4252-BBFD-8C451988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C93B-F1C7-4581-B125-80539431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F31E-4805-49E6-BC15-4B6A2F1C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7ECB-41DE-483F-BB23-72F546F8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82C1-3040-42A6-ADA3-5AA693B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528-8CB8-42E0-97E5-19297934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7B11-93C0-4740-8874-616E7D56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AF5D-3775-4B38-8B47-A65700AE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9277-F194-4EF8-AF4B-23C24749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2497-6D97-4C14-8D92-333267D2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C9B7-ECED-4E63-A164-198D4654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5DE-367A-449B-A4AA-90EF816F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BDA-05C5-4701-A35A-972BE6B8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6CB-2A3A-4865-91EE-97E53443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E95-0B09-4E8F-9855-65703ED3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A60-7E54-4F3B-B2A1-EBB010D6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43B-6670-43A3-B8E6-B87E7C15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81D-BF72-4BA9-8E2D-1193BAF5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9038-6CA9-4B78-AB48-9FEF7A8440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8A96-ACE9-45AD-8A39-E8CE4DA288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онятие права. Правовая норма. Источники права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ть определение понятия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знакомиться с основными правовыми норм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ить источники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универсальный регулятор общественных отно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вая норм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гипотеза, диспозиция, санкц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-1479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7" name="Organization Chart 6"/>
          <p:cNvGrpSpPr/>
          <p:nvPr/>
        </p:nvGrpSpPr>
        <p:grpSpPr>
          <a:xfrm>
            <a:off x="431640" y="907920"/>
            <a:ext cx="8208360" cy="5140080"/>
            <a:chOff x="431640" y="907920"/>
            <a:chExt cx="8208360" cy="51400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57960" y="204048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36000" y="2963160"/>
              <a:ext cx="3600" cy="102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585160" y="204084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304440" y="90792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норм права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316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Управомачи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3044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язы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17760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прещ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7" name="Diagram 7"/>
          <p:cNvGrpSpPr/>
          <p:nvPr/>
        </p:nvGrpSpPr>
        <p:grpSpPr>
          <a:xfrm>
            <a:off x="1319400" y="410760"/>
            <a:ext cx="6432480" cy="5611680"/>
            <a:chOff x="1319400" y="410760"/>
            <a:chExt cx="6432480" cy="5611680"/>
          </a:xfrm>
        </p:grpSpPr>
        <p:sp>
          <p:nvSpPr>
            <p:cNvPr id="118" name="_s2052"/>
            <p:cNvSpPr/>
            <p:nvPr/>
          </p:nvSpPr>
          <p:spPr>
            <a:xfrm flipH="1" flipV="1">
              <a:off x="3382560" y="2073240"/>
              <a:ext cx="68220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3"/>
            <p:cNvSpPr/>
            <p:nvPr/>
          </p:nvSpPr>
          <p:spPr>
            <a:xfrm>
              <a:off x="2181960" y="9291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2054"/>
            <p:cNvSpPr/>
            <p:nvPr/>
          </p:nvSpPr>
          <p:spPr>
            <a:xfrm flipH="1" flipV="1">
              <a:off x="2770920" y="3009240"/>
              <a:ext cx="1042920" cy="16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2055"/>
            <p:cNvSpPr/>
            <p:nvPr/>
          </p:nvSpPr>
          <p:spPr>
            <a:xfrm>
              <a:off x="131940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2056"/>
            <p:cNvSpPr/>
            <p:nvPr/>
          </p:nvSpPr>
          <p:spPr>
            <a:xfrm flipH="1">
              <a:off x="2985840" y="3604680"/>
              <a:ext cx="915840" cy="46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161928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ждународ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 flipH="1">
              <a:off x="3924000" y="3889080"/>
              <a:ext cx="360720" cy="87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2059"/>
            <p:cNvSpPr/>
            <p:nvPr/>
          </p:nvSpPr>
          <p:spPr>
            <a:xfrm>
              <a:off x="29397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_s2060"/>
            <p:cNvSpPr/>
            <p:nvPr/>
          </p:nvSpPr>
          <p:spPr>
            <a:xfrm>
              <a:off x="4784400" y="3889080"/>
              <a:ext cx="362880" cy="8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2061"/>
            <p:cNvSpPr/>
            <p:nvPr/>
          </p:nvSpPr>
          <p:spPr>
            <a:xfrm>
              <a:off x="46623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2062"/>
            <p:cNvSpPr/>
            <p:nvPr/>
          </p:nvSpPr>
          <p:spPr>
            <a:xfrm>
              <a:off x="5166720" y="3604680"/>
              <a:ext cx="915840" cy="46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_s2063"/>
            <p:cNvSpPr/>
            <p:nvPr/>
          </p:nvSpPr>
          <p:spPr>
            <a:xfrm>
              <a:off x="598284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министрати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2064"/>
            <p:cNvSpPr/>
            <p:nvPr/>
          </p:nvSpPr>
          <p:spPr>
            <a:xfrm flipV="1">
              <a:off x="5254560" y="3006720"/>
              <a:ext cx="103752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_s2065"/>
            <p:cNvSpPr/>
            <p:nvPr/>
          </p:nvSpPr>
          <p:spPr>
            <a:xfrm>
              <a:off x="628272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емей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2066"/>
            <p:cNvSpPr/>
            <p:nvPr/>
          </p:nvSpPr>
          <p:spPr>
            <a:xfrm flipV="1">
              <a:off x="5003640" y="2073240"/>
              <a:ext cx="67716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_s2067"/>
            <p:cNvSpPr/>
            <p:nvPr/>
          </p:nvSpPr>
          <p:spPr>
            <a:xfrm>
              <a:off x="5420160" y="9313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руд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 flipV="1">
              <a:off x="4533480" y="1705680"/>
              <a:ext cx="0" cy="93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_s2069"/>
            <p:cNvSpPr/>
            <p:nvPr/>
          </p:nvSpPr>
          <p:spPr>
            <a:xfrm>
              <a:off x="3799800" y="4107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_s2070"/>
            <p:cNvSpPr/>
            <p:nvPr/>
          </p:nvSpPr>
          <p:spPr>
            <a:xfrm>
              <a:off x="3799800" y="263700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расль прав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рмативный характер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язательность испол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рованность государств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ногократность приме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Источники прав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– нормативные акты,   прецеденты, правовые обычаи и правовые договоры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431640" y="1700280"/>
            <a:ext cx="8208360" cy="4349160"/>
            <a:chOff x="431640" y="1700280"/>
            <a:chExt cx="8208360" cy="4349160"/>
          </a:xfrm>
        </p:grpSpPr>
        <p:cxnSp>
          <p:nvCxnSpPr>
            <p:cNvPr id="143" name="_s3076"/>
            <p:cNvCxnSpPr>
              <a:stCxn id="144" idx="1"/>
              <a:endCxn id="145" idx="2"/>
            </p:cNvCxnSpPr>
            <p:nvPr/>
          </p:nvCxnSpPr>
          <p:spPr>
            <a:xfrm rot="10800000">
              <a:off x="1879200" y="2211120"/>
              <a:ext cx="2173680" cy="358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3077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6218280" y="3797280"/>
              <a:ext cx="255960" cy="169020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8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4528800" y="3796920"/>
              <a:ext cx="255960" cy="169092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3079"/>
            <p:cNvCxnSpPr>
              <a:stCxn id="148" idx="1"/>
              <a:endCxn id="145" idx="2"/>
            </p:cNvCxnSpPr>
            <p:nvPr/>
          </p:nvCxnSpPr>
          <p:spPr>
            <a:xfrm rot="10800000">
              <a:off x="1879200" y="2211120"/>
              <a:ext cx="2173680" cy="204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3080"/>
            <p:cNvCxnSpPr>
              <a:stCxn id="153" idx="1"/>
              <a:endCxn id="145" idx="2"/>
            </p:cNvCxnSpPr>
            <p:nvPr/>
          </p:nvCxnSpPr>
          <p:spPr>
            <a:xfrm rot="10800000">
              <a:off x="1879200" y="2211120"/>
              <a:ext cx="2173680" cy="128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3081"/>
            <p:cNvCxnSpPr>
              <a:stCxn id="155" idx="1"/>
              <a:endCxn id="145" idx="2"/>
            </p:cNvCxnSpPr>
            <p:nvPr/>
          </p:nvCxnSpPr>
          <p:spPr>
            <a:xfrm rot="10800000">
              <a:off x="1879200" y="2211120"/>
              <a:ext cx="2173680" cy="51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3082"/>
            <p:cNvSpPr/>
            <p:nvPr/>
          </p:nvSpPr>
          <p:spPr>
            <a:xfrm>
              <a:off x="431640" y="17002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точники пра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3083"/>
            <p:cNvSpPr/>
            <p:nvPr/>
          </p:nvSpPr>
          <p:spPr>
            <a:xfrm>
              <a:off x="4053240" y="246780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ыча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3084"/>
            <p:cNvSpPr/>
            <p:nvPr/>
          </p:nvSpPr>
          <p:spPr>
            <a:xfrm>
              <a:off x="4053240" y="323532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говор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3085"/>
            <p:cNvSpPr/>
            <p:nvPr/>
          </p:nvSpPr>
          <p:spPr>
            <a:xfrm>
              <a:off x="4053240" y="400284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рматив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3086"/>
            <p:cNvSpPr/>
            <p:nvPr/>
          </p:nvSpPr>
          <p:spPr>
            <a:xfrm>
              <a:off x="236304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он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3087"/>
            <p:cNvSpPr/>
            <p:nvPr/>
          </p:nvSpPr>
          <p:spPr>
            <a:xfrm>
              <a:off x="574308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дзакон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_s3088"/>
            <p:cNvSpPr/>
            <p:nvPr/>
          </p:nvSpPr>
          <p:spPr>
            <a:xfrm>
              <a:off x="4053240" y="55378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Юридические прецеден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ового государст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ерховенство зако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деление влас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и соблюдения прав челове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ая правовая культура насе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58:21Z</dcterms:created>
  <dc:creator>МАКС</dc:creator>
  <dc:description/>
  <dc:language>en-US</dc:language>
  <cp:lastModifiedBy>LEGION</cp:lastModifiedBy>
  <dcterms:modified xsi:type="dcterms:W3CDTF">2015-01-28T08:17:42Z</dcterms:modified>
  <cp:revision>5</cp:revision>
  <dc:subject/>
  <dc:title>Понятие права. Правовая норма. Источники права.</dc:title>
</cp:coreProperties>
</file>