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C419-39B9-4E04-AA12-D6F9010EAC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Правовая норма. Источник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92CB-CC69-4066-8866-8CDD75C66E7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понят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основными правовыми норм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источник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6D77-791C-4791-BD45-746E569E5D6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универсальный регулятор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вая нор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ипотеза, диспозиция, санк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7C6F-08F6-43B6-9FC1-63C9E81D4D5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испол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рованность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F0E8-465A-433C-B218-CA2B669561E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ормативные акты,   прецеденты, правовые обычаи и правовые до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4F1D-855F-40F7-BE02-4EC325FB653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ового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и соблюд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правовая культура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2D64-22B2-48F8-8C1B-675A32C2CBB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E2F-9253-4C9B-A014-BC5DC36A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DFF-9259-431F-9CD0-83485FDA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4A1-DEB3-4623-BFF8-DD2FD0CA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8C0-ADB4-4E14-BD3B-E277F5E9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AB80-B594-4CEF-BCE4-1FC35149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9B42-CBE1-4047-8840-FC89EDF1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638C-C082-43E7-BA14-F69BEA63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FEB8-2718-4BE3-B4CA-8E36D20B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6C5B-3FF4-46C2-A24D-4D45D462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7B25-EB47-4B8B-BF38-79869C9C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56A0-8C60-41E4-A663-0B5F0E3E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2D7-9C3F-4A46-B806-797E5E2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6011-B941-400C-A327-F71759D8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90E6-948C-4CF8-8E3C-84B1E6D6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82F-80B1-436A-83B7-8AE15CD1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0F25-9113-4EE5-AA89-1D58E9FE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74BE-63CF-4D02-8860-ED4A93CD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FEC-53F8-4AF4-8396-C3A58D20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BC3-542C-425B-86F6-49B76B6F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A98-7E80-443A-B077-125FDF03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97F-9A59-41ED-97A9-0F1279BE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ADF-DCEF-41AF-941C-BABB67A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3C7-86CD-49A0-AE40-6BC35B6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580-247E-4471-A252-610ADAA6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AD3B-140B-4E2F-9E06-323045FE0D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AAD8-587D-4F6B-88E5-AF8F7E44DA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онятие права. Правовая норма. Источники права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ь определение понятия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знакомиться с основными правовыми норм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источники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универсальный регулятор общественных 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вая норм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ипотеза, диспозиция, санкц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-1479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431640" y="907920"/>
            <a:ext cx="8208360" cy="5140080"/>
            <a:chOff x="431640" y="907920"/>
            <a:chExt cx="8208360" cy="51400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57960" y="204048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6000" y="2963160"/>
              <a:ext cx="3600" cy="10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585160" y="204084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04440" y="90792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норм права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316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правомачи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044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язы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7760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прещ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7" name="Diagram 7"/>
          <p:cNvGrpSpPr/>
          <p:nvPr/>
        </p:nvGrpSpPr>
        <p:grpSpPr>
          <a:xfrm>
            <a:off x="1319400" y="410760"/>
            <a:ext cx="6432480" cy="5611680"/>
            <a:chOff x="1319400" y="410760"/>
            <a:chExt cx="6432480" cy="561168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382560" y="2073240"/>
              <a:ext cx="68220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2181960" y="9291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770920" y="3009240"/>
              <a:ext cx="1042920" cy="1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131940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985840" y="3604680"/>
              <a:ext cx="915840" cy="46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161928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ждународ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924000" y="3889080"/>
              <a:ext cx="360720" cy="87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9397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784400" y="3889080"/>
              <a:ext cx="362880" cy="8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6623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166720" y="3604680"/>
              <a:ext cx="915840" cy="46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598284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254560" y="3006720"/>
              <a:ext cx="103752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28272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003640" y="2073240"/>
              <a:ext cx="67716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420160" y="9313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уд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33480" y="1705680"/>
              <a:ext cx="0" cy="93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799800" y="4107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799800" y="263700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расль прав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рмативный характе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язательность испол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рованность государств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огократность приме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Источники пра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нормативные акты,   прецеденты, правовые обычаи и правовые договор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431640" y="1700280"/>
            <a:ext cx="8208360" cy="4349160"/>
            <a:chOff x="431640" y="1700280"/>
            <a:chExt cx="8208360" cy="434916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1879200" y="2211120"/>
              <a:ext cx="2173680" cy="358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18280" y="3797280"/>
              <a:ext cx="255960" cy="169020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528800" y="3796920"/>
              <a:ext cx="255960" cy="169092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9"/>
            <p:cNvCxnSpPr>
              <a:stCxn id="148" idx="1"/>
              <a:endCxn id="145" idx="2"/>
            </p:cNvCxnSpPr>
            <p:nvPr/>
          </p:nvCxnSpPr>
          <p:spPr>
            <a:xfrm rot="10800000">
              <a:off x="1879200" y="2211120"/>
              <a:ext cx="2173680" cy="204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80"/>
            <p:cNvCxnSpPr>
              <a:stCxn id="153" idx="1"/>
              <a:endCxn id="145" idx="2"/>
            </p:cNvCxnSpPr>
            <p:nvPr/>
          </p:nvCxnSpPr>
          <p:spPr>
            <a:xfrm rot="10800000">
              <a:off x="1879200" y="2211120"/>
              <a:ext cx="217368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1"/>
            <p:cNvCxnSpPr>
              <a:stCxn id="155" idx="1"/>
              <a:endCxn id="145" idx="2"/>
            </p:cNvCxnSpPr>
            <p:nvPr/>
          </p:nvCxnSpPr>
          <p:spPr>
            <a:xfrm rot="10800000">
              <a:off x="1879200" y="2211120"/>
              <a:ext cx="2173680" cy="51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82"/>
            <p:cNvSpPr/>
            <p:nvPr/>
          </p:nvSpPr>
          <p:spPr>
            <a:xfrm>
              <a:off x="431640" y="17002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точники пра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4053240" y="246780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3084"/>
            <p:cNvSpPr/>
            <p:nvPr/>
          </p:nvSpPr>
          <p:spPr>
            <a:xfrm>
              <a:off x="4053240" y="323532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гово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5"/>
            <p:cNvSpPr/>
            <p:nvPr/>
          </p:nvSpPr>
          <p:spPr>
            <a:xfrm>
              <a:off x="4053240" y="400284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тив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6"/>
            <p:cNvSpPr/>
            <p:nvPr/>
          </p:nvSpPr>
          <p:spPr>
            <a:xfrm>
              <a:off x="236304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7"/>
            <p:cNvSpPr/>
            <p:nvPr/>
          </p:nvSpPr>
          <p:spPr>
            <a:xfrm>
              <a:off x="574308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дзакон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4053240" y="55378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Юридические прецеден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ового государст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ерховенство зак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деление вла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и соблюдения прав чело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ая правовая культура насе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58:21Z</dcterms:created>
  <dc:creator>МАКС</dc:creator>
  <dc:description/>
  <dc:language>en-US</dc:language>
  <cp:lastModifiedBy>LEGION</cp:lastModifiedBy>
  <dcterms:modified xsi:type="dcterms:W3CDTF">2015-01-28T08:17:42Z</dcterms:modified>
  <cp:revision>5</cp:revision>
  <dc:subject/>
  <dc:title>Понятие права. Правовая норма. Источники права.</dc:title>
</cp:coreProperties>
</file>