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B7B0-8B99-4CC7-9D41-FF1477475D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Правовая норма. Источник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F457-EBBB-446B-A527-86D7B40501B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понят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основными правовыми норм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источник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0F8E-3AA0-485D-B445-8AAB3CE5660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универсальный регулятор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вая нор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ипотеза, диспозиция, санк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84C1-5F45-4A7E-A15C-BD68CD8941B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испол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рованность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C28-DE5A-42FC-B661-7503435741F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ормативные акты,   прецеденты, правовые обычаи и правовые до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5FAB-FA6D-4054-BD2B-4C0DCADC5A7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ового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и соблюд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правовая культура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2BA-1E31-47F5-9F71-A627B19E66E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C53-56CE-4EDE-8599-3C1BA1B6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104-4F0D-413A-8D45-AEDC581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B7C-B19E-4545-B2FA-1F426CEE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836-160E-4AE1-98C8-23AF96B2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4335-BF3B-4EFE-BF7A-279D4FBC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61E8-F87A-47DD-9E3E-C8E21CD8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551A-A8B3-4D58-A056-6DBCA05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795-D03A-4DFD-8470-E719DFED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052B-8C88-4D56-A8D9-BC877E1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6615-C20D-4A7A-B384-D7C677BE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85A4-2090-4497-AD13-60FC46A1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5DF-A828-4D63-B74A-FCA95935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BFBA-CE7F-4270-9D56-5144572C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CE3F-0C18-4522-AAAE-173C47F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C03A-998C-4EBF-9256-264B78D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4967-3332-4254-BDB8-69834945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B274-CB91-4035-8119-6A661B4B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AE7-6669-4928-8C34-1DFA1ED1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3D2-0C1D-4046-9C96-897BCC16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ADD-E327-4B9A-8A8F-9F9A185D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649-997C-4E73-8C43-5D8E79BC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25B-5DD1-4E9A-BC71-B67E688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84E-4A89-43F4-B43B-C6BD256C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92C-A8CB-491C-86F5-600E02C0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7873-563A-403B-BD30-669DF84C04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4F0-4199-4A1C-B0AD-2282630FFA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нятие права. Правовая норма. Источники права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ь определение понятия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знакомиться с основными правовыми норм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источники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универсальный регулятор общественных 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вая норм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ипотеза, диспозиция, санкц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-1479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31640" y="907920"/>
            <a:ext cx="8208360" cy="5140080"/>
            <a:chOff x="431640" y="907920"/>
            <a:chExt cx="8208360" cy="51400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57960" y="204048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6000" y="2963160"/>
              <a:ext cx="3600" cy="10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585160" y="204084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04440" y="90792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норм права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316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правомачи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044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язы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7760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прещ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" name="Diagram 7"/>
          <p:cNvGrpSpPr/>
          <p:nvPr/>
        </p:nvGrpSpPr>
        <p:grpSpPr>
          <a:xfrm>
            <a:off x="1319400" y="410760"/>
            <a:ext cx="6432480" cy="5611680"/>
            <a:chOff x="1319400" y="410760"/>
            <a:chExt cx="6432480" cy="561168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382560" y="2073240"/>
              <a:ext cx="68220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2181960" y="9291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770920" y="3009240"/>
              <a:ext cx="1042920" cy="1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131940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985840" y="3604680"/>
              <a:ext cx="915840" cy="46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161928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ждународ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924000" y="3889080"/>
              <a:ext cx="360720" cy="8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9397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784400" y="3889080"/>
              <a:ext cx="362880" cy="8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6623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166720" y="3604680"/>
              <a:ext cx="915840" cy="46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598284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254560" y="3006720"/>
              <a:ext cx="103752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28272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003640" y="2073240"/>
              <a:ext cx="67716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420160" y="9313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уд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33480" y="1705680"/>
              <a:ext cx="0" cy="93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799800" y="4107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799800" y="263700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расль пра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рмативный характе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язательность испол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рованность государств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кратность приме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Источники пра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нормативные акты,   прецеденты, правовые обычаи и правовые договор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700280"/>
            <a:ext cx="8208360" cy="4349160"/>
            <a:chOff x="431640" y="1700280"/>
            <a:chExt cx="8208360" cy="434916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1879200" y="2211120"/>
              <a:ext cx="2173680" cy="358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18280" y="3797280"/>
              <a:ext cx="255960" cy="169020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28800" y="3796920"/>
              <a:ext cx="255960" cy="169092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9"/>
            <p:cNvCxnSpPr>
              <a:stCxn id="148" idx="1"/>
              <a:endCxn id="145" idx="2"/>
            </p:cNvCxnSpPr>
            <p:nvPr/>
          </p:nvCxnSpPr>
          <p:spPr>
            <a:xfrm rot="10800000">
              <a:off x="1879200" y="2211120"/>
              <a:ext cx="2173680" cy="204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80"/>
            <p:cNvCxnSpPr>
              <a:stCxn id="153" idx="1"/>
              <a:endCxn id="145" idx="2"/>
            </p:cNvCxnSpPr>
            <p:nvPr/>
          </p:nvCxnSpPr>
          <p:spPr>
            <a:xfrm rot="10800000">
              <a:off x="1879200" y="2211120"/>
              <a:ext cx="217368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1"/>
            <p:cNvCxnSpPr>
              <a:stCxn id="155" idx="1"/>
              <a:endCxn id="145" idx="2"/>
            </p:cNvCxnSpPr>
            <p:nvPr/>
          </p:nvCxnSpPr>
          <p:spPr>
            <a:xfrm rot="10800000">
              <a:off x="1879200" y="2211120"/>
              <a:ext cx="2173680" cy="51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82"/>
            <p:cNvSpPr/>
            <p:nvPr/>
          </p:nvSpPr>
          <p:spPr>
            <a:xfrm>
              <a:off x="431640" y="17002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 пра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4053240" y="246780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3084"/>
            <p:cNvSpPr/>
            <p:nvPr/>
          </p:nvSpPr>
          <p:spPr>
            <a:xfrm>
              <a:off x="4053240" y="323532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5"/>
            <p:cNvSpPr/>
            <p:nvPr/>
          </p:nvSpPr>
          <p:spPr>
            <a:xfrm>
              <a:off x="4053240" y="400284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тив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6"/>
            <p:cNvSpPr/>
            <p:nvPr/>
          </p:nvSpPr>
          <p:spPr>
            <a:xfrm>
              <a:off x="236304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7"/>
            <p:cNvSpPr/>
            <p:nvPr/>
          </p:nvSpPr>
          <p:spPr>
            <a:xfrm>
              <a:off x="574308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дзакон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4053240" y="55378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Юридические прецеден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ового государст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ховенство зак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деление вла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и соблюдения прав чело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ая правовая культура насе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58:21Z</dcterms:created>
  <dc:creator>МАКС</dc:creator>
  <dc:description/>
  <dc:language>en-US</dc:language>
  <cp:lastModifiedBy>LEGION</cp:lastModifiedBy>
  <dcterms:modified xsi:type="dcterms:W3CDTF">2015-01-28T08:17:42Z</dcterms:modified>
  <cp:revision>5</cp:revision>
  <dc:subject/>
  <dc:title>Понятие права. Правовая норма. Источники права.</dc:title>
</cp:coreProperties>
</file>