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421F-2A71-472F-8D02-78D8DB02A90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A785-B865-4A7A-988A-FFFBD588AF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E6F0-28E7-4B89-9CF2-C5312085364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2C16-26EE-4AB4-AA13-5D03042951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9ACB-EBBE-47F8-8142-29319A4897C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C578-9D93-4DCA-8B8A-ABC71A150E9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36FE-15E7-416F-87A8-3F043F57D6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91FC-2BEC-42FB-8314-4CDB9907DFF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3069E-41F6-4AE6-84B2-147F0B2A3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D1C6B-392F-422A-9773-1A9FBA7F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B14BC-C26C-4AB2-BD46-D652E1E30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F670C-F67F-42E8-B475-E67AEC430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E44E9-1578-4FB2-9E7D-57C8475B8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429FC-6C2E-48AA-80FC-536F25A3C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C3EC9-61A3-4069-B451-399BAC4D9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ABE64-BCB7-4F8E-8A12-DD0652A1C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C2C63-2DF7-4029-95B9-862E9E377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FDF38-A51A-4342-9A42-52D5B9F4B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89708-297A-4DE6-9A4F-40FECB188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96CE-4546-4B8E-A13B-8AAD6BB5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309C-953E-41AC-886F-0CA06E14F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C1B5-29BC-4831-85B4-640A83775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5A2CE-45E0-4AF4-8445-72C6E5777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D4E1E-D956-4023-B49F-DBF71589E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ABBA1-4727-4B04-87B5-9B575916F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81F134-385B-4A93-BE57-7505872240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909F54-D5C7-4D07-AD1B-512C8B94C2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E361F4-8A25-4D01-9D4F-943761743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F2C177-C2B4-4049-BF3E-8283ACE8C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F96A214-D01F-40D7-B4D4-C0033F513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62D4D-832D-41C3-80BF-38B53AB18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6DDDD2-6CD9-4F0E-9E12-9FA6F403C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A8D775-28AB-4F2A-9162-D4B560A67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AC3BF3-1BA5-4E0B-A966-34DBD443E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F461EE-4C17-4206-9BD5-B3ED462DB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DA9CC6-331C-4ACE-BA10-C65ABB990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08B61B0-5553-4FAB-8E64-015290A46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EB63DB-1D2E-4CEF-9DFB-006DBFEF7A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47E8B-B8BD-4D17-8607-84CEB1857B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3A122-E121-498B-857C-0929036E16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826A9-97E8-4448-B187-517093799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5E699-9037-4F30-88BF-05E3E683C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C02A4-D033-48DC-B7AA-9DE634499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057C5E-4A7C-4E2D-9F86-1BC8C1F393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30CCFF-2D59-49D5-93FC-3360893F7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0A04A-E0DD-4E1E-B17A-5F32EE9E3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F9DAC-15DF-448E-ACAC-58E73291D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37E3C-B353-4834-92F4-47BBC8941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C2819-3875-4200-881D-6302FD47E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337120-D99F-4A14-A9A2-62E5770B5B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6A8045-2D1C-4D09-A145-28146745E8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D1EA95-DD10-4989-BC8D-EEA71A798D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C4690-DF4B-4550-B1C9-48D7F6124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AAB95A-12E5-4DB3-BD1F-B5F8FF151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1C92C1-700D-4108-82D8-BE270BE7F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A251FF-3278-4B9D-8F40-1CB299B12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035207-8163-4C97-A062-CB4C7DF342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199D0F-E7B0-4E59-98C6-9C5EC0EED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ECF95A-2698-43C1-9E6D-728CEE6B9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B4C0FF-AAF4-4DCA-804F-B31F20DB8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6E6D77-1A6A-4F3B-89A5-B0B0EDB10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D821C5-860E-49BF-A464-97D0D669A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C396D29-66BF-40DE-BD2D-56833D9E42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2BE1-7809-4335-8ED4-4ACC3429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F9C08D-0825-4D03-8CD0-E7A8D6014C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05915E7-3622-48C6-B6B9-5F75CB637D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3BDA022-F061-447F-84DA-7DD088E28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04B404-D019-427A-AEF6-B025230C39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83050C-18F2-45DA-AE4F-3C2CEB6AF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54CE9D-2748-4A39-995E-6F995FE8A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3EE835-E6B6-4E0F-93B5-8330A6772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5933F1-6E26-46CF-8A0E-BADFB4275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65F9B4-B905-4070-A455-FA1C61341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C6EDEC-8A77-4AE3-903B-4E82423AB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FF5F-0663-4A8B-B16D-39D772D0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DA61635-1761-4180-A4F1-03555770A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1EFDA1A-32DA-49F6-A597-154DB56A60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D6B648A-C3C4-4282-81D6-EF3CC3D01E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83CDF8-B9C7-4D5E-8732-DB0E21DC52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912B99-CA65-4AD1-80DB-C562A6211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4CC3F90-95C8-4AEA-B539-83A70986F6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A81D09-D219-4C10-8204-253C5DD93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7CF491-11D3-466B-A4F2-C21A1401D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123887-8B79-4DED-8F0D-47206B249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0B72F3-391A-49FD-8E13-820A01C31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AACC-2E65-4284-B439-2CA433DF9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717CDFA-7B79-4FE2-BF11-B20786CDC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59A760-FF6A-4844-887A-2826D95E2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C96F5C0-4006-41BA-ABD7-4A281ADED7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8067C83-8445-4097-A354-E27A8695EF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C0594ED-2C3C-4F42-919D-3353943FDA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4F8C-9D7D-47B8-93EB-E5A37DDB6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0358-4E4A-4FC3-9827-0FA537D8E7C6}"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43C3-D364-4823-BDD4-5202CBCC749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33E2-D028-4F5D-967B-30E88F3A6F25}"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CFD4-577D-4E77-9F91-1595DE50D87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238C-0E65-4F69-87FD-A241985207CE}"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4C27-6E6D-4A78-BD77-D12E67F5719C}"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C9A1-1FD6-454C-AD27-15F5121BC1A0}" type="datetime">
              <a:rPr b="0" lang="en-US" sz="1200" spc="-1" strike="noStrike">
                <a:solidFill>
                  <a:srgbClr val="fff39d"/>
                </a:solidFill>
                <a:latin typeface="Constantia"/>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D574-64BC-4961-B393-94FDF43743F7}"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0859-4476-46A7-9551-EE99D591A331}"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60EF-8129-4B0A-B67B-C6159C3F8D67}"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1DDF-FBD6-48DF-83E5-1C99A366068E}"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8397-437F-4999-AC1A-B04BEFD88683}"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5D51-3B18-42DA-AD46-52C4F71B3EB0}"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4AE8-6059-4295-91DE-D654EC7E3AED}"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