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E9DB-24F2-4A04-A099-8E44252083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CA87-8752-47AE-BD1E-92F7445B24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0AB5-5107-4CCE-8BDE-5355EA16C0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7F3B-0158-40BA-B8E8-21E91C3F07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4455-976B-46B4-B490-868C4C43DA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4389-6BBB-4FD8-832C-B0D8CA0DB2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6287-42BB-4E94-9F24-4ED7FF9020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5797-6E3B-47D7-A357-6A42E9D36B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78B2F-1CA3-44E7-B75B-5C8A50A10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6168-42DB-45D0-B029-898D3B88F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0EFDB-51E0-45A4-A11F-235E17CFF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B1EF0-FE04-49D2-9DA9-0ADCDEFA7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5F91B-4439-4378-98EA-DF136F68E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65E2F-433D-4C4C-AE1D-2657402C6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194FE-D10A-4994-B45C-907CCD3EF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93154-0A92-4D3D-9862-947D05347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00CAC-2F63-4269-A517-D10C19D90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61FB8-8A5D-489C-9764-E9EB773FE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C2772-45AA-4ABB-8595-BDA0F0875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09BA4-074E-4845-9C38-042A79652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2D122-7B66-499E-BC45-0B0B27EC4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B7945-69FF-4C20-A3FF-32F4B4EE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1EE2F-3703-4D4A-8D8D-1CDE8058A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405D3-CC61-4F69-AFC6-A42A64934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739B4-B1BE-4A84-AF44-EBA15D71F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00E93F1-1BC3-4291-AE05-263C3F6DD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72975C-992A-4175-8208-89959CD42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3FA5D8-B565-4D78-B4ED-F96F6A9C84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3DE01F-41A2-41E4-A5C9-FE8084DD2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4FF02F1-EC66-4C27-890C-6B0FAF7A0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6630A-DB0A-46A4-BF3E-D5DAE3EA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81ABE8-3FC3-41FA-8445-D451DA4B9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B3113B-097E-4C16-99BB-760F61936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35F2E8-64C4-47A6-9B2D-EE783D80F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5B6553-4704-415B-8F3E-9EE5E9966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657DC86-C52B-490A-BAE4-AA71D156B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B9908C0-F6AC-4DAB-BB51-0DB5BF72E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9DF895D-DB1A-425C-8998-F4E3E2142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F92E79-3CEC-414F-8F43-DEFD36DA53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A51F9-C7A1-46F6-9B3B-4C345F9A2C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0B3183-06C6-4CA2-89F7-AECAD9B4EF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39F48-D63D-4065-8724-018E0A37F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D81DD-E7A0-46DA-BF97-6AB317A3A9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16874-8E97-48F8-BAA2-8C2CC4623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95871-136E-43CA-9E36-5CBFB29A3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466D1-013B-437B-810F-77934183F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F3379-A63E-4635-94FF-F2EA55779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6F1CE-0B21-498B-8263-E76977991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BB5F7-0526-4939-9CBC-2FB1968CA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5D1BB-A9F8-4EB4-81C8-24942B0499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215F6-22D2-4C9A-8900-1F5D8A1D2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E119161-3856-43F6-B7B4-DA52DCB2B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4CFB1-99C6-4B51-8D95-5E78E15E9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21667A6-795D-4640-8980-073731B6A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735C40-4930-4941-8D16-676960F57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A2B4CA-F97C-47CF-9D95-ADF1947FA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11FB42D-D14A-4E9F-9039-BADC9FBC7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9D82A8-B389-44B6-A411-53CCB49D34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AD5A3D-4AF8-4A4A-95AF-0541482B9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57ACFD-3600-47A6-950E-455FAE4E1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A675D8-BF99-4EB0-B635-C9F1E3FE6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82DA6F-C60E-4CD1-8D12-A3C1A2A5F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7B1096C-9ED7-41E7-AB58-9FBD76E5C5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6FAFF-E6CD-48D4-8D45-FFCAD4D4A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53B9B4-B880-47ED-A711-488A97EA6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D59DE0C-C172-4017-8B62-6D11A16BC0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C1878FA-48B0-4F5E-A3E3-1855043AD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C6C393-F0A9-440C-BF98-F8856D4FD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73036D-4CCD-405F-AEA5-9729980524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944058-5750-401B-B94B-E43AA7BE2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97E7A26-EBDE-4C79-B9C5-CDA71C16E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BE7E039-0D05-4F8F-8067-1A9492214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C196B78-5971-490B-B184-060AED142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2B73B3-1220-4F1D-B2A2-B3473C6D9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1D14F-05AD-4CCE-8D95-93F57FB73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394F535-1953-40FE-A358-87A7B7A1CA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39EC053-E178-486B-A199-6556C857B4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0F14D87-8D97-45ED-A368-E847CD57E0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4B45774-E459-4932-AED6-61354BBF8B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B5A6374-CB14-432E-859B-0F3AD622D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167A8F-852B-4E89-9069-AFBA6A83D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EC7D3D-7900-4873-85FE-D5CE6468D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AC43F5-7BA7-456C-B286-4FFF9F9EA3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FCF75FF-8C05-49BC-A192-6B1670228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A252F8-B8DE-4ED7-8219-4903DC2BE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2E51-691F-455E-8391-5B85DEE6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60A58F-727E-4D62-A79A-A5792B515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AFCA56-FA84-475C-B498-A1EFC4338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C9F3416-CAE3-4883-ABB3-072FA755F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18722BF-BE82-47DF-AF86-8819A1D928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509C874-DAF6-46F4-86B8-271316F66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63E8-74C9-4845-859A-61014E823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9FFA-6D24-4281-AA2A-F7E4F97C56DE}"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AD3B-CD16-4649-82A4-2DA579A6782D}"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9900-079C-42D9-BD59-44A0A8758C23}"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AA4D-1995-4D1E-90C4-22D3096CF70E}"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B1AF-19FA-42D0-949F-BBF41C445BF8}"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7B18-49F6-4367-B335-AEC83806257D}"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D28C-038A-4B4C-B163-ED3AC1109D38}" type="datetime">
              <a:rPr b="0" lang="en-US" sz="1200" spc="-1" strike="noStrike">
                <a:solidFill>
                  <a:srgbClr val="fff39d"/>
                </a:solidFill>
                <a:latin typeface="Constantia"/>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1AB6-3850-4773-8809-99C76DF09A8D}"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D8F6-C4A8-4482-B0BC-83113217C00B}"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9F12-EB1F-46CE-A12D-53E196A3507B}"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C950-C4A0-429D-9FB6-F5FC095F0BC2}"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5EDB-AB9D-41B5-B9F6-AD4549E2A82A}"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B0C-21E1-44CA-AFF0-B230D2AC1EBC}"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33E6-E95D-4812-9654-90D32446AD3B}"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