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move the slide</a:t>
            </a:r>
            <a:endParaRPr b="0" lang="en-US" sz="3000" spc="-1" strike="noStrike">
              <a:solidFill>
                <a:srgbClr val="575f6d"/>
              </a:solidFill>
              <a:latin typeface="Constantia"/>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6420-A38F-4C82-A655-774CBEF5348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d63"/>
                </a:solidFill>
                <a:latin typeface="Calibri"/>
              </a:rPr>
              <a:t>СИБИРСКИЙ ФЕДЕРАЛЬНЫЙ УНИВЕРСИТЕТ</a:t>
            </a:r>
            <a:br>
              <a:rPr sz="1200"/>
            </a:br>
            <a:r>
              <a:rPr b="0" lang="ru-RU" sz="1200" spc="-1" strike="noStrike">
                <a:solidFill>
                  <a:srgbClr val="595d63"/>
                </a:solidFill>
                <a:latin typeface="Calibri"/>
              </a:rPr>
              <a:t>ЮРИДИЧЕСКИЙ ИНСТИТУТ</a:t>
            </a:r>
            <a:br>
              <a:rPr sz="1200"/>
            </a:br>
            <a:br>
              <a:rPr sz="1200"/>
            </a:br>
            <a:r>
              <a:rPr b="0" lang="ru-RU" sz="1200" spc="-1" strike="noStrike">
                <a:solidFill>
                  <a:srgbClr val="595d63"/>
                </a:solidFill>
                <a:latin typeface="Calibri"/>
              </a:rPr>
              <a:t>МАГИСТЕРСКАЯ ПРОГРАММА</a:t>
            </a:r>
            <a:br>
              <a:rPr sz="1200"/>
            </a:br>
            <a:br>
              <a:rPr sz="1200"/>
            </a:br>
            <a:r>
              <a:rPr b="0" lang="ru-RU" sz="1200" spc="-1" strike="noStrike">
                <a:solidFill>
                  <a:srgbClr val="595d63"/>
                </a:solidFill>
                <a:latin typeface="Calibri"/>
              </a:rPr>
              <a:t>ГРАЖДАНСКОЕ ПРАВО, СЕМЕЙНОЕ ПРАВО, МЕЖДУНАРОДНОЕ ЧАСТНОЕ ПРАВ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4A13-0B51-4D88-8751-ECA72A86C9A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ПРОГРАММЫ</a:t>
            </a: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alibri"/>
              </a:rPr>
              <a:t>    </a:t>
            </a:r>
            <a:r>
              <a:rPr b="0" lang="ru-RU" sz="1600" spc="-1" strike="noStrike">
                <a:solidFill>
                  <a:srgbClr val="4f81bd"/>
                </a:solidFill>
                <a:latin typeface="Calibri"/>
              </a:rPr>
              <a:t>Сахнова Татьяна Владимировна, д.ю.н., профессор</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Образовани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Защита докторской диссертации (1998 г.) – МГУ им. М.В. Ломоносова (г. Моск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Публикации:</a:t>
            </a:r>
            <a:r>
              <a:rPr b="0" lang="ru-RU" sz="1200" spc="-1" strike="noStrike">
                <a:solidFill>
                  <a:srgbClr val="3c3e42"/>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     </a:t>
            </a:r>
            <a:r>
              <a:rPr b="1" lang="ru-RU" sz="1200" spc="-1" strike="noStrike">
                <a:solidFill>
                  <a:srgbClr val="3c3e42"/>
                </a:solidFill>
                <a:latin typeface="Calibri"/>
              </a:rPr>
              <a:t>Место работы и должност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Сибирский федеральный университет, Юридический институт, зав. кафедрой гражданского процесс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Является руководителем двух магистерских програм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ий процесс, арбитражный процес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ое право, семейное право, международно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частное прав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145C-F318-4789-BBE3-8554F5267EE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МАГИСТЕРСКОЙ ПРОГРАММЕ «ГРАЖДАНСКОЕ ПРАВО, СЕМЕЙНОЕ ПРАВО, МЕЖДУНАРОДНОЕ </a:t>
            </a:r>
            <a:br>
              <a:rPr sz="1200"/>
            </a:br>
            <a:r>
              <a:rPr b="0" lang="ru-RU" sz="1200" spc="-1" strike="noStrike">
                <a:solidFill>
                  <a:srgbClr val="000000"/>
                </a:solidFill>
                <a:latin typeface="Calibri"/>
              </a:rPr>
              <a:t>ЧАСТНОЕ ПРАВО»</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6084-70A4-41E5-A760-24E8025E5A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ЕНЬ ИЗУЧАЕМЫХ ДИСЦИПЛИН</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деральный компонент</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циплины по выбору магистра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257F-35D5-4A06-AE39-C81C1B94E91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ьные дисципл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ъектов недвижимости и их правовой реж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гражданско-правовой сдел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жилищ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емей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гражданско-правовой ответств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института несосто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 в международных отношен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CD5D-9451-4A4F-81AB-5969CF283C2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кие навыки получает выпускник программы?</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применительны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юридических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управленческая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ание нормативных а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ьски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ация на реальные юридические пробл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5472-3CE5-451A-87C5-F1E41926CD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с портфоли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частия в конкурсе документов (потрфолио) поступающий предоставляет следующие докумен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 бакалавра, специалиста. Магист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тификаты, подтверждающие уровень знания иностранного я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ации в профессиональных журналах, сборниках студенческих рабо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специалис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E572-3F94-4F5B-B30D-E17248510D8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C82B5-D61A-4192-99AF-95B377D3D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A78C6-3B1D-49AB-80BB-405E8923C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5D219-BF3F-4974-9596-A414E8762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A4321-90C9-4C7D-A454-8FBACC16E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9EBD0-8197-4357-B29B-87EB8DE7F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33D1E-DFEA-42A0-988A-90A6A5B6C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EE233-8064-42B7-9246-DB83DD0EF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FBF7C-DBB4-4A54-A973-91063A466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2B6B4-F924-4C0B-AA5F-40EC302CB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6F3AE-58FE-4C36-8580-E00315A1E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98A6D-6E22-426E-8B87-3BD71F9D2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A37F7-76D1-4651-ABA9-E62EF0E40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7CBBC-E9BE-4048-80C5-72C76937E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D8445-9C8B-43BE-A61B-B076F70CD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2DDD6-DD6C-4769-B20F-36881BD55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9C5D4-D335-4747-8FAF-E5EDDD391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A6414-8B14-4E62-86D2-A8A82B96D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AB1A6AF-7F82-4740-AD80-98BF70FA6B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88C979-724D-426A-8FE8-DC8719E43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2A7DAB-9DD5-4FFD-8109-114351013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6626B9-C305-4612-BC39-8E0B2F53E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231CB6-1A37-4253-9417-C6632A498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8992C-38CC-481C-A11D-FA3AC6F9C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A52526-5774-4AB4-A776-C0B3A882E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DA93ED-2295-492F-9CC4-895B8076C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4684E4-B373-4748-A8B4-E083A21A5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E67D05-CB2E-49C6-B2F1-0E09905E8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E7E1B4-21BC-42A1-B8EB-8F7030BC9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9FDBE22-5F09-4E50-8813-5E79AA5B74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6656F6-8457-4C0A-A278-23FCEB31A3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42A7CF-BC13-43AE-8D57-6D38B9D245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4ACB7-9236-45F2-B211-51448AD907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1101C1-36D9-461C-B3F1-A6E917B88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E0DC1-84EE-42FE-9CB9-50B2D5E92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983E1C-AB40-47E8-9CF8-EA8586FF7C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0B685-6605-45F0-B087-1596F2ECE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97E203-A8A6-4D6B-A68B-543553DDF4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2ADFF-BDE8-4F28-9ED7-C48193D1B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AF179-E667-4812-8A59-F40DA4BB2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B1C71-C095-4EE2-81B3-43B095322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05D55C-6403-41C0-A860-9F3068D00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7D5164-6B10-4611-BB7D-AC474D0422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6EB51-6990-4CB4-A8C9-BC6072141C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3C290CD-669C-4369-9DE2-604D46764B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F3536-61F4-45FA-B030-11866CD5C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C780385-F821-4DDA-9469-331B4E5BE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09E50A-32A1-4BB3-83FD-F4A49CD96F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D234B9-EEC8-4D62-9674-C91A43AD7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730635-AAB4-43F2-9D63-3772109053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82953AA-2756-4177-8420-7E9D18094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92A639-9BA1-42D5-88C1-90C756747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BC23E8-3A17-4906-9D1D-906FF94198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A97DD7-B1D2-4E5B-85DD-033E150FF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E13D22B-5B39-44FD-9476-5B5579D515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F46EAB-E83A-403A-AA80-F042F6C13B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3C18A-F123-49F9-8B03-719A6A9B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274D8AA-40F5-41C9-A925-CDA76F3670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686D55C-C8DA-44E4-B6AE-C47C1F5927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753D04F-E2DD-4F94-BD2F-E9B80A8623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D7FAF23-5648-4E0D-ADF3-307D9B714C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435EB78-19B4-454D-B425-65D1F1306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9A7253C-B035-4E1B-9F79-8B1055B97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378D122-269A-43D1-A65E-766BB5688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B99422C-9566-42BD-A9C6-2C81A35E57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9FBA27E-EC19-45EE-BEE4-E2009F761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962F1F2-F268-4918-9B7B-B5A7105C57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2E5B7-3356-4203-87D0-34E8C16E2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938EB5B-A3DD-4F4A-972F-B82A873989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1704E99-8098-4188-B877-09F8A92D0A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2B8C78E-2C89-491B-9969-91633A7B92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F58C4B9-AC10-44AA-9EC8-60B5712ED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CC939AC-42D8-4120-964F-B203F7C075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88B3B0D-836F-4AD7-AE95-4921CF4268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BE00ABB-28E4-4973-8C44-7DB9960D5A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3612D9C-AA67-4AC3-AEFA-4060801DF6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7405E74-CCF5-45EA-9690-0B59529667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7EB387-8C32-4F3A-B942-070412122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C3C67-2A03-4E2B-84B2-91BCC1F28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03EDAF-2A58-414C-B7D8-255698494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39E01A-8665-4519-8D69-282B547CF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2897083-174B-4353-9CBA-577497475E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A9E4FA9-BE5D-4158-9C0C-B108898919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0047C6E-D6C7-4B3A-922A-7919094A15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E80BB-567F-4842-9B0F-9574F9F2E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8F66-7E18-44BE-A840-65F719461ADE}"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1427-D163-4EA9-81F1-D0A15BFEF45C}"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1EFD-232A-4FEC-A59C-B6C3EF29EAA8}"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9A4D-7590-4221-A439-0BAE8E1E0998}"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B7D3-13D7-4B35-99CA-92A2B6C78C64}"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8227-D303-46C4-801A-5A645930ED85}"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onstantia"/>
              </a:rPr>
              <a:t>Click to edit the title text format</a:t>
            </a:r>
            <a:endParaRPr b="0" lang="en-US" sz="3000" spc="-1" strike="noStrike">
              <a:solidFill>
                <a:srgbClr val="fff39d"/>
              </a:solidFill>
              <a:latin typeface="Constant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lick to edit the outline text format</a:t>
            </a:r>
            <a:endParaRPr b="0" lang="en-US" sz="2400" spc="-1" strike="noStrike">
              <a:solidFill>
                <a:srgbClr val="ffffff"/>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cond Outline Level</a:t>
            </a:r>
            <a:endParaRPr b="0" lang="en-US" sz="2400" spc="-1" strike="noStrike">
              <a:solidFill>
                <a:srgbClr val="ffffff"/>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rd Outline Level</a:t>
            </a:r>
            <a:endParaRPr b="0" lang="en-US" sz="2400" spc="-1" strike="noStrike">
              <a:solidFill>
                <a:srgbClr val="ffffff"/>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urth Outline Level</a:t>
            </a:r>
            <a:endParaRPr b="0" lang="en-US" sz="2400" spc="-1" strike="noStrike">
              <a:solidFill>
                <a:srgbClr val="ffffff"/>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ifth Outline Level</a:t>
            </a:r>
            <a:endParaRPr b="0" lang="en-US" sz="2400" spc="-1" strike="noStrike">
              <a:solidFill>
                <a:srgbClr val="ffffff"/>
              </a:solidFill>
              <a:latin typeface="Constantia"/>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xth Outline Level</a:t>
            </a:r>
            <a:endParaRPr b="0" lang="en-US" sz="2400" spc="-1" strike="noStrike">
              <a:solidFill>
                <a:srgbClr val="ffffff"/>
              </a:solidFill>
              <a:latin typeface="Constantia"/>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venth Outline Level</a:t>
            </a:r>
            <a:endParaRPr b="0" lang="en-US" sz="2400" spc="-1" strike="noStrike">
              <a:solidFill>
                <a:srgbClr val="ffffff"/>
              </a:solidFill>
              <a:latin typeface="Constantia"/>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9324-BF13-462D-BFA3-CCA019EAC372}" type="datetime">
              <a:rPr b="0" lang="en-US" sz="1200" spc="-1" strike="noStrike">
                <a:solidFill>
                  <a:srgbClr val="fff39d"/>
                </a:solidFill>
                <a:latin typeface="Constantia"/>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onstantia"/>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A99B-72EB-4153-9749-5CF50B9B33D6}"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FFC4-5468-4A0B-9811-41C1E98F801F}"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41C1-E689-4143-BCDD-C0A23957C169}"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6E52-0065-4902-AFAB-B720CD4FB6F9}"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26AD-B287-4CC1-9E41-2EEE2787C406}"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C76C-F29D-4B5A-B341-5072345F583F}" type="datetime">
              <a:rPr b="0" lang="en-US" sz="1200" spc="-1" strike="noStrike">
                <a:solidFill>
                  <a:srgbClr val="575f6d"/>
                </a:solidFill>
                <a:latin typeface="Constantia"/>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959A-E188-4D11-BA01-61CBBA28F349}"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914040"/>
            <a:ext cx="8610480" cy="4267080"/>
          </a:xfrm>
          <a:prstGeom prst="rect">
            <a:avLst/>
          </a:prstGeom>
          <a:noFill/>
          <a:ln w="0">
            <a:noFill/>
          </a:ln>
        </p:spPr>
        <p:txBody>
          <a:bodyPr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95d63"/>
                </a:solidFill>
                <a:latin typeface="Constantia"/>
              </a:rPr>
              <a:t>СИБИРСКИЙ ФЕДЕРАЛЬНЫЙ УНИВЕРСИТЕТ</a:t>
            </a:r>
            <a:br>
              <a:rPr sz="2400"/>
            </a:br>
            <a:r>
              <a:rPr b="1" lang="ru-RU" sz="2400" spc="-1" strike="noStrike">
                <a:solidFill>
                  <a:srgbClr val="595d63"/>
                </a:solidFill>
                <a:latin typeface="Constantia"/>
              </a:rPr>
              <a:t>ЮРИДИЧЕСКИЙ ИНСТИТУТ</a:t>
            </a:r>
            <a:br>
              <a:rPr sz="2400"/>
            </a:br>
            <a:br>
              <a:rPr sz="2400"/>
            </a:br>
            <a:r>
              <a:rPr b="1" lang="ru-RU" sz="2400" spc="-1" strike="noStrike">
                <a:solidFill>
                  <a:srgbClr val="595d63"/>
                </a:solidFill>
                <a:latin typeface="Constantia"/>
              </a:rPr>
              <a:t>МАГИСТЕРСКАЯ ПРОГРАММА</a:t>
            </a:r>
            <a:br>
              <a:rPr sz="2400"/>
            </a:br>
            <a:br>
              <a:rPr sz="2400"/>
            </a:br>
            <a:r>
              <a:rPr b="1" lang="ru-RU" sz="2400" spc="-1" strike="noStrike">
                <a:solidFill>
                  <a:srgbClr val="595d63"/>
                </a:solidFill>
                <a:latin typeface="Constantia"/>
              </a:rPr>
              <a:t>ГРАЖДАНСКОЕ ПРАВО, СЕМЕЙНОЕ ПРАВО, МЕЖДУНАРОДНОЕ ЧАСТНОЕ ПРАВО</a:t>
            </a:r>
            <a:br>
              <a:rPr sz="2400"/>
            </a:br>
            <a:endParaRPr b="0" lang="en-US" sz="2400" spc="-1" strike="noStrike">
              <a:solidFill>
                <a:srgbClr val="575f6d"/>
              </a:solidFill>
              <a:latin typeface="Constantia"/>
            </a:endParaRPr>
          </a:p>
        </p:txBody>
      </p:sp>
      <p:sp>
        <p:nvSpPr>
          <p:cNvPr id="359" name="Місце для нижнього колонтитула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Заголовок 1"/>
          <p:cNvGrpSpPr/>
          <p:nvPr/>
        </p:nvGrpSpPr>
        <p:grpSpPr>
          <a:xfrm>
            <a:off x="781200" y="189000"/>
            <a:ext cx="7588080" cy="920520"/>
            <a:chOff x="781200" y="189000"/>
            <a:chExt cx="7588080" cy="920520"/>
          </a:xfrm>
        </p:grpSpPr>
        <p:pic>
          <p:nvPicPr>
            <p:cNvPr id="361" name="Заголовок 1" descr=""/>
            <p:cNvPicPr/>
            <p:nvPr/>
          </p:nvPicPr>
          <p:blipFill>
            <a:blip r:embed="rId1"/>
            <a:stretch/>
          </p:blipFill>
          <p:spPr>
            <a:xfrm>
              <a:off x="781200" y="189000"/>
              <a:ext cx="7588080" cy="920520"/>
            </a:xfrm>
            <a:prstGeom prst="rect">
              <a:avLst/>
            </a:prstGeom>
            <a:ln w="0">
              <a:noFill/>
            </a:ln>
          </p:spPr>
        </p:pic>
        <p:sp>
          <p:nvSpPr>
            <p:cNvPr id="362" name=""/>
            <p:cNvSpPr/>
            <p:nvPr/>
          </p:nvSpPr>
          <p:spPr>
            <a:xfrm>
              <a:off x="838080" y="228600"/>
              <a:ext cx="74678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РУКОВОДИТЕЛЬ ПРОГРАММЫ</a:t>
              </a:r>
              <a:endParaRPr b="0" lang="en-US" sz="3000" spc="-1" strike="noStrike">
                <a:solidFill>
                  <a:srgbClr val="000000"/>
                </a:solidFill>
                <a:latin typeface="Arial"/>
              </a:endParaRPr>
            </a:p>
          </p:txBody>
        </p:sp>
      </p:grpSp>
      <p:sp>
        <p:nvSpPr>
          <p:cNvPr id="363" name=""/>
          <p:cNvSpPr txBox="1"/>
          <p:nvPr/>
        </p:nvSpPr>
        <p:spPr>
          <a:xfrm>
            <a:off x="304560" y="1066680"/>
            <a:ext cx="5715000" cy="5639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3c3e42"/>
                </a:solidFill>
                <a:latin typeface="Constantia"/>
              </a:rPr>
              <a:t>    </a:t>
            </a:r>
            <a:r>
              <a:rPr b="0" lang="ru-RU" sz="1800" spc="-1" strike="noStrike">
                <a:solidFill>
                  <a:srgbClr val="fe8637"/>
                </a:solidFill>
                <a:latin typeface="Constantia"/>
              </a:rPr>
              <a:t>Сахнова Татьяна Владимировна, д.ю.н., профессор</a:t>
            </a:r>
            <a:endParaRPr b="0" lang="en-US" sz="1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Образование: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Защита докторской диссертации (1998 г.) – МГУ им. М.В. Ломоносова (г. Москва).</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Публикации:</a:t>
            </a:r>
            <a:r>
              <a:rPr b="0" lang="ru-RU" sz="1400" spc="-1" strike="noStrike">
                <a:solidFill>
                  <a:srgbClr val="3c3e42"/>
                </a:solidFill>
                <a:latin typeface="Constantia"/>
              </a:rPr>
              <a:t>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     </a:t>
            </a:r>
            <a:r>
              <a:rPr b="1" lang="ru-RU" sz="1400" spc="-1" strike="noStrike">
                <a:solidFill>
                  <a:srgbClr val="3c3e42"/>
                </a:solidFill>
                <a:latin typeface="Constantia"/>
              </a:rPr>
              <a:t>Место работы и должность: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Сибирский федеральный университет, Юридический институт, зав. кафедрой гражданского процесса.</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Является руководителем двух магистерских программ: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ий процесс, арбитражный процесс»;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ое право, семейное право, международное</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частное право».</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364" name="Picture 2" descr="C:\Documents and Settings\Владыка Инна)\Рабочий стол\b.200.150.16777215.0.ff.sahnova_t.jpg"/>
          <p:cNvPicPr/>
          <p:nvPr/>
        </p:nvPicPr>
        <p:blipFill>
          <a:blip r:embed="rId2"/>
          <a:stretch/>
        </p:blipFill>
        <p:spPr>
          <a:xfrm>
            <a:off x="6172200" y="1600200"/>
            <a:ext cx="2435400" cy="2467080"/>
          </a:xfrm>
          <a:prstGeom prst="rect">
            <a:avLst/>
          </a:prstGeom>
          <a:ln w="0">
            <a:noFill/>
          </a:ln>
        </p:spPr>
      </p:pic>
      <p:grpSp>
        <p:nvGrpSpPr>
          <p:cNvPr id="365" name="Прямоугольник 5"/>
          <p:cNvGrpSpPr/>
          <p:nvPr/>
        </p:nvGrpSpPr>
        <p:grpSpPr>
          <a:xfrm>
            <a:off x="6029280" y="4230720"/>
            <a:ext cx="2797200" cy="1622160"/>
            <a:chOff x="6029280" y="4230720"/>
            <a:chExt cx="2797200" cy="1622160"/>
          </a:xfrm>
        </p:grpSpPr>
        <p:pic>
          <p:nvPicPr>
            <p:cNvPr id="366" name="Прямоугольник 5" descr=""/>
            <p:cNvPicPr/>
            <p:nvPr/>
          </p:nvPicPr>
          <p:blipFill>
            <a:blip r:embed="rId3"/>
            <a:stretch/>
          </p:blipFill>
          <p:spPr>
            <a:xfrm>
              <a:off x="6029280" y="4230720"/>
              <a:ext cx="2797200" cy="1541520"/>
            </a:xfrm>
            <a:prstGeom prst="rect">
              <a:avLst/>
            </a:prstGeom>
            <a:ln w="0">
              <a:noFill/>
            </a:ln>
          </p:spPr>
        </p:pic>
        <p:sp>
          <p:nvSpPr>
            <p:cNvPr id="367" name=""/>
            <p:cNvSpPr/>
            <p:nvPr/>
          </p:nvSpPr>
          <p:spPr>
            <a:xfrm>
              <a:off x="6095880" y="4267080"/>
              <a:ext cx="2667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Доктор юридических наук, професс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Адрес: 660075, г. Красноярс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ул. Маерчака, 6.  Каб.  3-09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тел: +7 (391) 221-88-8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факс: +7 (391) 221-63-66</a:t>
              </a:r>
              <a:endParaRPr b="0" lang="en-US" sz="1400" spc="-1" strike="noStrike">
                <a:solidFill>
                  <a:srgbClr val="000000"/>
                </a:solidFill>
                <a:latin typeface="Arial"/>
              </a:endParaRPr>
            </a:p>
          </p:txBody>
        </p:sp>
      </p:grpSp>
      <p:sp>
        <p:nvSpPr>
          <p:cNvPr id="36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Заголовок 1"/>
          <p:cNvGrpSpPr/>
          <p:nvPr/>
        </p:nvGrpSpPr>
        <p:grpSpPr>
          <a:xfrm>
            <a:off x="781200" y="139680"/>
            <a:ext cx="7588080" cy="2043000"/>
            <a:chOff x="781200" y="139680"/>
            <a:chExt cx="7588080" cy="2043000"/>
          </a:xfrm>
        </p:grpSpPr>
        <p:pic>
          <p:nvPicPr>
            <p:cNvPr id="370" name="Заголовок 1" descr=""/>
            <p:cNvPicPr/>
            <p:nvPr/>
          </p:nvPicPr>
          <p:blipFill>
            <a:blip r:embed="rId1"/>
            <a:stretch/>
          </p:blipFill>
          <p:spPr>
            <a:xfrm>
              <a:off x="781200" y="139680"/>
              <a:ext cx="7588080" cy="2043000"/>
            </a:xfrm>
            <a:prstGeom prst="rect">
              <a:avLst/>
            </a:prstGeom>
            <a:ln w="0">
              <a:noFill/>
            </a:ln>
          </p:spPr>
        </p:pic>
        <p:sp>
          <p:nvSpPr>
            <p:cNvPr id="371" name=""/>
            <p:cNvSpPr/>
            <p:nvPr/>
          </p:nvSpPr>
          <p:spPr>
            <a:xfrm>
              <a:off x="838080" y="228600"/>
              <a:ext cx="7467840" cy="1722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nstantia"/>
                </a:rPr>
                <a:t>О МАГИСТЕРСКОЙ ПРОГРАММЕ «ГРАЖДАНСКОЕ ПРАВО, СЕМЕЙНОЕ ПРАВО, МЕЖДУНАРОДНОЕ </a:t>
              </a:r>
              <a:br>
                <a:rPr sz="2700"/>
              </a:br>
              <a:r>
                <a:rPr b="0" lang="ru-RU" sz="2700" spc="-1" strike="noStrike">
                  <a:solidFill>
                    <a:srgbClr val="000000"/>
                  </a:solidFill>
                  <a:latin typeface="Constantia"/>
                </a:rPr>
                <a:t>ЧАСТНОЕ ПРАВО»</a:t>
              </a:r>
              <a:endParaRPr b="0" lang="en-US" sz="2700" spc="-1" strike="noStrike">
                <a:solidFill>
                  <a:srgbClr val="000000"/>
                </a:solidFill>
                <a:latin typeface="Arial"/>
              </a:endParaRPr>
            </a:p>
          </p:txBody>
        </p:sp>
      </p:grpSp>
      <p:sp>
        <p:nvSpPr>
          <p:cNvPr id="372" name=""/>
          <p:cNvSpPr txBox="1"/>
          <p:nvPr/>
        </p:nvSpPr>
        <p:spPr>
          <a:xfrm>
            <a:off x="456840" y="220968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73"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Заголовок 1"/>
          <p:cNvGrpSpPr/>
          <p:nvPr/>
        </p:nvGrpSpPr>
        <p:grpSpPr>
          <a:xfrm>
            <a:off x="378000" y="347760"/>
            <a:ext cx="7699320" cy="957240"/>
            <a:chOff x="378000" y="347760"/>
            <a:chExt cx="7699320" cy="957240"/>
          </a:xfrm>
        </p:grpSpPr>
        <p:pic>
          <p:nvPicPr>
            <p:cNvPr id="375" name="Заголовок 1" descr=""/>
            <p:cNvPicPr/>
            <p:nvPr/>
          </p:nvPicPr>
          <p:blipFill>
            <a:blip r:embed="rId1"/>
            <a:stretch/>
          </p:blipFill>
          <p:spPr>
            <a:xfrm>
              <a:off x="378000" y="347760"/>
              <a:ext cx="7699320" cy="957240"/>
            </a:xfrm>
            <a:prstGeom prst="rect">
              <a:avLst/>
            </a:prstGeom>
            <a:ln w="0">
              <a:noFill/>
            </a:ln>
          </p:spPr>
        </p:pic>
        <p:sp>
          <p:nvSpPr>
            <p:cNvPr id="376" name=""/>
            <p:cNvSpPr/>
            <p:nvPr/>
          </p:nvSpPr>
          <p:spPr>
            <a:xfrm>
              <a:off x="457200" y="380880"/>
              <a:ext cx="7543800" cy="654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ПЕРЕЧЕНЬ ИЗУЧАЕМЫХ ДИСЦИПЛИН</a:t>
              </a:r>
              <a:endParaRPr b="0" lang="en-US" sz="3000" spc="-1" strike="noStrike">
                <a:solidFill>
                  <a:srgbClr val="000000"/>
                </a:solidFill>
                <a:latin typeface="Arial"/>
              </a:endParaRPr>
            </a:p>
          </p:txBody>
        </p:sp>
      </p:grpSp>
      <p:sp>
        <p:nvSpPr>
          <p:cNvPr id="377" name=""/>
          <p:cNvSpPr txBox="1"/>
          <p:nvPr/>
        </p:nvSpPr>
        <p:spPr>
          <a:xfrm>
            <a:off x="489240" y="1602000"/>
            <a:ext cx="3593520" cy="594720"/>
          </a:xfrm>
          <a:prstGeom prst="rect">
            <a:avLst/>
          </a:prstGeom>
          <a:solidFill>
            <a:srgbClr val="fe8637"/>
          </a:solidFill>
          <a:ln w="0">
            <a:noFill/>
          </a:ln>
        </p:spPr>
        <p:txBody>
          <a:bodyPr anchor="ctr">
            <a:normAutofit fontScale="90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Федеральный компонент</a:t>
            </a:r>
            <a:endParaRPr b="0" lang="en-US" sz="2000" spc="-1" strike="noStrike">
              <a:solidFill>
                <a:srgbClr val="000000"/>
              </a:solidFill>
              <a:latin typeface="Constantia"/>
            </a:endParaRPr>
          </a:p>
        </p:txBody>
      </p:sp>
      <p:sp>
        <p:nvSpPr>
          <p:cNvPr id="378" name=""/>
          <p:cNvSpPr txBox="1"/>
          <p:nvPr/>
        </p:nvSpPr>
        <p:spPr>
          <a:xfrm>
            <a:off x="4375440" y="1602000"/>
            <a:ext cx="3593520" cy="594720"/>
          </a:xfrm>
          <a:prstGeom prst="rect">
            <a:avLst/>
          </a:prstGeom>
          <a:solidFill>
            <a:srgbClr val="fe8637"/>
          </a:solidFill>
          <a:ln w="0">
            <a:noFill/>
          </a:ln>
        </p:spPr>
        <p:txBody>
          <a:bodyPr anchor="ctr">
            <a:normAutofit fontScale="8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Дисциплины по выбору магистранта</a:t>
            </a:r>
            <a:endParaRPr b="0" lang="en-US" sz="2000" spc="-1" strike="noStrike">
              <a:solidFill>
                <a:srgbClr val="000000"/>
              </a:solidFill>
              <a:latin typeface="Constantia"/>
            </a:endParaRPr>
          </a:p>
        </p:txBody>
      </p:sp>
      <p:sp>
        <p:nvSpPr>
          <p:cNvPr id="379" name="Text Box 9"/>
          <p:cNvSpPr/>
          <p:nvPr/>
        </p:nvSpPr>
        <p:spPr>
          <a:xfrm>
            <a:off x="457200" y="23623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457200" y="2362320"/>
            <a:ext cx="3657600" cy="17017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временные проблемы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тория и методология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мпьютерные технологии в науке и юридической практике</a:t>
            </a:r>
            <a:endParaRPr b="0" lang="en-US" sz="1500" spc="-1" strike="noStrike">
              <a:solidFill>
                <a:srgbClr val="000000"/>
              </a:solidFill>
              <a:latin typeface="Arial"/>
            </a:endParaRPr>
          </a:p>
        </p:txBody>
      </p:sp>
      <p:sp>
        <p:nvSpPr>
          <p:cNvPr id="381" name="Text Box 11"/>
          <p:cNvSpPr/>
          <p:nvPr/>
        </p:nvSpPr>
        <p:spPr>
          <a:xfrm>
            <a:off x="4343400" y="2362320"/>
            <a:ext cx="3657600" cy="30913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наследственного прав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ликтные отношения с иностранным элементом</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граниченные вещные права на земельные участ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авовое регулирование международных перевозок</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защиты прав потребителей</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нцип свободы договор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Специальные дисциплины:</a:t>
            </a:r>
            <a:endParaRPr b="0" lang="en-US" sz="3000" spc="-1" strike="noStrike">
              <a:solidFill>
                <a:srgbClr val="575f6d"/>
              </a:solidFill>
              <a:latin typeface="Constantia"/>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истема объектов недвижимости и их правовой режим</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еория гражданско-правовой сдел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жилищ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семей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гражданско-правовой ответствен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института несостоятель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Юридические лица в международных отношениях</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5"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0528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5f6d"/>
                </a:solidFill>
                <a:latin typeface="Constantia"/>
              </a:rPr>
              <a:t>Какие навыки получает выпускник программы?</a:t>
            </a:r>
            <a:endParaRPr b="0" lang="en-US" sz="2800" spc="-1" strike="noStrike">
              <a:solidFill>
                <a:srgbClr val="575f6d"/>
              </a:solidFill>
              <a:latin typeface="Constantia"/>
            </a:endParaRPr>
          </a:p>
        </p:txBody>
      </p:sp>
      <p:sp>
        <p:nvSpPr>
          <p:cNvPr id="387" name="PlaceHolder 2"/>
          <p:cNvSpPr>
            <a:spLocks noGrp="1"/>
          </p:cNvSpPr>
          <p:nvPr>
            <p:ph/>
          </p:nvPr>
        </p:nvSpPr>
        <p:spPr>
          <a:xfrm>
            <a:off x="456840" y="9907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воприменительны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оставление юридических докумен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ганизационно-управленческая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олкование нормативных ак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тельски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иентация на реальные юридические проблемы</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8"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Конкурс портфолио</a:t>
            </a:r>
            <a:endParaRPr b="0" lang="en-US" sz="3000" spc="-1" strike="noStrike">
              <a:solidFill>
                <a:srgbClr val="575f6d"/>
              </a:solidFill>
              <a:latin typeface="Constantia"/>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ля участия в конкурсе документов (потрфолио) поступающий предоставляет следующие документы:</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 бакалавра, специалиста. Магистр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ертификаты, подтверждающие уровень знания иностранного язык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убликации в профессиональных журналах, сборниках студенческих работ</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комендации специалиста</a:t>
            </a:r>
            <a:endParaRPr b="0" lang="en-US" sz="2000" spc="-1" strike="noStrike">
              <a:solidFill>
                <a:srgbClr val="000000"/>
              </a:solidFill>
              <a:latin typeface="Constantia"/>
            </a:endParaRPr>
          </a:p>
        </p:txBody>
      </p:sp>
      <p:sp>
        <p:nvSpPr>
          <p:cNvPr id="391"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LEGION</cp:lastModifiedBy>
  <dcterms:modified xsi:type="dcterms:W3CDTF">2015-01-28T08:18:01Z</dcterms:modified>
  <cp:revision>38</cp:revision>
  <dc:subject/>
  <dc:title>Сибирский федеральный университет Юридический институт  Магистерская программа  ГРАЖДАНСКОЕ ПРАВО, СЕМЕЙНОЕ ПРАВО, МЕЖДУНАРОДНОЕ ЧАСТНОЕ ПРАВО</dc:title>
</cp:coreProperties>
</file>