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2456-F931-4182-964D-8A64A39546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97CB-8E23-44BE-A38B-42C3AB58B5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01FD-4FA7-420E-AD9A-9193016AD5C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2FDE-1868-4BAB-BEDE-926B2AE10A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E449-6C84-473D-ABD3-A6B5F74FE6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7DA6-5EE5-41AB-8FE8-9A29E47387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855B-16AE-4FA1-8488-B59E76B6CC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E008-2C3A-4933-B607-1C45097631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6DF70-DC6C-4907-8C52-3C4C28FFA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4063-9CC3-4BBB-859D-787E85A44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274A7-8249-41B5-AED7-08E6FE42A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EAF5C-F85E-49B6-B078-D78DDC79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FD8E5-767C-47CB-B899-0EF214864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F3E7A-EB45-483A-ADBA-DA7F4B9C4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AE5FA-A692-4336-84E9-623524015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3ECB3-8B19-4684-9C05-199B447E7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703A8-30DB-4BE6-9E38-DD3F1658F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8581E-63CF-474B-8104-72833C4A5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AD6EE-425C-4163-A2C1-527BE021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B447-B88C-4282-98A7-0932C844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D65F-5276-4712-86D6-3A47FCAF2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60743-F566-4AB6-8F70-0E0B8961B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FAA8A-C7BD-48B9-BBB1-AA288283E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F89BE-10D0-4AB9-ACF3-6DEA742ED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A8284-7BF7-4075-93B1-DBB63DFD2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7A636E-9999-430D-8CBE-94DBB6255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42873E-E33D-487A-8631-4EE61BD22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122CF8-E6C0-4206-8F5B-968CBFD75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06EF9E-8BE1-4C41-8CF1-BF9BB987B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F39D1FB-515F-4E1A-A0FD-B40016CFD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1142-B62A-4038-BDC0-7360DEB75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AA5CE1-A361-430C-B715-5AFD64030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49D1B8-A623-45E5-9C5A-6CBB896F8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108731-8123-4E24-A691-B6BE7A8AD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1AA10F-BE9C-4F8D-B7A4-79490847B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452420-1822-4350-96D2-96D29680E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A3C63A0-CD47-4B25-A45E-37195544EE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478EEBA-8EDF-4E1F-9394-BBC36A934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9ECEC-5703-4BC2-891D-7E94D18782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070EA-5918-4629-8784-91DC1A70F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7D24F-EAA8-4FC3-B251-8337191F1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D472-8869-468B-AB1F-4EC9CFA4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8C29A-8AFF-4982-A026-F6ED591A29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91E0F-35BE-4122-A99F-2DEBDA744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2A878-810F-4798-A5B5-6908F2AF5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A2CAB-3628-4306-BFD4-1BF56568F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4DE8B-3302-4E33-8B89-53DD8B4D8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3A719-6B8D-40CE-8FB4-C0B5BA698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6E3CF-ACD0-448B-982A-28D9B0792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EE2AF-F6D5-4F2B-BC11-E640B1D41E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AA223-F925-4253-9219-91E75056B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5791D21-A4F4-48E7-9B9A-0242D1BE6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429C-178E-40EF-8346-DBABB2670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D7EE6C-8762-40B1-BD6D-999292D52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E0F5CB-A8F6-4E86-9A62-AFD030715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0D70FA-383E-4EC3-8246-27819975A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A7510F-E243-4149-9578-D997C3EBD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C967A0-9041-4635-8712-40CF3B954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F8C585-7690-4231-AF6F-EE3BEFEDA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CBC5E4-7F2F-41C0-9F95-519A752FC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E81F57-F15A-4CE7-8F09-EEC7019A9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A2287F-2B43-41EC-85A5-CEBCABDC3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8CC9CAC-FEE2-4989-A739-79B451DFCB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B81CF-315C-48D8-8A2C-5AFB8A476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E040E8D-200B-4C63-A44E-1CD8EC5778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2C029B7-8DC9-48DA-9B2F-99F759857D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D29814-19C6-4825-8FEE-3E9CA9A09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52D3D9-15F5-4E19-B007-D8E8CF6DD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C1380C-FA5E-4D99-A11A-3C1CFEF51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8B180C1-FBCE-495E-9ECC-0C1071251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DB5301-83B4-4392-B754-C9E2CD9C4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8AE48B3-08D7-4CBB-B057-D19ACDDE8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9AED9D-5A1B-4CED-A2B6-13FCFDCB5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E9B85B-E064-4A0E-8E72-C05E1431B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7939-C617-4372-A7EC-87B6B199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144F8C-3D33-43D2-BE18-DACFC18D3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8584DA7-A39B-4458-B566-99787428D6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B2E85AD-79D6-47B9-9B40-7C775CC157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6278F1-1706-48B7-9872-B8C860EAC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7A705A7-C404-44B2-A7DD-89E491366C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34A10E-C42A-4022-8E9F-A9D5FFDA0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EF0163-D354-4B1F-9C46-5B5F954B61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379027-440B-4D60-8650-F0DBFC2B1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6B9750-8218-483A-8228-4804ACA2C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16ADB6-5001-46C9-B8C2-DA7CA231A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67DE-DC4F-4D73-BB70-476FF374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1EA15D-B283-4BFC-B91D-0A0A96415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04E763-32C0-4EBF-904E-CBF4002E3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2D0838-987A-4301-BD16-63FC3D3FA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CE9C27C-EC1B-440F-A251-AD03F97829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CCCFF1-4DF3-4DA7-B61E-1766CAD946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4A09-22BC-4446-8994-B6B19424C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E468-E300-4026-A063-CF32F836056B}"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3794-2F94-4DA7-BE51-92A7E7E1CF0B}"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4E8C-5E5B-47EC-92FF-4A2A8CBC6453}"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053F-9A42-429B-BA4A-12334D61485B}"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38AA-6F50-4020-BAE1-98153DD8601F}"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23FC-9BF7-429F-BA9F-795A4C10C43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9A1C-E369-41A3-9004-DC453B4FEC3C}" type="datetime">
              <a:rPr b="0" lang="en-US" sz="1200" spc="-1" strike="noStrike">
                <a:solidFill>
                  <a:srgbClr val="fff39d"/>
                </a:solidFill>
                <a:latin typeface="Constantia"/>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4DDE-7C0D-4B6C-BCC2-5E8F2449DED2}"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3848-E4CF-4295-81A4-FA13A971B6DF}"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752E-3D3B-4BA5-B6DD-2592F5189C3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51CC-9F08-40F3-B5CA-E01EBFFE09A9}"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0771-179C-44F0-A325-28725AF9A1F5}"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3768-D085-41DA-AEAD-6C02A3F233C1}" type="datetime">
              <a:rPr b="0" lang="en-US" sz="1200" spc="-1" strike="noStrike">
                <a:solidFill>
                  <a:srgbClr val="575f6d"/>
                </a:solidFill>
                <a:latin typeface="Constantia"/>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D087-FEA5-4C46-AEE7-02716E7BA486}"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