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A384-2EB4-47CF-8647-05C878D252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7464-08E2-4FA1-8BCD-6BFEAD12B1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00"/>
                </a:solidFill>
                <a:latin typeface="Comic Sans MS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 Элементы право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3 Вид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3E2-E40E-4A71-B992-C3E734702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1AEF-9CA1-4F2F-96C8-2EE12E724B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Элемен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объекты 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правоотношений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  с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убъекты правоотношен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содержание правоотношен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E399-C58F-411D-B521-2E5BABB98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Су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29D0-F6FB-4EDC-A5AD-B36344F337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Виды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340C-0338-46E8-B55F-959B67FC3D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00"/>
                </a:solidFill>
                <a:latin typeface="Comic Sans MS"/>
              </a:rPr>
              <a:t>О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2AD9-84AA-4105-A938-342BD965EB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Содержа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FD78-7064-42C2-AAE0-C0D45A193A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6A3A-2B6A-4509-BAF7-CE5417BC23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9AB6-1188-4397-9FAA-3D7EC5AF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BD85-8EC3-4217-BABF-BAE639B6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87D3-6F24-4081-A009-61424FF2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8C72-7BA8-4096-A613-7A907836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42D8-5049-412D-8485-D2391E56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10CC-7A73-4E51-A075-0B685ED9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0C45-70A7-4E0D-98E3-012AFD46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C8D2-DE79-40B3-846D-BACB282E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049D-CC16-4F3B-8845-37D9DF0E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07EF-900B-41CD-8C91-148B988A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CCB8-9332-489B-9576-5341F6F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B3D6-5B80-442C-B0FA-9DF3D767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1CB0-69B2-4178-A5A2-994C1080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B013-B4EA-4CA0-BC86-E271AAB8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27B5-99F2-481D-AADC-86C3A515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458C-A326-4C89-BA5D-E7DF810C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FC5C-2381-4274-8711-3B497A69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6F57-E4D8-4CC9-8C55-FD6B4C84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2E07-D6DD-4EA3-9341-18FEFBD4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991C-90F5-4ED7-9443-7DD1EB4D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5AF5-1934-42D2-99E7-04BDD722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0EBD-5780-4963-A72A-FD5C96FC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4A67-1155-4873-BD0D-BD2BABF1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652A-E9EA-4419-A96A-4652753B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72E2-65C5-4B8E-84F3-2469FBB3DB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F737-813F-4600-9541-177CB1EDDF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 rot="21330600">
            <a:off x="1692360" y="1052640"/>
            <a:ext cx="5327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latin typeface="Comic Sans MS"/>
              </a:rPr>
              <a:t>Правоотношения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0000"/>
                </a:srgbClr>
              </a:solidFill>
              <a:latin typeface="Comic Sans MS"/>
              <a:ea typeface="Comic Sans MS"/>
            </a:endParaRPr>
          </a:p>
        </p:txBody>
      </p:sp>
      <p:pic>
        <p:nvPicPr>
          <p:cNvPr id="114" name="Picture 5" descr="Дед и бабка"/>
          <p:cNvPicPr/>
          <p:nvPr/>
        </p:nvPicPr>
        <p:blipFill>
          <a:blip r:embed="rId1"/>
          <a:stretch/>
        </p:blipFill>
        <p:spPr>
          <a:xfrm>
            <a:off x="539640" y="2924280"/>
            <a:ext cx="3216240" cy="266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Два деда_2"/>
          <p:cNvPicPr/>
          <p:nvPr/>
        </p:nvPicPr>
        <p:blipFill>
          <a:blip r:embed="rId2"/>
          <a:stretch/>
        </p:blipFill>
        <p:spPr>
          <a:xfrm>
            <a:off x="4716360" y="2852640"/>
            <a:ext cx="3419640" cy="2698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887400">
            <a:off x="5219640" y="765000"/>
            <a:ext cx="298152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лан</a:t>
            </a:r>
            <a:endParaRPr b="0" i="1" lang="en-US" sz="2000" spc="1" strike="noStrike">
              <a:ln w="324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306864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§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1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Право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  2 Элементы право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  3 Виды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1403280" y="981000"/>
            <a:ext cx="616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1" lang="en-US" sz="2000" spc="1" strike="noStrike">
              <a:ln w="324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2060640"/>
            <a:ext cx="828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Два деда"/>
          <p:cNvPicPr/>
          <p:nvPr/>
        </p:nvPicPr>
        <p:blipFill>
          <a:blip r:embed="rId1"/>
          <a:stretch/>
        </p:blipFill>
        <p:spPr>
          <a:xfrm>
            <a:off x="755640" y="4365720"/>
            <a:ext cx="3384720" cy="2179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0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24" name="Text Box 8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666699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523880" y="45720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Элементы правоотношений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228600" y="2133720"/>
            <a:ext cx="9144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cce6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объекты 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правоотношений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  с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убъекты правоотнош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содержание правоотношени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0" y="2133720"/>
            <a:ext cx="609480" cy="3124080"/>
          </a:xfrm>
          <a:custGeom>
            <a:avLst/>
            <a:gdLst>
              <a:gd name="textAreaLeft" fmla="*/ 81360 w 609480"/>
              <a:gd name="textAreaRight" fmla="*/ 528120 w 609480"/>
              <a:gd name="textAreaTop" fmla="*/ 536400 h 3124080"/>
              <a:gd name="textAreaBottom" fmla="*/ 23295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18" stAng="-5400000" swAng="-5400000"/>
                <a:lnTo>
                  <a:pt x="0" y="12396"/>
                </a:lnTo>
                <a:arcTo wR="21600" hR="7418" stAng="10800000" swAng="-1887116"/>
                <a:lnTo>
                  <a:pt x="11025" y="20650"/>
                </a:lnTo>
                <a:lnTo>
                  <a:pt x="21600" y="17325"/>
                </a:lnTo>
                <a:lnTo>
                  <a:pt x="11025" y="12100"/>
                </a:lnTo>
                <a:lnTo>
                  <a:pt x="11025" y="13886"/>
                </a:lnTo>
                <a:arcTo wR="21600" hR="7418" stAng="8912884" swAng="1468680"/>
                <a:lnTo>
                  <a:pt x="1252" y="9907"/>
                </a:lnTo>
                <a:arcTo wR="21600" hR="7418" stAng="-10381564" swAng="4981564"/>
                <a:close/>
              </a:path>
              <a:path fill="darkenLess" w="21600" h="21600">
                <a:moveTo>
                  <a:pt x="21600" y="0"/>
                </a:moveTo>
                <a:arcTo wR="21600" hR="7418" stAng="-5400000" swAng="-5400000"/>
                <a:lnTo>
                  <a:pt x="0" y="7418"/>
                </a:lnTo>
                <a:arcTo wR="21600" hR="7418" stAng="10800000" swAng="-418436"/>
                <a:lnTo>
                  <a:pt x="1252" y="9907"/>
                </a:lnTo>
                <a:arcTo wR="21600" hR="7418" stAng="-10381564" swAng="4981564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381880" y="2133720"/>
            <a:ext cx="762120" cy="3124080"/>
          </a:xfrm>
          <a:custGeom>
            <a:avLst/>
            <a:gdLst>
              <a:gd name="textAreaLeft" fmla="*/ 101880 w 762120"/>
              <a:gd name="textAreaRight" fmla="*/ 660240 w 76212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114800" y="3505320"/>
            <a:ext cx="914400" cy="990360"/>
          </a:xfrm>
          <a:prstGeom prst="downArrow">
            <a:avLst>
              <a:gd name="adj1" fmla="val 50000"/>
              <a:gd name="adj2" fmla="val 27077"/>
            </a:avLst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133720" y="4572000"/>
            <a:ext cx="48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Правоотношения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Comic Sans MS"/>
              <a:ea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61928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Comic Sans MS"/>
              </a:rPr>
              <a:t>Субъекты правоотношений</a:t>
            </a:r>
            <a:endParaRPr b="1" i="1" lang="en-US" sz="2000" spc="1" strike="noStrike">
              <a:ln w="3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989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Весы"/>
          <p:cNvPicPr/>
          <p:nvPr/>
        </p:nvPicPr>
        <p:blipFill>
          <a:blip r:embed="rId1"/>
          <a:stretch/>
        </p:blipFill>
        <p:spPr>
          <a:xfrm>
            <a:off x="5796000" y="4292640"/>
            <a:ext cx="2763720" cy="1843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340000" y="836640"/>
            <a:ext cx="411948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solidFill>
                    <a:srgbClr val="ff0000"/>
                  </a:solidFill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ffff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Виды субъектов</a:t>
            </a:r>
            <a:endParaRPr b="1" i="1" lang="en-US" sz="2000" spc="1" strike="noStrike">
              <a:ln w="0">
                <a:solidFill>
                  <a:srgbClr val="ff0000"/>
                </a:solidFill>
              </a:ln>
              <a:gradFill rotWithShape="0">
                <a:gsLst>
                  <a:gs pos="0">
                    <a:srgbClr val="006633"/>
                  </a:gs>
                  <a:gs pos="100000">
                    <a:srgbClr val="ffffff">
                      <a:alpha val="50196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1773360"/>
            <a:ext cx="8064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8760" y="3351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4360" y="3933720"/>
            <a:ext cx="874872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476360" y="1125360"/>
            <a:ext cx="5915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>
                    <a:alpha val="60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Объекты правоотношений</a:t>
            </a:r>
            <a:endParaRPr b="1" i="1" lang="en-US" sz="2000" spc="1" strike="noStrike">
              <a:ln w="3240">
                <a:solidFill>
                  <a:srgbClr val="000000"/>
                </a:solidFill>
                <a:miter/>
              </a:ln>
              <a:solidFill>
                <a:srgbClr val="ffff00">
                  <a:alpha val="60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2205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Бабло"/>
          <p:cNvPicPr/>
          <p:nvPr/>
        </p:nvPicPr>
        <p:blipFill>
          <a:blip r:embed="rId1"/>
          <a:stretch/>
        </p:blipFill>
        <p:spPr>
          <a:xfrm>
            <a:off x="6891480" y="4005360"/>
            <a:ext cx="2252520" cy="285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619280" y="907920"/>
            <a:ext cx="580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Содержание правоотношен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124000" y="3573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284720" y="335592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124000" y="2924280"/>
            <a:ext cx="4897440" cy="18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4067280" y="1484280"/>
            <a:ext cx="936360" cy="1295280"/>
          </a:xfrm>
          <a:prstGeom prst="upDownArrow">
            <a:avLst>
              <a:gd name="adj1" fmla="val 50000"/>
              <a:gd name="adj2" fmla="val 27538"/>
            </a:avLst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50920" y="486900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932360" y="501336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55" name="Text Box 13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42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6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934920" y="62064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9999ff"/>
                  </a:solidFill>
                  <a:miter/>
                </a:ln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1" lang="en-US" sz="2400" spc="1" strike="noStrike">
              <a:ln w="6480">
                <a:solidFill>
                  <a:srgbClr val="9999ff"/>
                </a:solidFill>
                <a:miter/>
              </a:ln>
              <a:solidFill>
                <a:srgbClr val="339966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2698920" y="1700280"/>
            <a:ext cx="3744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Правоотношен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 rot="17628600">
            <a:off x="2311200" y="3236400"/>
            <a:ext cx="1800360" cy="216000"/>
          </a:xfrm>
          <a:prstGeom prst="leftArrow">
            <a:avLst>
              <a:gd name="adj1" fmla="val 50000"/>
              <a:gd name="adj2" fmla="val 2083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 rot="15300000">
            <a:off x="5074920" y="3212640"/>
            <a:ext cx="1657440" cy="216000"/>
          </a:xfrm>
          <a:prstGeom prst="leftArrow">
            <a:avLst>
              <a:gd name="adj1" fmla="val 50000"/>
              <a:gd name="adj2" fmla="val 19183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476360" y="4292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астноправ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500720" y="429264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ублично-прав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76360" y="429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нос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148360" y="429264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бсолю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547640" y="4292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932360" y="429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792000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50:17Z</dcterms:created>
  <dc:creator>User</dc:creator>
  <dc:description/>
  <dc:language>en-US</dc:language>
  <cp:lastModifiedBy>LEGION</cp:lastModifiedBy>
  <dcterms:modified xsi:type="dcterms:W3CDTF">2015-01-28T08:19:50Z</dcterms:modified>
  <cp:revision>21</cp:revision>
  <dc:subject/>
  <dc:title>Слайд 1</dc:title>
</cp:coreProperties>
</file>