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AFFC-D51B-47C2-A7AD-9EF75D2A19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4E76-21E2-4A90-ABDF-29345C7E6A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00"/>
                </a:solidFill>
                <a:latin typeface="Comic Sans MS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2 Элементы правоотнош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3 Вид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00D6-F43D-4AE8-BEB9-76DA2F3EC8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087E-45C6-494B-8498-AD9C9C4B76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Элемен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объекты 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правоотношений</a:t>
            </a: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  с</a:t>
            </a: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убъекты правоотношен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eece1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eece1"/>
                </a:solidFill>
                <a:latin typeface="Tahoma"/>
              </a:rPr>
              <a:t>содержание правоотношен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A61C-1F45-47A1-A2CA-85EBDA2735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Су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23F4-8F79-4C3D-97D3-603D8FA879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omic Sans MS"/>
              </a:rPr>
              <a:t>Виды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FE66-2C59-4863-900D-64D49F1CD6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00"/>
                </a:solidFill>
                <a:latin typeface="Comic Sans MS"/>
              </a:rPr>
              <a:t>Объекты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A603-5E8D-4134-8B12-4125117572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Содержание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8468-D364-4639-BC74-2A776E090A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Право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026F-E98A-433E-9552-532FAE3314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3EBA-5EA9-4174-811E-44953FCB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4582-28BA-42A8-932F-0FD2DC92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907B-C733-46BE-B46B-6CD622A5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8AAE-0BA8-4E33-AFF5-43272530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6E2C-9B08-4070-B249-CAC96E48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A78E-4235-43D4-89A7-7C6482B5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757F-BA70-4986-BE35-10F4EF59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1543-16EF-444E-8688-0993B138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412B-BD8E-4C16-9A98-416842F0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8EE3-44A2-46A3-AA07-4E81C5B0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AEDF-B68B-470C-BCAE-44AE8F7F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A22F-EECF-4EDF-9A3C-1036C853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621C-0A15-4AC7-9CC5-16E3D8C8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62DB-670F-495A-962C-494FA175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F3B9-796E-4233-8A61-3413A534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B2CA-A5DE-4244-997E-79D9CADE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F039-DA57-4D48-B5EA-9885D643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C10D-F3F5-47F8-824C-BFCE08EE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58F56-1F41-42C0-8342-E54E1047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17AB9-0885-49D7-A3B1-2100B630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CFE64-BEDC-45FD-B11B-D195EAB7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8038-D752-43F6-9EF0-E04DAE79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3E4D-E846-4B41-B73A-172C180A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9BAFF-2B6A-4534-BE02-B9596A30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E4B4-8950-43BE-9054-D4201B79A3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9769-9F87-47D5-BB0C-9428E9D396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 rot="21330600">
            <a:off x="1692360" y="1052640"/>
            <a:ext cx="53276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>
                    <a:alpha val="90000"/>
                  </a:srgbClr>
                </a:solidFill>
                <a:latin typeface="Comic Sans MS"/>
              </a:rPr>
              <a:t>Правоотношения</a:t>
            </a:r>
            <a:endParaRPr b="0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>
                  <a:alpha val="90000"/>
                </a:srgbClr>
              </a:solidFill>
              <a:latin typeface="Comic Sans MS"/>
              <a:ea typeface="Comic Sans MS"/>
            </a:endParaRPr>
          </a:p>
        </p:txBody>
      </p:sp>
      <p:pic>
        <p:nvPicPr>
          <p:cNvPr id="114" name="Picture 5" descr="Дед и бабка"/>
          <p:cNvPicPr/>
          <p:nvPr/>
        </p:nvPicPr>
        <p:blipFill>
          <a:blip r:embed="rId1"/>
          <a:stretch/>
        </p:blipFill>
        <p:spPr>
          <a:xfrm>
            <a:off x="539640" y="2924280"/>
            <a:ext cx="3216240" cy="2668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Два деда_2"/>
          <p:cNvPicPr/>
          <p:nvPr/>
        </p:nvPicPr>
        <p:blipFill>
          <a:blip r:embed="rId2"/>
          <a:stretch/>
        </p:blipFill>
        <p:spPr>
          <a:xfrm>
            <a:off x="4716360" y="2852640"/>
            <a:ext cx="3419640" cy="2698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4"/>
          <p:cNvSpPr txBox="1"/>
          <p:nvPr/>
        </p:nvSpPr>
        <p:spPr>
          <a:xfrm rot="887400">
            <a:off x="5219640" y="765000"/>
            <a:ext cx="2981520" cy="10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2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324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mic Sans MS"/>
              </a:rPr>
              <a:t>План</a:t>
            </a:r>
            <a:endParaRPr b="0" i="1" lang="en-US" sz="2000" spc="1" strike="noStrike">
              <a:ln w="324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306864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§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1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Право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  2 Элементы правоотнош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§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  3 Виды право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1403280" y="981000"/>
            <a:ext cx="61610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Понятие правоотношений</a:t>
            </a:r>
            <a:endParaRPr b="1" lang="en-US" sz="2000" spc="1" strike="noStrike">
              <a:ln w="324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9640" y="2060640"/>
            <a:ext cx="828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Правоотношения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обый вид общественных отношений, носящих волевой характер, возникающих по поводу благ и ценностей, предоставляемых  и защищаемых правовыми нормами, участники которых связаны взаимными юридическими и правами и обязанн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Два деда"/>
          <p:cNvPicPr/>
          <p:nvPr/>
        </p:nvPicPr>
        <p:blipFill>
          <a:blip r:embed="rId1"/>
          <a:stretch/>
        </p:blipFill>
        <p:spPr>
          <a:xfrm>
            <a:off x="755640" y="4365720"/>
            <a:ext cx="3384720" cy="21794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10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24" name="Text Box 8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666699"/>
                  </a:solidFill>
                  <a:uFillTx/>
                  <a:latin typeface="Times New Roman"/>
                  <a:ea typeface="Times New Roman"/>
                  <a:hlinkClick r:id="rId2" action="ppaction://hlinksldjump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56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523880" y="457200"/>
            <a:ext cx="6477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Comic Sans MS"/>
              </a:rPr>
              <a:t>Элементы правоотношений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-228600" y="2133720"/>
            <a:ext cx="9144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cce6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объекты 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правоотношений</a:t>
            </a: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  с</a:t>
            </a: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убъекты правоотнош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7d"/>
                </a:solidFill>
                <a:latin typeface="Tahoma"/>
              </a:rPr>
              <a:t>содержание правоотношени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0" y="2133720"/>
            <a:ext cx="609480" cy="3124080"/>
          </a:xfrm>
          <a:custGeom>
            <a:avLst/>
            <a:gdLst>
              <a:gd name="textAreaLeft" fmla="*/ 81360 w 609480"/>
              <a:gd name="textAreaRight" fmla="*/ 528120 w 609480"/>
              <a:gd name="textAreaTop" fmla="*/ 536400 h 3124080"/>
              <a:gd name="textAreaBottom" fmla="*/ 232956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18" stAng="-5400000" swAng="-5400000"/>
                <a:lnTo>
                  <a:pt x="0" y="12396"/>
                </a:lnTo>
                <a:arcTo wR="21600" hR="7418" stAng="10800000" swAng="-1887116"/>
                <a:lnTo>
                  <a:pt x="11025" y="20650"/>
                </a:lnTo>
                <a:lnTo>
                  <a:pt x="21600" y="17325"/>
                </a:lnTo>
                <a:lnTo>
                  <a:pt x="11025" y="12100"/>
                </a:lnTo>
                <a:lnTo>
                  <a:pt x="11025" y="13886"/>
                </a:lnTo>
                <a:arcTo wR="21600" hR="7418" stAng="8912884" swAng="1468680"/>
                <a:lnTo>
                  <a:pt x="1252" y="9907"/>
                </a:lnTo>
                <a:arcTo wR="21600" hR="7418" stAng="-10381564" swAng="4981564"/>
                <a:close/>
              </a:path>
              <a:path fill="darkenLess" w="21600" h="21600">
                <a:moveTo>
                  <a:pt x="21600" y="0"/>
                </a:moveTo>
                <a:arcTo wR="21600" hR="7418" stAng="-5400000" swAng="-5400000"/>
                <a:lnTo>
                  <a:pt x="0" y="7418"/>
                </a:lnTo>
                <a:arcTo wR="21600" hR="7418" stAng="10800000" swAng="-418436"/>
                <a:lnTo>
                  <a:pt x="1252" y="9907"/>
                </a:lnTo>
                <a:arcTo wR="21600" hR="7418" stAng="-10381564" swAng="4981564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8381880" y="2133720"/>
            <a:ext cx="762120" cy="3124080"/>
          </a:xfrm>
          <a:custGeom>
            <a:avLst/>
            <a:gdLst>
              <a:gd name="textAreaLeft" fmla="*/ 101880 w 762120"/>
              <a:gd name="textAreaRight" fmla="*/ 660240 w 76212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114800" y="3505320"/>
            <a:ext cx="914400" cy="990360"/>
          </a:xfrm>
          <a:prstGeom prst="downArrow">
            <a:avLst>
              <a:gd name="adj1" fmla="val 50000"/>
              <a:gd name="adj2" fmla="val 27077"/>
            </a:avLst>
          </a:prstGeom>
          <a:gradFill rotWithShape="0">
            <a:gsLst>
              <a:gs pos="0">
                <a:srgbClr val="000082"/>
              </a:gs>
              <a:gs pos="100000">
                <a:srgbClr val="0000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133720" y="4572000"/>
            <a:ext cx="4876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Comic Sans MS"/>
              </a:rPr>
              <a:t>Правоотношения</a:t>
            </a:r>
            <a:endParaRPr b="1" i="1" lang="en-US" sz="20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Comic Sans MS"/>
              <a:ea typeface="Comic Sans MS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161928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ff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Comic Sans MS"/>
              </a:rPr>
              <a:t>Субъекты правоотношений</a:t>
            </a:r>
            <a:endParaRPr b="1" i="1" lang="en-US" sz="2000" spc="1" strike="noStrike">
              <a:ln w="32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2700000"/>
              </a:gradFill>
              <a:latin typeface="Comic Sans MS"/>
              <a:ea typeface="Comic Sans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68360" y="19890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Субъектами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- являются лица участники правоотношений, обладающие определенными субъективными правами и юридическими обязанност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Весы"/>
          <p:cNvPicPr/>
          <p:nvPr/>
        </p:nvPicPr>
        <p:blipFill>
          <a:blip r:embed="rId1"/>
          <a:stretch/>
        </p:blipFill>
        <p:spPr>
          <a:xfrm>
            <a:off x="5796000" y="4292640"/>
            <a:ext cx="2763720" cy="1843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2340000" y="836640"/>
            <a:ext cx="4119480" cy="96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solidFill>
                    <a:srgbClr val="ff0000"/>
                  </a:solidFill>
                </a:ln>
                <a:gradFill rotWithShape="0">
                  <a:gsLst>
                    <a:gs pos="0">
                      <a:srgbClr val="006633"/>
                    </a:gs>
                    <a:gs pos="100000">
                      <a:srgbClr val="ffffff">
                        <a:alpha val="50196"/>
                      </a:srgbClr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Виды субъектов</a:t>
            </a:r>
            <a:endParaRPr b="1" i="1" lang="en-US" sz="2000" spc="1" strike="noStrike">
              <a:ln w="0">
                <a:solidFill>
                  <a:srgbClr val="ff0000"/>
                </a:solidFill>
              </a:ln>
              <a:gradFill rotWithShape="0">
                <a:gsLst>
                  <a:gs pos="0">
                    <a:srgbClr val="006633"/>
                  </a:gs>
                  <a:gs pos="100000">
                    <a:srgbClr val="ffffff">
                      <a:alpha val="50196"/>
                    </a:srgbClr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684360" y="1773360"/>
            <a:ext cx="8064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Индивидуаль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Коллективные субъе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99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9900"/>
                </a:solidFill>
                <a:latin typeface="Comic Sans MS"/>
              </a:rPr>
              <a:t>Государство, государственные и муниципальные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58760" y="3351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84360" y="3933720"/>
            <a:ext cx="8748720" cy="25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Для частного пр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Физическое лицо - индивидуальные субъекты (граждане, иностранные граждане и пр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Юридические лица (орган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1476360" y="1125360"/>
            <a:ext cx="59151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>
                    <a:alpha val="60000"/>
                  </a:srgbClr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Объекты правоотношений</a:t>
            </a:r>
            <a:endParaRPr b="1" i="1" lang="en-US" sz="2000" spc="1" strike="noStrike">
              <a:ln w="3240">
                <a:solidFill>
                  <a:srgbClr val="000000"/>
                </a:solidFill>
                <a:miter/>
              </a:ln>
              <a:solidFill>
                <a:srgbClr val="ffff00">
                  <a:alpha val="60000"/>
                </a:srgbClr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55640" y="220500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бъекты правоотношени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– это предметы окружающего мира, материальное и нематериальное благо, по поводу которого взаимодействуют люди и складываются правоотнош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Бабло"/>
          <p:cNvPicPr/>
          <p:nvPr/>
        </p:nvPicPr>
        <p:blipFill>
          <a:blip r:embed="rId1"/>
          <a:stretch/>
        </p:blipFill>
        <p:spPr>
          <a:xfrm>
            <a:off x="6891480" y="4005360"/>
            <a:ext cx="2252520" cy="28526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4"/>
          <p:cNvSpPr txBox="1"/>
          <p:nvPr/>
        </p:nvSpPr>
        <p:spPr>
          <a:xfrm>
            <a:off x="1619280" y="907920"/>
            <a:ext cx="5800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27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Comic Sans MS"/>
              </a:rPr>
              <a:t>Содержание правоотношений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27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124000" y="357336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284720" y="3355920"/>
            <a:ext cx="230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omic Sans MS"/>
              </a:rPr>
              <a:t>Субъективные юридические обязанности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124000" y="2924280"/>
            <a:ext cx="4897440" cy="187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4067280" y="1484280"/>
            <a:ext cx="936360" cy="1295280"/>
          </a:xfrm>
          <a:prstGeom prst="upDownArrow">
            <a:avLst>
              <a:gd name="adj1" fmla="val 50000"/>
              <a:gd name="adj2" fmla="val 27538"/>
            </a:avLst>
          </a:prstGeom>
          <a:gradFill rotWithShape="0">
            <a:gsLst>
              <a:gs pos="0">
                <a:srgbClr val="fc9fcb"/>
              </a:gs>
              <a:gs pos="100000">
                <a:srgbClr val="fc9fc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50920" y="4869000"/>
            <a:ext cx="41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убъективное прав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– это принадлежащая субъекту мера возможного  поведения, регулируемая и охраняемая за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932360" y="5013360"/>
            <a:ext cx="38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Юридическая обязанность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-  предписанная субъекту мера должного поведения,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2"/>
          <p:cNvGrpSpPr/>
          <p:nvPr/>
        </p:nvGrpSpPr>
        <p:grpSpPr>
          <a:xfrm>
            <a:off x="7596360" y="6400800"/>
            <a:ext cx="1547640" cy="459720"/>
            <a:chOff x="7596360" y="6400800"/>
            <a:chExt cx="1547640" cy="459720"/>
          </a:xfrm>
        </p:grpSpPr>
        <p:sp>
          <p:nvSpPr>
            <p:cNvPr id="155" name="Text Box 13"/>
            <p:cNvSpPr/>
            <p:nvPr/>
          </p:nvSpPr>
          <p:spPr>
            <a:xfrm>
              <a:off x="8062920" y="6400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7596360" y="6400800"/>
              <a:ext cx="5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§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42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16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934920" y="62064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6480">
                  <a:solidFill>
                    <a:srgbClr val="9999ff"/>
                  </a:solidFill>
                  <a:miter/>
                </a:ln>
                <a:solidFill>
                  <a:srgbClr val="339966"/>
                </a:solidFill>
                <a:latin typeface="Comic Sans MS"/>
              </a:rPr>
              <a:t>Классификация правоотношений</a:t>
            </a:r>
            <a:endParaRPr b="1" lang="en-US" sz="2400" spc="1" strike="noStrike">
              <a:ln w="6480">
                <a:solidFill>
                  <a:srgbClr val="9999ff"/>
                </a:solidFill>
                <a:miter/>
              </a:ln>
              <a:solidFill>
                <a:srgbClr val="339966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5"/>
          <p:cNvSpPr txBox="1"/>
          <p:nvPr/>
        </p:nvSpPr>
        <p:spPr>
          <a:xfrm>
            <a:off x="2698920" y="1700280"/>
            <a:ext cx="3744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Правоотношения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 rot="17628600">
            <a:off x="2311200" y="3236400"/>
            <a:ext cx="1800360" cy="216000"/>
          </a:xfrm>
          <a:prstGeom prst="leftArrow">
            <a:avLst>
              <a:gd name="adj1" fmla="val 50000"/>
              <a:gd name="adj2" fmla="val 2083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 rot="15300000">
            <a:off x="5074920" y="3212640"/>
            <a:ext cx="1657440" cy="216000"/>
          </a:xfrm>
          <a:prstGeom prst="leftArrow">
            <a:avLst>
              <a:gd name="adj1" fmla="val 50000"/>
              <a:gd name="adj2" fmla="val 19183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476360" y="4292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Частноправ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500720" y="4292640"/>
            <a:ext cx="33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Публично-правов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76360" y="429264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тнос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148360" y="429264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бсолю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1547640" y="4292640"/>
            <a:ext cx="23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Регуля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932360" y="4292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Охранитель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7920000" y="6400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50:17Z</dcterms:created>
  <dc:creator>User</dc:creator>
  <dc:description/>
  <dc:language>en-US</dc:language>
  <cp:lastModifiedBy>LEGION</cp:lastModifiedBy>
  <dcterms:modified xsi:type="dcterms:W3CDTF">2015-01-28T08:19:50Z</dcterms:modified>
  <cp:revision>21</cp:revision>
  <dc:subject/>
  <dc:title>Слайд 1</dc:title>
</cp:coreProperties>
</file>