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2956-4A5E-41AD-924B-AA0FF8C253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2A70-D990-49FB-885A-4EFA9A557D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1177-117F-483E-87BF-41406B47A2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тилитаризм = максимизация общественного сча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ардина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межличностного сравнения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9A6D-5748-4684-B436-7324FCFD9E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0E35-2D51-4163-8D78-D0714A99B3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ения индивидов рассматриваются как заранее заданные и неиз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какие-либо пределы рыночных отношений: моральные нормы не имеют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BD2B-7931-47AB-90DE-48E4CB6299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Калдора – Хикса (потенциальное улучшение по Парет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состоя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сли те, кто выигрывает при переходе о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0F50-B5AA-4B76-8E3F-D6A069B69C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максимизации богатства (Р. Познер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0077-712C-4A50-9A14-67A27DB4BC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итерий Рол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агосостояние общества оценивается по благосостоянию самого слабого его чл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благосостояние, как произведение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8280-81D9-4594-844F-737B13A283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утилитаризма и критерий Рол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FC4E-6AB0-4447-83A7-F693C157F3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СЭ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to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52B7-4095-4BA7-9F2B-1A35C00543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неумышленное причинение ущер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сть компенсации ущерба жертве несчастного случ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зыблемость обещаний и компенсация за нарушение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идея воздающего правосу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3755-F882-4940-921C-A804339D03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ambridge (MA): Harvard University P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D08D-A204-4EB3-8509-1EC7A5E36F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уальная справедлив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9CCA-BE4C-448B-9C4E-DB55657490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7FC4-D031-49C4-A865-FAFA56FCB4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D6E9-1E91-4D9C-822F-323A11AC9D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F8AB-C688-489D-9E14-D1058C1AA7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DA36-ACCA-4115-8A76-F06DCAD89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распределения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с помощью правов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8719-D9B6-48E0-8C94-436686999E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индивидов подрываются стимулы к производи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функционирования налог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99B4-A0CE-455B-BA56-4310B83EB3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7F23-1C24-49F9-B167-B8518D91EE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 Гл. 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 Гл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Cambridge (MA): Harvard University Press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. 28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 ‘Income Distributional Equity and the Law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589D-D47D-49DC-9C4F-F5DB9CC3C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and Economics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законодательных и судебных решений экономическими мет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CDD9-DA2E-412C-A125-C336302DF8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e, Ronald H. 19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The Problem of Social Cost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Law and Econom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(1):1-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abresi, Guido. 1961. ‘Some Thoughts on Risk Distribution and the Law of Torts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Yale Law Jour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0(4):499-5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er, Gary S. 1968. ‘Crime and Punishment: An Economic Approach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Political Econom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6(2):169-2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CBE0-788A-4E26-B14C-BEA0C160A6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имеет дело с предельными величи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уделяет основное внимание созданию стиму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an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E244-8C15-4889-A8AD-0920F4DFEE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9044-865D-4027-B87B-142CE84E00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950-A3DF-4CC5-92D5-F3DAEA04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A91-EF3B-4E16-B244-965BC87E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4FE-6822-4796-8F16-9B38E0A9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617-0624-418E-BA7D-EA2B155A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0B19-ABCF-4B78-A3DE-A6927624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5557-D912-4E55-8BD9-3AB2BB9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3AEB-49C7-44F6-A73B-7F5A2779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9B95-EAF9-4472-9BE5-5000C157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9F53-3793-47B9-B2B1-4B6B27C5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960D-7890-4879-8008-C247C567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D07A-89AF-4872-B873-DF2A590A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D32-63DC-44BF-9A75-CA10C9F0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F6AD-FBB5-4920-B1D9-027B02A4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EFEE-C94A-4308-A7AC-E94B834A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CF44-0904-4AB6-8BEF-9C31647D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C8CA-12C1-49FC-BC64-BE0250F8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B2E7-56B1-4A60-B245-02400FA3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38263-9CDB-4E4D-AD5A-7EC46489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63DD4-C0C7-4B4F-82A1-2CC5832E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238FF-9C55-4C48-9720-C57085B7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8EF9F-9E89-4033-B78C-C04496B7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746A0-C003-477B-AAC3-496528F0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11E-C99F-46AF-9D4E-A46A1B3D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D9E96-4783-4E3E-A74C-2332FAE2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D8F58-1B57-49E1-A43C-64E21BA7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D4A1A-75A5-4105-8158-2D9E6B6E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B01F1-73AE-4420-928B-6749D85C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C1DE1-82B5-4073-B4D9-3A1FF296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FF637-B8EB-4F49-A360-B432E6B5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8F8FB-DE8D-427B-B849-A865E791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0534-4D67-4DD5-B9B1-2230D8C1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B6DF-D11B-442A-A8E1-FB9E4E09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D5D5-7894-4D47-A562-BCD2B2AC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4A0-9454-4EDC-8B31-ACD2AEB7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65A1E-E43A-4430-BFC5-1B82A28F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827D3-A5E8-4A79-8EB1-E2F71862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8EB55-C79A-43A9-BE03-62B5DB37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432F1-09B9-408C-A569-7645AC53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77BAA-722C-4DF4-B341-D507D400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468B-2C2E-4453-9FDB-B823432F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B05CE-1C39-4E83-AC6B-585E9E7B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B4E1E-AEE6-4B4C-9F57-B3991877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E738-0C4F-408A-8D43-B396F0FD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B08-E4A8-4883-A7B4-A9C9848F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401-1A5E-4334-A5E1-4AF99C53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DFA-DECA-45F2-9ADC-704AD976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353-DBC1-4D7C-BA0E-C9A132A6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EAF-FD75-4D6C-95F0-AE07FFCB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680C-BB36-4B39-ABCB-6D88C76E1CF1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C6EE-7DB1-4576-80EF-CD2A6881250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711A-0959-4BCF-82E6-7FF5B92D0D2B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C85D-A65F-454C-AC28-8F5ED46B99F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3A9B-8563-4444-A8B4-EE9C6087EB70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E9F0-8838-491C-AE21-F64B0EC0443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4661-2353-4BE1-B516-75C3BF580310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CED0-0A54-4AE0-A37C-B962551B05F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НОМИЧЕСКИЙ АНАЛИЗ ПРА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1143000" y="1643040"/>
            <a:ext cx="6500880" cy="64296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Экономический анализ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285840" y="3097080"/>
            <a:ext cx="4143240" cy="361800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4714920" y="3092400"/>
            <a:ext cx="4143240" cy="362268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6"/>
          <p:cNvSpPr/>
          <p:nvPr/>
        </p:nvSpPr>
        <p:spPr>
          <a:xfrm>
            <a:off x="21430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низ 8"/>
          <p:cNvSpPr/>
          <p:nvPr/>
        </p:nvSpPr>
        <p:spPr>
          <a:xfrm>
            <a:off x="65008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тилитаризм = максимизация общественного счасть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кардинал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можность межличностного сравнения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785840" y="3857760"/>
            <a:ext cx="7866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4200" y="157176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Овал 5"/>
          <p:cNvSpPr/>
          <p:nvPr/>
        </p:nvSpPr>
        <p:spPr>
          <a:xfrm>
            <a:off x="214200" y="2571840"/>
            <a:ext cx="8643960" cy="4000320"/>
          </a:xfrm>
          <a:prstGeom prst="ellipse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итерий эффективности по Парет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ения индивидов рассматриваются как заранее заданные и неизменны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уют какие-либо пределы рыночных отношений: моральные нормы не имеют знач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Калдора – Хикса (потенциальное улучшение по Парето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оя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редпочтительнее состояния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если те, кто выигрывает при переходе от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максимизации богатства (Р. Познер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285840" y="3786120"/>
            <a:ext cx="8643960" cy="271476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сли блага находятся в руках людей, готовых предложить за них максимальную цену, то общество достигнет цели максимизации совокупного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Благосостояние общества оценивается по благосостоянию самого слабого его член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окупное благосостояние, как произведение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утилитаризма и 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14200" y="3071880"/>
          <a:ext cx="8715600" cy="3627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стояние об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ж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смераль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илита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л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82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СЭ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Zet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ro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тветственность за неумышленное причинение ущерб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обходимость компенсации ущерба жертве несчастного случ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говор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зыблемость обещаний и компенсация за нарушение обязатель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Уголов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идея воздающего правосуд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Cambridge (MA): Harvard University Pres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оцессуальная справедливост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Скругленный прямоугольник 3"/>
          <p:cNvSpPr/>
          <p:nvPr/>
        </p:nvSpPr>
        <p:spPr>
          <a:xfrm>
            <a:off x="214200" y="250020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Пети есть 65 у.е., у Васи – 35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214200" y="3214800"/>
            <a:ext cx="8643960" cy="571320"/>
          </a:xfrm>
          <a:prstGeom prst="roundRect">
            <a:avLst>
              <a:gd name="adj" fmla="val 16667"/>
            </a:avLst>
          </a:prstGeom>
          <a:solidFill>
            <a:srgbClr val="83bcc1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стоит 3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5"/>
          <p:cNvSpPr/>
          <p:nvPr/>
        </p:nvSpPr>
        <p:spPr>
          <a:xfrm>
            <a:off x="214200" y="392904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add2d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принесет 4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214200" y="464328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d6e9ea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се издержки строительства несет Ва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7"/>
          <p:cNvSpPr/>
          <p:nvPr/>
        </p:nvSpPr>
        <p:spPr>
          <a:xfrm>
            <a:off x="214200" y="5572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3e3f68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Нужно ли строить дамб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1143000" y="1643040"/>
            <a:ext cx="6500880" cy="928800"/>
          </a:xfrm>
          <a:prstGeom prst="rect">
            <a:avLst/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пособы перераспределения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85840" y="3811680"/>
            <a:ext cx="4143240" cy="211752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логи и трансфе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4714920" y="3786120"/>
            <a:ext cx="4143240" cy="214308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ерераспределение с помощью правового регул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6"/>
          <p:cNvSpPr/>
          <p:nvPr/>
        </p:nvSpPr>
        <p:spPr>
          <a:xfrm>
            <a:off x="21430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65008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индивидов подрываются стимулы к производительной деятель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дминистративные издержки функционирования налоговой систем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62864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1357200" y="857160"/>
            <a:ext cx="6572520" cy="11430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ttp://www.nber.org/pap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1357200" y="3214800"/>
            <a:ext cx="250056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h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5"/>
          <p:cNvSpPr/>
          <p:nvPr/>
        </p:nvSpPr>
        <p:spPr>
          <a:xfrm>
            <a:off x="1357200" y="4286160"/>
            <a:ext cx="571680" cy="128592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2143080" y="3786120"/>
            <a:ext cx="5429160" cy="5716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9694-w9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 Гл. 1,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 Гл.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 Cambridge (MA): Harvard University Press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. 28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. ‘Income Distributional Equity and the Law’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кономический анализ прав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aw and Economics) –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нализ законодательных и судебных решений экономическими метода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ase, Ronald H. 1960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‘The Problem of Social Cost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Law and Economic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(1):1-4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labresi, Guido. 1961. ‘Some Thoughts on Risk Distribution and the Law of Torts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Yale Law Journ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0(4):499-55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ker, Gary S. 1968. ‘Crime and Punishment: An Economic Approach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Political Econom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6(2):169-21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имеет дело с предельными величина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уделяет основное внимание созданию стимулов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 ant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714240" y="2857680"/>
            <a:ext cx="7715520" cy="307152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02:24Z</dcterms:created>
  <dc:creator>www.PHILka.RU</dc:creator>
  <dc:description/>
  <dc:language>en-US</dc:language>
  <cp:lastModifiedBy>LEGION</cp:lastModifiedBy>
  <dcterms:modified xsi:type="dcterms:W3CDTF">2015-01-28T08:21:50Z</dcterms:modified>
  <cp:revision>63</cp:revision>
  <dc:subject/>
  <dc:title>ЭКОНОМИЧЕСКИЙ АНАЛИЗ ПРАВА</dc:title>
</cp:coreProperties>
</file>