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FD77-A4BE-44C1-A751-1D790E4533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5AAB-B888-4EE5-BF38-5A2A765B89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06A0-567C-41B8-9D54-5C28E5AB20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тилитаризм = максимизация общественного сча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ардина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межличностного сравнения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F703-727A-4548-A8A5-B17917709B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9C59-6E48-4104-877A-8A4D5527E5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ения индивидов рассматриваются как заранее заданные и неиз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какие-либо пределы рыночных отношений: моральные нормы не имеют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2935-B46F-4159-98B8-E6EB5D67C7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Калдора – Хикса (потенциальное улучшение по Парет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состоя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сли те, кто выигрывает при переходе о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23D7-3682-4023-8BFC-06C83253ED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максимизации богатства (Р. Познер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3943-7383-4646-B787-C4C85412F5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Критерий Рол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лагосостояние общества оценивается по благосостоянию самого слабого его чле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благосостояние, как произведение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A6F5-47D7-40F1-85F7-C7E8BE7324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утилитаризма и критерий Рол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9DB5-B096-4D60-8B20-22ECE82D9A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СЭ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to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O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F6F6-6C95-4367-B7BD-2789C245D4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неумышленное причинение ущер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обходимость компенсации ущерба жертве несчастного случ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зыблемость обещаний и компенсация за нарушение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идея воздающего правосу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2AD2-0348-4872-9A48-2E512A1098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Cambridge (MA): Harvard University P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1866-D750-4119-A08D-63F4795EE8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уальная справедлив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2CB1-7586-428A-A1ED-481767D198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F6BA-C105-4921-8C0A-7DD67848F8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4F83-A119-42F2-B0AC-7668A3524C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18E4-9145-466E-9202-3EDC007E6F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9067-9283-4C10-B0CE-80660BCCBF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распределения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с помощью правов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13CC-F3BB-4407-B410-ED302BDEC5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индивидов подрываются стимулы к производи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функционирования налог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41C2-CA0B-485A-8675-C073612AE4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4BC2-A98E-4B79-903C-E19402A875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 Гл. 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 Гл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Cambridge (MA): Harvard University Press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. 28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. ‘Income Distributional Equity and the Law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A701-535F-4AAF-9E8D-FEC47D1095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and Economics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законодательных и судебных решений экономическими мет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55EA-AB34-447E-9E1B-A639FB1486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e, Ronald H. 19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The Problem of Social Cost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Law and Economic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(1):1-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abresi, Guido. 1961. ‘Some Thoughts on Risk Distribution and the Law of Torts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Yale Law Jour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0(4):499-5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er, Gary S. 1968. ‘Crime and Punishment: An Economic Approach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Political Econom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6(2):169-2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E49C-861A-4BB7-8CB4-0E563E233A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имеет дело с предельными величи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уделяет основное внимание созданию стиму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an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29D2-BB23-4641-973A-777083E2C8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CB17-1F31-4E96-B59E-EE540CC095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EB8-EECC-4057-970A-7793ECA8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0B2-9C26-4561-BCED-DD95350C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F42-2DBA-470F-8D4F-DBEC9B8B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F8F-6A58-42A0-8C04-6CA8448C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A350-2F43-423F-A1D6-46C3A1D5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92F4-0EDB-43B9-BD62-F722C759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D96F-7EDE-492D-86FF-2546D14F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92CB-F4F8-4BF6-8B90-71CEA930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675B-2259-4FFC-9129-82DD187A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5FC1-96DD-42DD-9A96-E9D56D38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36C5-BDB3-41F3-A53A-33BB8EA0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A22-3C8E-4E44-9E14-DA97C74F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D400-A1E7-4946-831F-EBDB09AC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3C60-2E0F-4FB0-9F66-FD3F0334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5DC7-3D22-484C-9F48-CC17085C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80F1-B873-454B-B64E-A0244B2E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6530-42AD-4769-A606-551B6A46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41A60-73F4-4FBD-914D-9F5AB0A1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E4D3B-F72D-4D07-A410-E4DD8565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CD5E3-7B2D-4187-8E49-BBA781EB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2D3BE-CA0A-48FD-BD1B-D79E3951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8337A-BAD7-41EE-AB62-FB6C174D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DB5D-9545-4D2D-9E7B-D6CCCDD8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E6BC0-E3A0-4A0A-A384-34624557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8457F-0C53-4268-AFCA-49F534CA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3A39D-5F11-4265-9F24-9C7AA14E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88368-9E76-493F-BF61-7325783F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BA7E9-896C-43D3-A8D8-7F42E529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CE107-2DB5-43AB-9DD3-4C3BD690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867E4-B517-411A-B9B5-53A25FD3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AE938-CA59-404E-9D20-944F9C8C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B9690-9FEF-4F0A-842C-6ECAE200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79085-0D6C-4B38-8640-F68665C8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077-06FD-422F-BF80-36F8BC2A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B53DF-C544-458B-B861-3853BDD5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B515C-4199-4A58-8433-6FC0AFD5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2EDF5-07EF-4A3E-972B-1F7B1C78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7585B-B48D-45F8-BA7E-41968ADB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F608A-BC19-49B1-9A08-393A5CE0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4A6CB-ECE4-48BF-A3E2-FC57E5C9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63CDD-6990-4F6F-8E31-769E27B9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A94E8-86C5-443C-8F92-4DAB463A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1422E-4099-40FF-A665-65314CD5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771-FF5E-4815-8D39-4F6F2B1E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43B-4850-485B-AF2B-278955D3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03B-474E-4B76-AB4D-81182BF6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A2F-DD2A-470E-A044-9C49200C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E4F6-016C-4C0C-9202-916344C4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8864-6247-4C07-BF6D-CB4328A0FF35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552E-16D4-4465-A191-B78F7713FD6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060D-36CC-445E-A721-91824D0CE1CD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877C-7C82-4E4A-A1BB-0A027DD40E3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F1DE-03DE-4629-B141-5F59266BEFFD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F804-A150-4C1C-88A9-46A80A346A0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6F93-42F0-409B-9A07-BCCB7EA0C7A0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CC06-4645-433E-9BBA-244A5B1104A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КОНОМИЧЕСКИЙ АНАЛИЗ ПРАВ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3"/>
          <p:cNvSpPr/>
          <p:nvPr/>
        </p:nvSpPr>
        <p:spPr>
          <a:xfrm>
            <a:off x="1143000" y="1643040"/>
            <a:ext cx="6500880" cy="64296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Экономический анализ пра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285840" y="3097080"/>
            <a:ext cx="4143240" cy="361800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4714920" y="3092400"/>
            <a:ext cx="4143240" cy="362268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трелка вниз 6"/>
          <p:cNvSpPr/>
          <p:nvPr/>
        </p:nvSpPr>
        <p:spPr>
          <a:xfrm>
            <a:off x="21430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низ 8"/>
          <p:cNvSpPr/>
          <p:nvPr/>
        </p:nvSpPr>
        <p:spPr>
          <a:xfrm>
            <a:off x="65008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тилитаризм = максимизация общественного счасть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кардинал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можность межличностного сравнения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60" name="Прямая со стрелкой 4"/>
          <p:cNvCxnSpPr/>
          <p:nvPr/>
        </p:nvCxnSpPr>
        <p:spPr>
          <a:xfrm>
            <a:off x="4785840" y="3857760"/>
            <a:ext cx="78660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14200" y="1571760"/>
            <a:ext cx="8715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Овал 5"/>
          <p:cNvSpPr/>
          <p:nvPr/>
        </p:nvSpPr>
        <p:spPr>
          <a:xfrm>
            <a:off x="214200" y="2571840"/>
            <a:ext cx="8643960" cy="4000320"/>
          </a:xfrm>
          <a:prstGeom prst="ellipse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ритерий эффективности по Парет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ения индивидов рассматриваются как заранее заданные и неизменны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уют какие-либо пределы рыночных отношений: моральные нормы не имеют знач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Калдора – Хикса (потенциальное улучшение по Парето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остояние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редпочтительнее состояния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, если те, кто выигрывает при переходе от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к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максимизации богатства (Р. Познер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Скругленный прямоугольник 3"/>
          <p:cNvSpPr/>
          <p:nvPr/>
        </p:nvSpPr>
        <p:spPr>
          <a:xfrm>
            <a:off x="285840" y="3786120"/>
            <a:ext cx="8643960" cy="271476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Если блага находятся в руках людей, готовых предложить за них максимальную цену, то общество достигнет цели максимизации совокупного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Благосостояние общества оценивается по благосостоянию самого слабого его член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вокупное благосостояние, как произведение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утилитаризма и 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14200" y="3071880"/>
          <a:ext cx="8715600" cy="36273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стояние об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а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ж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смераль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тилитар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л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82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СЭ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Zeto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Oro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Ответственность за неумышленное причинение ущерб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обходимость компенсации ущерба жертве несчастного случа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оговор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зыблемость обещаний и компенсация за нарушение обязательст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Уголов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идея воздающего правосуди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Cambridge (MA): Harvard University Pres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оцессуальная справедливость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Скругленный прямоугольник 3"/>
          <p:cNvSpPr/>
          <p:nvPr/>
        </p:nvSpPr>
        <p:spPr>
          <a:xfrm>
            <a:off x="214200" y="250020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Пети есть 65 у.е., у Васи – 35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4"/>
          <p:cNvSpPr/>
          <p:nvPr/>
        </p:nvSpPr>
        <p:spPr>
          <a:xfrm>
            <a:off x="214200" y="3214800"/>
            <a:ext cx="8643960" cy="571320"/>
          </a:xfrm>
          <a:prstGeom prst="roundRect">
            <a:avLst>
              <a:gd name="adj" fmla="val 16667"/>
            </a:avLst>
          </a:prstGeom>
          <a:solidFill>
            <a:srgbClr val="83bcc1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стоит 3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5"/>
          <p:cNvSpPr/>
          <p:nvPr/>
        </p:nvSpPr>
        <p:spPr>
          <a:xfrm>
            <a:off x="214200" y="392904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add2d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принесет 4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6"/>
          <p:cNvSpPr/>
          <p:nvPr/>
        </p:nvSpPr>
        <p:spPr>
          <a:xfrm>
            <a:off x="214200" y="464328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d6e9ea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се издержки строительства несет Ва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7"/>
          <p:cNvSpPr/>
          <p:nvPr/>
        </p:nvSpPr>
        <p:spPr>
          <a:xfrm>
            <a:off x="214200" y="557208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3e3f68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Нужно ли строить дамб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8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3"/>
          <p:cNvSpPr/>
          <p:nvPr/>
        </p:nvSpPr>
        <p:spPr>
          <a:xfrm>
            <a:off x="1143000" y="1643040"/>
            <a:ext cx="6500880" cy="928800"/>
          </a:xfrm>
          <a:prstGeom prst="rect">
            <a:avLst/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Способы перераспределения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85840" y="3811680"/>
            <a:ext cx="4143240" cy="211752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логи и трансфе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4714920" y="3786120"/>
            <a:ext cx="4143240" cy="214308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ерераспределение с помощью правового регул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трелка вниз 6"/>
          <p:cNvSpPr/>
          <p:nvPr/>
        </p:nvSpPr>
        <p:spPr>
          <a:xfrm>
            <a:off x="21430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вниз 8"/>
          <p:cNvSpPr/>
          <p:nvPr/>
        </p:nvSpPr>
        <p:spPr>
          <a:xfrm>
            <a:off x="65008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индивидов подрываются стимулы к производительной деятельности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Административные издержки функционирования налоговой системы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1628640"/>
            <a:ext cx="914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8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7"/>
          <p:cNvSpPr/>
          <p:nvPr/>
        </p:nvSpPr>
        <p:spPr>
          <a:xfrm>
            <a:off x="1357200" y="857160"/>
            <a:ext cx="6572520" cy="11430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http://www.nber.org/paper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1357200" y="3214800"/>
            <a:ext cx="2500560" cy="7858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ha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4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232" name="Овал 5"/>
          <p:cNvSpPr/>
          <p:nvPr/>
        </p:nvSpPr>
        <p:spPr>
          <a:xfrm>
            <a:off x="1357200" y="4286160"/>
            <a:ext cx="571680" cy="128592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2143080" y="3786120"/>
            <a:ext cx="5429160" cy="5716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9694-w9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 Гл. 1,2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 Гл. 1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 Cambridge (MA): Harvard University Press.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. 28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. ‘Income Distributional Equity and the Law’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Экономический анализ права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Law and Economics) –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анализ законодательных и судебных решений экономическими методам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ase, Ronald H. 1960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‘The Problem of Social Cost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Law and Economics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3(1):1-44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labresi, Guido. 1961. ‘Some Thoughts on Risk Distribution and the Law of Torts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Yale Law Journ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0(4):499-553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ker, Gary S. 1968. ‘Crime and Punishment: An Economic Approach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Political Econom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6(2):169-21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имеет дело с предельными величинам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уделяет основное внимание созданию стимулов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 ante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Овал 3"/>
          <p:cNvSpPr/>
          <p:nvPr/>
        </p:nvSpPr>
        <p:spPr>
          <a:xfrm>
            <a:off x="714240" y="2857680"/>
            <a:ext cx="7715520" cy="307152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02:24Z</dcterms:created>
  <dc:creator>www.PHILka.RU</dc:creator>
  <dc:description/>
  <dc:language>en-US</dc:language>
  <cp:lastModifiedBy>LEGION</cp:lastModifiedBy>
  <dcterms:modified xsi:type="dcterms:W3CDTF">2015-01-28T08:21:50Z</dcterms:modified>
  <cp:revision>63</cp:revision>
  <dc:subject/>
  <dc:title>ЭКОНОМИЧЕСКИЙ АНАЛИЗ ПРАВА</dc:title>
</cp:coreProperties>
</file>