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CF06D-C9C8-41AF-A7BA-D7C202971BA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57cb"/>
                </a:solidFill>
                <a:latin typeface="Splash"/>
              </a:rPr>
              <a:t>Теория государства </a:t>
            </a:r>
            <a:br>
              <a:rPr sz="1200"/>
            </a:br>
            <a:r>
              <a:rPr b="1" lang="ru-RU" sz="1200" spc="-1" strike="noStrike">
                <a:solidFill>
                  <a:srgbClr val="ff57cb"/>
                </a:solidFill>
                <a:latin typeface="Splash"/>
              </a:rPr>
              <a:t>и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72F02-CCD2-402E-A192-704AF07558C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Arial Black"/>
              </a:rPr>
              <a:t>Критерии оценки:</a:t>
            </a:r>
            <a:r>
              <a:rPr b="1" lang="ru-RU" sz="11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A0C84-7FB8-4A02-8D6B-FE0FC101B2D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0000"/>
                </a:solidFill>
                <a:uFillTx/>
                <a:latin typeface="Calibri"/>
              </a:rPr>
              <a:t>По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– </a:t>
            </a:r>
            <a:r>
              <a:rPr b="1" i="1" lang="ru-RU" sz="1200" spc="-1" strike="noStrike">
                <a:solidFill>
                  <a:srgbClr val="000066"/>
                </a:solidFill>
                <a:latin typeface="Calibri"/>
              </a:rPr>
              <a:t>это взаимодействие человека с окружающей средой, опосредованное его двигательной (физической) и психической активностью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44ACF-213F-45F3-8289-FDDDE8B951E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Каким может быть поведен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Юридически нейтраль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е регулируется право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и не влечет юридических последств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Юридически значимым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егулируется право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и может, как соответствовать правовым нормам, так и не соответствовать 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EAEDD-2255-46FB-A803-39340705907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cc0000"/>
                </a:solidFill>
                <a:latin typeface="Calibri"/>
              </a:rPr>
              <a:t>Dura lex, sed le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33"/>
                </a:solidFill>
                <a:latin typeface="Arial"/>
              </a:rPr>
              <a:t>Закон  суров, но это есть зак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976CB-8B3F-4A25-9A58-99B8381EC47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Правонаруш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– </a:t>
            </a: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это противоправное, виновное деяние деликтоспособных лиц, влекущее за собой юридическую ответственность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5CE0B-AD74-4D05-BEB3-1C0BE42ECA1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9"/>
                </a:solidFill>
                <a:latin typeface="Calibri"/>
              </a:rPr>
              <a:t>ПРИЗНАКИ </a:t>
            </a:r>
            <a:r>
              <a:rPr b="1" lang="ru-RU" sz="1600" spc="-1" strike="noStrike">
                <a:solidFill>
                  <a:srgbClr val="ffff01"/>
                </a:solidFill>
                <a:latin typeface="Calibri"/>
              </a:rPr>
              <a:t>ПРАВОНАРУШ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Правонарушение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есть акт поведения, выражающийся в действии или бездейств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Правонарушение</a:t>
            </a:r>
            <a:r>
              <a:rPr b="1" lang="ru-RU" sz="1200" spc="-1" strike="noStrike">
                <a:solidFill>
                  <a:srgbClr val="00007a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– это противоправное деяние, т. е. деяние, запрещенное нормами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3A673-2287-4896-A56A-F71ECF66553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Calibri"/>
              </a:rPr>
              <a:t>ПРИЗНАКИ ПРАВОНАРУШ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Правонарушение</a:t>
            </a:r>
            <a:r>
              <a:rPr b="1" lang="ru-RU" sz="1200" spc="-1" strike="noStrike">
                <a:solidFill>
                  <a:srgbClr val="00007a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есть акт поведения, выражающийся в действии или бездейств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Правонарушение</a:t>
            </a:r>
            <a:r>
              <a:rPr b="1" lang="ru-RU" sz="1200" spc="-1" strike="noStrike">
                <a:solidFill>
                  <a:srgbClr val="00007a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– это противоправное деяние, т. е. деяние, запрещенное нормами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A56D5-159D-43CE-9DE6-2F618F285C4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Правонарушение </a:t>
            </a: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всегда наносит обществу определенный вред и потому в той или иной степени опасно, нежелатель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Правонарушение</a:t>
            </a:r>
            <a:r>
              <a:rPr b="1" lang="ru-RU" sz="1200" spc="-1" strike="noStrike">
                <a:solidFill>
                  <a:srgbClr val="00007a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– это не всякое противоправное деяние, совершенное дееспособным лицом, а только  то, которое совершено по вине</a:t>
            </a:r>
            <a:r>
              <a:rPr b="1" lang="ru-RU" sz="1400" spc="-1" strike="noStrike">
                <a:solidFill>
                  <a:srgbClr val="ffffcc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этого ли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31A2E-88E9-4FBD-BC88-0A22BA7F05D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Calibri"/>
              </a:rPr>
              <a:t>ПРИЗНАКИ ПРАВОНАРУШ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Правонарушение </a:t>
            </a: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может быть совершено только деликтоспособным лиц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Правонарушение</a:t>
            </a:r>
            <a:r>
              <a:rPr b="1" lang="ru-RU" sz="1200" spc="-1" strike="noStrike">
                <a:solidFill>
                  <a:srgbClr val="00007a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является основанием возникновения и наложения юридической ответств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CB42A-A838-4D9A-9D9D-53021D1D14C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d60093"/>
                </a:solidFill>
                <a:latin typeface="Arial"/>
              </a:rPr>
              <a:t>Теория</a:t>
            </a:r>
            <a:r>
              <a:rPr b="1" lang="ru-RU" sz="12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d60093"/>
                </a:solidFill>
                <a:latin typeface="Arial"/>
              </a:rPr>
              <a:t>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0" lang="uk-UA" sz="1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равомер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оведение,</a:t>
            </a:r>
            <a:r>
              <a:rPr b="0" lang="en-US" sz="1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0" lang="uk-UA" sz="1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равонарушение</a:t>
            </a:r>
            <a:r>
              <a:rPr b="0" lang="en-US" sz="1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0" lang="uk-UA" sz="1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и юрид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 </a:t>
            </a:r>
            <a:r>
              <a:rPr b="0" lang="uk-UA" sz="1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B57AA-68D9-4F7A-85D3-529A5BCE413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За совершение любого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 вида преступления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или проступка правонаруши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3C4DE-A0D7-49E3-BA0C-0E6BB208C45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33"/>
                </a:solidFill>
                <a:latin typeface="Calibri"/>
              </a:rPr>
              <a:t>ГОТОВ 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00"/>
                </a:solidFill>
                <a:uFillTx/>
                <a:latin typeface="Calibri"/>
              </a:rPr>
              <a:t>ТЫ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33"/>
                </a:solidFill>
                <a:latin typeface="Calibri"/>
              </a:rPr>
              <a:t>ПЛАТИ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33"/>
                </a:solidFill>
                <a:latin typeface="Calibri"/>
              </a:rPr>
              <a:t>ТАКОЙ ЦЕНО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80A61-C91B-4469-85CC-8A8FD90007A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46"/>
                </a:solidFill>
                <a:latin typeface="Calibri"/>
              </a:rPr>
              <a:t>Смоленский М.Б. «Теория государства и права» Глава 14, темы 14.1-14.3 (стр.244-25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46"/>
                </a:solidFill>
                <a:latin typeface="Calibri"/>
              </a:rPr>
              <a:t>Приведите пример правонарушения с подробным анализом всех составляющих его элементов. Задание выполняется письменно в тетрад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F32EF-635B-43D8-82E2-E429AD18FE9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4B90A-945F-413F-8886-1228CE27B0A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Arial Black"/>
              </a:rPr>
              <a:t>План занят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SzPct val="11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Проверка изученного теоретического материа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SzPct val="11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Правомерное поведе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понятие, сущность, ви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SzPct val="110000"/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Понятие и признаки правонару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SzPct val="110000"/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Состав и виды правонару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09C5D-BCCF-49C9-B287-941E81A1D79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66"/>
                </a:solidFill>
                <a:latin typeface="Arial Black"/>
              </a:rPr>
              <a:t>Вопро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Что такое правосубъектнос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Какие юридические свойства она в себя включает?</a:t>
            </a:r>
            <a:r>
              <a:rPr b="1" lang="ru-RU" sz="1200" spc="-1" strike="noStrike">
                <a:solidFill>
                  <a:srgbClr val="623395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AC827-63E3-4384-A2DD-352E565488E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66"/>
                </a:solidFill>
                <a:latin typeface="Arial Black"/>
              </a:rPr>
              <a:t>Вопро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Чем отличается время возникновения правоспособности у физических и юридических лиц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B0554-1DAC-4A74-95A1-EEBD325B639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66"/>
                </a:solidFill>
                <a:latin typeface="Arial Black"/>
              </a:rPr>
              <a:t>Вопро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Перечислите факторы, влияющие на дееспособность физического ли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C0EBA-1D64-4E1E-80F1-180017F0D2A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66"/>
                </a:solidFill>
                <a:latin typeface="Arial Black"/>
              </a:rPr>
              <a:t>Вопро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Кто и в каких случаях может ограничить дееспособность гражданин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CDF0F-8751-4AEC-85D4-0E7EB18F4B5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66"/>
                </a:solidFill>
                <a:latin typeface="Arial Black"/>
              </a:rPr>
              <a:t>Вопро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Перечислите элементы правоотно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9FCDD-86E3-472F-B704-E676071B072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Эталон отве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39FCC-E241-48CE-A2F0-7934FC9246A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C684-52EA-43F7-A422-CF9CF2E68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7158-2A54-40EC-9FBC-7C7CF1646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9186-2016-4786-BF50-EB54EAA5A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23D0-340A-4C3F-B1EA-C0F1FF9BD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4243E-11F9-42BA-9E32-D1AA05C22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3000D-5C67-4D75-B639-33716A795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CA347-CCD3-47F8-8DD8-341E9863A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1B013-A09C-422B-B8BD-A7CB79E03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A2E80-83CF-4E4C-A24F-F35C58B06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AB264-BEED-4835-B6E2-F8D1CA28B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E3700-EF75-48BA-96FB-0820F3639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CA92-9E58-4FA6-AB2E-FF51C9030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29243-CA0A-4736-B62D-30DC1E0A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122A8-F37A-42F6-9ED4-0370D94A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05656-1B34-443C-B141-46FD93F77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09F62-EA45-4659-B8AC-EF7A19441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7CD91-5823-4D3E-A73A-F2F4EFD03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7D04-01B9-468D-B60B-8ED4051C5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F1DF-C114-4F93-B418-F4B959BBC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15DC-491E-401B-9817-D213CC934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650A-9ECA-4B06-ABF3-4DE258FEF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BCBB-E0A1-48F9-BFC8-DFF31612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9373-CE1F-4D46-A6F8-D5CE39F7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4D3F-E7D3-4EAE-BA3E-EFB67A3DE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8B38D-E9F5-424A-8A27-EE09D9A04FB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71731-BCA8-4BA9-ADD0-9CAEB871751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692280"/>
            <a:ext cx="7918560" cy="47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57cb"/>
                </a:solidFill>
                <a:latin typeface="Splash"/>
              </a:rPr>
              <a:t>Теория государства </a:t>
            </a:r>
            <a:br>
              <a:rPr sz="8800"/>
            </a:br>
            <a:r>
              <a:rPr b="1" lang="ru-RU" sz="8800" spc="-1" strike="noStrike">
                <a:solidFill>
                  <a:srgbClr val="ff57cb"/>
                </a:solidFill>
                <a:latin typeface="Splash"/>
              </a:rPr>
              <a:t>и права</a:t>
            </a:r>
            <a:endParaRPr b="0" lang="en-US" sz="8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dfcb6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Arial Black"/>
              </a:rPr>
              <a:t>Критерии оценки:</a:t>
            </a: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547640" y="1700280"/>
          <a:ext cx="6048720" cy="4073400"/>
        </p:xfrm>
        <a:graphic>
          <a:graphicData uri="http://schemas.openxmlformats.org/drawingml/2006/table">
            <a:tbl>
              <a:tblPr/>
              <a:tblGrid>
                <a:gridCol w="3600720"/>
                <a:gridCol w="244800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Количество правильных ответ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Оцен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«5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 - 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«4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 - 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«3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 - 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«2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8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280" y="1628640"/>
            <a:ext cx="8207640" cy="28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Arial"/>
              </a:rPr>
              <a:t>– </a:t>
            </a: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это взаимодействие человека с окружающей средой, опосредованное его двигательной (физической) и психической активностью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539640" y="476280"/>
            <a:ext cx="47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cc0000"/>
                </a:solidFill>
                <a:uFillTx/>
                <a:latin typeface="Arial"/>
              </a:rPr>
              <a:t>Повед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647640" y="4869000"/>
            <a:ext cx="849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660033"/>
                </a:solidFill>
                <a:uFillTx/>
                <a:latin typeface="Arial"/>
              </a:rPr>
              <a:t>Каким может быть поведени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8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800080"/>
                </a:solidFill>
                <a:uFillTx/>
                <a:latin typeface="Arial"/>
              </a:rPr>
              <a:t>Каким может быть поведени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468360" y="1052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Юридически нейтральны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755640" y="1916280"/>
            <a:ext cx="82296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не регулируется правом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и не влечет юридических последств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468360" y="342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Юридически значимым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770040" y="4221000"/>
            <a:ext cx="837396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регулируется правом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и может, как соответствовать правовым нормам, так и не соответствовать и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87876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_s1029"/>
          <p:cNvSpPr/>
          <p:nvPr/>
        </p:nvSpPr>
        <p:spPr>
          <a:xfrm>
            <a:off x="3059280" y="1052640"/>
            <a:ext cx="3168360" cy="165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6bc96"/>
              </a:gs>
              <a:gs pos="50000">
                <a:srgbClr val="ccffcc"/>
              </a:gs>
              <a:gs pos="100000">
                <a:srgbClr val="96bc96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Правомер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пове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_s1030"/>
          <p:cNvSpPr/>
          <p:nvPr/>
        </p:nvSpPr>
        <p:spPr>
          <a:xfrm>
            <a:off x="250920" y="549360"/>
            <a:ext cx="2376360" cy="820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acc7"/>
              </a:gs>
              <a:gs pos="50000">
                <a:srgbClr val="eeddff"/>
              </a:gs>
              <a:gs pos="100000">
                <a:srgbClr val="baacc7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6"/>
                </a:solidFill>
                <a:latin typeface="Arial"/>
              </a:rPr>
              <a:t>Актив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AutoShape 17"/>
          <p:cNvCxnSpPr/>
          <p:nvPr/>
        </p:nvCxnSpPr>
        <p:spPr>
          <a:xfrm flipV="1" rot="10800000">
            <a:off x="2626560" y="1699200"/>
            <a:ext cx="432720" cy="664200"/>
          </a:xfrm>
          <a:prstGeom prst="bentConnector3">
            <a:avLst>
              <a:gd name="adj1" fmla="val 50291"/>
            </a:avLst>
          </a:prstGeom>
          <a:ln w="28440">
            <a:solidFill>
              <a:srgbClr val="000046"/>
            </a:solidFill>
            <a:miter/>
            <a:tailEnd len="med" type="triangle" w="med"/>
          </a:ln>
        </p:spPr>
      </p:cxnSp>
      <p:cxnSp>
        <p:nvCxnSpPr>
          <p:cNvPr id="142" name="AutoShape 21"/>
          <p:cNvCxnSpPr>
            <a:endCxn id="140" idx="3"/>
          </p:cNvCxnSpPr>
          <p:nvPr/>
        </p:nvCxnSpPr>
        <p:spPr>
          <a:xfrm rot="10800000">
            <a:off x="2626560" y="959760"/>
            <a:ext cx="432720" cy="741960"/>
          </a:xfrm>
          <a:prstGeom prst="bentConnector3">
            <a:avLst>
              <a:gd name="adj1" fmla="val 49958"/>
            </a:avLst>
          </a:prstGeom>
          <a:ln w="28440">
            <a:solidFill>
              <a:srgbClr val="000046"/>
            </a:solidFill>
            <a:miter/>
            <a:tailEnd len="med" type="triangle" w="med"/>
          </a:ln>
        </p:spPr>
      </p:cxnSp>
      <p:cxnSp>
        <p:nvCxnSpPr>
          <p:cNvPr id="143" name="AutoShape 25"/>
          <p:cNvCxnSpPr>
            <a:stCxn id="139" idx="3"/>
          </p:cNvCxnSpPr>
          <p:nvPr/>
        </p:nvCxnSpPr>
        <p:spPr>
          <a:xfrm flipV="1">
            <a:off x="6227280" y="1031400"/>
            <a:ext cx="361080" cy="850320"/>
          </a:xfrm>
          <a:prstGeom prst="bentConnector3">
            <a:avLst>
              <a:gd name="adj1" fmla="val 49700"/>
            </a:avLst>
          </a:prstGeom>
          <a:ln w="28440">
            <a:solidFill>
              <a:srgbClr val="000046"/>
            </a:solidFill>
            <a:miter/>
            <a:tailEnd len="med" type="triangle" w="med"/>
          </a:ln>
        </p:spPr>
      </p:cxnSp>
      <p:cxnSp>
        <p:nvCxnSpPr>
          <p:cNvPr id="144" name="AutoShape 27"/>
          <p:cNvCxnSpPr>
            <a:stCxn id="139" idx="3"/>
          </p:cNvCxnSpPr>
          <p:nvPr/>
        </p:nvCxnSpPr>
        <p:spPr>
          <a:xfrm>
            <a:off x="6227280" y="1881000"/>
            <a:ext cx="361080" cy="664200"/>
          </a:xfrm>
          <a:prstGeom prst="bentConnector3">
            <a:avLst>
              <a:gd name="adj1" fmla="val 49700"/>
            </a:avLst>
          </a:prstGeom>
          <a:ln w="28440">
            <a:solidFill>
              <a:srgbClr val="000046"/>
            </a:solidFill>
            <a:miter/>
            <a:tailEnd len="med" type="triangle" w="med"/>
          </a:ln>
        </p:spPr>
      </p:cxnSp>
      <p:sp>
        <p:nvSpPr>
          <p:cNvPr id="145" name="Line 28"/>
          <p:cNvSpPr/>
          <p:nvPr/>
        </p:nvSpPr>
        <p:spPr>
          <a:xfrm>
            <a:off x="4716360" y="2708280"/>
            <a:ext cx="0" cy="289080"/>
          </a:xfrm>
          <a:prstGeom prst="line">
            <a:avLst/>
          </a:prstGeom>
          <a:ln w="28440">
            <a:solidFill>
              <a:srgbClr val="0000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9"/>
          <p:cNvSpPr/>
          <p:nvPr/>
        </p:nvSpPr>
        <p:spPr>
          <a:xfrm flipH="1">
            <a:off x="3203640" y="2997360"/>
            <a:ext cx="1512720" cy="0"/>
          </a:xfrm>
          <a:prstGeom prst="line">
            <a:avLst/>
          </a:prstGeom>
          <a:ln w="28440">
            <a:solidFill>
              <a:srgbClr val="0000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30"/>
          <p:cNvSpPr/>
          <p:nvPr/>
        </p:nvSpPr>
        <p:spPr>
          <a:xfrm>
            <a:off x="3203640" y="2997360"/>
            <a:ext cx="0" cy="792000"/>
          </a:xfrm>
          <a:prstGeom prst="line">
            <a:avLst/>
          </a:prstGeom>
          <a:ln w="28440">
            <a:solidFill>
              <a:srgbClr val="0000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1"/>
          <p:cNvSpPr/>
          <p:nvPr/>
        </p:nvSpPr>
        <p:spPr>
          <a:xfrm>
            <a:off x="3203640" y="6237360"/>
            <a:ext cx="504720" cy="0"/>
          </a:xfrm>
          <a:prstGeom prst="line">
            <a:avLst/>
          </a:prstGeom>
          <a:ln w="28440">
            <a:solidFill>
              <a:srgbClr val="00004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2"/>
          <p:cNvSpPr/>
          <p:nvPr/>
        </p:nvSpPr>
        <p:spPr>
          <a:xfrm>
            <a:off x="3203640" y="5013360"/>
            <a:ext cx="504720" cy="0"/>
          </a:xfrm>
          <a:prstGeom prst="line">
            <a:avLst/>
          </a:prstGeom>
          <a:ln w="28440">
            <a:solidFill>
              <a:srgbClr val="00004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33"/>
          <p:cNvSpPr/>
          <p:nvPr/>
        </p:nvSpPr>
        <p:spPr>
          <a:xfrm>
            <a:off x="3203640" y="3789360"/>
            <a:ext cx="504720" cy="0"/>
          </a:xfrm>
          <a:prstGeom prst="line">
            <a:avLst/>
          </a:prstGeom>
          <a:ln w="28440">
            <a:solidFill>
              <a:srgbClr val="00004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_s1030"/>
          <p:cNvSpPr/>
          <p:nvPr/>
        </p:nvSpPr>
        <p:spPr>
          <a:xfrm>
            <a:off x="3708360" y="3357720"/>
            <a:ext cx="2376360" cy="820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a4a4"/>
              </a:gs>
              <a:gs pos="50000">
                <a:srgbClr val="ccffff"/>
              </a:gs>
              <a:gs pos="100000">
                <a:srgbClr val="83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6"/>
                </a:solidFill>
                <a:latin typeface="Arial"/>
              </a:rPr>
              <a:t>Созна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_s1030"/>
          <p:cNvSpPr/>
          <p:nvPr/>
        </p:nvSpPr>
        <p:spPr>
          <a:xfrm>
            <a:off x="3708360" y="4581360"/>
            <a:ext cx="2808360" cy="820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a4a4"/>
              </a:gs>
              <a:gs pos="50000">
                <a:srgbClr val="ccffff"/>
              </a:gs>
              <a:gs pos="100000">
                <a:srgbClr val="83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6"/>
                </a:solidFill>
                <a:latin typeface="Arial"/>
              </a:rPr>
              <a:t>Конформист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_s1030"/>
          <p:cNvSpPr/>
          <p:nvPr/>
        </p:nvSpPr>
        <p:spPr>
          <a:xfrm>
            <a:off x="3708360" y="5661000"/>
            <a:ext cx="453564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a4a4"/>
              </a:gs>
              <a:gs pos="50000">
                <a:srgbClr val="ccffff"/>
              </a:gs>
              <a:gs pos="100000">
                <a:srgbClr val="83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46"/>
                </a:solidFill>
                <a:latin typeface="Arial"/>
              </a:rPr>
              <a:t>Правомерное пове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4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46"/>
                </a:solidFill>
                <a:latin typeface="Arial"/>
              </a:rPr>
              <a:t>под страх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4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46"/>
                </a:solidFill>
                <a:latin typeface="Arial"/>
              </a:rPr>
              <a:t>государственного прину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_s1030"/>
          <p:cNvSpPr/>
          <p:nvPr/>
        </p:nvSpPr>
        <p:spPr>
          <a:xfrm>
            <a:off x="250920" y="1989000"/>
            <a:ext cx="2376360" cy="820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acc7"/>
              </a:gs>
              <a:gs pos="50000">
                <a:srgbClr val="eeddff"/>
              </a:gs>
              <a:gs pos="100000">
                <a:srgbClr val="baacc7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6"/>
                </a:solidFill>
                <a:latin typeface="Arial"/>
              </a:rPr>
              <a:t>Пассив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_s1030"/>
          <p:cNvSpPr/>
          <p:nvPr/>
        </p:nvSpPr>
        <p:spPr>
          <a:xfrm>
            <a:off x="6588000" y="549360"/>
            <a:ext cx="2376720" cy="820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acc7"/>
              </a:gs>
              <a:gs pos="50000">
                <a:srgbClr val="eeddff"/>
              </a:gs>
              <a:gs pos="100000">
                <a:srgbClr val="baacc7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6"/>
                </a:solidFill>
                <a:latin typeface="Arial"/>
              </a:rPr>
              <a:t>Необходим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6"/>
                </a:solidFill>
                <a:latin typeface="Arial"/>
              </a:rPr>
              <a:t>(желательно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_s1030"/>
          <p:cNvSpPr/>
          <p:nvPr/>
        </p:nvSpPr>
        <p:spPr>
          <a:xfrm>
            <a:off x="6588000" y="1989000"/>
            <a:ext cx="2376720" cy="820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acc7"/>
              </a:gs>
              <a:gs pos="50000">
                <a:srgbClr val="eeddff"/>
              </a:gs>
              <a:gs pos="100000">
                <a:srgbClr val="baacc7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6"/>
                </a:solidFill>
                <a:latin typeface="Arial"/>
              </a:rPr>
              <a:t>Социа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6"/>
                </a:solidFill>
                <a:latin typeface="Arial"/>
              </a:rPr>
              <a:t>допустим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41"/>
          <p:cNvSpPr/>
          <p:nvPr/>
        </p:nvSpPr>
        <p:spPr>
          <a:xfrm>
            <a:off x="3203640" y="3789360"/>
            <a:ext cx="0" cy="1224000"/>
          </a:xfrm>
          <a:prstGeom prst="line">
            <a:avLst/>
          </a:prstGeom>
          <a:ln w="28440">
            <a:solidFill>
              <a:srgbClr val="0000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42"/>
          <p:cNvSpPr/>
          <p:nvPr/>
        </p:nvSpPr>
        <p:spPr>
          <a:xfrm>
            <a:off x="3203640" y="5013360"/>
            <a:ext cx="0" cy="1224000"/>
          </a:xfrm>
          <a:prstGeom prst="line">
            <a:avLst/>
          </a:prstGeom>
          <a:ln w="28440">
            <a:solidFill>
              <a:srgbClr val="0000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3" descr="3783311"/>
          <p:cNvPicPr/>
          <p:nvPr/>
        </p:nvPicPr>
        <p:blipFill>
          <a:blip r:embed="rId1"/>
          <a:srcRect l="23274" t="0" r="21471" b="0"/>
          <a:stretch/>
        </p:blipFill>
        <p:spPr>
          <a:xfrm>
            <a:off x="0" y="3147840"/>
            <a:ext cx="2041560" cy="371016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ddff"/>
            </a:gs>
            <a:gs pos="100000">
              <a:srgbClr val="6e66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4920" y="1125000"/>
            <a:ext cx="8496360" cy="221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cc0000"/>
                </a:solidFill>
                <a:latin typeface="Arial"/>
              </a:rPr>
              <a:t>Dura lex, sed lex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468360" y="3716280"/>
            <a:ext cx="8435880" cy="22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660033"/>
                </a:solidFill>
                <a:latin typeface="Arial"/>
              </a:rPr>
              <a:t>Закон  суров, но это есть зако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5" descr="22"/>
          <p:cNvPicPr/>
          <p:nvPr/>
        </p:nvPicPr>
        <p:blipFill>
          <a:blip r:embed="rId1"/>
          <a:stretch/>
        </p:blipFill>
        <p:spPr>
          <a:xfrm>
            <a:off x="6473880" y="0"/>
            <a:ext cx="2670120" cy="40053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000" y="2707920"/>
            <a:ext cx="8280360" cy="35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это противоправное, виновное деяние деликтоспособных лиц, влекущее за собой юридическую ответственность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468360" y="1341360"/>
            <a:ext cx="54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0000"/>
                </a:solidFill>
                <a:uFillTx/>
                <a:latin typeface="Arial"/>
              </a:rPr>
              <a:t>Правонаруш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09"/>
                </a:solidFill>
                <a:latin typeface="Arial"/>
              </a:rPr>
              <a:t>ПРИЗНАКИ </a:t>
            </a:r>
            <a:r>
              <a:rPr b="1" lang="ru-RU" sz="4200" spc="-1" strike="noStrike">
                <a:solidFill>
                  <a:srgbClr val="ffff01"/>
                </a:solidFill>
                <a:latin typeface="Arial"/>
              </a:rPr>
              <a:t>ПРАВОНАРУШЕНИЯ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Правонарушение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есть акт поведения, выражающийся в действии или бездейств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Правонарушение</a:t>
            </a:r>
            <a:r>
              <a:rPr b="1" lang="ru-RU" sz="3600" spc="-1" strike="noStrike">
                <a:solidFill>
                  <a:srgbClr val="00007a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– это противоправное деяние, т. е. деяние, запрещенное нормами пра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00"/>
                </a:solidFill>
                <a:latin typeface="Arial"/>
              </a:rPr>
              <a:t>ПРИЗНАКИ ПРАВОНАРУШЕНИЯ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Правонарушение</a:t>
            </a:r>
            <a:r>
              <a:rPr b="1" lang="ru-RU" sz="3600" spc="-1" strike="noStrike">
                <a:solidFill>
                  <a:srgbClr val="00007a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есть акт поведения, выражающийся в действии или бездейств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Правонарушение</a:t>
            </a:r>
            <a:r>
              <a:rPr b="1" lang="ru-RU" sz="3600" spc="-1" strike="noStrike">
                <a:solidFill>
                  <a:srgbClr val="00007a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– это противоправное деяние, т. е. деяние, запрещенное нормами пра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24000" y="1412640"/>
            <a:ext cx="8496000" cy="49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ff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Правонарушение </a:t>
            </a: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всегда наносит обществу определенный вред и потому в той или иной степени опасно, нежелатель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ff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Правонарушение</a:t>
            </a:r>
            <a:r>
              <a:rPr b="1" lang="ru-RU" sz="3200" spc="-1" strike="noStrike">
                <a:solidFill>
                  <a:srgbClr val="00007a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– это не всякое противоправное деяние, совершенное дееспособным лицом, а только  то, которое совершено по вине</a:t>
            </a: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этого ли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179280" y="274680"/>
            <a:ext cx="878544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00"/>
                </a:solidFill>
                <a:latin typeface="Arial"/>
              </a:rPr>
              <a:t>ПРИЗНАКИ ПРАВОНАРУШЕНИЯ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00"/>
                </a:solidFill>
                <a:latin typeface="Arial"/>
              </a:rPr>
              <a:t>ПРИЗНАКИ ПРАВОНАРУШЕНИЯ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Правонарушение </a:t>
            </a: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может быть совершено только деликтоспособным лиц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Правонарушение</a:t>
            </a:r>
            <a:r>
              <a:rPr b="1" lang="ru-RU" sz="3600" spc="-1" strike="noStrike">
                <a:solidFill>
                  <a:srgbClr val="00007a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является основанием возникновения и наложения юридической ответственно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1ъъъ"/>
          <p:cNvPicPr/>
          <p:nvPr/>
        </p:nvPicPr>
        <p:blipFill>
          <a:blip r:embed="rId1"/>
          <a:stretch/>
        </p:blipFill>
        <p:spPr>
          <a:xfrm>
            <a:off x="5703840" y="0"/>
            <a:ext cx="344016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WordArt 5"/>
          <p:cNvSpPr txBox="1"/>
          <p:nvPr/>
        </p:nvSpPr>
        <p:spPr>
          <a:xfrm>
            <a:off x="0" y="2565360"/>
            <a:ext cx="4321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000046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  </a:t>
            </a:r>
            <a:r>
              <a:rPr b="0" lang="en-US" sz="1800" spc="1" strike="noStrike">
                <a:ln w="3240">
                  <a:solidFill>
                    <a:srgbClr val="000046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авомерное</a:t>
            </a:r>
            <a:endParaRPr b="0" lang="en-US" sz="1800" spc="1" strike="noStrike">
              <a:ln w="3240">
                <a:solidFill>
                  <a:srgbClr val="000046"/>
                </a:solidFill>
                <a:miter/>
              </a:ln>
              <a:solidFill>
                <a:srgbClr val="cc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000046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ведение,</a:t>
            </a:r>
            <a:endParaRPr b="0" lang="en-US" sz="1800" spc="1" strike="noStrike">
              <a:ln w="3240">
                <a:solidFill>
                  <a:srgbClr val="000046"/>
                </a:solidFill>
                <a:miter/>
              </a:ln>
              <a:solidFill>
                <a:srgbClr val="cc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1800" y="0"/>
            <a:ext cx="24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15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декабря 2009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WordArt 7"/>
          <p:cNvSpPr txBox="1"/>
          <p:nvPr/>
        </p:nvSpPr>
        <p:spPr>
          <a:xfrm>
            <a:off x="684360" y="4149720"/>
            <a:ext cx="44654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000046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авонарушение</a:t>
            </a:r>
            <a:endParaRPr b="0" lang="en-US" sz="1800" spc="1" strike="noStrike">
              <a:ln w="3240">
                <a:solidFill>
                  <a:srgbClr val="000046"/>
                </a:solidFill>
                <a:miter/>
              </a:ln>
              <a:solidFill>
                <a:srgbClr val="cc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5" name="WordArt 8"/>
          <p:cNvSpPr txBox="1"/>
          <p:nvPr/>
        </p:nvSpPr>
        <p:spPr>
          <a:xfrm>
            <a:off x="324000" y="5013360"/>
            <a:ext cx="475128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000046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 юридическая</a:t>
            </a:r>
            <a:endParaRPr b="0" lang="en-US" sz="1800" spc="1" strike="noStrike">
              <a:ln w="3240">
                <a:solidFill>
                  <a:srgbClr val="000046"/>
                </a:solidFill>
                <a:miter/>
              </a:ln>
              <a:solidFill>
                <a:srgbClr val="cc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000046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</a:t>
            </a:r>
            <a:r>
              <a:rPr b="0" lang="en-US" sz="1800" spc="1" strike="noStrike">
                <a:ln w="3240">
                  <a:solidFill>
                    <a:srgbClr val="000046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ветственность</a:t>
            </a:r>
            <a:endParaRPr b="0" lang="en-US" sz="1800" spc="1" strike="noStrike">
              <a:ln w="3240">
                <a:solidFill>
                  <a:srgbClr val="000046"/>
                </a:solidFill>
                <a:miter/>
              </a:ln>
              <a:solidFill>
                <a:srgbClr val="cc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539640" y="18446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Тем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179280" y="47628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Раздел №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179280" y="981000"/>
            <a:ext cx="446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60093"/>
                </a:solidFill>
                <a:latin typeface="Arial"/>
              </a:rPr>
              <a:t>Теория</a:t>
            </a:r>
            <a:r>
              <a:rPr b="1" lang="ru-RU" sz="44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d60093"/>
                </a:solidFill>
                <a:latin typeface="Arial"/>
              </a:rPr>
              <a:t>пра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3f3"/>
            </a:gs>
            <a:gs pos="100000">
              <a:srgbClr val="8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_s1029"/>
          <p:cNvSpPr/>
          <p:nvPr/>
        </p:nvSpPr>
        <p:spPr>
          <a:xfrm>
            <a:off x="1692360" y="2997360"/>
            <a:ext cx="568800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6bc96"/>
              </a:gs>
              <a:gs pos="50000">
                <a:srgbClr val="ccffcc"/>
              </a:gs>
              <a:gs pos="100000">
                <a:srgbClr val="96bc96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СОСТАВ   ПРАВОНАРУШ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_s1030"/>
          <p:cNvSpPr/>
          <p:nvPr/>
        </p:nvSpPr>
        <p:spPr>
          <a:xfrm>
            <a:off x="179280" y="4005360"/>
            <a:ext cx="230508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acc7"/>
              </a:gs>
              <a:gs pos="50000">
                <a:srgbClr val="eeddff"/>
              </a:gs>
              <a:gs pos="100000">
                <a:srgbClr val="baacc7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Объе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_s1030"/>
          <p:cNvSpPr/>
          <p:nvPr/>
        </p:nvSpPr>
        <p:spPr>
          <a:xfrm>
            <a:off x="2771640" y="4005360"/>
            <a:ext cx="237672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acc7"/>
              </a:gs>
              <a:gs pos="50000">
                <a:srgbClr val="eeddff"/>
              </a:gs>
              <a:gs pos="100000">
                <a:srgbClr val="baacc7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Субъе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_s1030"/>
          <p:cNvSpPr/>
          <p:nvPr/>
        </p:nvSpPr>
        <p:spPr>
          <a:xfrm>
            <a:off x="2987640" y="1700280"/>
            <a:ext cx="3168720" cy="86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acc7"/>
              </a:gs>
              <a:gs pos="50000">
                <a:srgbClr val="eeddff"/>
              </a:gs>
              <a:gs pos="100000">
                <a:srgbClr val="baacc7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Объектив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стор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_s1030"/>
          <p:cNvSpPr/>
          <p:nvPr/>
        </p:nvSpPr>
        <p:spPr>
          <a:xfrm>
            <a:off x="5435640" y="4005360"/>
            <a:ext cx="288144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acc7"/>
              </a:gs>
              <a:gs pos="50000">
                <a:srgbClr val="eeddff"/>
              </a:gs>
              <a:gs pos="100000">
                <a:srgbClr val="baacc7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Субъектив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стор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AutoShape 10"/>
          <p:cNvCxnSpPr>
            <a:stCxn id="180" idx="0"/>
            <a:endCxn id="183" idx="2"/>
          </p:cNvCxnSpPr>
          <p:nvPr/>
        </p:nvCxnSpPr>
        <p:spPr>
          <a:xfrm flipH="1" flipV="1" rot="5400000">
            <a:off x="4338000" y="2763360"/>
            <a:ext cx="432720" cy="35640"/>
          </a:xfrm>
          <a:prstGeom prst="bentConnector3">
            <a:avLst>
              <a:gd name="adj1" fmla="val 49958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6" name="Line 12"/>
          <p:cNvSpPr/>
          <p:nvPr/>
        </p:nvSpPr>
        <p:spPr>
          <a:xfrm>
            <a:off x="3995640" y="386064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4"/>
          <p:cNvSpPr/>
          <p:nvPr/>
        </p:nvSpPr>
        <p:spPr>
          <a:xfrm>
            <a:off x="1258920" y="3860640"/>
            <a:ext cx="316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6"/>
          <p:cNvSpPr/>
          <p:nvPr/>
        </p:nvSpPr>
        <p:spPr>
          <a:xfrm>
            <a:off x="1258920" y="386064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7"/>
          <p:cNvSpPr/>
          <p:nvPr/>
        </p:nvSpPr>
        <p:spPr>
          <a:xfrm>
            <a:off x="4427640" y="364500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8"/>
          <p:cNvSpPr/>
          <p:nvPr/>
        </p:nvSpPr>
        <p:spPr>
          <a:xfrm>
            <a:off x="4427640" y="3860640"/>
            <a:ext cx="28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9"/>
          <p:cNvSpPr/>
          <p:nvPr/>
        </p:nvSpPr>
        <p:spPr>
          <a:xfrm>
            <a:off x="7308720" y="386064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_s1030"/>
          <p:cNvSpPr/>
          <p:nvPr/>
        </p:nvSpPr>
        <p:spPr>
          <a:xfrm>
            <a:off x="179280" y="5013360"/>
            <a:ext cx="226872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a4a4"/>
              </a:gs>
              <a:gs pos="50000">
                <a:srgbClr val="ccffff"/>
              </a:gs>
              <a:gs pos="100000">
                <a:srgbClr val="83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6"/>
                </a:solidFill>
                <a:latin typeface="Arial"/>
              </a:rPr>
              <a:t>Умыс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_s1030"/>
          <p:cNvSpPr/>
          <p:nvPr/>
        </p:nvSpPr>
        <p:spPr>
          <a:xfrm>
            <a:off x="2843280" y="5013360"/>
            <a:ext cx="2771640" cy="5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a4a4"/>
              </a:gs>
              <a:gs pos="50000">
                <a:srgbClr val="ccffff"/>
              </a:gs>
              <a:gs pos="100000">
                <a:srgbClr val="83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6"/>
                </a:solidFill>
                <a:latin typeface="Arial"/>
              </a:rPr>
              <a:t>Неосторож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_s1030"/>
          <p:cNvSpPr/>
          <p:nvPr/>
        </p:nvSpPr>
        <p:spPr>
          <a:xfrm>
            <a:off x="6372360" y="5013360"/>
            <a:ext cx="2592360" cy="57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99"/>
              </a:gs>
              <a:gs pos="50000">
                <a:srgbClr val="bbe0e3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В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3"/>
          <p:cNvSpPr/>
          <p:nvPr/>
        </p:nvSpPr>
        <p:spPr>
          <a:xfrm>
            <a:off x="8317080" y="436572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4"/>
          <p:cNvSpPr/>
          <p:nvPr/>
        </p:nvSpPr>
        <p:spPr>
          <a:xfrm>
            <a:off x="8604360" y="4365720"/>
            <a:ext cx="0" cy="64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5"/>
          <p:cNvSpPr/>
          <p:nvPr/>
        </p:nvSpPr>
        <p:spPr>
          <a:xfrm flipH="1">
            <a:off x="1115640" y="4869000"/>
            <a:ext cx="583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6"/>
          <p:cNvSpPr/>
          <p:nvPr/>
        </p:nvSpPr>
        <p:spPr>
          <a:xfrm>
            <a:off x="6948360" y="48690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7"/>
          <p:cNvSpPr/>
          <p:nvPr/>
        </p:nvSpPr>
        <p:spPr>
          <a:xfrm>
            <a:off x="4284720" y="48690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8"/>
          <p:cNvSpPr/>
          <p:nvPr/>
        </p:nvSpPr>
        <p:spPr>
          <a:xfrm>
            <a:off x="1116000" y="48690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_s1030"/>
          <p:cNvSpPr/>
          <p:nvPr/>
        </p:nvSpPr>
        <p:spPr>
          <a:xfrm>
            <a:off x="250920" y="5661000"/>
            <a:ext cx="1657080" cy="43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a4a4"/>
              </a:gs>
              <a:gs pos="50000">
                <a:srgbClr val="efffff"/>
              </a:gs>
              <a:gs pos="100000">
                <a:srgbClr val="9a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прям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_s1030"/>
          <p:cNvSpPr/>
          <p:nvPr/>
        </p:nvSpPr>
        <p:spPr>
          <a:xfrm>
            <a:off x="250920" y="6237360"/>
            <a:ext cx="1657080" cy="476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a4a4"/>
              </a:gs>
              <a:gs pos="50000">
                <a:srgbClr val="efffff"/>
              </a:gs>
              <a:gs pos="100000">
                <a:srgbClr val="9a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косвен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31"/>
          <p:cNvSpPr/>
          <p:nvPr/>
        </p:nvSpPr>
        <p:spPr>
          <a:xfrm>
            <a:off x="2484360" y="5300640"/>
            <a:ext cx="142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32"/>
          <p:cNvSpPr/>
          <p:nvPr/>
        </p:nvSpPr>
        <p:spPr>
          <a:xfrm>
            <a:off x="2627280" y="530064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33"/>
          <p:cNvSpPr/>
          <p:nvPr/>
        </p:nvSpPr>
        <p:spPr>
          <a:xfrm flipH="1">
            <a:off x="1908000" y="6021360"/>
            <a:ext cx="719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34"/>
          <p:cNvSpPr/>
          <p:nvPr/>
        </p:nvSpPr>
        <p:spPr>
          <a:xfrm flipH="1">
            <a:off x="1908000" y="6524640"/>
            <a:ext cx="719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35"/>
          <p:cNvSpPr/>
          <p:nvPr/>
        </p:nvSpPr>
        <p:spPr>
          <a:xfrm>
            <a:off x="5653080" y="5229360"/>
            <a:ext cx="142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36"/>
          <p:cNvSpPr/>
          <p:nvPr/>
        </p:nvSpPr>
        <p:spPr>
          <a:xfrm>
            <a:off x="5796000" y="522936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37"/>
          <p:cNvSpPr/>
          <p:nvPr/>
        </p:nvSpPr>
        <p:spPr>
          <a:xfrm flipH="1">
            <a:off x="5076720" y="5950080"/>
            <a:ext cx="719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38"/>
          <p:cNvSpPr/>
          <p:nvPr/>
        </p:nvSpPr>
        <p:spPr>
          <a:xfrm flipH="1">
            <a:off x="5076720" y="6453360"/>
            <a:ext cx="719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_s1030"/>
          <p:cNvSpPr/>
          <p:nvPr/>
        </p:nvSpPr>
        <p:spPr>
          <a:xfrm>
            <a:off x="2916360" y="5661000"/>
            <a:ext cx="2160360" cy="43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a4a4"/>
              </a:gs>
              <a:gs pos="50000">
                <a:srgbClr val="efffff"/>
              </a:gs>
              <a:gs pos="100000">
                <a:srgbClr val="9a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легкомысл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_s1030"/>
          <p:cNvSpPr/>
          <p:nvPr/>
        </p:nvSpPr>
        <p:spPr>
          <a:xfrm>
            <a:off x="2987640" y="6237360"/>
            <a:ext cx="2089080" cy="433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a4a4"/>
              </a:gs>
              <a:gs pos="50000">
                <a:srgbClr val="efffff"/>
              </a:gs>
              <a:gs pos="100000">
                <a:srgbClr val="9a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небреж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41"/>
          <p:cNvSpPr/>
          <p:nvPr/>
        </p:nvSpPr>
        <p:spPr>
          <a:xfrm flipH="1">
            <a:off x="6156360" y="52293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42"/>
          <p:cNvSpPr/>
          <p:nvPr/>
        </p:nvSpPr>
        <p:spPr>
          <a:xfrm>
            <a:off x="6156360" y="522936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43"/>
          <p:cNvSpPr/>
          <p:nvPr/>
        </p:nvSpPr>
        <p:spPr>
          <a:xfrm>
            <a:off x="6156360" y="5950080"/>
            <a:ext cx="647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44"/>
          <p:cNvSpPr/>
          <p:nvPr/>
        </p:nvSpPr>
        <p:spPr>
          <a:xfrm>
            <a:off x="6156360" y="6453360"/>
            <a:ext cx="647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_s1030"/>
          <p:cNvSpPr/>
          <p:nvPr/>
        </p:nvSpPr>
        <p:spPr>
          <a:xfrm>
            <a:off x="6804000" y="5661000"/>
            <a:ext cx="2050920" cy="43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a4a4"/>
              </a:gs>
              <a:gs pos="50000">
                <a:srgbClr val="ccffff"/>
              </a:gs>
              <a:gs pos="100000">
                <a:srgbClr val="83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6"/>
                </a:solidFill>
                <a:latin typeface="Arial"/>
              </a:rPr>
              <a:t>Ц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_s1030"/>
          <p:cNvSpPr/>
          <p:nvPr/>
        </p:nvSpPr>
        <p:spPr>
          <a:xfrm>
            <a:off x="6804000" y="6237360"/>
            <a:ext cx="2016000" cy="43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a4a4"/>
              </a:gs>
              <a:gs pos="50000">
                <a:srgbClr val="ccffff"/>
              </a:gs>
              <a:gs pos="100000">
                <a:srgbClr val="83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46"/>
                </a:solidFill>
                <a:latin typeface="Arial"/>
              </a:rPr>
              <a:t>Мот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49"/>
          <p:cNvSpPr/>
          <p:nvPr/>
        </p:nvSpPr>
        <p:spPr>
          <a:xfrm>
            <a:off x="2627280" y="602136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50"/>
          <p:cNvSpPr/>
          <p:nvPr/>
        </p:nvSpPr>
        <p:spPr>
          <a:xfrm>
            <a:off x="5796000" y="595008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51"/>
          <p:cNvSpPr/>
          <p:nvPr/>
        </p:nvSpPr>
        <p:spPr>
          <a:xfrm>
            <a:off x="6156360" y="595008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_s1030"/>
          <p:cNvSpPr/>
          <p:nvPr/>
        </p:nvSpPr>
        <p:spPr>
          <a:xfrm>
            <a:off x="6516720" y="189000"/>
            <a:ext cx="244800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99"/>
              </a:gs>
              <a:gs pos="50000">
                <a:srgbClr val="bbe0e3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Дея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53"/>
          <p:cNvSpPr/>
          <p:nvPr/>
        </p:nvSpPr>
        <p:spPr>
          <a:xfrm flipH="1">
            <a:off x="5724000" y="33336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54"/>
          <p:cNvSpPr/>
          <p:nvPr/>
        </p:nvSpPr>
        <p:spPr>
          <a:xfrm flipH="1">
            <a:off x="5724000" y="105264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_s1030"/>
          <p:cNvSpPr/>
          <p:nvPr/>
        </p:nvSpPr>
        <p:spPr>
          <a:xfrm>
            <a:off x="3564000" y="189000"/>
            <a:ext cx="2160360" cy="43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a4a4"/>
              </a:gs>
              <a:gs pos="50000">
                <a:srgbClr val="efffff"/>
              </a:gs>
              <a:gs pos="100000">
                <a:srgbClr val="9a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действ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_s1030"/>
          <p:cNvSpPr/>
          <p:nvPr/>
        </p:nvSpPr>
        <p:spPr>
          <a:xfrm>
            <a:off x="3564000" y="907920"/>
            <a:ext cx="2160360" cy="43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a4a4"/>
              </a:gs>
              <a:gs pos="50000">
                <a:srgbClr val="efffff"/>
              </a:gs>
              <a:gs pos="100000">
                <a:srgbClr val="9a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бездейств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_s1030"/>
          <p:cNvSpPr/>
          <p:nvPr/>
        </p:nvSpPr>
        <p:spPr>
          <a:xfrm>
            <a:off x="6804000" y="907920"/>
            <a:ext cx="2160720" cy="57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a4a4"/>
              </a:gs>
              <a:gs pos="50000">
                <a:srgbClr val="efffff"/>
              </a:gs>
              <a:gs pos="100000">
                <a:srgbClr val="9a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Вредонос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результ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_s1030"/>
          <p:cNvSpPr/>
          <p:nvPr/>
        </p:nvSpPr>
        <p:spPr>
          <a:xfrm>
            <a:off x="6804000" y="1628640"/>
            <a:ext cx="21607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a4a4"/>
              </a:gs>
              <a:gs pos="50000">
                <a:srgbClr val="efffff"/>
              </a:gs>
              <a:gs pos="100000">
                <a:srgbClr val="9a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Связь меж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деянием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результа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_s1030"/>
          <p:cNvSpPr/>
          <p:nvPr/>
        </p:nvSpPr>
        <p:spPr>
          <a:xfrm>
            <a:off x="7451640" y="2708280"/>
            <a:ext cx="151308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a4a4"/>
              </a:gs>
              <a:gs pos="50000">
                <a:srgbClr val="efffff"/>
              </a:gs>
              <a:gs pos="100000">
                <a:srgbClr val="9a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Мес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право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46"/>
                </a:solidFill>
                <a:latin typeface="Arial"/>
              </a:rPr>
              <a:t>нару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0"/>
          <p:cNvSpPr/>
          <p:nvPr/>
        </p:nvSpPr>
        <p:spPr>
          <a:xfrm flipV="1">
            <a:off x="6084720" y="333360"/>
            <a:ext cx="0" cy="7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61"/>
          <p:cNvSpPr/>
          <p:nvPr/>
        </p:nvSpPr>
        <p:spPr>
          <a:xfrm>
            <a:off x="6084720" y="40464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63"/>
          <p:cNvSpPr/>
          <p:nvPr/>
        </p:nvSpPr>
        <p:spPr>
          <a:xfrm>
            <a:off x="6372360" y="119700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65"/>
          <p:cNvSpPr/>
          <p:nvPr/>
        </p:nvSpPr>
        <p:spPr>
          <a:xfrm>
            <a:off x="6372360" y="191628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66"/>
          <p:cNvSpPr/>
          <p:nvPr/>
        </p:nvSpPr>
        <p:spPr>
          <a:xfrm>
            <a:off x="6372360" y="2060640"/>
            <a:ext cx="0" cy="79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67"/>
          <p:cNvSpPr/>
          <p:nvPr/>
        </p:nvSpPr>
        <p:spPr>
          <a:xfrm>
            <a:off x="6372360" y="2852640"/>
            <a:ext cx="1079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68"/>
          <p:cNvSpPr/>
          <p:nvPr/>
        </p:nvSpPr>
        <p:spPr>
          <a:xfrm>
            <a:off x="6156360" y="213372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69"/>
          <p:cNvSpPr/>
          <p:nvPr/>
        </p:nvSpPr>
        <p:spPr>
          <a:xfrm flipV="1">
            <a:off x="6372360" y="404280"/>
            <a:ext cx="0" cy="172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70"/>
          <p:cNvSpPr/>
          <p:nvPr/>
        </p:nvSpPr>
        <p:spPr>
          <a:xfrm>
            <a:off x="6372360" y="404640"/>
            <a:ext cx="14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_s1030"/>
          <p:cNvSpPr/>
          <p:nvPr/>
        </p:nvSpPr>
        <p:spPr>
          <a:xfrm>
            <a:off x="179280" y="189000"/>
            <a:ext cx="2376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a4a4"/>
              </a:gs>
              <a:gs pos="50000">
                <a:srgbClr val="efffff"/>
              </a:gs>
              <a:gs pos="100000">
                <a:srgbClr val="9a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пособ совер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равонару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_s1030"/>
          <p:cNvSpPr/>
          <p:nvPr/>
        </p:nvSpPr>
        <p:spPr>
          <a:xfrm>
            <a:off x="179280" y="981000"/>
            <a:ext cx="237672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a4a4"/>
              </a:gs>
              <a:gs pos="50000">
                <a:srgbClr val="efffff"/>
              </a:gs>
              <a:gs pos="100000">
                <a:srgbClr val="9a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рудие совер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равонару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_s1030"/>
          <p:cNvSpPr/>
          <p:nvPr/>
        </p:nvSpPr>
        <p:spPr>
          <a:xfrm>
            <a:off x="179280" y="1916280"/>
            <a:ext cx="237672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a4a4"/>
              </a:gs>
              <a:gs pos="50000">
                <a:srgbClr val="efffff"/>
              </a:gs>
              <a:gs pos="100000">
                <a:srgbClr val="9a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бстано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овер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равонару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74"/>
          <p:cNvSpPr/>
          <p:nvPr/>
        </p:nvSpPr>
        <p:spPr>
          <a:xfrm flipH="1">
            <a:off x="2771640" y="198900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75"/>
          <p:cNvSpPr/>
          <p:nvPr/>
        </p:nvSpPr>
        <p:spPr>
          <a:xfrm>
            <a:off x="2771640" y="19890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76"/>
          <p:cNvSpPr/>
          <p:nvPr/>
        </p:nvSpPr>
        <p:spPr>
          <a:xfrm flipH="1">
            <a:off x="2556000" y="2276640"/>
            <a:ext cx="217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77"/>
          <p:cNvSpPr/>
          <p:nvPr/>
        </p:nvSpPr>
        <p:spPr>
          <a:xfrm flipV="1">
            <a:off x="2771640" y="476280"/>
            <a:ext cx="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78"/>
          <p:cNvSpPr/>
          <p:nvPr/>
        </p:nvSpPr>
        <p:spPr>
          <a:xfrm flipH="1">
            <a:off x="2555640" y="1268280"/>
            <a:ext cx="215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80"/>
          <p:cNvSpPr/>
          <p:nvPr/>
        </p:nvSpPr>
        <p:spPr>
          <a:xfrm flipH="1">
            <a:off x="2555640" y="476280"/>
            <a:ext cx="215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3f3"/>
            </a:gs>
            <a:gs pos="100000">
              <a:srgbClr val="9999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_s1029"/>
          <p:cNvSpPr/>
          <p:nvPr/>
        </p:nvSpPr>
        <p:spPr>
          <a:xfrm>
            <a:off x="1835280" y="333360"/>
            <a:ext cx="5113080" cy="165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6bc96"/>
              </a:gs>
              <a:gs pos="50000">
                <a:srgbClr val="ccffcc"/>
              </a:gs>
              <a:gs pos="100000">
                <a:srgbClr val="96bc96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ВИД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ПРАВОНАРУШ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_s1030"/>
          <p:cNvSpPr/>
          <p:nvPr/>
        </p:nvSpPr>
        <p:spPr>
          <a:xfrm>
            <a:off x="250920" y="2637000"/>
            <a:ext cx="3168720" cy="151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acc7"/>
              </a:gs>
              <a:gs pos="50000">
                <a:srgbClr val="eeddff"/>
              </a:gs>
              <a:gs pos="100000">
                <a:srgbClr val="baacc7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ПРЕСТУП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_s1030"/>
          <p:cNvSpPr/>
          <p:nvPr/>
        </p:nvSpPr>
        <p:spPr>
          <a:xfrm>
            <a:off x="179280" y="4869000"/>
            <a:ext cx="3240360" cy="1396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a4a4"/>
              </a:gs>
              <a:gs pos="50000">
                <a:srgbClr val="ccffff"/>
              </a:gs>
              <a:gs pos="100000">
                <a:srgbClr val="83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46"/>
                </a:solidFill>
                <a:latin typeface="Arial"/>
              </a:rPr>
              <a:t>АДМИНИСТРАТИВ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_s1030"/>
          <p:cNvSpPr/>
          <p:nvPr/>
        </p:nvSpPr>
        <p:spPr>
          <a:xfrm>
            <a:off x="3635280" y="4869000"/>
            <a:ext cx="3024360" cy="1396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a4a4"/>
              </a:gs>
              <a:gs pos="50000">
                <a:srgbClr val="ccffff"/>
              </a:gs>
              <a:gs pos="100000">
                <a:srgbClr val="83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46"/>
                </a:solidFill>
                <a:latin typeface="Arial"/>
              </a:rPr>
              <a:t>ДИСЦИПЛИНАР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_s1030"/>
          <p:cNvSpPr/>
          <p:nvPr/>
        </p:nvSpPr>
        <p:spPr>
          <a:xfrm>
            <a:off x="6948360" y="4869000"/>
            <a:ext cx="201636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a4a4"/>
              </a:gs>
              <a:gs pos="50000">
                <a:srgbClr val="ccffff"/>
              </a:gs>
              <a:gs pos="100000">
                <a:srgbClr val="83a4a4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46"/>
                </a:solidFill>
                <a:latin typeface="Arial"/>
              </a:rPr>
              <a:t>ДЕЛИК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_s1030"/>
          <p:cNvSpPr/>
          <p:nvPr/>
        </p:nvSpPr>
        <p:spPr>
          <a:xfrm>
            <a:off x="5508720" y="2637000"/>
            <a:ext cx="3311280" cy="146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acc7"/>
              </a:gs>
              <a:gs pos="50000">
                <a:srgbClr val="eeddff"/>
              </a:gs>
              <a:gs pos="100000">
                <a:srgbClr val="baacc7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ПРОСТУП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23"/>
          <p:cNvSpPr/>
          <p:nvPr/>
        </p:nvSpPr>
        <p:spPr>
          <a:xfrm>
            <a:off x="4356000" y="1989000"/>
            <a:ext cx="0" cy="28764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4"/>
          <p:cNvSpPr/>
          <p:nvPr/>
        </p:nvSpPr>
        <p:spPr>
          <a:xfrm flipH="1">
            <a:off x="2268000" y="2276640"/>
            <a:ext cx="424836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5"/>
          <p:cNvSpPr/>
          <p:nvPr/>
        </p:nvSpPr>
        <p:spPr>
          <a:xfrm>
            <a:off x="2268360" y="2276640"/>
            <a:ext cx="0" cy="360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6"/>
          <p:cNvSpPr/>
          <p:nvPr/>
        </p:nvSpPr>
        <p:spPr>
          <a:xfrm>
            <a:off x="6516720" y="2276640"/>
            <a:ext cx="0" cy="360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7"/>
          <p:cNvSpPr/>
          <p:nvPr/>
        </p:nvSpPr>
        <p:spPr>
          <a:xfrm>
            <a:off x="7164360" y="4076640"/>
            <a:ext cx="0" cy="28908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9"/>
          <p:cNvSpPr/>
          <p:nvPr/>
        </p:nvSpPr>
        <p:spPr>
          <a:xfrm flipH="1">
            <a:off x="1763280" y="4365720"/>
            <a:ext cx="619308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30"/>
          <p:cNvSpPr/>
          <p:nvPr/>
        </p:nvSpPr>
        <p:spPr>
          <a:xfrm>
            <a:off x="1763640" y="4365720"/>
            <a:ext cx="0" cy="5032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31"/>
          <p:cNvSpPr/>
          <p:nvPr/>
        </p:nvSpPr>
        <p:spPr>
          <a:xfrm>
            <a:off x="5076720" y="4365720"/>
            <a:ext cx="0" cy="5032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32"/>
          <p:cNvSpPr/>
          <p:nvPr/>
        </p:nvSpPr>
        <p:spPr>
          <a:xfrm>
            <a:off x="7956720" y="4365720"/>
            <a:ext cx="0" cy="5032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33" descr="3783311"/>
          <p:cNvPicPr/>
          <p:nvPr/>
        </p:nvPicPr>
        <p:blipFill>
          <a:blip r:embed="rId1"/>
          <a:srcRect l="20904" t="0" r="23855" b="0"/>
          <a:stretch/>
        </p:blipFill>
        <p:spPr>
          <a:xfrm>
            <a:off x="0" y="0"/>
            <a:ext cx="1252440" cy="2276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4" descr="1ъъъ"/>
          <p:cNvPicPr/>
          <p:nvPr/>
        </p:nvPicPr>
        <p:blipFill>
          <a:blip r:embed="rId2"/>
          <a:stretch/>
        </p:blipFill>
        <p:spPr>
          <a:xfrm>
            <a:off x="7964640" y="0"/>
            <a:ext cx="1179360" cy="2352600"/>
          </a:xfrm>
          <a:prstGeom prst="rect">
            <a:avLst/>
          </a:prstGeom>
          <a:ln w="0">
            <a:noFill/>
          </a:ln>
        </p:spPr>
      </p:pic>
      <p:sp>
        <p:nvSpPr>
          <p:cNvPr id="2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13744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За совершение любого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вида преступления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или проступка правонаруши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4"/>
          <p:cNvSpPr/>
          <p:nvPr/>
        </p:nvSpPr>
        <p:spPr>
          <a:xfrm>
            <a:off x="0" y="2492280"/>
            <a:ext cx="914400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 u="sng">
                <a:solidFill>
                  <a:srgbClr val="ffff00"/>
                </a:solidFill>
                <a:uFillTx/>
                <a:latin typeface="Arial"/>
              </a:rPr>
              <a:t>привлекается </a:t>
            </a:r>
            <a:br>
              <a:rPr sz="6600"/>
            </a:br>
            <a:r>
              <a:rPr b="1" lang="ru-RU" sz="6600" spc="-1" strike="noStrike" u="sng">
                <a:solidFill>
                  <a:srgbClr val="ffff00"/>
                </a:solidFill>
                <a:uFillTx/>
                <a:latin typeface="Arial"/>
              </a:rPr>
              <a:t>к юридической ответственности.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468360" y="5373720"/>
            <a:ext cx="8496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66"/>
                </a:solidFill>
                <a:latin typeface="Arial"/>
              </a:rPr>
              <a:t>Dura lex, sed lex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6"/>
          <p:cNvSpPr/>
          <p:nvPr/>
        </p:nvSpPr>
        <p:spPr>
          <a:xfrm>
            <a:off x="0" y="50846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66"/>
                </a:solidFill>
                <a:latin typeface="Arial"/>
              </a:rPr>
              <a:t>Закон  суров, но это есть зако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2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2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8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5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87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91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2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4"/>
          <p:cNvSpPr/>
          <p:nvPr/>
        </p:nvSpPr>
        <p:spPr>
          <a:xfrm>
            <a:off x="179280" y="333360"/>
            <a:ext cx="896472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3333"/>
                </a:solidFill>
                <a:latin typeface="Arial"/>
              </a:rPr>
              <a:t>ГОТОВ ЛИ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 u="sng">
                <a:solidFill>
                  <a:srgbClr val="ffff00"/>
                </a:solidFill>
                <a:uFillTx/>
                <a:latin typeface="Arial"/>
              </a:rPr>
              <a:t>ТЫ</a:t>
            </a:r>
            <a:r>
              <a:rPr b="1" lang="ru-RU" sz="8000" spc="-1" strike="noStrike">
                <a:solidFill>
                  <a:srgbClr val="ffff00"/>
                </a:solidFill>
                <a:latin typeface="Arial"/>
              </a:rPr>
              <a:t> 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3333"/>
                </a:solidFill>
                <a:latin typeface="Arial"/>
              </a:rPr>
              <a:t>ПЛАТИТ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3333"/>
                </a:solidFill>
                <a:latin typeface="Arial"/>
              </a:rPr>
              <a:t>ТАКОЙ ЦЕНОЙ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nodeType="clickEffect" fill="hold">
                      <p:stCondLst>
                        <p:cond delay="0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4" descr="22"/>
          <p:cNvPicPr/>
          <p:nvPr/>
        </p:nvPicPr>
        <p:blipFill>
          <a:blip r:embed="rId1"/>
          <a:stretch/>
        </p:blipFill>
        <p:spPr>
          <a:xfrm>
            <a:off x="2340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2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286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530064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cc"/>
              </a:gs>
            </a:gsLst>
            <a:lin ang="189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46"/>
                </a:solidFill>
                <a:latin typeface="Arial"/>
              </a:rPr>
              <a:t>Смоленский М.Б. «Теория государства и права» Глава 14, темы 14.1-14.3 (стр.244-25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46"/>
                </a:solidFill>
                <a:latin typeface="Arial"/>
              </a:rPr>
              <a:t>Приведите пример правонарушения с подробным анализом всех составляющих его элементов. Задание выполняется письменно в тетрад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a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95280" y="20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Arial Black"/>
              </a:rPr>
              <a:t>План занят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99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Проверка изученного теоретического материал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99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Правомерное повед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понятие, сущность, вид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99"/>
              </a:buClr>
              <a:buSzPct val="11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Понятие и признаки правонаруш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99"/>
              </a:buClr>
              <a:buSzPct val="11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Состав и виды правонаруш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0066"/>
                </a:solidFill>
                <a:latin typeface="Arial Black"/>
              </a:rPr>
              <a:t>Вопрос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Что такое правосубъектность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Какие юридические свойства она в себя включает?</a:t>
            </a:r>
            <a:r>
              <a:rPr b="1" lang="ru-RU" sz="4800" spc="-1" strike="noStrike">
                <a:solidFill>
                  <a:srgbClr val="623395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http://www.languageguide.org/english/grammar/images/wink.gif"/>
          <p:cNvPicPr/>
          <p:nvPr/>
        </p:nvPicPr>
        <p:blipFill>
          <a:blip r:embed="rId1"/>
          <a:stretch/>
        </p:blipFill>
        <p:spPr>
          <a:xfrm>
            <a:off x="7120080" y="4653000"/>
            <a:ext cx="2023920" cy="220500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0066"/>
                </a:solidFill>
                <a:latin typeface="Arial Black"/>
              </a:rPr>
              <a:t>Вопрос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Чем отличается время возникновения правоспособности у физических и юридических лиц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http://www.languageguide.org/english/grammar/images/wink.gif"/>
          <p:cNvPicPr/>
          <p:nvPr/>
        </p:nvPicPr>
        <p:blipFill>
          <a:blip r:embed="rId1"/>
          <a:stretch/>
        </p:blipFill>
        <p:spPr>
          <a:xfrm>
            <a:off x="7053120" y="4581360"/>
            <a:ext cx="2090880" cy="227664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0066"/>
                </a:solidFill>
                <a:latin typeface="Arial Black"/>
              </a:rPr>
              <a:t>Вопрос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Перечислите факторы, влияющие на дееспособность физического лиц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http://www.languageguide.org/english/grammar/images/wink.gif"/>
          <p:cNvPicPr/>
          <p:nvPr/>
        </p:nvPicPr>
        <p:blipFill>
          <a:blip r:embed="rId1"/>
          <a:stretch/>
        </p:blipFill>
        <p:spPr>
          <a:xfrm>
            <a:off x="7118280" y="4653000"/>
            <a:ext cx="2025720" cy="220500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0066"/>
                </a:solidFill>
                <a:latin typeface="Arial Black"/>
              </a:rPr>
              <a:t>Вопрос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99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Кто и в каких случаях может ограничить дееспособность гражданина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http://www.languageguide.org/english/grammar/images/wink.gif"/>
          <p:cNvPicPr/>
          <p:nvPr/>
        </p:nvPicPr>
        <p:blipFill>
          <a:blip r:embed="rId1"/>
          <a:stretch/>
        </p:blipFill>
        <p:spPr>
          <a:xfrm>
            <a:off x="6788160" y="4292640"/>
            <a:ext cx="2355840" cy="256536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0066"/>
                </a:solidFill>
                <a:latin typeface="Arial Black"/>
              </a:rPr>
              <a:t>Вопрос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99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Перечислите элементы правоотношени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http://www.languageguide.org/english/grammar/images/wink.gif"/>
          <p:cNvPicPr/>
          <p:nvPr/>
        </p:nvPicPr>
        <p:blipFill>
          <a:blip r:embed="rId1"/>
          <a:stretch/>
        </p:blipFill>
        <p:spPr>
          <a:xfrm>
            <a:off x="7053120" y="4581360"/>
            <a:ext cx="2090880" cy="227664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a483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79280" y="0"/>
            <a:ext cx="476244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66"/>
                </a:solidFill>
                <a:latin typeface="Arial"/>
              </a:rPr>
              <a:t>Эталон отве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332000" y="907920"/>
          <a:ext cx="6240240" cy="5550120"/>
        </p:xfrm>
        <a:graphic>
          <a:graphicData uri="http://schemas.openxmlformats.org/drawingml/2006/table">
            <a:tbl>
              <a:tblPr/>
              <a:tblGrid>
                <a:gridCol w="1511280"/>
                <a:gridCol w="1681200"/>
                <a:gridCol w="1415880"/>
                <a:gridCol w="1631880"/>
              </a:tblGrid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1 вариа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2 вариа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про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отв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про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отв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1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1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2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2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3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3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Б,В,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4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4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5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5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6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6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7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7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8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8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9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48"/>
                          </a:solidFill>
                          <a:latin typeface="Arial"/>
                        </a:rPr>
                        <a:t>9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5T12:04:53Z</dcterms:created>
  <dc:creator>Миллер</dc:creator>
  <dc:description/>
  <dc:language>en-US</dc:language>
  <cp:lastModifiedBy>LEGION</cp:lastModifiedBy>
  <dcterms:modified xsi:type="dcterms:W3CDTF">2015-01-28T08:23:21Z</dcterms:modified>
  <cp:revision>56</cp:revision>
  <dc:subject/>
  <dc:title>Теория государства и права</dc:title>
</cp:coreProperties>
</file>