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AEA1-ECE9-4C4C-88A6-33893F0AEFF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7cb"/>
                </a:solidFill>
                <a:latin typeface="Splash"/>
              </a:rPr>
              <a:t>Теория государства </a:t>
            </a:r>
            <a:br>
              <a:rPr sz="1200"/>
            </a:br>
            <a:r>
              <a:rPr b="1" lang="ru-RU" sz="1200" spc="-1" strike="noStrike">
                <a:solidFill>
                  <a:srgbClr val="ff57cb"/>
                </a:solidFill>
                <a:latin typeface="Splash"/>
              </a:rPr>
              <a:t>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0C2F-EEBA-45B9-A0F5-F3A0F79F9E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 Black"/>
              </a:rPr>
              <a:t>Критерии оценки:</a:t>
            </a:r>
            <a:r>
              <a:rPr b="1" lang="ru-RU" sz="1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D9CA-42D4-4ADB-87D0-39E6B59D05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000066"/>
                </a:solidFill>
                <a:latin typeface="Calibri"/>
              </a:rPr>
              <a:t>это взаимодействие человека с окружающей средой, опосредованное его двигательной (физической) и психической активност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5AAE-2E80-47EA-9520-D49AEF82B8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аким может быть пове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Юридически нейтра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регулируется пра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не влечет юридических послед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Юридически значимы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гулируется пра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может, как соответствовать правовым нормам, так и не соответствовать 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49E5-3C81-4AA1-AEEF-0FCA58BC68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Dura lex, sed le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Закон  суров, но это есть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BB1F-CE39-4881-8A69-3B3A299087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это противоправное, виновное деяние деликтоспособных лиц, влекущее за собой юридическую ответственн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9104-6F05-4E75-9F9C-A69F3E7D53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9"/>
                </a:solidFill>
                <a:latin typeface="Calibri"/>
              </a:rPr>
              <a:t>ПРИЗНАКИ </a:t>
            </a:r>
            <a:r>
              <a:rPr b="1" lang="ru-RU" sz="1600" spc="-1" strike="noStrike">
                <a:solidFill>
                  <a:srgbClr val="ffff01"/>
                </a:solidFill>
                <a:latin typeface="Calibri"/>
              </a:rPr>
              <a:t>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есть акт поведения, выражающийся в действии или без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противоправное деяние, т. е. деяние, запрещенное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5800-4EF6-4F46-93D3-3BD014AE9A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РИЗНАКИ 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есть акт поведения, выражающийся в действии или без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противоправное деяние, т. е. деяние, запрещенное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D731-2756-48CF-A982-9893AF275B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всегда наносит обществу определенный вред и потому в той или иной степени опасно, нежел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не всякое противоправное деяние, совершенное дееспособным лицом, а только  то, которое совершено по вине</a:t>
            </a:r>
            <a:r>
              <a:rPr b="1" lang="ru-RU" sz="1400" spc="-1" strike="noStrike">
                <a:solidFill>
                  <a:srgbClr val="ffffc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этого л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9308-9B6C-42B8-8524-2807CBD766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РИЗНАКИ 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может быть совершено только деликтоспособным лиц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является основанием возникновения и наложения юридической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8E87-DDBC-4FA2-A885-33D8A77104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Теория</a:t>
            </a: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омер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ведение,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онарушение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 юрид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FEB2-B6D5-4015-94C1-AB65C3B29D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За совершение любого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вида преступления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ли проступка 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5345-916F-42FF-9C5B-E15B40534F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ГОТОВ 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Calibri"/>
              </a:rPr>
              <a:t>ТЫ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ПЛАТ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ТАКОЙ ЦЕ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887B-993E-4E6C-A33B-C0AF6FB05C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46"/>
                </a:solidFill>
                <a:latin typeface="Calibri"/>
              </a:rPr>
              <a:t>Смоленский М.Б. «Теория государства и права» Глава 14, темы 14.1-14.3 (стр.244-2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46"/>
                </a:solidFill>
                <a:latin typeface="Calibri"/>
              </a:rPr>
              <a:t>Приведите пример правонарушения с подробным анализом всех составляющих его элементов. Задание выполняется письменно в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D51D-BB54-48BB-9737-B8B3D43C24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BC0E-FAB4-48E2-B060-531415CF2A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 Black"/>
              </a:rPr>
              <a:t>План за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роверка изученного теоретического матери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равомерное повед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нятие, сущность,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нятие и признаки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Состав и виды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79AC-AA3D-4D07-8CD7-9C692E499F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Что такое правосубъек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акие юридические свойства она в себя включает?</a:t>
            </a:r>
            <a:r>
              <a:rPr b="1" lang="ru-RU" sz="1200" spc="-1" strike="noStrike">
                <a:solidFill>
                  <a:srgbClr val="623395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400C-CD35-44D7-9759-CD8E25E77C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Чем отличается время возникновения правоспособности у физических и юридических ли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D0EB-9B8C-41FB-9C28-B6758A869F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еречислите факторы, влияющие на дееспособность физического л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9814-B829-4D28-82E5-4178577BE6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то и в каких случаях может ограничить дееспособность граждани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619B-12E8-4A3B-A3AC-358B9FEE62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еречислите элементы право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494E-F589-4743-BBB9-4FEDB1156C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талон отв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C897-5658-4B1B-A57D-61824B6A99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594-EDFB-4BC8-8114-2E560F78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5F5-6E02-4809-84BD-9C6C6872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9E4F-BCB3-4F8C-B2A6-1140FAD4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F5E-3E4C-495C-97B0-671AD02F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B4E5-7012-4835-B9B5-F254A4B4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8612-7595-4FAE-BECD-0A3BA078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AC78-EEF7-4D2C-A1D7-AFA85E8C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F340-7DCD-44E3-B5A6-AAABE1E1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1624-2AF4-49CD-833A-8FE65C59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A27B-D0AB-40F5-ACF0-FB958A37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705F-3175-485E-BD69-596F6DB7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F64-FAED-497C-85DB-68167547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F015-CDF2-42BA-B9E8-A95A14A0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1CFD-6820-484B-9BB3-BA5D0AB8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B0C5-7809-41B0-9F12-724F2391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91FB-3DA0-4C7D-A26F-3CC3245C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F4A1-47AE-4208-8C8E-E0F8B76F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C36C-C07D-4503-B379-6DD5E0D7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72F7-8599-4AFB-8C28-35B96C54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AED-25CC-4873-9A7E-7E7F6CE2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036-E6A1-47F6-B0C0-87BCB1B5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F1B4-2C6D-43F4-B696-FCA9A44B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6F2-742E-4762-91D8-E53CA11B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362A-8568-47C5-8F46-9C758EA1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1B5D-C71D-46E4-9A2E-43BF37873F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BADF-C89C-4F0D-BF16-2D6D64CF42C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918560" cy="47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57cb"/>
                </a:solidFill>
                <a:latin typeface="Splash"/>
              </a:rPr>
              <a:t>Теория государства </a:t>
            </a:r>
            <a:br>
              <a:rPr sz="8800"/>
            </a:br>
            <a:r>
              <a:rPr b="1" lang="ru-RU" sz="8800" spc="-1" strike="noStrike">
                <a:solidFill>
                  <a:srgbClr val="ff57cb"/>
                </a:solidFill>
                <a:latin typeface="Splash"/>
              </a:rPr>
              <a:t>и права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dfcb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 Black"/>
              </a:rPr>
              <a:t>Критерии оценки: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47640" y="1700280"/>
          <a:ext cx="6048720" cy="4073400"/>
        </p:xfrm>
        <a:graphic>
          <a:graphicData uri="http://schemas.openxmlformats.org/drawingml/2006/table">
            <a:tbl>
              <a:tblPr/>
              <a:tblGrid>
                <a:gridCol w="3600720"/>
                <a:gridCol w="244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личество правильных отве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5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 - 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4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- 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3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 - 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2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1628640"/>
            <a:ext cx="820764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это взаимодействие человека с окружающей средой, опосредованное его двигательной (физической) и психической активностью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539640" y="47628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c0000"/>
                </a:solidFill>
                <a:uFillTx/>
                <a:latin typeface="Arial"/>
              </a:rPr>
              <a:t>Повед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47640" y="4869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Arial"/>
              </a:rPr>
              <a:t>Каким может быть пове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Каким может быть пове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6836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Юридически нейтраль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755640" y="191628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е регулируется прав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не влечет юридических последств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6836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Юридически значимы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770040" y="4221000"/>
            <a:ext cx="83739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егулируется прав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может, как соответствовать правовым нормам, так и не соответствовать и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7876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_s1029"/>
          <p:cNvSpPr/>
          <p:nvPr/>
        </p:nvSpPr>
        <p:spPr>
          <a:xfrm>
            <a:off x="3059280" y="1052640"/>
            <a:ext cx="316836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авомер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_s1030"/>
          <p:cNvSpPr/>
          <p:nvPr/>
        </p:nvSpPr>
        <p:spPr>
          <a:xfrm>
            <a:off x="250920" y="549360"/>
            <a:ext cx="2376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Акти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17"/>
          <p:cNvCxnSpPr/>
          <p:nvPr/>
        </p:nvCxnSpPr>
        <p:spPr>
          <a:xfrm flipV="1" rot="10800000">
            <a:off x="2626560" y="1699200"/>
            <a:ext cx="432720" cy="664200"/>
          </a:xfrm>
          <a:prstGeom prst="bentConnector3">
            <a:avLst>
              <a:gd name="adj1" fmla="val 50291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2" name="AutoShape 21"/>
          <p:cNvCxnSpPr>
            <a:endCxn id="140" idx="3"/>
          </p:cNvCxnSpPr>
          <p:nvPr/>
        </p:nvCxnSpPr>
        <p:spPr>
          <a:xfrm rot="10800000">
            <a:off x="2626560" y="959760"/>
            <a:ext cx="432720" cy="741960"/>
          </a:xfrm>
          <a:prstGeom prst="bentConnector3">
            <a:avLst>
              <a:gd name="adj1" fmla="val 49958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3" name="AutoShape 25"/>
          <p:cNvCxnSpPr>
            <a:stCxn id="139" idx="3"/>
          </p:cNvCxnSpPr>
          <p:nvPr/>
        </p:nvCxnSpPr>
        <p:spPr>
          <a:xfrm flipV="1">
            <a:off x="6227280" y="1031400"/>
            <a:ext cx="361080" cy="850320"/>
          </a:xfrm>
          <a:prstGeom prst="bentConnector3">
            <a:avLst>
              <a:gd name="adj1" fmla="val 49700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4" name="AutoShape 27"/>
          <p:cNvCxnSpPr>
            <a:stCxn id="139" idx="3"/>
          </p:cNvCxnSpPr>
          <p:nvPr/>
        </p:nvCxnSpPr>
        <p:spPr>
          <a:xfrm>
            <a:off x="6227280" y="1881000"/>
            <a:ext cx="361080" cy="664200"/>
          </a:xfrm>
          <a:prstGeom prst="bentConnector3">
            <a:avLst>
              <a:gd name="adj1" fmla="val 49700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sp>
        <p:nvSpPr>
          <p:cNvPr id="145" name="Line 28"/>
          <p:cNvSpPr/>
          <p:nvPr/>
        </p:nvSpPr>
        <p:spPr>
          <a:xfrm>
            <a:off x="4716360" y="2708280"/>
            <a:ext cx="0" cy="28908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 flipH="1">
            <a:off x="3203640" y="2997360"/>
            <a:ext cx="1512720" cy="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0"/>
          <p:cNvSpPr/>
          <p:nvPr/>
        </p:nvSpPr>
        <p:spPr>
          <a:xfrm>
            <a:off x="3203640" y="2997360"/>
            <a:ext cx="0" cy="792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1"/>
          <p:cNvSpPr/>
          <p:nvPr/>
        </p:nvSpPr>
        <p:spPr>
          <a:xfrm>
            <a:off x="3203640" y="6237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2"/>
          <p:cNvSpPr/>
          <p:nvPr/>
        </p:nvSpPr>
        <p:spPr>
          <a:xfrm>
            <a:off x="3203640" y="5013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3203640" y="3789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_s1030"/>
          <p:cNvSpPr/>
          <p:nvPr/>
        </p:nvSpPr>
        <p:spPr>
          <a:xfrm>
            <a:off x="3708360" y="3357720"/>
            <a:ext cx="2376360" cy="820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Созн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_s1030"/>
          <p:cNvSpPr/>
          <p:nvPr/>
        </p:nvSpPr>
        <p:spPr>
          <a:xfrm>
            <a:off x="3708360" y="4581360"/>
            <a:ext cx="2808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Конформист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_s1030"/>
          <p:cNvSpPr/>
          <p:nvPr/>
        </p:nvSpPr>
        <p:spPr>
          <a:xfrm>
            <a:off x="3708360" y="5661000"/>
            <a:ext cx="45356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Правомерное по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под стра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государственного прин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_s1030"/>
          <p:cNvSpPr/>
          <p:nvPr/>
        </p:nvSpPr>
        <p:spPr>
          <a:xfrm>
            <a:off x="250920" y="1989000"/>
            <a:ext cx="2376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Пасси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_s1030"/>
          <p:cNvSpPr/>
          <p:nvPr/>
        </p:nvSpPr>
        <p:spPr>
          <a:xfrm>
            <a:off x="6588000" y="549360"/>
            <a:ext cx="237672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Необход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(желатель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_s1030"/>
          <p:cNvSpPr/>
          <p:nvPr/>
        </p:nvSpPr>
        <p:spPr>
          <a:xfrm>
            <a:off x="6588000" y="1989000"/>
            <a:ext cx="237672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Соци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допуст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3203640" y="3789360"/>
            <a:ext cx="0" cy="1224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2"/>
          <p:cNvSpPr/>
          <p:nvPr/>
        </p:nvSpPr>
        <p:spPr>
          <a:xfrm>
            <a:off x="3203640" y="5013360"/>
            <a:ext cx="0" cy="1224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3" descr="3783311"/>
          <p:cNvPicPr/>
          <p:nvPr/>
        </p:nvPicPr>
        <p:blipFill>
          <a:blip r:embed="rId1"/>
          <a:srcRect l="23274" t="0" r="21471" b="0"/>
          <a:stretch/>
        </p:blipFill>
        <p:spPr>
          <a:xfrm>
            <a:off x="0" y="3147840"/>
            <a:ext cx="2041560" cy="37101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ddff"/>
            </a:gs>
            <a:gs pos="100000">
              <a:srgbClr val="6e6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49636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00"/>
                </a:solidFill>
                <a:latin typeface="Arial"/>
              </a:rPr>
              <a:t>Dura lex, sed lex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68360" y="3716280"/>
            <a:ext cx="8435880" cy="22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Закон  суров, но это есть за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22"/>
          <p:cNvPicPr/>
          <p:nvPr/>
        </p:nvPicPr>
        <p:blipFill>
          <a:blip r:embed="rId1"/>
          <a:stretch/>
        </p:blipFill>
        <p:spPr>
          <a:xfrm>
            <a:off x="6473880" y="0"/>
            <a:ext cx="2670120" cy="4005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2707920"/>
            <a:ext cx="82803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это противоправное, виновное деяние деликтоспособных лиц, влекущее за собой юридическую ответствен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68360" y="134136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9"/>
                </a:solidFill>
                <a:latin typeface="Arial"/>
              </a:rPr>
              <a:t>ПРИЗНАКИ </a:t>
            </a:r>
            <a:r>
              <a:rPr b="1" lang="ru-RU" sz="4200" spc="-1" strike="noStrike">
                <a:solidFill>
                  <a:srgbClr val="ffff01"/>
                </a:solidFill>
                <a:latin typeface="Arial"/>
              </a:rPr>
              <a:t>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есть акт поведения, выражающийся в действии или бездейств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– это противоправное деяние, т. е. деяние, запрещенное нормами пр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есть акт поведения, выражающийся в действии или бездейств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– это противоправное деяние, т. е. деяние, запрещенное нормами пр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всегда наносит обществу определенный вред и потому в той или иной степени опасно, нежела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2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– это не всякое противоправное деяние, совершенное дееспособным лицом, а только  то, которое совершено по вине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это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может быть совершено только деликтоспособным лиц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является основанием возникновения и наложения юридической ответствен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ъъъ"/>
          <p:cNvPicPr/>
          <p:nvPr/>
        </p:nvPicPr>
        <p:blipFill>
          <a:blip r:embed="rId1"/>
          <a:stretch/>
        </p:blipFill>
        <p:spPr>
          <a:xfrm>
            <a:off x="5703840" y="0"/>
            <a:ext cx="34401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5"/>
          <p:cNvSpPr txBox="1"/>
          <p:nvPr/>
        </p:nvSpPr>
        <p:spPr>
          <a:xfrm>
            <a:off x="0" y="2565360"/>
            <a:ext cx="432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</a:t>
            </a: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мерное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ведение,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800" y="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5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екабря 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684360" y="4149720"/>
            <a:ext cx="4465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нарушение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324000" y="5013360"/>
            <a:ext cx="4751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юридическая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тственность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539640" y="1844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79280" y="476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Раздел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79280" y="98100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Теория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пр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3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_s1029"/>
          <p:cNvSpPr/>
          <p:nvPr/>
        </p:nvSpPr>
        <p:spPr>
          <a:xfrm>
            <a:off x="1692360" y="2997360"/>
            <a:ext cx="5688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ОСТАВ   ПРАВОНАРУ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_s1030"/>
          <p:cNvSpPr/>
          <p:nvPr/>
        </p:nvSpPr>
        <p:spPr>
          <a:xfrm>
            <a:off x="179280" y="4005360"/>
            <a:ext cx="2305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_s1030"/>
          <p:cNvSpPr/>
          <p:nvPr/>
        </p:nvSpPr>
        <p:spPr>
          <a:xfrm>
            <a:off x="2771640" y="4005360"/>
            <a:ext cx="2376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у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_s1030"/>
          <p:cNvSpPr/>
          <p:nvPr/>
        </p:nvSpPr>
        <p:spPr>
          <a:xfrm>
            <a:off x="2987640" y="1700280"/>
            <a:ext cx="316872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бъекти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т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_s1030"/>
          <p:cNvSpPr/>
          <p:nvPr/>
        </p:nvSpPr>
        <p:spPr>
          <a:xfrm>
            <a:off x="5435640" y="4005360"/>
            <a:ext cx="2881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убъек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т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AutoShape 10"/>
          <p:cNvCxnSpPr>
            <a:stCxn id="180" idx="0"/>
            <a:endCxn id="183" idx="2"/>
          </p:cNvCxnSpPr>
          <p:nvPr/>
        </p:nvCxnSpPr>
        <p:spPr>
          <a:xfrm flipH="1" flipV="1" rot="5400000">
            <a:off x="4338000" y="2763360"/>
            <a:ext cx="432720" cy="3564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Line 12"/>
          <p:cNvSpPr/>
          <p:nvPr/>
        </p:nvSpPr>
        <p:spPr>
          <a:xfrm>
            <a:off x="399564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1258920" y="3860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25892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4427640" y="3645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427640" y="3860640"/>
            <a:ext cx="28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7308720" y="386064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_s1030"/>
          <p:cNvSpPr/>
          <p:nvPr/>
        </p:nvSpPr>
        <p:spPr>
          <a:xfrm>
            <a:off x="179280" y="5013360"/>
            <a:ext cx="2268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Умы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_s1030"/>
          <p:cNvSpPr/>
          <p:nvPr/>
        </p:nvSpPr>
        <p:spPr>
          <a:xfrm>
            <a:off x="2843280" y="5013360"/>
            <a:ext cx="277164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Неосторо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_s1030"/>
          <p:cNvSpPr/>
          <p:nvPr/>
        </p:nvSpPr>
        <p:spPr>
          <a:xfrm>
            <a:off x="6372360" y="5013360"/>
            <a:ext cx="2592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3"/>
          <p:cNvSpPr/>
          <p:nvPr/>
        </p:nvSpPr>
        <p:spPr>
          <a:xfrm>
            <a:off x="8317080" y="4365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"/>
          <p:cNvSpPr/>
          <p:nvPr/>
        </p:nvSpPr>
        <p:spPr>
          <a:xfrm>
            <a:off x="8604360" y="436572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5"/>
          <p:cNvSpPr/>
          <p:nvPr/>
        </p:nvSpPr>
        <p:spPr>
          <a:xfrm flipH="1">
            <a:off x="1115640" y="486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6"/>
          <p:cNvSpPr/>
          <p:nvPr/>
        </p:nvSpPr>
        <p:spPr>
          <a:xfrm>
            <a:off x="694836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428472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8"/>
          <p:cNvSpPr/>
          <p:nvPr/>
        </p:nvSpPr>
        <p:spPr>
          <a:xfrm>
            <a:off x="111600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_s1030"/>
          <p:cNvSpPr/>
          <p:nvPr/>
        </p:nvSpPr>
        <p:spPr>
          <a:xfrm>
            <a:off x="250920" y="5661000"/>
            <a:ext cx="165708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_s1030"/>
          <p:cNvSpPr/>
          <p:nvPr/>
        </p:nvSpPr>
        <p:spPr>
          <a:xfrm>
            <a:off x="250920" y="6237360"/>
            <a:ext cx="165708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кос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2484360" y="53006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2"/>
          <p:cNvSpPr/>
          <p:nvPr/>
        </p:nvSpPr>
        <p:spPr>
          <a:xfrm>
            <a:off x="2627280" y="5300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 flipH="1">
            <a:off x="1908000" y="602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4"/>
          <p:cNvSpPr/>
          <p:nvPr/>
        </p:nvSpPr>
        <p:spPr>
          <a:xfrm flipH="1">
            <a:off x="1908000" y="652464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5"/>
          <p:cNvSpPr/>
          <p:nvPr/>
        </p:nvSpPr>
        <p:spPr>
          <a:xfrm>
            <a:off x="5653080" y="522936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6"/>
          <p:cNvSpPr/>
          <p:nvPr/>
        </p:nvSpPr>
        <p:spPr>
          <a:xfrm>
            <a:off x="5796000" y="5229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7"/>
          <p:cNvSpPr/>
          <p:nvPr/>
        </p:nvSpPr>
        <p:spPr>
          <a:xfrm flipH="1">
            <a:off x="5076720" y="595008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8"/>
          <p:cNvSpPr/>
          <p:nvPr/>
        </p:nvSpPr>
        <p:spPr>
          <a:xfrm flipH="1">
            <a:off x="5076720" y="6453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_s1030"/>
          <p:cNvSpPr/>
          <p:nvPr/>
        </p:nvSpPr>
        <p:spPr>
          <a:xfrm>
            <a:off x="2916360" y="5661000"/>
            <a:ext cx="2160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легкомыс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_s1030"/>
          <p:cNvSpPr/>
          <p:nvPr/>
        </p:nvSpPr>
        <p:spPr>
          <a:xfrm>
            <a:off x="2987640" y="6237360"/>
            <a:ext cx="208908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небре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1"/>
          <p:cNvSpPr/>
          <p:nvPr/>
        </p:nvSpPr>
        <p:spPr>
          <a:xfrm flipH="1">
            <a:off x="6156360" y="5229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2"/>
          <p:cNvSpPr/>
          <p:nvPr/>
        </p:nvSpPr>
        <p:spPr>
          <a:xfrm>
            <a:off x="6156360" y="5229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3"/>
          <p:cNvSpPr/>
          <p:nvPr/>
        </p:nvSpPr>
        <p:spPr>
          <a:xfrm>
            <a:off x="6156360" y="595008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4"/>
          <p:cNvSpPr/>
          <p:nvPr/>
        </p:nvSpPr>
        <p:spPr>
          <a:xfrm>
            <a:off x="6156360" y="6453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_s1030"/>
          <p:cNvSpPr/>
          <p:nvPr/>
        </p:nvSpPr>
        <p:spPr>
          <a:xfrm>
            <a:off x="6804000" y="5661000"/>
            <a:ext cx="205092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_s1030"/>
          <p:cNvSpPr/>
          <p:nvPr/>
        </p:nvSpPr>
        <p:spPr>
          <a:xfrm>
            <a:off x="6804000" y="6237360"/>
            <a:ext cx="2016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М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9"/>
          <p:cNvSpPr/>
          <p:nvPr/>
        </p:nvSpPr>
        <p:spPr>
          <a:xfrm>
            <a:off x="2627280" y="6021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0"/>
          <p:cNvSpPr/>
          <p:nvPr/>
        </p:nvSpPr>
        <p:spPr>
          <a:xfrm>
            <a:off x="5796000" y="59500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1"/>
          <p:cNvSpPr/>
          <p:nvPr/>
        </p:nvSpPr>
        <p:spPr>
          <a:xfrm>
            <a:off x="6156360" y="59500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_s1030"/>
          <p:cNvSpPr/>
          <p:nvPr/>
        </p:nvSpPr>
        <p:spPr>
          <a:xfrm>
            <a:off x="6516720" y="189000"/>
            <a:ext cx="2448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е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3"/>
          <p:cNvSpPr/>
          <p:nvPr/>
        </p:nvSpPr>
        <p:spPr>
          <a:xfrm flipH="1">
            <a:off x="5724000" y="333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4"/>
          <p:cNvSpPr/>
          <p:nvPr/>
        </p:nvSpPr>
        <p:spPr>
          <a:xfrm flipH="1">
            <a:off x="5724000" y="105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_s1030"/>
          <p:cNvSpPr/>
          <p:nvPr/>
        </p:nvSpPr>
        <p:spPr>
          <a:xfrm>
            <a:off x="3564000" y="189000"/>
            <a:ext cx="216036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_s1030"/>
          <p:cNvSpPr/>
          <p:nvPr/>
        </p:nvSpPr>
        <p:spPr>
          <a:xfrm>
            <a:off x="3564000" y="907920"/>
            <a:ext cx="2160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без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_s1030"/>
          <p:cNvSpPr/>
          <p:nvPr/>
        </p:nvSpPr>
        <p:spPr>
          <a:xfrm>
            <a:off x="6804000" y="907920"/>
            <a:ext cx="216072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Вредоно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_s1030"/>
          <p:cNvSpPr/>
          <p:nvPr/>
        </p:nvSpPr>
        <p:spPr>
          <a:xfrm>
            <a:off x="6804000" y="1628640"/>
            <a:ext cx="2160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Связь ме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деянием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результ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_s1030"/>
          <p:cNvSpPr/>
          <p:nvPr/>
        </p:nvSpPr>
        <p:spPr>
          <a:xfrm>
            <a:off x="7451640" y="2708280"/>
            <a:ext cx="15130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прав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нару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0"/>
          <p:cNvSpPr/>
          <p:nvPr/>
        </p:nvSpPr>
        <p:spPr>
          <a:xfrm flipV="1">
            <a:off x="6084720" y="333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1"/>
          <p:cNvSpPr/>
          <p:nvPr/>
        </p:nvSpPr>
        <p:spPr>
          <a:xfrm>
            <a:off x="6084720" y="404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3"/>
          <p:cNvSpPr/>
          <p:nvPr/>
        </p:nvSpPr>
        <p:spPr>
          <a:xfrm>
            <a:off x="6372360" y="1197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5"/>
          <p:cNvSpPr/>
          <p:nvPr/>
        </p:nvSpPr>
        <p:spPr>
          <a:xfrm>
            <a:off x="6372360" y="1916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6"/>
          <p:cNvSpPr/>
          <p:nvPr/>
        </p:nvSpPr>
        <p:spPr>
          <a:xfrm>
            <a:off x="6372360" y="206064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7"/>
          <p:cNvSpPr/>
          <p:nvPr/>
        </p:nvSpPr>
        <p:spPr>
          <a:xfrm>
            <a:off x="6372360" y="285264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8"/>
          <p:cNvSpPr/>
          <p:nvPr/>
        </p:nvSpPr>
        <p:spPr>
          <a:xfrm>
            <a:off x="6156360" y="2133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9"/>
          <p:cNvSpPr/>
          <p:nvPr/>
        </p:nvSpPr>
        <p:spPr>
          <a:xfrm flipV="1">
            <a:off x="6372360" y="404280"/>
            <a:ext cx="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0"/>
          <p:cNvSpPr/>
          <p:nvPr/>
        </p:nvSpPr>
        <p:spPr>
          <a:xfrm>
            <a:off x="6372360" y="404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_s1030"/>
          <p:cNvSpPr/>
          <p:nvPr/>
        </p:nvSpPr>
        <p:spPr>
          <a:xfrm>
            <a:off x="179280" y="189000"/>
            <a:ext cx="2376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пособ 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_s1030"/>
          <p:cNvSpPr/>
          <p:nvPr/>
        </p:nvSpPr>
        <p:spPr>
          <a:xfrm>
            <a:off x="179280" y="981000"/>
            <a:ext cx="23767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рудие 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_s1030"/>
          <p:cNvSpPr/>
          <p:nvPr/>
        </p:nvSpPr>
        <p:spPr>
          <a:xfrm>
            <a:off x="179280" y="1916280"/>
            <a:ext cx="23767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4"/>
          <p:cNvSpPr/>
          <p:nvPr/>
        </p:nvSpPr>
        <p:spPr>
          <a:xfrm flipH="1">
            <a:off x="2771640" y="1989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5"/>
          <p:cNvSpPr/>
          <p:nvPr/>
        </p:nvSpPr>
        <p:spPr>
          <a:xfrm>
            <a:off x="2771640" y="1989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6"/>
          <p:cNvSpPr/>
          <p:nvPr/>
        </p:nvSpPr>
        <p:spPr>
          <a:xfrm flipH="1">
            <a:off x="2556000" y="2276640"/>
            <a:ext cx="21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7"/>
          <p:cNvSpPr/>
          <p:nvPr/>
        </p:nvSpPr>
        <p:spPr>
          <a:xfrm flipV="1">
            <a:off x="2771640" y="47628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8"/>
          <p:cNvSpPr/>
          <p:nvPr/>
        </p:nvSpPr>
        <p:spPr>
          <a:xfrm flipH="1">
            <a:off x="2555640" y="1268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0"/>
          <p:cNvSpPr/>
          <p:nvPr/>
        </p:nvSpPr>
        <p:spPr>
          <a:xfrm flipH="1">
            <a:off x="2555640" y="476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3"/>
            </a:gs>
            <a:gs pos="100000">
              <a:srgbClr val="99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_s1029"/>
          <p:cNvSpPr/>
          <p:nvPr/>
        </p:nvSpPr>
        <p:spPr>
          <a:xfrm>
            <a:off x="1835280" y="333360"/>
            <a:ext cx="511308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И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АВОНАРУ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_s1030"/>
          <p:cNvSpPr/>
          <p:nvPr/>
        </p:nvSpPr>
        <p:spPr>
          <a:xfrm>
            <a:off x="250920" y="2637000"/>
            <a:ext cx="316872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ЕСТУ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_s1030"/>
          <p:cNvSpPr/>
          <p:nvPr/>
        </p:nvSpPr>
        <p:spPr>
          <a:xfrm>
            <a:off x="179280" y="4869000"/>
            <a:ext cx="3240360" cy="13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АДМИНИСТ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_s1030"/>
          <p:cNvSpPr/>
          <p:nvPr/>
        </p:nvSpPr>
        <p:spPr>
          <a:xfrm>
            <a:off x="3635280" y="4869000"/>
            <a:ext cx="3024360" cy="13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ДИСЦИПЛИНА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_s1030"/>
          <p:cNvSpPr/>
          <p:nvPr/>
        </p:nvSpPr>
        <p:spPr>
          <a:xfrm>
            <a:off x="6948360" y="4869000"/>
            <a:ext cx="201636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ДЕЛИ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_s1030"/>
          <p:cNvSpPr/>
          <p:nvPr/>
        </p:nvSpPr>
        <p:spPr>
          <a:xfrm>
            <a:off x="5508720" y="2637000"/>
            <a:ext cx="3311280" cy="146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ОСТУ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>
            <a:off x="4356000" y="1989000"/>
            <a:ext cx="0" cy="287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 flipH="1">
            <a:off x="2268000" y="2276640"/>
            <a:ext cx="42483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5"/>
          <p:cNvSpPr/>
          <p:nvPr/>
        </p:nvSpPr>
        <p:spPr>
          <a:xfrm>
            <a:off x="2268360" y="2276640"/>
            <a:ext cx="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6"/>
          <p:cNvSpPr/>
          <p:nvPr/>
        </p:nvSpPr>
        <p:spPr>
          <a:xfrm>
            <a:off x="6516720" y="2276640"/>
            <a:ext cx="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7"/>
          <p:cNvSpPr/>
          <p:nvPr/>
        </p:nvSpPr>
        <p:spPr>
          <a:xfrm>
            <a:off x="7164360" y="4076640"/>
            <a:ext cx="0" cy="289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9"/>
          <p:cNvSpPr/>
          <p:nvPr/>
        </p:nvSpPr>
        <p:spPr>
          <a:xfrm flipH="1">
            <a:off x="1763280" y="4365720"/>
            <a:ext cx="6193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0"/>
          <p:cNvSpPr/>
          <p:nvPr/>
        </p:nvSpPr>
        <p:spPr>
          <a:xfrm>
            <a:off x="176364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1"/>
          <p:cNvSpPr/>
          <p:nvPr/>
        </p:nvSpPr>
        <p:spPr>
          <a:xfrm>
            <a:off x="507672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2"/>
          <p:cNvSpPr/>
          <p:nvPr/>
        </p:nvSpPr>
        <p:spPr>
          <a:xfrm>
            <a:off x="795672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3" descr="3783311"/>
          <p:cNvPicPr/>
          <p:nvPr/>
        </p:nvPicPr>
        <p:blipFill>
          <a:blip r:embed="rId1"/>
          <a:srcRect l="20904" t="0" r="23855" b="0"/>
          <a:stretch/>
        </p:blipFill>
        <p:spPr>
          <a:xfrm>
            <a:off x="0" y="0"/>
            <a:ext cx="1252440" cy="2276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4" descr="1ъъъ"/>
          <p:cNvPicPr/>
          <p:nvPr/>
        </p:nvPicPr>
        <p:blipFill>
          <a:blip r:embed="rId2"/>
          <a:stretch/>
        </p:blipFill>
        <p:spPr>
          <a:xfrm>
            <a:off x="7964640" y="0"/>
            <a:ext cx="1179360" cy="235260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37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 совершение любого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вида преступления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ли проступка правонаруш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2492280"/>
            <a:ext cx="9144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ff00"/>
                </a:solidFill>
                <a:uFillTx/>
                <a:latin typeface="Arial"/>
              </a:rPr>
              <a:t>привлекается </a:t>
            </a:r>
            <a:br>
              <a:rPr sz="6600"/>
            </a:br>
            <a:r>
              <a:rPr b="1" lang="ru-RU" sz="6600" spc="-1" strike="noStrike" u="sng">
                <a:solidFill>
                  <a:srgbClr val="ffff00"/>
                </a:solidFill>
                <a:uFillTx/>
                <a:latin typeface="Arial"/>
              </a:rPr>
              <a:t>к юридической ответственности.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68360" y="5373720"/>
            <a:ext cx="849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66"/>
                </a:solidFill>
                <a:latin typeface="Arial"/>
              </a:rPr>
              <a:t>Dura lex, sed lex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5084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66"/>
                </a:solidFill>
                <a:latin typeface="Arial"/>
              </a:rPr>
              <a:t>Закон  суров, но это есть за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179280" y="333360"/>
            <a:ext cx="896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ГОТОВ Л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 u="sng">
                <a:solidFill>
                  <a:srgbClr val="ffff00"/>
                </a:solidFill>
                <a:uFillTx/>
                <a:latin typeface="Arial"/>
              </a:rPr>
              <a:t>ТЫ</a:t>
            </a: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ПЛАТИ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ТАКОЙ ЦЕНОЙ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22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cc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46"/>
                </a:solidFill>
                <a:latin typeface="Arial"/>
              </a:rPr>
              <a:t>Смоленский М.Б. «Теория государства и права» Глава 14, темы 14.1-14.3 (стр.244-25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46"/>
                </a:solidFill>
                <a:latin typeface="Arial"/>
              </a:rPr>
              <a:t>Приведите пример правонарушения с подробным анализом всех составляющих его элементов. Задание выполняется письменно в тетра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a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 Black"/>
              </a:rPr>
              <a:t>План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роверка изученного теоретического материа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равомерное повед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онятие, сущность, ви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онятие и признаки правонару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Состав и виды правонару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Что такое правосубъектнос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акие юридические свойства она в себя включает?</a:t>
            </a:r>
            <a:r>
              <a:rPr b="1" lang="ru-RU" sz="4800" spc="-1" strike="noStrike">
                <a:solidFill>
                  <a:srgbClr val="623395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120080" y="4653000"/>
            <a:ext cx="2023920" cy="2205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Чем отличается время возникновения правоспособности у физических и юридических лиц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053120" y="4581360"/>
            <a:ext cx="2090880" cy="22766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еречислите факторы, влияющие на дееспособность физического лиц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118280" y="4653000"/>
            <a:ext cx="2025720" cy="2205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то и в каких случаях может ограничить дееспособность гражданин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6788160" y="4292640"/>
            <a:ext cx="2355840" cy="25653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еречислите элементы правоотнош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053120" y="4581360"/>
            <a:ext cx="2090880" cy="22766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a483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4762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Arial"/>
              </a:rPr>
              <a:t>Эталон от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32000" y="907920"/>
          <a:ext cx="6240240" cy="5550120"/>
        </p:xfrm>
        <a:graphic>
          <a:graphicData uri="http://schemas.openxmlformats.org/drawingml/2006/table">
            <a:tbl>
              <a:tblPr/>
              <a:tblGrid>
                <a:gridCol w="1511280"/>
                <a:gridCol w="1681200"/>
                <a:gridCol w="1415880"/>
                <a:gridCol w="16318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,В,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2:04:53Z</dcterms:created>
  <dc:creator>Миллер</dc:creator>
  <dc:description/>
  <dc:language>en-US</dc:language>
  <cp:lastModifiedBy>LEGION</cp:lastModifiedBy>
  <dcterms:modified xsi:type="dcterms:W3CDTF">2015-01-28T08:23:21Z</dcterms:modified>
  <cp:revision>56</cp:revision>
  <dc:subject/>
  <dc:title>Теория государства и права</dc:title>
</cp:coreProperties>
</file>