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AA043-5E79-41A2-80A2-EBFFD5661C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а 3. Экономика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0. Рынок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9AB22-3D9C-415F-808C-D0B87E70E15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а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ыкновенные (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ordinary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дают владельцу право голос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собрании акционеров и прав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получение дивидендов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прибыли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илегированны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eferre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B27BC-59CF-43DC-A0FB-29FFDA3E4A6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рынок капитала 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рынок,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B0AF4-119E-4B5B-8823-8F80C3C79A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стники фондового ры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ите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ssue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фирмы и другие организации, нуждающие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ор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or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покупател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44A86-17BE-45A7-A995-F0002E8AA30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офессиональные участники фондов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Брок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rok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илер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al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Управляющ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nag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лиринговая орган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lear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hous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занимающаяся расчетами по сделкам с ценными бумаг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Депозитар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pository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фирма, оказывающая услуги по хранению сертификатов ценных бумаг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учету перехода прав на н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8E02-7FC9-4BC2-B1B1-69807ABA72D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exchang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фирма — организатор торговли на рынке ценных бума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егменты фондовой бирж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торговля частными  акциями и государственными облигац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лютный рынок — торговля иностранной  валют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очный рынок — сделки  с исполнением в определенную дату в будущ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9B305-2053-447A-8A5A-C4F76AEF94B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ир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quote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цена ценной бумаги на бирж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стинг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listing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регистрация ценной бумаги на бирже и включение е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котировальный списо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листинг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deli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исключение ценной бумаги из котировального спис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A0D4F-AB09-4985-918E-5B5197D1A16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вестиционные показа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ыночная капитализ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capitaliza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CA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омпании к годовой выручке на акцию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(price per share/sales per share, P/S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тношение цены акции к годовому объему чистой прибыли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ic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arn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er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405E1-1777-41C1-BDE5-FF5E7CAB45E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арри Маркович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9AACE-1E6A-4BDE-895C-97B9D3AE3E0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ильям Шар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д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.1934)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мериканский эконом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sset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del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PM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жидаемого доход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FE09D-79BD-4B91-994F-B18B5202157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118D2-1633-4599-9DBE-525C8E5D0DD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точники финансирования фир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влечение инвестиций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attrac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ложение фирмой или лицом средств в денежн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физической форме в данную фир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Реинвестирование прибыли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reinvest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rofit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ложение в производство прибыли, оставшейс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распоряжении фирмы после уплаты налог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имствование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rrowing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средств в виде займа в банке или через продажу облигаци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условиях платности, срочности и возврат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Гранты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grants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получение взноса в денежной или физической форме, возврата которого не требу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2B41-FDAB-42A6-AA44-B76EC0CA5A4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кции — удостоверение собственност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лигации — удостоверение долг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цион — удостоверение права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F86AE-8F95-4006-A23F-74FC86FD3C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(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ндовый рынок — механизм превращения свободных сбережени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инвестиции путем продажи ценных бум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95C0-AFD2-41DC-A851-C596677CA4A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пита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pita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финансирования производства экономических бла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широком смысле капитал — это все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иносит его владельцу дохо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E95A7-1048-4221-9A46-FD9FA902204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вида капит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зи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Финансовы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денежные средства, на которые фирма покупает физический капита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ловеческий капита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D926E-6B43-4850-B270-43823B0A683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вести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величение капитала фирмы с целью извлечения дохо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C50A-C0E3-46D7-BF37-A6549BCBA4A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вка проц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interest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rate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отношение годовой суммы процента к сумме денег, взятой в кредит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35D97-C7E4-40AD-AA0F-DAB70758D7F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ная бума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security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— документ, который закрепляет имущественные и неимущественные права владельц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ценной бумаги называется курс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056D4-E154-423F-A28E-0E93B3EB282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ценных бум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к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tock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— амер., share — англ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собств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блигация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ond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долг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Опцион (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ption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удостоверение права владельца ценной бумаги на покупку или продажу другой ценной бумаг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редусмотренный в ней ср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зафиксированной цен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5868F-A346-45E9-83B4-87E7BF46AD2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61536-99E1-4895-9E4A-0A486ED7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8105-5296-4DCB-96A8-808D1E9B6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F2DF-B30A-4036-8EB7-D64BE5FE4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CF3C93-47F9-4A5E-9BF1-F991DB67D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06058D-7D24-4F7C-9E1E-707E2EC20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E3380-3BC3-4251-A701-995D190E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A3199-5AA5-4EED-B68A-ADB7EF90A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123EB-4FF9-4B10-95BE-E5FA22028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5A894-C4F1-4139-BA3A-A4CA0005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726EF5-D598-478A-AF6F-642CAECB6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5A0E5-5DA5-4F08-8A92-6C791BCB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82389-7385-4C1D-B786-579CD103A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6EA595-D6C8-4973-B318-65B22833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B406F-2A67-4B34-8F68-1C7C08A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6A62D3-833A-41FE-924B-52332746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6E47D1-1C64-47AC-9438-0AA0D350F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29528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2160"/>
            <a:ext cx="264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2A9463-11B1-41F0-8BD9-9F1FF089D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32BF5-2EE1-4EF4-8B77-2A25DAF49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88C38-B0E2-4E7E-9F9D-781CB59F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CF459-6682-4C4F-BCFF-9187774F8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318B8-A811-421E-B9F5-10448D8B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1AC2BB-D4C1-4E12-A67F-48AA18373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216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E60F2-07C4-4D0A-9F70-FE1456C3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5280"/>
            <a:ext cx="4015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2160"/>
            <a:ext cx="82296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B3AE5-E9C1-4BB5-AC29-627F22C5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971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E1CF-6CDF-4E44-A95C-412B20D259A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imes New Roman"/>
              </a:rPr>
              <a:t>Глава 3. Экономика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73167-BCD1-450D-B072-7235EFA5E45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81532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лава 3. Экономика фирмы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295280" y="1676520"/>
            <a:ext cx="64008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0. Рынок капитал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9" name="Picture 6" descr="031003123957040"/>
          <p:cNvPicPr/>
          <p:nvPr/>
        </p:nvPicPr>
        <p:blipFill>
          <a:blip r:embed="rId1"/>
          <a:stretch/>
        </p:blipFill>
        <p:spPr>
          <a:xfrm>
            <a:off x="4876920" y="2286000"/>
            <a:ext cx="316224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акций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ыкновенные (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ordinary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дают владельцу право голос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собрании акционеров и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раво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получение дивидендов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зависимости от прибыли обществ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ривилегированные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preferre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, которые не дают права голоса на собрании акционеров, но гарантируют владельцу приоритет в получении дивидендов  — части прибыли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ый рынок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5181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рынок капитала 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рынок,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на котором осуществляется купля и продажа ценных бумаг и других финансовых инструментов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42" name="Picture 5" descr="Money_Fist"/>
          <p:cNvPicPr/>
          <p:nvPr/>
        </p:nvPicPr>
        <p:blipFill>
          <a:blip r:embed="rId1"/>
          <a:stretch/>
        </p:blipFill>
        <p:spPr>
          <a:xfrm>
            <a:off x="5562720" y="1752480"/>
            <a:ext cx="340812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частники фондового рын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Эмитент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ssue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фирмы и другие организации, нуждающиеся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финансировании и выпускающие ценные бумаги на продажу, и другие владельцы ценных бумаг, которые ранее их купили на рынк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нвесторы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investors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покупател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фондовом рынке. Покупая ценные бумаги, они превращают свои сбережения в инвестици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Профессиональные участники фондового рынка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Брок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rok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или физическое лицо, совершающее сделки с ценными бумагами от имени и за счет клиента или от своего имени и за счет клиента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илер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al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юридическое лицо, являющееся коммерческой организацией, торгующее ценными бумагами от своего имени и за свой счет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Управляющ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manager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которая от своего имени за вознаграждение управляет принадлежащими третьим лицам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Клиринговая организация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clear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house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занимающаяся расчетами по сделкам с ценными бумагам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Депозитар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depository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фирма, оказывающая услуги по хранению сертификатов ценных бумаг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 учету перехода прав на них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Фондовая бирж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exchang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фирма — организатор торговли на рынке ценных бумаг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Сегменты фондовой биржи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частными  акциями и государственными облигациям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алютн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ы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й рынок — торговля иностранной  валютой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рочный рынок — сделки  с исполнением в определенную дату в будуще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отировк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(quote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цена ценно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бумаги на бирж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стинг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listing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регистрация ценной бумаги на бирже и включение ее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котировальный список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листинг 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delisting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исключение ценной бумаги из котировального списк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нвестиционные показатели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Рыночная капитализация 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arket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capitalization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MCA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 — рыночная стоимость компании, количество размещенных обыкновенных акций, умноженное на текущую рыночную цену одной акци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омпании к годовой выручке на акцию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(price per share/sales per share, P/S)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Отношение цены акции к годовому объему чистой прибыли 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ric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arning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er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share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, 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P</a:t>
            </a:r>
            <a:r>
              <a:rPr b="0" i="1" lang="ru-RU" sz="2800" spc="-1" strike="noStrike">
                <a:solidFill>
                  <a:srgbClr val="ffffff"/>
                </a:solidFill>
                <a:latin typeface="Garamond"/>
              </a:rPr>
              <a:t>/</a:t>
            </a:r>
            <a:r>
              <a:rPr b="0" i="1" lang="en-US" sz="2800" spc="-1" strike="noStrike">
                <a:solidFill>
                  <a:srgbClr val="ffffff"/>
                </a:solidFill>
                <a:latin typeface="Garamond"/>
              </a:rPr>
              <a:t>E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Гарри Маркович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4876920" y="1219320"/>
            <a:ext cx="426708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род. 1927)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 и математик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Выбор портфеля” (1952) предложил математическую модель составления набора ценных бумаг в портфеле инвестора для максимизации прибыл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дин из родоначальников теории финансов и финансового управления фирм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ложил способы сопоставления риско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доходности ценных бумаг, методы анализа финансового положения фирм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about_pic1"/>
          <p:cNvPicPr/>
          <p:nvPr/>
        </p:nvPicPr>
        <p:blipFill>
          <a:blip r:embed="rId1"/>
          <a:stretch/>
        </p:blipFill>
        <p:spPr>
          <a:xfrm>
            <a:off x="609480" y="990720"/>
            <a:ext cx="39070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Уильям Шарп</a:t>
            </a: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64" name="Picture 4" descr="William Sharpe"/>
          <p:cNvPicPr/>
          <p:nvPr/>
        </p:nvPicPr>
        <p:blipFill>
          <a:blip r:embed="rId1"/>
          <a:stretch/>
        </p:blipFill>
        <p:spPr>
          <a:xfrm>
            <a:off x="457200" y="1219320"/>
            <a:ext cx="3625920" cy="512424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5"/>
          <p:cNvSpPr/>
          <p:nvPr/>
        </p:nvSpPr>
        <p:spPr>
          <a:xfrm>
            <a:off x="4876920" y="1676520"/>
            <a:ext cx="3886200" cy="44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род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1934)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мериканский эконом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статье “Цена акционерного капитала” (1964) опубликовал модель оценки капитальных активов (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t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icing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odel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APM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 — прогнозирования цены акций на основе оценки риск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жидаемого доход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оказал, что инвестор может снизить риск путем комбинации безрискового капитала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оптимального портфеля рискованных ценных бума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1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ирма может финансировать свою деятельность путем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инвестиций,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инвестирования прибыли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ивлечения заемных средств,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лучения грантов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вестиции — увеличение капитала фирмы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целью извлечения дохода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Если инвестиции осуществляются за счет займа, фирма платит процент за право временного пользования капиталом банка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Источники финансирования фирмы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Привлечение инвестиций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attrac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—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ложение фирмой или лицом средств в денежной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или физической форме в данную фирму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Реинвестирование прибыли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reinvest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profit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вложение в производство прибыли, оставшейся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в распоряжении фирмы после уплаты налогов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Заимствование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borrowing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средств в виде займа в банке или через продажу облигации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на условия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 платности, срочности и возвратности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Гранты (</a:t>
            </a:r>
            <a:r>
              <a:rPr b="0" i="1" lang="en-US" sz="2400" spc="-1" strike="noStrike">
                <a:solidFill>
                  <a:srgbClr val="ffffff"/>
                </a:solidFill>
                <a:latin typeface="Garamond"/>
              </a:rPr>
              <a:t>grants</a:t>
            </a:r>
            <a:r>
              <a:rPr b="0" i="1" lang="ru-RU" sz="24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— получение взноса в денежной или физической форме, возврата которого не требуется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2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уществует три основных вида ценных бумаг — документа, закрепляющего имущественные и неимущественные права владельца: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ции — удостоверение собственности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лигации — удостоверение долга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7432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пцион — удостоверение права на покупку или продажу другой ценной бумаги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 зафиксированной цене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ыводы (3)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ондовый рынок — механизм превращения свободных сбережений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инвестиции путем продажи ценных бум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а этом рынке действуют дилеры, брокеры и другие профессиональные участники, многие из которых торгуют через фондовую биржу.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Капитал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apital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) — это накопленные физические ресурсы (здания, оборудование, машины) и финансовые сбережения, используемые для производства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 финансирования производства экономических благ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широком смысле капитал — это все,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то приносит его владельцу доход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Три вида капитал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зи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все, что создано трудом человека и используется для превращения ресурсов в экономические благ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Финансовы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денежные средства, на которые фирма покупает физический капитал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Человеческий капитал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— люди, которых нанимает фирма, поскольку они своим трудом создают добавленную стоимость и приносят фирме доход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Инвестиции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vestmen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увеличение капитала фирмы с целью извлечения доход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2" name="Picture 5" descr="j0399836"/>
          <p:cNvPicPr/>
          <p:nvPr/>
        </p:nvPicPr>
        <p:blipFill>
          <a:blip r:embed="rId1"/>
          <a:stretch/>
        </p:blipFill>
        <p:spPr>
          <a:xfrm>
            <a:off x="4876920" y="251460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тавка процент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interest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rate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отношение годовой суммы процента к сумме денег, взятой в кредит.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6" name="Picture 6" descr="borrowing_pic"/>
          <p:cNvPicPr/>
          <p:nvPr/>
        </p:nvPicPr>
        <p:blipFill>
          <a:blip r:embed="rId1"/>
          <a:stretch/>
        </p:blipFill>
        <p:spPr>
          <a:xfrm>
            <a:off x="4572000" y="3048120"/>
            <a:ext cx="35812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Ценная бумаг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1" i="1" lang="en-US" sz="3200" spc="-1" strike="noStrike">
                <a:solidFill>
                  <a:srgbClr val="ffffff"/>
                </a:solidFill>
                <a:latin typeface="Garamond"/>
              </a:rPr>
              <a:t>security</a:t>
            </a:r>
            <a:r>
              <a:rPr b="1" i="1" lang="ru-RU" sz="3200" spc="-1" strike="noStrike">
                <a:solidFill>
                  <a:srgbClr val="ffffff"/>
                </a:solidFill>
                <a:latin typeface="Garamond"/>
              </a:rPr>
              <a:t>)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— документ, который закрепляет имущественные и неимущественные права владельц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ена ценной бумаги называется курс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Виды ценных бумаг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Ак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stock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 — амер., share — англ.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собственности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блигация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bond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долга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Опцион (</a:t>
            </a:r>
            <a:r>
              <a:rPr b="0" i="1" lang="en-US" sz="3200" spc="-1" strike="noStrike">
                <a:solidFill>
                  <a:srgbClr val="ffffff"/>
                </a:solidFill>
                <a:latin typeface="Garamond"/>
              </a:rPr>
              <a:t>option</a:t>
            </a:r>
            <a:r>
              <a:rPr b="0" i="1" lang="ru-RU" sz="3200" spc="-1" strike="noStrike">
                <a:solidFill>
                  <a:srgbClr val="ffffff"/>
                </a:solidFill>
                <a:latin typeface="Garamond"/>
              </a:rPr>
              <a:t>)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— удостоверение права владельца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ценной бумаги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на покупку или продажу другой ценной бумаги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предусмотренный в ней срок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 зафиксированной цене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ижнього колонтитула 5"/>
          <p:cNvSpPr/>
          <p:nvPr/>
        </p:nvSpPr>
        <p:spPr>
          <a:xfrm>
            <a:off x="3124080" y="6477120"/>
            <a:ext cx="289584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Другие виды ценных бумаг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ек — указание чекодателя банку выплатить чекодержателю указанную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чеке сумму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ексель — долговое обязательство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риваты — производные ценные бумаг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01:46:14Z</dcterms:created>
  <dc:creator>akireyev</dc:creator>
  <dc:description/>
  <dc:language>en-US</dc:language>
  <cp:lastModifiedBy>LEGION</cp:lastModifiedBy>
  <dcterms:modified xsi:type="dcterms:W3CDTF">2014-11-10T09:24:04Z</dcterms:modified>
  <cp:revision>54</cp:revision>
  <dc:subject/>
  <dc:title>18. Фирма на рынке</dc:title>
</cp:coreProperties>
</file>