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7F84-BE00-4B8D-9C09-8AEB7BFCB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3. Экономика фи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 Рынок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7D7F-2A38-4D49-A00B-098D9DB52F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ыкновенные 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ordinary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tock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которые дают владельцу право голо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обрании акционеров и прав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олучение дивиденд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прибыли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илегированные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eferred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tock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которые не дают права голоса на собрании акционеров, но гарантируют владельцу приоритет в получении дивидендов  — части прибыли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1593-5B99-47F5-B580-866880590F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ынок капитала 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apital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rket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 рынок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котором осуществляется купля и продажа ценных бумаг и других финансовых инструментов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B0A6-26C8-4E99-9C0B-BD9191232D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фондового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итенты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suer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— фирмы и другие организации, нуждающие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финансировании и выпускающие ценные бумаги на продажу, и другие владельцы ценных бумаг, которые ранее их купили на ры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оры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vestor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— покупател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фондовом рынке. Покупая ценные бумаги, они превращают свои сбережения в инвести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3740-5D02-4A89-8F98-F846492FCA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ессиональные участники фондового ры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рокер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roker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юридическое или физическое лицо, совершающее сделки с ценными бумагами от имени и за счет клиента или от своего имени и за счет кли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илер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aler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юридическое лицо, являющееся коммерческой организацией, торгующее ценными бумагами от своего имени и за свой сч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правляющий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nager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фирма, которая от своего имени за вознаграждение управляет принадлежащими третьим лицам ценными бумаг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лиринговая организация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lear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ouse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фирма, занимающаяся расчетами по сделкам с ценными бумаг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позитарий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pository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фирма, оказывающая услуги по хранению сертификатов ценных бума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учету перехода прав на 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F1D1-1B2B-45B6-A0DE-43BDAF34DF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овая бир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tock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exchange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 фирма — организатор торговли на рынке ценных бума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гменты фондовой бирж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овый рынок — торговля частными  акциями и государственными облигац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рынок — торговля иностранной  валю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чный рынок — сделки  с исполнением в определенную дату в будущ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DB67-7871-41E9-9EFD-98263C3AA7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ир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quote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цена ценной бумаги на бирж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инг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istin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— регистрация ценной бумаги на бирже и включение е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тировальный спис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истинг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list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исключение ценной бумаги из котировального спис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9B92-F8FD-4679-9FBD-C48208A6B2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вестиционные показ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ыночная капитализация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rket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apitalization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CAP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рыночная стоимость компании, количество размещенных обыкновенных акций, умноженное на текущую рыночную цену одной а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тношение цены акции компании к годовой выручке на акцию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price per share/sales per share, P/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тношение цены акции к годовому объему чистой прибыл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ice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er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hare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arn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er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hare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C2BA-3A18-42D7-BC3E-8F4D5B2A69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рри Маркови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рри Маркови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C705-C331-423C-BE2F-B89AED2465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ильям Шар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1934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мериканский экономи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статье “Цена акционерного капитала” (1964) опубликовал модель оценки капитальных активов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pital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et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ing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PM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 — прогнозирования цены акций на основе оценки риск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ожидаемого дох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казал, что инвестор может снизить риск путем комбинации безрискового капитал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оптимального портфеля рискованных ценных бума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486E-7EA9-489C-A426-E21FF15759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рма может финансировать свою деятельность пут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лечения инвестиций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инвестирования прибыл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лечения заемных средст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ения гра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вестиции — увеличение капитала фирм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целью извлечения дох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инвестиции осуществляются за счет займа, фирма платит процент за право временного пользования капиталом ба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18E3-FC1C-488C-8646-DC2CBCE6A8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и финансирования фи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влечение инвестиций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ttract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—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ожение фирмой или лицом средств в денежн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физической форме в данную фир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еинвестирование прибыли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invest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fit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вложение в производство прибыли, оставшей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споряжении фирмы после уплаты налог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Заимствование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orrow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получение средств в виде займа в банке или через продажу облиг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условиях платности, срочности и возврат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ранты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rants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получение взноса в денежной или физической форме, возврата которого не требу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F62D-2A4D-44B7-B2DE-390C3656AF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три основных вида ценных бумаг — документа, закрепляющего имущественные и неимущественные права владельц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и — удостоверение собственн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игации — удостоверение долг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цион — удостоверение права на покупку или продажу другой ценной бумаг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едусмотренный в ней сро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зафиксированной ц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6B21-8F5E-4D33-9A0E-C27EC68755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овый рынок — механизм превращения свободных сбережен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инвестиции путем продажи ценных бума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этом рынке действуют дилеры, брокеры и другие профессиональные участники, многие из которых торгуют через фондовую бирж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60A5-8B4A-4711-B19A-751D706BAD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ta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— это накопленные физические ресурсы (здания, оборудование, машины) и финансовые сбережения, используемые для производ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финансирования производства экономических бла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широком смысле капитал — это все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иносит его владельцу дохо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D15B-D165-40C6-9BC2-1E9E2FEF54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вида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изический капита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все, что создано трудом человека и используется для превращения ресурсов в экономические бла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инансовый капита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денежные средства, на которые фирма покупает физический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ловеческий капита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люди, которых нанимает фирма, поскольку они своим трудом создают добавленную стоимость и приносят фирме дох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4B27-0190-4DA4-9AA4-BE6E97AB72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величение капитала фирмы с целью извлечения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6466-6421-4DD7-95B8-5101DBDDC1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вка проц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nterest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ate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 отношение годовой суммы процента к сумме денег, взятой в кредит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3728-6104-483D-8E79-74FA608795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ая бум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ecurity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 документ, который закрепляет имущественные и неимущественные права владель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ценной бумаги называется курс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5E66-66BE-4557-82F6-6D68ACC679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кция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tock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— амер., share — англ.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удостоверение собств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блигация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ond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удостоверение долг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пцион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ption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удостоверение права владельца ценной бумаги на покупку или продажу другой ценной бумаг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едусмотренный в ней сро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зафиксированной це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7A31-296E-443D-8D01-5F060A33D7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D71A0-B1CD-48C9-86FB-2D52A1F2D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C88A6-F23C-48A5-B41F-215069C3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2B868-EF2B-4ECA-B538-FDB2D6FC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7E92C-8C8B-40D9-B15D-8E5C3066D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C11FD-79BE-4994-949B-4B4D1EE42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6D3F5-3B25-43FF-A0E4-8D2E7C83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1A3B9-3AFC-4B8C-8DC5-FBB481CC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BFCF7-6B74-4168-8247-87A1C84E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0D130-AF1F-4B52-82B1-ECED66D7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33199-BD61-4DA9-B373-49DC51DF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E54D4-7A5B-41DF-87B1-38787DBF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0E946-1ED1-4413-A7A5-3898C329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0EFA4-4301-4222-B19E-92A5D71E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B68CB-1A74-47E9-9F5F-CB342354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DAF21-200D-41C2-9F6B-3106CCD7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7D03E-347E-4477-AC0B-E7E98EF75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78C98-C49E-4F26-9665-22A1269A1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AED18-4719-43AC-A679-FD5FF112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4FA0F-F97E-4685-B4D5-8189CDAB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90176-F6D0-4E05-A4CD-D9F88644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86A0C-4BD0-4267-BA9F-375E03D2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93C0B-AFBE-4538-A4AA-FB7AB52D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6924C-8A82-4DCD-B25B-588B65C0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88847-C8E0-408A-AC25-EE03A0B1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971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3. Экономика фирм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92A3-8081-4E1B-91D2-041EF9C558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3. Экономика фирм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6AEC-F4C5-4DBB-8BB2-59F7465F8A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Глава 3. Экономика фирм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0. Рынок капита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6" descr="031003123957040"/>
          <p:cNvPicPr/>
          <p:nvPr/>
        </p:nvPicPr>
        <p:blipFill>
          <a:blip r:embed="rId1"/>
          <a:stretch/>
        </p:blipFill>
        <p:spPr>
          <a:xfrm>
            <a:off x="4876920" y="2286000"/>
            <a:ext cx="316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иды акц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ыкновенные (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ordinar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tocks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, которые дают владельцу право голос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собрании акционеров и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получение дивидендов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зависимости от прибыли обще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вилегированные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referred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tocks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, которые не дают права голоса на собрании акционеров, но гарантируют владельцу приоритет в получении дивидендов  — части прибыли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ондовый рыно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5181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рынок капитала 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apital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market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рынок,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 котором осуществляется купля и продажа ценных бумаг и других финансовых инструментов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5" descr="Money_Fist"/>
          <p:cNvPicPr/>
          <p:nvPr/>
        </p:nvPicPr>
        <p:blipFill>
          <a:blip r:embed="rId1"/>
          <a:stretch/>
        </p:blipFill>
        <p:spPr>
          <a:xfrm>
            <a:off x="5562720" y="1752480"/>
            <a:ext cx="3408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Участники фондового рын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митенты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ssuers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— фирмы и другие организации, нуждающиеся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финансировании и выпускающие ценные бумаги на продажу, и другие владельцы ценных бумаг, которые ранее их купили на рынк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весторы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nvestors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— покупател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фондовом рынке. Покупая ценные бумаги, они превращают свои сбережения в инвестици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офессиональные участники фондового рын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Брокер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roker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юридическое или физическое лицо, совершающее сделки с ценными бумагами от имени и за счет клиента или от своего имени и за счет клиен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Дилер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dealer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юридическое лицо, являющееся коммерческой организацией, торгующее ценными бумагами от своего имени и за свой сче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Управляющий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anager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фирма, которая от своего имени за вознаграждение управляет принадлежащими третьим лицам ценными бумаг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Клиринговая организация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learing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hous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фирма, занимающаяся расчетами по сделкам с ценными бумаг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Депозитарий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depository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фирма, оказывающая услуги по хранению сертификатов ценных бумаг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 учету перехода прав на ни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ондовая бирж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stock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exchange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фирма — организатор торговли на рынке ценных бума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егменты фондовой биржи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ндо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й рынок — торговля частными  акциями и государственными облигация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алют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й рынок — торговля иностранной  валют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рочный рынок — сделки  с исполнением в определенную дату в будуще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отиров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quote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цена ценн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й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бумаги на бирж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истинг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isting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— регистрация ценной бумаги на бирже и включение е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котировальный список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елистинг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delisting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—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исключение ценной бумаги из котировального спис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нвестиционные показател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Рыночная капитализация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arket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apitalization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CAP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— рыночная стоимость компании, количество размещенных обыкновенных акций, умноженное на текущую рыночную цену одной ак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Отношение цены акции компании к годовой выручке на акцию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price per share/sales per share, P/S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Отношение цены акции к годовому объему чистой прибыли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rice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er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hare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earning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er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hare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Гарри Маркович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4876920" y="1219320"/>
            <a:ext cx="426708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род. 1927)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мериканский экономист и математи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татье “Выбор портфеля” (1952) предложил математическую модель составления набора ценных бумаг в портфеле инвестора для максимизации прибыл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ин из родоначальников теории финансов и финансового управления фирм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ложил способы сопоставления риск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доходности ценных бумаг, методы анализа финансового положения фирм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8" descr="about_pic1"/>
          <p:cNvPicPr/>
          <p:nvPr/>
        </p:nvPicPr>
        <p:blipFill>
          <a:blip r:embed="rId1"/>
          <a:stretch/>
        </p:blipFill>
        <p:spPr>
          <a:xfrm>
            <a:off x="609480" y="990720"/>
            <a:ext cx="3907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Уильям Шарп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4" name="Picture 4" descr="William Sharpe"/>
          <p:cNvPicPr/>
          <p:nvPr/>
        </p:nvPicPr>
        <p:blipFill>
          <a:blip r:embed="rId1"/>
          <a:stretch/>
        </p:blipFill>
        <p:spPr>
          <a:xfrm>
            <a:off x="457200" y="1219320"/>
            <a:ext cx="3625920" cy="51242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4876920" y="1676520"/>
            <a:ext cx="3886200" cy="44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1934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мериканский экономис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татье “Цена акционерного капитала” (1964) опубликовал модель оценки капитальных активов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t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cing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l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PM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— прогнозирования цены акций на основе оценки рис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ожидаемого дохо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казал, что инвестор может снизить риск путем комбинации безрискового капитал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оптимального портфеля рискованных ценных бума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ирма может финансировать свою деятельность путем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влечения инвестиций,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инвестирования прибыли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влечения заемных средств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учения грант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вестиции — увеличение капитала фирмы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целью извлечения доход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инвестиции осуществляются за счет займа, фирма платит процент за право временного пользования капиталом бан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сточники финансирования фирм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Привлечение инвестиций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ttracting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vestment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—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ложение фирмой или лицом средств в денежной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ли физической форме в данную фирм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Реинвестирование прибыли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reinvesting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rofit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вложение в производство прибыли, оставшейс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распоряжении фирмы после уплаты налог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Заимствование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orrowing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получение средств в виде займа в банке или через продажу облигаци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 услов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платности, срочности и возвратност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Гранты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grant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получение взноса в денежной или физической форме, возврата которого не требуетс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2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уществует три основных вида ценных бумаг — документа, закрепляющего имущественные и неимущественные права владельца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кции — удостоверение собственности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блигации — удостоверение долга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пцион — удостоверение права на покупку или продажу другой ценной бумаг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предусмотренный в ней срок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 зафиксированной цен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3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ндовый рынок — механизм превращения свободных сбережений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инвестиции путем продажи ценных бумаг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этом рынке действуют дилеры, брокеры и другие профессиональные участники, многие из которых торгуют через фондовую биржу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апита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ital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— это накопленные физические ресурсы (здания, оборудование, машины) и финансовые сбережения, используемые для производств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финансирования производства экономических благ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широком смысле капитал — это все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то приносит его владельцу доход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ри вида капитал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Физический капитал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все, что создано трудом человека и используется для превращения ресурсов в экономические благ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Финансовый капитал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денежные средства, на которые фирма покупает физический капита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Человеческий капитал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люди, которых нанимает фирма, поскольку они своим трудом создают добавленную стоимость и приносят фирме доход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Инвестиц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investment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увеличение капитала фирмы с целью извлечения доход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j0399836"/>
          <p:cNvPicPr/>
          <p:nvPr/>
        </p:nvPicPr>
        <p:blipFill>
          <a:blip r:embed="rId1"/>
          <a:stretch/>
        </p:blipFill>
        <p:spPr>
          <a:xfrm>
            <a:off x="4876920" y="251460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тавка процен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interest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rate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отношение годовой суммы процента к сумме денег, взятой в кредит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6" descr="borrowing_pic"/>
          <p:cNvPicPr/>
          <p:nvPr/>
        </p:nvPicPr>
        <p:blipFill>
          <a:blip r:embed="rId1"/>
          <a:stretch/>
        </p:blipFill>
        <p:spPr>
          <a:xfrm>
            <a:off x="4572000" y="3048120"/>
            <a:ext cx="35812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Ценная бумаг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security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документ, который закрепляет имущественные и неимущественные права владельц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ена ценной бумаги называется курсо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иды ценных бумаг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Акция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tock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— амер., share — англ.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— удостоверение собственност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блигация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bond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— удостоверение долг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пцион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option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— удостоверение права владельц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нной бумаг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на покупку или продажу другой ценной бумаг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едусмотренный в ней срок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зафиксированной цене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ругие виды ценных бумаг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к — указание чекодателя банку выплатить чекодержателю указанную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чеке сумму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ксель — долговое обязательств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риваты — производные ценные бумаг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1:46:14Z</dcterms:created>
  <dc:creator>akireyev</dc:creator>
  <dc:description/>
  <dc:language>en-US</dc:language>
  <cp:lastModifiedBy>LEGION</cp:lastModifiedBy>
  <dcterms:modified xsi:type="dcterms:W3CDTF">2014-11-10T09:24:04Z</dcterms:modified>
  <cp:revision>54</cp:revision>
  <dc:subject/>
  <dc:title>18. Фирма на рынке</dc:title>
</cp:coreProperties>
</file>