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4B3B-896C-493F-888C-6B32E50DF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. Экономика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 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0552-8B81-48F5-A525-6E15430BD3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ыкновенные 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ordinar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которые дают владельцу право голо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брании акционеров и прав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олучение дивиден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рибыл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легированные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eferred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которые не дают права голоса на собрании акционеров, но гарантируют владельцу приоритет в получении дивидендов  — части прибыл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03E6-9DDB-4129-9D01-611E3E2E5C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ынок капитала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рыно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котором осуществляется купля и продажа ценных бумаг и других финансовых инструментов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63DD-4FC7-4E2C-A51D-53C2DECC85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фондового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тент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suer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фирмы и другие организации, нуждающие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инансировании и выпускающие ценные бумаги на продажу, и другие владельцы ценных бумаг, которые ранее их купили на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ор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vestor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покупате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фондовом рынке. Покупая ценные бумаги, они превращают свои сбережения в инвести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0470-1A70-4AD7-9C60-C714DED143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ые участники фондового ры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рокер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ok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юридическое или физическое лицо, совершающее сделки с ценными бумагами от имени и за счет клиента или от своего имени и за счет кли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лер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al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юридическое лицо, являющееся коммерческой организацией, торгующее ценными бумагами от своего имени и за свой сч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правляющ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которая от своего имени за вознаграждение управляет принадлежащими третьим лицам ценными бума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лиринговая организ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lear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us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занимающаяся расчетами по сделкам с ценными бума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позитар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pository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оказывающая услуги по хранению сертификатов ценных бума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чету перехода прав на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4820-696C-48C3-9984-F642F226A4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ая бир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tock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xchange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фирма — организатор торговли на рынке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менты фондовой бирж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 — торговля частными  акциями и государственными облиг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рынок — торговля иностранной  валю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чный рынок — сделки  с исполнением в определенную дату в будущ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2D81-E933-437B-97AE-A6B70E8240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ир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quote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цена ценной бумаги на бир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инг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isti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регистрация ценной бумаги на бирже и включение 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тировальный спис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стинг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lis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исключение ценной бумаги из котировального сп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3333-4E3E-42E5-A394-2E61C7F2F2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вестиционные показ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ыночная капитализ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pitalization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CAP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рыночная стоимость компании, количество размещенных обыкновенных акций, умноженное на текущую рыночную цену одной а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ношение цены акции компании к годовой выручке на акцию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price per share/sales per share, P/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ношение цены акции к годовому объему чистой прибыл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ic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arn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A03D-1736-430D-921D-ACF326BDBD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ри Маркови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ри Маркови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CB15-0777-4FFC-9039-FD9B09BC1F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ильям Шар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1934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мериканский экономи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статье “Цена акционерного капитала” (1964) опубликовал модель оценки капитальных активов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t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ing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M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 — прогнозирования цены акций на основе оценки риск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ожидаемого дох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азал, что инвестор может снизить риск путем комбинации безрискового капитал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оптимального портфеля рискованных ценных бум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00C9-6670-492E-A63A-D2F8381F59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рма может финансировать свою деятельность пут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я инвестиций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инвестирования прибы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я заемных средст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я гра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вестиции — увеличение капитала фирм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целью извлечения дох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инвестиции осуществляются за счет займа, фирма платит процент за право временного пользования капиталом б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F58F-9D38-4B68-B0C4-4E7906BEA2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 финансирования фи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влечение инвестиц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ttrac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е фирмой или лицом средств в денеж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физической форме в данную фи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еинвестирование прибыли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inves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fi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ложение в производство прибыли, оставшей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споряжении фирмы после уплаты нал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аимствование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orrow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олучение средств в виде займа в банке или через продажу облиг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словиях платности, срочности и возвра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рант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rants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олучение взноса в денежной или физической форме, возврата которого не требу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3225-2A53-4FD3-ACB6-48F8B215E2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три основных вида ценных бумаг — документа, закрепляющего имущественные и неимущественные права владельц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 — удостоверение собствен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гации — удостоверение долг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 — удостоверение права на покупку или продажу другой ценной бумаг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усмотренный в ней ср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афиксирова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4480-BB2B-4198-9E2D-7846273FC9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 — механизм превращения свободных сбереже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нвестиции путем продажи ценных бум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этом рынке действуют дилеры, брокеры и другие профессиональные участники, многие из которых торгуют через фондовую бирж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098D-9F29-4930-B726-CF9F98621F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это накопленные физические ресурсы (здания, оборудование, машины) и финансовые сбережения, используемые для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финансирования производства экономических бл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 капитал — это вс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иносит его владельцу дох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69E1-0E1E-468A-A359-AB37C025C8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ида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зически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се, что создано трудом человека и используется для превращения ресурсов в экономические бла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овы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денежные средства, на которые фирма покупает физически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чески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люди, которых нанимает фирма, поскольку они своим трудом создают добавленную стоимость и приносят фирме дох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6F88-943D-4543-927B-DD5D40B500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величение капитала фирмы с целью извлечения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0287-DB72-454C-9F26-21ED6E92C6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ка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teres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отношение годовой суммы процента к сумме денег, взятой в кредит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FE9E-DA0D-44C6-AA57-1A265E5992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ая бум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документ, который закрепляет имущественные и неимущественные права владель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ценной бумаги называется кур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BD98-B3A0-44ED-AC46-DF15691837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к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— амер., share — англ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соб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лиг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ond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пцион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права владельца ценной бумаги на покупку или продажу другой ценной бумаг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усмотренный в ней ср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афиксирова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6A40-875D-4B27-A1DF-3C7060444A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040C0-3210-4B3B-A9C2-D6154AA3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37CFD-7026-4570-B026-1C947CC9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2D8C1-6A31-4C08-BCA1-A4EC17F4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1039F-486F-4F30-99CB-BF25B2B8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FEB59-851A-4D7E-BB9E-DF48740A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AA59C-4B8B-4BF5-8B3A-7C5AE899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15011-D330-41C5-959A-1853B33D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C6C13-7C9D-4E2B-A937-D405CF69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C0B13-BE29-475B-828C-FCB68630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1F6A4-88F5-403F-B2F4-93B51DED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0D0DA-3C64-4F45-BCFE-E06BD87B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3D05F-B200-4851-AEA8-463DB3A7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6F09F-5ED9-4ABF-A135-B86A56DB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5E3AC-D090-4ECE-AFFB-94DA80C4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14970-551F-4FDC-94A1-DD4ABA79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5B71E-0619-4232-9429-9D06879A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56686-5933-4385-BDD4-F59A9C98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6074-DC24-4B02-B8D7-6C8DC9A0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D6072-7863-4B08-A64B-484CD2FE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D435F-6A88-47F5-B60A-31DFF4D4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A7509-7F1F-424E-888F-99D2FAB6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C3332-1DC4-4495-9F81-8C2918B5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D4EC1-E318-43FC-9594-03185AB8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471C4-1000-48CC-AD68-8DF62156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3. Экономика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5310-C8F5-42E8-84ED-FD5BF5B892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3. Экономика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DD61-042F-4FAB-8487-7FF9BF5B51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лава 3. Экономика фир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. Рынок капита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031003123957040"/>
          <p:cNvPicPr/>
          <p:nvPr/>
        </p:nvPicPr>
        <p:blipFill>
          <a:blip r:embed="rId1"/>
          <a:stretch/>
        </p:blipFill>
        <p:spPr>
          <a:xfrm>
            <a:off x="4876920" y="2286000"/>
            <a:ext cx="316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акц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ыкновенные (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ordinar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которые дают владельцу право голос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собрании акционеров 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получение дивидендо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зависимости от прибыли обще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вилегированные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referred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которые не дают права голоса на собрании акционеров, но гарантируют владельцу приоритет в получении дивидендов  — части прибыл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ндовый рыно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рынок капитала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apital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рынок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 котором осуществляется купля и продажа ценных бумаг и других финансовых инструментов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5" descr="Money_Fist"/>
          <p:cNvPicPr/>
          <p:nvPr/>
        </p:nvPicPr>
        <p:blipFill>
          <a:blip r:embed="rId1"/>
          <a:stretch/>
        </p:blipFill>
        <p:spPr>
          <a:xfrm>
            <a:off x="5562720" y="1752480"/>
            <a:ext cx="3408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частники фондового рын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митент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ssuer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фирмы и другие организации, нуждающиес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финансировании и выпускающие ценные бумаги на продажу, и другие владельцы ценных бумаг, которые ранее их купили на рынк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вестор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nvestor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покупател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фондовом рынке. Покупая ценные бумаги, они превращают свои сбережения в инвестиц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офессиональные участники фондового рын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Брокер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rok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юридическое или физическое лицо, совершающее сделки с ценными бумагами от имени и за счет клиента или от своего имени и за счет клиен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илер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eal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юридическое лицо, являющееся коммерческой организацией, торгующее ценными бумагами от своего имени и за свой сч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Управляющ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anag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которая от своего имени за вознаграждение управляет принадлежащими третьим лицам ценными бумаг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Клиринговая организаци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lear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ous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занимающаяся расчетами по сделкам с ценными бумаг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епозитар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epository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оказывающая услуги по хранению сертификатов ценных бумаг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учету перехода прав на ни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ндовая бирж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tock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xchang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фирма — организатор торговли на рынке ценных бума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егменты фондовой бирж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нд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й рынок — торговля частными  акциями и государственными облигаци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лют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й рынок — торговля иностранной  валют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очный рынок — сделки  с исполнением в определенную дату в будуще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отиров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quote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цена цен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бумаги на бирж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стинг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isting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регистрация ценной бумаги на бирже и включение е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котировальный список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листинг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elisting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исключение ценной бумаги из котировального спис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нвестиционные показате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ыночная капитализация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apitalization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CAP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рыночная стоимость компании, количество размещенных обыкновенных акций, умноженное на текущую рыночную цену одной ак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ношение цены акции компании к годовой выручке на акцию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price per share/sales per share, P/S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ношение цены акции к годовому объему чистой прибыли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er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ha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arning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er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ha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арри Маркович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876920" y="1219320"/>
            <a:ext cx="42670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 1927)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 и математ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атье “Выбор портфеля” (1952) предложил математическую модель составления набора ценных бумаг в портфеле инвестора для максимизации прибы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из родоначальников теории финансов и финансового управления фирм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ложил способы сопоставления риск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оходности ценных бумаг, методы анализа финансового положения фир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about_pic1"/>
          <p:cNvPicPr/>
          <p:nvPr/>
        </p:nvPicPr>
        <p:blipFill>
          <a:blip r:embed="rId1"/>
          <a:stretch/>
        </p:blipFill>
        <p:spPr>
          <a:xfrm>
            <a:off x="609480" y="990720"/>
            <a:ext cx="3907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ильям Шарп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4" descr="William Sharpe"/>
          <p:cNvPicPr/>
          <p:nvPr/>
        </p:nvPicPr>
        <p:blipFill>
          <a:blip r:embed="rId1"/>
          <a:stretch/>
        </p:blipFill>
        <p:spPr>
          <a:xfrm>
            <a:off x="457200" y="1219320"/>
            <a:ext cx="3625920" cy="51242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4876920" y="1676520"/>
            <a:ext cx="388620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1934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атье “Цена акционерного капитала” (1964) опубликовал модель оценки капитальных активов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t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cing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M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— прогнозирования цены акций на основе оценки рис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жидаемого дох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зал, что инвестор может снизить риск путем комбинации безрискового капит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птимального портфеля рискованных ценных бума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рма может финансировать свою деятельность путе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я инвестиций,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инвестирования прибыл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я заемных средст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ения гр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вестиции — увеличение капитала фирмы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целью извлечения доход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инвестиции осуществляются за счет займа, фирма платит процент за право временного пользования капиталом бан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сточники финансирования фирм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ривлечение инвестиц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ttract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—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ложение фирмой или лицом средств в денежно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ли физической форме в данную фирм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Реинвестирование прибыл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einvest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rofi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вложение в производство прибыли, оставшейс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распоряжении фирмы после уплаты налог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Заимствование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orrow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средств в виде займа в банке или через продажу облигаци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услов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платности, срочности и возврат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Гранты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rant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взноса в денежной или физической форме, возврата которого не требует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уществует три основных вида ценных бумаг — документа, закрепляющего имущественные и неимущественные права владельц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кции — удостоверение собственност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лигации — удостоверение долг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цион — удостоверение права на покупку или продажу другой ценной бумаг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редусмотренный в ней срок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зафиксированной цен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3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ндовый рынок — механизм превращения свободных сбережени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нвестиции путем продажи ценных бума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этом рынке действуют дилеры, брокеры и другие профессиональные участники, многие из которых торгуют через фондовую биржу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пита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ital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это накопленные физические ресурсы (здания, оборудование, машины) и финансовые сбережения, используемые для производст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финансирования производства экономических бла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широком смысле капитал — это все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приносит его владельцу доход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ри вида капита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Физически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все, что создано трудом человека и используется для превращения ресурсов в экономические бла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Финансовы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денежные средства, на которые фирма покупает физический капит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Человечески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люди, которых нанимает фирма, поскольку они своим трудом создают добавленную стоимость и приносят фирме дох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нвести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vestmen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величение капитала фирмы с целью извлечения дох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j0399836"/>
          <p:cNvPicPr/>
          <p:nvPr/>
        </p:nvPicPr>
        <p:blipFill>
          <a:blip r:embed="rId1"/>
          <a:stretch/>
        </p:blipFill>
        <p:spPr>
          <a:xfrm>
            <a:off x="4876920" y="25146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тавка процен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teres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rat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отношение годовой суммы процента к сумме денег, взятой в кредит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6" descr="borrowing_pic"/>
          <p:cNvPicPr/>
          <p:nvPr/>
        </p:nvPicPr>
        <p:blipFill>
          <a:blip r:embed="rId1"/>
          <a:stretch/>
        </p:blipFill>
        <p:spPr>
          <a:xfrm>
            <a:off x="4572000" y="3048120"/>
            <a:ext cx="35812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нная бума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ecurity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документ, который закрепляет имущественные и неимущественные права владельц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а ценной бумаги называется курс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ценных бума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кция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— амер., share — англ.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собствен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блигация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ond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долг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пцион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option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права владельц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ной бумаг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 покупку или продажу другой ценной бумаг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едусмотренный в ней срок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зафиксированной цен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ругие виды ценных бумаг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к — указание чекодателя банку выплатить чекодержателю указанную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чеке сумм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ксель — долговое обязательств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иваты — производные ценные бумаг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46:14Z</dcterms:created>
  <dc:creator>akireyev</dc:creator>
  <dc:description/>
  <dc:language>en-US</dc:language>
  <cp:lastModifiedBy>LEGION</cp:lastModifiedBy>
  <dcterms:modified xsi:type="dcterms:W3CDTF">2014-11-10T09:24:04Z</dcterms:modified>
  <cp:revision>54</cp:revision>
  <dc:subject/>
  <dc:title>18. Фирма на рынке</dc:title>
</cp:coreProperties>
</file>