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B303-F0DE-41BF-85FC-4CAB2BC43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3. Экономика фи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 Рынок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AC93-D9E8-4646-A118-1365D1E0A2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ыкновенные (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ordinary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tock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, которые дают владельцу право голо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обрании акционеров и прав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олучение дивиденд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прибыли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илегированные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eferred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tock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, которые не дают права голоса на собрании акционеров, но гарантируют владельцу приоритет в получении дивидендов  — части прибыли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CE19-485A-4C4E-8966-C69EE6B61A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дов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ынок капитала 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apital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rket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— рынок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котором осуществляется купля и продажа ценных бумаг и других финансовых инструментов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DE79-9B75-4239-AB5F-CF122F75B7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фондового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итенты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suer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— фирмы и другие организации, нуждающие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финансировании и выпускающие ценные бумаги на продажу, и другие владельцы ценных бумаг, которые ранее их купили на ры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оры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vestor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— покупател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фондовом рынке. Покупая ценные бумаги, они превращают свои сбережения в инвести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2657-4A68-4E98-BCCF-7C3972A7FB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ессиональные участники фондового ры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рокер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roker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юридическое или физическое лицо, совершающее сделки с ценными бумагами от имени и за счет клиента или от своего имени и за счет кли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илер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ealer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юридическое лицо, являющееся коммерческой организацией, торгующее ценными бумагами от своего имени и за свой сч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правляющий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anager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фирма, которая от своего имени за вознаграждение управляет принадлежащими третьим лицам ценными бумаг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лиринговая организация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learing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ouse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фирма, занимающаяся расчетами по сделкам с ценными бумаг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епозитарий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epository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фирма, оказывающая услуги по хранению сертификатов ценных бумаг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учету перехода прав на 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7F04-1D06-4DEA-A555-18D2463083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довая бирж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tock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exchange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— фирма — организатор торговли на рынке ценных бума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гменты фондовой бирж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довый рынок — торговля частными  акциями и государственными облигац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рынок — торговля иностранной  валю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очный рынок — сделки  с исполнением в определенную дату в будущ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A816-EFD9-498C-B0FE-04352C64CB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ир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quote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цена ценной бумаги на бирж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инг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istin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— регистрация ценной бумаги на бирже и включение е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тировальный списо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истинг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elisting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исключение ценной бумаги из котировального спис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9B54-EA1C-45FC-9988-99C2CB515A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вестиционные показа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ыночная капитализация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arket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apitalization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CAP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рыночная стоимость компании, количество размещенных обыкновенных акций, умноженное на текущую рыночную цену одной а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тношение цены акции компании к годовой выручке на акцию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price per share/sales per share, P/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тношение цены акции к годовому объему чистой прибыл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ice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er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hare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arning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er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hare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DA17-7F69-4C4D-9A20-77F475E821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рри Маркови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рри Маркови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6C22-48D2-4E30-B705-EA44CFFD4A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ильям Шарп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о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1934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мериканский экономис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статье “Цена акционерного капитала” (1964) опубликовал модель оценки капитальных активов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pital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et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ing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PM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 — прогнозирования цены акций на основе оценки риска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ожидаемого дохо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казал, что инвестор может снизить риск путем комбинации безрискового капитала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оптимального портфеля рискованных ценных бума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00A3-E305-41B1-9618-F31E981923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рма может финансировать свою деятельность пут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лечения инвестиций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инвестирования прибыл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лечения заемных средст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ения гра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вестиции — увеличение капитала фирмы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целью извлечения дохо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инвестиции осуществляются за счет займа, фирма платит процент за право временного пользования капиталом ба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BDAE-4CF5-459B-ABCF-DF3B0D3271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чники финансирования фи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ивлечение инвестиций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ttracting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—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ожение фирмой или лицом средств в денежн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физической форме в данную фир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еинвестирование прибыли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investing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ofit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вложение в производство прибыли, оставшей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споряжении фирмы после уплаты налог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Заимствование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orrowing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получение средств в виде займа в банке или через продажу облиг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условиях платности, срочности и возврат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ранты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rants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получение взноса в денежной или физической форме, возврата которого не требу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511F-CEA3-44CB-8C3F-837BAF5287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три основных вида ценных бумаг — документа, закрепляющего имущественные и неимущественные права владельц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и — удостоверение собственн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игации — удостоверение долг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цион — удостоверение права на покупку или продажу другой ценной бумаг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едусмотренный в ней сро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зафиксированной це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FD96-8D07-431B-861A-D3E659D4FB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 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довый рынок — механизм превращения свободных сбережен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инвестиции путем продажи ценных бума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этом рынке действуют дилеры, брокеры и другие профессиональные участники, многие из которых торгуют через фондовую бирж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CAB5-1744-4F53-8F64-47E17A7F1D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ta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— это накопленные физические ресурсы (здания, оборудование, машины) и финансовые сбережения, используемые для производ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финансирования производства экономических бла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широком смысле капитал — это все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риносит его владельцу дохо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231D-8035-4D2B-9CCE-FD5E8A58F3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вида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Физический капита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все, что создано трудом человека и используется для превращения ресурсов в экономические бла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Финансовый капита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денежные средства, на которые фирма покупает физический капит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еловеческий капита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люди, которых нанимает фирма, поскольку они своим трудом создают добавленную стоимость и приносят фирме дох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39EA-781E-4307-B3BB-DE08F26358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величение капитала фирмы с целью извлечения до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3B08-CF81-4EF4-984A-B44CFA1978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вка проц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nterest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ate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— отношение годовой суммы процента к сумме денег, взятой в кредит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4A07-0632-485F-9446-2562A76CE1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ая бум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ecurity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— документ, который закрепляет имущественные и неимущественные права владель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ценной бумаги называется курс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AE5E-CB1B-41C2-85B3-A989C2BF87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кция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tock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— амер., share — англ.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удостоверение собствен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блигация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ond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удостоверение долг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пцион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ption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удостоверение права владельца ценной бумаги на покупку или продажу другой ценной бумаг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едусмотренный в ней сро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зафиксированной це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8FF2-A0AC-4290-BD8C-4796FBD895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35466-CACF-4353-986F-F531202E8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4CC1D-8B1B-4D4D-B7AB-9EFB0846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03C9B-A779-4899-871C-FC155EA2C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7F47A-B593-417B-BEBD-347139CEE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DADA4-0ED5-4164-8B02-9FB16BBF8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515EDC-ADF0-46FD-A47C-43E5C21C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8866C-5F53-4C18-BC33-05292E8B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8469A-3A62-4913-BE92-070CAF1C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EF3EC-F323-44F7-BD2A-A57D0C45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D4A69-5DD7-461B-BF31-9895905B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5C823-8C69-4F4D-AC86-5BBE52F2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B3989-6F6A-4032-B193-B58885DB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B395F-BAF8-4E37-BBF2-D5D65A0B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195842-1787-4E14-B5D5-7FC44CBE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05B0A-E0C4-4775-88C9-58EEC16D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ED5352-BEA7-4589-826B-E31FC380F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F8D29-3465-488B-815F-2B12D5E32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83D48-E898-4903-8765-8F1570DA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224AC-97B6-4371-8C59-77D63B32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1C251-5F61-46C7-8CB3-71FA7B9B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35082-C9FD-4372-9BC4-16F09768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F9E24-FC03-4B3A-A683-1DD939EA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B618D-F67F-4369-8E51-C375E017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BA2AD-F884-441C-BEF7-6631FE3F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971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Глава 3. Экономика фирм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E1F4-EC1E-4527-A77C-A27299BFD0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Глава 3. Экономика фирм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BB8F-498F-42A6-8E93-06218F1F94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Глава 3. Экономика фирм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0. Рынок капита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6" descr="031003123957040"/>
          <p:cNvPicPr/>
          <p:nvPr/>
        </p:nvPicPr>
        <p:blipFill>
          <a:blip r:embed="rId1"/>
          <a:stretch/>
        </p:blipFill>
        <p:spPr>
          <a:xfrm>
            <a:off x="4876920" y="2286000"/>
            <a:ext cx="316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иды акц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ыкновенные (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ordinar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tocks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, которые дают владельцу право голос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собрании акционеров и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получение дивидендов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зависимости от прибыли обще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вилегированные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referred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tocks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, которые не дают права голоса на собрании акционеров, но гарантируют владельцу приоритет в получении дивидендов  — части прибыли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Фондовый рыно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5181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рынок капитала 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capital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market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рынок,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а котором осуществляется купля и продажа ценных бумаг и других финансовых инструментов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5" descr="Money_Fist"/>
          <p:cNvPicPr/>
          <p:nvPr/>
        </p:nvPicPr>
        <p:blipFill>
          <a:blip r:embed="rId1"/>
          <a:stretch/>
        </p:blipFill>
        <p:spPr>
          <a:xfrm>
            <a:off x="5562720" y="1752480"/>
            <a:ext cx="3408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Участники фондового рын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митенты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ssuers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 — фирмы и другие организации, нуждающиеся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финансировании и выпускающие ценные бумаги на продажу, и другие владельцы ценных бумаг, которые ранее их купили на рынк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весторы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nvestors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 — покупател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фондовом рынке. Покупая ценные бумаги, они превращают свои сбережения в инвестици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офессиональные участники фондового рын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Брокер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roker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юридическое или физическое лицо, совершающее сделки с ценными бумагами от имени и за счет клиента или от своего имени и за счет клиент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Дилер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dealer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юридическое лицо, являющееся коммерческой организацией, торгующее ценными бумагами от своего имени и за свой счет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Управляющий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anager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фирма, которая от своего имени за вознаграждение управляет принадлежащими третьим лицам ценными бумаг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Клиринговая организация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learing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hous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фирма, занимающаяся расчетами по сделкам с ценными бумаг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Депозитарий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depository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фирма, оказывающая услуги по хранению сертификатов ценных бумаг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 учету перехода прав на них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Фондовая бирж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stock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exchange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фирма — организатор торговли на рынке ценных бума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егменты фондовой биржи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ондо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ы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й рынок — торговля частными  акциями и государственными облигация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алют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ы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й рынок — торговля иностранной  валют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рочный рынок — сделки  с исполнением в определенную дату в будуще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отиров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quote)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цена ценн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й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бумаги на бирж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истинг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isting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 — регистрация ценной бумаги на бирже и включение е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котировальный список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елистинг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delisting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—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исключение ценной бумаги из котировального списк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нвестиционные показател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Рыночная капитализация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arket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apitalization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CAP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— рыночная стоимость компании, количество размещенных обыкновенных акций, умноженное на текущую рыночную цену одной ак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Отношение цены акции компании к годовой выручке на акцию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price per share/sales per share, P/S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Отношение цены акции к годовому объему чистой прибыли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rice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er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share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earning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er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share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Гарри Маркович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4876920" y="1219320"/>
            <a:ext cx="426708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род. 1927)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мериканский экономист и математи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татье “Выбор портфеля” (1952) предложил математическую модель составления набора ценных бумаг в портфеле инвестора для максимизации прибыл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ин из родоначальников теории финансов и финансового управления фирм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дложил способы сопоставления риск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доходности ценных бумаг, методы анализа финансового положения фирм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8" descr="about_pic1"/>
          <p:cNvPicPr/>
          <p:nvPr/>
        </p:nvPicPr>
        <p:blipFill>
          <a:blip r:embed="rId1"/>
          <a:stretch/>
        </p:blipFill>
        <p:spPr>
          <a:xfrm>
            <a:off x="609480" y="990720"/>
            <a:ext cx="3907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Уильям Шарп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4" name="Picture 4" descr="William Sharpe"/>
          <p:cNvPicPr/>
          <p:nvPr/>
        </p:nvPicPr>
        <p:blipFill>
          <a:blip r:embed="rId1"/>
          <a:stretch/>
        </p:blipFill>
        <p:spPr>
          <a:xfrm>
            <a:off x="457200" y="1219320"/>
            <a:ext cx="3625920" cy="51242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4876920" y="1676520"/>
            <a:ext cx="3886200" cy="44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1934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мериканский экономис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татье “Цена акционерного капитала” (1964) опубликовал модель оценки капитальных активов 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et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cing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el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PM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— прогнозирования цены акций на основе оценки рис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ожидаемого доход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казал, что инвестор может снизить риск путем комбинации безрискового капитал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оптимального портфеля рискованных ценных бума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 (1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ирма может финансировать свою деятельность путем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влечения инвестиций,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инвестирования прибыли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влечения заемных средств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учения грант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вестиции — увеличение капитала фирмы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целью извлечения доход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инвестиции осуществляются за счет займа, фирма платит процент за право временного пользования капиталом банк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сточники финансирования фирм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Привлечение инвестиций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ttracting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vestment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—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ложение фирмой или лицом средств в денежной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ли физической форме в данную фирм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Реинвестирование прибыли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reinvesting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rofit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вложение в производство прибыли, оставшейся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распоряжении фирмы после уплаты налог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Заимствование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orrowing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получение средств в виде займа в банке или через продажу облигаци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 услов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платности, срочности и возвратност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Гранты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grant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получение взноса в денежной или физической форме, возврата которого не требуетс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 (2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уществует три основных вида ценных бумаг — документа, закрепляющего имущественные и неимущественные права владельца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кции — удостоверение собственности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блигации — удостоверение долга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пцион — удостоверение права на покупку или продажу другой ценной бумаги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предусмотренный в ней срок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 зафиксированной цен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 (3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ондовый рынок — механизм превращения свободных сбережений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инвестиции путем продажи ценных бумаг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этом рынке действуют дилеры, брокеры и другие профессиональные участники, многие из которых торгуют через фондовую биржу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апита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ital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 — это накопленные физические ресурсы (здания, оборудование, машины) и финансовые сбережения, используемые для производств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финансирования производства экономических благ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широком смысле капитал — это все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то приносит его владельцу доход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ри вида капитал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Физический капитал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все, что создано трудом человека и используется для превращения ресурсов в экономические благ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Финансовый капитал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денежные средства, на которые фирма покупает физический капита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Человеческий капитал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люди, которых нанимает фирма, поскольку они своим трудом создают добавленную стоимость и приносят фирме доход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Инвестици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investment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увеличение капитала фирмы с целью извлечения доход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5" descr="j0399836"/>
          <p:cNvPicPr/>
          <p:nvPr/>
        </p:nvPicPr>
        <p:blipFill>
          <a:blip r:embed="rId1"/>
          <a:stretch/>
        </p:blipFill>
        <p:spPr>
          <a:xfrm>
            <a:off x="4876920" y="251460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тавка процент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interest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rate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отношение годовой суммы процента к сумме денег, взятой в кредит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6" descr="borrowing_pic"/>
          <p:cNvPicPr/>
          <p:nvPr/>
        </p:nvPicPr>
        <p:blipFill>
          <a:blip r:embed="rId1"/>
          <a:stretch/>
        </p:blipFill>
        <p:spPr>
          <a:xfrm>
            <a:off x="4572000" y="3048120"/>
            <a:ext cx="35812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Ценная бумаг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security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документ, который закрепляет имущественные и неимущественные права владельц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Цена ценной бумаги называется курсо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иды ценных бумаг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Акция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tock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— амер., share — англ.)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— удостоверение собственност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Облигация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bond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— удостоверение долг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Опцион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option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— удостоверение права владельц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нной бумаг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на покупку или продажу другой ценной бумаг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предусмотренный в ней срок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 зафиксированной цене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ругие виды ценных бумаг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к — указание чекодателя банку выплатить чекодержателю указанную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чеке сумму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ксель — долговое обязательств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риваты — производные ценные бумаг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01:46:14Z</dcterms:created>
  <dc:creator>akireyev</dc:creator>
  <dc:description/>
  <dc:language>en-US</dc:language>
  <cp:lastModifiedBy>LEGION</cp:lastModifiedBy>
  <dcterms:modified xsi:type="dcterms:W3CDTF">2014-11-10T09:24:04Z</dcterms:modified>
  <cp:revision>54</cp:revision>
  <dc:subject/>
  <dc:title>18. Фирма на рынке</dc:title>
</cp:coreProperties>
</file>