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0046-D302-4F46-93AF-D036A90FD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3. Экономика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 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24B7-D989-423E-B7D0-5EEEA0C181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ыкновенные 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ordinar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которые дают владельцу право голо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брании акционеров и прав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олучение дивиден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рибыл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легированные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eferred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которые не дают права голоса на собрании акционеров, но гарантируют владельцу приоритет в получении дивидендов  — части прибыл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418F-E93C-4C77-BDA1-D9C6B5D968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ынок капитала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рынок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котором осуществляется купля и продажа ценных бумаг и других финансовых инструментов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367D-934B-4F26-82C3-5AAE0D431E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фондового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итент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suer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фирмы и другие организации, нуждающие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финансировании и выпускающие ценные бумаги на продажу, и другие владельцы ценных бумаг, которые ранее их купили на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ор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vestor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покупате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фондовом рынке. Покупая ценные бумаги, они превращают свои сбережения в инвести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3FF4-B7FB-4422-9221-ABBD370D53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ые участники фондового ры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рокер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rok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юридическое или физическое лицо, совершающее сделки с ценными бумагами от имени и за счет клиента или от своего имени и за счет кли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лер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al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юридическое лицо, являющееся коммерческой организацией, торгующее ценными бумагами от своего имени и за свой сч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правляющ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которая от своего имени за вознаграждение управляет принадлежащими третьим лицам ценными бума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лиринговая организ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lear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us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занимающаяся расчетами по сделкам с ценными бума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позитар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pository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оказывающая услуги по хранению сертификатов ценных бума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чету перехода прав на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7AF9-A926-4662-B812-F7FFE2828C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ая бир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tock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xchange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фирма — организатор торговли на рынке ценных бум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менты фондовой бирж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 — торговля частными  акциями и государственными облиг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рынок — торговля иностранной  валю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чный рынок — сделки  с исполнением в определенную дату в будущ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EE3A-FA1B-4DE0-BB03-A8011A0BC2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ир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quote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цена ценной бумаги на бир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инг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istin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регистрация ценной бумаги на бирже и включение 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тировальный спис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стинг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lis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исключение ценной бумаги из котировального сп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EB59-D151-4B0E-AF42-3F7D1BB83E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вестиционные показ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ыночная капитализ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pitalization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CAP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рыночная стоимость компании, количество размещенных обыкновенных акций, умноженное на текущую рыночную цену одной а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ношение цены акции компании к годовой выручке на акцию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price per share/sales per share, P/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ношение цены акции к годовому объему чистой прибыл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ic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arn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15AB-691E-4434-860D-AD0494F2E4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ри Маркови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ри Маркови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484B-CC39-4A8B-B6CA-D746DD5375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ильям Шар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1934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мериканский экономи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статье “Цена акционерного капитала” (1964) опубликовал модель оценки капитальных активов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t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ing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M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 — прогнозирования цены акций на основе оценки риск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ожидаемого дох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азал, что инвестор может снизить риск путем комбинации безрискового капитал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оптимального портфеля рискованных ценных бум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E305-98F3-4908-A399-FE673F75C3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рма может финансировать свою деятельность пут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я инвестиций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инвестирования прибы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я заемных средст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ия гра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вестиции — увеличение капитала фирм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целью извлечения дох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инвестиции осуществляются за счет займа, фирма платит процент за право временного пользования капиталом ба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64CD-5A81-4CFB-879F-C329746B16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 финансирования фи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влечение инвестиц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ttrac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е фирмой или лицом средств в денеж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физической форме в данную фи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еинвестирование прибыли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inves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fi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ложение в производство прибыли, оставшей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споряжении фирмы после уплаты нал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аимствование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orrow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получение средств в виде займа в банке или через продажу облиг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словиях платности, срочности и возврат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рант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rants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получение взноса в денежной или физической форме, возврата которого не требу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4324-F1DB-49F0-9537-E5D11FC8BC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три основных вида ценных бумаг — документа, закрепляющего имущественные и неимущественные права владельц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 — удостоверение собствен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гации — удостоверение долг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ион — удостоверение права на покупку или продажу другой ценной бумаг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усмотренный в ней ср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афиксирова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7C20-6C04-4A71-A11F-95C8E021BE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 — механизм превращения свободных сбережен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нвестиции путем продажи ценных бум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этом рынке действуют дилеры, брокеры и другие профессиональные участники, многие из которых торгуют через фондовую бирж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8780-D180-4DD0-900C-3F68C51668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это накопленные физические ресурсы (здания, оборудование, машины) и финансовые сбережения, используемые для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финансирования производства экономических бл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 капитал — это вс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иносит его владельцу дох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2E44-0424-4B6C-A296-939233B8B3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вида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зически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се, что создано трудом человека и используется для превращения ресурсов в экономические бла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овы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денежные средства, на которые фирма покупает физически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чески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люди, которых нанимает фирма, поскольку они своим трудом создают добавленную стоимость и приносят фирме дох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BF1A-CEFC-4BC9-86DE-2DAD6A0C12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величение капитала фирмы с целью извлечения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D312-F82B-4655-981A-336E6C73DD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ка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teres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отношение годовой суммы процента к сумме денег, взятой в кредит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472D-EA8B-461B-8625-4109281FD5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ая бум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документ, который закрепляет имущественные и неимущественные права владель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ценной бумаги называется кур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3D16-B726-4A23-B6C8-FC2C855AD3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к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— амер., share — англ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соб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блиг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ond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пцион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права владельца ценной бумаги на покупку или продажу другой ценной бумаг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усмотренный в ней ср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афиксированной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CDB4-965C-42AC-A205-4EF7D13CB9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BA5D-42C4-4945-9B26-45E25EE0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B43CB-9A3D-4269-BA39-F958F353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FEEA2-709E-41DA-A474-33A4FCB0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8D272-CE4C-4700-A976-99C84A75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72A36-B9B8-4B7F-AB57-C649DBEB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8C77B-F22F-4347-BB2D-6F965688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FF289-9763-4251-AEE1-DF54B60D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6C24D-3AC8-4015-976A-3F7FB0E0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5D753-9E22-46A8-9D9C-4D06D29B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9E20A-545C-45A6-A0BB-5722AFE5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BCC83-3F72-428A-9FE3-B0DBA301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1135F-A541-440B-80D6-5FDB2DB2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60B86-5C47-4EC8-90A1-2E6925AD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D6BD5-2F4B-4230-AA62-42B11CDE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3C58F-1765-410C-875A-A0A80CB4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269D1-EF92-4604-873E-20214722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5379A-2A29-4303-99CE-F7C4C10D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09D6C-5913-4D07-A48B-05DA723E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21284-20A9-48C8-B9DA-6B776EB9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B7387-0664-46D5-9D1C-8DB62882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E0806-32E2-4562-AA5B-0835B1E9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2336-F546-49BF-96AD-F489E018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C8560-A104-48D2-98F8-A2741A32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BF9EE-BE85-4099-A4D7-CAB91A9A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3. Экономика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25C0-7745-4B48-B5C8-665C167482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3. Экономика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5738-FE06-4BE6-B97C-8893285B30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лава 3. Экономика фир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. Рынок капита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031003123957040"/>
          <p:cNvPicPr/>
          <p:nvPr/>
        </p:nvPicPr>
        <p:blipFill>
          <a:blip r:embed="rId1"/>
          <a:stretch/>
        </p:blipFill>
        <p:spPr>
          <a:xfrm>
            <a:off x="4876920" y="2286000"/>
            <a:ext cx="316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акц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ыкновенные (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ordinar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, которые дают владельцу право голос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собрании акционеров 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получение дивидендо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зависимости от прибыли обще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вилегированные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referred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, которые не дают права голоса на собрании акционеров, но гарантируют владельцу приоритет в получении дивидендов  — части прибыл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ндовый рыно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рынок капитала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apital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рынок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 котором осуществляется купля и продажа ценных бумаг и других финансовых инструментов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5" descr="Money_Fist"/>
          <p:cNvPicPr/>
          <p:nvPr/>
        </p:nvPicPr>
        <p:blipFill>
          <a:blip r:embed="rId1"/>
          <a:stretch/>
        </p:blipFill>
        <p:spPr>
          <a:xfrm>
            <a:off x="5562720" y="1752480"/>
            <a:ext cx="3408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частники фондового рын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митент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ssuer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фирмы и другие организации, нуждающиес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финансировании и выпускающие ценные бумаги на продажу, и другие владельцы ценных бумаг, которые ранее их купили на рынк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вестор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nvestor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покупател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фондовом рынке. Покупая ценные бумаги, они превращают свои сбережения в инвестиц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офессиональные участники фондового рын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Брокер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rok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юридическое или физическое лицо, совершающее сделки с ценными бумагами от имени и за счет клиента или от своего имени и за счет клиен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илер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eal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юридическое лицо, являющееся коммерческой организацией, торгующее ценными бумагами от своего имени и за свой сч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Управляющ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anag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которая от своего имени за вознаграждение управляет принадлежащими третьим лицам ценными бумаг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Клиринговая организаци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lear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ous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занимающаяся расчетами по сделкам с ценными бумаг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епозитар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epository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оказывающая услуги по хранению сертификатов ценных бумаг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учету перехода прав на ни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ндовая бирж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tock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xchange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фирма — организатор торговли на рынке ценных бума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егменты фондовой бирж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нд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й рынок — торговля частными  акциями и государственными облигаци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лют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й рынок — торговля иностранной  валют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рочный рынок — сделки  с исполнением в определенную дату в будуще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отиров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quote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цена цен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бумаги на бирж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стинг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isting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регистрация ценной бумаги на бирже и включение е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котировальный список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листинг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elisting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исключение ценной бумаги из котировального спис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нвестиционные показате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ыночная капитализация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apitalization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CAP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рыночная стоимость компании, количество размещенных обыкновенных акций, умноженное на текущую рыночную цену одной ак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тношение цены акции компании к годовой выручке на акцию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price per share/sales per share, P/S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тношение цены акции к годовому объему чистой прибыли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er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har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arning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er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har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арри Маркович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876920" y="1219320"/>
            <a:ext cx="42670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 1927)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 и математ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атье “Выбор портфеля” (1952) предложил математическую модель составления набора ценных бумаг в портфеле инвестора для максимизации прибы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 из родоначальников теории финансов и финансового управления фирм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ложил способы сопоставления риск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оходности ценных бумаг, методы анализа финансового положения фир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about_pic1"/>
          <p:cNvPicPr/>
          <p:nvPr/>
        </p:nvPicPr>
        <p:blipFill>
          <a:blip r:embed="rId1"/>
          <a:stretch/>
        </p:blipFill>
        <p:spPr>
          <a:xfrm>
            <a:off x="609480" y="990720"/>
            <a:ext cx="3907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ильям Шарп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Picture 4" descr="William Sharpe"/>
          <p:cNvPicPr/>
          <p:nvPr/>
        </p:nvPicPr>
        <p:blipFill>
          <a:blip r:embed="rId1"/>
          <a:stretch/>
        </p:blipFill>
        <p:spPr>
          <a:xfrm>
            <a:off x="457200" y="1219320"/>
            <a:ext cx="3625920" cy="51242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4876920" y="1676520"/>
            <a:ext cx="388620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1934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атье “Цена акционерного капитала” (1964) опубликовал модель оценки капитальных активов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t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cing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M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— прогнозирования цены акций на основе оценки рис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ожидаемого дох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казал, что инвестор может снизить риск путем комбинации безрискового капит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оптимального портфеля рискованных ценных бума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рма может финансировать свою деятельность путе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я инвестиций,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инвестирования прибыл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я заемных средст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ения гр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вестиции — увеличение капитала фирмы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целью извлечения доход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инвестиции осуществляются за счет займа, фирма платит процент за право временного пользования капиталом бан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сточники финансирования фирм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ривлечение инвестиц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ttract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—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ложение фирмой или лицом средств в денежно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ли физической форме в данную фирм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Реинвестирование прибыл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einvest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rofi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вложение в производство прибыли, оставшейс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распоряжении фирмы после уплаты налог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Заимствование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orrow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средств в виде займа в банке или через продажу облигаци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услов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платности, срочности и возврат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Гранты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rant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взноса в денежной или физической форме, возврата которого не требует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уществует три основных вида ценных бумаг — документа, закрепляющего имущественные и неимущественные права владельц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кции — удостоверение собственност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лигации — удостоверение долг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цион — удостоверение права на покупку или продажу другой ценной бумаг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редусмотренный в ней срок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зафиксированной цен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3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ндовый рынок — механизм превращения свободных сбережений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инвестиции путем продажи ценных бума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этом рынке действуют дилеры, брокеры и другие профессиональные участники, многие из которых торгуют через фондовую биржу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пита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ital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это накопленные физические ресурсы (здания, оборудование, машины) и финансовые сбережения, используемые для производств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финансирования производства экономических бла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широком смысле капитал — это все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приносит его владельцу доход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ри вида капита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Физически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все, что создано трудом человека и используется для превращения ресурсов в экономические благ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Финансовы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денежные средства, на которые фирма покупает физический капит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Человечески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люди, которых нанимает фирма, поскольку они своим трудом создают добавленную стоимость и приносят фирме дох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нвести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vestmen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величение капитала фирмы с целью извлечения дох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j0399836"/>
          <p:cNvPicPr/>
          <p:nvPr/>
        </p:nvPicPr>
        <p:blipFill>
          <a:blip r:embed="rId1"/>
          <a:stretch/>
        </p:blipFill>
        <p:spPr>
          <a:xfrm>
            <a:off x="4876920" y="25146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тавка процен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teres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rate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отношение годовой суммы процента к сумме денег, взятой в кредит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6" descr="borrowing_pic"/>
          <p:cNvPicPr/>
          <p:nvPr/>
        </p:nvPicPr>
        <p:blipFill>
          <a:blip r:embed="rId1"/>
          <a:stretch/>
        </p:blipFill>
        <p:spPr>
          <a:xfrm>
            <a:off x="4572000" y="3048120"/>
            <a:ext cx="35812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нная бумаг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ecurity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документ, который закрепляет имущественные и неимущественные права владельц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а ценной бумаги называется курс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ценных бума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Акция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— амер., share — англ.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собствен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блигация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ond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долг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пцион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option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права владельц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ной бумаг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 покупку или продажу другой ценной бумаг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едусмотренный в ней срок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зафиксированной цен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ругие виды ценных бумаг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к — указание чекодателя банку выплатить чекодержателю указанную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чеке сумм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ксель — долговое обязательств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иваты — производные ценные бумаг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1:46:14Z</dcterms:created>
  <dc:creator>akireyev</dc:creator>
  <dc:description/>
  <dc:language>en-US</dc:language>
  <cp:lastModifiedBy>LEGION</cp:lastModifiedBy>
  <dcterms:modified xsi:type="dcterms:W3CDTF">2014-11-10T09:24:04Z</dcterms:modified>
  <cp:revision>54</cp:revision>
  <dc:subject/>
  <dc:title>18. Фирма на рынке</dc:title>
</cp:coreProperties>
</file>