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6C46-A155-4017-A7DD-90C0BCCA9A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Норма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7071-EF51-41B5-BFF9-1CC30F1979D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истема норм пра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первичным элементом выступают </a:t>
            </a:r>
            <a:r>
              <a:rPr b="0" i="1" lang="ru-RU" sz="1200" spc="-1" strike="noStrike">
                <a:solidFill>
                  <a:srgbClr val="000066"/>
                </a:solidFill>
                <a:latin typeface="Times New Roman"/>
              </a:rPr>
              <a:t>нормы права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, которые объединяются в более крупные образования – институты, подотрасли, отра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имеет объективный характер, т.к. зависит от объективно существующих общественных отношений, которые призвана регулиро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элементы системы взаимосвязаны, согласованы, что обеспечивает целостность и еди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условлена социально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экономическими, политическими, национальными, культурными и пр. факто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1D8A-32DA-4ADE-B935-BD5E18F787D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совокупность юридических норм, регулирующих  однородные общественные отношения.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4235-4AE1-48D6-935A-431AC38CD68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Трудов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691C-107F-40CA-BDFD-01AC92DDF2E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Материальное право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совокупность  норм, закрепляющих существующие общественные отношения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ущественны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семейны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трудовые и проч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Граждан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удовое пра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роцессуальное право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ru-RU" sz="1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совокупность норм, определяющих порядок осуществления норм материального прав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ача 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сроки рассмот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ава ист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ава ответч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ядок рассмотрения дела и п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Гражданско-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головно-процессуальное пра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7E81-71A3-412C-A588-A7D7BA089CB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Публичное право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–</a:t>
            </a:r>
            <a:r>
              <a:rPr b="1" lang="ru-RU" sz="1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это правовые нормы, регулирующие государственную деятельность, т.е. отношения, выражающие государственный интерес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Частное прав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–</a:t>
            </a:r>
            <a:r>
              <a:rPr b="1" lang="ru-RU" sz="1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ъединяет правовые нормы  и отношения, регулирующие негосударственную деятельность,  т.е. представляют </a:t>
            </a:r>
            <a:r>
              <a:rPr b="0" i="1" lang="ru-RU" sz="1200" spc="-1" strike="noStrike">
                <a:solidFill>
                  <a:srgbClr val="000066"/>
                </a:solidFill>
                <a:latin typeface="Times New Roman"/>
              </a:rPr>
              <a:t>частный интерес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имущественные отношения между граждана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семейные отнош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тношения между организациям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5A9C-42DF-4F26-BDB2-BA674C31FF3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Спасибо всем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2416-E087-4458-9C31-01D22B437E3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Понятие нормы права. Признаки: общеобязанность, формальная определенность, связь с государством, представительно-обязывающий характер. Структура правовой но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Система норм права: частное и публичное право, материальное и процессуальное право. Отрасли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Правовая система: понятие, элементы. Правовые семьи: романо-германская, англосаксонская, религиозная, традиционна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DB5E-5CC2-4D13-85F5-A3E1D736C4D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Норма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направлено на урегулирование обществен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становленное и обеспечиваемое государ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щеобязательное правило повед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формально определ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предоставительно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язывающи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CC4AF-5E84-439A-BFA4-17822B68A86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Виды юридических нор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1. Регулятивные и правоохранитель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8472-DCAA-480F-857E-AB37900F6EB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5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Управомочивающие, запрещающи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5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обязывающ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Управомочивающие нормы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предоставляют субъекту право с положительным содержанием, т.е. право на совершение им тех  или иных действий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обственник вправе по своему усмотрению совершать в отношении принадлежащего ему имущества любые действия, не противоречащие закону…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К РФ п. 2 Ст. 20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Запрещающие нормы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станавливает обязанность субъекта на воздержание от  совершения действий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упруги по своему желанию выбирают при заключении брака фамилию…. Соединение фамилии не допускается, если добрачная фамилия хотя бы одного из супругов является двойной.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К РФ п. 1 Ст. 3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Обязывающие нормы</a:t>
            </a:r>
            <a:r>
              <a:rPr b="1" i="1" lang="ru-RU" sz="1200" spc="-1" strike="noStrike">
                <a:solidFill>
                  <a:srgbClr val="000066"/>
                </a:solidFill>
                <a:latin typeface="Times New Roman"/>
              </a:rPr>
              <a:t> -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 возлагает на субъекта обязанность совершать определенные действ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рудоспособные совершеннолетние дети обязаны содержать своих нетрудоспособных нуждающихся в помощи родителей и заботиться о них.» (СК РФ п. 1 Ст. 8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9756-40D9-41BA-A925-075524EA76C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3. Императивные и диспозитивные нор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Императивная норм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– это норма, выраженная  в категорических предписаниях и действует независимо от усмотрения субъ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делки с землей и другим недвижимым имуществом подлежат государственной регистрации.» (ГК РФ п. 1 Ст.16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Диспозитивная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-   действует лишь постольку, поскольку субъекты не предусмотрели и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мена предмета залога допускается с согласия залогодержателя, если законом или договором не предусмотрено иное.» (ГК РФ п. 1 Ст. 34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конным режимом имущества супругов является режим их совместной собственности. Законный режим имущества супругов действует, если брачным договором не установлено иное.» (СК РФ п. 1 Ст. 3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E464-11E2-48E2-9C1A-8B9C39C6295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труктура правовой нор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Гипотеза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казание на условия, при которых возникают права и обяза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Диспозиция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казание на сами права и обяза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Санкция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казание на неблагоприятные последствия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наступающие при нарушении но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«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Договор о залоге</a:t>
            </a:r>
            <a:r>
              <a:rPr b="0" i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должен быть совершен в письменной форм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Несоблюдение правил… настоящей статьи,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влечет недействительность договора о залоге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»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(ГК РФ п. 2,4 Ст. 33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8E81-CB8D-4F4B-B08C-5811722848E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«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Договор о залоге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Г.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)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должен быть совершен в письменной форме.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Д.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Несоблюдение правил… настоящей статьи,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влечет недействительность договора о залоге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.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)» (ГК РФ п. 2,4 Ст. 33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1B49-7F35-4B31-82E5-90A2042FC98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982B-C508-4542-AFF1-C9B50F820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1DA2-18C9-4D8E-A158-5331B48B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5CF8-1D30-4DB6-9E1D-04B6993C9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6669-1C94-449B-AB15-D91419B3C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D702-BF31-4267-BFD0-4B9A65B91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9C8D-A4DB-4948-A8AE-6B0E8432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942CA-DF3D-4113-AF64-0DEB1855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6073-48E7-4B09-93C5-72FC4F5F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84A98-D9E2-4DD7-8089-BEB7C0DE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7401-C7C1-4C3F-B24F-C2C8F96D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7F532-628E-41A5-BF20-8F122B19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52B3-2F52-4FD1-AE90-54A42EB3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CECF-3DF6-4C95-90D4-9E709A99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AED9-0AEB-459E-BA8F-B7CEEA46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7AD65-B1C1-4A1C-B710-A02376DA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F93B-A9EA-44D1-9D24-14F21F69A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10993-7DAC-4B90-AAD4-DAE97D1E4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DF09-BC47-488B-8974-6A954B1D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2B3C-A650-4C44-9C5B-CE6A3AA6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137A-C5B6-4308-B22C-08A14E4D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E436-ABF7-4FEB-A51A-A08CE762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3953-8003-48E4-9AB1-44C636BA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D474-38A9-4BD7-8AFE-6F74D49B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2A6B-6AF0-4F90-91C0-2A202CC0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0d51"/>
            </a:gs>
            <a:gs pos="50000">
              <a:srgbClr val="fab8b6"/>
            </a:gs>
            <a:gs pos="100000">
              <a:srgbClr val="cb0d5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5b32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88CB-DCB8-4543-8D6F-BE563F217FE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0d51"/>
            </a:gs>
            <a:gs pos="50000">
              <a:srgbClr val="fab8b6"/>
            </a:gs>
            <a:gs pos="100000">
              <a:srgbClr val="cb0d5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5b32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BED7-6321-47D4-9CA7-AAF47D60498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hyperlink" Target="file:///../../&#1059;&#1095;&#1080;&#1090;&#1077;&#1083;&#1103;/&#1050;&#1083;&#1080;&#1085;&#1086;&#1074;&#1072;/you_people/&#1054;&#1090;&#1082;&#1088;_&#1091;&#1088;&#1086;&#1082;/&#1055;&#1088;&#1080;&#1082;&#1072;&#1079;%20.doc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j0178279"/>
          <p:cNvPicPr/>
          <p:nvPr/>
        </p:nvPicPr>
        <p:blipFill>
          <a:blip r:embed="rId1"/>
          <a:stretch/>
        </p:blipFill>
        <p:spPr>
          <a:xfrm>
            <a:off x="324000" y="260280"/>
            <a:ext cx="2519280" cy="25192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 rot="6459600">
            <a:off x="6298920" y="-2523960"/>
            <a:ext cx="45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826920" y="364500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Times New Roman"/>
              </a:rPr>
              <a:t>Норма прав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Система норм права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1557000"/>
            <a:ext cx="458136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ервичным элементом выступают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нормы права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, которые объединяются в более крупные образования – институты, подотрасли, отрас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284720" y="1557000"/>
            <a:ext cx="485928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имеет объективный характер, т.к. зависит от объективно существующих общественных отношений, которые призвана регулиров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4220640"/>
            <a:ext cx="443376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элементы системы взаимосвязаны, согласованы, что обеспечивает целостность и един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211280" y="4265280"/>
            <a:ext cx="4932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бусловлена социально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экономическими, политическими, национальными, культурными и пр. фактор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1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9"/>
          <p:cNvSpPr/>
          <p:nvPr/>
        </p:nvSpPr>
        <p:spPr>
          <a:xfrm>
            <a:off x="1816200" y="1144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0" y="765000"/>
            <a:ext cx="89647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внутренняя структура права, состоящая из взаимосогласованных норм, институтов и отраслей пра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63640" cy="81756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5"/>
          <p:cNvSpPr/>
          <p:nvPr/>
        </p:nvSpPr>
        <p:spPr>
          <a:xfrm>
            <a:off x="1619280" y="62064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Oval 8"/>
          <p:cNvSpPr/>
          <p:nvPr/>
        </p:nvSpPr>
        <p:spPr>
          <a:xfrm>
            <a:off x="3059280" y="289080"/>
            <a:ext cx="3168360" cy="83628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3708360" y="32868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Отрас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395280" y="2854440"/>
            <a:ext cx="2374920" cy="93492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нститут пр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Oval 11"/>
          <p:cNvSpPr/>
          <p:nvPr/>
        </p:nvSpPr>
        <p:spPr>
          <a:xfrm>
            <a:off x="3348000" y="2781360"/>
            <a:ext cx="2448000" cy="100800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нститут пр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12"/>
          <p:cNvSpPr/>
          <p:nvPr/>
        </p:nvSpPr>
        <p:spPr>
          <a:xfrm>
            <a:off x="6443640" y="2708280"/>
            <a:ext cx="2448000" cy="93672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нститут пр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6656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125892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22"/>
          <p:cNvSpPr/>
          <p:nvPr/>
        </p:nvSpPr>
        <p:spPr>
          <a:xfrm>
            <a:off x="212400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25"/>
          <p:cNvSpPr/>
          <p:nvPr/>
        </p:nvSpPr>
        <p:spPr>
          <a:xfrm>
            <a:off x="370836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26"/>
          <p:cNvSpPr/>
          <p:nvPr/>
        </p:nvSpPr>
        <p:spPr>
          <a:xfrm>
            <a:off x="442764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27"/>
          <p:cNvSpPr/>
          <p:nvPr/>
        </p:nvSpPr>
        <p:spPr>
          <a:xfrm>
            <a:off x="5148360" y="6165720"/>
            <a:ext cx="433440" cy="50328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29"/>
          <p:cNvSpPr/>
          <p:nvPr/>
        </p:nvSpPr>
        <p:spPr>
          <a:xfrm>
            <a:off x="6732720" y="6164280"/>
            <a:ext cx="43308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32"/>
          <p:cNvSpPr/>
          <p:nvPr/>
        </p:nvSpPr>
        <p:spPr>
          <a:xfrm>
            <a:off x="824220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33"/>
          <p:cNvSpPr/>
          <p:nvPr/>
        </p:nvSpPr>
        <p:spPr>
          <a:xfrm>
            <a:off x="752472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35"/>
          <p:cNvSpPr/>
          <p:nvPr/>
        </p:nvSpPr>
        <p:spPr>
          <a:xfrm>
            <a:off x="4643280" y="2205000"/>
            <a:ext cx="0" cy="50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36"/>
          <p:cNvSpPr/>
          <p:nvPr/>
        </p:nvSpPr>
        <p:spPr>
          <a:xfrm>
            <a:off x="6372360" y="1917720"/>
            <a:ext cx="1224000" cy="6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37"/>
          <p:cNvSpPr/>
          <p:nvPr/>
        </p:nvSpPr>
        <p:spPr>
          <a:xfrm flipH="1">
            <a:off x="1547640" y="2058840"/>
            <a:ext cx="93672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41"/>
          <p:cNvSpPr/>
          <p:nvPr/>
        </p:nvSpPr>
        <p:spPr>
          <a:xfrm flipH="1">
            <a:off x="610920" y="5445000"/>
            <a:ext cx="21564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42"/>
          <p:cNvSpPr/>
          <p:nvPr/>
        </p:nvSpPr>
        <p:spPr>
          <a:xfrm flipH="1">
            <a:off x="6948000" y="5516640"/>
            <a:ext cx="14292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43"/>
          <p:cNvSpPr/>
          <p:nvPr/>
        </p:nvSpPr>
        <p:spPr>
          <a:xfrm flipH="1">
            <a:off x="3850920" y="5516640"/>
            <a:ext cx="14292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44"/>
          <p:cNvSpPr/>
          <p:nvPr/>
        </p:nvSpPr>
        <p:spPr>
          <a:xfrm>
            <a:off x="1476360" y="4941720"/>
            <a:ext cx="0" cy="100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45"/>
          <p:cNvSpPr/>
          <p:nvPr/>
        </p:nvSpPr>
        <p:spPr>
          <a:xfrm>
            <a:off x="7740720" y="4941720"/>
            <a:ext cx="0" cy="100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46"/>
          <p:cNvSpPr/>
          <p:nvPr/>
        </p:nvSpPr>
        <p:spPr>
          <a:xfrm>
            <a:off x="4643280" y="5013360"/>
            <a:ext cx="0" cy="1008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53"/>
          <p:cNvSpPr/>
          <p:nvPr/>
        </p:nvSpPr>
        <p:spPr>
          <a:xfrm>
            <a:off x="2195640" y="5373720"/>
            <a:ext cx="142920" cy="43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54"/>
          <p:cNvSpPr/>
          <p:nvPr/>
        </p:nvSpPr>
        <p:spPr>
          <a:xfrm>
            <a:off x="8388360" y="5445000"/>
            <a:ext cx="14292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55"/>
          <p:cNvSpPr/>
          <p:nvPr/>
        </p:nvSpPr>
        <p:spPr>
          <a:xfrm>
            <a:off x="5219640" y="5445000"/>
            <a:ext cx="14292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57"/>
          <p:cNvSpPr/>
          <p:nvPr/>
        </p:nvSpPr>
        <p:spPr>
          <a:xfrm>
            <a:off x="395280" y="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250560" y="134100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овокупность юридических норм, регулирующих  однородные общественные отношения.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Text Box 59"/>
          <p:cNvSpPr/>
          <p:nvPr/>
        </p:nvSpPr>
        <p:spPr>
          <a:xfrm>
            <a:off x="0" y="408312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овокупность юридических норм, регулирующих  определенный вид общественные отнош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3"/>
          <p:cNvSpPr/>
          <p:nvPr/>
        </p:nvSpPr>
        <p:spPr>
          <a:xfrm>
            <a:off x="250920" y="3357720"/>
            <a:ext cx="1836720" cy="79200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тороны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одержа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Oval 21"/>
          <p:cNvSpPr/>
          <p:nvPr/>
        </p:nvSpPr>
        <p:spPr>
          <a:xfrm>
            <a:off x="1835280" y="44280"/>
            <a:ext cx="5184720" cy="112572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835280" y="-18000"/>
            <a:ext cx="525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Трудовое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ав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0" name="Oval 4"/>
          <p:cNvSpPr/>
          <p:nvPr/>
        </p:nvSpPr>
        <p:spPr>
          <a:xfrm>
            <a:off x="216000" y="1846440"/>
            <a:ext cx="2484360" cy="93492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Трудов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догов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Oval 5"/>
          <p:cNvSpPr/>
          <p:nvPr/>
        </p:nvSpPr>
        <p:spPr>
          <a:xfrm>
            <a:off x="6518160" y="1701720"/>
            <a:ext cx="2374920" cy="93528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Оплата тру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Oval 6"/>
          <p:cNvSpPr/>
          <p:nvPr/>
        </p:nvSpPr>
        <p:spPr>
          <a:xfrm>
            <a:off x="3421080" y="1773360"/>
            <a:ext cx="2374920" cy="93492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ремя тру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 отдых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6732720" y="2781360"/>
            <a:ext cx="20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12"/>
          <p:cNvSpPr/>
          <p:nvPr/>
        </p:nvSpPr>
        <p:spPr>
          <a:xfrm flipH="1">
            <a:off x="250920" y="981000"/>
            <a:ext cx="1944720" cy="863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Line 13"/>
          <p:cNvSpPr/>
          <p:nvPr/>
        </p:nvSpPr>
        <p:spPr>
          <a:xfrm flipH="1">
            <a:off x="1834920" y="1052640"/>
            <a:ext cx="936360" cy="792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14"/>
          <p:cNvSpPr/>
          <p:nvPr/>
        </p:nvSpPr>
        <p:spPr>
          <a:xfrm>
            <a:off x="5651640" y="1268280"/>
            <a:ext cx="288720" cy="1008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15"/>
          <p:cNvSpPr/>
          <p:nvPr/>
        </p:nvSpPr>
        <p:spPr>
          <a:xfrm flipH="1">
            <a:off x="2842920" y="1268280"/>
            <a:ext cx="649080" cy="936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16"/>
          <p:cNvSpPr/>
          <p:nvPr/>
        </p:nvSpPr>
        <p:spPr>
          <a:xfrm flipH="1">
            <a:off x="3203280" y="1266840"/>
            <a:ext cx="431640" cy="938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17"/>
          <p:cNvSpPr/>
          <p:nvPr/>
        </p:nvSpPr>
        <p:spPr>
          <a:xfrm>
            <a:off x="5724360" y="1197000"/>
            <a:ext cx="576360" cy="100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8"/>
          <p:cNvSpPr/>
          <p:nvPr/>
        </p:nvSpPr>
        <p:spPr>
          <a:xfrm>
            <a:off x="7093080" y="836640"/>
            <a:ext cx="158256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9"/>
          <p:cNvSpPr/>
          <p:nvPr/>
        </p:nvSpPr>
        <p:spPr>
          <a:xfrm>
            <a:off x="6588000" y="907920"/>
            <a:ext cx="1079640" cy="7923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20"/>
          <p:cNvSpPr/>
          <p:nvPr/>
        </p:nvSpPr>
        <p:spPr>
          <a:xfrm>
            <a:off x="4572000" y="1197000"/>
            <a:ext cx="0" cy="5763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24"/>
          <p:cNvSpPr/>
          <p:nvPr/>
        </p:nvSpPr>
        <p:spPr>
          <a:xfrm>
            <a:off x="252360" y="4508640"/>
            <a:ext cx="1655640" cy="79200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заклю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25"/>
          <p:cNvSpPr/>
          <p:nvPr/>
        </p:nvSpPr>
        <p:spPr>
          <a:xfrm>
            <a:off x="324000" y="5734080"/>
            <a:ext cx="1655640" cy="57456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рок Т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26"/>
          <p:cNvSpPr/>
          <p:nvPr/>
        </p:nvSpPr>
        <p:spPr>
          <a:xfrm>
            <a:off x="3203640" y="2997360"/>
            <a:ext cx="2448000" cy="64764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родолжительнос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27"/>
          <p:cNvSpPr/>
          <p:nvPr/>
        </p:nvSpPr>
        <p:spPr>
          <a:xfrm>
            <a:off x="3203640" y="3787920"/>
            <a:ext cx="2376360" cy="64908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непол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рабочий д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28"/>
          <p:cNvSpPr/>
          <p:nvPr/>
        </p:nvSpPr>
        <p:spPr>
          <a:xfrm>
            <a:off x="3203640" y="4581360"/>
            <a:ext cx="2448000" cy="71928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ерерывы дл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тдыха и пит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30"/>
          <p:cNvSpPr/>
          <p:nvPr/>
        </p:nvSpPr>
        <p:spPr>
          <a:xfrm>
            <a:off x="3203640" y="5445000"/>
            <a:ext cx="2520720" cy="43200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бщий выходной д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31"/>
          <p:cNvSpPr/>
          <p:nvPr/>
        </p:nvSpPr>
        <p:spPr>
          <a:xfrm>
            <a:off x="3203640" y="6021360"/>
            <a:ext cx="2520720" cy="43200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раздничные д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32"/>
          <p:cNvSpPr/>
          <p:nvPr/>
        </p:nvSpPr>
        <p:spPr>
          <a:xfrm>
            <a:off x="6300720" y="5589720"/>
            <a:ext cx="2592360" cy="64764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минимальный разм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платы тру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34"/>
          <p:cNvSpPr/>
          <p:nvPr/>
        </p:nvSpPr>
        <p:spPr>
          <a:xfrm>
            <a:off x="6373800" y="4510080"/>
            <a:ext cx="2519280" cy="64764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плата работы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раздничные д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36"/>
          <p:cNvSpPr/>
          <p:nvPr/>
        </p:nvSpPr>
        <p:spPr>
          <a:xfrm>
            <a:off x="6373800" y="3284640"/>
            <a:ext cx="2519280" cy="64764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роки выплат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заработной пла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4498920" y="115920"/>
            <a:ext cx="4321080" cy="2421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144360" y="907920"/>
            <a:ext cx="3996000" cy="2449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252000" y="907920"/>
            <a:ext cx="4032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Материальное право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совокупность  норм, закрепляющих существующие общественные отношения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мущественны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емейны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трудовые и проче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Гражданское пра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емейное пра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рудовое право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7" name="Picture 5" descr="j0178279"/>
          <p:cNvPicPr/>
          <p:nvPr/>
        </p:nvPicPr>
        <p:blipFill>
          <a:blip r:embed="rId1"/>
          <a:stretch/>
        </p:blipFill>
        <p:spPr>
          <a:xfrm>
            <a:off x="34920" y="-27000"/>
            <a:ext cx="865080" cy="86508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6"/>
          <p:cNvSpPr/>
          <p:nvPr/>
        </p:nvSpPr>
        <p:spPr>
          <a:xfrm>
            <a:off x="4573440" y="73080"/>
            <a:ext cx="446256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роцессуальное право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совокупность норм, определяющих порядок осуществления норм материального прав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4427640" y="2495520"/>
            <a:ext cx="4537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ача ис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роки рассмотр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права ист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права ответчи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рядок рассмотрения дела и п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Гражданско-процессуальное пра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головно-процессуальное право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4788000" y="765000"/>
            <a:ext cx="3816360" cy="54723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179280" y="1989000"/>
            <a:ext cx="4176720" cy="32403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714560" y="907920"/>
            <a:ext cx="4321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Частное право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бъединяет правовые нормы  и отношения, регулирующие негосударственную деятельность,  т.е. представляют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частный интерес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имущественные отношения между гражданам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семейные отношения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тношения между организациями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4" name="Picture 5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65080" cy="86508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6"/>
          <p:cNvSpPr/>
          <p:nvPr/>
        </p:nvSpPr>
        <p:spPr>
          <a:xfrm>
            <a:off x="250920" y="1989000"/>
            <a:ext cx="432108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Публичное прав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–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это правовые нормы, регулирующие государственную деятельность, т.е. отношения, выражающие государственный интерес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0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WordArt 6"/>
          <p:cNvSpPr txBox="1"/>
          <p:nvPr/>
        </p:nvSpPr>
        <p:spPr>
          <a:xfrm rot="19952400">
            <a:off x="0" y="2205000"/>
            <a:ext cx="8724960" cy="9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всем!!!</a:t>
            </a:r>
            <a:endParaRPr b="0" lang="en-US" sz="1800" spc="1" strike="noStrike">
              <a:ln w="9360">
                <a:solidFill>
                  <a:srgbClr val="ffff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j0178279"/>
          <p:cNvPicPr/>
          <p:nvPr/>
        </p:nvPicPr>
        <p:blipFill>
          <a:blip r:embed="rId1"/>
          <a:stretch/>
        </p:blipFill>
        <p:spPr>
          <a:xfrm>
            <a:off x="-36360" y="-27000"/>
            <a:ext cx="934920" cy="9349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2195640" y="692280"/>
            <a:ext cx="52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лан урок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0" y="1579680"/>
            <a:ext cx="9144000" cy="50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Понятие нормы права. Признаки: общеобязанность, формальная определенность, связь с государством, представительно-обязывающий характер. Структура правовой нор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Система норм права: частное и публичное право, материальное и процессуальное право. Отрасли пра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Правовая система: понятие, элементы. Правовые семьи: романо-германская, англосаксонская, религиозная, традиционна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7" descr="j0178279"/>
          <p:cNvPicPr/>
          <p:nvPr/>
        </p:nvPicPr>
        <p:blipFill>
          <a:blip r:embed="rId1"/>
          <a:stretch/>
        </p:blipFill>
        <p:spPr>
          <a:xfrm>
            <a:off x="0" y="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04_1"/>
          <p:cNvPicPr/>
          <p:nvPr/>
        </p:nvPicPr>
        <p:blipFill>
          <a:blip r:embed="rId2"/>
          <a:stretch/>
        </p:blipFill>
        <p:spPr>
          <a:xfrm>
            <a:off x="1979640" y="119160"/>
            <a:ext cx="5086440" cy="3814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Bus_big"/>
          <p:cNvPicPr/>
          <p:nvPr/>
        </p:nvPicPr>
        <p:blipFill>
          <a:blip r:embed="rId3"/>
          <a:stretch/>
        </p:blipFill>
        <p:spPr>
          <a:xfrm>
            <a:off x="142920" y="2781360"/>
            <a:ext cx="5292720" cy="2585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Mercedes_o345_Conecto_C_abb"/>
          <p:cNvPicPr/>
          <p:nvPr/>
        </p:nvPicPr>
        <p:blipFill>
          <a:blip r:embed="rId4"/>
          <a:stretch/>
        </p:blipFill>
        <p:spPr>
          <a:xfrm>
            <a:off x="4356000" y="3716280"/>
            <a:ext cx="4572000" cy="30481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1"/>
          <p:cNvSpPr/>
          <p:nvPr/>
        </p:nvSpPr>
        <p:spPr>
          <a:xfrm>
            <a:off x="539640" y="59500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99"/>
                </a:solidFill>
                <a:uFillTx/>
                <a:latin typeface="Arial"/>
                <a:hlinkClick r:id="rId5"/>
              </a:rPr>
              <a:t>Прика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26920" cy="8269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392200" y="352440"/>
            <a:ext cx="563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643880" cy="14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Норма права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4470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направлено на урегулирование общественных отношен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установленное и обеспечиваемое государство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общеобязательное правило поведения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формально определенно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предоставительно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обязывающий характе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26920" cy="826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7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Виды юридических норм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1. Регулятивные и правоохранительные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4572000" y="1773360"/>
            <a:ext cx="4572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- Правоохранительные нормы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пределяют условия применения к субъекту мер государственно-принудительного воздействия, характер и содержание этих мер.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324000" y="1793880"/>
            <a:ext cx="410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Регулятивные  нормы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пределяющие субъективные права и обязанности субъектов, условия их возникновения и действ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0" y="4508640"/>
            <a:ext cx="47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«Собственнику принадлежат права владения, пользование и распоряжение своим имуществом.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К РФ п.1 Ст. 209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4500720" y="450864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«Кража, т.е. тайное хищение чужого имущества, - наказывается штрафом в размере от 200 до 700 МРОТ…» (УК РФ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.1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Ст. 58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7" descr="j0178279"/>
          <p:cNvPicPr/>
          <p:nvPr/>
        </p:nvPicPr>
        <p:blipFill>
          <a:blip r:embed="rId1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-324000" y="980640"/>
            <a:ext cx="482472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2300" spc="-1" strike="noStrike">
                <a:solidFill>
                  <a:srgbClr val="ff0000"/>
                </a:solidFill>
                <a:latin typeface="Times New Roman"/>
              </a:rPr>
              <a:t>Управомочивающие нормы</a:t>
            </a:r>
            <a:r>
              <a:rPr b="0" i="1" lang="ru-RU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300" spc="-1" strike="noStrike">
                <a:solidFill>
                  <a:srgbClr val="000066"/>
                </a:solidFill>
                <a:latin typeface="Times New Roman"/>
              </a:rPr>
              <a:t>предоставляют субъекту право с положительным содержанием, т.е. право на совершение им тех  или иных действий.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0" y="7776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правомочивающие, запрещающи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бязывающ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5148360" y="1052640"/>
            <a:ext cx="36716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0000"/>
                </a:solidFill>
                <a:latin typeface="Times New Roman"/>
              </a:rPr>
              <a:t>Запрещающие нормы</a:t>
            </a:r>
            <a:r>
              <a:rPr b="1" i="1" lang="ru-RU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3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000066"/>
                </a:solidFill>
                <a:latin typeface="Times New Roman"/>
              </a:rPr>
              <a:t>устанавливает обязанность субъекта на воздержание от  совершения действий</a:t>
            </a:r>
            <a:r>
              <a:rPr b="1" lang="ru-RU" sz="23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-324000" y="4797360"/>
            <a:ext cx="94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Обязывающие нормы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-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возлагает на субъекта обязанность совершать определенные действ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5"/>
          <p:cNvSpPr/>
          <p:nvPr/>
        </p:nvSpPr>
        <p:spPr>
          <a:xfrm>
            <a:off x="0" y="3213000"/>
            <a:ext cx="460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Собственник вправе по своему усмотрению совершать в отношении принадлежащего ему имущества любые действия, не противоречащие закону…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ГК РФ п. 2 Ст. 20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16"/>
          <p:cNvSpPr/>
          <p:nvPr/>
        </p:nvSpPr>
        <p:spPr>
          <a:xfrm>
            <a:off x="4716360" y="2852640"/>
            <a:ext cx="4427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Супруги по своему желанию выбирают при заключении брака фамилию…. Соединение фамилии не допускается, если добрачная фамилия хотя бы одного из супругов является двойной.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СК РФ п. 1 Ст. 3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7"/>
          <p:cNvSpPr/>
          <p:nvPr/>
        </p:nvSpPr>
        <p:spPr>
          <a:xfrm>
            <a:off x="0" y="558972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Трудоспособные совершеннолетние дети обязаны содержать своих нетрудоспособных нуждающихся в помощи родителей и заботиться о них.» (СК РФ п. 1 Ст. 8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9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j0178279"/>
          <p:cNvPicPr/>
          <p:nvPr/>
        </p:nvPicPr>
        <p:blipFill>
          <a:blip r:embed="rId1"/>
          <a:stretch/>
        </p:blipFill>
        <p:spPr>
          <a:xfrm>
            <a:off x="0" y="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3"/>
          <p:cNvSpPr/>
          <p:nvPr/>
        </p:nvSpPr>
        <p:spPr>
          <a:xfrm>
            <a:off x="2268360" y="476280"/>
            <a:ext cx="64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1116000" y="0"/>
            <a:ext cx="7128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3. Императивные и диспозитивные норм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5005080" y="3141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7200" y="765000"/>
          <a:ext cx="8218440" cy="5904000"/>
        </p:xfrm>
        <a:graphic>
          <a:graphicData uri="http://schemas.openxmlformats.org/drawingml/2006/table">
            <a:tbl>
              <a:tblPr/>
              <a:tblGrid>
                <a:gridCol w="4114800"/>
                <a:gridCol w="4103640"/>
              </a:tblGrid>
              <a:tr h="29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Text Box 26"/>
          <p:cNvSpPr/>
          <p:nvPr/>
        </p:nvSpPr>
        <p:spPr>
          <a:xfrm>
            <a:off x="468360" y="858960"/>
            <a:ext cx="388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Императивная норм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– это норма, выраженная  в категорических предписаниях и действует независимо от усмотрения субъек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27"/>
          <p:cNvSpPr/>
          <p:nvPr/>
        </p:nvSpPr>
        <p:spPr>
          <a:xfrm>
            <a:off x="539640" y="4149720"/>
            <a:ext cx="39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28"/>
          <p:cNvSpPr/>
          <p:nvPr/>
        </p:nvSpPr>
        <p:spPr>
          <a:xfrm>
            <a:off x="826920" y="4292640"/>
            <a:ext cx="367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29"/>
          <p:cNvSpPr/>
          <p:nvPr/>
        </p:nvSpPr>
        <p:spPr>
          <a:xfrm>
            <a:off x="468360" y="4292640"/>
            <a:ext cx="39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30"/>
          <p:cNvSpPr/>
          <p:nvPr/>
        </p:nvSpPr>
        <p:spPr>
          <a:xfrm>
            <a:off x="539640" y="3429000"/>
            <a:ext cx="397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Сделки с землей и другим недвижимым имуществом подлежат государственной регистрации.» (ГК РФ п. 1 Ст.16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43"/>
          <p:cNvSpPr/>
          <p:nvPr/>
        </p:nvSpPr>
        <p:spPr>
          <a:xfrm>
            <a:off x="4643280" y="141300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44"/>
          <p:cNvSpPr/>
          <p:nvPr/>
        </p:nvSpPr>
        <p:spPr>
          <a:xfrm>
            <a:off x="4788000" y="1413000"/>
            <a:ext cx="33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45"/>
          <p:cNvSpPr/>
          <p:nvPr/>
        </p:nvSpPr>
        <p:spPr>
          <a:xfrm>
            <a:off x="4716360" y="868320"/>
            <a:ext cx="374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Диспозитивная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-   действует лишь постольку, поскольку субъекты не предусмотрели и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47"/>
          <p:cNvSpPr/>
          <p:nvPr/>
        </p:nvSpPr>
        <p:spPr>
          <a:xfrm>
            <a:off x="4643280" y="2421000"/>
            <a:ext cx="41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Замена предмета залога допускается с согласия залогодержателя, если законом или договором не предусмотрено иное.» (ГК РФ п. 1 Ст. 34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48"/>
          <p:cNvSpPr/>
          <p:nvPr/>
        </p:nvSpPr>
        <p:spPr>
          <a:xfrm>
            <a:off x="4643280" y="551664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49"/>
          <p:cNvSpPr/>
          <p:nvPr/>
        </p:nvSpPr>
        <p:spPr>
          <a:xfrm>
            <a:off x="4500720" y="4365720"/>
            <a:ext cx="435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Законным режимом имущества супругов является режим их совместной собственности. Законный режим имущества супругов действует, если брачным договором не установлено иное.» (СК РФ п. 1 Ст. 3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5"/>
          <p:cNvSpPr/>
          <p:nvPr/>
        </p:nvSpPr>
        <p:spPr>
          <a:xfrm>
            <a:off x="468360" y="5445000"/>
            <a:ext cx="7775640" cy="107964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26920" cy="8269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Структура правовой нормы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9280" y="620640"/>
            <a:ext cx="8964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Гипотеза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указание на условия,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ри которых возникают права и обязан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Диспозиция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указание на сами права и обязан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Санкция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указание на неблагоприятные последствия,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наступающие при нарушении норм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179280" y="3284640"/>
            <a:ext cx="921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50920" y="3213000"/>
            <a:ext cx="864216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«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Договор о залоге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должен быть совершен в письменной форм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Несоблюдение правил… настоящей статьи,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влечет недействительность договора о залоге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»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(ГК РФ п. 2,4 Ст. 33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2987640" y="31417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Arial"/>
              </a:rPr>
              <a:t>(Г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3132000" y="3500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Arial"/>
              </a:rPr>
              <a:t>(Д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516720" y="4221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Arial"/>
              </a:rPr>
              <a:t>(С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250920" y="5229360"/>
            <a:ext cx="69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468360" y="5373720"/>
            <a:ext cx="83167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Общая модель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«Если…, то…, а в противном случае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1258920" y="1125360"/>
            <a:ext cx="63514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«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Договор о залоге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Г.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должен быть совершен в письменной форме.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Д.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)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Несоблюдение правил… настоящей статьи,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влечет недействительность договора о залоге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.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)» (ГК РФ п. 2,4 Ст. 33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1T11:55:13Z</dcterms:created>
  <dc:creator>User</dc:creator>
  <dc:description/>
  <dc:language>en-US</dc:language>
  <cp:lastModifiedBy>LEGION</cp:lastModifiedBy>
  <dcterms:modified xsi:type="dcterms:W3CDTF">2015-01-28T08:25:49Z</dcterms:modified>
  <cp:revision>37</cp:revision>
  <dc:subject/>
  <dc:title>Норма права</dc:title>
</cp:coreProperties>
</file>