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3631-53A6-485E-9187-D9AC0C8E40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CC2E-24EC-4D8C-8D14-26CA99A22D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8F32-71B5-41EB-A783-0D1A9540BE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E159-022C-441B-A961-10C380E23F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ов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2048-38C0-4F79-874A-6B40DF2404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B7D5-DF80-49FF-A4E4-42C774437D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799D-B666-40E4-A29A-9878686D19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Спасибо всем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435D-354A-48E3-A424-AF084ADACF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F1B1-B52B-47AE-A35E-BEB046D5D1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B484-4789-4500-9B80-ACA02D2022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422F-FD42-4440-87D0-C823E56647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4B61-4B9F-4D1B-8E18-9B240EF198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2FE0-A02D-4616-A866-B1CCB57E8E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условия, при которых возникают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i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»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77FB-29C4-4FC9-BCF9-84E0A5991E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» 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FC66-D823-41E5-8C3C-646149A5A2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76C-CC7A-46E7-A3B6-7FBC25C8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CFE-A44C-4103-8A67-67DD4498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8C2-BA3A-4ADC-B29D-67A5A8DC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B8BC-EE1F-41FA-802E-BBDC9A5E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6F55-C442-4339-8C4C-55E1ED35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B526-2621-44A6-B1A3-A25409FE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634B-FFF9-4898-83C6-D43619EE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9372-3417-48CA-92A9-EF3AF304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C45F-08B1-4444-A3DE-E623AAA1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E70E-7769-4DE6-9FDB-2ABE15D9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9C88-CA85-4908-B0E0-72B9CBCE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72C-3A0E-4B25-A602-1C6FEDA1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0AA1-A46B-413D-BE8B-DD5980F3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0910-4429-4F5F-95EB-7E943F01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A79C-2703-413C-BD5A-AA963A19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A740-BB73-47BE-A85D-345B77E3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520D-7EB1-40FB-BC28-76E7D395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AE5-8419-4C6B-B3D0-38EF90AE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B1A-95E4-4430-BF1D-7EBCC203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AB8-E3BB-485A-A5E0-5B081EAB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3C4-3C6B-4859-9128-47EF33D7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D34-B0C9-4477-B113-96718AD4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F34-70E3-4B83-BE96-5F25C4CD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88B-56C4-4A9E-9704-09DACDB3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3075-39AE-4EEA-8F99-A752C890A3C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4B8F-6C41-4BAC-AB08-592F60482E7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../&#1059;&#1095;&#1080;&#1090;&#1077;&#1083;&#1103;/&#1050;&#1083;&#1080;&#1085;&#1086;&#1074;&#1072;/you_people/&#1054;&#1090;&#1082;&#1088;_&#1091;&#1088;&#1086;&#1082;/&#1055;&#1088;&#1080;&#1082;&#1072;&#1079;%20.doc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619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059280" y="289080"/>
            <a:ext cx="3168360" cy="836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708360" y="3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трас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5280" y="285444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348000" y="2781360"/>
            <a:ext cx="2448000" cy="100800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443640" y="2708280"/>
            <a:ext cx="2448000" cy="936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65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2589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1240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37083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442764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148360" y="6165720"/>
            <a:ext cx="433440" cy="50328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6732720" y="6164280"/>
            <a:ext cx="43308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82422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75247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4643280" y="2205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372360" y="1917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1547640" y="2058840"/>
            <a:ext cx="93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610920" y="5445000"/>
            <a:ext cx="215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 flipH="1">
            <a:off x="694800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 flipH="1">
            <a:off x="385092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47636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774072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643280" y="50133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>
            <a:off x="2195640" y="537372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>
            <a:off x="838836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521964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7"/>
          <p:cNvSpPr/>
          <p:nvPr/>
        </p:nvSpPr>
        <p:spPr>
          <a:xfrm>
            <a:off x="395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0" y="4083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пределенный вид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3"/>
          <p:cNvSpPr/>
          <p:nvPr/>
        </p:nvSpPr>
        <p:spPr>
          <a:xfrm>
            <a:off x="250920" y="3357720"/>
            <a:ext cx="183672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орон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835280" y="44280"/>
            <a:ext cx="5184720" cy="1125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-18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овое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16000" y="1846440"/>
            <a:ext cx="248436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уд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518160" y="1701720"/>
            <a:ext cx="2374920" cy="935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плата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421080" y="177336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рем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отды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732720" y="2781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250920" y="981000"/>
            <a:ext cx="194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1834920" y="1052640"/>
            <a:ext cx="936360" cy="792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5651640" y="1268280"/>
            <a:ext cx="288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2842920" y="1268280"/>
            <a:ext cx="6490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3203280" y="1266840"/>
            <a:ext cx="431640" cy="938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5724360" y="1197000"/>
            <a:ext cx="576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093080" y="836640"/>
            <a:ext cx="15825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6588000" y="907920"/>
            <a:ext cx="107964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2360" y="4508640"/>
            <a:ext cx="165564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324000" y="5734080"/>
            <a:ext cx="1655640" cy="57456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 Т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203640" y="2997360"/>
            <a:ext cx="244800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олж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203640" y="3787920"/>
            <a:ext cx="2376360" cy="6490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чи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203640" y="4581360"/>
            <a:ext cx="2448000" cy="7192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рывы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дыха и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3203640" y="544500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щий выходно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3203640" y="602136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6300720" y="5589720"/>
            <a:ext cx="259236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имальный раз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6373800" y="451008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а работы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373800" y="328464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и выпл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работной 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788000" y="765000"/>
            <a:ext cx="3816360" cy="547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79280" y="1989000"/>
            <a:ext cx="4176720" cy="324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714560" y="90792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50920" y="1989000"/>
            <a:ext cx="432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6"/>
          <p:cNvSpPr txBox="1"/>
          <p:nvPr/>
        </p:nvSpPr>
        <p:spPr>
          <a:xfrm rot="19952400">
            <a:off x="0" y="2205000"/>
            <a:ext cx="8724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!!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78279"/>
          <p:cNvPicPr/>
          <p:nvPr/>
        </p:nvPicPr>
        <p:blipFill>
          <a:blip r:embed="rId1"/>
          <a:stretch/>
        </p:blipFill>
        <p:spPr>
          <a:xfrm>
            <a:off x="-36360" y="-27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95640" y="692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579680"/>
            <a:ext cx="91440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04_1"/>
          <p:cNvPicPr/>
          <p:nvPr/>
        </p:nvPicPr>
        <p:blipFill>
          <a:blip r:embed="rId2"/>
          <a:stretch/>
        </p:blipFill>
        <p:spPr>
          <a:xfrm>
            <a:off x="1979640" y="119160"/>
            <a:ext cx="5086440" cy="38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us_big"/>
          <p:cNvPicPr/>
          <p:nvPr/>
        </p:nvPicPr>
        <p:blipFill>
          <a:blip r:embed="rId3"/>
          <a:stretch/>
        </p:blipFill>
        <p:spPr>
          <a:xfrm>
            <a:off x="142920" y="2781360"/>
            <a:ext cx="5292720" cy="25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Mercedes_o345_Conecto_C_abb"/>
          <p:cNvPicPr/>
          <p:nvPr/>
        </p:nvPicPr>
        <p:blipFill>
          <a:blip r:embed="rId4"/>
          <a:stretch/>
        </p:blipFill>
        <p:spPr>
          <a:xfrm>
            <a:off x="4356000" y="3716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539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4388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К РФ п.1 Ст. 2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.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321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К РФ п. 2 Ст. 2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 РФ п. 1 Ст. 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00508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4500720" y="436572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468360" y="5445000"/>
            <a:ext cx="7775640" cy="1079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условия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которых возникают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3284640"/>
            <a:ext cx="92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3213000"/>
            <a:ext cx="86421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ГК РФ п. 2,4 Ст. 33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8764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13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51672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С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50920" y="522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68360" y="5373720"/>
            <a:ext cx="831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бщая мод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Если…, то…, а в противном случае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258920" y="1125360"/>
            <a:ext cx="6351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» (ГК РФ п. 2,4 Ст. 33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55:13Z</dcterms:created>
  <dc:creator>User</dc:creator>
  <dc:description/>
  <dc:language>en-US</dc:language>
  <cp:lastModifiedBy>LEGION</cp:lastModifiedBy>
  <dcterms:modified xsi:type="dcterms:W3CDTF">2015-01-28T08:25:49Z</dcterms:modified>
  <cp:revision>37</cp:revision>
  <dc:subject/>
  <dc:title>Норма права</dc:title>
</cp:coreProperties>
</file>