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C528-C424-4A75-91AF-C811B65B9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5F5-0E6F-4112-8B00-064928F4B9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11DD-179E-4CBC-9431-46D84033E9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DF11-861E-4F56-A799-4F695736B3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рудов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5B37-8E3A-4562-98B3-06DDC8AA80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0B8F-8361-4B21-82A2-9ED3DFAC77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DEB5-8059-46F3-BC68-3AEB5D3561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Спасибо всем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D321-E3A7-40F9-A03A-231AF04864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D6D1-C8A0-4FBC-A3E6-996F89C10B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F7BA-6304-44FB-83EB-F06DB7C406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722-992A-4912-A9A6-7CCB289F45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A01D-0476-4DEC-AE17-3138D3AC8F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8C26-5A90-400F-BE28-7B1128866D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условия, при которых возникают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i="1" lang="en-US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»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F862-869F-455C-93DF-BA75D8806D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говор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Г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должен быть совершен в письменной форме. 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Д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Несоблюдение правил… настоящей статьи,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66"/>
                </a:solidFill>
                <a:latin typeface="Calibri"/>
              </a:rPr>
              <a:t>влечет недействительность договора о залоге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.</a:t>
            </a: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)» (ГК РФ п. 2,4 Ст. 33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D5A2-3F9A-4ABF-A8A2-CC5DDAB100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CCD-58FA-4157-B9E1-86DD6B09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90A-2D0B-4A3C-8F46-170C4597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65E-1FE8-470F-B7F0-CB069C2D7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F07E-F936-4432-8A7A-37063DE6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79E0-89A8-4BF2-AB4E-AB6109DD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1BEF-5F78-49D4-ADB1-F8054F0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4BF4-4ACB-4B8E-99A3-4A15CE44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EC2B-FE6B-4897-8675-388D6240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4836-BBDB-4B43-8CBD-BE732629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5CBE-1173-4426-97A0-1AAD8388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C779-236F-4775-8744-D629C10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30E-FC50-4984-A6F1-E0A3C01F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BC7F-330C-4616-B71C-6607B7E6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0DEF-6836-4D66-B9F2-6A056B22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485F-D504-400A-852F-F18F61F3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A19D-23D1-4FEE-A531-408396DF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CEF0-00DB-4A49-A31D-A0E796A1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51C-E101-4D46-B7B5-690F6B00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B17-82B3-4789-98DB-0F2E88B2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A818-6900-40BF-AA19-0B169BFE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FD3-9499-4CB6-812A-4CCD9D65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269-49F8-4B95-B797-4BC3B551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27AE-CA0B-487A-8E08-C905621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6C2-7BAE-4748-A34F-661BDEBA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2B10-D161-4CCF-AC94-AFA6B82D9D8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0d51"/>
            </a:gs>
            <a:gs pos="50000">
              <a:srgbClr val="fab8b6"/>
            </a:gs>
            <a:gs pos="100000">
              <a:srgbClr val="cb0d5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CAF-0236-4B67-B99A-68E4D5BF95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file:///../../&#1059;&#1095;&#1080;&#1090;&#1077;&#1083;&#1103;/&#1050;&#1083;&#1080;&#1085;&#1086;&#1074;&#1072;/you_people/&#1054;&#1090;&#1082;&#1088;_&#1091;&#1088;&#1086;&#1082;/&#1055;&#1088;&#1080;&#1082;&#1072;&#1079;%20.doc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3640" cy="817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619280" y="62064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8"/>
          <p:cNvSpPr/>
          <p:nvPr/>
        </p:nvSpPr>
        <p:spPr>
          <a:xfrm>
            <a:off x="3059280" y="289080"/>
            <a:ext cx="3168360" cy="836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3708360" y="32868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Отрас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395280" y="285444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3348000" y="2781360"/>
            <a:ext cx="2448000" cy="100800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6443640" y="2708280"/>
            <a:ext cx="2448000" cy="936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нститут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665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12589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2"/>
          <p:cNvSpPr/>
          <p:nvPr/>
        </p:nvSpPr>
        <p:spPr>
          <a:xfrm>
            <a:off x="21240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370836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442764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5148360" y="6165720"/>
            <a:ext cx="433440" cy="50328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6732720" y="6164280"/>
            <a:ext cx="43308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2"/>
          <p:cNvSpPr/>
          <p:nvPr/>
        </p:nvSpPr>
        <p:spPr>
          <a:xfrm>
            <a:off x="824220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3"/>
          <p:cNvSpPr/>
          <p:nvPr/>
        </p:nvSpPr>
        <p:spPr>
          <a:xfrm>
            <a:off x="7524720" y="6164280"/>
            <a:ext cx="433440" cy="504720"/>
          </a:xfrm>
          <a:prstGeom prst="rect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5"/>
          <p:cNvSpPr/>
          <p:nvPr/>
        </p:nvSpPr>
        <p:spPr>
          <a:xfrm>
            <a:off x="4643280" y="2205000"/>
            <a:ext cx="0" cy="504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6"/>
          <p:cNvSpPr/>
          <p:nvPr/>
        </p:nvSpPr>
        <p:spPr>
          <a:xfrm>
            <a:off x="6372360" y="1917720"/>
            <a:ext cx="122400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7"/>
          <p:cNvSpPr/>
          <p:nvPr/>
        </p:nvSpPr>
        <p:spPr>
          <a:xfrm flipH="1">
            <a:off x="1547640" y="2058840"/>
            <a:ext cx="93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1"/>
          <p:cNvSpPr/>
          <p:nvPr/>
        </p:nvSpPr>
        <p:spPr>
          <a:xfrm flipH="1">
            <a:off x="610920" y="5445000"/>
            <a:ext cx="215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2"/>
          <p:cNvSpPr/>
          <p:nvPr/>
        </p:nvSpPr>
        <p:spPr>
          <a:xfrm flipH="1">
            <a:off x="694800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43"/>
          <p:cNvSpPr/>
          <p:nvPr/>
        </p:nvSpPr>
        <p:spPr>
          <a:xfrm flipH="1">
            <a:off x="3850920" y="5516640"/>
            <a:ext cx="14292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44"/>
          <p:cNvSpPr/>
          <p:nvPr/>
        </p:nvSpPr>
        <p:spPr>
          <a:xfrm>
            <a:off x="147636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5"/>
          <p:cNvSpPr/>
          <p:nvPr/>
        </p:nvSpPr>
        <p:spPr>
          <a:xfrm>
            <a:off x="7740720" y="4941720"/>
            <a:ext cx="0" cy="100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6"/>
          <p:cNvSpPr/>
          <p:nvPr/>
        </p:nvSpPr>
        <p:spPr>
          <a:xfrm>
            <a:off x="4643280" y="501336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3"/>
          <p:cNvSpPr/>
          <p:nvPr/>
        </p:nvSpPr>
        <p:spPr>
          <a:xfrm>
            <a:off x="2195640" y="5373720"/>
            <a:ext cx="14292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54"/>
          <p:cNvSpPr/>
          <p:nvPr/>
        </p:nvSpPr>
        <p:spPr>
          <a:xfrm>
            <a:off x="838836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5219640" y="5445000"/>
            <a:ext cx="14292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7"/>
          <p:cNvSpPr/>
          <p:nvPr/>
        </p:nvSpPr>
        <p:spPr>
          <a:xfrm>
            <a:off x="395280" y="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днородные общественные отношения.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Text Box 59"/>
          <p:cNvSpPr/>
          <p:nvPr/>
        </p:nvSpPr>
        <p:spPr>
          <a:xfrm>
            <a:off x="0" y="4083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вокупность юридических норм, регулирующих  определенный вид общественные отно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3"/>
          <p:cNvSpPr/>
          <p:nvPr/>
        </p:nvSpPr>
        <p:spPr>
          <a:xfrm>
            <a:off x="250920" y="3357720"/>
            <a:ext cx="183672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торон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одержа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21"/>
          <p:cNvSpPr/>
          <p:nvPr/>
        </p:nvSpPr>
        <p:spPr>
          <a:xfrm>
            <a:off x="1835280" y="44280"/>
            <a:ext cx="5184720" cy="11257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5280" y="-1800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рудовое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а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216000" y="1846440"/>
            <a:ext cx="248436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удов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го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6518160" y="1701720"/>
            <a:ext cx="2374920" cy="93528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плата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421080" y="1773360"/>
            <a:ext cx="2374920" cy="934920"/>
          </a:xfrm>
          <a:prstGeom prst="ellipse">
            <a:avLst/>
          </a:prstGeom>
          <a:solidFill>
            <a:srgbClr val="ffb09d"/>
          </a:solidFill>
          <a:ln w="9360">
            <a:solidFill>
              <a:srgbClr val="ffdf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ремя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отды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6732720" y="2781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2"/>
          <p:cNvSpPr/>
          <p:nvPr/>
        </p:nvSpPr>
        <p:spPr>
          <a:xfrm flipH="1">
            <a:off x="250920" y="981000"/>
            <a:ext cx="1944720" cy="863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3"/>
          <p:cNvSpPr/>
          <p:nvPr/>
        </p:nvSpPr>
        <p:spPr>
          <a:xfrm flipH="1">
            <a:off x="1834920" y="1052640"/>
            <a:ext cx="936360" cy="792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5651640" y="1268280"/>
            <a:ext cx="288720" cy="100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2842920" y="1268280"/>
            <a:ext cx="649080" cy="9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 flipH="1">
            <a:off x="3203280" y="1266840"/>
            <a:ext cx="431640" cy="938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7"/>
          <p:cNvSpPr/>
          <p:nvPr/>
        </p:nvSpPr>
        <p:spPr>
          <a:xfrm>
            <a:off x="5724360" y="1197000"/>
            <a:ext cx="57636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8"/>
          <p:cNvSpPr/>
          <p:nvPr/>
        </p:nvSpPr>
        <p:spPr>
          <a:xfrm>
            <a:off x="7093080" y="836640"/>
            <a:ext cx="158256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9"/>
          <p:cNvSpPr/>
          <p:nvPr/>
        </p:nvSpPr>
        <p:spPr>
          <a:xfrm>
            <a:off x="6588000" y="907920"/>
            <a:ext cx="1079640" cy="792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0"/>
          <p:cNvSpPr/>
          <p:nvPr/>
        </p:nvSpPr>
        <p:spPr>
          <a:xfrm>
            <a:off x="4572000" y="1197000"/>
            <a:ext cx="0" cy="576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4"/>
          <p:cNvSpPr/>
          <p:nvPr/>
        </p:nvSpPr>
        <p:spPr>
          <a:xfrm>
            <a:off x="252360" y="4508640"/>
            <a:ext cx="1655640" cy="79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5"/>
          <p:cNvSpPr/>
          <p:nvPr/>
        </p:nvSpPr>
        <p:spPr>
          <a:xfrm>
            <a:off x="324000" y="5734080"/>
            <a:ext cx="1655640" cy="57456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 Т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26"/>
          <p:cNvSpPr/>
          <p:nvPr/>
        </p:nvSpPr>
        <p:spPr>
          <a:xfrm>
            <a:off x="3203640" y="2997360"/>
            <a:ext cx="244800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одолж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27"/>
          <p:cNvSpPr/>
          <p:nvPr/>
        </p:nvSpPr>
        <p:spPr>
          <a:xfrm>
            <a:off x="3203640" y="3787920"/>
            <a:ext cx="2376360" cy="6490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непол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бочи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8"/>
          <p:cNvSpPr/>
          <p:nvPr/>
        </p:nvSpPr>
        <p:spPr>
          <a:xfrm>
            <a:off x="3203640" y="4581360"/>
            <a:ext cx="2448000" cy="71928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ерывы д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тдыха и пит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3203640" y="544500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бщий выходной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1"/>
          <p:cNvSpPr/>
          <p:nvPr/>
        </p:nvSpPr>
        <p:spPr>
          <a:xfrm>
            <a:off x="3203640" y="6021360"/>
            <a:ext cx="2520720" cy="43200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2"/>
          <p:cNvSpPr/>
          <p:nvPr/>
        </p:nvSpPr>
        <p:spPr>
          <a:xfrm>
            <a:off x="6300720" y="5589720"/>
            <a:ext cx="259236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инимальный разм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6373800" y="451008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оплата работы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раздничные д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6"/>
          <p:cNvSpPr/>
          <p:nvPr/>
        </p:nvSpPr>
        <p:spPr>
          <a:xfrm>
            <a:off x="6373800" y="3284640"/>
            <a:ext cx="2519280" cy="647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роки выпла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заработной пла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7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788000" y="765000"/>
            <a:ext cx="3816360" cy="547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79280" y="1989000"/>
            <a:ext cx="4176720" cy="3240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714560" y="907920"/>
            <a:ext cx="4321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Частное прав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ъединяет правовые нормы  и отношения, регулирующие негосударственную деятельность,  т.е. представля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частный интерес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ущественные отношения между гражданам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емейные отношен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тношения между организациями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Picture 5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250920" y="1989000"/>
            <a:ext cx="432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убличное прав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то правовые нормы, регулирующие государственную деятельность, т.е. отношения, выражающие государственный интерес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6"/>
          <p:cNvSpPr txBox="1"/>
          <p:nvPr/>
        </p:nvSpPr>
        <p:spPr>
          <a:xfrm rot="19952400">
            <a:off x="0" y="2205000"/>
            <a:ext cx="8724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всем!!!</a:t>
            </a:r>
            <a:endParaRPr b="0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j0178279"/>
          <p:cNvPicPr/>
          <p:nvPr/>
        </p:nvPicPr>
        <p:blipFill>
          <a:blip r:embed="rId1"/>
          <a:stretch/>
        </p:blipFill>
        <p:spPr>
          <a:xfrm>
            <a:off x="-36360" y="-2700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95640" y="6922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лан уро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0" y="1579680"/>
            <a:ext cx="914400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нятие нормы права. Признаки: общеобязанность, формальная определенность, связь с государством, представительно-обязывающий характер. Структура правовой нор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истема норм права: частное и публичное право, материальное и процессуальное право. Отрасли пра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авовая система: понятие, элементы. Правовые семьи: романо-германская, англосаксонская, религиозная, традиционна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71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04_1"/>
          <p:cNvPicPr/>
          <p:nvPr/>
        </p:nvPicPr>
        <p:blipFill>
          <a:blip r:embed="rId2"/>
          <a:stretch/>
        </p:blipFill>
        <p:spPr>
          <a:xfrm>
            <a:off x="1979640" y="119160"/>
            <a:ext cx="5086440" cy="381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us_big"/>
          <p:cNvPicPr/>
          <p:nvPr/>
        </p:nvPicPr>
        <p:blipFill>
          <a:blip r:embed="rId3"/>
          <a:stretch/>
        </p:blipFill>
        <p:spPr>
          <a:xfrm>
            <a:off x="142920" y="2781360"/>
            <a:ext cx="5292720" cy="258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Mercedes_o345_Conecto_C_abb"/>
          <p:cNvPicPr/>
          <p:nvPr/>
        </p:nvPicPr>
        <p:blipFill>
          <a:blip r:embed="rId4"/>
          <a:stretch/>
        </p:blipFill>
        <p:spPr>
          <a:xfrm>
            <a:off x="4356000" y="37162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1"/>
          <p:cNvSpPr/>
          <p:nvPr/>
        </p:nvSpPr>
        <p:spPr>
          <a:xfrm>
            <a:off x="539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Прик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64388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К РФ п.1 Ст. 2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.1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3213000"/>
            <a:ext cx="46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ГК РФ п. 2 Ст. 20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К РФ п. 1 Ст. 3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00508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9"/>
          <p:cNvSpPr/>
          <p:nvPr/>
        </p:nvSpPr>
        <p:spPr>
          <a:xfrm>
            <a:off x="4500720" y="4365720"/>
            <a:ext cx="43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468360" y="5445000"/>
            <a:ext cx="7775640" cy="1079640"/>
          </a:xfrm>
          <a:prstGeom prst="rect">
            <a:avLst/>
          </a:prstGeom>
          <a:solidFill>
            <a:srgbClr val="f5a6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труктура правовой но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Гипотез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условия,</a:t>
            </a:r>
            <a:r>
              <a:rPr b="0" lang="ru-RU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и которых возникают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Диспози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сами права и обяза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анкция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указание на неблагоприятные последствия,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аступающие при нарушении нор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79280" y="3284640"/>
            <a:ext cx="92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50920" y="3213000"/>
            <a:ext cx="86421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»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(ГК РФ п. 2,4 Ст. 33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87640" y="31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13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51672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Arial"/>
              </a:rPr>
              <a:t>(С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250920" y="5229360"/>
            <a:ext cx="69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68360" y="5373720"/>
            <a:ext cx="831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Общая модел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Если…, то…, а в противном случае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258920" y="1125360"/>
            <a:ext cx="6351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говор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Г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должен быть совершен в письменной форме.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Несоблюдение правил… настоящей статьи,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влечет недействительность договора о залог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)» (ГК РФ п. 2,4 Ст. 33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55:13Z</dcterms:created>
  <dc:creator>User</dc:creator>
  <dc:description/>
  <dc:language>en-US</dc:language>
  <cp:lastModifiedBy>LEGION</cp:lastModifiedBy>
  <dcterms:modified xsi:type="dcterms:W3CDTF">2015-01-28T08:25:49Z</dcterms:modified>
  <cp:revision>37</cp:revision>
  <dc:subject/>
  <dc:title>Норма права</dc:title>
</cp:coreProperties>
</file>