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E032-A07D-40B5-8170-867557B172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AD6D-7706-4DBC-8F5C-1788625EC0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831B-363A-483E-B353-159E2EAB04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днородные общественные отношения.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60C8-81CA-489F-B8A0-E5DF9E32B3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рудов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AC73-D6E7-4414-87A2-1122AB7D7B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уществен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емей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рудовые и 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ов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ru-RU" sz="1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A4BB-1DA1-4349-8126-96E9DB3D89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убличное право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то правовые нормы, регулирующие государственную деятельность, т.е. отношения, выражающие государственный интерес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Частное пра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ъединяет правовые нормы  и отношения, регулирующие негосударственную деятельность,  т.е. представля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частный интере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ущественные отношения между граждан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емейные отнош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тношения между организациям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5DB8-D7DB-4A50-998E-6257C4B3BC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Спасибо всем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06C0-7E12-403C-9350-FCD763F5A4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Понятие нормы права. Признаки: общеобязанность, формальная определенность, связь с государством, представительно-обязывающий характер. Структура правовой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истема норм права: частное и публичное право, материальное и процессуальное право. Отрасл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Правовая система: понятие, элементы. Правовые семьи: романо-германская, англосаксонская, религиозная, традиционн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3D61-2AF3-4101-A8C0-D86329DC99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9EF6-B5AF-4EBC-A9C3-AE3D2633D7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DC05-CCB5-4AE8-8627-8947D1B58C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К РФ п. 2 Ст. 2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К РФ п. 1 Ст. 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2FD4-C0A2-4D9F-AC8C-F320F25758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37C4-58FB-41B8-9251-50A7CA2ABE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труктура правовой нор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условия, при которых возникают права 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ц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сами права 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Санкц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неблагоприятные последствия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ступающие при нарушении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говор о залоге</a:t>
            </a:r>
            <a:r>
              <a:rPr b="0" i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лжен быть совершен в письменной фор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Несоблюдение правил… настоящей статьи,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влечет недействительность договора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»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ГК РФ п. 2,4 Ст. 33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4694-54A5-4AB6-8829-4AD9C21DD4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говор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лжен быть совершен в письменной форме.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Несоблюдение правил… настоящей статьи,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влечет недействительность договора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» (ГК РФ п. 2,4 Ст. 33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0CC4-45B6-4859-92A2-D1CE70319A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4015-7B93-44B8-8908-3B1195AD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E11D-F481-4EDC-9082-5233B3A4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85D-AA5F-433C-8388-7D162D7B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5529-6AD0-434E-A1BD-BC8DDB43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D6D1-1E49-4477-AC04-3E3629E8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8906-3B52-4DD0-BBBA-5C0BD315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EC8A-744B-4720-B71B-4A38B898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F141-9427-4554-9F6A-C6C5EE33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8DE6-CF30-48CD-9F94-0BC69A1D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29EF-89BE-404C-8707-0BC4584B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86AC-47DE-433A-96A2-B1F06C2D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336-07B4-4714-BF0E-AB92A66D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68F4-71A2-4BD4-8339-8D1F2AB0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9E10-C869-49D2-BBFD-1D92C048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BB25-BF06-4E34-87C6-67EAF86A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10CA-0AAA-4B37-BC8B-17076A12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F545-7579-442C-8323-F31A731F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F8B6-723D-414A-B9AA-AEE00A7A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EAD5-673F-45C8-8354-9AB2B6B1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613E-F25C-4B77-B264-D4AE7FE2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CF20-3A2A-4C7B-B225-14924DCE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ECB-F7CF-4B3B-A9CE-448A7C0B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EDAB-21C9-41FF-8973-B50B8029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90E4-AA4E-4619-9F2E-6346732B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0d51"/>
            </a:gs>
            <a:gs pos="50000">
              <a:srgbClr val="fab8b6"/>
            </a:gs>
            <a:gs pos="100000">
              <a:srgbClr val="cb0d5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A7D5-723A-4616-88E0-089FC41ACC9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0d51"/>
            </a:gs>
            <a:gs pos="50000">
              <a:srgbClr val="fab8b6"/>
            </a:gs>
            <a:gs pos="100000">
              <a:srgbClr val="cb0d5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3D01-157B-48F8-98AF-C01D697FE5F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file:///../../&#1059;&#1095;&#1080;&#1090;&#1077;&#1083;&#1103;/&#1050;&#1083;&#1080;&#1085;&#1086;&#1074;&#1072;/you_people/&#1054;&#1090;&#1082;&#1088;_&#1091;&#1088;&#1086;&#1082;/&#1055;&#1088;&#1080;&#1082;&#1072;&#1079;%20.doc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j0178279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 rot="6459600">
            <a:off x="6298920" y="-25239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26920" y="3645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557000"/>
            <a:ext cx="4581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284720" y="1557000"/>
            <a:ext cx="4859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4220640"/>
            <a:ext cx="443376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11280" y="4265280"/>
            <a:ext cx="49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1816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0" y="765000"/>
            <a:ext cx="896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внутренняя структура права, состоящая из взаимосогласованных норм, институтов и отраслей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63640" cy="817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1619280" y="6206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3059280" y="289080"/>
            <a:ext cx="3168360" cy="83628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3708360" y="3286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Отрас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395280" y="2854440"/>
            <a:ext cx="237492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3348000" y="2781360"/>
            <a:ext cx="2448000" cy="100800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6443640" y="2708280"/>
            <a:ext cx="2448000" cy="9367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6656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125892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212400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370836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442764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5148360" y="6165720"/>
            <a:ext cx="433440" cy="50328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9"/>
          <p:cNvSpPr/>
          <p:nvPr/>
        </p:nvSpPr>
        <p:spPr>
          <a:xfrm>
            <a:off x="6732720" y="6164280"/>
            <a:ext cx="43308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2"/>
          <p:cNvSpPr/>
          <p:nvPr/>
        </p:nvSpPr>
        <p:spPr>
          <a:xfrm>
            <a:off x="824220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3"/>
          <p:cNvSpPr/>
          <p:nvPr/>
        </p:nvSpPr>
        <p:spPr>
          <a:xfrm>
            <a:off x="752472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5"/>
          <p:cNvSpPr/>
          <p:nvPr/>
        </p:nvSpPr>
        <p:spPr>
          <a:xfrm>
            <a:off x="4643280" y="2205000"/>
            <a:ext cx="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6"/>
          <p:cNvSpPr/>
          <p:nvPr/>
        </p:nvSpPr>
        <p:spPr>
          <a:xfrm>
            <a:off x="6372360" y="1917720"/>
            <a:ext cx="1224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7"/>
          <p:cNvSpPr/>
          <p:nvPr/>
        </p:nvSpPr>
        <p:spPr>
          <a:xfrm flipH="1">
            <a:off x="1547640" y="2058840"/>
            <a:ext cx="93672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41"/>
          <p:cNvSpPr/>
          <p:nvPr/>
        </p:nvSpPr>
        <p:spPr>
          <a:xfrm flipH="1">
            <a:off x="610920" y="5445000"/>
            <a:ext cx="21564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42"/>
          <p:cNvSpPr/>
          <p:nvPr/>
        </p:nvSpPr>
        <p:spPr>
          <a:xfrm flipH="1">
            <a:off x="6948000" y="551664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43"/>
          <p:cNvSpPr/>
          <p:nvPr/>
        </p:nvSpPr>
        <p:spPr>
          <a:xfrm flipH="1">
            <a:off x="3850920" y="551664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44"/>
          <p:cNvSpPr/>
          <p:nvPr/>
        </p:nvSpPr>
        <p:spPr>
          <a:xfrm>
            <a:off x="1476360" y="49417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5"/>
          <p:cNvSpPr/>
          <p:nvPr/>
        </p:nvSpPr>
        <p:spPr>
          <a:xfrm>
            <a:off x="7740720" y="49417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46"/>
          <p:cNvSpPr/>
          <p:nvPr/>
        </p:nvSpPr>
        <p:spPr>
          <a:xfrm>
            <a:off x="4643280" y="501336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53"/>
          <p:cNvSpPr/>
          <p:nvPr/>
        </p:nvSpPr>
        <p:spPr>
          <a:xfrm>
            <a:off x="2195640" y="5373720"/>
            <a:ext cx="14292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54"/>
          <p:cNvSpPr/>
          <p:nvPr/>
        </p:nvSpPr>
        <p:spPr>
          <a:xfrm>
            <a:off x="8388360" y="5445000"/>
            <a:ext cx="14292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5"/>
          <p:cNvSpPr/>
          <p:nvPr/>
        </p:nvSpPr>
        <p:spPr>
          <a:xfrm>
            <a:off x="5219640" y="5445000"/>
            <a:ext cx="14292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7"/>
          <p:cNvSpPr/>
          <p:nvPr/>
        </p:nvSpPr>
        <p:spPr>
          <a:xfrm>
            <a:off x="395280" y="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днородные общественные отношения.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59"/>
          <p:cNvSpPr/>
          <p:nvPr/>
        </p:nvSpPr>
        <p:spPr>
          <a:xfrm>
            <a:off x="0" y="40831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пределенный вид общественные отно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3"/>
          <p:cNvSpPr/>
          <p:nvPr/>
        </p:nvSpPr>
        <p:spPr>
          <a:xfrm>
            <a:off x="250920" y="3357720"/>
            <a:ext cx="1836720" cy="79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тороны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держ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21"/>
          <p:cNvSpPr/>
          <p:nvPr/>
        </p:nvSpPr>
        <p:spPr>
          <a:xfrm>
            <a:off x="1835280" y="44280"/>
            <a:ext cx="5184720" cy="11257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35280" y="-1800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рудовое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216000" y="1846440"/>
            <a:ext cx="248436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рудов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ого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6518160" y="1701720"/>
            <a:ext cx="2374920" cy="93528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плата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3421080" y="1773360"/>
            <a:ext cx="237492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ремя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отды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6732720" y="278136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H="1">
            <a:off x="250920" y="981000"/>
            <a:ext cx="194472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 flipH="1">
            <a:off x="1834920" y="1052640"/>
            <a:ext cx="936360" cy="792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5651640" y="1268280"/>
            <a:ext cx="288720" cy="100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H="1">
            <a:off x="2842920" y="1268280"/>
            <a:ext cx="64908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>
            <a:off x="3203280" y="1266840"/>
            <a:ext cx="431640" cy="938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>
            <a:off x="5724360" y="1197000"/>
            <a:ext cx="57636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>
            <a:off x="7093080" y="836640"/>
            <a:ext cx="158256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9"/>
          <p:cNvSpPr/>
          <p:nvPr/>
        </p:nvSpPr>
        <p:spPr>
          <a:xfrm>
            <a:off x="6588000" y="907920"/>
            <a:ext cx="1079640" cy="792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20"/>
          <p:cNvSpPr/>
          <p:nvPr/>
        </p:nvSpPr>
        <p:spPr>
          <a:xfrm>
            <a:off x="4572000" y="1197000"/>
            <a:ext cx="0" cy="576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4"/>
          <p:cNvSpPr/>
          <p:nvPr/>
        </p:nvSpPr>
        <p:spPr>
          <a:xfrm>
            <a:off x="252360" y="4508640"/>
            <a:ext cx="1655640" cy="79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5"/>
          <p:cNvSpPr/>
          <p:nvPr/>
        </p:nvSpPr>
        <p:spPr>
          <a:xfrm>
            <a:off x="324000" y="5734080"/>
            <a:ext cx="1655640" cy="57456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рок Т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6"/>
          <p:cNvSpPr/>
          <p:nvPr/>
        </p:nvSpPr>
        <p:spPr>
          <a:xfrm>
            <a:off x="3203640" y="2997360"/>
            <a:ext cx="244800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одолжитель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27"/>
          <p:cNvSpPr/>
          <p:nvPr/>
        </p:nvSpPr>
        <p:spPr>
          <a:xfrm>
            <a:off x="3203640" y="3787920"/>
            <a:ext cx="2376360" cy="64908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епол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бочий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3203640" y="4581360"/>
            <a:ext cx="2448000" cy="71928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ерерывы д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тдыха и 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0"/>
          <p:cNvSpPr/>
          <p:nvPr/>
        </p:nvSpPr>
        <p:spPr>
          <a:xfrm>
            <a:off x="3203640" y="5445000"/>
            <a:ext cx="2520720" cy="43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бщий выходной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1"/>
          <p:cNvSpPr/>
          <p:nvPr/>
        </p:nvSpPr>
        <p:spPr>
          <a:xfrm>
            <a:off x="3203640" y="6021360"/>
            <a:ext cx="2520720" cy="43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аздничные д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6300720" y="5589720"/>
            <a:ext cx="259236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инимальный разм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латы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34"/>
          <p:cNvSpPr/>
          <p:nvPr/>
        </p:nvSpPr>
        <p:spPr>
          <a:xfrm>
            <a:off x="6373800" y="4510080"/>
            <a:ext cx="251928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лата работы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аздничные д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6373800" y="3284640"/>
            <a:ext cx="251928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роки выпла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работной пл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4498920" y="115920"/>
            <a:ext cx="4321080" cy="2421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144360" y="907920"/>
            <a:ext cx="3996000" cy="244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52000" y="907920"/>
            <a:ext cx="4032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уществен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емей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рудовые и проч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ажданское 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удовое прав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Picture 5" descr="j0178279"/>
          <p:cNvPicPr/>
          <p:nvPr/>
        </p:nvPicPr>
        <p:blipFill>
          <a:blip r:embed="rId1"/>
          <a:stretch/>
        </p:blipFill>
        <p:spPr>
          <a:xfrm>
            <a:off x="34920" y="-2700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4573440" y="73080"/>
            <a:ext cx="44625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4427640" y="2495520"/>
            <a:ext cx="45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ача и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роки рассмот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ава ист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ава ответчи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рядок рассмотрения дела и п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ажданско-процессуальное пра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оловно-процессуальное прав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4788000" y="765000"/>
            <a:ext cx="3816360" cy="547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79280" y="1989000"/>
            <a:ext cx="4176720" cy="3240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714560" y="907920"/>
            <a:ext cx="4321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Частное прав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ъединяет правовые нормы  и отношения, регулирующие негосударственную деятельность,  т.е. представля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частный интерес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ущественные отношения между гражданам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емейные отноше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тношения между организациями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Picture 5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250920" y="1989000"/>
            <a:ext cx="4321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то правовые нормы, регулирующие государственную деятельность, т.е. отношения, выражающие государственный интерес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6"/>
          <p:cNvSpPr txBox="1"/>
          <p:nvPr/>
        </p:nvSpPr>
        <p:spPr>
          <a:xfrm rot="19952400">
            <a:off x="0" y="2205000"/>
            <a:ext cx="872496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всем!!!</a:t>
            </a:r>
            <a:endParaRPr b="0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j0178279"/>
          <p:cNvPicPr/>
          <p:nvPr/>
        </p:nvPicPr>
        <p:blipFill>
          <a:blip r:embed="rId1"/>
          <a:stretch/>
        </p:blipFill>
        <p:spPr>
          <a:xfrm>
            <a:off x="-36360" y="-2700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195640" y="69228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0" y="1579680"/>
            <a:ext cx="9144000" cy="50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онятие нормы права. Признаки: общеобязанность, формальная определенность, связь с государством, представительно-обязывающий характер. Структура правовой нор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истема норм права: частное и публичное право, материальное и процессуальное право. Отрасли пра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равовая система: понятие, элементы. Правовые семьи: романо-германская, англосаксонская, религиозная, традиционн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04_1"/>
          <p:cNvPicPr/>
          <p:nvPr/>
        </p:nvPicPr>
        <p:blipFill>
          <a:blip r:embed="rId2"/>
          <a:stretch/>
        </p:blipFill>
        <p:spPr>
          <a:xfrm>
            <a:off x="1979640" y="119160"/>
            <a:ext cx="5086440" cy="3814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Bus_big"/>
          <p:cNvPicPr/>
          <p:nvPr/>
        </p:nvPicPr>
        <p:blipFill>
          <a:blip r:embed="rId3"/>
          <a:stretch/>
        </p:blipFill>
        <p:spPr>
          <a:xfrm>
            <a:off x="142920" y="2781360"/>
            <a:ext cx="5292720" cy="2585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Mercedes_o345_Conecto_C_abb"/>
          <p:cNvPicPr/>
          <p:nvPr/>
        </p:nvPicPr>
        <p:blipFill>
          <a:blip r:embed="rId4"/>
          <a:stretch/>
        </p:blipFill>
        <p:spPr>
          <a:xfrm>
            <a:off x="4356000" y="371628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539640" y="59500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Прик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392200" y="3524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643880" cy="14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4470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572000" y="177336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24000" y="17938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450864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К РФ п.1 Ст. 2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00720" y="450864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.1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Ст. 5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24000" y="980640"/>
            <a:ext cx="482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0" y="7776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5148360" y="1052640"/>
            <a:ext cx="3671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-324000" y="4797360"/>
            <a:ext cx="94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0" y="321300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ГК РФ п. 2 Ст. 20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716360" y="2852640"/>
            <a:ext cx="44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К РФ п. 1 Ст. 3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0" y="558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2268360" y="4762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116000" y="0"/>
            <a:ext cx="71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5005080" y="31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765000"/>
          <a:ext cx="8218440" cy="5904000"/>
        </p:xfrm>
        <a:graphic>
          <a:graphicData uri="http://schemas.openxmlformats.org/drawingml/2006/table">
            <a:tbl>
              <a:tblPr/>
              <a:tblGrid>
                <a:gridCol w="4114800"/>
                <a:gridCol w="4103640"/>
              </a:tblGrid>
              <a:tr h="29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 Box 26"/>
          <p:cNvSpPr/>
          <p:nvPr/>
        </p:nvSpPr>
        <p:spPr>
          <a:xfrm>
            <a:off x="468360" y="85896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539640" y="414972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826920" y="4292640"/>
            <a:ext cx="36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468360" y="4292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539640" y="3429000"/>
            <a:ext cx="397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4643280" y="1413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788000" y="141300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4716360" y="86832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7"/>
          <p:cNvSpPr/>
          <p:nvPr/>
        </p:nvSpPr>
        <p:spPr>
          <a:xfrm>
            <a:off x="4643280" y="24210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8"/>
          <p:cNvSpPr/>
          <p:nvPr/>
        </p:nvSpPr>
        <p:spPr>
          <a:xfrm>
            <a:off x="4643280" y="551664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49"/>
          <p:cNvSpPr/>
          <p:nvPr/>
        </p:nvSpPr>
        <p:spPr>
          <a:xfrm>
            <a:off x="4500720" y="4365720"/>
            <a:ext cx="435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468360" y="5445000"/>
            <a:ext cx="7775640" cy="1079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труктура правовой нор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96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условия,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и которых возникают права 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Диспозиц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сами права 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анкц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неблагоприятные последствия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аступающие при нарушении нор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79280" y="3284640"/>
            <a:ext cx="92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50920" y="3213000"/>
            <a:ext cx="86421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оговор о залоге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олжен быть совершен в письменной форм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Несоблюдение правил… настоящей статьи,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лечет недействительность договора о залоге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»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(ГК РФ п. 2,4 Ст. 33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987640" y="31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132000" y="35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516720" y="422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С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250920" y="5229360"/>
            <a:ext cx="69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468360" y="5373720"/>
            <a:ext cx="8316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бщая модел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«Если…, то…, а в противном случае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1258920" y="1125360"/>
            <a:ext cx="63514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оговор о залог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олжен быть совершен в письменной форме.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Несоблюдение правил… настоящей статьи,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влечет недействительность договора о залог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» (ГК РФ п. 2,4 Ст. 33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55:13Z</dcterms:created>
  <dc:creator>User</dc:creator>
  <dc:description/>
  <dc:language>en-US</dc:language>
  <cp:lastModifiedBy>LEGION</cp:lastModifiedBy>
  <dcterms:modified xsi:type="dcterms:W3CDTF">2015-01-28T08:25:49Z</dcterms:modified>
  <cp:revision>37</cp:revision>
  <dc:subject/>
  <dc:title>Норма права</dc:title>
</cp:coreProperties>
</file>