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0.jpeg" ContentType="image/jpe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01E2-2BFA-48B0-9BF3-91857B2A33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какому принципу правовые понятия разделены цвет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онституцио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6C00-828D-489A-A914-C1C78877513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отрасли права и правовые ин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8288-2087-432F-AF1F-26F8536BEB5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Georgia"/>
              </a:rPr>
              <a:t>Система права характеризу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18A4-C697-45EF-B1F2-4649AA10597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отрасль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институт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Какой это элемент структур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0DFB-17A4-47E7-A0A8-A71FC920CFD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DAC9-E32B-4111-B4E4-40BDA3E9BED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1f497d"/>
                </a:solidFill>
                <a:uFillTx/>
                <a:latin typeface="Times New Roman"/>
              </a:rPr>
              <a:t>Норма прав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3A98-41F8-4345-9423-CDA2DC0652C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дей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E46-BF20-4B3C-AD68-FBEE5313B71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Вступают в силу через 10 д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с момента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(публикуются через 7 дней с момента принят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D313-AA4B-4796-A2AF-E4EEE99BE13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Действуют на терри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государства(земля воды, нед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посольства, корабли в море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Распространяется на всех адресатов в рам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территориальной сферы действия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AFBD-F409-4C54-98CF-61A78127E1F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основной посыл, в каждой из предложенных правовых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пределенные положительн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в норме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держащихся в норме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юридически не обязаны соверш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AD4B-B039-4F92-87B2-5D13A917D28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0400-F682-41AC-9141-DC446765942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0D70-7393-4BC7-B296-B200B5DC158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норм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FF9E-CCA2-4D56-B483-055709AADAC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1400" spc="-1" strike="noStrike">
                <a:solidFill>
                  <a:srgbClr val="e20c2b"/>
                </a:solidFill>
                <a:latin typeface="Calibri"/>
              </a:rPr>
              <a:t>функци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42AE-48E5-4532-A965-4B1E66C5BF5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(В.Соловьев, русский филосо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6960-FB47-4A55-AB07-0D14AE9CBFA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40B6-651E-4CA3-8910-3DCC0B3F70C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952F-5893-4585-9EB9-6E6621E6F5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Норма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E505-DEA8-490F-853C-B0FCBBE8393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свободу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вая система государ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– высшая справедлив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E245-4675-400E-A27A-8E4BE48BCD7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9A2A-5630-4575-BB47-6702C0236CF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истема - цел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0C3A-78A9-46D0-968F-8ACA6F13439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отнесит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овите пропущенный терм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?                                          Правоотно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5EFB-BB13-42BD-A97C-4D9B377DFEC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87C5-B2BC-4306-9711-33C97087118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2E8-65E4-47A0-A362-F36B0F12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32A-47CF-4A02-90B4-CB6FA339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464-4334-45A7-B130-1CCF0387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DC5-B137-4CC3-8F19-E9036B31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2A71-E5A1-4266-84FE-813F60A5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3D16-4B21-47BE-87FD-3681DB1D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70C5-CD00-4C1B-9263-A3001455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7C7A-4711-4F59-BDB1-BD80059C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2315-979C-4428-B292-0E086A8E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A547-B3D6-40F7-A29E-F20A0973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9996-3D71-4278-9B75-C1B759A3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5B2-04D4-43FE-989D-55BFFB19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AF3C-B2A9-4B14-B104-BAC64C60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2160-FB2E-4DF9-8B71-4D3EDAD9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9466-C1B1-4734-9895-A2360CAB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1996-7010-4514-938C-098824BB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5CD2-65B1-47FF-B2E3-2AAE97BC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F91-DA5E-4925-BC73-3AD6DA45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95B-A7D1-4257-8E9F-C694B75F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D2E-8A14-46A9-AD34-B719C848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6E4-07B1-4B89-A44B-7C234282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334-8187-420D-8460-CCABF71B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CE3-7966-4B58-AC7D-E9B56F71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B51-135D-4D0B-873E-50F64692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9116-649D-42AA-8E80-78338022AD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8728-CA91-4FEB-8D8C-6C67851350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BARISTR6"/>
          <p:cNvPicPr/>
          <p:nvPr/>
        </p:nvPicPr>
        <p:blipFill>
          <a:blip r:embed="rId1"/>
          <a:stretch/>
        </p:blipFill>
        <p:spPr>
          <a:xfrm>
            <a:off x="1692360" y="255600"/>
            <a:ext cx="5789520" cy="6213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 какому принципу правовые понятия разделены цветом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гражданск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конституцион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семей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административ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57120" y="4437000"/>
            <a:ext cx="844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a29e"/>
                </a:solidFill>
                <a:uFillTx/>
                <a:latin typeface="Georgia"/>
              </a:rPr>
              <a:t>Институт прав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обособленные групп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авовых норм, регулирующ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днородные обществен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ношения, но более мелкие, чем отрасл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ходят в соответствующие отрасли пр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Соотнесите отрасли права и правовые институт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4122720"/>
                <a:gridCol w="41068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Отрасль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Институт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он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й до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ля-прод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служ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ое пра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атический стат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Line 79"/>
          <p:cNvSpPr/>
          <p:nvPr/>
        </p:nvSpPr>
        <p:spPr>
          <a:xfrm>
            <a:off x="3419640" y="2637000"/>
            <a:ext cx="2160360" cy="2160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0"/>
          <p:cNvSpPr/>
          <p:nvPr/>
        </p:nvSpPr>
        <p:spPr>
          <a:xfrm>
            <a:off x="2916360" y="3357720"/>
            <a:ext cx="367164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82"/>
          <p:cNvSpPr/>
          <p:nvPr/>
        </p:nvSpPr>
        <p:spPr>
          <a:xfrm flipV="1">
            <a:off x="2484360" y="2565360"/>
            <a:ext cx="4032360" cy="151128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83"/>
          <p:cNvSpPr/>
          <p:nvPr/>
        </p:nvSpPr>
        <p:spPr>
          <a:xfrm flipV="1">
            <a:off x="3564000" y="4076280"/>
            <a:ext cx="3456000" cy="792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84"/>
          <p:cNvSpPr/>
          <p:nvPr/>
        </p:nvSpPr>
        <p:spPr>
          <a:xfrm>
            <a:off x="3276720" y="5589720"/>
            <a:ext cx="230328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27" name="Organization Chart 4"/>
          <p:cNvGrpSpPr/>
          <p:nvPr/>
        </p:nvGrpSpPr>
        <p:grpSpPr>
          <a:xfrm>
            <a:off x="395280" y="1268280"/>
            <a:ext cx="8229600" cy="2116080"/>
            <a:chOff x="395280" y="1268280"/>
            <a:chExt cx="8229600" cy="2116080"/>
          </a:xfrm>
        </p:grpSpPr>
        <p:cxnSp>
          <p:nvCxnSpPr>
            <p:cNvPr id="228" name="_s2052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738040" y="88524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2053"/>
            <p:cNvCxnSpPr>
              <a:stCxn id="232" idx="0"/>
              <a:endCxn id="230" idx="2"/>
            </p:cNvCxnSpPr>
            <p:nvPr/>
          </p:nvCxnSpPr>
          <p:spPr>
            <a:xfrm flipV="1">
              <a:off x="4510080" y="2113920"/>
              <a:ext cx="1440" cy="42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2054"/>
            <p:cNvCxnSpPr>
              <a:stCxn id="234" idx="0"/>
              <a:endCxn id="230" idx="2"/>
            </p:cNvCxnSpPr>
            <p:nvPr/>
          </p:nvCxnSpPr>
          <p:spPr>
            <a:xfrm flipH="1" flipV="1" rot="5400000">
              <a:off x="2857320" y="88560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0" name="_s2055"/>
            <p:cNvSpPr/>
            <p:nvPr/>
          </p:nvSpPr>
          <p:spPr>
            <a:xfrm>
              <a:off x="3275280" y="126828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5498f"/>
                  </a:solidFill>
                  <a:latin typeface="Times New Roman"/>
                </a:rPr>
                <a:t>Система прав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2056"/>
            <p:cNvSpPr/>
            <p:nvPr/>
          </p:nvSpPr>
          <p:spPr>
            <a:xfrm>
              <a:off x="39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ормы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2057"/>
            <p:cNvSpPr/>
            <p:nvPr/>
          </p:nvSpPr>
          <p:spPr>
            <a:xfrm>
              <a:off x="327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2058"/>
            <p:cNvSpPr/>
            <p:nvPr/>
          </p:nvSpPr>
          <p:spPr>
            <a:xfrm>
              <a:off x="615600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Text Box 14"/>
          <p:cNvSpPr/>
          <p:nvPr/>
        </p:nvSpPr>
        <p:spPr>
          <a:xfrm>
            <a:off x="347760" y="3716280"/>
            <a:ext cx="8253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498f"/>
                </a:solidFill>
                <a:latin typeface="Georgia"/>
              </a:rPr>
              <a:t>Система права характеризу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отрасль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институт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Какой это элемент структуры права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a29e"/>
                </a:solidFill>
                <a:latin typeface="Arial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00a29e"/>
                </a:solidFill>
                <a:uFillTx/>
                <a:latin typeface="Times New Roman"/>
              </a:rPr>
              <a:t>Норма пра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равовые нормы действуют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376560" y="1484280"/>
            <a:ext cx="2826360" cy="2360520"/>
            <a:chOff x="376560" y="1484280"/>
            <a:chExt cx="2826360" cy="2360520"/>
          </a:xfrm>
        </p:grpSpPr>
        <p:pic>
          <p:nvPicPr>
            <p:cNvPr id="246" name="Picture 6" descr="j0208950"/>
            <p:cNvPicPr/>
            <p:nvPr/>
          </p:nvPicPr>
          <p:blipFill>
            <a:blip r:embed="rId1"/>
            <a:stretch/>
          </p:blipFill>
          <p:spPr>
            <a:xfrm>
              <a:off x="1285200" y="1484280"/>
              <a:ext cx="1917720" cy="20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7"/>
            <p:cNvSpPr/>
            <p:nvPr/>
          </p:nvSpPr>
          <p:spPr>
            <a:xfrm>
              <a:off x="376560" y="338508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о времен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621880" y="3789360"/>
            <a:ext cx="2759040" cy="2166120"/>
            <a:chOff x="2621880" y="3789360"/>
            <a:chExt cx="2759040" cy="2166120"/>
          </a:xfrm>
        </p:grpSpPr>
        <p:pic>
          <p:nvPicPr>
            <p:cNvPr id="249" name="Picture 9" descr="j0189205"/>
            <p:cNvPicPr/>
            <p:nvPr/>
          </p:nvPicPr>
          <p:blipFill>
            <a:blip r:embed="rId2"/>
            <a:stretch/>
          </p:blipFill>
          <p:spPr>
            <a:xfrm>
              <a:off x="3732840" y="3789360"/>
              <a:ext cx="1648080" cy="16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10"/>
            <p:cNvSpPr/>
            <p:nvPr/>
          </p:nvSpPr>
          <p:spPr>
            <a:xfrm>
              <a:off x="2621880" y="5495760"/>
              <a:ext cx="26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 пространств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1" name="Picture 14" descr="CBIZ175"/>
          <p:cNvPicPr/>
          <p:nvPr/>
        </p:nvPicPr>
        <p:blipFill>
          <a:blip r:embed="rId3"/>
          <a:stretch/>
        </p:blipFill>
        <p:spPr>
          <a:xfrm>
            <a:off x="6300720" y="1413000"/>
            <a:ext cx="2448000" cy="2103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6"/>
          <p:cNvSpPr/>
          <p:nvPr/>
        </p:nvSpPr>
        <p:spPr>
          <a:xfrm>
            <a:off x="6230520" y="3573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кругу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"/>
          <p:cNvGrpSpPr/>
          <p:nvPr/>
        </p:nvGrpSpPr>
        <p:grpSpPr>
          <a:xfrm>
            <a:off x="179280" y="836640"/>
            <a:ext cx="1548000" cy="1727280"/>
            <a:chOff x="179280" y="836640"/>
            <a:chExt cx="1548000" cy="1727280"/>
          </a:xfrm>
        </p:grpSpPr>
        <p:pic>
          <p:nvPicPr>
            <p:cNvPr id="255" name="Picture 4" descr="j0208950"/>
            <p:cNvPicPr/>
            <p:nvPr/>
          </p:nvPicPr>
          <p:blipFill>
            <a:blip r:embed="rId1"/>
            <a:stretch/>
          </p:blipFill>
          <p:spPr>
            <a:xfrm>
              <a:off x="669960" y="836640"/>
              <a:ext cx="10573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"/>
            <p:cNvSpPr/>
            <p:nvPr/>
          </p:nvSpPr>
          <p:spPr>
            <a:xfrm>
              <a:off x="179280" y="2106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6"/>
          <p:cNvGrpSpPr/>
          <p:nvPr/>
        </p:nvGrpSpPr>
        <p:grpSpPr>
          <a:xfrm>
            <a:off x="1763640" y="863640"/>
            <a:ext cx="7178760" cy="1557000"/>
            <a:chOff x="1763640" y="863640"/>
            <a:chExt cx="7178760" cy="1557000"/>
          </a:xfrm>
        </p:grpSpPr>
        <p:sp>
          <p:nvSpPr>
            <p:cNvPr id="258" name="Text Box 7"/>
            <p:cNvSpPr/>
            <p:nvPr/>
          </p:nvSpPr>
          <p:spPr>
            <a:xfrm>
              <a:off x="2450880" y="863640"/>
              <a:ext cx="649152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Вступают в силу через 10 дней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с момента публикаци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(публикуются через 7 дней с момента принятия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>
              <a:off x="1763640" y="167796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9"/>
          <p:cNvGrpSpPr/>
          <p:nvPr/>
        </p:nvGrpSpPr>
        <p:grpSpPr>
          <a:xfrm>
            <a:off x="2520" y="2565360"/>
            <a:ext cx="2745720" cy="2430360"/>
            <a:chOff x="2520" y="2565360"/>
            <a:chExt cx="2745720" cy="2430360"/>
          </a:xfrm>
        </p:grpSpPr>
        <p:grpSp>
          <p:nvGrpSpPr>
            <p:cNvPr id="261" name="Group 10"/>
            <p:cNvGrpSpPr/>
            <p:nvPr/>
          </p:nvGrpSpPr>
          <p:grpSpPr>
            <a:xfrm>
              <a:off x="2520" y="3017880"/>
              <a:ext cx="2745720" cy="1977840"/>
              <a:chOff x="2520" y="3017880"/>
              <a:chExt cx="2745720" cy="1977840"/>
            </a:xfrm>
          </p:grpSpPr>
          <p:pic>
            <p:nvPicPr>
              <p:cNvPr id="262" name="Picture 11" descr="j0219100"/>
              <p:cNvPicPr/>
              <p:nvPr/>
            </p:nvPicPr>
            <p:blipFill>
              <a:blip r:embed="rId3"/>
              <a:stretch/>
            </p:blipFill>
            <p:spPr>
              <a:xfrm>
                <a:off x="803160" y="3017880"/>
                <a:ext cx="1143000" cy="12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12"/>
              <p:cNvSpPr/>
              <p:nvPr/>
            </p:nvSpPr>
            <p:spPr>
              <a:xfrm>
                <a:off x="2520" y="417024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ожет указываться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нкретная дата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4" name="Line 13"/>
            <p:cNvSpPr/>
            <p:nvPr/>
          </p:nvSpPr>
          <p:spPr>
            <a:xfrm>
              <a:off x="1223640" y="25653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6123600" y="4292640"/>
            <a:ext cx="30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момента полу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т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1979640" y="2276640"/>
            <a:ext cx="6564240" cy="1718640"/>
            <a:chOff x="1979640" y="2276640"/>
            <a:chExt cx="6564240" cy="1718640"/>
          </a:xfrm>
        </p:grpSpPr>
        <p:pic>
          <p:nvPicPr>
            <p:cNvPr id="267" name="Picture 21" descr="j0336340"/>
            <p:cNvPicPr/>
            <p:nvPr/>
          </p:nvPicPr>
          <p:blipFill>
            <a:blip r:embed="rId4"/>
            <a:stretch/>
          </p:blipFill>
          <p:spPr>
            <a:xfrm>
              <a:off x="6961320" y="2860560"/>
              <a:ext cx="1582560" cy="11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Line 22"/>
            <p:cNvSpPr/>
            <p:nvPr/>
          </p:nvSpPr>
          <p:spPr>
            <a:xfrm>
              <a:off x="1979640" y="2276640"/>
              <a:ext cx="5040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о време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70" name="Group 26"/>
          <p:cNvGrpSpPr/>
          <p:nvPr/>
        </p:nvGrpSpPr>
        <p:grpSpPr>
          <a:xfrm>
            <a:off x="2946240" y="3068640"/>
            <a:ext cx="3109680" cy="2224440"/>
            <a:chOff x="2946240" y="3068640"/>
            <a:chExt cx="3109680" cy="2224440"/>
          </a:xfrm>
        </p:grpSpPr>
        <p:pic>
          <p:nvPicPr>
            <p:cNvPr id="271" name="Picture 27" descr="j0239293"/>
            <p:cNvPicPr/>
            <p:nvPr/>
          </p:nvPicPr>
          <p:blipFill>
            <a:blip r:embed="rId5"/>
            <a:stretch/>
          </p:blipFill>
          <p:spPr>
            <a:xfrm>
              <a:off x="3811320" y="3068640"/>
              <a:ext cx="140832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28"/>
            <p:cNvSpPr/>
            <p:nvPr/>
          </p:nvSpPr>
          <p:spPr>
            <a:xfrm>
              <a:off x="2946240" y="4101840"/>
              <a:ext cx="31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кты правительства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момента подпис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если не указано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" name="Line 29"/>
          <p:cNvSpPr/>
          <p:nvPr/>
        </p:nvSpPr>
        <p:spPr>
          <a:xfrm>
            <a:off x="1619280" y="2563920"/>
            <a:ext cx="21607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-324000" y="836640"/>
            <a:ext cx="1909800" cy="1620720"/>
            <a:chOff x="-324000" y="836640"/>
            <a:chExt cx="1909800" cy="1620720"/>
          </a:xfrm>
        </p:grpSpPr>
        <p:pic>
          <p:nvPicPr>
            <p:cNvPr id="276" name="Picture 4" descr="j0189205"/>
            <p:cNvPicPr/>
            <p:nvPr/>
          </p:nvPicPr>
          <p:blipFill>
            <a:blip r:embed="rId1"/>
            <a:stretch/>
          </p:blipFill>
          <p:spPr>
            <a:xfrm>
              <a:off x="442800" y="836640"/>
              <a:ext cx="1143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-324000" y="200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8" name="Group 6"/>
          <p:cNvGrpSpPr/>
          <p:nvPr/>
        </p:nvGrpSpPr>
        <p:grpSpPr>
          <a:xfrm>
            <a:off x="1763640" y="836640"/>
            <a:ext cx="7122240" cy="1260720"/>
            <a:chOff x="1763640" y="836640"/>
            <a:chExt cx="7122240" cy="1260720"/>
          </a:xfrm>
        </p:grpSpPr>
        <p:grpSp>
          <p:nvGrpSpPr>
            <p:cNvPr id="279" name="Group 7"/>
            <p:cNvGrpSpPr/>
            <p:nvPr/>
          </p:nvGrpSpPr>
          <p:grpSpPr>
            <a:xfrm>
              <a:off x="2690280" y="836640"/>
              <a:ext cx="6195600" cy="1260720"/>
              <a:chOff x="2690280" y="836640"/>
              <a:chExt cx="6195600" cy="1260720"/>
            </a:xfrm>
          </p:grpSpPr>
          <p:pic>
            <p:nvPicPr>
              <p:cNvPr id="280" name="Picture 8" descr="j0215232"/>
              <p:cNvPicPr/>
              <p:nvPr/>
            </p:nvPicPr>
            <p:blipFill>
              <a:blip r:embed="rId2"/>
              <a:stretch/>
            </p:blipFill>
            <p:spPr>
              <a:xfrm>
                <a:off x="2690280" y="997200"/>
                <a:ext cx="1312920" cy="11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 Box 9"/>
              <p:cNvSpPr/>
              <p:nvPr/>
            </p:nvSpPr>
            <p:spPr>
              <a:xfrm>
                <a:off x="4044600" y="836640"/>
                <a:ext cx="484128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Действуют на территории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государства(земля воды, недра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посольства, корабли в море и др.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2" name="Line 10"/>
            <p:cNvSpPr/>
            <p:nvPr/>
          </p:nvSpPr>
          <p:spPr>
            <a:xfrm>
              <a:off x="1763640" y="144792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 пространстве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771640" y="2492280"/>
            <a:ext cx="34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 кругу лиц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2195640" y="3500280"/>
            <a:ext cx="6696000" cy="1191240"/>
            <a:chOff x="2195640" y="3500280"/>
            <a:chExt cx="6696000" cy="1191240"/>
          </a:xfrm>
        </p:grpSpPr>
        <p:sp>
          <p:nvSpPr>
            <p:cNvPr id="286" name="Text Box 22"/>
            <p:cNvSpPr/>
            <p:nvPr/>
          </p:nvSpPr>
          <p:spPr>
            <a:xfrm>
              <a:off x="2813040" y="3500280"/>
              <a:ext cx="6078600" cy="119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Распространяется на всех адресатов в рамка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территориальной сферы действия акт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>
              <a:off x="2195640" y="413208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8" name="Picture 24" descr="CBIZ175"/>
          <p:cNvPicPr/>
          <p:nvPr/>
        </p:nvPicPr>
        <p:blipFill>
          <a:blip r:embed="rId5"/>
          <a:stretch/>
        </p:blipFill>
        <p:spPr>
          <a:xfrm>
            <a:off x="179280" y="3284640"/>
            <a:ext cx="2124360" cy="182556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ов основной посыл, в каждой из предложенных правовых норм?</a:t>
            </a:r>
            <a:endParaRPr b="0" lang="en-US" sz="2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-162720" y="692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-156240" y="1773360"/>
            <a:ext cx="91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-164160" y="3500280"/>
            <a:ext cx="895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-71640" y="4941720"/>
            <a:ext cx="911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59360" y="907920"/>
            <a:ext cx="66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пределенные положительные действ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459720" y="2205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в норме действ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672480" y="3860640"/>
            <a:ext cx="733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содержащихся в норме действ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748800" y="5229360"/>
            <a:ext cx="647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юридически не обязаны соверш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труктура нормы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924200" y="5950080"/>
            <a:ext cx="56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0c2b"/>
                </a:solidFill>
                <a:latin typeface="Georgia"/>
              </a:rPr>
              <a:t>«Если… то… иначе».</a:t>
            </a:r>
            <a:r>
              <a:rPr b="1" lang="ru-RU" sz="1800" spc="-1" strike="noStrike">
                <a:solidFill>
                  <a:srgbClr val="e20c2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3200" spc="-1" strike="noStrike">
                <a:solidFill>
                  <a:srgbClr val="e20c2b"/>
                </a:solidFill>
                <a:latin typeface="Arial"/>
              </a:rPr>
              <a:t>функции права</a:t>
            </a: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(В.Соловьев, русский философ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Философия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5498f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Picture 4" descr="BARISTR5"/>
          <p:cNvPicPr/>
          <p:nvPr/>
        </p:nvPicPr>
        <p:blipFill>
          <a:blip r:embed="rId1"/>
          <a:stretch/>
        </p:blipFill>
        <p:spPr>
          <a:xfrm>
            <a:off x="6230880" y="765000"/>
            <a:ext cx="2719440" cy="547236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. Норма права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4360" y="1773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79960" y="1409760"/>
            <a:ext cx="82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уважени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99760" y="2349360"/>
            <a:ext cx="77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свободу совест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1920" y="3645000"/>
            <a:ext cx="78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вая система государств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2080" y="5300640"/>
            <a:ext cx="84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– высшая справедливост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Признаки права</a:t>
            </a: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истема - целое,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Соотнесите. </a:t>
            </a:r>
            <a:br>
              <a:rPr sz="3600"/>
            </a:b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Назовите пропущенный термин.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?                                          Правоотнош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268360" y="2708280"/>
            <a:ext cx="1656000" cy="288144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979640" y="2707920"/>
            <a:ext cx="2016000" cy="865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835280" y="3573360"/>
            <a:ext cx="2160360" cy="7192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1908000" y="4292280"/>
            <a:ext cx="2016360" cy="649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2916360" y="4941720"/>
            <a:ext cx="1079280" cy="64800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81080" y="14335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5498f"/>
                </a:solidFill>
                <a:latin typeface="Times New Roman"/>
              </a:rPr>
              <a:t>Отрасль 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193" name="Diagram 4"/>
          <p:cNvGrpSpPr/>
          <p:nvPr/>
        </p:nvGrpSpPr>
        <p:grpSpPr>
          <a:xfrm>
            <a:off x="683640" y="1700280"/>
            <a:ext cx="7776000" cy="4897440"/>
            <a:chOff x="683640" y="1700280"/>
            <a:chExt cx="7776000" cy="4897440"/>
          </a:xfrm>
        </p:grpSpPr>
        <p:sp>
          <p:nvSpPr>
            <p:cNvPr id="194" name="_s1028"/>
            <p:cNvSpPr/>
            <p:nvPr/>
          </p:nvSpPr>
          <p:spPr>
            <a:xfrm flipV="1">
              <a:off x="4500720" y="2637000"/>
              <a:ext cx="720" cy="124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1029"/>
            <p:cNvSpPr/>
            <p:nvPr/>
          </p:nvSpPr>
          <p:spPr>
            <a:xfrm>
              <a:off x="3276000" y="1700280"/>
              <a:ext cx="2521080" cy="106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Конституцион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_s1030"/>
            <p:cNvSpPr/>
            <p:nvPr/>
          </p:nvSpPr>
          <p:spPr>
            <a:xfrm flipV="1">
              <a:off x="4933800" y="3069000"/>
              <a:ext cx="861840" cy="80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1031"/>
            <p:cNvSpPr/>
            <p:nvPr/>
          </p:nvSpPr>
          <p:spPr>
            <a:xfrm>
              <a:off x="5436000" y="2421000"/>
              <a:ext cx="2647440" cy="9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Административ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1032"/>
            <p:cNvSpPr/>
            <p:nvPr/>
          </p:nvSpPr>
          <p:spPr>
            <a:xfrm flipV="1">
              <a:off x="5160600" y="4076640"/>
              <a:ext cx="9950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_s1033"/>
            <p:cNvSpPr/>
            <p:nvPr/>
          </p:nvSpPr>
          <p:spPr>
            <a:xfrm>
              <a:off x="6084360" y="3500280"/>
              <a:ext cx="2375280" cy="97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Гражданск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5293080" y="4581720"/>
              <a:ext cx="91404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_s1035"/>
            <p:cNvSpPr/>
            <p:nvPr/>
          </p:nvSpPr>
          <p:spPr>
            <a:xfrm>
              <a:off x="5995800" y="4668840"/>
              <a:ext cx="2320920" cy="99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Финансов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_s1036"/>
            <p:cNvSpPr/>
            <p:nvPr/>
          </p:nvSpPr>
          <p:spPr>
            <a:xfrm>
              <a:off x="4737240" y="4877280"/>
              <a:ext cx="555480" cy="99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1037"/>
            <p:cNvSpPr/>
            <p:nvPr/>
          </p:nvSpPr>
          <p:spPr>
            <a:xfrm>
              <a:off x="4625640" y="5634360"/>
              <a:ext cx="2322360" cy="963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други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38"/>
            <p:cNvSpPr/>
            <p:nvPr/>
          </p:nvSpPr>
          <p:spPr>
            <a:xfrm flipH="1">
              <a:off x="3938400" y="4876560"/>
              <a:ext cx="346320" cy="82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9"/>
            <p:cNvSpPr/>
            <p:nvPr/>
          </p:nvSpPr>
          <p:spPr>
            <a:xfrm>
              <a:off x="2268360" y="5583600"/>
              <a:ext cx="2241720" cy="941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Международ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40"/>
            <p:cNvSpPr/>
            <p:nvPr/>
          </p:nvSpPr>
          <p:spPr>
            <a:xfrm flipH="1">
              <a:off x="3116520" y="4618440"/>
              <a:ext cx="821880" cy="42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41"/>
            <p:cNvSpPr/>
            <p:nvPr/>
          </p:nvSpPr>
          <p:spPr>
            <a:xfrm>
              <a:off x="900000" y="4748040"/>
              <a:ext cx="2304360" cy="91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Трудовое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42"/>
            <p:cNvSpPr/>
            <p:nvPr/>
          </p:nvSpPr>
          <p:spPr>
            <a:xfrm flipH="1" flipV="1">
              <a:off x="2924280" y="4077360"/>
              <a:ext cx="93564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43"/>
            <p:cNvSpPr/>
            <p:nvPr/>
          </p:nvSpPr>
          <p:spPr>
            <a:xfrm>
              <a:off x="683640" y="3500280"/>
              <a:ext cx="2251800" cy="1049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Семей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44"/>
            <p:cNvSpPr/>
            <p:nvPr/>
          </p:nvSpPr>
          <p:spPr>
            <a:xfrm flipH="1" flipV="1">
              <a:off x="3252600" y="3068280"/>
              <a:ext cx="833760" cy="80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45"/>
            <p:cNvSpPr/>
            <p:nvPr/>
          </p:nvSpPr>
          <p:spPr>
            <a:xfrm>
              <a:off x="1042920" y="2349360"/>
              <a:ext cx="2365200" cy="105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Уголов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46"/>
            <p:cNvSpPr/>
            <p:nvPr/>
          </p:nvSpPr>
          <p:spPr>
            <a:xfrm>
              <a:off x="3708360" y="3789000"/>
              <a:ext cx="1714320" cy="1175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Отрас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прав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20:44Z</dcterms:created>
  <dc:creator>Ольга</dc:creator>
  <dc:description/>
  <dc:language>en-US</dc:language>
  <cp:lastModifiedBy>LEGION</cp:lastModifiedBy>
  <dcterms:modified xsi:type="dcterms:W3CDTF">2015-01-28T08:27:15Z</dcterms:modified>
  <cp:revision>8</cp:revision>
  <dc:subject/>
  <dc:title>Разделите перечисленные ниже признаки норм поведения на две группы</dc:title>
</cp:coreProperties>
</file>