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11.wmf" ContentType="image/x-wmf"/>
  <Override PartName="/ppt/media/image4.wmf" ContentType="image/x-wmf"/>
  <Override PartName="/ppt/media/image5.jpeg" ContentType="image/jpeg"/>
  <Override PartName="/ppt/media/image6.gif" ContentType="image/gif"/>
  <Override PartName="/ppt/media/image9.wmf" ContentType="image/x-wmf"/>
  <Override PartName="/ppt/media/image10.jpeg" ContentType="image/jpeg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B09E-882E-4CAE-A1B5-8F5BF4B7350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 какому принципу правовые понятия разделены цветом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конституцион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насле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да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администрати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AF6F-47A3-4360-B7D3-6A530D9AEEA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есите отрасли права и правовые институ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5B11-A7EA-48F7-A9C6-AD2261E9585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Georgia"/>
              </a:rPr>
              <a:t>Система права характеризуетс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взаимозависимостью и связью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егулирует отношения вс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совокупностью юридических 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целостностью и согласова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4804-D8F7-4D71-AC44-AA3F98772B1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Georgia"/>
              </a:rPr>
              <a:t>Определите отрасль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Georgia"/>
              </a:rPr>
              <a:t>Определите институт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Georgia"/>
              </a:rPr>
              <a:t>Какой это элемент структуры пра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Работники обязаны работать честно и добросовестно, блюсти дисциплину труда, своевременно и точно исполнять распоряжения администрации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КЗОТ РФ, ст.1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За нарушения трудовой дисциплины администрация предприятия, учреждения, организации применяет следующие дисциплинарные взыск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меч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гов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огий выгов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вольнение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КЗОТ РФ, ст. 135)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D5C4-7E45-4465-A9DA-B24CA2D9610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пробуйте дать определение нормы права, ответив на 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 такое норм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ем установлена норм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 регулирует норм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ова степень обязательности норм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088B-3691-443B-9E95-67BBE40C805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1f497d"/>
                </a:solidFill>
                <a:uFillTx/>
                <a:latin typeface="Times New Roman"/>
              </a:rPr>
              <a:t>Норма прав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– признаваемое и обеспечиваемое государством, общеобязательное правило, из которого вытекают права и обязанности участников общественных отношений, чьи действия призвано регулировать данное правило в качестве образца, эталона, масштаба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DF14-0683-486D-97D3-73E29C00F74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нормы действу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5CD9-ED3A-43FF-859D-7FC9372B000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0080"/>
                </a:solidFill>
                <a:uFillTx/>
                <a:latin typeface="Times New Roman"/>
              </a:rPr>
              <a:t>Общее правил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Вступают в силу через 10 д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с момента пуб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(публикуются через 7 дней с момента принят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B8E9-180A-4A4E-89D6-A566E8F9054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Действуют на территор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государства(земля воды, недр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посольства, корабли в море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"/>
              </a:rPr>
              <a:t>По кругу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0080"/>
                </a:solidFill>
                <a:uFillTx/>
                <a:latin typeface="Times New Roman"/>
              </a:rPr>
              <a:t>Общее правил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Распространяется на всех адресатов в рам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территориальной сферы действия 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B1ED-37A8-4AF5-846D-E6837532693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в основной посыл, в каждой из предложенных правовых нор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татье 24 ГК РФ закреплено, что «гражданин отве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 своим обязательствам всем принадлежащим ему имущество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 исключением имущества на которое в соответствии с закон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может быть обращено взыска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т.13 Конституции РФ сказано: «запрещается создание и деяте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щественных объединений, цели или действия которых направл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насильственное изменение основ конституционного строя и наруш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остности РФ, подрыв безопасности государства, создание вооруже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й, разжигание социальной, расовой, национальной и религиоз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зн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т.32 СК РФ записано: «Супруги по своему желанию выбирают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лючении брака фамилию одного из них в качестве общей фамилии, либ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ждый из супругов сохраняет свою добрачную фамилию, либо, если иное 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усмотрено законами субъектов Российской Федерации, присоединя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своей фамилии фамилию другого супруг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т.28 ФЗ «О трудовых пенсиях в РФ» сказано: «трудовая пенсия по стар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значается ранее достижения возраста, установленного статьей 7 настоя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едерального закона, следующим граждан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енщинам, родившим пять и более детей и воспитавшим их до дост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ми возраста 8 лет, по достижении возраста 50 лет, если они име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аховой стаж не менее 15 л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Обязывающие – обязывают субъекта права соверш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определенные положительные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Запрещающие – предписывают воздержание от содерж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в норме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Управомочивающие – дозволяют или разрешают совер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содержащихся в норме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Поощрительные – направлены на стим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правомерной деятельности, такой, которую субъек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юридически не обязаны соверш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C6F3-2C82-4F15-97E9-43068AD3765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делите перечисленные ниже признаки норм поведения на две группы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ите название каждой из груп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уществует и действует как свод неписанных правил в виде поучений и притч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формулирует свои требования в абстрактной, абстрактно-всеобщей форм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формируются в письменном виде, как законы, указы, судебные решения, договоры и др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предлагают идеал человеческого поведения, нравственную цель, к которой должен стремиться каждый человек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совестью и давлением общественного мн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принудительными мерами со стороны государст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292E-CBD1-4139-9D66-C3014E309A7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В чем смысл данной правовой норм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Какие составные части вы могли бы выдели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Какие взаимоотношения она регулируе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Между кем и кем возникают данные правоотнош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Что следует за неисполнением условий, закрепленных в правовой норм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Работники обязаны работать честно добросовестно, блюсти дисциплину труда, своевременно и точно исполнять распоряжения администрации…» (КЗОТ РФ, ст.12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 нарушения трудовой дисциплины администрация предприятия, учреждения, организации применяет следующие дисциплинарные взыск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меч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гово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гий выгово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ольнение… (КЗОТ РФ, ст. 135)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75EC-426C-4924-A12C-334D6063D79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уктура нормы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ники и админис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Гипотеза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 – круг лиц, которым адресована норма, а также обстоятельства, при которых она реализу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язанность работать честно и добросове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Диспозиция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– само правило поведения, в котором устанавливаются права и обязанности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ственность за невыполнение или нарушение трудовой дисципл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Санкция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– меры государственного принуждения, которые применяются к правонарушител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7546-59C2-4220-9973-72F9E913877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, опираясь на полученные знания и собственный социальный опыт, ответить на вопрос: Каковы </a:t>
            </a:r>
            <a:r>
              <a:rPr b="0" lang="ru-RU" sz="1400" spc="-1" strike="noStrike">
                <a:solidFill>
                  <a:srgbClr val="e20c2b"/>
                </a:solidFill>
                <a:latin typeface="Calibri"/>
              </a:rPr>
              <a:t>функции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Является регулятором общественных отно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тивно воздействует на общество и государство путем установления общеобязательных правил по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репляет сложившиеся в обществе экономические, общественные, и другие отношения, а также существующий государственный и общественный ст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0045-83D7-415A-8DA1-32864B31819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«Задача права вовсе не в том, чтобы лежащий возле мир обратился в Царствие Божие, а только в том, чтобы он до времени не превратился в ад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(В.Соловьев, русский филосо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20c2b"/>
                </a:solidFill>
                <a:latin typeface="Georgia"/>
              </a:rPr>
              <a:t>Как оценить позицию философ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на пессимистична, потому что Соловьев не верил в силу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на оптимистична, потому что он верил в профилактическую мощь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на сдержанно-конструктивна, потому что философ возлагал на право только ту функцию, которая для него реаль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BD5F-2682-403E-B1B9-68A61944488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ебник стр. 71 «Это интересн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сс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Понятие «право» в русском языке: в чем причины его многозначност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учебник стр. 72 «Темы для рефератов и обсуждений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80"/>
                </a:solidFill>
                <a:uFillTx/>
                <a:latin typeface="Times New Roman"/>
              </a:rPr>
              <a:t>на выб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3946-1FB0-4312-B3DA-B2D4A238CC2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делите перечисленные ниже признаки норм поведения на две группы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ите название каждой из груп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уществует и действует как свод неписанных правил в виде поучений и притч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80008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Georgia"/>
              </a:rPr>
              <a:t>формулирует свои требования в абстрактной, абстрактно-всеобщей форм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80008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Georgia"/>
              </a:rPr>
              <a:t>нормы формируются в письменном виде, как законы, указы, судебные решения, договоры и др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предлагают идеал человеческого поведения, нравственную цель, к которой должен стремиться каждый человек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совестью и давлением общественного мн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80008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Georgia"/>
              </a:rPr>
              <a:t>их исполнение обеспечивается принудительными мерами со стороны государст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7A30-0B90-4A9E-959A-D5244A5FCE7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а. Норма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«Известное замечание Канта о том, что юристы всё ещё ищут определение права, остаётся справедливым и в наши дни. Юридическая мысль, судя по всему, обречена на бесконечный поиск определения права, побуждая к этому практической необходимостью построить правопорядок на фундаменте как можно более надёжных, чётких и полных знаний о его сущности, предмете правового регулиров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В. Мальц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0B90-F411-4A9B-8757-441D4E5043D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– возможность в обыденном, не юридическом смысле с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(право на ува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– обеспеченная законом возможность что-либо дела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меть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(право на свободу сов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– универсальный регулятор общественных отноше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окупность обязательных к исполнению правил (норм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тановленных государств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(правовая система государ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– одна из важных духовных ценностей, в основе котор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ежит справедливость как его изначальная, идеальная сущ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(право – высшая справедлив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92E9-DA4E-4105-94AD-A6ECF5E4DEC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знаки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рматив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наличие определенных норм, правил повед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язательность исполнения норм права всеми участниками общественной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тверждение и гарантированность норм права государ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ногократность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1361-6420-4606-88F7-F0042BFEF41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Система - цело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состоящее из взаимосвязанных, взаимодействующих ча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CA36-22C8-4D53-AB7A-E443B518B76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отнесите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зовите пропущенный терм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Times New Roman"/>
              </a:rPr>
              <a:t>          </a:t>
            </a:r>
            <a:r>
              <a:rPr b="1" lang="ru-RU" sz="1600" spc="-1" strike="noStrike">
                <a:solidFill>
                  <a:srgbClr val="800080"/>
                </a:solidFill>
                <a:latin typeface="Times New Roman"/>
              </a:rPr>
              <a:t>?                                          Правоотно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жданское право                             Тайное хищение личного иму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ое право                                 Устройство на работу гражданина Р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овое право                                   Заключение бра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йное право                                   Превышение скорости движения автомоби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министративное право                  Приобретение автомоби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6D4B-8D05-4D2D-8DCB-D92A47312AD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Отрасль права – основной элемент системы права. Совокупность норм права, регулирующих особую область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0DDC-C559-40E8-9BB0-33B63DE07E9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628E-B136-40DA-A5CB-A1FF48BB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AC61-AB33-40B0-AFCB-E3B0265E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FA98-F457-43D8-B360-9615DFED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FD24-AF58-423E-B520-3821E09B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0997-7BCB-4422-89CA-091BF325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C3D4-41EF-44D3-9FB2-BB4AB01B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B57D-5532-4624-AC43-B31CCEE3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D90F-5A73-47DC-AD29-4059C4AB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6A2D-A6DF-40DF-A239-67D9F44E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E859-AADD-4760-B7D5-F962BDD1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C099-85EE-41F9-9469-BE3D0208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BC1C-445F-434D-BAD1-84E4A9A7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3C57-5D1C-4996-BABB-37510D28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9333-9B07-4C90-BED3-9E176E6C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48B9-4C65-49A0-A6E8-3F7C7E79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EEF9-4CE7-4700-97FA-D29BB5725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8A78-1B98-463F-A9D6-3CC9F1D5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956E-291B-493A-ACB8-A7B0650B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0D96-BF6E-4EE2-8950-FC58D7B2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2C3F-3A6B-47A9-B43B-68C5B8BC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56CA-D5E6-462B-B45B-FDAEF10C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A2BA-CF55-483A-8000-10D26EDC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2753-5CCE-44AE-9DB7-1844C5E0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878-1959-41AF-BF94-BE6A7E4A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7B41-0E2F-4624-8A39-EED651C823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535B-7733-4403-AD04-8CE3C36A73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5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BARISTR6"/>
          <p:cNvPicPr/>
          <p:nvPr/>
        </p:nvPicPr>
        <p:blipFill>
          <a:blip r:embed="rId1"/>
          <a:stretch/>
        </p:blipFill>
        <p:spPr>
          <a:xfrm>
            <a:off x="1692360" y="255600"/>
            <a:ext cx="5789520" cy="62136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Arial"/>
              </a:rPr>
              <a:t>По какому принципу правовые понятия разделены цветом?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граждан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гражданское пра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конституционное пра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наследов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дар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семейное пра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административное пра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57120" y="4437000"/>
            <a:ext cx="8440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a29e"/>
                </a:solidFill>
                <a:uFillTx/>
                <a:latin typeface="Georgia"/>
              </a:rPr>
              <a:t>Институт права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– обособленные групп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авовых норм, регулирующ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днородные общественны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тношения, но более мелкие, чем отрасл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ходят в соответствующие отрасли пра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a29e"/>
                </a:solidFill>
                <a:latin typeface="Arial"/>
              </a:rPr>
              <a:t>Соотнесите отрасли права и правовые институты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drawingml/2006/table">
            <a:tbl>
              <a:tblPr/>
              <a:tblGrid>
                <a:gridCol w="4122720"/>
                <a:gridCol w="410688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5498f"/>
                          </a:solidFill>
                          <a:latin typeface="Times New Roman"/>
                          <a:ea typeface="Times New Roman"/>
                        </a:rPr>
                        <a:t>Отрасль пра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5498f"/>
                          </a:solidFill>
                          <a:latin typeface="Times New Roman"/>
                          <a:ea typeface="Times New Roman"/>
                        </a:rPr>
                        <a:t>Институт пра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итуционное пра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ой догов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ское пра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пля-продаж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ое пра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ждан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ивное пра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служ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народное пра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атический стату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Line 79"/>
          <p:cNvSpPr/>
          <p:nvPr/>
        </p:nvSpPr>
        <p:spPr>
          <a:xfrm>
            <a:off x="3419640" y="2637000"/>
            <a:ext cx="2160360" cy="216036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0"/>
          <p:cNvSpPr/>
          <p:nvPr/>
        </p:nvSpPr>
        <p:spPr>
          <a:xfrm>
            <a:off x="2916360" y="3357720"/>
            <a:ext cx="3671640" cy="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82"/>
          <p:cNvSpPr/>
          <p:nvPr/>
        </p:nvSpPr>
        <p:spPr>
          <a:xfrm flipV="1">
            <a:off x="2484360" y="2565360"/>
            <a:ext cx="4032360" cy="151128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83"/>
          <p:cNvSpPr/>
          <p:nvPr/>
        </p:nvSpPr>
        <p:spPr>
          <a:xfrm flipV="1">
            <a:off x="3564000" y="4076280"/>
            <a:ext cx="3456000" cy="79236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84"/>
          <p:cNvSpPr/>
          <p:nvPr/>
        </p:nvSpPr>
        <p:spPr>
          <a:xfrm>
            <a:off x="3276720" y="5589720"/>
            <a:ext cx="2303280" cy="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29e"/>
                </a:solidFill>
                <a:latin typeface="Arial"/>
              </a:rPr>
              <a:t>Система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grpSp>
        <p:nvGrpSpPr>
          <p:cNvPr id="227" name="Organization Chart 4"/>
          <p:cNvGrpSpPr/>
          <p:nvPr/>
        </p:nvGrpSpPr>
        <p:grpSpPr>
          <a:xfrm>
            <a:off x="395280" y="1268280"/>
            <a:ext cx="8229600" cy="2116080"/>
            <a:chOff x="395280" y="1268280"/>
            <a:chExt cx="8229600" cy="2116080"/>
          </a:xfrm>
        </p:grpSpPr>
        <p:cxnSp>
          <p:nvCxnSpPr>
            <p:cNvPr id="228" name="_s2052"/>
            <p:cNvCxnSpPr>
              <a:stCxn id="229" idx="0"/>
              <a:endCxn id="230" idx="2"/>
            </p:cNvCxnSpPr>
            <p:nvPr/>
          </p:nvCxnSpPr>
          <p:spPr>
            <a:xfrm flipV="1" rot="16200000">
              <a:off x="5738040" y="885240"/>
              <a:ext cx="423720" cy="2880720"/>
            </a:xfrm>
            <a:prstGeom prst="bentConnector3">
              <a:avLst>
                <a:gd name="adj1" fmla="val 207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1" name="_s2053"/>
            <p:cNvCxnSpPr>
              <a:stCxn id="232" idx="0"/>
              <a:endCxn id="230" idx="2"/>
            </p:cNvCxnSpPr>
            <p:nvPr/>
          </p:nvCxnSpPr>
          <p:spPr>
            <a:xfrm flipV="1">
              <a:off x="4510080" y="2113920"/>
              <a:ext cx="1440" cy="423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2054"/>
            <p:cNvCxnSpPr>
              <a:stCxn id="234" idx="0"/>
              <a:endCxn id="230" idx="2"/>
            </p:cNvCxnSpPr>
            <p:nvPr/>
          </p:nvCxnSpPr>
          <p:spPr>
            <a:xfrm flipH="1" flipV="1" rot="5400000">
              <a:off x="2857320" y="885600"/>
              <a:ext cx="423720" cy="2880720"/>
            </a:xfrm>
            <a:prstGeom prst="bentConnector3">
              <a:avLst>
                <a:gd name="adj1" fmla="val 207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0" name="_s2055"/>
            <p:cNvSpPr/>
            <p:nvPr/>
          </p:nvSpPr>
          <p:spPr>
            <a:xfrm>
              <a:off x="3275280" y="1268280"/>
              <a:ext cx="2468880" cy="84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5498f"/>
                  </a:solidFill>
                  <a:latin typeface="Times New Roman"/>
                </a:rPr>
                <a:t>Система права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_s2056"/>
            <p:cNvSpPr/>
            <p:nvPr/>
          </p:nvSpPr>
          <p:spPr>
            <a:xfrm>
              <a:off x="395280" y="2538000"/>
              <a:ext cx="2468880" cy="84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ормы прав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_s2057"/>
            <p:cNvSpPr/>
            <p:nvPr/>
          </p:nvSpPr>
          <p:spPr>
            <a:xfrm>
              <a:off x="3275280" y="2538000"/>
              <a:ext cx="2468880" cy="84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нститут прав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_s2058"/>
            <p:cNvSpPr/>
            <p:nvPr/>
          </p:nvSpPr>
          <p:spPr>
            <a:xfrm>
              <a:off x="6156000" y="2538000"/>
              <a:ext cx="2468880" cy="84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трасли прав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5" name="Text Box 14"/>
          <p:cNvSpPr/>
          <p:nvPr/>
        </p:nvSpPr>
        <p:spPr>
          <a:xfrm>
            <a:off x="347760" y="3716280"/>
            <a:ext cx="82533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5498f"/>
                </a:solidFill>
                <a:latin typeface="Georgia"/>
              </a:rPr>
              <a:t>Система права характеризуетс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заимозависимостью и связью правовых нор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егулирует отношения все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овокупностью юридических средст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целостностью и согласованность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Georgia"/>
              </a:rPr>
              <a:t>Определите отрасль пра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Georgia"/>
              </a:rPr>
              <a:t>Определите институт пра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Georgia"/>
              </a:rPr>
              <a:t>Какой это элемент структуры права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Работники обязаны работать честно и добросовестно, блюсти дисциплину труда, своевременно и точно исполнять распоряжения администрации…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КЗОТ РФ, ст.12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 нарушения трудовой дисциплины администрация предприятия, учреждения, организации применяет следующие дисциплинарные взыска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меча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гово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гий выгово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ольнение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КЗОТ РФ, ст. 135)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a29e"/>
                </a:solidFill>
                <a:latin typeface="Arial"/>
              </a:rPr>
              <a:t>Попробуйте дать определение нормы права, ответив на вопросы:</a:t>
            </a:r>
            <a:endParaRPr b="0" lang="en-US" sz="32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 такое норм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ем установлена норм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 регулирует норм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ова степень обязательности нормы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29e"/>
                </a:solidFill>
                <a:latin typeface="Times New Roman"/>
              </a:rPr>
              <a:t>	</a:t>
            </a:r>
            <a:r>
              <a:rPr b="1" lang="ru-RU" sz="4400" spc="-1" strike="noStrike" u="sng">
                <a:solidFill>
                  <a:srgbClr val="00a29e"/>
                </a:solidFill>
                <a:uFillTx/>
                <a:latin typeface="Times New Roman"/>
              </a:rPr>
              <a:t>Норма прав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признаваемое и обеспечиваемое государством, общеобязательное правило, из которого вытекают права и обязанности участников общественных отношений, чьи действия призвано регулировать данное правило в качестве образца, эталона, масштаба повед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равовые нормы действуют: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grpSp>
        <p:nvGrpSpPr>
          <p:cNvPr id="245" name="Group 5"/>
          <p:cNvGrpSpPr/>
          <p:nvPr/>
        </p:nvGrpSpPr>
        <p:grpSpPr>
          <a:xfrm>
            <a:off x="376560" y="1484280"/>
            <a:ext cx="2826360" cy="2360520"/>
            <a:chOff x="376560" y="1484280"/>
            <a:chExt cx="2826360" cy="2360520"/>
          </a:xfrm>
        </p:grpSpPr>
        <p:pic>
          <p:nvPicPr>
            <p:cNvPr id="246" name="Picture 6" descr="j0208950"/>
            <p:cNvPicPr/>
            <p:nvPr/>
          </p:nvPicPr>
          <p:blipFill>
            <a:blip r:embed="rId1"/>
            <a:stretch/>
          </p:blipFill>
          <p:spPr>
            <a:xfrm>
              <a:off x="1285200" y="1484280"/>
              <a:ext cx="1917720" cy="204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7"/>
            <p:cNvSpPr/>
            <p:nvPr/>
          </p:nvSpPr>
          <p:spPr>
            <a:xfrm>
              <a:off x="376560" y="3385080"/>
              <a:ext cx="207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Во времени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8" name="Group 8"/>
          <p:cNvGrpSpPr/>
          <p:nvPr/>
        </p:nvGrpSpPr>
        <p:grpSpPr>
          <a:xfrm>
            <a:off x="2621880" y="3789360"/>
            <a:ext cx="2759040" cy="2166120"/>
            <a:chOff x="2621880" y="3789360"/>
            <a:chExt cx="2759040" cy="2166120"/>
          </a:xfrm>
        </p:grpSpPr>
        <p:pic>
          <p:nvPicPr>
            <p:cNvPr id="249" name="Picture 9" descr="j0189205"/>
            <p:cNvPicPr/>
            <p:nvPr/>
          </p:nvPicPr>
          <p:blipFill>
            <a:blip r:embed="rId2"/>
            <a:stretch/>
          </p:blipFill>
          <p:spPr>
            <a:xfrm>
              <a:off x="3732840" y="3789360"/>
              <a:ext cx="1648080" cy="16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10"/>
            <p:cNvSpPr/>
            <p:nvPr/>
          </p:nvSpPr>
          <p:spPr>
            <a:xfrm>
              <a:off x="2621880" y="5495760"/>
              <a:ext cx="26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В пространстве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51" name="Picture 14" descr="CBIZ175"/>
          <p:cNvPicPr/>
          <p:nvPr/>
        </p:nvPicPr>
        <p:blipFill>
          <a:blip r:embed="rId3"/>
          <a:stretch/>
        </p:blipFill>
        <p:spPr>
          <a:xfrm>
            <a:off x="6300720" y="1413000"/>
            <a:ext cx="2448000" cy="21034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6"/>
          <p:cNvSpPr/>
          <p:nvPr/>
        </p:nvSpPr>
        <p:spPr>
          <a:xfrm>
            <a:off x="6230520" y="357336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кругу ли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3"/>
          <p:cNvGrpSpPr/>
          <p:nvPr/>
        </p:nvGrpSpPr>
        <p:grpSpPr>
          <a:xfrm>
            <a:off x="179280" y="836640"/>
            <a:ext cx="1548000" cy="1727280"/>
            <a:chOff x="179280" y="836640"/>
            <a:chExt cx="1548000" cy="1727280"/>
          </a:xfrm>
        </p:grpSpPr>
        <p:pic>
          <p:nvPicPr>
            <p:cNvPr id="255" name="Picture 4" descr="j0208950"/>
            <p:cNvPicPr/>
            <p:nvPr/>
          </p:nvPicPr>
          <p:blipFill>
            <a:blip r:embed="rId1"/>
            <a:stretch/>
          </p:blipFill>
          <p:spPr>
            <a:xfrm>
              <a:off x="669960" y="836640"/>
              <a:ext cx="1057320" cy="13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5"/>
            <p:cNvSpPr/>
            <p:nvPr/>
          </p:nvSpPr>
          <p:spPr>
            <a:xfrm>
              <a:off x="179280" y="2106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7" name="Group 6"/>
          <p:cNvGrpSpPr/>
          <p:nvPr/>
        </p:nvGrpSpPr>
        <p:grpSpPr>
          <a:xfrm>
            <a:off x="1763640" y="863640"/>
            <a:ext cx="7178760" cy="1557000"/>
            <a:chOff x="1763640" y="863640"/>
            <a:chExt cx="7178760" cy="1557000"/>
          </a:xfrm>
        </p:grpSpPr>
        <p:sp>
          <p:nvSpPr>
            <p:cNvPr id="258" name="Text Box 7"/>
            <p:cNvSpPr/>
            <p:nvPr/>
          </p:nvSpPr>
          <p:spPr>
            <a:xfrm>
              <a:off x="2450880" y="863640"/>
              <a:ext cx="6491520" cy="155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65498f"/>
                  </a:solidFill>
                  <a:uFillTx/>
                  <a:latin typeface="Times New Roman"/>
                </a:rPr>
                <a:t>Общее правило: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Вступают в силу через 10 дней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с момента публикации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(публикуются через 7 дней с момента принятия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Line 8"/>
            <p:cNvSpPr/>
            <p:nvPr/>
          </p:nvSpPr>
          <p:spPr>
            <a:xfrm>
              <a:off x="1763640" y="1677960"/>
              <a:ext cx="504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" name="Group 9"/>
          <p:cNvGrpSpPr/>
          <p:nvPr/>
        </p:nvGrpSpPr>
        <p:grpSpPr>
          <a:xfrm>
            <a:off x="2520" y="2565360"/>
            <a:ext cx="2745720" cy="2430360"/>
            <a:chOff x="2520" y="2565360"/>
            <a:chExt cx="2745720" cy="2430360"/>
          </a:xfrm>
        </p:grpSpPr>
        <p:grpSp>
          <p:nvGrpSpPr>
            <p:cNvPr id="261" name="Group 10"/>
            <p:cNvGrpSpPr/>
            <p:nvPr/>
          </p:nvGrpSpPr>
          <p:grpSpPr>
            <a:xfrm>
              <a:off x="2520" y="3017880"/>
              <a:ext cx="2745720" cy="1977840"/>
              <a:chOff x="2520" y="3017880"/>
              <a:chExt cx="2745720" cy="1977840"/>
            </a:xfrm>
          </p:grpSpPr>
          <p:pic>
            <p:nvPicPr>
              <p:cNvPr id="262" name="Picture 11" descr="j0219100"/>
              <p:cNvPicPr/>
              <p:nvPr/>
            </p:nvPicPr>
            <p:blipFill>
              <a:blip r:embed="rId3"/>
              <a:stretch/>
            </p:blipFill>
            <p:spPr>
              <a:xfrm>
                <a:off x="803160" y="3017880"/>
                <a:ext cx="1143000" cy="127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Text Box 12"/>
              <p:cNvSpPr/>
              <p:nvPr/>
            </p:nvSpPr>
            <p:spPr>
              <a:xfrm>
                <a:off x="2520" y="4170240"/>
                <a:ext cx="2745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Может указываться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конкретная дата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4" name="Line 13"/>
            <p:cNvSpPr/>
            <p:nvPr/>
          </p:nvSpPr>
          <p:spPr>
            <a:xfrm>
              <a:off x="1223640" y="2565360"/>
              <a:ext cx="0" cy="43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5" name="Text Box 19"/>
          <p:cNvSpPr/>
          <p:nvPr/>
        </p:nvSpPr>
        <p:spPr>
          <a:xfrm>
            <a:off x="6123600" y="4292640"/>
            <a:ext cx="30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момента получ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ат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Group 20"/>
          <p:cNvGrpSpPr/>
          <p:nvPr/>
        </p:nvGrpSpPr>
        <p:grpSpPr>
          <a:xfrm>
            <a:off x="1979640" y="2276640"/>
            <a:ext cx="6564240" cy="1718640"/>
            <a:chOff x="1979640" y="2276640"/>
            <a:chExt cx="6564240" cy="1718640"/>
          </a:xfrm>
        </p:grpSpPr>
        <p:pic>
          <p:nvPicPr>
            <p:cNvPr id="267" name="Picture 21" descr="j0336340"/>
            <p:cNvPicPr/>
            <p:nvPr/>
          </p:nvPicPr>
          <p:blipFill>
            <a:blip r:embed="rId4"/>
            <a:stretch/>
          </p:blipFill>
          <p:spPr>
            <a:xfrm>
              <a:off x="6961320" y="2860560"/>
              <a:ext cx="1582560" cy="113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Line 22"/>
            <p:cNvSpPr/>
            <p:nvPr/>
          </p:nvSpPr>
          <p:spPr>
            <a:xfrm>
              <a:off x="1979640" y="2276640"/>
              <a:ext cx="5040360" cy="71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Во времени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grpSp>
        <p:nvGrpSpPr>
          <p:cNvPr id="270" name="Group 26"/>
          <p:cNvGrpSpPr/>
          <p:nvPr/>
        </p:nvGrpSpPr>
        <p:grpSpPr>
          <a:xfrm>
            <a:off x="2946240" y="3068640"/>
            <a:ext cx="3109680" cy="2224440"/>
            <a:chOff x="2946240" y="3068640"/>
            <a:chExt cx="3109680" cy="2224440"/>
          </a:xfrm>
        </p:grpSpPr>
        <p:pic>
          <p:nvPicPr>
            <p:cNvPr id="271" name="Picture 27" descr="j0239293"/>
            <p:cNvPicPr/>
            <p:nvPr/>
          </p:nvPicPr>
          <p:blipFill>
            <a:blip r:embed="rId5"/>
            <a:stretch/>
          </p:blipFill>
          <p:spPr>
            <a:xfrm>
              <a:off x="3811320" y="3068640"/>
              <a:ext cx="1408320" cy="11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28"/>
            <p:cNvSpPr/>
            <p:nvPr/>
          </p:nvSpPr>
          <p:spPr>
            <a:xfrm>
              <a:off x="2946240" y="4101840"/>
              <a:ext cx="310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Акты правительства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 момента подписания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(если не указано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3" name="Line 29"/>
          <p:cNvSpPr/>
          <p:nvPr/>
        </p:nvSpPr>
        <p:spPr>
          <a:xfrm>
            <a:off x="1619280" y="2563920"/>
            <a:ext cx="216072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"/>
          <p:cNvGrpSpPr/>
          <p:nvPr/>
        </p:nvGrpSpPr>
        <p:grpSpPr>
          <a:xfrm>
            <a:off x="-324000" y="836640"/>
            <a:ext cx="1909800" cy="1620720"/>
            <a:chOff x="-324000" y="836640"/>
            <a:chExt cx="1909800" cy="1620720"/>
          </a:xfrm>
        </p:grpSpPr>
        <p:pic>
          <p:nvPicPr>
            <p:cNvPr id="276" name="Picture 4" descr="j0189205"/>
            <p:cNvPicPr/>
            <p:nvPr/>
          </p:nvPicPr>
          <p:blipFill>
            <a:blip r:embed="rId1"/>
            <a:stretch/>
          </p:blipFill>
          <p:spPr>
            <a:xfrm>
              <a:off x="442800" y="836640"/>
              <a:ext cx="1143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 Box 5"/>
            <p:cNvSpPr/>
            <p:nvPr/>
          </p:nvSpPr>
          <p:spPr>
            <a:xfrm>
              <a:off x="-324000" y="2000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8" name="Group 6"/>
          <p:cNvGrpSpPr/>
          <p:nvPr/>
        </p:nvGrpSpPr>
        <p:grpSpPr>
          <a:xfrm>
            <a:off x="1763640" y="836640"/>
            <a:ext cx="7122240" cy="1260720"/>
            <a:chOff x="1763640" y="836640"/>
            <a:chExt cx="7122240" cy="1260720"/>
          </a:xfrm>
        </p:grpSpPr>
        <p:grpSp>
          <p:nvGrpSpPr>
            <p:cNvPr id="279" name="Group 7"/>
            <p:cNvGrpSpPr/>
            <p:nvPr/>
          </p:nvGrpSpPr>
          <p:grpSpPr>
            <a:xfrm>
              <a:off x="2690280" y="836640"/>
              <a:ext cx="6195600" cy="1260720"/>
              <a:chOff x="2690280" y="836640"/>
              <a:chExt cx="6195600" cy="1260720"/>
            </a:xfrm>
          </p:grpSpPr>
          <p:pic>
            <p:nvPicPr>
              <p:cNvPr id="280" name="Picture 8" descr="j0215232"/>
              <p:cNvPicPr/>
              <p:nvPr/>
            </p:nvPicPr>
            <p:blipFill>
              <a:blip r:embed="rId2"/>
              <a:stretch/>
            </p:blipFill>
            <p:spPr>
              <a:xfrm>
                <a:off x="2690280" y="997200"/>
                <a:ext cx="1312920" cy="110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Text Box 9"/>
              <p:cNvSpPr/>
              <p:nvPr/>
            </p:nvSpPr>
            <p:spPr>
              <a:xfrm>
                <a:off x="4044600" y="836640"/>
                <a:ext cx="4841280" cy="11912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763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800000"/>
                    </a:solidFill>
                    <a:latin typeface="Times New Roman"/>
                  </a:rPr>
                  <a:t>Действуют на территории 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800000"/>
                    </a:solidFill>
                    <a:latin typeface="Times New Roman"/>
                  </a:rPr>
                  <a:t>государства(земля воды, недра,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800000"/>
                    </a:solidFill>
                    <a:latin typeface="Times New Roman"/>
                  </a:rPr>
                  <a:t>посольства, корабли в море и др.)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2" name="Line 10"/>
            <p:cNvSpPr/>
            <p:nvPr/>
          </p:nvSpPr>
          <p:spPr>
            <a:xfrm>
              <a:off x="1763640" y="1447920"/>
              <a:ext cx="926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В пространстве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2771640" y="2492280"/>
            <a:ext cx="348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о кругу лиц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5" name="Group 21"/>
          <p:cNvGrpSpPr/>
          <p:nvPr/>
        </p:nvGrpSpPr>
        <p:grpSpPr>
          <a:xfrm>
            <a:off x="2195640" y="3500280"/>
            <a:ext cx="6696000" cy="1191240"/>
            <a:chOff x="2195640" y="3500280"/>
            <a:chExt cx="6696000" cy="1191240"/>
          </a:xfrm>
        </p:grpSpPr>
        <p:sp>
          <p:nvSpPr>
            <p:cNvPr id="286" name="Text Box 22"/>
            <p:cNvSpPr/>
            <p:nvPr/>
          </p:nvSpPr>
          <p:spPr>
            <a:xfrm>
              <a:off x="2813040" y="3500280"/>
              <a:ext cx="6078600" cy="11912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65498f"/>
                  </a:solidFill>
                  <a:uFillTx/>
                  <a:latin typeface="Times New Roman"/>
                </a:rPr>
                <a:t>Общее правило: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Распространяется на всех адресатов в рамках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территориальной сферы действия акт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Line 23"/>
            <p:cNvSpPr/>
            <p:nvPr/>
          </p:nvSpPr>
          <p:spPr>
            <a:xfrm>
              <a:off x="2195640" y="4132080"/>
              <a:ext cx="505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88" name="Picture 24" descr="CBIZ175"/>
          <p:cNvPicPr/>
          <p:nvPr/>
        </p:nvPicPr>
        <p:blipFill>
          <a:blip r:embed="rId5"/>
          <a:stretch/>
        </p:blipFill>
        <p:spPr>
          <a:xfrm>
            <a:off x="179280" y="3284640"/>
            <a:ext cx="2124360" cy="182556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Каков основной посыл, в каждой из предложенных правовых норм?</a:t>
            </a:r>
            <a:endParaRPr b="0" lang="en-US" sz="2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-162720" y="692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атье 24 ГК РФ закреплено, что «гражданин отвечае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своим обязательствам всем принадлежащим ему имуществом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 исключением имущества на которое в соответствии с законом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 может быть обращено взыскание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-156240" y="1773360"/>
            <a:ext cx="918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.13 Конституции РФ сказано: «запрещается создание и деятельност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ественных объединений, цели или действия которых направлен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насильственное изменение основ конституционного строя и нарушени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остности РФ, подрыв безопасности государства, создание вооруженных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ирований, разжигание социальной, расовой, национальной и религиозно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зни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-164160" y="3500280"/>
            <a:ext cx="895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.32 СК РФ записано: «Супруги по своему желанию выбирают пр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ключении брака фамилию одного из них в качестве общей фамилии, либо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ждый из супругов сохраняет свою добрачную фамилию, либо, если иное н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дусмотрено законами субъектов Российской Федерации, присоединяе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 своей фамилии фамилию другого супруга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-71640" y="4941720"/>
            <a:ext cx="911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.28 ФЗ «О трудовых пенсиях в РФ» сказано: «трудовая пенсия по стар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значается ранее достижения возраста, установленного статьей 7 настоящег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едерального закона, следующим гражданам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енщинам, родившим пять и более детей и воспитавшим их до достиж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ми возраста 8 лет, по достижении возраста 50 лет, если они имею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аховой стаж не менее 15 лет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459360" y="907920"/>
            <a:ext cx="66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Обязывающие – обязывают субъекта права совершить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определенные положительные действ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459720" y="220500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Запрещающие – предписывают воздержание от содерж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в норме действ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672480" y="3860640"/>
            <a:ext cx="733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Управомочивающие – дозволяют или разрешают соверше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содержащихся в норме действ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13"/>
          <p:cNvSpPr/>
          <p:nvPr/>
        </p:nvSpPr>
        <p:spPr>
          <a:xfrm>
            <a:off x="748800" y="5229360"/>
            <a:ext cx="647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Поощрительные – направлены на стимулировани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правомерной деятельности, такой, которую субъект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юридически не обязаны соверша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Разделите перечисленные ниже признаки норм поведения на две группы. </a:t>
            </a:r>
            <a:br>
              <a:rPr sz="2800"/>
            </a:b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Определите название каждой из групп.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уществует и действует как свод неписанных правил в виде поучений и притч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формулирует свои требования в абстрактной, абстрактно-всеобщей форме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формируются в письменном виде, как законы, указы, судебные решения, договоры и др.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предлагают идеал человеческого поведения, нравственную цель, к которой должен стремиться каждый человек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совестью и давлением общественного мнения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принудительными мерами со стороны государ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В чем смысл данной правовой нормы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Какие составные части вы могли бы выделить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Какие взаимоотношения она регулирует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Между кем и кем возникают данные правоотношения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Что следует за неисполнением условий, закрепленных в правовой норм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Работники обязаны работать честно добросовестно, блюсти дисциплину труда, своевременно и точно исполнять распоряжения администрации…» (КЗОТ РФ, ст.12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 нарушения трудовой дисциплины администрация предприятия, учреждения, организации применяет следующие дисциплинарные взыска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меча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гово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гий выгово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ольнение… (КЗОТ РФ, ст. 135)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1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1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10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10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10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1000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1000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1000"/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1000"/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29e"/>
                </a:solidFill>
                <a:latin typeface="Arial"/>
              </a:rPr>
              <a:t>Структура нормы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ники и администра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Гипотеза</a:t>
            </a: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 – круг лиц, которым адресована норма, а также обстоятельства, при которых она реализуе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язанность работать честно и добросовест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Диспозиция </a:t>
            </a: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– само правило поведения, в котором устанавливаются права и обязанности лиц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ственность за невыполнение или нарушение трудовой дисципли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Санкция </a:t>
            </a: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– меры государственного принуждения, которые применяются к правонарушителя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1924200" y="5950080"/>
            <a:ext cx="566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20c2b"/>
                </a:solidFill>
                <a:latin typeface="Georgia"/>
              </a:rPr>
              <a:t>«Если… то… иначе».</a:t>
            </a:r>
            <a:r>
              <a:rPr b="1" lang="ru-RU" sz="1800" spc="-1" strike="noStrike">
                <a:solidFill>
                  <a:srgbClr val="e20c2b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9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5" dur="1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1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1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4" dur="1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Arial"/>
              </a:rPr>
              <a:t>Попробуйте, опираясь на полученные знания и собственный социальный опыт, ответить на вопрос: Каковы </a:t>
            </a:r>
            <a:r>
              <a:rPr b="0" lang="ru-RU" sz="3200" spc="-1" strike="noStrike">
                <a:solidFill>
                  <a:srgbClr val="e20c2b"/>
                </a:solidFill>
                <a:latin typeface="Arial"/>
              </a:rPr>
              <a:t>функции права</a:t>
            </a:r>
            <a:r>
              <a:rPr b="0" lang="ru-RU" sz="2800" spc="-1" strike="noStrike">
                <a:solidFill>
                  <a:srgbClr val="00a29e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вляется регулятором общественных отношен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тивно воздействует на общество и государство путем установления общеобязательных правил поведе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репляет сложившиеся в обществе экономические, общественные, и другие отношения, а также существующий государственный и общественный стро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4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9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4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a29e"/>
                </a:solidFill>
                <a:latin typeface="Arial"/>
              </a:rPr>
              <a:t>«Задача права вовсе не в том, чтобы лежащий возле мир обратился в Царствие Божие, а только в том, чтобы он до времени не превратился в ад»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29e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a29e"/>
                </a:solidFill>
                <a:latin typeface="Arial"/>
              </a:rPr>
              <a:t>(В.Соловьев, русский философ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20c2b"/>
                </a:solidFill>
                <a:latin typeface="Georgia"/>
              </a:rPr>
              <a:t>Как оценить позицию философ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а пессимистична, потому что Соловьев не верил в силу прав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а оптимистична, потому что он верил в профилактическую мощь прав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а сдержанно-конструктивна, потому что философ возлагал на право только ту функцию, которая для него реаль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Философия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ебник стр. 71 «Это интересно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сс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Понятие «право» в русском языке: в чем причины его многозначности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учебник стр. 72 «Темы для рефератов и обсуждений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5498f"/>
                </a:solidFill>
                <a:uFillTx/>
                <a:latin typeface="Times New Roman"/>
              </a:rPr>
              <a:t>на выбо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3" name="Picture 4" descr="BARISTR5"/>
          <p:cNvPicPr/>
          <p:nvPr/>
        </p:nvPicPr>
        <p:blipFill>
          <a:blip r:embed="rId1"/>
          <a:stretch/>
        </p:blipFill>
        <p:spPr>
          <a:xfrm>
            <a:off x="6230880" y="765000"/>
            <a:ext cx="2719440" cy="547236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0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4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Разделите перечисленные ниже признаки норм поведения на две группы. </a:t>
            </a:r>
            <a:br>
              <a:rPr sz="2800"/>
            </a:b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Определите название каждой из групп.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уществует и действует как свод неписанных правил в виде поучений и притч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5498f"/>
                </a:solidFill>
                <a:latin typeface="Georgia"/>
              </a:rPr>
              <a:t>формулирует свои требования в абстрактной, абстрактно-всеобщей форме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5498f"/>
                </a:solidFill>
                <a:latin typeface="Georgia"/>
              </a:rPr>
              <a:t>нормы формируются в письменном виде, как законы, указы, судебные решения, договоры и др.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предлагают идеал человеческого поведения, нравственную цель, к которой должен стремиться каждый человек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совестью и давлением общественного мнения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5498f"/>
                </a:solidFill>
                <a:latin typeface="Georgia"/>
              </a:rPr>
              <a:t>их исполнение обеспечивается принудительными мерами со стороны государ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онятие права. Норма права.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5498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5498f"/>
                </a:solidFill>
                <a:latin typeface="Times New Roman"/>
              </a:rPr>
              <a:t>«Известное замечание Канта о том, что юристы всё ещё ищут определение права, остаётся справедливым и в наши дни. Юридическая мысль, судя по всему, обречена на бесконечный поиск определения права, побуждая к этому практической необходимостью построить правопорядок на фундаменте как можно более надёжных, чётких и полных знаний о его сущности, предмете правового регулирования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.В. Мальце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онятие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84360" y="177336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579960" y="1409760"/>
            <a:ext cx="828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 – возможность в обыденном, не юридическом смысле слов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(право на уважение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599760" y="2349360"/>
            <a:ext cx="770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 – обеспеченная законом возможность что-либо делать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еть и т.п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(право на свободу совест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601920" y="3645000"/>
            <a:ext cx="781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 – универсальный регулятор общественных отношений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вокупность обязательных к исполнению правил (норм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ановленных государством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(правовая система государств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52080" y="5300640"/>
            <a:ext cx="842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 – одна из важных духовных ценностей, в основе которой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жит справедливость как его изначальная, идеальная сущ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(право – высшая справедливость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29e"/>
                </a:solidFill>
                <a:latin typeface="Arial"/>
              </a:rPr>
              <a:t>Признаки права</a:t>
            </a: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рмативный характ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наличие определенных норм, правил поведения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язательность исполнения норм права всеми участниками общественной жизн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тверждение и гарантированность норм права государством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ногократность примен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Система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65498f"/>
                </a:solidFill>
                <a:latin typeface="Times New Roman"/>
              </a:rPr>
              <a:t>Система - целое,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5498f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65498f"/>
                </a:solidFill>
                <a:latin typeface="Times New Roman"/>
              </a:rPr>
              <a:t>состоящее из взаимосвязанных, взаимодействующих частей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a29e"/>
                </a:solidFill>
                <a:latin typeface="Arial"/>
              </a:rPr>
              <a:t>Соотнесите. </a:t>
            </a:r>
            <a:br>
              <a:rPr sz="3600"/>
            </a:br>
            <a:r>
              <a:rPr b="1" lang="ru-RU" sz="3600" spc="-1" strike="noStrike">
                <a:solidFill>
                  <a:srgbClr val="00a29e"/>
                </a:solidFill>
                <a:latin typeface="Arial"/>
              </a:rPr>
              <a:t>Назовите пропущенный термин.</a:t>
            </a:r>
            <a:endParaRPr b="0" lang="en-US" sz="36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5498f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65498f"/>
                </a:solidFill>
                <a:latin typeface="Times New Roman"/>
              </a:rPr>
              <a:t>?                                          Правоотнош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ажданское право                             Тайное хищение личного имуществ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головное право                                 Устройство на работу гражданина Р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удовое право                                   Заключение брак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ейное право                                   Превышение скорости движения автомобил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министративное право                  Приобретение автомобил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2268360" y="2708280"/>
            <a:ext cx="1656000" cy="288144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5"/>
          <p:cNvSpPr/>
          <p:nvPr/>
        </p:nvSpPr>
        <p:spPr>
          <a:xfrm flipV="1">
            <a:off x="1979640" y="2707920"/>
            <a:ext cx="2016000" cy="86508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6"/>
          <p:cNvSpPr/>
          <p:nvPr/>
        </p:nvSpPr>
        <p:spPr>
          <a:xfrm flipV="1">
            <a:off x="1835280" y="3573360"/>
            <a:ext cx="2160360" cy="71928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7"/>
          <p:cNvSpPr/>
          <p:nvPr/>
        </p:nvSpPr>
        <p:spPr>
          <a:xfrm flipV="1">
            <a:off x="1908000" y="4292280"/>
            <a:ext cx="2016360" cy="64908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8"/>
          <p:cNvSpPr/>
          <p:nvPr/>
        </p:nvSpPr>
        <p:spPr>
          <a:xfrm flipV="1">
            <a:off x="2916360" y="4941720"/>
            <a:ext cx="1079280" cy="64800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81080" y="1433520"/>
            <a:ext cx="32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5498f"/>
                </a:solidFill>
                <a:latin typeface="Times New Roman"/>
              </a:rPr>
              <a:t>Отрасль прав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Отрасль права – основной элемент системы права. Совокупность норм права, регулирующих особую область отношений.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grpSp>
        <p:nvGrpSpPr>
          <p:cNvPr id="193" name="Diagram 4"/>
          <p:cNvGrpSpPr/>
          <p:nvPr/>
        </p:nvGrpSpPr>
        <p:grpSpPr>
          <a:xfrm>
            <a:off x="683640" y="1700280"/>
            <a:ext cx="7776000" cy="4897440"/>
            <a:chOff x="683640" y="1700280"/>
            <a:chExt cx="7776000" cy="4897440"/>
          </a:xfrm>
        </p:grpSpPr>
        <p:sp>
          <p:nvSpPr>
            <p:cNvPr id="194" name="_s1028"/>
            <p:cNvSpPr/>
            <p:nvPr/>
          </p:nvSpPr>
          <p:spPr>
            <a:xfrm flipV="1">
              <a:off x="4500720" y="2637000"/>
              <a:ext cx="720" cy="124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_s1029"/>
            <p:cNvSpPr/>
            <p:nvPr/>
          </p:nvSpPr>
          <p:spPr>
            <a:xfrm>
              <a:off x="3276000" y="1700280"/>
              <a:ext cx="2521080" cy="106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Конституционно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_s1030"/>
            <p:cNvSpPr/>
            <p:nvPr/>
          </p:nvSpPr>
          <p:spPr>
            <a:xfrm flipV="1">
              <a:off x="4933800" y="3069000"/>
              <a:ext cx="861840" cy="80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_s1031"/>
            <p:cNvSpPr/>
            <p:nvPr/>
          </p:nvSpPr>
          <p:spPr>
            <a:xfrm>
              <a:off x="5436000" y="2421000"/>
              <a:ext cx="2647440" cy="9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Административное 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_s1032"/>
            <p:cNvSpPr/>
            <p:nvPr/>
          </p:nvSpPr>
          <p:spPr>
            <a:xfrm flipV="1">
              <a:off x="5160600" y="4076640"/>
              <a:ext cx="995040" cy="14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_s1033"/>
            <p:cNvSpPr/>
            <p:nvPr/>
          </p:nvSpPr>
          <p:spPr>
            <a:xfrm>
              <a:off x="6084360" y="3500280"/>
              <a:ext cx="2375280" cy="978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Гражданское 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_s1034"/>
            <p:cNvSpPr/>
            <p:nvPr/>
          </p:nvSpPr>
          <p:spPr>
            <a:xfrm>
              <a:off x="5293080" y="4581720"/>
              <a:ext cx="914040" cy="50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_s1035"/>
            <p:cNvSpPr/>
            <p:nvPr/>
          </p:nvSpPr>
          <p:spPr>
            <a:xfrm>
              <a:off x="5995800" y="4668840"/>
              <a:ext cx="2320920" cy="991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Финансовое 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_s1036"/>
            <p:cNvSpPr/>
            <p:nvPr/>
          </p:nvSpPr>
          <p:spPr>
            <a:xfrm>
              <a:off x="4737240" y="4877280"/>
              <a:ext cx="555480" cy="99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_s1037"/>
            <p:cNvSpPr/>
            <p:nvPr/>
          </p:nvSpPr>
          <p:spPr>
            <a:xfrm>
              <a:off x="4625640" y="5634360"/>
              <a:ext cx="2322360" cy="963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други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_s1038"/>
            <p:cNvSpPr/>
            <p:nvPr/>
          </p:nvSpPr>
          <p:spPr>
            <a:xfrm flipH="1">
              <a:off x="3938400" y="4876560"/>
              <a:ext cx="346320" cy="82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_s1039"/>
            <p:cNvSpPr/>
            <p:nvPr/>
          </p:nvSpPr>
          <p:spPr>
            <a:xfrm>
              <a:off x="2268360" y="5583600"/>
              <a:ext cx="2241720" cy="941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Международное 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_s1040"/>
            <p:cNvSpPr/>
            <p:nvPr/>
          </p:nvSpPr>
          <p:spPr>
            <a:xfrm flipH="1">
              <a:off x="3116520" y="4618440"/>
              <a:ext cx="821880" cy="42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_s1041"/>
            <p:cNvSpPr/>
            <p:nvPr/>
          </p:nvSpPr>
          <p:spPr>
            <a:xfrm>
              <a:off x="900000" y="4748040"/>
              <a:ext cx="2304360" cy="912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Трудовое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_s1042"/>
            <p:cNvSpPr/>
            <p:nvPr/>
          </p:nvSpPr>
          <p:spPr>
            <a:xfrm flipH="1" flipV="1">
              <a:off x="2924280" y="4077360"/>
              <a:ext cx="935640" cy="14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_s1043"/>
            <p:cNvSpPr/>
            <p:nvPr/>
          </p:nvSpPr>
          <p:spPr>
            <a:xfrm>
              <a:off x="683640" y="3500280"/>
              <a:ext cx="2251800" cy="1049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Семейно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_s1044"/>
            <p:cNvSpPr/>
            <p:nvPr/>
          </p:nvSpPr>
          <p:spPr>
            <a:xfrm flipH="1" flipV="1">
              <a:off x="3252600" y="3068280"/>
              <a:ext cx="833760" cy="80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_s1045"/>
            <p:cNvSpPr/>
            <p:nvPr/>
          </p:nvSpPr>
          <p:spPr>
            <a:xfrm>
              <a:off x="1042920" y="2349360"/>
              <a:ext cx="2365200" cy="1059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Уголовно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_s1046"/>
            <p:cNvSpPr/>
            <p:nvPr/>
          </p:nvSpPr>
          <p:spPr>
            <a:xfrm>
              <a:off x="3708360" y="3789000"/>
              <a:ext cx="1714320" cy="1175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498f"/>
                  </a:solidFill>
                  <a:latin typeface="Georgia"/>
                </a:rPr>
                <a:t>Отрасл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498f"/>
                  </a:solidFill>
                  <a:latin typeface="Georgia"/>
                </a:rPr>
                <a:t>прав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6:20:44Z</dcterms:created>
  <dc:creator>Ольга</dc:creator>
  <dc:description/>
  <dc:language>en-US</dc:language>
  <cp:lastModifiedBy>LEGION</cp:lastModifiedBy>
  <dcterms:modified xsi:type="dcterms:W3CDTF">2015-01-28T08:27:15Z</dcterms:modified>
  <cp:revision>8</cp:revision>
  <dc:subject/>
  <dc:title>Разделите перечисленные ниже признаки норм поведения на две группы</dc:title>
</cp:coreProperties>
</file>